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5D9-C9E8-4580-84DA-5A8F83CC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FD6-4A5C-4458-840A-53177CD6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2B1-9D27-4F2F-8358-01BC25FC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F08-9D7C-4F44-BB97-8F2B4F97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A0B7-600F-45A5-BAAE-4CDEA839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E73-967C-4A43-8F40-6EE3062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889-D1C3-4A4C-826F-DE9FF915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19A8-39FF-4A1D-BA03-19232EF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7212-D8D3-48D7-ACE0-AB1DE27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D8F-DC79-4289-A8DF-568808C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330-3F9C-4380-B118-07A493A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89C-AE6F-438A-848C-C72F558E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33E8-035A-4C1B-8B15-3697E68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1FC-0A80-4144-8265-2E4C169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C577-8A0A-458A-885B-D144F49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B0D8-A2CE-4F14-B2D3-97351216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7C7-4B7E-43AD-891C-A8EDE52A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02B-58FC-40E8-905C-D6620A8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54A-2C59-4975-B188-FE8D89C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552-DF77-436F-8FCA-DF8B22E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E02-8A96-4705-AD27-CA45626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A44-AF8D-4170-9995-4F6B044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CE-0AD9-4B2A-BF2E-0ED4F98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7DC-C56B-4D8E-9E07-A11ABC6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0D2-22A8-435D-9B92-10889E988505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595-42C1-4C9F-9BF6-780C3550B568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  <a:ea typeface="標楷體"/>
              </a:rPr>
              <a:t>百貨公司廣場行人移動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Tahoma"/>
                <a:ea typeface="標楷體"/>
              </a:rPr>
              <a:t>自我組織現象之研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2960" y="3728880"/>
            <a:ext cx="6956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Adviser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：馮正民老師  曾平毅老師</a:t>
            </a:r>
            <a:br>
              <a:rPr sz="3200"/>
            </a:b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Student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：邱詩純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Date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：民國九十一年三月二十九日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(4)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突現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由元素之間的互動關係形成，並無法由內部元素的特質而得，超出我們所能控制和預測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駐足人群分佈位置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6" name="新光三越廣場圖547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3810240" cy="3848040"/>
          </a:xfrm>
          <a:prstGeom prst="rect">
            <a:avLst/>
          </a:prstGeom>
          <a:ln w="0">
            <a:noFill/>
          </a:ln>
        </p:spPr>
      </p:pic>
      <p:pic>
        <p:nvPicPr>
          <p:cNvPr id="157" name="新光三越廣場圖557" descr=""/>
          <p:cNvPicPr/>
          <p:nvPr/>
        </p:nvPicPr>
        <p:blipFill>
          <a:blip r:embed="rId6"/>
          <a:stretch/>
        </p:blipFill>
        <p:spPr>
          <a:xfrm>
            <a:off x="4343400" y="2743200"/>
            <a:ext cx="3809880" cy="384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5740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imes New Roman"/>
              </a:rPr>
              <a:t>5:4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6019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imes New Roman"/>
              </a:rPr>
              <a:t>5:5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購物人群從右側入口進入比例高於左側入口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新光三越廣場圖主要動線圖" descr=""/>
          <p:cNvPicPr/>
          <p:nvPr/>
        </p:nvPicPr>
        <p:blipFill>
          <a:blip r:embed="rId3"/>
          <a:stretch/>
        </p:blipFill>
        <p:spPr>
          <a:xfrm>
            <a:off x="2057400" y="1573200"/>
            <a:ext cx="48798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201680"/>
            <a:ext cx="9148680" cy="565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行人特性分析—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</a:rPr>
              <a:t>新光三越百貨公司行人廣場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冪次現象～</a:t>
            </a:r>
            <a:r>
              <a:rPr b="1" lang="zh-TW" sz="2400" spc="-1" strike="noStrike">
                <a:solidFill>
                  <a:srgbClr val="660066"/>
                </a:solidFill>
                <a:latin typeface="Tahoma"/>
              </a:rPr>
              <a:t>五分鐘趨勢圖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143000"/>
          <a:ext cx="92851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2851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1066680"/>
          <a:ext cx="9282240" cy="497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28224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990720"/>
          <a:ext cx="935028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935028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冪次現象～</a:t>
            </a:r>
            <a:r>
              <a:rPr b="1" lang="zh-TW" sz="2400" spc="-1" strike="noStrike">
                <a:solidFill>
                  <a:srgbClr val="660066"/>
                </a:solidFill>
                <a:latin typeface="Tahoma"/>
              </a:rPr>
              <a:t>十分鐘趨勢圖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066680"/>
          <a:ext cx="9336240" cy="501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3362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990720"/>
          <a:ext cx="9321840" cy="501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93218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冪次現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複雜系統在能量不斷的流入時，會自然演化成『自我組織臨界』模式，處於穩定與混沌變化的分界上。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冪次法則為其特徵現象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以沙堆為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冪次現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現況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這半小時內，平均等候時間約五分鐘，不斷地有人進出，規模也有從一人變成兩人駐足，但趨勢卻維持一定的原因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原因解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並非是由本廣場的行人互動產生的現象，而是外在的社經環境中，行人、交通等許多因素互動的結果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章節安排與進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研究目的與範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行人複雜系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冪次現象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模式初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行為者基礎模型簡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後續工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模式初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本行人廣場的模式初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71600" y="119160"/>
            <a:ext cx="675792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5120" y="339840"/>
            <a:ext cx="596268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模擬簡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簡例操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模擬對象：駐足人群分佈現象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                   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進入百貨公司行人路徑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初步結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結論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複雜系統為一適當角度解釋行人廣場系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本百貨公司行人廣場的駐足人群具有冪次現象的趨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後續工作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對模擬現象作更深入的探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修正模式初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模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簡報結束，請多指教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章節安排與進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1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緒論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2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文獻回顧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3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個案分析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(70%)</a:t>
            </a:r>
            <a:r>
              <a:rPr b="1" lang="zh-TW" sz="24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545472"/>
                </a:solidFill>
                <a:latin typeface="Times New Roman"/>
              </a:rPr>
              <a:t>行人互動特性</a:t>
            </a:r>
            <a:r>
              <a:rPr b="1" lang="zh-TW" sz="2400" spc="-1" strike="noStrike">
                <a:solidFill>
                  <a:srgbClr val="545472"/>
                </a:solidFill>
                <a:latin typeface="Times New Roman"/>
              </a:rPr>
              <a:t>-power low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4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模式初構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5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個案模擬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(20%)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Ch6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   </a:t>
            </a: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結論與建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480" y="54097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流程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0120" y="600120"/>
          <a:ext cx="7889760" cy="569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120" y="600120"/>
                    <a:ext cx="7889760" cy="56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研究目的與範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imes New Roman"/>
              </a:rPr>
              <a:t>研究目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應用複雜理論來探討行人互動模式，並建構簡單模型，以幫助瞭解行人移動的自我組織現象，並作為未來家具設施設計的參考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研究範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家具設計者角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中密度（行人才有互動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行人複雜系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從環境、內部結構與關係、學習與記憶、突現四個層面探討本行人廣場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（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）環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地理環境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家具環境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環境變動因子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新光三越廣場圖周邊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715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(2)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內部結構與關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509760"/>
          <a:ext cx="8651880" cy="63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9760"/>
                    <a:ext cx="865188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(3)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學習與記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複雜系統內的元素具有多種類與複雜關係，所以能處理各種新的狀況並容納新的關係，而具有良好的適應功能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行人路徑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-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問卷調查員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穿越性人群或駐足性人群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=&gt;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進入百貨公司人群 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下雨天</a:t>
            </a: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imes New Roman"/>
              </a:rPr>
              <a:t>彩券販賣時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42900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7:46:43Z</dcterms:created>
  <dc:creator>邱詩純</dc:creator>
  <dc:description/>
  <dc:language>en-US</dc:language>
  <cp:lastModifiedBy>邱詩純</cp:lastModifiedBy>
  <dcterms:modified xsi:type="dcterms:W3CDTF">2002-03-29T03:14:28Z</dcterms:modified>
  <cp:revision>35</cp:revision>
  <dc:subject/>
  <dc:title>百貨公司廣場行人移動 自我組織現象之研究</dc:title>
</cp:coreProperties>
</file>