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DE0-96DE-45C5-9A52-130B8C79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1F3-E5E6-4B2A-8730-9EE5B0EB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9C4-0B35-4C97-86CC-44C425D5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C05-465A-480A-98CD-50B78F79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CDA6-AF63-49D3-BA56-8F5BB541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8A83-96DB-45A9-84CC-644A6635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A6D3-A628-4FCF-991D-F65B1AD5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020D-61C3-4149-948A-6680D03B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34AD-E263-4E1E-8A07-6C08AB09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AEA3-9352-40FB-AE83-5FE3FF53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4591-1F74-4DD8-A2B5-36DBE85B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BB5-C464-49F4-88C3-683440F5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7E96-C228-475A-9224-4F6E8EC2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36BC-52C8-44B2-A42E-4835D038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ED7B-C740-41D1-92D6-2549626B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5BD8-EFBE-4AF9-9C8B-0C2D94A2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9A3A-E031-4200-B216-B23E625F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56D-DE3F-44CB-A3F8-05C5FC2A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06E-F1FD-4EAC-B8CE-C0CFB51C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150-A60B-4214-B81C-66C38FAB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35F-8BA2-44EE-8FEF-83D0FAB3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794-E7F2-4D5E-8C54-2D49B5E1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8BD-9996-41B6-8DC6-418AC483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DF9-E49C-4A1B-B37D-A91F03F3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AC14-558F-4E97-ACBE-4907643A1C76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7198-DB01-41F1-9DBB-1D1297610262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百貨公司廣場行人移動</a:t>
            </a:r>
            <a:br>
              <a:rPr sz="4400"/>
            </a:b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自我組織現象之研究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Adviser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：馮正民老師  曾平毅老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：邱詩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Date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：民國九十一年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研究內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經由文獻回顧以及錄影觀察的方式，瞭解個體移動與個體間互動的原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訂定行人的簡單移動規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模擬某一百貨公司行人廣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藉由調整不同的行人數量與初始條件，探討百貨公司行人廣場的自我組織現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研究方法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錄影觀察分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2.CA 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調查工作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調查目的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看看行人整體分佈是否會有週期性的循環（簡單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&lt;=&gt;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複雜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&lt;=&gt;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混沌）。並利用數據做分析探討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調查內容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時間：星期三（早上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7:00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9:00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，下午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4:00~6:00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），星期四、五（下午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4:00~6:00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地點：公路局頂樓（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樓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調查工作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分析內容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利用影像處理，將人頭分佈以黑點呈現方式處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=&gt;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比較不同日期同一時間的分佈情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=&gt;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比較同一天（以每半個小時為單位）的分佈情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空間分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=&gt;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利用影像與實際尺度的套疊，計算聚落的分佈範圍，每個人的空間範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調查初期觀察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廣場行人的尖峰時段不明顯，但重複從低密度到高密度到低密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廣場的問卷調查者大大影響行人路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氣候狀況良好時，群落現象明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陰雨天去除問卷調查者，反而行人路徑較明顯一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模擬方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模擬軟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1.MAML, SWA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2.VB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（高宏軒）自行設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3.STR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簡報結束，謝謝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</a:rPr>
              <a:t>Abstrac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行人是否具有自我組織的現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如何設計模擬方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什麼是自我組織現象？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賴世剛與其相關學生模擬都市土地使用與自我組織的關係，以冪次法則當作自我組織的特性之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冪次法則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：事物出現的規模與頻率間的關係（大者恆大）：物體的規模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與其出現次數，呈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TW" sz="2800" spc="-1" strike="noStrike" baseline="30000">
                <a:solidFill>
                  <a:srgbClr val="ffffff"/>
                </a:solidFill>
                <a:latin typeface="Times New Roman"/>
              </a:rPr>
              <a:t>-a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的比例關係。（例如：沙堆、地震、網路流言版人氣指數等之廣泛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行人是否具有自我組織的現象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日本相關學者發現當行人密度超過一臨界值時會出現壅塞轉換過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=&gt;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近似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突現現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Victor J.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利用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Cellular automata(CA)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模擬行人道，變換其行人流密度，結果的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speed-flow-density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圖與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HCM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圖的變化很相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行人是否具有自我組織的現象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整理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目前開始有許多利用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Agent-based model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來模擬行人，但在證明其具有自我組織的現象的研究卻是很少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行人是否具有自我組織現象，將由兩方面探討，一方面是靜態的分佈是否具有；另一方面是動態的型態是否具有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1/f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的現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模擬方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Agent-based mod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從每一個行為者（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Agent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）的角度出發，訂定每個個體以及個體間的簡單行為規則，讓個體間發生互動，從下而上的建立模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cc66"/>
                </a:solidFill>
                <a:latin typeface="標楷體"/>
                <a:ea typeface="標楷體"/>
              </a:rPr>
              <a:t>過去應用</a:t>
            </a:r>
            <a:r>
              <a:rPr b="1" lang="zh-TW" sz="3600" spc="-1" strike="noStrike">
                <a:solidFill>
                  <a:srgbClr val="ffcc66"/>
                </a:solidFill>
                <a:latin typeface="標楷體"/>
                <a:ea typeface="標楷體"/>
              </a:rPr>
              <a:t>agent-based model</a:t>
            </a:r>
            <a:br>
              <a:rPr sz="3600"/>
            </a:br>
            <a:r>
              <a:rPr b="1" lang="zh-TW" sz="3600" spc="-1" strike="noStrike">
                <a:solidFill>
                  <a:srgbClr val="ffcc66"/>
                </a:solidFill>
                <a:latin typeface="標楷體"/>
                <a:ea typeface="標楷體"/>
              </a:rPr>
              <a:t>在行人移動上的研究成果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Helbing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給予行人簡單的行為規則（加速策略，保持距離等）卻可以模擬出行人自動分道，空地路徑自動形成等現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=&gt;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並非使用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模型，以座標系統為設計原則，但比較複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Victor J.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利用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Cellular automata(CA)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自行設計規則模擬單雙向行人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cc66"/>
                </a:solidFill>
                <a:latin typeface="標楷體"/>
                <a:ea typeface="標楷體"/>
              </a:rPr>
              <a:t>過去應用</a:t>
            </a:r>
            <a:r>
              <a:rPr b="1" lang="zh-TW" sz="3600" spc="-1" strike="noStrike">
                <a:solidFill>
                  <a:srgbClr val="ffcc66"/>
                </a:solidFill>
                <a:latin typeface="標楷體"/>
                <a:ea typeface="標楷體"/>
              </a:rPr>
              <a:t>agent-based model</a:t>
            </a:r>
            <a:br>
              <a:rPr sz="3600"/>
            </a:br>
            <a:r>
              <a:rPr b="1" lang="zh-TW" sz="3600" spc="-1" strike="noStrike">
                <a:solidFill>
                  <a:srgbClr val="ffcc66"/>
                </a:solidFill>
                <a:latin typeface="標楷體"/>
                <a:ea typeface="標楷體"/>
              </a:rPr>
              <a:t>在行人移動上的研究成果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日本相關學者的模擬方式，還處於近似粒子學模擬，與真實情形有一差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與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GIS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的結合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CASA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MIT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等相關複雜學院，將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agent-based model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與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GIS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做結合，模擬出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TRANSIMS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STREET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等模擬軟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研究範疇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百貨公司廣場的行人移動，其特點包括是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two-dimensional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的移動，並且多有駐足性人群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由於每個行人廣場的設計目的有所不同，所以本研究以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case study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的方式，單對一個百貨公司行人廣場做深入探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23:48:26Z</dcterms:created>
  <dc:creator>邱詩純</dc:creator>
  <dc:description/>
  <dc:language>en-US</dc:language>
  <cp:lastModifiedBy>邱詩純</cp:lastModifiedBy>
  <dcterms:modified xsi:type="dcterms:W3CDTF">2002-01-19T01:24:38Z</dcterms:modified>
  <cp:revision>7</cp:revision>
  <dc:subject/>
  <dc:title>百貨公司廣場行人移動 自我組織現象之研究</dc:title>
</cp:coreProperties>
</file>