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3E9-A6C6-4FE4-8E12-24EF6967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B9A-B3A0-4E90-BCB4-DB511EF1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2D3-7B21-43A3-BF92-B3E7F8E2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882-4226-4618-8897-11D2F122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D796-0161-428F-8A3E-FD492EC1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C593-B4D5-4DBE-A213-B63CF863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E0B1-8DB1-403E-BE66-418B17DB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35BE-2B6B-45A5-8D47-C3BCCF37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BAC3-9F1E-455B-B90F-166DCBE4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95A7-FCA8-4B71-AE66-E7C4CD61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B9AA-2C2C-4A3B-A0D3-797B17B6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070-FA8F-45B3-B368-17C1D7BA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1C06-E988-4DC8-A72B-9B037E39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CE58-360A-4241-AB4B-9302BDC2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11EF-AE5B-4B5C-BEB1-F5DFB7FC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2A97-FE74-4F65-8A9F-93840C23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940E-E8C6-4D96-A53E-79A490D2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2DC-A2C4-48F0-A228-64F0F6FA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216-9EAE-4DA6-940E-E68B4A3C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B60-76E5-42CB-A638-82CC3785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3DA-8021-4593-B20B-906A5EE4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837-444C-4344-97FD-E4653072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842-B839-457B-B7CA-9373024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63D-F2B1-4DAB-A657-69B83DA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A302-DDDE-4BAF-BD2E-922028B6766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04A5-E3E7-4B6C-8646-8783E54CBE0F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百貨公司廣場行人移動</a:t>
            </a:r>
            <a:br>
              <a:rPr sz="4400"/>
            </a:b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自我組織現象之研究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vis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馮正民老師  曾平毅老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邱詩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</a:rPr>
              <a:t>研究成果應用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將更瞭解行人廣場中行人移動行為與個體間的互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透過模擬預測，未來將能幫助做設施規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研究目的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探討百貨公司行人廣場行人移動的特性，找出個體移動以及個體間互動的規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利用規則模擬，並探討自我組織現象，以作為日後規劃設計之參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研究範疇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空間上：選定有代表性，易於觀察的百貨公司行人廣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時間上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觀察從非尖峰到尖峰時段的時間對空間分佈情況（下午兩點到六點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不同天同一時段的觀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研究限制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由於每個行人廣場的設計目的有所不同，所以本研究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se study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的方式，單對一個百貨公司行人廣場做深入探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本研究著重探討行人之間的互動，而不做設施最佳化的設計，所以模擬過程中將硬體空間、旅次產生點、旅次吸引點視為不變的條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研究內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經由文獻回顧以及錄影觀察的方式，瞭解個體移動與個體間互動的原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訂定行人的簡單移動規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模擬某一百貨公司行人廣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藉由調整不同的行人數量與初始條件，探討百貨公司行人廣場的自我組織現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研究方法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錄影觀察分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 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38320" y="0"/>
            <a:ext cx="3124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研究流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80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確定研究目的和範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066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相關文獻回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訂定簡單移動規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3429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模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模擬結果分析與討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838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4038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5105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錄影觀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219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瞭解個體移動與個體間互動的原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33920" y="137124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182880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200400" y="2514600"/>
            <a:ext cx="1828800" cy="1066680"/>
            <a:chOff x="3200400" y="2514600"/>
            <a:chExt cx="1828800" cy="1066680"/>
          </a:xfrm>
        </p:grpSpPr>
        <p:sp>
          <p:nvSpPr>
            <p:cNvPr id="134" name=""/>
            <p:cNvSpPr/>
            <p:nvPr/>
          </p:nvSpPr>
          <p:spPr>
            <a:xfrm>
              <a:off x="5029200" y="251460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200400" y="358128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5909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85440" y="3581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變更模擬條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1599840"/>
            <a:ext cx="1295280" cy="2441160"/>
            <a:chOff x="685800" y="1599840"/>
            <a:chExt cx="1295280" cy="2441160"/>
          </a:xfrm>
        </p:grpSpPr>
        <p:sp>
          <p:nvSpPr>
            <p:cNvPr id="140" name=""/>
            <p:cNvSpPr/>
            <p:nvPr/>
          </p:nvSpPr>
          <p:spPr>
            <a:xfrm flipV="1">
              <a:off x="685800" y="1599840"/>
              <a:ext cx="0" cy="19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3581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16002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96252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結果對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研究工作進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397160"/>
          <a:ext cx="8381880" cy="5113080"/>
        </p:xfrm>
        <a:graphic>
          <a:graphicData uri="http://schemas.openxmlformats.org/drawingml/2006/table">
            <a:tbl>
              <a:tblPr/>
              <a:tblGrid>
                <a:gridCol w="1905120"/>
                <a:gridCol w="609480"/>
                <a:gridCol w="685800"/>
                <a:gridCol w="685800"/>
                <a:gridCol w="609480"/>
                <a:gridCol w="685800"/>
                <a:gridCol w="762120"/>
                <a:gridCol w="609480"/>
                <a:gridCol w="685800"/>
                <a:gridCol w="609840"/>
                <a:gridCol w="5331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 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文獻回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界定研究範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模擬目標與限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錄影觀察分析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 sum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分析模擬結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簡報結束，謝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什麼是自我組織現象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研究動機與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研究內容與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什麼是自我組織現象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一個系統內部由無序自發地變有序，使其中大量分子按一定的規律運動的現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生物：氨基酸殘基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=&gt;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蛋白分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經濟：自利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=&gt;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複雜的經濟現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物理：沙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都市：預測舊金山一百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</a:rPr>
              <a:t>構成自我組織的基本條件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『複雜系』（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數量 （中密度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資訊不完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個體有知性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模擬方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t-based mo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從每一個行為者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的角度出發，訂定每個個體以及個體間的簡單行為規則，讓個體間發生互動，從下而上的建立模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研究動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行人移動常被視作混亂移動，過去相關研究多侷限於規律性的移動行為，以聚集人群為單位，以回歸或機率統計的方式預測整體可能的現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這樣從上而下的預測方式，必須給予行人諸多限制和規定，但卻無法預測到因行人個體之間的相互作用所形成的多變化未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過去應用</a:t>
            </a:r>
            <a:r>
              <a:rPr b="1" lang="en-US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agent-based model</a:t>
            </a:r>
            <a:br>
              <a:rPr sz="3600"/>
            </a:br>
            <a:r>
              <a:rPr b="1" lang="zh-TW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在行人移動上的研究成果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lbing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給予行人簡單的行為規則（加速策略，保持距離等）卻可以模擬出行人自動分道，空地路徑自動形成等現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ctor J.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llular automata(CA)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模擬出來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ed-flow-density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圖與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CM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圖的變化很相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ppositely moving pedestr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5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1215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過去應用</a:t>
            </a:r>
            <a:r>
              <a:rPr b="1" lang="en-US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agent-based model</a:t>
            </a:r>
            <a:br>
              <a:rPr sz="3600"/>
            </a:br>
            <a:r>
              <a:rPr b="1" lang="zh-TW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在行人移動上的研究成果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過去相關研究，多限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-dimensional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的研究，對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wo-dimensional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的研究主要是在火災時行人的逃脫預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然而尚未模擬過百貨公司廣場的行人移動，其特點包括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wo-dimensional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的移動，並且多有駐足性人群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7:35:03Z</dcterms:created>
  <dc:creator>邱詩純</dc:creator>
  <dc:description/>
  <dc:language>en-US</dc:language>
  <cp:lastModifiedBy>邱詩純</cp:lastModifiedBy>
  <dcterms:modified xsi:type="dcterms:W3CDTF">2001-12-14T03:34:05Z</dcterms:modified>
  <cp:revision>15</cp:revision>
  <dc:subject/>
  <dc:title>百貨公司廣場行人移動自我組織現象之研究</dc:title>
</cp:coreProperties>
</file>