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8F4-5869-4A3C-B48E-08956BDC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6B7-5BDA-44FB-96A7-E05C3BE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432-DC8D-4255-8E04-EA0EA40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5FE-12EF-419F-AB84-96EA1D83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52B9-9931-47E2-A35E-6BD48A6F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8A2-1FB1-4256-ADA7-3EE5FC2B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086B-354B-4A99-B1C6-F7CD790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7F4-D7B0-4AAE-B66E-512355D9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45CE-E0ED-431F-A3F5-80D0BFC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B738-2406-454F-AC95-7AB1314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E890-2527-464F-A11B-E8E603C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03A-8219-49C8-A463-87D76A27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E884-DA28-48DA-AC62-24A92A0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1E45-C5BF-49B2-9E68-6EBE46C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67AE-430E-4170-8515-043BAE6A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54D6-57A6-40A9-99A2-65C8CA81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A953-091D-4197-B073-08F2E660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FDF-737F-4FD5-888D-1FF08F0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DD2-3C6A-4380-89BF-0ABD01A8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A79-B566-48D6-9AF5-8CC0FEC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FC3-F684-4CFA-BF31-DF15D65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BBF-624F-4ECA-9EAA-985EA76B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40B-2179-42D2-81E6-60C13F1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196-FF92-4D8C-889D-D82DB93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3A2-61B9-4A3C-B752-5542412987B9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422B-8F25-40B2-809D-641BD6D201B1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百貨公司廣場行人移動</a:t>
            </a:r>
            <a:br>
              <a:rPr sz="4400"/>
            </a:br>
            <a:r>
              <a:rPr b="1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自我組織現象之研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Adviser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：馮正民老師  曾平毅老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Student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：邱詩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：民國九十一年三月一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04920"/>
            <a:ext cx="137160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:18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8~0518" descr=""/>
          <p:cNvPicPr/>
          <p:nvPr/>
        </p:nvPicPr>
        <p:blipFill>
          <a:blip r:embed="rId1"/>
          <a:stretch/>
        </p:blipFill>
        <p:spPr>
          <a:xfrm>
            <a:off x="0" y="822240"/>
            <a:ext cx="80470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分析方式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冪次法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事物出現的規模與頻率間的關係（大者恆大）：物體的規模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與其出現次數，呈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zh-TW" sz="2800" spc="-1" strike="noStrike" baseline="30000">
                <a:solidFill>
                  <a:srgbClr val="000000"/>
                </a:solidFill>
                <a:latin typeface="Tahoma"/>
              </a:rPr>
              <a:t>-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比例關係，亦即規模大的事物出現的頻率低，而規模小的事物出現的頻率高，而形成一個自我組織體系。（例如沙堆崩塌、地震等現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分析方式～冪次法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初期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我們將駐足等候人數的規模與頻率作一整理，結果發現，雖然等候總人數有所不同，等候的人也並非同一批人，但每分鐘駐足人數的規模與頻率卻都與冪次法則大致符合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群落統計表" descr=""/>
          <p:cNvPicPr/>
          <p:nvPr/>
        </p:nvPicPr>
        <p:blipFill>
          <a:blip r:embed="rId1"/>
          <a:stretch/>
        </p:blipFill>
        <p:spPr>
          <a:xfrm>
            <a:off x="1600200" y="0"/>
            <a:ext cx="591336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219320" y="685800"/>
          <a:ext cx="7924680" cy="54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792468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609480"/>
          <a:ext cx="8001000" cy="552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800100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609480"/>
          <a:ext cx="7924680" cy="552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7924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新光三越廣場圖537" descr=""/>
          <p:cNvPicPr/>
          <p:nvPr/>
        </p:nvPicPr>
        <p:blipFill>
          <a:blip r:embed="rId1"/>
          <a:stretch/>
        </p:blipFill>
        <p:spPr>
          <a:xfrm>
            <a:off x="1219320" y="311040"/>
            <a:ext cx="6481800" cy="6546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812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:37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群落分佈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圖例" descr=""/>
          <p:cNvPicPr/>
          <p:nvPr/>
        </p:nvPicPr>
        <p:blipFill>
          <a:blip r:embed="rId2"/>
          <a:stretch/>
        </p:blipFill>
        <p:spPr>
          <a:xfrm>
            <a:off x="7010280" y="2971800"/>
            <a:ext cx="11192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新光三越廣場圖547" descr=""/>
          <p:cNvPicPr/>
          <p:nvPr/>
        </p:nvPicPr>
        <p:blipFill>
          <a:blip r:embed="rId1"/>
          <a:stretch/>
        </p:blipFill>
        <p:spPr>
          <a:xfrm>
            <a:off x="1219320" y="314280"/>
            <a:ext cx="6478560" cy="6543720"/>
          </a:xfrm>
          <a:prstGeom prst="rect">
            <a:avLst/>
          </a:prstGeom>
          <a:ln w="0">
            <a:noFill/>
          </a:ln>
        </p:spPr>
      </p:pic>
      <p:pic>
        <p:nvPicPr>
          <p:cNvPr id="133" name="圖例" descr=""/>
          <p:cNvPicPr/>
          <p:nvPr/>
        </p:nvPicPr>
        <p:blipFill>
          <a:blip r:embed="rId2"/>
          <a:stretch/>
        </p:blipFill>
        <p:spPr>
          <a:xfrm>
            <a:off x="7010280" y="2895480"/>
            <a:ext cx="111924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812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:47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群落分佈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新光三越廣場圖557" descr=""/>
          <p:cNvPicPr/>
          <p:nvPr/>
        </p:nvPicPr>
        <p:blipFill>
          <a:blip r:embed="rId1"/>
          <a:stretch/>
        </p:blipFill>
        <p:spPr>
          <a:xfrm>
            <a:off x="1219320" y="314280"/>
            <a:ext cx="6478560" cy="6543720"/>
          </a:xfrm>
          <a:prstGeom prst="rect">
            <a:avLst/>
          </a:prstGeom>
          <a:ln w="0">
            <a:noFill/>
          </a:ln>
        </p:spPr>
      </p:pic>
      <p:pic>
        <p:nvPicPr>
          <p:cNvPr id="136" name="圖例" descr=""/>
          <p:cNvPicPr/>
          <p:nvPr/>
        </p:nvPicPr>
        <p:blipFill>
          <a:blip r:embed="rId2"/>
          <a:stretch/>
        </p:blipFill>
        <p:spPr>
          <a:xfrm>
            <a:off x="7010280" y="2895480"/>
            <a:ext cx="1119240" cy="123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812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:57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群落分佈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  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研究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本研究想從複雜理論的觀點，對百貨公司行人廣場的行人分佈形態作一深入分析，探討行人是否具有自我組織的現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分析方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群落間的互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廣場的整個分佈情形，人群動線呈現類似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字形，而駐足人數則主要分佈於邊緣地區，有所謂的『邊緣效應』，本研究認為這是人群為了減少衝突量的結果，也可視作『突現』現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新光三越廣場圖主要動線圖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76920" cy="5281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33920" y="5638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主要動線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動線圖例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286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後續工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冪次法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檢視不同規模的分佈型態與特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ex:1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人、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人、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人的分佈位置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檢驗 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power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與整體密度的關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調查平常日（同一時段）以及不同廣場是否有相同的特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後續工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人群間的互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0" y="2590920"/>
            <a:ext cx="5867280" cy="3456360"/>
            <a:chOff x="2286000" y="2590920"/>
            <a:chExt cx="5867280" cy="3456360"/>
          </a:xfrm>
        </p:grpSpPr>
        <p:sp>
          <p:nvSpPr>
            <p:cNvPr id="148" name=""/>
            <p:cNvSpPr/>
            <p:nvPr/>
          </p:nvSpPr>
          <p:spPr>
            <a:xfrm>
              <a:off x="4495680" y="2590920"/>
              <a:ext cx="1828800" cy="581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駐足人群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3429000"/>
              <a:ext cx="1066680" cy="1068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環境家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724280"/>
              <a:ext cx="3657600" cy="1323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穿越性人群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進出百貨公司人群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7800" y="320040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505320" y="3200040"/>
              <a:ext cx="9144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1280" y="4038480"/>
              <a:ext cx="83844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後續工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人群間的互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檢視單位時間內，行人的動線疊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視時間許可，將藉著簡單的模擬幫助探討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簡報結束，敬請指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文獻回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複雜理論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一個複雜系統的特性可從五個層面去討論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TW" sz="2800" spc="-1" strike="noStrike">
                <a:solidFill>
                  <a:srgbClr val="333399"/>
                </a:solidFill>
                <a:latin typeface="Times New Roman"/>
              </a:rPr>
              <a:t>個體間的關係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800" spc="-1" strike="noStrike">
                <a:solidFill>
                  <a:srgbClr val="333399"/>
                </a:solidFill>
                <a:latin typeface="Times New Roman"/>
              </a:rPr>
              <a:t>內部結構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800" spc="-1" strike="noStrike">
                <a:solidFill>
                  <a:srgbClr val="333399"/>
                </a:solidFill>
                <a:latin typeface="Times New Roman"/>
              </a:rPr>
              <a:t>週邊環境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800" spc="-1" strike="noStrike">
                <a:solidFill>
                  <a:srgbClr val="333399"/>
                </a:solidFill>
                <a:latin typeface="Times New Roman"/>
              </a:rPr>
              <a:t>學習與突現行為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800" spc="-1" strike="noStrike">
                <a:solidFill>
                  <a:srgbClr val="333399"/>
                </a:solidFill>
                <a:latin typeface="Times New Roman"/>
              </a:rPr>
              <a:t>改變與成長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。（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Manson200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=&gt;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本研究將從這五個層面，檢視百貨公司行人廣場的行人互動系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文獻回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行人是否具有自我組織現象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Victor J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模擬行人道，以簡單的規則假設行人間的互動關係，結果其巨觀的統計結果顯示其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speed-flow-density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與一般已被接受的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HCM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圖相似。可視之為突現現象。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Masakuni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簡化模擬十字路口的行人移動，發現行人密度超過一臨界密度時會出現壅塞的轉換過程。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文獻回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行人是否具有自我組織現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Helbing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以行為力量模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behavioral force model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，亦給予行人座標性的簡單移動法則，卻可以模擬出行人自動分道，兩側人群輪流穿越一窄門等現象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過去的相關研究，多利用模擬方式，模擬出行人的『突現』現象；對於行人是否為一複雜系統，具有自我組織現象，很少做全面的探討。所以，本研究將以實例分析的方式，對一百貨公司行人廣場做觀察探討其自我組織現象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調查方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拍攝時間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91.2.22.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星期五下午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(5:00~6:00pm)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借用公路局頂樓攝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一般日下午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(5:00~6:00pm)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拍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拍攝對象：新光三越站前店的行人廣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新光三越廣場圖周邊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188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8~0448" descr=""/>
          <p:cNvPicPr/>
          <p:nvPr/>
        </p:nvPicPr>
        <p:blipFill>
          <a:blip r:embed="rId1"/>
          <a:stretch/>
        </p:blipFill>
        <p:spPr>
          <a:xfrm>
            <a:off x="0" y="822240"/>
            <a:ext cx="8047080" cy="6035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304920"/>
            <a:ext cx="137160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:48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8~0500" descr=""/>
          <p:cNvPicPr/>
          <p:nvPr/>
        </p:nvPicPr>
        <p:blipFill>
          <a:blip r:embed="rId1"/>
          <a:stretch/>
        </p:blipFill>
        <p:spPr>
          <a:xfrm>
            <a:off x="0" y="822240"/>
            <a:ext cx="8047080" cy="603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304920"/>
            <a:ext cx="137160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09:35:09Z</dcterms:created>
  <dc:creator>邱詩純</dc:creator>
  <dc:description/>
  <dc:language>en-US</dc:language>
  <cp:lastModifiedBy>邱詩純</cp:lastModifiedBy>
  <dcterms:modified xsi:type="dcterms:W3CDTF">2002-03-08T06:55:34Z</dcterms:modified>
  <cp:revision>15</cp:revision>
  <dc:subject/>
  <dc:title>百貨公司廣場行人移動 自我組織現象之研究</dc:title>
</cp:coreProperties>
</file>