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36F18-3201-4A6A-AA9E-496B9F0920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5501B-8525-4C3B-99BB-FB0BA3B61E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D5964-A9DE-43DF-B479-C9E7246CC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E8EC4-DF2B-4C94-BA01-C778AD961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68F00-458B-408A-B38D-F4BACCA45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56669-2A33-4712-B7A4-DFD7110BC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D8644-3706-449F-B933-C0F523F2C2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4CB0E-0D5D-408D-BCD3-08B298EBF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64E74-B7AD-4B95-BD01-5A6C77B2D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F971B-8ED3-4424-B762-BB3019134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5CE05-7DDB-4BA9-AF13-AFF6C4A8D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67E30-685A-43E8-A469-BC34C55F3B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3AEA2-762D-4447-97B5-C980CA6487B3}" type="slidenum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1997-02-24T07:32:34Z</dcterms:modified>
  <cp:revision>0</cp:revision>
  <dc:subject/>
  <dc:title/>
</cp:coreProperties>
</file>