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9.jpeg" ContentType="image/jpeg"/>
  <Override PartName="/ppt/media/image4.wmf" ContentType="image/x-wmf"/>
  <Override PartName="/ppt/media/image10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097-0822-4033-A32A-FF69BDF6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FAE-10B4-4F66-A219-94CB5E9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CD7-25C8-49AE-ABDC-B9C02959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EE2-A6A2-4DEE-BF82-EC894023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253-2F60-4418-B053-4464D45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56F-A3E1-497F-8CEC-C209A872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F921-BAE3-4E29-A26D-73931EC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C1E9-DEB9-419A-A777-25E3F96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CDE0-8643-44C4-8F68-5BB829A8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728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EE87-77AA-4DA5-91AB-7A00EF58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1407-8BEC-43A8-BFDE-C9CA7BA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F29-D932-4E7D-8DC3-037E1FB1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D37-1414-419D-B95D-C4DE50A6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039-4D2B-49F2-894E-3B6DB95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4399-787D-482F-A5B8-D6E4E75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9B4-BCC6-4A70-A7F9-16896E95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E4D-9FED-46B7-80D5-285DE421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A7B-A1B2-40EE-A6DD-4F43F6BC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E3B-C5F0-4508-B815-16167033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D52-6E61-4B42-AE26-CBCDF498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728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B74-F4E7-4357-A646-5586056E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181-4529-4588-98BE-4AF1F81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551-1A66-4D89-A486-53CB0FB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56E-5F21-4337-8E58-480C237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B20-9943-4401-B032-34311E776EA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035E-4FA5-4160-85A4-4A1059BED89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446120"/>
            <a:ext cx="7620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  <a:ea typeface="標楷體"/>
              </a:rPr>
              <a:t>應用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otologging 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  <a:ea typeface="標楷體"/>
              </a:rPr>
              <a:t>技術</a:t>
            </a:r>
            <a:br>
              <a:rPr sz="4400"/>
            </a:br>
            <a:r>
              <a:rPr b="0" lang="zh-TW" sz="4400" spc="-1" strike="noStrike">
                <a:solidFill>
                  <a:srgbClr val="ffcc00"/>
                </a:solidFill>
                <a:latin typeface="Arial Black"/>
                <a:ea typeface="標楷體"/>
              </a:rPr>
              <a:t>輔助公路基本資料調查之研究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1440" y="3505320"/>
            <a:ext cx="2847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ffff"/>
                </a:solidFill>
                <a:latin typeface="Arial"/>
              </a:rPr>
              <a:t>期 末 簡 報</a:t>
            </a:r>
            <a:r>
              <a:rPr b="0" lang="zh-TW" sz="4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952880"/>
            <a:ext cx="7238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中華民國八十九年十一月二十七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 統 分 析 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0" lang="zh-TW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TW" sz="4000" spc="-1" strike="noStrike">
                <a:solidFill>
                  <a:srgbClr val="ffcc00"/>
                </a:solidFill>
                <a:latin typeface="Arial Black"/>
              </a:rPr>
              <a:t>影像擷取設備需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相機具備內建自控模式與程序控制程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配合作業要求由電腦控制影像拍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影像處理速度能滿足系統最小拍攝時間間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適宜解析度之影像品質與充足儲存空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587600"/>
          <a:ext cx="853452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87600"/>
                    <a:ext cx="85345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76440"/>
            <a:ext cx="77724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99"/>
                </a:solidFill>
                <a:latin typeface="Arial Black"/>
              </a:rPr>
              <a:t>數位相機最小拍攝時間間隔之決定因素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080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統分析 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TW" sz="4000" spc="-1" strike="noStrike">
                <a:solidFill>
                  <a:srgbClr val="ffcc00"/>
                </a:solidFill>
                <a:latin typeface="Arial Black"/>
              </a:rPr>
              <a:t>影像空間資料之獲得方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PS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接收儀與差分定位技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擷取影像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座標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差分定位誤差範圍約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公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數位式行車記錄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線性尺度量測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一般路況影像拍攝之觸發單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計算路線里程與各項設施之樁號里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386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統分析 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 </a:t>
            </a:r>
            <a:r>
              <a:rPr b="0" lang="zh-TW" sz="4000" spc="-1" strike="noStrike">
                <a:solidFill>
                  <a:srgbClr val="ffcc00"/>
                </a:solidFill>
                <a:latin typeface="Arial Black"/>
              </a:rPr>
              <a:t>車上電腦暨後處理工作站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連結影像實錄系統之各項硬體設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公路基本資料之輸入、處理、儲存設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車上電腦規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Card: Pentium III 650 CP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MB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硬碟容量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具減震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.3 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4×7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CD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螢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內建光碟燒錄機，便於資料儲存或輸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作業環境：可在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0~50℃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溫度下正常操作，並能承受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的撞擊與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@10-2000Hz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的震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 統 分 析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 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系統作業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調查的資料項目與內涵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十二項設施資料項目，大致分為共同資料項目與設施特性資料項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路況與設施影像之拍攝作業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一般路況影像拍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特定設施影像拍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統設計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影像擷取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連續拍攝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設定拍攝影像間隔里程，由電腦全自動拍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適用路基路面設施與一般路況影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手動拍攝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使用者視道路狀況需要，以半自動方式拍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適用於彎道、陡坡等路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人工拍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以人工方式完成影像拍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適用特定設施（如橋樑、隧道）之影像拍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678040" y="0"/>
          <a:ext cx="6465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8040" y="0"/>
                    <a:ext cx="6465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3733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Arial Black"/>
              </a:rPr>
              <a:t>影像擷取方式一</a:t>
            </a:r>
            <a:r>
              <a:rPr b="0" lang="zh-TW" sz="3200" spc="-1" strike="noStrike">
                <a:solidFill>
                  <a:srgbClr val="000099"/>
                </a:solidFill>
                <a:latin typeface="Arial Black"/>
              </a:rPr>
              <a:t>:</a:t>
            </a:r>
            <a:br>
              <a:rPr sz="3200"/>
            </a:br>
            <a:r>
              <a:rPr b="0" lang="zh-TW" sz="3200" spc="-1" strike="noStrike">
                <a:solidFill>
                  <a:srgbClr val="000099"/>
                </a:solidFill>
                <a:latin typeface="Arial Black"/>
              </a:rPr>
              <a:t>連續拍攝運作流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68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影像擷取方式二</a:t>
            </a: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: </a:t>
            </a: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手動拍攝運作流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600200"/>
          <a:ext cx="733608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3360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系統設計</a:t>
            </a:r>
            <a:r>
              <a:rPr b="0" lang="zh-TW" sz="32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TW" sz="4000" spc="-1" strike="noStrike">
                <a:solidFill>
                  <a:srgbClr val="ffcc00"/>
                </a:solidFill>
                <a:latin typeface="Arial Black"/>
              </a:rPr>
              <a:t>里程值記錄與調整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線性尺度量測里程值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利用數位式行車記錄器沿車輛行進路線記錄行走里程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空間尺度量測里程值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定位點經座標轉換公式，轉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之平面座標，再以直線距離公式計算累積里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透視投影原理推算相對里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利用透視投影之影像座標轉換公式，推估調查作業中未特別記錄里程值設施之相對里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系 統 功 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調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開新專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開舊專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新路線調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舊路線調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刪除路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移除專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關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查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設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影像播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編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編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分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合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匯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路線匯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設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數位相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行車紀錄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統計報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報 告 大 綱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一、研究緣起與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二、研究工作項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三、系統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四、系統設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五、系統功能與作業流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六、系統實作與成本效益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七、結論與建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外業調查作業流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4328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5256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57680" y="228600"/>
          <a:ext cx="5402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28600"/>
                    <a:ext cx="5402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68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調查功能運作流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4328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744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09880" y="-3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352680" y="0"/>
          <a:ext cx="5156280" cy="68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515628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4328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-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4114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Verdana"/>
              </a:rPr>
              <a:t>路線編輯運作流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72872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614680" y="0"/>
          <a:ext cx="652932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0"/>
                    <a:ext cx="65293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99"/>
                </a:solidFill>
                <a:latin typeface="Arial Black"/>
              </a:rPr>
              <a:t>編輯功能資料流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4328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-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1266840"/>
          <a:ext cx="845820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6840"/>
                    <a:ext cx="845820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4328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81160" y="-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1920"/>
            <a:ext cx="4114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Verdana"/>
              </a:rPr>
              <a:t>查詢功能運作流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72872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56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06720" y="0"/>
          <a:ext cx="6137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6720" y="0"/>
                    <a:ext cx="613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000010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設備搭載車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0000099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5842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影像實錄設備 </a:t>
            </a:r>
            <a:r>
              <a:rPr b="0" lang="zh-TW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0000101" descr=""/>
          <p:cNvPicPr/>
          <p:nvPr/>
        </p:nvPicPr>
        <p:blipFill>
          <a:blip r:embed="rId1"/>
          <a:stretch/>
        </p:blipFill>
        <p:spPr>
          <a:xfrm>
            <a:off x="0" y="711360"/>
            <a:ext cx="9220320" cy="6146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影像實錄設備 </a:t>
            </a:r>
            <a:r>
              <a:rPr b="0" lang="zh-TW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系統實作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一</a:t>
            </a: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實作路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台二省道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之路段（關渡大橋至三芝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實作結果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順逆樁路線共計拍攝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779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張路況影像，經壓縮後檔案大小為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比較公路現有里程牌與系統調查之路線里程，在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公里範圍內，累積誤差百分比小於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不計設施調查時間，路況調查進度約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7944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Times New Roman"/>
                <a:ea typeface="標楷體"/>
              </a:rPr>
              <a:t>系統實作（二）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21528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7240" y="404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road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95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14400" y="6278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Verdana"/>
                <a:ea typeface="標楷體"/>
              </a:rPr>
              <a:t>Zoom:37.3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研 究 緣 起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書面的公路基本資料，因缺乏道路實況之視覺影像資料，無法瞭解該</a:t>
            </a:r>
            <a:r>
              <a:rPr b="0" i="1" lang="zh-TW" sz="3200" spc="-1" strike="noStrike" u="sng">
                <a:solidFill>
                  <a:srgbClr val="ffcc00"/>
                </a:solidFill>
                <a:uFillTx/>
                <a:latin typeface="Times New Roman"/>
              </a:rPr>
              <a:t>路段之全貌</a:t>
            </a:r>
            <a:r>
              <a:rPr b="0" lang="zh-TW" sz="32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0" i="1" lang="zh-TW" sz="3200" spc="-1" strike="noStrike" u="sng">
                <a:solidFill>
                  <a:srgbClr val="ffcc00"/>
                </a:solidFill>
                <a:uFillTx/>
                <a:latin typeface="Times New Roman"/>
              </a:rPr>
              <a:t>各項設施之相關位置</a:t>
            </a:r>
            <a:r>
              <a:rPr b="0" lang="zh-TW" sz="32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i="1" lang="zh-TW" sz="3200" spc="-1" strike="noStrike" u="sng">
                <a:solidFill>
                  <a:srgbClr val="ffcc00"/>
                </a:solidFill>
                <a:uFillTx/>
                <a:latin typeface="Times New Roman"/>
              </a:rPr>
              <a:t>道路兩側土地使用情形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，更無法查核該路段書面資料之正確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若能整合道路實況影像並配合基本資料儲存於電腦中，將有利於各項資料之查詢及修改作業，提昇公路清查基本資料之使用效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影像實錄調查作業成本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系統設備（固定成本）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85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外業調查費用（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公里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天）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66"/>
                </a:solidFill>
                <a:latin typeface="Arial"/>
              </a:rPr>
              <a:t>$7,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車輛租金（天）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燃料費用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公里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公升）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人員調查費用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人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* 2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人）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影像實錄之效益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利用自動化影像調查技術，有效減少人工作業，提高公路基本設施的管理效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減少外業調查實地踏勘成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提供視覺化的影像資訊，增加決策分析能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加強公路鋪面與交通控制設施的管理與維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透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S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功能提供道路實況之視覺影像資料，易於檢核公路基本資料登錄 的正確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經由路況影像所拍攝道路兩側使用情形，提供政府單位對於道路使用有違法情事的執法依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提供民眾在公路路線導引之重要資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結 論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影像實錄系統確實可做為公路基本資料調查之自動化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系統利用連續拍攝方式擷取路況影像，並輔以手動拍攝功能，可以完整涵蓋調查路段影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系統提供路線分割、路線合併、路線匯出、路線匯入等編輯功能，期能整合不同單位調查的路線資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設施影像大小、調查時間與清查設施數目多寡有關。若不計設施調查時間，調查速度約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p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每公里調查成本約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建 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採用較大馬力、避震效果較佳之設備搭載車輛，減少系統受外界環境的影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影像處理時間、拍攝資料量為決定調查間隔之關鍵因素，本計畫系統連續拍攝之影像處理時間為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秒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張，，建議之最佳拍攝間隔為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公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考慮利用兩部相機同步運作改善系統的運作績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將系統拍攝之路況影像與車輛路徑導引系統予以結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76212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華康中黑體"/>
              </a:rPr>
              <a:t>研 究 目 的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Times New Roman"/>
              </a:rPr>
              <a:t>公路基本資料調查作業系統之建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應用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otologging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技術，整合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GP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GI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行車記錄器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數位相機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電腦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等設備，建置一整合調查作業系統，用以輔助公路基本資料調查工作，減少公路實地踏勘次數與時間，進而提升設施清查作業效率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66"/>
                </a:solidFill>
                <a:latin typeface="Times New Roman"/>
              </a:rPr>
              <a:t>公路設施基本資料庫之建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運用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S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將公路基本設施之屬性資料與空間資料加以整合，並配合調查之道路實況視覺影像，使各項資料之查詢、展示更具親和力，提高使用管理效率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Arial Black"/>
              </a:rPr>
              <a:t>研究工作項目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一、回顧國內外影像實錄相關技術之發展與應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二、需求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界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logg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技術可涵括之公路基本資料調查項目</a:t>
            </a: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三、確立系統規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四、系統設計與實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研發並組裝完成一可攜式之車載影像實錄設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設計以電子地圖為界面之公路基本資料管理系統</a:t>
            </a:r>
            <a:r>
              <a:rPr b="0" lang="zh-TW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五、現場測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選擇一條公路進行試作</a:t>
            </a:r>
            <a:r>
              <a:rPr b="0" lang="zh-TW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66"/>
                </a:solidFill>
                <a:latin typeface="Times New Roman"/>
              </a:rPr>
              <a:t>六、應用此技術之成本效益評估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243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99"/>
                </a:solidFill>
                <a:latin typeface="華康中黑體"/>
              </a:rPr>
              <a:t>研究流程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74680" y="2371680"/>
            <a:ext cx="2847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0"/>
          <a:ext cx="5940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94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Times New Roman"/>
              </a:rPr>
              <a:t>系 統 需 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TW" sz="2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路線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里程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地名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之路況影像蒐集功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路線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行政區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zh-TW" sz="2600" spc="-1" strike="noStrike" u="sng">
                <a:solidFill>
                  <a:srgbClr val="ffffff"/>
                </a:solidFill>
                <a:uFillTx/>
                <a:latin typeface="Times New Roman"/>
              </a:rPr>
              <a:t>里程別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之設施資料調查功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交通量調查點與交通量調查資料輸入功能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公路局現有里程資料與系統自建里程資料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之設施屬性欄位應涵蓋公路局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項設施報表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資料項目與交控設施單元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系統應提供調整、修正調查路線圖之功能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連續影像之放映功能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前述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1‚2‚3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項資料之查詢功能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提供相關統計報表之產製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 Black"/>
              </a:rPr>
              <a:t>系 統 架 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</a:rPr>
              <a:t>影像實錄之主要子系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數位相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接收儀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GPS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校正技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數位式行車記錄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車上處理電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後處理工作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影像資料庫與資料庫伺服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44136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99"/>
                </a:solidFill>
                <a:latin typeface="Arial Black"/>
              </a:rPr>
              <a:t>影像實錄之系統架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75160" y="0"/>
          <a:ext cx="5449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0"/>
                    <a:ext cx="5449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14:26:39Z</dcterms:created>
  <dc:creator>SHA</dc:creator>
  <dc:description/>
  <dc:language>en-US</dc:language>
  <cp:lastModifiedBy>Yali</cp:lastModifiedBy>
  <cp:lastPrinted>2001-01-31T02:47:33Z</cp:lastPrinted>
  <dcterms:modified xsi:type="dcterms:W3CDTF">2001-01-31T03:09:46Z</dcterms:modified>
  <cp:revision>47</cp:revision>
  <dc:subject/>
  <dc:title>應用Photologging技術 輔助公路基本資料調查之研究</dc:title>
</cp:coreProperties>
</file>