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DD5-2CD0-44EC-8538-60BAE940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3C5-78F6-4761-8EFB-0645E65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B84-2639-43FB-98CE-0B43AD3C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971-FFB2-4668-8899-ED6D8816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645-7517-4A42-873A-7F7345A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DAA-D59B-4EE7-BDB3-3BF6AF3B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C4D-1D83-4FC1-A69B-FE13BF1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85F-5052-405C-BEB2-EB7E045E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6EF-51C4-45E1-8DB4-90BD0133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22D-EE4C-4761-B6ED-5EA29B69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500-1BBF-4893-BAEB-A68A26E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69C-0F8F-4163-8F34-E2D3458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4339-0E00-4E2A-94F6-94EB24BA71D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6095880"/>
            <a:ext cx="48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5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路公車專用道平面佈設—民權路路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5760" y="430200"/>
          <a:ext cx="80787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430200"/>
                    <a:ext cx="8078760" cy="563868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 rot="5400000">
            <a:off x="-145440" y="31993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39:36Z</dcterms:created>
  <dc:creator>鍾宜螢</dc:creator>
  <dc:description/>
  <dc:language>en-US</dc:language>
  <cp:lastModifiedBy>張贊育</cp:lastModifiedBy>
  <dcterms:modified xsi:type="dcterms:W3CDTF">2001-11-30T08:53:15Z</dcterms:modified>
  <cp:revision>3</cp:revision>
  <dc:subject/>
  <dc:title>PowerPoint 簡報</dc:title>
</cp:coreProperties>
</file>