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F29-0219-40D7-B811-84E949D9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AFB-4D57-4206-9C05-1042E149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E38-D348-4CD9-95A3-7A62FF0B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A49-5A19-4ED9-A7B2-249EEB74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362-4BD2-4584-A79B-F6195CE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FCC-DF5F-4EFF-8A75-5655BAF6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FE3-6C51-4D4C-8A81-2FFB332E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045-3E4D-4912-9526-879F4DF2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AC2-77BC-4ED7-AAF3-BAB4D182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ECD-2243-47D7-97D1-015CBA75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045-1523-4C36-A342-0C84D46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4E0-5F1C-4F26-BF79-46596BE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323-C2AE-45B2-AECB-B2A8017EB69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5943600"/>
            <a:ext cx="54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0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中正路逆向公車專用道平面佈設—五權路～中華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47640" y="538200"/>
          <a:ext cx="758196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538200"/>
                    <a:ext cx="7581960" cy="531000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rot="5400000">
            <a:off x="223560" y="302004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3:43:09Z</dcterms:created>
  <dc:creator>鍾宜螢</dc:creator>
  <dc:description/>
  <dc:language>en-US</dc:language>
  <cp:lastModifiedBy>張贊育</cp:lastModifiedBy>
  <dcterms:modified xsi:type="dcterms:W3CDTF">2001-11-30T08:57:35Z</dcterms:modified>
  <cp:revision>3</cp:revision>
  <dc:subject/>
  <dc:title>PowerPoint 簡報</dc:title>
</cp:coreProperties>
</file>