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193-E691-4921-A26A-CE5CAE6F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493-7C31-40CE-8B2A-101C0A23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880-6689-495A-A778-145A5C8B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FBD-57A9-45A4-9075-3DD8CD24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A21-7EA8-40BE-A3B9-F5B38485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0BF-2D01-49A9-9194-11A2ACDE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A2D-661D-4BFD-9B39-C302D8FC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8E9-0E10-49CD-A715-49A62EA1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A99-0E37-4F12-84D5-DB07B767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7EF-674D-4678-8C69-6FDB23A3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54F-ED79-4BB9-8558-E35E50E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CAC-389F-4C7E-8295-41B6FF43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8E4B-CA6A-4E7A-8BEA-85227B4387E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8880" y="428760"/>
          <a:ext cx="8277120" cy="57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28760"/>
                    <a:ext cx="8277120" cy="578484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151000" y="62406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台中港路公車專用道平面佈設—五權路路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51000" y="62406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台中港路公車專用道平面佈設—民權路路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5760" y="430200"/>
          <a:ext cx="8324640" cy="581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430200"/>
                    <a:ext cx="8324640" cy="581040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51000" y="62406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台中港路公車專用道平面佈設—英才路路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38120" y="411120"/>
          <a:ext cx="8302680" cy="57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411120"/>
                    <a:ext cx="8302680" cy="578952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51000" y="62406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台中港路公車專用道平面佈設—美村路路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65040" y="411120"/>
          <a:ext cx="8413920" cy="58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1120"/>
                    <a:ext cx="8413920" cy="584028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51000" y="62406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台中港路公車專用道平面佈設—忠明南路路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38120" y="414360"/>
          <a:ext cx="8342280" cy="57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414360"/>
                    <a:ext cx="8342280" cy="579420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51000" y="61689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台中港路公車專用道平面佈設—漢民路路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9640" y="517680"/>
          <a:ext cx="8083800" cy="56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17680"/>
                    <a:ext cx="8083800" cy="563220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51000" y="616896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中正路逆向公車專用道平面佈設—五權路～中華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640" y="538200"/>
          <a:ext cx="799632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538200"/>
                    <a:ext cx="7996320" cy="560052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44480" y="6040440"/>
            <a:ext cx="546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1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中正路逆向公車專用道平面佈設—中華路～三民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41440" y="414360"/>
          <a:ext cx="7842240" cy="54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14360"/>
                    <a:ext cx="7842240" cy="548964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5400000">
            <a:off x="71280" y="318672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485640" y="355680"/>
            <a:ext cx="8658000" cy="5789520"/>
            <a:chOff x="485640" y="355680"/>
            <a:chExt cx="8658000" cy="57895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rcRect l="11892" t="6557" r="22667" b="33468"/>
            <a:stretch/>
          </p:blipFill>
          <p:spPr>
            <a:xfrm>
              <a:off x="485640" y="355680"/>
              <a:ext cx="8157960" cy="578952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68" name=""/>
            <p:cNvSpPr/>
            <p:nvPr/>
          </p:nvSpPr>
          <p:spPr>
            <a:xfrm>
              <a:off x="4846320" y="4499280"/>
              <a:ext cx="3333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072400" y="409176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000" spc="-1" strike="noStrike">
                  <a:solidFill>
                    <a:srgbClr val="3333ff"/>
                  </a:solidFill>
                  <a:latin typeface="新細明體"/>
                </a:rPr>
                <a:t>文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5072040" y="47444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5072400" y="427032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000" spc="-1" strike="noStrike">
                  <a:solidFill>
                    <a:srgbClr val="3333ff"/>
                  </a:solidFill>
                  <a:latin typeface="新細明體"/>
                </a:rPr>
                <a:t>心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5072040" y="503172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5072040" y="53208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5066640" y="449568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0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62520" y="4616640"/>
              <a:ext cx="33480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400000">
              <a:off x="6192360" y="42332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5400000">
              <a:off x="5968440" y="48099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6192360" y="44330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明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5400000">
              <a:off x="5968440" y="51030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5400000">
              <a:off x="6192360" y="461412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5968440" y="53874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400000">
              <a:off x="6183360" y="48524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7920000">
              <a:off x="8242200" y="52574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中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7920000">
              <a:off x="7935480" y="49806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正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7920000">
              <a:off x="7720200" y="47606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7740000">
              <a:off x="7159320" y="4898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五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7740000">
              <a:off x="7341840" y="46890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7740000">
              <a:off x="7061040" y="50079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權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740000">
              <a:off x="7165440" y="49086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740000">
              <a:off x="6946920" y="513864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3780000">
              <a:off x="6248160" y="50436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中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780000">
              <a:off x="6354360" y="66312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780000">
              <a:off x="6354000" y="71388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清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3780000">
              <a:off x="6491160" y="9248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3780000">
              <a:off x="6507720" y="98064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300000">
              <a:off x="5727240" y="266184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文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300000">
              <a:off x="7764840" y="1925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300000">
              <a:off x="6041520" y="241452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心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300000">
              <a:off x="8114040" y="19605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300000">
              <a:off x="6260040" y="233820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9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4440000">
              <a:off x="7236000" y="22978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大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4440000">
              <a:off x="7328880" y="24836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4440000">
              <a:off x="7303680" y="2467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雅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4440000">
              <a:off x="7406640" y="276552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4440000">
              <a:off x="7323840" y="2656440"/>
              <a:ext cx="11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48280" y="2865600"/>
              <a:ext cx="13953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50160" y="31006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進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20880" y="28814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19720" y="31006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化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16080" y="28814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73080" y="31006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北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08400" y="28814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·s²Ó©úÅé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4640" y="31006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800" spc="-1" strike="noStrike">
                  <a:solidFill>
                    <a:srgbClr val="3333ff"/>
                  </a:solidFill>
                  <a:latin typeface="新細明體"/>
                </a:rPr>
                <a:t>路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976400">
              <a:off x="4706280" y="2841480"/>
              <a:ext cx="98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台中港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23800">
              <a:off x="2647080" y="3514680"/>
              <a:ext cx="515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imes New Roman"/>
                </a:rPr>
                <a:t>高速公路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62320" y="2710080"/>
              <a:ext cx="333360" cy="819000"/>
            </a:xfrm>
            <a:custGeom>
              <a:avLst/>
              <a:gdLst/>
              <a:ahLst/>
              <a:rect l="l" t="t" r="r" b="b"/>
              <a:pathLst>
                <a:path w="210" h="516">
                  <a:moveTo>
                    <a:pt x="210" y="0"/>
                  </a:moveTo>
                  <a:lnTo>
                    <a:pt x="0" y="372"/>
                  </a:lnTo>
                  <a:lnTo>
                    <a:pt x="0" y="516"/>
                  </a:lnTo>
                </a:path>
              </a:pathLst>
            </a:custGeom>
            <a:noFill/>
            <a:ln w="40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47840" y="500040"/>
              <a:ext cx="952560" cy="5276880"/>
            </a:xfrm>
            <a:custGeom>
              <a:avLst/>
              <a:gdLst/>
              <a:ahLst/>
              <a:rect l="l" t="t" r="r" b="b"/>
              <a:pathLst>
                <a:path w="600" h="3324">
                  <a:moveTo>
                    <a:pt x="600" y="0"/>
                  </a:moveTo>
                  <a:lnTo>
                    <a:pt x="522" y="48"/>
                  </a:lnTo>
                  <a:lnTo>
                    <a:pt x="474" y="102"/>
                  </a:lnTo>
                  <a:lnTo>
                    <a:pt x="456" y="138"/>
                  </a:lnTo>
                  <a:lnTo>
                    <a:pt x="396" y="174"/>
                  </a:lnTo>
                  <a:lnTo>
                    <a:pt x="342" y="414"/>
                  </a:lnTo>
                  <a:lnTo>
                    <a:pt x="318" y="510"/>
                  </a:lnTo>
                  <a:lnTo>
                    <a:pt x="282" y="588"/>
                  </a:lnTo>
                  <a:lnTo>
                    <a:pt x="222" y="678"/>
                  </a:lnTo>
                  <a:lnTo>
                    <a:pt x="210" y="714"/>
                  </a:lnTo>
                  <a:lnTo>
                    <a:pt x="210" y="1092"/>
                  </a:lnTo>
                  <a:lnTo>
                    <a:pt x="72" y="1554"/>
                  </a:lnTo>
                  <a:lnTo>
                    <a:pt x="12" y="1758"/>
                  </a:lnTo>
                  <a:lnTo>
                    <a:pt x="0" y="1824"/>
                  </a:lnTo>
                  <a:lnTo>
                    <a:pt x="54" y="2304"/>
                  </a:lnTo>
                  <a:lnTo>
                    <a:pt x="138" y="2736"/>
                  </a:lnTo>
                  <a:lnTo>
                    <a:pt x="252" y="3090"/>
                  </a:lnTo>
                  <a:lnTo>
                    <a:pt x="180" y="3324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7960" y="528840"/>
              <a:ext cx="1800360" cy="5600520"/>
            </a:xfrm>
            <a:custGeom>
              <a:avLst/>
              <a:gdLst/>
              <a:ahLst/>
              <a:rect l="l" t="t" r="r" b="b"/>
              <a:pathLst>
                <a:path w="1134" h="3528">
                  <a:moveTo>
                    <a:pt x="1134" y="0"/>
                  </a:moveTo>
                  <a:lnTo>
                    <a:pt x="984" y="126"/>
                  </a:lnTo>
                  <a:lnTo>
                    <a:pt x="936" y="198"/>
                  </a:lnTo>
                  <a:lnTo>
                    <a:pt x="858" y="402"/>
                  </a:lnTo>
                  <a:lnTo>
                    <a:pt x="786" y="528"/>
                  </a:lnTo>
                  <a:lnTo>
                    <a:pt x="780" y="738"/>
                  </a:lnTo>
                  <a:lnTo>
                    <a:pt x="684" y="912"/>
                  </a:lnTo>
                  <a:lnTo>
                    <a:pt x="582" y="1122"/>
                  </a:lnTo>
                  <a:lnTo>
                    <a:pt x="486" y="1368"/>
                  </a:lnTo>
                  <a:lnTo>
                    <a:pt x="474" y="1542"/>
                  </a:lnTo>
                  <a:lnTo>
                    <a:pt x="468" y="1620"/>
                  </a:lnTo>
                  <a:lnTo>
                    <a:pt x="438" y="1656"/>
                  </a:lnTo>
                  <a:lnTo>
                    <a:pt x="402" y="1698"/>
                  </a:lnTo>
                  <a:lnTo>
                    <a:pt x="384" y="1770"/>
                  </a:lnTo>
                  <a:lnTo>
                    <a:pt x="390" y="1866"/>
                  </a:lnTo>
                  <a:lnTo>
                    <a:pt x="402" y="1932"/>
                  </a:lnTo>
                  <a:lnTo>
                    <a:pt x="402" y="1974"/>
                  </a:lnTo>
                  <a:lnTo>
                    <a:pt x="366" y="2052"/>
                  </a:lnTo>
                  <a:lnTo>
                    <a:pt x="270" y="2424"/>
                  </a:lnTo>
                  <a:lnTo>
                    <a:pt x="228" y="2802"/>
                  </a:lnTo>
                  <a:lnTo>
                    <a:pt x="156" y="2958"/>
                  </a:lnTo>
                  <a:lnTo>
                    <a:pt x="0" y="3528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7680" y="1347840"/>
              <a:ext cx="390600" cy="2057400"/>
            </a:xfrm>
            <a:custGeom>
              <a:avLst/>
              <a:gdLst/>
              <a:ahLst/>
              <a:rect l="l" t="t" r="r" b="b"/>
              <a:pathLst>
                <a:path w="246" h="1296">
                  <a:moveTo>
                    <a:pt x="246" y="0"/>
                  </a:moveTo>
                  <a:lnTo>
                    <a:pt x="228" y="36"/>
                  </a:lnTo>
                  <a:lnTo>
                    <a:pt x="228" y="108"/>
                  </a:lnTo>
                  <a:lnTo>
                    <a:pt x="210" y="192"/>
                  </a:lnTo>
                  <a:lnTo>
                    <a:pt x="198" y="324"/>
                  </a:lnTo>
                  <a:lnTo>
                    <a:pt x="180" y="456"/>
                  </a:lnTo>
                  <a:lnTo>
                    <a:pt x="168" y="558"/>
                  </a:lnTo>
                  <a:lnTo>
                    <a:pt x="150" y="636"/>
                  </a:lnTo>
                  <a:lnTo>
                    <a:pt x="120" y="696"/>
                  </a:lnTo>
                  <a:lnTo>
                    <a:pt x="42" y="990"/>
                  </a:lnTo>
                  <a:lnTo>
                    <a:pt x="18" y="1050"/>
                  </a:lnTo>
                  <a:lnTo>
                    <a:pt x="12" y="1212"/>
                  </a:lnTo>
                  <a:lnTo>
                    <a:pt x="0" y="1296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03280" y="1271880"/>
              <a:ext cx="287280" cy="819000"/>
            </a:xfrm>
            <a:custGeom>
              <a:avLst/>
              <a:gdLst/>
              <a:ahLst/>
              <a:rect l="l" t="t" r="r" b="b"/>
              <a:pathLst>
                <a:path w="181" h="516">
                  <a:moveTo>
                    <a:pt x="181" y="0"/>
                  </a:moveTo>
                  <a:lnTo>
                    <a:pt x="154" y="127"/>
                  </a:lnTo>
                  <a:lnTo>
                    <a:pt x="127" y="214"/>
                  </a:lnTo>
                  <a:lnTo>
                    <a:pt x="107" y="308"/>
                  </a:lnTo>
                  <a:lnTo>
                    <a:pt x="80" y="415"/>
                  </a:lnTo>
                  <a:lnTo>
                    <a:pt x="60" y="462"/>
                  </a:lnTo>
                  <a:lnTo>
                    <a:pt x="0" y="516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42800" y="1138320"/>
              <a:ext cx="461880" cy="190440"/>
            </a:xfrm>
            <a:custGeom>
              <a:avLst/>
              <a:gdLst/>
              <a:ahLst/>
              <a:rect l="l" t="t" r="r" b="b"/>
              <a:pathLst>
                <a:path w="291" h="120">
                  <a:moveTo>
                    <a:pt x="3" y="108"/>
                  </a:moveTo>
                  <a:lnTo>
                    <a:pt x="3" y="75"/>
                  </a:lnTo>
                  <a:lnTo>
                    <a:pt x="48" y="0"/>
                  </a:lnTo>
                  <a:lnTo>
                    <a:pt x="75" y="9"/>
                  </a:lnTo>
                  <a:lnTo>
                    <a:pt x="147" y="18"/>
                  </a:lnTo>
                  <a:lnTo>
                    <a:pt x="171" y="24"/>
                  </a:lnTo>
                  <a:lnTo>
                    <a:pt x="216" y="36"/>
                  </a:lnTo>
                  <a:lnTo>
                    <a:pt x="291" y="48"/>
                  </a:lnTo>
                  <a:lnTo>
                    <a:pt x="189" y="69"/>
                  </a:lnTo>
                  <a:lnTo>
                    <a:pt x="57" y="108"/>
                  </a:lnTo>
                  <a:lnTo>
                    <a:pt x="24" y="114"/>
                  </a:lnTo>
                  <a:lnTo>
                    <a:pt x="0" y="120"/>
                  </a:lnTo>
                  <a:lnTo>
                    <a:pt x="3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66680" y="1386000"/>
              <a:ext cx="266760" cy="566640"/>
            </a:xfrm>
            <a:custGeom>
              <a:avLst/>
              <a:gdLst/>
              <a:ahLst/>
              <a:rect l="l" t="t" r="r" b="b"/>
              <a:pathLst>
                <a:path w="168" h="357">
                  <a:moveTo>
                    <a:pt x="165" y="0"/>
                  </a:moveTo>
                  <a:lnTo>
                    <a:pt x="168" y="57"/>
                  </a:lnTo>
                  <a:lnTo>
                    <a:pt x="162" y="75"/>
                  </a:lnTo>
                  <a:lnTo>
                    <a:pt x="147" y="99"/>
                  </a:lnTo>
                  <a:lnTo>
                    <a:pt x="72" y="147"/>
                  </a:lnTo>
                  <a:lnTo>
                    <a:pt x="45" y="165"/>
                  </a:lnTo>
                  <a:lnTo>
                    <a:pt x="42" y="186"/>
                  </a:lnTo>
                  <a:lnTo>
                    <a:pt x="30" y="219"/>
                  </a:lnTo>
                  <a:lnTo>
                    <a:pt x="15" y="264"/>
                  </a:lnTo>
                  <a:lnTo>
                    <a:pt x="6" y="291"/>
                  </a:lnTo>
                  <a:lnTo>
                    <a:pt x="9" y="315"/>
                  </a:lnTo>
                  <a:lnTo>
                    <a:pt x="0" y="357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28400" y="376200"/>
              <a:ext cx="352440" cy="962280"/>
            </a:xfrm>
            <a:custGeom>
              <a:avLst/>
              <a:gdLst/>
              <a:ahLst/>
              <a:rect l="l" t="t" r="r" b="b"/>
              <a:pathLst>
                <a:path w="222" h="606">
                  <a:moveTo>
                    <a:pt x="0" y="606"/>
                  </a:moveTo>
                  <a:lnTo>
                    <a:pt x="3" y="549"/>
                  </a:lnTo>
                  <a:lnTo>
                    <a:pt x="117" y="339"/>
                  </a:lnTo>
                  <a:lnTo>
                    <a:pt x="171" y="255"/>
                  </a:lnTo>
                  <a:lnTo>
                    <a:pt x="219" y="27"/>
                  </a:lnTo>
                  <a:lnTo>
                    <a:pt x="222" y="0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33200" y="395280"/>
              <a:ext cx="190800" cy="771840"/>
            </a:xfrm>
            <a:custGeom>
              <a:avLst/>
              <a:gdLst/>
              <a:ahLst/>
              <a:rect l="l" t="t" r="r" b="b"/>
              <a:pathLst>
                <a:path w="120" h="486">
                  <a:moveTo>
                    <a:pt x="0" y="486"/>
                  </a:moveTo>
                  <a:lnTo>
                    <a:pt x="30" y="354"/>
                  </a:lnTo>
                  <a:lnTo>
                    <a:pt x="48" y="288"/>
                  </a:lnTo>
                  <a:lnTo>
                    <a:pt x="54" y="210"/>
                  </a:lnTo>
                  <a:lnTo>
                    <a:pt x="66" y="162"/>
                  </a:lnTo>
                  <a:lnTo>
                    <a:pt x="66" y="108"/>
                  </a:lnTo>
                  <a:lnTo>
                    <a:pt x="120" y="0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99920" y="1576440"/>
              <a:ext cx="219240" cy="619200"/>
            </a:xfrm>
            <a:custGeom>
              <a:avLst/>
              <a:gdLst/>
              <a:ahLst/>
              <a:rect l="l" t="t" r="r" b="b"/>
              <a:pathLst>
                <a:path w="138" h="390">
                  <a:moveTo>
                    <a:pt x="138" y="0"/>
                  </a:moveTo>
                  <a:lnTo>
                    <a:pt x="90" y="102"/>
                  </a:lnTo>
                  <a:lnTo>
                    <a:pt x="0" y="390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418840" y="1414440"/>
              <a:ext cx="142920" cy="1000440"/>
            </a:xfrm>
            <a:prstGeom prst="line">
              <a:avLst/>
            </a:prstGeom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771640" y="1004760"/>
              <a:ext cx="257040" cy="476280"/>
            </a:xfrm>
            <a:prstGeom prst="line">
              <a:avLst/>
            </a:prstGeom>
            <a:ln w="442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71640" y="1252800"/>
              <a:ext cx="457200" cy="914400"/>
            </a:xfrm>
            <a:custGeom>
              <a:avLst/>
              <a:gdLst/>
              <a:ahLst/>
              <a:rect l="l" t="t" r="r" b="b"/>
              <a:pathLst>
                <a:path w="288" h="576">
                  <a:moveTo>
                    <a:pt x="288" y="0"/>
                  </a:moveTo>
                  <a:lnTo>
                    <a:pt x="138" y="240"/>
                  </a:lnTo>
                  <a:lnTo>
                    <a:pt x="0" y="576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2138400"/>
              <a:ext cx="1514520" cy="2895840"/>
            </a:xfrm>
            <a:custGeom>
              <a:avLst/>
              <a:gdLst/>
              <a:ahLst/>
              <a:rect l="l" t="t" r="r" b="b"/>
              <a:pathLst>
                <a:path w="954" h="1824">
                  <a:moveTo>
                    <a:pt x="954" y="0"/>
                  </a:moveTo>
                  <a:lnTo>
                    <a:pt x="684" y="0"/>
                  </a:lnTo>
                  <a:lnTo>
                    <a:pt x="522" y="126"/>
                  </a:lnTo>
                  <a:lnTo>
                    <a:pt x="438" y="204"/>
                  </a:lnTo>
                  <a:lnTo>
                    <a:pt x="348" y="312"/>
                  </a:lnTo>
                  <a:lnTo>
                    <a:pt x="246" y="414"/>
                  </a:lnTo>
                  <a:lnTo>
                    <a:pt x="36" y="768"/>
                  </a:lnTo>
                  <a:lnTo>
                    <a:pt x="0" y="888"/>
                  </a:lnTo>
                  <a:lnTo>
                    <a:pt x="12" y="1140"/>
                  </a:lnTo>
                  <a:lnTo>
                    <a:pt x="48" y="1374"/>
                  </a:lnTo>
                  <a:lnTo>
                    <a:pt x="84" y="1584"/>
                  </a:lnTo>
                  <a:lnTo>
                    <a:pt x="168" y="1824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7960" y="3138480"/>
              <a:ext cx="495360" cy="1971720"/>
            </a:xfrm>
            <a:custGeom>
              <a:avLst/>
              <a:gdLst/>
              <a:ahLst/>
              <a:rect l="l" t="t" r="r" b="b"/>
              <a:pathLst>
                <a:path w="312" h="1242">
                  <a:moveTo>
                    <a:pt x="312" y="0"/>
                  </a:moveTo>
                  <a:lnTo>
                    <a:pt x="6" y="528"/>
                  </a:lnTo>
                  <a:lnTo>
                    <a:pt x="0" y="1242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90920" y="5110200"/>
              <a:ext cx="257040" cy="885960"/>
            </a:xfrm>
            <a:custGeom>
              <a:avLst/>
              <a:gdLst/>
              <a:ahLst/>
              <a:rect l="l" t="t" r="r" b="b"/>
              <a:pathLst>
                <a:path w="162" h="558">
                  <a:moveTo>
                    <a:pt x="162" y="0"/>
                  </a:moveTo>
                  <a:lnTo>
                    <a:pt x="132" y="156"/>
                  </a:lnTo>
                  <a:lnTo>
                    <a:pt x="114" y="276"/>
                  </a:lnTo>
                  <a:lnTo>
                    <a:pt x="72" y="444"/>
                  </a:lnTo>
                  <a:lnTo>
                    <a:pt x="0" y="558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48240" y="3490920"/>
              <a:ext cx="295200" cy="2629080"/>
            </a:xfrm>
            <a:custGeom>
              <a:avLst/>
              <a:gdLst/>
              <a:ahLst/>
              <a:rect l="l" t="t" r="r" b="b"/>
              <a:pathLst>
                <a:path w="186" h="1656">
                  <a:moveTo>
                    <a:pt x="186" y="0"/>
                  </a:moveTo>
                  <a:lnTo>
                    <a:pt x="0" y="306"/>
                  </a:lnTo>
                  <a:lnTo>
                    <a:pt x="6" y="522"/>
                  </a:lnTo>
                  <a:lnTo>
                    <a:pt x="12" y="1398"/>
                  </a:lnTo>
                  <a:lnTo>
                    <a:pt x="12" y="1656"/>
                  </a:lnTo>
                </a:path>
              </a:pathLst>
            </a:custGeom>
            <a:noFill/>
            <a:ln w="442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33720" y="2872080"/>
              <a:ext cx="2876760" cy="3247920"/>
            </a:xfrm>
            <a:custGeom>
              <a:avLst/>
              <a:gdLst/>
              <a:ahLst/>
              <a:rect l="l" t="t" r="r" b="b"/>
              <a:pathLst>
                <a:path w="1812" h="2046">
                  <a:moveTo>
                    <a:pt x="1812" y="0"/>
                  </a:moveTo>
                  <a:lnTo>
                    <a:pt x="1140" y="6"/>
                  </a:lnTo>
                  <a:lnTo>
                    <a:pt x="672" y="12"/>
                  </a:lnTo>
                  <a:lnTo>
                    <a:pt x="252" y="234"/>
                  </a:lnTo>
                  <a:lnTo>
                    <a:pt x="180" y="456"/>
                  </a:lnTo>
                  <a:lnTo>
                    <a:pt x="0" y="768"/>
                  </a:lnTo>
                  <a:lnTo>
                    <a:pt x="6" y="2046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95840" y="3624480"/>
              <a:ext cx="2114640" cy="2485800"/>
            </a:xfrm>
            <a:custGeom>
              <a:avLst/>
              <a:gdLst/>
              <a:ahLst/>
              <a:rect l="l" t="t" r="r" b="b"/>
              <a:pathLst>
                <a:path w="1332" h="1566">
                  <a:moveTo>
                    <a:pt x="0" y="1566"/>
                  </a:moveTo>
                  <a:lnTo>
                    <a:pt x="0" y="306"/>
                  </a:lnTo>
                  <a:lnTo>
                    <a:pt x="144" y="60"/>
                  </a:lnTo>
                  <a:lnTo>
                    <a:pt x="198" y="18"/>
                  </a:lnTo>
                  <a:lnTo>
                    <a:pt x="240" y="6"/>
                  </a:lnTo>
                  <a:lnTo>
                    <a:pt x="324" y="0"/>
                  </a:lnTo>
                  <a:lnTo>
                    <a:pt x="744" y="0"/>
                  </a:lnTo>
                  <a:lnTo>
                    <a:pt x="1332" y="12"/>
                  </a:lnTo>
                </a:path>
              </a:pathLst>
            </a:custGeom>
            <a:noFill/>
            <a:ln w="475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62400" y="3957840"/>
              <a:ext cx="1276560" cy="276120"/>
            </a:xfrm>
            <a:custGeom>
              <a:avLst/>
              <a:gdLst/>
              <a:ahLst/>
              <a:rect l="l" t="t" r="r" b="b"/>
              <a:pathLst>
                <a:path w="804" h="174">
                  <a:moveTo>
                    <a:pt x="0" y="174"/>
                  </a:moveTo>
                  <a:lnTo>
                    <a:pt x="150" y="0"/>
                  </a:lnTo>
                  <a:lnTo>
                    <a:pt x="804" y="6"/>
                  </a:lnTo>
                </a:path>
              </a:pathLst>
            </a:custGeom>
            <a:noFill/>
            <a:ln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82640" y="614520"/>
              <a:ext cx="1193760" cy="3879720"/>
            </a:xfrm>
            <a:custGeom>
              <a:avLst/>
              <a:gdLst/>
              <a:ahLst/>
              <a:rect l="l" t="t" r="r" b="b"/>
              <a:pathLst>
                <a:path w="752" h="2444">
                  <a:moveTo>
                    <a:pt x="752" y="0"/>
                  </a:moveTo>
                  <a:lnTo>
                    <a:pt x="602" y="294"/>
                  </a:lnTo>
                  <a:lnTo>
                    <a:pt x="542" y="426"/>
                  </a:lnTo>
                  <a:lnTo>
                    <a:pt x="488" y="564"/>
                  </a:lnTo>
                  <a:lnTo>
                    <a:pt x="434" y="744"/>
                  </a:lnTo>
                  <a:lnTo>
                    <a:pt x="356" y="996"/>
                  </a:lnTo>
                  <a:lnTo>
                    <a:pt x="278" y="1182"/>
                  </a:lnTo>
                  <a:lnTo>
                    <a:pt x="176" y="1392"/>
                  </a:lnTo>
                  <a:lnTo>
                    <a:pt x="62" y="1626"/>
                  </a:lnTo>
                  <a:lnTo>
                    <a:pt x="9" y="1859"/>
                  </a:lnTo>
                  <a:lnTo>
                    <a:pt x="0" y="2133"/>
                  </a:lnTo>
                  <a:lnTo>
                    <a:pt x="0" y="2444"/>
                  </a:lnTo>
                </a:path>
              </a:pathLst>
            </a:custGeom>
            <a:noFill/>
            <a:ln w="7632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838400">
              <a:off x="4697280" y="3291120"/>
              <a:ext cx="4849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惠 中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38400">
              <a:off x="4268520" y="2824200"/>
              <a:ext cx="4849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河 南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838400">
              <a:off x="4077000" y="2766240"/>
              <a:ext cx="4546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朝 富 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1144000">
              <a:off x="3706560" y="3371760"/>
              <a:ext cx="4849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光 明 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1585600">
              <a:off x="5242680" y="4161240"/>
              <a:ext cx="4849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大墩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1585600">
              <a:off x="5525280" y="4234320"/>
              <a:ext cx="4849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東 興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134800">
              <a:off x="6086520" y="2881080"/>
              <a:ext cx="63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漢口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29160" y="4415040"/>
              <a:ext cx="324000" cy="314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1585600">
              <a:off x="6296760" y="4320000"/>
              <a:ext cx="4849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美 村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1585600">
              <a:off x="6601320" y="4453560"/>
              <a:ext cx="4849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英 才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79200">
              <a:off x="6733440" y="3414960"/>
              <a:ext cx="638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健行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7461200">
              <a:off x="8011800" y="4518360"/>
              <a:ext cx="63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三民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3160" y="4729320"/>
              <a:ext cx="952560" cy="942840"/>
            </a:xfrm>
            <a:custGeom>
              <a:avLst/>
              <a:gdLst/>
              <a:ahLst/>
              <a:rect l="l" t="t" r="r" b="b"/>
              <a:pathLst>
                <a:path w="600" h="594">
                  <a:moveTo>
                    <a:pt x="600" y="594"/>
                  </a:moveTo>
                  <a:lnTo>
                    <a:pt x="570" y="546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303200">
              <a:off x="3423960" y="2718360"/>
              <a:ext cx="515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0" lang="zh-TW" sz="1100" spc="-1" strike="noStrike">
                  <a:solidFill>
                    <a:srgbClr val="000000"/>
                  </a:solidFill>
                  <a:latin typeface="Times New Roman"/>
                </a:rPr>
                <a:t>米外環道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48240" y="3100680"/>
              <a:ext cx="28800" cy="1323720"/>
            </a:xfrm>
            <a:custGeom>
              <a:avLst/>
              <a:gdLst/>
              <a:ahLst/>
              <a:rect l="l" t="t" r="r" b="b"/>
              <a:pathLst>
                <a:path w="18" h="834">
                  <a:moveTo>
                    <a:pt x="0" y="834"/>
                  </a:moveTo>
                  <a:lnTo>
                    <a:pt x="15" y="430"/>
                  </a:lnTo>
                  <a:lnTo>
                    <a:pt x="18" y="0"/>
                  </a:lnTo>
                </a:path>
              </a:pathLst>
            </a:custGeom>
            <a:noFill/>
            <a:ln w="54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585600">
              <a:off x="7058520" y="4005720"/>
              <a:ext cx="4849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民權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301600">
              <a:off x="7432200" y="4579920"/>
              <a:ext cx="903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301600">
              <a:off x="7422480" y="4656240"/>
              <a:ext cx="87480" cy="4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622600">
              <a:off x="7276680" y="4520880"/>
              <a:ext cx="9828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301600">
              <a:off x="7257600" y="4434120"/>
              <a:ext cx="99720" cy="44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301600">
              <a:off x="7054560" y="4335480"/>
              <a:ext cx="93600" cy="44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301600">
              <a:off x="7124040" y="4308480"/>
              <a:ext cx="103320" cy="44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01600">
              <a:off x="6859080" y="4179960"/>
              <a:ext cx="1080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301600">
              <a:off x="6990840" y="4197600"/>
              <a:ext cx="1080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855200">
              <a:off x="6603480" y="3956040"/>
              <a:ext cx="1047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55200">
              <a:off x="6464160" y="3940200"/>
              <a:ext cx="1029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27200">
              <a:off x="6012720" y="3600360"/>
              <a:ext cx="1080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55200">
              <a:off x="6201720" y="3697560"/>
              <a:ext cx="1047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855200">
              <a:off x="6217920" y="3786120"/>
              <a:ext cx="1080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599000">
              <a:off x="5882760" y="359532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27200">
              <a:off x="5771520" y="3454200"/>
              <a:ext cx="1080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27200">
              <a:off x="5739840" y="3517560"/>
              <a:ext cx="1080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27200">
              <a:off x="5562000" y="3390840"/>
              <a:ext cx="1080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27200">
              <a:off x="5625360" y="3352680"/>
              <a:ext cx="1080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27200">
              <a:off x="5479560" y="3276360"/>
              <a:ext cx="1080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599000">
              <a:off x="5317560" y="324000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599000">
              <a:off x="5050800" y="309420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599000">
              <a:off x="5184000" y="310068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33400">
              <a:off x="4396680" y="264312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395200">
              <a:off x="4460400" y="259848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33400">
              <a:off x="4656960" y="285876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33400">
              <a:off x="4695120" y="278892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33400">
              <a:off x="4853880" y="298584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33400">
              <a:off x="4917600" y="294192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33400">
              <a:off x="4314240" y="248472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33400">
              <a:off x="4174560" y="247824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33400">
              <a:off x="4041000" y="235080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33400">
              <a:off x="4066560" y="228132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33400">
              <a:off x="3438000" y="191304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33400">
              <a:off x="3469680" y="184968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469400">
              <a:off x="3267000" y="172872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469400">
              <a:off x="3126960" y="174132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410000">
              <a:off x="2740320" y="1975680"/>
              <a:ext cx="4849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安 和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410000">
              <a:off x="2626200" y="1677240"/>
              <a:ext cx="4849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安 林 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410000">
              <a:off x="2554200" y="889560"/>
              <a:ext cx="4546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永 福 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10000">
              <a:off x="2509560" y="1505520"/>
              <a:ext cx="4546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中工三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300000">
              <a:off x="2307240" y="1430640"/>
              <a:ext cx="4546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中工二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300000">
              <a:off x="1996200" y="1538640"/>
              <a:ext cx="4546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工業一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95200">
              <a:off x="1930320" y="575280"/>
              <a:ext cx="31752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玉門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95200">
              <a:off x="1234800" y="1348920"/>
              <a:ext cx="45468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900" spc="-1" strike="noStrike">
                  <a:solidFill>
                    <a:srgbClr val="000000"/>
                  </a:solidFill>
                  <a:latin typeface="Times New Roman"/>
                </a:rPr>
                <a:t>東海南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936600">
              <a:off x="732960" y="1426320"/>
              <a:ext cx="48492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約農路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469400">
              <a:off x="3006360" y="160776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469400">
              <a:off x="2885760" y="160776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69400">
              <a:off x="2460240" y="137304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469400">
              <a:off x="2428200" y="1290240"/>
              <a:ext cx="106560" cy="4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1126600">
              <a:off x="1951920" y="1131840"/>
              <a:ext cx="106560" cy="4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469400">
              <a:off x="2212560" y="118260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963000">
              <a:off x="2117160" y="120816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126600">
              <a:off x="1831320" y="120204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126600">
              <a:off x="1647360" y="1202040"/>
              <a:ext cx="10620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1126600">
              <a:off x="1558440" y="1290600"/>
              <a:ext cx="106200" cy="4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1126600">
              <a:off x="1335960" y="1284480"/>
              <a:ext cx="106560" cy="4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1126600">
              <a:off x="1209240" y="1360440"/>
              <a:ext cx="106200" cy="4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61960" y="995400"/>
              <a:ext cx="3664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76280" y="94320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榮總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0200" y="1862280"/>
              <a:ext cx="533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東海大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76800" y="5507280"/>
              <a:ext cx="7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火車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155200">
              <a:off x="8422920" y="5667480"/>
              <a:ext cx="214560" cy="12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438280" y="616896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台中港路公車專用道站位設置示意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09:16:20Z</dcterms:created>
  <dc:creator>張景興</dc:creator>
  <dc:description/>
  <dc:language>en-US</dc:language>
  <cp:lastModifiedBy>張贊育</cp:lastModifiedBy>
  <dcterms:modified xsi:type="dcterms:W3CDTF">2001-11-30T09:06:20Z</dcterms:modified>
  <cp:revision>6</cp:revision>
  <dc:subject/>
  <dc:title>PowerPoint 簡報</dc:title>
</cp:coreProperties>
</file>