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273-85EC-4299-B6BC-DF158F78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F19-9724-416E-A33B-54458DF6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4DED-2B69-46B0-A794-3FA6CBA5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68D-AC47-4318-B061-8D69F725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D07-31A2-4F8E-BDCA-5236F26C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B75-5B7C-40F4-9B2E-B8DF65B6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B6A-B59B-4424-BFDA-B192988E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468E-047B-4805-B9D5-F1D1A916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95AC-269A-41FE-9382-AB4B1670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A9A-3044-4F52-ABA0-BCAFE2B3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45D4-49F3-4289-8E43-4008E9E1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EBA-B35A-41AA-927F-8519421A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658C-2C6D-459B-8F4D-3FB9494935C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6095880"/>
            <a:ext cx="48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圖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56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台中港路公車專用道平面佈設—英才路路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38120" y="411120"/>
          <a:ext cx="8020080" cy="55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411120"/>
                    <a:ext cx="8020080" cy="5592960"/>
                  </a:xfrm>
                  <a:prstGeom prst="rect">
                    <a:avLst/>
                  </a:prstGeom>
                  <a:ln w="5724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 rot="5400000">
            <a:off x="-54360" y="3024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23:40:24Z</dcterms:created>
  <dc:creator>鍾宜螢</dc:creator>
  <dc:description/>
  <dc:language>en-US</dc:language>
  <cp:lastModifiedBy>張贊育</cp:lastModifiedBy>
  <dcterms:modified xsi:type="dcterms:W3CDTF">2001-11-30T08:54:04Z</dcterms:modified>
  <cp:revision>3</cp:revision>
  <dc:subject/>
  <dc:title>PowerPoint 簡報</dc:title>
</cp:coreProperties>
</file>