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6A2-4F46-4F53-AE3A-3EAFD9F2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BD4-186B-4FC7-895B-7B7B7B76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71D-0FD5-4965-9546-22A6ECB7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B9C-A0BA-4F27-9FAD-93393698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670-608F-4F43-820B-2CB72BBD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BD0-9136-449E-B355-050F18D8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C00-E402-4A7C-AF29-A850808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2FA-ACE8-4C7A-8EA9-6F4A33E0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31F-827A-46A9-BB8C-F0D5C16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0E4-6D75-4F35-B6FC-D146BE1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8DE-ED69-411A-B8DA-C807375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ADF-E61D-4AC4-A304-7B1C6DD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BED0-2F81-401A-BA52-80D871A3093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6019920"/>
            <a:ext cx="48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9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台中港路公車專用道平面佈設—漢民路路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517680"/>
          <a:ext cx="7766280" cy="54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17680"/>
                    <a:ext cx="7766280" cy="541152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rot="5400000">
            <a:off x="-1440" y="28947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42:34Z</dcterms:created>
  <dc:creator>鍾宜螢</dc:creator>
  <dc:description/>
  <dc:language>en-US</dc:language>
  <cp:lastModifiedBy>張贊育</cp:lastModifiedBy>
  <dcterms:modified xsi:type="dcterms:W3CDTF">2001-11-30T08:56:29Z</dcterms:modified>
  <cp:revision>3</cp:revision>
  <dc:subject/>
  <dc:title>PowerPoint 簡報</dc:title>
</cp:coreProperties>
</file>