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785-7988-440B-8149-340D59E5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D96-BFC4-47C7-9787-82C68135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6C9-AAAD-4456-A683-10CD85E2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0B4-B69B-4FAC-BFC5-D395D51D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CDE-CE4F-4678-A86F-A02579B0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A86-944D-46C2-867B-9DB80BCB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5AB-E47B-45B8-BF5D-6CB69C32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375-A375-4846-AD2E-E510D642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EE0-0704-4B71-B9AF-7EC603D1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99A-13CD-4603-BBF0-FF965651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53B-6A4A-494A-8C69-82BDE06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BE4-2AA3-41FB-AFF4-B2AC467B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0FA4-840E-4CDF-988B-CEA3F51F83C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640" y="446040"/>
            <a:ext cx="8658000" cy="5429160"/>
            <a:chOff x="485640" y="446040"/>
            <a:chExt cx="8658000" cy="54291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11892" t="6557" r="22667" b="33468"/>
            <a:stretch/>
          </p:blipFill>
          <p:spPr>
            <a:xfrm>
              <a:off x="485640" y="446040"/>
              <a:ext cx="8157960" cy="542916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43" name=""/>
            <p:cNvSpPr/>
            <p:nvPr/>
          </p:nvSpPr>
          <p:spPr>
            <a:xfrm>
              <a:off x="4846320" y="4331520"/>
              <a:ext cx="333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5400000">
              <a:off x="5070960" y="394380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000" spc="-1" strike="noStrike">
                  <a:solidFill>
                    <a:srgbClr val="3333ff"/>
                  </a:solidFill>
                  <a:latin typeface="新細明體"/>
                </a:rPr>
                <a:t>文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5400000">
              <a:off x="5072040" y="45572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5400000">
              <a:off x="5070960" y="411264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000" spc="-1" strike="noStrike">
                  <a:solidFill>
                    <a:srgbClr val="3333ff"/>
                  </a:solidFill>
                  <a:latin typeface="新細明體"/>
                </a:rPr>
                <a:t>心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5072040" y="48268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5400000">
              <a:off x="5072040" y="50979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5064480" y="432396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0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62520" y="4441680"/>
              <a:ext cx="33480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6191280" y="40773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5968440" y="4619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6191280" y="42645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明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5968440" y="48938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6191280" y="443412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5968440" y="51602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6181920" y="46566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7920000">
              <a:off x="8240400" y="503892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中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7920000">
              <a:off x="7935480" y="47750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正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7920000">
              <a:off x="7717680" y="4573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7740000">
              <a:off x="7157880" y="47026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五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7740000">
              <a:off x="7342200" y="45054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7740000">
              <a:off x="7060680" y="48016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權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7740000">
              <a:off x="7165080" y="471132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7740000">
              <a:off x="6944760" y="49284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3780000">
              <a:off x="6246000" y="58140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3780000">
              <a:off x="6354720" y="7308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3780000">
              <a:off x="6352560" y="77508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清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3780000">
              <a:off x="6491160" y="9756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3780000">
              <a:off x="6505920" y="102672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300000">
              <a:off x="5726520" y="260856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文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300000">
              <a:off x="7764840" y="191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300000">
              <a:off x="6040800" y="237636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心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300000">
              <a:off x="8114040" y="19508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300000">
              <a:off x="6260040" y="230508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4440000">
              <a:off x="7233840" y="22629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大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4440000">
              <a:off x="7329240" y="24375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4440000">
              <a:off x="7302600" y="24213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雅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4440000">
              <a:off x="7406640" y="27018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4440000">
              <a:off x="7327440" y="2599920"/>
              <a:ext cx="10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48280" y="2799720"/>
              <a:ext cx="139536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49080" y="30200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進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20880" y="2814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20800" y="30200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16080" y="2814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73080" y="30200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08400" y="2814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24640" y="30200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976400">
              <a:off x="4701240" y="2775240"/>
              <a:ext cx="98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台中港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23800">
              <a:off x="2647080" y="3407400"/>
              <a:ext cx="5151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imes New Roman"/>
                </a:rPr>
                <a:t>高速公路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62320" y="2653560"/>
              <a:ext cx="333360" cy="767880"/>
            </a:xfrm>
            <a:custGeom>
              <a:avLst/>
              <a:gdLst/>
              <a:ahLst/>
              <a:rect l="l" t="t" r="r" b="b"/>
              <a:pathLst>
                <a:path w="210" h="516">
                  <a:moveTo>
                    <a:pt x="210" y="0"/>
                  </a:moveTo>
                  <a:lnTo>
                    <a:pt x="0" y="372"/>
                  </a:lnTo>
                  <a:lnTo>
                    <a:pt x="0" y="516"/>
                  </a:lnTo>
                </a:path>
              </a:pathLst>
            </a:custGeom>
            <a:noFill/>
            <a:ln w="40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47840" y="581400"/>
              <a:ext cx="952560" cy="4948200"/>
            </a:xfrm>
            <a:custGeom>
              <a:avLst/>
              <a:gdLst/>
              <a:ahLst/>
              <a:rect l="l" t="t" r="r" b="b"/>
              <a:pathLst>
                <a:path w="600" h="3324">
                  <a:moveTo>
                    <a:pt x="600" y="0"/>
                  </a:moveTo>
                  <a:lnTo>
                    <a:pt x="522" y="48"/>
                  </a:lnTo>
                  <a:lnTo>
                    <a:pt x="474" y="102"/>
                  </a:lnTo>
                  <a:lnTo>
                    <a:pt x="456" y="138"/>
                  </a:lnTo>
                  <a:lnTo>
                    <a:pt x="396" y="174"/>
                  </a:lnTo>
                  <a:lnTo>
                    <a:pt x="342" y="414"/>
                  </a:lnTo>
                  <a:lnTo>
                    <a:pt x="318" y="510"/>
                  </a:lnTo>
                  <a:lnTo>
                    <a:pt x="282" y="588"/>
                  </a:lnTo>
                  <a:lnTo>
                    <a:pt x="222" y="678"/>
                  </a:lnTo>
                  <a:lnTo>
                    <a:pt x="210" y="714"/>
                  </a:lnTo>
                  <a:lnTo>
                    <a:pt x="210" y="1092"/>
                  </a:lnTo>
                  <a:lnTo>
                    <a:pt x="72" y="1554"/>
                  </a:lnTo>
                  <a:lnTo>
                    <a:pt x="12" y="1758"/>
                  </a:lnTo>
                  <a:lnTo>
                    <a:pt x="0" y="1824"/>
                  </a:lnTo>
                  <a:lnTo>
                    <a:pt x="54" y="2304"/>
                  </a:lnTo>
                  <a:lnTo>
                    <a:pt x="138" y="2736"/>
                  </a:lnTo>
                  <a:lnTo>
                    <a:pt x="252" y="3090"/>
                  </a:lnTo>
                  <a:lnTo>
                    <a:pt x="180" y="3324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37960" y="608400"/>
              <a:ext cx="1800360" cy="5251680"/>
            </a:xfrm>
            <a:custGeom>
              <a:avLst/>
              <a:gdLst/>
              <a:ahLst/>
              <a:rect l="l" t="t" r="r" b="b"/>
              <a:pathLst>
                <a:path w="1134" h="3528">
                  <a:moveTo>
                    <a:pt x="1134" y="0"/>
                  </a:moveTo>
                  <a:lnTo>
                    <a:pt x="984" y="126"/>
                  </a:lnTo>
                  <a:lnTo>
                    <a:pt x="936" y="198"/>
                  </a:lnTo>
                  <a:lnTo>
                    <a:pt x="858" y="402"/>
                  </a:lnTo>
                  <a:lnTo>
                    <a:pt x="786" y="528"/>
                  </a:lnTo>
                  <a:lnTo>
                    <a:pt x="780" y="738"/>
                  </a:lnTo>
                  <a:lnTo>
                    <a:pt x="684" y="912"/>
                  </a:lnTo>
                  <a:lnTo>
                    <a:pt x="582" y="1122"/>
                  </a:lnTo>
                  <a:lnTo>
                    <a:pt x="486" y="1368"/>
                  </a:lnTo>
                  <a:lnTo>
                    <a:pt x="474" y="1542"/>
                  </a:lnTo>
                  <a:lnTo>
                    <a:pt x="468" y="1620"/>
                  </a:lnTo>
                  <a:lnTo>
                    <a:pt x="438" y="1656"/>
                  </a:lnTo>
                  <a:lnTo>
                    <a:pt x="402" y="1698"/>
                  </a:lnTo>
                  <a:lnTo>
                    <a:pt x="384" y="1770"/>
                  </a:lnTo>
                  <a:lnTo>
                    <a:pt x="390" y="1866"/>
                  </a:lnTo>
                  <a:lnTo>
                    <a:pt x="402" y="1932"/>
                  </a:lnTo>
                  <a:lnTo>
                    <a:pt x="402" y="1974"/>
                  </a:lnTo>
                  <a:lnTo>
                    <a:pt x="366" y="2052"/>
                  </a:lnTo>
                  <a:lnTo>
                    <a:pt x="270" y="2424"/>
                  </a:lnTo>
                  <a:lnTo>
                    <a:pt x="228" y="2802"/>
                  </a:lnTo>
                  <a:lnTo>
                    <a:pt x="156" y="2958"/>
                  </a:lnTo>
                  <a:lnTo>
                    <a:pt x="0" y="3528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7680" y="1376280"/>
              <a:ext cx="390600" cy="1929240"/>
            </a:xfrm>
            <a:custGeom>
              <a:avLst/>
              <a:gdLst/>
              <a:ahLst/>
              <a:rect l="l" t="t" r="r" b="b"/>
              <a:pathLst>
                <a:path w="246" h="1296">
                  <a:moveTo>
                    <a:pt x="246" y="0"/>
                  </a:moveTo>
                  <a:lnTo>
                    <a:pt x="228" y="36"/>
                  </a:lnTo>
                  <a:lnTo>
                    <a:pt x="228" y="108"/>
                  </a:lnTo>
                  <a:lnTo>
                    <a:pt x="210" y="192"/>
                  </a:lnTo>
                  <a:lnTo>
                    <a:pt x="198" y="324"/>
                  </a:lnTo>
                  <a:lnTo>
                    <a:pt x="180" y="456"/>
                  </a:lnTo>
                  <a:lnTo>
                    <a:pt x="168" y="558"/>
                  </a:lnTo>
                  <a:lnTo>
                    <a:pt x="150" y="636"/>
                  </a:lnTo>
                  <a:lnTo>
                    <a:pt x="120" y="696"/>
                  </a:lnTo>
                  <a:lnTo>
                    <a:pt x="42" y="990"/>
                  </a:lnTo>
                  <a:lnTo>
                    <a:pt x="18" y="1050"/>
                  </a:lnTo>
                  <a:lnTo>
                    <a:pt x="12" y="1212"/>
                  </a:lnTo>
                  <a:lnTo>
                    <a:pt x="0" y="1296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3280" y="1305000"/>
              <a:ext cx="287280" cy="767880"/>
            </a:xfrm>
            <a:custGeom>
              <a:avLst/>
              <a:gdLst/>
              <a:ahLst/>
              <a:rect l="l" t="t" r="r" b="b"/>
              <a:pathLst>
                <a:path w="181" h="516">
                  <a:moveTo>
                    <a:pt x="181" y="0"/>
                  </a:moveTo>
                  <a:lnTo>
                    <a:pt x="154" y="127"/>
                  </a:lnTo>
                  <a:lnTo>
                    <a:pt x="127" y="214"/>
                  </a:lnTo>
                  <a:lnTo>
                    <a:pt x="107" y="308"/>
                  </a:lnTo>
                  <a:lnTo>
                    <a:pt x="80" y="415"/>
                  </a:lnTo>
                  <a:lnTo>
                    <a:pt x="60" y="462"/>
                  </a:lnTo>
                  <a:lnTo>
                    <a:pt x="0" y="516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42800" y="1179720"/>
              <a:ext cx="461880" cy="178560"/>
            </a:xfrm>
            <a:custGeom>
              <a:avLst/>
              <a:gdLst/>
              <a:ahLst/>
              <a:rect l="l" t="t" r="r" b="b"/>
              <a:pathLst>
                <a:path w="291" h="120">
                  <a:moveTo>
                    <a:pt x="3" y="108"/>
                  </a:moveTo>
                  <a:lnTo>
                    <a:pt x="3" y="75"/>
                  </a:lnTo>
                  <a:lnTo>
                    <a:pt x="48" y="0"/>
                  </a:lnTo>
                  <a:lnTo>
                    <a:pt x="75" y="9"/>
                  </a:lnTo>
                  <a:lnTo>
                    <a:pt x="147" y="18"/>
                  </a:lnTo>
                  <a:lnTo>
                    <a:pt x="171" y="24"/>
                  </a:lnTo>
                  <a:lnTo>
                    <a:pt x="216" y="36"/>
                  </a:lnTo>
                  <a:lnTo>
                    <a:pt x="291" y="48"/>
                  </a:lnTo>
                  <a:lnTo>
                    <a:pt x="189" y="69"/>
                  </a:lnTo>
                  <a:lnTo>
                    <a:pt x="57" y="108"/>
                  </a:lnTo>
                  <a:lnTo>
                    <a:pt x="24" y="114"/>
                  </a:lnTo>
                  <a:lnTo>
                    <a:pt x="0" y="120"/>
                  </a:lnTo>
                  <a:lnTo>
                    <a:pt x="3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6680" y="1411920"/>
              <a:ext cx="266760" cy="531360"/>
            </a:xfrm>
            <a:custGeom>
              <a:avLst/>
              <a:gdLst/>
              <a:ahLst/>
              <a:rect l="l" t="t" r="r" b="b"/>
              <a:pathLst>
                <a:path w="168" h="357">
                  <a:moveTo>
                    <a:pt x="165" y="0"/>
                  </a:moveTo>
                  <a:lnTo>
                    <a:pt x="168" y="57"/>
                  </a:lnTo>
                  <a:lnTo>
                    <a:pt x="162" y="75"/>
                  </a:lnTo>
                  <a:lnTo>
                    <a:pt x="147" y="99"/>
                  </a:lnTo>
                  <a:lnTo>
                    <a:pt x="72" y="147"/>
                  </a:lnTo>
                  <a:lnTo>
                    <a:pt x="45" y="165"/>
                  </a:lnTo>
                  <a:lnTo>
                    <a:pt x="42" y="186"/>
                  </a:lnTo>
                  <a:lnTo>
                    <a:pt x="30" y="219"/>
                  </a:lnTo>
                  <a:lnTo>
                    <a:pt x="15" y="264"/>
                  </a:lnTo>
                  <a:lnTo>
                    <a:pt x="6" y="291"/>
                  </a:lnTo>
                  <a:lnTo>
                    <a:pt x="9" y="315"/>
                  </a:lnTo>
                  <a:lnTo>
                    <a:pt x="0" y="357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8400" y="465120"/>
              <a:ext cx="352440" cy="902160"/>
            </a:xfrm>
            <a:custGeom>
              <a:avLst/>
              <a:gdLst/>
              <a:ahLst/>
              <a:rect l="l" t="t" r="r" b="b"/>
              <a:pathLst>
                <a:path w="222" h="606">
                  <a:moveTo>
                    <a:pt x="0" y="606"/>
                  </a:moveTo>
                  <a:lnTo>
                    <a:pt x="3" y="549"/>
                  </a:lnTo>
                  <a:lnTo>
                    <a:pt x="117" y="339"/>
                  </a:lnTo>
                  <a:lnTo>
                    <a:pt x="171" y="255"/>
                  </a:lnTo>
                  <a:lnTo>
                    <a:pt x="219" y="27"/>
                  </a:lnTo>
                  <a:lnTo>
                    <a:pt x="222" y="0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33200" y="483120"/>
              <a:ext cx="190800" cy="723600"/>
            </a:xfrm>
            <a:custGeom>
              <a:avLst/>
              <a:gdLst/>
              <a:ahLst/>
              <a:rect l="l" t="t" r="r" b="b"/>
              <a:pathLst>
                <a:path w="120" h="486">
                  <a:moveTo>
                    <a:pt x="0" y="486"/>
                  </a:moveTo>
                  <a:lnTo>
                    <a:pt x="30" y="354"/>
                  </a:lnTo>
                  <a:lnTo>
                    <a:pt x="48" y="288"/>
                  </a:lnTo>
                  <a:lnTo>
                    <a:pt x="54" y="210"/>
                  </a:lnTo>
                  <a:lnTo>
                    <a:pt x="66" y="162"/>
                  </a:lnTo>
                  <a:lnTo>
                    <a:pt x="66" y="108"/>
                  </a:lnTo>
                  <a:lnTo>
                    <a:pt x="120" y="0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9920" y="1590480"/>
              <a:ext cx="219240" cy="580320"/>
            </a:xfrm>
            <a:custGeom>
              <a:avLst/>
              <a:gdLst/>
              <a:ahLst/>
              <a:rect l="l" t="t" r="r" b="b"/>
              <a:pathLst>
                <a:path w="138" h="390">
                  <a:moveTo>
                    <a:pt x="138" y="0"/>
                  </a:moveTo>
                  <a:lnTo>
                    <a:pt x="90" y="102"/>
                  </a:lnTo>
                  <a:lnTo>
                    <a:pt x="0" y="390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418840" y="1438560"/>
              <a:ext cx="142920" cy="938160"/>
            </a:xfrm>
            <a:prstGeom prst="line">
              <a:avLst/>
            </a:prstGeom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771640" y="1054800"/>
              <a:ext cx="257040" cy="446400"/>
            </a:xfrm>
            <a:prstGeom prst="line">
              <a:avLst/>
            </a:prstGeom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71640" y="1287000"/>
              <a:ext cx="457200" cy="857160"/>
            </a:xfrm>
            <a:custGeom>
              <a:avLst/>
              <a:gdLst/>
              <a:ahLst/>
              <a:rect l="l" t="t" r="r" b="b"/>
              <a:pathLst>
                <a:path w="288" h="576">
                  <a:moveTo>
                    <a:pt x="288" y="0"/>
                  </a:moveTo>
                  <a:lnTo>
                    <a:pt x="138" y="240"/>
                  </a:lnTo>
                  <a:lnTo>
                    <a:pt x="0" y="576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080" y="2117520"/>
              <a:ext cx="1514520" cy="2715480"/>
            </a:xfrm>
            <a:custGeom>
              <a:avLst/>
              <a:gdLst/>
              <a:ahLst/>
              <a:rect l="l" t="t" r="r" b="b"/>
              <a:pathLst>
                <a:path w="954" h="1824">
                  <a:moveTo>
                    <a:pt x="954" y="0"/>
                  </a:moveTo>
                  <a:lnTo>
                    <a:pt x="684" y="0"/>
                  </a:lnTo>
                  <a:lnTo>
                    <a:pt x="522" y="126"/>
                  </a:lnTo>
                  <a:lnTo>
                    <a:pt x="438" y="204"/>
                  </a:lnTo>
                  <a:lnTo>
                    <a:pt x="348" y="312"/>
                  </a:lnTo>
                  <a:lnTo>
                    <a:pt x="246" y="414"/>
                  </a:lnTo>
                  <a:lnTo>
                    <a:pt x="36" y="768"/>
                  </a:lnTo>
                  <a:lnTo>
                    <a:pt x="0" y="888"/>
                  </a:lnTo>
                  <a:lnTo>
                    <a:pt x="12" y="1140"/>
                  </a:lnTo>
                  <a:lnTo>
                    <a:pt x="48" y="1374"/>
                  </a:lnTo>
                  <a:lnTo>
                    <a:pt x="84" y="1584"/>
                  </a:lnTo>
                  <a:lnTo>
                    <a:pt x="168" y="1824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47960" y="3055320"/>
              <a:ext cx="495360" cy="1848960"/>
            </a:xfrm>
            <a:custGeom>
              <a:avLst/>
              <a:gdLst/>
              <a:ahLst/>
              <a:rect l="l" t="t" r="r" b="b"/>
              <a:pathLst>
                <a:path w="312" h="1242">
                  <a:moveTo>
                    <a:pt x="312" y="0"/>
                  </a:moveTo>
                  <a:lnTo>
                    <a:pt x="6" y="528"/>
                  </a:lnTo>
                  <a:lnTo>
                    <a:pt x="0" y="1242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90920" y="4904640"/>
              <a:ext cx="257040" cy="830520"/>
            </a:xfrm>
            <a:custGeom>
              <a:avLst/>
              <a:gdLst/>
              <a:ahLst/>
              <a:rect l="l" t="t" r="r" b="b"/>
              <a:pathLst>
                <a:path w="162" h="558">
                  <a:moveTo>
                    <a:pt x="162" y="0"/>
                  </a:moveTo>
                  <a:lnTo>
                    <a:pt x="132" y="156"/>
                  </a:lnTo>
                  <a:lnTo>
                    <a:pt x="114" y="276"/>
                  </a:lnTo>
                  <a:lnTo>
                    <a:pt x="72" y="444"/>
                  </a:lnTo>
                  <a:lnTo>
                    <a:pt x="0" y="558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48240" y="3385800"/>
              <a:ext cx="295200" cy="2465280"/>
            </a:xfrm>
            <a:custGeom>
              <a:avLst/>
              <a:gdLst/>
              <a:ahLst/>
              <a:rect l="l" t="t" r="r" b="b"/>
              <a:pathLst>
                <a:path w="186" h="1656">
                  <a:moveTo>
                    <a:pt x="186" y="0"/>
                  </a:moveTo>
                  <a:lnTo>
                    <a:pt x="0" y="306"/>
                  </a:lnTo>
                  <a:lnTo>
                    <a:pt x="6" y="522"/>
                  </a:lnTo>
                  <a:lnTo>
                    <a:pt x="12" y="1398"/>
                  </a:lnTo>
                  <a:lnTo>
                    <a:pt x="12" y="1656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33720" y="2805480"/>
              <a:ext cx="2876760" cy="3045600"/>
            </a:xfrm>
            <a:custGeom>
              <a:avLst/>
              <a:gdLst/>
              <a:ahLst/>
              <a:rect l="l" t="t" r="r" b="b"/>
              <a:pathLst>
                <a:path w="1812" h="2046">
                  <a:moveTo>
                    <a:pt x="1812" y="0"/>
                  </a:moveTo>
                  <a:lnTo>
                    <a:pt x="1140" y="6"/>
                  </a:lnTo>
                  <a:lnTo>
                    <a:pt x="672" y="12"/>
                  </a:lnTo>
                  <a:lnTo>
                    <a:pt x="252" y="234"/>
                  </a:lnTo>
                  <a:lnTo>
                    <a:pt x="180" y="456"/>
                  </a:lnTo>
                  <a:lnTo>
                    <a:pt x="0" y="768"/>
                  </a:lnTo>
                  <a:lnTo>
                    <a:pt x="6" y="2046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95840" y="3511080"/>
              <a:ext cx="2114640" cy="2331000"/>
            </a:xfrm>
            <a:custGeom>
              <a:avLst/>
              <a:gdLst/>
              <a:ahLst/>
              <a:rect l="l" t="t" r="r" b="b"/>
              <a:pathLst>
                <a:path w="1332" h="1566">
                  <a:moveTo>
                    <a:pt x="0" y="1566"/>
                  </a:moveTo>
                  <a:lnTo>
                    <a:pt x="0" y="306"/>
                  </a:lnTo>
                  <a:lnTo>
                    <a:pt x="144" y="60"/>
                  </a:lnTo>
                  <a:lnTo>
                    <a:pt x="198" y="18"/>
                  </a:lnTo>
                  <a:lnTo>
                    <a:pt x="240" y="6"/>
                  </a:lnTo>
                  <a:lnTo>
                    <a:pt x="324" y="0"/>
                  </a:lnTo>
                  <a:lnTo>
                    <a:pt x="744" y="0"/>
                  </a:lnTo>
                  <a:lnTo>
                    <a:pt x="1332" y="12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62400" y="3823920"/>
              <a:ext cx="1276560" cy="258840"/>
            </a:xfrm>
            <a:custGeom>
              <a:avLst/>
              <a:gdLst/>
              <a:ahLst/>
              <a:rect l="l" t="t" r="r" b="b"/>
              <a:pathLst>
                <a:path w="804" h="174">
                  <a:moveTo>
                    <a:pt x="0" y="174"/>
                  </a:moveTo>
                  <a:lnTo>
                    <a:pt x="150" y="0"/>
                  </a:lnTo>
                  <a:lnTo>
                    <a:pt x="804" y="6"/>
                  </a:lnTo>
                </a:path>
              </a:pathLst>
            </a:custGeom>
            <a:noFill/>
            <a:ln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82640" y="688680"/>
              <a:ext cx="1193760" cy="3638160"/>
            </a:xfrm>
            <a:custGeom>
              <a:avLst/>
              <a:gdLst/>
              <a:ahLst/>
              <a:rect l="l" t="t" r="r" b="b"/>
              <a:pathLst>
                <a:path w="752" h="2444">
                  <a:moveTo>
                    <a:pt x="752" y="0"/>
                  </a:moveTo>
                  <a:lnTo>
                    <a:pt x="602" y="294"/>
                  </a:lnTo>
                  <a:lnTo>
                    <a:pt x="542" y="426"/>
                  </a:lnTo>
                  <a:lnTo>
                    <a:pt x="488" y="564"/>
                  </a:lnTo>
                  <a:lnTo>
                    <a:pt x="434" y="744"/>
                  </a:lnTo>
                  <a:lnTo>
                    <a:pt x="356" y="996"/>
                  </a:lnTo>
                  <a:lnTo>
                    <a:pt x="278" y="1182"/>
                  </a:lnTo>
                  <a:lnTo>
                    <a:pt x="176" y="1392"/>
                  </a:lnTo>
                  <a:lnTo>
                    <a:pt x="62" y="1626"/>
                  </a:lnTo>
                  <a:lnTo>
                    <a:pt x="9" y="1859"/>
                  </a:lnTo>
                  <a:lnTo>
                    <a:pt x="0" y="2133"/>
                  </a:lnTo>
                  <a:lnTo>
                    <a:pt x="0" y="2444"/>
                  </a:lnTo>
                </a:path>
              </a:pathLst>
            </a:custGeom>
            <a:noFill/>
            <a:ln w="7632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838400">
              <a:off x="4697280" y="3196080"/>
              <a:ext cx="484920" cy="5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惠 中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838400">
              <a:off x="4268880" y="2758320"/>
              <a:ext cx="4849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河 南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838400">
              <a:off x="4077000" y="2704320"/>
              <a:ext cx="45468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朝 富 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144000">
              <a:off x="3705480" y="3274560"/>
              <a:ext cx="484920" cy="5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光 明 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1585600">
              <a:off x="5242680" y="4014720"/>
              <a:ext cx="4849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大墩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1585600">
              <a:off x="5525280" y="4083120"/>
              <a:ext cx="4849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東 興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134800">
              <a:off x="6089760" y="2814120"/>
              <a:ext cx="63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漢口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29160" y="4252680"/>
              <a:ext cx="324000" cy="2944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585600">
              <a:off x="6296760" y="4163400"/>
              <a:ext cx="4849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美 村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85600">
              <a:off x="6601320" y="4288680"/>
              <a:ext cx="484920" cy="5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英 才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79200">
              <a:off x="6733440" y="3314880"/>
              <a:ext cx="63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健行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7461200">
              <a:off x="8031600" y="434160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三民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3160" y="4547160"/>
              <a:ext cx="952560" cy="883800"/>
            </a:xfrm>
            <a:custGeom>
              <a:avLst/>
              <a:gdLst/>
              <a:ahLst/>
              <a:rect l="l" t="t" r="r" b="b"/>
              <a:pathLst>
                <a:path w="600" h="594">
                  <a:moveTo>
                    <a:pt x="600" y="594"/>
                  </a:moveTo>
                  <a:lnTo>
                    <a:pt x="570" y="546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303200">
              <a:off x="3424320" y="2657880"/>
              <a:ext cx="5151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0" lang="zh-TW" sz="1100" spc="-1" strike="noStrike">
                  <a:solidFill>
                    <a:srgbClr val="000000"/>
                  </a:solidFill>
                  <a:latin typeface="Times New Roman"/>
                </a:rPr>
                <a:t>米外環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48240" y="3020040"/>
              <a:ext cx="28800" cy="1241280"/>
            </a:xfrm>
            <a:custGeom>
              <a:avLst/>
              <a:gdLst/>
              <a:ahLst/>
              <a:rect l="l" t="t" r="r" b="b"/>
              <a:pathLst>
                <a:path w="18" h="834">
                  <a:moveTo>
                    <a:pt x="0" y="834"/>
                  </a:moveTo>
                  <a:lnTo>
                    <a:pt x="15" y="430"/>
                  </a:lnTo>
                  <a:lnTo>
                    <a:pt x="18" y="0"/>
                  </a:lnTo>
                </a:path>
              </a:pathLst>
            </a:custGeom>
            <a:noFill/>
            <a:ln w="54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1585600">
              <a:off x="7058520" y="3868920"/>
              <a:ext cx="4849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民權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301600">
              <a:off x="7432200" y="4406760"/>
              <a:ext cx="903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301600">
              <a:off x="7422840" y="4478760"/>
              <a:ext cx="87480" cy="46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622600">
              <a:off x="7276680" y="4351680"/>
              <a:ext cx="9828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301600">
              <a:off x="7257600" y="4270320"/>
              <a:ext cx="99720" cy="41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301600">
              <a:off x="7054200" y="4177800"/>
              <a:ext cx="93600" cy="4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301600">
              <a:off x="7124400" y="4152600"/>
              <a:ext cx="103320" cy="4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301600">
              <a:off x="6859440" y="4032000"/>
              <a:ext cx="1080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301600">
              <a:off x="6991200" y="4048560"/>
              <a:ext cx="1080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855200">
              <a:off x="6603480" y="3821760"/>
              <a:ext cx="1047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855200">
              <a:off x="6464160" y="3807000"/>
              <a:ext cx="1029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927200">
              <a:off x="6012720" y="3488760"/>
              <a:ext cx="1080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855200">
              <a:off x="6201720" y="3579480"/>
              <a:ext cx="1047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855200">
              <a:off x="6217920" y="3663000"/>
              <a:ext cx="1080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599000">
              <a:off x="5882760" y="348408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927200">
              <a:off x="5771520" y="3351960"/>
              <a:ext cx="1080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27200">
              <a:off x="5739840" y="3411360"/>
              <a:ext cx="1080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27200">
              <a:off x="5562000" y="3292560"/>
              <a:ext cx="1080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27200">
              <a:off x="5625360" y="3256560"/>
              <a:ext cx="1080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27200">
              <a:off x="5479560" y="3184920"/>
              <a:ext cx="1080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599000">
              <a:off x="5317560" y="315108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599000">
              <a:off x="5050800" y="301356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599000">
              <a:off x="5184000" y="301968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33400">
              <a:off x="4396680" y="259128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395200">
              <a:off x="4460760" y="254916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33400">
              <a:off x="4656960" y="279360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33400">
              <a:off x="4695120" y="272808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33400">
              <a:off x="4853880" y="291276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33400">
              <a:off x="4917600" y="287064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33400">
              <a:off x="4314240" y="244188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33400">
              <a:off x="4174560" y="243612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33400">
              <a:off x="4041000" y="231732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33400">
              <a:off x="4066560" y="225144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33400">
              <a:off x="3438000" y="190584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33400">
              <a:off x="3469680" y="184644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469400">
              <a:off x="3266640" y="173376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469400">
              <a:off x="3126600" y="174564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410000">
              <a:off x="2739960" y="1962720"/>
              <a:ext cx="484920" cy="5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安 和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410000">
              <a:off x="2625840" y="1683000"/>
              <a:ext cx="484920" cy="5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安 林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410000">
              <a:off x="2554200" y="945000"/>
              <a:ext cx="454680" cy="5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永 福 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410000">
              <a:off x="2509560" y="1522440"/>
              <a:ext cx="454680" cy="5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中工三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300000">
              <a:off x="2307240" y="1454040"/>
              <a:ext cx="45468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中工二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300000">
              <a:off x="1996200" y="1555200"/>
              <a:ext cx="454680" cy="55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工業一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95200">
              <a:off x="1794240" y="640080"/>
              <a:ext cx="45468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玉門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95200">
              <a:off x="1235160" y="1376640"/>
              <a:ext cx="454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東海南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936600">
              <a:off x="733320" y="1448640"/>
              <a:ext cx="48492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約農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69400">
              <a:off x="3006000" y="162036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469400">
              <a:off x="2885400" y="162036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469400">
              <a:off x="2459880" y="140040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69400">
              <a:off x="2428560" y="1322640"/>
              <a:ext cx="106560" cy="40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1126600">
              <a:off x="1952280" y="1173600"/>
              <a:ext cx="106560" cy="40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69400">
              <a:off x="2212200" y="122148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963000">
              <a:off x="2117160" y="124524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1126600">
              <a:off x="1831680" y="123948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1126600">
              <a:off x="1647720" y="1239480"/>
              <a:ext cx="10620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1126600">
              <a:off x="1558800" y="1322640"/>
              <a:ext cx="106200" cy="40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1126600">
              <a:off x="1336320" y="1316880"/>
              <a:ext cx="106560" cy="39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1126600">
              <a:off x="1209600" y="1388160"/>
              <a:ext cx="106200" cy="40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61960" y="1045800"/>
              <a:ext cx="36648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6280" y="99684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榮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0200" y="1858680"/>
              <a:ext cx="533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東海大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76800" y="5276880"/>
              <a:ext cx="7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火車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155200">
              <a:off x="8422920" y="5427000"/>
              <a:ext cx="214560" cy="119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593800" y="6019920"/>
            <a:ext cx="42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圖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台中港路公車專用道停靠站位置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-76320" y="3136680"/>
            <a:ext cx="46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ADEC-A753-4608-9F84-367D326DA00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06:14:19Z</dcterms:created>
  <dc:creator>施彥君</dc:creator>
  <dc:description/>
  <dc:language>en-US</dc:language>
  <cp:lastModifiedBy>張贊育</cp:lastModifiedBy>
  <dcterms:modified xsi:type="dcterms:W3CDTF">2001-11-30T08:58:44Z</dcterms:modified>
  <cp:revision>9</cp:revision>
  <dc:subject/>
  <dc:title>PowerPoint 簡報</dc:title>
</cp:coreProperties>
</file>