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66D-A92C-4E6B-BA9C-D03C6A3D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C44-DA0B-4CDB-A7D6-AA535940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2CE-1EB8-45CE-99D3-E0475F31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179B-88E1-4135-B9CD-AF85D381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9C5-2C7A-452E-B902-3F03265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D6-1B40-42C1-8B0A-5BE43734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50E-F308-4A9D-A3E9-04B92488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0E0-0458-4A54-B385-D2FB5B4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0FC-E96A-439B-8AA7-58C96E4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8DD-176A-49C7-ACD6-0AEC0A0B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72D-AC69-42EA-8B62-147224A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E2D-AF58-4045-9AB8-15A7665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E09-A4AC-40A3-9EBA-1E7E9BE488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19920"/>
            <a:ext cx="48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8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台中港路公車專用道平面佈設—忠明南路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38120" y="414360"/>
          <a:ext cx="7943760" cy="55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414360"/>
                    <a:ext cx="7943760" cy="551808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0" y="319464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41:48Z</dcterms:created>
  <dc:creator>鍾宜螢</dc:creator>
  <dc:description/>
  <dc:language>en-US</dc:language>
  <cp:lastModifiedBy>張贊育</cp:lastModifiedBy>
  <dcterms:modified xsi:type="dcterms:W3CDTF">2001-11-30T08:55:47Z</dcterms:modified>
  <cp:revision>3</cp:revision>
  <dc:subject/>
  <dc:title>PowerPoint 簡報</dc:title>
</cp:coreProperties>
</file>