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79B-327D-4950-A50C-B01BAB6A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25E-B7DE-44C7-B2AB-55E4DDF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558-182F-4DE6-8B86-560DE408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A32-FFC8-4B5F-A9CC-C49A1025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938-A8D9-4F1F-9351-62B48555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F43-8BC3-43F0-9539-E9034563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4BE-C0B3-45CC-8D6A-89DA974F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E53-00E4-4B81-913A-37472BCB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3E2-8F50-40C8-B13E-2AC4503A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812-D2B6-4FF5-8CEB-EBB7C209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60A-7E1C-45F3-AD1D-4A1722B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848-A8C0-4639-A366-889D56A4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BE73-E93C-4F68-817E-6877C7E1C91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8880" y="428760"/>
          <a:ext cx="8277120" cy="57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28760"/>
                    <a:ext cx="8277120" cy="5784840"/>
                  </a:xfrm>
                  <a:prstGeom prst="rect">
                    <a:avLst/>
                  </a:prstGeom>
                  <a:ln w="5724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51000" y="6240600"/>
            <a:ext cx="48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4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中港路公車專用道平面佈設—五權路路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-107280" y="3229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3:38:08Z</dcterms:created>
  <dc:creator>鍾宜螢</dc:creator>
  <dc:description/>
  <dc:language>en-US</dc:language>
  <cp:lastModifiedBy>張贊育</cp:lastModifiedBy>
  <dcterms:modified xsi:type="dcterms:W3CDTF">2001-11-30T08:51:35Z</dcterms:modified>
  <cp:revision>3</cp:revision>
  <dc:subject/>
  <dc:title>PowerPoint 簡報</dc:title>
</cp:coreProperties>
</file>