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01C9-75AA-48CA-A4B0-6470CBE7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F76A-A5C8-418D-9D69-185BCB60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509-A775-4078-A3CA-5BEE7E92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27EA-B4AB-45A9-BD43-A03AF55E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FD05-400B-4E61-B829-9C756DC1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2A0D-02AD-4E7B-8AE7-C5067991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19C9-2EE6-43B8-B59C-6DF64462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1B2-C233-49AA-976C-3101B01F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AFC-8889-4600-9DE7-DAAFD810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88F8-0DDB-4B00-B678-D7CF4632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F3FD-09A6-402C-8B02-3434B91E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F478-6837-40E5-A366-E637471D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F194-2F4D-4431-9F4A-56584A18B0F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51000" y="6019920"/>
            <a:ext cx="48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圖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57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台中港路公車專用道平面佈設—美村路路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65040" y="411120"/>
          <a:ext cx="8016840" cy="556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411120"/>
                    <a:ext cx="8016840" cy="5564160"/>
                  </a:xfrm>
                  <a:prstGeom prst="rect">
                    <a:avLst/>
                  </a:prstGeom>
                  <a:ln w="5724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 rot="5400000">
            <a:off x="-84960" y="31914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23:41:04Z</dcterms:created>
  <dc:creator>鍾宜螢</dc:creator>
  <dc:description/>
  <dc:language>en-US</dc:language>
  <cp:lastModifiedBy>張贊育</cp:lastModifiedBy>
  <dcterms:modified xsi:type="dcterms:W3CDTF">2001-11-30T08:55:01Z</dcterms:modified>
  <cp:revision>3</cp:revision>
  <dc:subject/>
  <dc:title>PowerPoint 簡報</dc:title>
</cp:coreProperties>
</file>