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17600" y="1098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98720"/>
            <a:ext cx="328680" cy="47484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41440" y="1521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911160" y="1521000"/>
            <a:ext cx="368280" cy="4748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27080" y="144792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62120" y="990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2438280"/>
            <a:ext cx="9009360" cy="1052640"/>
            <a:chOff x="0" y="2438280"/>
            <a:chExt cx="900936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812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20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228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4080" y="2968560"/>
                <a:ext cx="3682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6080" y="3260880"/>
              <a:ext cx="869328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838080" y="228600"/>
            <a:ext cx="8305920" cy="249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333399"/>
                </a:solidFill>
                <a:latin typeface="XXXXXX"/>
                <a:ea typeface="XXXXXX"/>
              </a:rPr>
              <a:t>¾r¾p°õ·Ó´«(¸É)µo»P¼fÅç³W©w²{ªp±´°Q¤Î¨î«×§ïµ½¤§¬ã¨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182600" y="2017800"/>
            <a:ext cx="7351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79"/>
              </a:spcBef>
            </a:pPr>
            <a:r>
              <a:rPr b="1" lang="en-US" sz="4800" spc="-1" strike="noStrike">
                <a:solidFill>
                  <a:srgbClr val="ff0000"/>
                </a:solidFill>
                <a:latin typeface="XXXXXX"/>
                <a:ea typeface="XXXXXX"/>
              </a:rPr>
              <a:t>Â²³ø¸ê®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440"/>
              </a:spcBef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79"/>
              </a:spcBef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333399"/>
                </a:solidFill>
                <a:latin typeface="XXXXXX"/>
                <a:ea typeface="XXXXXX"/>
              </a:rPr>
              <a:t>¤¤µØ¥Á°ê90¦~12¤ë28¤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143000" y="304920"/>
            <a:ext cx="8001000" cy="22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ff3300"/>
                </a:solidFill>
                <a:latin typeface="XXXXXX"/>
                <a:ea typeface="XXXXXX"/>
              </a:rPr>
              <a:t>(¥H¤U¬°´Á¥½³ø§i¥D­n¤º®e)</a:t>
            </a:r>
            <a:br>
              <a:rPr sz="4000"/>
            </a:br>
            <a:r>
              <a:rPr b="1" lang="en-US" sz="4400" spc="-1" strike="noStrike">
                <a:solidFill>
                  <a:srgbClr val="333399"/>
                </a:solidFill>
                <a:latin typeface="XXXXXX"/>
                <a:ea typeface="XXXXXX"/>
              </a:rPr>
              <a:t>¥Á²³»PÂå®v¤§·N¨£½Õ¬d¤Àª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66680" y="1981080"/>
            <a:ext cx="784872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  <a:ea typeface="Tahoma"/>
              </a:rPr>
              <a:t>°w¹ï«e©¹¥þ°ê7­ÓºÊ²z³æ¦ì¿ì²z¾r·Ó·~°È¤§¾r¾p¤H¡A¦@¶i¦æ1,500¥÷°Ý¨÷µo²{¡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1.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ahoma"/>
              </a:rPr>
              <a:t>60.2¢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¨ü³XªÌ»{¬°´¶³q¾r·ÓµL¶·©w´Á´«µo¡C«o¤]¦³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ahoma"/>
              </a:rPr>
              <a:t>71.8¢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»{¬°À³¨Ì·Ó¾r¾p¤H¥æ³q¹H³W©Î»F¨Æ¬ö¿ý¡A­q©w¤£¦Pªº¾r·Ó¦³®Ä´Á­­¡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2.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ahoma"/>
              </a:rPr>
              <a:t>59.5¢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¨ü³XªÌ¦P·N¿ì²z´«·Ó§@·~®É¡AÀ³¤@¨ÖÀË®Ö¾r¾p¤H¨­Åé¤Î¤ß²zª¬ªp¬O§_¾A©yÄ~Äò«ù¦³¾r·Ó¡F«o¥u¦³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ahoma"/>
              </a:rPr>
              <a:t>35.1%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¨ü³XªÌ¦P·N´«µo¾r·Ó®É¦A¦¸Á|¦æµ§¸Õ¡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150920" y="866880"/>
            <a:ext cx="779292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333399"/>
                </a:solidFill>
                <a:latin typeface="XXXXXX"/>
                <a:ea typeface="XXXXXX"/>
              </a:rPr>
              <a:t>¥Á²³»PÂå®v¤§·N¨£½Õ¬d¤Àª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170000" y="2057400"/>
            <a:ext cx="7772400" cy="448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3.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  <a:ea typeface="Tahoma"/>
              </a:rPr>
              <a:t>42.9¢M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¨ü³XªÌ¦P·N´«µo¾r·Ó®É¡A¹ê¬I1-2¤p®É¤§¹D¸ô¥æ³q¦w¥þÁ¿²ß¡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4.°Ý¨÷¤¤¥]¬A­«·sµ§¸Õ¡A´úÅçµ²ªG¶È¦³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  <a:ea typeface="Tahoma"/>
              </a:rPr>
              <a:t>20.4¢M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¥Á²³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  <a:ea typeface="Tahoma"/>
              </a:rPr>
              <a:t>¦X®æ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¡]°ª©ó85¤À¡^¡A¦³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  <a:ea typeface="Tahoma"/>
              </a:rPr>
              <a:t>79.6¢M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ªº¥Á²³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  <a:ea typeface="Tahoma"/>
              </a:rPr>
              <a:t>¤£¤Î®æ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¡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150920" y="866880"/>
            <a:ext cx="779292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333399"/>
                </a:solidFill>
                <a:latin typeface="XXXXXX"/>
                <a:ea typeface="XXXXXX"/>
              </a:rPr>
              <a:t>¥Á²³»PÂå®v¤§·N¨£½Õ¬d¤Àª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170000" y="2057400"/>
            <a:ext cx="7772400" cy="531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  <a:ea typeface="Tahoma"/>
              </a:rPr>
              <a:t>¸g©â¼Ë²´¬ìÂå®v¤½·|300¦ì±M¬ìÂå®v¡A¦b113¥÷¦³®Ä°Ý¨÷µo²{¡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5. ³Ì¦h²´¬ìÂå®v»{¬°¾r¾p¤H¦b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8·³~49·³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¶¡¨C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  <a:ea typeface="Tahoma"/>
              </a:rPr>
              <a:t>¤»¦~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µø¤OÀË¬d¤@¦¸¡A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50·³~59·³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¤§¶¡À³ÁYµu¬°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  <a:ea typeface="Tahoma"/>
              </a:rPr>
              <a:t>¤T¦~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¡A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60·³¥H¤W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«hÀ³¨C¹j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  <a:ea typeface="Tahoma"/>
              </a:rPr>
              <a:t>¨â¦~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°µ¤@¦¸µø¤OÀË¬d¡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170000" y="1905120"/>
            <a:ext cx="7772400" cy="63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1" lang="en-US" sz="3600" spc="-1" strike="noStrike">
                <a:solidFill>
                  <a:srgbClr val="ff3300"/>
                </a:solidFill>
                <a:latin typeface="Tahoma"/>
                <a:ea typeface="Tahoma"/>
              </a:rPr>
              <a:t>¸g©â¼Ë®a®xÂå¾Ç¬ì274¦ì±M¬ìÂå®v¡A¦b61¥÷¦³®Ä°Ý¨÷µo²{¡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6.´«µo¾r·Ó®ÉÀ³¼W¥[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µø¤OÀË¬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ahoma"/>
              </a:rPr>
              <a:t>80.3¢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¦P·N)¡B¨­Åé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¥|ªÏ¥\¯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°·¥þÀË¬d(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ahoma"/>
              </a:rPr>
              <a:t>65.6¢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¦P·N)¡B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Å¥¤O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ÀË¬d(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ahoma"/>
              </a:rPr>
              <a:t>62.3¢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¦P·N)¡C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7.¦³³Ì¦h®a®xÂå¾Ç¬ìÂå®v»{¬°¾r¾p¤H¦b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8·³~49·³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¶¡¨C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ahoma"/>
              </a:rPr>
              <a:t>¤»¦~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¹ê¬IÅé®æÅé¯àÀË¬d¤@¦¸§Y¥i¡A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50·³~59·³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¤§¶¡À³ÁYµu¬°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ahoma"/>
              </a:rPr>
              <a:t>¤T¦~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¡A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60·³¥H¤W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¡A®a®xÂå¾Ç¬ìÂå®v«h»{¬°À³¨C¹j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ahoma"/>
              </a:rPr>
              <a:t>¤@¦~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§Y°µ¤@¦¸Åé®æÅé¯àÀË¬d¡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143000" y="53352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333399"/>
                </a:solidFill>
                <a:latin typeface="XXXXXX"/>
                <a:ea typeface="XXXXXX"/>
              </a:rPr>
              <a:t>¥Á²³»PÂå®v¤§·N¨£½Õ¬d¤Àª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150920" y="817560"/>
            <a:ext cx="779292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rgbClr val="333399"/>
                </a:solidFill>
                <a:latin typeface="XXXXXX"/>
                <a:ea typeface="XXXXXX"/>
              </a:rPr>
              <a:t>§Ú°ê¾r·ÓºÞ²z¥Ø¼ÐÅé¨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170000" y="1828800"/>
            <a:ext cx="7772400" cy="547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1" lang="en-US" sz="4400" spc="-1" strike="noStrike">
                <a:solidFill>
                  <a:srgbClr val="ff0000"/>
                </a:solidFill>
                <a:latin typeface="XXXXXX"/>
                <a:ea typeface="XXXXXX"/>
              </a:rPr>
              <a:t>¥Ø¼Ð</a:t>
            </a:r>
            <a:r>
              <a:rPr b="0" lang="en-US" sz="3200" spc="-1" strike="noStrike">
                <a:solidFill>
                  <a:srgbClr val="000000"/>
                </a:solidFill>
                <a:latin typeface="XXXXXX"/>
                <a:ea typeface="XXXXXX"/>
              </a:rPr>
              <a:t>¢w</a:t>
            </a:r>
            <a:r>
              <a:rPr b="1" lang="en-US" sz="3600" spc="-1" strike="noStrike">
                <a:solidFill>
                  <a:srgbClr val="3333cc"/>
                </a:solidFill>
                <a:latin typeface="XXXXXX"/>
                <a:ea typeface="XXXXXX"/>
              </a:rPr>
              <a:t>«Ø¥ß²{¥N¤Æ¡B«K¥Á¤Æ¡B¬ì§Þ¤Æ¡B®Ä²v¤Æ¤§§¹µ½¾r·ÓºÞ²z¨î«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1" lang="en-US" sz="3600" spc="-1" strike="noStrike">
                <a:solidFill>
                  <a:srgbClr val="3333cc"/>
                </a:solidFill>
                <a:latin typeface="XXXXXX"/>
                <a:ea typeface="XXXXXX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1" lang="en-US" sz="3600" spc="-1" strike="noStrike">
                <a:solidFill>
                  <a:srgbClr val="ff0000"/>
                </a:solidFill>
                <a:latin typeface="XXXXXX"/>
                <a:ea typeface="XXXXXX"/>
              </a:rPr>
              <a:t>¥|¶µ¼Ðªº¡B¤Q¶µ·Ç«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1" lang="en-US" sz="3600" spc="-1" strike="noStrike">
                <a:solidFill>
                  <a:srgbClr val="ff3300"/>
                </a:solidFill>
                <a:latin typeface="XXXXXX"/>
                <a:ea typeface="XXXXXX"/>
              </a:rPr>
              <a:t>·Ç«h</a:t>
            </a:r>
            <a:r>
              <a:rPr b="0" lang="en-US" sz="3600" spc="-1" strike="noStrike">
                <a:solidFill>
                  <a:srgbClr val="000000"/>
                </a:solidFill>
                <a:latin typeface="XXXXXX"/>
                <a:ea typeface="XXXXXX"/>
              </a:rPr>
              <a:t>»¡©úª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1" lang="en-US" sz="3600" spc="-1" strike="noStrike">
                <a:solidFill>
                  <a:srgbClr val="ff3300"/>
                </a:solidFill>
                <a:latin typeface="XXXXXX"/>
                <a:ea typeface="XXXXXX"/>
              </a:rPr>
              <a:t>¼Ðªº</a:t>
            </a:r>
            <a:r>
              <a:rPr b="0" lang="en-US" sz="3600" spc="-1" strike="noStrike">
                <a:solidFill>
                  <a:srgbClr val="000000"/>
                </a:solidFill>
                <a:latin typeface="XXXXXX"/>
                <a:ea typeface="XXXXXX"/>
              </a:rPr>
              <a:t>µû¤Àª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1" lang="en-US" sz="3600" spc="-1" strike="noStrike">
                <a:solidFill>
                  <a:srgbClr val="ff3300"/>
                </a:solidFill>
                <a:latin typeface="XXXXXX"/>
                <a:ea typeface="XXXXXX"/>
              </a:rPr>
              <a:t>·Ç«h</a:t>
            </a:r>
            <a:r>
              <a:rPr b="0" lang="en-US" sz="3600" spc="-1" strike="noStrike">
                <a:solidFill>
                  <a:srgbClr val="000000"/>
                </a:solidFill>
                <a:latin typeface="XXXXXX"/>
                <a:ea typeface="XXXXXX"/>
              </a:rPr>
              <a:t>µû¤Àª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858000" y="4648320"/>
            <a:ext cx="1155600" cy="469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858000" y="4114800"/>
            <a:ext cx="1155600" cy="469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6858000" y="3505320"/>
            <a:ext cx="1155600" cy="469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6858000" y="5257800"/>
            <a:ext cx="115560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150920" y="878040"/>
            <a:ext cx="779292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rgbClr val="333399"/>
                </a:solidFill>
                <a:latin typeface="XXXXXX"/>
                <a:ea typeface="XXXXXX"/>
              </a:rPr>
              <a:t>§Ú°ê¾r·ÓºÞ²z¥Ø¼ÐÅé¨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170000" y="2133720"/>
            <a:ext cx="7772400" cy="460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¥|­Ó¼Ðªº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¡A¥H¡u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  <a:ea typeface="Tahoma"/>
              </a:rPr>
              <a:t>´£ª@¾r·Ó´«(¸É)µo¤§«K¥Á¦æ¬F§@·~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¡v»P¡u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  <a:ea typeface="Tahoma"/>
              </a:rPr>
              <a:t>´î§C¾r·Ó¾D«_»â¡B°°»s¤§¾÷²v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¡vÅv­«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  <a:ea typeface="Tahoma"/>
              </a:rPr>
              <a:t>³Ì°ª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¡A¡u±j¤Æ©w´ÁÀË®Ö¾r¨®³\¥i¤§¾÷¨î¡v¦¸¤§¡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¨ä¤¤¥H¡u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  <a:ea typeface="Tahoma"/>
              </a:rPr>
              <a:t>±j¤Æ©w´ÁÀË®Ö¾r¨®³\¥i¤§¾÷¨î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¡v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  <a:ea typeface="Tahoma"/>
              </a:rPr>
              <a:t>¼Ð·Ç®t³Ì¤p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¡Aªí¥Ü±M®a¾ÇªÌªº¬Ýªk³Ì¤@­P¡A¦@ÃÑ©Ê³Ì°ª¡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150920" y="817560"/>
            <a:ext cx="779292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rgbClr val="333399"/>
                </a:solidFill>
                <a:latin typeface="XXXXXX"/>
                <a:ea typeface="XXXXXX"/>
              </a:rPr>
              <a:t>§Ú°ê¾r·ÓºÞ²z¥Ø¼ÐÅé¨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170000" y="1752480"/>
            <a:ext cx="7772400" cy="57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·Ç«h¤¤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¡A¥H¡u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  <a:ea typeface="Tahoma"/>
              </a:rPr>
              <a:t>¨­¤À¬dÅç¤§½T¹ê©Ê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¡vÅv­«³Ì°ª¡A¨ä¦¸¬°¡u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  <a:ea typeface="Tahoma"/>
              </a:rPr>
              <a:t>ÀË®Ö±ø¥ó¤§©ú½T©Ê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¡v»P¡u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  <a:ea typeface="Tahoma"/>
              </a:rPr>
              <a:t>©w´ÁÀË®Ö¤§¦³®Ä©Ê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¡v¡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¦U·Ç«h¤§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¼Ð·Ç®t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¡A¥H¡u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  <a:ea typeface="Tahoma"/>
              </a:rPr>
              <a:t>©w´ÁÀË®Ö¤§¦³®Ä©Ê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¡v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  <a:ea typeface="Tahoma"/>
              </a:rPr>
              <a:t>³Ì¤p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¡A±M®a¾ÇªÌ¦@ÃÑ©Ê³Ì°ª¡A¨ä¦¸¬°¡u´«¸ÉµoºÞ¹D¤§¦h¼Ë©Ê¡v»P¡uÀË®Ö±ø¥ó¤§©ú½T©Ê¡v¦¸¤§¡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150920" y="817560"/>
            <a:ext cx="779292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rgbClr val="333399"/>
                </a:solidFill>
                <a:latin typeface="XXXXXX"/>
                <a:ea typeface="XXXXXX"/>
              </a:rPr>
              <a:t>§Ú°ê¾r·ÓºÞ²z¥Ø¼ÐÅé¨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170000" y="2057400"/>
            <a:ext cx="7772400" cy="55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ahoma"/>
              </a:rPr>
              <a:t>±ý«Ø¥ß¤@®M§¹¾ã¾r·ÓºÞ²z¨î«×¡AÀ³¥H¡u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  <a:ea typeface="Tahoma"/>
              </a:rPr>
              <a:t>±j¤Æ©w´ÁÀË®Ö¾r¨®³\¥i¤§¾÷¨î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ahoma"/>
              </a:rPr>
              <a:t>¡v¬°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  <a:ea typeface="Tahoma"/>
              </a:rPr>
              <a:t>Àu¥ý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ahoma"/>
              </a:rPr>
              <a:t>¥²³Æ±ø¥ó¡A¦Ó¡u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  <a:ea typeface="Tahoma"/>
              </a:rPr>
              <a:t>©w´ÁÀË®Ö¤§¦³®Ä©Ê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ahoma"/>
              </a:rPr>
              <a:t>¡v»P¡u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  <a:ea typeface="Tahoma"/>
              </a:rPr>
              <a:t>ÀË®Ö±ø¥ó¤§©ú½T©Ê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ahoma"/>
              </a:rPr>
              <a:t>¡v¨â¶µµû¦ô·Ç«h¡A¬Û¹ï©ó¨ä¥L·Ç«h¬°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  <a:ea typeface="Tahoma"/>
              </a:rPr>
              <a:t>­«­n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ahoma"/>
              </a:rPr>
              <a:t>¡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150920" y="757080"/>
            <a:ext cx="779292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  <a:ea typeface="Tahoma"/>
              </a:rPr>
              <a:t>§ïµ½¤è®×¤§¬ãÀ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170000" y="1905120"/>
            <a:ext cx="7772400" cy="65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9480" indent="-609480">
              <a:lnSpc>
                <a:spcPct val="100000"/>
              </a:lnSpc>
              <a:spcBef>
                <a:spcPts val="961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1" lang="en-US" sz="3600" spc="-1" strike="noStrike" u="sng">
                <a:solidFill>
                  <a:srgbClr val="ff3300"/>
                </a:solidFill>
                <a:uFillTx/>
                <a:latin typeface="Tahoma"/>
                <a:ea typeface="Tahoma"/>
              </a:rPr>
              <a:t>°ò¥»¦Ò¶q¡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61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1.§ïµ½¤è®×«Y°ò©ó«P¶i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ahoma"/>
              </a:rPr>
              <a:t>¨î«×¹F¦¨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»P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ahoma"/>
              </a:rPr>
              <a:t>°ÝÃD§ïµ½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¦Ó´£¥X¡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61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2.§ïµ½¤è®×±N¡u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ahoma"/>
              </a:rPr>
              <a:t>¦æ¬F§@·~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§ï¶i¡v¡B¡u¾r·Ó»s§@¤Î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ahoma"/>
              </a:rPr>
              <a:t>¨¾°°§Þ³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´£ª@¡v¡B¡u¥[±j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ahoma"/>
              </a:rPr>
              <a:t>¨­¤À¬d®Ö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¡vµø¬°·íµM±ø¥ó¡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61"/>
              </a:spcBef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ahoma"/>
              </a:rPr>
              <a:t>3.ªk¥O­×¥¿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¡B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ahoma"/>
              </a:rPr>
              <a:t>¦æ¬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§@·~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ahoma"/>
              </a:rPr>
              <a:t>½Õ¾ã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»P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ahoma"/>
              </a:rPr>
              <a:t>§Þ³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°t¦X¡A¦C¬°°t¦X±ø¥ó¡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150920" y="757080"/>
            <a:ext cx="779292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  <a:ea typeface="Tahoma"/>
              </a:rPr>
              <a:t>§ïµ½¤è®×¤§¬ãÀ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70000" y="2133720"/>
            <a:ext cx="7772400" cy="47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9480" indent="-609480">
              <a:lnSpc>
                <a:spcPct val="100000"/>
              </a:lnSpc>
              <a:spcBef>
                <a:spcPts val="961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1" lang="en-US" sz="4000" spc="-1" strike="noStrike" u="sng">
                <a:solidFill>
                  <a:srgbClr val="ff3300"/>
                </a:solidFill>
                <a:uFillTx/>
                <a:latin typeface="Tahoma"/>
                <a:ea typeface="Tahoma"/>
              </a:rPr>
              <a:t>°ò¥»¦Ò¶q¡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61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¥Ñ©ó°t¦X±ø¥ó¤§¹F¦¨®Éµ{¨ü¨î©ó³\¦h«ÈÆ[±ø¥ó¡A¦]¦¹¥»¬ã¨s±N§ïµ½¤è®×°Ï¤À¬°¡u·Ç³Æ¶¥¬q¡v»P¡u¹ê¬I¶¥¬q¡v¡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61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§ïµ½¤è®×©ó¬ãÀÀ«á¡A¥²¶·¸g¹LÀu¯ÊÂIªº¥R¤À°Q½×»PµûªR¡A¥H´£¥X«ØÄ³¤è®×¡A¥H¨Ñ¬F©²³¡ªù³W¹º«áÄò§@·~¤§°Ñ¦Ò¡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150920" y="914400"/>
            <a:ext cx="779292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rgbClr val="333399"/>
                </a:solidFill>
                <a:latin typeface="XXXXXX"/>
                <a:ea typeface="XXXXXX"/>
              </a:rPr>
              <a:t>Â²³ø¤jº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0" lang="en-US" sz="3200" spc="-1" strike="noStrike">
                <a:solidFill>
                  <a:srgbClr val="ff0000"/>
                </a:solidFill>
                <a:latin typeface="XXXXXX"/>
                <a:ea typeface="XXXXXX"/>
              </a:rPr>
              <a:t>´Á¤¤³ø§iºK­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0" lang="en-US" sz="3200" spc="-1" strike="noStrike">
                <a:solidFill>
                  <a:srgbClr val="ff0000"/>
                </a:solidFill>
                <a:latin typeface="XXXXXX"/>
                <a:ea typeface="XXXXXX"/>
              </a:rPr>
              <a:t>´Á¥½³ø§i¼W­×¤º®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55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XXXXXX"/>
                <a:ea typeface="XXXXXX"/>
              </a:rPr>
              <a:t>²Ä¤@¦Ü¥|³¹¤§­×­q¤º®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55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XXXXXX"/>
                <a:ea typeface="XXXXXX"/>
              </a:rPr>
              <a:t>²Ä¤­³¹ ¥Á²³»PÂå®v¤§·N¨£½Õ¬d¤Àª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55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XXXXXX"/>
                <a:ea typeface="XXXXXX"/>
              </a:rPr>
              <a:t>²Ä¤»³¹ §Ú°ê¾r·ÓºÞ²z¥Ø¼ÐÅé¨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55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XXXXXX"/>
                <a:ea typeface="XXXXXX"/>
              </a:rPr>
              <a:t>²Ä¤C³¹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§ïµ½¤è®×¤§¬ãÀ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55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²Ä¤K³¹  µ²½×»P¦ÖÄ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150920" y="757080"/>
            <a:ext cx="779292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  <a:ea typeface="Tahoma"/>
              </a:rPr>
              <a:t>§ïµ½¤è®×¤§¬ãÀ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170000" y="1752480"/>
            <a:ext cx="7772400" cy="48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9480" indent="-609480" algn="just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¡u²{¦b¶¥¬q¡v¥i¥H¹ê¬I¤§¨Æ¶µ¡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961"/>
              </a:spcBef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(1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­q©w³q°T´«·Ó¤§­­¨î±ø¥ó¡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961"/>
              </a:spcBef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(2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ªÄÖªÌ»P¯S®í¾r¾p¤H¤§ÅéÀËÃÒ©ú¡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961"/>
              </a:spcBef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(3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{³õ´«·Ó¥Á²³¤§Â²©öÁ¿²ß¡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961"/>
              </a:spcBef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(4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¼W³]ºÊ²zªA°Èµ¡¤f¡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961"/>
              </a:spcBef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(5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¸Õ¿ì²{³õ·Ó¬Û»P·Ó¤ù±½ºË¦C¦L¡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150920" y="757080"/>
            <a:ext cx="779292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  <a:ea typeface="Tahoma"/>
              </a:rPr>
              <a:t>§ïµ½¤è®×¤§¬ãÀ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170000" y="1752480"/>
            <a:ext cx="7772400" cy="55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57080" indent="-757080" algn="just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Äw³Æ¶¥¬q¡vÀ³¹ê¬I¤§¨Æ¶µ¡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57080" indent="-757080" algn="just">
              <a:lnSpc>
                <a:spcPct val="90000"/>
              </a:lnSpc>
              <a:spcBef>
                <a:spcPts val="601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¬ã¨s¬O§_°t¦X´«¸É¾r·Ó®É¶i¦æ¤ß²z´úÅç¡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57080" indent="-757080" algn="just">
              <a:lnSpc>
                <a:spcPct val="90000"/>
              </a:lnSpc>
              <a:spcBef>
                <a:spcPts val="601"/>
              </a:spcBef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«Ø¥ß§¹¾ã¤§¥æ³q¨Æ¬G»P¥æ³q¹H³W¸ê®Æ®w¡A¨Ã»P¤½¸ôºÊ²z¨t²Î¾ã¦X¡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57080" indent="-757080" algn="just">
              <a:lnSpc>
                <a:spcPct val="90000"/>
              </a:lnSpc>
              <a:spcBef>
                <a:spcPts val="601"/>
              </a:spcBef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§¹¦¨ºÊ²z¡B¤á¬F¡BÄµ¬F¹q¸£³s½u§@·~¡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57080" indent="-757080" algn="just">
              <a:lnSpc>
                <a:spcPct val="90000"/>
              </a:lnSpc>
              <a:spcBef>
                <a:spcPts val="601"/>
              </a:spcBef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)ÂX¥R¬ÛÃö¸ê®Æ®w¤§°O¾Ð®e¶q»P§@·~©Ê¯à¡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57080" indent="-757080" algn="just">
              <a:lnSpc>
                <a:spcPct val="90000"/>
              </a:lnSpc>
              <a:spcBef>
                <a:spcPts val="601"/>
              </a:spcBef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)¬ã¨sºô¸ô³q°T´«·Ó¤§¥i¦æ©Ê¡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57080" indent="-757080" algn="just">
              <a:lnSpc>
                <a:spcPct val="90000"/>
              </a:lnSpc>
              <a:spcBef>
                <a:spcPts val="601"/>
              </a:spcBef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6)¬ã¨s¾r·Ó±ÄIC¥d¤Î¦h¥d¦X¤@¤§¥i¦æ©Ê¡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57080" indent="-757080" algn="just">
              <a:lnSpc>
                <a:spcPct val="90000"/>
              </a:lnSpc>
              <a:spcBef>
                <a:spcPts val="601"/>
              </a:spcBef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7)¬°¶i¦æ°Ï¤À¾r¾p¤H¡A§ï±Ä¤£¦P´«·Ó¦~­­µ¥§ïµ½¨î«×¡A­×­q¬ÛÃö¤§¥æ³qªk¥O¡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150920" y="757080"/>
            <a:ext cx="779292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  <a:ea typeface="Tahoma"/>
              </a:rPr>
              <a:t>¾r·Ó´«»â¤è®×¤§¬ãÀ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66680" y="1981080"/>
            <a:ext cx="8077320" cy="50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9480" indent="-609480">
              <a:lnSpc>
                <a:spcPct val="90000"/>
              </a:lnSpc>
              <a:spcBef>
                <a:spcPts val="479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  <a:ea typeface="Tahoma"/>
              </a:rPr>
              <a:t>¤è®×¤@¡G±q¦~ÄÖ¨Ó°Ï¤À´«·Ó¦~´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61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ªì¦Ò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»â¾r·ÓªÌ¡A´«·Ó¦~´Á¬°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2¦~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¡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20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¥¼º¡30·³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ªÌ¡A´«·Ó¦~´Á¬°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5¦~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¡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20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30~¥¼º¡60·³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ªÌ¡A´«·Ó¦~´Á¬°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0¦~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¡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20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60·³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¥H¤WªÌ¡A´«·Ó¦~´Á¬°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5¦~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¡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20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Â¾·~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¾r¾p¤H¡A¤£¤À¦~ÄÖ¡A´«·Ó¦~´Á¬°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5¦~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¡B¼fÅç¦~´Á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3¦~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¡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170000" y="2057400"/>
            <a:ext cx="77724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9480" indent="-609480">
              <a:lnSpc>
                <a:spcPct val="90000"/>
              </a:lnSpc>
              <a:spcBef>
                <a:spcPts val="479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1" lang="en-US" sz="3600" spc="-1" strike="noStrike">
                <a:solidFill>
                  <a:srgbClr val="ff3300"/>
                </a:solidFill>
                <a:latin typeface="XXXXXX"/>
                <a:ea typeface="XXXXXX"/>
              </a:rPr>
              <a:t>¤è®×¤G¡G±q°Ï§O</a:t>
            </a:r>
            <a:r>
              <a:rPr b="1" lang="en-US" sz="3600" spc="-1" strike="noStrike" u="sng">
                <a:solidFill>
                  <a:srgbClr val="ff3300"/>
                </a:solidFill>
                <a:uFillTx/>
                <a:latin typeface="XXXXXX"/>
                <a:ea typeface="XXXXXX"/>
              </a:rPr>
              <a:t>Àu¨}</a:t>
            </a:r>
            <a:r>
              <a:rPr b="1" lang="en-US" sz="3600" spc="-1" strike="noStrike">
                <a:solidFill>
                  <a:srgbClr val="ff3300"/>
                </a:solidFill>
                <a:latin typeface="XXXXXX"/>
                <a:ea typeface="XXXXXX"/>
              </a:rPr>
              <a:t>¾r¾p¤H»P</a:t>
            </a:r>
            <a:r>
              <a:rPr b="1" lang="en-US" sz="3600" spc="-1" strike="noStrike" u="sng">
                <a:solidFill>
                  <a:srgbClr val="ff3300"/>
                </a:solidFill>
                <a:uFillTx/>
                <a:latin typeface="XXXXXX"/>
                <a:ea typeface="XXXXXX"/>
              </a:rPr>
              <a:t>¤@¯ë</a:t>
            </a:r>
            <a:r>
              <a:rPr b="1" lang="en-US" sz="3600" spc="-1" strike="noStrike">
                <a:solidFill>
                  <a:srgbClr val="ff3300"/>
                </a:solidFill>
                <a:latin typeface="XXXXXX"/>
                <a:ea typeface="XXXXXX"/>
              </a:rPr>
              <a:t>¾r¾p¤H¨Ó¨M©w´«·Ó¦~´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61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XXXXXX"/>
                <a:ea typeface="XXXXXX"/>
              </a:rPr>
              <a:t>ªì¦Ò</a:t>
            </a:r>
            <a:r>
              <a:rPr b="0" lang="en-US" sz="3600" spc="-1" strike="noStrike">
                <a:solidFill>
                  <a:srgbClr val="000000"/>
                </a:solidFill>
                <a:latin typeface="XXXXXX"/>
                <a:ea typeface="XXXXXX"/>
              </a:rPr>
              <a:t>»â¾r·ÓªÌ¡A´«·Ó¦~´Á¬°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XXXXXX"/>
                <a:ea typeface="XXXXXX"/>
              </a:rPr>
              <a:t>2¦~</a:t>
            </a:r>
            <a:r>
              <a:rPr b="0" lang="en-US" sz="3600" spc="-1" strike="noStrike">
                <a:solidFill>
                  <a:srgbClr val="000000"/>
                </a:solidFill>
                <a:latin typeface="XXXXXX"/>
                <a:ea typeface="XXXXXX"/>
              </a:rPr>
              <a:t>¡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61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XXXXXX"/>
                <a:ea typeface="XXXXXX"/>
              </a:rPr>
              <a:t>Àu¨}</a:t>
            </a:r>
            <a:r>
              <a:rPr b="0" lang="en-US" sz="3600" spc="-1" strike="noStrike">
                <a:solidFill>
                  <a:srgbClr val="000000"/>
                </a:solidFill>
                <a:latin typeface="XXXXXX"/>
                <a:ea typeface="XXXXXX"/>
              </a:rPr>
              <a:t>¾r¾p¤H¡A´«·Ó¦~´Á¬°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XXXXXX"/>
                <a:ea typeface="XXXXXX"/>
              </a:rPr>
              <a:t>10¦~</a:t>
            </a:r>
            <a:r>
              <a:rPr b="0" lang="en-US" sz="3600" spc="-1" strike="noStrike">
                <a:solidFill>
                  <a:srgbClr val="000000"/>
                </a:solidFill>
                <a:latin typeface="XXXXXX"/>
                <a:ea typeface="XXXXXX"/>
              </a:rPr>
              <a:t>¡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61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XXXXXX"/>
                <a:ea typeface="XXXXXX"/>
              </a:rPr>
              <a:t>¤@¯ë</a:t>
            </a:r>
            <a:r>
              <a:rPr b="0" lang="en-US" sz="3600" spc="-1" strike="noStrike">
                <a:solidFill>
                  <a:srgbClr val="000000"/>
                </a:solidFill>
                <a:latin typeface="XXXXXX"/>
                <a:ea typeface="XXXXXX"/>
              </a:rPr>
              <a:t>¾r¾p¤H¡A´«·Ó¦~´Á¬°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XXXXXX"/>
                <a:ea typeface="XXXXXX"/>
              </a:rPr>
              <a:t>5¦~</a:t>
            </a:r>
            <a:r>
              <a:rPr b="0" lang="en-US" sz="3600" spc="-1" strike="noStrike">
                <a:solidFill>
                  <a:srgbClr val="000000"/>
                </a:solidFill>
                <a:latin typeface="XXXXXX"/>
                <a:ea typeface="XXXXXX"/>
              </a:rPr>
              <a:t>¡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61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XXXXXX"/>
                <a:ea typeface="XXXXXX"/>
              </a:rPr>
              <a:t>Â¾·~</a:t>
            </a:r>
            <a:r>
              <a:rPr b="0" lang="en-US" sz="3600" spc="-1" strike="noStrike">
                <a:solidFill>
                  <a:srgbClr val="000000"/>
                </a:solidFill>
                <a:latin typeface="XXXXXX"/>
                <a:ea typeface="XXXXXX"/>
              </a:rPr>
              <a:t>¾r¾p¤H¡A´«·Ó¦~´Á¬°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XXXXXX"/>
                <a:ea typeface="XXXXXX"/>
              </a:rPr>
              <a:t>5¦~</a:t>
            </a:r>
            <a:r>
              <a:rPr b="0" lang="en-US" sz="3600" spc="-1" strike="noStrike">
                <a:solidFill>
                  <a:srgbClr val="000000"/>
                </a:solidFill>
                <a:latin typeface="XXXXXX"/>
                <a:ea typeface="XXXXXX"/>
              </a:rPr>
              <a:t>¡B¼fÅç¦~´Á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XXXXXX"/>
                <a:ea typeface="XXXXXX"/>
              </a:rPr>
              <a:t>3¦~</a:t>
            </a:r>
            <a:r>
              <a:rPr b="0" lang="en-US" sz="3600" spc="-1" strike="noStrike">
                <a:solidFill>
                  <a:srgbClr val="000000"/>
                </a:solidFill>
                <a:latin typeface="XXXXXX"/>
                <a:ea typeface="XXXXXX"/>
              </a:rPr>
              <a:t>¡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  <a:ea typeface="Tahoma"/>
              </a:rPr>
              <a:t>¾r·Ó´«»â¤è®×¤§¬ãÀ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914400" y="1981080"/>
            <a:ext cx="8229600" cy="48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78000" indent="-378000">
              <a:lnSpc>
                <a:spcPct val="90000"/>
              </a:lnSpc>
              <a:spcBef>
                <a:spcPts val="961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1" lang="en-US" sz="3600" spc="-1" strike="noStrike">
                <a:solidFill>
                  <a:srgbClr val="ff3300"/>
                </a:solidFill>
                <a:latin typeface="XXXXXX"/>
                <a:ea typeface="XXXXXX"/>
              </a:rPr>
              <a:t>¤è®×¤T¡G</a:t>
            </a:r>
            <a:r>
              <a:rPr b="1" lang="en-US" sz="3600" spc="-1" strike="noStrike" u="sng">
                <a:solidFill>
                  <a:srgbClr val="ff3300"/>
                </a:solidFill>
                <a:uFillTx/>
                <a:latin typeface="XXXXXX"/>
                <a:ea typeface="XXXXXX"/>
              </a:rPr>
              <a:t>­ÝÅU</a:t>
            </a:r>
            <a:r>
              <a:rPr b="1" lang="en-US" sz="3600" spc="-1" strike="noStrike">
                <a:solidFill>
                  <a:srgbClr val="ff3300"/>
                </a:solidFill>
                <a:latin typeface="XXXXXX"/>
                <a:ea typeface="XXXXXX"/>
              </a:rPr>
              <a:t>¦~ÄÖ»P°Ï¤À¾r¾p¤H¦]¯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 algn="just">
              <a:lnSpc>
                <a:spcPct val="90000"/>
              </a:lnSpc>
              <a:spcBef>
                <a:spcPts val="961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XXXXXX"/>
                <a:ea typeface="XXXXXX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ªì¦Ò»â¾r·ÓªÌ¡A´«·Ó¦~´Á¬°</a:t>
            </a:r>
            <a:r>
              <a:rPr b="0" lang="en-US" sz="3200" spc="-1" strike="noStrike">
                <a:solidFill>
                  <a:srgbClr val="000000"/>
                </a:solidFill>
                <a:latin typeface="XXXXXX"/>
                <a:ea typeface="XXXXXX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¦~¡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 algn="just">
              <a:lnSpc>
                <a:spcPct val="90000"/>
              </a:lnSpc>
              <a:spcBef>
                <a:spcPts val="961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XXXXXX"/>
                <a:ea typeface="XXXXXX"/>
              </a:rPr>
              <a:t>2.¥¼º¡6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³Àu¨}¾r¾p¤H¡A´«·Ó¦~´Á¬°</a:t>
            </a:r>
            <a:r>
              <a:rPr b="0" lang="en-US" sz="3200" spc="-1" strike="noStrike">
                <a:solidFill>
                  <a:srgbClr val="000000"/>
                </a:solidFill>
                <a:latin typeface="XXXXXX"/>
                <a:ea typeface="XXXXXX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¦~¡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 algn="just">
              <a:lnSpc>
                <a:spcPct val="90000"/>
              </a:lnSpc>
              <a:spcBef>
                <a:spcPts val="961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XXXXXX"/>
                <a:ea typeface="XXXXXX"/>
              </a:rPr>
              <a:t>3.¥¼º¡6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³¤@¯ë¾r¾p¤H¡A´«·Ó¦~´Á¬°</a:t>
            </a:r>
            <a:r>
              <a:rPr b="0" lang="en-US" sz="3200" spc="-1" strike="noStrike">
                <a:solidFill>
                  <a:srgbClr val="000000"/>
                </a:solidFill>
                <a:latin typeface="XXXXXX"/>
                <a:ea typeface="XXXXXX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¦~¡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 algn="just">
              <a:lnSpc>
                <a:spcPct val="90000"/>
              </a:lnSpc>
              <a:spcBef>
                <a:spcPts val="961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XXXXXX"/>
                <a:ea typeface="XXXXXX"/>
              </a:rPr>
              <a:t>4.6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³¥H¤WªÌ¡A´«·Ó¦~´Á¬°</a:t>
            </a:r>
            <a:r>
              <a:rPr b="0" lang="en-US" sz="3200" spc="-1" strike="noStrike">
                <a:solidFill>
                  <a:srgbClr val="000000"/>
                </a:solidFill>
                <a:latin typeface="XXXXXX"/>
                <a:ea typeface="XXXXXX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¦~¡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961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XXXXXX"/>
                <a:ea typeface="XXXXXX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Â¾·~¾r¾p¤H¡A¤£¤À¦~ÄÖ¡A´«·Ó¦~´Á¤@«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961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°</a:t>
            </a:r>
            <a:r>
              <a:rPr b="0" lang="en-US" sz="3200" spc="-1" strike="noStrike">
                <a:solidFill>
                  <a:srgbClr val="000000"/>
                </a:solidFill>
                <a:latin typeface="XXXXXX"/>
                <a:ea typeface="XXXXXX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¦~¡C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XXXXXX"/>
                <a:ea typeface="XXXXXX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  <a:ea typeface="Tahoma"/>
              </a:rPr>
              <a:t>¾r·Ó´«»â¤è®×¤§¬ãÀ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609480" y="1981080"/>
            <a:ext cx="8229600" cy="50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9480" indent="-609480">
              <a:lnSpc>
                <a:spcPct val="100000"/>
              </a:lnSpc>
              <a:spcBef>
                <a:spcPts val="961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°ò©ó¡u«Ø¥ß¥H©w´Á´«·ÓÀË®Ö¾r¾p¤H¾A©y¾r¾p¤§¾÷¨î¡v¡B¡u¾r¾p¤H¾A·í¤À¯ÅºÞ²z¤§»Ý­n©Ê¡v¡B¡uºÊ²z³æ¦ì¤§·~°È¶q¡v¡B¡u´£¨Ñ«K¥Á§@·~¡vµ¥¥|¶µ¦]¯À¡Aºî¦X¬ãªR¡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61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¤è®×¤@±q¦~ÄÖ¨Ó°Ï¤À´«·Ó¦~´Á¡A©ö©óºÞ²z»P¦æ¬F§@·~¡A±©¦¹¤è®×¶È¦Ò¶q¦~»´¾r¾p¤H¡]¥¼º¡30·³¡^¤Î°ªÄÖ¾r¾p¤H¡]60·³¥H¤W¡^ªº¾r¾p¦w¥þ°ÝÃD¡A»P¹ê»Ú¦³°ÝÃD¡B°ª¦MÀI¸sªº¾r¾p¤H¡A¥i¯à¤´¦³«Ü¤jªº®t¶Z¡C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  <a:ea typeface="Tahoma"/>
              </a:rPr>
              <a:t>¾r·Ó´«»â¤è®×¤§¬ãª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09480" y="1981080"/>
            <a:ext cx="8229600" cy="564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9480" indent="-609480" algn="just">
              <a:lnSpc>
                <a:spcPct val="90000"/>
              </a:lnSpc>
              <a:spcBef>
                <a:spcPts val="961"/>
              </a:spcBef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¤è®×¤G°Ï§O¾r¾p¤H¬°Àu¨}»P¤@¯ë¨âÃþ¡A¤À§OºÞ²z¡A¥i¹F¨ì¦³®ÄºÞ²z¥\¯à¡A¦ý©¿²¤°ªÄÖ¾r¾p¤Hªº¦w¥þ°ÝÃD¡A¬°¨ä¯ÊÂI¡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961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¤è®×¤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­Ý¨ã¤è®×¤@»P¤è®×¤G¤§¯SÂI¡A¦b»F¨Æ°O¿ý¯à¥R¤À°t¦X¤§¤U¡AÀ³¬°¸û¨Î¤è®×¡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961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¤£½×±Ä¥Î­þ¤@­Ó¤è®×¡A³£¥²¶·¦Ò¶q·Ç³Æ´Á¶¡¡B¹L´ç³B²z»P°t¦X±ø¥ó¡A¤£¯àÀH·NÅÜ§ó¡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961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°ê¥~¸gÅç©Î°ê¤º¾ÇªÌ±M®a·N¨£¡A§¡ÃÙ¦¨°Ï¤À¾r¾p¤H¤§¾r·ÓºÞ²z¨î«×¡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  <a:ea typeface="Tahoma"/>
              </a:rPr>
              <a:t>¾r·Ó´«»â¤è®×¤§¬ãª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17000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¤è®×¤T¬°«ØÄ³¤è®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Àu¨}¾r¾p¤H«Y«ü´«·Ó«e¨â¦~¤º¥¼µo¥Í¦º ¤`©Î­«¶Ë¤§¥æ³q¨Æ¬GªÌ¡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ªì¦Ò»â¾r·ÓªÌ¡A²Ä¤@¦¸´«·Ó¦~´Á¤@«ß¬°2¦~¡AºÙ¬°¡u¹w³Æ¾r·Ó¡v¡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¥¼º¡60·³¤§Àu¨}¾r¾p¤H¡A´«·Ó¦~´Á©µªø¬°10¦~¡A«Y®Ú¾Ú°ê¤º¦U¬ÛÃö³æ¦ì«ØÄ³®×º[°Ñ¦Ò¥@¬É¦U°ê¤§¨î«×¡A¦Ó¥B¥i´î»´¥Ø«eºÊ²z³æ¦ì·~°È­t¾á¡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  <a:ea typeface="Tahoma"/>
              </a:rPr>
              <a:t>¾r·Ó´«»â¤è®×¤§¬ãª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170000" y="1905120"/>
            <a:ext cx="777240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479"/>
              </a:spcBef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¥¼º¡60·³¤§¤@¯ë¾r¾p¤H¡A´«·Ó¦~´Á¬°5¦~¡A¨Ã¥B­n¨D¾r¾p¤H¥²¶·¿Ë¦Û´«·Ó¡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79"/>
              </a:spcBef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°ªÄÖ¾r¾p¤H¦]¨­Åé¡B¤ÏÀ³¾÷¯à°h¤Æ¡Aµ¹¤©¯S§OºÞ²z¡A¬G´«·Ó¦~´Á¥H3¦~¬°¾A·í¡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79"/>
              </a:spcBef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Â¾·~¾r¾p¤H¾r·Ó5¦~¤@´«(¼fÅç¬°3¦~)¡A»P¥Ø«e¤§ºÞ²z¤è¦¡¬Û¦P¡CÂ¾·~¾r·Ó»P´¶³q¾r·Ó¤¬´«¤§©w´Á´«·Ó³W©w¡A¥ç¨Ì´`¥Ø«e¤§§@ªk¡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79"/>
              </a:spcBef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ªì¨B¦ô­p¡A´«·Ó´Á­­¤§½Õ¾ã¨Ã¥¼±aµ¹ºÊ²z³æ¦ì·s¼W¤u§@¶q¡Aªø´Á¤Ï¦Ó¦³­°§C·~°È¶q¥\¯à¡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  <a:ea typeface="Tahoma"/>
              </a:rPr>
              <a:t>¾r·Ó´«»â¤è®×¤§¬ãª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1150920" y="757080"/>
            <a:ext cx="779292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rgbClr val="ff3300"/>
                </a:solidFill>
                <a:latin typeface="XXXXXX"/>
                <a:ea typeface="XXXXXX"/>
              </a:rPr>
              <a:t>µ²½×</a:t>
            </a:r>
            <a:r>
              <a:rPr b="1" lang="en-US" sz="4800" spc="-1" strike="noStrike">
                <a:solidFill>
                  <a:srgbClr val="333399"/>
                </a:solidFill>
                <a:latin typeface="XXXXXX"/>
                <a:ea typeface="XXXXXX"/>
              </a:rPr>
              <a:t>»P«ØÄ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1905120"/>
            <a:ext cx="8104320" cy="52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961"/>
              </a:spcBef>
              <a:buClr>
                <a:srgbClr val="ff0000"/>
              </a:buClr>
              <a:buSzPct val="55000"/>
              <a:buFont typeface="Wingding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¥»¬ã¨sÆ[¼¯°ê¥~¨}¦n¨î«×¡A°ò©ó§ïµ½§Ú°ê²{ªp°ÝÃD»P«Ø¥ß¾r·ÓºÞ²zÅé¨î¡AÂÇ¥Ñ¦UºØ«ÈÆ[¡]¾r·Ó·~°È¤ÀªR¡B¾r¾p¤H»F¨Æ»P¹H³W¤ÀªRµ¥¡^¡B¥DÆ[¡]¥Á²³·N¨£½Õ¬d¡B±M¬ìÂå®v·N¨£½Õ¬dµ¥¡^ªº°òÂ¦¸ê®Æ¤ÀªR¡A¤D¬ãÀÀ¦U¶µ¥¼¨Ó§ïµ½§@·~¡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61"/>
              </a:spcBef>
              <a:buClr>
                <a:srgbClr val="ff0000"/>
              </a:buClr>
              <a:buSzPct val="55000"/>
              <a:buFont typeface="Wingding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¾r·Ó´«¡]¸É¡^µo¦³¨ä°ò¥»¥\¯à¡A¤£¥i¥H¦]¬°¡u«K¥Á¡v¦Ó©¿²¤¾r¾p¤HºÞ²z¾÷¨î¡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0000"/>
              </a:buClr>
              <a:buSzPct val="55000"/>
              <a:buFont typeface="Wingding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XXXXXX"/>
                <a:ea typeface="XXXXXX"/>
              </a:rPr>
              <a:t>³q°T´«·Ó¤£©y¨ú®ø¡A¦ýÀ³¦³­­¨î±ø¥ó¡A¥B¼W¥[ÀË®Ö»P¿ëÃÒ¤âÄò¡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150920" y="866880"/>
            <a:ext cx="7792920" cy="7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333399"/>
                </a:solidFill>
                <a:latin typeface="XXXXXX"/>
                <a:ea typeface="XXXXXX"/>
              </a:rPr>
              <a:t>´Á¤¤³ø§iºK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990720" y="2057400"/>
            <a:ext cx="7974000" cy="52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33520" indent="-533520">
              <a:lnSpc>
                <a:spcPct val="90000"/>
              </a:lnSpc>
              <a:spcBef>
                <a:spcPts val="479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  <a:ea typeface="Tahoma"/>
              </a:rPr>
              <a:t>¾r·Ó´«(¸É)µoªº°ò¥»¥\¯à¡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79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­«·s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Tahoma"/>
              </a:rPr>
              <a:t>ÀË¬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¾r¾p¤H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Tahoma"/>
              </a:rPr>
              <a:t>°·±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ª¬ªp¡A©ÎÂÇ¥ÑÀË¬d¹Lµ{ªþ¥[«ù·Ó¤H¾r¨®±ø¥ó¡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79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½T»{¾r¾p¤H¬O§_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Tahoma"/>
              </a:rPr>
              <a:t>¼ô±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²{¦æ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Tahoma"/>
              </a:rPr>
              <a:t>¥æ³qªk¥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¡A´£°ª¾r¾p¤H¦w¥þ·NÃÑ¡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79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§ó´«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Tahoma"/>
              </a:rPr>
              <a:t>³Ì·s·Ó¤ù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¡A¼W¥[¾r·Ó¤§¿ëÃÑ©Ê¡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79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µ²²M¹H³W»PÁ¿²ß®×¥ó¡A½T«O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Tahoma"/>
              </a:rPr>
              <a:t>¦æ¬F³B¤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¤§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Tahoma"/>
              </a:rPr>
              <a:t>°õ¦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¡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79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Tahoma"/>
              </a:rPr>
              <a:t>§ùµ´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¾r·Ó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Tahoma"/>
              </a:rPr>
              <a:t>ÅÜ³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¨Ï¥Î¡A½T«O¾r·Ó¤§¥¿½T©Ê¡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79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©ó©w´Á´«·Ó®É¡A¦P®É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Tahoma"/>
              </a:rPr>
              <a:t>ÀË®ÖÅÜ§ó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©m¦W¡B¨­¤ÀÃÒ¸¹©Î¦a§}¡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150920" y="757080"/>
            <a:ext cx="779292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rgbClr val="ff3300"/>
                </a:solidFill>
                <a:latin typeface="XXXXXX"/>
                <a:ea typeface="XXXXXX"/>
              </a:rPr>
              <a:t>µ²½×</a:t>
            </a:r>
            <a:r>
              <a:rPr b="1" lang="en-US" sz="4800" spc="-1" strike="noStrike">
                <a:solidFill>
                  <a:srgbClr val="333399"/>
                </a:solidFill>
                <a:latin typeface="XXXXXX"/>
                <a:ea typeface="XXXXXX"/>
              </a:rPr>
              <a:t>»P«ØÄ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1828800"/>
            <a:ext cx="8104320" cy="53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961"/>
              </a:spcBef>
              <a:buClr>
                <a:srgbClr val="ff0000"/>
              </a:buClr>
              <a:buSzPct val="55000"/>
              <a:buFont typeface="Wingding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XXXXXX"/>
                <a:ea typeface="XXXXXX"/>
              </a:rPr>
              <a:t>¥¼¨Óªº¾r·Ó©y°Ï¤À¾r¾p¤H¡]Àu¨}»P¤@¯ë¡^¡A¤À§OºÞ²z¡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61"/>
              </a:spcBef>
              <a:buClr>
                <a:srgbClr val="ff0000"/>
              </a:buClr>
              <a:buSzPct val="55000"/>
              <a:buFont typeface="Wingding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¥»¬ã¨s´£¥X³\¦h²{¶¥¬q¤§¦æ¬F§@·~§ï¶i¡B¾r·Ó»s§@¤Î¨¾°°§Þ³N´£ª@¡B¥[±j¨­¤À¬d®Öµ¥¦æ¬F³æ¦ìÀ³§@¬°¨Æ¶µ¡A¥i¥H§ïµ½¥Ø«e¾r·ÓºÞ²z°ÝÃD¡C</a:t>
            </a:r>
            <a:r>
              <a:rPr b="0" lang="en-US" sz="32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61"/>
              </a:spcBef>
              <a:buClr>
                <a:srgbClr val="ff0000"/>
              </a:buClr>
              <a:buSzPct val="55000"/>
              <a:buFont typeface="Wingding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XXXXXX"/>
                <a:ea typeface="XXXXXX"/>
              </a:rPr>
              <a:t>¥¼¨ÓÀ³§¹¦¨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XXXXXX"/>
                <a:ea typeface="XXXXXX"/>
              </a:rPr>
              <a:t>Äµ¬F</a:t>
            </a:r>
            <a:r>
              <a:rPr b="0" lang="en-US" sz="3200" spc="-1" strike="noStrike">
                <a:solidFill>
                  <a:srgbClr val="000000"/>
                </a:solidFill>
                <a:latin typeface="XXXXXX"/>
                <a:ea typeface="XXXXXX"/>
              </a:rPr>
              <a:t>¡B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XXXXXX"/>
                <a:ea typeface="XXXXXX"/>
              </a:rPr>
              <a:t>¤á¬F</a:t>
            </a:r>
            <a:r>
              <a:rPr b="0" lang="en-US" sz="3200" spc="-1" strike="noStrike">
                <a:solidFill>
                  <a:srgbClr val="000000"/>
                </a:solidFill>
                <a:latin typeface="XXXXXX"/>
                <a:ea typeface="XXXXXX"/>
              </a:rPr>
              <a:t>¡B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XXXXXX"/>
                <a:ea typeface="XXXXXX"/>
              </a:rPr>
              <a:t>ºÊ²z</a:t>
            </a:r>
            <a:r>
              <a:rPr b="0" lang="en-US" sz="3200" spc="-1" strike="noStrike">
                <a:solidFill>
                  <a:srgbClr val="000000"/>
                </a:solidFill>
                <a:latin typeface="XXXXXX"/>
                <a:ea typeface="XXXXXX"/>
              </a:rPr>
              <a:t>³æ¦ì¹q¸£³s½u§@·~¡A¤è«K¿ì²z¾r·Ó·~°È¡A¨Ï¬F©²¾÷Ãö¦b¥[±jºÞ²z¤@¯ë¾r¾p¤H®É¡A¤´Ä~Äò°l¨D¡u«K¥Á¡v»P¡u®Ä²v¡v¥Ø¼Ð¡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1150920" y="878040"/>
            <a:ext cx="779292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rgbClr val="333399"/>
                </a:solidFill>
                <a:latin typeface="XXXXXX"/>
                <a:ea typeface="XXXXXX"/>
              </a:rPr>
              <a:t>µ²½×»P</a:t>
            </a:r>
            <a:r>
              <a:rPr b="1" lang="en-US" sz="4800" spc="-1" strike="noStrike">
                <a:solidFill>
                  <a:srgbClr val="ff3300"/>
                </a:solidFill>
                <a:latin typeface="XXXXXX"/>
                <a:ea typeface="XXXXXX"/>
              </a:rPr>
              <a:t>«ØÄ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1337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«Ø¥ß¬F©²¬ÛÃö³æ¦ì¤§¾r¾p¤H°·±d±¡§ÎÁpÃ´³q³ø¾÷¨î¡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¾r¾p¤H°ò¥»¸ê®Æ¦³®Ä´x´¤¥²¶·¾¨³t¶i¦æ¡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°t¦X±¹¬I¬°¹ê¬I§ïµ½¤§­n¥ó¡C¦æ¬F§@·~¤§ºë¶i¡A¥²¶·¦³¿à¾ãÅé°t¦X»P¨ó½Õ¡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§ïµ½¤è®×¤¤¡A¦³³\¦h¥²¶·ÂÇ¥Ñ­×¥¿ªk¥O¡B¦æ¬F§@·~½Õ¾ã¡B§Þ³N°t¦Xµ¥°t¦X±ø¥ó¡A¤~¯à°õ¦æ¡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1150920" y="1152360"/>
            <a:ext cx="7792920" cy="7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333399"/>
                </a:solidFill>
                <a:latin typeface="XXXXXX"/>
                <a:ea typeface="XXXXXX"/>
              </a:rPr>
              <a:t>²Ä4.2¸`¼W­q¤º®eºK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´N¥þ¬Ù¤C­ÓºÊ²z³æ¦ì·~°È¶q¤ÀªR¡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©w´Á´«·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¤´¬°¦UºÊ²z³æ¦ìªº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¥D­n·~°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¡A88¦~²{³õ´«(¸É)·Ó¡G³q«H´«(¸É)·Ó¡×50.8¢M¡G16.5¢M¡F89¦~²{³õ´«(¸É)·Ó¡G³q«H´«(¸É)·Ó¡×47.4¢M¡G17.0¢M¡A¥x¥_¥«»P°ª¶¯¥«ªº³q«H´«·Ó§ó§C¡AÅã¥Ü¹ê¬I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³q«H´«·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¹¬I¨Ã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¤£·|¤j¶q´î»´¸Ó³£¥«¦a°ÏºÊ²z³æ¦ìªº·~°È¶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¡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92120" cy="4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150920" y="1152360"/>
            <a:ext cx="7792920" cy="7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333399"/>
                </a:solidFill>
                <a:latin typeface="XXXXXX"/>
                <a:ea typeface="XXXXXX"/>
              </a:rPr>
              <a:t>²Ä4.3¸`¼W­q¤º®eºK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182600" y="2017800"/>
            <a:ext cx="7772400" cy="66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¥H¥x¥_¥«µo¥Í»F¨Æ¬°¬ã¨s¸ê®Æµo²{¡G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Tahoma"/>
              </a:rPr>
              <a:t>¤£¦P¦~ÄÖ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¾r¾p¤H¦³¤£¦P¾r¾p¦æ¬°¡A©Ò§e²{ªº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Tahoma"/>
              </a:rPr>
              <a:t>»F¨Æ²v¥H</a:t>
            </a:r>
            <a:r>
              <a:rPr b="0" lang="en-US" sz="2800" spc="-1" strike="noStrike">
                <a:solidFill>
                  <a:srgbClr val="ff0000"/>
                </a:solidFill>
                <a:latin typeface="XXXXXX"/>
                <a:ea typeface="XXXXXX"/>
              </a:rPr>
              <a:t>18-20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Tahoma"/>
              </a:rPr>
              <a:t>·³³Ì°ª¡A</a:t>
            </a:r>
            <a:r>
              <a:rPr b="0" lang="en-US" sz="2800" spc="-1" strike="noStrike">
                <a:solidFill>
                  <a:srgbClr val="ff0000"/>
                </a:solidFill>
                <a:latin typeface="XXXXXX"/>
                <a:ea typeface="XXXXXX"/>
              </a:rPr>
              <a:t>21-26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Tahoma"/>
              </a:rPr>
              <a:t>·³¦¸¤§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¡AµM«á»¼´î¡A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Tahoma"/>
              </a:rPr>
              <a:t>¦Ü°ªÄÖ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®É¤S¦³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Tahoma"/>
              </a:rPr>
              <a:t>Ãk¤É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ÁÍ¶Õ¡A¾ã­Ó¤À¥¬¦±½u§e</a:t>
            </a:r>
            <a:r>
              <a:rPr b="0" lang="en-US" sz="2800" spc="-1" strike="noStrike">
                <a:solidFill>
                  <a:srgbClr val="ff0000"/>
                </a:solidFill>
                <a:latin typeface="XXXXXX"/>
                <a:ea typeface="XXXXXX"/>
              </a:rPr>
              <a:t>U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Tahoma"/>
              </a:rPr>
              <a:t>«¬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¡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¦U¦~ÄÖ¼hªº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Tahoma"/>
              </a:rPr>
              <a:t>¥­§¡¹H³W¦¸¼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»P¹H³W¤H¼Æ¬Û¹ï¤ñ¨Ò¡A¤]¬O¥H</a:t>
            </a:r>
            <a:r>
              <a:rPr b="0" lang="en-US" sz="2800" spc="-1" strike="noStrike">
                <a:solidFill>
                  <a:srgbClr val="ff0000"/>
                </a:solidFill>
                <a:latin typeface="XXXXXX"/>
                <a:ea typeface="XXXXXX"/>
              </a:rPr>
              <a:t>18-20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Tahoma"/>
              </a:rPr>
              <a:t>·³¦~ÄÖ¼h©~­º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¡AµM«á³vº¥¤U­°¡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¥Ñ¦¹¥iª¾¡A</a:t>
            </a:r>
            <a:r>
              <a:rPr b="0" lang="en-US" sz="2800" spc="-1" strike="noStrike">
                <a:solidFill>
                  <a:srgbClr val="ff0000"/>
                </a:solidFill>
                <a:latin typeface="XXXXXX"/>
                <a:ea typeface="XXXXXX"/>
              </a:rPr>
              <a:t>18-20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Tahoma"/>
              </a:rPr>
              <a:t>·³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­è¦Ò»â¾r·Óªº¾r¾p¤H¬O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Tahoma"/>
              </a:rPr>
              <a:t>°ª¦MÀI¸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¡F¦Ó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Tahoma"/>
              </a:rPr>
              <a:t>°ªÄÖ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¾r¾p¤H¦b¨Æ¬G­·ÀI­È¤è­±¦³Ãk¤Éªº±¡§Î¡AÅã¥Ü°ªÄÖ¾r¾p¤HªºÅé®æÅé¯à¦³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Tahoma"/>
              </a:rPr>
              <a:t>°I°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ªº²{¶H¡A¼vÅT¨ä¾r¾p¯à¤O¡A¨Ï»F¨Æ²v¤É°ª¡A¤@¥¹µo¥Í»F¨Æ¡A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Tahoma"/>
              </a:rPr>
              <a:t>¦º¤`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ªº¥i¯à©Ê¤j¼W¡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492120" cy="4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150920" y="115236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143000" y="5867280"/>
            <a:ext cx="7238880" cy="72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§Ú°ê¾r·ÓºÞ²z¥Ø¼ÐÅé¨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5943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492120" cy="4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0" y="0"/>
            <a:ext cx="9144000" cy="6888240"/>
            <a:chOff x="0" y="0"/>
            <a:chExt cx="9144000" cy="6888240"/>
          </a:xfrm>
        </p:grpSpPr>
        <p:sp>
          <p:nvSpPr>
            <p:cNvPr id="172" name=""/>
            <p:cNvSpPr/>
            <p:nvPr/>
          </p:nvSpPr>
          <p:spPr>
            <a:xfrm>
              <a:off x="6477120" y="6248520"/>
              <a:ext cx="2666880" cy="63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 txBox="1"/>
            <p:nvPr/>
          </p:nvSpPr>
          <p:spPr>
            <a:xfrm>
              <a:off x="1447920" y="6218280"/>
              <a:ext cx="5029200" cy="63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75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«Y«ü¾ã­Ó¾r·ÓºÞ²z¨î«×¦p¯à¦³®Ä°Ï¤À¾r¾p¤H¡A«hÀu¨}¾r¾p¤H©Ò¥e¤ñ¨Ò¬°¦ó¡C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 txBox="1"/>
            <p:nvPr/>
          </p:nvSpPr>
          <p:spPr>
            <a:xfrm>
              <a:off x="0" y="6218280"/>
              <a:ext cx="1447920" cy="63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1800" spc="-1" strike="noStrike">
                  <a:solidFill>
                    <a:srgbClr val="ff3300"/>
                  </a:solidFill>
                  <a:latin typeface="Tahoma"/>
                  <a:ea typeface="Tahoma"/>
                </a:rPr>
                <a:t>¾i¦¨Àu¨}¾r¾p¤H¤§µ{«×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 txBox="1"/>
            <p:nvPr/>
          </p:nvSpPr>
          <p:spPr>
            <a:xfrm>
              <a:off x="6477120" y="5745240"/>
              <a:ext cx="2666880" cy="5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75000"/>
                </a:lnSpc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  <a:ea typeface="Tahoma"/>
                </a:rPr>
                <a:t>µ²¦XÂ²©öÁ¿²ß»P¹D¦wÁ¿²ß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 txBox="1"/>
            <p:nvPr/>
          </p:nvSpPr>
          <p:spPr>
            <a:xfrm>
              <a:off x="1447920" y="5745240"/>
              <a:ext cx="5029200" cy="62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75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«Y«ü´«·Ó®Éªº¡uÂ²©öÁ¿²ß¡v»P¹H³W¤§¡u¹D¦wÁ¿²ß¡v¦p¯à°t¦X±o·í¡A«h¥i¥R¤Àµo´§±Ð¨|«Å¾Éªº¥\¯à¡C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 txBox="1"/>
            <p:nvPr/>
          </p:nvSpPr>
          <p:spPr>
            <a:xfrm>
              <a:off x="0" y="5745240"/>
              <a:ext cx="1447920" cy="5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75000"/>
                </a:lnSpc>
              </a:pPr>
              <a:r>
                <a:rPr b="0" lang="en-US" sz="1800" spc="-1" strike="noStrike">
                  <a:solidFill>
                    <a:srgbClr val="ff3300"/>
                  </a:solidFill>
                  <a:latin typeface="Tahoma"/>
                  <a:ea typeface="Tahoma"/>
                </a:rPr>
                <a:t>°t¦X¹D¦w±Ð¨|¤§µ{«×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6477120" y="5102280"/>
              <a:ext cx="2666880" cy="642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75000"/>
                </a:lnSpc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  <a:ea typeface="Tahoma"/>
                </a:rPr>
                <a:t>1.´£°ªªk¥O¦ì¶¥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5000"/>
                </a:lnSpc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  <a:ea typeface="Tahoma"/>
                </a:rPr>
                <a:t>2.µ²²M¿n®×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5000"/>
                </a:lnSpc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  <a:ea typeface="Tahoma"/>
                </a:rPr>
                <a:t>3.¹ê¬I¦h·Ó¦X¤@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 txBox="1"/>
            <p:nvPr/>
          </p:nvSpPr>
          <p:spPr>
            <a:xfrm>
              <a:off x="1447920" y="5102280"/>
              <a:ext cx="5029200" cy="642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75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«Y«ü¨}¦nªº¾r·ÓºÞ²z¨î«×¡AÀ³¦Ò¼{°t¦X´£°ª¦æ¬F»@Áìªºµô»@²v¡C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0" y="5102280"/>
              <a:ext cx="1447920" cy="642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75000"/>
                </a:lnSpc>
              </a:pPr>
              <a:r>
                <a:rPr b="0" lang="en-US" sz="1800" spc="-1" strike="noStrike">
                  <a:solidFill>
                    <a:srgbClr val="ff3300"/>
                  </a:solidFill>
                  <a:latin typeface="Tahoma"/>
                  <a:ea typeface="Tahoma"/>
                </a:rPr>
                <a:t>¦æ¬F»@Áì°õ¦æ¤§¦³®Ä©Ê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 txBox="1"/>
            <p:nvPr/>
          </p:nvSpPr>
          <p:spPr>
            <a:xfrm>
              <a:off x="6477120" y="4522680"/>
              <a:ext cx="266688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75000"/>
                </a:lnSpc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  <a:ea typeface="Tahoma"/>
                </a:rPr>
                <a:t>1.²{³õ©ç·Ó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5000"/>
                </a:lnSpc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  <a:ea typeface="Tahoma"/>
                </a:rPr>
                <a:t>2.°t¦X«ü¯¾±Ì¦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 txBox="1"/>
            <p:nvPr/>
          </p:nvSpPr>
          <p:spPr>
            <a:xfrm>
              <a:off x="1447920" y="4522680"/>
              <a:ext cx="502920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«Y«ü¬°½T«O«ù·Ó¤H¨­¤Àªº½T¹ê©Ê¡A¦b´«·Ó®É©Ò¥²¶·±Ä¨úªº±¹¬I¡C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>
              <a:off x="0" y="4522680"/>
              <a:ext cx="1447920" cy="70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75000"/>
                </a:lnSpc>
              </a:pPr>
              <a:r>
                <a:rPr b="0" lang="en-US" sz="1800" spc="-1" strike="noStrike">
                  <a:solidFill>
                    <a:srgbClr val="ff3300"/>
                  </a:solidFill>
                  <a:latin typeface="Tahoma"/>
                  <a:ea typeface="Tahoma"/>
                </a:rPr>
                <a:t>¨­¥÷¬dÅç¤§½T¹ê©Ê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 txBox="1"/>
            <p:nvPr/>
          </p:nvSpPr>
          <p:spPr>
            <a:xfrm>
              <a:off x="6477120" y="4019400"/>
              <a:ext cx="2666880" cy="5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75000"/>
                </a:lnSpc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  <a:ea typeface="Tahoma"/>
                </a:rPr>
                <a:t>1.·Ó¤ù±½ºË¦C¦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5000"/>
                </a:lnSpc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  <a:ea typeface="Tahoma"/>
                </a:rPr>
                <a:t>2.IC»s§@§÷½è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 txBox="1"/>
            <p:nvPr/>
          </p:nvSpPr>
          <p:spPr>
            <a:xfrm>
              <a:off x="1447920" y="4019400"/>
              <a:ext cx="5029200" cy="5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«Y«üÀ³¥Î¬ì§Þ¤èªk³]ªk¨Ó­°§C¾r·Ó³Q°°³yªº¾÷²v¡C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 txBox="1"/>
            <p:nvPr/>
          </p:nvSpPr>
          <p:spPr>
            <a:xfrm>
              <a:off x="0" y="4019400"/>
              <a:ext cx="1447920" cy="5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75000"/>
                </a:lnSpc>
              </a:pPr>
              <a:r>
                <a:rPr b="0" lang="en-US" sz="1800" spc="-1" strike="noStrike">
                  <a:solidFill>
                    <a:srgbClr val="ff3300"/>
                  </a:solidFill>
                  <a:latin typeface="Tahoma"/>
                  <a:ea typeface="Tahoma"/>
                </a:rPr>
                <a:t>¾r·Ó»s§@§Þ³N¤§¥i¾a©Ê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 txBox="1"/>
            <p:nvPr/>
          </p:nvSpPr>
          <p:spPr>
            <a:xfrm>
              <a:off x="6477120" y="3192480"/>
              <a:ext cx="2666880" cy="826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75000"/>
                </a:lnSpc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  <a:ea typeface="Tahoma"/>
                </a:rPr>
                <a:t>1.ÀËªþÃÒ©ú¤å¥ó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5000"/>
                </a:lnSpc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  <a:ea typeface="Tahoma"/>
                </a:rPr>
                <a:t>2.¹ê¬I³q°T´«·Ó  ¡]§tºô¸ô¡^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5000"/>
                </a:lnSpc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  <a:ea typeface="Tahoma"/>
                </a:rPr>
                <a:t>3.¹ê¬I¦h·Ó¦X¤@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5000"/>
                </a:lnSpc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  <a:ea typeface="Tahoma"/>
                </a:rPr>
                <a:t>4.¼W³]µ¡¤f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 txBox="1"/>
            <p:nvPr/>
          </p:nvSpPr>
          <p:spPr>
            <a:xfrm>
              <a:off x="1447920" y="3192480"/>
              <a:ext cx="5029200" cy="1103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«Y«ü¤@­Ó²z·Qªº¾r·ÓºÞ²z¨î«×¡A°£¤FÀ³¹ï¬ö¿ý¤£¨}ªº¾r¾p¤H¥[±j¦Ò®Ö¥~¡AÁÙ¥²¶·´£¨Ñ¤j¦h¼Æ¬ö¿ý¨}¦nªº¾r¾p¤H´«¸Éµo§@·~ªº®e©ö»PÂ²«K©Ê¡C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>
              <a:off x="0" y="3192480"/>
              <a:ext cx="1447920" cy="826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75000"/>
                </a:lnSpc>
              </a:pPr>
              <a:r>
                <a:rPr b="0" lang="en-US" sz="1800" spc="-1" strike="noStrike">
                  <a:solidFill>
                    <a:srgbClr val="ff3300"/>
                  </a:solidFill>
                  <a:latin typeface="Tahoma"/>
                  <a:ea typeface="Tahoma"/>
                </a:rPr>
                <a:t>¾r·Ó´«¸Éµo¤§®e©ö©Ê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 txBox="1"/>
            <p:nvPr/>
          </p:nvSpPr>
          <p:spPr>
            <a:xfrm>
              <a:off x="6477120" y="2549520"/>
              <a:ext cx="2666880" cy="642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75000"/>
                </a:lnSpc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  <a:ea typeface="Tahoma"/>
                </a:rPr>
                <a:t>1.©µªø¥Ó½Ð´«·Óªº´Á­­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5000"/>
                </a:lnSpc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  <a:ea typeface="Tahoma"/>
                </a:rPr>
                <a:t>2.ÀËªþÃÒ©ú¤å¥ó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5000"/>
                </a:lnSpc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  <a:ea typeface="Tahoma"/>
                </a:rPr>
                <a:t>3.¹ê¬I³q°T´«·Ó  ¡]§tºô¸ô¡^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 txBox="1"/>
            <p:nvPr/>
          </p:nvSpPr>
          <p:spPr>
            <a:xfrm>
              <a:off x="1447920" y="2549520"/>
              <a:ext cx="5029200" cy="642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«Y«ü¤@­Ó²{¥N¤Æ¡B§¹µ½ªº¨î«×¥²¶·­nÅý¥Á²³¦³¦h¼Ë©Êªº¿ï¾Ü¡A¤è¯à²Å¦X«K¥Áªº­ì«h¡C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 txBox="1"/>
            <p:nvPr/>
          </p:nvSpPr>
          <p:spPr>
            <a:xfrm>
              <a:off x="0" y="2549520"/>
              <a:ext cx="1447920" cy="642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75000"/>
                </a:lnSpc>
              </a:pPr>
              <a:r>
                <a:rPr b="0" lang="en-US" sz="1800" spc="-1" strike="noStrike">
                  <a:solidFill>
                    <a:srgbClr val="ff3300"/>
                  </a:solidFill>
                  <a:latin typeface="Tahoma"/>
                  <a:ea typeface="Tahoma"/>
                </a:rPr>
                <a:t>´«¸ÉµoºÞ¹D¤§¦h¼Ë©Ê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 txBox="1"/>
            <p:nvPr/>
          </p:nvSpPr>
          <p:spPr>
            <a:xfrm>
              <a:off x="6477120" y="1839960"/>
              <a:ext cx="2666880" cy="709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75000"/>
                </a:lnSpc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  <a:ea typeface="Tahoma"/>
                </a:rPr>
                <a:t>1.«Ø¥ß§¹¾ã¸ê®ÆÀÉ®×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5000"/>
                </a:lnSpc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  <a:ea typeface="Tahoma"/>
                </a:rPr>
                <a:t>2.³]­p¹ê²ß¾r·Ó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 txBox="1"/>
            <p:nvPr/>
          </p:nvSpPr>
          <p:spPr>
            <a:xfrm>
              <a:off x="1447920" y="1839960"/>
              <a:ext cx="5029200" cy="82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«Y«ü¦³®ÄºÞ²z¾r¾p¤H¡A¥²¶·«Ø¥ß¤@®M§¹¾ãªº»F¨Æ»P¹H³W¸ê®ÆÀÉ¡A¦P®É°w¹ï°ª¦MÀI¸sªº¾r¾p¤H¥[±j¦Ò®Ö¡C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 txBox="1"/>
            <p:nvPr/>
          </p:nvSpPr>
          <p:spPr>
            <a:xfrm>
              <a:off x="0" y="1839960"/>
              <a:ext cx="1447920" cy="709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75000"/>
                </a:lnSpc>
              </a:pPr>
              <a:r>
                <a:rPr b="0" lang="en-US" sz="1800" spc="-1" strike="noStrike">
                  <a:solidFill>
                    <a:srgbClr val="ff3300"/>
                  </a:solidFill>
                  <a:latin typeface="Tahoma"/>
                  <a:ea typeface="Tahoma"/>
                </a:rPr>
                <a:t>µ²¦X¹H³W»P»F¨Æ¬ö¿ý¤§µ{«×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 txBox="1"/>
            <p:nvPr/>
          </p:nvSpPr>
          <p:spPr>
            <a:xfrm>
              <a:off x="6477120" y="1012680"/>
              <a:ext cx="2666880" cy="826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75000"/>
                </a:lnSpc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  <a:ea typeface="Tahoma"/>
                </a:rPr>
                <a:t>1.°Ï¤À¾r¾p¤H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5000"/>
                </a:lnSpc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  <a:ea typeface="Tahoma"/>
                </a:rPr>
                <a:t>2.­q©w¤£¦P´«·Ó¦~­­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5000"/>
                </a:lnSpc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  <a:ea typeface="Tahoma"/>
                </a:rPr>
                <a:t>3.¥[­«¹O´Á³B»@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5000"/>
                </a:lnSpc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  <a:ea typeface="Tahoma"/>
                </a:rPr>
                <a:t>4.´£¨ÑÀu´f±¹¬I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 txBox="1"/>
            <p:nvPr/>
          </p:nvSpPr>
          <p:spPr>
            <a:xfrm>
              <a:off x="1447920" y="1012680"/>
              <a:ext cx="5029200" cy="1103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«Y«ü¾r·Ó©w´ÁÀË´ú¤§¥Øªº°£ÀË®Ö¾r¾p¤Hªº°ò¥»¾r¨®³\¥i±ø¥ó¥~¡AÁÙ¶·¦Ò¼{©w´ÁÀË´ú¹ï¾r¾p¤H¤§¹ê½è·N¸q¡C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 txBox="1"/>
            <p:nvPr/>
          </p:nvSpPr>
          <p:spPr>
            <a:xfrm>
              <a:off x="0" y="1012680"/>
              <a:ext cx="1447920" cy="826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75000"/>
                </a:lnSpc>
              </a:pPr>
              <a:r>
                <a:rPr b="0" lang="en-US" sz="1800" spc="-1" strike="noStrike">
                  <a:solidFill>
                    <a:srgbClr val="ff3300"/>
                  </a:solidFill>
                  <a:latin typeface="Tahoma"/>
                  <a:ea typeface="Tahoma"/>
                </a:rPr>
                <a:t>©w´ÁÀË®Ö¤§¦³®Ä©Ê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 txBox="1"/>
            <p:nvPr/>
          </p:nvSpPr>
          <p:spPr>
            <a:xfrm>
              <a:off x="6477120" y="369720"/>
              <a:ext cx="2666880" cy="642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75000"/>
                </a:lnSpc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  <a:ea typeface="Tahoma"/>
                </a:rPr>
                <a:t>1.Åé®æÅé¯àÀË¬d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5000"/>
                </a:lnSpc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  <a:ea typeface="Tahoma"/>
                </a:rPr>
                <a:t>2.Â²©öÁ¿²ß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5000"/>
                </a:lnSpc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  <a:ea typeface="Tahoma"/>
                </a:rPr>
                <a:t>3.ªk¥O´úÅç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 txBox="1"/>
            <p:nvPr/>
          </p:nvSpPr>
          <p:spPr>
            <a:xfrm>
              <a:off x="1447920" y="369720"/>
              <a:ext cx="5029200" cy="642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«Y«ü´«·Ó®ÉÀ³ÀË®Ö¾r¾p¤H°ò¥»¾r¨®³\¥i±ø¥ó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 txBox="1"/>
            <p:nvPr/>
          </p:nvSpPr>
          <p:spPr>
            <a:xfrm>
              <a:off x="0" y="369720"/>
              <a:ext cx="1447920" cy="642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75000"/>
                </a:lnSpc>
              </a:pPr>
              <a:r>
                <a:rPr b="0" lang="en-US" sz="1800" spc="-1" strike="noStrike">
                  <a:solidFill>
                    <a:srgbClr val="ff3300"/>
                  </a:solidFill>
                  <a:latin typeface="Tahoma"/>
                  <a:ea typeface="Tahoma"/>
                </a:rPr>
                <a:t>ÀË®Ö±ø¥ó¤§©ú½T©Ê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 txBox="1"/>
            <p:nvPr/>
          </p:nvSpPr>
          <p:spPr>
            <a:xfrm>
              <a:off x="6477120" y="0"/>
              <a:ext cx="2666880" cy="36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  <a:ea typeface="Tahoma"/>
                </a:rPr>
                <a:t>¥i¦Ò¼{±Ä¦æ¤§¹ïµ¦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 txBox="1"/>
            <p:nvPr/>
          </p:nvSpPr>
          <p:spPr>
            <a:xfrm>
              <a:off x="1447920" y="0"/>
              <a:ext cx="5029200" cy="36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»¡©ú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 txBox="1"/>
            <p:nvPr/>
          </p:nvSpPr>
          <p:spPr>
            <a:xfrm>
              <a:off x="0" y="0"/>
              <a:ext cx="1447920" cy="36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·Ç«h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440" y="0"/>
              <a:ext cx="91425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440" y="369720"/>
              <a:ext cx="914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440" y="1012680"/>
              <a:ext cx="914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440" y="1839960"/>
              <a:ext cx="914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440" y="2549520"/>
              <a:ext cx="914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440" y="3192480"/>
              <a:ext cx="914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440" y="4019400"/>
              <a:ext cx="914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440" y="4522680"/>
              <a:ext cx="914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440" y="5102280"/>
              <a:ext cx="914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440" y="5745240"/>
              <a:ext cx="914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440" y="6248520"/>
              <a:ext cx="9142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440" y="6888240"/>
              <a:ext cx="91425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0" y="1440"/>
              <a:ext cx="0" cy="68868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447920" y="1440"/>
              <a:ext cx="0" cy="688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477120" y="1440"/>
              <a:ext cx="0" cy="688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9144000" y="1440"/>
              <a:ext cx="0" cy="68868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600200" y="0"/>
            <a:ext cx="492120" cy="4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1150920" y="115236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0" y="0"/>
            <a:ext cx="9220320" cy="6669000"/>
            <a:chOff x="0" y="0"/>
            <a:chExt cx="9220320" cy="6669000"/>
          </a:xfrm>
        </p:grpSpPr>
        <p:sp>
          <p:nvSpPr>
            <p:cNvPr id="224" name=""/>
            <p:cNvSpPr txBox="1"/>
            <p:nvPr/>
          </p:nvSpPr>
          <p:spPr>
            <a:xfrm>
              <a:off x="7315200" y="6334200"/>
              <a:ext cx="190512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0.23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 txBox="1"/>
            <p:nvPr/>
          </p:nvSpPr>
          <p:spPr>
            <a:xfrm>
              <a:off x="5334120" y="6334200"/>
              <a:ext cx="198108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0.25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 txBox="1"/>
            <p:nvPr/>
          </p:nvSpPr>
          <p:spPr>
            <a:xfrm>
              <a:off x="3352680" y="6334200"/>
              <a:ext cx="198108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0.25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 txBox="1"/>
            <p:nvPr/>
          </p:nvSpPr>
          <p:spPr>
            <a:xfrm>
              <a:off x="1523880" y="6334200"/>
              <a:ext cx="182880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0.25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 txBox="1"/>
            <p:nvPr/>
          </p:nvSpPr>
          <p:spPr>
            <a:xfrm>
              <a:off x="0" y="6334200"/>
              <a:ext cx="152388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¬Û¹ïÅv­«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 txBox="1"/>
            <p:nvPr/>
          </p:nvSpPr>
          <p:spPr>
            <a:xfrm>
              <a:off x="7315200" y="5999040"/>
              <a:ext cx="190512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.78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 txBox="1"/>
            <p:nvPr/>
          </p:nvSpPr>
          <p:spPr>
            <a:xfrm>
              <a:off x="5334120" y="5999040"/>
              <a:ext cx="198108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.99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 txBox="1"/>
            <p:nvPr/>
          </p:nvSpPr>
          <p:spPr>
            <a:xfrm>
              <a:off x="3352680" y="5999040"/>
              <a:ext cx="198108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.78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 txBox="1"/>
            <p:nvPr/>
          </p:nvSpPr>
          <p:spPr>
            <a:xfrm>
              <a:off x="1523880" y="5999040"/>
              <a:ext cx="182880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.66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 txBox="1"/>
            <p:nvPr/>
          </p:nvSpPr>
          <p:spPr>
            <a:xfrm>
              <a:off x="0" y="5999040"/>
              <a:ext cx="152388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¼Ð·Ç®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 txBox="1"/>
            <p:nvPr/>
          </p:nvSpPr>
          <p:spPr>
            <a:xfrm>
              <a:off x="7315200" y="5664240"/>
              <a:ext cx="190512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3333cc"/>
                  </a:solidFill>
                  <a:latin typeface="Tahoma"/>
                  <a:ea typeface="Tahoma"/>
                </a:rPr>
                <a:t>7.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 txBox="1"/>
            <p:nvPr/>
          </p:nvSpPr>
          <p:spPr>
            <a:xfrm>
              <a:off x="5334120" y="5664240"/>
              <a:ext cx="198108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3333cc"/>
                  </a:solidFill>
                  <a:latin typeface="Tahoma"/>
                  <a:ea typeface="Tahoma"/>
                </a:rPr>
                <a:t>7.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 txBox="1"/>
            <p:nvPr/>
          </p:nvSpPr>
          <p:spPr>
            <a:xfrm>
              <a:off x="3352680" y="5664240"/>
              <a:ext cx="198108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3333cc"/>
                  </a:solidFill>
                  <a:latin typeface="Tahoma"/>
                  <a:ea typeface="Tahoma"/>
                </a:rPr>
                <a:t>7.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 txBox="1"/>
            <p:nvPr/>
          </p:nvSpPr>
          <p:spPr>
            <a:xfrm>
              <a:off x="1523880" y="5664240"/>
              <a:ext cx="182880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3333cc"/>
                  </a:solidFill>
                  <a:latin typeface="Tahoma"/>
                  <a:ea typeface="Tahoma"/>
                </a:rPr>
                <a:t>7.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 txBox="1"/>
            <p:nvPr/>
          </p:nvSpPr>
          <p:spPr>
            <a:xfrm>
              <a:off x="0" y="5664240"/>
              <a:ext cx="152388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3333cc"/>
                  </a:solidFill>
                  <a:latin typeface="Tahoma"/>
                  <a:ea typeface="Tahoma"/>
                </a:rPr>
                <a:t>¥­§¡¼Æ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 txBox="1"/>
            <p:nvPr/>
          </p:nvSpPr>
          <p:spPr>
            <a:xfrm>
              <a:off x="7315200" y="5329080"/>
              <a:ext cx="190512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 txBox="1"/>
            <p:nvPr/>
          </p:nvSpPr>
          <p:spPr>
            <a:xfrm>
              <a:off x="5334120" y="5329080"/>
              <a:ext cx="198108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 txBox="1"/>
            <p:nvPr/>
          </p:nvSpPr>
          <p:spPr>
            <a:xfrm>
              <a:off x="3352680" y="5329080"/>
              <a:ext cx="198108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 txBox="1"/>
            <p:nvPr/>
          </p:nvSpPr>
          <p:spPr>
            <a:xfrm>
              <a:off x="1523880" y="5329080"/>
              <a:ext cx="182880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 txBox="1"/>
            <p:nvPr/>
          </p:nvSpPr>
          <p:spPr>
            <a:xfrm>
              <a:off x="0" y="5329080"/>
              <a:ext cx="152388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 txBox="1"/>
            <p:nvPr/>
          </p:nvSpPr>
          <p:spPr>
            <a:xfrm>
              <a:off x="7315200" y="4994280"/>
              <a:ext cx="190512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 txBox="1"/>
            <p:nvPr/>
          </p:nvSpPr>
          <p:spPr>
            <a:xfrm>
              <a:off x="5334120" y="4994280"/>
              <a:ext cx="198108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 txBox="1"/>
            <p:nvPr/>
          </p:nvSpPr>
          <p:spPr>
            <a:xfrm>
              <a:off x="3352680" y="4994280"/>
              <a:ext cx="198108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 txBox="1"/>
            <p:nvPr/>
          </p:nvSpPr>
          <p:spPr>
            <a:xfrm>
              <a:off x="1523880" y="4994280"/>
              <a:ext cx="182880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 txBox="1"/>
            <p:nvPr/>
          </p:nvSpPr>
          <p:spPr>
            <a:xfrm>
              <a:off x="0" y="4994280"/>
              <a:ext cx="152388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 txBox="1"/>
            <p:nvPr/>
          </p:nvSpPr>
          <p:spPr>
            <a:xfrm>
              <a:off x="7315200" y="4659480"/>
              <a:ext cx="190512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 txBox="1"/>
            <p:nvPr/>
          </p:nvSpPr>
          <p:spPr>
            <a:xfrm>
              <a:off x="5334120" y="4659480"/>
              <a:ext cx="198108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 txBox="1"/>
            <p:nvPr/>
          </p:nvSpPr>
          <p:spPr>
            <a:xfrm>
              <a:off x="3352680" y="4659480"/>
              <a:ext cx="198108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 txBox="1"/>
            <p:nvPr/>
          </p:nvSpPr>
          <p:spPr>
            <a:xfrm>
              <a:off x="1523880" y="4659480"/>
              <a:ext cx="182880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 txBox="1"/>
            <p:nvPr/>
          </p:nvSpPr>
          <p:spPr>
            <a:xfrm>
              <a:off x="0" y="4659480"/>
              <a:ext cx="152388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 txBox="1"/>
            <p:nvPr/>
          </p:nvSpPr>
          <p:spPr>
            <a:xfrm>
              <a:off x="7315200" y="4324320"/>
              <a:ext cx="190512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 txBox="1"/>
            <p:nvPr/>
          </p:nvSpPr>
          <p:spPr>
            <a:xfrm>
              <a:off x="5334120" y="4324320"/>
              <a:ext cx="198108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 txBox="1"/>
            <p:nvPr/>
          </p:nvSpPr>
          <p:spPr>
            <a:xfrm>
              <a:off x="3352680" y="4324320"/>
              <a:ext cx="198108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 txBox="1"/>
            <p:nvPr/>
          </p:nvSpPr>
          <p:spPr>
            <a:xfrm>
              <a:off x="1523880" y="4324320"/>
              <a:ext cx="182880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 txBox="1"/>
            <p:nvPr/>
          </p:nvSpPr>
          <p:spPr>
            <a:xfrm>
              <a:off x="0" y="4324320"/>
              <a:ext cx="152388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 txBox="1"/>
            <p:nvPr/>
          </p:nvSpPr>
          <p:spPr>
            <a:xfrm>
              <a:off x="7315200" y="3989520"/>
              <a:ext cx="190512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 txBox="1"/>
            <p:nvPr/>
          </p:nvSpPr>
          <p:spPr>
            <a:xfrm>
              <a:off x="5334120" y="3989520"/>
              <a:ext cx="198108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 txBox="1"/>
            <p:nvPr/>
          </p:nvSpPr>
          <p:spPr>
            <a:xfrm>
              <a:off x="3352680" y="3989520"/>
              <a:ext cx="198108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 txBox="1"/>
            <p:nvPr/>
          </p:nvSpPr>
          <p:spPr>
            <a:xfrm>
              <a:off x="1523880" y="3989520"/>
              <a:ext cx="182880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 txBox="1"/>
            <p:nvPr/>
          </p:nvSpPr>
          <p:spPr>
            <a:xfrm>
              <a:off x="0" y="3989520"/>
              <a:ext cx="152388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 txBox="1"/>
            <p:nvPr/>
          </p:nvSpPr>
          <p:spPr>
            <a:xfrm>
              <a:off x="7315200" y="3654360"/>
              <a:ext cx="190512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 txBox="1"/>
            <p:nvPr/>
          </p:nvSpPr>
          <p:spPr>
            <a:xfrm>
              <a:off x="5334120" y="3654360"/>
              <a:ext cx="198108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 txBox="1"/>
            <p:nvPr/>
          </p:nvSpPr>
          <p:spPr>
            <a:xfrm>
              <a:off x="3352680" y="3654360"/>
              <a:ext cx="198108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 txBox="1"/>
            <p:nvPr/>
          </p:nvSpPr>
          <p:spPr>
            <a:xfrm>
              <a:off x="1523880" y="3654360"/>
              <a:ext cx="182880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 txBox="1"/>
            <p:nvPr/>
          </p:nvSpPr>
          <p:spPr>
            <a:xfrm>
              <a:off x="0" y="3654360"/>
              <a:ext cx="152388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 txBox="1"/>
            <p:nvPr/>
          </p:nvSpPr>
          <p:spPr>
            <a:xfrm>
              <a:off x="7315200" y="3319560"/>
              <a:ext cx="190512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 txBox="1"/>
            <p:nvPr/>
          </p:nvSpPr>
          <p:spPr>
            <a:xfrm>
              <a:off x="5334120" y="3319560"/>
              <a:ext cx="198108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 txBox="1"/>
            <p:nvPr/>
          </p:nvSpPr>
          <p:spPr>
            <a:xfrm>
              <a:off x="3352680" y="3319560"/>
              <a:ext cx="198108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 txBox="1"/>
            <p:nvPr/>
          </p:nvSpPr>
          <p:spPr>
            <a:xfrm>
              <a:off x="1523880" y="3319560"/>
              <a:ext cx="182880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 txBox="1"/>
            <p:nvPr/>
          </p:nvSpPr>
          <p:spPr>
            <a:xfrm>
              <a:off x="0" y="3319560"/>
              <a:ext cx="152388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 txBox="1"/>
            <p:nvPr/>
          </p:nvSpPr>
          <p:spPr>
            <a:xfrm>
              <a:off x="7315200" y="2984400"/>
              <a:ext cx="190512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 txBox="1"/>
            <p:nvPr/>
          </p:nvSpPr>
          <p:spPr>
            <a:xfrm>
              <a:off x="5334120" y="2984400"/>
              <a:ext cx="198108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 txBox="1"/>
            <p:nvPr/>
          </p:nvSpPr>
          <p:spPr>
            <a:xfrm>
              <a:off x="3352680" y="2984400"/>
              <a:ext cx="198108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 txBox="1"/>
            <p:nvPr/>
          </p:nvSpPr>
          <p:spPr>
            <a:xfrm>
              <a:off x="1523880" y="2984400"/>
              <a:ext cx="182880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 txBox="1"/>
            <p:nvPr/>
          </p:nvSpPr>
          <p:spPr>
            <a:xfrm>
              <a:off x="0" y="2984400"/>
              <a:ext cx="152388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 txBox="1"/>
            <p:nvPr/>
          </p:nvSpPr>
          <p:spPr>
            <a:xfrm>
              <a:off x="7315200" y="2649600"/>
              <a:ext cx="190512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 txBox="1"/>
            <p:nvPr/>
          </p:nvSpPr>
          <p:spPr>
            <a:xfrm>
              <a:off x="5334120" y="2649600"/>
              <a:ext cx="198108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 txBox="1"/>
            <p:nvPr/>
          </p:nvSpPr>
          <p:spPr>
            <a:xfrm>
              <a:off x="3352680" y="2649600"/>
              <a:ext cx="198108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 txBox="1"/>
            <p:nvPr/>
          </p:nvSpPr>
          <p:spPr>
            <a:xfrm>
              <a:off x="1523880" y="2649600"/>
              <a:ext cx="182880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 txBox="1"/>
            <p:nvPr/>
          </p:nvSpPr>
          <p:spPr>
            <a:xfrm>
              <a:off x="0" y="2649600"/>
              <a:ext cx="152388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 txBox="1"/>
            <p:nvPr/>
          </p:nvSpPr>
          <p:spPr>
            <a:xfrm>
              <a:off x="7315200" y="2314440"/>
              <a:ext cx="190512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 txBox="1"/>
            <p:nvPr/>
          </p:nvSpPr>
          <p:spPr>
            <a:xfrm>
              <a:off x="5334120" y="2314440"/>
              <a:ext cx="198108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 txBox="1"/>
            <p:nvPr/>
          </p:nvSpPr>
          <p:spPr>
            <a:xfrm>
              <a:off x="3352680" y="2314440"/>
              <a:ext cx="198108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 txBox="1"/>
            <p:nvPr/>
          </p:nvSpPr>
          <p:spPr>
            <a:xfrm>
              <a:off x="1523880" y="2314440"/>
              <a:ext cx="182880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 txBox="1"/>
            <p:nvPr/>
          </p:nvSpPr>
          <p:spPr>
            <a:xfrm>
              <a:off x="0" y="2314440"/>
              <a:ext cx="152388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 txBox="1"/>
            <p:nvPr/>
          </p:nvSpPr>
          <p:spPr>
            <a:xfrm>
              <a:off x="7315200" y="1979640"/>
              <a:ext cx="190512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 txBox="1"/>
            <p:nvPr/>
          </p:nvSpPr>
          <p:spPr>
            <a:xfrm>
              <a:off x="5334120" y="1979640"/>
              <a:ext cx="198108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 txBox="1"/>
            <p:nvPr/>
          </p:nvSpPr>
          <p:spPr>
            <a:xfrm>
              <a:off x="3352680" y="1979640"/>
              <a:ext cx="198108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 txBox="1"/>
            <p:nvPr/>
          </p:nvSpPr>
          <p:spPr>
            <a:xfrm>
              <a:off x="1523880" y="1979640"/>
              <a:ext cx="182880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 txBox="1"/>
            <p:nvPr/>
          </p:nvSpPr>
          <p:spPr>
            <a:xfrm>
              <a:off x="0" y="1979640"/>
              <a:ext cx="152388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 txBox="1"/>
            <p:nvPr/>
          </p:nvSpPr>
          <p:spPr>
            <a:xfrm>
              <a:off x="7315200" y="1644480"/>
              <a:ext cx="190512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 txBox="1"/>
            <p:nvPr/>
          </p:nvSpPr>
          <p:spPr>
            <a:xfrm>
              <a:off x="5334120" y="1644480"/>
              <a:ext cx="198108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 txBox="1"/>
            <p:nvPr/>
          </p:nvSpPr>
          <p:spPr>
            <a:xfrm>
              <a:off x="3352680" y="1644480"/>
              <a:ext cx="198108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 txBox="1"/>
            <p:nvPr/>
          </p:nvSpPr>
          <p:spPr>
            <a:xfrm>
              <a:off x="1523880" y="1644480"/>
              <a:ext cx="182880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 txBox="1"/>
            <p:nvPr/>
          </p:nvSpPr>
          <p:spPr>
            <a:xfrm>
              <a:off x="0" y="1644480"/>
              <a:ext cx="152388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 txBox="1"/>
            <p:nvPr/>
          </p:nvSpPr>
          <p:spPr>
            <a:xfrm>
              <a:off x="7315200" y="1309680"/>
              <a:ext cx="190512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 txBox="1"/>
            <p:nvPr/>
          </p:nvSpPr>
          <p:spPr>
            <a:xfrm>
              <a:off x="5334120" y="1309680"/>
              <a:ext cx="198108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 txBox="1"/>
            <p:nvPr/>
          </p:nvSpPr>
          <p:spPr>
            <a:xfrm>
              <a:off x="3352680" y="1309680"/>
              <a:ext cx="198108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 txBox="1"/>
            <p:nvPr/>
          </p:nvSpPr>
          <p:spPr>
            <a:xfrm>
              <a:off x="1523880" y="1309680"/>
              <a:ext cx="182880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 txBox="1"/>
            <p:nvPr/>
          </p:nvSpPr>
          <p:spPr>
            <a:xfrm>
              <a:off x="0" y="1309680"/>
              <a:ext cx="152388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 txBox="1"/>
            <p:nvPr/>
          </p:nvSpPr>
          <p:spPr>
            <a:xfrm>
              <a:off x="7315200" y="974880"/>
              <a:ext cx="190512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 txBox="1"/>
            <p:nvPr/>
          </p:nvSpPr>
          <p:spPr>
            <a:xfrm>
              <a:off x="5334120" y="974880"/>
              <a:ext cx="198108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 txBox="1"/>
            <p:nvPr/>
          </p:nvSpPr>
          <p:spPr>
            <a:xfrm>
              <a:off x="3352680" y="974880"/>
              <a:ext cx="198108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 txBox="1"/>
            <p:nvPr/>
          </p:nvSpPr>
          <p:spPr>
            <a:xfrm>
              <a:off x="1523880" y="974880"/>
              <a:ext cx="182880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 txBox="1"/>
            <p:nvPr/>
          </p:nvSpPr>
          <p:spPr>
            <a:xfrm>
              <a:off x="0" y="974880"/>
              <a:ext cx="152388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 txBox="1"/>
            <p:nvPr/>
          </p:nvSpPr>
          <p:spPr>
            <a:xfrm>
              <a:off x="7315200" y="639720"/>
              <a:ext cx="190512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 txBox="1"/>
            <p:nvPr/>
          </p:nvSpPr>
          <p:spPr>
            <a:xfrm>
              <a:off x="5334120" y="639720"/>
              <a:ext cx="198108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 txBox="1"/>
            <p:nvPr/>
          </p:nvSpPr>
          <p:spPr>
            <a:xfrm>
              <a:off x="3352680" y="639720"/>
              <a:ext cx="198108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 txBox="1"/>
            <p:nvPr/>
          </p:nvSpPr>
          <p:spPr>
            <a:xfrm>
              <a:off x="1523880" y="639720"/>
              <a:ext cx="182880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 txBox="1"/>
            <p:nvPr/>
          </p:nvSpPr>
          <p:spPr>
            <a:xfrm>
              <a:off x="0" y="639720"/>
              <a:ext cx="152388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 txBox="1"/>
            <p:nvPr/>
          </p:nvSpPr>
          <p:spPr>
            <a:xfrm>
              <a:off x="7315200" y="0"/>
              <a:ext cx="1905120" cy="63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  <a:ea typeface="Tahoma"/>
                </a:rPr>
                <a:t>´£°ª¦æ¬F»@Áì°õ¦æ»P¦w¥þ±Ð¨|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 txBox="1"/>
            <p:nvPr/>
          </p:nvSpPr>
          <p:spPr>
            <a:xfrm>
              <a:off x="5334120" y="0"/>
              <a:ext cx="1981080" cy="63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  <a:ea typeface="Tahoma"/>
                </a:rPr>
                <a:t>´î§C¾r·Ó¾D«_»â¡B°°»s¤§¾÷²v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 txBox="1"/>
            <p:nvPr/>
          </p:nvSpPr>
          <p:spPr>
            <a:xfrm>
              <a:off x="3352680" y="0"/>
              <a:ext cx="1981080" cy="933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  <a:ea typeface="Tahoma"/>
                </a:rPr>
                <a:t>´£ª@¾r·Ó´«(¸É)µo¤§«K¥Á¦æ¬F§@·~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 txBox="1"/>
            <p:nvPr/>
          </p:nvSpPr>
          <p:spPr>
            <a:xfrm>
              <a:off x="1523880" y="0"/>
              <a:ext cx="1828800" cy="933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  <a:ea typeface="Tahoma"/>
                </a:rPr>
                <a:t>±j¤Æ©w´ÁÀË®Ö¾r¨®³\¥i¤§¾÷¨î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 txBox="1"/>
            <p:nvPr/>
          </p:nvSpPr>
          <p:spPr>
            <a:xfrm>
              <a:off x="0" y="0"/>
              <a:ext cx="1523880" cy="63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¼Ðª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µû¤ñªÌ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440" y="0"/>
              <a:ext cx="92188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440" y="639720"/>
              <a:ext cx="9218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440" y="974880"/>
              <a:ext cx="9218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440" y="1309680"/>
              <a:ext cx="9218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440" y="1644480"/>
              <a:ext cx="9218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440" y="1979640"/>
              <a:ext cx="9218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440" y="2314440"/>
              <a:ext cx="9218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440" y="2649600"/>
              <a:ext cx="9218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440" y="2984400"/>
              <a:ext cx="9218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440" y="3319560"/>
              <a:ext cx="9218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440" y="3654360"/>
              <a:ext cx="9218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440" y="3989520"/>
              <a:ext cx="9218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440" y="4324320"/>
              <a:ext cx="9218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440" y="4659480"/>
              <a:ext cx="9218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440" y="4994280"/>
              <a:ext cx="9218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440" y="5329080"/>
              <a:ext cx="9218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440" y="5664240"/>
              <a:ext cx="9218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440" y="5999040"/>
              <a:ext cx="9218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440" y="6334200"/>
              <a:ext cx="9218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440" y="6669000"/>
              <a:ext cx="92188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0" y="1440"/>
              <a:ext cx="0" cy="66675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523880" y="1440"/>
              <a:ext cx="0" cy="6667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352680" y="1440"/>
              <a:ext cx="0" cy="6667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334120" y="1440"/>
              <a:ext cx="0" cy="6667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15200" y="1440"/>
              <a:ext cx="0" cy="6667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9220320" y="1440"/>
              <a:ext cx="0" cy="66675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492120" cy="4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3200400" y="1812960"/>
            <a:ext cx="411480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6000" spc="-1" strike="noStrike">
                <a:solidFill>
                  <a:srgbClr val="333399"/>
                </a:solidFill>
                <a:latin typeface="Tahoma"/>
                <a:ea typeface="Tahoma"/>
              </a:rPr>
              <a:t>Â²³ø§¹²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429000" y="3652920"/>
            <a:ext cx="4116240" cy="16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9480" indent="-609480">
              <a:lnSpc>
                <a:spcPct val="90000"/>
              </a:lnSpc>
              <a:spcBef>
                <a:spcPts val="479"/>
              </a:spcBef>
            </a:pPr>
            <a:r>
              <a:rPr b="1" lang="en-US" sz="5400" spc="-1" strike="noStrike">
                <a:solidFill>
                  <a:srgbClr val="ff3300"/>
                </a:solidFill>
                <a:latin typeface="Tahoma"/>
                <a:ea typeface="Tahoma"/>
              </a:rPr>
              <a:t>·q½Ð«ü±Ð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150920" y="866880"/>
            <a:ext cx="7792920" cy="7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333399"/>
                </a:solidFill>
                <a:latin typeface="XXXXXX"/>
                <a:ea typeface="XXXXXX"/>
              </a:rPr>
              <a:t>´Á¤¤³ø§iºK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170000" y="1981080"/>
            <a:ext cx="7772400" cy="43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33520" indent="-533520">
              <a:lnSpc>
                <a:spcPct val="90000"/>
              </a:lnSpc>
              <a:spcBef>
                <a:spcPts val="479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¾r·ÓºÞ²z¨î«×©ÒÀ³¨ã³Æªº°ò¥»¤º®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79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³­q©w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¾r¨®³\¥i±ø¥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¡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79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¾r·ÓÀ³°Ï¤À¹w³Æ¾r·Ó¡]©ÎºÙ¹ê²ß¾r·Ó¡^»P¥¿¦¡¾r·Ó¡]full license¡^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¤£¦Pµ¥¯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¡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79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¾r·Ó´«(¸É)µoÀ³¦³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ÀË®Ö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¾r¾p¤H¬O§_Ä~Äò«ù¦³¾r·Ó¤§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¾÷¨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¡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79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¾r·Ó´«(¸É)µoÀ³¦³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½T»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¾r¾p¤H¨­¤À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¾÷¨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¡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79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¾r·ÓºÞ²z¨î«×À³¦³¾A·í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ºÊ·þ¦Ò®Ö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¾r¾p¤H¾r¾p¦æ¬°ªí²{¤§¥\¯à¡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79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¾r·ÓºÞ²z¨î«×À³¦³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ªk«ß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¥R¤À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±ÂÅ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P¾A·í»@«h¡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150920" y="866880"/>
            <a:ext cx="7792920" cy="7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333399"/>
                </a:solidFill>
                <a:latin typeface="XXXXXX"/>
                <a:ea typeface="XXXXXX"/>
              </a:rPr>
              <a:t>´Á¤¤³ø§iºK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170000" y="1981080"/>
            <a:ext cx="7772400" cy="58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9480" indent="-609480">
              <a:lnSpc>
                <a:spcPct val="90000"/>
              </a:lnSpc>
              <a:spcBef>
                <a:spcPts val="479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3300"/>
                </a:solidFill>
                <a:latin typeface="XXXXXX"/>
                <a:ea typeface="XXXXXX"/>
              </a:rPr>
              <a:t>¥Ø«e§Ú°ê¾r·ÓºÞ²z¨î«×ªº°ÝÃD¡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79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0" lang="en-US" sz="2800" spc="-1" strike="noStrike">
                <a:solidFill>
                  <a:srgbClr val="ff0000"/>
                </a:solidFill>
                <a:latin typeface="XXXXXX"/>
                <a:ea typeface="XXXXXX"/>
              </a:rPr>
              <a:t>¤@¦¸¦ÒÅç</a:t>
            </a:r>
            <a:r>
              <a:rPr b="0" lang="en-US" sz="2800" spc="-1" strike="noStrike">
                <a:solidFill>
                  <a:srgbClr val="000000"/>
                </a:solidFill>
                <a:latin typeface="XXXXXX"/>
                <a:ea typeface="XXXXXX"/>
              </a:rPr>
              <a:t>§Y¨ú±o¾r·Ó¡A¤í¯Ê¹ï¾r¾p¤H¹ê»Ú¹D¸ô¾r¾p¯à¤OªºÀË®Ö»P»²¾ÉºÊ·þ¥\¯à¡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79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0" lang="en-US" sz="2800" spc="-1" strike="noStrike">
                <a:solidFill>
                  <a:srgbClr val="ff0000"/>
                </a:solidFill>
                <a:latin typeface="XXXXXX"/>
                <a:ea typeface="XXXXXX"/>
              </a:rPr>
              <a:t>¤í¯Ê</a:t>
            </a:r>
            <a:r>
              <a:rPr b="0" lang="en-US" sz="2800" spc="-1" strike="noStrike">
                <a:solidFill>
                  <a:srgbClr val="000000"/>
                </a:solidFill>
                <a:latin typeface="XXXXXX"/>
                <a:ea typeface="XXXXXX"/>
              </a:rPr>
              <a:t>­«·s</a:t>
            </a:r>
            <a:r>
              <a:rPr b="0" lang="en-US" sz="2800" spc="-1" strike="noStrike">
                <a:solidFill>
                  <a:srgbClr val="ff0000"/>
                </a:solidFill>
                <a:latin typeface="XXXXXX"/>
                <a:ea typeface="XXXXXX"/>
              </a:rPr>
              <a:t>ÀË®Ö</a:t>
            </a:r>
            <a:r>
              <a:rPr b="0" lang="en-US" sz="2800" spc="-1" strike="noStrike">
                <a:solidFill>
                  <a:srgbClr val="000000"/>
                </a:solidFill>
                <a:latin typeface="XXXXXX"/>
                <a:ea typeface="XXXXXX"/>
              </a:rPr>
              <a:t>¾r¾p¤H¾A©y©Ê¾r¾p¤§¾÷¨î¡A¥ç©¿µø</a:t>
            </a:r>
            <a:r>
              <a:rPr b="0" lang="en-US" sz="2800" spc="-1" strike="noStrike">
                <a:solidFill>
                  <a:srgbClr val="ff0000"/>
                </a:solidFill>
                <a:latin typeface="XXXXXX"/>
                <a:ea typeface="XXXXXX"/>
              </a:rPr>
              <a:t>°ªÄÖ¾r¾p</a:t>
            </a:r>
            <a:r>
              <a:rPr b="0" lang="en-US" sz="2800" spc="-1" strike="noStrike">
                <a:solidFill>
                  <a:srgbClr val="000000"/>
                </a:solidFill>
                <a:latin typeface="XXXXXX"/>
                <a:ea typeface="XXXXXX"/>
              </a:rPr>
              <a:t>ªº¦w¥þ°ÝÃD¡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79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0" lang="en-US" sz="2800" spc="-1" strike="noStrike">
                <a:solidFill>
                  <a:srgbClr val="ff0000"/>
                </a:solidFill>
                <a:latin typeface="XXXXXX"/>
                <a:ea typeface="XXXXXX"/>
              </a:rPr>
              <a:t>¥¼«Ø¥ß</a:t>
            </a:r>
            <a:r>
              <a:rPr b="0" lang="en-US" sz="2800" spc="-1" strike="noStrike">
                <a:solidFill>
                  <a:srgbClr val="000000"/>
                </a:solidFill>
                <a:latin typeface="XXXXXX"/>
                <a:ea typeface="XXXXXX"/>
              </a:rPr>
              <a:t>¾r¾p¤H»F¨Æ»P¹H³W§¹¾ã</a:t>
            </a:r>
            <a:r>
              <a:rPr b="0" lang="en-US" sz="2800" spc="-1" strike="noStrike">
                <a:solidFill>
                  <a:srgbClr val="ff0000"/>
                </a:solidFill>
                <a:latin typeface="XXXXXX"/>
                <a:ea typeface="XXXXXX"/>
              </a:rPr>
              <a:t>¸ê®Æ®w</a:t>
            </a:r>
            <a:r>
              <a:rPr b="0" lang="en-US" sz="2800" spc="-1" strike="noStrike">
                <a:solidFill>
                  <a:srgbClr val="000000"/>
                </a:solidFill>
                <a:latin typeface="XXXXXX"/>
                <a:ea typeface="XXXXXX"/>
              </a:rPr>
              <a:t>¡AµLªkºÊ·þ¡B¦Ò®Ö¾r¾p¤H¦æ¬°ªí²{¡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79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XXXXXX"/>
                <a:ea typeface="XXXXXX"/>
              </a:rPr>
              <a:t>¾r·Ó»s§@</a:t>
            </a:r>
            <a:r>
              <a:rPr b="0" lang="en-US" sz="2800" spc="-1" strike="noStrike">
                <a:solidFill>
                  <a:srgbClr val="ff0000"/>
                </a:solidFill>
                <a:latin typeface="XXXXXX"/>
                <a:ea typeface="XXXXXX"/>
              </a:rPr>
              <a:t>§Þ³N</a:t>
            </a:r>
            <a:r>
              <a:rPr b="0" lang="en-US" sz="2800" spc="-1" strike="noStrike">
                <a:solidFill>
                  <a:srgbClr val="000000"/>
                </a:solidFill>
                <a:latin typeface="XXXXXX"/>
                <a:ea typeface="XXXXXX"/>
              </a:rPr>
              <a:t>µLªk¦³®Ä¹F¨ì</a:t>
            </a:r>
            <a:r>
              <a:rPr b="0" lang="en-US" sz="2800" spc="-1" strike="noStrike">
                <a:solidFill>
                  <a:srgbClr val="ff0000"/>
                </a:solidFill>
                <a:latin typeface="XXXXXX"/>
                <a:ea typeface="XXXXXX"/>
              </a:rPr>
              <a:t>¨¾°°</a:t>
            </a:r>
            <a:r>
              <a:rPr b="0" lang="en-US" sz="2800" spc="-1" strike="noStrike">
                <a:solidFill>
                  <a:srgbClr val="000000"/>
                </a:solidFill>
                <a:latin typeface="XXXXXX"/>
                <a:ea typeface="XXXXXX"/>
              </a:rPr>
              <a:t>¥Øªº¡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79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0" lang="en-US" sz="2800" spc="-1" strike="noStrike">
                <a:solidFill>
                  <a:srgbClr val="ff0000"/>
                </a:solidFill>
                <a:latin typeface="XXXXXX"/>
                <a:ea typeface="XXXXXX"/>
              </a:rPr>
              <a:t>³q«H§@·~</a:t>
            </a:r>
            <a:r>
              <a:rPr b="0" lang="en-US" sz="2800" spc="-1" strike="noStrike">
                <a:solidFill>
                  <a:srgbClr val="000000"/>
                </a:solidFill>
                <a:latin typeface="XXXXXX"/>
                <a:ea typeface="XXXXXX"/>
              </a:rPr>
              <a:t>ªº«K¥Á±¹¬I¡A§¹¥þ¤£¨ã¦³½T»{¾r¾p¤H¨­¤À¤ÎÀË®Ö¾r¨®±ø¥ó¤§¾÷¨î¡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79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XXXXXX"/>
                <a:ea typeface="XXXXXX"/>
              </a:rPr>
              <a:t>²{¦æªº¾r·ÓºÞ²z¨î«×¡A¤£¨ã¦³«P¶i¾r¾p¤H¦¨¬°</a:t>
            </a:r>
            <a:r>
              <a:rPr b="0" lang="en-US" sz="2800" spc="-1" strike="noStrike">
                <a:solidFill>
                  <a:srgbClr val="ff0000"/>
                </a:solidFill>
                <a:latin typeface="XXXXXX"/>
                <a:ea typeface="XXXXXX"/>
              </a:rPr>
              <a:t>Àu¨}</a:t>
            </a:r>
            <a:r>
              <a:rPr b="0" lang="en-US" sz="2800" spc="-1" strike="noStrike">
                <a:solidFill>
                  <a:srgbClr val="000000"/>
                </a:solidFill>
                <a:latin typeface="XXXXXX"/>
                <a:ea typeface="XXXXXX"/>
              </a:rPr>
              <a:t>¾r¾p¤H</a:t>
            </a:r>
            <a:r>
              <a:rPr b="0" lang="en-US" sz="2800" spc="-1" strike="noStrike">
                <a:solidFill>
                  <a:srgbClr val="ff0000"/>
                </a:solidFill>
                <a:latin typeface="XXXXXX"/>
                <a:ea typeface="XXXXXX"/>
              </a:rPr>
              <a:t>¦ÛÄ±</a:t>
            </a:r>
            <a:r>
              <a:rPr b="0" lang="en-US" sz="2800" spc="-1" strike="noStrike">
                <a:solidFill>
                  <a:srgbClr val="000000"/>
                </a:solidFill>
                <a:latin typeface="XXXXXX"/>
                <a:ea typeface="XXXXXX"/>
              </a:rPr>
              <a:t>¤§¥\¯à¡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50920" y="806400"/>
            <a:ext cx="7792920" cy="7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333399"/>
                </a:solidFill>
                <a:latin typeface="XXXXXX"/>
                <a:ea typeface="XXXXXX"/>
              </a:rPr>
              <a:t>´Á¤¤³ø§iºK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170000" y="1828800"/>
            <a:ext cx="7772400" cy="51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479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¥ý¶i°ê®a¸gÅç­È±o­ÉÃè¤§³B¡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479"/>
              </a:spcBef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¹ï©ó¾r¾p³\¥i§¡©ê«ù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¼f·VºA«×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¡A¥ç§Y¶·¨ã¦³¨}¦n¾r¾p§Þ¥©¡B¦w¥þ¾r¾pÆ[©À¤Î¼ôª¾¹D¸ô¥æ³qªk¥Oµ¥±ø¥ó¡A¤è¯à¨ú±o¾r¨®¤§³\¥i¡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479"/>
              </a:spcBef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´«·Ó¦~´Á­n¨DÁö¦³¤£¦P¡A¦ý¬F©²³¡ªù´x´¤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§¹¾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¤§¥æ³q¹H³W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°O¿ý(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¥]¬A°OÂI¨î«×)»P¨Æ¬G°O¿ý¡A¨ã³Æ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¦³®ÄºÞ²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ù·Ó¤H°ò¥»±ø¥ó¡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479"/>
              </a:spcBef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¦³Ãö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¨­Åéª¬ª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d®Ö¡A³¡¤À±Ä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ÀË´ú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¤è¦¡¶i¦æ¡A¦p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¤é¥»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ªº¾A©Ê¾r¾p»P§Þ¯à´úÅç¡A¥ç¦³±Ä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¦Û¦æ¶ñ³ø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¤è¦¡¡A¦p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­^°ê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¦Û¤v³¯­zµø¤O¯e¯f±¡§Î¡A¤£¦P§@ªk§¡¦³¨ä¯SÂI»P¾A¥Î¤§³B¡C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150920" y="746280"/>
            <a:ext cx="7792920" cy="7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333399"/>
                </a:solidFill>
                <a:latin typeface="XXXXXX"/>
                <a:ea typeface="XXXXXX"/>
              </a:rPr>
              <a:t>´Á¤¤³ø§iºK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170000" y="1981080"/>
            <a:ext cx="7772400" cy="461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78000" indent="-378000">
              <a:lnSpc>
                <a:spcPct val="90000"/>
              </a:lnSpc>
              <a:spcBef>
                <a:spcPts val="479"/>
              </a:spcBef>
            </a:pPr>
            <a:r>
              <a:rPr b="0" lang="en-US" sz="3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4.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¬ü¡B¥[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¾r·ÓºÞ²z¨î«×¯S§O±j½Õ¦b§C­·ÀIÀô¹Ò¤¤Åýªì¾ÇªÌ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²Ö¿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¨¬°÷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¾r¾p§Þ¯à»P¸gÅç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¡C¬ü°ê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¥[¦{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¤]¦³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³q«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ì²z´«µo¾r·Ó·~°È¡A¦ý¨Ã«D¥ô¦ó¤H§¡¥i¾A¥Î¡A§Y¨Ï±Ä¥Î³q«H§@·~¤è¦¡¡A¤´¨ã¦³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¬dÅç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¨­¤À»P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´úÅç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ªº¥\¯à¡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479"/>
              </a:spcBef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¤é¥»¦b1996¦~½Õ¬d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´«·Ó«e¡B«á¦U¨â¦~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¶¡¨Æ¬Gµo¥Íª¬ªpµo²{¡A´«·Ó¾r¾p¤H¥­§¡­°§C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.8%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F¨Æ²v¡A¨ä¤¤¤@¯ë¾r¾p¤H­°§C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.4%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¡F¦Ó¦b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´«·Ó«á¨â¦~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¤ºªº¨Æ¬G´î¤Ö²v¡A¦b¤é¥»¬Û·í©ó¨C¦~´î¤Ö¦º¤`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9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¤H¡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150920" y="866880"/>
            <a:ext cx="7792920" cy="7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333399"/>
                </a:solidFill>
                <a:latin typeface="XXXXXX"/>
                <a:ea typeface="XXXXXX"/>
              </a:rPr>
              <a:t>²Ä¤@¡B¤G³¹­×­q¤º®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1700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²Ä¤@³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¦b¬ã¨s¤º®e»P¶µ¥Ø¤¤¡A¼W¥[¦UºÊ²z³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¦ì¤§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½Õ¬d¼Ë¥»¼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¡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¼W¥[»`¶°°ê¤º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ÂåÀø³æ¦ì·N¨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¡A±q¦Ó´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´¤«ù¦³¾r·Ó©Ò¶·Åé®æÀËÅç¶µ¥Ø»P¼Ð·Ç¡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²Ä¤G³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§ó·sªí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¥ÁÀç¾r°V¯Z±Â½Ò½Ò¥Ø»P®É¼Æ°t·íª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§ó·sªí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¥ÁÀç¾r°V¯Z±Ð½m³õ¹êÅé¬ì¥Ø³]³Æª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150920" y="866880"/>
            <a:ext cx="7792920" cy="7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333399"/>
                </a:solidFill>
                <a:latin typeface="XXXXXX"/>
                <a:ea typeface="XXXXXX"/>
              </a:rPr>
              <a:t>²Ä¤T¡B¥|³¹­×­q¤º®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170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²Ä¤T³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¦U°ê¦Ò·Ó¨î«×¤ñ¸ûªí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9¡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¼W¥[´«·Ó¦~´Á°Ñ¦Ò¸ê®Æªí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1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¡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3333cc"/>
              </a:buClr>
              <a:buSzPct val="60000"/>
              <a:buFont typeface="Wingdings"/>
              <a:buChar char=""/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²Ä¥|³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§ó·s²Ä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¸`¤§¤º®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¾r·Ó´«¸Éµo²{ªp¤Àª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¼W¥[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¸`¤§¤º®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¤£¦P¦~ÄÖ¼h¾r¾p¤H»F¨Æ»P¹H³W¤Àª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467480" y="4495680"/>
            <a:ext cx="1155600" cy="469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543800" y="5715000"/>
            <a:ext cx="115560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aa</dc:creator>
  <dc:description/>
  <dc:language>en-US</dc:language>
  <cp:lastModifiedBy>USER</cp:lastModifiedBy>
  <cp:revision>0</cp:revision>
  <dc:subject/>
  <dc:title>¾r¾p°õ·Ó´«¡]¸É¡^µo»P¼fÅç³W©w²{ªp±´°Q¤Î¨î«×§ïµ½¤§¬ã¨s</dc:title>
</cp:coreProperties>
</file>