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7742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61718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248080"/>
            <a:ext cx="61718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287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287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248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248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248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287080"/>
            <a:ext cx="61718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61718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89880"/>
            <a:ext cx="6171840" cy="75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248080"/>
            <a:ext cx="61718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287080"/>
            <a:ext cx="61718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1050840" y="4560840"/>
            <a:ext cx="506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746280" y="8813880"/>
            <a:ext cx="567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38120" y="5133960"/>
            <a:ext cx="5989680" cy="36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019160" y="5315040"/>
            <a:ext cx="5161320" cy="2991240"/>
          </a:xfrm>
          <a:custGeom>
            <a:avLst/>
            <a:gdLst/>
            <a:ahLst/>
            <a:rect l="0" t="0" r="r" b="b"/>
            <a:pathLst>
              <a:path w="14337" h="8309">
                <a:moveTo>
                  <a:pt x="0" y="0"/>
                </a:moveTo>
                <a:lnTo>
                  <a:pt x="14337" y="0"/>
                </a:lnTo>
                <a:lnTo>
                  <a:pt x="14337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9160" y="7819920"/>
            <a:ext cx="517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19160" y="7315200"/>
            <a:ext cx="517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19160" y="6819840"/>
            <a:ext cx="517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19160" y="6315120"/>
            <a:ext cx="517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19160" y="5819760"/>
            <a:ext cx="517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19160" y="5315040"/>
            <a:ext cx="517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5315040"/>
            <a:ext cx="5170680" cy="3000600"/>
          </a:xfrm>
          <a:custGeom>
            <a:avLst/>
            <a:gdLst/>
            <a:ahLst/>
            <a:rect l="0" t="0" r="r" b="b"/>
            <a:pathLst>
              <a:path fill="none" w="14363" h="8335">
                <a:moveTo>
                  <a:pt x="0" y="0"/>
                </a:moveTo>
                <a:lnTo>
                  <a:pt x="14363" y="0"/>
                </a:lnTo>
                <a:lnTo>
                  <a:pt x="14363" y="8335"/>
                </a:lnTo>
                <a:lnTo>
                  <a:pt x="0" y="8335"/>
                </a:lnTo>
                <a:lnTo>
                  <a:pt x="0" y="0"/>
                </a:lnTo>
              </a:path>
            </a:pathLst>
          </a:custGeom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5315040"/>
            <a:ext cx="0" cy="300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9160" y="831528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19160" y="781992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19160" y="731520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19160" y="681984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9160" y="631512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9160" y="581976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19160" y="531504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19160" y="8315280"/>
            <a:ext cx="517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019160" y="826776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314440" y="826776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608280" y="826776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894200" y="826776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189840" y="826776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9160" y="5762520"/>
            <a:ext cx="5170680" cy="1724400"/>
          </a:xfrm>
          <a:custGeom>
            <a:avLst/>
            <a:gdLst/>
            <a:ahLst/>
            <a:rect l="0" t="0" r="r" b="b"/>
            <a:pathLst>
              <a:path fill="none" w="14363" h="4790">
                <a:moveTo>
                  <a:pt x="0" y="291"/>
                </a:moveTo>
                <a:lnTo>
                  <a:pt x="3598" y="0"/>
                </a:lnTo>
                <a:lnTo>
                  <a:pt x="7193" y="4790"/>
                </a:lnTo>
                <a:lnTo>
                  <a:pt x="10765" y="3759"/>
                </a:lnTo>
                <a:lnTo>
                  <a:pt x="14363" y="2779"/>
                </a:lnTo>
              </a:path>
            </a:pathLst>
          </a:custGeom>
          <a:ln w="12600">
            <a:solidFill>
              <a:srgbClr val="000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19160" y="5762520"/>
            <a:ext cx="5170680" cy="1724400"/>
          </a:xfrm>
          <a:custGeom>
            <a:avLst/>
            <a:gdLst/>
            <a:ahLst/>
            <a:rect l="0" t="0" r="r" b="b"/>
            <a:pathLst>
              <a:path fill="none" w="14363" h="4790">
                <a:moveTo>
                  <a:pt x="0" y="291"/>
                </a:moveTo>
                <a:lnTo>
                  <a:pt x="3598" y="0"/>
                </a:lnTo>
                <a:lnTo>
                  <a:pt x="7193" y="4790"/>
                </a:lnTo>
                <a:lnTo>
                  <a:pt x="10765" y="3759"/>
                </a:lnTo>
                <a:lnTo>
                  <a:pt x="14363" y="277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583884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573408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79840" y="745812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65760" y="708660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61040" y="673416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85680" y="583416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1320" y="572940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75160" y="745344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61080" y="708192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672948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0240" y="818352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60240" y="768816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60240" y="718344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60240" y="668808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60240" y="618336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0240" y="56880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0240" y="518328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74720" y="84265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070000" y="84265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363840" y="84265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9760" y="84265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945040" y="84265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1360" y="595008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1360" y="61596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1360" y="636912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360" y="657864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73040" y="675648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360" y="699768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41360" y="72072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3040" y="738504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440" y="5129280"/>
            <a:ext cx="5989680" cy="3610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90400"/>
            <a:ext cx="59515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05000" y="771480"/>
            <a:ext cx="4875480" cy="3267360"/>
          </a:xfrm>
          <a:custGeom>
            <a:avLst/>
            <a:gdLst/>
            <a:ahLst/>
            <a:rect l="0" t="0" r="r" b="b"/>
            <a:pathLst>
              <a:path w="13543" h="9076">
                <a:moveTo>
                  <a:pt x="0" y="0"/>
                </a:moveTo>
                <a:lnTo>
                  <a:pt x="13543" y="0"/>
                </a:lnTo>
                <a:lnTo>
                  <a:pt x="13543" y="9076"/>
                </a:lnTo>
                <a:lnTo>
                  <a:pt x="0" y="9076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05000" y="3505320"/>
            <a:ext cx="4884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5000" y="2952720"/>
            <a:ext cx="4884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05000" y="2409840"/>
            <a:ext cx="4884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5000" y="1866960"/>
            <a:ext cx="4884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05000" y="1314360"/>
            <a:ext cx="4884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771480"/>
            <a:ext cx="4884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05000" y="771480"/>
            <a:ext cx="4885200" cy="3277080"/>
          </a:xfrm>
          <a:custGeom>
            <a:avLst/>
            <a:gdLst/>
            <a:ahLst/>
            <a:rect l="0" t="0" r="r" b="b"/>
            <a:pathLst>
              <a:path fill="none" w="13570" h="9103">
                <a:moveTo>
                  <a:pt x="0" y="0"/>
                </a:moveTo>
                <a:lnTo>
                  <a:pt x="13570" y="0"/>
                </a:lnTo>
                <a:lnTo>
                  <a:pt x="13570" y="9103"/>
                </a:lnTo>
                <a:lnTo>
                  <a:pt x="0" y="9103"/>
                </a:lnTo>
                <a:lnTo>
                  <a:pt x="0" y="0"/>
                </a:lnTo>
              </a:path>
            </a:pathLst>
          </a:custGeom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05000" y="77148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05000" y="404820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05000" y="350532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05000" y="295272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05000" y="240984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05000" y="186696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05000" y="131436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05000" y="77148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05000" y="4048200"/>
            <a:ext cx="4884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05000" y="40006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23960" y="40006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751200" y="40006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70520" y="40006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189840" y="40006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05000" y="847800"/>
            <a:ext cx="4885200" cy="2838960"/>
          </a:xfrm>
          <a:custGeom>
            <a:avLst/>
            <a:gdLst/>
            <a:ahLst/>
            <a:rect l="0" t="0" r="r" b="b"/>
            <a:pathLst>
              <a:path fill="none" w="13570" h="7886">
                <a:moveTo>
                  <a:pt x="0" y="7886"/>
                </a:moveTo>
                <a:lnTo>
                  <a:pt x="3386" y="6563"/>
                </a:lnTo>
                <a:lnTo>
                  <a:pt x="6796" y="5821"/>
                </a:lnTo>
                <a:lnTo>
                  <a:pt x="10184" y="4922"/>
                </a:lnTo>
                <a:lnTo>
                  <a:pt x="1357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76200" y="365760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95520" y="318132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22760" y="291456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1720" y="259092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61040" y="81900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1520" y="391644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1520" y="337356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1520" y="282096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1520" y="227808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520" y="173520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1520" y="118260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1520" y="63972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0560" y="4159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79520" y="4159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06760" y="4159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6080" y="4159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45040" y="415908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0440" y="159696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0440" y="180648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0440" y="20160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2120" y="219384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0440" y="24354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0440" y="264492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2120" y="282240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2520" y="585720"/>
            <a:ext cx="5951520" cy="3886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98560" y="4565520"/>
            <a:ext cx="506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46280" y="8832960"/>
            <a:ext cx="567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09480"/>
            <a:ext cx="595152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0440" y="161604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0440" y="182556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0440" y="203508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0440" y="245412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0440" y="26640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52360" y="790560"/>
            <a:ext cx="5028120" cy="3267360"/>
          </a:xfrm>
          <a:custGeom>
            <a:avLst/>
            <a:gdLst/>
            <a:ahLst/>
            <a:rect l="0" t="0" r="r" b="b"/>
            <a:pathLst>
              <a:path w="13967" h="9076">
                <a:moveTo>
                  <a:pt x="0" y="0"/>
                </a:moveTo>
                <a:lnTo>
                  <a:pt x="13967" y="0"/>
                </a:lnTo>
                <a:lnTo>
                  <a:pt x="13967" y="9076"/>
                </a:lnTo>
                <a:lnTo>
                  <a:pt x="0" y="9076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52360" y="3524400"/>
            <a:ext cx="503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52360" y="2971800"/>
            <a:ext cx="503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52360" y="2428920"/>
            <a:ext cx="503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52360" y="1886040"/>
            <a:ext cx="503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52360" y="1333440"/>
            <a:ext cx="503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52360" y="790560"/>
            <a:ext cx="503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52360" y="790560"/>
            <a:ext cx="5037480" cy="3277080"/>
          </a:xfrm>
          <a:custGeom>
            <a:avLst/>
            <a:gdLst/>
            <a:ahLst/>
            <a:rect l="0" t="0" r="r" b="b"/>
            <a:pathLst>
              <a:path fill="none" w="13993" h="9103">
                <a:moveTo>
                  <a:pt x="0" y="0"/>
                </a:moveTo>
                <a:lnTo>
                  <a:pt x="13993" y="0"/>
                </a:lnTo>
                <a:lnTo>
                  <a:pt x="13993" y="9103"/>
                </a:lnTo>
                <a:lnTo>
                  <a:pt x="0" y="9103"/>
                </a:lnTo>
                <a:lnTo>
                  <a:pt x="0" y="0"/>
                </a:lnTo>
              </a:path>
            </a:pathLst>
          </a:custGeom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52360" y="77616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52360" y="406728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52360" y="352440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52360" y="297180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52360" y="242892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52360" y="188604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52360" y="133344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2360" y="79056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52360" y="4067280"/>
            <a:ext cx="503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252440" y="4019400"/>
            <a:ext cx="0" cy="4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409840" y="4019400"/>
            <a:ext cx="0" cy="4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675240" y="4019400"/>
            <a:ext cx="0" cy="4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932360" y="4019400"/>
            <a:ext cx="0" cy="4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189840" y="4019400"/>
            <a:ext cx="0" cy="4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52360" y="914400"/>
            <a:ext cx="5037480" cy="1838520"/>
          </a:xfrm>
          <a:custGeom>
            <a:avLst/>
            <a:gdLst/>
            <a:ahLst/>
            <a:rect l="0" t="0" r="r" b="b"/>
            <a:pathLst>
              <a:path fill="none" w="13993" h="5107">
                <a:moveTo>
                  <a:pt x="0" y="2567"/>
                </a:moveTo>
                <a:lnTo>
                  <a:pt x="3492" y="5107"/>
                </a:lnTo>
                <a:lnTo>
                  <a:pt x="7008" y="5081"/>
                </a:lnTo>
                <a:lnTo>
                  <a:pt x="10500" y="3017"/>
                </a:lnTo>
                <a:lnTo>
                  <a:pt x="1399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23920" y="180972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1400" y="272412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46440" y="271476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03920" y="197172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61040" y="88596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65280" y="393552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65280" y="339264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65280" y="284004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65280" y="229716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65280" y="175428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65280" y="120168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65280" y="65880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07920" y="41781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165400" y="41781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30440" y="41781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7920" y="41781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945040" y="417816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2120" y="221292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2120" y="284148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2520" y="604800"/>
            <a:ext cx="5951520" cy="3886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440" y="5181480"/>
            <a:ext cx="5989680" cy="36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7600" y="5362560"/>
            <a:ext cx="5218560" cy="2991240"/>
          </a:xfrm>
          <a:custGeom>
            <a:avLst/>
            <a:gdLst/>
            <a:ahLst/>
            <a:rect l="0" t="0" r="r" b="b"/>
            <a:pathLst>
              <a:path w="14496" h="8309">
                <a:moveTo>
                  <a:pt x="0" y="0"/>
                </a:moveTo>
                <a:lnTo>
                  <a:pt x="14496" y="0"/>
                </a:lnTo>
                <a:lnTo>
                  <a:pt x="14496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7600" y="7867800"/>
            <a:ext cx="522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7600" y="7362720"/>
            <a:ext cx="522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7600" y="6867360"/>
            <a:ext cx="522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7600" y="6362640"/>
            <a:ext cx="522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7600" y="5867280"/>
            <a:ext cx="522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7600" y="5362560"/>
            <a:ext cx="522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7600" y="5362560"/>
            <a:ext cx="5227920" cy="3000960"/>
          </a:xfrm>
          <a:custGeom>
            <a:avLst/>
            <a:gdLst/>
            <a:ahLst/>
            <a:rect l="0" t="0" r="r" b="b"/>
            <a:pathLst>
              <a:path fill="none" w="14522" h="8336">
                <a:moveTo>
                  <a:pt x="0" y="0"/>
                </a:moveTo>
                <a:lnTo>
                  <a:pt x="14522" y="0"/>
                </a:lnTo>
                <a:lnTo>
                  <a:pt x="14522" y="8336"/>
                </a:lnTo>
                <a:lnTo>
                  <a:pt x="0" y="8336"/>
                </a:lnTo>
                <a:lnTo>
                  <a:pt x="0" y="0"/>
                </a:lnTo>
              </a:path>
            </a:pathLst>
          </a:custGeom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7600" y="5362560"/>
            <a:ext cx="0" cy="300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7600" y="836280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7600" y="786780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7600" y="736272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7600" y="686736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7600" y="636264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47600" y="586728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7600" y="536256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7600" y="8362800"/>
            <a:ext cx="522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047600" y="83152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352600" y="83152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665520" y="83152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970520" y="83152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275520" y="8315280"/>
            <a:ext cx="0" cy="4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7600" y="5867280"/>
            <a:ext cx="5227920" cy="2086200"/>
          </a:xfrm>
          <a:custGeom>
            <a:avLst/>
            <a:gdLst/>
            <a:ahLst/>
            <a:rect l="0" t="0" r="r" b="b"/>
            <a:pathLst>
              <a:path fill="none" w="14522" h="5795">
                <a:moveTo>
                  <a:pt x="0" y="1613"/>
                </a:moveTo>
                <a:lnTo>
                  <a:pt x="3624" y="2301"/>
                </a:lnTo>
                <a:lnTo>
                  <a:pt x="7272" y="0"/>
                </a:lnTo>
                <a:lnTo>
                  <a:pt x="10897" y="0"/>
                </a:lnTo>
                <a:lnTo>
                  <a:pt x="14522" y="5795"/>
                </a:lnTo>
              </a:path>
            </a:pathLst>
          </a:custGeom>
          <a:ln w="12600">
            <a:solidFill>
              <a:srgbClr val="000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5867280"/>
            <a:ext cx="5227920" cy="2086200"/>
          </a:xfrm>
          <a:custGeom>
            <a:avLst/>
            <a:gdLst/>
            <a:ahLst/>
            <a:rect l="0" t="0" r="r" b="b"/>
            <a:pathLst>
              <a:path fill="none" w="14522" h="5795">
                <a:moveTo>
                  <a:pt x="0" y="1613"/>
                </a:moveTo>
                <a:lnTo>
                  <a:pt x="3624" y="2301"/>
                </a:lnTo>
                <a:lnTo>
                  <a:pt x="7272" y="0"/>
                </a:lnTo>
                <a:lnTo>
                  <a:pt x="10897" y="0"/>
                </a:lnTo>
                <a:lnTo>
                  <a:pt x="14522" y="579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19160" y="641988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324160" y="666756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7080" y="583884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41720" y="583884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6720" y="792468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14480" y="641520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19480" y="666288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2040" y="583416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7040" y="583416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2040" y="7920000"/>
            <a:ext cx="57240" cy="5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0320" y="823104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4360" y="7736040"/>
            <a:ext cx="4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4360" y="7230960"/>
            <a:ext cx="4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4360" y="6735600"/>
            <a:ext cx="4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4360" y="6230880"/>
            <a:ext cx="4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360" y="5735520"/>
            <a:ext cx="4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4360" y="5230800"/>
            <a:ext cx="4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03160" y="8474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08160" y="8474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421080" y="8474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26080" y="8474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31080" y="847404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17680" y="59976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17680" y="620712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17680" y="641664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7680" y="662616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49360" y="680400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17680" y="70452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7680" y="725472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49360" y="7432560"/>
            <a:ext cx="2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9760" y="5176800"/>
            <a:ext cx="5989680" cy="3610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50840" y="8832960"/>
            <a:ext cx="4756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7840" y="4800600"/>
            <a:ext cx="5970600" cy="39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31640" y="4911840"/>
            <a:ext cx="5825160" cy="3814920"/>
            <a:chOff x="431640" y="4911840"/>
            <a:chExt cx="5825160" cy="3814920"/>
          </a:xfrm>
        </p:grpSpPr>
        <p:sp>
          <p:nvSpPr>
            <p:cNvPr id="255" name=""/>
            <p:cNvSpPr/>
            <p:nvPr/>
          </p:nvSpPr>
          <p:spPr>
            <a:xfrm>
              <a:off x="685800" y="6600960"/>
              <a:ext cx="743400" cy="1265760"/>
            </a:xfrm>
            <a:custGeom>
              <a:avLst/>
              <a:gdLst/>
              <a:ahLst/>
              <a:rect l="0" t="0" r="r" b="b"/>
              <a:pathLst>
                <a:path w="2065" h="3516">
                  <a:moveTo>
                    <a:pt x="2065" y="1372"/>
                  </a:moveTo>
                  <a:lnTo>
                    <a:pt x="1986" y="1345"/>
                  </a:lnTo>
                  <a:lnTo>
                    <a:pt x="1880" y="1319"/>
                  </a:lnTo>
                  <a:lnTo>
                    <a:pt x="1801" y="1293"/>
                  </a:lnTo>
                  <a:lnTo>
                    <a:pt x="1721" y="1266"/>
                  </a:lnTo>
                  <a:lnTo>
                    <a:pt x="1642" y="1240"/>
                  </a:lnTo>
                  <a:lnTo>
                    <a:pt x="1563" y="1213"/>
                  </a:lnTo>
                  <a:lnTo>
                    <a:pt x="1482" y="1187"/>
                  </a:lnTo>
                  <a:lnTo>
                    <a:pt x="1403" y="1160"/>
                  </a:lnTo>
                  <a:lnTo>
                    <a:pt x="1323" y="1107"/>
                  </a:lnTo>
                  <a:lnTo>
                    <a:pt x="1244" y="1081"/>
                  </a:lnTo>
                  <a:lnTo>
                    <a:pt x="1165" y="1054"/>
                  </a:lnTo>
                  <a:lnTo>
                    <a:pt x="1112" y="1028"/>
                  </a:lnTo>
                  <a:lnTo>
                    <a:pt x="1032" y="1002"/>
                  </a:lnTo>
                  <a:lnTo>
                    <a:pt x="953" y="975"/>
                  </a:lnTo>
                  <a:lnTo>
                    <a:pt x="900" y="949"/>
                  </a:lnTo>
                  <a:lnTo>
                    <a:pt x="847" y="922"/>
                  </a:lnTo>
                  <a:lnTo>
                    <a:pt x="768" y="868"/>
                  </a:lnTo>
                  <a:lnTo>
                    <a:pt x="715" y="842"/>
                  </a:lnTo>
                  <a:lnTo>
                    <a:pt x="662" y="815"/>
                  </a:lnTo>
                  <a:lnTo>
                    <a:pt x="609" y="789"/>
                  </a:lnTo>
                  <a:lnTo>
                    <a:pt x="556" y="762"/>
                  </a:lnTo>
                  <a:lnTo>
                    <a:pt x="502" y="709"/>
                  </a:lnTo>
                  <a:lnTo>
                    <a:pt x="449" y="683"/>
                  </a:lnTo>
                  <a:lnTo>
                    <a:pt x="423" y="657"/>
                  </a:lnTo>
                  <a:lnTo>
                    <a:pt x="370" y="630"/>
                  </a:lnTo>
                  <a:lnTo>
                    <a:pt x="343" y="577"/>
                  </a:lnTo>
                  <a:lnTo>
                    <a:pt x="291" y="551"/>
                  </a:lnTo>
                  <a:lnTo>
                    <a:pt x="264" y="524"/>
                  </a:lnTo>
                  <a:lnTo>
                    <a:pt x="211" y="502"/>
                  </a:lnTo>
                  <a:lnTo>
                    <a:pt x="185" y="449"/>
                  </a:lnTo>
                  <a:lnTo>
                    <a:pt x="158" y="423"/>
                  </a:lnTo>
                  <a:lnTo>
                    <a:pt x="132" y="396"/>
                  </a:lnTo>
                  <a:lnTo>
                    <a:pt x="105" y="343"/>
                  </a:lnTo>
                  <a:lnTo>
                    <a:pt x="79" y="317"/>
                  </a:lnTo>
                  <a:lnTo>
                    <a:pt x="79" y="291"/>
                  </a:lnTo>
                  <a:lnTo>
                    <a:pt x="52" y="238"/>
                  </a:lnTo>
                  <a:lnTo>
                    <a:pt x="26" y="211"/>
                  </a:lnTo>
                  <a:lnTo>
                    <a:pt x="26" y="185"/>
                  </a:lnTo>
                  <a:lnTo>
                    <a:pt x="0" y="158"/>
                  </a:lnTo>
                  <a:lnTo>
                    <a:pt x="0" y="105"/>
                  </a:lnTo>
                  <a:lnTo>
                    <a:pt x="0" y="79"/>
                  </a:lnTo>
                  <a:lnTo>
                    <a:pt x="0" y="52"/>
                  </a:lnTo>
                  <a:lnTo>
                    <a:pt x="0" y="0"/>
                  </a:lnTo>
                  <a:lnTo>
                    <a:pt x="0" y="2139"/>
                  </a:lnTo>
                  <a:lnTo>
                    <a:pt x="0" y="2192"/>
                  </a:lnTo>
                  <a:lnTo>
                    <a:pt x="0" y="2219"/>
                  </a:lnTo>
                  <a:lnTo>
                    <a:pt x="0" y="2245"/>
                  </a:lnTo>
                  <a:lnTo>
                    <a:pt x="0" y="2298"/>
                  </a:lnTo>
                  <a:lnTo>
                    <a:pt x="26" y="2324"/>
                  </a:lnTo>
                  <a:lnTo>
                    <a:pt x="26" y="2351"/>
                  </a:lnTo>
                  <a:lnTo>
                    <a:pt x="52" y="2377"/>
                  </a:lnTo>
                  <a:lnTo>
                    <a:pt x="79" y="2430"/>
                  </a:lnTo>
                  <a:lnTo>
                    <a:pt x="79" y="2457"/>
                  </a:lnTo>
                  <a:lnTo>
                    <a:pt x="105" y="2483"/>
                  </a:lnTo>
                  <a:lnTo>
                    <a:pt x="132" y="2536"/>
                  </a:lnTo>
                  <a:lnTo>
                    <a:pt x="158" y="2563"/>
                  </a:lnTo>
                  <a:lnTo>
                    <a:pt x="185" y="2589"/>
                  </a:lnTo>
                  <a:lnTo>
                    <a:pt x="211" y="2643"/>
                  </a:lnTo>
                  <a:lnTo>
                    <a:pt x="264" y="2669"/>
                  </a:lnTo>
                  <a:lnTo>
                    <a:pt x="291" y="2696"/>
                  </a:lnTo>
                  <a:lnTo>
                    <a:pt x="343" y="2722"/>
                  </a:lnTo>
                  <a:lnTo>
                    <a:pt x="370" y="2775"/>
                  </a:lnTo>
                  <a:lnTo>
                    <a:pt x="423" y="2802"/>
                  </a:lnTo>
                  <a:lnTo>
                    <a:pt x="449" y="2828"/>
                  </a:lnTo>
                  <a:lnTo>
                    <a:pt x="502" y="2855"/>
                  </a:lnTo>
                  <a:lnTo>
                    <a:pt x="556" y="2908"/>
                  </a:lnTo>
                  <a:lnTo>
                    <a:pt x="609" y="2934"/>
                  </a:lnTo>
                  <a:lnTo>
                    <a:pt x="662" y="2960"/>
                  </a:lnTo>
                  <a:lnTo>
                    <a:pt x="715" y="2987"/>
                  </a:lnTo>
                  <a:lnTo>
                    <a:pt x="768" y="3013"/>
                  </a:lnTo>
                  <a:lnTo>
                    <a:pt x="847" y="3066"/>
                  </a:lnTo>
                  <a:lnTo>
                    <a:pt x="900" y="3093"/>
                  </a:lnTo>
                  <a:lnTo>
                    <a:pt x="953" y="3119"/>
                  </a:lnTo>
                  <a:lnTo>
                    <a:pt x="1032" y="3146"/>
                  </a:lnTo>
                  <a:lnTo>
                    <a:pt x="1112" y="3172"/>
                  </a:lnTo>
                  <a:lnTo>
                    <a:pt x="1165" y="3199"/>
                  </a:lnTo>
                  <a:lnTo>
                    <a:pt x="1244" y="3225"/>
                  </a:lnTo>
                  <a:lnTo>
                    <a:pt x="1323" y="3251"/>
                  </a:lnTo>
                  <a:lnTo>
                    <a:pt x="1403" y="3304"/>
                  </a:lnTo>
                  <a:lnTo>
                    <a:pt x="1482" y="3331"/>
                  </a:lnTo>
                  <a:lnTo>
                    <a:pt x="1563" y="3357"/>
                  </a:lnTo>
                  <a:lnTo>
                    <a:pt x="1642" y="3384"/>
                  </a:lnTo>
                  <a:lnTo>
                    <a:pt x="1721" y="3410"/>
                  </a:lnTo>
                  <a:lnTo>
                    <a:pt x="1801" y="3437"/>
                  </a:lnTo>
                  <a:lnTo>
                    <a:pt x="1880" y="3463"/>
                  </a:lnTo>
                  <a:lnTo>
                    <a:pt x="1986" y="3490"/>
                  </a:lnTo>
                  <a:lnTo>
                    <a:pt x="2065" y="3516"/>
                  </a:lnTo>
                  <a:lnTo>
                    <a:pt x="2065" y="1372"/>
                  </a:lnTo>
                  <a:close/>
                </a:path>
              </a:pathLst>
            </a:custGeom>
            <a:solidFill>
              <a:srgbClr val="3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56360" y="6600960"/>
              <a:ext cx="1000440" cy="1322640"/>
            </a:xfrm>
            <a:custGeom>
              <a:avLst/>
              <a:gdLst/>
              <a:ahLst/>
              <a:rect l="0" t="0" r="r" b="b"/>
              <a:pathLst>
                <a:path w="2779" h="3674">
                  <a:moveTo>
                    <a:pt x="2779" y="0"/>
                  </a:moveTo>
                  <a:lnTo>
                    <a:pt x="2779" y="52"/>
                  </a:lnTo>
                  <a:lnTo>
                    <a:pt x="2779" y="79"/>
                  </a:lnTo>
                  <a:lnTo>
                    <a:pt x="2752" y="105"/>
                  </a:lnTo>
                  <a:lnTo>
                    <a:pt x="2752" y="158"/>
                  </a:lnTo>
                  <a:lnTo>
                    <a:pt x="2752" y="185"/>
                  </a:lnTo>
                  <a:lnTo>
                    <a:pt x="2726" y="211"/>
                  </a:lnTo>
                  <a:lnTo>
                    <a:pt x="2726" y="238"/>
                  </a:lnTo>
                  <a:lnTo>
                    <a:pt x="2699" y="291"/>
                  </a:lnTo>
                  <a:lnTo>
                    <a:pt x="2673" y="317"/>
                  </a:lnTo>
                  <a:lnTo>
                    <a:pt x="2646" y="343"/>
                  </a:lnTo>
                  <a:lnTo>
                    <a:pt x="2620" y="396"/>
                  </a:lnTo>
                  <a:lnTo>
                    <a:pt x="2593" y="423"/>
                  </a:lnTo>
                  <a:lnTo>
                    <a:pt x="2567" y="449"/>
                  </a:lnTo>
                  <a:lnTo>
                    <a:pt x="2541" y="502"/>
                  </a:lnTo>
                  <a:lnTo>
                    <a:pt x="2514" y="524"/>
                  </a:lnTo>
                  <a:lnTo>
                    <a:pt x="2461" y="551"/>
                  </a:lnTo>
                  <a:lnTo>
                    <a:pt x="2435" y="577"/>
                  </a:lnTo>
                  <a:lnTo>
                    <a:pt x="2382" y="630"/>
                  </a:lnTo>
                  <a:lnTo>
                    <a:pt x="2355" y="657"/>
                  </a:lnTo>
                  <a:lnTo>
                    <a:pt x="2302" y="683"/>
                  </a:lnTo>
                  <a:lnTo>
                    <a:pt x="2249" y="709"/>
                  </a:lnTo>
                  <a:lnTo>
                    <a:pt x="2197" y="762"/>
                  </a:lnTo>
                  <a:lnTo>
                    <a:pt x="2144" y="789"/>
                  </a:lnTo>
                  <a:lnTo>
                    <a:pt x="2091" y="815"/>
                  </a:lnTo>
                  <a:lnTo>
                    <a:pt x="2038" y="842"/>
                  </a:lnTo>
                  <a:lnTo>
                    <a:pt x="1985" y="868"/>
                  </a:lnTo>
                  <a:lnTo>
                    <a:pt x="1932" y="921"/>
                  </a:lnTo>
                  <a:lnTo>
                    <a:pt x="1879" y="948"/>
                  </a:lnTo>
                  <a:lnTo>
                    <a:pt x="1800" y="974"/>
                  </a:lnTo>
                  <a:lnTo>
                    <a:pt x="1747" y="1001"/>
                  </a:lnTo>
                  <a:lnTo>
                    <a:pt x="1667" y="1027"/>
                  </a:lnTo>
                  <a:lnTo>
                    <a:pt x="1588" y="1053"/>
                  </a:lnTo>
                  <a:lnTo>
                    <a:pt x="1535" y="1080"/>
                  </a:lnTo>
                  <a:lnTo>
                    <a:pt x="1456" y="1106"/>
                  </a:lnTo>
                  <a:lnTo>
                    <a:pt x="1375" y="1159"/>
                  </a:lnTo>
                  <a:lnTo>
                    <a:pt x="1296" y="1186"/>
                  </a:lnTo>
                  <a:lnTo>
                    <a:pt x="1217" y="1212"/>
                  </a:lnTo>
                  <a:lnTo>
                    <a:pt x="1137" y="1239"/>
                  </a:lnTo>
                  <a:lnTo>
                    <a:pt x="1058" y="1265"/>
                  </a:lnTo>
                  <a:lnTo>
                    <a:pt x="952" y="1292"/>
                  </a:lnTo>
                  <a:lnTo>
                    <a:pt x="873" y="1318"/>
                  </a:lnTo>
                  <a:lnTo>
                    <a:pt x="793" y="1344"/>
                  </a:lnTo>
                  <a:lnTo>
                    <a:pt x="687" y="1371"/>
                  </a:lnTo>
                  <a:lnTo>
                    <a:pt x="608" y="1397"/>
                  </a:lnTo>
                  <a:lnTo>
                    <a:pt x="502" y="1424"/>
                  </a:lnTo>
                  <a:lnTo>
                    <a:pt x="396" y="1450"/>
                  </a:lnTo>
                  <a:lnTo>
                    <a:pt x="317" y="1450"/>
                  </a:lnTo>
                  <a:lnTo>
                    <a:pt x="211" y="1477"/>
                  </a:lnTo>
                  <a:lnTo>
                    <a:pt x="105" y="1503"/>
                  </a:lnTo>
                  <a:lnTo>
                    <a:pt x="0" y="1530"/>
                  </a:lnTo>
                  <a:lnTo>
                    <a:pt x="0" y="3674"/>
                  </a:lnTo>
                  <a:lnTo>
                    <a:pt x="105" y="3647"/>
                  </a:lnTo>
                  <a:lnTo>
                    <a:pt x="211" y="3621"/>
                  </a:lnTo>
                  <a:lnTo>
                    <a:pt x="317" y="3594"/>
                  </a:lnTo>
                  <a:lnTo>
                    <a:pt x="396" y="3594"/>
                  </a:lnTo>
                  <a:lnTo>
                    <a:pt x="502" y="3568"/>
                  </a:lnTo>
                  <a:lnTo>
                    <a:pt x="608" y="3542"/>
                  </a:lnTo>
                  <a:lnTo>
                    <a:pt x="687" y="3515"/>
                  </a:lnTo>
                  <a:lnTo>
                    <a:pt x="793" y="3489"/>
                  </a:lnTo>
                  <a:lnTo>
                    <a:pt x="873" y="3462"/>
                  </a:lnTo>
                  <a:lnTo>
                    <a:pt x="952" y="3436"/>
                  </a:lnTo>
                  <a:lnTo>
                    <a:pt x="1058" y="3409"/>
                  </a:lnTo>
                  <a:lnTo>
                    <a:pt x="1137" y="3383"/>
                  </a:lnTo>
                  <a:lnTo>
                    <a:pt x="1217" y="3356"/>
                  </a:lnTo>
                  <a:lnTo>
                    <a:pt x="1296" y="3330"/>
                  </a:lnTo>
                  <a:lnTo>
                    <a:pt x="1375" y="3303"/>
                  </a:lnTo>
                  <a:lnTo>
                    <a:pt x="1456" y="3250"/>
                  </a:lnTo>
                  <a:lnTo>
                    <a:pt x="1535" y="3224"/>
                  </a:lnTo>
                  <a:lnTo>
                    <a:pt x="1588" y="3198"/>
                  </a:lnTo>
                  <a:lnTo>
                    <a:pt x="1667" y="3171"/>
                  </a:lnTo>
                  <a:lnTo>
                    <a:pt x="1747" y="3145"/>
                  </a:lnTo>
                  <a:lnTo>
                    <a:pt x="1800" y="3118"/>
                  </a:lnTo>
                  <a:lnTo>
                    <a:pt x="1879" y="3092"/>
                  </a:lnTo>
                  <a:lnTo>
                    <a:pt x="1932" y="3065"/>
                  </a:lnTo>
                  <a:lnTo>
                    <a:pt x="1985" y="3012"/>
                  </a:lnTo>
                  <a:lnTo>
                    <a:pt x="2038" y="2986"/>
                  </a:lnTo>
                  <a:lnTo>
                    <a:pt x="2091" y="2959"/>
                  </a:lnTo>
                  <a:lnTo>
                    <a:pt x="2144" y="2933"/>
                  </a:lnTo>
                  <a:lnTo>
                    <a:pt x="2197" y="2907"/>
                  </a:lnTo>
                  <a:lnTo>
                    <a:pt x="2249" y="2854"/>
                  </a:lnTo>
                  <a:lnTo>
                    <a:pt x="2302" y="2827"/>
                  </a:lnTo>
                  <a:lnTo>
                    <a:pt x="2355" y="2801"/>
                  </a:lnTo>
                  <a:lnTo>
                    <a:pt x="2382" y="2774"/>
                  </a:lnTo>
                  <a:lnTo>
                    <a:pt x="2435" y="2721"/>
                  </a:lnTo>
                  <a:lnTo>
                    <a:pt x="2461" y="2695"/>
                  </a:lnTo>
                  <a:lnTo>
                    <a:pt x="2514" y="2668"/>
                  </a:lnTo>
                  <a:lnTo>
                    <a:pt x="2541" y="2642"/>
                  </a:lnTo>
                  <a:lnTo>
                    <a:pt x="2567" y="2589"/>
                  </a:lnTo>
                  <a:lnTo>
                    <a:pt x="2593" y="2563"/>
                  </a:lnTo>
                  <a:lnTo>
                    <a:pt x="2620" y="2536"/>
                  </a:lnTo>
                  <a:lnTo>
                    <a:pt x="2646" y="2483"/>
                  </a:lnTo>
                  <a:lnTo>
                    <a:pt x="2673" y="2457"/>
                  </a:lnTo>
                  <a:lnTo>
                    <a:pt x="2699" y="2430"/>
                  </a:lnTo>
                  <a:lnTo>
                    <a:pt x="2726" y="2377"/>
                  </a:lnTo>
                  <a:lnTo>
                    <a:pt x="2726" y="2351"/>
                  </a:lnTo>
                  <a:lnTo>
                    <a:pt x="2752" y="2324"/>
                  </a:lnTo>
                  <a:lnTo>
                    <a:pt x="2752" y="2298"/>
                  </a:lnTo>
                  <a:lnTo>
                    <a:pt x="2752" y="2245"/>
                  </a:lnTo>
                  <a:lnTo>
                    <a:pt x="2779" y="2219"/>
                  </a:lnTo>
                  <a:lnTo>
                    <a:pt x="2779" y="2192"/>
                  </a:lnTo>
                  <a:lnTo>
                    <a:pt x="2779" y="2139"/>
                  </a:lnTo>
                  <a:lnTo>
                    <a:pt x="2779" y="0"/>
                  </a:lnTo>
                  <a:close/>
                </a:path>
              </a:pathLst>
            </a:custGeom>
            <a:solidFill>
              <a:srgbClr val="7f7f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28840" y="7094520"/>
              <a:ext cx="3827880" cy="1000440"/>
            </a:xfrm>
            <a:custGeom>
              <a:avLst/>
              <a:gdLst/>
              <a:ahLst/>
              <a:rect l="0" t="0" r="r" b="b"/>
              <a:pathLst>
                <a:path w="10633" h="2779">
                  <a:moveTo>
                    <a:pt x="10633" y="158"/>
                  </a:moveTo>
                  <a:lnTo>
                    <a:pt x="10528" y="185"/>
                  </a:lnTo>
                  <a:lnTo>
                    <a:pt x="10422" y="211"/>
                  </a:lnTo>
                  <a:lnTo>
                    <a:pt x="10316" y="238"/>
                  </a:lnTo>
                  <a:lnTo>
                    <a:pt x="10210" y="238"/>
                  </a:lnTo>
                  <a:lnTo>
                    <a:pt x="10104" y="264"/>
                  </a:lnTo>
                  <a:lnTo>
                    <a:pt x="9998" y="291"/>
                  </a:lnTo>
                  <a:lnTo>
                    <a:pt x="9893" y="317"/>
                  </a:lnTo>
                  <a:lnTo>
                    <a:pt x="9760" y="317"/>
                  </a:lnTo>
                  <a:lnTo>
                    <a:pt x="9654" y="343"/>
                  </a:lnTo>
                  <a:lnTo>
                    <a:pt x="9549" y="370"/>
                  </a:lnTo>
                  <a:lnTo>
                    <a:pt x="9416" y="370"/>
                  </a:lnTo>
                  <a:lnTo>
                    <a:pt x="9310" y="396"/>
                  </a:lnTo>
                  <a:lnTo>
                    <a:pt x="9178" y="423"/>
                  </a:lnTo>
                  <a:lnTo>
                    <a:pt x="9046" y="423"/>
                  </a:lnTo>
                  <a:lnTo>
                    <a:pt x="8940" y="449"/>
                  </a:lnTo>
                  <a:lnTo>
                    <a:pt x="8808" y="449"/>
                  </a:lnTo>
                  <a:lnTo>
                    <a:pt x="8702" y="476"/>
                  </a:lnTo>
                  <a:lnTo>
                    <a:pt x="8570" y="476"/>
                  </a:lnTo>
                  <a:lnTo>
                    <a:pt x="8437" y="502"/>
                  </a:lnTo>
                  <a:lnTo>
                    <a:pt x="8305" y="502"/>
                  </a:lnTo>
                  <a:lnTo>
                    <a:pt x="8173" y="529"/>
                  </a:lnTo>
                  <a:lnTo>
                    <a:pt x="8067" y="529"/>
                  </a:lnTo>
                  <a:lnTo>
                    <a:pt x="7934" y="529"/>
                  </a:lnTo>
                  <a:lnTo>
                    <a:pt x="7801" y="555"/>
                  </a:lnTo>
                  <a:lnTo>
                    <a:pt x="7669" y="555"/>
                  </a:lnTo>
                  <a:lnTo>
                    <a:pt x="7537" y="582"/>
                  </a:lnTo>
                  <a:lnTo>
                    <a:pt x="7404" y="582"/>
                  </a:lnTo>
                  <a:lnTo>
                    <a:pt x="7272" y="582"/>
                  </a:lnTo>
                  <a:lnTo>
                    <a:pt x="7140" y="582"/>
                  </a:lnTo>
                  <a:lnTo>
                    <a:pt x="7008" y="608"/>
                  </a:lnTo>
                  <a:lnTo>
                    <a:pt x="6875" y="608"/>
                  </a:lnTo>
                  <a:lnTo>
                    <a:pt x="6743" y="608"/>
                  </a:lnTo>
                  <a:lnTo>
                    <a:pt x="6611" y="608"/>
                  </a:lnTo>
                  <a:lnTo>
                    <a:pt x="6478" y="608"/>
                  </a:lnTo>
                  <a:lnTo>
                    <a:pt x="6346" y="608"/>
                  </a:lnTo>
                  <a:lnTo>
                    <a:pt x="6214" y="635"/>
                  </a:lnTo>
                  <a:lnTo>
                    <a:pt x="6082" y="635"/>
                  </a:lnTo>
                  <a:lnTo>
                    <a:pt x="5923" y="635"/>
                  </a:lnTo>
                  <a:lnTo>
                    <a:pt x="5790" y="635"/>
                  </a:lnTo>
                  <a:lnTo>
                    <a:pt x="5658" y="635"/>
                  </a:lnTo>
                  <a:lnTo>
                    <a:pt x="5530" y="635"/>
                  </a:lnTo>
                  <a:lnTo>
                    <a:pt x="5398" y="635"/>
                  </a:lnTo>
                  <a:lnTo>
                    <a:pt x="5266" y="635"/>
                  </a:lnTo>
                  <a:lnTo>
                    <a:pt x="5133" y="635"/>
                  </a:lnTo>
                  <a:lnTo>
                    <a:pt x="5001" y="608"/>
                  </a:lnTo>
                  <a:lnTo>
                    <a:pt x="4869" y="608"/>
                  </a:lnTo>
                  <a:lnTo>
                    <a:pt x="4737" y="608"/>
                  </a:lnTo>
                  <a:lnTo>
                    <a:pt x="4604" y="608"/>
                  </a:lnTo>
                  <a:lnTo>
                    <a:pt x="4446" y="608"/>
                  </a:lnTo>
                  <a:lnTo>
                    <a:pt x="4313" y="608"/>
                  </a:lnTo>
                  <a:lnTo>
                    <a:pt x="4181" y="582"/>
                  </a:lnTo>
                  <a:lnTo>
                    <a:pt x="4049" y="582"/>
                  </a:lnTo>
                  <a:lnTo>
                    <a:pt x="3916" y="582"/>
                  </a:lnTo>
                  <a:lnTo>
                    <a:pt x="3784" y="582"/>
                  </a:lnTo>
                  <a:lnTo>
                    <a:pt x="3678" y="555"/>
                  </a:lnTo>
                  <a:lnTo>
                    <a:pt x="3546" y="555"/>
                  </a:lnTo>
                  <a:lnTo>
                    <a:pt x="3414" y="529"/>
                  </a:lnTo>
                  <a:lnTo>
                    <a:pt x="3281" y="529"/>
                  </a:lnTo>
                  <a:lnTo>
                    <a:pt x="3149" y="529"/>
                  </a:lnTo>
                  <a:lnTo>
                    <a:pt x="3017" y="502"/>
                  </a:lnTo>
                  <a:lnTo>
                    <a:pt x="2884" y="502"/>
                  </a:lnTo>
                  <a:lnTo>
                    <a:pt x="2779" y="476"/>
                  </a:lnTo>
                  <a:lnTo>
                    <a:pt x="2645" y="476"/>
                  </a:lnTo>
                  <a:lnTo>
                    <a:pt x="2513" y="449"/>
                  </a:lnTo>
                  <a:lnTo>
                    <a:pt x="2407" y="449"/>
                  </a:lnTo>
                  <a:lnTo>
                    <a:pt x="2275" y="423"/>
                  </a:lnTo>
                  <a:lnTo>
                    <a:pt x="2143" y="423"/>
                  </a:lnTo>
                  <a:lnTo>
                    <a:pt x="2037" y="396"/>
                  </a:lnTo>
                  <a:lnTo>
                    <a:pt x="1905" y="370"/>
                  </a:lnTo>
                  <a:lnTo>
                    <a:pt x="1799" y="370"/>
                  </a:lnTo>
                  <a:lnTo>
                    <a:pt x="1693" y="343"/>
                  </a:lnTo>
                  <a:lnTo>
                    <a:pt x="1561" y="317"/>
                  </a:lnTo>
                  <a:lnTo>
                    <a:pt x="1455" y="317"/>
                  </a:lnTo>
                  <a:lnTo>
                    <a:pt x="1349" y="291"/>
                  </a:lnTo>
                  <a:lnTo>
                    <a:pt x="1217" y="264"/>
                  </a:lnTo>
                  <a:lnTo>
                    <a:pt x="1111" y="238"/>
                  </a:lnTo>
                  <a:lnTo>
                    <a:pt x="1005" y="238"/>
                  </a:lnTo>
                  <a:lnTo>
                    <a:pt x="899" y="211"/>
                  </a:lnTo>
                  <a:lnTo>
                    <a:pt x="793" y="185"/>
                  </a:lnTo>
                  <a:lnTo>
                    <a:pt x="687" y="158"/>
                  </a:lnTo>
                  <a:lnTo>
                    <a:pt x="582" y="132"/>
                  </a:lnTo>
                  <a:lnTo>
                    <a:pt x="502" y="105"/>
                  </a:lnTo>
                  <a:lnTo>
                    <a:pt x="396" y="79"/>
                  </a:lnTo>
                  <a:lnTo>
                    <a:pt x="291" y="79"/>
                  </a:lnTo>
                  <a:lnTo>
                    <a:pt x="185" y="52"/>
                  </a:lnTo>
                  <a:lnTo>
                    <a:pt x="105" y="26"/>
                  </a:lnTo>
                  <a:lnTo>
                    <a:pt x="0" y="0"/>
                  </a:lnTo>
                  <a:lnTo>
                    <a:pt x="0" y="2144"/>
                  </a:lnTo>
                  <a:lnTo>
                    <a:pt x="105" y="2170"/>
                  </a:lnTo>
                  <a:lnTo>
                    <a:pt x="185" y="2197"/>
                  </a:lnTo>
                  <a:lnTo>
                    <a:pt x="291" y="2223"/>
                  </a:lnTo>
                  <a:lnTo>
                    <a:pt x="396" y="2223"/>
                  </a:lnTo>
                  <a:lnTo>
                    <a:pt x="502" y="2249"/>
                  </a:lnTo>
                  <a:lnTo>
                    <a:pt x="582" y="2276"/>
                  </a:lnTo>
                  <a:lnTo>
                    <a:pt x="687" y="2302"/>
                  </a:lnTo>
                  <a:lnTo>
                    <a:pt x="793" y="2329"/>
                  </a:lnTo>
                  <a:lnTo>
                    <a:pt x="899" y="2355"/>
                  </a:lnTo>
                  <a:lnTo>
                    <a:pt x="1005" y="2382"/>
                  </a:lnTo>
                  <a:lnTo>
                    <a:pt x="1111" y="2382"/>
                  </a:lnTo>
                  <a:lnTo>
                    <a:pt x="1217" y="2408"/>
                  </a:lnTo>
                  <a:lnTo>
                    <a:pt x="1349" y="2435"/>
                  </a:lnTo>
                  <a:lnTo>
                    <a:pt x="1455" y="2461"/>
                  </a:lnTo>
                  <a:lnTo>
                    <a:pt x="1561" y="2461"/>
                  </a:lnTo>
                  <a:lnTo>
                    <a:pt x="1693" y="2488"/>
                  </a:lnTo>
                  <a:lnTo>
                    <a:pt x="1799" y="2514"/>
                  </a:lnTo>
                  <a:lnTo>
                    <a:pt x="1905" y="2514"/>
                  </a:lnTo>
                  <a:lnTo>
                    <a:pt x="2037" y="2541"/>
                  </a:lnTo>
                  <a:lnTo>
                    <a:pt x="2143" y="2567"/>
                  </a:lnTo>
                  <a:lnTo>
                    <a:pt x="2275" y="2567"/>
                  </a:lnTo>
                  <a:lnTo>
                    <a:pt x="2407" y="2593"/>
                  </a:lnTo>
                  <a:lnTo>
                    <a:pt x="2513" y="2593"/>
                  </a:lnTo>
                  <a:lnTo>
                    <a:pt x="2645" y="2620"/>
                  </a:lnTo>
                  <a:lnTo>
                    <a:pt x="2779" y="2620"/>
                  </a:lnTo>
                  <a:lnTo>
                    <a:pt x="2884" y="2646"/>
                  </a:lnTo>
                  <a:lnTo>
                    <a:pt x="3017" y="2646"/>
                  </a:lnTo>
                  <a:lnTo>
                    <a:pt x="3149" y="2673"/>
                  </a:lnTo>
                  <a:lnTo>
                    <a:pt x="3281" y="2673"/>
                  </a:lnTo>
                  <a:lnTo>
                    <a:pt x="3414" y="2673"/>
                  </a:lnTo>
                  <a:lnTo>
                    <a:pt x="3546" y="2699"/>
                  </a:lnTo>
                  <a:lnTo>
                    <a:pt x="3678" y="2699"/>
                  </a:lnTo>
                  <a:lnTo>
                    <a:pt x="3784" y="2726"/>
                  </a:lnTo>
                  <a:lnTo>
                    <a:pt x="3916" y="2726"/>
                  </a:lnTo>
                  <a:lnTo>
                    <a:pt x="4049" y="2726"/>
                  </a:lnTo>
                  <a:lnTo>
                    <a:pt x="4181" y="2726"/>
                  </a:lnTo>
                  <a:lnTo>
                    <a:pt x="4313" y="2752"/>
                  </a:lnTo>
                  <a:lnTo>
                    <a:pt x="4446" y="2752"/>
                  </a:lnTo>
                  <a:lnTo>
                    <a:pt x="4604" y="2752"/>
                  </a:lnTo>
                  <a:lnTo>
                    <a:pt x="4737" y="2752"/>
                  </a:lnTo>
                  <a:lnTo>
                    <a:pt x="4869" y="2752"/>
                  </a:lnTo>
                  <a:lnTo>
                    <a:pt x="5001" y="2752"/>
                  </a:lnTo>
                  <a:lnTo>
                    <a:pt x="5133" y="2779"/>
                  </a:lnTo>
                  <a:lnTo>
                    <a:pt x="5266" y="2779"/>
                  </a:lnTo>
                  <a:lnTo>
                    <a:pt x="5398" y="2779"/>
                  </a:lnTo>
                  <a:lnTo>
                    <a:pt x="5530" y="2779"/>
                  </a:lnTo>
                  <a:lnTo>
                    <a:pt x="5658" y="2779"/>
                  </a:lnTo>
                  <a:lnTo>
                    <a:pt x="5790" y="2779"/>
                  </a:lnTo>
                  <a:lnTo>
                    <a:pt x="5923" y="2779"/>
                  </a:lnTo>
                  <a:lnTo>
                    <a:pt x="6082" y="2779"/>
                  </a:lnTo>
                  <a:lnTo>
                    <a:pt x="6214" y="2779"/>
                  </a:lnTo>
                  <a:lnTo>
                    <a:pt x="6346" y="2752"/>
                  </a:lnTo>
                  <a:lnTo>
                    <a:pt x="6478" y="2752"/>
                  </a:lnTo>
                  <a:lnTo>
                    <a:pt x="6611" y="2752"/>
                  </a:lnTo>
                  <a:lnTo>
                    <a:pt x="6743" y="2752"/>
                  </a:lnTo>
                  <a:lnTo>
                    <a:pt x="6875" y="2752"/>
                  </a:lnTo>
                  <a:lnTo>
                    <a:pt x="7008" y="2752"/>
                  </a:lnTo>
                  <a:lnTo>
                    <a:pt x="7140" y="2726"/>
                  </a:lnTo>
                  <a:lnTo>
                    <a:pt x="7272" y="2726"/>
                  </a:lnTo>
                  <a:lnTo>
                    <a:pt x="7404" y="2726"/>
                  </a:lnTo>
                  <a:lnTo>
                    <a:pt x="7537" y="2726"/>
                  </a:lnTo>
                  <a:lnTo>
                    <a:pt x="7669" y="2699"/>
                  </a:lnTo>
                  <a:lnTo>
                    <a:pt x="7801" y="2699"/>
                  </a:lnTo>
                  <a:lnTo>
                    <a:pt x="7934" y="2673"/>
                  </a:lnTo>
                  <a:lnTo>
                    <a:pt x="8067" y="2673"/>
                  </a:lnTo>
                  <a:lnTo>
                    <a:pt x="8173" y="2673"/>
                  </a:lnTo>
                  <a:lnTo>
                    <a:pt x="8305" y="2646"/>
                  </a:lnTo>
                  <a:lnTo>
                    <a:pt x="8437" y="2646"/>
                  </a:lnTo>
                  <a:lnTo>
                    <a:pt x="8570" y="2620"/>
                  </a:lnTo>
                  <a:lnTo>
                    <a:pt x="8702" y="2620"/>
                  </a:lnTo>
                  <a:lnTo>
                    <a:pt x="8808" y="2593"/>
                  </a:lnTo>
                  <a:lnTo>
                    <a:pt x="8940" y="2593"/>
                  </a:lnTo>
                  <a:lnTo>
                    <a:pt x="9046" y="2567"/>
                  </a:lnTo>
                  <a:lnTo>
                    <a:pt x="9178" y="2567"/>
                  </a:lnTo>
                  <a:lnTo>
                    <a:pt x="9310" y="2541"/>
                  </a:lnTo>
                  <a:lnTo>
                    <a:pt x="9416" y="2514"/>
                  </a:lnTo>
                  <a:lnTo>
                    <a:pt x="9549" y="2514"/>
                  </a:lnTo>
                  <a:lnTo>
                    <a:pt x="9654" y="2488"/>
                  </a:lnTo>
                  <a:lnTo>
                    <a:pt x="9760" y="2461"/>
                  </a:lnTo>
                  <a:lnTo>
                    <a:pt x="9893" y="2461"/>
                  </a:lnTo>
                  <a:lnTo>
                    <a:pt x="9998" y="2435"/>
                  </a:lnTo>
                  <a:lnTo>
                    <a:pt x="10104" y="2408"/>
                  </a:lnTo>
                  <a:lnTo>
                    <a:pt x="10210" y="2382"/>
                  </a:lnTo>
                  <a:lnTo>
                    <a:pt x="10316" y="2382"/>
                  </a:lnTo>
                  <a:lnTo>
                    <a:pt x="10422" y="2355"/>
                  </a:lnTo>
                  <a:lnTo>
                    <a:pt x="10528" y="2329"/>
                  </a:lnTo>
                  <a:lnTo>
                    <a:pt x="10633" y="2302"/>
                  </a:lnTo>
                  <a:lnTo>
                    <a:pt x="10633" y="158"/>
                  </a:lnTo>
                  <a:close/>
                </a:path>
              </a:pathLst>
            </a:custGeom>
            <a:solidFill>
              <a:srgbClr val="50707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65360" y="5886360"/>
              <a:ext cx="533880" cy="714600"/>
            </a:xfrm>
            <a:custGeom>
              <a:avLst/>
              <a:gdLst/>
              <a:ahLst/>
              <a:rect l="0" t="0" r="r" b="b"/>
              <a:pathLst>
                <a:path w="1483" h="1985">
                  <a:moveTo>
                    <a:pt x="0" y="0"/>
                  </a:moveTo>
                  <a:lnTo>
                    <a:pt x="132" y="0"/>
                  </a:lnTo>
                  <a:lnTo>
                    <a:pt x="264" y="0"/>
                  </a:lnTo>
                  <a:lnTo>
                    <a:pt x="424" y="0"/>
                  </a:lnTo>
                  <a:lnTo>
                    <a:pt x="556" y="0"/>
                  </a:lnTo>
                  <a:lnTo>
                    <a:pt x="688" y="0"/>
                  </a:lnTo>
                  <a:lnTo>
                    <a:pt x="821" y="0"/>
                  </a:lnTo>
                  <a:lnTo>
                    <a:pt x="953" y="0"/>
                  </a:lnTo>
                  <a:lnTo>
                    <a:pt x="1085" y="0"/>
                  </a:lnTo>
                  <a:lnTo>
                    <a:pt x="1219" y="26"/>
                  </a:lnTo>
                  <a:lnTo>
                    <a:pt x="1351" y="26"/>
                  </a:lnTo>
                  <a:lnTo>
                    <a:pt x="1483" y="26"/>
                  </a:lnTo>
                  <a:lnTo>
                    <a:pt x="0" y="19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5360" y="5896080"/>
              <a:ext cx="867240" cy="705240"/>
            </a:xfrm>
            <a:custGeom>
              <a:avLst/>
              <a:gdLst/>
              <a:ahLst/>
              <a:rect l="0" t="0" r="r" b="b"/>
              <a:pathLst>
                <a:path w="2409" h="1959">
                  <a:moveTo>
                    <a:pt x="1482" y="0"/>
                  </a:moveTo>
                  <a:lnTo>
                    <a:pt x="1614" y="0"/>
                  </a:lnTo>
                  <a:lnTo>
                    <a:pt x="1747" y="26"/>
                  </a:lnTo>
                  <a:lnTo>
                    <a:pt x="1880" y="26"/>
                  </a:lnTo>
                  <a:lnTo>
                    <a:pt x="2012" y="26"/>
                  </a:lnTo>
                  <a:lnTo>
                    <a:pt x="2145" y="52"/>
                  </a:lnTo>
                  <a:lnTo>
                    <a:pt x="2277" y="52"/>
                  </a:lnTo>
                  <a:lnTo>
                    <a:pt x="2409" y="52"/>
                  </a:lnTo>
                  <a:lnTo>
                    <a:pt x="0" y="1959"/>
                  </a:lnTo>
                  <a:lnTo>
                    <a:pt x="1482" y="0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65360" y="5915160"/>
              <a:ext cx="2791080" cy="1236960"/>
            </a:xfrm>
            <a:custGeom>
              <a:avLst/>
              <a:gdLst/>
              <a:ahLst/>
              <a:rect l="0" t="0" r="r" b="b"/>
              <a:pathLst>
                <a:path w="7753" h="3436">
                  <a:moveTo>
                    <a:pt x="2407" y="0"/>
                  </a:moveTo>
                  <a:lnTo>
                    <a:pt x="2513" y="26"/>
                  </a:lnTo>
                  <a:lnTo>
                    <a:pt x="2645" y="26"/>
                  </a:lnTo>
                  <a:lnTo>
                    <a:pt x="2778" y="52"/>
                  </a:lnTo>
                  <a:lnTo>
                    <a:pt x="2910" y="52"/>
                  </a:lnTo>
                  <a:lnTo>
                    <a:pt x="3042" y="79"/>
                  </a:lnTo>
                  <a:lnTo>
                    <a:pt x="3148" y="79"/>
                  </a:lnTo>
                  <a:lnTo>
                    <a:pt x="3280" y="105"/>
                  </a:lnTo>
                  <a:lnTo>
                    <a:pt x="3386" y="105"/>
                  </a:lnTo>
                  <a:lnTo>
                    <a:pt x="3518" y="132"/>
                  </a:lnTo>
                  <a:lnTo>
                    <a:pt x="3651" y="158"/>
                  </a:lnTo>
                  <a:lnTo>
                    <a:pt x="3757" y="158"/>
                  </a:lnTo>
                  <a:lnTo>
                    <a:pt x="3890" y="185"/>
                  </a:lnTo>
                  <a:lnTo>
                    <a:pt x="3996" y="211"/>
                  </a:lnTo>
                  <a:lnTo>
                    <a:pt x="4102" y="211"/>
                  </a:lnTo>
                  <a:lnTo>
                    <a:pt x="4234" y="238"/>
                  </a:lnTo>
                  <a:lnTo>
                    <a:pt x="4340" y="264"/>
                  </a:lnTo>
                  <a:lnTo>
                    <a:pt x="4446" y="264"/>
                  </a:lnTo>
                  <a:lnTo>
                    <a:pt x="4551" y="291"/>
                  </a:lnTo>
                  <a:lnTo>
                    <a:pt x="4657" y="317"/>
                  </a:lnTo>
                  <a:lnTo>
                    <a:pt x="4763" y="343"/>
                  </a:lnTo>
                  <a:lnTo>
                    <a:pt x="4869" y="370"/>
                  </a:lnTo>
                  <a:lnTo>
                    <a:pt x="4975" y="370"/>
                  </a:lnTo>
                  <a:lnTo>
                    <a:pt x="5081" y="396"/>
                  </a:lnTo>
                  <a:lnTo>
                    <a:pt x="5186" y="423"/>
                  </a:lnTo>
                  <a:lnTo>
                    <a:pt x="5292" y="449"/>
                  </a:lnTo>
                  <a:lnTo>
                    <a:pt x="5372" y="476"/>
                  </a:lnTo>
                  <a:lnTo>
                    <a:pt x="5477" y="502"/>
                  </a:lnTo>
                  <a:lnTo>
                    <a:pt x="5583" y="529"/>
                  </a:lnTo>
                  <a:lnTo>
                    <a:pt x="5663" y="555"/>
                  </a:lnTo>
                  <a:lnTo>
                    <a:pt x="5768" y="582"/>
                  </a:lnTo>
                  <a:lnTo>
                    <a:pt x="5848" y="608"/>
                  </a:lnTo>
                  <a:lnTo>
                    <a:pt x="5927" y="635"/>
                  </a:lnTo>
                  <a:lnTo>
                    <a:pt x="6033" y="661"/>
                  </a:lnTo>
                  <a:lnTo>
                    <a:pt x="6112" y="687"/>
                  </a:lnTo>
                  <a:lnTo>
                    <a:pt x="6192" y="714"/>
                  </a:lnTo>
                  <a:lnTo>
                    <a:pt x="6271" y="740"/>
                  </a:lnTo>
                  <a:lnTo>
                    <a:pt x="6351" y="767"/>
                  </a:lnTo>
                  <a:lnTo>
                    <a:pt x="6430" y="793"/>
                  </a:lnTo>
                  <a:lnTo>
                    <a:pt x="6509" y="820"/>
                  </a:lnTo>
                  <a:lnTo>
                    <a:pt x="6562" y="846"/>
                  </a:lnTo>
                  <a:lnTo>
                    <a:pt x="6642" y="873"/>
                  </a:lnTo>
                  <a:lnTo>
                    <a:pt x="6721" y="899"/>
                  </a:lnTo>
                  <a:lnTo>
                    <a:pt x="6774" y="952"/>
                  </a:lnTo>
                  <a:lnTo>
                    <a:pt x="6853" y="978"/>
                  </a:lnTo>
                  <a:lnTo>
                    <a:pt x="6906" y="1005"/>
                  </a:lnTo>
                  <a:lnTo>
                    <a:pt x="6959" y="1031"/>
                  </a:lnTo>
                  <a:lnTo>
                    <a:pt x="7012" y="1058"/>
                  </a:lnTo>
                  <a:lnTo>
                    <a:pt x="7065" y="1111"/>
                  </a:lnTo>
                  <a:lnTo>
                    <a:pt x="7118" y="1137"/>
                  </a:lnTo>
                  <a:lnTo>
                    <a:pt x="7171" y="1164"/>
                  </a:lnTo>
                  <a:lnTo>
                    <a:pt x="7224" y="1190"/>
                  </a:lnTo>
                  <a:lnTo>
                    <a:pt x="7277" y="1217"/>
                  </a:lnTo>
                  <a:lnTo>
                    <a:pt x="7329" y="1270"/>
                  </a:lnTo>
                  <a:lnTo>
                    <a:pt x="7356" y="1296"/>
                  </a:lnTo>
                  <a:lnTo>
                    <a:pt x="7409" y="1322"/>
                  </a:lnTo>
                  <a:lnTo>
                    <a:pt x="7435" y="1349"/>
                  </a:lnTo>
                  <a:lnTo>
                    <a:pt x="7488" y="1402"/>
                  </a:lnTo>
                  <a:lnTo>
                    <a:pt x="7515" y="1428"/>
                  </a:lnTo>
                  <a:lnTo>
                    <a:pt x="7541" y="1455"/>
                  </a:lnTo>
                  <a:lnTo>
                    <a:pt x="7568" y="1508"/>
                  </a:lnTo>
                  <a:lnTo>
                    <a:pt x="7594" y="1534"/>
                  </a:lnTo>
                  <a:lnTo>
                    <a:pt x="7621" y="1561"/>
                  </a:lnTo>
                  <a:lnTo>
                    <a:pt x="7647" y="1587"/>
                  </a:lnTo>
                  <a:lnTo>
                    <a:pt x="7673" y="1640"/>
                  </a:lnTo>
                  <a:lnTo>
                    <a:pt x="7700" y="1666"/>
                  </a:lnTo>
                  <a:lnTo>
                    <a:pt x="7700" y="1693"/>
                  </a:lnTo>
                  <a:lnTo>
                    <a:pt x="7726" y="1747"/>
                  </a:lnTo>
                  <a:lnTo>
                    <a:pt x="7726" y="1773"/>
                  </a:lnTo>
                  <a:lnTo>
                    <a:pt x="7726" y="1800"/>
                  </a:lnTo>
                  <a:lnTo>
                    <a:pt x="7753" y="1853"/>
                  </a:lnTo>
                  <a:lnTo>
                    <a:pt x="7753" y="1879"/>
                  </a:lnTo>
                  <a:lnTo>
                    <a:pt x="7753" y="1906"/>
                  </a:lnTo>
                  <a:lnTo>
                    <a:pt x="7753" y="1958"/>
                  </a:lnTo>
                  <a:lnTo>
                    <a:pt x="7753" y="1985"/>
                  </a:lnTo>
                  <a:lnTo>
                    <a:pt x="7726" y="2011"/>
                  </a:lnTo>
                  <a:lnTo>
                    <a:pt x="7726" y="2064"/>
                  </a:lnTo>
                  <a:lnTo>
                    <a:pt x="7726" y="2091"/>
                  </a:lnTo>
                  <a:lnTo>
                    <a:pt x="7700" y="2117"/>
                  </a:lnTo>
                  <a:lnTo>
                    <a:pt x="7700" y="2144"/>
                  </a:lnTo>
                  <a:lnTo>
                    <a:pt x="7673" y="2197"/>
                  </a:lnTo>
                  <a:lnTo>
                    <a:pt x="7647" y="2223"/>
                  </a:lnTo>
                  <a:lnTo>
                    <a:pt x="7621" y="2249"/>
                  </a:lnTo>
                  <a:lnTo>
                    <a:pt x="7594" y="2302"/>
                  </a:lnTo>
                  <a:lnTo>
                    <a:pt x="7568" y="2329"/>
                  </a:lnTo>
                  <a:lnTo>
                    <a:pt x="7541" y="2355"/>
                  </a:lnTo>
                  <a:lnTo>
                    <a:pt x="7515" y="2408"/>
                  </a:lnTo>
                  <a:lnTo>
                    <a:pt x="7488" y="2430"/>
                  </a:lnTo>
                  <a:lnTo>
                    <a:pt x="7435" y="2457"/>
                  </a:lnTo>
                  <a:lnTo>
                    <a:pt x="7409" y="2483"/>
                  </a:lnTo>
                  <a:lnTo>
                    <a:pt x="7356" y="2536"/>
                  </a:lnTo>
                  <a:lnTo>
                    <a:pt x="7329" y="2563"/>
                  </a:lnTo>
                  <a:lnTo>
                    <a:pt x="7277" y="2589"/>
                  </a:lnTo>
                  <a:lnTo>
                    <a:pt x="7224" y="2615"/>
                  </a:lnTo>
                  <a:lnTo>
                    <a:pt x="7171" y="2668"/>
                  </a:lnTo>
                  <a:lnTo>
                    <a:pt x="7118" y="2695"/>
                  </a:lnTo>
                  <a:lnTo>
                    <a:pt x="7065" y="2721"/>
                  </a:lnTo>
                  <a:lnTo>
                    <a:pt x="7012" y="2748"/>
                  </a:lnTo>
                  <a:lnTo>
                    <a:pt x="6959" y="2774"/>
                  </a:lnTo>
                  <a:lnTo>
                    <a:pt x="6906" y="2827"/>
                  </a:lnTo>
                  <a:lnTo>
                    <a:pt x="6853" y="2854"/>
                  </a:lnTo>
                  <a:lnTo>
                    <a:pt x="6774" y="2880"/>
                  </a:lnTo>
                  <a:lnTo>
                    <a:pt x="6721" y="2907"/>
                  </a:lnTo>
                  <a:lnTo>
                    <a:pt x="6642" y="2933"/>
                  </a:lnTo>
                  <a:lnTo>
                    <a:pt x="6562" y="2959"/>
                  </a:lnTo>
                  <a:lnTo>
                    <a:pt x="6509" y="2986"/>
                  </a:lnTo>
                  <a:lnTo>
                    <a:pt x="6430" y="3012"/>
                  </a:lnTo>
                  <a:lnTo>
                    <a:pt x="6351" y="3065"/>
                  </a:lnTo>
                  <a:lnTo>
                    <a:pt x="6271" y="3092"/>
                  </a:lnTo>
                  <a:lnTo>
                    <a:pt x="6192" y="3118"/>
                  </a:lnTo>
                  <a:lnTo>
                    <a:pt x="6112" y="3145"/>
                  </a:lnTo>
                  <a:lnTo>
                    <a:pt x="6033" y="3171"/>
                  </a:lnTo>
                  <a:lnTo>
                    <a:pt x="5927" y="3198"/>
                  </a:lnTo>
                  <a:lnTo>
                    <a:pt x="5848" y="3224"/>
                  </a:lnTo>
                  <a:lnTo>
                    <a:pt x="5768" y="3250"/>
                  </a:lnTo>
                  <a:lnTo>
                    <a:pt x="5663" y="3277"/>
                  </a:lnTo>
                  <a:lnTo>
                    <a:pt x="5583" y="3303"/>
                  </a:lnTo>
                  <a:lnTo>
                    <a:pt x="5477" y="3330"/>
                  </a:lnTo>
                  <a:lnTo>
                    <a:pt x="5372" y="3356"/>
                  </a:lnTo>
                  <a:lnTo>
                    <a:pt x="5292" y="3356"/>
                  </a:lnTo>
                  <a:lnTo>
                    <a:pt x="5186" y="3383"/>
                  </a:lnTo>
                  <a:lnTo>
                    <a:pt x="5081" y="3409"/>
                  </a:lnTo>
                  <a:lnTo>
                    <a:pt x="4975" y="3436"/>
                  </a:lnTo>
                  <a:lnTo>
                    <a:pt x="0" y="1906"/>
                  </a:lnTo>
                  <a:lnTo>
                    <a:pt x="2407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28840" y="6600960"/>
              <a:ext cx="3827880" cy="722520"/>
            </a:xfrm>
            <a:custGeom>
              <a:avLst/>
              <a:gdLst/>
              <a:ahLst/>
              <a:rect l="0" t="0" r="r" b="b"/>
              <a:pathLst>
                <a:path w="10633" h="2007">
                  <a:moveTo>
                    <a:pt x="10633" y="1531"/>
                  </a:moveTo>
                  <a:lnTo>
                    <a:pt x="10528" y="1557"/>
                  </a:lnTo>
                  <a:lnTo>
                    <a:pt x="10422" y="1584"/>
                  </a:lnTo>
                  <a:lnTo>
                    <a:pt x="10316" y="1610"/>
                  </a:lnTo>
                  <a:lnTo>
                    <a:pt x="10210" y="1610"/>
                  </a:lnTo>
                  <a:lnTo>
                    <a:pt x="10104" y="1637"/>
                  </a:lnTo>
                  <a:lnTo>
                    <a:pt x="9998" y="1663"/>
                  </a:lnTo>
                  <a:lnTo>
                    <a:pt x="9893" y="1689"/>
                  </a:lnTo>
                  <a:lnTo>
                    <a:pt x="9760" y="1689"/>
                  </a:lnTo>
                  <a:lnTo>
                    <a:pt x="9654" y="1716"/>
                  </a:lnTo>
                  <a:lnTo>
                    <a:pt x="9549" y="1742"/>
                  </a:lnTo>
                  <a:lnTo>
                    <a:pt x="9416" y="1742"/>
                  </a:lnTo>
                  <a:lnTo>
                    <a:pt x="9310" y="1769"/>
                  </a:lnTo>
                  <a:lnTo>
                    <a:pt x="9178" y="1795"/>
                  </a:lnTo>
                  <a:lnTo>
                    <a:pt x="9046" y="1795"/>
                  </a:lnTo>
                  <a:lnTo>
                    <a:pt x="8940" y="1822"/>
                  </a:lnTo>
                  <a:lnTo>
                    <a:pt x="8808" y="1822"/>
                  </a:lnTo>
                  <a:lnTo>
                    <a:pt x="8702" y="1848"/>
                  </a:lnTo>
                  <a:lnTo>
                    <a:pt x="8570" y="1848"/>
                  </a:lnTo>
                  <a:lnTo>
                    <a:pt x="8437" y="1875"/>
                  </a:lnTo>
                  <a:lnTo>
                    <a:pt x="8305" y="1875"/>
                  </a:lnTo>
                  <a:lnTo>
                    <a:pt x="8173" y="1901"/>
                  </a:lnTo>
                  <a:lnTo>
                    <a:pt x="8067" y="1901"/>
                  </a:lnTo>
                  <a:lnTo>
                    <a:pt x="7934" y="1901"/>
                  </a:lnTo>
                  <a:lnTo>
                    <a:pt x="7801" y="1928"/>
                  </a:lnTo>
                  <a:lnTo>
                    <a:pt x="7669" y="1928"/>
                  </a:lnTo>
                  <a:lnTo>
                    <a:pt x="7537" y="1954"/>
                  </a:lnTo>
                  <a:lnTo>
                    <a:pt x="7404" y="1954"/>
                  </a:lnTo>
                  <a:lnTo>
                    <a:pt x="7272" y="1954"/>
                  </a:lnTo>
                  <a:lnTo>
                    <a:pt x="7140" y="1954"/>
                  </a:lnTo>
                  <a:lnTo>
                    <a:pt x="7008" y="1980"/>
                  </a:lnTo>
                  <a:lnTo>
                    <a:pt x="6875" y="1980"/>
                  </a:lnTo>
                  <a:lnTo>
                    <a:pt x="6743" y="1980"/>
                  </a:lnTo>
                  <a:lnTo>
                    <a:pt x="6611" y="1980"/>
                  </a:lnTo>
                  <a:lnTo>
                    <a:pt x="6478" y="1980"/>
                  </a:lnTo>
                  <a:lnTo>
                    <a:pt x="6346" y="1980"/>
                  </a:lnTo>
                  <a:lnTo>
                    <a:pt x="6214" y="2007"/>
                  </a:lnTo>
                  <a:lnTo>
                    <a:pt x="6082" y="2007"/>
                  </a:lnTo>
                  <a:lnTo>
                    <a:pt x="5923" y="2007"/>
                  </a:lnTo>
                  <a:lnTo>
                    <a:pt x="5790" y="2007"/>
                  </a:lnTo>
                  <a:lnTo>
                    <a:pt x="5658" y="2007"/>
                  </a:lnTo>
                  <a:lnTo>
                    <a:pt x="5530" y="2007"/>
                  </a:lnTo>
                  <a:lnTo>
                    <a:pt x="5398" y="2007"/>
                  </a:lnTo>
                  <a:lnTo>
                    <a:pt x="5266" y="2007"/>
                  </a:lnTo>
                  <a:lnTo>
                    <a:pt x="5133" y="2007"/>
                  </a:lnTo>
                  <a:lnTo>
                    <a:pt x="5001" y="1980"/>
                  </a:lnTo>
                  <a:lnTo>
                    <a:pt x="4869" y="1980"/>
                  </a:lnTo>
                  <a:lnTo>
                    <a:pt x="4737" y="1980"/>
                  </a:lnTo>
                  <a:lnTo>
                    <a:pt x="4604" y="1980"/>
                  </a:lnTo>
                  <a:lnTo>
                    <a:pt x="4446" y="1980"/>
                  </a:lnTo>
                  <a:lnTo>
                    <a:pt x="4313" y="1980"/>
                  </a:lnTo>
                  <a:lnTo>
                    <a:pt x="4181" y="1954"/>
                  </a:lnTo>
                  <a:lnTo>
                    <a:pt x="4049" y="1954"/>
                  </a:lnTo>
                  <a:lnTo>
                    <a:pt x="3916" y="1954"/>
                  </a:lnTo>
                  <a:lnTo>
                    <a:pt x="3784" y="1954"/>
                  </a:lnTo>
                  <a:lnTo>
                    <a:pt x="3678" y="1928"/>
                  </a:lnTo>
                  <a:lnTo>
                    <a:pt x="3546" y="1928"/>
                  </a:lnTo>
                  <a:lnTo>
                    <a:pt x="3414" y="1901"/>
                  </a:lnTo>
                  <a:lnTo>
                    <a:pt x="3281" y="1901"/>
                  </a:lnTo>
                  <a:lnTo>
                    <a:pt x="3149" y="1901"/>
                  </a:lnTo>
                  <a:lnTo>
                    <a:pt x="3017" y="1875"/>
                  </a:lnTo>
                  <a:lnTo>
                    <a:pt x="2884" y="1875"/>
                  </a:lnTo>
                  <a:lnTo>
                    <a:pt x="2779" y="1848"/>
                  </a:lnTo>
                  <a:lnTo>
                    <a:pt x="2645" y="1848"/>
                  </a:lnTo>
                  <a:lnTo>
                    <a:pt x="2513" y="1822"/>
                  </a:lnTo>
                  <a:lnTo>
                    <a:pt x="2407" y="1822"/>
                  </a:lnTo>
                  <a:lnTo>
                    <a:pt x="2275" y="1795"/>
                  </a:lnTo>
                  <a:lnTo>
                    <a:pt x="2143" y="1795"/>
                  </a:lnTo>
                  <a:lnTo>
                    <a:pt x="2037" y="1769"/>
                  </a:lnTo>
                  <a:lnTo>
                    <a:pt x="1905" y="1742"/>
                  </a:lnTo>
                  <a:lnTo>
                    <a:pt x="1799" y="1742"/>
                  </a:lnTo>
                  <a:lnTo>
                    <a:pt x="1693" y="1716"/>
                  </a:lnTo>
                  <a:lnTo>
                    <a:pt x="1561" y="1689"/>
                  </a:lnTo>
                  <a:lnTo>
                    <a:pt x="1455" y="1689"/>
                  </a:lnTo>
                  <a:lnTo>
                    <a:pt x="1349" y="1663"/>
                  </a:lnTo>
                  <a:lnTo>
                    <a:pt x="1217" y="1637"/>
                  </a:lnTo>
                  <a:lnTo>
                    <a:pt x="1111" y="1610"/>
                  </a:lnTo>
                  <a:lnTo>
                    <a:pt x="1005" y="1610"/>
                  </a:lnTo>
                  <a:lnTo>
                    <a:pt x="899" y="1584"/>
                  </a:lnTo>
                  <a:lnTo>
                    <a:pt x="793" y="1557"/>
                  </a:lnTo>
                  <a:lnTo>
                    <a:pt x="687" y="1531"/>
                  </a:lnTo>
                  <a:lnTo>
                    <a:pt x="582" y="1504"/>
                  </a:lnTo>
                  <a:lnTo>
                    <a:pt x="502" y="1478"/>
                  </a:lnTo>
                  <a:lnTo>
                    <a:pt x="396" y="1451"/>
                  </a:lnTo>
                  <a:lnTo>
                    <a:pt x="291" y="1451"/>
                  </a:lnTo>
                  <a:lnTo>
                    <a:pt x="185" y="1425"/>
                  </a:lnTo>
                  <a:lnTo>
                    <a:pt x="105" y="1398"/>
                  </a:lnTo>
                  <a:lnTo>
                    <a:pt x="0" y="1372"/>
                  </a:lnTo>
                  <a:lnTo>
                    <a:pt x="5658" y="0"/>
                  </a:lnTo>
                  <a:lnTo>
                    <a:pt x="10633" y="1531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5800" y="6429240"/>
              <a:ext cx="2779920" cy="665640"/>
            </a:xfrm>
            <a:custGeom>
              <a:avLst/>
              <a:gdLst/>
              <a:ahLst/>
              <a:rect l="0" t="0" r="r" b="b"/>
              <a:pathLst>
                <a:path w="7722" h="1849">
                  <a:moveTo>
                    <a:pt x="2063" y="1849"/>
                  </a:moveTo>
                  <a:lnTo>
                    <a:pt x="1984" y="1823"/>
                  </a:lnTo>
                  <a:lnTo>
                    <a:pt x="1878" y="1796"/>
                  </a:lnTo>
                  <a:lnTo>
                    <a:pt x="1799" y="1770"/>
                  </a:lnTo>
                  <a:lnTo>
                    <a:pt x="1719" y="1743"/>
                  </a:lnTo>
                  <a:lnTo>
                    <a:pt x="1640" y="1717"/>
                  </a:lnTo>
                  <a:lnTo>
                    <a:pt x="1561" y="1690"/>
                  </a:lnTo>
                  <a:lnTo>
                    <a:pt x="1481" y="1664"/>
                  </a:lnTo>
                  <a:lnTo>
                    <a:pt x="1402" y="1638"/>
                  </a:lnTo>
                  <a:lnTo>
                    <a:pt x="1322" y="1585"/>
                  </a:lnTo>
                  <a:lnTo>
                    <a:pt x="1243" y="1558"/>
                  </a:lnTo>
                  <a:lnTo>
                    <a:pt x="1164" y="1532"/>
                  </a:lnTo>
                  <a:lnTo>
                    <a:pt x="1111" y="1505"/>
                  </a:lnTo>
                  <a:lnTo>
                    <a:pt x="1031" y="1479"/>
                  </a:lnTo>
                  <a:lnTo>
                    <a:pt x="952" y="1452"/>
                  </a:lnTo>
                  <a:lnTo>
                    <a:pt x="899" y="1426"/>
                  </a:lnTo>
                  <a:lnTo>
                    <a:pt x="846" y="1399"/>
                  </a:lnTo>
                  <a:lnTo>
                    <a:pt x="767" y="1345"/>
                  </a:lnTo>
                  <a:lnTo>
                    <a:pt x="714" y="1319"/>
                  </a:lnTo>
                  <a:lnTo>
                    <a:pt x="661" y="1293"/>
                  </a:lnTo>
                  <a:lnTo>
                    <a:pt x="608" y="1266"/>
                  </a:lnTo>
                  <a:lnTo>
                    <a:pt x="555" y="1240"/>
                  </a:lnTo>
                  <a:lnTo>
                    <a:pt x="502" y="1187"/>
                  </a:lnTo>
                  <a:lnTo>
                    <a:pt x="449" y="1160"/>
                  </a:lnTo>
                  <a:lnTo>
                    <a:pt x="423" y="1134"/>
                  </a:lnTo>
                  <a:lnTo>
                    <a:pt x="370" y="1107"/>
                  </a:lnTo>
                  <a:lnTo>
                    <a:pt x="343" y="1054"/>
                  </a:lnTo>
                  <a:lnTo>
                    <a:pt x="291" y="1028"/>
                  </a:lnTo>
                  <a:lnTo>
                    <a:pt x="264" y="1002"/>
                  </a:lnTo>
                  <a:lnTo>
                    <a:pt x="211" y="979"/>
                  </a:lnTo>
                  <a:lnTo>
                    <a:pt x="185" y="927"/>
                  </a:lnTo>
                  <a:lnTo>
                    <a:pt x="158" y="900"/>
                  </a:lnTo>
                  <a:lnTo>
                    <a:pt x="132" y="874"/>
                  </a:lnTo>
                  <a:lnTo>
                    <a:pt x="105" y="821"/>
                  </a:lnTo>
                  <a:lnTo>
                    <a:pt x="79" y="794"/>
                  </a:lnTo>
                  <a:lnTo>
                    <a:pt x="79" y="768"/>
                  </a:lnTo>
                  <a:lnTo>
                    <a:pt x="52" y="715"/>
                  </a:lnTo>
                  <a:lnTo>
                    <a:pt x="26" y="688"/>
                  </a:lnTo>
                  <a:lnTo>
                    <a:pt x="26" y="662"/>
                  </a:lnTo>
                  <a:lnTo>
                    <a:pt x="0" y="636"/>
                  </a:lnTo>
                  <a:lnTo>
                    <a:pt x="0" y="583"/>
                  </a:lnTo>
                  <a:lnTo>
                    <a:pt x="0" y="556"/>
                  </a:lnTo>
                  <a:lnTo>
                    <a:pt x="0" y="530"/>
                  </a:lnTo>
                  <a:lnTo>
                    <a:pt x="0" y="477"/>
                  </a:lnTo>
                  <a:lnTo>
                    <a:pt x="0" y="449"/>
                  </a:lnTo>
                  <a:lnTo>
                    <a:pt x="0" y="423"/>
                  </a:lnTo>
                  <a:lnTo>
                    <a:pt x="0" y="370"/>
                  </a:lnTo>
                  <a:lnTo>
                    <a:pt x="0" y="343"/>
                  </a:lnTo>
                  <a:lnTo>
                    <a:pt x="26" y="317"/>
                  </a:lnTo>
                  <a:lnTo>
                    <a:pt x="26" y="264"/>
                  </a:lnTo>
                  <a:lnTo>
                    <a:pt x="52" y="238"/>
                  </a:lnTo>
                  <a:lnTo>
                    <a:pt x="79" y="211"/>
                  </a:lnTo>
                  <a:lnTo>
                    <a:pt x="79" y="158"/>
                  </a:lnTo>
                  <a:lnTo>
                    <a:pt x="105" y="132"/>
                  </a:lnTo>
                  <a:lnTo>
                    <a:pt x="132" y="105"/>
                  </a:lnTo>
                  <a:lnTo>
                    <a:pt x="158" y="79"/>
                  </a:lnTo>
                  <a:lnTo>
                    <a:pt x="185" y="26"/>
                  </a:lnTo>
                  <a:lnTo>
                    <a:pt x="211" y="0"/>
                  </a:lnTo>
                  <a:lnTo>
                    <a:pt x="7722" y="477"/>
                  </a:lnTo>
                  <a:lnTo>
                    <a:pt x="2063" y="1849"/>
                  </a:lnTo>
                  <a:close/>
                </a:path>
              </a:pathLst>
            </a:custGeom>
            <a:solidFill>
              <a:srgbClr val="6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2120" y="6334200"/>
              <a:ext cx="2703960" cy="267120"/>
            </a:xfrm>
            <a:custGeom>
              <a:avLst/>
              <a:gdLst/>
              <a:ahLst/>
              <a:rect l="0" t="0" r="r" b="b"/>
              <a:pathLst>
                <a:path w="7511" h="742">
                  <a:moveTo>
                    <a:pt x="0" y="265"/>
                  </a:moveTo>
                  <a:lnTo>
                    <a:pt x="52" y="239"/>
                  </a:lnTo>
                  <a:lnTo>
                    <a:pt x="79" y="186"/>
                  </a:lnTo>
                  <a:lnTo>
                    <a:pt x="132" y="158"/>
                  </a:lnTo>
                  <a:lnTo>
                    <a:pt x="158" y="132"/>
                  </a:lnTo>
                  <a:lnTo>
                    <a:pt x="211" y="105"/>
                  </a:lnTo>
                  <a:lnTo>
                    <a:pt x="238" y="52"/>
                  </a:lnTo>
                  <a:lnTo>
                    <a:pt x="291" y="26"/>
                  </a:lnTo>
                  <a:lnTo>
                    <a:pt x="343" y="0"/>
                  </a:lnTo>
                  <a:lnTo>
                    <a:pt x="7511" y="742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5960" y="6076800"/>
              <a:ext cx="2580120" cy="524160"/>
            </a:xfrm>
            <a:custGeom>
              <a:avLst/>
              <a:gdLst/>
              <a:ahLst/>
              <a:rect l="0" t="0" r="r" b="b"/>
              <a:pathLst>
                <a:path w="7167" h="1456">
                  <a:moveTo>
                    <a:pt x="0" y="714"/>
                  </a:moveTo>
                  <a:lnTo>
                    <a:pt x="52" y="687"/>
                  </a:lnTo>
                  <a:lnTo>
                    <a:pt x="105" y="661"/>
                  </a:lnTo>
                  <a:lnTo>
                    <a:pt x="158" y="608"/>
                  </a:lnTo>
                  <a:lnTo>
                    <a:pt x="211" y="582"/>
                  </a:lnTo>
                  <a:lnTo>
                    <a:pt x="291" y="555"/>
                  </a:lnTo>
                  <a:lnTo>
                    <a:pt x="343" y="529"/>
                  </a:lnTo>
                  <a:lnTo>
                    <a:pt x="396" y="502"/>
                  </a:lnTo>
                  <a:lnTo>
                    <a:pt x="476" y="449"/>
                  </a:lnTo>
                  <a:lnTo>
                    <a:pt x="555" y="423"/>
                  </a:lnTo>
                  <a:lnTo>
                    <a:pt x="608" y="396"/>
                  </a:lnTo>
                  <a:lnTo>
                    <a:pt x="687" y="370"/>
                  </a:lnTo>
                  <a:lnTo>
                    <a:pt x="767" y="343"/>
                  </a:lnTo>
                  <a:lnTo>
                    <a:pt x="846" y="317"/>
                  </a:lnTo>
                  <a:lnTo>
                    <a:pt x="926" y="291"/>
                  </a:lnTo>
                  <a:lnTo>
                    <a:pt x="1005" y="264"/>
                  </a:lnTo>
                  <a:lnTo>
                    <a:pt x="1084" y="238"/>
                  </a:lnTo>
                  <a:lnTo>
                    <a:pt x="1164" y="211"/>
                  </a:lnTo>
                  <a:lnTo>
                    <a:pt x="1243" y="185"/>
                  </a:lnTo>
                  <a:lnTo>
                    <a:pt x="1322" y="158"/>
                  </a:lnTo>
                  <a:lnTo>
                    <a:pt x="1428" y="132"/>
                  </a:lnTo>
                  <a:lnTo>
                    <a:pt x="1508" y="105"/>
                  </a:lnTo>
                  <a:lnTo>
                    <a:pt x="1613" y="79"/>
                  </a:lnTo>
                  <a:lnTo>
                    <a:pt x="1693" y="52"/>
                  </a:lnTo>
                  <a:lnTo>
                    <a:pt x="1800" y="26"/>
                  </a:lnTo>
                  <a:lnTo>
                    <a:pt x="1906" y="0"/>
                  </a:lnTo>
                  <a:lnTo>
                    <a:pt x="7167" y="1456"/>
                  </a:lnTo>
                  <a:lnTo>
                    <a:pt x="0" y="714"/>
                  </a:lnTo>
                  <a:close/>
                </a:path>
              </a:pathLst>
            </a:custGeom>
            <a:solidFill>
              <a:srgbClr val="008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71760" y="5886360"/>
              <a:ext cx="1894320" cy="714600"/>
            </a:xfrm>
            <a:custGeom>
              <a:avLst/>
              <a:gdLst/>
              <a:ahLst/>
              <a:rect l="0" t="0" r="r" b="b"/>
              <a:pathLst>
                <a:path w="5262" h="1985">
                  <a:moveTo>
                    <a:pt x="0" y="529"/>
                  </a:moveTo>
                  <a:lnTo>
                    <a:pt x="105" y="502"/>
                  </a:lnTo>
                  <a:lnTo>
                    <a:pt x="185" y="476"/>
                  </a:lnTo>
                  <a:lnTo>
                    <a:pt x="291" y="449"/>
                  </a:lnTo>
                  <a:lnTo>
                    <a:pt x="396" y="449"/>
                  </a:lnTo>
                  <a:lnTo>
                    <a:pt x="502" y="423"/>
                  </a:lnTo>
                  <a:lnTo>
                    <a:pt x="608" y="396"/>
                  </a:lnTo>
                  <a:lnTo>
                    <a:pt x="714" y="370"/>
                  </a:lnTo>
                  <a:lnTo>
                    <a:pt x="820" y="343"/>
                  </a:lnTo>
                  <a:lnTo>
                    <a:pt x="952" y="343"/>
                  </a:lnTo>
                  <a:lnTo>
                    <a:pt x="1058" y="317"/>
                  </a:lnTo>
                  <a:lnTo>
                    <a:pt x="1164" y="291"/>
                  </a:lnTo>
                  <a:lnTo>
                    <a:pt x="1296" y="291"/>
                  </a:lnTo>
                  <a:lnTo>
                    <a:pt x="1403" y="264"/>
                  </a:lnTo>
                  <a:lnTo>
                    <a:pt x="1509" y="238"/>
                  </a:lnTo>
                  <a:lnTo>
                    <a:pt x="1641" y="238"/>
                  </a:lnTo>
                  <a:lnTo>
                    <a:pt x="1747" y="211"/>
                  </a:lnTo>
                  <a:lnTo>
                    <a:pt x="1879" y="185"/>
                  </a:lnTo>
                  <a:lnTo>
                    <a:pt x="2011" y="185"/>
                  </a:lnTo>
                  <a:lnTo>
                    <a:pt x="2117" y="158"/>
                  </a:lnTo>
                  <a:lnTo>
                    <a:pt x="2249" y="158"/>
                  </a:lnTo>
                  <a:lnTo>
                    <a:pt x="2382" y="132"/>
                  </a:lnTo>
                  <a:lnTo>
                    <a:pt x="2488" y="132"/>
                  </a:lnTo>
                  <a:lnTo>
                    <a:pt x="2620" y="105"/>
                  </a:lnTo>
                  <a:lnTo>
                    <a:pt x="2752" y="105"/>
                  </a:lnTo>
                  <a:lnTo>
                    <a:pt x="2884" y="79"/>
                  </a:lnTo>
                  <a:lnTo>
                    <a:pt x="3017" y="79"/>
                  </a:lnTo>
                  <a:lnTo>
                    <a:pt x="3149" y="79"/>
                  </a:lnTo>
                  <a:lnTo>
                    <a:pt x="3281" y="52"/>
                  </a:lnTo>
                  <a:lnTo>
                    <a:pt x="3387" y="52"/>
                  </a:lnTo>
                  <a:lnTo>
                    <a:pt x="3519" y="52"/>
                  </a:lnTo>
                  <a:lnTo>
                    <a:pt x="3652" y="26"/>
                  </a:lnTo>
                  <a:lnTo>
                    <a:pt x="3784" y="26"/>
                  </a:lnTo>
                  <a:lnTo>
                    <a:pt x="3916" y="26"/>
                  </a:lnTo>
                  <a:lnTo>
                    <a:pt x="4050" y="26"/>
                  </a:lnTo>
                  <a:lnTo>
                    <a:pt x="4208" y="0"/>
                  </a:lnTo>
                  <a:lnTo>
                    <a:pt x="4341" y="0"/>
                  </a:lnTo>
                  <a:lnTo>
                    <a:pt x="4473" y="0"/>
                  </a:lnTo>
                  <a:lnTo>
                    <a:pt x="4605" y="0"/>
                  </a:lnTo>
                  <a:lnTo>
                    <a:pt x="4738" y="0"/>
                  </a:lnTo>
                  <a:lnTo>
                    <a:pt x="4870" y="0"/>
                  </a:lnTo>
                  <a:lnTo>
                    <a:pt x="5002" y="0"/>
                  </a:lnTo>
                  <a:lnTo>
                    <a:pt x="5134" y="0"/>
                  </a:lnTo>
                  <a:lnTo>
                    <a:pt x="5262" y="0"/>
                  </a:lnTo>
                  <a:lnTo>
                    <a:pt x="5262" y="1985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c0c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879640" y="4911840"/>
              <a:ext cx="1098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440160" y="5280120"/>
              <a:ext cx="5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3506760" y="5518080"/>
              <a:ext cx="420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4116240" y="5299200"/>
              <a:ext cx="392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097160" y="5537160"/>
              <a:ext cx="420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3032280" y="818352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060720" y="842184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908000" y="5346720"/>
              <a:ext cx="5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927080" y="558468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50720" y="756432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79520" y="780264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431640" y="589932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07960" y="6137280"/>
              <a:ext cx="420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831960" y="5565600"/>
              <a:ext cx="5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898560" y="5803920"/>
              <a:ext cx="420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735520" y="568008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716440" y="591804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47840" y="4800600"/>
            <a:ext cx="5961240" cy="396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6560" y="781200"/>
            <a:ext cx="5915160" cy="38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85800" y="968400"/>
            <a:ext cx="5371920" cy="3159360"/>
            <a:chOff x="685800" y="968400"/>
            <a:chExt cx="5371920" cy="3159360"/>
          </a:xfrm>
        </p:grpSpPr>
        <p:sp>
          <p:nvSpPr>
            <p:cNvPr id="286" name=""/>
            <p:cNvSpPr/>
            <p:nvPr/>
          </p:nvSpPr>
          <p:spPr>
            <a:xfrm>
              <a:off x="3448080" y="2409840"/>
              <a:ext cx="2581560" cy="1429200"/>
            </a:xfrm>
            <a:custGeom>
              <a:avLst/>
              <a:gdLst/>
              <a:ahLst/>
              <a:rect l="0" t="0" r="r" b="b"/>
              <a:pathLst>
                <a:path w="7171" h="3970">
                  <a:moveTo>
                    <a:pt x="7171" y="0"/>
                  </a:moveTo>
                  <a:lnTo>
                    <a:pt x="7171" y="52"/>
                  </a:lnTo>
                  <a:lnTo>
                    <a:pt x="7171" y="79"/>
                  </a:lnTo>
                  <a:lnTo>
                    <a:pt x="7144" y="105"/>
                  </a:lnTo>
                  <a:lnTo>
                    <a:pt x="7144" y="132"/>
                  </a:lnTo>
                  <a:lnTo>
                    <a:pt x="7144" y="185"/>
                  </a:lnTo>
                  <a:lnTo>
                    <a:pt x="7118" y="211"/>
                  </a:lnTo>
                  <a:lnTo>
                    <a:pt x="7118" y="238"/>
                  </a:lnTo>
                  <a:lnTo>
                    <a:pt x="7091" y="264"/>
                  </a:lnTo>
                  <a:lnTo>
                    <a:pt x="7065" y="317"/>
                  </a:lnTo>
                  <a:lnTo>
                    <a:pt x="7038" y="343"/>
                  </a:lnTo>
                  <a:lnTo>
                    <a:pt x="7038" y="370"/>
                  </a:lnTo>
                  <a:lnTo>
                    <a:pt x="7012" y="396"/>
                  </a:lnTo>
                  <a:lnTo>
                    <a:pt x="6985" y="449"/>
                  </a:lnTo>
                  <a:lnTo>
                    <a:pt x="6933" y="476"/>
                  </a:lnTo>
                  <a:lnTo>
                    <a:pt x="6906" y="502"/>
                  </a:lnTo>
                  <a:lnTo>
                    <a:pt x="6880" y="529"/>
                  </a:lnTo>
                  <a:lnTo>
                    <a:pt x="6827" y="555"/>
                  </a:lnTo>
                  <a:lnTo>
                    <a:pt x="6800" y="608"/>
                  </a:lnTo>
                  <a:lnTo>
                    <a:pt x="6747" y="635"/>
                  </a:lnTo>
                  <a:lnTo>
                    <a:pt x="6721" y="661"/>
                  </a:lnTo>
                  <a:lnTo>
                    <a:pt x="6668" y="687"/>
                  </a:lnTo>
                  <a:lnTo>
                    <a:pt x="6615" y="714"/>
                  </a:lnTo>
                  <a:lnTo>
                    <a:pt x="6562" y="767"/>
                  </a:lnTo>
                  <a:lnTo>
                    <a:pt x="6509" y="793"/>
                  </a:lnTo>
                  <a:lnTo>
                    <a:pt x="6456" y="820"/>
                  </a:lnTo>
                  <a:lnTo>
                    <a:pt x="6403" y="846"/>
                  </a:lnTo>
                  <a:lnTo>
                    <a:pt x="6350" y="873"/>
                  </a:lnTo>
                  <a:lnTo>
                    <a:pt x="6298" y="899"/>
                  </a:lnTo>
                  <a:lnTo>
                    <a:pt x="6245" y="926"/>
                  </a:lnTo>
                  <a:lnTo>
                    <a:pt x="6165" y="978"/>
                  </a:lnTo>
                  <a:lnTo>
                    <a:pt x="6112" y="1006"/>
                  </a:lnTo>
                  <a:lnTo>
                    <a:pt x="6033" y="1032"/>
                  </a:lnTo>
                  <a:lnTo>
                    <a:pt x="5954" y="1059"/>
                  </a:lnTo>
                  <a:lnTo>
                    <a:pt x="5901" y="1085"/>
                  </a:lnTo>
                  <a:lnTo>
                    <a:pt x="5821" y="1112"/>
                  </a:lnTo>
                  <a:lnTo>
                    <a:pt x="5742" y="1138"/>
                  </a:lnTo>
                  <a:lnTo>
                    <a:pt x="5663" y="1165"/>
                  </a:lnTo>
                  <a:lnTo>
                    <a:pt x="5583" y="1191"/>
                  </a:lnTo>
                  <a:lnTo>
                    <a:pt x="5504" y="1218"/>
                  </a:lnTo>
                  <a:lnTo>
                    <a:pt x="5424" y="1244"/>
                  </a:lnTo>
                  <a:lnTo>
                    <a:pt x="5345" y="1271"/>
                  </a:lnTo>
                  <a:lnTo>
                    <a:pt x="5266" y="1297"/>
                  </a:lnTo>
                  <a:lnTo>
                    <a:pt x="5160" y="1323"/>
                  </a:lnTo>
                  <a:lnTo>
                    <a:pt x="5080" y="1350"/>
                  </a:lnTo>
                  <a:lnTo>
                    <a:pt x="5001" y="1376"/>
                  </a:lnTo>
                  <a:lnTo>
                    <a:pt x="4895" y="1376"/>
                  </a:lnTo>
                  <a:lnTo>
                    <a:pt x="4816" y="1403"/>
                  </a:lnTo>
                  <a:lnTo>
                    <a:pt x="4710" y="1429"/>
                  </a:lnTo>
                  <a:lnTo>
                    <a:pt x="4604" y="1456"/>
                  </a:lnTo>
                  <a:lnTo>
                    <a:pt x="4525" y="1482"/>
                  </a:lnTo>
                  <a:lnTo>
                    <a:pt x="4419" y="1509"/>
                  </a:lnTo>
                  <a:lnTo>
                    <a:pt x="4313" y="1509"/>
                  </a:lnTo>
                  <a:lnTo>
                    <a:pt x="4207" y="1535"/>
                  </a:lnTo>
                  <a:lnTo>
                    <a:pt x="4102" y="1562"/>
                  </a:lnTo>
                  <a:lnTo>
                    <a:pt x="3996" y="1588"/>
                  </a:lnTo>
                  <a:lnTo>
                    <a:pt x="3890" y="1588"/>
                  </a:lnTo>
                  <a:lnTo>
                    <a:pt x="3784" y="1614"/>
                  </a:lnTo>
                  <a:lnTo>
                    <a:pt x="3678" y="1641"/>
                  </a:lnTo>
                  <a:lnTo>
                    <a:pt x="3571" y="1641"/>
                  </a:lnTo>
                  <a:lnTo>
                    <a:pt x="3466" y="1667"/>
                  </a:lnTo>
                  <a:lnTo>
                    <a:pt x="3333" y="1694"/>
                  </a:lnTo>
                  <a:lnTo>
                    <a:pt x="3227" y="1694"/>
                  </a:lnTo>
                  <a:lnTo>
                    <a:pt x="3122" y="1720"/>
                  </a:lnTo>
                  <a:lnTo>
                    <a:pt x="2989" y="1720"/>
                  </a:lnTo>
                  <a:lnTo>
                    <a:pt x="2883" y="1747"/>
                  </a:lnTo>
                  <a:lnTo>
                    <a:pt x="2751" y="1747"/>
                  </a:lnTo>
                  <a:lnTo>
                    <a:pt x="2645" y="1773"/>
                  </a:lnTo>
                  <a:lnTo>
                    <a:pt x="2513" y="1773"/>
                  </a:lnTo>
                  <a:lnTo>
                    <a:pt x="2407" y="1800"/>
                  </a:lnTo>
                  <a:lnTo>
                    <a:pt x="2275" y="1800"/>
                  </a:lnTo>
                  <a:lnTo>
                    <a:pt x="2169" y="1826"/>
                  </a:lnTo>
                  <a:lnTo>
                    <a:pt x="2037" y="1826"/>
                  </a:lnTo>
                  <a:lnTo>
                    <a:pt x="1904" y="1853"/>
                  </a:lnTo>
                  <a:lnTo>
                    <a:pt x="1799" y="1853"/>
                  </a:lnTo>
                  <a:lnTo>
                    <a:pt x="1666" y="1853"/>
                  </a:lnTo>
                  <a:lnTo>
                    <a:pt x="1534" y="1879"/>
                  </a:lnTo>
                  <a:lnTo>
                    <a:pt x="1402" y="1879"/>
                  </a:lnTo>
                  <a:lnTo>
                    <a:pt x="1296" y="1879"/>
                  </a:lnTo>
                  <a:lnTo>
                    <a:pt x="1164" y="1879"/>
                  </a:lnTo>
                  <a:lnTo>
                    <a:pt x="1031" y="1906"/>
                  </a:lnTo>
                  <a:lnTo>
                    <a:pt x="899" y="1906"/>
                  </a:lnTo>
                  <a:lnTo>
                    <a:pt x="767" y="1906"/>
                  </a:lnTo>
                  <a:lnTo>
                    <a:pt x="634" y="1906"/>
                  </a:lnTo>
                  <a:lnTo>
                    <a:pt x="529" y="1906"/>
                  </a:lnTo>
                  <a:lnTo>
                    <a:pt x="396" y="1906"/>
                  </a:lnTo>
                  <a:lnTo>
                    <a:pt x="264" y="1932"/>
                  </a:lnTo>
                  <a:lnTo>
                    <a:pt x="132" y="1932"/>
                  </a:lnTo>
                  <a:lnTo>
                    <a:pt x="0" y="1932"/>
                  </a:lnTo>
                  <a:lnTo>
                    <a:pt x="0" y="3970"/>
                  </a:lnTo>
                  <a:lnTo>
                    <a:pt x="132" y="3970"/>
                  </a:lnTo>
                  <a:lnTo>
                    <a:pt x="264" y="3970"/>
                  </a:lnTo>
                  <a:lnTo>
                    <a:pt x="396" y="3944"/>
                  </a:lnTo>
                  <a:lnTo>
                    <a:pt x="529" y="3944"/>
                  </a:lnTo>
                  <a:lnTo>
                    <a:pt x="634" y="3944"/>
                  </a:lnTo>
                  <a:lnTo>
                    <a:pt x="767" y="3944"/>
                  </a:lnTo>
                  <a:lnTo>
                    <a:pt x="899" y="3944"/>
                  </a:lnTo>
                  <a:lnTo>
                    <a:pt x="1031" y="3944"/>
                  </a:lnTo>
                  <a:lnTo>
                    <a:pt x="1164" y="3917"/>
                  </a:lnTo>
                  <a:lnTo>
                    <a:pt x="1296" y="3917"/>
                  </a:lnTo>
                  <a:lnTo>
                    <a:pt x="1402" y="3917"/>
                  </a:lnTo>
                  <a:lnTo>
                    <a:pt x="1534" y="3917"/>
                  </a:lnTo>
                  <a:lnTo>
                    <a:pt x="1666" y="3891"/>
                  </a:lnTo>
                  <a:lnTo>
                    <a:pt x="1799" y="3891"/>
                  </a:lnTo>
                  <a:lnTo>
                    <a:pt x="1904" y="3891"/>
                  </a:lnTo>
                  <a:lnTo>
                    <a:pt x="2037" y="3864"/>
                  </a:lnTo>
                  <a:lnTo>
                    <a:pt x="2169" y="3864"/>
                  </a:lnTo>
                  <a:lnTo>
                    <a:pt x="2275" y="3838"/>
                  </a:lnTo>
                  <a:lnTo>
                    <a:pt x="2407" y="3838"/>
                  </a:lnTo>
                  <a:lnTo>
                    <a:pt x="2513" y="3812"/>
                  </a:lnTo>
                  <a:lnTo>
                    <a:pt x="2645" y="3812"/>
                  </a:lnTo>
                  <a:lnTo>
                    <a:pt x="2751" y="3785"/>
                  </a:lnTo>
                  <a:lnTo>
                    <a:pt x="2883" y="3785"/>
                  </a:lnTo>
                  <a:lnTo>
                    <a:pt x="2989" y="3759"/>
                  </a:lnTo>
                  <a:lnTo>
                    <a:pt x="3122" y="3759"/>
                  </a:lnTo>
                  <a:lnTo>
                    <a:pt x="3227" y="3732"/>
                  </a:lnTo>
                  <a:lnTo>
                    <a:pt x="3333" y="3732"/>
                  </a:lnTo>
                  <a:lnTo>
                    <a:pt x="3466" y="3706"/>
                  </a:lnTo>
                  <a:lnTo>
                    <a:pt x="3571" y="3679"/>
                  </a:lnTo>
                  <a:lnTo>
                    <a:pt x="3678" y="3679"/>
                  </a:lnTo>
                  <a:lnTo>
                    <a:pt x="3784" y="3653"/>
                  </a:lnTo>
                  <a:lnTo>
                    <a:pt x="3890" y="3626"/>
                  </a:lnTo>
                  <a:lnTo>
                    <a:pt x="3996" y="3626"/>
                  </a:lnTo>
                  <a:lnTo>
                    <a:pt x="4102" y="3600"/>
                  </a:lnTo>
                  <a:lnTo>
                    <a:pt x="4207" y="3573"/>
                  </a:lnTo>
                  <a:lnTo>
                    <a:pt x="4313" y="3547"/>
                  </a:lnTo>
                  <a:lnTo>
                    <a:pt x="4419" y="3547"/>
                  </a:lnTo>
                  <a:lnTo>
                    <a:pt x="4525" y="3520"/>
                  </a:lnTo>
                  <a:lnTo>
                    <a:pt x="4604" y="3494"/>
                  </a:lnTo>
                  <a:lnTo>
                    <a:pt x="4710" y="3468"/>
                  </a:lnTo>
                  <a:lnTo>
                    <a:pt x="4816" y="3441"/>
                  </a:lnTo>
                  <a:lnTo>
                    <a:pt x="4895" y="3415"/>
                  </a:lnTo>
                  <a:lnTo>
                    <a:pt x="5001" y="3415"/>
                  </a:lnTo>
                  <a:lnTo>
                    <a:pt x="5080" y="3388"/>
                  </a:lnTo>
                  <a:lnTo>
                    <a:pt x="5160" y="3362"/>
                  </a:lnTo>
                  <a:lnTo>
                    <a:pt x="5266" y="3335"/>
                  </a:lnTo>
                  <a:lnTo>
                    <a:pt x="5345" y="3309"/>
                  </a:lnTo>
                  <a:lnTo>
                    <a:pt x="5424" y="3282"/>
                  </a:lnTo>
                  <a:lnTo>
                    <a:pt x="5504" y="3256"/>
                  </a:lnTo>
                  <a:lnTo>
                    <a:pt x="5583" y="3229"/>
                  </a:lnTo>
                  <a:lnTo>
                    <a:pt x="5663" y="3203"/>
                  </a:lnTo>
                  <a:lnTo>
                    <a:pt x="5742" y="3177"/>
                  </a:lnTo>
                  <a:lnTo>
                    <a:pt x="5821" y="3150"/>
                  </a:lnTo>
                  <a:lnTo>
                    <a:pt x="5901" y="3124"/>
                  </a:lnTo>
                  <a:lnTo>
                    <a:pt x="5954" y="3097"/>
                  </a:lnTo>
                  <a:lnTo>
                    <a:pt x="6033" y="3071"/>
                  </a:lnTo>
                  <a:lnTo>
                    <a:pt x="6112" y="3044"/>
                  </a:lnTo>
                  <a:lnTo>
                    <a:pt x="6165" y="3018"/>
                  </a:lnTo>
                  <a:lnTo>
                    <a:pt x="6245" y="2964"/>
                  </a:lnTo>
                  <a:lnTo>
                    <a:pt x="6298" y="2937"/>
                  </a:lnTo>
                  <a:lnTo>
                    <a:pt x="6350" y="2911"/>
                  </a:lnTo>
                  <a:lnTo>
                    <a:pt x="6403" y="2884"/>
                  </a:lnTo>
                  <a:lnTo>
                    <a:pt x="6456" y="2858"/>
                  </a:lnTo>
                  <a:lnTo>
                    <a:pt x="6509" y="2832"/>
                  </a:lnTo>
                  <a:lnTo>
                    <a:pt x="6562" y="2805"/>
                  </a:lnTo>
                  <a:lnTo>
                    <a:pt x="6615" y="2752"/>
                  </a:lnTo>
                  <a:lnTo>
                    <a:pt x="6668" y="2726"/>
                  </a:lnTo>
                  <a:lnTo>
                    <a:pt x="6721" y="2699"/>
                  </a:lnTo>
                  <a:lnTo>
                    <a:pt x="6747" y="2673"/>
                  </a:lnTo>
                  <a:lnTo>
                    <a:pt x="6800" y="2646"/>
                  </a:lnTo>
                  <a:lnTo>
                    <a:pt x="6827" y="2593"/>
                  </a:lnTo>
                  <a:lnTo>
                    <a:pt x="6880" y="2567"/>
                  </a:lnTo>
                  <a:lnTo>
                    <a:pt x="6906" y="2541"/>
                  </a:lnTo>
                  <a:lnTo>
                    <a:pt x="6933" y="2514"/>
                  </a:lnTo>
                  <a:lnTo>
                    <a:pt x="6985" y="2488"/>
                  </a:lnTo>
                  <a:lnTo>
                    <a:pt x="7012" y="2435"/>
                  </a:lnTo>
                  <a:lnTo>
                    <a:pt x="7038" y="2408"/>
                  </a:lnTo>
                  <a:lnTo>
                    <a:pt x="7038" y="2382"/>
                  </a:lnTo>
                  <a:lnTo>
                    <a:pt x="7065" y="2355"/>
                  </a:lnTo>
                  <a:lnTo>
                    <a:pt x="7091" y="2302"/>
                  </a:lnTo>
                  <a:lnTo>
                    <a:pt x="7118" y="2276"/>
                  </a:lnTo>
                  <a:lnTo>
                    <a:pt x="7118" y="2249"/>
                  </a:lnTo>
                  <a:lnTo>
                    <a:pt x="7144" y="2223"/>
                  </a:lnTo>
                  <a:lnTo>
                    <a:pt x="7144" y="2170"/>
                  </a:lnTo>
                  <a:lnTo>
                    <a:pt x="7144" y="2144"/>
                  </a:lnTo>
                  <a:lnTo>
                    <a:pt x="7171" y="2117"/>
                  </a:lnTo>
                  <a:lnTo>
                    <a:pt x="7171" y="2091"/>
                  </a:lnTo>
                  <a:lnTo>
                    <a:pt x="7171" y="2038"/>
                  </a:lnTo>
                  <a:lnTo>
                    <a:pt x="7171" y="0"/>
                  </a:lnTo>
                  <a:close/>
                </a:path>
              </a:pathLst>
            </a:custGeom>
            <a:solidFill>
              <a:srgbClr val="7f7f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5800" y="2409840"/>
              <a:ext cx="2762640" cy="1429200"/>
            </a:xfrm>
            <a:custGeom>
              <a:avLst/>
              <a:gdLst/>
              <a:ahLst/>
              <a:rect l="0" t="0" r="r" b="b"/>
              <a:pathLst>
                <a:path w="7674" h="3970">
                  <a:moveTo>
                    <a:pt x="7674" y="1932"/>
                  </a:moveTo>
                  <a:lnTo>
                    <a:pt x="7542" y="1932"/>
                  </a:lnTo>
                  <a:lnTo>
                    <a:pt x="7410" y="1932"/>
                  </a:lnTo>
                  <a:lnTo>
                    <a:pt x="7278" y="1932"/>
                  </a:lnTo>
                  <a:lnTo>
                    <a:pt x="7145" y="1932"/>
                  </a:lnTo>
                  <a:lnTo>
                    <a:pt x="7039" y="1932"/>
                  </a:lnTo>
                  <a:lnTo>
                    <a:pt x="6907" y="1932"/>
                  </a:lnTo>
                  <a:lnTo>
                    <a:pt x="6775" y="1906"/>
                  </a:lnTo>
                  <a:lnTo>
                    <a:pt x="6643" y="1906"/>
                  </a:lnTo>
                  <a:lnTo>
                    <a:pt x="6510" y="1906"/>
                  </a:lnTo>
                  <a:lnTo>
                    <a:pt x="6378" y="1906"/>
                  </a:lnTo>
                  <a:lnTo>
                    <a:pt x="6246" y="1906"/>
                  </a:lnTo>
                  <a:lnTo>
                    <a:pt x="6140" y="1906"/>
                  </a:lnTo>
                  <a:lnTo>
                    <a:pt x="6008" y="1879"/>
                  </a:lnTo>
                  <a:lnTo>
                    <a:pt x="5875" y="1879"/>
                  </a:lnTo>
                  <a:lnTo>
                    <a:pt x="5742" y="1879"/>
                  </a:lnTo>
                  <a:lnTo>
                    <a:pt x="5610" y="1879"/>
                  </a:lnTo>
                  <a:lnTo>
                    <a:pt x="5504" y="1853"/>
                  </a:lnTo>
                  <a:lnTo>
                    <a:pt x="5372" y="1853"/>
                  </a:lnTo>
                  <a:lnTo>
                    <a:pt x="5239" y="1853"/>
                  </a:lnTo>
                  <a:lnTo>
                    <a:pt x="5133" y="1826"/>
                  </a:lnTo>
                  <a:lnTo>
                    <a:pt x="5001" y="1826"/>
                  </a:lnTo>
                  <a:lnTo>
                    <a:pt x="4869" y="1800"/>
                  </a:lnTo>
                  <a:lnTo>
                    <a:pt x="4763" y="1800"/>
                  </a:lnTo>
                  <a:lnTo>
                    <a:pt x="4631" y="1773"/>
                  </a:lnTo>
                  <a:lnTo>
                    <a:pt x="4525" y="1773"/>
                  </a:lnTo>
                  <a:lnTo>
                    <a:pt x="4393" y="1747"/>
                  </a:lnTo>
                  <a:lnTo>
                    <a:pt x="4287" y="1747"/>
                  </a:lnTo>
                  <a:lnTo>
                    <a:pt x="4154" y="1720"/>
                  </a:lnTo>
                  <a:lnTo>
                    <a:pt x="4049" y="1720"/>
                  </a:lnTo>
                  <a:lnTo>
                    <a:pt x="3943" y="1694"/>
                  </a:lnTo>
                  <a:lnTo>
                    <a:pt x="3811" y="1694"/>
                  </a:lnTo>
                  <a:lnTo>
                    <a:pt x="3705" y="1667"/>
                  </a:lnTo>
                  <a:lnTo>
                    <a:pt x="3599" y="1641"/>
                  </a:lnTo>
                  <a:lnTo>
                    <a:pt x="3493" y="1641"/>
                  </a:lnTo>
                  <a:lnTo>
                    <a:pt x="3361" y="1614"/>
                  </a:lnTo>
                  <a:lnTo>
                    <a:pt x="3255" y="1588"/>
                  </a:lnTo>
                  <a:lnTo>
                    <a:pt x="3149" y="1588"/>
                  </a:lnTo>
                  <a:lnTo>
                    <a:pt x="3043" y="1562"/>
                  </a:lnTo>
                  <a:lnTo>
                    <a:pt x="2937" y="1535"/>
                  </a:lnTo>
                  <a:lnTo>
                    <a:pt x="2858" y="1509"/>
                  </a:lnTo>
                  <a:lnTo>
                    <a:pt x="2752" y="1509"/>
                  </a:lnTo>
                  <a:lnTo>
                    <a:pt x="2646" y="1482"/>
                  </a:lnTo>
                  <a:lnTo>
                    <a:pt x="2541" y="1456"/>
                  </a:lnTo>
                  <a:lnTo>
                    <a:pt x="2461" y="1429"/>
                  </a:lnTo>
                  <a:lnTo>
                    <a:pt x="2355" y="1403"/>
                  </a:lnTo>
                  <a:lnTo>
                    <a:pt x="2249" y="1376"/>
                  </a:lnTo>
                  <a:lnTo>
                    <a:pt x="2170" y="1376"/>
                  </a:lnTo>
                  <a:lnTo>
                    <a:pt x="2064" y="1350"/>
                  </a:lnTo>
                  <a:lnTo>
                    <a:pt x="1985" y="1323"/>
                  </a:lnTo>
                  <a:lnTo>
                    <a:pt x="1905" y="1297"/>
                  </a:lnTo>
                  <a:lnTo>
                    <a:pt x="1825" y="1271"/>
                  </a:lnTo>
                  <a:lnTo>
                    <a:pt x="1719" y="1244"/>
                  </a:lnTo>
                  <a:lnTo>
                    <a:pt x="1640" y="1218"/>
                  </a:lnTo>
                  <a:lnTo>
                    <a:pt x="1561" y="1191"/>
                  </a:lnTo>
                  <a:lnTo>
                    <a:pt x="1481" y="1165"/>
                  </a:lnTo>
                  <a:lnTo>
                    <a:pt x="1402" y="1138"/>
                  </a:lnTo>
                  <a:lnTo>
                    <a:pt x="1322" y="1112"/>
                  </a:lnTo>
                  <a:lnTo>
                    <a:pt x="1270" y="1085"/>
                  </a:lnTo>
                  <a:lnTo>
                    <a:pt x="1190" y="1059"/>
                  </a:lnTo>
                  <a:lnTo>
                    <a:pt x="1111" y="1032"/>
                  </a:lnTo>
                  <a:lnTo>
                    <a:pt x="1058" y="1006"/>
                  </a:lnTo>
                  <a:lnTo>
                    <a:pt x="978" y="978"/>
                  </a:lnTo>
                  <a:lnTo>
                    <a:pt x="926" y="926"/>
                  </a:lnTo>
                  <a:lnTo>
                    <a:pt x="873" y="899"/>
                  </a:lnTo>
                  <a:lnTo>
                    <a:pt x="793" y="873"/>
                  </a:lnTo>
                  <a:lnTo>
                    <a:pt x="740" y="846"/>
                  </a:lnTo>
                  <a:lnTo>
                    <a:pt x="687" y="820"/>
                  </a:lnTo>
                  <a:lnTo>
                    <a:pt x="635" y="793"/>
                  </a:lnTo>
                  <a:lnTo>
                    <a:pt x="582" y="767"/>
                  </a:lnTo>
                  <a:lnTo>
                    <a:pt x="529" y="714"/>
                  </a:lnTo>
                  <a:lnTo>
                    <a:pt x="476" y="687"/>
                  </a:lnTo>
                  <a:lnTo>
                    <a:pt x="449" y="661"/>
                  </a:lnTo>
                  <a:lnTo>
                    <a:pt x="396" y="635"/>
                  </a:lnTo>
                  <a:lnTo>
                    <a:pt x="343" y="608"/>
                  </a:lnTo>
                  <a:lnTo>
                    <a:pt x="317" y="555"/>
                  </a:lnTo>
                  <a:lnTo>
                    <a:pt x="291" y="529"/>
                  </a:lnTo>
                  <a:lnTo>
                    <a:pt x="238" y="502"/>
                  </a:lnTo>
                  <a:lnTo>
                    <a:pt x="211" y="476"/>
                  </a:lnTo>
                  <a:lnTo>
                    <a:pt x="185" y="449"/>
                  </a:lnTo>
                  <a:lnTo>
                    <a:pt x="158" y="396"/>
                  </a:lnTo>
                  <a:lnTo>
                    <a:pt x="132" y="370"/>
                  </a:lnTo>
                  <a:lnTo>
                    <a:pt x="105" y="343"/>
                  </a:lnTo>
                  <a:lnTo>
                    <a:pt x="79" y="317"/>
                  </a:lnTo>
                  <a:lnTo>
                    <a:pt x="52" y="264"/>
                  </a:lnTo>
                  <a:lnTo>
                    <a:pt x="52" y="238"/>
                  </a:lnTo>
                  <a:lnTo>
                    <a:pt x="26" y="211"/>
                  </a:lnTo>
                  <a:lnTo>
                    <a:pt x="26" y="185"/>
                  </a:lnTo>
                  <a:lnTo>
                    <a:pt x="0" y="132"/>
                  </a:lnTo>
                  <a:lnTo>
                    <a:pt x="0" y="105"/>
                  </a:lnTo>
                  <a:lnTo>
                    <a:pt x="0" y="79"/>
                  </a:lnTo>
                  <a:lnTo>
                    <a:pt x="0" y="52"/>
                  </a:lnTo>
                  <a:lnTo>
                    <a:pt x="0" y="0"/>
                  </a:lnTo>
                  <a:lnTo>
                    <a:pt x="0" y="2038"/>
                  </a:lnTo>
                  <a:lnTo>
                    <a:pt x="0" y="2091"/>
                  </a:lnTo>
                  <a:lnTo>
                    <a:pt x="0" y="2117"/>
                  </a:lnTo>
                  <a:lnTo>
                    <a:pt x="0" y="2144"/>
                  </a:lnTo>
                  <a:lnTo>
                    <a:pt x="0" y="2170"/>
                  </a:lnTo>
                  <a:lnTo>
                    <a:pt x="26" y="2223"/>
                  </a:lnTo>
                  <a:lnTo>
                    <a:pt x="26" y="2249"/>
                  </a:lnTo>
                  <a:lnTo>
                    <a:pt x="52" y="2276"/>
                  </a:lnTo>
                  <a:lnTo>
                    <a:pt x="52" y="2302"/>
                  </a:lnTo>
                  <a:lnTo>
                    <a:pt x="79" y="2355"/>
                  </a:lnTo>
                  <a:lnTo>
                    <a:pt x="105" y="2382"/>
                  </a:lnTo>
                  <a:lnTo>
                    <a:pt x="132" y="2408"/>
                  </a:lnTo>
                  <a:lnTo>
                    <a:pt x="158" y="2435"/>
                  </a:lnTo>
                  <a:lnTo>
                    <a:pt x="185" y="2488"/>
                  </a:lnTo>
                  <a:lnTo>
                    <a:pt x="211" y="2514"/>
                  </a:lnTo>
                  <a:lnTo>
                    <a:pt x="238" y="2541"/>
                  </a:lnTo>
                  <a:lnTo>
                    <a:pt x="291" y="2567"/>
                  </a:lnTo>
                  <a:lnTo>
                    <a:pt x="317" y="2593"/>
                  </a:lnTo>
                  <a:lnTo>
                    <a:pt x="343" y="2646"/>
                  </a:lnTo>
                  <a:lnTo>
                    <a:pt x="396" y="2673"/>
                  </a:lnTo>
                  <a:lnTo>
                    <a:pt x="449" y="2699"/>
                  </a:lnTo>
                  <a:lnTo>
                    <a:pt x="476" y="2726"/>
                  </a:lnTo>
                  <a:lnTo>
                    <a:pt x="529" y="2752"/>
                  </a:lnTo>
                  <a:lnTo>
                    <a:pt x="582" y="2805"/>
                  </a:lnTo>
                  <a:lnTo>
                    <a:pt x="635" y="2832"/>
                  </a:lnTo>
                  <a:lnTo>
                    <a:pt x="687" y="2858"/>
                  </a:lnTo>
                  <a:lnTo>
                    <a:pt x="740" y="2884"/>
                  </a:lnTo>
                  <a:lnTo>
                    <a:pt x="793" y="2911"/>
                  </a:lnTo>
                  <a:lnTo>
                    <a:pt x="873" y="2937"/>
                  </a:lnTo>
                  <a:lnTo>
                    <a:pt x="926" y="2964"/>
                  </a:lnTo>
                  <a:lnTo>
                    <a:pt x="978" y="3018"/>
                  </a:lnTo>
                  <a:lnTo>
                    <a:pt x="1058" y="3044"/>
                  </a:lnTo>
                  <a:lnTo>
                    <a:pt x="1111" y="3071"/>
                  </a:lnTo>
                  <a:lnTo>
                    <a:pt x="1190" y="3097"/>
                  </a:lnTo>
                  <a:lnTo>
                    <a:pt x="1270" y="3124"/>
                  </a:lnTo>
                  <a:lnTo>
                    <a:pt x="1322" y="3150"/>
                  </a:lnTo>
                  <a:lnTo>
                    <a:pt x="1402" y="3177"/>
                  </a:lnTo>
                  <a:lnTo>
                    <a:pt x="1481" y="3203"/>
                  </a:lnTo>
                  <a:lnTo>
                    <a:pt x="1561" y="3229"/>
                  </a:lnTo>
                  <a:lnTo>
                    <a:pt x="1640" y="3256"/>
                  </a:lnTo>
                  <a:lnTo>
                    <a:pt x="1719" y="3282"/>
                  </a:lnTo>
                  <a:lnTo>
                    <a:pt x="1825" y="3309"/>
                  </a:lnTo>
                  <a:lnTo>
                    <a:pt x="1905" y="3335"/>
                  </a:lnTo>
                  <a:lnTo>
                    <a:pt x="1985" y="3362"/>
                  </a:lnTo>
                  <a:lnTo>
                    <a:pt x="2064" y="3388"/>
                  </a:lnTo>
                  <a:lnTo>
                    <a:pt x="2170" y="3415"/>
                  </a:lnTo>
                  <a:lnTo>
                    <a:pt x="2249" y="3415"/>
                  </a:lnTo>
                  <a:lnTo>
                    <a:pt x="2355" y="3441"/>
                  </a:lnTo>
                  <a:lnTo>
                    <a:pt x="2461" y="3468"/>
                  </a:lnTo>
                  <a:lnTo>
                    <a:pt x="2541" y="3494"/>
                  </a:lnTo>
                  <a:lnTo>
                    <a:pt x="2646" y="3520"/>
                  </a:lnTo>
                  <a:lnTo>
                    <a:pt x="2752" y="3547"/>
                  </a:lnTo>
                  <a:lnTo>
                    <a:pt x="2858" y="3547"/>
                  </a:lnTo>
                  <a:lnTo>
                    <a:pt x="2937" y="3573"/>
                  </a:lnTo>
                  <a:lnTo>
                    <a:pt x="3043" y="3600"/>
                  </a:lnTo>
                  <a:lnTo>
                    <a:pt x="3149" y="3626"/>
                  </a:lnTo>
                  <a:lnTo>
                    <a:pt x="3255" y="3626"/>
                  </a:lnTo>
                  <a:lnTo>
                    <a:pt x="3361" y="3653"/>
                  </a:lnTo>
                  <a:lnTo>
                    <a:pt x="3493" y="3679"/>
                  </a:lnTo>
                  <a:lnTo>
                    <a:pt x="3599" y="3679"/>
                  </a:lnTo>
                  <a:lnTo>
                    <a:pt x="3705" y="3706"/>
                  </a:lnTo>
                  <a:lnTo>
                    <a:pt x="3811" y="3732"/>
                  </a:lnTo>
                  <a:lnTo>
                    <a:pt x="3943" y="3732"/>
                  </a:lnTo>
                  <a:lnTo>
                    <a:pt x="4049" y="3759"/>
                  </a:lnTo>
                  <a:lnTo>
                    <a:pt x="4154" y="3759"/>
                  </a:lnTo>
                  <a:lnTo>
                    <a:pt x="4287" y="3785"/>
                  </a:lnTo>
                  <a:lnTo>
                    <a:pt x="4393" y="3785"/>
                  </a:lnTo>
                  <a:lnTo>
                    <a:pt x="4525" y="3812"/>
                  </a:lnTo>
                  <a:lnTo>
                    <a:pt x="4631" y="3812"/>
                  </a:lnTo>
                  <a:lnTo>
                    <a:pt x="4763" y="3838"/>
                  </a:lnTo>
                  <a:lnTo>
                    <a:pt x="4869" y="3838"/>
                  </a:lnTo>
                  <a:lnTo>
                    <a:pt x="5001" y="3864"/>
                  </a:lnTo>
                  <a:lnTo>
                    <a:pt x="5133" y="3864"/>
                  </a:lnTo>
                  <a:lnTo>
                    <a:pt x="5239" y="3891"/>
                  </a:lnTo>
                  <a:lnTo>
                    <a:pt x="5372" y="3891"/>
                  </a:lnTo>
                  <a:lnTo>
                    <a:pt x="5504" y="3891"/>
                  </a:lnTo>
                  <a:lnTo>
                    <a:pt x="5610" y="3917"/>
                  </a:lnTo>
                  <a:lnTo>
                    <a:pt x="5742" y="3917"/>
                  </a:lnTo>
                  <a:lnTo>
                    <a:pt x="5875" y="3917"/>
                  </a:lnTo>
                  <a:lnTo>
                    <a:pt x="6008" y="3917"/>
                  </a:lnTo>
                  <a:lnTo>
                    <a:pt x="6140" y="3944"/>
                  </a:lnTo>
                  <a:lnTo>
                    <a:pt x="6246" y="3944"/>
                  </a:lnTo>
                  <a:lnTo>
                    <a:pt x="6378" y="3944"/>
                  </a:lnTo>
                  <a:lnTo>
                    <a:pt x="6510" y="3944"/>
                  </a:lnTo>
                  <a:lnTo>
                    <a:pt x="6643" y="3944"/>
                  </a:lnTo>
                  <a:lnTo>
                    <a:pt x="6775" y="3944"/>
                  </a:lnTo>
                  <a:lnTo>
                    <a:pt x="6907" y="3970"/>
                  </a:lnTo>
                  <a:lnTo>
                    <a:pt x="7039" y="3970"/>
                  </a:lnTo>
                  <a:lnTo>
                    <a:pt x="7145" y="3970"/>
                  </a:lnTo>
                  <a:lnTo>
                    <a:pt x="7278" y="3970"/>
                  </a:lnTo>
                  <a:lnTo>
                    <a:pt x="7410" y="3970"/>
                  </a:lnTo>
                  <a:lnTo>
                    <a:pt x="7542" y="3970"/>
                  </a:lnTo>
                  <a:lnTo>
                    <a:pt x="7674" y="3970"/>
                  </a:lnTo>
                  <a:lnTo>
                    <a:pt x="7674" y="1932"/>
                  </a:lnTo>
                  <a:close/>
                </a:path>
              </a:pathLst>
            </a:custGeom>
            <a:solidFill>
              <a:srgbClr val="50707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38240" y="1724040"/>
              <a:ext cx="2314800" cy="686160"/>
            </a:xfrm>
            <a:custGeom>
              <a:avLst/>
              <a:gdLst/>
              <a:ahLst/>
              <a:rect l="0" t="0" r="r" b="b"/>
              <a:pathLst>
                <a:path w="6430" h="1906">
                  <a:moveTo>
                    <a:pt x="0" y="953"/>
                  </a:moveTo>
                  <a:lnTo>
                    <a:pt x="79" y="927"/>
                  </a:lnTo>
                  <a:lnTo>
                    <a:pt x="132" y="900"/>
                  </a:lnTo>
                  <a:lnTo>
                    <a:pt x="211" y="874"/>
                  </a:lnTo>
                  <a:lnTo>
                    <a:pt x="291" y="847"/>
                  </a:lnTo>
                  <a:lnTo>
                    <a:pt x="343" y="821"/>
                  </a:lnTo>
                  <a:lnTo>
                    <a:pt x="423" y="794"/>
                  </a:lnTo>
                  <a:lnTo>
                    <a:pt x="502" y="768"/>
                  </a:lnTo>
                  <a:lnTo>
                    <a:pt x="582" y="741"/>
                  </a:lnTo>
                  <a:lnTo>
                    <a:pt x="661" y="715"/>
                  </a:lnTo>
                  <a:lnTo>
                    <a:pt x="740" y="688"/>
                  </a:lnTo>
                  <a:lnTo>
                    <a:pt x="846" y="662"/>
                  </a:lnTo>
                  <a:lnTo>
                    <a:pt x="926" y="635"/>
                  </a:lnTo>
                  <a:lnTo>
                    <a:pt x="1005" y="609"/>
                  </a:lnTo>
                  <a:lnTo>
                    <a:pt x="1084" y="583"/>
                  </a:lnTo>
                  <a:lnTo>
                    <a:pt x="1190" y="556"/>
                  </a:lnTo>
                  <a:lnTo>
                    <a:pt x="1270" y="530"/>
                  </a:lnTo>
                  <a:lnTo>
                    <a:pt x="1375" y="503"/>
                  </a:lnTo>
                  <a:lnTo>
                    <a:pt x="1481" y="477"/>
                  </a:lnTo>
                  <a:lnTo>
                    <a:pt x="1561" y="477"/>
                  </a:lnTo>
                  <a:lnTo>
                    <a:pt x="1666" y="449"/>
                  </a:lnTo>
                  <a:lnTo>
                    <a:pt x="1772" y="423"/>
                  </a:lnTo>
                  <a:lnTo>
                    <a:pt x="1878" y="396"/>
                  </a:lnTo>
                  <a:lnTo>
                    <a:pt x="1957" y="370"/>
                  </a:lnTo>
                  <a:lnTo>
                    <a:pt x="2063" y="370"/>
                  </a:lnTo>
                  <a:lnTo>
                    <a:pt x="2169" y="343"/>
                  </a:lnTo>
                  <a:lnTo>
                    <a:pt x="2275" y="317"/>
                  </a:lnTo>
                  <a:lnTo>
                    <a:pt x="2381" y="291"/>
                  </a:lnTo>
                  <a:lnTo>
                    <a:pt x="2513" y="291"/>
                  </a:lnTo>
                  <a:lnTo>
                    <a:pt x="2619" y="264"/>
                  </a:lnTo>
                  <a:lnTo>
                    <a:pt x="2725" y="238"/>
                  </a:lnTo>
                  <a:lnTo>
                    <a:pt x="2831" y="238"/>
                  </a:lnTo>
                  <a:lnTo>
                    <a:pt x="2963" y="211"/>
                  </a:lnTo>
                  <a:lnTo>
                    <a:pt x="3069" y="211"/>
                  </a:lnTo>
                  <a:lnTo>
                    <a:pt x="3174" y="185"/>
                  </a:lnTo>
                  <a:lnTo>
                    <a:pt x="3308" y="185"/>
                  </a:lnTo>
                  <a:lnTo>
                    <a:pt x="3414" y="158"/>
                  </a:lnTo>
                  <a:lnTo>
                    <a:pt x="3546" y="158"/>
                  </a:lnTo>
                  <a:lnTo>
                    <a:pt x="3652" y="132"/>
                  </a:lnTo>
                  <a:lnTo>
                    <a:pt x="3784" y="132"/>
                  </a:lnTo>
                  <a:lnTo>
                    <a:pt x="3890" y="105"/>
                  </a:lnTo>
                  <a:lnTo>
                    <a:pt x="4022" y="105"/>
                  </a:lnTo>
                  <a:lnTo>
                    <a:pt x="4154" y="79"/>
                  </a:lnTo>
                  <a:lnTo>
                    <a:pt x="4260" y="79"/>
                  </a:lnTo>
                  <a:lnTo>
                    <a:pt x="4393" y="79"/>
                  </a:lnTo>
                  <a:lnTo>
                    <a:pt x="4525" y="52"/>
                  </a:lnTo>
                  <a:lnTo>
                    <a:pt x="4631" y="52"/>
                  </a:lnTo>
                  <a:lnTo>
                    <a:pt x="4763" y="52"/>
                  </a:lnTo>
                  <a:lnTo>
                    <a:pt x="4895" y="26"/>
                  </a:lnTo>
                  <a:lnTo>
                    <a:pt x="5028" y="26"/>
                  </a:lnTo>
                  <a:lnTo>
                    <a:pt x="5160" y="26"/>
                  </a:lnTo>
                  <a:lnTo>
                    <a:pt x="5266" y="26"/>
                  </a:lnTo>
                  <a:lnTo>
                    <a:pt x="5398" y="0"/>
                  </a:lnTo>
                  <a:lnTo>
                    <a:pt x="5530" y="0"/>
                  </a:lnTo>
                  <a:lnTo>
                    <a:pt x="5663" y="0"/>
                  </a:lnTo>
                  <a:lnTo>
                    <a:pt x="5795" y="0"/>
                  </a:lnTo>
                  <a:lnTo>
                    <a:pt x="5927" y="0"/>
                  </a:lnTo>
                  <a:lnTo>
                    <a:pt x="6059" y="0"/>
                  </a:lnTo>
                  <a:lnTo>
                    <a:pt x="6165" y="0"/>
                  </a:lnTo>
                  <a:lnTo>
                    <a:pt x="6430" y="1906"/>
                  </a:lnTo>
                  <a:lnTo>
                    <a:pt x="0" y="95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57640" y="1724040"/>
              <a:ext cx="2391120" cy="686160"/>
            </a:xfrm>
            <a:custGeom>
              <a:avLst/>
              <a:gdLst/>
              <a:ahLst/>
              <a:rect l="0" t="0" r="r" b="b"/>
              <a:pathLst>
                <a:path w="6642" h="1906">
                  <a:moveTo>
                    <a:pt x="0" y="0"/>
                  </a:moveTo>
                  <a:lnTo>
                    <a:pt x="132" y="0"/>
                  </a:lnTo>
                  <a:lnTo>
                    <a:pt x="264" y="0"/>
                  </a:lnTo>
                  <a:lnTo>
                    <a:pt x="396" y="0"/>
                  </a:lnTo>
                  <a:lnTo>
                    <a:pt x="529" y="0"/>
                  </a:lnTo>
                  <a:lnTo>
                    <a:pt x="661" y="0"/>
                  </a:lnTo>
                  <a:lnTo>
                    <a:pt x="793" y="0"/>
                  </a:lnTo>
                  <a:lnTo>
                    <a:pt x="926" y="0"/>
                  </a:lnTo>
                  <a:lnTo>
                    <a:pt x="1058" y="0"/>
                  </a:lnTo>
                  <a:lnTo>
                    <a:pt x="1164" y="0"/>
                  </a:lnTo>
                  <a:lnTo>
                    <a:pt x="1296" y="0"/>
                  </a:lnTo>
                  <a:lnTo>
                    <a:pt x="1428" y="26"/>
                  </a:lnTo>
                  <a:lnTo>
                    <a:pt x="1561" y="26"/>
                  </a:lnTo>
                  <a:lnTo>
                    <a:pt x="1693" y="26"/>
                  </a:lnTo>
                  <a:lnTo>
                    <a:pt x="1825" y="26"/>
                  </a:lnTo>
                  <a:lnTo>
                    <a:pt x="1931" y="52"/>
                  </a:lnTo>
                  <a:lnTo>
                    <a:pt x="2063" y="52"/>
                  </a:lnTo>
                  <a:lnTo>
                    <a:pt x="2196" y="52"/>
                  </a:lnTo>
                  <a:lnTo>
                    <a:pt x="2328" y="79"/>
                  </a:lnTo>
                  <a:lnTo>
                    <a:pt x="2434" y="79"/>
                  </a:lnTo>
                  <a:lnTo>
                    <a:pt x="2566" y="79"/>
                  </a:lnTo>
                  <a:lnTo>
                    <a:pt x="2698" y="105"/>
                  </a:lnTo>
                  <a:lnTo>
                    <a:pt x="2804" y="105"/>
                  </a:lnTo>
                  <a:lnTo>
                    <a:pt x="2936" y="132"/>
                  </a:lnTo>
                  <a:lnTo>
                    <a:pt x="3042" y="132"/>
                  </a:lnTo>
                  <a:lnTo>
                    <a:pt x="3175" y="158"/>
                  </a:lnTo>
                  <a:lnTo>
                    <a:pt x="3280" y="158"/>
                  </a:lnTo>
                  <a:lnTo>
                    <a:pt x="3414" y="185"/>
                  </a:lnTo>
                  <a:lnTo>
                    <a:pt x="3519" y="185"/>
                  </a:lnTo>
                  <a:lnTo>
                    <a:pt x="3652" y="211"/>
                  </a:lnTo>
                  <a:lnTo>
                    <a:pt x="3758" y="211"/>
                  </a:lnTo>
                  <a:lnTo>
                    <a:pt x="3863" y="238"/>
                  </a:lnTo>
                  <a:lnTo>
                    <a:pt x="3996" y="238"/>
                  </a:lnTo>
                  <a:lnTo>
                    <a:pt x="4102" y="264"/>
                  </a:lnTo>
                  <a:lnTo>
                    <a:pt x="4207" y="291"/>
                  </a:lnTo>
                  <a:lnTo>
                    <a:pt x="4313" y="291"/>
                  </a:lnTo>
                  <a:lnTo>
                    <a:pt x="4419" y="317"/>
                  </a:lnTo>
                  <a:lnTo>
                    <a:pt x="4525" y="343"/>
                  </a:lnTo>
                  <a:lnTo>
                    <a:pt x="4631" y="370"/>
                  </a:lnTo>
                  <a:lnTo>
                    <a:pt x="4737" y="370"/>
                  </a:lnTo>
                  <a:lnTo>
                    <a:pt x="4842" y="396"/>
                  </a:lnTo>
                  <a:lnTo>
                    <a:pt x="4948" y="423"/>
                  </a:lnTo>
                  <a:lnTo>
                    <a:pt x="5054" y="449"/>
                  </a:lnTo>
                  <a:lnTo>
                    <a:pt x="5133" y="477"/>
                  </a:lnTo>
                  <a:lnTo>
                    <a:pt x="5239" y="477"/>
                  </a:lnTo>
                  <a:lnTo>
                    <a:pt x="5345" y="503"/>
                  </a:lnTo>
                  <a:lnTo>
                    <a:pt x="5424" y="530"/>
                  </a:lnTo>
                  <a:lnTo>
                    <a:pt x="5530" y="556"/>
                  </a:lnTo>
                  <a:lnTo>
                    <a:pt x="5610" y="583"/>
                  </a:lnTo>
                  <a:lnTo>
                    <a:pt x="5689" y="609"/>
                  </a:lnTo>
                  <a:lnTo>
                    <a:pt x="5795" y="635"/>
                  </a:lnTo>
                  <a:lnTo>
                    <a:pt x="5874" y="662"/>
                  </a:lnTo>
                  <a:lnTo>
                    <a:pt x="5954" y="688"/>
                  </a:lnTo>
                  <a:lnTo>
                    <a:pt x="6033" y="715"/>
                  </a:lnTo>
                  <a:lnTo>
                    <a:pt x="6112" y="741"/>
                  </a:lnTo>
                  <a:lnTo>
                    <a:pt x="6192" y="768"/>
                  </a:lnTo>
                  <a:lnTo>
                    <a:pt x="6271" y="794"/>
                  </a:lnTo>
                  <a:lnTo>
                    <a:pt x="6351" y="821"/>
                  </a:lnTo>
                  <a:lnTo>
                    <a:pt x="6430" y="847"/>
                  </a:lnTo>
                  <a:lnTo>
                    <a:pt x="6483" y="874"/>
                  </a:lnTo>
                  <a:lnTo>
                    <a:pt x="6562" y="900"/>
                  </a:lnTo>
                  <a:lnTo>
                    <a:pt x="6642" y="927"/>
                  </a:lnTo>
                  <a:lnTo>
                    <a:pt x="264" y="19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52680" y="2057400"/>
              <a:ext cx="2676960" cy="1047960"/>
            </a:xfrm>
            <a:custGeom>
              <a:avLst/>
              <a:gdLst/>
              <a:ahLst/>
              <a:rect l="0" t="0" r="r" b="b"/>
              <a:pathLst>
                <a:path w="7436" h="2911">
                  <a:moveTo>
                    <a:pt x="6378" y="0"/>
                  </a:moveTo>
                  <a:lnTo>
                    <a:pt x="6431" y="26"/>
                  </a:lnTo>
                  <a:lnTo>
                    <a:pt x="6510" y="52"/>
                  </a:lnTo>
                  <a:lnTo>
                    <a:pt x="6563" y="79"/>
                  </a:lnTo>
                  <a:lnTo>
                    <a:pt x="6616" y="105"/>
                  </a:lnTo>
                  <a:lnTo>
                    <a:pt x="6669" y="132"/>
                  </a:lnTo>
                  <a:lnTo>
                    <a:pt x="6722" y="185"/>
                  </a:lnTo>
                  <a:lnTo>
                    <a:pt x="6775" y="211"/>
                  </a:lnTo>
                  <a:lnTo>
                    <a:pt x="6828" y="238"/>
                  </a:lnTo>
                  <a:lnTo>
                    <a:pt x="6881" y="264"/>
                  </a:lnTo>
                  <a:lnTo>
                    <a:pt x="6934" y="291"/>
                  </a:lnTo>
                  <a:lnTo>
                    <a:pt x="6987" y="317"/>
                  </a:lnTo>
                  <a:lnTo>
                    <a:pt x="7013" y="370"/>
                  </a:lnTo>
                  <a:lnTo>
                    <a:pt x="7066" y="396"/>
                  </a:lnTo>
                  <a:lnTo>
                    <a:pt x="7092" y="423"/>
                  </a:lnTo>
                  <a:lnTo>
                    <a:pt x="7145" y="449"/>
                  </a:lnTo>
                  <a:lnTo>
                    <a:pt x="7172" y="476"/>
                  </a:lnTo>
                  <a:lnTo>
                    <a:pt x="7198" y="529"/>
                  </a:lnTo>
                  <a:lnTo>
                    <a:pt x="7251" y="555"/>
                  </a:lnTo>
                  <a:lnTo>
                    <a:pt x="7278" y="582"/>
                  </a:lnTo>
                  <a:lnTo>
                    <a:pt x="7304" y="608"/>
                  </a:lnTo>
                  <a:lnTo>
                    <a:pt x="7304" y="661"/>
                  </a:lnTo>
                  <a:lnTo>
                    <a:pt x="7330" y="687"/>
                  </a:lnTo>
                  <a:lnTo>
                    <a:pt x="7357" y="714"/>
                  </a:lnTo>
                  <a:lnTo>
                    <a:pt x="7383" y="740"/>
                  </a:lnTo>
                  <a:lnTo>
                    <a:pt x="7383" y="793"/>
                  </a:lnTo>
                  <a:lnTo>
                    <a:pt x="7410" y="820"/>
                  </a:lnTo>
                  <a:lnTo>
                    <a:pt x="7410" y="846"/>
                  </a:lnTo>
                  <a:lnTo>
                    <a:pt x="7410" y="873"/>
                  </a:lnTo>
                  <a:lnTo>
                    <a:pt x="7436" y="926"/>
                  </a:lnTo>
                  <a:lnTo>
                    <a:pt x="7436" y="952"/>
                  </a:lnTo>
                  <a:lnTo>
                    <a:pt x="7436" y="978"/>
                  </a:lnTo>
                  <a:lnTo>
                    <a:pt x="7436" y="1031"/>
                  </a:lnTo>
                  <a:lnTo>
                    <a:pt x="7436" y="1058"/>
                  </a:lnTo>
                  <a:lnTo>
                    <a:pt x="7410" y="1084"/>
                  </a:lnTo>
                  <a:lnTo>
                    <a:pt x="7410" y="1111"/>
                  </a:lnTo>
                  <a:lnTo>
                    <a:pt x="7410" y="1164"/>
                  </a:lnTo>
                  <a:lnTo>
                    <a:pt x="7383" y="1190"/>
                  </a:lnTo>
                  <a:lnTo>
                    <a:pt x="7383" y="1217"/>
                  </a:lnTo>
                  <a:lnTo>
                    <a:pt x="7357" y="1243"/>
                  </a:lnTo>
                  <a:lnTo>
                    <a:pt x="7330" y="1296"/>
                  </a:lnTo>
                  <a:lnTo>
                    <a:pt x="7304" y="1322"/>
                  </a:lnTo>
                  <a:lnTo>
                    <a:pt x="7304" y="1349"/>
                  </a:lnTo>
                  <a:lnTo>
                    <a:pt x="7278" y="1375"/>
                  </a:lnTo>
                  <a:lnTo>
                    <a:pt x="7251" y="1428"/>
                  </a:lnTo>
                  <a:lnTo>
                    <a:pt x="7198" y="1456"/>
                  </a:lnTo>
                  <a:lnTo>
                    <a:pt x="7172" y="1482"/>
                  </a:lnTo>
                  <a:lnTo>
                    <a:pt x="7145" y="1509"/>
                  </a:lnTo>
                  <a:lnTo>
                    <a:pt x="7092" y="1535"/>
                  </a:lnTo>
                  <a:lnTo>
                    <a:pt x="7066" y="1588"/>
                  </a:lnTo>
                  <a:lnTo>
                    <a:pt x="7013" y="1614"/>
                  </a:lnTo>
                  <a:lnTo>
                    <a:pt x="6987" y="1641"/>
                  </a:lnTo>
                  <a:lnTo>
                    <a:pt x="6934" y="1667"/>
                  </a:lnTo>
                  <a:lnTo>
                    <a:pt x="6881" y="1694"/>
                  </a:lnTo>
                  <a:lnTo>
                    <a:pt x="6828" y="1747"/>
                  </a:lnTo>
                  <a:lnTo>
                    <a:pt x="6775" y="1773"/>
                  </a:lnTo>
                  <a:lnTo>
                    <a:pt x="6722" y="1800"/>
                  </a:lnTo>
                  <a:lnTo>
                    <a:pt x="6669" y="1826"/>
                  </a:lnTo>
                  <a:lnTo>
                    <a:pt x="6616" y="1853"/>
                  </a:lnTo>
                  <a:lnTo>
                    <a:pt x="6563" y="1879"/>
                  </a:lnTo>
                  <a:lnTo>
                    <a:pt x="6510" y="1906"/>
                  </a:lnTo>
                  <a:lnTo>
                    <a:pt x="6431" y="1958"/>
                  </a:lnTo>
                  <a:lnTo>
                    <a:pt x="6378" y="1985"/>
                  </a:lnTo>
                  <a:lnTo>
                    <a:pt x="6299" y="2011"/>
                  </a:lnTo>
                  <a:lnTo>
                    <a:pt x="6219" y="2038"/>
                  </a:lnTo>
                  <a:lnTo>
                    <a:pt x="6166" y="2064"/>
                  </a:lnTo>
                  <a:lnTo>
                    <a:pt x="6087" y="2091"/>
                  </a:lnTo>
                  <a:lnTo>
                    <a:pt x="6008" y="2117"/>
                  </a:lnTo>
                  <a:lnTo>
                    <a:pt x="5928" y="2144"/>
                  </a:lnTo>
                  <a:lnTo>
                    <a:pt x="5849" y="2170"/>
                  </a:lnTo>
                  <a:lnTo>
                    <a:pt x="5769" y="2197"/>
                  </a:lnTo>
                  <a:lnTo>
                    <a:pt x="5690" y="2223"/>
                  </a:lnTo>
                  <a:lnTo>
                    <a:pt x="5611" y="2249"/>
                  </a:lnTo>
                  <a:lnTo>
                    <a:pt x="5530" y="2276"/>
                  </a:lnTo>
                  <a:lnTo>
                    <a:pt x="5424" y="2302"/>
                  </a:lnTo>
                  <a:lnTo>
                    <a:pt x="5345" y="2329"/>
                  </a:lnTo>
                  <a:lnTo>
                    <a:pt x="5266" y="2355"/>
                  </a:lnTo>
                  <a:lnTo>
                    <a:pt x="5160" y="2355"/>
                  </a:lnTo>
                  <a:lnTo>
                    <a:pt x="5081" y="2382"/>
                  </a:lnTo>
                  <a:lnTo>
                    <a:pt x="4975" y="2408"/>
                  </a:lnTo>
                  <a:lnTo>
                    <a:pt x="4869" y="2435"/>
                  </a:lnTo>
                  <a:lnTo>
                    <a:pt x="4789" y="2461"/>
                  </a:lnTo>
                  <a:lnTo>
                    <a:pt x="4684" y="2488"/>
                  </a:lnTo>
                  <a:lnTo>
                    <a:pt x="4578" y="2488"/>
                  </a:lnTo>
                  <a:lnTo>
                    <a:pt x="4472" y="2514"/>
                  </a:lnTo>
                  <a:lnTo>
                    <a:pt x="4366" y="2541"/>
                  </a:lnTo>
                  <a:lnTo>
                    <a:pt x="4260" y="2567"/>
                  </a:lnTo>
                  <a:lnTo>
                    <a:pt x="4154" y="2567"/>
                  </a:lnTo>
                  <a:lnTo>
                    <a:pt x="4049" y="2593"/>
                  </a:lnTo>
                  <a:lnTo>
                    <a:pt x="3943" y="2620"/>
                  </a:lnTo>
                  <a:lnTo>
                    <a:pt x="3837" y="2620"/>
                  </a:lnTo>
                  <a:lnTo>
                    <a:pt x="3731" y="2646"/>
                  </a:lnTo>
                  <a:lnTo>
                    <a:pt x="3599" y="2673"/>
                  </a:lnTo>
                  <a:lnTo>
                    <a:pt x="3493" y="2673"/>
                  </a:lnTo>
                  <a:lnTo>
                    <a:pt x="3387" y="2699"/>
                  </a:lnTo>
                  <a:lnTo>
                    <a:pt x="3255" y="2699"/>
                  </a:lnTo>
                  <a:lnTo>
                    <a:pt x="3149" y="2726"/>
                  </a:lnTo>
                  <a:lnTo>
                    <a:pt x="3017" y="2726"/>
                  </a:lnTo>
                  <a:lnTo>
                    <a:pt x="2911" y="2752"/>
                  </a:lnTo>
                  <a:lnTo>
                    <a:pt x="2779" y="2752"/>
                  </a:lnTo>
                  <a:lnTo>
                    <a:pt x="2673" y="2779"/>
                  </a:lnTo>
                  <a:lnTo>
                    <a:pt x="2541" y="2779"/>
                  </a:lnTo>
                  <a:lnTo>
                    <a:pt x="2435" y="2805"/>
                  </a:lnTo>
                  <a:lnTo>
                    <a:pt x="2302" y="2805"/>
                  </a:lnTo>
                  <a:lnTo>
                    <a:pt x="2170" y="2832"/>
                  </a:lnTo>
                  <a:lnTo>
                    <a:pt x="2064" y="2832"/>
                  </a:lnTo>
                  <a:lnTo>
                    <a:pt x="1932" y="2832"/>
                  </a:lnTo>
                  <a:lnTo>
                    <a:pt x="1799" y="2858"/>
                  </a:lnTo>
                  <a:lnTo>
                    <a:pt x="1666" y="2858"/>
                  </a:lnTo>
                  <a:lnTo>
                    <a:pt x="1561" y="2858"/>
                  </a:lnTo>
                  <a:lnTo>
                    <a:pt x="1428" y="2858"/>
                  </a:lnTo>
                  <a:lnTo>
                    <a:pt x="1296" y="2884"/>
                  </a:lnTo>
                  <a:lnTo>
                    <a:pt x="1164" y="2884"/>
                  </a:lnTo>
                  <a:lnTo>
                    <a:pt x="1031" y="2884"/>
                  </a:lnTo>
                  <a:lnTo>
                    <a:pt x="899" y="2884"/>
                  </a:lnTo>
                  <a:lnTo>
                    <a:pt x="793" y="2884"/>
                  </a:lnTo>
                  <a:lnTo>
                    <a:pt x="661" y="2884"/>
                  </a:lnTo>
                  <a:lnTo>
                    <a:pt x="529" y="2911"/>
                  </a:lnTo>
                  <a:lnTo>
                    <a:pt x="396" y="2911"/>
                  </a:lnTo>
                  <a:lnTo>
                    <a:pt x="264" y="2911"/>
                  </a:lnTo>
                  <a:lnTo>
                    <a:pt x="0" y="978"/>
                  </a:lnTo>
                  <a:lnTo>
                    <a:pt x="6378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" y="2066760"/>
              <a:ext cx="2762640" cy="1038600"/>
            </a:xfrm>
            <a:custGeom>
              <a:avLst/>
              <a:gdLst/>
              <a:ahLst/>
              <a:rect l="0" t="0" r="r" b="b"/>
              <a:pathLst>
                <a:path w="7674" h="2885">
                  <a:moveTo>
                    <a:pt x="7674" y="2885"/>
                  </a:moveTo>
                  <a:lnTo>
                    <a:pt x="7542" y="2885"/>
                  </a:lnTo>
                  <a:lnTo>
                    <a:pt x="7410" y="2885"/>
                  </a:lnTo>
                  <a:lnTo>
                    <a:pt x="7278" y="2885"/>
                  </a:lnTo>
                  <a:lnTo>
                    <a:pt x="7145" y="2885"/>
                  </a:lnTo>
                  <a:lnTo>
                    <a:pt x="7039" y="2885"/>
                  </a:lnTo>
                  <a:lnTo>
                    <a:pt x="6907" y="2885"/>
                  </a:lnTo>
                  <a:lnTo>
                    <a:pt x="6775" y="2859"/>
                  </a:lnTo>
                  <a:lnTo>
                    <a:pt x="6643" y="2859"/>
                  </a:lnTo>
                  <a:lnTo>
                    <a:pt x="6510" y="2859"/>
                  </a:lnTo>
                  <a:lnTo>
                    <a:pt x="6378" y="2859"/>
                  </a:lnTo>
                  <a:lnTo>
                    <a:pt x="6246" y="2859"/>
                  </a:lnTo>
                  <a:lnTo>
                    <a:pt x="6140" y="2859"/>
                  </a:lnTo>
                  <a:lnTo>
                    <a:pt x="6008" y="2833"/>
                  </a:lnTo>
                  <a:lnTo>
                    <a:pt x="5875" y="2833"/>
                  </a:lnTo>
                  <a:lnTo>
                    <a:pt x="5742" y="2833"/>
                  </a:lnTo>
                  <a:lnTo>
                    <a:pt x="5610" y="2833"/>
                  </a:lnTo>
                  <a:lnTo>
                    <a:pt x="5504" y="2806"/>
                  </a:lnTo>
                  <a:lnTo>
                    <a:pt x="5372" y="2806"/>
                  </a:lnTo>
                  <a:lnTo>
                    <a:pt x="5239" y="2806"/>
                  </a:lnTo>
                  <a:lnTo>
                    <a:pt x="5133" y="2780"/>
                  </a:lnTo>
                  <a:lnTo>
                    <a:pt x="5001" y="2780"/>
                  </a:lnTo>
                  <a:lnTo>
                    <a:pt x="4869" y="2753"/>
                  </a:lnTo>
                  <a:lnTo>
                    <a:pt x="4763" y="2753"/>
                  </a:lnTo>
                  <a:lnTo>
                    <a:pt x="4631" y="2727"/>
                  </a:lnTo>
                  <a:lnTo>
                    <a:pt x="4525" y="2727"/>
                  </a:lnTo>
                  <a:lnTo>
                    <a:pt x="4393" y="2700"/>
                  </a:lnTo>
                  <a:lnTo>
                    <a:pt x="4287" y="2700"/>
                  </a:lnTo>
                  <a:lnTo>
                    <a:pt x="4154" y="2674"/>
                  </a:lnTo>
                  <a:lnTo>
                    <a:pt x="4049" y="2674"/>
                  </a:lnTo>
                  <a:lnTo>
                    <a:pt x="3943" y="2647"/>
                  </a:lnTo>
                  <a:lnTo>
                    <a:pt x="3811" y="2647"/>
                  </a:lnTo>
                  <a:lnTo>
                    <a:pt x="3705" y="2621"/>
                  </a:lnTo>
                  <a:lnTo>
                    <a:pt x="3599" y="2594"/>
                  </a:lnTo>
                  <a:lnTo>
                    <a:pt x="3493" y="2594"/>
                  </a:lnTo>
                  <a:lnTo>
                    <a:pt x="3361" y="2568"/>
                  </a:lnTo>
                  <a:lnTo>
                    <a:pt x="3255" y="2542"/>
                  </a:lnTo>
                  <a:lnTo>
                    <a:pt x="3149" y="2542"/>
                  </a:lnTo>
                  <a:lnTo>
                    <a:pt x="3043" y="2515"/>
                  </a:lnTo>
                  <a:lnTo>
                    <a:pt x="2937" y="2489"/>
                  </a:lnTo>
                  <a:lnTo>
                    <a:pt x="2858" y="2462"/>
                  </a:lnTo>
                  <a:lnTo>
                    <a:pt x="2752" y="2462"/>
                  </a:lnTo>
                  <a:lnTo>
                    <a:pt x="2646" y="2436"/>
                  </a:lnTo>
                  <a:lnTo>
                    <a:pt x="2541" y="2409"/>
                  </a:lnTo>
                  <a:lnTo>
                    <a:pt x="2461" y="2383"/>
                  </a:lnTo>
                  <a:lnTo>
                    <a:pt x="2355" y="2356"/>
                  </a:lnTo>
                  <a:lnTo>
                    <a:pt x="2249" y="2330"/>
                  </a:lnTo>
                  <a:lnTo>
                    <a:pt x="2170" y="2330"/>
                  </a:lnTo>
                  <a:lnTo>
                    <a:pt x="2064" y="2303"/>
                  </a:lnTo>
                  <a:lnTo>
                    <a:pt x="1985" y="2277"/>
                  </a:lnTo>
                  <a:lnTo>
                    <a:pt x="1905" y="2250"/>
                  </a:lnTo>
                  <a:lnTo>
                    <a:pt x="1825" y="2224"/>
                  </a:lnTo>
                  <a:lnTo>
                    <a:pt x="1719" y="2198"/>
                  </a:lnTo>
                  <a:lnTo>
                    <a:pt x="1640" y="2171"/>
                  </a:lnTo>
                  <a:lnTo>
                    <a:pt x="1561" y="2144"/>
                  </a:lnTo>
                  <a:lnTo>
                    <a:pt x="1481" y="2117"/>
                  </a:lnTo>
                  <a:lnTo>
                    <a:pt x="1402" y="2091"/>
                  </a:lnTo>
                  <a:lnTo>
                    <a:pt x="1322" y="2064"/>
                  </a:lnTo>
                  <a:lnTo>
                    <a:pt x="1270" y="2038"/>
                  </a:lnTo>
                  <a:lnTo>
                    <a:pt x="1190" y="2011"/>
                  </a:lnTo>
                  <a:lnTo>
                    <a:pt x="1111" y="1985"/>
                  </a:lnTo>
                  <a:lnTo>
                    <a:pt x="1058" y="1958"/>
                  </a:lnTo>
                  <a:lnTo>
                    <a:pt x="978" y="1932"/>
                  </a:lnTo>
                  <a:lnTo>
                    <a:pt x="926" y="1879"/>
                  </a:lnTo>
                  <a:lnTo>
                    <a:pt x="873" y="1853"/>
                  </a:lnTo>
                  <a:lnTo>
                    <a:pt x="793" y="1826"/>
                  </a:lnTo>
                  <a:lnTo>
                    <a:pt x="740" y="1800"/>
                  </a:lnTo>
                  <a:lnTo>
                    <a:pt x="687" y="1773"/>
                  </a:lnTo>
                  <a:lnTo>
                    <a:pt x="635" y="1747"/>
                  </a:lnTo>
                  <a:lnTo>
                    <a:pt x="582" y="1720"/>
                  </a:lnTo>
                  <a:lnTo>
                    <a:pt x="529" y="1667"/>
                  </a:lnTo>
                  <a:lnTo>
                    <a:pt x="476" y="1641"/>
                  </a:lnTo>
                  <a:lnTo>
                    <a:pt x="449" y="1614"/>
                  </a:lnTo>
                  <a:lnTo>
                    <a:pt x="396" y="1588"/>
                  </a:lnTo>
                  <a:lnTo>
                    <a:pt x="343" y="1562"/>
                  </a:lnTo>
                  <a:lnTo>
                    <a:pt x="317" y="1509"/>
                  </a:lnTo>
                  <a:lnTo>
                    <a:pt x="291" y="1482"/>
                  </a:lnTo>
                  <a:lnTo>
                    <a:pt x="238" y="1456"/>
                  </a:lnTo>
                  <a:lnTo>
                    <a:pt x="211" y="1429"/>
                  </a:lnTo>
                  <a:lnTo>
                    <a:pt x="185" y="1403"/>
                  </a:lnTo>
                  <a:lnTo>
                    <a:pt x="158" y="1350"/>
                  </a:lnTo>
                  <a:lnTo>
                    <a:pt x="132" y="1323"/>
                  </a:lnTo>
                  <a:lnTo>
                    <a:pt x="105" y="1297"/>
                  </a:lnTo>
                  <a:lnTo>
                    <a:pt x="79" y="1271"/>
                  </a:lnTo>
                  <a:lnTo>
                    <a:pt x="52" y="1218"/>
                  </a:lnTo>
                  <a:lnTo>
                    <a:pt x="52" y="1191"/>
                  </a:lnTo>
                  <a:lnTo>
                    <a:pt x="26" y="1165"/>
                  </a:lnTo>
                  <a:lnTo>
                    <a:pt x="26" y="1138"/>
                  </a:lnTo>
                  <a:lnTo>
                    <a:pt x="0" y="1085"/>
                  </a:lnTo>
                  <a:lnTo>
                    <a:pt x="0" y="1059"/>
                  </a:lnTo>
                  <a:lnTo>
                    <a:pt x="0" y="1032"/>
                  </a:lnTo>
                  <a:lnTo>
                    <a:pt x="0" y="1006"/>
                  </a:lnTo>
                  <a:lnTo>
                    <a:pt x="0" y="953"/>
                  </a:lnTo>
                  <a:lnTo>
                    <a:pt x="0" y="927"/>
                  </a:lnTo>
                  <a:lnTo>
                    <a:pt x="0" y="900"/>
                  </a:lnTo>
                  <a:lnTo>
                    <a:pt x="0" y="847"/>
                  </a:lnTo>
                  <a:lnTo>
                    <a:pt x="0" y="821"/>
                  </a:lnTo>
                  <a:lnTo>
                    <a:pt x="26" y="794"/>
                  </a:lnTo>
                  <a:lnTo>
                    <a:pt x="26" y="768"/>
                  </a:lnTo>
                  <a:lnTo>
                    <a:pt x="52" y="714"/>
                  </a:lnTo>
                  <a:lnTo>
                    <a:pt x="52" y="687"/>
                  </a:lnTo>
                  <a:lnTo>
                    <a:pt x="79" y="661"/>
                  </a:lnTo>
                  <a:lnTo>
                    <a:pt x="105" y="635"/>
                  </a:lnTo>
                  <a:lnTo>
                    <a:pt x="132" y="582"/>
                  </a:lnTo>
                  <a:lnTo>
                    <a:pt x="158" y="555"/>
                  </a:lnTo>
                  <a:lnTo>
                    <a:pt x="185" y="529"/>
                  </a:lnTo>
                  <a:lnTo>
                    <a:pt x="211" y="502"/>
                  </a:lnTo>
                  <a:lnTo>
                    <a:pt x="238" y="449"/>
                  </a:lnTo>
                  <a:lnTo>
                    <a:pt x="291" y="423"/>
                  </a:lnTo>
                  <a:lnTo>
                    <a:pt x="317" y="396"/>
                  </a:lnTo>
                  <a:lnTo>
                    <a:pt x="343" y="370"/>
                  </a:lnTo>
                  <a:lnTo>
                    <a:pt x="396" y="343"/>
                  </a:lnTo>
                  <a:lnTo>
                    <a:pt x="449" y="291"/>
                  </a:lnTo>
                  <a:lnTo>
                    <a:pt x="476" y="264"/>
                  </a:lnTo>
                  <a:lnTo>
                    <a:pt x="529" y="238"/>
                  </a:lnTo>
                  <a:lnTo>
                    <a:pt x="582" y="211"/>
                  </a:lnTo>
                  <a:lnTo>
                    <a:pt x="635" y="185"/>
                  </a:lnTo>
                  <a:lnTo>
                    <a:pt x="687" y="158"/>
                  </a:lnTo>
                  <a:lnTo>
                    <a:pt x="740" y="105"/>
                  </a:lnTo>
                  <a:lnTo>
                    <a:pt x="793" y="79"/>
                  </a:lnTo>
                  <a:lnTo>
                    <a:pt x="873" y="52"/>
                  </a:lnTo>
                  <a:lnTo>
                    <a:pt x="926" y="26"/>
                  </a:lnTo>
                  <a:lnTo>
                    <a:pt x="978" y="0"/>
                  </a:lnTo>
                  <a:lnTo>
                    <a:pt x="7410" y="953"/>
                  </a:lnTo>
                  <a:lnTo>
                    <a:pt x="7674" y="2885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2870280" y="968400"/>
              <a:ext cx="1098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1450800" y="124128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1469880" y="147960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584600" y="1212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4603680" y="145080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746280" y="358452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765000" y="382284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499000" y="35654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5518080" y="3803760"/>
              <a:ext cx="509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66560" y="781200"/>
            <a:ext cx="5905440" cy="3828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698480" y="8852040"/>
            <a:ext cx="35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3080" y="800280"/>
            <a:ext cx="6172200" cy="397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536920" y="923760"/>
            <a:ext cx="1860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36600" y="1397160"/>
            <a:ext cx="5959800" cy="3025800"/>
            <a:chOff x="336600" y="1397160"/>
            <a:chExt cx="5959800" cy="3025800"/>
          </a:xfrm>
        </p:grpSpPr>
        <p:sp>
          <p:nvSpPr>
            <p:cNvPr id="306" name=""/>
            <p:cNvSpPr/>
            <p:nvPr/>
          </p:nvSpPr>
          <p:spPr>
            <a:xfrm>
              <a:off x="5848200" y="2571840"/>
              <a:ext cx="448200" cy="1037160"/>
            </a:xfrm>
            <a:custGeom>
              <a:avLst/>
              <a:gdLst/>
              <a:ahLst/>
              <a:rect l="0" t="0" r="r" b="b"/>
              <a:pathLst>
                <a:path w="1245" h="2881">
                  <a:moveTo>
                    <a:pt x="1245" y="0"/>
                  </a:moveTo>
                  <a:lnTo>
                    <a:pt x="1245" y="26"/>
                  </a:lnTo>
                  <a:lnTo>
                    <a:pt x="1245" y="52"/>
                  </a:lnTo>
                  <a:lnTo>
                    <a:pt x="1219" y="79"/>
                  </a:lnTo>
                  <a:lnTo>
                    <a:pt x="1219" y="105"/>
                  </a:lnTo>
                  <a:lnTo>
                    <a:pt x="1219" y="158"/>
                  </a:lnTo>
                  <a:lnTo>
                    <a:pt x="1192" y="185"/>
                  </a:lnTo>
                  <a:lnTo>
                    <a:pt x="1192" y="211"/>
                  </a:lnTo>
                  <a:lnTo>
                    <a:pt x="1166" y="238"/>
                  </a:lnTo>
                  <a:lnTo>
                    <a:pt x="1166" y="264"/>
                  </a:lnTo>
                  <a:lnTo>
                    <a:pt x="1139" y="291"/>
                  </a:lnTo>
                  <a:lnTo>
                    <a:pt x="1113" y="343"/>
                  </a:lnTo>
                  <a:lnTo>
                    <a:pt x="1086" y="370"/>
                  </a:lnTo>
                  <a:lnTo>
                    <a:pt x="1060" y="396"/>
                  </a:lnTo>
                  <a:lnTo>
                    <a:pt x="1033" y="423"/>
                  </a:lnTo>
                  <a:lnTo>
                    <a:pt x="1007" y="449"/>
                  </a:lnTo>
                  <a:lnTo>
                    <a:pt x="980" y="476"/>
                  </a:lnTo>
                  <a:lnTo>
                    <a:pt x="927" y="502"/>
                  </a:lnTo>
                  <a:lnTo>
                    <a:pt x="900" y="529"/>
                  </a:lnTo>
                  <a:lnTo>
                    <a:pt x="874" y="582"/>
                  </a:lnTo>
                  <a:lnTo>
                    <a:pt x="821" y="604"/>
                  </a:lnTo>
                  <a:lnTo>
                    <a:pt x="794" y="630"/>
                  </a:lnTo>
                  <a:lnTo>
                    <a:pt x="741" y="657"/>
                  </a:lnTo>
                  <a:lnTo>
                    <a:pt x="688" y="683"/>
                  </a:lnTo>
                  <a:lnTo>
                    <a:pt x="636" y="709"/>
                  </a:lnTo>
                  <a:lnTo>
                    <a:pt x="609" y="737"/>
                  </a:lnTo>
                  <a:lnTo>
                    <a:pt x="556" y="763"/>
                  </a:lnTo>
                  <a:lnTo>
                    <a:pt x="503" y="790"/>
                  </a:lnTo>
                  <a:lnTo>
                    <a:pt x="424" y="816"/>
                  </a:lnTo>
                  <a:lnTo>
                    <a:pt x="371" y="843"/>
                  </a:lnTo>
                  <a:lnTo>
                    <a:pt x="318" y="869"/>
                  </a:lnTo>
                  <a:lnTo>
                    <a:pt x="264" y="896"/>
                  </a:lnTo>
                  <a:lnTo>
                    <a:pt x="185" y="922"/>
                  </a:lnTo>
                  <a:lnTo>
                    <a:pt x="132" y="949"/>
                  </a:lnTo>
                  <a:lnTo>
                    <a:pt x="79" y="975"/>
                  </a:lnTo>
                  <a:lnTo>
                    <a:pt x="0" y="1002"/>
                  </a:lnTo>
                  <a:lnTo>
                    <a:pt x="0" y="2881"/>
                  </a:lnTo>
                  <a:lnTo>
                    <a:pt x="79" y="2855"/>
                  </a:lnTo>
                  <a:lnTo>
                    <a:pt x="132" y="2828"/>
                  </a:lnTo>
                  <a:lnTo>
                    <a:pt x="185" y="2802"/>
                  </a:lnTo>
                  <a:lnTo>
                    <a:pt x="264" y="2775"/>
                  </a:lnTo>
                  <a:lnTo>
                    <a:pt x="318" y="2749"/>
                  </a:lnTo>
                  <a:lnTo>
                    <a:pt x="371" y="2722"/>
                  </a:lnTo>
                  <a:lnTo>
                    <a:pt x="424" y="2696"/>
                  </a:lnTo>
                  <a:lnTo>
                    <a:pt x="503" y="2669"/>
                  </a:lnTo>
                  <a:lnTo>
                    <a:pt x="556" y="2643"/>
                  </a:lnTo>
                  <a:lnTo>
                    <a:pt x="609" y="2616"/>
                  </a:lnTo>
                  <a:lnTo>
                    <a:pt x="636" y="2590"/>
                  </a:lnTo>
                  <a:lnTo>
                    <a:pt x="688" y="2564"/>
                  </a:lnTo>
                  <a:lnTo>
                    <a:pt x="741" y="2537"/>
                  </a:lnTo>
                  <a:lnTo>
                    <a:pt x="794" y="2511"/>
                  </a:lnTo>
                  <a:lnTo>
                    <a:pt x="821" y="2484"/>
                  </a:lnTo>
                  <a:lnTo>
                    <a:pt x="874" y="2458"/>
                  </a:lnTo>
                  <a:lnTo>
                    <a:pt x="900" y="2405"/>
                  </a:lnTo>
                  <a:lnTo>
                    <a:pt x="927" y="2378"/>
                  </a:lnTo>
                  <a:lnTo>
                    <a:pt x="980" y="2352"/>
                  </a:lnTo>
                  <a:lnTo>
                    <a:pt x="1007" y="2325"/>
                  </a:lnTo>
                  <a:lnTo>
                    <a:pt x="1033" y="2299"/>
                  </a:lnTo>
                  <a:lnTo>
                    <a:pt x="1060" y="2273"/>
                  </a:lnTo>
                  <a:lnTo>
                    <a:pt x="1086" y="2246"/>
                  </a:lnTo>
                  <a:lnTo>
                    <a:pt x="1113" y="2220"/>
                  </a:lnTo>
                  <a:lnTo>
                    <a:pt x="1139" y="2167"/>
                  </a:lnTo>
                  <a:lnTo>
                    <a:pt x="1166" y="2139"/>
                  </a:lnTo>
                  <a:lnTo>
                    <a:pt x="1166" y="2113"/>
                  </a:lnTo>
                  <a:lnTo>
                    <a:pt x="1192" y="2086"/>
                  </a:lnTo>
                  <a:lnTo>
                    <a:pt x="1192" y="2060"/>
                  </a:lnTo>
                  <a:lnTo>
                    <a:pt x="1219" y="2033"/>
                  </a:lnTo>
                  <a:lnTo>
                    <a:pt x="1219" y="1980"/>
                  </a:lnTo>
                  <a:lnTo>
                    <a:pt x="1219" y="1954"/>
                  </a:lnTo>
                  <a:lnTo>
                    <a:pt x="1245" y="1928"/>
                  </a:lnTo>
                  <a:lnTo>
                    <a:pt x="1245" y="1901"/>
                  </a:lnTo>
                  <a:lnTo>
                    <a:pt x="1245" y="1875"/>
                  </a:lnTo>
                  <a:lnTo>
                    <a:pt x="1245" y="0"/>
                  </a:lnTo>
                  <a:close/>
                </a:path>
              </a:pathLst>
            </a:custGeom>
            <a:solidFill>
              <a:srgbClr val="7f7f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71600" y="2571840"/>
              <a:ext cx="9720" cy="732240"/>
            </a:xfrm>
            <a:custGeom>
              <a:avLst/>
              <a:gdLst/>
              <a:ahLst/>
              <a:rect l="0" t="0" r="r" b="b"/>
              <a:pathLst>
                <a:path w="27" h="2034">
                  <a:moveTo>
                    <a:pt x="27" y="158"/>
                  </a:moveTo>
                  <a:lnTo>
                    <a:pt x="0" y="105"/>
                  </a:lnTo>
                  <a:lnTo>
                    <a:pt x="0" y="79"/>
                  </a:lnTo>
                  <a:lnTo>
                    <a:pt x="0" y="5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0" y="1876"/>
                  </a:lnTo>
                  <a:lnTo>
                    <a:pt x="0" y="1902"/>
                  </a:lnTo>
                  <a:lnTo>
                    <a:pt x="0" y="1929"/>
                  </a:lnTo>
                  <a:lnTo>
                    <a:pt x="0" y="1955"/>
                  </a:lnTo>
                  <a:lnTo>
                    <a:pt x="0" y="1981"/>
                  </a:lnTo>
                  <a:lnTo>
                    <a:pt x="27" y="2034"/>
                  </a:lnTo>
                  <a:lnTo>
                    <a:pt x="27" y="158"/>
                  </a:lnTo>
                  <a:close/>
                </a:path>
              </a:pathLst>
            </a:custGeom>
            <a:solidFill>
              <a:srgbClr val="606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80960" y="2628720"/>
              <a:ext cx="9720" cy="703800"/>
            </a:xfrm>
            <a:custGeom>
              <a:avLst/>
              <a:gdLst/>
              <a:ahLst/>
              <a:rect l="0" t="0" r="r" b="b"/>
              <a:pathLst>
                <a:path w="27" h="1955">
                  <a:moveTo>
                    <a:pt x="27" y="79"/>
                  </a:moveTo>
                  <a:lnTo>
                    <a:pt x="27" y="5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0" y="1876"/>
                  </a:lnTo>
                  <a:lnTo>
                    <a:pt x="0" y="1902"/>
                  </a:lnTo>
                  <a:lnTo>
                    <a:pt x="27" y="1929"/>
                  </a:lnTo>
                  <a:lnTo>
                    <a:pt x="27" y="1955"/>
                  </a:lnTo>
                  <a:lnTo>
                    <a:pt x="27" y="79"/>
                  </a:lnTo>
                  <a:close/>
                </a:path>
              </a:pathLst>
            </a:custGeom>
            <a:solidFill>
              <a:srgbClr val="004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90680" y="2657520"/>
              <a:ext cx="1134000" cy="1132200"/>
            </a:xfrm>
            <a:custGeom>
              <a:avLst/>
              <a:gdLst/>
              <a:ahLst/>
              <a:rect l="0" t="0" r="r" b="b"/>
              <a:pathLst>
                <a:path w="3150" h="3145">
                  <a:moveTo>
                    <a:pt x="3150" y="1265"/>
                  </a:moveTo>
                  <a:lnTo>
                    <a:pt x="3044" y="1239"/>
                  </a:lnTo>
                  <a:lnTo>
                    <a:pt x="2965" y="1212"/>
                  </a:lnTo>
                  <a:lnTo>
                    <a:pt x="2859" y="1212"/>
                  </a:lnTo>
                  <a:lnTo>
                    <a:pt x="2753" y="1186"/>
                  </a:lnTo>
                  <a:lnTo>
                    <a:pt x="2674" y="1159"/>
                  </a:lnTo>
                  <a:lnTo>
                    <a:pt x="2568" y="1159"/>
                  </a:lnTo>
                  <a:lnTo>
                    <a:pt x="2489" y="1133"/>
                  </a:lnTo>
                  <a:lnTo>
                    <a:pt x="2383" y="1106"/>
                  </a:lnTo>
                  <a:lnTo>
                    <a:pt x="2302" y="1080"/>
                  </a:lnTo>
                  <a:lnTo>
                    <a:pt x="2197" y="1080"/>
                  </a:lnTo>
                  <a:lnTo>
                    <a:pt x="2117" y="1053"/>
                  </a:lnTo>
                  <a:lnTo>
                    <a:pt x="2038" y="1027"/>
                  </a:lnTo>
                  <a:lnTo>
                    <a:pt x="1932" y="1001"/>
                  </a:lnTo>
                  <a:lnTo>
                    <a:pt x="1853" y="974"/>
                  </a:lnTo>
                  <a:lnTo>
                    <a:pt x="1773" y="948"/>
                  </a:lnTo>
                  <a:lnTo>
                    <a:pt x="1694" y="948"/>
                  </a:lnTo>
                  <a:lnTo>
                    <a:pt x="1614" y="921"/>
                  </a:lnTo>
                  <a:lnTo>
                    <a:pt x="1535" y="895"/>
                  </a:lnTo>
                  <a:lnTo>
                    <a:pt x="1456" y="868"/>
                  </a:lnTo>
                  <a:lnTo>
                    <a:pt x="1403" y="842"/>
                  </a:lnTo>
                  <a:lnTo>
                    <a:pt x="1323" y="815"/>
                  </a:lnTo>
                  <a:lnTo>
                    <a:pt x="1244" y="789"/>
                  </a:lnTo>
                  <a:lnTo>
                    <a:pt x="1191" y="762"/>
                  </a:lnTo>
                  <a:lnTo>
                    <a:pt x="1112" y="736"/>
                  </a:lnTo>
                  <a:lnTo>
                    <a:pt x="1032" y="709"/>
                  </a:lnTo>
                  <a:lnTo>
                    <a:pt x="979" y="683"/>
                  </a:lnTo>
                  <a:lnTo>
                    <a:pt x="927" y="657"/>
                  </a:lnTo>
                  <a:lnTo>
                    <a:pt x="847" y="630"/>
                  </a:lnTo>
                  <a:lnTo>
                    <a:pt x="794" y="604"/>
                  </a:lnTo>
                  <a:lnTo>
                    <a:pt x="740" y="577"/>
                  </a:lnTo>
                  <a:lnTo>
                    <a:pt x="687" y="551"/>
                  </a:lnTo>
                  <a:lnTo>
                    <a:pt x="635" y="524"/>
                  </a:lnTo>
                  <a:lnTo>
                    <a:pt x="582" y="498"/>
                  </a:lnTo>
                  <a:lnTo>
                    <a:pt x="529" y="471"/>
                  </a:lnTo>
                  <a:lnTo>
                    <a:pt x="476" y="445"/>
                  </a:lnTo>
                  <a:lnTo>
                    <a:pt x="449" y="418"/>
                  </a:lnTo>
                  <a:lnTo>
                    <a:pt x="396" y="392"/>
                  </a:lnTo>
                  <a:lnTo>
                    <a:pt x="343" y="366"/>
                  </a:lnTo>
                  <a:lnTo>
                    <a:pt x="317" y="343"/>
                  </a:lnTo>
                  <a:lnTo>
                    <a:pt x="264" y="291"/>
                  </a:lnTo>
                  <a:lnTo>
                    <a:pt x="238" y="264"/>
                  </a:lnTo>
                  <a:lnTo>
                    <a:pt x="211" y="238"/>
                  </a:lnTo>
                  <a:lnTo>
                    <a:pt x="185" y="211"/>
                  </a:lnTo>
                  <a:lnTo>
                    <a:pt x="132" y="185"/>
                  </a:lnTo>
                  <a:lnTo>
                    <a:pt x="105" y="158"/>
                  </a:lnTo>
                  <a:lnTo>
                    <a:pt x="79" y="132"/>
                  </a:lnTo>
                  <a:lnTo>
                    <a:pt x="52" y="105"/>
                  </a:lnTo>
                  <a:lnTo>
                    <a:pt x="52" y="52"/>
                  </a:lnTo>
                  <a:lnTo>
                    <a:pt x="26" y="26"/>
                  </a:lnTo>
                  <a:lnTo>
                    <a:pt x="0" y="0"/>
                  </a:lnTo>
                  <a:lnTo>
                    <a:pt x="0" y="1875"/>
                  </a:lnTo>
                  <a:lnTo>
                    <a:pt x="26" y="1901"/>
                  </a:lnTo>
                  <a:lnTo>
                    <a:pt x="52" y="1928"/>
                  </a:lnTo>
                  <a:lnTo>
                    <a:pt x="52" y="1980"/>
                  </a:lnTo>
                  <a:lnTo>
                    <a:pt x="79" y="2007"/>
                  </a:lnTo>
                  <a:lnTo>
                    <a:pt x="105" y="2033"/>
                  </a:lnTo>
                  <a:lnTo>
                    <a:pt x="132" y="2060"/>
                  </a:lnTo>
                  <a:lnTo>
                    <a:pt x="185" y="2086"/>
                  </a:lnTo>
                  <a:lnTo>
                    <a:pt x="211" y="2113"/>
                  </a:lnTo>
                  <a:lnTo>
                    <a:pt x="238" y="2139"/>
                  </a:lnTo>
                  <a:lnTo>
                    <a:pt x="264" y="2166"/>
                  </a:lnTo>
                  <a:lnTo>
                    <a:pt x="317" y="2219"/>
                  </a:lnTo>
                  <a:lnTo>
                    <a:pt x="343" y="2245"/>
                  </a:lnTo>
                  <a:lnTo>
                    <a:pt x="396" y="2272"/>
                  </a:lnTo>
                  <a:lnTo>
                    <a:pt x="449" y="2298"/>
                  </a:lnTo>
                  <a:lnTo>
                    <a:pt x="476" y="2324"/>
                  </a:lnTo>
                  <a:lnTo>
                    <a:pt x="529" y="2351"/>
                  </a:lnTo>
                  <a:lnTo>
                    <a:pt x="582" y="2377"/>
                  </a:lnTo>
                  <a:lnTo>
                    <a:pt x="635" y="2404"/>
                  </a:lnTo>
                  <a:lnTo>
                    <a:pt x="687" y="2430"/>
                  </a:lnTo>
                  <a:lnTo>
                    <a:pt x="740" y="2457"/>
                  </a:lnTo>
                  <a:lnTo>
                    <a:pt x="794" y="2483"/>
                  </a:lnTo>
                  <a:lnTo>
                    <a:pt x="847" y="2510"/>
                  </a:lnTo>
                  <a:lnTo>
                    <a:pt x="927" y="2536"/>
                  </a:lnTo>
                  <a:lnTo>
                    <a:pt x="979" y="2563"/>
                  </a:lnTo>
                  <a:lnTo>
                    <a:pt x="1032" y="2589"/>
                  </a:lnTo>
                  <a:lnTo>
                    <a:pt x="1112" y="2615"/>
                  </a:lnTo>
                  <a:lnTo>
                    <a:pt x="1191" y="2642"/>
                  </a:lnTo>
                  <a:lnTo>
                    <a:pt x="1244" y="2668"/>
                  </a:lnTo>
                  <a:lnTo>
                    <a:pt x="1323" y="2695"/>
                  </a:lnTo>
                  <a:lnTo>
                    <a:pt x="1403" y="2721"/>
                  </a:lnTo>
                  <a:lnTo>
                    <a:pt x="1456" y="2748"/>
                  </a:lnTo>
                  <a:lnTo>
                    <a:pt x="1535" y="2774"/>
                  </a:lnTo>
                  <a:lnTo>
                    <a:pt x="1614" y="2801"/>
                  </a:lnTo>
                  <a:lnTo>
                    <a:pt x="1694" y="2827"/>
                  </a:lnTo>
                  <a:lnTo>
                    <a:pt x="1773" y="2827"/>
                  </a:lnTo>
                  <a:lnTo>
                    <a:pt x="1853" y="2854"/>
                  </a:lnTo>
                  <a:lnTo>
                    <a:pt x="1932" y="2880"/>
                  </a:lnTo>
                  <a:lnTo>
                    <a:pt x="2038" y="2907"/>
                  </a:lnTo>
                  <a:lnTo>
                    <a:pt x="2117" y="2933"/>
                  </a:lnTo>
                  <a:lnTo>
                    <a:pt x="2197" y="2959"/>
                  </a:lnTo>
                  <a:lnTo>
                    <a:pt x="2302" y="2959"/>
                  </a:lnTo>
                  <a:lnTo>
                    <a:pt x="2383" y="2986"/>
                  </a:lnTo>
                  <a:lnTo>
                    <a:pt x="2489" y="3012"/>
                  </a:lnTo>
                  <a:lnTo>
                    <a:pt x="2568" y="3039"/>
                  </a:lnTo>
                  <a:lnTo>
                    <a:pt x="2674" y="3039"/>
                  </a:lnTo>
                  <a:lnTo>
                    <a:pt x="2753" y="3065"/>
                  </a:lnTo>
                  <a:lnTo>
                    <a:pt x="2859" y="3092"/>
                  </a:lnTo>
                  <a:lnTo>
                    <a:pt x="2965" y="3092"/>
                  </a:lnTo>
                  <a:lnTo>
                    <a:pt x="3044" y="3118"/>
                  </a:lnTo>
                  <a:lnTo>
                    <a:pt x="3150" y="3145"/>
                  </a:lnTo>
                  <a:lnTo>
                    <a:pt x="3150" y="1265"/>
                  </a:lnTo>
                  <a:close/>
                </a:path>
              </a:pathLst>
            </a:custGeom>
            <a:solidFill>
              <a:srgbClr val="7f4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23960" y="3112920"/>
              <a:ext cx="267120" cy="705240"/>
            </a:xfrm>
            <a:custGeom>
              <a:avLst/>
              <a:gdLst/>
              <a:ahLst/>
              <a:rect l="0" t="0" r="r" b="b"/>
              <a:pathLst>
                <a:path w="742" h="1959">
                  <a:moveTo>
                    <a:pt x="742" y="79"/>
                  </a:moveTo>
                  <a:lnTo>
                    <a:pt x="637" y="79"/>
                  </a:lnTo>
                  <a:lnTo>
                    <a:pt x="530" y="52"/>
                  </a:lnTo>
                  <a:lnTo>
                    <a:pt x="424" y="52"/>
                  </a:lnTo>
                  <a:lnTo>
                    <a:pt x="318" y="26"/>
                  </a:lnTo>
                  <a:lnTo>
                    <a:pt x="212" y="26"/>
                  </a:lnTo>
                  <a:lnTo>
                    <a:pt x="105" y="0"/>
                  </a:lnTo>
                  <a:lnTo>
                    <a:pt x="0" y="0"/>
                  </a:lnTo>
                  <a:lnTo>
                    <a:pt x="0" y="1880"/>
                  </a:lnTo>
                  <a:lnTo>
                    <a:pt x="105" y="1880"/>
                  </a:lnTo>
                  <a:lnTo>
                    <a:pt x="212" y="1907"/>
                  </a:lnTo>
                  <a:lnTo>
                    <a:pt x="318" y="1907"/>
                  </a:lnTo>
                  <a:lnTo>
                    <a:pt x="424" y="1933"/>
                  </a:lnTo>
                  <a:lnTo>
                    <a:pt x="530" y="1933"/>
                  </a:lnTo>
                  <a:lnTo>
                    <a:pt x="637" y="1959"/>
                  </a:lnTo>
                  <a:lnTo>
                    <a:pt x="742" y="1959"/>
                  </a:lnTo>
                  <a:lnTo>
                    <a:pt x="742" y="79"/>
                  </a:lnTo>
                  <a:close/>
                </a:path>
              </a:pathLst>
            </a:custGeom>
            <a:solidFill>
              <a:srgbClr val="3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90720" y="2932200"/>
              <a:ext cx="3057840" cy="952920"/>
            </a:xfrm>
            <a:custGeom>
              <a:avLst/>
              <a:gdLst/>
              <a:ahLst/>
              <a:rect l="0" t="0" r="r" b="b"/>
              <a:pathLst>
                <a:path w="8494" h="2647">
                  <a:moveTo>
                    <a:pt x="8494" y="0"/>
                  </a:moveTo>
                  <a:lnTo>
                    <a:pt x="8414" y="26"/>
                  </a:lnTo>
                  <a:lnTo>
                    <a:pt x="8361" y="52"/>
                  </a:lnTo>
                  <a:lnTo>
                    <a:pt x="8282" y="79"/>
                  </a:lnTo>
                  <a:lnTo>
                    <a:pt x="8203" y="105"/>
                  </a:lnTo>
                  <a:lnTo>
                    <a:pt x="8123" y="132"/>
                  </a:lnTo>
                  <a:lnTo>
                    <a:pt x="8044" y="158"/>
                  </a:lnTo>
                  <a:lnTo>
                    <a:pt x="7964" y="185"/>
                  </a:lnTo>
                  <a:lnTo>
                    <a:pt x="7885" y="185"/>
                  </a:lnTo>
                  <a:lnTo>
                    <a:pt x="7806" y="211"/>
                  </a:lnTo>
                  <a:lnTo>
                    <a:pt x="7726" y="238"/>
                  </a:lnTo>
                  <a:lnTo>
                    <a:pt x="7647" y="264"/>
                  </a:lnTo>
                  <a:lnTo>
                    <a:pt x="7568" y="291"/>
                  </a:lnTo>
                  <a:lnTo>
                    <a:pt x="7462" y="317"/>
                  </a:lnTo>
                  <a:lnTo>
                    <a:pt x="7382" y="317"/>
                  </a:lnTo>
                  <a:lnTo>
                    <a:pt x="7277" y="343"/>
                  </a:lnTo>
                  <a:lnTo>
                    <a:pt x="7197" y="370"/>
                  </a:lnTo>
                  <a:lnTo>
                    <a:pt x="7091" y="396"/>
                  </a:lnTo>
                  <a:lnTo>
                    <a:pt x="7012" y="396"/>
                  </a:lnTo>
                  <a:lnTo>
                    <a:pt x="6906" y="423"/>
                  </a:lnTo>
                  <a:lnTo>
                    <a:pt x="6827" y="449"/>
                  </a:lnTo>
                  <a:lnTo>
                    <a:pt x="6721" y="449"/>
                  </a:lnTo>
                  <a:lnTo>
                    <a:pt x="6615" y="476"/>
                  </a:lnTo>
                  <a:lnTo>
                    <a:pt x="6509" y="502"/>
                  </a:lnTo>
                  <a:lnTo>
                    <a:pt x="6403" y="502"/>
                  </a:lnTo>
                  <a:lnTo>
                    <a:pt x="6324" y="529"/>
                  </a:lnTo>
                  <a:lnTo>
                    <a:pt x="6218" y="529"/>
                  </a:lnTo>
                  <a:lnTo>
                    <a:pt x="6112" y="555"/>
                  </a:lnTo>
                  <a:lnTo>
                    <a:pt x="6007" y="555"/>
                  </a:lnTo>
                  <a:lnTo>
                    <a:pt x="5901" y="582"/>
                  </a:lnTo>
                  <a:lnTo>
                    <a:pt x="5768" y="582"/>
                  </a:lnTo>
                  <a:lnTo>
                    <a:pt x="5663" y="608"/>
                  </a:lnTo>
                  <a:lnTo>
                    <a:pt x="5557" y="608"/>
                  </a:lnTo>
                  <a:lnTo>
                    <a:pt x="5451" y="635"/>
                  </a:lnTo>
                  <a:lnTo>
                    <a:pt x="5345" y="635"/>
                  </a:lnTo>
                  <a:lnTo>
                    <a:pt x="5239" y="661"/>
                  </a:lnTo>
                  <a:lnTo>
                    <a:pt x="5107" y="661"/>
                  </a:lnTo>
                  <a:lnTo>
                    <a:pt x="5001" y="661"/>
                  </a:lnTo>
                  <a:lnTo>
                    <a:pt x="4895" y="688"/>
                  </a:lnTo>
                  <a:lnTo>
                    <a:pt x="4789" y="688"/>
                  </a:lnTo>
                  <a:lnTo>
                    <a:pt x="4657" y="688"/>
                  </a:lnTo>
                  <a:lnTo>
                    <a:pt x="4551" y="715"/>
                  </a:lnTo>
                  <a:lnTo>
                    <a:pt x="4419" y="715"/>
                  </a:lnTo>
                  <a:lnTo>
                    <a:pt x="4313" y="715"/>
                  </a:lnTo>
                  <a:lnTo>
                    <a:pt x="4206" y="741"/>
                  </a:lnTo>
                  <a:lnTo>
                    <a:pt x="4074" y="741"/>
                  </a:lnTo>
                  <a:lnTo>
                    <a:pt x="3968" y="741"/>
                  </a:lnTo>
                  <a:lnTo>
                    <a:pt x="3836" y="741"/>
                  </a:lnTo>
                  <a:lnTo>
                    <a:pt x="3730" y="741"/>
                  </a:lnTo>
                  <a:lnTo>
                    <a:pt x="3598" y="741"/>
                  </a:lnTo>
                  <a:lnTo>
                    <a:pt x="3492" y="741"/>
                  </a:lnTo>
                  <a:lnTo>
                    <a:pt x="3360" y="768"/>
                  </a:lnTo>
                  <a:lnTo>
                    <a:pt x="3254" y="768"/>
                  </a:lnTo>
                  <a:lnTo>
                    <a:pt x="3122" y="768"/>
                  </a:lnTo>
                  <a:lnTo>
                    <a:pt x="3016" y="768"/>
                  </a:lnTo>
                  <a:lnTo>
                    <a:pt x="2883" y="768"/>
                  </a:lnTo>
                  <a:lnTo>
                    <a:pt x="2778" y="768"/>
                  </a:lnTo>
                  <a:lnTo>
                    <a:pt x="2645" y="768"/>
                  </a:lnTo>
                  <a:lnTo>
                    <a:pt x="2539" y="768"/>
                  </a:lnTo>
                  <a:lnTo>
                    <a:pt x="2407" y="768"/>
                  </a:lnTo>
                  <a:lnTo>
                    <a:pt x="2301" y="741"/>
                  </a:lnTo>
                  <a:lnTo>
                    <a:pt x="2169" y="741"/>
                  </a:lnTo>
                  <a:lnTo>
                    <a:pt x="2063" y="741"/>
                  </a:lnTo>
                  <a:lnTo>
                    <a:pt x="1931" y="741"/>
                  </a:lnTo>
                  <a:lnTo>
                    <a:pt x="1825" y="741"/>
                  </a:lnTo>
                  <a:lnTo>
                    <a:pt x="1693" y="741"/>
                  </a:lnTo>
                  <a:lnTo>
                    <a:pt x="1587" y="741"/>
                  </a:lnTo>
                  <a:lnTo>
                    <a:pt x="1481" y="715"/>
                  </a:lnTo>
                  <a:lnTo>
                    <a:pt x="1349" y="715"/>
                  </a:lnTo>
                  <a:lnTo>
                    <a:pt x="1243" y="715"/>
                  </a:lnTo>
                  <a:lnTo>
                    <a:pt x="1111" y="688"/>
                  </a:lnTo>
                  <a:lnTo>
                    <a:pt x="1005" y="688"/>
                  </a:lnTo>
                  <a:lnTo>
                    <a:pt x="899" y="688"/>
                  </a:lnTo>
                  <a:lnTo>
                    <a:pt x="767" y="661"/>
                  </a:lnTo>
                  <a:lnTo>
                    <a:pt x="661" y="661"/>
                  </a:lnTo>
                  <a:lnTo>
                    <a:pt x="555" y="661"/>
                  </a:lnTo>
                  <a:lnTo>
                    <a:pt x="449" y="635"/>
                  </a:lnTo>
                  <a:lnTo>
                    <a:pt x="317" y="635"/>
                  </a:lnTo>
                  <a:lnTo>
                    <a:pt x="211" y="608"/>
                  </a:lnTo>
                  <a:lnTo>
                    <a:pt x="105" y="608"/>
                  </a:lnTo>
                  <a:lnTo>
                    <a:pt x="0" y="582"/>
                  </a:lnTo>
                  <a:lnTo>
                    <a:pt x="0" y="2462"/>
                  </a:lnTo>
                  <a:lnTo>
                    <a:pt x="105" y="2489"/>
                  </a:lnTo>
                  <a:lnTo>
                    <a:pt x="211" y="2489"/>
                  </a:lnTo>
                  <a:lnTo>
                    <a:pt x="317" y="2515"/>
                  </a:lnTo>
                  <a:lnTo>
                    <a:pt x="449" y="2515"/>
                  </a:lnTo>
                  <a:lnTo>
                    <a:pt x="555" y="2542"/>
                  </a:lnTo>
                  <a:lnTo>
                    <a:pt x="661" y="2542"/>
                  </a:lnTo>
                  <a:lnTo>
                    <a:pt x="767" y="2542"/>
                  </a:lnTo>
                  <a:lnTo>
                    <a:pt x="899" y="2568"/>
                  </a:lnTo>
                  <a:lnTo>
                    <a:pt x="1005" y="2568"/>
                  </a:lnTo>
                  <a:lnTo>
                    <a:pt x="1111" y="2568"/>
                  </a:lnTo>
                  <a:lnTo>
                    <a:pt x="1243" y="2594"/>
                  </a:lnTo>
                  <a:lnTo>
                    <a:pt x="1349" y="2594"/>
                  </a:lnTo>
                  <a:lnTo>
                    <a:pt x="1481" y="2594"/>
                  </a:lnTo>
                  <a:lnTo>
                    <a:pt x="1587" y="2621"/>
                  </a:lnTo>
                  <a:lnTo>
                    <a:pt x="1693" y="2621"/>
                  </a:lnTo>
                  <a:lnTo>
                    <a:pt x="1825" y="2621"/>
                  </a:lnTo>
                  <a:lnTo>
                    <a:pt x="1931" y="2621"/>
                  </a:lnTo>
                  <a:lnTo>
                    <a:pt x="2063" y="2621"/>
                  </a:lnTo>
                  <a:lnTo>
                    <a:pt x="2169" y="2621"/>
                  </a:lnTo>
                  <a:lnTo>
                    <a:pt x="2301" y="2621"/>
                  </a:lnTo>
                  <a:lnTo>
                    <a:pt x="2407" y="2647"/>
                  </a:lnTo>
                  <a:lnTo>
                    <a:pt x="2539" y="2647"/>
                  </a:lnTo>
                  <a:lnTo>
                    <a:pt x="2645" y="2647"/>
                  </a:lnTo>
                  <a:lnTo>
                    <a:pt x="2778" y="2647"/>
                  </a:lnTo>
                  <a:lnTo>
                    <a:pt x="2883" y="2647"/>
                  </a:lnTo>
                  <a:lnTo>
                    <a:pt x="3016" y="2647"/>
                  </a:lnTo>
                  <a:lnTo>
                    <a:pt x="3122" y="2647"/>
                  </a:lnTo>
                  <a:lnTo>
                    <a:pt x="3254" y="2647"/>
                  </a:lnTo>
                  <a:lnTo>
                    <a:pt x="3360" y="2647"/>
                  </a:lnTo>
                  <a:lnTo>
                    <a:pt x="3492" y="2621"/>
                  </a:lnTo>
                  <a:lnTo>
                    <a:pt x="3598" y="2621"/>
                  </a:lnTo>
                  <a:lnTo>
                    <a:pt x="3730" y="2621"/>
                  </a:lnTo>
                  <a:lnTo>
                    <a:pt x="3836" y="2621"/>
                  </a:lnTo>
                  <a:lnTo>
                    <a:pt x="3968" y="2621"/>
                  </a:lnTo>
                  <a:lnTo>
                    <a:pt x="4074" y="2621"/>
                  </a:lnTo>
                  <a:lnTo>
                    <a:pt x="4206" y="2621"/>
                  </a:lnTo>
                  <a:lnTo>
                    <a:pt x="4313" y="2594"/>
                  </a:lnTo>
                  <a:lnTo>
                    <a:pt x="4419" y="2594"/>
                  </a:lnTo>
                  <a:lnTo>
                    <a:pt x="4551" y="2594"/>
                  </a:lnTo>
                  <a:lnTo>
                    <a:pt x="4657" y="2568"/>
                  </a:lnTo>
                  <a:lnTo>
                    <a:pt x="4789" y="2568"/>
                  </a:lnTo>
                  <a:lnTo>
                    <a:pt x="4895" y="2568"/>
                  </a:lnTo>
                  <a:lnTo>
                    <a:pt x="5001" y="2542"/>
                  </a:lnTo>
                  <a:lnTo>
                    <a:pt x="5107" y="2542"/>
                  </a:lnTo>
                  <a:lnTo>
                    <a:pt x="5239" y="2542"/>
                  </a:lnTo>
                  <a:lnTo>
                    <a:pt x="5345" y="2515"/>
                  </a:lnTo>
                  <a:lnTo>
                    <a:pt x="5451" y="2515"/>
                  </a:lnTo>
                  <a:lnTo>
                    <a:pt x="5557" y="2489"/>
                  </a:lnTo>
                  <a:lnTo>
                    <a:pt x="5663" y="2489"/>
                  </a:lnTo>
                  <a:lnTo>
                    <a:pt x="5768" y="2462"/>
                  </a:lnTo>
                  <a:lnTo>
                    <a:pt x="5901" y="2462"/>
                  </a:lnTo>
                  <a:lnTo>
                    <a:pt x="6007" y="2436"/>
                  </a:lnTo>
                  <a:lnTo>
                    <a:pt x="6112" y="2436"/>
                  </a:lnTo>
                  <a:lnTo>
                    <a:pt x="6218" y="2409"/>
                  </a:lnTo>
                  <a:lnTo>
                    <a:pt x="6324" y="2409"/>
                  </a:lnTo>
                  <a:lnTo>
                    <a:pt x="6403" y="2383"/>
                  </a:lnTo>
                  <a:lnTo>
                    <a:pt x="6509" y="2383"/>
                  </a:lnTo>
                  <a:lnTo>
                    <a:pt x="6615" y="2356"/>
                  </a:lnTo>
                  <a:lnTo>
                    <a:pt x="6721" y="2330"/>
                  </a:lnTo>
                  <a:lnTo>
                    <a:pt x="6827" y="2330"/>
                  </a:lnTo>
                  <a:lnTo>
                    <a:pt x="6906" y="2303"/>
                  </a:lnTo>
                  <a:lnTo>
                    <a:pt x="7012" y="2277"/>
                  </a:lnTo>
                  <a:lnTo>
                    <a:pt x="7091" y="2277"/>
                  </a:lnTo>
                  <a:lnTo>
                    <a:pt x="7197" y="2250"/>
                  </a:lnTo>
                  <a:lnTo>
                    <a:pt x="7277" y="2224"/>
                  </a:lnTo>
                  <a:lnTo>
                    <a:pt x="7382" y="2198"/>
                  </a:lnTo>
                  <a:lnTo>
                    <a:pt x="7462" y="2198"/>
                  </a:lnTo>
                  <a:lnTo>
                    <a:pt x="7568" y="2171"/>
                  </a:lnTo>
                  <a:lnTo>
                    <a:pt x="7647" y="2145"/>
                  </a:lnTo>
                  <a:lnTo>
                    <a:pt x="7726" y="2118"/>
                  </a:lnTo>
                  <a:lnTo>
                    <a:pt x="7806" y="2092"/>
                  </a:lnTo>
                  <a:lnTo>
                    <a:pt x="7885" y="2065"/>
                  </a:lnTo>
                  <a:lnTo>
                    <a:pt x="7964" y="2065"/>
                  </a:lnTo>
                  <a:lnTo>
                    <a:pt x="8044" y="2039"/>
                  </a:lnTo>
                  <a:lnTo>
                    <a:pt x="8123" y="2012"/>
                  </a:lnTo>
                  <a:lnTo>
                    <a:pt x="8203" y="1986"/>
                  </a:lnTo>
                  <a:lnTo>
                    <a:pt x="8282" y="1958"/>
                  </a:lnTo>
                  <a:lnTo>
                    <a:pt x="8361" y="1932"/>
                  </a:lnTo>
                  <a:lnTo>
                    <a:pt x="8414" y="1906"/>
                  </a:lnTo>
                  <a:lnTo>
                    <a:pt x="8494" y="1879"/>
                  </a:lnTo>
                  <a:lnTo>
                    <a:pt x="8494" y="0"/>
                  </a:lnTo>
                  <a:close/>
                </a:path>
              </a:pathLst>
            </a:custGeom>
            <a:solidFill>
              <a:srgbClr val="50707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71600" y="1933560"/>
              <a:ext cx="2457720" cy="638640"/>
            </a:xfrm>
            <a:custGeom>
              <a:avLst/>
              <a:gdLst/>
              <a:ahLst/>
              <a:rect l="0" t="0" r="r" b="b"/>
              <a:pathLst>
                <a:path w="6827" h="1774">
                  <a:moveTo>
                    <a:pt x="0" y="1774"/>
                  </a:moveTo>
                  <a:lnTo>
                    <a:pt x="0" y="1748"/>
                  </a:lnTo>
                  <a:lnTo>
                    <a:pt x="0" y="1695"/>
                  </a:lnTo>
                  <a:lnTo>
                    <a:pt x="0" y="1668"/>
                  </a:lnTo>
                  <a:lnTo>
                    <a:pt x="0" y="1642"/>
                  </a:lnTo>
                  <a:lnTo>
                    <a:pt x="26" y="1615"/>
                  </a:lnTo>
                  <a:lnTo>
                    <a:pt x="26" y="1589"/>
                  </a:lnTo>
                  <a:lnTo>
                    <a:pt x="52" y="1563"/>
                  </a:lnTo>
                  <a:lnTo>
                    <a:pt x="52" y="1510"/>
                  </a:lnTo>
                  <a:lnTo>
                    <a:pt x="79" y="1483"/>
                  </a:lnTo>
                  <a:lnTo>
                    <a:pt x="105" y="1457"/>
                  </a:lnTo>
                  <a:lnTo>
                    <a:pt x="105" y="1430"/>
                  </a:lnTo>
                  <a:lnTo>
                    <a:pt x="132" y="1404"/>
                  </a:lnTo>
                  <a:lnTo>
                    <a:pt x="158" y="1377"/>
                  </a:lnTo>
                  <a:lnTo>
                    <a:pt x="185" y="1351"/>
                  </a:lnTo>
                  <a:lnTo>
                    <a:pt x="238" y="1297"/>
                  </a:lnTo>
                  <a:lnTo>
                    <a:pt x="264" y="1271"/>
                  </a:lnTo>
                  <a:lnTo>
                    <a:pt x="291" y="1244"/>
                  </a:lnTo>
                  <a:lnTo>
                    <a:pt x="317" y="1218"/>
                  </a:lnTo>
                  <a:lnTo>
                    <a:pt x="370" y="1191"/>
                  </a:lnTo>
                  <a:lnTo>
                    <a:pt x="396" y="1165"/>
                  </a:lnTo>
                  <a:lnTo>
                    <a:pt x="449" y="1138"/>
                  </a:lnTo>
                  <a:lnTo>
                    <a:pt x="502" y="1112"/>
                  </a:lnTo>
                  <a:lnTo>
                    <a:pt x="529" y="1085"/>
                  </a:lnTo>
                  <a:lnTo>
                    <a:pt x="582" y="1032"/>
                  </a:lnTo>
                  <a:lnTo>
                    <a:pt x="635" y="1006"/>
                  </a:lnTo>
                  <a:lnTo>
                    <a:pt x="687" y="979"/>
                  </a:lnTo>
                  <a:lnTo>
                    <a:pt x="740" y="953"/>
                  </a:lnTo>
                  <a:lnTo>
                    <a:pt x="793" y="927"/>
                  </a:lnTo>
                  <a:lnTo>
                    <a:pt x="846" y="900"/>
                  </a:lnTo>
                  <a:lnTo>
                    <a:pt x="899" y="874"/>
                  </a:lnTo>
                  <a:lnTo>
                    <a:pt x="978" y="847"/>
                  </a:lnTo>
                  <a:lnTo>
                    <a:pt x="1031" y="821"/>
                  </a:lnTo>
                  <a:lnTo>
                    <a:pt x="1084" y="794"/>
                  </a:lnTo>
                  <a:lnTo>
                    <a:pt x="1164" y="768"/>
                  </a:lnTo>
                  <a:lnTo>
                    <a:pt x="1243" y="741"/>
                  </a:lnTo>
                  <a:lnTo>
                    <a:pt x="1296" y="715"/>
                  </a:lnTo>
                  <a:lnTo>
                    <a:pt x="1375" y="688"/>
                  </a:lnTo>
                  <a:lnTo>
                    <a:pt x="1455" y="688"/>
                  </a:lnTo>
                  <a:lnTo>
                    <a:pt x="1508" y="662"/>
                  </a:lnTo>
                  <a:lnTo>
                    <a:pt x="1587" y="636"/>
                  </a:lnTo>
                  <a:lnTo>
                    <a:pt x="1666" y="609"/>
                  </a:lnTo>
                  <a:lnTo>
                    <a:pt x="1746" y="583"/>
                  </a:lnTo>
                  <a:lnTo>
                    <a:pt x="1825" y="556"/>
                  </a:lnTo>
                  <a:lnTo>
                    <a:pt x="1905" y="530"/>
                  </a:lnTo>
                  <a:lnTo>
                    <a:pt x="1984" y="503"/>
                  </a:lnTo>
                  <a:lnTo>
                    <a:pt x="2090" y="503"/>
                  </a:lnTo>
                  <a:lnTo>
                    <a:pt x="2169" y="477"/>
                  </a:lnTo>
                  <a:lnTo>
                    <a:pt x="2248" y="450"/>
                  </a:lnTo>
                  <a:lnTo>
                    <a:pt x="2354" y="423"/>
                  </a:lnTo>
                  <a:lnTo>
                    <a:pt x="2434" y="396"/>
                  </a:lnTo>
                  <a:lnTo>
                    <a:pt x="2540" y="396"/>
                  </a:lnTo>
                  <a:lnTo>
                    <a:pt x="2619" y="370"/>
                  </a:lnTo>
                  <a:lnTo>
                    <a:pt x="2725" y="343"/>
                  </a:lnTo>
                  <a:lnTo>
                    <a:pt x="2804" y="343"/>
                  </a:lnTo>
                  <a:lnTo>
                    <a:pt x="2910" y="317"/>
                  </a:lnTo>
                  <a:lnTo>
                    <a:pt x="3016" y="291"/>
                  </a:lnTo>
                  <a:lnTo>
                    <a:pt x="3095" y="291"/>
                  </a:lnTo>
                  <a:lnTo>
                    <a:pt x="3201" y="264"/>
                  </a:lnTo>
                  <a:lnTo>
                    <a:pt x="3307" y="238"/>
                  </a:lnTo>
                  <a:lnTo>
                    <a:pt x="3414" y="238"/>
                  </a:lnTo>
                  <a:lnTo>
                    <a:pt x="3519" y="211"/>
                  </a:lnTo>
                  <a:lnTo>
                    <a:pt x="3625" y="211"/>
                  </a:lnTo>
                  <a:lnTo>
                    <a:pt x="3731" y="185"/>
                  </a:lnTo>
                  <a:lnTo>
                    <a:pt x="3837" y="185"/>
                  </a:lnTo>
                  <a:lnTo>
                    <a:pt x="3943" y="158"/>
                  </a:lnTo>
                  <a:lnTo>
                    <a:pt x="4049" y="158"/>
                  </a:lnTo>
                  <a:lnTo>
                    <a:pt x="4154" y="132"/>
                  </a:lnTo>
                  <a:lnTo>
                    <a:pt x="4260" y="132"/>
                  </a:lnTo>
                  <a:lnTo>
                    <a:pt x="4393" y="105"/>
                  </a:lnTo>
                  <a:lnTo>
                    <a:pt x="4498" y="105"/>
                  </a:lnTo>
                  <a:lnTo>
                    <a:pt x="4604" y="79"/>
                  </a:lnTo>
                  <a:lnTo>
                    <a:pt x="4710" y="79"/>
                  </a:lnTo>
                  <a:lnTo>
                    <a:pt x="4842" y="79"/>
                  </a:lnTo>
                  <a:lnTo>
                    <a:pt x="4948" y="52"/>
                  </a:lnTo>
                  <a:lnTo>
                    <a:pt x="5054" y="52"/>
                  </a:lnTo>
                  <a:lnTo>
                    <a:pt x="5186" y="52"/>
                  </a:lnTo>
                  <a:lnTo>
                    <a:pt x="5292" y="26"/>
                  </a:lnTo>
                  <a:lnTo>
                    <a:pt x="5424" y="26"/>
                  </a:lnTo>
                  <a:lnTo>
                    <a:pt x="5530" y="26"/>
                  </a:lnTo>
                  <a:lnTo>
                    <a:pt x="5636" y="26"/>
                  </a:lnTo>
                  <a:lnTo>
                    <a:pt x="5768" y="26"/>
                  </a:lnTo>
                  <a:lnTo>
                    <a:pt x="5874" y="0"/>
                  </a:lnTo>
                  <a:lnTo>
                    <a:pt x="6007" y="0"/>
                  </a:lnTo>
                  <a:lnTo>
                    <a:pt x="6112" y="0"/>
                  </a:lnTo>
                  <a:lnTo>
                    <a:pt x="6245" y="0"/>
                  </a:lnTo>
                  <a:lnTo>
                    <a:pt x="6827" y="1774"/>
                  </a:lnTo>
                  <a:lnTo>
                    <a:pt x="0" y="177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9440" y="1933560"/>
              <a:ext cx="209880" cy="638640"/>
            </a:xfrm>
            <a:custGeom>
              <a:avLst/>
              <a:gdLst/>
              <a:ahLst/>
              <a:rect l="0" t="0" r="r" b="b"/>
              <a:pathLst>
                <a:path w="583" h="1774">
                  <a:moveTo>
                    <a:pt x="0" y="0"/>
                  </a:moveTo>
                  <a:lnTo>
                    <a:pt x="105" y="0"/>
                  </a:lnTo>
                  <a:lnTo>
                    <a:pt x="238" y="0"/>
                  </a:lnTo>
                  <a:lnTo>
                    <a:pt x="344" y="0"/>
                  </a:lnTo>
                  <a:lnTo>
                    <a:pt x="583" y="1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43280" y="1933560"/>
              <a:ext cx="2553120" cy="999000"/>
            </a:xfrm>
            <a:custGeom>
              <a:avLst/>
              <a:gdLst/>
              <a:ahLst/>
              <a:rect l="0" t="0" r="r" b="b"/>
              <a:pathLst>
                <a:path w="7092" h="2775">
                  <a:moveTo>
                    <a:pt x="0" y="0"/>
                  </a:moveTo>
                  <a:lnTo>
                    <a:pt x="132" y="0"/>
                  </a:lnTo>
                  <a:lnTo>
                    <a:pt x="238" y="0"/>
                  </a:lnTo>
                  <a:lnTo>
                    <a:pt x="370" y="0"/>
                  </a:lnTo>
                  <a:lnTo>
                    <a:pt x="476" y="0"/>
                  </a:lnTo>
                  <a:lnTo>
                    <a:pt x="608" y="0"/>
                  </a:lnTo>
                  <a:lnTo>
                    <a:pt x="714" y="0"/>
                  </a:lnTo>
                  <a:lnTo>
                    <a:pt x="846" y="0"/>
                  </a:lnTo>
                  <a:lnTo>
                    <a:pt x="952" y="0"/>
                  </a:lnTo>
                  <a:lnTo>
                    <a:pt x="1084" y="0"/>
                  </a:lnTo>
                  <a:lnTo>
                    <a:pt x="1190" y="0"/>
                  </a:lnTo>
                  <a:lnTo>
                    <a:pt x="1322" y="26"/>
                  </a:lnTo>
                  <a:lnTo>
                    <a:pt x="1428" y="26"/>
                  </a:lnTo>
                  <a:lnTo>
                    <a:pt x="1561" y="26"/>
                  </a:lnTo>
                  <a:lnTo>
                    <a:pt x="1666" y="26"/>
                  </a:lnTo>
                  <a:lnTo>
                    <a:pt x="1772" y="26"/>
                  </a:lnTo>
                  <a:lnTo>
                    <a:pt x="1906" y="52"/>
                  </a:lnTo>
                  <a:lnTo>
                    <a:pt x="2011" y="52"/>
                  </a:lnTo>
                  <a:lnTo>
                    <a:pt x="2144" y="52"/>
                  </a:lnTo>
                  <a:lnTo>
                    <a:pt x="2249" y="79"/>
                  </a:lnTo>
                  <a:lnTo>
                    <a:pt x="2355" y="79"/>
                  </a:lnTo>
                  <a:lnTo>
                    <a:pt x="2461" y="79"/>
                  </a:lnTo>
                  <a:lnTo>
                    <a:pt x="2593" y="105"/>
                  </a:lnTo>
                  <a:lnTo>
                    <a:pt x="2699" y="105"/>
                  </a:lnTo>
                  <a:lnTo>
                    <a:pt x="2805" y="132"/>
                  </a:lnTo>
                  <a:lnTo>
                    <a:pt x="2911" y="132"/>
                  </a:lnTo>
                  <a:lnTo>
                    <a:pt x="3017" y="158"/>
                  </a:lnTo>
                  <a:lnTo>
                    <a:pt x="3123" y="158"/>
                  </a:lnTo>
                  <a:lnTo>
                    <a:pt x="3255" y="185"/>
                  </a:lnTo>
                  <a:lnTo>
                    <a:pt x="3361" y="185"/>
                  </a:lnTo>
                  <a:lnTo>
                    <a:pt x="3467" y="211"/>
                  </a:lnTo>
                  <a:lnTo>
                    <a:pt x="3572" y="211"/>
                  </a:lnTo>
                  <a:lnTo>
                    <a:pt x="3678" y="238"/>
                  </a:lnTo>
                  <a:lnTo>
                    <a:pt x="3758" y="238"/>
                  </a:lnTo>
                  <a:lnTo>
                    <a:pt x="3863" y="264"/>
                  </a:lnTo>
                  <a:lnTo>
                    <a:pt x="3969" y="291"/>
                  </a:lnTo>
                  <a:lnTo>
                    <a:pt x="4075" y="291"/>
                  </a:lnTo>
                  <a:lnTo>
                    <a:pt x="4181" y="317"/>
                  </a:lnTo>
                  <a:lnTo>
                    <a:pt x="4260" y="343"/>
                  </a:lnTo>
                  <a:lnTo>
                    <a:pt x="4366" y="343"/>
                  </a:lnTo>
                  <a:lnTo>
                    <a:pt x="4446" y="370"/>
                  </a:lnTo>
                  <a:lnTo>
                    <a:pt x="4551" y="396"/>
                  </a:lnTo>
                  <a:lnTo>
                    <a:pt x="4631" y="396"/>
                  </a:lnTo>
                  <a:lnTo>
                    <a:pt x="4737" y="423"/>
                  </a:lnTo>
                  <a:lnTo>
                    <a:pt x="4816" y="449"/>
                  </a:lnTo>
                  <a:lnTo>
                    <a:pt x="4922" y="476"/>
                  </a:lnTo>
                  <a:lnTo>
                    <a:pt x="5001" y="502"/>
                  </a:lnTo>
                  <a:lnTo>
                    <a:pt x="5081" y="502"/>
                  </a:lnTo>
                  <a:lnTo>
                    <a:pt x="5160" y="529"/>
                  </a:lnTo>
                  <a:lnTo>
                    <a:pt x="5239" y="555"/>
                  </a:lnTo>
                  <a:lnTo>
                    <a:pt x="5320" y="582"/>
                  </a:lnTo>
                  <a:lnTo>
                    <a:pt x="5399" y="608"/>
                  </a:lnTo>
                  <a:lnTo>
                    <a:pt x="5478" y="635"/>
                  </a:lnTo>
                  <a:lnTo>
                    <a:pt x="5558" y="661"/>
                  </a:lnTo>
                  <a:lnTo>
                    <a:pt x="5637" y="687"/>
                  </a:lnTo>
                  <a:lnTo>
                    <a:pt x="5717" y="687"/>
                  </a:lnTo>
                  <a:lnTo>
                    <a:pt x="5769" y="715"/>
                  </a:lnTo>
                  <a:lnTo>
                    <a:pt x="5849" y="741"/>
                  </a:lnTo>
                  <a:lnTo>
                    <a:pt x="5928" y="768"/>
                  </a:lnTo>
                  <a:lnTo>
                    <a:pt x="5981" y="794"/>
                  </a:lnTo>
                  <a:lnTo>
                    <a:pt x="6034" y="821"/>
                  </a:lnTo>
                  <a:lnTo>
                    <a:pt x="6113" y="847"/>
                  </a:lnTo>
                  <a:lnTo>
                    <a:pt x="6166" y="874"/>
                  </a:lnTo>
                  <a:lnTo>
                    <a:pt x="6219" y="900"/>
                  </a:lnTo>
                  <a:lnTo>
                    <a:pt x="6272" y="927"/>
                  </a:lnTo>
                  <a:lnTo>
                    <a:pt x="6352" y="953"/>
                  </a:lnTo>
                  <a:lnTo>
                    <a:pt x="6404" y="979"/>
                  </a:lnTo>
                  <a:lnTo>
                    <a:pt x="6457" y="1006"/>
                  </a:lnTo>
                  <a:lnTo>
                    <a:pt x="6484" y="1032"/>
                  </a:lnTo>
                  <a:lnTo>
                    <a:pt x="6537" y="1085"/>
                  </a:lnTo>
                  <a:lnTo>
                    <a:pt x="6590" y="1112"/>
                  </a:lnTo>
                  <a:lnTo>
                    <a:pt x="6643" y="1138"/>
                  </a:lnTo>
                  <a:lnTo>
                    <a:pt x="6669" y="1165"/>
                  </a:lnTo>
                  <a:lnTo>
                    <a:pt x="6722" y="1191"/>
                  </a:lnTo>
                  <a:lnTo>
                    <a:pt x="6748" y="1218"/>
                  </a:lnTo>
                  <a:lnTo>
                    <a:pt x="6775" y="1244"/>
                  </a:lnTo>
                  <a:lnTo>
                    <a:pt x="6828" y="1271"/>
                  </a:lnTo>
                  <a:lnTo>
                    <a:pt x="6854" y="1297"/>
                  </a:lnTo>
                  <a:lnTo>
                    <a:pt x="6881" y="1350"/>
                  </a:lnTo>
                  <a:lnTo>
                    <a:pt x="6907" y="1376"/>
                  </a:lnTo>
                  <a:lnTo>
                    <a:pt x="6934" y="1403"/>
                  </a:lnTo>
                  <a:lnTo>
                    <a:pt x="6960" y="1429"/>
                  </a:lnTo>
                  <a:lnTo>
                    <a:pt x="6987" y="1456"/>
                  </a:lnTo>
                  <a:lnTo>
                    <a:pt x="7013" y="1482"/>
                  </a:lnTo>
                  <a:lnTo>
                    <a:pt x="7013" y="1509"/>
                  </a:lnTo>
                  <a:lnTo>
                    <a:pt x="7039" y="1562"/>
                  </a:lnTo>
                  <a:lnTo>
                    <a:pt x="7039" y="1588"/>
                  </a:lnTo>
                  <a:lnTo>
                    <a:pt x="7066" y="1614"/>
                  </a:lnTo>
                  <a:lnTo>
                    <a:pt x="7066" y="1641"/>
                  </a:lnTo>
                  <a:lnTo>
                    <a:pt x="7066" y="1667"/>
                  </a:lnTo>
                  <a:lnTo>
                    <a:pt x="7092" y="1694"/>
                  </a:lnTo>
                  <a:lnTo>
                    <a:pt x="7092" y="1747"/>
                  </a:lnTo>
                  <a:lnTo>
                    <a:pt x="7092" y="1773"/>
                  </a:lnTo>
                  <a:lnTo>
                    <a:pt x="7092" y="1800"/>
                  </a:lnTo>
                  <a:lnTo>
                    <a:pt x="7092" y="1826"/>
                  </a:lnTo>
                  <a:lnTo>
                    <a:pt x="7066" y="1853"/>
                  </a:lnTo>
                  <a:lnTo>
                    <a:pt x="7066" y="1879"/>
                  </a:lnTo>
                  <a:lnTo>
                    <a:pt x="7066" y="1932"/>
                  </a:lnTo>
                  <a:lnTo>
                    <a:pt x="7039" y="1958"/>
                  </a:lnTo>
                  <a:lnTo>
                    <a:pt x="7039" y="1985"/>
                  </a:lnTo>
                  <a:lnTo>
                    <a:pt x="7013" y="2011"/>
                  </a:lnTo>
                  <a:lnTo>
                    <a:pt x="7013" y="2038"/>
                  </a:lnTo>
                  <a:lnTo>
                    <a:pt x="6987" y="2064"/>
                  </a:lnTo>
                  <a:lnTo>
                    <a:pt x="6960" y="2118"/>
                  </a:lnTo>
                  <a:lnTo>
                    <a:pt x="6934" y="2145"/>
                  </a:lnTo>
                  <a:lnTo>
                    <a:pt x="6907" y="2171"/>
                  </a:lnTo>
                  <a:lnTo>
                    <a:pt x="6881" y="2198"/>
                  </a:lnTo>
                  <a:lnTo>
                    <a:pt x="6854" y="2224"/>
                  </a:lnTo>
                  <a:lnTo>
                    <a:pt x="6828" y="2250"/>
                  </a:lnTo>
                  <a:lnTo>
                    <a:pt x="6775" y="2277"/>
                  </a:lnTo>
                  <a:lnTo>
                    <a:pt x="6748" y="2303"/>
                  </a:lnTo>
                  <a:lnTo>
                    <a:pt x="6722" y="2356"/>
                  </a:lnTo>
                  <a:lnTo>
                    <a:pt x="6669" y="2378"/>
                  </a:lnTo>
                  <a:lnTo>
                    <a:pt x="6643" y="2405"/>
                  </a:lnTo>
                  <a:lnTo>
                    <a:pt x="6590" y="2431"/>
                  </a:lnTo>
                  <a:lnTo>
                    <a:pt x="6537" y="2458"/>
                  </a:lnTo>
                  <a:lnTo>
                    <a:pt x="6484" y="2484"/>
                  </a:lnTo>
                  <a:lnTo>
                    <a:pt x="6457" y="2511"/>
                  </a:lnTo>
                  <a:lnTo>
                    <a:pt x="6404" y="2537"/>
                  </a:lnTo>
                  <a:lnTo>
                    <a:pt x="6352" y="2564"/>
                  </a:lnTo>
                  <a:lnTo>
                    <a:pt x="6272" y="2590"/>
                  </a:lnTo>
                  <a:lnTo>
                    <a:pt x="6219" y="2616"/>
                  </a:lnTo>
                  <a:lnTo>
                    <a:pt x="6166" y="2643"/>
                  </a:lnTo>
                  <a:lnTo>
                    <a:pt x="6113" y="2669"/>
                  </a:lnTo>
                  <a:lnTo>
                    <a:pt x="6034" y="2696"/>
                  </a:lnTo>
                  <a:lnTo>
                    <a:pt x="5981" y="2722"/>
                  </a:lnTo>
                  <a:lnTo>
                    <a:pt x="5928" y="2749"/>
                  </a:lnTo>
                  <a:lnTo>
                    <a:pt x="5849" y="2775"/>
                  </a:lnTo>
                  <a:lnTo>
                    <a:pt x="238" y="17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90720" y="2571840"/>
              <a:ext cx="3057840" cy="636840"/>
            </a:xfrm>
            <a:custGeom>
              <a:avLst/>
              <a:gdLst/>
              <a:ahLst/>
              <a:rect l="0" t="0" r="r" b="b"/>
              <a:pathLst>
                <a:path w="8494" h="1769">
                  <a:moveTo>
                    <a:pt x="8494" y="1002"/>
                  </a:moveTo>
                  <a:lnTo>
                    <a:pt x="8414" y="1028"/>
                  </a:lnTo>
                  <a:lnTo>
                    <a:pt x="8361" y="1054"/>
                  </a:lnTo>
                  <a:lnTo>
                    <a:pt x="8282" y="1081"/>
                  </a:lnTo>
                  <a:lnTo>
                    <a:pt x="8203" y="1107"/>
                  </a:lnTo>
                  <a:lnTo>
                    <a:pt x="8123" y="1134"/>
                  </a:lnTo>
                  <a:lnTo>
                    <a:pt x="8044" y="1160"/>
                  </a:lnTo>
                  <a:lnTo>
                    <a:pt x="7964" y="1187"/>
                  </a:lnTo>
                  <a:lnTo>
                    <a:pt x="7885" y="1187"/>
                  </a:lnTo>
                  <a:lnTo>
                    <a:pt x="7806" y="1213"/>
                  </a:lnTo>
                  <a:lnTo>
                    <a:pt x="7726" y="1240"/>
                  </a:lnTo>
                  <a:lnTo>
                    <a:pt x="7647" y="1266"/>
                  </a:lnTo>
                  <a:lnTo>
                    <a:pt x="7568" y="1293"/>
                  </a:lnTo>
                  <a:lnTo>
                    <a:pt x="7462" y="1319"/>
                  </a:lnTo>
                  <a:lnTo>
                    <a:pt x="7382" y="1319"/>
                  </a:lnTo>
                  <a:lnTo>
                    <a:pt x="7277" y="1345"/>
                  </a:lnTo>
                  <a:lnTo>
                    <a:pt x="7197" y="1372"/>
                  </a:lnTo>
                  <a:lnTo>
                    <a:pt x="7091" y="1398"/>
                  </a:lnTo>
                  <a:lnTo>
                    <a:pt x="7012" y="1398"/>
                  </a:lnTo>
                  <a:lnTo>
                    <a:pt x="6906" y="1425"/>
                  </a:lnTo>
                  <a:lnTo>
                    <a:pt x="6827" y="1451"/>
                  </a:lnTo>
                  <a:lnTo>
                    <a:pt x="6721" y="1451"/>
                  </a:lnTo>
                  <a:lnTo>
                    <a:pt x="6615" y="1478"/>
                  </a:lnTo>
                  <a:lnTo>
                    <a:pt x="6509" y="1504"/>
                  </a:lnTo>
                  <a:lnTo>
                    <a:pt x="6403" y="1504"/>
                  </a:lnTo>
                  <a:lnTo>
                    <a:pt x="6324" y="1531"/>
                  </a:lnTo>
                  <a:lnTo>
                    <a:pt x="6218" y="1531"/>
                  </a:lnTo>
                  <a:lnTo>
                    <a:pt x="6112" y="1557"/>
                  </a:lnTo>
                  <a:lnTo>
                    <a:pt x="6007" y="1557"/>
                  </a:lnTo>
                  <a:lnTo>
                    <a:pt x="5901" y="1584"/>
                  </a:lnTo>
                  <a:lnTo>
                    <a:pt x="5768" y="1584"/>
                  </a:lnTo>
                  <a:lnTo>
                    <a:pt x="5663" y="1610"/>
                  </a:lnTo>
                  <a:lnTo>
                    <a:pt x="5557" y="1610"/>
                  </a:lnTo>
                  <a:lnTo>
                    <a:pt x="5451" y="1637"/>
                  </a:lnTo>
                  <a:lnTo>
                    <a:pt x="5345" y="1637"/>
                  </a:lnTo>
                  <a:lnTo>
                    <a:pt x="5239" y="1663"/>
                  </a:lnTo>
                  <a:lnTo>
                    <a:pt x="5107" y="1663"/>
                  </a:lnTo>
                  <a:lnTo>
                    <a:pt x="5001" y="1663"/>
                  </a:lnTo>
                  <a:lnTo>
                    <a:pt x="4895" y="1689"/>
                  </a:lnTo>
                  <a:lnTo>
                    <a:pt x="4789" y="1689"/>
                  </a:lnTo>
                  <a:lnTo>
                    <a:pt x="4657" y="1689"/>
                  </a:lnTo>
                  <a:lnTo>
                    <a:pt x="4551" y="1716"/>
                  </a:lnTo>
                  <a:lnTo>
                    <a:pt x="4419" y="1716"/>
                  </a:lnTo>
                  <a:lnTo>
                    <a:pt x="4313" y="1716"/>
                  </a:lnTo>
                  <a:lnTo>
                    <a:pt x="4206" y="1742"/>
                  </a:lnTo>
                  <a:lnTo>
                    <a:pt x="4074" y="1742"/>
                  </a:lnTo>
                  <a:lnTo>
                    <a:pt x="3968" y="1742"/>
                  </a:lnTo>
                  <a:lnTo>
                    <a:pt x="3836" y="1742"/>
                  </a:lnTo>
                  <a:lnTo>
                    <a:pt x="3730" y="1742"/>
                  </a:lnTo>
                  <a:lnTo>
                    <a:pt x="3598" y="1742"/>
                  </a:lnTo>
                  <a:lnTo>
                    <a:pt x="3492" y="1742"/>
                  </a:lnTo>
                  <a:lnTo>
                    <a:pt x="3360" y="1769"/>
                  </a:lnTo>
                  <a:lnTo>
                    <a:pt x="3254" y="1769"/>
                  </a:lnTo>
                  <a:lnTo>
                    <a:pt x="3122" y="1769"/>
                  </a:lnTo>
                  <a:lnTo>
                    <a:pt x="3016" y="1769"/>
                  </a:lnTo>
                  <a:lnTo>
                    <a:pt x="2883" y="1769"/>
                  </a:lnTo>
                  <a:lnTo>
                    <a:pt x="2778" y="1769"/>
                  </a:lnTo>
                  <a:lnTo>
                    <a:pt x="2645" y="1769"/>
                  </a:lnTo>
                  <a:lnTo>
                    <a:pt x="2539" y="1769"/>
                  </a:lnTo>
                  <a:lnTo>
                    <a:pt x="2407" y="1769"/>
                  </a:lnTo>
                  <a:lnTo>
                    <a:pt x="2301" y="1742"/>
                  </a:lnTo>
                  <a:lnTo>
                    <a:pt x="2169" y="1742"/>
                  </a:lnTo>
                  <a:lnTo>
                    <a:pt x="2063" y="1742"/>
                  </a:lnTo>
                  <a:lnTo>
                    <a:pt x="1931" y="1742"/>
                  </a:lnTo>
                  <a:lnTo>
                    <a:pt x="1825" y="1742"/>
                  </a:lnTo>
                  <a:lnTo>
                    <a:pt x="1693" y="1742"/>
                  </a:lnTo>
                  <a:lnTo>
                    <a:pt x="1587" y="1742"/>
                  </a:lnTo>
                  <a:lnTo>
                    <a:pt x="1481" y="1716"/>
                  </a:lnTo>
                  <a:lnTo>
                    <a:pt x="1349" y="1716"/>
                  </a:lnTo>
                  <a:lnTo>
                    <a:pt x="1243" y="1716"/>
                  </a:lnTo>
                  <a:lnTo>
                    <a:pt x="1111" y="1689"/>
                  </a:lnTo>
                  <a:lnTo>
                    <a:pt x="1005" y="1689"/>
                  </a:lnTo>
                  <a:lnTo>
                    <a:pt x="899" y="1689"/>
                  </a:lnTo>
                  <a:lnTo>
                    <a:pt x="767" y="1663"/>
                  </a:lnTo>
                  <a:lnTo>
                    <a:pt x="661" y="1663"/>
                  </a:lnTo>
                  <a:lnTo>
                    <a:pt x="555" y="1663"/>
                  </a:lnTo>
                  <a:lnTo>
                    <a:pt x="449" y="1637"/>
                  </a:lnTo>
                  <a:lnTo>
                    <a:pt x="317" y="1637"/>
                  </a:lnTo>
                  <a:lnTo>
                    <a:pt x="211" y="1610"/>
                  </a:lnTo>
                  <a:lnTo>
                    <a:pt x="105" y="1610"/>
                  </a:lnTo>
                  <a:lnTo>
                    <a:pt x="0" y="1584"/>
                  </a:lnTo>
                  <a:lnTo>
                    <a:pt x="2883" y="0"/>
                  </a:lnTo>
                  <a:lnTo>
                    <a:pt x="8494" y="1002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23960" y="2571840"/>
              <a:ext cx="1305360" cy="570240"/>
            </a:xfrm>
            <a:custGeom>
              <a:avLst/>
              <a:gdLst/>
              <a:ahLst/>
              <a:rect l="0" t="0" r="r" b="b"/>
              <a:pathLst>
                <a:path w="3626" h="1584">
                  <a:moveTo>
                    <a:pt x="740" y="1584"/>
                  </a:moveTo>
                  <a:lnTo>
                    <a:pt x="635" y="1584"/>
                  </a:lnTo>
                  <a:lnTo>
                    <a:pt x="529" y="1557"/>
                  </a:lnTo>
                  <a:lnTo>
                    <a:pt x="423" y="1557"/>
                  </a:lnTo>
                  <a:lnTo>
                    <a:pt x="317" y="1531"/>
                  </a:lnTo>
                  <a:lnTo>
                    <a:pt x="211" y="1531"/>
                  </a:lnTo>
                  <a:lnTo>
                    <a:pt x="105" y="1504"/>
                  </a:lnTo>
                  <a:lnTo>
                    <a:pt x="0" y="1504"/>
                  </a:lnTo>
                  <a:lnTo>
                    <a:pt x="3626" y="0"/>
                  </a:lnTo>
                  <a:lnTo>
                    <a:pt x="740" y="1584"/>
                  </a:lnTo>
                  <a:close/>
                </a:path>
              </a:pathLst>
            </a:custGeom>
            <a:solidFill>
              <a:srgbClr val="6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90680" y="2571840"/>
              <a:ext cx="2438640" cy="541800"/>
            </a:xfrm>
            <a:custGeom>
              <a:avLst/>
              <a:gdLst/>
              <a:ahLst/>
              <a:rect l="0" t="0" r="r" b="b"/>
              <a:pathLst>
                <a:path w="6774" h="1505">
                  <a:moveTo>
                    <a:pt x="3148" y="1505"/>
                  </a:moveTo>
                  <a:lnTo>
                    <a:pt x="3042" y="1479"/>
                  </a:lnTo>
                  <a:lnTo>
                    <a:pt x="2963" y="1452"/>
                  </a:lnTo>
                  <a:lnTo>
                    <a:pt x="2857" y="1452"/>
                  </a:lnTo>
                  <a:lnTo>
                    <a:pt x="2751" y="1426"/>
                  </a:lnTo>
                  <a:lnTo>
                    <a:pt x="2672" y="1399"/>
                  </a:lnTo>
                  <a:lnTo>
                    <a:pt x="2566" y="1399"/>
                  </a:lnTo>
                  <a:lnTo>
                    <a:pt x="2487" y="1373"/>
                  </a:lnTo>
                  <a:lnTo>
                    <a:pt x="2381" y="1346"/>
                  </a:lnTo>
                  <a:lnTo>
                    <a:pt x="2301" y="1320"/>
                  </a:lnTo>
                  <a:lnTo>
                    <a:pt x="2196" y="1320"/>
                  </a:lnTo>
                  <a:lnTo>
                    <a:pt x="2116" y="1294"/>
                  </a:lnTo>
                  <a:lnTo>
                    <a:pt x="2037" y="1267"/>
                  </a:lnTo>
                  <a:lnTo>
                    <a:pt x="1931" y="1241"/>
                  </a:lnTo>
                  <a:lnTo>
                    <a:pt x="1852" y="1214"/>
                  </a:lnTo>
                  <a:lnTo>
                    <a:pt x="1772" y="1188"/>
                  </a:lnTo>
                  <a:lnTo>
                    <a:pt x="1693" y="1188"/>
                  </a:lnTo>
                  <a:lnTo>
                    <a:pt x="1613" y="1161"/>
                  </a:lnTo>
                  <a:lnTo>
                    <a:pt x="1534" y="1135"/>
                  </a:lnTo>
                  <a:lnTo>
                    <a:pt x="1455" y="1107"/>
                  </a:lnTo>
                  <a:lnTo>
                    <a:pt x="1402" y="1081"/>
                  </a:lnTo>
                  <a:lnTo>
                    <a:pt x="1322" y="1054"/>
                  </a:lnTo>
                  <a:lnTo>
                    <a:pt x="1243" y="1028"/>
                  </a:lnTo>
                  <a:lnTo>
                    <a:pt x="1190" y="1002"/>
                  </a:lnTo>
                  <a:lnTo>
                    <a:pt x="1111" y="975"/>
                  </a:lnTo>
                  <a:lnTo>
                    <a:pt x="1031" y="949"/>
                  </a:lnTo>
                  <a:lnTo>
                    <a:pt x="978" y="922"/>
                  </a:lnTo>
                  <a:lnTo>
                    <a:pt x="926" y="896"/>
                  </a:lnTo>
                  <a:lnTo>
                    <a:pt x="846" y="869"/>
                  </a:lnTo>
                  <a:lnTo>
                    <a:pt x="793" y="843"/>
                  </a:lnTo>
                  <a:lnTo>
                    <a:pt x="740" y="816"/>
                  </a:lnTo>
                  <a:lnTo>
                    <a:pt x="687" y="790"/>
                  </a:lnTo>
                  <a:lnTo>
                    <a:pt x="635" y="763"/>
                  </a:lnTo>
                  <a:lnTo>
                    <a:pt x="582" y="737"/>
                  </a:lnTo>
                  <a:lnTo>
                    <a:pt x="529" y="710"/>
                  </a:lnTo>
                  <a:lnTo>
                    <a:pt x="476" y="684"/>
                  </a:lnTo>
                  <a:lnTo>
                    <a:pt x="449" y="658"/>
                  </a:lnTo>
                  <a:lnTo>
                    <a:pt x="396" y="631"/>
                  </a:lnTo>
                  <a:lnTo>
                    <a:pt x="343" y="605"/>
                  </a:lnTo>
                  <a:lnTo>
                    <a:pt x="317" y="583"/>
                  </a:lnTo>
                  <a:lnTo>
                    <a:pt x="264" y="530"/>
                  </a:lnTo>
                  <a:lnTo>
                    <a:pt x="238" y="503"/>
                  </a:lnTo>
                  <a:lnTo>
                    <a:pt x="211" y="477"/>
                  </a:lnTo>
                  <a:lnTo>
                    <a:pt x="185" y="450"/>
                  </a:lnTo>
                  <a:lnTo>
                    <a:pt x="132" y="424"/>
                  </a:lnTo>
                  <a:lnTo>
                    <a:pt x="105" y="397"/>
                  </a:lnTo>
                  <a:lnTo>
                    <a:pt x="79" y="370"/>
                  </a:lnTo>
                  <a:lnTo>
                    <a:pt x="52" y="343"/>
                  </a:lnTo>
                  <a:lnTo>
                    <a:pt x="52" y="291"/>
                  </a:lnTo>
                  <a:lnTo>
                    <a:pt x="26" y="264"/>
                  </a:lnTo>
                  <a:lnTo>
                    <a:pt x="0" y="238"/>
                  </a:lnTo>
                  <a:lnTo>
                    <a:pt x="6774" y="0"/>
                  </a:lnTo>
                  <a:lnTo>
                    <a:pt x="3148" y="1505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80960" y="2571840"/>
              <a:ext cx="2448360" cy="86040"/>
            </a:xfrm>
            <a:custGeom>
              <a:avLst/>
              <a:gdLst/>
              <a:ahLst/>
              <a:rect l="0" t="0" r="r" b="b"/>
              <a:pathLst>
                <a:path w="6801" h="239">
                  <a:moveTo>
                    <a:pt x="26" y="239"/>
                  </a:moveTo>
                  <a:lnTo>
                    <a:pt x="26" y="212"/>
                  </a:lnTo>
                  <a:lnTo>
                    <a:pt x="0" y="186"/>
                  </a:lnTo>
                  <a:lnTo>
                    <a:pt x="0" y="159"/>
                  </a:lnTo>
                  <a:lnTo>
                    <a:pt x="6801" y="0"/>
                  </a:lnTo>
                  <a:lnTo>
                    <a:pt x="26" y="239"/>
                  </a:lnTo>
                  <a:close/>
                </a:path>
              </a:pathLst>
            </a:custGeom>
            <a:solidFill>
              <a:srgbClr val="008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71600" y="2571840"/>
              <a:ext cx="2457720" cy="57600"/>
            </a:xfrm>
            <a:custGeom>
              <a:avLst/>
              <a:gdLst/>
              <a:ahLst/>
              <a:rect l="0" t="0" r="r" b="b"/>
              <a:pathLst>
                <a:path w="6827" h="160">
                  <a:moveTo>
                    <a:pt x="26" y="160"/>
                  </a:moveTo>
                  <a:lnTo>
                    <a:pt x="0" y="106"/>
                  </a:lnTo>
                  <a:lnTo>
                    <a:pt x="0" y="80"/>
                  </a:lnTo>
                  <a:lnTo>
                    <a:pt x="0" y="5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6827" y="0"/>
                  </a:lnTo>
                  <a:lnTo>
                    <a:pt x="26" y="160"/>
                  </a:lnTo>
                  <a:close/>
                </a:path>
              </a:pathLst>
            </a:custGeom>
            <a:solidFill>
              <a:srgbClr val="c0c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098880" y="1397160"/>
              <a:ext cx="1098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3479760" y="160668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4413240" y="3938760"/>
              <a:ext cx="1022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4718160" y="414828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1765440" y="38718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2070000" y="408132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755640" y="3614760"/>
              <a:ext cx="1022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1060560" y="382428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36600" y="2625840"/>
              <a:ext cx="1098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717480" y="283356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5118120" y="1644480"/>
              <a:ext cx="1174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499000" y="185436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50720" y="2254320"/>
              <a:ext cx="1098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831960" y="246384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1069920" y="1606680"/>
              <a:ext cx="1174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450800" y="181620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43080" y="800280"/>
            <a:ext cx="6162840" cy="396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1800" y="4952880"/>
            <a:ext cx="61628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17840" y="5086440"/>
            <a:ext cx="1860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45960" y="5559480"/>
            <a:ext cx="6194520" cy="3084480"/>
            <a:chOff x="345960" y="5559480"/>
            <a:chExt cx="6194520" cy="3084480"/>
          </a:xfrm>
        </p:grpSpPr>
        <p:sp>
          <p:nvSpPr>
            <p:cNvPr id="340" name=""/>
            <p:cNvSpPr/>
            <p:nvPr/>
          </p:nvSpPr>
          <p:spPr>
            <a:xfrm>
              <a:off x="1285920" y="6753240"/>
              <a:ext cx="238320" cy="991080"/>
            </a:xfrm>
            <a:custGeom>
              <a:avLst/>
              <a:gdLst/>
              <a:ahLst/>
              <a:rect l="0" t="0" r="r" b="b"/>
              <a:pathLst>
                <a:path w="662" h="2753">
                  <a:moveTo>
                    <a:pt x="662" y="794"/>
                  </a:moveTo>
                  <a:lnTo>
                    <a:pt x="609" y="768"/>
                  </a:lnTo>
                  <a:lnTo>
                    <a:pt x="556" y="715"/>
                  </a:lnTo>
                  <a:lnTo>
                    <a:pt x="503" y="687"/>
                  </a:lnTo>
                  <a:lnTo>
                    <a:pt x="477" y="661"/>
                  </a:lnTo>
                  <a:lnTo>
                    <a:pt x="424" y="635"/>
                  </a:lnTo>
                  <a:lnTo>
                    <a:pt x="371" y="608"/>
                  </a:lnTo>
                  <a:lnTo>
                    <a:pt x="344" y="582"/>
                  </a:lnTo>
                  <a:lnTo>
                    <a:pt x="291" y="555"/>
                  </a:lnTo>
                  <a:lnTo>
                    <a:pt x="264" y="502"/>
                  </a:lnTo>
                  <a:lnTo>
                    <a:pt x="238" y="476"/>
                  </a:lnTo>
                  <a:lnTo>
                    <a:pt x="211" y="449"/>
                  </a:lnTo>
                  <a:lnTo>
                    <a:pt x="185" y="423"/>
                  </a:lnTo>
                  <a:lnTo>
                    <a:pt x="158" y="396"/>
                  </a:lnTo>
                  <a:lnTo>
                    <a:pt x="132" y="370"/>
                  </a:lnTo>
                  <a:lnTo>
                    <a:pt x="105" y="317"/>
                  </a:lnTo>
                  <a:lnTo>
                    <a:pt x="79" y="291"/>
                  </a:lnTo>
                  <a:lnTo>
                    <a:pt x="52" y="264"/>
                  </a:lnTo>
                  <a:lnTo>
                    <a:pt x="52" y="238"/>
                  </a:lnTo>
                  <a:lnTo>
                    <a:pt x="26" y="211"/>
                  </a:lnTo>
                  <a:lnTo>
                    <a:pt x="26" y="158"/>
                  </a:lnTo>
                  <a:lnTo>
                    <a:pt x="0" y="132"/>
                  </a:lnTo>
                  <a:lnTo>
                    <a:pt x="0" y="105"/>
                  </a:lnTo>
                  <a:lnTo>
                    <a:pt x="0" y="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0" y="1958"/>
                  </a:lnTo>
                  <a:lnTo>
                    <a:pt x="0" y="1985"/>
                  </a:lnTo>
                  <a:lnTo>
                    <a:pt x="0" y="2038"/>
                  </a:lnTo>
                  <a:lnTo>
                    <a:pt x="0" y="2064"/>
                  </a:lnTo>
                  <a:lnTo>
                    <a:pt x="0" y="2092"/>
                  </a:lnTo>
                  <a:lnTo>
                    <a:pt x="26" y="2118"/>
                  </a:lnTo>
                  <a:lnTo>
                    <a:pt x="26" y="2171"/>
                  </a:lnTo>
                  <a:lnTo>
                    <a:pt x="52" y="2198"/>
                  </a:lnTo>
                  <a:lnTo>
                    <a:pt x="52" y="2224"/>
                  </a:lnTo>
                  <a:lnTo>
                    <a:pt x="79" y="2250"/>
                  </a:lnTo>
                  <a:lnTo>
                    <a:pt x="105" y="2277"/>
                  </a:lnTo>
                  <a:lnTo>
                    <a:pt x="132" y="2330"/>
                  </a:lnTo>
                  <a:lnTo>
                    <a:pt x="158" y="2356"/>
                  </a:lnTo>
                  <a:lnTo>
                    <a:pt x="185" y="2383"/>
                  </a:lnTo>
                  <a:lnTo>
                    <a:pt x="211" y="2409"/>
                  </a:lnTo>
                  <a:lnTo>
                    <a:pt x="238" y="2436"/>
                  </a:lnTo>
                  <a:lnTo>
                    <a:pt x="264" y="2462"/>
                  </a:lnTo>
                  <a:lnTo>
                    <a:pt x="291" y="2515"/>
                  </a:lnTo>
                  <a:lnTo>
                    <a:pt x="344" y="2541"/>
                  </a:lnTo>
                  <a:lnTo>
                    <a:pt x="371" y="2568"/>
                  </a:lnTo>
                  <a:lnTo>
                    <a:pt x="424" y="2594"/>
                  </a:lnTo>
                  <a:lnTo>
                    <a:pt x="477" y="2621"/>
                  </a:lnTo>
                  <a:lnTo>
                    <a:pt x="503" y="2647"/>
                  </a:lnTo>
                  <a:lnTo>
                    <a:pt x="556" y="2674"/>
                  </a:lnTo>
                  <a:lnTo>
                    <a:pt x="609" y="2727"/>
                  </a:lnTo>
                  <a:lnTo>
                    <a:pt x="662" y="2753"/>
                  </a:lnTo>
                  <a:lnTo>
                    <a:pt x="662" y="794"/>
                  </a:lnTo>
                  <a:close/>
                </a:path>
              </a:pathLst>
            </a:custGeom>
            <a:solidFill>
              <a:srgbClr val="7f4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23880" y="7039080"/>
              <a:ext cx="76680" cy="743400"/>
            </a:xfrm>
            <a:custGeom>
              <a:avLst/>
              <a:gdLst/>
              <a:ahLst/>
              <a:rect l="0" t="0" r="r" b="b"/>
              <a:pathLst>
                <a:path w="213" h="2065">
                  <a:moveTo>
                    <a:pt x="213" y="105"/>
                  </a:moveTo>
                  <a:lnTo>
                    <a:pt x="159" y="79"/>
                  </a:lnTo>
                  <a:lnTo>
                    <a:pt x="106" y="52"/>
                  </a:lnTo>
                  <a:lnTo>
                    <a:pt x="52" y="26"/>
                  </a:lnTo>
                  <a:lnTo>
                    <a:pt x="0" y="0"/>
                  </a:lnTo>
                  <a:lnTo>
                    <a:pt x="0" y="1959"/>
                  </a:lnTo>
                  <a:lnTo>
                    <a:pt x="52" y="1986"/>
                  </a:lnTo>
                  <a:lnTo>
                    <a:pt x="106" y="2012"/>
                  </a:lnTo>
                  <a:lnTo>
                    <a:pt x="159" y="2039"/>
                  </a:lnTo>
                  <a:lnTo>
                    <a:pt x="213" y="2065"/>
                  </a:lnTo>
                  <a:lnTo>
                    <a:pt x="213" y="105"/>
                  </a:lnTo>
                  <a:close/>
                </a:path>
              </a:pathLst>
            </a:custGeom>
            <a:solidFill>
              <a:srgbClr val="3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52960" y="6753240"/>
              <a:ext cx="438480" cy="1076760"/>
            </a:xfrm>
            <a:custGeom>
              <a:avLst/>
              <a:gdLst/>
              <a:ahLst/>
              <a:rect l="0" t="0" r="r" b="b"/>
              <a:pathLst>
                <a:path w="1218" h="2991">
                  <a:moveTo>
                    <a:pt x="1218" y="0"/>
                  </a:moveTo>
                  <a:lnTo>
                    <a:pt x="1218" y="26"/>
                  </a:lnTo>
                  <a:lnTo>
                    <a:pt x="1218" y="79"/>
                  </a:lnTo>
                  <a:lnTo>
                    <a:pt x="1191" y="105"/>
                  </a:lnTo>
                  <a:lnTo>
                    <a:pt x="1191" y="132"/>
                  </a:lnTo>
                  <a:lnTo>
                    <a:pt x="1191" y="158"/>
                  </a:lnTo>
                  <a:lnTo>
                    <a:pt x="1165" y="211"/>
                  </a:lnTo>
                  <a:lnTo>
                    <a:pt x="1165" y="238"/>
                  </a:lnTo>
                  <a:lnTo>
                    <a:pt x="1138" y="264"/>
                  </a:lnTo>
                  <a:lnTo>
                    <a:pt x="1112" y="291"/>
                  </a:lnTo>
                  <a:lnTo>
                    <a:pt x="1112" y="317"/>
                  </a:lnTo>
                  <a:lnTo>
                    <a:pt x="1085" y="370"/>
                  </a:lnTo>
                  <a:lnTo>
                    <a:pt x="1059" y="396"/>
                  </a:lnTo>
                  <a:lnTo>
                    <a:pt x="1032" y="423"/>
                  </a:lnTo>
                  <a:lnTo>
                    <a:pt x="1006" y="449"/>
                  </a:lnTo>
                  <a:lnTo>
                    <a:pt x="979" y="476"/>
                  </a:lnTo>
                  <a:lnTo>
                    <a:pt x="927" y="502"/>
                  </a:lnTo>
                  <a:lnTo>
                    <a:pt x="900" y="555"/>
                  </a:lnTo>
                  <a:lnTo>
                    <a:pt x="874" y="582"/>
                  </a:lnTo>
                  <a:lnTo>
                    <a:pt x="821" y="608"/>
                  </a:lnTo>
                  <a:lnTo>
                    <a:pt x="794" y="635"/>
                  </a:lnTo>
                  <a:lnTo>
                    <a:pt x="741" y="661"/>
                  </a:lnTo>
                  <a:lnTo>
                    <a:pt x="688" y="687"/>
                  </a:lnTo>
                  <a:lnTo>
                    <a:pt x="636" y="714"/>
                  </a:lnTo>
                  <a:lnTo>
                    <a:pt x="608" y="768"/>
                  </a:lnTo>
                  <a:lnTo>
                    <a:pt x="555" y="794"/>
                  </a:lnTo>
                  <a:lnTo>
                    <a:pt x="502" y="821"/>
                  </a:lnTo>
                  <a:lnTo>
                    <a:pt x="449" y="847"/>
                  </a:lnTo>
                  <a:lnTo>
                    <a:pt x="370" y="874"/>
                  </a:lnTo>
                  <a:lnTo>
                    <a:pt x="317" y="900"/>
                  </a:lnTo>
                  <a:lnTo>
                    <a:pt x="264" y="927"/>
                  </a:lnTo>
                  <a:lnTo>
                    <a:pt x="185" y="953"/>
                  </a:lnTo>
                  <a:lnTo>
                    <a:pt x="132" y="979"/>
                  </a:lnTo>
                  <a:lnTo>
                    <a:pt x="79" y="1006"/>
                  </a:lnTo>
                  <a:lnTo>
                    <a:pt x="0" y="1032"/>
                  </a:lnTo>
                  <a:lnTo>
                    <a:pt x="0" y="2991"/>
                  </a:lnTo>
                  <a:lnTo>
                    <a:pt x="79" y="2965"/>
                  </a:lnTo>
                  <a:lnTo>
                    <a:pt x="132" y="2938"/>
                  </a:lnTo>
                  <a:lnTo>
                    <a:pt x="185" y="2912"/>
                  </a:lnTo>
                  <a:lnTo>
                    <a:pt x="264" y="2885"/>
                  </a:lnTo>
                  <a:lnTo>
                    <a:pt x="317" y="2859"/>
                  </a:lnTo>
                  <a:lnTo>
                    <a:pt x="370" y="2833"/>
                  </a:lnTo>
                  <a:lnTo>
                    <a:pt x="449" y="2806"/>
                  </a:lnTo>
                  <a:lnTo>
                    <a:pt x="502" y="2780"/>
                  </a:lnTo>
                  <a:lnTo>
                    <a:pt x="555" y="2753"/>
                  </a:lnTo>
                  <a:lnTo>
                    <a:pt x="608" y="2727"/>
                  </a:lnTo>
                  <a:lnTo>
                    <a:pt x="636" y="2674"/>
                  </a:lnTo>
                  <a:lnTo>
                    <a:pt x="688" y="2647"/>
                  </a:lnTo>
                  <a:lnTo>
                    <a:pt x="741" y="2621"/>
                  </a:lnTo>
                  <a:lnTo>
                    <a:pt x="794" y="2594"/>
                  </a:lnTo>
                  <a:lnTo>
                    <a:pt x="821" y="2568"/>
                  </a:lnTo>
                  <a:lnTo>
                    <a:pt x="874" y="2541"/>
                  </a:lnTo>
                  <a:lnTo>
                    <a:pt x="900" y="2515"/>
                  </a:lnTo>
                  <a:lnTo>
                    <a:pt x="927" y="2462"/>
                  </a:lnTo>
                  <a:lnTo>
                    <a:pt x="979" y="2436"/>
                  </a:lnTo>
                  <a:lnTo>
                    <a:pt x="1006" y="2409"/>
                  </a:lnTo>
                  <a:lnTo>
                    <a:pt x="1032" y="2383"/>
                  </a:lnTo>
                  <a:lnTo>
                    <a:pt x="1059" y="2356"/>
                  </a:lnTo>
                  <a:lnTo>
                    <a:pt x="1085" y="2330"/>
                  </a:lnTo>
                  <a:lnTo>
                    <a:pt x="1112" y="2277"/>
                  </a:lnTo>
                  <a:lnTo>
                    <a:pt x="1112" y="2250"/>
                  </a:lnTo>
                  <a:lnTo>
                    <a:pt x="1138" y="2223"/>
                  </a:lnTo>
                  <a:lnTo>
                    <a:pt x="1165" y="2197"/>
                  </a:lnTo>
                  <a:lnTo>
                    <a:pt x="1165" y="2170"/>
                  </a:lnTo>
                  <a:lnTo>
                    <a:pt x="1191" y="2117"/>
                  </a:lnTo>
                  <a:lnTo>
                    <a:pt x="1191" y="2091"/>
                  </a:lnTo>
                  <a:lnTo>
                    <a:pt x="1191" y="2064"/>
                  </a:lnTo>
                  <a:lnTo>
                    <a:pt x="1218" y="2038"/>
                  </a:lnTo>
                  <a:lnTo>
                    <a:pt x="1218" y="1985"/>
                  </a:lnTo>
                  <a:lnTo>
                    <a:pt x="1218" y="1958"/>
                  </a:lnTo>
                  <a:lnTo>
                    <a:pt x="1218" y="0"/>
                  </a:lnTo>
                  <a:close/>
                </a:path>
              </a:pathLst>
            </a:custGeom>
            <a:solidFill>
              <a:srgbClr val="4010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8560" y="7124760"/>
              <a:ext cx="914760" cy="924120"/>
            </a:xfrm>
            <a:custGeom>
              <a:avLst/>
              <a:gdLst/>
              <a:ahLst/>
              <a:rect l="0" t="0" r="r" b="b"/>
              <a:pathLst>
                <a:path w="2541" h="2567">
                  <a:moveTo>
                    <a:pt x="2541" y="0"/>
                  </a:moveTo>
                  <a:lnTo>
                    <a:pt x="2461" y="26"/>
                  </a:lnTo>
                  <a:lnTo>
                    <a:pt x="2408" y="52"/>
                  </a:lnTo>
                  <a:lnTo>
                    <a:pt x="2329" y="79"/>
                  </a:lnTo>
                  <a:lnTo>
                    <a:pt x="2249" y="105"/>
                  </a:lnTo>
                  <a:lnTo>
                    <a:pt x="2170" y="132"/>
                  </a:lnTo>
                  <a:lnTo>
                    <a:pt x="2091" y="158"/>
                  </a:lnTo>
                  <a:lnTo>
                    <a:pt x="2011" y="185"/>
                  </a:lnTo>
                  <a:lnTo>
                    <a:pt x="1932" y="211"/>
                  </a:lnTo>
                  <a:lnTo>
                    <a:pt x="1853" y="238"/>
                  </a:lnTo>
                  <a:lnTo>
                    <a:pt x="1773" y="264"/>
                  </a:lnTo>
                  <a:lnTo>
                    <a:pt x="1667" y="264"/>
                  </a:lnTo>
                  <a:lnTo>
                    <a:pt x="1588" y="291"/>
                  </a:lnTo>
                  <a:lnTo>
                    <a:pt x="1509" y="317"/>
                  </a:lnTo>
                  <a:lnTo>
                    <a:pt x="1403" y="343"/>
                  </a:lnTo>
                  <a:lnTo>
                    <a:pt x="1323" y="370"/>
                  </a:lnTo>
                  <a:lnTo>
                    <a:pt x="1217" y="370"/>
                  </a:lnTo>
                  <a:lnTo>
                    <a:pt x="1111" y="396"/>
                  </a:lnTo>
                  <a:lnTo>
                    <a:pt x="1031" y="423"/>
                  </a:lnTo>
                  <a:lnTo>
                    <a:pt x="926" y="449"/>
                  </a:lnTo>
                  <a:lnTo>
                    <a:pt x="820" y="449"/>
                  </a:lnTo>
                  <a:lnTo>
                    <a:pt x="714" y="476"/>
                  </a:lnTo>
                  <a:lnTo>
                    <a:pt x="635" y="502"/>
                  </a:lnTo>
                  <a:lnTo>
                    <a:pt x="529" y="529"/>
                  </a:lnTo>
                  <a:lnTo>
                    <a:pt x="423" y="529"/>
                  </a:lnTo>
                  <a:lnTo>
                    <a:pt x="317" y="555"/>
                  </a:lnTo>
                  <a:lnTo>
                    <a:pt x="211" y="555"/>
                  </a:lnTo>
                  <a:lnTo>
                    <a:pt x="105" y="582"/>
                  </a:lnTo>
                  <a:lnTo>
                    <a:pt x="0" y="608"/>
                  </a:lnTo>
                  <a:lnTo>
                    <a:pt x="0" y="2567"/>
                  </a:lnTo>
                  <a:lnTo>
                    <a:pt x="105" y="2540"/>
                  </a:lnTo>
                  <a:lnTo>
                    <a:pt x="211" y="2514"/>
                  </a:lnTo>
                  <a:lnTo>
                    <a:pt x="317" y="2514"/>
                  </a:lnTo>
                  <a:lnTo>
                    <a:pt x="423" y="2488"/>
                  </a:lnTo>
                  <a:lnTo>
                    <a:pt x="529" y="2488"/>
                  </a:lnTo>
                  <a:lnTo>
                    <a:pt x="635" y="2461"/>
                  </a:lnTo>
                  <a:lnTo>
                    <a:pt x="714" y="2435"/>
                  </a:lnTo>
                  <a:lnTo>
                    <a:pt x="820" y="2408"/>
                  </a:lnTo>
                  <a:lnTo>
                    <a:pt x="926" y="2408"/>
                  </a:lnTo>
                  <a:lnTo>
                    <a:pt x="1031" y="2382"/>
                  </a:lnTo>
                  <a:lnTo>
                    <a:pt x="1111" y="2355"/>
                  </a:lnTo>
                  <a:lnTo>
                    <a:pt x="1217" y="2329"/>
                  </a:lnTo>
                  <a:lnTo>
                    <a:pt x="1323" y="2329"/>
                  </a:lnTo>
                  <a:lnTo>
                    <a:pt x="1403" y="2302"/>
                  </a:lnTo>
                  <a:lnTo>
                    <a:pt x="1509" y="2276"/>
                  </a:lnTo>
                  <a:lnTo>
                    <a:pt x="1588" y="2249"/>
                  </a:lnTo>
                  <a:lnTo>
                    <a:pt x="1667" y="2223"/>
                  </a:lnTo>
                  <a:lnTo>
                    <a:pt x="1773" y="2223"/>
                  </a:lnTo>
                  <a:lnTo>
                    <a:pt x="1853" y="2197"/>
                  </a:lnTo>
                  <a:lnTo>
                    <a:pt x="1932" y="2170"/>
                  </a:lnTo>
                  <a:lnTo>
                    <a:pt x="2011" y="2144"/>
                  </a:lnTo>
                  <a:lnTo>
                    <a:pt x="2091" y="2117"/>
                  </a:lnTo>
                  <a:lnTo>
                    <a:pt x="2170" y="2091"/>
                  </a:lnTo>
                  <a:lnTo>
                    <a:pt x="2249" y="2064"/>
                  </a:lnTo>
                  <a:lnTo>
                    <a:pt x="2329" y="2038"/>
                  </a:lnTo>
                  <a:lnTo>
                    <a:pt x="2408" y="2011"/>
                  </a:lnTo>
                  <a:lnTo>
                    <a:pt x="2461" y="1985"/>
                  </a:lnTo>
                  <a:lnTo>
                    <a:pt x="2541" y="1958"/>
                  </a:lnTo>
                  <a:lnTo>
                    <a:pt x="2541" y="0"/>
                  </a:lnTo>
                  <a:close/>
                </a:path>
              </a:pathLst>
            </a:custGeom>
            <a:solidFill>
              <a:srgbClr val="7f7f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00200" y="7077240"/>
              <a:ext cx="3438720" cy="1047960"/>
            </a:xfrm>
            <a:custGeom>
              <a:avLst/>
              <a:gdLst/>
              <a:ahLst/>
              <a:rect l="0" t="0" r="r" b="b"/>
              <a:pathLst>
                <a:path w="9552" h="2911">
                  <a:moveTo>
                    <a:pt x="9552" y="740"/>
                  </a:moveTo>
                  <a:lnTo>
                    <a:pt x="9420" y="740"/>
                  </a:lnTo>
                  <a:lnTo>
                    <a:pt x="9314" y="767"/>
                  </a:lnTo>
                  <a:lnTo>
                    <a:pt x="9208" y="767"/>
                  </a:lnTo>
                  <a:lnTo>
                    <a:pt x="9102" y="793"/>
                  </a:lnTo>
                  <a:lnTo>
                    <a:pt x="8970" y="793"/>
                  </a:lnTo>
                  <a:lnTo>
                    <a:pt x="8864" y="820"/>
                  </a:lnTo>
                  <a:lnTo>
                    <a:pt x="8758" y="820"/>
                  </a:lnTo>
                  <a:lnTo>
                    <a:pt x="8626" y="846"/>
                  </a:lnTo>
                  <a:lnTo>
                    <a:pt x="8520" y="846"/>
                  </a:lnTo>
                  <a:lnTo>
                    <a:pt x="8414" y="846"/>
                  </a:lnTo>
                  <a:lnTo>
                    <a:pt x="8282" y="873"/>
                  </a:lnTo>
                  <a:lnTo>
                    <a:pt x="8176" y="873"/>
                  </a:lnTo>
                  <a:lnTo>
                    <a:pt x="8044" y="873"/>
                  </a:lnTo>
                  <a:lnTo>
                    <a:pt x="7938" y="899"/>
                  </a:lnTo>
                  <a:lnTo>
                    <a:pt x="7806" y="899"/>
                  </a:lnTo>
                  <a:lnTo>
                    <a:pt x="7673" y="899"/>
                  </a:lnTo>
                  <a:lnTo>
                    <a:pt x="7568" y="899"/>
                  </a:lnTo>
                  <a:lnTo>
                    <a:pt x="7435" y="926"/>
                  </a:lnTo>
                  <a:lnTo>
                    <a:pt x="7329" y="926"/>
                  </a:lnTo>
                  <a:lnTo>
                    <a:pt x="7197" y="926"/>
                  </a:lnTo>
                  <a:lnTo>
                    <a:pt x="7065" y="926"/>
                  </a:lnTo>
                  <a:lnTo>
                    <a:pt x="6959" y="926"/>
                  </a:lnTo>
                  <a:lnTo>
                    <a:pt x="6827" y="926"/>
                  </a:lnTo>
                  <a:lnTo>
                    <a:pt x="6694" y="952"/>
                  </a:lnTo>
                  <a:lnTo>
                    <a:pt x="6589" y="952"/>
                  </a:lnTo>
                  <a:lnTo>
                    <a:pt x="6456" y="952"/>
                  </a:lnTo>
                  <a:lnTo>
                    <a:pt x="6324" y="952"/>
                  </a:lnTo>
                  <a:lnTo>
                    <a:pt x="6218" y="952"/>
                  </a:lnTo>
                  <a:lnTo>
                    <a:pt x="6086" y="952"/>
                  </a:lnTo>
                  <a:lnTo>
                    <a:pt x="5954" y="952"/>
                  </a:lnTo>
                  <a:lnTo>
                    <a:pt x="5848" y="952"/>
                  </a:lnTo>
                  <a:lnTo>
                    <a:pt x="5716" y="952"/>
                  </a:lnTo>
                  <a:lnTo>
                    <a:pt x="5583" y="926"/>
                  </a:lnTo>
                  <a:lnTo>
                    <a:pt x="5477" y="926"/>
                  </a:lnTo>
                  <a:lnTo>
                    <a:pt x="5345" y="926"/>
                  </a:lnTo>
                  <a:lnTo>
                    <a:pt x="5213" y="926"/>
                  </a:lnTo>
                  <a:lnTo>
                    <a:pt x="5107" y="926"/>
                  </a:lnTo>
                  <a:lnTo>
                    <a:pt x="4975" y="926"/>
                  </a:lnTo>
                  <a:lnTo>
                    <a:pt x="4869" y="899"/>
                  </a:lnTo>
                  <a:lnTo>
                    <a:pt x="4736" y="899"/>
                  </a:lnTo>
                  <a:lnTo>
                    <a:pt x="4603" y="899"/>
                  </a:lnTo>
                  <a:lnTo>
                    <a:pt x="4497" y="899"/>
                  </a:lnTo>
                  <a:lnTo>
                    <a:pt x="4365" y="873"/>
                  </a:lnTo>
                  <a:lnTo>
                    <a:pt x="4259" y="873"/>
                  </a:lnTo>
                  <a:lnTo>
                    <a:pt x="4127" y="873"/>
                  </a:lnTo>
                  <a:lnTo>
                    <a:pt x="4021" y="846"/>
                  </a:lnTo>
                  <a:lnTo>
                    <a:pt x="3889" y="846"/>
                  </a:lnTo>
                  <a:lnTo>
                    <a:pt x="3783" y="846"/>
                  </a:lnTo>
                  <a:lnTo>
                    <a:pt x="3677" y="820"/>
                  </a:lnTo>
                  <a:lnTo>
                    <a:pt x="3545" y="820"/>
                  </a:lnTo>
                  <a:lnTo>
                    <a:pt x="3439" y="793"/>
                  </a:lnTo>
                  <a:lnTo>
                    <a:pt x="3333" y="793"/>
                  </a:lnTo>
                  <a:lnTo>
                    <a:pt x="3201" y="767"/>
                  </a:lnTo>
                  <a:lnTo>
                    <a:pt x="3095" y="767"/>
                  </a:lnTo>
                  <a:lnTo>
                    <a:pt x="2989" y="740"/>
                  </a:lnTo>
                  <a:lnTo>
                    <a:pt x="2883" y="740"/>
                  </a:lnTo>
                  <a:lnTo>
                    <a:pt x="2778" y="714"/>
                  </a:lnTo>
                  <a:lnTo>
                    <a:pt x="2672" y="687"/>
                  </a:lnTo>
                  <a:lnTo>
                    <a:pt x="2566" y="687"/>
                  </a:lnTo>
                  <a:lnTo>
                    <a:pt x="2460" y="661"/>
                  </a:lnTo>
                  <a:lnTo>
                    <a:pt x="2354" y="661"/>
                  </a:lnTo>
                  <a:lnTo>
                    <a:pt x="2248" y="635"/>
                  </a:lnTo>
                  <a:lnTo>
                    <a:pt x="2143" y="608"/>
                  </a:lnTo>
                  <a:lnTo>
                    <a:pt x="2037" y="582"/>
                  </a:lnTo>
                  <a:lnTo>
                    <a:pt x="1931" y="582"/>
                  </a:lnTo>
                  <a:lnTo>
                    <a:pt x="1852" y="555"/>
                  </a:lnTo>
                  <a:lnTo>
                    <a:pt x="1746" y="529"/>
                  </a:lnTo>
                  <a:lnTo>
                    <a:pt x="1640" y="502"/>
                  </a:lnTo>
                  <a:lnTo>
                    <a:pt x="1561" y="502"/>
                  </a:lnTo>
                  <a:lnTo>
                    <a:pt x="1455" y="476"/>
                  </a:lnTo>
                  <a:lnTo>
                    <a:pt x="1375" y="449"/>
                  </a:lnTo>
                  <a:lnTo>
                    <a:pt x="1296" y="423"/>
                  </a:lnTo>
                  <a:lnTo>
                    <a:pt x="1190" y="396"/>
                  </a:lnTo>
                  <a:lnTo>
                    <a:pt x="1111" y="396"/>
                  </a:lnTo>
                  <a:lnTo>
                    <a:pt x="1031" y="370"/>
                  </a:lnTo>
                  <a:lnTo>
                    <a:pt x="952" y="343"/>
                  </a:lnTo>
                  <a:lnTo>
                    <a:pt x="846" y="317"/>
                  </a:lnTo>
                  <a:lnTo>
                    <a:pt x="767" y="291"/>
                  </a:lnTo>
                  <a:lnTo>
                    <a:pt x="687" y="264"/>
                  </a:lnTo>
                  <a:lnTo>
                    <a:pt x="635" y="238"/>
                  </a:lnTo>
                  <a:lnTo>
                    <a:pt x="555" y="211"/>
                  </a:lnTo>
                  <a:lnTo>
                    <a:pt x="476" y="185"/>
                  </a:lnTo>
                  <a:lnTo>
                    <a:pt x="396" y="158"/>
                  </a:lnTo>
                  <a:lnTo>
                    <a:pt x="343" y="132"/>
                  </a:lnTo>
                  <a:lnTo>
                    <a:pt x="264" y="105"/>
                  </a:lnTo>
                  <a:lnTo>
                    <a:pt x="185" y="79"/>
                  </a:lnTo>
                  <a:lnTo>
                    <a:pt x="132" y="52"/>
                  </a:lnTo>
                  <a:lnTo>
                    <a:pt x="79" y="26"/>
                  </a:lnTo>
                  <a:lnTo>
                    <a:pt x="0" y="0"/>
                  </a:lnTo>
                  <a:lnTo>
                    <a:pt x="0" y="1958"/>
                  </a:lnTo>
                  <a:lnTo>
                    <a:pt x="79" y="1985"/>
                  </a:lnTo>
                  <a:lnTo>
                    <a:pt x="132" y="2011"/>
                  </a:lnTo>
                  <a:lnTo>
                    <a:pt x="185" y="2038"/>
                  </a:lnTo>
                  <a:lnTo>
                    <a:pt x="264" y="2064"/>
                  </a:lnTo>
                  <a:lnTo>
                    <a:pt x="343" y="2091"/>
                  </a:lnTo>
                  <a:lnTo>
                    <a:pt x="396" y="2117"/>
                  </a:lnTo>
                  <a:lnTo>
                    <a:pt x="476" y="2144"/>
                  </a:lnTo>
                  <a:lnTo>
                    <a:pt x="555" y="2170"/>
                  </a:lnTo>
                  <a:lnTo>
                    <a:pt x="635" y="2197"/>
                  </a:lnTo>
                  <a:lnTo>
                    <a:pt x="687" y="2223"/>
                  </a:lnTo>
                  <a:lnTo>
                    <a:pt x="767" y="2249"/>
                  </a:lnTo>
                  <a:lnTo>
                    <a:pt x="846" y="2276"/>
                  </a:lnTo>
                  <a:lnTo>
                    <a:pt x="952" y="2302"/>
                  </a:lnTo>
                  <a:lnTo>
                    <a:pt x="1031" y="2329"/>
                  </a:lnTo>
                  <a:lnTo>
                    <a:pt x="1111" y="2355"/>
                  </a:lnTo>
                  <a:lnTo>
                    <a:pt x="1190" y="2355"/>
                  </a:lnTo>
                  <a:lnTo>
                    <a:pt x="1296" y="2382"/>
                  </a:lnTo>
                  <a:lnTo>
                    <a:pt x="1375" y="2408"/>
                  </a:lnTo>
                  <a:lnTo>
                    <a:pt x="1455" y="2435"/>
                  </a:lnTo>
                  <a:lnTo>
                    <a:pt x="1561" y="2461"/>
                  </a:lnTo>
                  <a:lnTo>
                    <a:pt x="1640" y="2461"/>
                  </a:lnTo>
                  <a:lnTo>
                    <a:pt x="1746" y="2488"/>
                  </a:lnTo>
                  <a:lnTo>
                    <a:pt x="1852" y="2514"/>
                  </a:lnTo>
                  <a:lnTo>
                    <a:pt x="1931" y="2541"/>
                  </a:lnTo>
                  <a:lnTo>
                    <a:pt x="2037" y="2541"/>
                  </a:lnTo>
                  <a:lnTo>
                    <a:pt x="2143" y="2567"/>
                  </a:lnTo>
                  <a:lnTo>
                    <a:pt x="2248" y="2593"/>
                  </a:lnTo>
                  <a:lnTo>
                    <a:pt x="2354" y="2620"/>
                  </a:lnTo>
                  <a:lnTo>
                    <a:pt x="2460" y="2620"/>
                  </a:lnTo>
                  <a:lnTo>
                    <a:pt x="2566" y="2646"/>
                  </a:lnTo>
                  <a:lnTo>
                    <a:pt x="2672" y="2646"/>
                  </a:lnTo>
                  <a:lnTo>
                    <a:pt x="2778" y="2673"/>
                  </a:lnTo>
                  <a:lnTo>
                    <a:pt x="2883" y="2699"/>
                  </a:lnTo>
                  <a:lnTo>
                    <a:pt x="2989" y="2699"/>
                  </a:lnTo>
                  <a:lnTo>
                    <a:pt x="3095" y="2726"/>
                  </a:lnTo>
                  <a:lnTo>
                    <a:pt x="3201" y="2726"/>
                  </a:lnTo>
                  <a:lnTo>
                    <a:pt x="3333" y="2752"/>
                  </a:lnTo>
                  <a:lnTo>
                    <a:pt x="3439" y="2752"/>
                  </a:lnTo>
                  <a:lnTo>
                    <a:pt x="3545" y="2779"/>
                  </a:lnTo>
                  <a:lnTo>
                    <a:pt x="3677" y="2779"/>
                  </a:lnTo>
                  <a:lnTo>
                    <a:pt x="3783" y="2805"/>
                  </a:lnTo>
                  <a:lnTo>
                    <a:pt x="3889" y="2805"/>
                  </a:lnTo>
                  <a:lnTo>
                    <a:pt x="4021" y="2805"/>
                  </a:lnTo>
                  <a:lnTo>
                    <a:pt x="4127" y="2832"/>
                  </a:lnTo>
                  <a:lnTo>
                    <a:pt x="4259" y="2832"/>
                  </a:lnTo>
                  <a:lnTo>
                    <a:pt x="4365" y="2832"/>
                  </a:lnTo>
                  <a:lnTo>
                    <a:pt x="4497" y="2858"/>
                  </a:lnTo>
                  <a:lnTo>
                    <a:pt x="4603" y="2858"/>
                  </a:lnTo>
                  <a:lnTo>
                    <a:pt x="4736" y="2858"/>
                  </a:lnTo>
                  <a:lnTo>
                    <a:pt x="4869" y="2858"/>
                  </a:lnTo>
                  <a:lnTo>
                    <a:pt x="4975" y="2884"/>
                  </a:lnTo>
                  <a:lnTo>
                    <a:pt x="5107" y="2884"/>
                  </a:lnTo>
                  <a:lnTo>
                    <a:pt x="5213" y="2884"/>
                  </a:lnTo>
                  <a:lnTo>
                    <a:pt x="5345" y="2884"/>
                  </a:lnTo>
                  <a:lnTo>
                    <a:pt x="5477" y="2884"/>
                  </a:lnTo>
                  <a:lnTo>
                    <a:pt x="5583" y="2884"/>
                  </a:lnTo>
                  <a:lnTo>
                    <a:pt x="5716" y="2911"/>
                  </a:lnTo>
                  <a:lnTo>
                    <a:pt x="5848" y="2911"/>
                  </a:lnTo>
                  <a:lnTo>
                    <a:pt x="5954" y="2911"/>
                  </a:lnTo>
                  <a:lnTo>
                    <a:pt x="6086" y="2911"/>
                  </a:lnTo>
                  <a:lnTo>
                    <a:pt x="6218" y="2911"/>
                  </a:lnTo>
                  <a:lnTo>
                    <a:pt x="6324" y="2911"/>
                  </a:lnTo>
                  <a:lnTo>
                    <a:pt x="6456" y="2911"/>
                  </a:lnTo>
                  <a:lnTo>
                    <a:pt x="6589" y="2911"/>
                  </a:lnTo>
                  <a:lnTo>
                    <a:pt x="6694" y="2911"/>
                  </a:lnTo>
                  <a:lnTo>
                    <a:pt x="6827" y="2884"/>
                  </a:lnTo>
                  <a:lnTo>
                    <a:pt x="6959" y="2884"/>
                  </a:lnTo>
                  <a:lnTo>
                    <a:pt x="7065" y="2884"/>
                  </a:lnTo>
                  <a:lnTo>
                    <a:pt x="7197" y="2884"/>
                  </a:lnTo>
                  <a:lnTo>
                    <a:pt x="7329" y="2884"/>
                  </a:lnTo>
                  <a:lnTo>
                    <a:pt x="7435" y="2884"/>
                  </a:lnTo>
                  <a:lnTo>
                    <a:pt x="7568" y="2858"/>
                  </a:lnTo>
                  <a:lnTo>
                    <a:pt x="7673" y="2858"/>
                  </a:lnTo>
                  <a:lnTo>
                    <a:pt x="7806" y="2858"/>
                  </a:lnTo>
                  <a:lnTo>
                    <a:pt x="7938" y="2858"/>
                  </a:lnTo>
                  <a:lnTo>
                    <a:pt x="8044" y="2832"/>
                  </a:lnTo>
                  <a:lnTo>
                    <a:pt x="8176" y="2832"/>
                  </a:lnTo>
                  <a:lnTo>
                    <a:pt x="8282" y="2832"/>
                  </a:lnTo>
                  <a:lnTo>
                    <a:pt x="8414" y="2805"/>
                  </a:lnTo>
                  <a:lnTo>
                    <a:pt x="8520" y="2805"/>
                  </a:lnTo>
                  <a:lnTo>
                    <a:pt x="8626" y="2805"/>
                  </a:lnTo>
                  <a:lnTo>
                    <a:pt x="8758" y="2779"/>
                  </a:lnTo>
                  <a:lnTo>
                    <a:pt x="8864" y="2779"/>
                  </a:lnTo>
                  <a:lnTo>
                    <a:pt x="8970" y="2752"/>
                  </a:lnTo>
                  <a:lnTo>
                    <a:pt x="9102" y="2752"/>
                  </a:lnTo>
                  <a:lnTo>
                    <a:pt x="9208" y="2726"/>
                  </a:lnTo>
                  <a:lnTo>
                    <a:pt x="9314" y="2726"/>
                  </a:lnTo>
                  <a:lnTo>
                    <a:pt x="9420" y="2699"/>
                  </a:lnTo>
                  <a:lnTo>
                    <a:pt x="9552" y="2699"/>
                  </a:lnTo>
                  <a:lnTo>
                    <a:pt x="9552" y="740"/>
                  </a:lnTo>
                  <a:close/>
                </a:path>
              </a:pathLst>
            </a:custGeom>
            <a:solidFill>
              <a:srgbClr val="50707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38680" y="6095880"/>
              <a:ext cx="219600" cy="657720"/>
            </a:xfrm>
            <a:custGeom>
              <a:avLst/>
              <a:gdLst/>
              <a:ahLst/>
              <a:rect l="0" t="0" r="r" b="b"/>
              <a:pathLst>
                <a:path w="610" h="1827">
                  <a:moveTo>
                    <a:pt x="0" y="0"/>
                  </a:moveTo>
                  <a:lnTo>
                    <a:pt x="105" y="0"/>
                  </a:lnTo>
                  <a:lnTo>
                    <a:pt x="239" y="0"/>
                  </a:lnTo>
                  <a:lnTo>
                    <a:pt x="371" y="0"/>
                  </a:lnTo>
                  <a:lnTo>
                    <a:pt x="478" y="0"/>
                  </a:lnTo>
                  <a:lnTo>
                    <a:pt x="610" y="0"/>
                  </a:lnTo>
                  <a:lnTo>
                    <a:pt x="0" y="18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38680" y="6095880"/>
              <a:ext cx="2553120" cy="1029240"/>
            </a:xfrm>
            <a:custGeom>
              <a:avLst/>
              <a:gdLst/>
              <a:ahLst/>
              <a:rect l="0" t="0" r="r" b="b"/>
              <a:pathLst>
                <a:path w="7092" h="2859">
                  <a:moveTo>
                    <a:pt x="608" y="0"/>
                  </a:moveTo>
                  <a:lnTo>
                    <a:pt x="740" y="0"/>
                  </a:lnTo>
                  <a:lnTo>
                    <a:pt x="846" y="0"/>
                  </a:lnTo>
                  <a:lnTo>
                    <a:pt x="978" y="0"/>
                  </a:lnTo>
                  <a:lnTo>
                    <a:pt x="1111" y="26"/>
                  </a:lnTo>
                  <a:lnTo>
                    <a:pt x="1217" y="26"/>
                  </a:lnTo>
                  <a:lnTo>
                    <a:pt x="1349" y="26"/>
                  </a:lnTo>
                  <a:lnTo>
                    <a:pt x="1455" y="26"/>
                  </a:lnTo>
                  <a:lnTo>
                    <a:pt x="1587" y="52"/>
                  </a:lnTo>
                  <a:lnTo>
                    <a:pt x="1719" y="52"/>
                  </a:lnTo>
                  <a:lnTo>
                    <a:pt x="1826" y="52"/>
                  </a:lnTo>
                  <a:lnTo>
                    <a:pt x="1958" y="52"/>
                  </a:lnTo>
                  <a:lnTo>
                    <a:pt x="2064" y="79"/>
                  </a:lnTo>
                  <a:lnTo>
                    <a:pt x="2197" y="79"/>
                  </a:lnTo>
                  <a:lnTo>
                    <a:pt x="2302" y="105"/>
                  </a:lnTo>
                  <a:lnTo>
                    <a:pt x="2408" y="105"/>
                  </a:lnTo>
                  <a:lnTo>
                    <a:pt x="2541" y="105"/>
                  </a:lnTo>
                  <a:lnTo>
                    <a:pt x="2646" y="132"/>
                  </a:lnTo>
                  <a:lnTo>
                    <a:pt x="2752" y="132"/>
                  </a:lnTo>
                  <a:lnTo>
                    <a:pt x="2884" y="158"/>
                  </a:lnTo>
                  <a:lnTo>
                    <a:pt x="2990" y="158"/>
                  </a:lnTo>
                  <a:lnTo>
                    <a:pt x="3096" y="185"/>
                  </a:lnTo>
                  <a:lnTo>
                    <a:pt x="3202" y="185"/>
                  </a:lnTo>
                  <a:lnTo>
                    <a:pt x="3334" y="211"/>
                  </a:lnTo>
                  <a:lnTo>
                    <a:pt x="3440" y="211"/>
                  </a:lnTo>
                  <a:lnTo>
                    <a:pt x="3546" y="238"/>
                  </a:lnTo>
                  <a:lnTo>
                    <a:pt x="3652" y="264"/>
                  </a:lnTo>
                  <a:lnTo>
                    <a:pt x="3758" y="264"/>
                  </a:lnTo>
                  <a:lnTo>
                    <a:pt x="3863" y="291"/>
                  </a:lnTo>
                  <a:lnTo>
                    <a:pt x="3969" y="317"/>
                  </a:lnTo>
                  <a:lnTo>
                    <a:pt x="4049" y="317"/>
                  </a:lnTo>
                  <a:lnTo>
                    <a:pt x="4154" y="343"/>
                  </a:lnTo>
                  <a:lnTo>
                    <a:pt x="4260" y="370"/>
                  </a:lnTo>
                  <a:lnTo>
                    <a:pt x="4366" y="370"/>
                  </a:lnTo>
                  <a:lnTo>
                    <a:pt x="4446" y="396"/>
                  </a:lnTo>
                  <a:lnTo>
                    <a:pt x="4551" y="423"/>
                  </a:lnTo>
                  <a:lnTo>
                    <a:pt x="4657" y="449"/>
                  </a:lnTo>
                  <a:lnTo>
                    <a:pt x="4737" y="476"/>
                  </a:lnTo>
                  <a:lnTo>
                    <a:pt x="4842" y="476"/>
                  </a:lnTo>
                  <a:lnTo>
                    <a:pt x="4922" y="502"/>
                  </a:lnTo>
                  <a:lnTo>
                    <a:pt x="5001" y="529"/>
                  </a:lnTo>
                  <a:lnTo>
                    <a:pt x="5107" y="555"/>
                  </a:lnTo>
                  <a:lnTo>
                    <a:pt x="5186" y="582"/>
                  </a:lnTo>
                  <a:lnTo>
                    <a:pt x="5266" y="608"/>
                  </a:lnTo>
                  <a:lnTo>
                    <a:pt x="5346" y="635"/>
                  </a:lnTo>
                  <a:lnTo>
                    <a:pt x="5425" y="661"/>
                  </a:lnTo>
                  <a:lnTo>
                    <a:pt x="5505" y="687"/>
                  </a:lnTo>
                  <a:lnTo>
                    <a:pt x="5584" y="687"/>
                  </a:lnTo>
                  <a:lnTo>
                    <a:pt x="5664" y="714"/>
                  </a:lnTo>
                  <a:lnTo>
                    <a:pt x="5743" y="741"/>
                  </a:lnTo>
                  <a:lnTo>
                    <a:pt x="5796" y="768"/>
                  </a:lnTo>
                  <a:lnTo>
                    <a:pt x="5875" y="794"/>
                  </a:lnTo>
                  <a:lnTo>
                    <a:pt x="5955" y="821"/>
                  </a:lnTo>
                  <a:lnTo>
                    <a:pt x="6008" y="847"/>
                  </a:lnTo>
                  <a:lnTo>
                    <a:pt x="6060" y="874"/>
                  </a:lnTo>
                  <a:lnTo>
                    <a:pt x="6140" y="900"/>
                  </a:lnTo>
                  <a:lnTo>
                    <a:pt x="6193" y="953"/>
                  </a:lnTo>
                  <a:lnTo>
                    <a:pt x="6246" y="979"/>
                  </a:lnTo>
                  <a:lnTo>
                    <a:pt x="6325" y="1006"/>
                  </a:lnTo>
                  <a:lnTo>
                    <a:pt x="6378" y="1032"/>
                  </a:lnTo>
                  <a:lnTo>
                    <a:pt x="6431" y="1059"/>
                  </a:lnTo>
                  <a:lnTo>
                    <a:pt x="6484" y="1085"/>
                  </a:lnTo>
                  <a:lnTo>
                    <a:pt x="6510" y="1112"/>
                  </a:lnTo>
                  <a:lnTo>
                    <a:pt x="6563" y="1138"/>
                  </a:lnTo>
                  <a:lnTo>
                    <a:pt x="6616" y="1165"/>
                  </a:lnTo>
                  <a:lnTo>
                    <a:pt x="6669" y="1191"/>
                  </a:lnTo>
                  <a:lnTo>
                    <a:pt x="6695" y="1244"/>
                  </a:lnTo>
                  <a:lnTo>
                    <a:pt x="6748" y="1271"/>
                  </a:lnTo>
                  <a:lnTo>
                    <a:pt x="6775" y="1297"/>
                  </a:lnTo>
                  <a:lnTo>
                    <a:pt x="6801" y="1323"/>
                  </a:lnTo>
                  <a:lnTo>
                    <a:pt x="6854" y="1350"/>
                  </a:lnTo>
                  <a:lnTo>
                    <a:pt x="6881" y="1376"/>
                  </a:lnTo>
                  <a:lnTo>
                    <a:pt x="6907" y="1429"/>
                  </a:lnTo>
                  <a:lnTo>
                    <a:pt x="6934" y="1456"/>
                  </a:lnTo>
                  <a:lnTo>
                    <a:pt x="6960" y="1482"/>
                  </a:lnTo>
                  <a:lnTo>
                    <a:pt x="6987" y="1509"/>
                  </a:lnTo>
                  <a:lnTo>
                    <a:pt x="6987" y="1535"/>
                  </a:lnTo>
                  <a:lnTo>
                    <a:pt x="7013" y="1588"/>
                  </a:lnTo>
                  <a:lnTo>
                    <a:pt x="7039" y="1614"/>
                  </a:lnTo>
                  <a:lnTo>
                    <a:pt x="7039" y="1641"/>
                  </a:lnTo>
                  <a:lnTo>
                    <a:pt x="7066" y="1667"/>
                  </a:lnTo>
                  <a:lnTo>
                    <a:pt x="7066" y="1694"/>
                  </a:lnTo>
                  <a:lnTo>
                    <a:pt x="7066" y="1747"/>
                  </a:lnTo>
                  <a:lnTo>
                    <a:pt x="7092" y="1773"/>
                  </a:lnTo>
                  <a:lnTo>
                    <a:pt x="7092" y="1800"/>
                  </a:lnTo>
                  <a:lnTo>
                    <a:pt x="7092" y="1826"/>
                  </a:lnTo>
                  <a:lnTo>
                    <a:pt x="7092" y="1853"/>
                  </a:lnTo>
                  <a:lnTo>
                    <a:pt x="7092" y="1906"/>
                  </a:lnTo>
                  <a:lnTo>
                    <a:pt x="7066" y="1932"/>
                  </a:lnTo>
                  <a:lnTo>
                    <a:pt x="7066" y="1958"/>
                  </a:lnTo>
                  <a:lnTo>
                    <a:pt x="7066" y="1985"/>
                  </a:lnTo>
                  <a:lnTo>
                    <a:pt x="7039" y="2038"/>
                  </a:lnTo>
                  <a:lnTo>
                    <a:pt x="7039" y="2064"/>
                  </a:lnTo>
                  <a:lnTo>
                    <a:pt x="7013" y="2091"/>
                  </a:lnTo>
                  <a:lnTo>
                    <a:pt x="6987" y="2117"/>
                  </a:lnTo>
                  <a:lnTo>
                    <a:pt x="6987" y="2145"/>
                  </a:lnTo>
                  <a:lnTo>
                    <a:pt x="6960" y="2198"/>
                  </a:lnTo>
                  <a:lnTo>
                    <a:pt x="6934" y="2224"/>
                  </a:lnTo>
                  <a:lnTo>
                    <a:pt x="6907" y="2250"/>
                  </a:lnTo>
                  <a:lnTo>
                    <a:pt x="6881" y="2277"/>
                  </a:lnTo>
                  <a:lnTo>
                    <a:pt x="6854" y="2303"/>
                  </a:lnTo>
                  <a:lnTo>
                    <a:pt x="6801" y="2330"/>
                  </a:lnTo>
                  <a:lnTo>
                    <a:pt x="6775" y="2383"/>
                  </a:lnTo>
                  <a:lnTo>
                    <a:pt x="6748" y="2409"/>
                  </a:lnTo>
                  <a:lnTo>
                    <a:pt x="6695" y="2436"/>
                  </a:lnTo>
                  <a:lnTo>
                    <a:pt x="6669" y="2462"/>
                  </a:lnTo>
                  <a:lnTo>
                    <a:pt x="6616" y="2489"/>
                  </a:lnTo>
                  <a:lnTo>
                    <a:pt x="6563" y="2515"/>
                  </a:lnTo>
                  <a:lnTo>
                    <a:pt x="6510" y="2542"/>
                  </a:lnTo>
                  <a:lnTo>
                    <a:pt x="6484" y="2594"/>
                  </a:lnTo>
                  <a:lnTo>
                    <a:pt x="6431" y="2621"/>
                  </a:lnTo>
                  <a:lnTo>
                    <a:pt x="6378" y="2647"/>
                  </a:lnTo>
                  <a:lnTo>
                    <a:pt x="6325" y="2674"/>
                  </a:lnTo>
                  <a:lnTo>
                    <a:pt x="6246" y="2700"/>
                  </a:lnTo>
                  <a:lnTo>
                    <a:pt x="6193" y="2727"/>
                  </a:lnTo>
                  <a:lnTo>
                    <a:pt x="6140" y="2753"/>
                  </a:lnTo>
                  <a:lnTo>
                    <a:pt x="6060" y="2780"/>
                  </a:lnTo>
                  <a:lnTo>
                    <a:pt x="6008" y="2806"/>
                  </a:lnTo>
                  <a:lnTo>
                    <a:pt x="5955" y="2833"/>
                  </a:lnTo>
                  <a:lnTo>
                    <a:pt x="5875" y="2859"/>
                  </a:lnTo>
                  <a:lnTo>
                    <a:pt x="0" y="1826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38680" y="6753240"/>
              <a:ext cx="2115000" cy="590760"/>
            </a:xfrm>
            <a:custGeom>
              <a:avLst/>
              <a:gdLst/>
              <a:ahLst/>
              <a:rect l="0" t="0" r="r" b="b"/>
              <a:pathLst>
                <a:path w="5875" h="1641">
                  <a:moveTo>
                    <a:pt x="5875" y="1032"/>
                  </a:moveTo>
                  <a:lnTo>
                    <a:pt x="5796" y="1059"/>
                  </a:lnTo>
                  <a:lnTo>
                    <a:pt x="5743" y="1085"/>
                  </a:lnTo>
                  <a:lnTo>
                    <a:pt x="5664" y="1112"/>
                  </a:lnTo>
                  <a:lnTo>
                    <a:pt x="5584" y="1138"/>
                  </a:lnTo>
                  <a:lnTo>
                    <a:pt x="5505" y="1165"/>
                  </a:lnTo>
                  <a:lnTo>
                    <a:pt x="5425" y="1191"/>
                  </a:lnTo>
                  <a:lnTo>
                    <a:pt x="5346" y="1218"/>
                  </a:lnTo>
                  <a:lnTo>
                    <a:pt x="5267" y="1244"/>
                  </a:lnTo>
                  <a:lnTo>
                    <a:pt x="5187" y="1271"/>
                  </a:lnTo>
                  <a:lnTo>
                    <a:pt x="5108" y="1297"/>
                  </a:lnTo>
                  <a:lnTo>
                    <a:pt x="5002" y="1297"/>
                  </a:lnTo>
                  <a:lnTo>
                    <a:pt x="4923" y="1323"/>
                  </a:lnTo>
                  <a:lnTo>
                    <a:pt x="4843" y="1350"/>
                  </a:lnTo>
                  <a:lnTo>
                    <a:pt x="4738" y="1376"/>
                  </a:lnTo>
                  <a:lnTo>
                    <a:pt x="4658" y="1403"/>
                  </a:lnTo>
                  <a:lnTo>
                    <a:pt x="4552" y="1403"/>
                  </a:lnTo>
                  <a:lnTo>
                    <a:pt x="4447" y="1429"/>
                  </a:lnTo>
                  <a:lnTo>
                    <a:pt x="4366" y="1456"/>
                  </a:lnTo>
                  <a:lnTo>
                    <a:pt x="4260" y="1482"/>
                  </a:lnTo>
                  <a:lnTo>
                    <a:pt x="4154" y="1482"/>
                  </a:lnTo>
                  <a:lnTo>
                    <a:pt x="4049" y="1509"/>
                  </a:lnTo>
                  <a:lnTo>
                    <a:pt x="3969" y="1535"/>
                  </a:lnTo>
                  <a:lnTo>
                    <a:pt x="3863" y="1562"/>
                  </a:lnTo>
                  <a:lnTo>
                    <a:pt x="3758" y="1562"/>
                  </a:lnTo>
                  <a:lnTo>
                    <a:pt x="3652" y="1588"/>
                  </a:lnTo>
                  <a:lnTo>
                    <a:pt x="3546" y="1588"/>
                  </a:lnTo>
                  <a:lnTo>
                    <a:pt x="3440" y="1614"/>
                  </a:lnTo>
                  <a:lnTo>
                    <a:pt x="3334" y="1641"/>
                  </a:lnTo>
                  <a:lnTo>
                    <a:pt x="0" y="0"/>
                  </a:lnTo>
                  <a:lnTo>
                    <a:pt x="5875" y="1032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0200" y="6753240"/>
              <a:ext cx="3438720" cy="667080"/>
            </a:xfrm>
            <a:custGeom>
              <a:avLst/>
              <a:gdLst/>
              <a:ahLst/>
              <a:rect l="0" t="0" r="r" b="b"/>
              <a:pathLst>
                <a:path w="9552" h="1853">
                  <a:moveTo>
                    <a:pt x="9552" y="1641"/>
                  </a:moveTo>
                  <a:lnTo>
                    <a:pt x="9420" y="1641"/>
                  </a:lnTo>
                  <a:lnTo>
                    <a:pt x="9314" y="1667"/>
                  </a:lnTo>
                  <a:lnTo>
                    <a:pt x="9208" y="1667"/>
                  </a:lnTo>
                  <a:lnTo>
                    <a:pt x="9102" y="1694"/>
                  </a:lnTo>
                  <a:lnTo>
                    <a:pt x="8970" y="1694"/>
                  </a:lnTo>
                  <a:lnTo>
                    <a:pt x="8864" y="1720"/>
                  </a:lnTo>
                  <a:lnTo>
                    <a:pt x="8758" y="1720"/>
                  </a:lnTo>
                  <a:lnTo>
                    <a:pt x="8626" y="1747"/>
                  </a:lnTo>
                  <a:lnTo>
                    <a:pt x="8520" y="1747"/>
                  </a:lnTo>
                  <a:lnTo>
                    <a:pt x="8414" y="1747"/>
                  </a:lnTo>
                  <a:lnTo>
                    <a:pt x="8282" y="1773"/>
                  </a:lnTo>
                  <a:lnTo>
                    <a:pt x="8176" y="1773"/>
                  </a:lnTo>
                  <a:lnTo>
                    <a:pt x="8044" y="1773"/>
                  </a:lnTo>
                  <a:lnTo>
                    <a:pt x="7938" y="1800"/>
                  </a:lnTo>
                  <a:lnTo>
                    <a:pt x="7806" y="1800"/>
                  </a:lnTo>
                  <a:lnTo>
                    <a:pt x="7673" y="1800"/>
                  </a:lnTo>
                  <a:lnTo>
                    <a:pt x="7568" y="1800"/>
                  </a:lnTo>
                  <a:lnTo>
                    <a:pt x="7435" y="1826"/>
                  </a:lnTo>
                  <a:lnTo>
                    <a:pt x="7329" y="1826"/>
                  </a:lnTo>
                  <a:lnTo>
                    <a:pt x="7197" y="1826"/>
                  </a:lnTo>
                  <a:lnTo>
                    <a:pt x="7065" y="1826"/>
                  </a:lnTo>
                  <a:lnTo>
                    <a:pt x="6959" y="1826"/>
                  </a:lnTo>
                  <a:lnTo>
                    <a:pt x="6827" y="1826"/>
                  </a:lnTo>
                  <a:lnTo>
                    <a:pt x="6694" y="1853"/>
                  </a:lnTo>
                  <a:lnTo>
                    <a:pt x="6589" y="1853"/>
                  </a:lnTo>
                  <a:lnTo>
                    <a:pt x="6456" y="1853"/>
                  </a:lnTo>
                  <a:lnTo>
                    <a:pt x="6324" y="1853"/>
                  </a:lnTo>
                  <a:lnTo>
                    <a:pt x="6218" y="1853"/>
                  </a:lnTo>
                  <a:lnTo>
                    <a:pt x="6086" y="1853"/>
                  </a:lnTo>
                  <a:lnTo>
                    <a:pt x="5954" y="1853"/>
                  </a:lnTo>
                  <a:lnTo>
                    <a:pt x="5848" y="1853"/>
                  </a:lnTo>
                  <a:lnTo>
                    <a:pt x="5716" y="1853"/>
                  </a:lnTo>
                  <a:lnTo>
                    <a:pt x="5583" y="1826"/>
                  </a:lnTo>
                  <a:lnTo>
                    <a:pt x="5477" y="1826"/>
                  </a:lnTo>
                  <a:lnTo>
                    <a:pt x="5345" y="1826"/>
                  </a:lnTo>
                  <a:lnTo>
                    <a:pt x="5213" y="1826"/>
                  </a:lnTo>
                  <a:lnTo>
                    <a:pt x="5107" y="1826"/>
                  </a:lnTo>
                  <a:lnTo>
                    <a:pt x="4975" y="1826"/>
                  </a:lnTo>
                  <a:lnTo>
                    <a:pt x="4869" y="1800"/>
                  </a:lnTo>
                  <a:lnTo>
                    <a:pt x="4736" y="1800"/>
                  </a:lnTo>
                  <a:lnTo>
                    <a:pt x="4603" y="1800"/>
                  </a:lnTo>
                  <a:lnTo>
                    <a:pt x="4497" y="1800"/>
                  </a:lnTo>
                  <a:lnTo>
                    <a:pt x="4365" y="1773"/>
                  </a:lnTo>
                  <a:lnTo>
                    <a:pt x="4259" y="1773"/>
                  </a:lnTo>
                  <a:lnTo>
                    <a:pt x="4127" y="1773"/>
                  </a:lnTo>
                  <a:lnTo>
                    <a:pt x="4021" y="1747"/>
                  </a:lnTo>
                  <a:lnTo>
                    <a:pt x="3889" y="1747"/>
                  </a:lnTo>
                  <a:lnTo>
                    <a:pt x="3783" y="1747"/>
                  </a:lnTo>
                  <a:lnTo>
                    <a:pt x="3677" y="1720"/>
                  </a:lnTo>
                  <a:lnTo>
                    <a:pt x="3545" y="1720"/>
                  </a:lnTo>
                  <a:lnTo>
                    <a:pt x="3439" y="1694"/>
                  </a:lnTo>
                  <a:lnTo>
                    <a:pt x="3333" y="1694"/>
                  </a:lnTo>
                  <a:lnTo>
                    <a:pt x="3201" y="1667"/>
                  </a:lnTo>
                  <a:lnTo>
                    <a:pt x="3095" y="1667"/>
                  </a:lnTo>
                  <a:lnTo>
                    <a:pt x="2989" y="1641"/>
                  </a:lnTo>
                  <a:lnTo>
                    <a:pt x="2883" y="1641"/>
                  </a:lnTo>
                  <a:lnTo>
                    <a:pt x="2778" y="1614"/>
                  </a:lnTo>
                  <a:lnTo>
                    <a:pt x="2672" y="1588"/>
                  </a:lnTo>
                  <a:lnTo>
                    <a:pt x="2566" y="1588"/>
                  </a:lnTo>
                  <a:lnTo>
                    <a:pt x="2460" y="1562"/>
                  </a:lnTo>
                  <a:lnTo>
                    <a:pt x="2354" y="1562"/>
                  </a:lnTo>
                  <a:lnTo>
                    <a:pt x="2248" y="1535"/>
                  </a:lnTo>
                  <a:lnTo>
                    <a:pt x="2143" y="1509"/>
                  </a:lnTo>
                  <a:lnTo>
                    <a:pt x="2037" y="1482"/>
                  </a:lnTo>
                  <a:lnTo>
                    <a:pt x="1931" y="1482"/>
                  </a:lnTo>
                  <a:lnTo>
                    <a:pt x="1852" y="1456"/>
                  </a:lnTo>
                  <a:lnTo>
                    <a:pt x="1746" y="1429"/>
                  </a:lnTo>
                  <a:lnTo>
                    <a:pt x="1640" y="1403"/>
                  </a:lnTo>
                  <a:lnTo>
                    <a:pt x="1561" y="1403"/>
                  </a:lnTo>
                  <a:lnTo>
                    <a:pt x="1455" y="1376"/>
                  </a:lnTo>
                  <a:lnTo>
                    <a:pt x="1375" y="1350"/>
                  </a:lnTo>
                  <a:lnTo>
                    <a:pt x="1296" y="1323"/>
                  </a:lnTo>
                  <a:lnTo>
                    <a:pt x="1190" y="1297"/>
                  </a:lnTo>
                  <a:lnTo>
                    <a:pt x="1111" y="1297"/>
                  </a:lnTo>
                  <a:lnTo>
                    <a:pt x="1031" y="1271"/>
                  </a:lnTo>
                  <a:lnTo>
                    <a:pt x="952" y="1244"/>
                  </a:lnTo>
                  <a:lnTo>
                    <a:pt x="846" y="1218"/>
                  </a:lnTo>
                  <a:lnTo>
                    <a:pt x="767" y="1191"/>
                  </a:lnTo>
                  <a:lnTo>
                    <a:pt x="687" y="1165"/>
                  </a:lnTo>
                  <a:lnTo>
                    <a:pt x="635" y="1138"/>
                  </a:lnTo>
                  <a:lnTo>
                    <a:pt x="555" y="1112"/>
                  </a:lnTo>
                  <a:lnTo>
                    <a:pt x="476" y="1085"/>
                  </a:lnTo>
                  <a:lnTo>
                    <a:pt x="396" y="1059"/>
                  </a:lnTo>
                  <a:lnTo>
                    <a:pt x="343" y="1032"/>
                  </a:lnTo>
                  <a:lnTo>
                    <a:pt x="264" y="1006"/>
                  </a:lnTo>
                  <a:lnTo>
                    <a:pt x="185" y="979"/>
                  </a:lnTo>
                  <a:lnTo>
                    <a:pt x="132" y="953"/>
                  </a:lnTo>
                  <a:lnTo>
                    <a:pt x="79" y="926"/>
                  </a:lnTo>
                  <a:lnTo>
                    <a:pt x="0" y="899"/>
                  </a:lnTo>
                  <a:lnTo>
                    <a:pt x="6218" y="0"/>
                  </a:lnTo>
                  <a:lnTo>
                    <a:pt x="9552" y="1641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6753240"/>
              <a:ext cx="2314800" cy="324360"/>
            </a:xfrm>
            <a:custGeom>
              <a:avLst/>
              <a:gdLst/>
              <a:ahLst/>
              <a:rect l="0" t="0" r="r" b="b"/>
              <a:pathLst>
                <a:path w="6430" h="901">
                  <a:moveTo>
                    <a:pt x="211" y="901"/>
                  </a:moveTo>
                  <a:lnTo>
                    <a:pt x="158" y="875"/>
                  </a:lnTo>
                  <a:lnTo>
                    <a:pt x="105" y="848"/>
                  </a:lnTo>
                  <a:lnTo>
                    <a:pt x="52" y="822"/>
                  </a:lnTo>
                  <a:lnTo>
                    <a:pt x="0" y="795"/>
                  </a:lnTo>
                  <a:lnTo>
                    <a:pt x="6430" y="0"/>
                  </a:lnTo>
                  <a:lnTo>
                    <a:pt x="211" y="901"/>
                  </a:lnTo>
                  <a:close/>
                </a:path>
              </a:pathLst>
            </a:custGeom>
            <a:solidFill>
              <a:srgbClr val="6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85920" y="6572160"/>
              <a:ext cx="2553120" cy="466920"/>
            </a:xfrm>
            <a:custGeom>
              <a:avLst/>
              <a:gdLst/>
              <a:ahLst/>
              <a:rect l="0" t="0" r="r" b="b"/>
              <a:pathLst>
                <a:path w="7092" h="1297">
                  <a:moveTo>
                    <a:pt x="661" y="1297"/>
                  </a:moveTo>
                  <a:lnTo>
                    <a:pt x="608" y="1271"/>
                  </a:lnTo>
                  <a:lnTo>
                    <a:pt x="555" y="1218"/>
                  </a:lnTo>
                  <a:lnTo>
                    <a:pt x="502" y="1191"/>
                  </a:lnTo>
                  <a:lnTo>
                    <a:pt x="476" y="1165"/>
                  </a:lnTo>
                  <a:lnTo>
                    <a:pt x="423" y="1138"/>
                  </a:lnTo>
                  <a:lnTo>
                    <a:pt x="370" y="1112"/>
                  </a:lnTo>
                  <a:lnTo>
                    <a:pt x="343" y="1085"/>
                  </a:lnTo>
                  <a:lnTo>
                    <a:pt x="291" y="1059"/>
                  </a:lnTo>
                  <a:lnTo>
                    <a:pt x="264" y="1006"/>
                  </a:lnTo>
                  <a:lnTo>
                    <a:pt x="238" y="979"/>
                  </a:lnTo>
                  <a:lnTo>
                    <a:pt x="211" y="953"/>
                  </a:lnTo>
                  <a:lnTo>
                    <a:pt x="185" y="927"/>
                  </a:lnTo>
                  <a:lnTo>
                    <a:pt x="158" y="900"/>
                  </a:lnTo>
                  <a:lnTo>
                    <a:pt x="132" y="874"/>
                  </a:lnTo>
                  <a:lnTo>
                    <a:pt x="105" y="821"/>
                  </a:lnTo>
                  <a:lnTo>
                    <a:pt x="79" y="794"/>
                  </a:lnTo>
                  <a:lnTo>
                    <a:pt x="52" y="768"/>
                  </a:lnTo>
                  <a:lnTo>
                    <a:pt x="52" y="741"/>
                  </a:lnTo>
                  <a:lnTo>
                    <a:pt x="26" y="715"/>
                  </a:lnTo>
                  <a:lnTo>
                    <a:pt x="26" y="662"/>
                  </a:lnTo>
                  <a:lnTo>
                    <a:pt x="0" y="635"/>
                  </a:lnTo>
                  <a:lnTo>
                    <a:pt x="0" y="608"/>
                  </a:lnTo>
                  <a:lnTo>
                    <a:pt x="0" y="582"/>
                  </a:lnTo>
                  <a:lnTo>
                    <a:pt x="0" y="529"/>
                  </a:lnTo>
                  <a:lnTo>
                    <a:pt x="0" y="502"/>
                  </a:lnTo>
                  <a:lnTo>
                    <a:pt x="0" y="476"/>
                  </a:lnTo>
                  <a:lnTo>
                    <a:pt x="0" y="449"/>
                  </a:lnTo>
                  <a:lnTo>
                    <a:pt x="0" y="423"/>
                  </a:lnTo>
                  <a:lnTo>
                    <a:pt x="0" y="370"/>
                  </a:lnTo>
                  <a:lnTo>
                    <a:pt x="26" y="343"/>
                  </a:lnTo>
                  <a:lnTo>
                    <a:pt x="26" y="317"/>
                  </a:lnTo>
                  <a:lnTo>
                    <a:pt x="52" y="291"/>
                  </a:lnTo>
                  <a:lnTo>
                    <a:pt x="52" y="264"/>
                  </a:lnTo>
                  <a:lnTo>
                    <a:pt x="79" y="211"/>
                  </a:lnTo>
                  <a:lnTo>
                    <a:pt x="105" y="185"/>
                  </a:lnTo>
                  <a:lnTo>
                    <a:pt x="132" y="158"/>
                  </a:lnTo>
                  <a:lnTo>
                    <a:pt x="158" y="132"/>
                  </a:lnTo>
                  <a:lnTo>
                    <a:pt x="185" y="105"/>
                  </a:lnTo>
                  <a:lnTo>
                    <a:pt x="211" y="52"/>
                  </a:lnTo>
                  <a:lnTo>
                    <a:pt x="238" y="26"/>
                  </a:lnTo>
                  <a:lnTo>
                    <a:pt x="264" y="0"/>
                  </a:lnTo>
                  <a:lnTo>
                    <a:pt x="7092" y="502"/>
                  </a:lnTo>
                  <a:lnTo>
                    <a:pt x="661" y="1297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80960" y="6267600"/>
              <a:ext cx="2457720" cy="486000"/>
            </a:xfrm>
            <a:custGeom>
              <a:avLst/>
              <a:gdLst/>
              <a:ahLst/>
              <a:rect l="0" t="0" r="r" b="b"/>
              <a:pathLst>
                <a:path w="6827" h="1350">
                  <a:moveTo>
                    <a:pt x="0" y="847"/>
                  </a:moveTo>
                  <a:lnTo>
                    <a:pt x="26" y="821"/>
                  </a:lnTo>
                  <a:lnTo>
                    <a:pt x="79" y="794"/>
                  </a:lnTo>
                  <a:lnTo>
                    <a:pt x="105" y="768"/>
                  </a:lnTo>
                  <a:lnTo>
                    <a:pt x="158" y="715"/>
                  </a:lnTo>
                  <a:lnTo>
                    <a:pt x="211" y="688"/>
                  </a:lnTo>
                  <a:lnTo>
                    <a:pt x="238" y="661"/>
                  </a:lnTo>
                  <a:lnTo>
                    <a:pt x="291" y="635"/>
                  </a:lnTo>
                  <a:lnTo>
                    <a:pt x="343" y="608"/>
                  </a:lnTo>
                  <a:lnTo>
                    <a:pt x="396" y="582"/>
                  </a:lnTo>
                  <a:lnTo>
                    <a:pt x="449" y="555"/>
                  </a:lnTo>
                  <a:lnTo>
                    <a:pt x="502" y="529"/>
                  </a:lnTo>
                  <a:lnTo>
                    <a:pt x="555" y="502"/>
                  </a:lnTo>
                  <a:lnTo>
                    <a:pt x="608" y="476"/>
                  </a:lnTo>
                  <a:lnTo>
                    <a:pt x="687" y="423"/>
                  </a:lnTo>
                  <a:lnTo>
                    <a:pt x="740" y="396"/>
                  </a:lnTo>
                  <a:lnTo>
                    <a:pt x="793" y="370"/>
                  </a:lnTo>
                  <a:lnTo>
                    <a:pt x="873" y="343"/>
                  </a:lnTo>
                  <a:lnTo>
                    <a:pt x="952" y="317"/>
                  </a:lnTo>
                  <a:lnTo>
                    <a:pt x="1005" y="291"/>
                  </a:lnTo>
                  <a:lnTo>
                    <a:pt x="1084" y="264"/>
                  </a:lnTo>
                  <a:lnTo>
                    <a:pt x="1164" y="238"/>
                  </a:lnTo>
                  <a:lnTo>
                    <a:pt x="1243" y="211"/>
                  </a:lnTo>
                  <a:lnTo>
                    <a:pt x="1296" y="211"/>
                  </a:lnTo>
                  <a:lnTo>
                    <a:pt x="1375" y="185"/>
                  </a:lnTo>
                  <a:lnTo>
                    <a:pt x="1455" y="158"/>
                  </a:lnTo>
                  <a:lnTo>
                    <a:pt x="1561" y="132"/>
                  </a:lnTo>
                  <a:lnTo>
                    <a:pt x="1640" y="105"/>
                  </a:lnTo>
                  <a:lnTo>
                    <a:pt x="1719" y="79"/>
                  </a:lnTo>
                  <a:lnTo>
                    <a:pt x="1799" y="52"/>
                  </a:lnTo>
                  <a:lnTo>
                    <a:pt x="1904" y="26"/>
                  </a:lnTo>
                  <a:lnTo>
                    <a:pt x="1984" y="0"/>
                  </a:lnTo>
                  <a:lnTo>
                    <a:pt x="2063" y="0"/>
                  </a:lnTo>
                  <a:lnTo>
                    <a:pt x="6827" y="1350"/>
                  </a:lnTo>
                  <a:lnTo>
                    <a:pt x="0" y="847"/>
                  </a:lnTo>
                  <a:close/>
                </a:path>
              </a:pathLst>
            </a:custGeom>
            <a:solidFill>
              <a:srgbClr val="008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24000" y="6095880"/>
              <a:ext cx="1715040" cy="657720"/>
            </a:xfrm>
            <a:custGeom>
              <a:avLst/>
              <a:gdLst/>
              <a:ahLst/>
              <a:rect l="0" t="0" r="r" b="b"/>
              <a:pathLst>
                <a:path w="4764" h="1827">
                  <a:moveTo>
                    <a:pt x="0" y="477"/>
                  </a:moveTo>
                  <a:lnTo>
                    <a:pt x="105" y="449"/>
                  </a:lnTo>
                  <a:lnTo>
                    <a:pt x="185" y="423"/>
                  </a:lnTo>
                  <a:lnTo>
                    <a:pt x="291" y="396"/>
                  </a:lnTo>
                  <a:lnTo>
                    <a:pt x="396" y="370"/>
                  </a:lnTo>
                  <a:lnTo>
                    <a:pt x="476" y="370"/>
                  </a:lnTo>
                  <a:lnTo>
                    <a:pt x="582" y="343"/>
                  </a:lnTo>
                  <a:lnTo>
                    <a:pt x="687" y="317"/>
                  </a:lnTo>
                  <a:lnTo>
                    <a:pt x="793" y="317"/>
                  </a:lnTo>
                  <a:lnTo>
                    <a:pt x="899" y="291"/>
                  </a:lnTo>
                  <a:lnTo>
                    <a:pt x="1005" y="264"/>
                  </a:lnTo>
                  <a:lnTo>
                    <a:pt x="1111" y="264"/>
                  </a:lnTo>
                  <a:lnTo>
                    <a:pt x="1218" y="238"/>
                  </a:lnTo>
                  <a:lnTo>
                    <a:pt x="1323" y="211"/>
                  </a:lnTo>
                  <a:lnTo>
                    <a:pt x="1429" y="211"/>
                  </a:lnTo>
                  <a:lnTo>
                    <a:pt x="1535" y="185"/>
                  </a:lnTo>
                  <a:lnTo>
                    <a:pt x="1641" y="185"/>
                  </a:lnTo>
                  <a:lnTo>
                    <a:pt x="1747" y="158"/>
                  </a:lnTo>
                  <a:lnTo>
                    <a:pt x="1879" y="158"/>
                  </a:lnTo>
                  <a:lnTo>
                    <a:pt x="1985" y="132"/>
                  </a:lnTo>
                  <a:lnTo>
                    <a:pt x="2091" y="132"/>
                  </a:lnTo>
                  <a:lnTo>
                    <a:pt x="2223" y="105"/>
                  </a:lnTo>
                  <a:lnTo>
                    <a:pt x="2329" y="105"/>
                  </a:lnTo>
                  <a:lnTo>
                    <a:pt x="2435" y="105"/>
                  </a:lnTo>
                  <a:lnTo>
                    <a:pt x="2567" y="79"/>
                  </a:lnTo>
                  <a:lnTo>
                    <a:pt x="2673" y="79"/>
                  </a:lnTo>
                  <a:lnTo>
                    <a:pt x="2805" y="52"/>
                  </a:lnTo>
                  <a:lnTo>
                    <a:pt x="2911" y="52"/>
                  </a:lnTo>
                  <a:lnTo>
                    <a:pt x="3043" y="52"/>
                  </a:lnTo>
                  <a:lnTo>
                    <a:pt x="3149" y="52"/>
                  </a:lnTo>
                  <a:lnTo>
                    <a:pt x="3281" y="26"/>
                  </a:lnTo>
                  <a:lnTo>
                    <a:pt x="3414" y="26"/>
                  </a:lnTo>
                  <a:lnTo>
                    <a:pt x="3519" y="26"/>
                  </a:lnTo>
                  <a:lnTo>
                    <a:pt x="3653" y="26"/>
                  </a:lnTo>
                  <a:lnTo>
                    <a:pt x="3759" y="0"/>
                  </a:lnTo>
                  <a:lnTo>
                    <a:pt x="3891" y="0"/>
                  </a:lnTo>
                  <a:lnTo>
                    <a:pt x="4023" y="0"/>
                  </a:lnTo>
                  <a:lnTo>
                    <a:pt x="4129" y="0"/>
                  </a:lnTo>
                  <a:lnTo>
                    <a:pt x="4261" y="0"/>
                  </a:lnTo>
                  <a:lnTo>
                    <a:pt x="4394" y="0"/>
                  </a:lnTo>
                  <a:lnTo>
                    <a:pt x="4499" y="0"/>
                  </a:lnTo>
                  <a:lnTo>
                    <a:pt x="4632" y="0"/>
                  </a:lnTo>
                  <a:lnTo>
                    <a:pt x="4764" y="0"/>
                  </a:lnTo>
                  <a:lnTo>
                    <a:pt x="4764" y="1827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c0c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3527280" y="5559480"/>
              <a:ext cx="793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3755880" y="576900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518080" y="7988400"/>
              <a:ext cx="1022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5861160" y="819792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2241720" y="815976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2508120" y="836928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660240" y="5911920"/>
              <a:ext cx="1022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1003320" y="612144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2098800" y="5616720"/>
              <a:ext cx="870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2327400" y="582624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431640" y="7826400"/>
              <a:ext cx="1251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888840" y="803592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345960" y="6959520"/>
              <a:ext cx="1022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50880" y="716904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5241960" y="573084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5508720" y="594036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61800" y="4952880"/>
            <a:ext cx="6153120" cy="3876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089000" y="4041720"/>
            <a:ext cx="460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9200" y="695160"/>
            <a:ext cx="6019920" cy="33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63640" y="1027080"/>
            <a:ext cx="5211720" cy="2705040"/>
            <a:chOff x="863640" y="1027080"/>
            <a:chExt cx="5211720" cy="2705040"/>
          </a:xfrm>
        </p:grpSpPr>
        <p:sp>
          <p:nvSpPr>
            <p:cNvPr id="373" name=""/>
            <p:cNvSpPr/>
            <p:nvPr/>
          </p:nvSpPr>
          <p:spPr>
            <a:xfrm>
              <a:off x="1488960" y="2195640"/>
              <a:ext cx="1541880" cy="1008360"/>
            </a:xfrm>
            <a:custGeom>
              <a:avLst/>
              <a:gdLst/>
              <a:ahLst/>
              <a:rect l="0" t="0" r="r" b="b"/>
              <a:pathLst>
                <a:path w="4283" h="2801">
                  <a:moveTo>
                    <a:pt x="4283" y="1344"/>
                  </a:moveTo>
                  <a:lnTo>
                    <a:pt x="4204" y="1344"/>
                  </a:lnTo>
                  <a:lnTo>
                    <a:pt x="4010" y="1318"/>
                  </a:lnTo>
                  <a:lnTo>
                    <a:pt x="3926" y="1318"/>
                  </a:lnTo>
                  <a:lnTo>
                    <a:pt x="3847" y="1318"/>
                  </a:lnTo>
                  <a:lnTo>
                    <a:pt x="3653" y="1292"/>
                  </a:lnTo>
                  <a:lnTo>
                    <a:pt x="3569" y="1292"/>
                  </a:lnTo>
                  <a:lnTo>
                    <a:pt x="3490" y="1292"/>
                  </a:lnTo>
                  <a:lnTo>
                    <a:pt x="3322" y="1261"/>
                  </a:lnTo>
                  <a:lnTo>
                    <a:pt x="3243" y="1261"/>
                  </a:lnTo>
                  <a:lnTo>
                    <a:pt x="3158" y="1234"/>
                  </a:lnTo>
                  <a:lnTo>
                    <a:pt x="3048" y="1234"/>
                  </a:lnTo>
                  <a:lnTo>
                    <a:pt x="2884" y="1208"/>
                  </a:lnTo>
                  <a:lnTo>
                    <a:pt x="2801" y="1208"/>
                  </a:lnTo>
                  <a:lnTo>
                    <a:pt x="2717" y="1181"/>
                  </a:lnTo>
                  <a:lnTo>
                    <a:pt x="2580" y="1181"/>
                  </a:lnTo>
                  <a:lnTo>
                    <a:pt x="2501" y="1155"/>
                  </a:lnTo>
                  <a:lnTo>
                    <a:pt x="2417" y="1155"/>
                  </a:lnTo>
                  <a:lnTo>
                    <a:pt x="2254" y="1124"/>
                  </a:lnTo>
                  <a:lnTo>
                    <a:pt x="2197" y="1098"/>
                  </a:lnTo>
                  <a:lnTo>
                    <a:pt x="2113" y="1098"/>
                  </a:lnTo>
                  <a:lnTo>
                    <a:pt x="1950" y="1071"/>
                  </a:lnTo>
                  <a:lnTo>
                    <a:pt x="1897" y="1045"/>
                  </a:lnTo>
                  <a:lnTo>
                    <a:pt x="1813" y="1018"/>
                  </a:lnTo>
                  <a:lnTo>
                    <a:pt x="1676" y="987"/>
                  </a:lnTo>
                  <a:lnTo>
                    <a:pt x="1619" y="987"/>
                  </a:lnTo>
                  <a:lnTo>
                    <a:pt x="1539" y="961"/>
                  </a:lnTo>
                  <a:lnTo>
                    <a:pt x="1429" y="934"/>
                  </a:lnTo>
                  <a:lnTo>
                    <a:pt x="1345" y="908"/>
                  </a:lnTo>
                  <a:lnTo>
                    <a:pt x="1293" y="908"/>
                  </a:lnTo>
                  <a:lnTo>
                    <a:pt x="1182" y="851"/>
                  </a:lnTo>
                  <a:lnTo>
                    <a:pt x="1125" y="851"/>
                  </a:lnTo>
                  <a:lnTo>
                    <a:pt x="1072" y="824"/>
                  </a:lnTo>
                  <a:lnTo>
                    <a:pt x="1014" y="798"/>
                  </a:lnTo>
                  <a:lnTo>
                    <a:pt x="903" y="771"/>
                  </a:lnTo>
                  <a:lnTo>
                    <a:pt x="851" y="740"/>
                  </a:lnTo>
                  <a:lnTo>
                    <a:pt x="798" y="714"/>
                  </a:lnTo>
                  <a:lnTo>
                    <a:pt x="714" y="687"/>
                  </a:lnTo>
                  <a:lnTo>
                    <a:pt x="657" y="661"/>
                  </a:lnTo>
                  <a:lnTo>
                    <a:pt x="604" y="630"/>
                  </a:lnTo>
                  <a:lnTo>
                    <a:pt x="520" y="604"/>
                  </a:lnTo>
                  <a:lnTo>
                    <a:pt x="493" y="577"/>
                  </a:lnTo>
                  <a:lnTo>
                    <a:pt x="440" y="551"/>
                  </a:lnTo>
                  <a:lnTo>
                    <a:pt x="383" y="493"/>
                  </a:lnTo>
                  <a:lnTo>
                    <a:pt x="357" y="493"/>
                  </a:lnTo>
                  <a:lnTo>
                    <a:pt x="299" y="467"/>
                  </a:lnTo>
                  <a:lnTo>
                    <a:pt x="246" y="414"/>
                  </a:lnTo>
                  <a:lnTo>
                    <a:pt x="220" y="383"/>
                  </a:lnTo>
                  <a:lnTo>
                    <a:pt x="194" y="383"/>
                  </a:lnTo>
                  <a:lnTo>
                    <a:pt x="136" y="330"/>
                  </a:lnTo>
                  <a:lnTo>
                    <a:pt x="136" y="304"/>
                  </a:lnTo>
                  <a:lnTo>
                    <a:pt x="110" y="277"/>
                  </a:lnTo>
                  <a:lnTo>
                    <a:pt x="83" y="246"/>
                  </a:lnTo>
                  <a:lnTo>
                    <a:pt x="52" y="220"/>
                  </a:lnTo>
                  <a:lnTo>
                    <a:pt x="52" y="194"/>
                  </a:lnTo>
                  <a:lnTo>
                    <a:pt x="26" y="167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7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1456"/>
                  </a:lnTo>
                  <a:lnTo>
                    <a:pt x="0" y="1482"/>
                  </a:lnTo>
                  <a:lnTo>
                    <a:pt x="0" y="1509"/>
                  </a:lnTo>
                  <a:lnTo>
                    <a:pt x="0" y="1539"/>
                  </a:lnTo>
                  <a:lnTo>
                    <a:pt x="0" y="1566"/>
                  </a:lnTo>
                  <a:lnTo>
                    <a:pt x="26" y="1619"/>
                  </a:lnTo>
                  <a:lnTo>
                    <a:pt x="52" y="1650"/>
                  </a:lnTo>
                  <a:lnTo>
                    <a:pt x="52" y="1676"/>
                  </a:lnTo>
                  <a:lnTo>
                    <a:pt x="83" y="1703"/>
                  </a:lnTo>
                  <a:lnTo>
                    <a:pt x="110" y="1729"/>
                  </a:lnTo>
                  <a:lnTo>
                    <a:pt x="136" y="1756"/>
                  </a:lnTo>
                  <a:lnTo>
                    <a:pt x="136" y="1786"/>
                  </a:lnTo>
                  <a:lnTo>
                    <a:pt x="194" y="1839"/>
                  </a:lnTo>
                  <a:lnTo>
                    <a:pt x="220" y="1839"/>
                  </a:lnTo>
                  <a:lnTo>
                    <a:pt x="246" y="1866"/>
                  </a:lnTo>
                  <a:lnTo>
                    <a:pt x="299" y="1923"/>
                  </a:lnTo>
                  <a:lnTo>
                    <a:pt x="357" y="1950"/>
                  </a:lnTo>
                  <a:lnTo>
                    <a:pt x="383" y="1950"/>
                  </a:lnTo>
                  <a:lnTo>
                    <a:pt x="440" y="2003"/>
                  </a:lnTo>
                  <a:lnTo>
                    <a:pt x="493" y="2033"/>
                  </a:lnTo>
                  <a:lnTo>
                    <a:pt x="520" y="2060"/>
                  </a:lnTo>
                  <a:lnTo>
                    <a:pt x="604" y="2086"/>
                  </a:lnTo>
                  <a:lnTo>
                    <a:pt x="657" y="2113"/>
                  </a:lnTo>
                  <a:lnTo>
                    <a:pt x="714" y="2144"/>
                  </a:lnTo>
                  <a:lnTo>
                    <a:pt x="798" y="2170"/>
                  </a:lnTo>
                  <a:lnTo>
                    <a:pt x="851" y="2197"/>
                  </a:lnTo>
                  <a:lnTo>
                    <a:pt x="903" y="2223"/>
                  </a:lnTo>
                  <a:lnTo>
                    <a:pt x="1014" y="2249"/>
                  </a:lnTo>
                  <a:lnTo>
                    <a:pt x="1072" y="2280"/>
                  </a:lnTo>
                  <a:lnTo>
                    <a:pt x="1125" y="2307"/>
                  </a:lnTo>
                  <a:lnTo>
                    <a:pt x="1182" y="2307"/>
                  </a:lnTo>
                  <a:lnTo>
                    <a:pt x="1293" y="2360"/>
                  </a:lnTo>
                  <a:lnTo>
                    <a:pt x="1345" y="2360"/>
                  </a:lnTo>
                  <a:lnTo>
                    <a:pt x="1429" y="2386"/>
                  </a:lnTo>
                  <a:lnTo>
                    <a:pt x="1539" y="2417"/>
                  </a:lnTo>
                  <a:lnTo>
                    <a:pt x="1619" y="2443"/>
                  </a:lnTo>
                  <a:lnTo>
                    <a:pt x="1676" y="2443"/>
                  </a:lnTo>
                  <a:lnTo>
                    <a:pt x="1813" y="2470"/>
                  </a:lnTo>
                  <a:lnTo>
                    <a:pt x="1897" y="2496"/>
                  </a:lnTo>
                  <a:lnTo>
                    <a:pt x="1950" y="2527"/>
                  </a:lnTo>
                  <a:lnTo>
                    <a:pt x="2113" y="2554"/>
                  </a:lnTo>
                  <a:lnTo>
                    <a:pt x="2197" y="2554"/>
                  </a:lnTo>
                  <a:lnTo>
                    <a:pt x="2254" y="2580"/>
                  </a:lnTo>
                  <a:lnTo>
                    <a:pt x="2417" y="2607"/>
                  </a:lnTo>
                  <a:lnTo>
                    <a:pt x="2501" y="2607"/>
                  </a:lnTo>
                  <a:lnTo>
                    <a:pt x="2580" y="2633"/>
                  </a:lnTo>
                  <a:lnTo>
                    <a:pt x="2717" y="2633"/>
                  </a:lnTo>
                  <a:lnTo>
                    <a:pt x="2801" y="2664"/>
                  </a:lnTo>
                  <a:lnTo>
                    <a:pt x="2884" y="2664"/>
                  </a:lnTo>
                  <a:lnTo>
                    <a:pt x="3048" y="2690"/>
                  </a:lnTo>
                  <a:lnTo>
                    <a:pt x="3158" y="2690"/>
                  </a:lnTo>
                  <a:lnTo>
                    <a:pt x="3243" y="2717"/>
                  </a:lnTo>
                  <a:lnTo>
                    <a:pt x="3322" y="2717"/>
                  </a:lnTo>
                  <a:lnTo>
                    <a:pt x="3490" y="2743"/>
                  </a:lnTo>
                  <a:lnTo>
                    <a:pt x="3569" y="2743"/>
                  </a:lnTo>
                  <a:lnTo>
                    <a:pt x="3653" y="2743"/>
                  </a:lnTo>
                  <a:lnTo>
                    <a:pt x="3847" y="2774"/>
                  </a:lnTo>
                  <a:lnTo>
                    <a:pt x="3926" y="2774"/>
                  </a:lnTo>
                  <a:lnTo>
                    <a:pt x="4010" y="2774"/>
                  </a:lnTo>
                  <a:lnTo>
                    <a:pt x="4204" y="2801"/>
                  </a:lnTo>
                  <a:lnTo>
                    <a:pt x="4283" y="2801"/>
                  </a:lnTo>
                  <a:lnTo>
                    <a:pt x="4283" y="1344"/>
                  </a:lnTo>
                  <a:close/>
                </a:path>
              </a:pathLst>
            </a:custGeom>
            <a:solidFill>
              <a:srgbClr val="3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0480" y="2195640"/>
              <a:ext cx="2284920" cy="1018080"/>
            </a:xfrm>
            <a:custGeom>
              <a:avLst/>
              <a:gdLst/>
              <a:ahLst/>
              <a:rect l="0" t="0" r="r" b="b"/>
              <a:pathLst>
                <a:path w="6347" h="2828">
                  <a:moveTo>
                    <a:pt x="6347" y="0"/>
                  </a:moveTo>
                  <a:lnTo>
                    <a:pt x="6347" y="30"/>
                  </a:lnTo>
                  <a:lnTo>
                    <a:pt x="6316" y="57"/>
                  </a:lnTo>
                  <a:lnTo>
                    <a:pt x="6316" y="83"/>
                  </a:lnTo>
                  <a:lnTo>
                    <a:pt x="6316" y="110"/>
                  </a:lnTo>
                  <a:lnTo>
                    <a:pt x="6316" y="136"/>
                  </a:lnTo>
                  <a:lnTo>
                    <a:pt x="6290" y="194"/>
                  </a:lnTo>
                  <a:lnTo>
                    <a:pt x="6263" y="220"/>
                  </a:lnTo>
                  <a:lnTo>
                    <a:pt x="6237" y="277"/>
                  </a:lnTo>
                  <a:lnTo>
                    <a:pt x="6210" y="304"/>
                  </a:lnTo>
                  <a:lnTo>
                    <a:pt x="6180" y="330"/>
                  </a:lnTo>
                  <a:lnTo>
                    <a:pt x="6127" y="383"/>
                  </a:lnTo>
                  <a:lnTo>
                    <a:pt x="6100" y="383"/>
                  </a:lnTo>
                  <a:lnTo>
                    <a:pt x="6069" y="414"/>
                  </a:lnTo>
                  <a:lnTo>
                    <a:pt x="6043" y="440"/>
                  </a:lnTo>
                  <a:lnTo>
                    <a:pt x="5990" y="493"/>
                  </a:lnTo>
                  <a:lnTo>
                    <a:pt x="5959" y="493"/>
                  </a:lnTo>
                  <a:lnTo>
                    <a:pt x="5906" y="524"/>
                  </a:lnTo>
                  <a:lnTo>
                    <a:pt x="5853" y="577"/>
                  </a:lnTo>
                  <a:lnTo>
                    <a:pt x="5796" y="604"/>
                  </a:lnTo>
                  <a:lnTo>
                    <a:pt x="5769" y="604"/>
                  </a:lnTo>
                  <a:lnTo>
                    <a:pt x="5712" y="630"/>
                  </a:lnTo>
                  <a:lnTo>
                    <a:pt x="5633" y="687"/>
                  </a:lnTo>
                  <a:lnTo>
                    <a:pt x="5575" y="715"/>
                  </a:lnTo>
                  <a:lnTo>
                    <a:pt x="5522" y="715"/>
                  </a:lnTo>
                  <a:lnTo>
                    <a:pt x="5439" y="772"/>
                  </a:lnTo>
                  <a:lnTo>
                    <a:pt x="5386" y="772"/>
                  </a:lnTo>
                  <a:lnTo>
                    <a:pt x="5328" y="799"/>
                  </a:lnTo>
                  <a:lnTo>
                    <a:pt x="5218" y="852"/>
                  </a:lnTo>
                  <a:lnTo>
                    <a:pt x="5165" y="852"/>
                  </a:lnTo>
                  <a:lnTo>
                    <a:pt x="5081" y="878"/>
                  </a:lnTo>
                  <a:lnTo>
                    <a:pt x="5029" y="909"/>
                  </a:lnTo>
                  <a:lnTo>
                    <a:pt x="4918" y="935"/>
                  </a:lnTo>
                  <a:lnTo>
                    <a:pt x="4835" y="935"/>
                  </a:lnTo>
                  <a:lnTo>
                    <a:pt x="4782" y="962"/>
                  </a:lnTo>
                  <a:lnTo>
                    <a:pt x="4644" y="988"/>
                  </a:lnTo>
                  <a:lnTo>
                    <a:pt x="4587" y="1019"/>
                  </a:lnTo>
                  <a:lnTo>
                    <a:pt x="4503" y="1019"/>
                  </a:lnTo>
                  <a:lnTo>
                    <a:pt x="4366" y="1072"/>
                  </a:lnTo>
                  <a:lnTo>
                    <a:pt x="4287" y="1072"/>
                  </a:lnTo>
                  <a:lnTo>
                    <a:pt x="4229" y="1099"/>
                  </a:lnTo>
                  <a:lnTo>
                    <a:pt x="4150" y="1099"/>
                  </a:lnTo>
                  <a:lnTo>
                    <a:pt x="3982" y="1125"/>
                  </a:lnTo>
                  <a:lnTo>
                    <a:pt x="3930" y="1156"/>
                  </a:lnTo>
                  <a:lnTo>
                    <a:pt x="3846" y="1156"/>
                  </a:lnTo>
                  <a:lnTo>
                    <a:pt x="3683" y="1182"/>
                  </a:lnTo>
                  <a:lnTo>
                    <a:pt x="3599" y="1182"/>
                  </a:lnTo>
                  <a:lnTo>
                    <a:pt x="3515" y="1209"/>
                  </a:lnTo>
                  <a:lnTo>
                    <a:pt x="3436" y="1209"/>
                  </a:lnTo>
                  <a:lnTo>
                    <a:pt x="3268" y="1235"/>
                  </a:lnTo>
                  <a:lnTo>
                    <a:pt x="3189" y="1235"/>
                  </a:lnTo>
                  <a:lnTo>
                    <a:pt x="3105" y="1262"/>
                  </a:lnTo>
                  <a:lnTo>
                    <a:pt x="2942" y="1262"/>
                  </a:lnTo>
                  <a:lnTo>
                    <a:pt x="2832" y="1293"/>
                  </a:lnTo>
                  <a:lnTo>
                    <a:pt x="2748" y="1293"/>
                  </a:lnTo>
                  <a:lnTo>
                    <a:pt x="2585" y="1319"/>
                  </a:lnTo>
                  <a:lnTo>
                    <a:pt x="2501" y="1319"/>
                  </a:lnTo>
                  <a:lnTo>
                    <a:pt x="2391" y="1319"/>
                  </a:lnTo>
                  <a:lnTo>
                    <a:pt x="2307" y="1319"/>
                  </a:lnTo>
                  <a:lnTo>
                    <a:pt x="2117" y="1345"/>
                  </a:lnTo>
                  <a:lnTo>
                    <a:pt x="2033" y="1345"/>
                  </a:lnTo>
                  <a:lnTo>
                    <a:pt x="1950" y="1345"/>
                  </a:lnTo>
                  <a:lnTo>
                    <a:pt x="1760" y="1345"/>
                  </a:lnTo>
                  <a:lnTo>
                    <a:pt x="1676" y="1345"/>
                  </a:lnTo>
                  <a:lnTo>
                    <a:pt x="1565" y="1345"/>
                  </a:lnTo>
                  <a:lnTo>
                    <a:pt x="1486" y="1372"/>
                  </a:lnTo>
                  <a:lnTo>
                    <a:pt x="1292" y="1372"/>
                  </a:lnTo>
                  <a:lnTo>
                    <a:pt x="1208" y="1372"/>
                  </a:lnTo>
                  <a:lnTo>
                    <a:pt x="1128" y="1372"/>
                  </a:lnTo>
                  <a:lnTo>
                    <a:pt x="934" y="1372"/>
                  </a:lnTo>
                  <a:lnTo>
                    <a:pt x="824" y="1372"/>
                  </a:lnTo>
                  <a:lnTo>
                    <a:pt x="740" y="1372"/>
                  </a:lnTo>
                  <a:lnTo>
                    <a:pt x="551" y="1372"/>
                  </a:lnTo>
                  <a:lnTo>
                    <a:pt x="467" y="1345"/>
                  </a:lnTo>
                  <a:lnTo>
                    <a:pt x="383" y="1345"/>
                  </a:lnTo>
                  <a:lnTo>
                    <a:pt x="277" y="1345"/>
                  </a:lnTo>
                  <a:lnTo>
                    <a:pt x="110" y="1345"/>
                  </a:lnTo>
                  <a:lnTo>
                    <a:pt x="0" y="1345"/>
                  </a:lnTo>
                  <a:lnTo>
                    <a:pt x="0" y="2802"/>
                  </a:lnTo>
                  <a:lnTo>
                    <a:pt x="110" y="2802"/>
                  </a:lnTo>
                  <a:lnTo>
                    <a:pt x="277" y="2802"/>
                  </a:lnTo>
                  <a:lnTo>
                    <a:pt x="383" y="2802"/>
                  </a:lnTo>
                  <a:lnTo>
                    <a:pt x="467" y="2802"/>
                  </a:lnTo>
                  <a:lnTo>
                    <a:pt x="551" y="2828"/>
                  </a:lnTo>
                  <a:lnTo>
                    <a:pt x="740" y="2828"/>
                  </a:lnTo>
                  <a:lnTo>
                    <a:pt x="824" y="2828"/>
                  </a:lnTo>
                  <a:lnTo>
                    <a:pt x="934" y="2828"/>
                  </a:lnTo>
                  <a:lnTo>
                    <a:pt x="1128" y="2828"/>
                  </a:lnTo>
                  <a:lnTo>
                    <a:pt x="1208" y="2828"/>
                  </a:lnTo>
                  <a:lnTo>
                    <a:pt x="1292" y="2828"/>
                  </a:lnTo>
                  <a:lnTo>
                    <a:pt x="1486" y="2828"/>
                  </a:lnTo>
                  <a:lnTo>
                    <a:pt x="1565" y="2802"/>
                  </a:lnTo>
                  <a:lnTo>
                    <a:pt x="1676" y="2802"/>
                  </a:lnTo>
                  <a:lnTo>
                    <a:pt x="1760" y="2802"/>
                  </a:lnTo>
                  <a:lnTo>
                    <a:pt x="1950" y="2802"/>
                  </a:lnTo>
                  <a:lnTo>
                    <a:pt x="2033" y="2802"/>
                  </a:lnTo>
                  <a:lnTo>
                    <a:pt x="2117" y="2802"/>
                  </a:lnTo>
                  <a:lnTo>
                    <a:pt x="2307" y="2775"/>
                  </a:lnTo>
                  <a:lnTo>
                    <a:pt x="2391" y="2775"/>
                  </a:lnTo>
                  <a:lnTo>
                    <a:pt x="2501" y="2775"/>
                  </a:lnTo>
                  <a:lnTo>
                    <a:pt x="2585" y="2775"/>
                  </a:lnTo>
                  <a:lnTo>
                    <a:pt x="2748" y="2744"/>
                  </a:lnTo>
                  <a:lnTo>
                    <a:pt x="2832" y="2744"/>
                  </a:lnTo>
                  <a:lnTo>
                    <a:pt x="2942" y="2718"/>
                  </a:lnTo>
                  <a:lnTo>
                    <a:pt x="3105" y="2718"/>
                  </a:lnTo>
                  <a:lnTo>
                    <a:pt x="3189" y="2691"/>
                  </a:lnTo>
                  <a:lnTo>
                    <a:pt x="3268" y="2691"/>
                  </a:lnTo>
                  <a:lnTo>
                    <a:pt x="3436" y="2665"/>
                  </a:lnTo>
                  <a:lnTo>
                    <a:pt x="3515" y="2665"/>
                  </a:lnTo>
                  <a:lnTo>
                    <a:pt x="3599" y="2634"/>
                  </a:lnTo>
                  <a:lnTo>
                    <a:pt x="3683" y="2634"/>
                  </a:lnTo>
                  <a:lnTo>
                    <a:pt x="3846" y="2608"/>
                  </a:lnTo>
                  <a:lnTo>
                    <a:pt x="3930" y="2608"/>
                  </a:lnTo>
                  <a:lnTo>
                    <a:pt x="3982" y="2581"/>
                  </a:lnTo>
                  <a:lnTo>
                    <a:pt x="4150" y="2555"/>
                  </a:lnTo>
                  <a:lnTo>
                    <a:pt x="4229" y="2555"/>
                  </a:lnTo>
                  <a:lnTo>
                    <a:pt x="4287" y="2528"/>
                  </a:lnTo>
                  <a:lnTo>
                    <a:pt x="4366" y="2528"/>
                  </a:lnTo>
                  <a:lnTo>
                    <a:pt x="4503" y="2471"/>
                  </a:lnTo>
                  <a:lnTo>
                    <a:pt x="4587" y="2471"/>
                  </a:lnTo>
                  <a:lnTo>
                    <a:pt x="4644" y="2444"/>
                  </a:lnTo>
                  <a:lnTo>
                    <a:pt x="4782" y="2418"/>
                  </a:lnTo>
                  <a:lnTo>
                    <a:pt x="4835" y="2387"/>
                  </a:lnTo>
                  <a:lnTo>
                    <a:pt x="4918" y="2387"/>
                  </a:lnTo>
                  <a:lnTo>
                    <a:pt x="5029" y="2361"/>
                  </a:lnTo>
                  <a:lnTo>
                    <a:pt x="5081" y="2334"/>
                  </a:lnTo>
                  <a:lnTo>
                    <a:pt x="5165" y="2308"/>
                  </a:lnTo>
                  <a:lnTo>
                    <a:pt x="5218" y="2308"/>
                  </a:lnTo>
                  <a:lnTo>
                    <a:pt x="5328" y="2250"/>
                  </a:lnTo>
                  <a:lnTo>
                    <a:pt x="5386" y="2224"/>
                  </a:lnTo>
                  <a:lnTo>
                    <a:pt x="5439" y="2224"/>
                  </a:lnTo>
                  <a:lnTo>
                    <a:pt x="5522" y="2171"/>
                  </a:lnTo>
                  <a:lnTo>
                    <a:pt x="5575" y="2171"/>
                  </a:lnTo>
                  <a:lnTo>
                    <a:pt x="5633" y="2145"/>
                  </a:lnTo>
                  <a:lnTo>
                    <a:pt x="5712" y="2086"/>
                  </a:lnTo>
                  <a:lnTo>
                    <a:pt x="5769" y="2060"/>
                  </a:lnTo>
                  <a:lnTo>
                    <a:pt x="5796" y="2060"/>
                  </a:lnTo>
                  <a:lnTo>
                    <a:pt x="5853" y="2033"/>
                  </a:lnTo>
                  <a:lnTo>
                    <a:pt x="5906" y="1976"/>
                  </a:lnTo>
                  <a:lnTo>
                    <a:pt x="5959" y="1950"/>
                  </a:lnTo>
                  <a:lnTo>
                    <a:pt x="5990" y="1950"/>
                  </a:lnTo>
                  <a:lnTo>
                    <a:pt x="6043" y="1897"/>
                  </a:lnTo>
                  <a:lnTo>
                    <a:pt x="6069" y="1866"/>
                  </a:lnTo>
                  <a:lnTo>
                    <a:pt x="6100" y="1839"/>
                  </a:lnTo>
                  <a:lnTo>
                    <a:pt x="6127" y="1839"/>
                  </a:lnTo>
                  <a:lnTo>
                    <a:pt x="6180" y="1786"/>
                  </a:lnTo>
                  <a:lnTo>
                    <a:pt x="6210" y="1756"/>
                  </a:lnTo>
                  <a:lnTo>
                    <a:pt x="6237" y="1729"/>
                  </a:lnTo>
                  <a:lnTo>
                    <a:pt x="6263" y="1676"/>
                  </a:lnTo>
                  <a:lnTo>
                    <a:pt x="6290" y="1650"/>
                  </a:lnTo>
                  <a:lnTo>
                    <a:pt x="6316" y="1592"/>
                  </a:lnTo>
                  <a:lnTo>
                    <a:pt x="6316" y="1566"/>
                  </a:lnTo>
                  <a:lnTo>
                    <a:pt x="6316" y="1539"/>
                  </a:lnTo>
                  <a:lnTo>
                    <a:pt x="6316" y="1509"/>
                  </a:lnTo>
                  <a:lnTo>
                    <a:pt x="6347" y="1482"/>
                  </a:lnTo>
                  <a:lnTo>
                    <a:pt x="6347" y="1456"/>
                  </a:lnTo>
                  <a:lnTo>
                    <a:pt x="6347" y="0"/>
                  </a:lnTo>
                  <a:close/>
                </a:path>
              </a:pathLst>
            </a:custGeom>
            <a:solidFill>
              <a:srgbClr val="50707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97320" y="1701720"/>
              <a:ext cx="592560" cy="493920"/>
            </a:xfrm>
            <a:custGeom>
              <a:avLst/>
              <a:gdLst/>
              <a:ahLst/>
              <a:rect l="0" t="0" r="r" b="b"/>
              <a:pathLst>
                <a:path w="1646" h="1372">
                  <a:moveTo>
                    <a:pt x="0" y="0"/>
                  </a:moveTo>
                  <a:lnTo>
                    <a:pt x="110" y="0"/>
                  </a:lnTo>
                  <a:lnTo>
                    <a:pt x="189" y="0"/>
                  </a:lnTo>
                  <a:lnTo>
                    <a:pt x="383" y="0"/>
                  </a:lnTo>
                  <a:lnTo>
                    <a:pt x="468" y="0"/>
                  </a:lnTo>
                  <a:lnTo>
                    <a:pt x="547" y="0"/>
                  </a:lnTo>
                  <a:lnTo>
                    <a:pt x="658" y="0"/>
                  </a:lnTo>
                  <a:lnTo>
                    <a:pt x="741" y="0"/>
                  </a:lnTo>
                  <a:lnTo>
                    <a:pt x="931" y="30"/>
                  </a:lnTo>
                  <a:lnTo>
                    <a:pt x="1015" y="30"/>
                  </a:lnTo>
                  <a:lnTo>
                    <a:pt x="1099" y="30"/>
                  </a:lnTo>
                  <a:lnTo>
                    <a:pt x="1209" y="30"/>
                  </a:lnTo>
                  <a:lnTo>
                    <a:pt x="1289" y="30"/>
                  </a:lnTo>
                  <a:lnTo>
                    <a:pt x="1483" y="57"/>
                  </a:lnTo>
                  <a:lnTo>
                    <a:pt x="1567" y="57"/>
                  </a:lnTo>
                  <a:lnTo>
                    <a:pt x="1646" y="57"/>
                  </a:lnTo>
                  <a:lnTo>
                    <a:pt x="0" y="1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97320" y="1722600"/>
              <a:ext cx="1857600" cy="473400"/>
            </a:xfrm>
            <a:custGeom>
              <a:avLst/>
              <a:gdLst/>
              <a:ahLst/>
              <a:rect l="0" t="0" r="r" b="b"/>
              <a:pathLst>
                <a:path w="5160" h="1315">
                  <a:moveTo>
                    <a:pt x="1644" y="0"/>
                  </a:moveTo>
                  <a:lnTo>
                    <a:pt x="1728" y="0"/>
                  </a:lnTo>
                  <a:lnTo>
                    <a:pt x="1922" y="26"/>
                  </a:lnTo>
                  <a:lnTo>
                    <a:pt x="2002" y="26"/>
                  </a:lnTo>
                  <a:lnTo>
                    <a:pt x="2085" y="52"/>
                  </a:lnTo>
                  <a:lnTo>
                    <a:pt x="2169" y="52"/>
                  </a:lnTo>
                  <a:lnTo>
                    <a:pt x="2332" y="79"/>
                  </a:lnTo>
                  <a:lnTo>
                    <a:pt x="2416" y="79"/>
                  </a:lnTo>
                  <a:lnTo>
                    <a:pt x="2495" y="110"/>
                  </a:lnTo>
                  <a:lnTo>
                    <a:pt x="2664" y="110"/>
                  </a:lnTo>
                  <a:lnTo>
                    <a:pt x="2743" y="136"/>
                  </a:lnTo>
                  <a:lnTo>
                    <a:pt x="2827" y="136"/>
                  </a:lnTo>
                  <a:lnTo>
                    <a:pt x="2911" y="163"/>
                  </a:lnTo>
                  <a:lnTo>
                    <a:pt x="3048" y="189"/>
                  </a:lnTo>
                  <a:lnTo>
                    <a:pt x="3131" y="189"/>
                  </a:lnTo>
                  <a:lnTo>
                    <a:pt x="3211" y="220"/>
                  </a:lnTo>
                  <a:lnTo>
                    <a:pt x="3347" y="246"/>
                  </a:lnTo>
                  <a:lnTo>
                    <a:pt x="3431" y="246"/>
                  </a:lnTo>
                  <a:lnTo>
                    <a:pt x="3484" y="273"/>
                  </a:lnTo>
                  <a:lnTo>
                    <a:pt x="3568" y="299"/>
                  </a:lnTo>
                  <a:lnTo>
                    <a:pt x="3705" y="326"/>
                  </a:lnTo>
                  <a:lnTo>
                    <a:pt x="3762" y="326"/>
                  </a:lnTo>
                  <a:lnTo>
                    <a:pt x="3815" y="357"/>
                  </a:lnTo>
                  <a:lnTo>
                    <a:pt x="3952" y="383"/>
                  </a:lnTo>
                  <a:lnTo>
                    <a:pt x="4009" y="410"/>
                  </a:lnTo>
                  <a:lnTo>
                    <a:pt x="4062" y="436"/>
                  </a:lnTo>
                  <a:lnTo>
                    <a:pt x="4199" y="467"/>
                  </a:lnTo>
                  <a:lnTo>
                    <a:pt x="4256" y="493"/>
                  </a:lnTo>
                  <a:lnTo>
                    <a:pt x="4309" y="493"/>
                  </a:lnTo>
                  <a:lnTo>
                    <a:pt x="4366" y="520"/>
                  </a:lnTo>
                  <a:lnTo>
                    <a:pt x="4476" y="573"/>
                  </a:lnTo>
                  <a:lnTo>
                    <a:pt x="4503" y="573"/>
                  </a:lnTo>
                  <a:lnTo>
                    <a:pt x="4556" y="604"/>
                  </a:lnTo>
                  <a:lnTo>
                    <a:pt x="4640" y="658"/>
                  </a:lnTo>
                  <a:lnTo>
                    <a:pt x="4692" y="658"/>
                  </a:lnTo>
                  <a:lnTo>
                    <a:pt x="4750" y="684"/>
                  </a:lnTo>
                  <a:lnTo>
                    <a:pt x="4776" y="715"/>
                  </a:lnTo>
                  <a:lnTo>
                    <a:pt x="4860" y="741"/>
                  </a:lnTo>
                  <a:lnTo>
                    <a:pt x="4886" y="768"/>
                  </a:lnTo>
                  <a:lnTo>
                    <a:pt x="4939" y="794"/>
                  </a:lnTo>
                  <a:lnTo>
                    <a:pt x="4997" y="852"/>
                  </a:lnTo>
                  <a:lnTo>
                    <a:pt x="5023" y="852"/>
                  </a:lnTo>
                  <a:lnTo>
                    <a:pt x="5050" y="878"/>
                  </a:lnTo>
                  <a:lnTo>
                    <a:pt x="5081" y="904"/>
                  </a:lnTo>
                  <a:lnTo>
                    <a:pt x="5133" y="962"/>
                  </a:lnTo>
                  <a:lnTo>
                    <a:pt x="5160" y="988"/>
                  </a:lnTo>
                  <a:lnTo>
                    <a:pt x="0" y="1315"/>
                  </a:lnTo>
                  <a:lnTo>
                    <a:pt x="1644" y="0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30480" y="2077920"/>
              <a:ext cx="2284920" cy="611640"/>
            </a:xfrm>
            <a:custGeom>
              <a:avLst/>
              <a:gdLst/>
              <a:ahLst/>
              <a:rect l="0" t="0" r="r" b="b"/>
              <a:pathLst>
                <a:path w="6347" h="1699">
                  <a:moveTo>
                    <a:pt x="6180" y="0"/>
                  </a:moveTo>
                  <a:lnTo>
                    <a:pt x="6210" y="26"/>
                  </a:lnTo>
                  <a:lnTo>
                    <a:pt x="6237" y="52"/>
                  </a:lnTo>
                  <a:lnTo>
                    <a:pt x="6263" y="79"/>
                  </a:lnTo>
                  <a:lnTo>
                    <a:pt x="6263" y="110"/>
                  </a:lnTo>
                  <a:lnTo>
                    <a:pt x="6290" y="163"/>
                  </a:lnTo>
                  <a:lnTo>
                    <a:pt x="6316" y="189"/>
                  </a:lnTo>
                  <a:lnTo>
                    <a:pt x="6316" y="246"/>
                  </a:lnTo>
                  <a:lnTo>
                    <a:pt x="6347" y="273"/>
                  </a:lnTo>
                  <a:lnTo>
                    <a:pt x="6347" y="299"/>
                  </a:lnTo>
                  <a:lnTo>
                    <a:pt x="6347" y="357"/>
                  </a:lnTo>
                  <a:lnTo>
                    <a:pt x="6316" y="383"/>
                  </a:lnTo>
                  <a:lnTo>
                    <a:pt x="6316" y="437"/>
                  </a:lnTo>
                  <a:lnTo>
                    <a:pt x="6316" y="464"/>
                  </a:lnTo>
                  <a:lnTo>
                    <a:pt x="6290" y="494"/>
                  </a:lnTo>
                  <a:lnTo>
                    <a:pt x="6290" y="521"/>
                  </a:lnTo>
                  <a:lnTo>
                    <a:pt x="6263" y="547"/>
                  </a:lnTo>
                  <a:lnTo>
                    <a:pt x="6237" y="574"/>
                  </a:lnTo>
                  <a:lnTo>
                    <a:pt x="6237" y="605"/>
                  </a:lnTo>
                  <a:lnTo>
                    <a:pt x="6180" y="658"/>
                  </a:lnTo>
                  <a:lnTo>
                    <a:pt x="6153" y="684"/>
                  </a:lnTo>
                  <a:lnTo>
                    <a:pt x="6127" y="710"/>
                  </a:lnTo>
                  <a:lnTo>
                    <a:pt x="6069" y="741"/>
                  </a:lnTo>
                  <a:lnTo>
                    <a:pt x="6043" y="768"/>
                  </a:lnTo>
                  <a:lnTo>
                    <a:pt x="6016" y="794"/>
                  </a:lnTo>
                  <a:lnTo>
                    <a:pt x="5959" y="821"/>
                  </a:lnTo>
                  <a:lnTo>
                    <a:pt x="5906" y="852"/>
                  </a:lnTo>
                  <a:lnTo>
                    <a:pt x="5880" y="878"/>
                  </a:lnTo>
                  <a:lnTo>
                    <a:pt x="5796" y="931"/>
                  </a:lnTo>
                  <a:lnTo>
                    <a:pt x="5769" y="931"/>
                  </a:lnTo>
                  <a:lnTo>
                    <a:pt x="5712" y="957"/>
                  </a:lnTo>
                  <a:lnTo>
                    <a:pt x="5633" y="1015"/>
                  </a:lnTo>
                  <a:lnTo>
                    <a:pt x="5575" y="1041"/>
                  </a:lnTo>
                  <a:lnTo>
                    <a:pt x="5522" y="1041"/>
                  </a:lnTo>
                  <a:lnTo>
                    <a:pt x="5439" y="1099"/>
                  </a:lnTo>
                  <a:lnTo>
                    <a:pt x="5386" y="1099"/>
                  </a:lnTo>
                  <a:lnTo>
                    <a:pt x="5328" y="1125"/>
                  </a:lnTo>
                  <a:lnTo>
                    <a:pt x="5218" y="1178"/>
                  </a:lnTo>
                  <a:lnTo>
                    <a:pt x="5165" y="1178"/>
                  </a:lnTo>
                  <a:lnTo>
                    <a:pt x="5081" y="1204"/>
                  </a:lnTo>
                  <a:lnTo>
                    <a:pt x="4971" y="1235"/>
                  </a:lnTo>
                  <a:lnTo>
                    <a:pt x="4918" y="1262"/>
                  </a:lnTo>
                  <a:lnTo>
                    <a:pt x="4835" y="1262"/>
                  </a:lnTo>
                  <a:lnTo>
                    <a:pt x="4782" y="1289"/>
                  </a:lnTo>
                  <a:lnTo>
                    <a:pt x="4644" y="1316"/>
                  </a:lnTo>
                  <a:lnTo>
                    <a:pt x="4587" y="1346"/>
                  </a:lnTo>
                  <a:lnTo>
                    <a:pt x="4503" y="1346"/>
                  </a:lnTo>
                  <a:lnTo>
                    <a:pt x="4366" y="1399"/>
                  </a:lnTo>
                  <a:lnTo>
                    <a:pt x="4287" y="1399"/>
                  </a:lnTo>
                  <a:lnTo>
                    <a:pt x="4229" y="1426"/>
                  </a:lnTo>
                  <a:lnTo>
                    <a:pt x="4066" y="1452"/>
                  </a:lnTo>
                  <a:lnTo>
                    <a:pt x="3982" y="1452"/>
                  </a:lnTo>
                  <a:lnTo>
                    <a:pt x="3930" y="1483"/>
                  </a:lnTo>
                  <a:lnTo>
                    <a:pt x="3762" y="1510"/>
                  </a:lnTo>
                  <a:lnTo>
                    <a:pt x="3683" y="1510"/>
                  </a:lnTo>
                  <a:lnTo>
                    <a:pt x="3599" y="1510"/>
                  </a:lnTo>
                  <a:lnTo>
                    <a:pt x="3436" y="1536"/>
                  </a:lnTo>
                  <a:lnTo>
                    <a:pt x="3352" y="1563"/>
                  </a:lnTo>
                  <a:lnTo>
                    <a:pt x="3268" y="1563"/>
                  </a:lnTo>
                  <a:lnTo>
                    <a:pt x="3105" y="1589"/>
                  </a:lnTo>
                  <a:lnTo>
                    <a:pt x="3021" y="1589"/>
                  </a:lnTo>
                  <a:lnTo>
                    <a:pt x="2942" y="1589"/>
                  </a:lnTo>
                  <a:lnTo>
                    <a:pt x="2748" y="1620"/>
                  </a:lnTo>
                  <a:lnTo>
                    <a:pt x="2664" y="1620"/>
                  </a:lnTo>
                  <a:lnTo>
                    <a:pt x="2585" y="1646"/>
                  </a:lnTo>
                  <a:lnTo>
                    <a:pt x="2391" y="1646"/>
                  </a:lnTo>
                  <a:lnTo>
                    <a:pt x="2307" y="1646"/>
                  </a:lnTo>
                  <a:lnTo>
                    <a:pt x="2227" y="1646"/>
                  </a:lnTo>
                  <a:lnTo>
                    <a:pt x="2033" y="1673"/>
                  </a:lnTo>
                  <a:lnTo>
                    <a:pt x="1950" y="1673"/>
                  </a:lnTo>
                  <a:lnTo>
                    <a:pt x="1870" y="1673"/>
                  </a:lnTo>
                  <a:lnTo>
                    <a:pt x="1760" y="1673"/>
                  </a:lnTo>
                  <a:lnTo>
                    <a:pt x="1565" y="1673"/>
                  </a:lnTo>
                  <a:lnTo>
                    <a:pt x="1486" y="1699"/>
                  </a:lnTo>
                  <a:lnTo>
                    <a:pt x="1402" y="1699"/>
                  </a:lnTo>
                  <a:lnTo>
                    <a:pt x="1208" y="1699"/>
                  </a:lnTo>
                  <a:lnTo>
                    <a:pt x="1128" y="1699"/>
                  </a:lnTo>
                  <a:lnTo>
                    <a:pt x="1018" y="1699"/>
                  </a:lnTo>
                  <a:lnTo>
                    <a:pt x="824" y="1699"/>
                  </a:lnTo>
                  <a:lnTo>
                    <a:pt x="740" y="1699"/>
                  </a:lnTo>
                  <a:lnTo>
                    <a:pt x="661" y="1699"/>
                  </a:lnTo>
                  <a:lnTo>
                    <a:pt x="467" y="1673"/>
                  </a:lnTo>
                  <a:lnTo>
                    <a:pt x="383" y="1673"/>
                  </a:lnTo>
                  <a:lnTo>
                    <a:pt x="277" y="1673"/>
                  </a:lnTo>
                  <a:lnTo>
                    <a:pt x="110" y="1673"/>
                  </a:lnTo>
                  <a:lnTo>
                    <a:pt x="0" y="1673"/>
                  </a:lnTo>
                  <a:lnTo>
                    <a:pt x="1018" y="326"/>
                  </a:lnTo>
                  <a:lnTo>
                    <a:pt x="6180" y="0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88960" y="1701720"/>
              <a:ext cx="1908360" cy="978120"/>
            </a:xfrm>
            <a:custGeom>
              <a:avLst/>
              <a:gdLst/>
              <a:ahLst/>
              <a:rect l="0" t="0" r="r" b="b"/>
              <a:pathLst>
                <a:path w="5301" h="2717">
                  <a:moveTo>
                    <a:pt x="4282" y="2717"/>
                  </a:moveTo>
                  <a:lnTo>
                    <a:pt x="4203" y="2717"/>
                  </a:lnTo>
                  <a:lnTo>
                    <a:pt x="4009" y="2690"/>
                  </a:lnTo>
                  <a:lnTo>
                    <a:pt x="3925" y="2690"/>
                  </a:lnTo>
                  <a:lnTo>
                    <a:pt x="3846" y="2690"/>
                  </a:lnTo>
                  <a:lnTo>
                    <a:pt x="3652" y="2664"/>
                  </a:lnTo>
                  <a:lnTo>
                    <a:pt x="3568" y="2664"/>
                  </a:lnTo>
                  <a:lnTo>
                    <a:pt x="3489" y="2664"/>
                  </a:lnTo>
                  <a:lnTo>
                    <a:pt x="3405" y="2633"/>
                  </a:lnTo>
                  <a:lnTo>
                    <a:pt x="3242" y="2633"/>
                  </a:lnTo>
                  <a:lnTo>
                    <a:pt x="3158" y="2607"/>
                  </a:lnTo>
                  <a:lnTo>
                    <a:pt x="3048" y="2607"/>
                  </a:lnTo>
                  <a:lnTo>
                    <a:pt x="2884" y="2580"/>
                  </a:lnTo>
                  <a:lnTo>
                    <a:pt x="2801" y="2580"/>
                  </a:lnTo>
                  <a:lnTo>
                    <a:pt x="2717" y="2554"/>
                  </a:lnTo>
                  <a:lnTo>
                    <a:pt x="2579" y="2554"/>
                  </a:lnTo>
                  <a:lnTo>
                    <a:pt x="2500" y="2527"/>
                  </a:lnTo>
                  <a:lnTo>
                    <a:pt x="2416" y="2527"/>
                  </a:lnTo>
                  <a:lnTo>
                    <a:pt x="2253" y="2496"/>
                  </a:lnTo>
                  <a:lnTo>
                    <a:pt x="2196" y="2470"/>
                  </a:lnTo>
                  <a:lnTo>
                    <a:pt x="2112" y="2470"/>
                  </a:lnTo>
                  <a:lnTo>
                    <a:pt x="1949" y="2443"/>
                  </a:lnTo>
                  <a:lnTo>
                    <a:pt x="1896" y="2417"/>
                  </a:lnTo>
                  <a:lnTo>
                    <a:pt x="1812" y="2391"/>
                  </a:lnTo>
                  <a:lnTo>
                    <a:pt x="1755" y="2391"/>
                  </a:lnTo>
                  <a:lnTo>
                    <a:pt x="1618" y="2360"/>
                  </a:lnTo>
                  <a:lnTo>
                    <a:pt x="1538" y="2333"/>
                  </a:lnTo>
                  <a:lnTo>
                    <a:pt x="1481" y="2307"/>
                  </a:lnTo>
                  <a:lnTo>
                    <a:pt x="1344" y="2280"/>
                  </a:lnTo>
                  <a:lnTo>
                    <a:pt x="1292" y="2280"/>
                  </a:lnTo>
                  <a:lnTo>
                    <a:pt x="1234" y="2249"/>
                  </a:lnTo>
                  <a:lnTo>
                    <a:pt x="1124" y="2223"/>
                  </a:lnTo>
                  <a:lnTo>
                    <a:pt x="1071" y="2197"/>
                  </a:lnTo>
                  <a:lnTo>
                    <a:pt x="1014" y="2170"/>
                  </a:lnTo>
                  <a:lnTo>
                    <a:pt x="903" y="2144"/>
                  </a:lnTo>
                  <a:lnTo>
                    <a:pt x="851" y="2113"/>
                  </a:lnTo>
                  <a:lnTo>
                    <a:pt x="798" y="2086"/>
                  </a:lnTo>
                  <a:lnTo>
                    <a:pt x="740" y="2086"/>
                  </a:lnTo>
                  <a:lnTo>
                    <a:pt x="657" y="2033"/>
                  </a:lnTo>
                  <a:lnTo>
                    <a:pt x="604" y="2003"/>
                  </a:lnTo>
                  <a:lnTo>
                    <a:pt x="577" y="1976"/>
                  </a:lnTo>
                  <a:lnTo>
                    <a:pt x="493" y="1950"/>
                  </a:lnTo>
                  <a:lnTo>
                    <a:pt x="440" y="1923"/>
                  </a:lnTo>
                  <a:lnTo>
                    <a:pt x="410" y="1897"/>
                  </a:lnTo>
                  <a:lnTo>
                    <a:pt x="357" y="1866"/>
                  </a:lnTo>
                  <a:lnTo>
                    <a:pt x="299" y="1839"/>
                  </a:lnTo>
                  <a:lnTo>
                    <a:pt x="273" y="1813"/>
                  </a:lnTo>
                  <a:lnTo>
                    <a:pt x="220" y="1756"/>
                  </a:lnTo>
                  <a:lnTo>
                    <a:pt x="194" y="1756"/>
                  </a:lnTo>
                  <a:lnTo>
                    <a:pt x="163" y="1729"/>
                  </a:lnTo>
                  <a:lnTo>
                    <a:pt x="136" y="1676"/>
                  </a:lnTo>
                  <a:lnTo>
                    <a:pt x="110" y="1650"/>
                  </a:lnTo>
                  <a:lnTo>
                    <a:pt x="83" y="1619"/>
                  </a:lnTo>
                  <a:lnTo>
                    <a:pt x="83" y="1592"/>
                  </a:lnTo>
                  <a:lnTo>
                    <a:pt x="52" y="1566"/>
                  </a:lnTo>
                  <a:lnTo>
                    <a:pt x="26" y="1539"/>
                  </a:lnTo>
                  <a:lnTo>
                    <a:pt x="26" y="1509"/>
                  </a:lnTo>
                  <a:lnTo>
                    <a:pt x="0" y="1456"/>
                  </a:lnTo>
                  <a:lnTo>
                    <a:pt x="0" y="1429"/>
                  </a:lnTo>
                  <a:lnTo>
                    <a:pt x="0" y="1403"/>
                  </a:lnTo>
                  <a:lnTo>
                    <a:pt x="0" y="1372"/>
                  </a:lnTo>
                  <a:lnTo>
                    <a:pt x="0" y="1344"/>
                  </a:lnTo>
                  <a:lnTo>
                    <a:pt x="0" y="1318"/>
                  </a:lnTo>
                  <a:lnTo>
                    <a:pt x="0" y="1261"/>
                  </a:lnTo>
                  <a:lnTo>
                    <a:pt x="0" y="1234"/>
                  </a:lnTo>
                  <a:lnTo>
                    <a:pt x="26" y="1234"/>
                  </a:lnTo>
                  <a:lnTo>
                    <a:pt x="26" y="1208"/>
                  </a:lnTo>
                  <a:lnTo>
                    <a:pt x="52" y="1155"/>
                  </a:lnTo>
                  <a:lnTo>
                    <a:pt x="83" y="1124"/>
                  </a:lnTo>
                  <a:lnTo>
                    <a:pt x="83" y="1098"/>
                  </a:lnTo>
                  <a:lnTo>
                    <a:pt x="136" y="1071"/>
                  </a:lnTo>
                  <a:lnTo>
                    <a:pt x="136" y="1045"/>
                  </a:lnTo>
                  <a:lnTo>
                    <a:pt x="163" y="1018"/>
                  </a:lnTo>
                  <a:lnTo>
                    <a:pt x="220" y="961"/>
                  </a:lnTo>
                  <a:lnTo>
                    <a:pt x="246" y="934"/>
                  </a:lnTo>
                  <a:lnTo>
                    <a:pt x="273" y="908"/>
                  </a:lnTo>
                  <a:lnTo>
                    <a:pt x="357" y="877"/>
                  </a:lnTo>
                  <a:lnTo>
                    <a:pt x="383" y="851"/>
                  </a:lnTo>
                  <a:lnTo>
                    <a:pt x="410" y="824"/>
                  </a:lnTo>
                  <a:lnTo>
                    <a:pt x="440" y="798"/>
                  </a:lnTo>
                  <a:lnTo>
                    <a:pt x="520" y="771"/>
                  </a:lnTo>
                  <a:lnTo>
                    <a:pt x="577" y="740"/>
                  </a:lnTo>
                  <a:lnTo>
                    <a:pt x="604" y="714"/>
                  </a:lnTo>
                  <a:lnTo>
                    <a:pt x="714" y="687"/>
                  </a:lnTo>
                  <a:lnTo>
                    <a:pt x="740" y="661"/>
                  </a:lnTo>
                  <a:lnTo>
                    <a:pt x="798" y="630"/>
                  </a:lnTo>
                  <a:lnTo>
                    <a:pt x="903" y="604"/>
                  </a:lnTo>
                  <a:lnTo>
                    <a:pt x="961" y="577"/>
                  </a:lnTo>
                  <a:lnTo>
                    <a:pt x="1014" y="551"/>
                  </a:lnTo>
                  <a:lnTo>
                    <a:pt x="1124" y="524"/>
                  </a:lnTo>
                  <a:lnTo>
                    <a:pt x="1181" y="493"/>
                  </a:lnTo>
                  <a:lnTo>
                    <a:pt x="1234" y="493"/>
                  </a:lnTo>
                  <a:lnTo>
                    <a:pt x="1344" y="440"/>
                  </a:lnTo>
                  <a:lnTo>
                    <a:pt x="1428" y="440"/>
                  </a:lnTo>
                  <a:lnTo>
                    <a:pt x="1481" y="414"/>
                  </a:lnTo>
                  <a:lnTo>
                    <a:pt x="1538" y="383"/>
                  </a:lnTo>
                  <a:lnTo>
                    <a:pt x="1675" y="357"/>
                  </a:lnTo>
                  <a:lnTo>
                    <a:pt x="1755" y="357"/>
                  </a:lnTo>
                  <a:lnTo>
                    <a:pt x="1812" y="330"/>
                  </a:lnTo>
                  <a:lnTo>
                    <a:pt x="1949" y="304"/>
                  </a:lnTo>
                  <a:lnTo>
                    <a:pt x="2032" y="277"/>
                  </a:lnTo>
                  <a:lnTo>
                    <a:pt x="2112" y="277"/>
                  </a:lnTo>
                  <a:lnTo>
                    <a:pt x="2253" y="246"/>
                  </a:lnTo>
                  <a:lnTo>
                    <a:pt x="2332" y="220"/>
                  </a:lnTo>
                  <a:lnTo>
                    <a:pt x="2416" y="220"/>
                  </a:lnTo>
                  <a:lnTo>
                    <a:pt x="2579" y="194"/>
                  </a:lnTo>
                  <a:lnTo>
                    <a:pt x="2637" y="167"/>
                  </a:lnTo>
                  <a:lnTo>
                    <a:pt x="2717" y="167"/>
                  </a:lnTo>
                  <a:lnTo>
                    <a:pt x="2801" y="167"/>
                  </a:lnTo>
                  <a:lnTo>
                    <a:pt x="2964" y="136"/>
                  </a:lnTo>
                  <a:lnTo>
                    <a:pt x="3048" y="110"/>
                  </a:lnTo>
                  <a:lnTo>
                    <a:pt x="3158" y="110"/>
                  </a:lnTo>
                  <a:lnTo>
                    <a:pt x="3321" y="83"/>
                  </a:lnTo>
                  <a:lnTo>
                    <a:pt x="3405" y="83"/>
                  </a:lnTo>
                  <a:lnTo>
                    <a:pt x="3489" y="83"/>
                  </a:lnTo>
                  <a:lnTo>
                    <a:pt x="3652" y="57"/>
                  </a:lnTo>
                  <a:lnTo>
                    <a:pt x="3762" y="57"/>
                  </a:lnTo>
                  <a:lnTo>
                    <a:pt x="3846" y="57"/>
                  </a:lnTo>
                  <a:lnTo>
                    <a:pt x="4009" y="30"/>
                  </a:lnTo>
                  <a:lnTo>
                    <a:pt x="4119" y="30"/>
                  </a:lnTo>
                  <a:lnTo>
                    <a:pt x="4203" y="30"/>
                  </a:lnTo>
                  <a:lnTo>
                    <a:pt x="4393" y="30"/>
                  </a:lnTo>
                  <a:lnTo>
                    <a:pt x="4476" y="0"/>
                  </a:lnTo>
                  <a:lnTo>
                    <a:pt x="4560" y="0"/>
                  </a:lnTo>
                  <a:lnTo>
                    <a:pt x="4666" y="0"/>
                  </a:lnTo>
                  <a:lnTo>
                    <a:pt x="4834" y="0"/>
                  </a:lnTo>
                  <a:lnTo>
                    <a:pt x="4944" y="0"/>
                  </a:lnTo>
                  <a:lnTo>
                    <a:pt x="5023" y="0"/>
                  </a:lnTo>
                  <a:lnTo>
                    <a:pt x="5217" y="0"/>
                  </a:lnTo>
                  <a:lnTo>
                    <a:pt x="5301" y="0"/>
                  </a:lnTo>
                  <a:lnTo>
                    <a:pt x="5301" y="1372"/>
                  </a:lnTo>
                  <a:lnTo>
                    <a:pt x="4282" y="2717"/>
                  </a:lnTo>
                  <a:close/>
                </a:path>
              </a:pathLst>
            </a:custGeom>
            <a:solidFill>
              <a:srgbClr val="6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413160" y="102708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3511440" y="130320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797360" y="121428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4846680" y="149076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5281560" y="17575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5489640" y="20336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4797360" y="311940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4846680" y="339552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863640" y="185580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912960" y="213192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76280" y="4705200"/>
            <a:ext cx="5989680" cy="4048200"/>
            <a:chOff x="476280" y="4705200"/>
            <a:chExt cx="5989680" cy="4048200"/>
          </a:xfrm>
        </p:grpSpPr>
        <p:sp>
          <p:nvSpPr>
            <p:cNvPr id="390" name=""/>
            <p:cNvSpPr/>
            <p:nvPr/>
          </p:nvSpPr>
          <p:spPr>
            <a:xfrm>
              <a:off x="476280" y="4705200"/>
              <a:ext cx="5989680" cy="404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24080" y="6429240"/>
              <a:ext cx="0" cy="628560"/>
            </a:xfrm>
            <a:custGeom>
              <a:avLst/>
              <a:gdLst/>
              <a:ahLst/>
              <a:rect l="0" t="0" r="r" b="b"/>
              <a:pathLst>
                <a:path w="0" h="1746">
                  <a:moveTo>
                    <a:pt x="0" y="105"/>
                  </a:moveTo>
                  <a:lnTo>
                    <a:pt x="0" y="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0" y="1640"/>
                  </a:lnTo>
                  <a:lnTo>
                    <a:pt x="0" y="1666"/>
                  </a:lnTo>
                  <a:lnTo>
                    <a:pt x="0" y="1719"/>
                  </a:lnTo>
                  <a:lnTo>
                    <a:pt x="0" y="1746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50707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24080" y="6429240"/>
              <a:ext cx="4294440" cy="1152720"/>
            </a:xfrm>
            <a:custGeom>
              <a:avLst/>
              <a:gdLst/>
              <a:ahLst/>
              <a:rect l="0" t="0" r="r" b="b"/>
              <a:pathLst>
                <a:path w="11929" h="3202">
                  <a:moveTo>
                    <a:pt x="11929" y="0"/>
                  </a:moveTo>
                  <a:lnTo>
                    <a:pt x="11929" y="26"/>
                  </a:lnTo>
                  <a:lnTo>
                    <a:pt x="11902" y="79"/>
                  </a:lnTo>
                  <a:lnTo>
                    <a:pt x="11902" y="105"/>
                  </a:lnTo>
                  <a:lnTo>
                    <a:pt x="11902" y="132"/>
                  </a:lnTo>
                  <a:lnTo>
                    <a:pt x="11876" y="185"/>
                  </a:lnTo>
                  <a:lnTo>
                    <a:pt x="11876" y="211"/>
                  </a:lnTo>
                  <a:lnTo>
                    <a:pt x="11849" y="238"/>
                  </a:lnTo>
                  <a:lnTo>
                    <a:pt x="11823" y="291"/>
                  </a:lnTo>
                  <a:lnTo>
                    <a:pt x="11797" y="317"/>
                  </a:lnTo>
                  <a:lnTo>
                    <a:pt x="11770" y="343"/>
                  </a:lnTo>
                  <a:lnTo>
                    <a:pt x="11717" y="396"/>
                  </a:lnTo>
                  <a:lnTo>
                    <a:pt x="11691" y="423"/>
                  </a:lnTo>
                  <a:lnTo>
                    <a:pt x="11664" y="449"/>
                  </a:lnTo>
                  <a:lnTo>
                    <a:pt x="11585" y="502"/>
                  </a:lnTo>
                  <a:lnTo>
                    <a:pt x="11558" y="529"/>
                  </a:lnTo>
                  <a:lnTo>
                    <a:pt x="11532" y="555"/>
                  </a:lnTo>
                  <a:lnTo>
                    <a:pt x="11453" y="608"/>
                  </a:lnTo>
                  <a:lnTo>
                    <a:pt x="11400" y="635"/>
                  </a:lnTo>
                  <a:lnTo>
                    <a:pt x="11373" y="661"/>
                  </a:lnTo>
                  <a:lnTo>
                    <a:pt x="11267" y="714"/>
                  </a:lnTo>
                  <a:lnTo>
                    <a:pt x="11214" y="740"/>
                  </a:lnTo>
                  <a:lnTo>
                    <a:pt x="11162" y="767"/>
                  </a:lnTo>
                  <a:lnTo>
                    <a:pt x="11082" y="793"/>
                  </a:lnTo>
                  <a:lnTo>
                    <a:pt x="11003" y="820"/>
                  </a:lnTo>
                  <a:lnTo>
                    <a:pt x="10950" y="846"/>
                  </a:lnTo>
                  <a:lnTo>
                    <a:pt x="10844" y="899"/>
                  </a:lnTo>
                  <a:lnTo>
                    <a:pt x="10791" y="926"/>
                  </a:lnTo>
                  <a:lnTo>
                    <a:pt x="10712" y="926"/>
                  </a:lnTo>
                  <a:lnTo>
                    <a:pt x="10579" y="978"/>
                  </a:lnTo>
                  <a:lnTo>
                    <a:pt x="10527" y="1005"/>
                  </a:lnTo>
                  <a:lnTo>
                    <a:pt x="10447" y="1031"/>
                  </a:lnTo>
                  <a:lnTo>
                    <a:pt x="10315" y="1058"/>
                  </a:lnTo>
                  <a:lnTo>
                    <a:pt x="10235" y="1084"/>
                  </a:lnTo>
                  <a:lnTo>
                    <a:pt x="10183" y="1111"/>
                  </a:lnTo>
                  <a:lnTo>
                    <a:pt x="10024" y="1137"/>
                  </a:lnTo>
                  <a:lnTo>
                    <a:pt x="9944" y="1164"/>
                  </a:lnTo>
                  <a:lnTo>
                    <a:pt x="9865" y="1164"/>
                  </a:lnTo>
                  <a:lnTo>
                    <a:pt x="9706" y="1217"/>
                  </a:lnTo>
                  <a:lnTo>
                    <a:pt x="9627" y="1217"/>
                  </a:lnTo>
                  <a:lnTo>
                    <a:pt x="9548" y="1243"/>
                  </a:lnTo>
                  <a:lnTo>
                    <a:pt x="9389" y="1270"/>
                  </a:lnTo>
                  <a:lnTo>
                    <a:pt x="9283" y="1296"/>
                  </a:lnTo>
                  <a:lnTo>
                    <a:pt x="9204" y="1296"/>
                  </a:lnTo>
                  <a:lnTo>
                    <a:pt x="9018" y="1322"/>
                  </a:lnTo>
                  <a:lnTo>
                    <a:pt x="8939" y="1349"/>
                  </a:lnTo>
                  <a:lnTo>
                    <a:pt x="8860" y="1349"/>
                  </a:lnTo>
                  <a:lnTo>
                    <a:pt x="8674" y="1375"/>
                  </a:lnTo>
                  <a:lnTo>
                    <a:pt x="8569" y="1402"/>
                  </a:lnTo>
                  <a:lnTo>
                    <a:pt x="8489" y="1402"/>
                  </a:lnTo>
                  <a:lnTo>
                    <a:pt x="8278" y="1428"/>
                  </a:lnTo>
                  <a:lnTo>
                    <a:pt x="8198" y="1428"/>
                  </a:lnTo>
                  <a:lnTo>
                    <a:pt x="8092" y="1455"/>
                  </a:lnTo>
                  <a:lnTo>
                    <a:pt x="7907" y="1481"/>
                  </a:lnTo>
                  <a:lnTo>
                    <a:pt x="7801" y="1481"/>
                  </a:lnTo>
                  <a:lnTo>
                    <a:pt x="7695" y="1481"/>
                  </a:lnTo>
                  <a:lnTo>
                    <a:pt x="7510" y="1508"/>
                  </a:lnTo>
                  <a:lnTo>
                    <a:pt x="7404" y="1508"/>
                  </a:lnTo>
                  <a:lnTo>
                    <a:pt x="7299" y="1508"/>
                  </a:lnTo>
                  <a:lnTo>
                    <a:pt x="7087" y="1534"/>
                  </a:lnTo>
                  <a:lnTo>
                    <a:pt x="6981" y="1534"/>
                  </a:lnTo>
                  <a:lnTo>
                    <a:pt x="6902" y="1534"/>
                  </a:lnTo>
                  <a:lnTo>
                    <a:pt x="6690" y="1534"/>
                  </a:lnTo>
                  <a:lnTo>
                    <a:pt x="6584" y="1534"/>
                  </a:lnTo>
                  <a:lnTo>
                    <a:pt x="6478" y="1561"/>
                  </a:lnTo>
                  <a:lnTo>
                    <a:pt x="6267" y="1561"/>
                  </a:lnTo>
                  <a:lnTo>
                    <a:pt x="6161" y="1561"/>
                  </a:lnTo>
                  <a:lnTo>
                    <a:pt x="6055" y="1561"/>
                  </a:lnTo>
                  <a:lnTo>
                    <a:pt x="5847" y="1561"/>
                  </a:lnTo>
                  <a:lnTo>
                    <a:pt x="5741" y="1561"/>
                  </a:lnTo>
                  <a:lnTo>
                    <a:pt x="5635" y="1561"/>
                  </a:lnTo>
                  <a:lnTo>
                    <a:pt x="5450" y="1561"/>
                  </a:lnTo>
                  <a:lnTo>
                    <a:pt x="5344" y="1534"/>
                  </a:lnTo>
                  <a:lnTo>
                    <a:pt x="5238" y="1534"/>
                  </a:lnTo>
                  <a:lnTo>
                    <a:pt x="5027" y="1534"/>
                  </a:lnTo>
                  <a:lnTo>
                    <a:pt x="4921" y="1534"/>
                  </a:lnTo>
                  <a:lnTo>
                    <a:pt x="4815" y="1534"/>
                  </a:lnTo>
                  <a:lnTo>
                    <a:pt x="4630" y="1508"/>
                  </a:lnTo>
                  <a:lnTo>
                    <a:pt x="4524" y="1508"/>
                  </a:lnTo>
                  <a:lnTo>
                    <a:pt x="4418" y="1508"/>
                  </a:lnTo>
                  <a:lnTo>
                    <a:pt x="4206" y="1481"/>
                  </a:lnTo>
                  <a:lnTo>
                    <a:pt x="4127" y="1481"/>
                  </a:lnTo>
                  <a:lnTo>
                    <a:pt x="4021" y="1481"/>
                  </a:lnTo>
                  <a:lnTo>
                    <a:pt x="3809" y="1455"/>
                  </a:lnTo>
                  <a:lnTo>
                    <a:pt x="3730" y="1428"/>
                  </a:lnTo>
                  <a:lnTo>
                    <a:pt x="3624" y="1428"/>
                  </a:lnTo>
                  <a:lnTo>
                    <a:pt x="3439" y="1402"/>
                  </a:lnTo>
                  <a:lnTo>
                    <a:pt x="3333" y="1402"/>
                  </a:lnTo>
                  <a:lnTo>
                    <a:pt x="3254" y="1375"/>
                  </a:lnTo>
                  <a:lnTo>
                    <a:pt x="3069" y="1349"/>
                  </a:lnTo>
                  <a:lnTo>
                    <a:pt x="2963" y="1349"/>
                  </a:lnTo>
                  <a:lnTo>
                    <a:pt x="2883" y="1322"/>
                  </a:lnTo>
                  <a:lnTo>
                    <a:pt x="2698" y="1296"/>
                  </a:lnTo>
                  <a:lnTo>
                    <a:pt x="2619" y="1296"/>
                  </a:lnTo>
                  <a:lnTo>
                    <a:pt x="2539" y="1270"/>
                  </a:lnTo>
                  <a:lnTo>
                    <a:pt x="2381" y="1243"/>
                  </a:lnTo>
                  <a:lnTo>
                    <a:pt x="2275" y="1217"/>
                  </a:lnTo>
                  <a:lnTo>
                    <a:pt x="2196" y="1217"/>
                  </a:lnTo>
                  <a:lnTo>
                    <a:pt x="2037" y="1164"/>
                  </a:lnTo>
                  <a:lnTo>
                    <a:pt x="1957" y="1164"/>
                  </a:lnTo>
                  <a:lnTo>
                    <a:pt x="1878" y="1137"/>
                  </a:lnTo>
                  <a:lnTo>
                    <a:pt x="1746" y="1111"/>
                  </a:lnTo>
                  <a:lnTo>
                    <a:pt x="1666" y="1084"/>
                  </a:lnTo>
                  <a:lnTo>
                    <a:pt x="1587" y="1058"/>
                  </a:lnTo>
                  <a:lnTo>
                    <a:pt x="1455" y="1031"/>
                  </a:lnTo>
                  <a:lnTo>
                    <a:pt x="1402" y="1005"/>
                  </a:lnTo>
                  <a:lnTo>
                    <a:pt x="1322" y="978"/>
                  </a:lnTo>
                  <a:lnTo>
                    <a:pt x="1190" y="926"/>
                  </a:lnTo>
                  <a:lnTo>
                    <a:pt x="1137" y="926"/>
                  </a:lnTo>
                  <a:lnTo>
                    <a:pt x="1084" y="899"/>
                  </a:lnTo>
                  <a:lnTo>
                    <a:pt x="952" y="846"/>
                  </a:lnTo>
                  <a:lnTo>
                    <a:pt x="899" y="820"/>
                  </a:lnTo>
                  <a:lnTo>
                    <a:pt x="846" y="793"/>
                  </a:lnTo>
                  <a:lnTo>
                    <a:pt x="740" y="767"/>
                  </a:lnTo>
                  <a:lnTo>
                    <a:pt x="687" y="740"/>
                  </a:lnTo>
                  <a:lnTo>
                    <a:pt x="635" y="714"/>
                  </a:lnTo>
                  <a:lnTo>
                    <a:pt x="555" y="661"/>
                  </a:lnTo>
                  <a:lnTo>
                    <a:pt x="502" y="635"/>
                  </a:lnTo>
                  <a:lnTo>
                    <a:pt x="476" y="608"/>
                  </a:lnTo>
                  <a:lnTo>
                    <a:pt x="396" y="555"/>
                  </a:lnTo>
                  <a:lnTo>
                    <a:pt x="343" y="529"/>
                  </a:lnTo>
                  <a:lnTo>
                    <a:pt x="317" y="502"/>
                  </a:lnTo>
                  <a:lnTo>
                    <a:pt x="264" y="449"/>
                  </a:lnTo>
                  <a:lnTo>
                    <a:pt x="211" y="423"/>
                  </a:lnTo>
                  <a:lnTo>
                    <a:pt x="185" y="396"/>
                  </a:lnTo>
                  <a:lnTo>
                    <a:pt x="158" y="343"/>
                  </a:lnTo>
                  <a:lnTo>
                    <a:pt x="132" y="317"/>
                  </a:lnTo>
                  <a:lnTo>
                    <a:pt x="105" y="291"/>
                  </a:lnTo>
                  <a:lnTo>
                    <a:pt x="79" y="238"/>
                  </a:lnTo>
                  <a:lnTo>
                    <a:pt x="52" y="211"/>
                  </a:lnTo>
                  <a:lnTo>
                    <a:pt x="26" y="185"/>
                  </a:lnTo>
                  <a:lnTo>
                    <a:pt x="26" y="132"/>
                  </a:lnTo>
                  <a:lnTo>
                    <a:pt x="0" y="105"/>
                  </a:lnTo>
                  <a:lnTo>
                    <a:pt x="0" y="1747"/>
                  </a:lnTo>
                  <a:lnTo>
                    <a:pt x="26" y="1773"/>
                  </a:lnTo>
                  <a:lnTo>
                    <a:pt x="26" y="1826"/>
                  </a:lnTo>
                  <a:lnTo>
                    <a:pt x="52" y="1853"/>
                  </a:lnTo>
                  <a:lnTo>
                    <a:pt x="79" y="1879"/>
                  </a:lnTo>
                  <a:lnTo>
                    <a:pt x="105" y="1932"/>
                  </a:lnTo>
                  <a:lnTo>
                    <a:pt x="132" y="1958"/>
                  </a:lnTo>
                  <a:lnTo>
                    <a:pt x="158" y="1985"/>
                  </a:lnTo>
                  <a:lnTo>
                    <a:pt x="185" y="2038"/>
                  </a:lnTo>
                  <a:lnTo>
                    <a:pt x="211" y="2064"/>
                  </a:lnTo>
                  <a:lnTo>
                    <a:pt x="264" y="2091"/>
                  </a:lnTo>
                  <a:lnTo>
                    <a:pt x="317" y="2144"/>
                  </a:lnTo>
                  <a:lnTo>
                    <a:pt x="343" y="2170"/>
                  </a:lnTo>
                  <a:lnTo>
                    <a:pt x="396" y="2197"/>
                  </a:lnTo>
                  <a:lnTo>
                    <a:pt x="476" y="2249"/>
                  </a:lnTo>
                  <a:lnTo>
                    <a:pt x="502" y="2276"/>
                  </a:lnTo>
                  <a:lnTo>
                    <a:pt x="555" y="2302"/>
                  </a:lnTo>
                  <a:lnTo>
                    <a:pt x="635" y="2355"/>
                  </a:lnTo>
                  <a:lnTo>
                    <a:pt x="687" y="2382"/>
                  </a:lnTo>
                  <a:lnTo>
                    <a:pt x="740" y="2408"/>
                  </a:lnTo>
                  <a:lnTo>
                    <a:pt x="846" y="2435"/>
                  </a:lnTo>
                  <a:lnTo>
                    <a:pt x="899" y="2461"/>
                  </a:lnTo>
                  <a:lnTo>
                    <a:pt x="952" y="2488"/>
                  </a:lnTo>
                  <a:lnTo>
                    <a:pt x="1084" y="2541"/>
                  </a:lnTo>
                  <a:lnTo>
                    <a:pt x="1137" y="2567"/>
                  </a:lnTo>
                  <a:lnTo>
                    <a:pt x="1190" y="2567"/>
                  </a:lnTo>
                  <a:lnTo>
                    <a:pt x="1322" y="2620"/>
                  </a:lnTo>
                  <a:lnTo>
                    <a:pt x="1402" y="2646"/>
                  </a:lnTo>
                  <a:lnTo>
                    <a:pt x="1455" y="2673"/>
                  </a:lnTo>
                  <a:lnTo>
                    <a:pt x="1587" y="2699"/>
                  </a:lnTo>
                  <a:lnTo>
                    <a:pt x="1666" y="2726"/>
                  </a:lnTo>
                  <a:lnTo>
                    <a:pt x="1746" y="2752"/>
                  </a:lnTo>
                  <a:lnTo>
                    <a:pt x="1878" y="2779"/>
                  </a:lnTo>
                  <a:lnTo>
                    <a:pt x="1957" y="2805"/>
                  </a:lnTo>
                  <a:lnTo>
                    <a:pt x="2037" y="2805"/>
                  </a:lnTo>
                  <a:lnTo>
                    <a:pt x="2196" y="2858"/>
                  </a:lnTo>
                  <a:lnTo>
                    <a:pt x="2275" y="2858"/>
                  </a:lnTo>
                  <a:lnTo>
                    <a:pt x="2381" y="2884"/>
                  </a:lnTo>
                  <a:lnTo>
                    <a:pt x="2539" y="2911"/>
                  </a:lnTo>
                  <a:lnTo>
                    <a:pt x="2619" y="2937"/>
                  </a:lnTo>
                  <a:lnTo>
                    <a:pt x="2698" y="2937"/>
                  </a:lnTo>
                  <a:lnTo>
                    <a:pt x="2883" y="2964"/>
                  </a:lnTo>
                  <a:lnTo>
                    <a:pt x="2963" y="2990"/>
                  </a:lnTo>
                  <a:lnTo>
                    <a:pt x="3069" y="2990"/>
                  </a:lnTo>
                  <a:lnTo>
                    <a:pt x="3254" y="3017"/>
                  </a:lnTo>
                  <a:lnTo>
                    <a:pt x="3333" y="3043"/>
                  </a:lnTo>
                  <a:lnTo>
                    <a:pt x="3439" y="3043"/>
                  </a:lnTo>
                  <a:lnTo>
                    <a:pt x="3624" y="3070"/>
                  </a:lnTo>
                  <a:lnTo>
                    <a:pt x="3730" y="3070"/>
                  </a:lnTo>
                  <a:lnTo>
                    <a:pt x="3809" y="3096"/>
                  </a:lnTo>
                  <a:lnTo>
                    <a:pt x="4021" y="3123"/>
                  </a:lnTo>
                  <a:lnTo>
                    <a:pt x="4127" y="3123"/>
                  </a:lnTo>
                  <a:lnTo>
                    <a:pt x="4206" y="3123"/>
                  </a:lnTo>
                  <a:lnTo>
                    <a:pt x="4418" y="3149"/>
                  </a:lnTo>
                  <a:lnTo>
                    <a:pt x="4524" y="3149"/>
                  </a:lnTo>
                  <a:lnTo>
                    <a:pt x="4630" y="3149"/>
                  </a:lnTo>
                  <a:lnTo>
                    <a:pt x="4815" y="3176"/>
                  </a:lnTo>
                  <a:lnTo>
                    <a:pt x="4921" y="3176"/>
                  </a:lnTo>
                  <a:lnTo>
                    <a:pt x="5027" y="3176"/>
                  </a:lnTo>
                  <a:lnTo>
                    <a:pt x="5238" y="3176"/>
                  </a:lnTo>
                  <a:lnTo>
                    <a:pt x="5344" y="3176"/>
                  </a:lnTo>
                  <a:lnTo>
                    <a:pt x="5450" y="3202"/>
                  </a:lnTo>
                  <a:lnTo>
                    <a:pt x="5635" y="3202"/>
                  </a:lnTo>
                  <a:lnTo>
                    <a:pt x="5741" y="3202"/>
                  </a:lnTo>
                  <a:lnTo>
                    <a:pt x="5847" y="3202"/>
                  </a:lnTo>
                  <a:lnTo>
                    <a:pt x="6055" y="3202"/>
                  </a:lnTo>
                  <a:lnTo>
                    <a:pt x="6161" y="3202"/>
                  </a:lnTo>
                  <a:lnTo>
                    <a:pt x="6267" y="3202"/>
                  </a:lnTo>
                  <a:lnTo>
                    <a:pt x="6478" y="3202"/>
                  </a:lnTo>
                  <a:lnTo>
                    <a:pt x="6584" y="3176"/>
                  </a:lnTo>
                  <a:lnTo>
                    <a:pt x="6690" y="3176"/>
                  </a:lnTo>
                  <a:lnTo>
                    <a:pt x="6902" y="3176"/>
                  </a:lnTo>
                  <a:lnTo>
                    <a:pt x="6981" y="3176"/>
                  </a:lnTo>
                  <a:lnTo>
                    <a:pt x="7087" y="3176"/>
                  </a:lnTo>
                  <a:lnTo>
                    <a:pt x="7299" y="3149"/>
                  </a:lnTo>
                  <a:lnTo>
                    <a:pt x="7404" y="3149"/>
                  </a:lnTo>
                  <a:lnTo>
                    <a:pt x="7510" y="3149"/>
                  </a:lnTo>
                  <a:lnTo>
                    <a:pt x="7695" y="3123"/>
                  </a:lnTo>
                  <a:lnTo>
                    <a:pt x="7801" y="3123"/>
                  </a:lnTo>
                  <a:lnTo>
                    <a:pt x="7907" y="3123"/>
                  </a:lnTo>
                  <a:lnTo>
                    <a:pt x="8092" y="3096"/>
                  </a:lnTo>
                  <a:lnTo>
                    <a:pt x="8198" y="3070"/>
                  </a:lnTo>
                  <a:lnTo>
                    <a:pt x="8278" y="3070"/>
                  </a:lnTo>
                  <a:lnTo>
                    <a:pt x="8489" y="3043"/>
                  </a:lnTo>
                  <a:lnTo>
                    <a:pt x="8569" y="3043"/>
                  </a:lnTo>
                  <a:lnTo>
                    <a:pt x="8674" y="3017"/>
                  </a:lnTo>
                  <a:lnTo>
                    <a:pt x="8860" y="2990"/>
                  </a:lnTo>
                  <a:lnTo>
                    <a:pt x="8939" y="2990"/>
                  </a:lnTo>
                  <a:lnTo>
                    <a:pt x="9018" y="2964"/>
                  </a:lnTo>
                  <a:lnTo>
                    <a:pt x="9204" y="2937"/>
                  </a:lnTo>
                  <a:lnTo>
                    <a:pt x="9283" y="2937"/>
                  </a:lnTo>
                  <a:lnTo>
                    <a:pt x="9389" y="2911"/>
                  </a:lnTo>
                  <a:lnTo>
                    <a:pt x="9548" y="2884"/>
                  </a:lnTo>
                  <a:lnTo>
                    <a:pt x="9627" y="2858"/>
                  </a:lnTo>
                  <a:lnTo>
                    <a:pt x="9706" y="2858"/>
                  </a:lnTo>
                  <a:lnTo>
                    <a:pt x="9865" y="2805"/>
                  </a:lnTo>
                  <a:lnTo>
                    <a:pt x="9944" y="2805"/>
                  </a:lnTo>
                  <a:lnTo>
                    <a:pt x="10024" y="2779"/>
                  </a:lnTo>
                  <a:lnTo>
                    <a:pt x="10183" y="2752"/>
                  </a:lnTo>
                  <a:lnTo>
                    <a:pt x="10235" y="2726"/>
                  </a:lnTo>
                  <a:lnTo>
                    <a:pt x="10315" y="2699"/>
                  </a:lnTo>
                  <a:lnTo>
                    <a:pt x="10447" y="2673"/>
                  </a:lnTo>
                  <a:lnTo>
                    <a:pt x="10527" y="2646"/>
                  </a:lnTo>
                  <a:lnTo>
                    <a:pt x="10579" y="2620"/>
                  </a:lnTo>
                  <a:lnTo>
                    <a:pt x="10712" y="2567"/>
                  </a:lnTo>
                  <a:lnTo>
                    <a:pt x="10791" y="2567"/>
                  </a:lnTo>
                  <a:lnTo>
                    <a:pt x="10844" y="2541"/>
                  </a:lnTo>
                  <a:lnTo>
                    <a:pt x="10950" y="2488"/>
                  </a:lnTo>
                  <a:lnTo>
                    <a:pt x="11003" y="2461"/>
                  </a:lnTo>
                  <a:lnTo>
                    <a:pt x="11082" y="2435"/>
                  </a:lnTo>
                  <a:lnTo>
                    <a:pt x="11162" y="2408"/>
                  </a:lnTo>
                  <a:lnTo>
                    <a:pt x="11214" y="2382"/>
                  </a:lnTo>
                  <a:lnTo>
                    <a:pt x="11267" y="2355"/>
                  </a:lnTo>
                  <a:lnTo>
                    <a:pt x="11373" y="2302"/>
                  </a:lnTo>
                  <a:lnTo>
                    <a:pt x="11400" y="2276"/>
                  </a:lnTo>
                  <a:lnTo>
                    <a:pt x="11453" y="2249"/>
                  </a:lnTo>
                  <a:lnTo>
                    <a:pt x="11532" y="2197"/>
                  </a:lnTo>
                  <a:lnTo>
                    <a:pt x="11558" y="2170"/>
                  </a:lnTo>
                  <a:lnTo>
                    <a:pt x="11585" y="2144"/>
                  </a:lnTo>
                  <a:lnTo>
                    <a:pt x="11664" y="2091"/>
                  </a:lnTo>
                  <a:lnTo>
                    <a:pt x="11691" y="2064"/>
                  </a:lnTo>
                  <a:lnTo>
                    <a:pt x="11717" y="2038"/>
                  </a:lnTo>
                  <a:lnTo>
                    <a:pt x="11770" y="1985"/>
                  </a:lnTo>
                  <a:lnTo>
                    <a:pt x="11797" y="1958"/>
                  </a:lnTo>
                  <a:lnTo>
                    <a:pt x="11823" y="1932"/>
                  </a:lnTo>
                  <a:lnTo>
                    <a:pt x="11849" y="1879"/>
                  </a:lnTo>
                  <a:lnTo>
                    <a:pt x="11876" y="1853"/>
                  </a:lnTo>
                  <a:lnTo>
                    <a:pt x="11876" y="1826"/>
                  </a:lnTo>
                  <a:lnTo>
                    <a:pt x="11902" y="1773"/>
                  </a:lnTo>
                  <a:lnTo>
                    <a:pt x="11902" y="1747"/>
                  </a:lnTo>
                  <a:lnTo>
                    <a:pt x="11902" y="1720"/>
                  </a:lnTo>
                  <a:lnTo>
                    <a:pt x="11929" y="1667"/>
                  </a:lnTo>
                  <a:lnTo>
                    <a:pt x="11929" y="1641"/>
                  </a:lnTo>
                  <a:lnTo>
                    <a:pt x="11929" y="0"/>
                  </a:lnTo>
                  <a:close/>
                </a:path>
              </a:pathLst>
            </a:custGeom>
            <a:solidFill>
              <a:srgbClr val="7f7f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7160" y="5877000"/>
              <a:ext cx="2084760" cy="552960"/>
            </a:xfrm>
            <a:custGeom>
              <a:avLst/>
              <a:gdLst/>
              <a:ahLst/>
              <a:rect l="0" t="0" r="r" b="b"/>
              <a:pathLst>
                <a:path w="5791" h="1536">
                  <a:moveTo>
                    <a:pt x="0" y="0"/>
                  </a:moveTo>
                  <a:lnTo>
                    <a:pt x="101" y="0"/>
                  </a:lnTo>
                  <a:lnTo>
                    <a:pt x="313" y="0"/>
                  </a:lnTo>
                  <a:lnTo>
                    <a:pt x="418" y="0"/>
                  </a:lnTo>
                  <a:lnTo>
                    <a:pt x="524" y="0"/>
                  </a:lnTo>
                  <a:lnTo>
                    <a:pt x="736" y="0"/>
                  </a:lnTo>
                  <a:lnTo>
                    <a:pt x="842" y="0"/>
                  </a:lnTo>
                  <a:lnTo>
                    <a:pt x="948" y="0"/>
                  </a:lnTo>
                  <a:lnTo>
                    <a:pt x="1133" y="26"/>
                  </a:lnTo>
                  <a:lnTo>
                    <a:pt x="1239" y="26"/>
                  </a:lnTo>
                  <a:lnTo>
                    <a:pt x="1344" y="26"/>
                  </a:lnTo>
                  <a:lnTo>
                    <a:pt x="1557" y="52"/>
                  </a:lnTo>
                  <a:lnTo>
                    <a:pt x="1637" y="52"/>
                  </a:lnTo>
                  <a:lnTo>
                    <a:pt x="1742" y="52"/>
                  </a:lnTo>
                  <a:lnTo>
                    <a:pt x="1954" y="79"/>
                  </a:lnTo>
                  <a:lnTo>
                    <a:pt x="2033" y="79"/>
                  </a:lnTo>
                  <a:lnTo>
                    <a:pt x="2139" y="105"/>
                  </a:lnTo>
                  <a:lnTo>
                    <a:pt x="2324" y="105"/>
                  </a:lnTo>
                  <a:lnTo>
                    <a:pt x="2430" y="132"/>
                  </a:lnTo>
                  <a:lnTo>
                    <a:pt x="2536" y="132"/>
                  </a:lnTo>
                  <a:lnTo>
                    <a:pt x="2721" y="158"/>
                  </a:lnTo>
                  <a:lnTo>
                    <a:pt x="2801" y="185"/>
                  </a:lnTo>
                  <a:lnTo>
                    <a:pt x="2907" y="185"/>
                  </a:lnTo>
                  <a:lnTo>
                    <a:pt x="3065" y="211"/>
                  </a:lnTo>
                  <a:lnTo>
                    <a:pt x="3171" y="238"/>
                  </a:lnTo>
                  <a:lnTo>
                    <a:pt x="3250" y="238"/>
                  </a:lnTo>
                  <a:lnTo>
                    <a:pt x="3436" y="264"/>
                  </a:lnTo>
                  <a:lnTo>
                    <a:pt x="3515" y="291"/>
                  </a:lnTo>
                  <a:lnTo>
                    <a:pt x="3594" y="317"/>
                  </a:lnTo>
                  <a:lnTo>
                    <a:pt x="3753" y="343"/>
                  </a:lnTo>
                  <a:lnTo>
                    <a:pt x="3833" y="343"/>
                  </a:lnTo>
                  <a:lnTo>
                    <a:pt x="3912" y="370"/>
                  </a:lnTo>
                  <a:lnTo>
                    <a:pt x="4071" y="397"/>
                  </a:lnTo>
                  <a:lnTo>
                    <a:pt x="4150" y="424"/>
                  </a:lnTo>
                  <a:lnTo>
                    <a:pt x="4229" y="450"/>
                  </a:lnTo>
                  <a:lnTo>
                    <a:pt x="4363" y="477"/>
                  </a:lnTo>
                  <a:lnTo>
                    <a:pt x="4442" y="503"/>
                  </a:lnTo>
                  <a:lnTo>
                    <a:pt x="4495" y="530"/>
                  </a:lnTo>
                  <a:lnTo>
                    <a:pt x="4627" y="556"/>
                  </a:lnTo>
                  <a:lnTo>
                    <a:pt x="4707" y="583"/>
                  </a:lnTo>
                  <a:lnTo>
                    <a:pt x="4760" y="609"/>
                  </a:lnTo>
                  <a:lnTo>
                    <a:pt x="4892" y="662"/>
                  </a:lnTo>
                  <a:lnTo>
                    <a:pt x="4945" y="688"/>
                  </a:lnTo>
                  <a:lnTo>
                    <a:pt x="4998" y="688"/>
                  </a:lnTo>
                  <a:lnTo>
                    <a:pt x="5130" y="741"/>
                  </a:lnTo>
                  <a:lnTo>
                    <a:pt x="5183" y="768"/>
                  </a:lnTo>
                  <a:lnTo>
                    <a:pt x="5209" y="794"/>
                  </a:lnTo>
                  <a:lnTo>
                    <a:pt x="5315" y="847"/>
                  </a:lnTo>
                  <a:lnTo>
                    <a:pt x="5368" y="874"/>
                  </a:lnTo>
                  <a:lnTo>
                    <a:pt x="5421" y="900"/>
                  </a:lnTo>
                  <a:lnTo>
                    <a:pt x="5500" y="927"/>
                  </a:lnTo>
                  <a:lnTo>
                    <a:pt x="5527" y="953"/>
                  </a:lnTo>
                  <a:lnTo>
                    <a:pt x="5580" y="979"/>
                  </a:lnTo>
                  <a:lnTo>
                    <a:pt x="5633" y="1032"/>
                  </a:lnTo>
                  <a:lnTo>
                    <a:pt x="5686" y="1059"/>
                  </a:lnTo>
                  <a:lnTo>
                    <a:pt x="5712" y="1085"/>
                  </a:lnTo>
                  <a:lnTo>
                    <a:pt x="5765" y="1138"/>
                  </a:lnTo>
                  <a:lnTo>
                    <a:pt x="5791" y="1166"/>
                  </a:lnTo>
                  <a:lnTo>
                    <a:pt x="0" y="1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24080" y="6296040"/>
              <a:ext cx="4294440" cy="695520"/>
            </a:xfrm>
            <a:custGeom>
              <a:avLst/>
              <a:gdLst/>
              <a:ahLst/>
              <a:rect l="0" t="0" r="r" b="b"/>
              <a:pathLst>
                <a:path w="11929" h="1932">
                  <a:moveTo>
                    <a:pt x="11744" y="0"/>
                  </a:moveTo>
                  <a:lnTo>
                    <a:pt x="11770" y="26"/>
                  </a:lnTo>
                  <a:lnTo>
                    <a:pt x="11823" y="79"/>
                  </a:lnTo>
                  <a:lnTo>
                    <a:pt x="11823" y="105"/>
                  </a:lnTo>
                  <a:lnTo>
                    <a:pt x="11849" y="132"/>
                  </a:lnTo>
                  <a:lnTo>
                    <a:pt x="11876" y="185"/>
                  </a:lnTo>
                  <a:lnTo>
                    <a:pt x="11902" y="211"/>
                  </a:lnTo>
                  <a:lnTo>
                    <a:pt x="11902" y="238"/>
                  </a:lnTo>
                  <a:lnTo>
                    <a:pt x="11902" y="291"/>
                  </a:lnTo>
                  <a:lnTo>
                    <a:pt x="11929" y="317"/>
                  </a:lnTo>
                  <a:lnTo>
                    <a:pt x="11929" y="343"/>
                  </a:lnTo>
                  <a:lnTo>
                    <a:pt x="11929" y="396"/>
                  </a:lnTo>
                  <a:lnTo>
                    <a:pt x="11929" y="423"/>
                  </a:lnTo>
                  <a:lnTo>
                    <a:pt x="11902" y="449"/>
                  </a:lnTo>
                  <a:lnTo>
                    <a:pt x="11902" y="476"/>
                  </a:lnTo>
                  <a:lnTo>
                    <a:pt x="11902" y="529"/>
                  </a:lnTo>
                  <a:lnTo>
                    <a:pt x="11876" y="555"/>
                  </a:lnTo>
                  <a:lnTo>
                    <a:pt x="11876" y="582"/>
                  </a:lnTo>
                  <a:lnTo>
                    <a:pt x="11823" y="635"/>
                  </a:lnTo>
                  <a:lnTo>
                    <a:pt x="11823" y="661"/>
                  </a:lnTo>
                  <a:lnTo>
                    <a:pt x="11797" y="687"/>
                  </a:lnTo>
                  <a:lnTo>
                    <a:pt x="11744" y="740"/>
                  </a:lnTo>
                  <a:lnTo>
                    <a:pt x="11717" y="767"/>
                  </a:lnTo>
                  <a:lnTo>
                    <a:pt x="11691" y="793"/>
                  </a:lnTo>
                  <a:lnTo>
                    <a:pt x="11638" y="846"/>
                  </a:lnTo>
                  <a:lnTo>
                    <a:pt x="11585" y="873"/>
                  </a:lnTo>
                  <a:lnTo>
                    <a:pt x="11558" y="899"/>
                  </a:lnTo>
                  <a:lnTo>
                    <a:pt x="11479" y="952"/>
                  </a:lnTo>
                  <a:lnTo>
                    <a:pt x="11453" y="979"/>
                  </a:lnTo>
                  <a:lnTo>
                    <a:pt x="11400" y="1006"/>
                  </a:lnTo>
                  <a:lnTo>
                    <a:pt x="11320" y="1059"/>
                  </a:lnTo>
                  <a:lnTo>
                    <a:pt x="11267" y="1085"/>
                  </a:lnTo>
                  <a:lnTo>
                    <a:pt x="11214" y="1112"/>
                  </a:lnTo>
                  <a:lnTo>
                    <a:pt x="11135" y="1165"/>
                  </a:lnTo>
                  <a:lnTo>
                    <a:pt x="11082" y="1165"/>
                  </a:lnTo>
                  <a:lnTo>
                    <a:pt x="11003" y="1191"/>
                  </a:lnTo>
                  <a:lnTo>
                    <a:pt x="10897" y="1244"/>
                  </a:lnTo>
                  <a:lnTo>
                    <a:pt x="10844" y="1271"/>
                  </a:lnTo>
                  <a:lnTo>
                    <a:pt x="10791" y="1297"/>
                  </a:lnTo>
                  <a:lnTo>
                    <a:pt x="10712" y="1297"/>
                  </a:lnTo>
                  <a:lnTo>
                    <a:pt x="10579" y="1350"/>
                  </a:lnTo>
                  <a:lnTo>
                    <a:pt x="10527" y="1376"/>
                  </a:lnTo>
                  <a:lnTo>
                    <a:pt x="10447" y="1403"/>
                  </a:lnTo>
                  <a:lnTo>
                    <a:pt x="10315" y="1429"/>
                  </a:lnTo>
                  <a:lnTo>
                    <a:pt x="10235" y="1456"/>
                  </a:lnTo>
                  <a:lnTo>
                    <a:pt x="10183" y="1482"/>
                  </a:lnTo>
                  <a:lnTo>
                    <a:pt x="10024" y="1509"/>
                  </a:lnTo>
                  <a:lnTo>
                    <a:pt x="9944" y="1535"/>
                  </a:lnTo>
                  <a:lnTo>
                    <a:pt x="9865" y="1535"/>
                  </a:lnTo>
                  <a:lnTo>
                    <a:pt x="9706" y="1588"/>
                  </a:lnTo>
                  <a:lnTo>
                    <a:pt x="9627" y="1588"/>
                  </a:lnTo>
                  <a:lnTo>
                    <a:pt x="9548" y="1614"/>
                  </a:lnTo>
                  <a:lnTo>
                    <a:pt x="9389" y="1641"/>
                  </a:lnTo>
                  <a:lnTo>
                    <a:pt x="9283" y="1667"/>
                  </a:lnTo>
                  <a:lnTo>
                    <a:pt x="9204" y="1667"/>
                  </a:lnTo>
                  <a:lnTo>
                    <a:pt x="9018" y="1694"/>
                  </a:lnTo>
                  <a:lnTo>
                    <a:pt x="8939" y="1720"/>
                  </a:lnTo>
                  <a:lnTo>
                    <a:pt x="8860" y="1720"/>
                  </a:lnTo>
                  <a:lnTo>
                    <a:pt x="8674" y="1747"/>
                  </a:lnTo>
                  <a:lnTo>
                    <a:pt x="8569" y="1773"/>
                  </a:lnTo>
                  <a:lnTo>
                    <a:pt x="8489" y="1773"/>
                  </a:lnTo>
                  <a:lnTo>
                    <a:pt x="8383" y="1800"/>
                  </a:lnTo>
                  <a:lnTo>
                    <a:pt x="8198" y="1800"/>
                  </a:lnTo>
                  <a:lnTo>
                    <a:pt x="8092" y="1826"/>
                  </a:lnTo>
                  <a:lnTo>
                    <a:pt x="7987" y="1826"/>
                  </a:lnTo>
                  <a:lnTo>
                    <a:pt x="7801" y="1853"/>
                  </a:lnTo>
                  <a:lnTo>
                    <a:pt x="7695" y="1853"/>
                  </a:lnTo>
                  <a:lnTo>
                    <a:pt x="7590" y="1853"/>
                  </a:lnTo>
                  <a:lnTo>
                    <a:pt x="7404" y="1879"/>
                  </a:lnTo>
                  <a:lnTo>
                    <a:pt x="7299" y="1879"/>
                  </a:lnTo>
                  <a:lnTo>
                    <a:pt x="7193" y="1879"/>
                  </a:lnTo>
                  <a:lnTo>
                    <a:pt x="6981" y="1906"/>
                  </a:lnTo>
                  <a:lnTo>
                    <a:pt x="6902" y="1906"/>
                  </a:lnTo>
                  <a:lnTo>
                    <a:pt x="6796" y="1906"/>
                  </a:lnTo>
                  <a:lnTo>
                    <a:pt x="6584" y="1906"/>
                  </a:lnTo>
                  <a:lnTo>
                    <a:pt x="6478" y="1932"/>
                  </a:lnTo>
                  <a:lnTo>
                    <a:pt x="6373" y="1932"/>
                  </a:lnTo>
                  <a:lnTo>
                    <a:pt x="6161" y="1932"/>
                  </a:lnTo>
                  <a:lnTo>
                    <a:pt x="6055" y="1932"/>
                  </a:lnTo>
                  <a:lnTo>
                    <a:pt x="5953" y="1932"/>
                  </a:lnTo>
                  <a:lnTo>
                    <a:pt x="5741" y="1932"/>
                  </a:lnTo>
                  <a:lnTo>
                    <a:pt x="5635" y="1932"/>
                  </a:lnTo>
                  <a:lnTo>
                    <a:pt x="5556" y="1932"/>
                  </a:lnTo>
                  <a:lnTo>
                    <a:pt x="5344" y="1906"/>
                  </a:lnTo>
                  <a:lnTo>
                    <a:pt x="5238" y="1906"/>
                  </a:lnTo>
                  <a:lnTo>
                    <a:pt x="5132" y="1906"/>
                  </a:lnTo>
                  <a:lnTo>
                    <a:pt x="5027" y="1906"/>
                  </a:lnTo>
                  <a:lnTo>
                    <a:pt x="4815" y="1906"/>
                  </a:lnTo>
                  <a:lnTo>
                    <a:pt x="4709" y="1879"/>
                  </a:lnTo>
                  <a:lnTo>
                    <a:pt x="4630" y="1879"/>
                  </a:lnTo>
                  <a:lnTo>
                    <a:pt x="4418" y="1879"/>
                  </a:lnTo>
                  <a:lnTo>
                    <a:pt x="4312" y="1853"/>
                  </a:lnTo>
                  <a:lnTo>
                    <a:pt x="4206" y="1853"/>
                  </a:lnTo>
                  <a:lnTo>
                    <a:pt x="4021" y="1853"/>
                  </a:lnTo>
                  <a:lnTo>
                    <a:pt x="3915" y="1826"/>
                  </a:lnTo>
                  <a:lnTo>
                    <a:pt x="3809" y="1826"/>
                  </a:lnTo>
                  <a:lnTo>
                    <a:pt x="3624" y="1800"/>
                  </a:lnTo>
                  <a:lnTo>
                    <a:pt x="3545" y="1800"/>
                  </a:lnTo>
                  <a:lnTo>
                    <a:pt x="3439" y="1773"/>
                  </a:lnTo>
                  <a:lnTo>
                    <a:pt x="3254" y="1747"/>
                  </a:lnTo>
                  <a:lnTo>
                    <a:pt x="3148" y="1747"/>
                  </a:lnTo>
                  <a:lnTo>
                    <a:pt x="3069" y="1720"/>
                  </a:lnTo>
                  <a:lnTo>
                    <a:pt x="2883" y="1694"/>
                  </a:lnTo>
                  <a:lnTo>
                    <a:pt x="2804" y="1694"/>
                  </a:lnTo>
                  <a:lnTo>
                    <a:pt x="2698" y="1667"/>
                  </a:lnTo>
                  <a:lnTo>
                    <a:pt x="2539" y="1641"/>
                  </a:lnTo>
                  <a:lnTo>
                    <a:pt x="2460" y="1641"/>
                  </a:lnTo>
                  <a:lnTo>
                    <a:pt x="2381" y="1614"/>
                  </a:lnTo>
                  <a:lnTo>
                    <a:pt x="2196" y="1588"/>
                  </a:lnTo>
                  <a:lnTo>
                    <a:pt x="2116" y="1562"/>
                  </a:lnTo>
                  <a:lnTo>
                    <a:pt x="2037" y="1535"/>
                  </a:lnTo>
                  <a:lnTo>
                    <a:pt x="1957" y="1535"/>
                  </a:lnTo>
                  <a:lnTo>
                    <a:pt x="1825" y="1482"/>
                  </a:lnTo>
                  <a:lnTo>
                    <a:pt x="1746" y="1482"/>
                  </a:lnTo>
                  <a:lnTo>
                    <a:pt x="1666" y="1456"/>
                  </a:lnTo>
                  <a:lnTo>
                    <a:pt x="1534" y="1403"/>
                  </a:lnTo>
                  <a:lnTo>
                    <a:pt x="1455" y="1403"/>
                  </a:lnTo>
                  <a:lnTo>
                    <a:pt x="1402" y="1376"/>
                  </a:lnTo>
                  <a:lnTo>
                    <a:pt x="1270" y="1323"/>
                  </a:lnTo>
                  <a:lnTo>
                    <a:pt x="1190" y="1297"/>
                  </a:lnTo>
                  <a:lnTo>
                    <a:pt x="1137" y="1297"/>
                  </a:lnTo>
                  <a:lnTo>
                    <a:pt x="1005" y="1244"/>
                  </a:lnTo>
                  <a:lnTo>
                    <a:pt x="952" y="1218"/>
                  </a:lnTo>
                  <a:lnTo>
                    <a:pt x="899" y="1191"/>
                  </a:lnTo>
                  <a:lnTo>
                    <a:pt x="793" y="1165"/>
                  </a:lnTo>
                  <a:lnTo>
                    <a:pt x="740" y="1138"/>
                  </a:lnTo>
                  <a:lnTo>
                    <a:pt x="687" y="1112"/>
                  </a:lnTo>
                  <a:lnTo>
                    <a:pt x="608" y="1059"/>
                  </a:lnTo>
                  <a:lnTo>
                    <a:pt x="555" y="1032"/>
                  </a:lnTo>
                  <a:lnTo>
                    <a:pt x="502" y="1006"/>
                  </a:lnTo>
                  <a:lnTo>
                    <a:pt x="423" y="952"/>
                  </a:lnTo>
                  <a:lnTo>
                    <a:pt x="396" y="926"/>
                  </a:lnTo>
                  <a:lnTo>
                    <a:pt x="343" y="899"/>
                  </a:lnTo>
                  <a:lnTo>
                    <a:pt x="317" y="873"/>
                  </a:lnTo>
                  <a:lnTo>
                    <a:pt x="264" y="820"/>
                  </a:lnTo>
                  <a:lnTo>
                    <a:pt x="211" y="793"/>
                  </a:lnTo>
                  <a:lnTo>
                    <a:pt x="185" y="767"/>
                  </a:lnTo>
                  <a:lnTo>
                    <a:pt x="158" y="714"/>
                  </a:lnTo>
                  <a:lnTo>
                    <a:pt x="132" y="687"/>
                  </a:lnTo>
                  <a:lnTo>
                    <a:pt x="105" y="661"/>
                  </a:lnTo>
                  <a:lnTo>
                    <a:pt x="79" y="608"/>
                  </a:lnTo>
                  <a:lnTo>
                    <a:pt x="52" y="582"/>
                  </a:lnTo>
                  <a:lnTo>
                    <a:pt x="26" y="555"/>
                  </a:lnTo>
                  <a:lnTo>
                    <a:pt x="26" y="502"/>
                  </a:lnTo>
                  <a:lnTo>
                    <a:pt x="0" y="476"/>
                  </a:lnTo>
                  <a:lnTo>
                    <a:pt x="5953" y="370"/>
                  </a:lnTo>
                  <a:lnTo>
                    <a:pt x="11744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24080" y="6296040"/>
              <a:ext cx="2143440" cy="171720"/>
            </a:xfrm>
            <a:custGeom>
              <a:avLst/>
              <a:gdLst/>
              <a:ahLst/>
              <a:rect l="0" t="0" r="r" b="b"/>
              <a:pathLst>
                <a:path w="5954" h="477">
                  <a:moveTo>
                    <a:pt x="0" y="477"/>
                  </a:moveTo>
                  <a:lnTo>
                    <a:pt x="0" y="450"/>
                  </a:lnTo>
                  <a:lnTo>
                    <a:pt x="0" y="424"/>
                  </a:lnTo>
                  <a:lnTo>
                    <a:pt x="0" y="371"/>
                  </a:lnTo>
                  <a:lnTo>
                    <a:pt x="0" y="344"/>
                  </a:lnTo>
                  <a:lnTo>
                    <a:pt x="0" y="318"/>
                  </a:lnTo>
                  <a:lnTo>
                    <a:pt x="0" y="292"/>
                  </a:lnTo>
                  <a:lnTo>
                    <a:pt x="0" y="265"/>
                  </a:lnTo>
                  <a:lnTo>
                    <a:pt x="26" y="211"/>
                  </a:lnTo>
                  <a:lnTo>
                    <a:pt x="26" y="185"/>
                  </a:lnTo>
                  <a:lnTo>
                    <a:pt x="52" y="158"/>
                  </a:lnTo>
                  <a:lnTo>
                    <a:pt x="79" y="132"/>
                  </a:lnTo>
                  <a:lnTo>
                    <a:pt x="79" y="105"/>
                  </a:lnTo>
                  <a:lnTo>
                    <a:pt x="132" y="52"/>
                  </a:lnTo>
                  <a:lnTo>
                    <a:pt x="158" y="26"/>
                  </a:lnTo>
                  <a:lnTo>
                    <a:pt x="158" y="0"/>
                  </a:lnTo>
                  <a:lnTo>
                    <a:pt x="5954" y="371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80960" y="5877000"/>
              <a:ext cx="2086200" cy="552960"/>
            </a:xfrm>
            <a:custGeom>
              <a:avLst/>
              <a:gdLst/>
              <a:ahLst/>
              <a:rect l="0" t="0" r="r" b="b"/>
              <a:pathLst>
                <a:path w="5795" h="1536">
                  <a:moveTo>
                    <a:pt x="0" y="1166"/>
                  </a:moveTo>
                  <a:lnTo>
                    <a:pt x="26" y="1138"/>
                  </a:lnTo>
                  <a:lnTo>
                    <a:pt x="105" y="1085"/>
                  </a:lnTo>
                  <a:lnTo>
                    <a:pt x="132" y="1059"/>
                  </a:lnTo>
                  <a:lnTo>
                    <a:pt x="158" y="1032"/>
                  </a:lnTo>
                  <a:lnTo>
                    <a:pt x="238" y="979"/>
                  </a:lnTo>
                  <a:lnTo>
                    <a:pt x="264" y="953"/>
                  </a:lnTo>
                  <a:lnTo>
                    <a:pt x="317" y="927"/>
                  </a:lnTo>
                  <a:lnTo>
                    <a:pt x="396" y="900"/>
                  </a:lnTo>
                  <a:lnTo>
                    <a:pt x="449" y="874"/>
                  </a:lnTo>
                  <a:lnTo>
                    <a:pt x="476" y="847"/>
                  </a:lnTo>
                  <a:lnTo>
                    <a:pt x="582" y="794"/>
                  </a:lnTo>
                  <a:lnTo>
                    <a:pt x="635" y="768"/>
                  </a:lnTo>
                  <a:lnTo>
                    <a:pt x="687" y="741"/>
                  </a:lnTo>
                  <a:lnTo>
                    <a:pt x="793" y="688"/>
                  </a:lnTo>
                  <a:lnTo>
                    <a:pt x="846" y="688"/>
                  </a:lnTo>
                  <a:lnTo>
                    <a:pt x="926" y="662"/>
                  </a:lnTo>
                  <a:lnTo>
                    <a:pt x="1031" y="609"/>
                  </a:lnTo>
                  <a:lnTo>
                    <a:pt x="1111" y="583"/>
                  </a:lnTo>
                  <a:lnTo>
                    <a:pt x="1164" y="556"/>
                  </a:lnTo>
                  <a:lnTo>
                    <a:pt x="1296" y="530"/>
                  </a:lnTo>
                  <a:lnTo>
                    <a:pt x="1375" y="503"/>
                  </a:lnTo>
                  <a:lnTo>
                    <a:pt x="1428" y="477"/>
                  </a:lnTo>
                  <a:lnTo>
                    <a:pt x="1587" y="450"/>
                  </a:lnTo>
                  <a:lnTo>
                    <a:pt x="1666" y="424"/>
                  </a:lnTo>
                  <a:lnTo>
                    <a:pt x="1719" y="397"/>
                  </a:lnTo>
                  <a:lnTo>
                    <a:pt x="1878" y="370"/>
                  </a:lnTo>
                  <a:lnTo>
                    <a:pt x="1957" y="343"/>
                  </a:lnTo>
                  <a:lnTo>
                    <a:pt x="2037" y="343"/>
                  </a:lnTo>
                  <a:lnTo>
                    <a:pt x="2222" y="317"/>
                  </a:lnTo>
                  <a:lnTo>
                    <a:pt x="2301" y="291"/>
                  </a:lnTo>
                  <a:lnTo>
                    <a:pt x="2381" y="264"/>
                  </a:lnTo>
                  <a:lnTo>
                    <a:pt x="2539" y="238"/>
                  </a:lnTo>
                  <a:lnTo>
                    <a:pt x="2645" y="238"/>
                  </a:lnTo>
                  <a:lnTo>
                    <a:pt x="2725" y="211"/>
                  </a:lnTo>
                  <a:lnTo>
                    <a:pt x="2911" y="185"/>
                  </a:lnTo>
                  <a:lnTo>
                    <a:pt x="2990" y="185"/>
                  </a:lnTo>
                  <a:lnTo>
                    <a:pt x="3096" y="158"/>
                  </a:lnTo>
                  <a:lnTo>
                    <a:pt x="3281" y="132"/>
                  </a:lnTo>
                  <a:lnTo>
                    <a:pt x="3387" y="132"/>
                  </a:lnTo>
                  <a:lnTo>
                    <a:pt x="3467" y="105"/>
                  </a:lnTo>
                  <a:lnTo>
                    <a:pt x="3652" y="105"/>
                  </a:lnTo>
                  <a:lnTo>
                    <a:pt x="3758" y="79"/>
                  </a:lnTo>
                  <a:lnTo>
                    <a:pt x="3863" y="79"/>
                  </a:lnTo>
                  <a:lnTo>
                    <a:pt x="4049" y="52"/>
                  </a:lnTo>
                  <a:lnTo>
                    <a:pt x="4154" y="52"/>
                  </a:lnTo>
                  <a:lnTo>
                    <a:pt x="4260" y="52"/>
                  </a:lnTo>
                  <a:lnTo>
                    <a:pt x="4472" y="26"/>
                  </a:lnTo>
                  <a:lnTo>
                    <a:pt x="4551" y="26"/>
                  </a:lnTo>
                  <a:lnTo>
                    <a:pt x="4657" y="26"/>
                  </a:lnTo>
                  <a:lnTo>
                    <a:pt x="4869" y="0"/>
                  </a:lnTo>
                  <a:lnTo>
                    <a:pt x="4975" y="0"/>
                  </a:lnTo>
                  <a:lnTo>
                    <a:pt x="5080" y="0"/>
                  </a:lnTo>
                  <a:lnTo>
                    <a:pt x="5292" y="0"/>
                  </a:lnTo>
                  <a:lnTo>
                    <a:pt x="5398" y="0"/>
                  </a:lnTo>
                  <a:lnTo>
                    <a:pt x="5477" y="0"/>
                  </a:lnTo>
                  <a:lnTo>
                    <a:pt x="5689" y="0"/>
                  </a:lnTo>
                  <a:lnTo>
                    <a:pt x="5795" y="0"/>
                  </a:lnTo>
                  <a:lnTo>
                    <a:pt x="5795" y="1536"/>
                  </a:lnTo>
                  <a:lnTo>
                    <a:pt x="0" y="1166"/>
                  </a:lnTo>
                  <a:close/>
                </a:path>
              </a:pathLst>
            </a:custGeom>
            <a:solidFill>
              <a:srgbClr val="6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2975040" y="520704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3270240" y="547380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4782960" y="534996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4925880" y="561672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3525840" y="765504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3573360" y="792180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517680" y="608328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717480" y="63500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1565280" y="53499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1612800" y="561672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 txBox="1"/>
          <p:nvPr/>
        </p:nvSpPr>
        <p:spPr>
          <a:xfrm>
            <a:off x="1251000" y="8356680"/>
            <a:ext cx="460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260360" y="3803760"/>
            <a:ext cx="460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9040" y="457200"/>
            <a:ext cx="602784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22200" y="730080"/>
            <a:ext cx="4754880" cy="2725920"/>
            <a:chOff x="1222200" y="730080"/>
            <a:chExt cx="4754880" cy="2725920"/>
          </a:xfrm>
        </p:grpSpPr>
        <p:sp>
          <p:nvSpPr>
            <p:cNvPr id="411" name=""/>
            <p:cNvSpPr/>
            <p:nvPr/>
          </p:nvSpPr>
          <p:spPr>
            <a:xfrm>
              <a:off x="4637160" y="1905120"/>
              <a:ext cx="524160" cy="884520"/>
            </a:xfrm>
            <a:custGeom>
              <a:avLst/>
              <a:gdLst/>
              <a:ahLst/>
              <a:rect l="0" t="0" r="r" b="b"/>
              <a:pathLst>
                <a:path w="1456" h="2457">
                  <a:moveTo>
                    <a:pt x="1456" y="0"/>
                  </a:moveTo>
                  <a:lnTo>
                    <a:pt x="1456" y="26"/>
                  </a:lnTo>
                  <a:lnTo>
                    <a:pt x="1429" y="79"/>
                  </a:lnTo>
                  <a:lnTo>
                    <a:pt x="1429" y="105"/>
                  </a:lnTo>
                  <a:lnTo>
                    <a:pt x="1403" y="158"/>
                  </a:lnTo>
                  <a:lnTo>
                    <a:pt x="1403" y="185"/>
                  </a:lnTo>
                  <a:lnTo>
                    <a:pt x="1376" y="211"/>
                  </a:lnTo>
                  <a:lnTo>
                    <a:pt x="1376" y="238"/>
                  </a:lnTo>
                  <a:lnTo>
                    <a:pt x="1323" y="291"/>
                  </a:lnTo>
                  <a:lnTo>
                    <a:pt x="1297" y="317"/>
                  </a:lnTo>
                  <a:lnTo>
                    <a:pt x="1297" y="343"/>
                  </a:lnTo>
                  <a:lnTo>
                    <a:pt x="1244" y="370"/>
                  </a:lnTo>
                  <a:lnTo>
                    <a:pt x="1218" y="396"/>
                  </a:lnTo>
                  <a:lnTo>
                    <a:pt x="1191" y="423"/>
                  </a:lnTo>
                  <a:lnTo>
                    <a:pt x="1112" y="476"/>
                  </a:lnTo>
                  <a:lnTo>
                    <a:pt x="1085" y="498"/>
                  </a:lnTo>
                  <a:lnTo>
                    <a:pt x="1059" y="524"/>
                  </a:lnTo>
                  <a:lnTo>
                    <a:pt x="1006" y="524"/>
                  </a:lnTo>
                  <a:lnTo>
                    <a:pt x="953" y="577"/>
                  </a:lnTo>
                  <a:lnTo>
                    <a:pt x="900" y="604"/>
                  </a:lnTo>
                  <a:lnTo>
                    <a:pt x="847" y="630"/>
                  </a:lnTo>
                  <a:lnTo>
                    <a:pt x="768" y="657"/>
                  </a:lnTo>
                  <a:lnTo>
                    <a:pt x="714" y="683"/>
                  </a:lnTo>
                  <a:lnTo>
                    <a:pt x="661" y="709"/>
                  </a:lnTo>
                  <a:lnTo>
                    <a:pt x="582" y="762"/>
                  </a:lnTo>
                  <a:lnTo>
                    <a:pt x="529" y="762"/>
                  </a:lnTo>
                  <a:lnTo>
                    <a:pt x="476" y="789"/>
                  </a:lnTo>
                  <a:lnTo>
                    <a:pt x="423" y="815"/>
                  </a:lnTo>
                  <a:lnTo>
                    <a:pt x="291" y="842"/>
                  </a:lnTo>
                  <a:lnTo>
                    <a:pt x="238" y="868"/>
                  </a:lnTo>
                  <a:lnTo>
                    <a:pt x="185" y="895"/>
                  </a:lnTo>
                  <a:lnTo>
                    <a:pt x="52" y="921"/>
                  </a:lnTo>
                  <a:lnTo>
                    <a:pt x="0" y="948"/>
                  </a:lnTo>
                  <a:lnTo>
                    <a:pt x="0" y="2457"/>
                  </a:lnTo>
                  <a:lnTo>
                    <a:pt x="52" y="2430"/>
                  </a:lnTo>
                  <a:lnTo>
                    <a:pt x="185" y="2404"/>
                  </a:lnTo>
                  <a:lnTo>
                    <a:pt x="238" y="2377"/>
                  </a:lnTo>
                  <a:lnTo>
                    <a:pt x="291" y="2351"/>
                  </a:lnTo>
                  <a:lnTo>
                    <a:pt x="423" y="2324"/>
                  </a:lnTo>
                  <a:lnTo>
                    <a:pt x="476" y="2298"/>
                  </a:lnTo>
                  <a:lnTo>
                    <a:pt x="529" y="2272"/>
                  </a:lnTo>
                  <a:lnTo>
                    <a:pt x="582" y="2272"/>
                  </a:lnTo>
                  <a:lnTo>
                    <a:pt x="661" y="2219"/>
                  </a:lnTo>
                  <a:lnTo>
                    <a:pt x="714" y="2192"/>
                  </a:lnTo>
                  <a:lnTo>
                    <a:pt x="768" y="2166"/>
                  </a:lnTo>
                  <a:lnTo>
                    <a:pt x="847" y="2139"/>
                  </a:lnTo>
                  <a:lnTo>
                    <a:pt x="900" y="2113"/>
                  </a:lnTo>
                  <a:lnTo>
                    <a:pt x="953" y="2086"/>
                  </a:lnTo>
                  <a:lnTo>
                    <a:pt x="1006" y="2033"/>
                  </a:lnTo>
                  <a:lnTo>
                    <a:pt x="1059" y="2033"/>
                  </a:lnTo>
                  <a:lnTo>
                    <a:pt x="1085" y="2007"/>
                  </a:lnTo>
                  <a:lnTo>
                    <a:pt x="1112" y="1980"/>
                  </a:lnTo>
                  <a:lnTo>
                    <a:pt x="1191" y="1928"/>
                  </a:lnTo>
                  <a:lnTo>
                    <a:pt x="1218" y="1901"/>
                  </a:lnTo>
                  <a:lnTo>
                    <a:pt x="1244" y="1875"/>
                  </a:lnTo>
                  <a:lnTo>
                    <a:pt x="1297" y="1848"/>
                  </a:lnTo>
                  <a:lnTo>
                    <a:pt x="1297" y="1822"/>
                  </a:lnTo>
                  <a:lnTo>
                    <a:pt x="1323" y="1795"/>
                  </a:lnTo>
                  <a:lnTo>
                    <a:pt x="1376" y="1742"/>
                  </a:lnTo>
                  <a:lnTo>
                    <a:pt x="1376" y="1716"/>
                  </a:lnTo>
                  <a:lnTo>
                    <a:pt x="1403" y="1689"/>
                  </a:lnTo>
                  <a:lnTo>
                    <a:pt x="1403" y="1663"/>
                  </a:lnTo>
                  <a:lnTo>
                    <a:pt x="1429" y="1610"/>
                  </a:lnTo>
                  <a:lnTo>
                    <a:pt x="1429" y="1584"/>
                  </a:lnTo>
                  <a:lnTo>
                    <a:pt x="1456" y="1531"/>
                  </a:lnTo>
                  <a:lnTo>
                    <a:pt x="1456" y="1504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4010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57480" y="1905120"/>
              <a:ext cx="3380040" cy="1046520"/>
            </a:xfrm>
            <a:custGeom>
              <a:avLst/>
              <a:gdLst/>
              <a:ahLst/>
              <a:rect l="0" t="0" r="r" b="b"/>
              <a:pathLst>
                <a:path w="9389" h="2907">
                  <a:moveTo>
                    <a:pt x="9389" y="948"/>
                  </a:moveTo>
                  <a:lnTo>
                    <a:pt x="9309" y="974"/>
                  </a:lnTo>
                  <a:lnTo>
                    <a:pt x="9177" y="1001"/>
                  </a:lnTo>
                  <a:lnTo>
                    <a:pt x="9124" y="1027"/>
                  </a:lnTo>
                  <a:lnTo>
                    <a:pt x="9045" y="1027"/>
                  </a:lnTo>
                  <a:lnTo>
                    <a:pt x="8913" y="1053"/>
                  </a:lnTo>
                  <a:lnTo>
                    <a:pt x="8833" y="1080"/>
                  </a:lnTo>
                  <a:lnTo>
                    <a:pt x="8754" y="1106"/>
                  </a:lnTo>
                  <a:lnTo>
                    <a:pt x="8674" y="1106"/>
                  </a:lnTo>
                  <a:lnTo>
                    <a:pt x="8516" y="1133"/>
                  </a:lnTo>
                  <a:lnTo>
                    <a:pt x="8436" y="1159"/>
                  </a:lnTo>
                  <a:lnTo>
                    <a:pt x="8357" y="1159"/>
                  </a:lnTo>
                  <a:lnTo>
                    <a:pt x="8198" y="1186"/>
                  </a:lnTo>
                  <a:lnTo>
                    <a:pt x="8119" y="1212"/>
                  </a:lnTo>
                  <a:lnTo>
                    <a:pt x="8039" y="1212"/>
                  </a:lnTo>
                  <a:lnTo>
                    <a:pt x="7881" y="1239"/>
                  </a:lnTo>
                  <a:lnTo>
                    <a:pt x="7801" y="1239"/>
                  </a:lnTo>
                  <a:lnTo>
                    <a:pt x="7695" y="1265"/>
                  </a:lnTo>
                  <a:lnTo>
                    <a:pt x="7616" y="1265"/>
                  </a:lnTo>
                  <a:lnTo>
                    <a:pt x="7457" y="1292"/>
                  </a:lnTo>
                  <a:lnTo>
                    <a:pt x="7352" y="1292"/>
                  </a:lnTo>
                  <a:lnTo>
                    <a:pt x="7272" y="1318"/>
                  </a:lnTo>
                  <a:lnTo>
                    <a:pt x="7087" y="1318"/>
                  </a:lnTo>
                  <a:lnTo>
                    <a:pt x="7008" y="1318"/>
                  </a:lnTo>
                  <a:lnTo>
                    <a:pt x="6902" y="1344"/>
                  </a:lnTo>
                  <a:lnTo>
                    <a:pt x="6717" y="1344"/>
                  </a:lnTo>
                  <a:lnTo>
                    <a:pt x="6637" y="1344"/>
                  </a:lnTo>
                  <a:lnTo>
                    <a:pt x="6531" y="1371"/>
                  </a:lnTo>
                  <a:lnTo>
                    <a:pt x="6346" y="1371"/>
                  </a:lnTo>
                  <a:lnTo>
                    <a:pt x="6267" y="1371"/>
                  </a:lnTo>
                  <a:lnTo>
                    <a:pt x="6161" y="1371"/>
                  </a:lnTo>
                  <a:lnTo>
                    <a:pt x="6082" y="1371"/>
                  </a:lnTo>
                  <a:lnTo>
                    <a:pt x="5901" y="1397"/>
                  </a:lnTo>
                  <a:lnTo>
                    <a:pt x="5795" y="1397"/>
                  </a:lnTo>
                  <a:lnTo>
                    <a:pt x="5689" y="1397"/>
                  </a:lnTo>
                  <a:lnTo>
                    <a:pt x="5504" y="1397"/>
                  </a:lnTo>
                  <a:lnTo>
                    <a:pt x="5424" y="1397"/>
                  </a:lnTo>
                  <a:lnTo>
                    <a:pt x="5319" y="1397"/>
                  </a:lnTo>
                  <a:lnTo>
                    <a:pt x="5133" y="1397"/>
                  </a:lnTo>
                  <a:lnTo>
                    <a:pt x="5028" y="1397"/>
                  </a:lnTo>
                  <a:lnTo>
                    <a:pt x="4948" y="1397"/>
                  </a:lnTo>
                  <a:lnTo>
                    <a:pt x="4842" y="1371"/>
                  </a:lnTo>
                  <a:lnTo>
                    <a:pt x="4656" y="1371"/>
                  </a:lnTo>
                  <a:lnTo>
                    <a:pt x="4577" y="1371"/>
                  </a:lnTo>
                  <a:lnTo>
                    <a:pt x="4471" y="1371"/>
                  </a:lnTo>
                  <a:lnTo>
                    <a:pt x="4286" y="1371"/>
                  </a:lnTo>
                  <a:lnTo>
                    <a:pt x="4206" y="1344"/>
                  </a:lnTo>
                  <a:lnTo>
                    <a:pt x="4101" y="1344"/>
                  </a:lnTo>
                  <a:lnTo>
                    <a:pt x="3915" y="1344"/>
                  </a:lnTo>
                  <a:lnTo>
                    <a:pt x="3836" y="1318"/>
                  </a:lnTo>
                  <a:lnTo>
                    <a:pt x="3730" y="1318"/>
                  </a:lnTo>
                  <a:lnTo>
                    <a:pt x="3571" y="1318"/>
                  </a:lnTo>
                  <a:lnTo>
                    <a:pt x="3466" y="1292"/>
                  </a:lnTo>
                  <a:lnTo>
                    <a:pt x="3386" y="1292"/>
                  </a:lnTo>
                  <a:lnTo>
                    <a:pt x="3307" y="1292"/>
                  </a:lnTo>
                  <a:lnTo>
                    <a:pt x="3122" y="1265"/>
                  </a:lnTo>
                  <a:lnTo>
                    <a:pt x="3042" y="1239"/>
                  </a:lnTo>
                  <a:lnTo>
                    <a:pt x="2963" y="1239"/>
                  </a:lnTo>
                  <a:lnTo>
                    <a:pt x="2778" y="1212"/>
                  </a:lnTo>
                  <a:lnTo>
                    <a:pt x="2698" y="1212"/>
                  </a:lnTo>
                  <a:lnTo>
                    <a:pt x="2619" y="1186"/>
                  </a:lnTo>
                  <a:lnTo>
                    <a:pt x="2460" y="1159"/>
                  </a:lnTo>
                  <a:lnTo>
                    <a:pt x="2381" y="1159"/>
                  </a:lnTo>
                  <a:lnTo>
                    <a:pt x="2301" y="1133"/>
                  </a:lnTo>
                  <a:lnTo>
                    <a:pt x="2143" y="1106"/>
                  </a:lnTo>
                  <a:lnTo>
                    <a:pt x="2090" y="1106"/>
                  </a:lnTo>
                  <a:lnTo>
                    <a:pt x="2010" y="1080"/>
                  </a:lnTo>
                  <a:lnTo>
                    <a:pt x="1931" y="1053"/>
                  </a:lnTo>
                  <a:lnTo>
                    <a:pt x="1799" y="1027"/>
                  </a:lnTo>
                  <a:lnTo>
                    <a:pt x="1719" y="1027"/>
                  </a:lnTo>
                  <a:lnTo>
                    <a:pt x="1640" y="1001"/>
                  </a:lnTo>
                  <a:lnTo>
                    <a:pt x="1508" y="974"/>
                  </a:lnTo>
                  <a:lnTo>
                    <a:pt x="1455" y="948"/>
                  </a:lnTo>
                  <a:lnTo>
                    <a:pt x="1375" y="921"/>
                  </a:lnTo>
                  <a:lnTo>
                    <a:pt x="1270" y="895"/>
                  </a:lnTo>
                  <a:lnTo>
                    <a:pt x="1190" y="868"/>
                  </a:lnTo>
                  <a:lnTo>
                    <a:pt x="1137" y="842"/>
                  </a:lnTo>
                  <a:lnTo>
                    <a:pt x="1084" y="842"/>
                  </a:lnTo>
                  <a:lnTo>
                    <a:pt x="978" y="789"/>
                  </a:lnTo>
                  <a:lnTo>
                    <a:pt x="926" y="762"/>
                  </a:lnTo>
                  <a:lnTo>
                    <a:pt x="873" y="762"/>
                  </a:lnTo>
                  <a:lnTo>
                    <a:pt x="767" y="709"/>
                  </a:lnTo>
                  <a:lnTo>
                    <a:pt x="714" y="683"/>
                  </a:lnTo>
                  <a:lnTo>
                    <a:pt x="661" y="657"/>
                  </a:lnTo>
                  <a:lnTo>
                    <a:pt x="582" y="630"/>
                  </a:lnTo>
                  <a:lnTo>
                    <a:pt x="529" y="604"/>
                  </a:lnTo>
                  <a:lnTo>
                    <a:pt x="502" y="577"/>
                  </a:lnTo>
                  <a:lnTo>
                    <a:pt x="423" y="524"/>
                  </a:lnTo>
                  <a:lnTo>
                    <a:pt x="396" y="524"/>
                  </a:lnTo>
                  <a:lnTo>
                    <a:pt x="343" y="498"/>
                  </a:lnTo>
                  <a:lnTo>
                    <a:pt x="317" y="476"/>
                  </a:lnTo>
                  <a:lnTo>
                    <a:pt x="264" y="423"/>
                  </a:lnTo>
                  <a:lnTo>
                    <a:pt x="238" y="396"/>
                  </a:lnTo>
                  <a:lnTo>
                    <a:pt x="211" y="370"/>
                  </a:lnTo>
                  <a:lnTo>
                    <a:pt x="158" y="343"/>
                  </a:lnTo>
                  <a:lnTo>
                    <a:pt x="132" y="317"/>
                  </a:lnTo>
                  <a:lnTo>
                    <a:pt x="105" y="291"/>
                  </a:lnTo>
                  <a:lnTo>
                    <a:pt x="79" y="238"/>
                  </a:lnTo>
                  <a:lnTo>
                    <a:pt x="52" y="211"/>
                  </a:lnTo>
                  <a:lnTo>
                    <a:pt x="52" y="185"/>
                  </a:lnTo>
                  <a:lnTo>
                    <a:pt x="26" y="158"/>
                  </a:lnTo>
                  <a:lnTo>
                    <a:pt x="26" y="105"/>
                  </a:lnTo>
                  <a:lnTo>
                    <a:pt x="0" y="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0" y="1504"/>
                  </a:lnTo>
                  <a:lnTo>
                    <a:pt x="0" y="1531"/>
                  </a:lnTo>
                  <a:lnTo>
                    <a:pt x="0" y="1584"/>
                  </a:lnTo>
                  <a:lnTo>
                    <a:pt x="26" y="1610"/>
                  </a:lnTo>
                  <a:lnTo>
                    <a:pt x="26" y="1663"/>
                  </a:lnTo>
                  <a:lnTo>
                    <a:pt x="52" y="1689"/>
                  </a:lnTo>
                  <a:lnTo>
                    <a:pt x="52" y="1716"/>
                  </a:lnTo>
                  <a:lnTo>
                    <a:pt x="79" y="1742"/>
                  </a:lnTo>
                  <a:lnTo>
                    <a:pt x="105" y="1795"/>
                  </a:lnTo>
                  <a:lnTo>
                    <a:pt x="132" y="1822"/>
                  </a:lnTo>
                  <a:lnTo>
                    <a:pt x="158" y="1848"/>
                  </a:lnTo>
                  <a:lnTo>
                    <a:pt x="211" y="1875"/>
                  </a:lnTo>
                  <a:lnTo>
                    <a:pt x="238" y="1901"/>
                  </a:lnTo>
                  <a:lnTo>
                    <a:pt x="264" y="1928"/>
                  </a:lnTo>
                  <a:lnTo>
                    <a:pt x="317" y="1980"/>
                  </a:lnTo>
                  <a:lnTo>
                    <a:pt x="343" y="2007"/>
                  </a:lnTo>
                  <a:lnTo>
                    <a:pt x="396" y="2033"/>
                  </a:lnTo>
                  <a:lnTo>
                    <a:pt x="423" y="2033"/>
                  </a:lnTo>
                  <a:lnTo>
                    <a:pt x="502" y="2086"/>
                  </a:lnTo>
                  <a:lnTo>
                    <a:pt x="529" y="2113"/>
                  </a:lnTo>
                  <a:lnTo>
                    <a:pt x="582" y="2139"/>
                  </a:lnTo>
                  <a:lnTo>
                    <a:pt x="661" y="2166"/>
                  </a:lnTo>
                  <a:lnTo>
                    <a:pt x="714" y="2192"/>
                  </a:lnTo>
                  <a:lnTo>
                    <a:pt x="767" y="2219"/>
                  </a:lnTo>
                  <a:lnTo>
                    <a:pt x="873" y="2272"/>
                  </a:lnTo>
                  <a:lnTo>
                    <a:pt x="926" y="2272"/>
                  </a:lnTo>
                  <a:lnTo>
                    <a:pt x="978" y="2298"/>
                  </a:lnTo>
                  <a:lnTo>
                    <a:pt x="1084" y="2351"/>
                  </a:lnTo>
                  <a:lnTo>
                    <a:pt x="1137" y="2351"/>
                  </a:lnTo>
                  <a:lnTo>
                    <a:pt x="1190" y="2377"/>
                  </a:lnTo>
                  <a:lnTo>
                    <a:pt x="1270" y="2404"/>
                  </a:lnTo>
                  <a:lnTo>
                    <a:pt x="1375" y="2430"/>
                  </a:lnTo>
                  <a:lnTo>
                    <a:pt x="1455" y="2457"/>
                  </a:lnTo>
                  <a:lnTo>
                    <a:pt x="1508" y="2483"/>
                  </a:lnTo>
                  <a:lnTo>
                    <a:pt x="1640" y="2510"/>
                  </a:lnTo>
                  <a:lnTo>
                    <a:pt x="1719" y="2536"/>
                  </a:lnTo>
                  <a:lnTo>
                    <a:pt x="1799" y="2536"/>
                  </a:lnTo>
                  <a:lnTo>
                    <a:pt x="1931" y="2563"/>
                  </a:lnTo>
                  <a:lnTo>
                    <a:pt x="2010" y="2589"/>
                  </a:lnTo>
                  <a:lnTo>
                    <a:pt x="2090" y="2615"/>
                  </a:lnTo>
                  <a:lnTo>
                    <a:pt x="2143" y="2615"/>
                  </a:lnTo>
                  <a:lnTo>
                    <a:pt x="2301" y="2642"/>
                  </a:lnTo>
                  <a:lnTo>
                    <a:pt x="2381" y="2668"/>
                  </a:lnTo>
                  <a:lnTo>
                    <a:pt x="2460" y="2668"/>
                  </a:lnTo>
                  <a:lnTo>
                    <a:pt x="2619" y="2695"/>
                  </a:lnTo>
                  <a:lnTo>
                    <a:pt x="2698" y="2721"/>
                  </a:lnTo>
                  <a:lnTo>
                    <a:pt x="2778" y="2721"/>
                  </a:lnTo>
                  <a:lnTo>
                    <a:pt x="2963" y="2748"/>
                  </a:lnTo>
                  <a:lnTo>
                    <a:pt x="3042" y="2748"/>
                  </a:lnTo>
                  <a:lnTo>
                    <a:pt x="3122" y="2774"/>
                  </a:lnTo>
                  <a:lnTo>
                    <a:pt x="3307" y="2801"/>
                  </a:lnTo>
                  <a:lnTo>
                    <a:pt x="3386" y="2801"/>
                  </a:lnTo>
                  <a:lnTo>
                    <a:pt x="3466" y="2801"/>
                  </a:lnTo>
                  <a:lnTo>
                    <a:pt x="3571" y="2827"/>
                  </a:lnTo>
                  <a:lnTo>
                    <a:pt x="3730" y="2827"/>
                  </a:lnTo>
                  <a:lnTo>
                    <a:pt x="3836" y="2827"/>
                  </a:lnTo>
                  <a:lnTo>
                    <a:pt x="3915" y="2854"/>
                  </a:lnTo>
                  <a:lnTo>
                    <a:pt x="4101" y="2854"/>
                  </a:lnTo>
                  <a:lnTo>
                    <a:pt x="4206" y="2854"/>
                  </a:lnTo>
                  <a:lnTo>
                    <a:pt x="4286" y="2880"/>
                  </a:lnTo>
                  <a:lnTo>
                    <a:pt x="4471" y="2880"/>
                  </a:lnTo>
                  <a:lnTo>
                    <a:pt x="4577" y="2880"/>
                  </a:lnTo>
                  <a:lnTo>
                    <a:pt x="4656" y="2880"/>
                  </a:lnTo>
                  <a:lnTo>
                    <a:pt x="4842" y="2880"/>
                  </a:lnTo>
                  <a:lnTo>
                    <a:pt x="4948" y="2907"/>
                  </a:lnTo>
                  <a:lnTo>
                    <a:pt x="5028" y="2907"/>
                  </a:lnTo>
                  <a:lnTo>
                    <a:pt x="5133" y="2907"/>
                  </a:lnTo>
                  <a:lnTo>
                    <a:pt x="5319" y="2907"/>
                  </a:lnTo>
                  <a:lnTo>
                    <a:pt x="5424" y="2907"/>
                  </a:lnTo>
                  <a:lnTo>
                    <a:pt x="5504" y="2907"/>
                  </a:lnTo>
                  <a:lnTo>
                    <a:pt x="5689" y="2907"/>
                  </a:lnTo>
                  <a:lnTo>
                    <a:pt x="5795" y="2907"/>
                  </a:lnTo>
                  <a:lnTo>
                    <a:pt x="5901" y="2907"/>
                  </a:lnTo>
                  <a:lnTo>
                    <a:pt x="6082" y="2880"/>
                  </a:lnTo>
                  <a:lnTo>
                    <a:pt x="6161" y="2880"/>
                  </a:lnTo>
                  <a:lnTo>
                    <a:pt x="6267" y="2880"/>
                  </a:lnTo>
                  <a:lnTo>
                    <a:pt x="6346" y="2880"/>
                  </a:lnTo>
                  <a:lnTo>
                    <a:pt x="6531" y="2880"/>
                  </a:lnTo>
                  <a:lnTo>
                    <a:pt x="6637" y="2854"/>
                  </a:lnTo>
                  <a:lnTo>
                    <a:pt x="6717" y="2854"/>
                  </a:lnTo>
                  <a:lnTo>
                    <a:pt x="6902" y="2854"/>
                  </a:lnTo>
                  <a:lnTo>
                    <a:pt x="7008" y="2827"/>
                  </a:lnTo>
                  <a:lnTo>
                    <a:pt x="7087" y="2827"/>
                  </a:lnTo>
                  <a:lnTo>
                    <a:pt x="7272" y="2827"/>
                  </a:lnTo>
                  <a:lnTo>
                    <a:pt x="7352" y="2801"/>
                  </a:lnTo>
                  <a:lnTo>
                    <a:pt x="7457" y="2801"/>
                  </a:lnTo>
                  <a:lnTo>
                    <a:pt x="7616" y="2774"/>
                  </a:lnTo>
                  <a:lnTo>
                    <a:pt x="7695" y="2774"/>
                  </a:lnTo>
                  <a:lnTo>
                    <a:pt x="7801" y="2748"/>
                  </a:lnTo>
                  <a:lnTo>
                    <a:pt x="7881" y="2748"/>
                  </a:lnTo>
                  <a:lnTo>
                    <a:pt x="8039" y="2721"/>
                  </a:lnTo>
                  <a:lnTo>
                    <a:pt x="8119" y="2721"/>
                  </a:lnTo>
                  <a:lnTo>
                    <a:pt x="8198" y="2695"/>
                  </a:lnTo>
                  <a:lnTo>
                    <a:pt x="8357" y="2668"/>
                  </a:lnTo>
                  <a:lnTo>
                    <a:pt x="8436" y="2668"/>
                  </a:lnTo>
                  <a:lnTo>
                    <a:pt x="8516" y="2642"/>
                  </a:lnTo>
                  <a:lnTo>
                    <a:pt x="8674" y="2615"/>
                  </a:lnTo>
                  <a:lnTo>
                    <a:pt x="8754" y="2615"/>
                  </a:lnTo>
                  <a:lnTo>
                    <a:pt x="8833" y="2589"/>
                  </a:lnTo>
                  <a:lnTo>
                    <a:pt x="8913" y="2563"/>
                  </a:lnTo>
                  <a:lnTo>
                    <a:pt x="9045" y="2536"/>
                  </a:lnTo>
                  <a:lnTo>
                    <a:pt x="9124" y="2536"/>
                  </a:lnTo>
                  <a:lnTo>
                    <a:pt x="9177" y="2510"/>
                  </a:lnTo>
                  <a:lnTo>
                    <a:pt x="9309" y="2483"/>
                  </a:lnTo>
                  <a:lnTo>
                    <a:pt x="9389" y="2457"/>
                  </a:lnTo>
                  <a:lnTo>
                    <a:pt x="9389" y="948"/>
                  </a:lnTo>
                  <a:close/>
                </a:path>
              </a:pathLst>
            </a:custGeom>
            <a:solidFill>
              <a:srgbClr val="7f7f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9760" y="1400040"/>
              <a:ext cx="1256040" cy="505080"/>
            </a:xfrm>
            <a:custGeom>
              <a:avLst/>
              <a:gdLst/>
              <a:ahLst/>
              <a:rect l="0" t="0" r="r" b="b"/>
              <a:pathLst>
                <a:path w="3489" h="1403">
                  <a:moveTo>
                    <a:pt x="0" y="0"/>
                  </a:moveTo>
                  <a:lnTo>
                    <a:pt x="79" y="0"/>
                  </a:lnTo>
                  <a:lnTo>
                    <a:pt x="264" y="0"/>
                  </a:lnTo>
                  <a:lnTo>
                    <a:pt x="370" y="0"/>
                  </a:lnTo>
                  <a:lnTo>
                    <a:pt x="476" y="0"/>
                  </a:lnTo>
                  <a:lnTo>
                    <a:pt x="657" y="0"/>
                  </a:lnTo>
                  <a:lnTo>
                    <a:pt x="736" y="0"/>
                  </a:lnTo>
                  <a:lnTo>
                    <a:pt x="842" y="0"/>
                  </a:lnTo>
                  <a:lnTo>
                    <a:pt x="1027" y="26"/>
                  </a:lnTo>
                  <a:lnTo>
                    <a:pt x="1106" y="26"/>
                  </a:lnTo>
                  <a:lnTo>
                    <a:pt x="1212" y="26"/>
                  </a:lnTo>
                  <a:lnTo>
                    <a:pt x="1397" y="52"/>
                  </a:lnTo>
                  <a:lnTo>
                    <a:pt x="1477" y="52"/>
                  </a:lnTo>
                  <a:lnTo>
                    <a:pt x="1583" y="52"/>
                  </a:lnTo>
                  <a:lnTo>
                    <a:pt x="1741" y="79"/>
                  </a:lnTo>
                  <a:lnTo>
                    <a:pt x="1848" y="79"/>
                  </a:lnTo>
                  <a:lnTo>
                    <a:pt x="1928" y="79"/>
                  </a:lnTo>
                  <a:lnTo>
                    <a:pt x="2113" y="105"/>
                  </a:lnTo>
                  <a:lnTo>
                    <a:pt x="2192" y="105"/>
                  </a:lnTo>
                  <a:lnTo>
                    <a:pt x="2272" y="132"/>
                  </a:lnTo>
                  <a:lnTo>
                    <a:pt x="2457" y="158"/>
                  </a:lnTo>
                  <a:lnTo>
                    <a:pt x="2536" y="158"/>
                  </a:lnTo>
                  <a:lnTo>
                    <a:pt x="2615" y="158"/>
                  </a:lnTo>
                  <a:lnTo>
                    <a:pt x="2774" y="185"/>
                  </a:lnTo>
                  <a:lnTo>
                    <a:pt x="2854" y="211"/>
                  </a:lnTo>
                  <a:lnTo>
                    <a:pt x="2933" y="211"/>
                  </a:lnTo>
                  <a:lnTo>
                    <a:pt x="3092" y="238"/>
                  </a:lnTo>
                  <a:lnTo>
                    <a:pt x="3171" y="264"/>
                  </a:lnTo>
                  <a:lnTo>
                    <a:pt x="3250" y="264"/>
                  </a:lnTo>
                  <a:lnTo>
                    <a:pt x="3409" y="317"/>
                  </a:lnTo>
                  <a:lnTo>
                    <a:pt x="3489" y="317"/>
                  </a:lnTo>
                  <a:lnTo>
                    <a:pt x="0" y="1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9760" y="1514520"/>
              <a:ext cx="1951560" cy="732240"/>
            </a:xfrm>
            <a:custGeom>
              <a:avLst/>
              <a:gdLst/>
              <a:ahLst/>
              <a:rect l="0" t="0" r="r" b="b"/>
              <a:pathLst>
                <a:path w="5421" h="2034">
                  <a:moveTo>
                    <a:pt x="3489" y="0"/>
                  </a:moveTo>
                  <a:lnTo>
                    <a:pt x="3542" y="26"/>
                  </a:lnTo>
                  <a:lnTo>
                    <a:pt x="3700" y="52"/>
                  </a:lnTo>
                  <a:lnTo>
                    <a:pt x="3753" y="79"/>
                  </a:lnTo>
                  <a:lnTo>
                    <a:pt x="3833" y="79"/>
                  </a:lnTo>
                  <a:lnTo>
                    <a:pt x="3885" y="105"/>
                  </a:lnTo>
                  <a:lnTo>
                    <a:pt x="4018" y="132"/>
                  </a:lnTo>
                  <a:lnTo>
                    <a:pt x="4072" y="158"/>
                  </a:lnTo>
                  <a:lnTo>
                    <a:pt x="4151" y="185"/>
                  </a:lnTo>
                  <a:lnTo>
                    <a:pt x="4257" y="211"/>
                  </a:lnTo>
                  <a:lnTo>
                    <a:pt x="4310" y="238"/>
                  </a:lnTo>
                  <a:lnTo>
                    <a:pt x="4389" y="264"/>
                  </a:lnTo>
                  <a:lnTo>
                    <a:pt x="4495" y="291"/>
                  </a:lnTo>
                  <a:lnTo>
                    <a:pt x="4548" y="317"/>
                  </a:lnTo>
                  <a:lnTo>
                    <a:pt x="4601" y="343"/>
                  </a:lnTo>
                  <a:lnTo>
                    <a:pt x="4627" y="343"/>
                  </a:lnTo>
                  <a:lnTo>
                    <a:pt x="4733" y="396"/>
                  </a:lnTo>
                  <a:lnTo>
                    <a:pt x="4786" y="423"/>
                  </a:lnTo>
                  <a:lnTo>
                    <a:pt x="4813" y="449"/>
                  </a:lnTo>
                  <a:lnTo>
                    <a:pt x="4918" y="476"/>
                  </a:lnTo>
                  <a:lnTo>
                    <a:pt x="4945" y="502"/>
                  </a:lnTo>
                  <a:lnTo>
                    <a:pt x="4971" y="530"/>
                  </a:lnTo>
                  <a:lnTo>
                    <a:pt x="5024" y="556"/>
                  </a:lnTo>
                  <a:lnTo>
                    <a:pt x="5077" y="609"/>
                  </a:lnTo>
                  <a:lnTo>
                    <a:pt x="5130" y="609"/>
                  </a:lnTo>
                  <a:lnTo>
                    <a:pt x="5156" y="636"/>
                  </a:lnTo>
                  <a:lnTo>
                    <a:pt x="5209" y="688"/>
                  </a:lnTo>
                  <a:lnTo>
                    <a:pt x="5236" y="715"/>
                  </a:lnTo>
                  <a:lnTo>
                    <a:pt x="5262" y="741"/>
                  </a:lnTo>
                  <a:lnTo>
                    <a:pt x="5262" y="768"/>
                  </a:lnTo>
                  <a:lnTo>
                    <a:pt x="5315" y="821"/>
                  </a:lnTo>
                  <a:lnTo>
                    <a:pt x="5342" y="847"/>
                  </a:lnTo>
                  <a:lnTo>
                    <a:pt x="5368" y="900"/>
                  </a:lnTo>
                  <a:lnTo>
                    <a:pt x="5395" y="927"/>
                  </a:lnTo>
                  <a:lnTo>
                    <a:pt x="5395" y="953"/>
                  </a:lnTo>
                  <a:lnTo>
                    <a:pt x="5395" y="1006"/>
                  </a:lnTo>
                  <a:lnTo>
                    <a:pt x="5421" y="1032"/>
                  </a:lnTo>
                  <a:lnTo>
                    <a:pt x="5421" y="1059"/>
                  </a:lnTo>
                  <a:lnTo>
                    <a:pt x="5421" y="1085"/>
                  </a:lnTo>
                  <a:lnTo>
                    <a:pt x="5421" y="1138"/>
                  </a:lnTo>
                  <a:lnTo>
                    <a:pt x="5395" y="1165"/>
                  </a:lnTo>
                  <a:lnTo>
                    <a:pt x="5395" y="1218"/>
                  </a:lnTo>
                  <a:lnTo>
                    <a:pt x="5368" y="1244"/>
                  </a:lnTo>
                  <a:lnTo>
                    <a:pt x="5368" y="1271"/>
                  </a:lnTo>
                  <a:lnTo>
                    <a:pt x="5342" y="1297"/>
                  </a:lnTo>
                  <a:lnTo>
                    <a:pt x="5315" y="1350"/>
                  </a:lnTo>
                  <a:lnTo>
                    <a:pt x="5289" y="1376"/>
                  </a:lnTo>
                  <a:lnTo>
                    <a:pt x="5262" y="1403"/>
                  </a:lnTo>
                  <a:lnTo>
                    <a:pt x="5236" y="1429"/>
                  </a:lnTo>
                  <a:lnTo>
                    <a:pt x="5209" y="1456"/>
                  </a:lnTo>
                  <a:lnTo>
                    <a:pt x="5183" y="1482"/>
                  </a:lnTo>
                  <a:lnTo>
                    <a:pt x="5156" y="1509"/>
                  </a:lnTo>
                  <a:lnTo>
                    <a:pt x="5077" y="1563"/>
                  </a:lnTo>
                  <a:lnTo>
                    <a:pt x="5051" y="1585"/>
                  </a:lnTo>
                  <a:lnTo>
                    <a:pt x="5024" y="1611"/>
                  </a:lnTo>
                  <a:lnTo>
                    <a:pt x="4945" y="1638"/>
                  </a:lnTo>
                  <a:lnTo>
                    <a:pt x="4918" y="1664"/>
                  </a:lnTo>
                  <a:lnTo>
                    <a:pt x="4865" y="1690"/>
                  </a:lnTo>
                  <a:lnTo>
                    <a:pt x="4786" y="1743"/>
                  </a:lnTo>
                  <a:lnTo>
                    <a:pt x="4733" y="1743"/>
                  </a:lnTo>
                  <a:lnTo>
                    <a:pt x="4680" y="1770"/>
                  </a:lnTo>
                  <a:lnTo>
                    <a:pt x="4627" y="1796"/>
                  </a:lnTo>
                  <a:lnTo>
                    <a:pt x="4548" y="1849"/>
                  </a:lnTo>
                  <a:lnTo>
                    <a:pt x="4495" y="1849"/>
                  </a:lnTo>
                  <a:lnTo>
                    <a:pt x="4442" y="1876"/>
                  </a:lnTo>
                  <a:lnTo>
                    <a:pt x="4310" y="1929"/>
                  </a:lnTo>
                  <a:lnTo>
                    <a:pt x="4257" y="1929"/>
                  </a:lnTo>
                  <a:lnTo>
                    <a:pt x="4204" y="1955"/>
                  </a:lnTo>
                  <a:lnTo>
                    <a:pt x="4151" y="1981"/>
                  </a:lnTo>
                  <a:lnTo>
                    <a:pt x="4018" y="2008"/>
                  </a:lnTo>
                  <a:lnTo>
                    <a:pt x="3965" y="2034"/>
                  </a:lnTo>
                  <a:lnTo>
                    <a:pt x="0" y="1085"/>
                  </a:lnTo>
                  <a:lnTo>
                    <a:pt x="3489" y="0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57480" y="1514520"/>
              <a:ext cx="3380040" cy="894240"/>
            </a:xfrm>
            <a:custGeom>
              <a:avLst/>
              <a:gdLst/>
              <a:ahLst/>
              <a:rect l="0" t="0" r="r" b="b"/>
              <a:pathLst>
                <a:path w="9389" h="2484">
                  <a:moveTo>
                    <a:pt x="9389" y="2034"/>
                  </a:moveTo>
                  <a:lnTo>
                    <a:pt x="9309" y="2061"/>
                  </a:lnTo>
                  <a:lnTo>
                    <a:pt x="9177" y="2087"/>
                  </a:lnTo>
                  <a:lnTo>
                    <a:pt x="9124" y="2114"/>
                  </a:lnTo>
                  <a:lnTo>
                    <a:pt x="9045" y="2114"/>
                  </a:lnTo>
                  <a:lnTo>
                    <a:pt x="8913" y="2140"/>
                  </a:lnTo>
                  <a:lnTo>
                    <a:pt x="8833" y="2167"/>
                  </a:lnTo>
                  <a:lnTo>
                    <a:pt x="8754" y="2193"/>
                  </a:lnTo>
                  <a:lnTo>
                    <a:pt x="8595" y="2220"/>
                  </a:lnTo>
                  <a:lnTo>
                    <a:pt x="8516" y="2220"/>
                  </a:lnTo>
                  <a:lnTo>
                    <a:pt x="8436" y="2246"/>
                  </a:lnTo>
                  <a:lnTo>
                    <a:pt x="8278" y="2273"/>
                  </a:lnTo>
                  <a:lnTo>
                    <a:pt x="8198" y="2273"/>
                  </a:lnTo>
                  <a:lnTo>
                    <a:pt x="8119" y="2299"/>
                  </a:lnTo>
                  <a:lnTo>
                    <a:pt x="7960" y="2325"/>
                  </a:lnTo>
                  <a:lnTo>
                    <a:pt x="7881" y="2325"/>
                  </a:lnTo>
                  <a:lnTo>
                    <a:pt x="7801" y="2325"/>
                  </a:lnTo>
                  <a:lnTo>
                    <a:pt x="7616" y="2352"/>
                  </a:lnTo>
                  <a:lnTo>
                    <a:pt x="7537" y="2378"/>
                  </a:lnTo>
                  <a:lnTo>
                    <a:pt x="7457" y="2378"/>
                  </a:lnTo>
                  <a:lnTo>
                    <a:pt x="7272" y="2405"/>
                  </a:lnTo>
                  <a:lnTo>
                    <a:pt x="7166" y="2405"/>
                  </a:lnTo>
                  <a:lnTo>
                    <a:pt x="7087" y="2405"/>
                  </a:lnTo>
                  <a:lnTo>
                    <a:pt x="6902" y="2431"/>
                  </a:lnTo>
                  <a:lnTo>
                    <a:pt x="6822" y="2431"/>
                  </a:lnTo>
                  <a:lnTo>
                    <a:pt x="6717" y="2431"/>
                  </a:lnTo>
                  <a:lnTo>
                    <a:pt x="6637" y="2431"/>
                  </a:lnTo>
                  <a:lnTo>
                    <a:pt x="6452" y="2458"/>
                  </a:lnTo>
                  <a:lnTo>
                    <a:pt x="6346" y="2458"/>
                  </a:lnTo>
                  <a:lnTo>
                    <a:pt x="6267" y="2458"/>
                  </a:lnTo>
                  <a:lnTo>
                    <a:pt x="6082" y="2458"/>
                  </a:lnTo>
                  <a:lnTo>
                    <a:pt x="5980" y="2458"/>
                  </a:lnTo>
                  <a:lnTo>
                    <a:pt x="5901" y="2484"/>
                  </a:lnTo>
                  <a:lnTo>
                    <a:pt x="5689" y="2484"/>
                  </a:lnTo>
                  <a:lnTo>
                    <a:pt x="5610" y="2484"/>
                  </a:lnTo>
                  <a:lnTo>
                    <a:pt x="5504" y="2484"/>
                  </a:lnTo>
                  <a:lnTo>
                    <a:pt x="5319" y="2484"/>
                  </a:lnTo>
                  <a:lnTo>
                    <a:pt x="5239" y="2484"/>
                  </a:lnTo>
                  <a:lnTo>
                    <a:pt x="5133" y="2484"/>
                  </a:lnTo>
                  <a:lnTo>
                    <a:pt x="4948" y="2484"/>
                  </a:lnTo>
                  <a:lnTo>
                    <a:pt x="4842" y="2458"/>
                  </a:lnTo>
                  <a:lnTo>
                    <a:pt x="4763" y="2458"/>
                  </a:lnTo>
                  <a:lnTo>
                    <a:pt x="4577" y="2458"/>
                  </a:lnTo>
                  <a:lnTo>
                    <a:pt x="4471" y="2458"/>
                  </a:lnTo>
                  <a:lnTo>
                    <a:pt x="4392" y="2458"/>
                  </a:lnTo>
                  <a:lnTo>
                    <a:pt x="4206" y="2431"/>
                  </a:lnTo>
                  <a:lnTo>
                    <a:pt x="4101" y="2431"/>
                  </a:lnTo>
                  <a:lnTo>
                    <a:pt x="4021" y="2431"/>
                  </a:lnTo>
                  <a:lnTo>
                    <a:pt x="3836" y="2405"/>
                  </a:lnTo>
                  <a:lnTo>
                    <a:pt x="3730" y="2405"/>
                  </a:lnTo>
                  <a:lnTo>
                    <a:pt x="3651" y="2405"/>
                  </a:lnTo>
                  <a:lnTo>
                    <a:pt x="3466" y="2378"/>
                  </a:lnTo>
                  <a:lnTo>
                    <a:pt x="3386" y="2378"/>
                  </a:lnTo>
                  <a:lnTo>
                    <a:pt x="3307" y="2378"/>
                  </a:lnTo>
                  <a:lnTo>
                    <a:pt x="3122" y="2352"/>
                  </a:lnTo>
                  <a:lnTo>
                    <a:pt x="3042" y="2325"/>
                  </a:lnTo>
                  <a:lnTo>
                    <a:pt x="2963" y="2325"/>
                  </a:lnTo>
                  <a:lnTo>
                    <a:pt x="2778" y="2299"/>
                  </a:lnTo>
                  <a:lnTo>
                    <a:pt x="2698" y="2299"/>
                  </a:lnTo>
                  <a:lnTo>
                    <a:pt x="2619" y="2273"/>
                  </a:lnTo>
                  <a:lnTo>
                    <a:pt x="2460" y="2246"/>
                  </a:lnTo>
                  <a:lnTo>
                    <a:pt x="2381" y="2246"/>
                  </a:lnTo>
                  <a:lnTo>
                    <a:pt x="2301" y="2220"/>
                  </a:lnTo>
                  <a:lnTo>
                    <a:pt x="2143" y="2193"/>
                  </a:lnTo>
                  <a:lnTo>
                    <a:pt x="2090" y="2193"/>
                  </a:lnTo>
                  <a:lnTo>
                    <a:pt x="2010" y="2167"/>
                  </a:lnTo>
                  <a:lnTo>
                    <a:pt x="1852" y="2140"/>
                  </a:lnTo>
                  <a:lnTo>
                    <a:pt x="1799" y="2114"/>
                  </a:lnTo>
                  <a:lnTo>
                    <a:pt x="1719" y="2114"/>
                  </a:lnTo>
                  <a:lnTo>
                    <a:pt x="1587" y="2061"/>
                  </a:lnTo>
                  <a:lnTo>
                    <a:pt x="1508" y="2061"/>
                  </a:lnTo>
                  <a:lnTo>
                    <a:pt x="1455" y="2034"/>
                  </a:lnTo>
                  <a:lnTo>
                    <a:pt x="1375" y="2008"/>
                  </a:lnTo>
                  <a:lnTo>
                    <a:pt x="1270" y="1981"/>
                  </a:lnTo>
                  <a:lnTo>
                    <a:pt x="1190" y="1955"/>
                  </a:lnTo>
                  <a:lnTo>
                    <a:pt x="1137" y="1929"/>
                  </a:lnTo>
                  <a:lnTo>
                    <a:pt x="1031" y="1902"/>
                  </a:lnTo>
                  <a:lnTo>
                    <a:pt x="978" y="1876"/>
                  </a:lnTo>
                  <a:lnTo>
                    <a:pt x="926" y="1848"/>
                  </a:lnTo>
                  <a:lnTo>
                    <a:pt x="820" y="1822"/>
                  </a:lnTo>
                  <a:lnTo>
                    <a:pt x="767" y="1795"/>
                  </a:lnTo>
                  <a:lnTo>
                    <a:pt x="714" y="1769"/>
                  </a:lnTo>
                  <a:lnTo>
                    <a:pt x="635" y="1742"/>
                  </a:lnTo>
                  <a:lnTo>
                    <a:pt x="582" y="1716"/>
                  </a:lnTo>
                  <a:lnTo>
                    <a:pt x="529" y="1689"/>
                  </a:lnTo>
                  <a:lnTo>
                    <a:pt x="449" y="1637"/>
                  </a:lnTo>
                  <a:lnTo>
                    <a:pt x="423" y="1610"/>
                  </a:lnTo>
                  <a:lnTo>
                    <a:pt x="396" y="1610"/>
                  </a:lnTo>
                  <a:lnTo>
                    <a:pt x="317" y="1562"/>
                  </a:lnTo>
                  <a:lnTo>
                    <a:pt x="291" y="1535"/>
                  </a:lnTo>
                  <a:lnTo>
                    <a:pt x="264" y="1509"/>
                  </a:lnTo>
                  <a:lnTo>
                    <a:pt x="211" y="1456"/>
                  </a:lnTo>
                  <a:lnTo>
                    <a:pt x="185" y="1429"/>
                  </a:lnTo>
                  <a:lnTo>
                    <a:pt x="158" y="1429"/>
                  </a:lnTo>
                  <a:lnTo>
                    <a:pt x="105" y="1376"/>
                  </a:lnTo>
                  <a:lnTo>
                    <a:pt x="105" y="1350"/>
                  </a:lnTo>
                  <a:lnTo>
                    <a:pt x="79" y="1323"/>
                  </a:lnTo>
                  <a:lnTo>
                    <a:pt x="52" y="1271"/>
                  </a:lnTo>
                  <a:lnTo>
                    <a:pt x="26" y="1244"/>
                  </a:lnTo>
                  <a:lnTo>
                    <a:pt x="26" y="1218"/>
                  </a:lnTo>
                  <a:lnTo>
                    <a:pt x="0" y="1165"/>
                  </a:lnTo>
                  <a:lnTo>
                    <a:pt x="0" y="1138"/>
                  </a:lnTo>
                  <a:lnTo>
                    <a:pt x="0" y="1085"/>
                  </a:lnTo>
                  <a:lnTo>
                    <a:pt x="0" y="1059"/>
                  </a:lnTo>
                  <a:lnTo>
                    <a:pt x="0" y="1032"/>
                  </a:lnTo>
                  <a:lnTo>
                    <a:pt x="0" y="979"/>
                  </a:lnTo>
                  <a:lnTo>
                    <a:pt x="26" y="953"/>
                  </a:lnTo>
                  <a:lnTo>
                    <a:pt x="26" y="927"/>
                  </a:lnTo>
                  <a:lnTo>
                    <a:pt x="52" y="874"/>
                  </a:lnTo>
                  <a:lnTo>
                    <a:pt x="52" y="847"/>
                  </a:lnTo>
                  <a:lnTo>
                    <a:pt x="79" y="847"/>
                  </a:lnTo>
                  <a:lnTo>
                    <a:pt x="105" y="794"/>
                  </a:lnTo>
                  <a:lnTo>
                    <a:pt x="132" y="768"/>
                  </a:lnTo>
                  <a:lnTo>
                    <a:pt x="158" y="741"/>
                  </a:lnTo>
                  <a:lnTo>
                    <a:pt x="211" y="688"/>
                  </a:lnTo>
                  <a:lnTo>
                    <a:pt x="238" y="662"/>
                  </a:lnTo>
                  <a:lnTo>
                    <a:pt x="264" y="636"/>
                  </a:lnTo>
                  <a:lnTo>
                    <a:pt x="291" y="608"/>
                  </a:lnTo>
                  <a:lnTo>
                    <a:pt x="343" y="582"/>
                  </a:lnTo>
                  <a:lnTo>
                    <a:pt x="396" y="555"/>
                  </a:lnTo>
                  <a:lnTo>
                    <a:pt x="423" y="529"/>
                  </a:lnTo>
                  <a:lnTo>
                    <a:pt x="502" y="476"/>
                  </a:lnTo>
                  <a:lnTo>
                    <a:pt x="529" y="476"/>
                  </a:lnTo>
                  <a:lnTo>
                    <a:pt x="582" y="449"/>
                  </a:lnTo>
                  <a:lnTo>
                    <a:pt x="661" y="396"/>
                  </a:lnTo>
                  <a:lnTo>
                    <a:pt x="714" y="370"/>
                  </a:lnTo>
                  <a:lnTo>
                    <a:pt x="767" y="343"/>
                  </a:lnTo>
                  <a:lnTo>
                    <a:pt x="873" y="317"/>
                  </a:lnTo>
                  <a:lnTo>
                    <a:pt x="926" y="291"/>
                  </a:lnTo>
                  <a:lnTo>
                    <a:pt x="978" y="264"/>
                  </a:lnTo>
                  <a:lnTo>
                    <a:pt x="1084" y="238"/>
                  </a:lnTo>
                  <a:lnTo>
                    <a:pt x="1137" y="211"/>
                  </a:lnTo>
                  <a:lnTo>
                    <a:pt x="1190" y="185"/>
                  </a:lnTo>
                  <a:lnTo>
                    <a:pt x="1322" y="158"/>
                  </a:lnTo>
                  <a:lnTo>
                    <a:pt x="1375" y="132"/>
                  </a:lnTo>
                  <a:lnTo>
                    <a:pt x="1455" y="132"/>
                  </a:lnTo>
                  <a:lnTo>
                    <a:pt x="1587" y="79"/>
                  </a:lnTo>
                  <a:lnTo>
                    <a:pt x="1640" y="79"/>
                  </a:lnTo>
                  <a:lnTo>
                    <a:pt x="1719" y="52"/>
                  </a:lnTo>
                  <a:lnTo>
                    <a:pt x="1852" y="26"/>
                  </a:lnTo>
                  <a:lnTo>
                    <a:pt x="1931" y="0"/>
                  </a:lnTo>
                  <a:lnTo>
                    <a:pt x="5424" y="1085"/>
                  </a:lnTo>
                  <a:lnTo>
                    <a:pt x="9389" y="2034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52640" y="1400040"/>
              <a:ext cx="1257840" cy="505080"/>
            </a:xfrm>
            <a:custGeom>
              <a:avLst/>
              <a:gdLst/>
              <a:ahLst/>
              <a:rect l="0" t="0" r="r" b="b"/>
              <a:pathLst>
                <a:path w="3494" h="1403">
                  <a:moveTo>
                    <a:pt x="0" y="317"/>
                  </a:moveTo>
                  <a:lnTo>
                    <a:pt x="79" y="317"/>
                  </a:lnTo>
                  <a:lnTo>
                    <a:pt x="211" y="264"/>
                  </a:lnTo>
                  <a:lnTo>
                    <a:pt x="291" y="264"/>
                  </a:lnTo>
                  <a:lnTo>
                    <a:pt x="370" y="238"/>
                  </a:lnTo>
                  <a:lnTo>
                    <a:pt x="529" y="211"/>
                  </a:lnTo>
                  <a:lnTo>
                    <a:pt x="608" y="211"/>
                  </a:lnTo>
                  <a:lnTo>
                    <a:pt x="687" y="185"/>
                  </a:lnTo>
                  <a:lnTo>
                    <a:pt x="846" y="158"/>
                  </a:lnTo>
                  <a:lnTo>
                    <a:pt x="953" y="158"/>
                  </a:lnTo>
                  <a:lnTo>
                    <a:pt x="1032" y="158"/>
                  </a:lnTo>
                  <a:lnTo>
                    <a:pt x="1191" y="132"/>
                  </a:lnTo>
                  <a:lnTo>
                    <a:pt x="1271" y="105"/>
                  </a:lnTo>
                  <a:lnTo>
                    <a:pt x="1376" y="105"/>
                  </a:lnTo>
                  <a:lnTo>
                    <a:pt x="1535" y="79"/>
                  </a:lnTo>
                  <a:lnTo>
                    <a:pt x="1641" y="79"/>
                  </a:lnTo>
                  <a:lnTo>
                    <a:pt x="1720" y="79"/>
                  </a:lnTo>
                  <a:lnTo>
                    <a:pt x="1906" y="52"/>
                  </a:lnTo>
                  <a:lnTo>
                    <a:pt x="1985" y="52"/>
                  </a:lnTo>
                  <a:lnTo>
                    <a:pt x="2091" y="52"/>
                  </a:lnTo>
                  <a:lnTo>
                    <a:pt x="2276" y="26"/>
                  </a:lnTo>
                  <a:lnTo>
                    <a:pt x="2355" y="26"/>
                  </a:lnTo>
                  <a:lnTo>
                    <a:pt x="2461" y="26"/>
                  </a:lnTo>
                  <a:lnTo>
                    <a:pt x="2647" y="0"/>
                  </a:lnTo>
                  <a:lnTo>
                    <a:pt x="2727" y="0"/>
                  </a:lnTo>
                  <a:lnTo>
                    <a:pt x="2833" y="0"/>
                  </a:lnTo>
                  <a:lnTo>
                    <a:pt x="3018" y="0"/>
                  </a:lnTo>
                  <a:lnTo>
                    <a:pt x="3097" y="0"/>
                  </a:lnTo>
                  <a:lnTo>
                    <a:pt x="3203" y="0"/>
                  </a:lnTo>
                  <a:lnTo>
                    <a:pt x="3388" y="0"/>
                  </a:lnTo>
                  <a:lnTo>
                    <a:pt x="3494" y="0"/>
                  </a:lnTo>
                  <a:lnTo>
                    <a:pt x="3494" y="1403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3840120" y="76824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4087800" y="103500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5183280" y="15685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5326200" y="183528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1222200" y="285264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1270080" y="311940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94040" y="76824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041560" y="103500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2822400" y="73008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3022560" y="9968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638280" y="4629240"/>
            <a:ext cx="5989680" cy="398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60440" y="5321160"/>
            <a:ext cx="5900400" cy="2849760"/>
            <a:chOff x="460440" y="5321160"/>
            <a:chExt cx="5900400" cy="2849760"/>
          </a:xfrm>
        </p:grpSpPr>
        <p:sp>
          <p:nvSpPr>
            <p:cNvPr id="429" name=""/>
            <p:cNvSpPr/>
            <p:nvPr/>
          </p:nvSpPr>
          <p:spPr>
            <a:xfrm>
              <a:off x="5046840" y="6448320"/>
              <a:ext cx="295560" cy="798840"/>
            </a:xfrm>
            <a:custGeom>
              <a:avLst/>
              <a:gdLst/>
              <a:ahLst/>
              <a:rect l="0" t="0" r="r" b="b"/>
              <a:pathLst>
                <a:path w="821" h="2219">
                  <a:moveTo>
                    <a:pt x="821" y="0"/>
                  </a:moveTo>
                  <a:lnTo>
                    <a:pt x="821" y="26"/>
                  </a:lnTo>
                  <a:lnTo>
                    <a:pt x="794" y="79"/>
                  </a:lnTo>
                  <a:lnTo>
                    <a:pt x="794" y="105"/>
                  </a:lnTo>
                  <a:lnTo>
                    <a:pt x="794" y="132"/>
                  </a:lnTo>
                  <a:lnTo>
                    <a:pt x="768" y="185"/>
                  </a:lnTo>
                  <a:lnTo>
                    <a:pt x="768" y="211"/>
                  </a:lnTo>
                  <a:lnTo>
                    <a:pt x="741" y="211"/>
                  </a:lnTo>
                  <a:lnTo>
                    <a:pt x="715" y="264"/>
                  </a:lnTo>
                  <a:lnTo>
                    <a:pt x="688" y="291"/>
                  </a:lnTo>
                  <a:lnTo>
                    <a:pt x="688" y="317"/>
                  </a:lnTo>
                  <a:lnTo>
                    <a:pt x="636" y="370"/>
                  </a:lnTo>
                  <a:lnTo>
                    <a:pt x="609" y="396"/>
                  </a:lnTo>
                  <a:lnTo>
                    <a:pt x="583" y="423"/>
                  </a:lnTo>
                  <a:lnTo>
                    <a:pt x="530" y="449"/>
                  </a:lnTo>
                  <a:lnTo>
                    <a:pt x="503" y="476"/>
                  </a:lnTo>
                  <a:lnTo>
                    <a:pt x="450" y="498"/>
                  </a:lnTo>
                  <a:lnTo>
                    <a:pt x="396" y="551"/>
                  </a:lnTo>
                  <a:lnTo>
                    <a:pt x="343" y="577"/>
                  </a:lnTo>
                  <a:lnTo>
                    <a:pt x="317" y="577"/>
                  </a:lnTo>
                  <a:lnTo>
                    <a:pt x="238" y="630"/>
                  </a:lnTo>
                  <a:lnTo>
                    <a:pt x="185" y="657"/>
                  </a:lnTo>
                  <a:lnTo>
                    <a:pt x="132" y="683"/>
                  </a:lnTo>
                  <a:lnTo>
                    <a:pt x="52" y="709"/>
                  </a:lnTo>
                  <a:lnTo>
                    <a:pt x="0" y="736"/>
                  </a:lnTo>
                  <a:lnTo>
                    <a:pt x="0" y="2219"/>
                  </a:lnTo>
                  <a:lnTo>
                    <a:pt x="52" y="2192"/>
                  </a:lnTo>
                  <a:lnTo>
                    <a:pt x="132" y="2166"/>
                  </a:lnTo>
                  <a:lnTo>
                    <a:pt x="185" y="2139"/>
                  </a:lnTo>
                  <a:lnTo>
                    <a:pt x="238" y="2113"/>
                  </a:lnTo>
                  <a:lnTo>
                    <a:pt x="317" y="2060"/>
                  </a:lnTo>
                  <a:lnTo>
                    <a:pt x="343" y="2060"/>
                  </a:lnTo>
                  <a:lnTo>
                    <a:pt x="396" y="2033"/>
                  </a:lnTo>
                  <a:lnTo>
                    <a:pt x="450" y="1980"/>
                  </a:lnTo>
                  <a:lnTo>
                    <a:pt x="503" y="1954"/>
                  </a:lnTo>
                  <a:lnTo>
                    <a:pt x="530" y="1928"/>
                  </a:lnTo>
                  <a:lnTo>
                    <a:pt x="583" y="1901"/>
                  </a:lnTo>
                  <a:lnTo>
                    <a:pt x="609" y="1875"/>
                  </a:lnTo>
                  <a:lnTo>
                    <a:pt x="636" y="1848"/>
                  </a:lnTo>
                  <a:lnTo>
                    <a:pt x="688" y="1795"/>
                  </a:lnTo>
                  <a:lnTo>
                    <a:pt x="688" y="1769"/>
                  </a:lnTo>
                  <a:lnTo>
                    <a:pt x="715" y="1742"/>
                  </a:lnTo>
                  <a:lnTo>
                    <a:pt x="741" y="1689"/>
                  </a:lnTo>
                  <a:lnTo>
                    <a:pt x="768" y="1689"/>
                  </a:lnTo>
                  <a:lnTo>
                    <a:pt x="768" y="1663"/>
                  </a:lnTo>
                  <a:lnTo>
                    <a:pt x="794" y="1610"/>
                  </a:lnTo>
                  <a:lnTo>
                    <a:pt x="794" y="1584"/>
                  </a:lnTo>
                  <a:lnTo>
                    <a:pt x="794" y="1557"/>
                  </a:lnTo>
                  <a:lnTo>
                    <a:pt x="821" y="1504"/>
                  </a:lnTo>
                  <a:lnTo>
                    <a:pt x="821" y="1478"/>
                  </a:lnTo>
                  <a:lnTo>
                    <a:pt x="821" y="0"/>
                  </a:lnTo>
                  <a:close/>
                </a:path>
              </a:pathLst>
            </a:custGeom>
            <a:solidFill>
              <a:srgbClr val="40103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76360" y="6448320"/>
              <a:ext cx="609840" cy="903600"/>
            </a:xfrm>
            <a:custGeom>
              <a:avLst/>
              <a:gdLst/>
              <a:ahLst/>
              <a:rect l="0" t="0" r="r" b="b"/>
              <a:pathLst>
                <a:path w="1694" h="2510">
                  <a:moveTo>
                    <a:pt x="1694" y="1027"/>
                  </a:moveTo>
                  <a:lnTo>
                    <a:pt x="1641" y="1001"/>
                  </a:lnTo>
                  <a:lnTo>
                    <a:pt x="1509" y="974"/>
                  </a:lnTo>
                  <a:lnTo>
                    <a:pt x="1429" y="948"/>
                  </a:lnTo>
                  <a:lnTo>
                    <a:pt x="1376" y="921"/>
                  </a:lnTo>
                  <a:lnTo>
                    <a:pt x="1244" y="895"/>
                  </a:lnTo>
                  <a:lnTo>
                    <a:pt x="1191" y="868"/>
                  </a:lnTo>
                  <a:lnTo>
                    <a:pt x="1138" y="868"/>
                  </a:lnTo>
                  <a:lnTo>
                    <a:pt x="1085" y="842"/>
                  </a:lnTo>
                  <a:lnTo>
                    <a:pt x="953" y="789"/>
                  </a:lnTo>
                  <a:lnTo>
                    <a:pt x="900" y="789"/>
                  </a:lnTo>
                  <a:lnTo>
                    <a:pt x="846" y="762"/>
                  </a:lnTo>
                  <a:lnTo>
                    <a:pt x="767" y="709"/>
                  </a:lnTo>
                  <a:lnTo>
                    <a:pt x="714" y="709"/>
                  </a:lnTo>
                  <a:lnTo>
                    <a:pt x="661" y="683"/>
                  </a:lnTo>
                  <a:lnTo>
                    <a:pt x="582" y="630"/>
                  </a:lnTo>
                  <a:lnTo>
                    <a:pt x="529" y="604"/>
                  </a:lnTo>
                  <a:lnTo>
                    <a:pt x="502" y="577"/>
                  </a:lnTo>
                  <a:lnTo>
                    <a:pt x="423" y="551"/>
                  </a:lnTo>
                  <a:lnTo>
                    <a:pt x="396" y="524"/>
                  </a:lnTo>
                  <a:lnTo>
                    <a:pt x="343" y="498"/>
                  </a:lnTo>
                  <a:lnTo>
                    <a:pt x="317" y="476"/>
                  </a:lnTo>
                  <a:lnTo>
                    <a:pt x="264" y="423"/>
                  </a:lnTo>
                  <a:lnTo>
                    <a:pt x="238" y="423"/>
                  </a:lnTo>
                  <a:lnTo>
                    <a:pt x="211" y="396"/>
                  </a:lnTo>
                  <a:lnTo>
                    <a:pt x="158" y="343"/>
                  </a:lnTo>
                  <a:lnTo>
                    <a:pt x="132" y="317"/>
                  </a:lnTo>
                  <a:lnTo>
                    <a:pt x="105" y="291"/>
                  </a:lnTo>
                  <a:lnTo>
                    <a:pt x="79" y="238"/>
                  </a:lnTo>
                  <a:lnTo>
                    <a:pt x="52" y="211"/>
                  </a:lnTo>
                  <a:lnTo>
                    <a:pt x="26" y="185"/>
                  </a:lnTo>
                  <a:lnTo>
                    <a:pt x="26" y="132"/>
                  </a:lnTo>
                  <a:lnTo>
                    <a:pt x="0" y="105"/>
                  </a:lnTo>
                  <a:lnTo>
                    <a:pt x="0" y="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0" y="1478"/>
                  </a:lnTo>
                  <a:lnTo>
                    <a:pt x="0" y="1504"/>
                  </a:lnTo>
                  <a:lnTo>
                    <a:pt x="0" y="1557"/>
                  </a:lnTo>
                  <a:lnTo>
                    <a:pt x="0" y="1584"/>
                  </a:lnTo>
                  <a:lnTo>
                    <a:pt x="26" y="1610"/>
                  </a:lnTo>
                  <a:lnTo>
                    <a:pt x="26" y="1663"/>
                  </a:lnTo>
                  <a:lnTo>
                    <a:pt x="52" y="1689"/>
                  </a:lnTo>
                  <a:lnTo>
                    <a:pt x="79" y="1716"/>
                  </a:lnTo>
                  <a:lnTo>
                    <a:pt x="105" y="1769"/>
                  </a:lnTo>
                  <a:lnTo>
                    <a:pt x="132" y="1795"/>
                  </a:lnTo>
                  <a:lnTo>
                    <a:pt x="158" y="1822"/>
                  </a:lnTo>
                  <a:lnTo>
                    <a:pt x="211" y="1875"/>
                  </a:lnTo>
                  <a:lnTo>
                    <a:pt x="238" y="1901"/>
                  </a:lnTo>
                  <a:lnTo>
                    <a:pt x="264" y="1901"/>
                  </a:lnTo>
                  <a:lnTo>
                    <a:pt x="317" y="1954"/>
                  </a:lnTo>
                  <a:lnTo>
                    <a:pt x="343" y="1980"/>
                  </a:lnTo>
                  <a:lnTo>
                    <a:pt x="396" y="2007"/>
                  </a:lnTo>
                  <a:lnTo>
                    <a:pt x="423" y="2033"/>
                  </a:lnTo>
                  <a:lnTo>
                    <a:pt x="502" y="2060"/>
                  </a:lnTo>
                  <a:lnTo>
                    <a:pt x="529" y="2086"/>
                  </a:lnTo>
                  <a:lnTo>
                    <a:pt x="582" y="2113"/>
                  </a:lnTo>
                  <a:lnTo>
                    <a:pt x="661" y="2166"/>
                  </a:lnTo>
                  <a:lnTo>
                    <a:pt x="714" y="2192"/>
                  </a:lnTo>
                  <a:lnTo>
                    <a:pt x="767" y="2192"/>
                  </a:lnTo>
                  <a:lnTo>
                    <a:pt x="846" y="2245"/>
                  </a:lnTo>
                  <a:lnTo>
                    <a:pt x="900" y="2272"/>
                  </a:lnTo>
                  <a:lnTo>
                    <a:pt x="953" y="2272"/>
                  </a:lnTo>
                  <a:lnTo>
                    <a:pt x="1085" y="2324"/>
                  </a:lnTo>
                  <a:lnTo>
                    <a:pt x="1138" y="2351"/>
                  </a:lnTo>
                  <a:lnTo>
                    <a:pt x="1191" y="2351"/>
                  </a:lnTo>
                  <a:lnTo>
                    <a:pt x="1244" y="2377"/>
                  </a:lnTo>
                  <a:lnTo>
                    <a:pt x="1376" y="2404"/>
                  </a:lnTo>
                  <a:lnTo>
                    <a:pt x="1429" y="2430"/>
                  </a:lnTo>
                  <a:lnTo>
                    <a:pt x="1509" y="2457"/>
                  </a:lnTo>
                  <a:lnTo>
                    <a:pt x="1641" y="2483"/>
                  </a:lnTo>
                  <a:lnTo>
                    <a:pt x="1694" y="2510"/>
                  </a:lnTo>
                  <a:lnTo>
                    <a:pt x="1694" y="1027"/>
                  </a:lnTo>
                  <a:close/>
                </a:path>
              </a:pathLst>
            </a:custGeom>
            <a:solidFill>
              <a:srgbClr val="50707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85840" y="6713640"/>
              <a:ext cx="2961000" cy="771840"/>
            </a:xfrm>
            <a:custGeom>
              <a:avLst/>
              <a:gdLst/>
              <a:ahLst/>
              <a:rect l="0" t="0" r="r" b="b"/>
              <a:pathLst>
                <a:path w="8225" h="2144">
                  <a:moveTo>
                    <a:pt x="8225" y="0"/>
                  </a:moveTo>
                  <a:lnTo>
                    <a:pt x="8172" y="26"/>
                  </a:lnTo>
                  <a:lnTo>
                    <a:pt x="8066" y="52"/>
                  </a:lnTo>
                  <a:lnTo>
                    <a:pt x="8013" y="79"/>
                  </a:lnTo>
                  <a:lnTo>
                    <a:pt x="7960" y="105"/>
                  </a:lnTo>
                  <a:lnTo>
                    <a:pt x="7907" y="132"/>
                  </a:lnTo>
                  <a:lnTo>
                    <a:pt x="7775" y="158"/>
                  </a:lnTo>
                  <a:lnTo>
                    <a:pt x="7722" y="185"/>
                  </a:lnTo>
                  <a:lnTo>
                    <a:pt x="7669" y="185"/>
                  </a:lnTo>
                  <a:lnTo>
                    <a:pt x="7537" y="238"/>
                  </a:lnTo>
                  <a:lnTo>
                    <a:pt x="7457" y="238"/>
                  </a:lnTo>
                  <a:lnTo>
                    <a:pt x="7404" y="264"/>
                  </a:lnTo>
                  <a:lnTo>
                    <a:pt x="7272" y="291"/>
                  </a:lnTo>
                  <a:lnTo>
                    <a:pt x="7193" y="317"/>
                  </a:lnTo>
                  <a:lnTo>
                    <a:pt x="7113" y="317"/>
                  </a:lnTo>
                  <a:lnTo>
                    <a:pt x="7060" y="343"/>
                  </a:lnTo>
                  <a:lnTo>
                    <a:pt x="6902" y="370"/>
                  </a:lnTo>
                  <a:lnTo>
                    <a:pt x="6822" y="396"/>
                  </a:lnTo>
                  <a:lnTo>
                    <a:pt x="6743" y="396"/>
                  </a:lnTo>
                  <a:lnTo>
                    <a:pt x="6584" y="423"/>
                  </a:lnTo>
                  <a:lnTo>
                    <a:pt x="6505" y="449"/>
                  </a:lnTo>
                  <a:lnTo>
                    <a:pt x="6425" y="449"/>
                  </a:lnTo>
                  <a:lnTo>
                    <a:pt x="6346" y="476"/>
                  </a:lnTo>
                  <a:lnTo>
                    <a:pt x="6187" y="502"/>
                  </a:lnTo>
                  <a:lnTo>
                    <a:pt x="6108" y="502"/>
                  </a:lnTo>
                  <a:lnTo>
                    <a:pt x="6029" y="502"/>
                  </a:lnTo>
                  <a:lnTo>
                    <a:pt x="5843" y="529"/>
                  </a:lnTo>
                  <a:lnTo>
                    <a:pt x="5764" y="555"/>
                  </a:lnTo>
                  <a:lnTo>
                    <a:pt x="5685" y="555"/>
                  </a:lnTo>
                  <a:lnTo>
                    <a:pt x="5499" y="582"/>
                  </a:lnTo>
                  <a:lnTo>
                    <a:pt x="5420" y="582"/>
                  </a:lnTo>
                  <a:lnTo>
                    <a:pt x="5314" y="582"/>
                  </a:lnTo>
                  <a:lnTo>
                    <a:pt x="5235" y="582"/>
                  </a:lnTo>
                  <a:lnTo>
                    <a:pt x="5050" y="608"/>
                  </a:lnTo>
                  <a:lnTo>
                    <a:pt x="4970" y="608"/>
                  </a:lnTo>
                  <a:lnTo>
                    <a:pt x="4864" y="608"/>
                  </a:lnTo>
                  <a:lnTo>
                    <a:pt x="4679" y="635"/>
                  </a:lnTo>
                  <a:lnTo>
                    <a:pt x="4600" y="635"/>
                  </a:lnTo>
                  <a:lnTo>
                    <a:pt x="4520" y="635"/>
                  </a:lnTo>
                  <a:lnTo>
                    <a:pt x="4309" y="635"/>
                  </a:lnTo>
                  <a:lnTo>
                    <a:pt x="4234" y="635"/>
                  </a:lnTo>
                  <a:lnTo>
                    <a:pt x="4128" y="661"/>
                  </a:lnTo>
                  <a:lnTo>
                    <a:pt x="4048" y="661"/>
                  </a:lnTo>
                  <a:lnTo>
                    <a:pt x="3862" y="661"/>
                  </a:lnTo>
                  <a:lnTo>
                    <a:pt x="3757" y="661"/>
                  </a:lnTo>
                  <a:lnTo>
                    <a:pt x="3677" y="661"/>
                  </a:lnTo>
                  <a:lnTo>
                    <a:pt x="3492" y="661"/>
                  </a:lnTo>
                  <a:lnTo>
                    <a:pt x="3386" y="661"/>
                  </a:lnTo>
                  <a:lnTo>
                    <a:pt x="3307" y="661"/>
                  </a:lnTo>
                  <a:lnTo>
                    <a:pt x="3201" y="661"/>
                  </a:lnTo>
                  <a:lnTo>
                    <a:pt x="3016" y="635"/>
                  </a:lnTo>
                  <a:lnTo>
                    <a:pt x="2910" y="635"/>
                  </a:lnTo>
                  <a:lnTo>
                    <a:pt x="2831" y="635"/>
                  </a:lnTo>
                  <a:lnTo>
                    <a:pt x="2645" y="635"/>
                  </a:lnTo>
                  <a:lnTo>
                    <a:pt x="2566" y="635"/>
                  </a:lnTo>
                  <a:lnTo>
                    <a:pt x="2460" y="608"/>
                  </a:lnTo>
                  <a:lnTo>
                    <a:pt x="2275" y="608"/>
                  </a:lnTo>
                  <a:lnTo>
                    <a:pt x="2196" y="608"/>
                  </a:lnTo>
                  <a:lnTo>
                    <a:pt x="2090" y="582"/>
                  </a:lnTo>
                  <a:lnTo>
                    <a:pt x="2010" y="582"/>
                  </a:lnTo>
                  <a:lnTo>
                    <a:pt x="1825" y="582"/>
                  </a:lnTo>
                  <a:lnTo>
                    <a:pt x="1746" y="555"/>
                  </a:lnTo>
                  <a:lnTo>
                    <a:pt x="1666" y="555"/>
                  </a:lnTo>
                  <a:lnTo>
                    <a:pt x="1481" y="529"/>
                  </a:lnTo>
                  <a:lnTo>
                    <a:pt x="1402" y="529"/>
                  </a:lnTo>
                  <a:lnTo>
                    <a:pt x="1322" y="502"/>
                  </a:lnTo>
                  <a:lnTo>
                    <a:pt x="1243" y="502"/>
                  </a:lnTo>
                  <a:lnTo>
                    <a:pt x="1058" y="476"/>
                  </a:lnTo>
                  <a:lnTo>
                    <a:pt x="978" y="476"/>
                  </a:lnTo>
                  <a:lnTo>
                    <a:pt x="899" y="449"/>
                  </a:lnTo>
                  <a:lnTo>
                    <a:pt x="740" y="423"/>
                  </a:lnTo>
                  <a:lnTo>
                    <a:pt x="661" y="423"/>
                  </a:lnTo>
                  <a:lnTo>
                    <a:pt x="582" y="396"/>
                  </a:lnTo>
                  <a:lnTo>
                    <a:pt x="449" y="370"/>
                  </a:lnTo>
                  <a:lnTo>
                    <a:pt x="370" y="370"/>
                  </a:lnTo>
                  <a:lnTo>
                    <a:pt x="291" y="343"/>
                  </a:lnTo>
                  <a:lnTo>
                    <a:pt x="211" y="317"/>
                  </a:lnTo>
                  <a:lnTo>
                    <a:pt x="79" y="291"/>
                  </a:lnTo>
                  <a:lnTo>
                    <a:pt x="0" y="291"/>
                  </a:lnTo>
                  <a:lnTo>
                    <a:pt x="0" y="1773"/>
                  </a:lnTo>
                  <a:lnTo>
                    <a:pt x="79" y="1773"/>
                  </a:lnTo>
                  <a:lnTo>
                    <a:pt x="211" y="1800"/>
                  </a:lnTo>
                  <a:lnTo>
                    <a:pt x="291" y="1826"/>
                  </a:lnTo>
                  <a:lnTo>
                    <a:pt x="370" y="1853"/>
                  </a:lnTo>
                  <a:lnTo>
                    <a:pt x="449" y="1853"/>
                  </a:lnTo>
                  <a:lnTo>
                    <a:pt x="582" y="1879"/>
                  </a:lnTo>
                  <a:lnTo>
                    <a:pt x="661" y="1906"/>
                  </a:lnTo>
                  <a:lnTo>
                    <a:pt x="740" y="1906"/>
                  </a:lnTo>
                  <a:lnTo>
                    <a:pt x="899" y="1932"/>
                  </a:lnTo>
                  <a:lnTo>
                    <a:pt x="978" y="1958"/>
                  </a:lnTo>
                  <a:lnTo>
                    <a:pt x="1058" y="1958"/>
                  </a:lnTo>
                  <a:lnTo>
                    <a:pt x="1243" y="1985"/>
                  </a:lnTo>
                  <a:lnTo>
                    <a:pt x="1322" y="1985"/>
                  </a:lnTo>
                  <a:lnTo>
                    <a:pt x="1402" y="2011"/>
                  </a:lnTo>
                  <a:lnTo>
                    <a:pt x="1481" y="2011"/>
                  </a:lnTo>
                  <a:lnTo>
                    <a:pt x="1666" y="2038"/>
                  </a:lnTo>
                  <a:lnTo>
                    <a:pt x="1746" y="2038"/>
                  </a:lnTo>
                  <a:lnTo>
                    <a:pt x="1825" y="2064"/>
                  </a:lnTo>
                  <a:lnTo>
                    <a:pt x="2010" y="2064"/>
                  </a:lnTo>
                  <a:lnTo>
                    <a:pt x="2090" y="2064"/>
                  </a:lnTo>
                  <a:lnTo>
                    <a:pt x="2196" y="2091"/>
                  </a:lnTo>
                  <a:lnTo>
                    <a:pt x="2275" y="2091"/>
                  </a:lnTo>
                  <a:lnTo>
                    <a:pt x="2460" y="2091"/>
                  </a:lnTo>
                  <a:lnTo>
                    <a:pt x="2566" y="2117"/>
                  </a:lnTo>
                  <a:lnTo>
                    <a:pt x="2645" y="2117"/>
                  </a:lnTo>
                  <a:lnTo>
                    <a:pt x="2831" y="2117"/>
                  </a:lnTo>
                  <a:lnTo>
                    <a:pt x="2910" y="2117"/>
                  </a:lnTo>
                  <a:lnTo>
                    <a:pt x="3016" y="2117"/>
                  </a:lnTo>
                  <a:lnTo>
                    <a:pt x="3201" y="2144"/>
                  </a:lnTo>
                  <a:lnTo>
                    <a:pt x="3307" y="2144"/>
                  </a:lnTo>
                  <a:lnTo>
                    <a:pt x="3386" y="2144"/>
                  </a:lnTo>
                  <a:lnTo>
                    <a:pt x="3492" y="2144"/>
                  </a:lnTo>
                  <a:lnTo>
                    <a:pt x="3677" y="2144"/>
                  </a:lnTo>
                  <a:lnTo>
                    <a:pt x="3757" y="2144"/>
                  </a:lnTo>
                  <a:lnTo>
                    <a:pt x="3862" y="2144"/>
                  </a:lnTo>
                  <a:lnTo>
                    <a:pt x="4048" y="2144"/>
                  </a:lnTo>
                  <a:lnTo>
                    <a:pt x="4128" y="2144"/>
                  </a:lnTo>
                  <a:lnTo>
                    <a:pt x="4234" y="2117"/>
                  </a:lnTo>
                  <a:lnTo>
                    <a:pt x="4309" y="2117"/>
                  </a:lnTo>
                  <a:lnTo>
                    <a:pt x="4520" y="2117"/>
                  </a:lnTo>
                  <a:lnTo>
                    <a:pt x="4600" y="2117"/>
                  </a:lnTo>
                  <a:lnTo>
                    <a:pt x="4679" y="2117"/>
                  </a:lnTo>
                  <a:lnTo>
                    <a:pt x="4864" y="2091"/>
                  </a:lnTo>
                  <a:lnTo>
                    <a:pt x="4970" y="2091"/>
                  </a:lnTo>
                  <a:lnTo>
                    <a:pt x="5050" y="2091"/>
                  </a:lnTo>
                  <a:lnTo>
                    <a:pt x="5235" y="2064"/>
                  </a:lnTo>
                  <a:lnTo>
                    <a:pt x="5314" y="2064"/>
                  </a:lnTo>
                  <a:lnTo>
                    <a:pt x="5420" y="2064"/>
                  </a:lnTo>
                  <a:lnTo>
                    <a:pt x="5499" y="2064"/>
                  </a:lnTo>
                  <a:lnTo>
                    <a:pt x="5685" y="2038"/>
                  </a:lnTo>
                  <a:lnTo>
                    <a:pt x="5764" y="2038"/>
                  </a:lnTo>
                  <a:lnTo>
                    <a:pt x="5843" y="2011"/>
                  </a:lnTo>
                  <a:lnTo>
                    <a:pt x="6029" y="1985"/>
                  </a:lnTo>
                  <a:lnTo>
                    <a:pt x="6108" y="1985"/>
                  </a:lnTo>
                  <a:lnTo>
                    <a:pt x="6187" y="1985"/>
                  </a:lnTo>
                  <a:lnTo>
                    <a:pt x="6346" y="1958"/>
                  </a:lnTo>
                  <a:lnTo>
                    <a:pt x="6425" y="1932"/>
                  </a:lnTo>
                  <a:lnTo>
                    <a:pt x="6505" y="1932"/>
                  </a:lnTo>
                  <a:lnTo>
                    <a:pt x="6584" y="1906"/>
                  </a:lnTo>
                  <a:lnTo>
                    <a:pt x="6743" y="1879"/>
                  </a:lnTo>
                  <a:lnTo>
                    <a:pt x="6822" y="1879"/>
                  </a:lnTo>
                  <a:lnTo>
                    <a:pt x="6902" y="1853"/>
                  </a:lnTo>
                  <a:lnTo>
                    <a:pt x="7060" y="1826"/>
                  </a:lnTo>
                  <a:lnTo>
                    <a:pt x="7113" y="1800"/>
                  </a:lnTo>
                  <a:lnTo>
                    <a:pt x="7193" y="1800"/>
                  </a:lnTo>
                  <a:lnTo>
                    <a:pt x="7272" y="1773"/>
                  </a:lnTo>
                  <a:lnTo>
                    <a:pt x="7404" y="1747"/>
                  </a:lnTo>
                  <a:lnTo>
                    <a:pt x="7457" y="1720"/>
                  </a:lnTo>
                  <a:lnTo>
                    <a:pt x="7537" y="1720"/>
                  </a:lnTo>
                  <a:lnTo>
                    <a:pt x="7669" y="1667"/>
                  </a:lnTo>
                  <a:lnTo>
                    <a:pt x="7722" y="1667"/>
                  </a:lnTo>
                  <a:lnTo>
                    <a:pt x="7775" y="1641"/>
                  </a:lnTo>
                  <a:lnTo>
                    <a:pt x="7907" y="1614"/>
                  </a:lnTo>
                  <a:lnTo>
                    <a:pt x="7960" y="1588"/>
                  </a:lnTo>
                  <a:lnTo>
                    <a:pt x="8013" y="1562"/>
                  </a:lnTo>
                  <a:lnTo>
                    <a:pt x="8066" y="1535"/>
                  </a:lnTo>
                  <a:lnTo>
                    <a:pt x="8172" y="1509"/>
                  </a:lnTo>
                  <a:lnTo>
                    <a:pt x="8225" y="1482"/>
                  </a:lnTo>
                  <a:lnTo>
                    <a:pt x="8225" y="0"/>
                  </a:lnTo>
                  <a:close/>
                </a:path>
              </a:pathLst>
            </a:custGeom>
            <a:solidFill>
              <a:srgbClr val="7f7f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09920" y="5952960"/>
              <a:ext cx="1408320" cy="495720"/>
            </a:xfrm>
            <a:custGeom>
              <a:avLst/>
              <a:gdLst/>
              <a:ahLst/>
              <a:rect l="0" t="0" r="r" b="b"/>
              <a:pathLst>
                <a:path w="3912" h="1377">
                  <a:moveTo>
                    <a:pt x="0" y="0"/>
                  </a:moveTo>
                  <a:lnTo>
                    <a:pt x="79" y="0"/>
                  </a:lnTo>
                  <a:lnTo>
                    <a:pt x="264" y="0"/>
                  </a:lnTo>
                  <a:lnTo>
                    <a:pt x="370" y="0"/>
                  </a:lnTo>
                  <a:lnTo>
                    <a:pt x="449" y="0"/>
                  </a:lnTo>
                  <a:lnTo>
                    <a:pt x="630" y="0"/>
                  </a:lnTo>
                  <a:lnTo>
                    <a:pt x="736" y="0"/>
                  </a:lnTo>
                  <a:lnTo>
                    <a:pt x="842" y="0"/>
                  </a:lnTo>
                  <a:lnTo>
                    <a:pt x="921" y="26"/>
                  </a:lnTo>
                  <a:lnTo>
                    <a:pt x="1106" y="26"/>
                  </a:lnTo>
                  <a:lnTo>
                    <a:pt x="1186" y="26"/>
                  </a:lnTo>
                  <a:lnTo>
                    <a:pt x="1292" y="26"/>
                  </a:lnTo>
                  <a:lnTo>
                    <a:pt x="1477" y="52"/>
                  </a:lnTo>
                  <a:lnTo>
                    <a:pt x="1556" y="52"/>
                  </a:lnTo>
                  <a:lnTo>
                    <a:pt x="1636" y="52"/>
                  </a:lnTo>
                  <a:lnTo>
                    <a:pt x="1821" y="79"/>
                  </a:lnTo>
                  <a:lnTo>
                    <a:pt x="1927" y="79"/>
                  </a:lnTo>
                  <a:lnTo>
                    <a:pt x="2007" y="105"/>
                  </a:lnTo>
                  <a:lnTo>
                    <a:pt x="2166" y="105"/>
                  </a:lnTo>
                  <a:lnTo>
                    <a:pt x="2272" y="132"/>
                  </a:lnTo>
                  <a:lnTo>
                    <a:pt x="2351" y="132"/>
                  </a:lnTo>
                  <a:lnTo>
                    <a:pt x="2430" y="132"/>
                  </a:lnTo>
                  <a:lnTo>
                    <a:pt x="2589" y="158"/>
                  </a:lnTo>
                  <a:lnTo>
                    <a:pt x="2668" y="185"/>
                  </a:lnTo>
                  <a:lnTo>
                    <a:pt x="2748" y="185"/>
                  </a:lnTo>
                  <a:lnTo>
                    <a:pt x="2907" y="211"/>
                  </a:lnTo>
                  <a:lnTo>
                    <a:pt x="2986" y="238"/>
                  </a:lnTo>
                  <a:lnTo>
                    <a:pt x="3065" y="238"/>
                  </a:lnTo>
                  <a:lnTo>
                    <a:pt x="3224" y="264"/>
                  </a:lnTo>
                  <a:lnTo>
                    <a:pt x="3303" y="291"/>
                  </a:lnTo>
                  <a:lnTo>
                    <a:pt x="3383" y="291"/>
                  </a:lnTo>
                  <a:lnTo>
                    <a:pt x="3436" y="317"/>
                  </a:lnTo>
                  <a:lnTo>
                    <a:pt x="3594" y="343"/>
                  </a:lnTo>
                  <a:lnTo>
                    <a:pt x="3647" y="371"/>
                  </a:lnTo>
                  <a:lnTo>
                    <a:pt x="3727" y="371"/>
                  </a:lnTo>
                  <a:lnTo>
                    <a:pt x="3859" y="424"/>
                  </a:lnTo>
                  <a:lnTo>
                    <a:pt x="3912" y="424"/>
                  </a:lnTo>
                  <a:lnTo>
                    <a:pt x="0" y="13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09920" y="6105600"/>
              <a:ext cx="1932480" cy="608400"/>
            </a:xfrm>
            <a:custGeom>
              <a:avLst/>
              <a:gdLst/>
              <a:ahLst/>
              <a:rect l="0" t="0" r="r" b="b"/>
              <a:pathLst>
                <a:path w="5368" h="1690">
                  <a:moveTo>
                    <a:pt x="3912" y="0"/>
                  </a:moveTo>
                  <a:lnTo>
                    <a:pt x="3991" y="26"/>
                  </a:lnTo>
                  <a:lnTo>
                    <a:pt x="4098" y="79"/>
                  </a:lnTo>
                  <a:lnTo>
                    <a:pt x="4178" y="79"/>
                  </a:lnTo>
                  <a:lnTo>
                    <a:pt x="4230" y="105"/>
                  </a:lnTo>
                  <a:lnTo>
                    <a:pt x="4336" y="132"/>
                  </a:lnTo>
                  <a:lnTo>
                    <a:pt x="4389" y="158"/>
                  </a:lnTo>
                  <a:lnTo>
                    <a:pt x="4442" y="185"/>
                  </a:lnTo>
                  <a:lnTo>
                    <a:pt x="4548" y="211"/>
                  </a:lnTo>
                  <a:lnTo>
                    <a:pt x="4601" y="238"/>
                  </a:lnTo>
                  <a:lnTo>
                    <a:pt x="4654" y="264"/>
                  </a:lnTo>
                  <a:lnTo>
                    <a:pt x="4680" y="291"/>
                  </a:lnTo>
                  <a:lnTo>
                    <a:pt x="4786" y="317"/>
                  </a:lnTo>
                  <a:lnTo>
                    <a:pt x="4813" y="343"/>
                  </a:lnTo>
                  <a:lnTo>
                    <a:pt x="4865" y="370"/>
                  </a:lnTo>
                  <a:lnTo>
                    <a:pt x="4945" y="424"/>
                  </a:lnTo>
                  <a:lnTo>
                    <a:pt x="4971" y="450"/>
                  </a:lnTo>
                  <a:lnTo>
                    <a:pt x="4998" y="450"/>
                  </a:lnTo>
                  <a:lnTo>
                    <a:pt x="5077" y="503"/>
                  </a:lnTo>
                  <a:lnTo>
                    <a:pt x="5104" y="530"/>
                  </a:lnTo>
                  <a:lnTo>
                    <a:pt x="5130" y="556"/>
                  </a:lnTo>
                  <a:lnTo>
                    <a:pt x="5183" y="609"/>
                  </a:lnTo>
                  <a:lnTo>
                    <a:pt x="5209" y="636"/>
                  </a:lnTo>
                  <a:lnTo>
                    <a:pt x="5236" y="636"/>
                  </a:lnTo>
                  <a:lnTo>
                    <a:pt x="5262" y="688"/>
                  </a:lnTo>
                  <a:lnTo>
                    <a:pt x="5289" y="715"/>
                  </a:lnTo>
                  <a:lnTo>
                    <a:pt x="5289" y="741"/>
                  </a:lnTo>
                  <a:lnTo>
                    <a:pt x="5315" y="794"/>
                  </a:lnTo>
                  <a:lnTo>
                    <a:pt x="5342" y="821"/>
                  </a:lnTo>
                  <a:lnTo>
                    <a:pt x="5342" y="847"/>
                  </a:lnTo>
                  <a:lnTo>
                    <a:pt x="5342" y="874"/>
                  </a:lnTo>
                  <a:lnTo>
                    <a:pt x="5368" y="900"/>
                  </a:lnTo>
                  <a:lnTo>
                    <a:pt x="5368" y="927"/>
                  </a:lnTo>
                  <a:lnTo>
                    <a:pt x="5368" y="953"/>
                  </a:lnTo>
                  <a:lnTo>
                    <a:pt x="5368" y="1006"/>
                  </a:lnTo>
                  <a:lnTo>
                    <a:pt x="5342" y="1032"/>
                  </a:lnTo>
                  <a:lnTo>
                    <a:pt x="5342" y="1059"/>
                  </a:lnTo>
                  <a:lnTo>
                    <a:pt x="5342" y="1112"/>
                  </a:lnTo>
                  <a:lnTo>
                    <a:pt x="5315" y="1138"/>
                  </a:lnTo>
                  <a:lnTo>
                    <a:pt x="5315" y="1165"/>
                  </a:lnTo>
                  <a:lnTo>
                    <a:pt x="5289" y="1191"/>
                  </a:lnTo>
                  <a:lnTo>
                    <a:pt x="5262" y="1218"/>
                  </a:lnTo>
                  <a:lnTo>
                    <a:pt x="5236" y="1244"/>
                  </a:lnTo>
                  <a:lnTo>
                    <a:pt x="5209" y="1298"/>
                  </a:lnTo>
                  <a:lnTo>
                    <a:pt x="5183" y="1324"/>
                  </a:lnTo>
                  <a:lnTo>
                    <a:pt x="5156" y="1351"/>
                  </a:lnTo>
                  <a:lnTo>
                    <a:pt x="5104" y="1377"/>
                  </a:lnTo>
                  <a:lnTo>
                    <a:pt x="5077" y="1404"/>
                  </a:lnTo>
                  <a:lnTo>
                    <a:pt x="5051" y="1430"/>
                  </a:lnTo>
                  <a:lnTo>
                    <a:pt x="4998" y="1452"/>
                  </a:lnTo>
                  <a:lnTo>
                    <a:pt x="4945" y="1505"/>
                  </a:lnTo>
                  <a:lnTo>
                    <a:pt x="4892" y="1532"/>
                  </a:lnTo>
                  <a:lnTo>
                    <a:pt x="4865" y="1532"/>
                  </a:lnTo>
                  <a:lnTo>
                    <a:pt x="4786" y="1585"/>
                  </a:lnTo>
                  <a:lnTo>
                    <a:pt x="4733" y="1611"/>
                  </a:lnTo>
                  <a:lnTo>
                    <a:pt x="4680" y="1638"/>
                  </a:lnTo>
                  <a:lnTo>
                    <a:pt x="4601" y="1664"/>
                  </a:lnTo>
                  <a:lnTo>
                    <a:pt x="4548" y="1690"/>
                  </a:lnTo>
                  <a:lnTo>
                    <a:pt x="0" y="953"/>
                  </a:lnTo>
                  <a:lnTo>
                    <a:pt x="3912" y="0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85840" y="6448320"/>
              <a:ext cx="2961000" cy="503640"/>
            </a:xfrm>
            <a:custGeom>
              <a:avLst/>
              <a:gdLst/>
              <a:ahLst/>
              <a:rect l="0" t="0" r="r" b="b"/>
              <a:pathLst>
                <a:path w="8225" h="1399">
                  <a:moveTo>
                    <a:pt x="8225" y="737"/>
                  </a:moveTo>
                  <a:lnTo>
                    <a:pt x="8172" y="763"/>
                  </a:lnTo>
                  <a:lnTo>
                    <a:pt x="8066" y="790"/>
                  </a:lnTo>
                  <a:lnTo>
                    <a:pt x="8013" y="816"/>
                  </a:lnTo>
                  <a:lnTo>
                    <a:pt x="7960" y="843"/>
                  </a:lnTo>
                  <a:lnTo>
                    <a:pt x="7907" y="869"/>
                  </a:lnTo>
                  <a:lnTo>
                    <a:pt x="7775" y="896"/>
                  </a:lnTo>
                  <a:lnTo>
                    <a:pt x="7722" y="922"/>
                  </a:lnTo>
                  <a:lnTo>
                    <a:pt x="7669" y="922"/>
                  </a:lnTo>
                  <a:lnTo>
                    <a:pt x="7537" y="975"/>
                  </a:lnTo>
                  <a:lnTo>
                    <a:pt x="7457" y="975"/>
                  </a:lnTo>
                  <a:lnTo>
                    <a:pt x="7404" y="1002"/>
                  </a:lnTo>
                  <a:lnTo>
                    <a:pt x="7272" y="1028"/>
                  </a:lnTo>
                  <a:lnTo>
                    <a:pt x="7193" y="1055"/>
                  </a:lnTo>
                  <a:lnTo>
                    <a:pt x="7113" y="1055"/>
                  </a:lnTo>
                  <a:lnTo>
                    <a:pt x="7060" y="1082"/>
                  </a:lnTo>
                  <a:lnTo>
                    <a:pt x="6902" y="1108"/>
                  </a:lnTo>
                  <a:lnTo>
                    <a:pt x="6822" y="1135"/>
                  </a:lnTo>
                  <a:lnTo>
                    <a:pt x="6743" y="1135"/>
                  </a:lnTo>
                  <a:lnTo>
                    <a:pt x="6584" y="1161"/>
                  </a:lnTo>
                  <a:lnTo>
                    <a:pt x="6505" y="1188"/>
                  </a:lnTo>
                  <a:lnTo>
                    <a:pt x="6425" y="1188"/>
                  </a:lnTo>
                  <a:lnTo>
                    <a:pt x="6346" y="1214"/>
                  </a:lnTo>
                  <a:lnTo>
                    <a:pt x="6187" y="1241"/>
                  </a:lnTo>
                  <a:lnTo>
                    <a:pt x="6108" y="1241"/>
                  </a:lnTo>
                  <a:lnTo>
                    <a:pt x="6029" y="1241"/>
                  </a:lnTo>
                  <a:lnTo>
                    <a:pt x="5843" y="1267"/>
                  </a:lnTo>
                  <a:lnTo>
                    <a:pt x="5764" y="1294"/>
                  </a:lnTo>
                  <a:lnTo>
                    <a:pt x="5685" y="1294"/>
                  </a:lnTo>
                  <a:lnTo>
                    <a:pt x="5499" y="1320"/>
                  </a:lnTo>
                  <a:lnTo>
                    <a:pt x="5420" y="1320"/>
                  </a:lnTo>
                  <a:lnTo>
                    <a:pt x="5314" y="1320"/>
                  </a:lnTo>
                  <a:lnTo>
                    <a:pt x="5235" y="1320"/>
                  </a:lnTo>
                  <a:lnTo>
                    <a:pt x="5050" y="1346"/>
                  </a:lnTo>
                  <a:lnTo>
                    <a:pt x="4970" y="1346"/>
                  </a:lnTo>
                  <a:lnTo>
                    <a:pt x="4864" y="1346"/>
                  </a:lnTo>
                  <a:lnTo>
                    <a:pt x="4679" y="1373"/>
                  </a:lnTo>
                  <a:lnTo>
                    <a:pt x="4600" y="1373"/>
                  </a:lnTo>
                  <a:lnTo>
                    <a:pt x="4520" y="1373"/>
                  </a:lnTo>
                  <a:lnTo>
                    <a:pt x="4309" y="1373"/>
                  </a:lnTo>
                  <a:lnTo>
                    <a:pt x="4234" y="1373"/>
                  </a:lnTo>
                  <a:lnTo>
                    <a:pt x="4128" y="1399"/>
                  </a:lnTo>
                  <a:lnTo>
                    <a:pt x="4048" y="1399"/>
                  </a:lnTo>
                  <a:lnTo>
                    <a:pt x="3862" y="1399"/>
                  </a:lnTo>
                  <a:lnTo>
                    <a:pt x="3757" y="1399"/>
                  </a:lnTo>
                  <a:lnTo>
                    <a:pt x="3677" y="1399"/>
                  </a:lnTo>
                  <a:lnTo>
                    <a:pt x="3492" y="1399"/>
                  </a:lnTo>
                  <a:lnTo>
                    <a:pt x="3386" y="1399"/>
                  </a:lnTo>
                  <a:lnTo>
                    <a:pt x="3307" y="1399"/>
                  </a:lnTo>
                  <a:lnTo>
                    <a:pt x="3201" y="1399"/>
                  </a:lnTo>
                  <a:lnTo>
                    <a:pt x="3016" y="1373"/>
                  </a:lnTo>
                  <a:lnTo>
                    <a:pt x="2910" y="1373"/>
                  </a:lnTo>
                  <a:lnTo>
                    <a:pt x="2831" y="1373"/>
                  </a:lnTo>
                  <a:lnTo>
                    <a:pt x="2645" y="1373"/>
                  </a:lnTo>
                  <a:lnTo>
                    <a:pt x="2566" y="1373"/>
                  </a:lnTo>
                  <a:lnTo>
                    <a:pt x="2460" y="1346"/>
                  </a:lnTo>
                  <a:lnTo>
                    <a:pt x="2275" y="1346"/>
                  </a:lnTo>
                  <a:lnTo>
                    <a:pt x="2196" y="1346"/>
                  </a:lnTo>
                  <a:lnTo>
                    <a:pt x="2090" y="1320"/>
                  </a:lnTo>
                  <a:lnTo>
                    <a:pt x="2010" y="1320"/>
                  </a:lnTo>
                  <a:lnTo>
                    <a:pt x="1825" y="1320"/>
                  </a:lnTo>
                  <a:lnTo>
                    <a:pt x="1746" y="1294"/>
                  </a:lnTo>
                  <a:lnTo>
                    <a:pt x="1666" y="1294"/>
                  </a:lnTo>
                  <a:lnTo>
                    <a:pt x="1481" y="1267"/>
                  </a:lnTo>
                  <a:lnTo>
                    <a:pt x="1402" y="1267"/>
                  </a:lnTo>
                  <a:lnTo>
                    <a:pt x="1322" y="1241"/>
                  </a:lnTo>
                  <a:lnTo>
                    <a:pt x="1243" y="1241"/>
                  </a:lnTo>
                  <a:lnTo>
                    <a:pt x="1058" y="1214"/>
                  </a:lnTo>
                  <a:lnTo>
                    <a:pt x="978" y="1214"/>
                  </a:lnTo>
                  <a:lnTo>
                    <a:pt x="899" y="1188"/>
                  </a:lnTo>
                  <a:lnTo>
                    <a:pt x="740" y="1161"/>
                  </a:lnTo>
                  <a:lnTo>
                    <a:pt x="661" y="1161"/>
                  </a:lnTo>
                  <a:lnTo>
                    <a:pt x="582" y="1135"/>
                  </a:lnTo>
                  <a:lnTo>
                    <a:pt x="449" y="1108"/>
                  </a:lnTo>
                  <a:lnTo>
                    <a:pt x="370" y="1108"/>
                  </a:lnTo>
                  <a:lnTo>
                    <a:pt x="291" y="1082"/>
                  </a:lnTo>
                  <a:lnTo>
                    <a:pt x="211" y="1055"/>
                  </a:lnTo>
                  <a:lnTo>
                    <a:pt x="79" y="1028"/>
                  </a:lnTo>
                  <a:lnTo>
                    <a:pt x="0" y="1028"/>
                  </a:lnTo>
                  <a:lnTo>
                    <a:pt x="3677" y="0"/>
                  </a:lnTo>
                  <a:lnTo>
                    <a:pt x="8225" y="737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6360" y="6105600"/>
              <a:ext cx="1933920" cy="713160"/>
            </a:xfrm>
            <a:custGeom>
              <a:avLst/>
              <a:gdLst/>
              <a:ahLst/>
              <a:rect l="0" t="0" r="r" b="b"/>
              <a:pathLst>
                <a:path w="5372" h="1981">
                  <a:moveTo>
                    <a:pt x="1693" y="1981"/>
                  </a:moveTo>
                  <a:lnTo>
                    <a:pt x="1640" y="1955"/>
                  </a:lnTo>
                  <a:lnTo>
                    <a:pt x="1508" y="1929"/>
                  </a:lnTo>
                  <a:lnTo>
                    <a:pt x="1428" y="1902"/>
                  </a:lnTo>
                  <a:lnTo>
                    <a:pt x="1375" y="1876"/>
                  </a:lnTo>
                  <a:lnTo>
                    <a:pt x="1243" y="1849"/>
                  </a:lnTo>
                  <a:lnTo>
                    <a:pt x="1190" y="1823"/>
                  </a:lnTo>
                  <a:lnTo>
                    <a:pt x="1137" y="1823"/>
                  </a:lnTo>
                  <a:lnTo>
                    <a:pt x="1084" y="1796"/>
                  </a:lnTo>
                  <a:lnTo>
                    <a:pt x="952" y="1743"/>
                  </a:lnTo>
                  <a:lnTo>
                    <a:pt x="899" y="1743"/>
                  </a:lnTo>
                  <a:lnTo>
                    <a:pt x="846" y="1717"/>
                  </a:lnTo>
                  <a:lnTo>
                    <a:pt x="767" y="1664"/>
                  </a:lnTo>
                  <a:lnTo>
                    <a:pt x="714" y="1664"/>
                  </a:lnTo>
                  <a:lnTo>
                    <a:pt x="661" y="1638"/>
                  </a:lnTo>
                  <a:lnTo>
                    <a:pt x="582" y="1585"/>
                  </a:lnTo>
                  <a:lnTo>
                    <a:pt x="529" y="1558"/>
                  </a:lnTo>
                  <a:lnTo>
                    <a:pt x="502" y="1532"/>
                  </a:lnTo>
                  <a:lnTo>
                    <a:pt x="449" y="1532"/>
                  </a:lnTo>
                  <a:lnTo>
                    <a:pt x="396" y="1478"/>
                  </a:lnTo>
                  <a:lnTo>
                    <a:pt x="343" y="1451"/>
                  </a:lnTo>
                  <a:lnTo>
                    <a:pt x="317" y="1429"/>
                  </a:lnTo>
                  <a:lnTo>
                    <a:pt x="264" y="1376"/>
                  </a:lnTo>
                  <a:lnTo>
                    <a:pt x="238" y="1376"/>
                  </a:lnTo>
                  <a:lnTo>
                    <a:pt x="211" y="1350"/>
                  </a:lnTo>
                  <a:lnTo>
                    <a:pt x="158" y="1297"/>
                  </a:lnTo>
                  <a:lnTo>
                    <a:pt x="132" y="1271"/>
                  </a:lnTo>
                  <a:lnTo>
                    <a:pt x="105" y="1244"/>
                  </a:lnTo>
                  <a:lnTo>
                    <a:pt x="79" y="1191"/>
                  </a:lnTo>
                  <a:lnTo>
                    <a:pt x="52" y="1165"/>
                  </a:lnTo>
                  <a:lnTo>
                    <a:pt x="26" y="1138"/>
                  </a:lnTo>
                  <a:lnTo>
                    <a:pt x="26" y="1085"/>
                  </a:lnTo>
                  <a:lnTo>
                    <a:pt x="0" y="1059"/>
                  </a:lnTo>
                  <a:lnTo>
                    <a:pt x="0" y="1032"/>
                  </a:lnTo>
                  <a:lnTo>
                    <a:pt x="0" y="979"/>
                  </a:lnTo>
                  <a:lnTo>
                    <a:pt x="0" y="953"/>
                  </a:lnTo>
                  <a:lnTo>
                    <a:pt x="0" y="927"/>
                  </a:lnTo>
                  <a:lnTo>
                    <a:pt x="0" y="900"/>
                  </a:lnTo>
                  <a:lnTo>
                    <a:pt x="0" y="874"/>
                  </a:lnTo>
                  <a:lnTo>
                    <a:pt x="26" y="847"/>
                  </a:lnTo>
                  <a:lnTo>
                    <a:pt x="26" y="821"/>
                  </a:lnTo>
                  <a:lnTo>
                    <a:pt x="52" y="768"/>
                  </a:lnTo>
                  <a:lnTo>
                    <a:pt x="52" y="741"/>
                  </a:lnTo>
                  <a:lnTo>
                    <a:pt x="79" y="715"/>
                  </a:lnTo>
                  <a:lnTo>
                    <a:pt x="105" y="662"/>
                  </a:lnTo>
                  <a:lnTo>
                    <a:pt x="132" y="636"/>
                  </a:lnTo>
                  <a:lnTo>
                    <a:pt x="158" y="636"/>
                  </a:lnTo>
                  <a:lnTo>
                    <a:pt x="211" y="583"/>
                  </a:lnTo>
                  <a:lnTo>
                    <a:pt x="238" y="556"/>
                  </a:lnTo>
                  <a:lnTo>
                    <a:pt x="264" y="530"/>
                  </a:lnTo>
                  <a:lnTo>
                    <a:pt x="317" y="476"/>
                  </a:lnTo>
                  <a:lnTo>
                    <a:pt x="343" y="449"/>
                  </a:lnTo>
                  <a:lnTo>
                    <a:pt x="396" y="449"/>
                  </a:lnTo>
                  <a:lnTo>
                    <a:pt x="423" y="423"/>
                  </a:lnTo>
                  <a:lnTo>
                    <a:pt x="502" y="370"/>
                  </a:lnTo>
                  <a:lnTo>
                    <a:pt x="529" y="343"/>
                  </a:lnTo>
                  <a:lnTo>
                    <a:pt x="582" y="317"/>
                  </a:lnTo>
                  <a:lnTo>
                    <a:pt x="661" y="291"/>
                  </a:lnTo>
                  <a:lnTo>
                    <a:pt x="714" y="264"/>
                  </a:lnTo>
                  <a:lnTo>
                    <a:pt x="767" y="238"/>
                  </a:lnTo>
                  <a:lnTo>
                    <a:pt x="846" y="211"/>
                  </a:lnTo>
                  <a:lnTo>
                    <a:pt x="899" y="185"/>
                  </a:lnTo>
                  <a:lnTo>
                    <a:pt x="952" y="158"/>
                  </a:lnTo>
                  <a:lnTo>
                    <a:pt x="1031" y="132"/>
                  </a:lnTo>
                  <a:lnTo>
                    <a:pt x="1137" y="105"/>
                  </a:lnTo>
                  <a:lnTo>
                    <a:pt x="1190" y="79"/>
                  </a:lnTo>
                  <a:lnTo>
                    <a:pt x="1243" y="79"/>
                  </a:lnTo>
                  <a:lnTo>
                    <a:pt x="1375" y="26"/>
                  </a:lnTo>
                  <a:lnTo>
                    <a:pt x="1428" y="0"/>
                  </a:lnTo>
                  <a:lnTo>
                    <a:pt x="5372" y="953"/>
                  </a:lnTo>
                  <a:lnTo>
                    <a:pt x="1693" y="1981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90800" y="5952960"/>
              <a:ext cx="1419480" cy="495720"/>
            </a:xfrm>
            <a:custGeom>
              <a:avLst/>
              <a:gdLst/>
              <a:ahLst/>
              <a:rect l="0" t="0" r="r" b="b"/>
              <a:pathLst>
                <a:path w="3943" h="1377">
                  <a:moveTo>
                    <a:pt x="0" y="424"/>
                  </a:moveTo>
                  <a:lnTo>
                    <a:pt x="79" y="424"/>
                  </a:lnTo>
                  <a:lnTo>
                    <a:pt x="211" y="371"/>
                  </a:lnTo>
                  <a:lnTo>
                    <a:pt x="264" y="371"/>
                  </a:lnTo>
                  <a:lnTo>
                    <a:pt x="343" y="343"/>
                  </a:lnTo>
                  <a:lnTo>
                    <a:pt x="476" y="317"/>
                  </a:lnTo>
                  <a:lnTo>
                    <a:pt x="555" y="291"/>
                  </a:lnTo>
                  <a:lnTo>
                    <a:pt x="635" y="291"/>
                  </a:lnTo>
                  <a:lnTo>
                    <a:pt x="714" y="264"/>
                  </a:lnTo>
                  <a:lnTo>
                    <a:pt x="846" y="238"/>
                  </a:lnTo>
                  <a:lnTo>
                    <a:pt x="926" y="238"/>
                  </a:lnTo>
                  <a:lnTo>
                    <a:pt x="1005" y="211"/>
                  </a:lnTo>
                  <a:lnTo>
                    <a:pt x="1164" y="185"/>
                  </a:lnTo>
                  <a:lnTo>
                    <a:pt x="1243" y="185"/>
                  </a:lnTo>
                  <a:lnTo>
                    <a:pt x="1322" y="158"/>
                  </a:lnTo>
                  <a:lnTo>
                    <a:pt x="1508" y="132"/>
                  </a:lnTo>
                  <a:lnTo>
                    <a:pt x="1587" y="132"/>
                  </a:lnTo>
                  <a:lnTo>
                    <a:pt x="1666" y="132"/>
                  </a:lnTo>
                  <a:lnTo>
                    <a:pt x="1825" y="105"/>
                  </a:lnTo>
                  <a:lnTo>
                    <a:pt x="1931" y="105"/>
                  </a:lnTo>
                  <a:lnTo>
                    <a:pt x="2011" y="79"/>
                  </a:lnTo>
                  <a:lnTo>
                    <a:pt x="2091" y="79"/>
                  </a:lnTo>
                  <a:lnTo>
                    <a:pt x="2276" y="52"/>
                  </a:lnTo>
                  <a:lnTo>
                    <a:pt x="2355" y="52"/>
                  </a:lnTo>
                  <a:lnTo>
                    <a:pt x="2461" y="52"/>
                  </a:lnTo>
                  <a:lnTo>
                    <a:pt x="2646" y="26"/>
                  </a:lnTo>
                  <a:lnTo>
                    <a:pt x="2726" y="26"/>
                  </a:lnTo>
                  <a:lnTo>
                    <a:pt x="2832" y="26"/>
                  </a:lnTo>
                  <a:lnTo>
                    <a:pt x="2990" y="26"/>
                  </a:lnTo>
                  <a:lnTo>
                    <a:pt x="3096" y="0"/>
                  </a:lnTo>
                  <a:lnTo>
                    <a:pt x="3176" y="0"/>
                  </a:lnTo>
                  <a:lnTo>
                    <a:pt x="3281" y="0"/>
                  </a:lnTo>
                  <a:lnTo>
                    <a:pt x="3467" y="0"/>
                  </a:lnTo>
                  <a:lnTo>
                    <a:pt x="3572" y="0"/>
                  </a:lnTo>
                  <a:lnTo>
                    <a:pt x="3652" y="0"/>
                  </a:lnTo>
                  <a:lnTo>
                    <a:pt x="3837" y="0"/>
                  </a:lnTo>
                  <a:lnTo>
                    <a:pt x="3943" y="0"/>
                  </a:lnTo>
                  <a:lnTo>
                    <a:pt x="3943" y="1377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6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4135320" y="5321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4183200" y="558792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5364000" y="608328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>
              <a:off x="5611680" y="635004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3193920" y="756756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441600" y="783432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460440" y="671976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708120" y="698652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2060640" y="533088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2108160" y="559764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 txBox="1"/>
          <p:nvPr/>
        </p:nvSpPr>
        <p:spPr>
          <a:xfrm>
            <a:off x="1231920" y="8413920"/>
            <a:ext cx="4603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¨ÈÁp¤uµ{ÅU°ÝªÑ¥÷¦³­­¤½¥q  ¹B¿é³W¹º³¡</dc:creator>
  <dc:description/>
  <dc:language>en-US</dc:language>
  <cp:lastModifiedBy>¨ÈÁp¤uµ{ÅU°ÝªÑ¥÷¦³­­¤½¥q  ¹B¿é³W¹º³¡</cp:lastModifiedBy>
  <cp:revision>0</cp:revision>
  <dc:subject/>
  <dc:title/>
</cp:coreProperties>
</file>