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2508120" y="5851440"/>
            <a:ext cx="5670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657360" y="704880"/>
            <a:ext cx="8601120" cy="484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523880" y="885960"/>
            <a:ext cx="7448760" cy="4113720"/>
          </a:xfrm>
          <a:custGeom>
            <a:avLst/>
            <a:gdLst/>
            <a:ahLst/>
            <a:rect l="0" t="0" r="r" b="b"/>
            <a:pathLst>
              <a:path w="20691" h="11427">
                <a:moveTo>
                  <a:pt x="0" y="0"/>
                </a:moveTo>
                <a:lnTo>
                  <a:pt x="20691" y="0"/>
                </a:lnTo>
                <a:lnTo>
                  <a:pt x="20691" y="11427"/>
                </a:lnTo>
                <a:lnTo>
                  <a:pt x="0" y="11427"/>
                </a:lnTo>
                <a:lnTo>
                  <a:pt x="0" y="0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523880" y="4322880"/>
            <a:ext cx="7458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3637080"/>
            <a:ext cx="7458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2952720"/>
            <a:ext cx="7458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2257560"/>
            <a:ext cx="7458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1571760"/>
            <a:ext cx="7458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885960"/>
            <a:ext cx="7458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885960"/>
            <a:ext cx="7458480" cy="4123080"/>
          </a:xfrm>
          <a:custGeom>
            <a:avLst/>
            <a:gdLst/>
            <a:ahLst/>
            <a:rect l="0" t="0" r="r" b="b"/>
            <a:pathLst>
              <a:path fill="none" w="20718" h="11453">
                <a:moveTo>
                  <a:pt x="0" y="0"/>
                </a:moveTo>
                <a:lnTo>
                  <a:pt x="20718" y="0"/>
                </a:lnTo>
                <a:lnTo>
                  <a:pt x="20718" y="11453"/>
                </a:lnTo>
                <a:lnTo>
                  <a:pt x="0" y="11453"/>
                </a:lnTo>
                <a:lnTo>
                  <a:pt x="0" y="0"/>
                </a:lnTo>
              </a:path>
            </a:pathLst>
          </a:custGeom>
          <a:ln w="12600">
            <a:solidFill>
              <a:srgbClr val="80808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885960"/>
            <a:ext cx="0" cy="4122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500868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432288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363708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295272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225756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157176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885960"/>
            <a:ext cx="47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5008680"/>
            <a:ext cx="7458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523880" y="4941720"/>
            <a:ext cx="0" cy="6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390840" y="4941720"/>
            <a:ext cx="0" cy="6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257800" y="4941720"/>
            <a:ext cx="0" cy="6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7115040" y="4941720"/>
            <a:ext cx="0" cy="6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982000" y="4941720"/>
            <a:ext cx="0" cy="66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1324080"/>
            <a:ext cx="7458480" cy="3427920"/>
          </a:xfrm>
          <a:custGeom>
            <a:avLst/>
            <a:gdLst/>
            <a:ahLst/>
            <a:rect l="0" t="0" r="r" b="b"/>
            <a:pathLst>
              <a:path fill="none" w="20718" h="9522">
                <a:moveTo>
                  <a:pt x="0" y="9522"/>
                </a:moveTo>
                <a:lnTo>
                  <a:pt x="5186" y="6611"/>
                </a:lnTo>
                <a:lnTo>
                  <a:pt x="10372" y="3784"/>
                </a:lnTo>
                <a:lnTo>
                  <a:pt x="15532" y="6425"/>
                </a:lnTo>
                <a:lnTo>
                  <a:pt x="2071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95440" y="472284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62400" y="367524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29360" y="265752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360828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953560" y="1295280"/>
            <a:ext cx="57600" cy="57600"/>
          </a:xfrm>
          <a:custGeom>
            <a:avLst/>
            <a:gdLst/>
            <a:ahLst/>
            <a:rect l="0" t="0" r="r" b="b"/>
            <a:pathLst>
              <a:path w="160" h="160">
                <a:moveTo>
                  <a:pt x="80" y="0"/>
                </a:moveTo>
                <a:lnTo>
                  <a:pt x="160" y="80"/>
                </a:lnTo>
                <a:lnTo>
                  <a:pt x="80" y="160"/>
                </a:lnTo>
                <a:lnTo>
                  <a:pt x="0" y="80"/>
                </a:lnTo>
                <a:lnTo>
                  <a:pt x="8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12680" y="48769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12680" y="41911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12680" y="3505320"/>
            <a:ext cx="488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36720" y="2820960"/>
            <a:ext cx="56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36720" y="2125800"/>
            <a:ext cx="56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36720" y="1440000"/>
            <a:ext cx="56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36720" y="754200"/>
            <a:ext cx="56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31920" y="516744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98880" y="516744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65840" y="516744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23080" y="516744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690040" y="516744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69960" y="1920960"/>
            <a:ext cx="38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69960" y="2187720"/>
            <a:ext cx="38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69960" y="2454120"/>
            <a:ext cx="38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71480" y="2695680"/>
            <a:ext cx="336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69960" y="2987640"/>
            <a:ext cx="38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69960" y="3252960"/>
            <a:ext cx="38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71480" y="3494160"/>
            <a:ext cx="3366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7360" y="704880"/>
            <a:ext cx="8591400" cy="4836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517760" y="5927760"/>
            <a:ext cx="688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9520" y="669960"/>
            <a:ext cx="8794800" cy="519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22440" y="947880"/>
            <a:ext cx="8191800" cy="4763880"/>
            <a:chOff x="622440" y="947880"/>
            <a:chExt cx="8191800" cy="4763880"/>
          </a:xfrm>
        </p:grpSpPr>
        <p:sp>
          <p:nvSpPr>
            <p:cNvPr id="91" name=""/>
            <p:cNvSpPr/>
            <p:nvPr/>
          </p:nvSpPr>
          <p:spPr>
            <a:xfrm>
              <a:off x="1382760" y="5118120"/>
              <a:ext cx="7421760" cy="221040"/>
            </a:xfrm>
            <a:custGeom>
              <a:avLst/>
              <a:gdLst/>
              <a:ahLst/>
              <a:rect l="0" t="0" r="r" b="b"/>
              <a:pathLst>
                <a:path w="20616" h="614">
                  <a:moveTo>
                    <a:pt x="20616" y="0"/>
                  </a:moveTo>
                  <a:lnTo>
                    <a:pt x="19863" y="614"/>
                  </a:lnTo>
                  <a:lnTo>
                    <a:pt x="0" y="614"/>
                  </a:lnTo>
                  <a:lnTo>
                    <a:pt x="753" y="0"/>
                  </a:lnTo>
                  <a:lnTo>
                    <a:pt x="2061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82760" y="947880"/>
              <a:ext cx="262440" cy="4391280"/>
            </a:xfrm>
            <a:custGeom>
              <a:avLst/>
              <a:gdLst/>
              <a:ahLst/>
              <a:rect l="0" t="0" r="r" b="b"/>
              <a:pathLst>
                <a:path w="729" h="12198">
                  <a:moveTo>
                    <a:pt x="0" y="12198"/>
                  </a:moveTo>
                  <a:lnTo>
                    <a:pt x="0" y="633"/>
                  </a:lnTo>
                  <a:lnTo>
                    <a:pt x="729" y="0"/>
                  </a:lnTo>
                  <a:lnTo>
                    <a:pt x="729" y="11560"/>
                  </a:lnTo>
                  <a:lnTo>
                    <a:pt x="0" y="1219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54200" y="947880"/>
              <a:ext cx="7150320" cy="4161240"/>
            </a:xfrm>
            <a:custGeom>
              <a:avLst/>
              <a:gdLst/>
              <a:ahLst/>
              <a:rect l="0" t="0" r="r" b="b"/>
              <a:pathLst>
                <a:path w="19862" h="11559">
                  <a:moveTo>
                    <a:pt x="0" y="11559"/>
                  </a:moveTo>
                  <a:lnTo>
                    <a:pt x="0" y="0"/>
                  </a:lnTo>
                  <a:lnTo>
                    <a:pt x="19862" y="0"/>
                  </a:lnTo>
                  <a:lnTo>
                    <a:pt x="19862" y="11559"/>
                  </a:lnTo>
                  <a:lnTo>
                    <a:pt x="0" y="11559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82760" y="5118120"/>
              <a:ext cx="7431480" cy="230400"/>
            </a:xfrm>
            <a:custGeom>
              <a:avLst/>
              <a:gdLst/>
              <a:ahLst/>
              <a:rect l="0" t="0" r="r" b="b"/>
              <a:pathLst>
                <a:path fill="none" w="20643" h="640">
                  <a:moveTo>
                    <a:pt x="0" y="640"/>
                  </a:moveTo>
                  <a:lnTo>
                    <a:pt x="754" y="0"/>
                  </a:lnTo>
                  <a:lnTo>
                    <a:pt x="2064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82760" y="4707000"/>
              <a:ext cx="7431480" cy="219600"/>
            </a:xfrm>
            <a:custGeom>
              <a:avLst/>
              <a:gdLst/>
              <a:ahLst/>
              <a:rect l="0" t="0" r="r" b="b"/>
              <a:pathLst>
                <a:path fill="none" w="20643" h="610">
                  <a:moveTo>
                    <a:pt x="0" y="610"/>
                  </a:moveTo>
                  <a:lnTo>
                    <a:pt x="754" y="0"/>
                  </a:lnTo>
                  <a:lnTo>
                    <a:pt x="2064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82760" y="4286160"/>
              <a:ext cx="7431480" cy="219600"/>
            </a:xfrm>
            <a:custGeom>
              <a:avLst/>
              <a:gdLst/>
              <a:ahLst/>
              <a:rect l="0" t="0" r="r" b="b"/>
              <a:pathLst>
                <a:path fill="none" w="20643" h="610">
                  <a:moveTo>
                    <a:pt x="0" y="610"/>
                  </a:moveTo>
                  <a:lnTo>
                    <a:pt x="754" y="0"/>
                  </a:lnTo>
                  <a:lnTo>
                    <a:pt x="2064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82760" y="3865680"/>
              <a:ext cx="7431480" cy="228960"/>
            </a:xfrm>
            <a:custGeom>
              <a:avLst/>
              <a:gdLst/>
              <a:ahLst/>
              <a:rect l="0" t="0" r="r" b="b"/>
              <a:pathLst>
                <a:path fill="none" w="20643" h="636">
                  <a:moveTo>
                    <a:pt x="0" y="636"/>
                  </a:moveTo>
                  <a:lnTo>
                    <a:pt x="754" y="0"/>
                  </a:lnTo>
                  <a:lnTo>
                    <a:pt x="2064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82760" y="3454560"/>
              <a:ext cx="7431480" cy="219600"/>
            </a:xfrm>
            <a:custGeom>
              <a:avLst/>
              <a:gdLst/>
              <a:ahLst/>
              <a:rect l="0" t="0" r="r" b="b"/>
              <a:pathLst>
                <a:path fill="none" w="20643" h="610">
                  <a:moveTo>
                    <a:pt x="0" y="610"/>
                  </a:moveTo>
                  <a:lnTo>
                    <a:pt x="754" y="0"/>
                  </a:lnTo>
                  <a:lnTo>
                    <a:pt x="2064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82760" y="3032280"/>
              <a:ext cx="7431480" cy="230400"/>
            </a:xfrm>
            <a:custGeom>
              <a:avLst/>
              <a:gdLst/>
              <a:ahLst/>
              <a:rect l="0" t="0" r="r" b="b"/>
              <a:pathLst>
                <a:path fill="none" w="20643" h="640">
                  <a:moveTo>
                    <a:pt x="0" y="640"/>
                  </a:moveTo>
                  <a:lnTo>
                    <a:pt x="754" y="0"/>
                  </a:lnTo>
                  <a:lnTo>
                    <a:pt x="2064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82760" y="2620800"/>
              <a:ext cx="7431480" cy="221040"/>
            </a:xfrm>
            <a:custGeom>
              <a:avLst/>
              <a:gdLst/>
              <a:ahLst/>
              <a:rect l="0" t="0" r="r" b="b"/>
              <a:pathLst>
                <a:path fill="none" w="20643" h="614">
                  <a:moveTo>
                    <a:pt x="0" y="614"/>
                  </a:moveTo>
                  <a:lnTo>
                    <a:pt x="754" y="0"/>
                  </a:lnTo>
                  <a:lnTo>
                    <a:pt x="2064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82760" y="2200320"/>
              <a:ext cx="7431480" cy="230400"/>
            </a:xfrm>
            <a:custGeom>
              <a:avLst/>
              <a:gdLst/>
              <a:ahLst/>
              <a:rect l="0" t="0" r="r" b="b"/>
              <a:pathLst>
                <a:path fill="none" w="20643" h="640">
                  <a:moveTo>
                    <a:pt x="0" y="640"/>
                  </a:moveTo>
                  <a:lnTo>
                    <a:pt x="754" y="0"/>
                  </a:lnTo>
                  <a:lnTo>
                    <a:pt x="2064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82760" y="1789200"/>
              <a:ext cx="7431480" cy="221040"/>
            </a:xfrm>
            <a:custGeom>
              <a:avLst/>
              <a:gdLst/>
              <a:ahLst/>
              <a:rect l="0" t="0" r="r" b="b"/>
              <a:pathLst>
                <a:path fill="none" w="20643" h="614">
                  <a:moveTo>
                    <a:pt x="0" y="614"/>
                  </a:moveTo>
                  <a:lnTo>
                    <a:pt x="754" y="0"/>
                  </a:lnTo>
                  <a:lnTo>
                    <a:pt x="2064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82760" y="1368360"/>
              <a:ext cx="7431480" cy="219600"/>
            </a:xfrm>
            <a:custGeom>
              <a:avLst/>
              <a:gdLst/>
              <a:ahLst/>
              <a:rect l="0" t="0" r="r" b="b"/>
              <a:pathLst>
                <a:path fill="none" w="20643" h="610">
                  <a:moveTo>
                    <a:pt x="0" y="610"/>
                  </a:moveTo>
                  <a:lnTo>
                    <a:pt x="754" y="0"/>
                  </a:lnTo>
                  <a:lnTo>
                    <a:pt x="2064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82760" y="947880"/>
              <a:ext cx="7431480" cy="228960"/>
            </a:xfrm>
            <a:custGeom>
              <a:avLst/>
              <a:gdLst/>
              <a:ahLst/>
              <a:rect l="0" t="0" r="r" b="b"/>
              <a:pathLst>
                <a:path fill="none" w="20643" h="636">
                  <a:moveTo>
                    <a:pt x="0" y="636"/>
                  </a:moveTo>
                  <a:lnTo>
                    <a:pt x="754" y="0"/>
                  </a:lnTo>
                  <a:lnTo>
                    <a:pt x="2064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82760" y="5118120"/>
              <a:ext cx="7431480" cy="230400"/>
            </a:xfrm>
            <a:custGeom>
              <a:avLst/>
              <a:gdLst/>
              <a:ahLst/>
              <a:rect l="0" t="0" r="r" b="b"/>
              <a:pathLst>
                <a:path fill="none" w="20643" h="640">
                  <a:moveTo>
                    <a:pt x="20643" y="0"/>
                  </a:moveTo>
                  <a:lnTo>
                    <a:pt x="19889" y="640"/>
                  </a:lnTo>
                  <a:lnTo>
                    <a:pt x="0" y="640"/>
                  </a:lnTo>
                  <a:lnTo>
                    <a:pt x="754" y="0"/>
                  </a:lnTo>
                  <a:lnTo>
                    <a:pt x="2064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82760" y="947880"/>
              <a:ext cx="271800" cy="4401000"/>
            </a:xfrm>
            <a:custGeom>
              <a:avLst/>
              <a:gdLst/>
              <a:ahLst/>
              <a:rect l="0" t="0" r="r" b="b"/>
              <a:pathLst>
                <a:path fill="none" w="755" h="12225">
                  <a:moveTo>
                    <a:pt x="0" y="12225"/>
                  </a:moveTo>
                  <a:lnTo>
                    <a:pt x="0" y="635"/>
                  </a:lnTo>
                  <a:lnTo>
                    <a:pt x="755" y="0"/>
                  </a:lnTo>
                  <a:lnTo>
                    <a:pt x="755" y="11586"/>
                  </a:lnTo>
                  <a:lnTo>
                    <a:pt x="0" y="12225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54200" y="947880"/>
              <a:ext cx="7160040" cy="4170600"/>
            </a:xfrm>
            <a:custGeom>
              <a:avLst/>
              <a:gdLst/>
              <a:ahLst/>
              <a:rect l="0" t="0" r="r" b="b"/>
              <a:pathLst>
                <a:path fill="none" w="19889" h="11585">
                  <a:moveTo>
                    <a:pt x="0" y="11585"/>
                  </a:moveTo>
                  <a:lnTo>
                    <a:pt x="0" y="0"/>
                  </a:lnTo>
                  <a:lnTo>
                    <a:pt x="19889" y="0"/>
                  </a:lnTo>
                  <a:lnTo>
                    <a:pt x="19889" y="11585"/>
                  </a:lnTo>
                  <a:lnTo>
                    <a:pt x="0" y="11585"/>
                  </a:lnTo>
                </a:path>
              </a:pathLst>
            </a:custGeom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82760" y="5348160"/>
              <a:ext cx="7159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82760" y="5280120"/>
              <a:ext cx="0" cy="6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05160" y="5280120"/>
              <a:ext cx="0" cy="6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25760" y="5280120"/>
              <a:ext cx="0" cy="6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48160" y="5280120"/>
              <a:ext cx="0" cy="6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68760" y="5280120"/>
              <a:ext cx="0" cy="6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89720" y="5280120"/>
              <a:ext cx="0" cy="6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2120" y="5280120"/>
              <a:ext cx="0" cy="6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542440" y="5280120"/>
              <a:ext cx="0" cy="6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1608120" y="5375160"/>
              <a:ext cx="590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2538360" y="537516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649680" y="5375160"/>
              <a:ext cx="590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4780080" y="537516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5702400" y="5375160"/>
              <a:ext cx="590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6723000" y="5375160"/>
              <a:ext cx="590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7745400" y="5375160"/>
              <a:ext cx="590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97000" y="3119400"/>
              <a:ext cx="281520" cy="2229120"/>
            </a:xfrm>
            <a:custGeom>
              <a:avLst/>
              <a:gdLst/>
              <a:ahLst/>
              <a:rect l="0" t="0" r="r" b="b"/>
              <a:pathLst>
                <a:path w="782" h="6192">
                  <a:moveTo>
                    <a:pt x="782" y="5552"/>
                  </a:moveTo>
                  <a:lnTo>
                    <a:pt x="782" y="0"/>
                  </a:lnTo>
                  <a:lnTo>
                    <a:pt x="0" y="608"/>
                  </a:lnTo>
                  <a:lnTo>
                    <a:pt x="0" y="6192"/>
                  </a:lnTo>
                  <a:lnTo>
                    <a:pt x="782" y="5552"/>
                  </a:lnTo>
                  <a:close/>
                </a:path>
              </a:pathLst>
            </a:custGeom>
            <a:solidFill>
              <a:srgbClr val="40407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81200" y="3338640"/>
              <a:ext cx="416160" cy="2010240"/>
            </a:xfrm>
            <a:custGeom>
              <a:avLst/>
              <a:gdLst/>
              <a:ahLst/>
              <a:rect l="0" t="0" r="r" b="b"/>
              <a:pathLst>
                <a:path w="1156" h="5584">
                  <a:moveTo>
                    <a:pt x="1156" y="5584"/>
                  </a:moveTo>
                  <a:lnTo>
                    <a:pt x="1156" y="0"/>
                  </a:lnTo>
                  <a:lnTo>
                    <a:pt x="0" y="0"/>
                  </a:lnTo>
                  <a:lnTo>
                    <a:pt x="0" y="5584"/>
                  </a:lnTo>
                  <a:lnTo>
                    <a:pt x="1156" y="5584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81200" y="3119400"/>
              <a:ext cx="697320" cy="219600"/>
            </a:xfrm>
            <a:custGeom>
              <a:avLst/>
              <a:gdLst/>
              <a:ahLst/>
              <a:rect l="0" t="0" r="r" b="b"/>
              <a:pathLst>
                <a:path w="1937" h="610">
                  <a:moveTo>
                    <a:pt x="1937" y="0"/>
                  </a:moveTo>
                  <a:lnTo>
                    <a:pt x="1156" y="610"/>
                  </a:lnTo>
                  <a:lnTo>
                    <a:pt x="0" y="610"/>
                  </a:lnTo>
                  <a:lnTo>
                    <a:pt x="781" y="0"/>
                  </a:lnTo>
                  <a:lnTo>
                    <a:pt x="1937" y="0"/>
                  </a:lnTo>
                  <a:close/>
                </a:path>
              </a:pathLst>
            </a:custGeom>
            <a:solidFill>
              <a:srgbClr val="6060b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19400" y="4210200"/>
              <a:ext cx="279720" cy="1138680"/>
            </a:xfrm>
            <a:custGeom>
              <a:avLst/>
              <a:gdLst/>
              <a:ahLst/>
              <a:rect l="0" t="0" r="r" b="b"/>
              <a:pathLst>
                <a:path w="777" h="3163">
                  <a:moveTo>
                    <a:pt x="777" y="2524"/>
                  </a:moveTo>
                  <a:lnTo>
                    <a:pt x="777" y="0"/>
                  </a:lnTo>
                  <a:lnTo>
                    <a:pt x="0" y="635"/>
                  </a:lnTo>
                  <a:lnTo>
                    <a:pt x="0" y="3163"/>
                  </a:lnTo>
                  <a:lnTo>
                    <a:pt x="777" y="2524"/>
                  </a:lnTo>
                  <a:close/>
                </a:path>
              </a:pathLst>
            </a:custGeom>
            <a:solidFill>
              <a:srgbClr val="40407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1520" y="4438800"/>
              <a:ext cx="408240" cy="910080"/>
            </a:xfrm>
            <a:custGeom>
              <a:avLst/>
              <a:gdLst/>
              <a:ahLst/>
              <a:rect l="0" t="0" r="r" b="b"/>
              <a:pathLst>
                <a:path w="1134" h="2528">
                  <a:moveTo>
                    <a:pt x="1134" y="2528"/>
                  </a:moveTo>
                  <a:lnTo>
                    <a:pt x="1134" y="0"/>
                  </a:lnTo>
                  <a:lnTo>
                    <a:pt x="0" y="0"/>
                  </a:lnTo>
                  <a:lnTo>
                    <a:pt x="0" y="2528"/>
                  </a:lnTo>
                  <a:lnTo>
                    <a:pt x="1134" y="25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1520" y="4210200"/>
              <a:ext cx="687600" cy="228960"/>
            </a:xfrm>
            <a:custGeom>
              <a:avLst/>
              <a:gdLst/>
              <a:ahLst/>
              <a:rect l="0" t="0" r="r" b="b"/>
              <a:pathLst>
                <a:path w="1910" h="636">
                  <a:moveTo>
                    <a:pt x="1910" y="0"/>
                  </a:moveTo>
                  <a:lnTo>
                    <a:pt x="1134" y="636"/>
                  </a:lnTo>
                  <a:lnTo>
                    <a:pt x="0" y="636"/>
                  </a:lnTo>
                  <a:lnTo>
                    <a:pt x="780" y="0"/>
                  </a:lnTo>
                  <a:lnTo>
                    <a:pt x="1910" y="0"/>
                  </a:lnTo>
                  <a:close/>
                </a:path>
              </a:pathLst>
            </a:custGeom>
            <a:solidFill>
              <a:srgbClr val="6060b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40360" y="3530520"/>
              <a:ext cx="279720" cy="1818000"/>
            </a:xfrm>
            <a:custGeom>
              <a:avLst/>
              <a:gdLst/>
              <a:ahLst/>
              <a:rect l="0" t="0" r="r" b="b"/>
              <a:pathLst>
                <a:path w="777" h="5050">
                  <a:moveTo>
                    <a:pt x="777" y="4410"/>
                  </a:moveTo>
                  <a:lnTo>
                    <a:pt x="777" y="0"/>
                  </a:lnTo>
                  <a:lnTo>
                    <a:pt x="0" y="634"/>
                  </a:lnTo>
                  <a:lnTo>
                    <a:pt x="0" y="5050"/>
                  </a:lnTo>
                  <a:lnTo>
                    <a:pt x="777" y="4410"/>
                  </a:lnTo>
                  <a:close/>
                </a:path>
              </a:pathLst>
            </a:custGeom>
            <a:solidFill>
              <a:srgbClr val="40407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33920" y="3759120"/>
              <a:ext cx="406800" cy="1589400"/>
            </a:xfrm>
            <a:custGeom>
              <a:avLst/>
              <a:gdLst/>
              <a:ahLst/>
              <a:rect l="0" t="0" r="r" b="b"/>
              <a:pathLst>
                <a:path w="1130" h="4415">
                  <a:moveTo>
                    <a:pt x="1130" y="4415"/>
                  </a:moveTo>
                  <a:lnTo>
                    <a:pt x="1130" y="0"/>
                  </a:lnTo>
                  <a:lnTo>
                    <a:pt x="0" y="0"/>
                  </a:lnTo>
                  <a:lnTo>
                    <a:pt x="0" y="4415"/>
                  </a:lnTo>
                  <a:lnTo>
                    <a:pt x="1130" y="4415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33920" y="3530520"/>
              <a:ext cx="686160" cy="228960"/>
            </a:xfrm>
            <a:custGeom>
              <a:avLst/>
              <a:gdLst/>
              <a:ahLst/>
              <a:rect l="0" t="0" r="r" b="b"/>
              <a:pathLst>
                <a:path w="1906" h="636">
                  <a:moveTo>
                    <a:pt x="1906" y="0"/>
                  </a:moveTo>
                  <a:lnTo>
                    <a:pt x="1129" y="636"/>
                  </a:lnTo>
                  <a:lnTo>
                    <a:pt x="0" y="636"/>
                  </a:lnTo>
                  <a:lnTo>
                    <a:pt x="776" y="0"/>
                  </a:lnTo>
                  <a:lnTo>
                    <a:pt x="1906" y="0"/>
                  </a:lnTo>
                  <a:close/>
                </a:path>
              </a:pathLst>
            </a:custGeom>
            <a:solidFill>
              <a:srgbClr val="6060b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60960" y="2019240"/>
              <a:ext cx="281520" cy="3329280"/>
            </a:xfrm>
            <a:custGeom>
              <a:avLst/>
              <a:gdLst/>
              <a:ahLst/>
              <a:rect l="0" t="0" r="r" b="b"/>
              <a:pathLst>
                <a:path w="782" h="9248">
                  <a:moveTo>
                    <a:pt x="782" y="8608"/>
                  </a:moveTo>
                  <a:lnTo>
                    <a:pt x="782" y="0"/>
                  </a:lnTo>
                  <a:lnTo>
                    <a:pt x="0" y="635"/>
                  </a:lnTo>
                  <a:lnTo>
                    <a:pt x="0" y="9248"/>
                  </a:lnTo>
                  <a:lnTo>
                    <a:pt x="782" y="8608"/>
                  </a:lnTo>
                  <a:close/>
                </a:path>
              </a:pathLst>
            </a:custGeom>
            <a:solidFill>
              <a:srgbClr val="40407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54520" y="2247840"/>
              <a:ext cx="406800" cy="3100680"/>
            </a:xfrm>
            <a:custGeom>
              <a:avLst/>
              <a:gdLst/>
              <a:ahLst/>
              <a:rect l="0" t="0" r="r" b="b"/>
              <a:pathLst>
                <a:path w="1130" h="8613">
                  <a:moveTo>
                    <a:pt x="1130" y="8613"/>
                  </a:moveTo>
                  <a:lnTo>
                    <a:pt x="1130" y="0"/>
                  </a:lnTo>
                  <a:lnTo>
                    <a:pt x="0" y="0"/>
                  </a:lnTo>
                  <a:lnTo>
                    <a:pt x="0" y="8613"/>
                  </a:lnTo>
                  <a:lnTo>
                    <a:pt x="1130" y="8613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54520" y="2019240"/>
              <a:ext cx="687600" cy="228960"/>
            </a:xfrm>
            <a:custGeom>
              <a:avLst/>
              <a:gdLst/>
              <a:ahLst/>
              <a:rect l="0" t="0" r="r" b="b"/>
              <a:pathLst>
                <a:path w="1910" h="636">
                  <a:moveTo>
                    <a:pt x="1910" y="0"/>
                  </a:moveTo>
                  <a:lnTo>
                    <a:pt x="1129" y="636"/>
                  </a:lnTo>
                  <a:lnTo>
                    <a:pt x="0" y="636"/>
                  </a:lnTo>
                  <a:lnTo>
                    <a:pt x="780" y="0"/>
                  </a:lnTo>
                  <a:lnTo>
                    <a:pt x="1910" y="0"/>
                  </a:lnTo>
                  <a:close/>
                </a:path>
              </a:pathLst>
            </a:custGeom>
            <a:solidFill>
              <a:srgbClr val="6060b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83360" y="2085840"/>
              <a:ext cx="279720" cy="3262680"/>
            </a:xfrm>
            <a:custGeom>
              <a:avLst/>
              <a:gdLst/>
              <a:ahLst/>
              <a:rect l="0" t="0" r="r" b="b"/>
              <a:pathLst>
                <a:path w="777" h="9063">
                  <a:moveTo>
                    <a:pt x="777" y="8424"/>
                  </a:moveTo>
                  <a:lnTo>
                    <a:pt x="777" y="0"/>
                  </a:lnTo>
                  <a:lnTo>
                    <a:pt x="0" y="635"/>
                  </a:lnTo>
                  <a:lnTo>
                    <a:pt x="0" y="9063"/>
                  </a:lnTo>
                  <a:lnTo>
                    <a:pt x="777" y="8424"/>
                  </a:lnTo>
                  <a:close/>
                </a:path>
              </a:pathLst>
            </a:custGeom>
            <a:solidFill>
              <a:srgbClr val="40407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76920" y="2314440"/>
              <a:ext cx="406800" cy="3034080"/>
            </a:xfrm>
            <a:custGeom>
              <a:avLst/>
              <a:gdLst/>
              <a:ahLst/>
              <a:rect l="0" t="0" r="r" b="b"/>
              <a:pathLst>
                <a:path w="1130" h="8428">
                  <a:moveTo>
                    <a:pt x="1130" y="8428"/>
                  </a:moveTo>
                  <a:lnTo>
                    <a:pt x="1130" y="0"/>
                  </a:lnTo>
                  <a:lnTo>
                    <a:pt x="0" y="0"/>
                  </a:lnTo>
                  <a:lnTo>
                    <a:pt x="0" y="8428"/>
                  </a:lnTo>
                  <a:lnTo>
                    <a:pt x="1130" y="8428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76920" y="2085840"/>
              <a:ext cx="686160" cy="228960"/>
            </a:xfrm>
            <a:custGeom>
              <a:avLst/>
              <a:gdLst/>
              <a:ahLst/>
              <a:rect l="0" t="0" r="r" b="b"/>
              <a:pathLst>
                <a:path w="1906" h="636">
                  <a:moveTo>
                    <a:pt x="1906" y="0"/>
                  </a:moveTo>
                  <a:lnTo>
                    <a:pt x="1129" y="636"/>
                  </a:lnTo>
                  <a:lnTo>
                    <a:pt x="0" y="636"/>
                  </a:lnTo>
                  <a:lnTo>
                    <a:pt x="776" y="0"/>
                  </a:lnTo>
                  <a:lnTo>
                    <a:pt x="1906" y="0"/>
                  </a:lnTo>
                  <a:close/>
                </a:path>
              </a:pathLst>
            </a:custGeom>
            <a:solidFill>
              <a:srgbClr val="6060b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03960" y="976320"/>
              <a:ext cx="281520" cy="4372200"/>
            </a:xfrm>
            <a:custGeom>
              <a:avLst/>
              <a:gdLst/>
              <a:ahLst/>
              <a:rect l="0" t="0" r="r" b="b"/>
              <a:pathLst>
                <a:path w="782" h="12145">
                  <a:moveTo>
                    <a:pt x="782" y="11505"/>
                  </a:moveTo>
                  <a:lnTo>
                    <a:pt x="782" y="0"/>
                  </a:lnTo>
                  <a:lnTo>
                    <a:pt x="0" y="635"/>
                  </a:lnTo>
                  <a:lnTo>
                    <a:pt x="0" y="12145"/>
                  </a:lnTo>
                  <a:lnTo>
                    <a:pt x="782" y="11505"/>
                  </a:lnTo>
                  <a:close/>
                </a:path>
              </a:pathLst>
            </a:custGeom>
            <a:solidFill>
              <a:srgbClr val="40407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97520" y="1204920"/>
              <a:ext cx="406800" cy="4143600"/>
            </a:xfrm>
            <a:custGeom>
              <a:avLst/>
              <a:gdLst/>
              <a:ahLst/>
              <a:rect l="0" t="0" r="r" b="b"/>
              <a:pathLst>
                <a:path w="1130" h="11510">
                  <a:moveTo>
                    <a:pt x="1130" y="11510"/>
                  </a:moveTo>
                  <a:lnTo>
                    <a:pt x="1130" y="0"/>
                  </a:lnTo>
                  <a:lnTo>
                    <a:pt x="0" y="0"/>
                  </a:lnTo>
                  <a:lnTo>
                    <a:pt x="0" y="11510"/>
                  </a:lnTo>
                  <a:lnTo>
                    <a:pt x="1130" y="1151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97520" y="976320"/>
              <a:ext cx="687600" cy="228960"/>
            </a:xfrm>
            <a:custGeom>
              <a:avLst/>
              <a:gdLst/>
              <a:ahLst/>
              <a:rect l="0" t="0" r="r" b="b"/>
              <a:pathLst>
                <a:path w="1910" h="636">
                  <a:moveTo>
                    <a:pt x="1910" y="0"/>
                  </a:moveTo>
                  <a:lnTo>
                    <a:pt x="1129" y="636"/>
                  </a:lnTo>
                  <a:lnTo>
                    <a:pt x="0" y="636"/>
                  </a:lnTo>
                  <a:lnTo>
                    <a:pt x="776" y="0"/>
                  </a:lnTo>
                  <a:lnTo>
                    <a:pt x="1910" y="0"/>
                  </a:lnTo>
                  <a:close/>
                </a:path>
              </a:pathLst>
            </a:custGeom>
            <a:solidFill>
              <a:srgbClr val="6060b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34280" y="1157400"/>
              <a:ext cx="281520" cy="4191480"/>
            </a:xfrm>
            <a:custGeom>
              <a:avLst/>
              <a:gdLst/>
              <a:ahLst/>
              <a:rect l="0" t="0" r="r" b="b"/>
              <a:pathLst>
                <a:path w="782" h="11643">
                  <a:moveTo>
                    <a:pt x="782" y="11004"/>
                  </a:moveTo>
                  <a:lnTo>
                    <a:pt x="782" y="0"/>
                  </a:lnTo>
                  <a:lnTo>
                    <a:pt x="0" y="612"/>
                  </a:lnTo>
                  <a:lnTo>
                    <a:pt x="0" y="11643"/>
                  </a:lnTo>
                  <a:lnTo>
                    <a:pt x="782" y="11004"/>
                  </a:lnTo>
                  <a:close/>
                </a:path>
              </a:pathLst>
            </a:custGeom>
            <a:solidFill>
              <a:srgbClr val="40407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18480" y="1378080"/>
              <a:ext cx="416160" cy="3970800"/>
            </a:xfrm>
            <a:custGeom>
              <a:avLst/>
              <a:gdLst/>
              <a:ahLst/>
              <a:rect l="0" t="0" r="r" b="b"/>
              <a:pathLst>
                <a:path w="1156" h="11030">
                  <a:moveTo>
                    <a:pt x="1156" y="11030"/>
                  </a:moveTo>
                  <a:lnTo>
                    <a:pt x="1156" y="0"/>
                  </a:lnTo>
                  <a:lnTo>
                    <a:pt x="0" y="0"/>
                  </a:lnTo>
                  <a:lnTo>
                    <a:pt x="0" y="11030"/>
                  </a:lnTo>
                  <a:lnTo>
                    <a:pt x="1156" y="1103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18480" y="1157400"/>
              <a:ext cx="697320" cy="221040"/>
            </a:xfrm>
            <a:custGeom>
              <a:avLst/>
              <a:gdLst/>
              <a:ahLst/>
              <a:rect l="0" t="0" r="r" b="b"/>
              <a:pathLst>
                <a:path w="1937" h="614">
                  <a:moveTo>
                    <a:pt x="1937" y="0"/>
                  </a:moveTo>
                  <a:lnTo>
                    <a:pt x="1156" y="614"/>
                  </a:lnTo>
                  <a:lnTo>
                    <a:pt x="0" y="614"/>
                  </a:lnTo>
                  <a:lnTo>
                    <a:pt x="781" y="0"/>
                  </a:lnTo>
                  <a:lnTo>
                    <a:pt x="1937" y="0"/>
                  </a:lnTo>
                  <a:close/>
                </a:path>
              </a:pathLst>
            </a:custGeom>
            <a:solidFill>
              <a:srgbClr val="6060b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382760" y="1176480"/>
              <a:ext cx="0" cy="417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382760" y="53481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82760" y="492588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382760" y="45054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82760" y="409428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382760" y="3673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382760" y="3262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382760" y="284148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382760" y="24303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382760" y="200988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382760" y="15876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382760" y="117648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200240" y="5214960"/>
              <a:ext cx="260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1128600" y="4794120"/>
              <a:ext cx="3366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128600" y="4373640"/>
              <a:ext cx="3366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1128600" y="3962520"/>
              <a:ext cx="3366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1128600" y="3541680"/>
              <a:ext cx="3366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1055520" y="3130560"/>
              <a:ext cx="412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1055520" y="2709720"/>
              <a:ext cx="412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055520" y="2298600"/>
              <a:ext cx="412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1055520" y="1876320"/>
              <a:ext cx="412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055520" y="1455840"/>
              <a:ext cx="412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1055520" y="1044720"/>
              <a:ext cx="412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82760" y="5348160"/>
              <a:ext cx="7159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82760" y="5280120"/>
              <a:ext cx="0" cy="6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05160" y="5280120"/>
              <a:ext cx="0" cy="6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25760" y="5280120"/>
              <a:ext cx="0" cy="6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48160" y="5280120"/>
              <a:ext cx="0" cy="6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68760" y="5280120"/>
              <a:ext cx="0" cy="6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89720" y="5280120"/>
              <a:ext cx="0" cy="6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12120" y="5280120"/>
              <a:ext cx="0" cy="6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542440" y="5280120"/>
              <a:ext cx="0" cy="68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1608120" y="5375160"/>
              <a:ext cx="590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2538360" y="537516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3649680" y="5375160"/>
              <a:ext cx="590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4780080" y="537516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5702400" y="5375160"/>
              <a:ext cx="590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6723000" y="5375160"/>
              <a:ext cx="590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7745400" y="5375160"/>
              <a:ext cx="590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22440" y="2198520"/>
              <a:ext cx="412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22440" y="2523960"/>
              <a:ext cx="412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622440" y="2849400"/>
              <a:ext cx="412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622440" y="3174840"/>
              <a:ext cx="412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 txBox="1"/>
          <p:nvPr/>
        </p:nvSpPr>
        <p:spPr>
          <a:xfrm>
            <a:off x="776160" y="773280"/>
            <a:ext cx="870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4840" y="665280"/>
            <a:ext cx="8794800" cy="5194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517760" y="5927760"/>
            <a:ext cx="7194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7840" y="581040"/>
            <a:ext cx="8732880" cy="523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93640" y="1025640"/>
            <a:ext cx="8574120" cy="4059000"/>
            <a:chOff x="593640" y="1025640"/>
            <a:chExt cx="8574120" cy="4059000"/>
          </a:xfrm>
        </p:grpSpPr>
        <p:sp>
          <p:nvSpPr>
            <p:cNvPr id="193" name=""/>
            <p:cNvSpPr/>
            <p:nvPr/>
          </p:nvSpPr>
          <p:spPr>
            <a:xfrm>
              <a:off x="1419120" y="2543040"/>
              <a:ext cx="9720" cy="1018080"/>
            </a:xfrm>
            <a:custGeom>
              <a:avLst/>
              <a:gdLst/>
              <a:ahLst/>
              <a:rect l="0" t="0" r="r" b="b"/>
              <a:pathLst>
                <a:path w="27" h="2828">
                  <a:moveTo>
                    <a:pt x="27" y="185"/>
                  </a:moveTo>
                  <a:lnTo>
                    <a:pt x="0" y="132"/>
                  </a:lnTo>
                  <a:lnTo>
                    <a:pt x="0" y="105"/>
                  </a:lnTo>
                  <a:lnTo>
                    <a:pt x="0" y="52"/>
                  </a:lnTo>
                  <a:lnTo>
                    <a:pt x="0" y="0"/>
                  </a:lnTo>
                  <a:lnTo>
                    <a:pt x="0" y="2643"/>
                  </a:lnTo>
                  <a:lnTo>
                    <a:pt x="0" y="2696"/>
                  </a:lnTo>
                  <a:lnTo>
                    <a:pt x="0" y="2749"/>
                  </a:lnTo>
                  <a:lnTo>
                    <a:pt x="0" y="2775"/>
                  </a:lnTo>
                  <a:lnTo>
                    <a:pt x="27" y="2828"/>
                  </a:lnTo>
                  <a:lnTo>
                    <a:pt x="27" y="185"/>
                  </a:lnTo>
                  <a:close/>
                </a:path>
              </a:pathLst>
            </a:custGeom>
            <a:solidFill>
              <a:srgbClr val="7f7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218440" y="2543040"/>
              <a:ext cx="152640" cy="1217880"/>
            </a:xfrm>
            <a:custGeom>
              <a:avLst/>
              <a:gdLst/>
              <a:ahLst/>
              <a:rect l="0" t="0" r="r" b="b"/>
              <a:pathLst>
                <a:path w="424" h="3383">
                  <a:moveTo>
                    <a:pt x="424" y="0"/>
                  </a:moveTo>
                  <a:lnTo>
                    <a:pt x="424" y="52"/>
                  </a:lnTo>
                  <a:lnTo>
                    <a:pt x="424" y="105"/>
                  </a:lnTo>
                  <a:lnTo>
                    <a:pt x="397" y="132"/>
                  </a:lnTo>
                  <a:lnTo>
                    <a:pt x="397" y="185"/>
                  </a:lnTo>
                  <a:lnTo>
                    <a:pt x="371" y="211"/>
                  </a:lnTo>
                  <a:lnTo>
                    <a:pt x="371" y="264"/>
                  </a:lnTo>
                  <a:lnTo>
                    <a:pt x="344" y="317"/>
                  </a:lnTo>
                  <a:lnTo>
                    <a:pt x="318" y="343"/>
                  </a:lnTo>
                  <a:lnTo>
                    <a:pt x="292" y="396"/>
                  </a:lnTo>
                  <a:lnTo>
                    <a:pt x="265" y="449"/>
                  </a:lnTo>
                  <a:lnTo>
                    <a:pt x="239" y="476"/>
                  </a:lnTo>
                  <a:lnTo>
                    <a:pt x="211" y="529"/>
                  </a:lnTo>
                  <a:lnTo>
                    <a:pt x="158" y="582"/>
                  </a:lnTo>
                  <a:lnTo>
                    <a:pt x="132" y="608"/>
                  </a:lnTo>
                  <a:lnTo>
                    <a:pt x="79" y="661"/>
                  </a:lnTo>
                  <a:lnTo>
                    <a:pt x="52" y="687"/>
                  </a:lnTo>
                  <a:lnTo>
                    <a:pt x="0" y="740"/>
                  </a:lnTo>
                  <a:lnTo>
                    <a:pt x="0" y="3383"/>
                  </a:lnTo>
                  <a:lnTo>
                    <a:pt x="52" y="3330"/>
                  </a:lnTo>
                  <a:lnTo>
                    <a:pt x="79" y="3303"/>
                  </a:lnTo>
                  <a:lnTo>
                    <a:pt x="132" y="3250"/>
                  </a:lnTo>
                  <a:lnTo>
                    <a:pt x="158" y="3224"/>
                  </a:lnTo>
                  <a:lnTo>
                    <a:pt x="211" y="3171"/>
                  </a:lnTo>
                  <a:lnTo>
                    <a:pt x="239" y="3118"/>
                  </a:lnTo>
                  <a:lnTo>
                    <a:pt x="265" y="3092"/>
                  </a:lnTo>
                  <a:lnTo>
                    <a:pt x="292" y="3039"/>
                  </a:lnTo>
                  <a:lnTo>
                    <a:pt x="318" y="2986"/>
                  </a:lnTo>
                  <a:lnTo>
                    <a:pt x="344" y="2959"/>
                  </a:lnTo>
                  <a:lnTo>
                    <a:pt x="371" y="2907"/>
                  </a:lnTo>
                  <a:lnTo>
                    <a:pt x="371" y="2854"/>
                  </a:lnTo>
                  <a:lnTo>
                    <a:pt x="397" y="2827"/>
                  </a:lnTo>
                  <a:lnTo>
                    <a:pt x="397" y="2774"/>
                  </a:lnTo>
                  <a:lnTo>
                    <a:pt x="424" y="2748"/>
                  </a:lnTo>
                  <a:lnTo>
                    <a:pt x="424" y="2695"/>
                  </a:lnTo>
                  <a:lnTo>
                    <a:pt x="424" y="2642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50707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28840" y="2610000"/>
              <a:ext cx="181440" cy="1179720"/>
            </a:xfrm>
            <a:custGeom>
              <a:avLst/>
              <a:gdLst/>
              <a:ahLst/>
              <a:rect l="0" t="0" r="r" b="b"/>
              <a:pathLst>
                <a:path w="504" h="3277">
                  <a:moveTo>
                    <a:pt x="504" y="635"/>
                  </a:moveTo>
                  <a:lnTo>
                    <a:pt x="451" y="582"/>
                  </a:lnTo>
                  <a:lnTo>
                    <a:pt x="398" y="555"/>
                  </a:lnTo>
                  <a:lnTo>
                    <a:pt x="344" y="502"/>
                  </a:lnTo>
                  <a:lnTo>
                    <a:pt x="292" y="476"/>
                  </a:lnTo>
                  <a:lnTo>
                    <a:pt x="265" y="423"/>
                  </a:lnTo>
                  <a:lnTo>
                    <a:pt x="212" y="396"/>
                  </a:lnTo>
                  <a:lnTo>
                    <a:pt x="186" y="343"/>
                  </a:lnTo>
                  <a:lnTo>
                    <a:pt x="133" y="291"/>
                  </a:lnTo>
                  <a:lnTo>
                    <a:pt x="105" y="264"/>
                  </a:lnTo>
                  <a:lnTo>
                    <a:pt x="79" y="211"/>
                  </a:lnTo>
                  <a:lnTo>
                    <a:pt x="52" y="158"/>
                  </a:lnTo>
                  <a:lnTo>
                    <a:pt x="26" y="132"/>
                  </a:lnTo>
                  <a:lnTo>
                    <a:pt x="26" y="79"/>
                  </a:lnTo>
                  <a:lnTo>
                    <a:pt x="0" y="26"/>
                  </a:lnTo>
                  <a:lnTo>
                    <a:pt x="0" y="0"/>
                  </a:lnTo>
                  <a:lnTo>
                    <a:pt x="0" y="2642"/>
                  </a:lnTo>
                  <a:lnTo>
                    <a:pt x="0" y="2668"/>
                  </a:lnTo>
                  <a:lnTo>
                    <a:pt x="26" y="2721"/>
                  </a:lnTo>
                  <a:lnTo>
                    <a:pt x="26" y="2774"/>
                  </a:lnTo>
                  <a:lnTo>
                    <a:pt x="52" y="2801"/>
                  </a:lnTo>
                  <a:lnTo>
                    <a:pt x="79" y="2854"/>
                  </a:lnTo>
                  <a:lnTo>
                    <a:pt x="105" y="2907"/>
                  </a:lnTo>
                  <a:lnTo>
                    <a:pt x="133" y="2933"/>
                  </a:lnTo>
                  <a:lnTo>
                    <a:pt x="186" y="2986"/>
                  </a:lnTo>
                  <a:lnTo>
                    <a:pt x="212" y="3039"/>
                  </a:lnTo>
                  <a:lnTo>
                    <a:pt x="265" y="3065"/>
                  </a:lnTo>
                  <a:lnTo>
                    <a:pt x="292" y="3118"/>
                  </a:lnTo>
                  <a:lnTo>
                    <a:pt x="344" y="3145"/>
                  </a:lnTo>
                  <a:lnTo>
                    <a:pt x="398" y="3198"/>
                  </a:lnTo>
                  <a:lnTo>
                    <a:pt x="451" y="3224"/>
                  </a:lnTo>
                  <a:lnTo>
                    <a:pt x="504" y="3277"/>
                  </a:lnTo>
                  <a:lnTo>
                    <a:pt x="504" y="635"/>
                  </a:lnTo>
                  <a:close/>
                </a:path>
              </a:pathLst>
            </a:custGeom>
            <a:solidFill>
              <a:srgbClr val="7f007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04040" y="2809800"/>
              <a:ext cx="914760" cy="1332360"/>
            </a:xfrm>
            <a:custGeom>
              <a:avLst/>
              <a:gdLst/>
              <a:ahLst/>
              <a:rect l="0" t="0" r="r" b="b"/>
              <a:pathLst>
                <a:path w="2541" h="3701">
                  <a:moveTo>
                    <a:pt x="2541" y="0"/>
                  </a:moveTo>
                  <a:lnTo>
                    <a:pt x="2489" y="26"/>
                  </a:lnTo>
                  <a:lnTo>
                    <a:pt x="2436" y="79"/>
                  </a:lnTo>
                  <a:lnTo>
                    <a:pt x="2383" y="132"/>
                  </a:lnTo>
                  <a:lnTo>
                    <a:pt x="2330" y="158"/>
                  </a:lnTo>
                  <a:lnTo>
                    <a:pt x="2250" y="211"/>
                  </a:lnTo>
                  <a:lnTo>
                    <a:pt x="2198" y="238"/>
                  </a:lnTo>
                  <a:lnTo>
                    <a:pt x="2118" y="291"/>
                  </a:lnTo>
                  <a:lnTo>
                    <a:pt x="2065" y="317"/>
                  </a:lnTo>
                  <a:lnTo>
                    <a:pt x="1986" y="370"/>
                  </a:lnTo>
                  <a:lnTo>
                    <a:pt x="1905" y="396"/>
                  </a:lnTo>
                  <a:lnTo>
                    <a:pt x="1826" y="449"/>
                  </a:lnTo>
                  <a:lnTo>
                    <a:pt x="1747" y="476"/>
                  </a:lnTo>
                  <a:lnTo>
                    <a:pt x="1667" y="529"/>
                  </a:lnTo>
                  <a:lnTo>
                    <a:pt x="1588" y="555"/>
                  </a:lnTo>
                  <a:lnTo>
                    <a:pt x="1482" y="582"/>
                  </a:lnTo>
                  <a:lnTo>
                    <a:pt x="1403" y="635"/>
                  </a:lnTo>
                  <a:lnTo>
                    <a:pt x="1297" y="661"/>
                  </a:lnTo>
                  <a:lnTo>
                    <a:pt x="1218" y="687"/>
                  </a:lnTo>
                  <a:lnTo>
                    <a:pt x="1112" y="740"/>
                  </a:lnTo>
                  <a:lnTo>
                    <a:pt x="1006" y="767"/>
                  </a:lnTo>
                  <a:lnTo>
                    <a:pt x="900" y="793"/>
                  </a:lnTo>
                  <a:lnTo>
                    <a:pt x="794" y="846"/>
                  </a:lnTo>
                  <a:lnTo>
                    <a:pt x="688" y="873"/>
                  </a:lnTo>
                  <a:lnTo>
                    <a:pt x="582" y="899"/>
                  </a:lnTo>
                  <a:lnTo>
                    <a:pt x="476" y="927"/>
                  </a:lnTo>
                  <a:lnTo>
                    <a:pt x="370" y="979"/>
                  </a:lnTo>
                  <a:lnTo>
                    <a:pt x="238" y="1006"/>
                  </a:lnTo>
                  <a:lnTo>
                    <a:pt x="132" y="1032"/>
                  </a:lnTo>
                  <a:lnTo>
                    <a:pt x="0" y="1059"/>
                  </a:lnTo>
                  <a:lnTo>
                    <a:pt x="0" y="3701"/>
                  </a:lnTo>
                  <a:lnTo>
                    <a:pt x="132" y="3675"/>
                  </a:lnTo>
                  <a:lnTo>
                    <a:pt x="238" y="3648"/>
                  </a:lnTo>
                  <a:lnTo>
                    <a:pt x="370" y="3622"/>
                  </a:lnTo>
                  <a:lnTo>
                    <a:pt x="476" y="3569"/>
                  </a:lnTo>
                  <a:lnTo>
                    <a:pt x="582" y="3543"/>
                  </a:lnTo>
                  <a:lnTo>
                    <a:pt x="688" y="3516"/>
                  </a:lnTo>
                  <a:lnTo>
                    <a:pt x="794" y="3490"/>
                  </a:lnTo>
                  <a:lnTo>
                    <a:pt x="900" y="3437"/>
                  </a:lnTo>
                  <a:lnTo>
                    <a:pt x="1006" y="3410"/>
                  </a:lnTo>
                  <a:lnTo>
                    <a:pt x="1112" y="3384"/>
                  </a:lnTo>
                  <a:lnTo>
                    <a:pt x="1218" y="3331"/>
                  </a:lnTo>
                  <a:lnTo>
                    <a:pt x="1297" y="3304"/>
                  </a:lnTo>
                  <a:lnTo>
                    <a:pt x="1403" y="3278"/>
                  </a:lnTo>
                  <a:lnTo>
                    <a:pt x="1482" y="3225"/>
                  </a:lnTo>
                  <a:lnTo>
                    <a:pt x="1588" y="3199"/>
                  </a:lnTo>
                  <a:lnTo>
                    <a:pt x="1667" y="3172"/>
                  </a:lnTo>
                  <a:lnTo>
                    <a:pt x="1747" y="3119"/>
                  </a:lnTo>
                  <a:lnTo>
                    <a:pt x="1826" y="3093"/>
                  </a:lnTo>
                  <a:lnTo>
                    <a:pt x="1905" y="3040"/>
                  </a:lnTo>
                  <a:lnTo>
                    <a:pt x="1986" y="3013"/>
                  </a:lnTo>
                  <a:lnTo>
                    <a:pt x="2065" y="2960"/>
                  </a:lnTo>
                  <a:lnTo>
                    <a:pt x="2118" y="2934"/>
                  </a:lnTo>
                  <a:lnTo>
                    <a:pt x="2198" y="2881"/>
                  </a:lnTo>
                  <a:lnTo>
                    <a:pt x="2250" y="2855"/>
                  </a:lnTo>
                  <a:lnTo>
                    <a:pt x="2330" y="2802"/>
                  </a:lnTo>
                  <a:lnTo>
                    <a:pt x="2383" y="2774"/>
                  </a:lnTo>
                  <a:lnTo>
                    <a:pt x="2436" y="2721"/>
                  </a:lnTo>
                  <a:lnTo>
                    <a:pt x="2489" y="2668"/>
                  </a:lnTo>
                  <a:lnTo>
                    <a:pt x="2541" y="2642"/>
                  </a:lnTo>
                  <a:lnTo>
                    <a:pt x="2541" y="0"/>
                  </a:lnTo>
                  <a:close/>
                </a:path>
              </a:pathLst>
            </a:custGeom>
            <a:solidFill>
              <a:srgbClr val="3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09560" y="2838600"/>
              <a:ext cx="1286280" cy="1398960"/>
            </a:xfrm>
            <a:custGeom>
              <a:avLst/>
              <a:gdLst/>
              <a:ahLst/>
              <a:rect l="0" t="0" r="r" b="b"/>
              <a:pathLst>
                <a:path w="3573" h="3886">
                  <a:moveTo>
                    <a:pt x="3573" y="1240"/>
                  </a:moveTo>
                  <a:lnTo>
                    <a:pt x="3441" y="1213"/>
                  </a:lnTo>
                  <a:lnTo>
                    <a:pt x="3309" y="1187"/>
                  </a:lnTo>
                  <a:lnTo>
                    <a:pt x="3176" y="1160"/>
                  </a:lnTo>
                  <a:lnTo>
                    <a:pt x="3044" y="1134"/>
                  </a:lnTo>
                  <a:lnTo>
                    <a:pt x="2912" y="1107"/>
                  </a:lnTo>
                  <a:lnTo>
                    <a:pt x="2780" y="1081"/>
                  </a:lnTo>
                  <a:lnTo>
                    <a:pt x="2673" y="1028"/>
                  </a:lnTo>
                  <a:lnTo>
                    <a:pt x="2540" y="1006"/>
                  </a:lnTo>
                  <a:lnTo>
                    <a:pt x="2408" y="979"/>
                  </a:lnTo>
                  <a:lnTo>
                    <a:pt x="2302" y="952"/>
                  </a:lnTo>
                  <a:lnTo>
                    <a:pt x="2170" y="926"/>
                  </a:lnTo>
                  <a:lnTo>
                    <a:pt x="2064" y="899"/>
                  </a:lnTo>
                  <a:lnTo>
                    <a:pt x="1932" y="846"/>
                  </a:lnTo>
                  <a:lnTo>
                    <a:pt x="1826" y="820"/>
                  </a:lnTo>
                  <a:lnTo>
                    <a:pt x="1720" y="793"/>
                  </a:lnTo>
                  <a:lnTo>
                    <a:pt x="1614" y="767"/>
                  </a:lnTo>
                  <a:lnTo>
                    <a:pt x="1509" y="714"/>
                  </a:lnTo>
                  <a:lnTo>
                    <a:pt x="1403" y="687"/>
                  </a:lnTo>
                  <a:lnTo>
                    <a:pt x="1297" y="661"/>
                  </a:lnTo>
                  <a:lnTo>
                    <a:pt x="1218" y="608"/>
                  </a:lnTo>
                  <a:lnTo>
                    <a:pt x="1112" y="582"/>
                  </a:lnTo>
                  <a:lnTo>
                    <a:pt x="1032" y="555"/>
                  </a:lnTo>
                  <a:lnTo>
                    <a:pt x="927" y="502"/>
                  </a:lnTo>
                  <a:lnTo>
                    <a:pt x="846" y="476"/>
                  </a:lnTo>
                  <a:lnTo>
                    <a:pt x="767" y="449"/>
                  </a:lnTo>
                  <a:lnTo>
                    <a:pt x="687" y="396"/>
                  </a:lnTo>
                  <a:lnTo>
                    <a:pt x="582" y="370"/>
                  </a:lnTo>
                  <a:lnTo>
                    <a:pt x="529" y="317"/>
                  </a:lnTo>
                  <a:lnTo>
                    <a:pt x="449" y="291"/>
                  </a:lnTo>
                  <a:lnTo>
                    <a:pt x="370" y="238"/>
                  </a:lnTo>
                  <a:lnTo>
                    <a:pt x="291" y="211"/>
                  </a:lnTo>
                  <a:lnTo>
                    <a:pt x="238" y="158"/>
                  </a:lnTo>
                  <a:lnTo>
                    <a:pt x="158" y="132"/>
                  </a:lnTo>
                  <a:lnTo>
                    <a:pt x="105" y="79"/>
                  </a:lnTo>
                  <a:lnTo>
                    <a:pt x="52" y="52"/>
                  </a:lnTo>
                  <a:lnTo>
                    <a:pt x="0" y="0"/>
                  </a:lnTo>
                  <a:lnTo>
                    <a:pt x="0" y="2642"/>
                  </a:lnTo>
                  <a:lnTo>
                    <a:pt x="52" y="2695"/>
                  </a:lnTo>
                  <a:lnTo>
                    <a:pt x="105" y="2721"/>
                  </a:lnTo>
                  <a:lnTo>
                    <a:pt x="158" y="2774"/>
                  </a:lnTo>
                  <a:lnTo>
                    <a:pt x="238" y="2801"/>
                  </a:lnTo>
                  <a:lnTo>
                    <a:pt x="291" y="2854"/>
                  </a:lnTo>
                  <a:lnTo>
                    <a:pt x="370" y="2880"/>
                  </a:lnTo>
                  <a:lnTo>
                    <a:pt x="449" y="2934"/>
                  </a:lnTo>
                  <a:lnTo>
                    <a:pt x="529" y="2960"/>
                  </a:lnTo>
                  <a:lnTo>
                    <a:pt x="582" y="3013"/>
                  </a:lnTo>
                  <a:lnTo>
                    <a:pt x="687" y="3040"/>
                  </a:lnTo>
                  <a:lnTo>
                    <a:pt x="767" y="3093"/>
                  </a:lnTo>
                  <a:lnTo>
                    <a:pt x="846" y="3119"/>
                  </a:lnTo>
                  <a:lnTo>
                    <a:pt x="927" y="3146"/>
                  </a:lnTo>
                  <a:lnTo>
                    <a:pt x="1032" y="3199"/>
                  </a:lnTo>
                  <a:lnTo>
                    <a:pt x="1112" y="3225"/>
                  </a:lnTo>
                  <a:lnTo>
                    <a:pt x="1218" y="3251"/>
                  </a:lnTo>
                  <a:lnTo>
                    <a:pt x="1297" y="3304"/>
                  </a:lnTo>
                  <a:lnTo>
                    <a:pt x="1403" y="3331"/>
                  </a:lnTo>
                  <a:lnTo>
                    <a:pt x="1509" y="3357"/>
                  </a:lnTo>
                  <a:lnTo>
                    <a:pt x="1614" y="3410"/>
                  </a:lnTo>
                  <a:lnTo>
                    <a:pt x="1720" y="3437"/>
                  </a:lnTo>
                  <a:lnTo>
                    <a:pt x="1826" y="3463"/>
                  </a:lnTo>
                  <a:lnTo>
                    <a:pt x="1932" y="3490"/>
                  </a:lnTo>
                  <a:lnTo>
                    <a:pt x="2064" y="3543"/>
                  </a:lnTo>
                  <a:lnTo>
                    <a:pt x="2170" y="3569"/>
                  </a:lnTo>
                  <a:lnTo>
                    <a:pt x="2302" y="3595"/>
                  </a:lnTo>
                  <a:lnTo>
                    <a:pt x="2408" y="3622"/>
                  </a:lnTo>
                  <a:lnTo>
                    <a:pt x="2540" y="3648"/>
                  </a:lnTo>
                  <a:lnTo>
                    <a:pt x="2673" y="3675"/>
                  </a:lnTo>
                  <a:lnTo>
                    <a:pt x="2780" y="3728"/>
                  </a:lnTo>
                  <a:lnTo>
                    <a:pt x="2912" y="3754"/>
                  </a:lnTo>
                  <a:lnTo>
                    <a:pt x="3044" y="3781"/>
                  </a:lnTo>
                  <a:lnTo>
                    <a:pt x="3176" y="3807"/>
                  </a:lnTo>
                  <a:lnTo>
                    <a:pt x="3309" y="3834"/>
                  </a:lnTo>
                  <a:lnTo>
                    <a:pt x="3441" y="3860"/>
                  </a:lnTo>
                  <a:lnTo>
                    <a:pt x="3573" y="3886"/>
                  </a:lnTo>
                  <a:lnTo>
                    <a:pt x="3573" y="1240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89520" y="3191040"/>
              <a:ext cx="1514880" cy="1179720"/>
            </a:xfrm>
            <a:custGeom>
              <a:avLst/>
              <a:gdLst/>
              <a:ahLst/>
              <a:rect l="0" t="0" r="r" b="b"/>
              <a:pathLst>
                <a:path w="4208" h="3277">
                  <a:moveTo>
                    <a:pt x="4208" y="0"/>
                  </a:moveTo>
                  <a:lnTo>
                    <a:pt x="4103" y="26"/>
                  </a:lnTo>
                  <a:lnTo>
                    <a:pt x="3970" y="48"/>
                  </a:lnTo>
                  <a:lnTo>
                    <a:pt x="3838" y="101"/>
                  </a:lnTo>
                  <a:lnTo>
                    <a:pt x="3706" y="127"/>
                  </a:lnTo>
                  <a:lnTo>
                    <a:pt x="3573" y="154"/>
                  </a:lnTo>
                  <a:lnTo>
                    <a:pt x="3441" y="180"/>
                  </a:lnTo>
                  <a:lnTo>
                    <a:pt x="3309" y="207"/>
                  </a:lnTo>
                  <a:lnTo>
                    <a:pt x="3177" y="233"/>
                  </a:lnTo>
                  <a:lnTo>
                    <a:pt x="3043" y="260"/>
                  </a:lnTo>
                  <a:lnTo>
                    <a:pt x="2911" y="286"/>
                  </a:lnTo>
                  <a:lnTo>
                    <a:pt x="2779" y="313"/>
                  </a:lnTo>
                  <a:lnTo>
                    <a:pt x="2620" y="313"/>
                  </a:lnTo>
                  <a:lnTo>
                    <a:pt x="2488" y="339"/>
                  </a:lnTo>
                  <a:lnTo>
                    <a:pt x="2329" y="366"/>
                  </a:lnTo>
                  <a:lnTo>
                    <a:pt x="2197" y="392"/>
                  </a:lnTo>
                  <a:lnTo>
                    <a:pt x="2038" y="418"/>
                  </a:lnTo>
                  <a:lnTo>
                    <a:pt x="1879" y="418"/>
                  </a:lnTo>
                  <a:lnTo>
                    <a:pt x="1747" y="445"/>
                  </a:lnTo>
                  <a:lnTo>
                    <a:pt x="1588" y="471"/>
                  </a:lnTo>
                  <a:lnTo>
                    <a:pt x="1429" y="498"/>
                  </a:lnTo>
                  <a:lnTo>
                    <a:pt x="1271" y="498"/>
                  </a:lnTo>
                  <a:lnTo>
                    <a:pt x="1112" y="524"/>
                  </a:lnTo>
                  <a:lnTo>
                    <a:pt x="978" y="524"/>
                  </a:lnTo>
                  <a:lnTo>
                    <a:pt x="820" y="551"/>
                  </a:lnTo>
                  <a:lnTo>
                    <a:pt x="661" y="577"/>
                  </a:lnTo>
                  <a:lnTo>
                    <a:pt x="502" y="577"/>
                  </a:lnTo>
                  <a:lnTo>
                    <a:pt x="317" y="604"/>
                  </a:lnTo>
                  <a:lnTo>
                    <a:pt x="158" y="604"/>
                  </a:lnTo>
                  <a:lnTo>
                    <a:pt x="0" y="630"/>
                  </a:lnTo>
                  <a:lnTo>
                    <a:pt x="0" y="3277"/>
                  </a:lnTo>
                  <a:lnTo>
                    <a:pt x="158" y="3250"/>
                  </a:lnTo>
                  <a:lnTo>
                    <a:pt x="317" y="3250"/>
                  </a:lnTo>
                  <a:lnTo>
                    <a:pt x="502" y="3224"/>
                  </a:lnTo>
                  <a:lnTo>
                    <a:pt x="661" y="3224"/>
                  </a:lnTo>
                  <a:lnTo>
                    <a:pt x="820" y="3198"/>
                  </a:lnTo>
                  <a:lnTo>
                    <a:pt x="978" y="3171"/>
                  </a:lnTo>
                  <a:lnTo>
                    <a:pt x="1112" y="3171"/>
                  </a:lnTo>
                  <a:lnTo>
                    <a:pt x="1271" y="3145"/>
                  </a:lnTo>
                  <a:lnTo>
                    <a:pt x="1429" y="3145"/>
                  </a:lnTo>
                  <a:lnTo>
                    <a:pt x="1588" y="3118"/>
                  </a:lnTo>
                  <a:lnTo>
                    <a:pt x="1747" y="3092"/>
                  </a:lnTo>
                  <a:lnTo>
                    <a:pt x="1879" y="3065"/>
                  </a:lnTo>
                  <a:lnTo>
                    <a:pt x="2038" y="3065"/>
                  </a:lnTo>
                  <a:lnTo>
                    <a:pt x="2197" y="3039"/>
                  </a:lnTo>
                  <a:lnTo>
                    <a:pt x="2329" y="3012"/>
                  </a:lnTo>
                  <a:lnTo>
                    <a:pt x="2488" y="2986"/>
                  </a:lnTo>
                  <a:lnTo>
                    <a:pt x="2620" y="2959"/>
                  </a:lnTo>
                  <a:lnTo>
                    <a:pt x="2779" y="2959"/>
                  </a:lnTo>
                  <a:lnTo>
                    <a:pt x="2911" y="2933"/>
                  </a:lnTo>
                  <a:lnTo>
                    <a:pt x="3043" y="2907"/>
                  </a:lnTo>
                  <a:lnTo>
                    <a:pt x="3177" y="2880"/>
                  </a:lnTo>
                  <a:lnTo>
                    <a:pt x="3309" y="2854"/>
                  </a:lnTo>
                  <a:lnTo>
                    <a:pt x="3441" y="2827"/>
                  </a:lnTo>
                  <a:lnTo>
                    <a:pt x="3573" y="2801"/>
                  </a:lnTo>
                  <a:lnTo>
                    <a:pt x="3706" y="2774"/>
                  </a:lnTo>
                  <a:lnTo>
                    <a:pt x="3838" y="2748"/>
                  </a:lnTo>
                  <a:lnTo>
                    <a:pt x="3970" y="2695"/>
                  </a:lnTo>
                  <a:lnTo>
                    <a:pt x="4103" y="2668"/>
                  </a:lnTo>
                  <a:lnTo>
                    <a:pt x="4208" y="2642"/>
                  </a:lnTo>
                  <a:lnTo>
                    <a:pt x="4208" y="0"/>
                  </a:lnTo>
                  <a:close/>
                </a:path>
              </a:pathLst>
            </a:custGeom>
            <a:solidFill>
              <a:srgbClr val="7f4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95480" y="3284640"/>
              <a:ext cx="1391040" cy="1095840"/>
            </a:xfrm>
            <a:custGeom>
              <a:avLst/>
              <a:gdLst/>
              <a:ahLst/>
              <a:rect l="0" t="0" r="r" b="b"/>
              <a:pathLst>
                <a:path w="3864" h="3044">
                  <a:moveTo>
                    <a:pt x="3864" y="396"/>
                  </a:moveTo>
                  <a:lnTo>
                    <a:pt x="3706" y="396"/>
                  </a:lnTo>
                  <a:lnTo>
                    <a:pt x="3547" y="396"/>
                  </a:lnTo>
                  <a:lnTo>
                    <a:pt x="3388" y="370"/>
                  </a:lnTo>
                  <a:lnTo>
                    <a:pt x="3203" y="370"/>
                  </a:lnTo>
                  <a:lnTo>
                    <a:pt x="3044" y="370"/>
                  </a:lnTo>
                  <a:lnTo>
                    <a:pt x="2884" y="343"/>
                  </a:lnTo>
                  <a:lnTo>
                    <a:pt x="2726" y="343"/>
                  </a:lnTo>
                  <a:lnTo>
                    <a:pt x="2567" y="317"/>
                  </a:lnTo>
                  <a:lnTo>
                    <a:pt x="2408" y="317"/>
                  </a:lnTo>
                  <a:lnTo>
                    <a:pt x="2249" y="291"/>
                  </a:lnTo>
                  <a:lnTo>
                    <a:pt x="2091" y="264"/>
                  </a:lnTo>
                  <a:lnTo>
                    <a:pt x="1932" y="264"/>
                  </a:lnTo>
                  <a:lnTo>
                    <a:pt x="1773" y="238"/>
                  </a:lnTo>
                  <a:lnTo>
                    <a:pt x="1614" y="238"/>
                  </a:lnTo>
                  <a:lnTo>
                    <a:pt x="1456" y="211"/>
                  </a:lnTo>
                  <a:lnTo>
                    <a:pt x="1323" y="185"/>
                  </a:lnTo>
                  <a:lnTo>
                    <a:pt x="1165" y="158"/>
                  </a:lnTo>
                  <a:lnTo>
                    <a:pt x="1006" y="158"/>
                  </a:lnTo>
                  <a:lnTo>
                    <a:pt x="873" y="132"/>
                  </a:lnTo>
                  <a:lnTo>
                    <a:pt x="714" y="105"/>
                  </a:lnTo>
                  <a:lnTo>
                    <a:pt x="582" y="79"/>
                  </a:lnTo>
                  <a:lnTo>
                    <a:pt x="423" y="52"/>
                  </a:lnTo>
                  <a:lnTo>
                    <a:pt x="291" y="52"/>
                  </a:lnTo>
                  <a:lnTo>
                    <a:pt x="158" y="26"/>
                  </a:lnTo>
                  <a:lnTo>
                    <a:pt x="0" y="0"/>
                  </a:lnTo>
                  <a:lnTo>
                    <a:pt x="0" y="2647"/>
                  </a:lnTo>
                  <a:lnTo>
                    <a:pt x="158" y="2674"/>
                  </a:lnTo>
                  <a:lnTo>
                    <a:pt x="291" y="2700"/>
                  </a:lnTo>
                  <a:lnTo>
                    <a:pt x="423" y="2700"/>
                  </a:lnTo>
                  <a:lnTo>
                    <a:pt x="582" y="2727"/>
                  </a:lnTo>
                  <a:lnTo>
                    <a:pt x="714" y="2753"/>
                  </a:lnTo>
                  <a:lnTo>
                    <a:pt x="873" y="2780"/>
                  </a:lnTo>
                  <a:lnTo>
                    <a:pt x="1006" y="2806"/>
                  </a:lnTo>
                  <a:lnTo>
                    <a:pt x="1165" y="2806"/>
                  </a:lnTo>
                  <a:lnTo>
                    <a:pt x="1323" y="2833"/>
                  </a:lnTo>
                  <a:lnTo>
                    <a:pt x="1456" y="2859"/>
                  </a:lnTo>
                  <a:lnTo>
                    <a:pt x="1614" y="2885"/>
                  </a:lnTo>
                  <a:lnTo>
                    <a:pt x="1773" y="2885"/>
                  </a:lnTo>
                  <a:lnTo>
                    <a:pt x="1932" y="2912"/>
                  </a:lnTo>
                  <a:lnTo>
                    <a:pt x="2091" y="2912"/>
                  </a:lnTo>
                  <a:lnTo>
                    <a:pt x="2249" y="2938"/>
                  </a:lnTo>
                  <a:lnTo>
                    <a:pt x="2408" y="2965"/>
                  </a:lnTo>
                  <a:lnTo>
                    <a:pt x="2567" y="2965"/>
                  </a:lnTo>
                  <a:lnTo>
                    <a:pt x="2726" y="2991"/>
                  </a:lnTo>
                  <a:lnTo>
                    <a:pt x="2884" y="2991"/>
                  </a:lnTo>
                  <a:lnTo>
                    <a:pt x="3044" y="3018"/>
                  </a:lnTo>
                  <a:lnTo>
                    <a:pt x="3203" y="3018"/>
                  </a:lnTo>
                  <a:lnTo>
                    <a:pt x="3388" y="3018"/>
                  </a:lnTo>
                  <a:lnTo>
                    <a:pt x="3547" y="3044"/>
                  </a:lnTo>
                  <a:lnTo>
                    <a:pt x="3706" y="3044"/>
                  </a:lnTo>
                  <a:lnTo>
                    <a:pt x="3864" y="3044"/>
                  </a:lnTo>
                  <a:lnTo>
                    <a:pt x="3864" y="396"/>
                  </a:lnTo>
                  <a:close/>
                </a:path>
              </a:pathLst>
            </a:custGeom>
            <a:solidFill>
              <a:srgbClr val="60607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86160" y="3417840"/>
              <a:ext cx="1503720" cy="981360"/>
            </a:xfrm>
            <a:custGeom>
              <a:avLst/>
              <a:gdLst/>
              <a:ahLst/>
              <a:rect l="0" t="0" r="r" b="b"/>
              <a:pathLst>
                <a:path w="4177" h="2726">
                  <a:moveTo>
                    <a:pt x="4177" y="0"/>
                  </a:moveTo>
                  <a:lnTo>
                    <a:pt x="4018" y="0"/>
                  </a:lnTo>
                  <a:lnTo>
                    <a:pt x="3859" y="0"/>
                  </a:lnTo>
                  <a:lnTo>
                    <a:pt x="3700" y="26"/>
                  </a:lnTo>
                  <a:lnTo>
                    <a:pt x="3515" y="26"/>
                  </a:lnTo>
                  <a:lnTo>
                    <a:pt x="3356" y="26"/>
                  </a:lnTo>
                  <a:lnTo>
                    <a:pt x="3198" y="52"/>
                  </a:lnTo>
                  <a:lnTo>
                    <a:pt x="3039" y="52"/>
                  </a:lnTo>
                  <a:lnTo>
                    <a:pt x="2854" y="52"/>
                  </a:lnTo>
                  <a:lnTo>
                    <a:pt x="2695" y="52"/>
                  </a:lnTo>
                  <a:lnTo>
                    <a:pt x="2536" y="52"/>
                  </a:lnTo>
                  <a:lnTo>
                    <a:pt x="2351" y="79"/>
                  </a:lnTo>
                  <a:lnTo>
                    <a:pt x="2192" y="79"/>
                  </a:lnTo>
                  <a:lnTo>
                    <a:pt x="2006" y="79"/>
                  </a:lnTo>
                  <a:lnTo>
                    <a:pt x="1847" y="79"/>
                  </a:lnTo>
                  <a:lnTo>
                    <a:pt x="1688" y="79"/>
                  </a:lnTo>
                  <a:lnTo>
                    <a:pt x="1503" y="79"/>
                  </a:lnTo>
                  <a:lnTo>
                    <a:pt x="1349" y="79"/>
                  </a:lnTo>
                  <a:lnTo>
                    <a:pt x="1190" y="79"/>
                  </a:lnTo>
                  <a:lnTo>
                    <a:pt x="1005" y="79"/>
                  </a:lnTo>
                  <a:lnTo>
                    <a:pt x="846" y="52"/>
                  </a:lnTo>
                  <a:lnTo>
                    <a:pt x="687" y="52"/>
                  </a:lnTo>
                  <a:lnTo>
                    <a:pt x="502" y="52"/>
                  </a:lnTo>
                  <a:lnTo>
                    <a:pt x="343" y="52"/>
                  </a:lnTo>
                  <a:lnTo>
                    <a:pt x="185" y="52"/>
                  </a:lnTo>
                  <a:lnTo>
                    <a:pt x="0" y="26"/>
                  </a:lnTo>
                  <a:lnTo>
                    <a:pt x="0" y="2673"/>
                  </a:lnTo>
                  <a:lnTo>
                    <a:pt x="185" y="2699"/>
                  </a:lnTo>
                  <a:lnTo>
                    <a:pt x="343" y="2699"/>
                  </a:lnTo>
                  <a:lnTo>
                    <a:pt x="502" y="2699"/>
                  </a:lnTo>
                  <a:lnTo>
                    <a:pt x="687" y="2699"/>
                  </a:lnTo>
                  <a:lnTo>
                    <a:pt x="846" y="2699"/>
                  </a:lnTo>
                  <a:lnTo>
                    <a:pt x="1005" y="2726"/>
                  </a:lnTo>
                  <a:lnTo>
                    <a:pt x="1190" y="2726"/>
                  </a:lnTo>
                  <a:lnTo>
                    <a:pt x="1349" y="2726"/>
                  </a:lnTo>
                  <a:lnTo>
                    <a:pt x="1503" y="2726"/>
                  </a:lnTo>
                  <a:lnTo>
                    <a:pt x="1688" y="2726"/>
                  </a:lnTo>
                  <a:lnTo>
                    <a:pt x="1847" y="2726"/>
                  </a:lnTo>
                  <a:lnTo>
                    <a:pt x="2006" y="2726"/>
                  </a:lnTo>
                  <a:lnTo>
                    <a:pt x="2192" y="2726"/>
                  </a:lnTo>
                  <a:lnTo>
                    <a:pt x="2351" y="2726"/>
                  </a:lnTo>
                  <a:lnTo>
                    <a:pt x="2536" y="2699"/>
                  </a:lnTo>
                  <a:lnTo>
                    <a:pt x="2695" y="2699"/>
                  </a:lnTo>
                  <a:lnTo>
                    <a:pt x="2854" y="2699"/>
                  </a:lnTo>
                  <a:lnTo>
                    <a:pt x="3039" y="2699"/>
                  </a:lnTo>
                  <a:lnTo>
                    <a:pt x="3198" y="2699"/>
                  </a:lnTo>
                  <a:lnTo>
                    <a:pt x="3356" y="2673"/>
                  </a:lnTo>
                  <a:lnTo>
                    <a:pt x="3515" y="2673"/>
                  </a:lnTo>
                  <a:lnTo>
                    <a:pt x="3700" y="2673"/>
                  </a:lnTo>
                  <a:lnTo>
                    <a:pt x="3859" y="2646"/>
                  </a:lnTo>
                  <a:lnTo>
                    <a:pt x="4018" y="2646"/>
                  </a:lnTo>
                  <a:lnTo>
                    <a:pt x="4177" y="2646"/>
                  </a:lnTo>
                  <a:lnTo>
                    <a:pt x="4177" y="0"/>
                  </a:lnTo>
                  <a:close/>
                </a:path>
              </a:pathLst>
            </a:custGeom>
            <a:solidFill>
              <a:srgbClr val="0040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67000" y="1657440"/>
              <a:ext cx="3427920" cy="886320"/>
            </a:xfrm>
            <a:custGeom>
              <a:avLst/>
              <a:gdLst/>
              <a:ahLst/>
              <a:rect l="0" t="0" r="r" b="b"/>
              <a:pathLst>
                <a:path w="9522" h="2462">
                  <a:moveTo>
                    <a:pt x="0" y="2039"/>
                  </a:moveTo>
                  <a:lnTo>
                    <a:pt x="26" y="1986"/>
                  </a:lnTo>
                  <a:lnTo>
                    <a:pt x="79" y="1959"/>
                  </a:lnTo>
                  <a:lnTo>
                    <a:pt x="105" y="1907"/>
                  </a:lnTo>
                  <a:lnTo>
                    <a:pt x="158" y="1854"/>
                  </a:lnTo>
                  <a:lnTo>
                    <a:pt x="185" y="1826"/>
                  </a:lnTo>
                  <a:lnTo>
                    <a:pt x="238" y="1773"/>
                  </a:lnTo>
                  <a:lnTo>
                    <a:pt x="291" y="1747"/>
                  </a:lnTo>
                  <a:lnTo>
                    <a:pt x="343" y="1694"/>
                  </a:lnTo>
                  <a:lnTo>
                    <a:pt x="396" y="1641"/>
                  </a:lnTo>
                  <a:lnTo>
                    <a:pt x="449" y="1614"/>
                  </a:lnTo>
                  <a:lnTo>
                    <a:pt x="502" y="1562"/>
                  </a:lnTo>
                  <a:lnTo>
                    <a:pt x="555" y="1535"/>
                  </a:lnTo>
                  <a:lnTo>
                    <a:pt x="635" y="1482"/>
                  </a:lnTo>
                  <a:lnTo>
                    <a:pt x="687" y="1456"/>
                  </a:lnTo>
                  <a:lnTo>
                    <a:pt x="767" y="1403"/>
                  </a:lnTo>
                  <a:lnTo>
                    <a:pt x="846" y="1376"/>
                  </a:lnTo>
                  <a:lnTo>
                    <a:pt x="926" y="1323"/>
                  </a:lnTo>
                  <a:lnTo>
                    <a:pt x="978" y="1297"/>
                  </a:lnTo>
                  <a:lnTo>
                    <a:pt x="1084" y="1244"/>
                  </a:lnTo>
                  <a:lnTo>
                    <a:pt x="1164" y="1218"/>
                  </a:lnTo>
                  <a:lnTo>
                    <a:pt x="1243" y="1191"/>
                  </a:lnTo>
                  <a:lnTo>
                    <a:pt x="1322" y="1138"/>
                  </a:lnTo>
                  <a:lnTo>
                    <a:pt x="1428" y="1112"/>
                  </a:lnTo>
                  <a:lnTo>
                    <a:pt x="1508" y="1059"/>
                  </a:lnTo>
                  <a:lnTo>
                    <a:pt x="1613" y="1032"/>
                  </a:lnTo>
                  <a:lnTo>
                    <a:pt x="1693" y="1006"/>
                  </a:lnTo>
                  <a:lnTo>
                    <a:pt x="1799" y="953"/>
                  </a:lnTo>
                  <a:lnTo>
                    <a:pt x="1904" y="927"/>
                  </a:lnTo>
                  <a:lnTo>
                    <a:pt x="2010" y="900"/>
                  </a:lnTo>
                  <a:lnTo>
                    <a:pt x="2116" y="874"/>
                  </a:lnTo>
                  <a:lnTo>
                    <a:pt x="2222" y="821"/>
                  </a:lnTo>
                  <a:lnTo>
                    <a:pt x="2328" y="794"/>
                  </a:lnTo>
                  <a:lnTo>
                    <a:pt x="2461" y="768"/>
                  </a:lnTo>
                  <a:lnTo>
                    <a:pt x="2567" y="741"/>
                  </a:lnTo>
                  <a:lnTo>
                    <a:pt x="2699" y="688"/>
                  </a:lnTo>
                  <a:lnTo>
                    <a:pt x="2805" y="662"/>
                  </a:lnTo>
                  <a:lnTo>
                    <a:pt x="2937" y="636"/>
                  </a:lnTo>
                  <a:lnTo>
                    <a:pt x="3070" y="608"/>
                  </a:lnTo>
                  <a:lnTo>
                    <a:pt x="3175" y="582"/>
                  </a:lnTo>
                  <a:lnTo>
                    <a:pt x="3308" y="555"/>
                  </a:lnTo>
                  <a:lnTo>
                    <a:pt x="3440" y="529"/>
                  </a:lnTo>
                  <a:lnTo>
                    <a:pt x="3572" y="502"/>
                  </a:lnTo>
                  <a:lnTo>
                    <a:pt x="3705" y="476"/>
                  </a:lnTo>
                  <a:lnTo>
                    <a:pt x="3837" y="449"/>
                  </a:lnTo>
                  <a:lnTo>
                    <a:pt x="3969" y="423"/>
                  </a:lnTo>
                  <a:lnTo>
                    <a:pt x="4128" y="396"/>
                  </a:lnTo>
                  <a:lnTo>
                    <a:pt x="4260" y="370"/>
                  </a:lnTo>
                  <a:lnTo>
                    <a:pt x="4393" y="343"/>
                  </a:lnTo>
                  <a:lnTo>
                    <a:pt x="4551" y="317"/>
                  </a:lnTo>
                  <a:lnTo>
                    <a:pt x="4684" y="291"/>
                  </a:lnTo>
                  <a:lnTo>
                    <a:pt x="4842" y="291"/>
                  </a:lnTo>
                  <a:lnTo>
                    <a:pt x="4975" y="264"/>
                  </a:lnTo>
                  <a:lnTo>
                    <a:pt x="5133" y="238"/>
                  </a:lnTo>
                  <a:lnTo>
                    <a:pt x="5292" y="211"/>
                  </a:lnTo>
                  <a:lnTo>
                    <a:pt x="5424" y="211"/>
                  </a:lnTo>
                  <a:lnTo>
                    <a:pt x="5583" y="185"/>
                  </a:lnTo>
                  <a:lnTo>
                    <a:pt x="5742" y="158"/>
                  </a:lnTo>
                  <a:lnTo>
                    <a:pt x="5901" y="158"/>
                  </a:lnTo>
                  <a:lnTo>
                    <a:pt x="6059" y="132"/>
                  </a:lnTo>
                  <a:lnTo>
                    <a:pt x="6218" y="105"/>
                  </a:lnTo>
                  <a:lnTo>
                    <a:pt x="6377" y="105"/>
                  </a:lnTo>
                  <a:lnTo>
                    <a:pt x="6536" y="79"/>
                  </a:lnTo>
                  <a:lnTo>
                    <a:pt x="6694" y="79"/>
                  </a:lnTo>
                  <a:lnTo>
                    <a:pt x="6853" y="52"/>
                  </a:lnTo>
                  <a:lnTo>
                    <a:pt x="7012" y="52"/>
                  </a:lnTo>
                  <a:lnTo>
                    <a:pt x="7172" y="52"/>
                  </a:lnTo>
                  <a:lnTo>
                    <a:pt x="7357" y="26"/>
                  </a:lnTo>
                  <a:lnTo>
                    <a:pt x="7516" y="26"/>
                  </a:lnTo>
                  <a:lnTo>
                    <a:pt x="7674" y="0"/>
                  </a:lnTo>
                  <a:lnTo>
                    <a:pt x="7833" y="0"/>
                  </a:lnTo>
                  <a:lnTo>
                    <a:pt x="8018" y="0"/>
                  </a:lnTo>
                  <a:lnTo>
                    <a:pt x="8177" y="0"/>
                  </a:lnTo>
                  <a:lnTo>
                    <a:pt x="9522" y="2462"/>
                  </a:lnTo>
                  <a:lnTo>
                    <a:pt x="0" y="2039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0000" y="1647720"/>
              <a:ext cx="2808720" cy="895680"/>
            </a:xfrm>
            <a:custGeom>
              <a:avLst/>
              <a:gdLst/>
              <a:ahLst/>
              <a:rect l="0" t="0" r="r" b="b"/>
              <a:pathLst>
                <a:path w="7802" h="2488">
                  <a:moveTo>
                    <a:pt x="0" y="26"/>
                  </a:moveTo>
                  <a:lnTo>
                    <a:pt x="158" y="0"/>
                  </a:lnTo>
                  <a:lnTo>
                    <a:pt x="343" y="0"/>
                  </a:lnTo>
                  <a:lnTo>
                    <a:pt x="502" y="0"/>
                  </a:lnTo>
                  <a:lnTo>
                    <a:pt x="661" y="0"/>
                  </a:lnTo>
                  <a:lnTo>
                    <a:pt x="846" y="0"/>
                  </a:lnTo>
                  <a:lnTo>
                    <a:pt x="1005" y="0"/>
                  </a:lnTo>
                  <a:lnTo>
                    <a:pt x="1159" y="0"/>
                  </a:lnTo>
                  <a:lnTo>
                    <a:pt x="1344" y="0"/>
                  </a:lnTo>
                  <a:lnTo>
                    <a:pt x="1503" y="0"/>
                  </a:lnTo>
                  <a:lnTo>
                    <a:pt x="1662" y="0"/>
                  </a:lnTo>
                  <a:lnTo>
                    <a:pt x="1847" y="0"/>
                  </a:lnTo>
                  <a:lnTo>
                    <a:pt x="2007" y="0"/>
                  </a:lnTo>
                  <a:lnTo>
                    <a:pt x="2192" y="0"/>
                  </a:lnTo>
                  <a:lnTo>
                    <a:pt x="2351" y="0"/>
                  </a:lnTo>
                  <a:lnTo>
                    <a:pt x="2510" y="0"/>
                  </a:lnTo>
                  <a:lnTo>
                    <a:pt x="2695" y="26"/>
                  </a:lnTo>
                  <a:lnTo>
                    <a:pt x="2854" y="26"/>
                  </a:lnTo>
                  <a:lnTo>
                    <a:pt x="3012" y="26"/>
                  </a:lnTo>
                  <a:lnTo>
                    <a:pt x="3171" y="26"/>
                  </a:lnTo>
                  <a:lnTo>
                    <a:pt x="3356" y="52"/>
                  </a:lnTo>
                  <a:lnTo>
                    <a:pt x="3515" y="52"/>
                  </a:lnTo>
                  <a:lnTo>
                    <a:pt x="3674" y="79"/>
                  </a:lnTo>
                  <a:lnTo>
                    <a:pt x="3833" y="79"/>
                  </a:lnTo>
                  <a:lnTo>
                    <a:pt x="3991" y="79"/>
                  </a:lnTo>
                  <a:lnTo>
                    <a:pt x="4150" y="105"/>
                  </a:lnTo>
                  <a:lnTo>
                    <a:pt x="4335" y="105"/>
                  </a:lnTo>
                  <a:lnTo>
                    <a:pt x="4494" y="132"/>
                  </a:lnTo>
                  <a:lnTo>
                    <a:pt x="4653" y="132"/>
                  </a:lnTo>
                  <a:lnTo>
                    <a:pt x="4812" y="158"/>
                  </a:lnTo>
                  <a:lnTo>
                    <a:pt x="4944" y="185"/>
                  </a:lnTo>
                  <a:lnTo>
                    <a:pt x="5103" y="185"/>
                  </a:lnTo>
                  <a:lnTo>
                    <a:pt x="5261" y="211"/>
                  </a:lnTo>
                  <a:lnTo>
                    <a:pt x="5420" y="238"/>
                  </a:lnTo>
                  <a:lnTo>
                    <a:pt x="5579" y="238"/>
                  </a:lnTo>
                  <a:lnTo>
                    <a:pt x="5711" y="264"/>
                  </a:lnTo>
                  <a:lnTo>
                    <a:pt x="5871" y="291"/>
                  </a:lnTo>
                  <a:lnTo>
                    <a:pt x="6030" y="317"/>
                  </a:lnTo>
                  <a:lnTo>
                    <a:pt x="6162" y="317"/>
                  </a:lnTo>
                  <a:lnTo>
                    <a:pt x="6321" y="343"/>
                  </a:lnTo>
                  <a:lnTo>
                    <a:pt x="6453" y="370"/>
                  </a:lnTo>
                  <a:lnTo>
                    <a:pt x="6612" y="396"/>
                  </a:lnTo>
                  <a:lnTo>
                    <a:pt x="6744" y="423"/>
                  </a:lnTo>
                  <a:lnTo>
                    <a:pt x="6876" y="449"/>
                  </a:lnTo>
                  <a:lnTo>
                    <a:pt x="7009" y="476"/>
                  </a:lnTo>
                  <a:lnTo>
                    <a:pt x="7141" y="502"/>
                  </a:lnTo>
                  <a:lnTo>
                    <a:pt x="7273" y="529"/>
                  </a:lnTo>
                  <a:lnTo>
                    <a:pt x="7405" y="555"/>
                  </a:lnTo>
                  <a:lnTo>
                    <a:pt x="7538" y="582"/>
                  </a:lnTo>
                  <a:lnTo>
                    <a:pt x="7670" y="608"/>
                  </a:lnTo>
                  <a:lnTo>
                    <a:pt x="7802" y="635"/>
                  </a:lnTo>
                  <a:lnTo>
                    <a:pt x="1344" y="248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020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94200" y="1876320"/>
              <a:ext cx="3353040" cy="667080"/>
            </a:xfrm>
            <a:custGeom>
              <a:avLst/>
              <a:gdLst/>
              <a:ahLst/>
              <a:rect l="0" t="0" r="r" b="b"/>
              <a:pathLst>
                <a:path w="9314" h="1853">
                  <a:moveTo>
                    <a:pt x="6456" y="0"/>
                  </a:moveTo>
                  <a:lnTo>
                    <a:pt x="6589" y="26"/>
                  </a:lnTo>
                  <a:lnTo>
                    <a:pt x="6694" y="52"/>
                  </a:lnTo>
                  <a:lnTo>
                    <a:pt x="6827" y="79"/>
                  </a:lnTo>
                  <a:lnTo>
                    <a:pt x="6933" y="132"/>
                  </a:lnTo>
                  <a:lnTo>
                    <a:pt x="7065" y="158"/>
                  </a:lnTo>
                  <a:lnTo>
                    <a:pt x="7171" y="185"/>
                  </a:lnTo>
                  <a:lnTo>
                    <a:pt x="7277" y="211"/>
                  </a:lnTo>
                  <a:lnTo>
                    <a:pt x="7382" y="264"/>
                  </a:lnTo>
                  <a:lnTo>
                    <a:pt x="7488" y="291"/>
                  </a:lnTo>
                  <a:lnTo>
                    <a:pt x="7594" y="317"/>
                  </a:lnTo>
                  <a:lnTo>
                    <a:pt x="7700" y="343"/>
                  </a:lnTo>
                  <a:lnTo>
                    <a:pt x="7806" y="396"/>
                  </a:lnTo>
                  <a:lnTo>
                    <a:pt x="7912" y="423"/>
                  </a:lnTo>
                  <a:lnTo>
                    <a:pt x="7991" y="449"/>
                  </a:lnTo>
                  <a:lnTo>
                    <a:pt x="8097" y="502"/>
                  </a:lnTo>
                  <a:lnTo>
                    <a:pt x="8176" y="529"/>
                  </a:lnTo>
                  <a:lnTo>
                    <a:pt x="8282" y="582"/>
                  </a:lnTo>
                  <a:lnTo>
                    <a:pt x="8361" y="608"/>
                  </a:lnTo>
                  <a:lnTo>
                    <a:pt x="8441" y="635"/>
                  </a:lnTo>
                  <a:lnTo>
                    <a:pt x="8520" y="687"/>
                  </a:lnTo>
                  <a:lnTo>
                    <a:pt x="8599" y="714"/>
                  </a:lnTo>
                  <a:lnTo>
                    <a:pt x="8679" y="767"/>
                  </a:lnTo>
                  <a:lnTo>
                    <a:pt x="8758" y="793"/>
                  </a:lnTo>
                  <a:lnTo>
                    <a:pt x="8811" y="846"/>
                  </a:lnTo>
                  <a:lnTo>
                    <a:pt x="8891" y="873"/>
                  </a:lnTo>
                  <a:lnTo>
                    <a:pt x="8943" y="926"/>
                  </a:lnTo>
                  <a:lnTo>
                    <a:pt x="9023" y="953"/>
                  </a:lnTo>
                  <a:lnTo>
                    <a:pt x="9076" y="1006"/>
                  </a:lnTo>
                  <a:lnTo>
                    <a:pt x="9129" y="1032"/>
                  </a:lnTo>
                  <a:lnTo>
                    <a:pt x="9182" y="1085"/>
                  </a:lnTo>
                  <a:lnTo>
                    <a:pt x="9234" y="1138"/>
                  </a:lnTo>
                  <a:lnTo>
                    <a:pt x="9287" y="1165"/>
                  </a:lnTo>
                  <a:lnTo>
                    <a:pt x="9314" y="1218"/>
                  </a:lnTo>
                  <a:lnTo>
                    <a:pt x="0" y="1853"/>
                  </a:lnTo>
                  <a:lnTo>
                    <a:pt x="6456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94200" y="2314440"/>
              <a:ext cx="3476880" cy="495720"/>
            </a:xfrm>
            <a:custGeom>
              <a:avLst/>
              <a:gdLst/>
              <a:ahLst/>
              <a:rect l="0" t="0" r="r" b="b"/>
              <a:pathLst>
                <a:path w="9658" h="1377">
                  <a:moveTo>
                    <a:pt x="9314" y="0"/>
                  </a:moveTo>
                  <a:lnTo>
                    <a:pt x="9367" y="26"/>
                  </a:lnTo>
                  <a:lnTo>
                    <a:pt x="9393" y="79"/>
                  </a:lnTo>
                  <a:lnTo>
                    <a:pt x="9446" y="132"/>
                  </a:lnTo>
                  <a:lnTo>
                    <a:pt x="9473" y="158"/>
                  </a:lnTo>
                  <a:lnTo>
                    <a:pt x="9499" y="211"/>
                  </a:lnTo>
                  <a:lnTo>
                    <a:pt x="9526" y="238"/>
                  </a:lnTo>
                  <a:lnTo>
                    <a:pt x="9552" y="291"/>
                  </a:lnTo>
                  <a:lnTo>
                    <a:pt x="9578" y="343"/>
                  </a:lnTo>
                  <a:lnTo>
                    <a:pt x="9605" y="371"/>
                  </a:lnTo>
                  <a:lnTo>
                    <a:pt x="9605" y="424"/>
                  </a:lnTo>
                  <a:lnTo>
                    <a:pt x="9631" y="477"/>
                  </a:lnTo>
                  <a:lnTo>
                    <a:pt x="9631" y="503"/>
                  </a:lnTo>
                  <a:lnTo>
                    <a:pt x="9658" y="556"/>
                  </a:lnTo>
                  <a:lnTo>
                    <a:pt x="9658" y="609"/>
                  </a:lnTo>
                  <a:lnTo>
                    <a:pt x="9658" y="636"/>
                  </a:lnTo>
                  <a:lnTo>
                    <a:pt x="9658" y="688"/>
                  </a:lnTo>
                  <a:lnTo>
                    <a:pt x="9658" y="741"/>
                  </a:lnTo>
                  <a:lnTo>
                    <a:pt x="9631" y="768"/>
                  </a:lnTo>
                  <a:lnTo>
                    <a:pt x="9631" y="821"/>
                  </a:lnTo>
                  <a:lnTo>
                    <a:pt x="9605" y="847"/>
                  </a:lnTo>
                  <a:lnTo>
                    <a:pt x="9605" y="900"/>
                  </a:lnTo>
                  <a:lnTo>
                    <a:pt x="9578" y="953"/>
                  </a:lnTo>
                  <a:lnTo>
                    <a:pt x="9552" y="979"/>
                  </a:lnTo>
                  <a:lnTo>
                    <a:pt x="9526" y="1032"/>
                  </a:lnTo>
                  <a:lnTo>
                    <a:pt x="9499" y="1086"/>
                  </a:lnTo>
                  <a:lnTo>
                    <a:pt x="9473" y="1113"/>
                  </a:lnTo>
                  <a:lnTo>
                    <a:pt x="9446" y="1166"/>
                  </a:lnTo>
                  <a:lnTo>
                    <a:pt x="9393" y="1219"/>
                  </a:lnTo>
                  <a:lnTo>
                    <a:pt x="9367" y="1245"/>
                  </a:lnTo>
                  <a:lnTo>
                    <a:pt x="9314" y="1298"/>
                  </a:lnTo>
                  <a:lnTo>
                    <a:pt x="9287" y="1324"/>
                  </a:lnTo>
                  <a:lnTo>
                    <a:pt x="9234" y="1377"/>
                  </a:lnTo>
                  <a:lnTo>
                    <a:pt x="0" y="636"/>
                  </a:lnTo>
                  <a:lnTo>
                    <a:pt x="9314" y="0"/>
                  </a:lnTo>
                  <a:close/>
                </a:path>
              </a:pathLst>
            </a:custGeom>
            <a:solidFill>
              <a:srgbClr val="a0e0e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94200" y="2543040"/>
              <a:ext cx="3324600" cy="648000"/>
            </a:xfrm>
            <a:custGeom>
              <a:avLst/>
              <a:gdLst/>
              <a:ahLst/>
              <a:rect l="0" t="0" r="r" b="b"/>
              <a:pathLst>
                <a:path w="9235" h="1800">
                  <a:moveTo>
                    <a:pt x="9235" y="740"/>
                  </a:moveTo>
                  <a:lnTo>
                    <a:pt x="9183" y="767"/>
                  </a:lnTo>
                  <a:lnTo>
                    <a:pt x="9130" y="820"/>
                  </a:lnTo>
                  <a:lnTo>
                    <a:pt x="9077" y="873"/>
                  </a:lnTo>
                  <a:lnTo>
                    <a:pt x="9024" y="899"/>
                  </a:lnTo>
                  <a:lnTo>
                    <a:pt x="8944" y="953"/>
                  </a:lnTo>
                  <a:lnTo>
                    <a:pt x="8892" y="979"/>
                  </a:lnTo>
                  <a:lnTo>
                    <a:pt x="8812" y="1032"/>
                  </a:lnTo>
                  <a:lnTo>
                    <a:pt x="8759" y="1059"/>
                  </a:lnTo>
                  <a:lnTo>
                    <a:pt x="8680" y="1112"/>
                  </a:lnTo>
                  <a:lnTo>
                    <a:pt x="8600" y="1138"/>
                  </a:lnTo>
                  <a:lnTo>
                    <a:pt x="8521" y="1191"/>
                  </a:lnTo>
                  <a:lnTo>
                    <a:pt x="8442" y="1218"/>
                  </a:lnTo>
                  <a:lnTo>
                    <a:pt x="8362" y="1271"/>
                  </a:lnTo>
                  <a:lnTo>
                    <a:pt x="8283" y="1297"/>
                  </a:lnTo>
                  <a:lnTo>
                    <a:pt x="8177" y="1323"/>
                  </a:lnTo>
                  <a:lnTo>
                    <a:pt x="8098" y="1376"/>
                  </a:lnTo>
                  <a:lnTo>
                    <a:pt x="7992" y="1403"/>
                  </a:lnTo>
                  <a:lnTo>
                    <a:pt x="7913" y="1429"/>
                  </a:lnTo>
                  <a:lnTo>
                    <a:pt x="7807" y="1482"/>
                  </a:lnTo>
                  <a:lnTo>
                    <a:pt x="7701" y="1509"/>
                  </a:lnTo>
                  <a:lnTo>
                    <a:pt x="7595" y="1535"/>
                  </a:lnTo>
                  <a:lnTo>
                    <a:pt x="7489" y="1588"/>
                  </a:lnTo>
                  <a:lnTo>
                    <a:pt x="7383" y="1614"/>
                  </a:lnTo>
                  <a:lnTo>
                    <a:pt x="7278" y="1641"/>
                  </a:lnTo>
                  <a:lnTo>
                    <a:pt x="7172" y="1667"/>
                  </a:lnTo>
                  <a:lnTo>
                    <a:pt x="7066" y="1720"/>
                  </a:lnTo>
                  <a:lnTo>
                    <a:pt x="6934" y="1747"/>
                  </a:lnTo>
                  <a:lnTo>
                    <a:pt x="6827" y="1773"/>
                  </a:lnTo>
                  <a:lnTo>
                    <a:pt x="6694" y="1800"/>
                  </a:lnTo>
                  <a:lnTo>
                    <a:pt x="0" y="0"/>
                  </a:lnTo>
                  <a:lnTo>
                    <a:pt x="9235" y="740"/>
                  </a:lnTo>
                  <a:close/>
                </a:path>
              </a:pathLst>
            </a:custGeom>
            <a:solidFill>
              <a:srgbClr val="600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94200" y="2543040"/>
              <a:ext cx="2410200" cy="875160"/>
            </a:xfrm>
            <a:custGeom>
              <a:avLst/>
              <a:gdLst/>
              <a:ahLst/>
              <a:rect l="0" t="0" r="r" b="b"/>
              <a:pathLst>
                <a:path w="6695" h="2431">
                  <a:moveTo>
                    <a:pt x="6695" y="1800"/>
                  </a:moveTo>
                  <a:lnTo>
                    <a:pt x="6590" y="1827"/>
                  </a:lnTo>
                  <a:lnTo>
                    <a:pt x="6457" y="1849"/>
                  </a:lnTo>
                  <a:lnTo>
                    <a:pt x="6325" y="1902"/>
                  </a:lnTo>
                  <a:lnTo>
                    <a:pt x="6193" y="1929"/>
                  </a:lnTo>
                  <a:lnTo>
                    <a:pt x="6060" y="1955"/>
                  </a:lnTo>
                  <a:lnTo>
                    <a:pt x="5928" y="1981"/>
                  </a:lnTo>
                  <a:lnTo>
                    <a:pt x="5796" y="2008"/>
                  </a:lnTo>
                  <a:lnTo>
                    <a:pt x="5664" y="2034"/>
                  </a:lnTo>
                  <a:lnTo>
                    <a:pt x="5531" y="2061"/>
                  </a:lnTo>
                  <a:lnTo>
                    <a:pt x="5399" y="2087"/>
                  </a:lnTo>
                  <a:lnTo>
                    <a:pt x="5267" y="2114"/>
                  </a:lnTo>
                  <a:lnTo>
                    <a:pt x="5108" y="2114"/>
                  </a:lnTo>
                  <a:lnTo>
                    <a:pt x="4975" y="2140"/>
                  </a:lnTo>
                  <a:lnTo>
                    <a:pt x="4816" y="2167"/>
                  </a:lnTo>
                  <a:lnTo>
                    <a:pt x="4684" y="2193"/>
                  </a:lnTo>
                  <a:lnTo>
                    <a:pt x="4525" y="2220"/>
                  </a:lnTo>
                  <a:lnTo>
                    <a:pt x="4366" y="2220"/>
                  </a:lnTo>
                  <a:lnTo>
                    <a:pt x="4234" y="2246"/>
                  </a:lnTo>
                  <a:lnTo>
                    <a:pt x="4075" y="2273"/>
                  </a:lnTo>
                  <a:lnTo>
                    <a:pt x="3916" y="2299"/>
                  </a:lnTo>
                  <a:lnTo>
                    <a:pt x="3758" y="2299"/>
                  </a:lnTo>
                  <a:lnTo>
                    <a:pt x="3599" y="2325"/>
                  </a:lnTo>
                  <a:lnTo>
                    <a:pt x="3467" y="2325"/>
                  </a:lnTo>
                  <a:lnTo>
                    <a:pt x="3308" y="2352"/>
                  </a:lnTo>
                  <a:lnTo>
                    <a:pt x="3149" y="2378"/>
                  </a:lnTo>
                  <a:lnTo>
                    <a:pt x="2990" y="2378"/>
                  </a:lnTo>
                  <a:lnTo>
                    <a:pt x="2805" y="2405"/>
                  </a:lnTo>
                  <a:lnTo>
                    <a:pt x="2646" y="2405"/>
                  </a:lnTo>
                  <a:lnTo>
                    <a:pt x="2488" y="2431"/>
                  </a:lnTo>
                  <a:lnTo>
                    <a:pt x="0" y="0"/>
                  </a:lnTo>
                  <a:lnTo>
                    <a:pt x="6695" y="180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86160" y="2543040"/>
              <a:ext cx="1503720" cy="903600"/>
            </a:xfrm>
            <a:custGeom>
              <a:avLst/>
              <a:gdLst/>
              <a:ahLst/>
              <a:rect l="0" t="0" r="r" b="b"/>
              <a:pathLst>
                <a:path w="4177" h="2510">
                  <a:moveTo>
                    <a:pt x="4177" y="2430"/>
                  </a:moveTo>
                  <a:lnTo>
                    <a:pt x="4018" y="2430"/>
                  </a:lnTo>
                  <a:lnTo>
                    <a:pt x="3859" y="2430"/>
                  </a:lnTo>
                  <a:lnTo>
                    <a:pt x="3700" y="2457"/>
                  </a:lnTo>
                  <a:lnTo>
                    <a:pt x="3515" y="2457"/>
                  </a:lnTo>
                  <a:lnTo>
                    <a:pt x="3356" y="2457"/>
                  </a:lnTo>
                  <a:lnTo>
                    <a:pt x="3198" y="2483"/>
                  </a:lnTo>
                  <a:lnTo>
                    <a:pt x="3039" y="2483"/>
                  </a:lnTo>
                  <a:lnTo>
                    <a:pt x="2854" y="2483"/>
                  </a:lnTo>
                  <a:lnTo>
                    <a:pt x="2695" y="2483"/>
                  </a:lnTo>
                  <a:lnTo>
                    <a:pt x="2536" y="2483"/>
                  </a:lnTo>
                  <a:lnTo>
                    <a:pt x="2351" y="2510"/>
                  </a:lnTo>
                  <a:lnTo>
                    <a:pt x="2192" y="2510"/>
                  </a:lnTo>
                  <a:lnTo>
                    <a:pt x="2006" y="2510"/>
                  </a:lnTo>
                  <a:lnTo>
                    <a:pt x="1847" y="2510"/>
                  </a:lnTo>
                  <a:lnTo>
                    <a:pt x="1688" y="2510"/>
                  </a:lnTo>
                  <a:lnTo>
                    <a:pt x="1503" y="2510"/>
                  </a:lnTo>
                  <a:lnTo>
                    <a:pt x="1349" y="2510"/>
                  </a:lnTo>
                  <a:lnTo>
                    <a:pt x="1190" y="2510"/>
                  </a:lnTo>
                  <a:lnTo>
                    <a:pt x="1005" y="2510"/>
                  </a:lnTo>
                  <a:lnTo>
                    <a:pt x="846" y="2483"/>
                  </a:lnTo>
                  <a:lnTo>
                    <a:pt x="687" y="2483"/>
                  </a:lnTo>
                  <a:lnTo>
                    <a:pt x="502" y="2483"/>
                  </a:lnTo>
                  <a:lnTo>
                    <a:pt x="343" y="2483"/>
                  </a:lnTo>
                  <a:lnTo>
                    <a:pt x="185" y="2483"/>
                  </a:lnTo>
                  <a:lnTo>
                    <a:pt x="0" y="2457"/>
                  </a:lnTo>
                  <a:lnTo>
                    <a:pt x="1688" y="0"/>
                  </a:lnTo>
                  <a:lnTo>
                    <a:pt x="4177" y="2430"/>
                  </a:lnTo>
                  <a:close/>
                </a:path>
              </a:pathLst>
            </a:custGeom>
            <a:solidFill>
              <a:srgbClr val="008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95480" y="2543040"/>
              <a:ext cx="1999080" cy="884520"/>
            </a:xfrm>
            <a:custGeom>
              <a:avLst/>
              <a:gdLst/>
              <a:ahLst/>
              <a:rect l="0" t="0" r="r" b="b"/>
              <a:pathLst>
                <a:path w="5553" h="2457">
                  <a:moveTo>
                    <a:pt x="3863" y="2457"/>
                  </a:moveTo>
                  <a:lnTo>
                    <a:pt x="3705" y="2457"/>
                  </a:lnTo>
                  <a:lnTo>
                    <a:pt x="3546" y="2457"/>
                  </a:lnTo>
                  <a:lnTo>
                    <a:pt x="3387" y="2430"/>
                  </a:lnTo>
                  <a:lnTo>
                    <a:pt x="3202" y="2430"/>
                  </a:lnTo>
                  <a:lnTo>
                    <a:pt x="3043" y="2430"/>
                  </a:lnTo>
                  <a:lnTo>
                    <a:pt x="2884" y="2404"/>
                  </a:lnTo>
                  <a:lnTo>
                    <a:pt x="2726" y="2404"/>
                  </a:lnTo>
                  <a:lnTo>
                    <a:pt x="2567" y="2377"/>
                  </a:lnTo>
                  <a:lnTo>
                    <a:pt x="2408" y="2377"/>
                  </a:lnTo>
                  <a:lnTo>
                    <a:pt x="2249" y="2351"/>
                  </a:lnTo>
                  <a:lnTo>
                    <a:pt x="2091" y="2324"/>
                  </a:lnTo>
                  <a:lnTo>
                    <a:pt x="1932" y="2324"/>
                  </a:lnTo>
                  <a:lnTo>
                    <a:pt x="1773" y="2298"/>
                  </a:lnTo>
                  <a:lnTo>
                    <a:pt x="1614" y="2298"/>
                  </a:lnTo>
                  <a:lnTo>
                    <a:pt x="1456" y="2272"/>
                  </a:lnTo>
                  <a:lnTo>
                    <a:pt x="1322" y="2245"/>
                  </a:lnTo>
                  <a:lnTo>
                    <a:pt x="1164" y="2219"/>
                  </a:lnTo>
                  <a:lnTo>
                    <a:pt x="1005" y="2219"/>
                  </a:lnTo>
                  <a:lnTo>
                    <a:pt x="873" y="2192"/>
                  </a:lnTo>
                  <a:lnTo>
                    <a:pt x="714" y="2166"/>
                  </a:lnTo>
                  <a:lnTo>
                    <a:pt x="582" y="2139"/>
                  </a:lnTo>
                  <a:lnTo>
                    <a:pt x="423" y="2113"/>
                  </a:lnTo>
                  <a:lnTo>
                    <a:pt x="291" y="2113"/>
                  </a:lnTo>
                  <a:lnTo>
                    <a:pt x="158" y="2086"/>
                  </a:lnTo>
                  <a:lnTo>
                    <a:pt x="0" y="2060"/>
                  </a:lnTo>
                  <a:lnTo>
                    <a:pt x="5553" y="0"/>
                  </a:lnTo>
                  <a:lnTo>
                    <a:pt x="3863" y="2457"/>
                  </a:lnTo>
                  <a:close/>
                </a:path>
              </a:pathLst>
            </a:custGeom>
            <a:solidFill>
              <a:srgbClr val="c0c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09560" y="2543040"/>
              <a:ext cx="3285000" cy="741600"/>
            </a:xfrm>
            <a:custGeom>
              <a:avLst/>
              <a:gdLst/>
              <a:ahLst/>
              <a:rect l="0" t="0" r="r" b="b"/>
              <a:pathLst>
                <a:path w="9125" h="2060">
                  <a:moveTo>
                    <a:pt x="3572" y="2060"/>
                  </a:moveTo>
                  <a:lnTo>
                    <a:pt x="3440" y="2033"/>
                  </a:lnTo>
                  <a:lnTo>
                    <a:pt x="3308" y="2007"/>
                  </a:lnTo>
                  <a:lnTo>
                    <a:pt x="3175" y="1980"/>
                  </a:lnTo>
                  <a:lnTo>
                    <a:pt x="3043" y="1954"/>
                  </a:lnTo>
                  <a:lnTo>
                    <a:pt x="2911" y="1928"/>
                  </a:lnTo>
                  <a:lnTo>
                    <a:pt x="2779" y="1901"/>
                  </a:lnTo>
                  <a:lnTo>
                    <a:pt x="2673" y="1848"/>
                  </a:lnTo>
                  <a:lnTo>
                    <a:pt x="2540" y="1826"/>
                  </a:lnTo>
                  <a:lnTo>
                    <a:pt x="2408" y="1800"/>
                  </a:lnTo>
                  <a:lnTo>
                    <a:pt x="2302" y="1773"/>
                  </a:lnTo>
                  <a:lnTo>
                    <a:pt x="2169" y="1747"/>
                  </a:lnTo>
                  <a:lnTo>
                    <a:pt x="2063" y="1720"/>
                  </a:lnTo>
                  <a:lnTo>
                    <a:pt x="1931" y="1667"/>
                  </a:lnTo>
                  <a:lnTo>
                    <a:pt x="1825" y="1641"/>
                  </a:lnTo>
                  <a:lnTo>
                    <a:pt x="1719" y="1614"/>
                  </a:lnTo>
                  <a:lnTo>
                    <a:pt x="1613" y="1588"/>
                  </a:lnTo>
                  <a:lnTo>
                    <a:pt x="1508" y="1535"/>
                  </a:lnTo>
                  <a:lnTo>
                    <a:pt x="1402" y="1509"/>
                  </a:lnTo>
                  <a:lnTo>
                    <a:pt x="1296" y="1482"/>
                  </a:lnTo>
                  <a:lnTo>
                    <a:pt x="1217" y="1429"/>
                  </a:lnTo>
                  <a:lnTo>
                    <a:pt x="1111" y="1403"/>
                  </a:lnTo>
                  <a:lnTo>
                    <a:pt x="1031" y="1376"/>
                  </a:lnTo>
                  <a:lnTo>
                    <a:pt x="926" y="1323"/>
                  </a:lnTo>
                  <a:lnTo>
                    <a:pt x="846" y="1297"/>
                  </a:lnTo>
                  <a:lnTo>
                    <a:pt x="767" y="1271"/>
                  </a:lnTo>
                  <a:lnTo>
                    <a:pt x="687" y="1218"/>
                  </a:lnTo>
                  <a:lnTo>
                    <a:pt x="582" y="1191"/>
                  </a:lnTo>
                  <a:lnTo>
                    <a:pt x="529" y="1138"/>
                  </a:lnTo>
                  <a:lnTo>
                    <a:pt x="449" y="1112"/>
                  </a:lnTo>
                  <a:lnTo>
                    <a:pt x="370" y="1059"/>
                  </a:lnTo>
                  <a:lnTo>
                    <a:pt x="291" y="1032"/>
                  </a:lnTo>
                  <a:lnTo>
                    <a:pt x="238" y="978"/>
                  </a:lnTo>
                  <a:lnTo>
                    <a:pt x="158" y="952"/>
                  </a:lnTo>
                  <a:lnTo>
                    <a:pt x="105" y="899"/>
                  </a:lnTo>
                  <a:lnTo>
                    <a:pt x="52" y="873"/>
                  </a:lnTo>
                  <a:lnTo>
                    <a:pt x="0" y="820"/>
                  </a:lnTo>
                  <a:lnTo>
                    <a:pt x="9125" y="0"/>
                  </a:lnTo>
                  <a:lnTo>
                    <a:pt x="3572" y="206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28840" y="2543040"/>
              <a:ext cx="3465720" cy="295560"/>
            </a:xfrm>
            <a:custGeom>
              <a:avLst/>
              <a:gdLst/>
              <a:ahLst/>
              <a:rect l="0" t="0" r="r" b="b"/>
              <a:pathLst>
                <a:path w="9627" h="821">
                  <a:moveTo>
                    <a:pt x="502" y="821"/>
                  </a:moveTo>
                  <a:lnTo>
                    <a:pt x="449" y="768"/>
                  </a:lnTo>
                  <a:lnTo>
                    <a:pt x="396" y="741"/>
                  </a:lnTo>
                  <a:lnTo>
                    <a:pt x="343" y="688"/>
                  </a:lnTo>
                  <a:lnTo>
                    <a:pt x="291" y="662"/>
                  </a:lnTo>
                  <a:lnTo>
                    <a:pt x="264" y="609"/>
                  </a:lnTo>
                  <a:lnTo>
                    <a:pt x="211" y="583"/>
                  </a:lnTo>
                  <a:lnTo>
                    <a:pt x="185" y="530"/>
                  </a:lnTo>
                  <a:lnTo>
                    <a:pt x="132" y="477"/>
                  </a:lnTo>
                  <a:lnTo>
                    <a:pt x="105" y="450"/>
                  </a:lnTo>
                  <a:lnTo>
                    <a:pt x="79" y="396"/>
                  </a:lnTo>
                  <a:lnTo>
                    <a:pt x="52" y="343"/>
                  </a:lnTo>
                  <a:lnTo>
                    <a:pt x="26" y="317"/>
                  </a:lnTo>
                  <a:lnTo>
                    <a:pt x="26" y="264"/>
                  </a:lnTo>
                  <a:lnTo>
                    <a:pt x="0" y="211"/>
                  </a:lnTo>
                  <a:lnTo>
                    <a:pt x="0" y="185"/>
                  </a:lnTo>
                  <a:lnTo>
                    <a:pt x="9627" y="0"/>
                  </a:lnTo>
                  <a:lnTo>
                    <a:pt x="502" y="821"/>
                  </a:lnTo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19120" y="2390760"/>
              <a:ext cx="3475440" cy="219600"/>
            </a:xfrm>
            <a:custGeom>
              <a:avLst/>
              <a:gdLst/>
              <a:ahLst/>
              <a:rect l="0" t="0" r="r" b="b"/>
              <a:pathLst>
                <a:path w="9654" h="610">
                  <a:moveTo>
                    <a:pt x="26" y="610"/>
                  </a:moveTo>
                  <a:lnTo>
                    <a:pt x="0" y="557"/>
                  </a:lnTo>
                  <a:lnTo>
                    <a:pt x="0" y="531"/>
                  </a:lnTo>
                  <a:lnTo>
                    <a:pt x="0" y="478"/>
                  </a:lnTo>
                  <a:lnTo>
                    <a:pt x="0" y="424"/>
                  </a:lnTo>
                  <a:lnTo>
                    <a:pt x="0" y="397"/>
                  </a:lnTo>
                  <a:lnTo>
                    <a:pt x="0" y="344"/>
                  </a:lnTo>
                  <a:lnTo>
                    <a:pt x="0" y="292"/>
                  </a:lnTo>
                  <a:lnTo>
                    <a:pt x="26" y="265"/>
                  </a:lnTo>
                  <a:lnTo>
                    <a:pt x="26" y="212"/>
                  </a:lnTo>
                  <a:lnTo>
                    <a:pt x="52" y="159"/>
                  </a:lnTo>
                  <a:lnTo>
                    <a:pt x="52" y="132"/>
                  </a:lnTo>
                  <a:lnTo>
                    <a:pt x="79" y="79"/>
                  </a:lnTo>
                  <a:lnTo>
                    <a:pt x="105" y="26"/>
                  </a:lnTo>
                  <a:lnTo>
                    <a:pt x="132" y="0"/>
                  </a:lnTo>
                  <a:lnTo>
                    <a:pt x="9654" y="424"/>
                  </a:lnTo>
                  <a:lnTo>
                    <a:pt x="26" y="61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1689120" y="126360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1832040" y="1530360"/>
              <a:ext cx="488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5878440" y="1025640"/>
              <a:ext cx="996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6126120" y="1292400"/>
              <a:ext cx="488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7859880" y="146376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8059680" y="173052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7897680" y="397656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8097840" y="424332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6621480" y="433872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6821640" y="460548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4699080" y="448164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4897440" y="474804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2832120" y="440532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3032280" y="467208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1317600" y="407196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1460520" y="4338720"/>
              <a:ext cx="488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679320" y="342432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879480" y="369108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593640" y="2197080"/>
              <a:ext cx="996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888840" y="246384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8373960" y="289260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8574120" y="315756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47840" y="581040"/>
            <a:ext cx="8723160" cy="5227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365120" y="5851440"/>
            <a:ext cx="7346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7840" y="504720"/>
            <a:ext cx="8732880" cy="523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17680" y="873000"/>
            <a:ext cx="8767440" cy="4192920"/>
            <a:chOff x="517680" y="873000"/>
            <a:chExt cx="8767440" cy="4192920"/>
          </a:xfrm>
        </p:grpSpPr>
        <p:sp>
          <p:nvSpPr>
            <p:cNvPr id="238" name=""/>
            <p:cNvSpPr/>
            <p:nvPr/>
          </p:nvSpPr>
          <p:spPr>
            <a:xfrm>
              <a:off x="8180280" y="2428920"/>
              <a:ext cx="114840" cy="1236960"/>
            </a:xfrm>
            <a:custGeom>
              <a:avLst/>
              <a:gdLst/>
              <a:ahLst/>
              <a:rect l="0" t="0" r="r" b="b"/>
              <a:pathLst>
                <a:path w="319" h="3436">
                  <a:moveTo>
                    <a:pt x="319" y="0"/>
                  </a:moveTo>
                  <a:lnTo>
                    <a:pt x="319" y="52"/>
                  </a:lnTo>
                  <a:lnTo>
                    <a:pt x="319" y="105"/>
                  </a:lnTo>
                  <a:lnTo>
                    <a:pt x="293" y="132"/>
                  </a:lnTo>
                  <a:lnTo>
                    <a:pt x="293" y="185"/>
                  </a:lnTo>
                  <a:lnTo>
                    <a:pt x="266" y="238"/>
                  </a:lnTo>
                  <a:lnTo>
                    <a:pt x="266" y="291"/>
                  </a:lnTo>
                  <a:lnTo>
                    <a:pt x="240" y="317"/>
                  </a:lnTo>
                  <a:lnTo>
                    <a:pt x="212" y="370"/>
                  </a:lnTo>
                  <a:lnTo>
                    <a:pt x="186" y="423"/>
                  </a:lnTo>
                  <a:lnTo>
                    <a:pt x="159" y="476"/>
                  </a:lnTo>
                  <a:lnTo>
                    <a:pt x="133" y="502"/>
                  </a:lnTo>
                  <a:lnTo>
                    <a:pt x="79" y="555"/>
                  </a:lnTo>
                  <a:lnTo>
                    <a:pt x="52" y="608"/>
                  </a:lnTo>
                  <a:lnTo>
                    <a:pt x="0" y="635"/>
                  </a:lnTo>
                  <a:lnTo>
                    <a:pt x="0" y="3436"/>
                  </a:lnTo>
                  <a:lnTo>
                    <a:pt x="52" y="3409"/>
                  </a:lnTo>
                  <a:lnTo>
                    <a:pt x="79" y="3356"/>
                  </a:lnTo>
                  <a:lnTo>
                    <a:pt x="133" y="3303"/>
                  </a:lnTo>
                  <a:lnTo>
                    <a:pt x="159" y="3277"/>
                  </a:lnTo>
                  <a:lnTo>
                    <a:pt x="186" y="3224"/>
                  </a:lnTo>
                  <a:lnTo>
                    <a:pt x="212" y="3171"/>
                  </a:lnTo>
                  <a:lnTo>
                    <a:pt x="240" y="3118"/>
                  </a:lnTo>
                  <a:lnTo>
                    <a:pt x="266" y="3092"/>
                  </a:lnTo>
                  <a:lnTo>
                    <a:pt x="266" y="3039"/>
                  </a:lnTo>
                  <a:lnTo>
                    <a:pt x="293" y="2986"/>
                  </a:lnTo>
                  <a:lnTo>
                    <a:pt x="293" y="2933"/>
                  </a:lnTo>
                  <a:lnTo>
                    <a:pt x="319" y="2907"/>
                  </a:lnTo>
                  <a:lnTo>
                    <a:pt x="319" y="2854"/>
                  </a:lnTo>
                  <a:lnTo>
                    <a:pt x="319" y="2801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7f4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28040" y="2657520"/>
              <a:ext cx="552960" cy="1322640"/>
            </a:xfrm>
            <a:custGeom>
              <a:avLst/>
              <a:gdLst/>
              <a:ahLst/>
              <a:rect l="0" t="0" r="r" b="b"/>
              <a:pathLst>
                <a:path w="1536" h="3674">
                  <a:moveTo>
                    <a:pt x="1536" y="0"/>
                  </a:moveTo>
                  <a:lnTo>
                    <a:pt x="1510" y="52"/>
                  </a:lnTo>
                  <a:lnTo>
                    <a:pt x="1457" y="105"/>
                  </a:lnTo>
                  <a:lnTo>
                    <a:pt x="1404" y="132"/>
                  </a:lnTo>
                  <a:lnTo>
                    <a:pt x="1351" y="185"/>
                  </a:lnTo>
                  <a:lnTo>
                    <a:pt x="1298" y="238"/>
                  </a:lnTo>
                  <a:lnTo>
                    <a:pt x="1245" y="264"/>
                  </a:lnTo>
                  <a:lnTo>
                    <a:pt x="1166" y="317"/>
                  </a:lnTo>
                  <a:lnTo>
                    <a:pt x="1112" y="370"/>
                  </a:lnTo>
                  <a:lnTo>
                    <a:pt x="1032" y="396"/>
                  </a:lnTo>
                  <a:lnTo>
                    <a:pt x="979" y="449"/>
                  </a:lnTo>
                  <a:lnTo>
                    <a:pt x="900" y="476"/>
                  </a:lnTo>
                  <a:lnTo>
                    <a:pt x="821" y="529"/>
                  </a:lnTo>
                  <a:lnTo>
                    <a:pt x="741" y="555"/>
                  </a:lnTo>
                  <a:lnTo>
                    <a:pt x="662" y="608"/>
                  </a:lnTo>
                  <a:lnTo>
                    <a:pt x="583" y="635"/>
                  </a:lnTo>
                  <a:lnTo>
                    <a:pt x="477" y="687"/>
                  </a:lnTo>
                  <a:lnTo>
                    <a:pt x="397" y="714"/>
                  </a:lnTo>
                  <a:lnTo>
                    <a:pt x="291" y="767"/>
                  </a:lnTo>
                  <a:lnTo>
                    <a:pt x="211" y="793"/>
                  </a:lnTo>
                  <a:lnTo>
                    <a:pt x="105" y="846"/>
                  </a:lnTo>
                  <a:lnTo>
                    <a:pt x="0" y="873"/>
                  </a:lnTo>
                  <a:lnTo>
                    <a:pt x="0" y="3674"/>
                  </a:lnTo>
                  <a:lnTo>
                    <a:pt x="105" y="3647"/>
                  </a:lnTo>
                  <a:lnTo>
                    <a:pt x="211" y="3594"/>
                  </a:lnTo>
                  <a:lnTo>
                    <a:pt x="291" y="3568"/>
                  </a:lnTo>
                  <a:lnTo>
                    <a:pt x="397" y="3515"/>
                  </a:lnTo>
                  <a:lnTo>
                    <a:pt x="477" y="3489"/>
                  </a:lnTo>
                  <a:lnTo>
                    <a:pt x="583" y="3436"/>
                  </a:lnTo>
                  <a:lnTo>
                    <a:pt x="662" y="3409"/>
                  </a:lnTo>
                  <a:lnTo>
                    <a:pt x="741" y="3356"/>
                  </a:lnTo>
                  <a:lnTo>
                    <a:pt x="821" y="3330"/>
                  </a:lnTo>
                  <a:lnTo>
                    <a:pt x="900" y="3277"/>
                  </a:lnTo>
                  <a:lnTo>
                    <a:pt x="979" y="3250"/>
                  </a:lnTo>
                  <a:lnTo>
                    <a:pt x="1032" y="3198"/>
                  </a:lnTo>
                  <a:lnTo>
                    <a:pt x="1112" y="3171"/>
                  </a:lnTo>
                  <a:lnTo>
                    <a:pt x="1166" y="3118"/>
                  </a:lnTo>
                  <a:lnTo>
                    <a:pt x="1245" y="3065"/>
                  </a:lnTo>
                  <a:lnTo>
                    <a:pt x="1298" y="3039"/>
                  </a:lnTo>
                  <a:lnTo>
                    <a:pt x="1351" y="2986"/>
                  </a:lnTo>
                  <a:lnTo>
                    <a:pt x="1404" y="2933"/>
                  </a:lnTo>
                  <a:lnTo>
                    <a:pt x="1457" y="2907"/>
                  </a:lnTo>
                  <a:lnTo>
                    <a:pt x="1510" y="2854"/>
                  </a:lnTo>
                  <a:lnTo>
                    <a:pt x="1536" y="2801"/>
                  </a:lnTo>
                  <a:lnTo>
                    <a:pt x="1536" y="0"/>
                  </a:lnTo>
                  <a:close/>
                </a:path>
              </a:pathLst>
            </a:custGeom>
            <a:solidFill>
              <a:srgbClr val="0040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81000" y="2428920"/>
              <a:ext cx="1029240" cy="1665720"/>
            </a:xfrm>
            <a:custGeom>
              <a:avLst/>
              <a:gdLst/>
              <a:ahLst/>
              <a:rect l="0" t="0" r="r" b="b"/>
              <a:pathLst>
                <a:path w="2859" h="4627">
                  <a:moveTo>
                    <a:pt x="2859" y="1826"/>
                  </a:moveTo>
                  <a:lnTo>
                    <a:pt x="2727" y="1800"/>
                  </a:lnTo>
                  <a:lnTo>
                    <a:pt x="2594" y="1773"/>
                  </a:lnTo>
                  <a:lnTo>
                    <a:pt x="2489" y="1747"/>
                  </a:lnTo>
                  <a:lnTo>
                    <a:pt x="2383" y="1694"/>
                  </a:lnTo>
                  <a:lnTo>
                    <a:pt x="2250" y="1667"/>
                  </a:lnTo>
                  <a:lnTo>
                    <a:pt x="2145" y="1641"/>
                  </a:lnTo>
                  <a:lnTo>
                    <a:pt x="2038" y="1588"/>
                  </a:lnTo>
                  <a:lnTo>
                    <a:pt x="1932" y="1562"/>
                  </a:lnTo>
                  <a:lnTo>
                    <a:pt x="1826" y="1509"/>
                  </a:lnTo>
                  <a:lnTo>
                    <a:pt x="1720" y="1482"/>
                  </a:lnTo>
                  <a:lnTo>
                    <a:pt x="1641" y="1429"/>
                  </a:lnTo>
                  <a:lnTo>
                    <a:pt x="1535" y="1403"/>
                  </a:lnTo>
                  <a:lnTo>
                    <a:pt x="1456" y="1350"/>
                  </a:lnTo>
                  <a:lnTo>
                    <a:pt x="1350" y="1323"/>
                  </a:lnTo>
                  <a:lnTo>
                    <a:pt x="1271" y="1271"/>
                  </a:lnTo>
                  <a:lnTo>
                    <a:pt x="1191" y="1244"/>
                  </a:lnTo>
                  <a:lnTo>
                    <a:pt x="1112" y="1191"/>
                  </a:lnTo>
                  <a:lnTo>
                    <a:pt x="1032" y="1165"/>
                  </a:lnTo>
                  <a:lnTo>
                    <a:pt x="953" y="1111"/>
                  </a:lnTo>
                  <a:lnTo>
                    <a:pt x="874" y="1084"/>
                  </a:lnTo>
                  <a:lnTo>
                    <a:pt x="794" y="1031"/>
                  </a:lnTo>
                  <a:lnTo>
                    <a:pt x="741" y="1005"/>
                  </a:lnTo>
                  <a:lnTo>
                    <a:pt x="661" y="952"/>
                  </a:lnTo>
                  <a:lnTo>
                    <a:pt x="608" y="899"/>
                  </a:lnTo>
                  <a:lnTo>
                    <a:pt x="555" y="873"/>
                  </a:lnTo>
                  <a:lnTo>
                    <a:pt x="502" y="820"/>
                  </a:lnTo>
                  <a:lnTo>
                    <a:pt x="449" y="767"/>
                  </a:lnTo>
                  <a:lnTo>
                    <a:pt x="396" y="740"/>
                  </a:lnTo>
                  <a:lnTo>
                    <a:pt x="343" y="687"/>
                  </a:lnTo>
                  <a:lnTo>
                    <a:pt x="291" y="635"/>
                  </a:lnTo>
                  <a:lnTo>
                    <a:pt x="264" y="608"/>
                  </a:lnTo>
                  <a:lnTo>
                    <a:pt x="211" y="555"/>
                  </a:lnTo>
                  <a:lnTo>
                    <a:pt x="185" y="502"/>
                  </a:lnTo>
                  <a:lnTo>
                    <a:pt x="158" y="476"/>
                  </a:lnTo>
                  <a:lnTo>
                    <a:pt x="105" y="423"/>
                  </a:lnTo>
                  <a:lnTo>
                    <a:pt x="79" y="370"/>
                  </a:lnTo>
                  <a:lnTo>
                    <a:pt x="79" y="317"/>
                  </a:lnTo>
                  <a:lnTo>
                    <a:pt x="52" y="291"/>
                  </a:lnTo>
                  <a:lnTo>
                    <a:pt x="26" y="238"/>
                  </a:lnTo>
                  <a:lnTo>
                    <a:pt x="26" y="185"/>
                  </a:lnTo>
                  <a:lnTo>
                    <a:pt x="0" y="132"/>
                  </a:lnTo>
                  <a:lnTo>
                    <a:pt x="0" y="105"/>
                  </a:lnTo>
                  <a:lnTo>
                    <a:pt x="0" y="52"/>
                  </a:lnTo>
                  <a:lnTo>
                    <a:pt x="0" y="0"/>
                  </a:lnTo>
                  <a:lnTo>
                    <a:pt x="0" y="2801"/>
                  </a:lnTo>
                  <a:lnTo>
                    <a:pt x="0" y="2854"/>
                  </a:lnTo>
                  <a:lnTo>
                    <a:pt x="0" y="2907"/>
                  </a:lnTo>
                  <a:lnTo>
                    <a:pt x="0" y="2933"/>
                  </a:lnTo>
                  <a:lnTo>
                    <a:pt x="26" y="2986"/>
                  </a:lnTo>
                  <a:lnTo>
                    <a:pt x="26" y="3039"/>
                  </a:lnTo>
                  <a:lnTo>
                    <a:pt x="52" y="3092"/>
                  </a:lnTo>
                  <a:lnTo>
                    <a:pt x="79" y="3118"/>
                  </a:lnTo>
                  <a:lnTo>
                    <a:pt x="79" y="3171"/>
                  </a:lnTo>
                  <a:lnTo>
                    <a:pt x="105" y="3224"/>
                  </a:lnTo>
                  <a:lnTo>
                    <a:pt x="158" y="3277"/>
                  </a:lnTo>
                  <a:lnTo>
                    <a:pt x="185" y="3303"/>
                  </a:lnTo>
                  <a:lnTo>
                    <a:pt x="211" y="3356"/>
                  </a:lnTo>
                  <a:lnTo>
                    <a:pt x="264" y="3409"/>
                  </a:lnTo>
                  <a:lnTo>
                    <a:pt x="291" y="3436"/>
                  </a:lnTo>
                  <a:lnTo>
                    <a:pt x="343" y="3490"/>
                  </a:lnTo>
                  <a:lnTo>
                    <a:pt x="396" y="3543"/>
                  </a:lnTo>
                  <a:lnTo>
                    <a:pt x="449" y="3569"/>
                  </a:lnTo>
                  <a:lnTo>
                    <a:pt x="502" y="3622"/>
                  </a:lnTo>
                  <a:lnTo>
                    <a:pt x="555" y="3675"/>
                  </a:lnTo>
                  <a:lnTo>
                    <a:pt x="608" y="3701"/>
                  </a:lnTo>
                  <a:lnTo>
                    <a:pt x="661" y="3754"/>
                  </a:lnTo>
                  <a:lnTo>
                    <a:pt x="741" y="3807"/>
                  </a:lnTo>
                  <a:lnTo>
                    <a:pt x="794" y="3834"/>
                  </a:lnTo>
                  <a:lnTo>
                    <a:pt x="874" y="3886"/>
                  </a:lnTo>
                  <a:lnTo>
                    <a:pt x="953" y="3913"/>
                  </a:lnTo>
                  <a:lnTo>
                    <a:pt x="1032" y="3966"/>
                  </a:lnTo>
                  <a:lnTo>
                    <a:pt x="1112" y="3992"/>
                  </a:lnTo>
                  <a:lnTo>
                    <a:pt x="1191" y="4045"/>
                  </a:lnTo>
                  <a:lnTo>
                    <a:pt x="1271" y="4072"/>
                  </a:lnTo>
                  <a:lnTo>
                    <a:pt x="1350" y="4125"/>
                  </a:lnTo>
                  <a:lnTo>
                    <a:pt x="1456" y="4151"/>
                  </a:lnTo>
                  <a:lnTo>
                    <a:pt x="1535" y="4204"/>
                  </a:lnTo>
                  <a:lnTo>
                    <a:pt x="1641" y="4230"/>
                  </a:lnTo>
                  <a:lnTo>
                    <a:pt x="1720" y="4283"/>
                  </a:lnTo>
                  <a:lnTo>
                    <a:pt x="1826" y="4310"/>
                  </a:lnTo>
                  <a:lnTo>
                    <a:pt x="1932" y="4363"/>
                  </a:lnTo>
                  <a:lnTo>
                    <a:pt x="2038" y="4389"/>
                  </a:lnTo>
                  <a:lnTo>
                    <a:pt x="2145" y="4442"/>
                  </a:lnTo>
                  <a:lnTo>
                    <a:pt x="2250" y="4469"/>
                  </a:lnTo>
                  <a:lnTo>
                    <a:pt x="2383" y="4495"/>
                  </a:lnTo>
                  <a:lnTo>
                    <a:pt x="2489" y="4548"/>
                  </a:lnTo>
                  <a:lnTo>
                    <a:pt x="2594" y="4574"/>
                  </a:lnTo>
                  <a:lnTo>
                    <a:pt x="2727" y="4601"/>
                  </a:lnTo>
                  <a:lnTo>
                    <a:pt x="2859" y="4627"/>
                  </a:lnTo>
                  <a:lnTo>
                    <a:pt x="2859" y="1826"/>
                  </a:lnTo>
                  <a:close/>
                </a:path>
              </a:pathLst>
            </a:custGeom>
            <a:solidFill>
              <a:srgbClr val="7f7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08760" y="2971800"/>
              <a:ext cx="1619640" cy="1351440"/>
            </a:xfrm>
            <a:custGeom>
              <a:avLst/>
              <a:gdLst/>
              <a:ahLst/>
              <a:rect l="0" t="0" r="r" b="b"/>
              <a:pathLst>
                <a:path w="4499" h="3754">
                  <a:moveTo>
                    <a:pt x="4499" y="0"/>
                  </a:moveTo>
                  <a:lnTo>
                    <a:pt x="4394" y="52"/>
                  </a:lnTo>
                  <a:lnTo>
                    <a:pt x="4288" y="79"/>
                  </a:lnTo>
                  <a:lnTo>
                    <a:pt x="4182" y="132"/>
                  </a:lnTo>
                  <a:lnTo>
                    <a:pt x="4076" y="158"/>
                  </a:lnTo>
                  <a:lnTo>
                    <a:pt x="3970" y="185"/>
                  </a:lnTo>
                  <a:lnTo>
                    <a:pt x="3864" y="238"/>
                  </a:lnTo>
                  <a:lnTo>
                    <a:pt x="3732" y="264"/>
                  </a:lnTo>
                  <a:lnTo>
                    <a:pt x="3626" y="291"/>
                  </a:lnTo>
                  <a:lnTo>
                    <a:pt x="3494" y="317"/>
                  </a:lnTo>
                  <a:lnTo>
                    <a:pt x="3361" y="370"/>
                  </a:lnTo>
                  <a:lnTo>
                    <a:pt x="3255" y="396"/>
                  </a:lnTo>
                  <a:lnTo>
                    <a:pt x="3123" y="423"/>
                  </a:lnTo>
                  <a:lnTo>
                    <a:pt x="2990" y="445"/>
                  </a:lnTo>
                  <a:lnTo>
                    <a:pt x="2858" y="471"/>
                  </a:lnTo>
                  <a:lnTo>
                    <a:pt x="2726" y="498"/>
                  </a:lnTo>
                  <a:lnTo>
                    <a:pt x="2567" y="551"/>
                  </a:lnTo>
                  <a:lnTo>
                    <a:pt x="2435" y="577"/>
                  </a:lnTo>
                  <a:lnTo>
                    <a:pt x="2302" y="604"/>
                  </a:lnTo>
                  <a:lnTo>
                    <a:pt x="2144" y="630"/>
                  </a:lnTo>
                  <a:lnTo>
                    <a:pt x="2011" y="657"/>
                  </a:lnTo>
                  <a:lnTo>
                    <a:pt x="1853" y="683"/>
                  </a:lnTo>
                  <a:lnTo>
                    <a:pt x="1720" y="709"/>
                  </a:lnTo>
                  <a:lnTo>
                    <a:pt x="1562" y="736"/>
                  </a:lnTo>
                  <a:lnTo>
                    <a:pt x="1429" y="762"/>
                  </a:lnTo>
                  <a:lnTo>
                    <a:pt x="1271" y="762"/>
                  </a:lnTo>
                  <a:lnTo>
                    <a:pt x="1111" y="789"/>
                  </a:lnTo>
                  <a:lnTo>
                    <a:pt x="952" y="815"/>
                  </a:lnTo>
                  <a:lnTo>
                    <a:pt x="793" y="842"/>
                  </a:lnTo>
                  <a:lnTo>
                    <a:pt x="635" y="868"/>
                  </a:lnTo>
                  <a:lnTo>
                    <a:pt x="476" y="868"/>
                  </a:lnTo>
                  <a:lnTo>
                    <a:pt x="317" y="895"/>
                  </a:lnTo>
                  <a:lnTo>
                    <a:pt x="158" y="921"/>
                  </a:lnTo>
                  <a:lnTo>
                    <a:pt x="0" y="949"/>
                  </a:lnTo>
                  <a:lnTo>
                    <a:pt x="0" y="3754"/>
                  </a:lnTo>
                  <a:lnTo>
                    <a:pt x="158" y="3728"/>
                  </a:lnTo>
                  <a:lnTo>
                    <a:pt x="317" y="3701"/>
                  </a:lnTo>
                  <a:lnTo>
                    <a:pt x="476" y="3675"/>
                  </a:lnTo>
                  <a:lnTo>
                    <a:pt x="635" y="3675"/>
                  </a:lnTo>
                  <a:lnTo>
                    <a:pt x="793" y="3648"/>
                  </a:lnTo>
                  <a:lnTo>
                    <a:pt x="952" y="3622"/>
                  </a:lnTo>
                  <a:lnTo>
                    <a:pt x="1111" y="3595"/>
                  </a:lnTo>
                  <a:lnTo>
                    <a:pt x="1271" y="3569"/>
                  </a:lnTo>
                  <a:lnTo>
                    <a:pt x="1429" y="3569"/>
                  </a:lnTo>
                  <a:lnTo>
                    <a:pt x="1562" y="3543"/>
                  </a:lnTo>
                  <a:lnTo>
                    <a:pt x="1720" y="3516"/>
                  </a:lnTo>
                  <a:lnTo>
                    <a:pt x="1853" y="3490"/>
                  </a:lnTo>
                  <a:lnTo>
                    <a:pt x="2011" y="3463"/>
                  </a:lnTo>
                  <a:lnTo>
                    <a:pt x="2144" y="3437"/>
                  </a:lnTo>
                  <a:lnTo>
                    <a:pt x="2302" y="3410"/>
                  </a:lnTo>
                  <a:lnTo>
                    <a:pt x="2435" y="3384"/>
                  </a:lnTo>
                  <a:lnTo>
                    <a:pt x="2567" y="3357"/>
                  </a:lnTo>
                  <a:lnTo>
                    <a:pt x="2726" y="3304"/>
                  </a:lnTo>
                  <a:lnTo>
                    <a:pt x="2858" y="3278"/>
                  </a:lnTo>
                  <a:lnTo>
                    <a:pt x="2990" y="3251"/>
                  </a:lnTo>
                  <a:lnTo>
                    <a:pt x="3123" y="3225"/>
                  </a:lnTo>
                  <a:lnTo>
                    <a:pt x="3255" y="3199"/>
                  </a:lnTo>
                  <a:lnTo>
                    <a:pt x="3361" y="3172"/>
                  </a:lnTo>
                  <a:lnTo>
                    <a:pt x="3494" y="3119"/>
                  </a:lnTo>
                  <a:lnTo>
                    <a:pt x="3626" y="3093"/>
                  </a:lnTo>
                  <a:lnTo>
                    <a:pt x="3732" y="3066"/>
                  </a:lnTo>
                  <a:lnTo>
                    <a:pt x="3864" y="3040"/>
                  </a:lnTo>
                  <a:lnTo>
                    <a:pt x="3970" y="2987"/>
                  </a:lnTo>
                  <a:lnTo>
                    <a:pt x="4076" y="2960"/>
                  </a:lnTo>
                  <a:lnTo>
                    <a:pt x="4182" y="2934"/>
                  </a:lnTo>
                  <a:lnTo>
                    <a:pt x="4288" y="2881"/>
                  </a:lnTo>
                  <a:lnTo>
                    <a:pt x="4394" y="2855"/>
                  </a:lnTo>
                  <a:lnTo>
                    <a:pt x="4499" y="2801"/>
                  </a:lnTo>
                  <a:lnTo>
                    <a:pt x="4499" y="0"/>
                  </a:lnTo>
                  <a:close/>
                </a:path>
              </a:pathLst>
            </a:custGeom>
            <a:solidFill>
              <a:srgbClr val="60607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09880" y="3085920"/>
              <a:ext cx="1991160" cy="1284480"/>
            </a:xfrm>
            <a:custGeom>
              <a:avLst/>
              <a:gdLst/>
              <a:ahLst/>
              <a:rect l="0" t="0" r="r" b="b"/>
              <a:pathLst>
                <a:path w="5531" h="3568">
                  <a:moveTo>
                    <a:pt x="5531" y="762"/>
                  </a:moveTo>
                  <a:lnTo>
                    <a:pt x="5346" y="762"/>
                  </a:lnTo>
                  <a:lnTo>
                    <a:pt x="5187" y="762"/>
                  </a:lnTo>
                  <a:lnTo>
                    <a:pt x="5002" y="736"/>
                  </a:lnTo>
                  <a:lnTo>
                    <a:pt x="4843" y="736"/>
                  </a:lnTo>
                  <a:lnTo>
                    <a:pt x="4658" y="709"/>
                  </a:lnTo>
                  <a:lnTo>
                    <a:pt x="4499" y="709"/>
                  </a:lnTo>
                  <a:lnTo>
                    <a:pt x="4314" y="683"/>
                  </a:lnTo>
                  <a:lnTo>
                    <a:pt x="4155" y="683"/>
                  </a:lnTo>
                  <a:lnTo>
                    <a:pt x="3996" y="657"/>
                  </a:lnTo>
                  <a:lnTo>
                    <a:pt x="3811" y="657"/>
                  </a:lnTo>
                  <a:lnTo>
                    <a:pt x="3652" y="630"/>
                  </a:lnTo>
                  <a:lnTo>
                    <a:pt x="3493" y="630"/>
                  </a:lnTo>
                  <a:lnTo>
                    <a:pt x="3334" y="604"/>
                  </a:lnTo>
                  <a:lnTo>
                    <a:pt x="3176" y="577"/>
                  </a:lnTo>
                  <a:lnTo>
                    <a:pt x="2990" y="551"/>
                  </a:lnTo>
                  <a:lnTo>
                    <a:pt x="2832" y="551"/>
                  </a:lnTo>
                  <a:lnTo>
                    <a:pt x="2673" y="524"/>
                  </a:lnTo>
                  <a:lnTo>
                    <a:pt x="2514" y="498"/>
                  </a:lnTo>
                  <a:lnTo>
                    <a:pt x="2382" y="471"/>
                  </a:lnTo>
                  <a:lnTo>
                    <a:pt x="2223" y="445"/>
                  </a:lnTo>
                  <a:lnTo>
                    <a:pt x="2064" y="445"/>
                  </a:lnTo>
                  <a:lnTo>
                    <a:pt x="1906" y="418"/>
                  </a:lnTo>
                  <a:lnTo>
                    <a:pt x="1773" y="392"/>
                  </a:lnTo>
                  <a:lnTo>
                    <a:pt x="1614" y="366"/>
                  </a:lnTo>
                  <a:lnTo>
                    <a:pt x="1482" y="339"/>
                  </a:lnTo>
                  <a:lnTo>
                    <a:pt x="1322" y="313"/>
                  </a:lnTo>
                  <a:lnTo>
                    <a:pt x="1190" y="286"/>
                  </a:lnTo>
                  <a:lnTo>
                    <a:pt x="1031" y="260"/>
                  </a:lnTo>
                  <a:lnTo>
                    <a:pt x="899" y="233"/>
                  </a:lnTo>
                  <a:lnTo>
                    <a:pt x="767" y="180"/>
                  </a:lnTo>
                  <a:lnTo>
                    <a:pt x="635" y="154"/>
                  </a:lnTo>
                  <a:lnTo>
                    <a:pt x="502" y="127"/>
                  </a:lnTo>
                  <a:lnTo>
                    <a:pt x="370" y="105"/>
                  </a:lnTo>
                  <a:lnTo>
                    <a:pt x="238" y="79"/>
                  </a:lnTo>
                  <a:lnTo>
                    <a:pt x="105" y="52"/>
                  </a:lnTo>
                  <a:lnTo>
                    <a:pt x="0" y="0"/>
                  </a:lnTo>
                  <a:lnTo>
                    <a:pt x="0" y="2801"/>
                  </a:lnTo>
                  <a:lnTo>
                    <a:pt x="105" y="2854"/>
                  </a:lnTo>
                  <a:lnTo>
                    <a:pt x="238" y="2880"/>
                  </a:lnTo>
                  <a:lnTo>
                    <a:pt x="370" y="2907"/>
                  </a:lnTo>
                  <a:lnTo>
                    <a:pt x="502" y="2933"/>
                  </a:lnTo>
                  <a:lnTo>
                    <a:pt x="635" y="2959"/>
                  </a:lnTo>
                  <a:lnTo>
                    <a:pt x="767" y="2986"/>
                  </a:lnTo>
                  <a:lnTo>
                    <a:pt x="899" y="3039"/>
                  </a:lnTo>
                  <a:lnTo>
                    <a:pt x="1031" y="3065"/>
                  </a:lnTo>
                  <a:lnTo>
                    <a:pt x="1190" y="3092"/>
                  </a:lnTo>
                  <a:lnTo>
                    <a:pt x="1322" y="3118"/>
                  </a:lnTo>
                  <a:lnTo>
                    <a:pt x="1482" y="3145"/>
                  </a:lnTo>
                  <a:lnTo>
                    <a:pt x="1614" y="3171"/>
                  </a:lnTo>
                  <a:lnTo>
                    <a:pt x="1773" y="3198"/>
                  </a:lnTo>
                  <a:lnTo>
                    <a:pt x="1906" y="3224"/>
                  </a:lnTo>
                  <a:lnTo>
                    <a:pt x="2064" y="3250"/>
                  </a:lnTo>
                  <a:lnTo>
                    <a:pt x="2223" y="3250"/>
                  </a:lnTo>
                  <a:lnTo>
                    <a:pt x="2382" y="3277"/>
                  </a:lnTo>
                  <a:lnTo>
                    <a:pt x="2514" y="3303"/>
                  </a:lnTo>
                  <a:lnTo>
                    <a:pt x="2673" y="3330"/>
                  </a:lnTo>
                  <a:lnTo>
                    <a:pt x="2832" y="3356"/>
                  </a:lnTo>
                  <a:lnTo>
                    <a:pt x="2990" y="3356"/>
                  </a:lnTo>
                  <a:lnTo>
                    <a:pt x="3176" y="3383"/>
                  </a:lnTo>
                  <a:lnTo>
                    <a:pt x="3334" y="3409"/>
                  </a:lnTo>
                  <a:lnTo>
                    <a:pt x="3493" y="3436"/>
                  </a:lnTo>
                  <a:lnTo>
                    <a:pt x="3652" y="3436"/>
                  </a:lnTo>
                  <a:lnTo>
                    <a:pt x="3811" y="3462"/>
                  </a:lnTo>
                  <a:lnTo>
                    <a:pt x="3996" y="3462"/>
                  </a:lnTo>
                  <a:lnTo>
                    <a:pt x="4155" y="3489"/>
                  </a:lnTo>
                  <a:lnTo>
                    <a:pt x="4314" y="3489"/>
                  </a:lnTo>
                  <a:lnTo>
                    <a:pt x="4499" y="3515"/>
                  </a:lnTo>
                  <a:lnTo>
                    <a:pt x="4658" y="3515"/>
                  </a:lnTo>
                  <a:lnTo>
                    <a:pt x="4843" y="3542"/>
                  </a:lnTo>
                  <a:lnTo>
                    <a:pt x="5002" y="3542"/>
                  </a:lnTo>
                  <a:lnTo>
                    <a:pt x="5187" y="3568"/>
                  </a:lnTo>
                  <a:lnTo>
                    <a:pt x="5346" y="3568"/>
                  </a:lnTo>
                  <a:lnTo>
                    <a:pt x="5531" y="3568"/>
                  </a:lnTo>
                  <a:lnTo>
                    <a:pt x="5531" y="762"/>
                  </a:lnTo>
                  <a:close/>
                </a:path>
              </a:pathLst>
            </a:custGeom>
            <a:solidFill>
              <a:srgbClr val="7f007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000680" y="3313080"/>
              <a:ext cx="2008440" cy="1076760"/>
            </a:xfrm>
            <a:custGeom>
              <a:avLst/>
              <a:gdLst/>
              <a:ahLst/>
              <a:rect l="0" t="0" r="r" b="b"/>
              <a:pathLst>
                <a:path w="5579" h="2991">
                  <a:moveTo>
                    <a:pt x="5579" y="0"/>
                  </a:moveTo>
                  <a:lnTo>
                    <a:pt x="5394" y="0"/>
                  </a:lnTo>
                  <a:lnTo>
                    <a:pt x="5235" y="26"/>
                  </a:lnTo>
                  <a:lnTo>
                    <a:pt x="5076" y="26"/>
                  </a:lnTo>
                  <a:lnTo>
                    <a:pt x="4891" y="52"/>
                  </a:lnTo>
                  <a:lnTo>
                    <a:pt x="4732" y="52"/>
                  </a:lnTo>
                  <a:lnTo>
                    <a:pt x="4573" y="79"/>
                  </a:lnTo>
                  <a:lnTo>
                    <a:pt x="4388" y="79"/>
                  </a:lnTo>
                  <a:lnTo>
                    <a:pt x="4229" y="105"/>
                  </a:lnTo>
                  <a:lnTo>
                    <a:pt x="4044" y="105"/>
                  </a:lnTo>
                  <a:lnTo>
                    <a:pt x="3885" y="132"/>
                  </a:lnTo>
                  <a:lnTo>
                    <a:pt x="3700" y="132"/>
                  </a:lnTo>
                  <a:lnTo>
                    <a:pt x="3515" y="132"/>
                  </a:lnTo>
                  <a:lnTo>
                    <a:pt x="3356" y="158"/>
                  </a:lnTo>
                  <a:lnTo>
                    <a:pt x="3171" y="158"/>
                  </a:lnTo>
                  <a:lnTo>
                    <a:pt x="3012" y="158"/>
                  </a:lnTo>
                  <a:lnTo>
                    <a:pt x="2827" y="158"/>
                  </a:lnTo>
                  <a:lnTo>
                    <a:pt x="2641" y="158"/>
                  </a:lnTo>
                  <a:lnTo>
                    <a:pt x="2482" y="185"/>
                  </a:lnTo>
                  <a:lnTo>
                    <a:pt x="2297" y="185"/>
                  </a:lnTo>
                  <a:lnTo>
                    <a:pt x="2116" y="185"/>
                  </a:lnTo>
                  <a:lnTo>
                    <a:pt x="1931" y="185"/>
                  </a:lnTo>
                  <a:lnTo>
                    <a:pt x="1772" y="185"/>
                  </a:lnTo>
                  <a:lnTo>
                    <a:pt x="1587" y="185"/>
                  </a:lnTo>
                  <a:lnTo>
                    <a:pt x="1402" y="185"/>
                  </a:lnTo>
                  <a:lnTo>
                    <a:pt x="1243" y="185"/>
                  </a:lnTo>
                  <a:lnTo>
                    <a:pt x="1058" y="185"/>
                  </a:lnTo>
                  <a:lnTo>
                    <a:pt x="873" y="158"/>
                  </a:lnTo>
                  <a:lnTo>
                    <a:pt x="714" y="158"/>
                  </a:lnTo>
                  <a:lnTo>
                    <a:pt x="529" y="158"/>
                  </a:lnTo>
                  <a:lnTo>
                    <a:pt x="343" y="158"/>
                  </a:lnTo>
                  <a:lnTo>
                    <a:pt x="185" y="158"/>
                  </a:lnTo>
                  <a:lnTo>
                    <a:pt x="0" y="132"/>
                  </a:lnTo>
                  <a:lnTo>
                    <a:pt x="0" y="2938"/>
                  </a:lnTo>
                  <a:lnTo>
                    <a:pt x="185" y="2965"/>
                  </a:lnTo>
                  <a:lnTo>
                    <a:pt x="343" y="2965"/>
                  </a:lnTo>
                  <a:lnTo>
                    <a:pt x="529" y="2965"/>
                  </a:lnTo>
                  <a:lnTo>
                    <a:pt x="714" y="2965"/>
                  </a:lnTo>
                  <a:lnTo>
                    <a:pt x="873" y="2965"/>
                  </a:lnTo>
                  <a:lnTo>
                    <a:pt x="1058" y="2991"/>
                  </a:lnTo>
                  <a:lnTo>
                    <a:pt x="1243" y="2991"/>
                  </a:lnTo>
                  <a:lnTo>
                    <a:pt x="1402" y="2991"/>
                  </a:lnTo>
                  <a:lnTo>
                    <a:pt x="1587" y="2991"/>
                  </a:lnTo>
                  <a:lnTo>
                    <a:pt x="1772" y="2991"/>
                  </a:lnTo>
                  <a:lnTo>
                    <a:pt x="1931" y="2991"/>
                  </a:lnTo>
                  <a:lnTo>
                    <a:pt x="2116" y="2991"/>
                  </a:lnTo>
                  <a:lnTo>
                    <a:pt x="2297" y="2991"/>
                  </a:lnTo>
                  <a:lnTo>
                    <a:pt x="2482" y="2991"/>
                  </a:lnTo>
                  <a:lnTo>
                    <a:pt x="2641" y="2965"/>
                  </a:lnTo>
                  <a:lnTo>
                    <a:pt x="2827" y="2965"/>
                  </a:lnTo>
                  <a:lnTo>
                    <a:pt x="3012" y="2965"/>
                  </a:lnTo>
                  <a:lnTo>
                    <a:pt x="3171" y="2965"/>
                  </a:lnTo>
                  <a:lnTo>
                    <a:pt x="3356" y="2965"/>
                  </a:lnTo>
                  <a:lnTo>
                    <a:pt x="3515" y="2938"/>
                  </a:lnTo>
                  <a:lnTo>
                    <a:pt x="3700" y="2938"/>
                  </a:lnTo>
                  <a:lnTo>
                    <a:pt x="3885" y="2938"/>
                  </a:lnTo>
                  <a:lnTo>
                    <a:pt x="4044" y="2912"/>
                  </a:lnTo>
                  <a:lnTo>
                    <a:pt x="4229" y="2912"/>
                  </a:lnTo>
                  <a:lnTo>
                    <a:pt x="4388" y="2885"/>
                  </a:lnTo>
                  <a:lnTo>
                    <a:pt x="4573" y="2885"/>
                  </a:lnTo>
                  <a:lnTo>
                    <a:pt x="4732" y="2859"/>
                  </a:lnTo>
                  <a:lnTo>
                    <a:pt x="4891" y="2859"/>
                  </a:lnTo>
                  <a:lnTo>
                    <a:pt x="5076" y="2833"/>
                  </a:lnTo>
                  <a:lnTo>
                    <a:pt x="5235" y="2833"/>
                  </a:lnTo>
                  <a:lnTo>
                    <a:pt x="5394" y="2806"/>
                  </a:lnTo>
                  <a:lnTo>
                    <a:pt x="5579" y="2806"/>
                  </a:lnTo>
                  <a:lnTo>
                    <a:pt x="5579" y="0"/>
                  </a:lnTo>
                  <a:close/>
                </a:path>
              </a:pathLst>
            </a:custGeom>
            <a:solidFill>
              <a:srgbClr val="000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38240" y="1486080"/>
              <a:ext cx="5694840" cy="943200"/>
            </a:xfrm>
            <a:custGeom>
              <a:avLst/>
              <a:gdLst/>
              <a:ahLst/>
              <a:rect l="0" t="0" r="r" b="b"/>
              <a:pathLst>
                <a:path w="15819" h="2620">
                  <a:moveTo>
                    <a:pt x="0" y="2170"/>
                  </a:moveTo>
                  <a:lnTo>
                    <a:pt x="26" y="2117"/>
                  </a:lnTo>
                  <a:lnTo>
                    <a:pt x="52" y="2091"/>
                  </a:lnTo>
                  <a:lnTo>
                    <a:pt x="105" y="2038"/>
                  </a:lnTo>
                  <a:lnTo>
                    <a:pt x="132" y="1985"/>
                  </a:lnTo>
                  <a:lnTo>
                    <a:pt x="185" y="1932"/>
                  </a:lnTo>
                  <a:lnTo>
                    <a:pt x="238" y="1906"/>
                  </a:lnTo>
                  <a:lnTo>
                    <a:pt x="291" y="1853"/>
                  </a:lnTo>
                  <a:lnTo>
                    <a:pt x="343" y="1826"/>
                  </a:lnTo>
                  <a:lnTo>
                    <a:pt x="396" y="1773"/>
                  </a:lnTo>
                  <a:lnTo>
                    <a:pt x="449" y="1720"/>
                  </a:lnTo>
                  <a:lnTo>
                    <a:pt x="502" y="1694"/>
                  </a:lnTo>
                  <a:lnTo>
                    <a:pt x="582" y="1641"/>
                  </a:lnTo>
                  <a:lnTo>
                    <a:pt x="635" y="1588"/>
                  </a:lnTo>
                  <a:lnTo>
                    <a:pt x="714" y="1562"/>
                  </a:lnTo>
                  <a:lnTo>
                    <a:pt x="793" y="1509"/>
                  </a:lnTo>
                  <a:lnTo>
                    <a:pt x="873" y="1482"/>
                  </a:lnTo>
                  <a:lnTo>
                    <a:pt x="952" y="1429"/>
                  </a:lnTo>
                  <a:lnTo>
                    <a:pt x="1031" y="1403"/>
                  </a:lnTo>
                  <a:lnTo>
                    <a:pt x="1111" y="1350"/>
                  </a:lnTo>
                  <a:lnTo>
                    <a:pt x="1190" y="1296"/>
                  </a:lnTo>
                  <a:lnTo>
                    <a:pt x="1296" y="1270"/>
                  </a:lnTo>
                  <a:lnTo>
                    <a:pt x="1375" y="1243"/>
                  </a:lnTo>
                  <a:lnTo>
                    <a:pt x="1481" y="1190"/>
                  </a:lnTo>
                  <a:lnTo>
                    <a:pt x="1561" y="1164"/>
                  </a:lnTo>
                  <a:lnTo>
                    <a:pt x="1666" y="1111"/>
                  </a:lnTo>
                  <a:lnTo>
                    <a:pt x="1772" y="1084"/>
                  </a:lnTo>
                  <a:lnTo>
                    <a:pt x="1878" y="1031"/>
                  </a:lnTo>
                  <a:lnTo>
                    <a:pt x="1984" y="1005"/>
                  </a:lnTo>
                  <a:lnTo>
                    <a:pt x="2090" y="978"/>
                  </a:lnTo>
                  <a:lnTo>
                    <a:pt x="2222" y="926"/>
                  </a:lnTo>
                  <a:lnTo>
                    <a:pt x="2328" y="899"/>
                  </a:lnTo>
                  <a:lnTo>
                    <a:pt x="2434" y="873"/>
                  </a:lnTo>
                  <a:lnTo>
                    <a:pt x="2566" y="820"/>
                  </a:lnTo>
                  <a:lnTo>
                    <a:pt x="2698" y="793"/>
                  </a:lnTo>
                  <a:lnTo>
                    <a:pt x="2804" y="767"/>
                  </a:lnTo>
                  <a:lnTo>
                    <a:pt x="2936" y="740"/>
                  </a:lnTo>
                  <a:lnTo>
                    <a:pt x="3069" y="687"/>
                  </a:lnTo>
                  <a:lnTo>
                    <a:pt x="3201" y="661"/>
                  </a:lnTo>
                  <a:lnTo>
                    <a:pt x="3333" y="635"/>
                  </a:lnTo>
                  <a:lnTo>
                    <a:pt x="3466" y="608"/>
                  </a:lnTo>
                  <a:lnTo>
                    <a:pt x="3598" y="582"/>
                  </a:lnTo>
                  <a:lnTo>
                    <a:pt x="3730" y="555"/>
                  </a:lnTo>
                  <a:lnTo>
                    <a:pt x="3889" y="529"/>
                  </a:lnTo>
                  <a:lnTo>
                    <a:pt x="4022" y="502"/>
                  </a:lnTo>
                  <a:lnTo>
                    <a:pt x="4181" y="476"/>
                  </a:lnTo>
                  <a:lnTo>
                    <a:pt x="4313" y="449"/>
                  </a:lnTo>
                  <a:lnTo>
                    <a:pt x="4472" y="423"/>
                  </a:lnTo>
                  <a:lnTo>
                    <a:pt x="4604" y="396"/>
                  </a:lnTo>
                  <a:lnTo>
                    <a:pt x="4763" y="370"/>
                  </a:lnTo>
                  <a:lnTo>
                    <a:pt x="4922" y="343"/>
                  </a:lnTo>
                  <a:lnTo>
                    <a:pt x="5080" y="317"/>
                  </a:lnTo>
                  <a:lnTo>
                    <a:pt x="5213" y="291"/>
                  </a:lnTo>
                  <a:lnTo>
                    <a:pt x="5372" y="291"/>
                  </a:lnTo>
                  <a:lnTo>
                    <a:pt x="5530" y="264"/>
                  </a:lnTo>
                  <a:lnTo>
                    <a:pt x="5689" y="238"/>
                  </a:lnTo>
                  <a:lnTo>
                    <a:pt x="5874" y="211"/>
                  </a:lnTo>
                  <a:lnTo>
                    <a:pt x="6033" y="211"/>
                  </a:lnTo>
                  <a:lnTo>
                    <a:pt x="6192" y="185"/>
                  </a:lnTo>
                  <a:lnTo>
                    <a:pt x="6351" y="158"/>
                  </a:lnTo>
                  <a:lnTo>
                    <a:pt x="6509" y="158"/>
                  </a:lnTo>
                  <a:lnTo>
                    <a:pt x="6694" y="132"/>
                  </a:lnTo>
                  <a:lnTo>
                    <a:pt x="6853" y="132"/>
                  </a:lnTo>
                  <a:lnTo>
                    <a:pt x="7012" y="105"/>
                  </a:lnTo>
                  <a:lnTo>
                    <a:pt x="7197" y="105"/>
                  </a:lnTo>
                  <a:lnTo>
                    <a:pt x="7356" y="79"/>
                  </a:lnTo>
                  <a:lnTo>
                    <a:pt x="7541" y="79"/>
                  </a:lnTo>
                  <a:lnTo>
                    <a:pt x="7700" y="52"/>
                  </a:lnTo>
                  <a:lnTo>
                    <a:pt x="7885" y="52"/>
                  </a:lnTo>
                  <a:lnTo>
                    <a:pt x="8044" y="52"/>
                  </a:lnTo>
                  <a:lnTo>
                    <a:pt x="8229" y="26"/>
                  </a:lnTo>
                  <a:lnTo>
                    <a:pt x="8414" y="26"/>
                  </a:lnTo>
                  <a:lnTo>
                    <a:pt x="8573" y="26"/>
                  </a:lnTo>
                  <a:lnTo>
                    <a:pt x="8758" y="0"/>
                  </a:lnTo>
                  <a:lnTo>
                    <a:pt x="8943" y="0"/>
                  </a:lnTo>
                  <a:lnTo>
                    <a:pt x="9102" y="0"/>
                  </a:lnTo>
                  <a:lnTo>
                    <a:pt x="9287" y="0"/>
                  </a:lnTo>
                  <a:lnTo>
                    <a:pt x="9473" y="0"/>
                  </a:lnTo>
                  <a:lnTo>
                    <a:pt x="9631" y="0"/>
                  </a:lnTo>
                  <a:lnTo>
                    <a:pt x="9817" y="0"/>
                  </a:lnTo>
                  <a:lnTo>
                    <a:pt x="10002" y="0"/>
                  </a:lnTo>
                  <a:lnTo>
                    <a:pt x="10161" y="0"/>
                  </a:lnTo>
                  <a:lnTo>
                    <a:pt x="10346" y="0"/>
                  </a:lnTo>
                  <a:lnTo>
                    <a:pt x="10527" y="0"/>
                  </a:lnTo>
                  <a:lnTo>
                    <a:pt x="10712" y="0"/>
                  </a:lnTo>
                  <a:lnTo>
                    <a:pt x="10870" y="0"/>
                  </a:lnTo>
                  <a:lnTo>
                    <a:pt x="11056" y="0"/>
                  </a:lnTo>
                  <a:lnTo>
                    <a:pt x="11241" y="0"/>
                  </a:lnTo>
                  <a:lnTo>
                    <a:pt x="11400" y="26"/>
                  </a:lnTo>
                  <a:lnTo>
                    <a:pt x="11585" y="26"/>
                  </a:lnTo>
                  <a:lnTo>
                    <a:pt x="11744" y="26"/>
                  </a:lnTo>
                  <a:lnTo>
                    <a:pt x="11930" y="52"/>
                  </a:lnTo>
                  <a:lnTo>
                    <a:pt x="12115" y="52"/>
                  </a:lnTo>
                  <a:lnTo>
                    <a:pt x="12274" y="52"/>
                  </a:lnTo>
                  <a:lnTo>
                    <a:pt x="12459" y="79"/>
                  </a:lnTo>
                  <a:lnTo>
                    <a:pt x="12618" y="79"/>
                  </a:lnTo>
                  <a:lnTo>
                    <a:pt x="12803" y="105"/>
                  </a:lnTo>
                  <a:lnTo>
                    <a:pt x="12962" y="105"/>
                  </a:lnTo>
                  <a:lnTo>
                    <a:pt x="13120" y="132"/>
                  </a:lnTo>
                  <a:lnTo>
                    <a:pt x="13306" y="132"/>
                  </a:lnTo>
                  <a:lnTo>
                    <a:pt x="13464" y="158"/>
                  </a:lnTo>
                  <a:lnTo>
                    <a:pt x="13623" y="158"/>
                  </a:lnTo>
                  <a:lnTo>
                    <a:pt x="13808" y="185"/>
                  </a:lnTo>
                  <a:lnTo>
                    <a:pt x="13967" y="211"/>
                  </a:lnTo>
                  <a:lnTo>
                    <a:pt x="14126" y="211"/>
                  </a:lnTo>
                  <a:lnTo>
                    <a:pt x="14285" y="238"/>
                  </a:lnTo>
                  <a:lnTo>
                    <a:pt x="14443" y="264"/>
                  </a:lnTo>
                  <a:lnTo>
                    <a:pt x="14602" y="291"/>
                  </a:lnTo>
                  <a:lnTo>
                    <a:pt x="14761" y="291"/>
                  </a:lnTo>
                  <a:lnTo>
                    <a:pt x="14920" y="317"/>
                  </a:lnTo>
                  <a:lnTo>
                    <a:pt x="15078" y="343"/>
                  </a:lnTo>
                  <a:lnTo>
                    <a:pt x="15237" y="370"/>
                  </a:lnTo>
                  <a:lnTo>
                    <a:pt x="15369" y="396"/>
                  </a:lnTo>
                  <a:lnTo>
                    <a:pt x="15528" y="423"/>
                  </a:lnTo>
                  <a:lnTo>
                    <a:pt x="15660" y="449"/>
                  </a:lnTo>
                  <a:lnTo>
                    <a:pt x="15819" y="476"/>
                  </a:lnTo>
                  <a:lnTo>
                    <a:pt x="10002" y="2620"/>
                  </a:lnTo>
                  <a:lnTo>
                    <a:pt x="0" y="2170"/>
                  </a:lnTo>
                  <a:close/>
                </a:path>
              </a:pathLst>
            </a:cu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38600" y="1657440"/>
              <a:ext cx="2446560" cy="771840"/>
            </a:xfrm>
            <a:custGeom>
              <a:avLst/>
              <a:gdLst/>
              <a:ahLst/>
              <a:rect l="0" t="0" r="r" b="b"/>
              <a:pathLst>
                <a:path w="6796" h="2144">
                  <a:moveTo>
                    <a:pt x="5817" y="0"/>
                  </a:moveTo>
                  <a:lnTo>
                    <a:pt x="5949" y="26"/>
                  </a:lnTo>
                  <a:lnTo>
                    <a:pt x="6108" y="52"/>
                  </a:lnTo>
                  <a:lnTo>
                    <a:pt x="6240" y="79"/>
                  </a:lnTo>
                  <a:lnTo>
                    <a:pt x="6373" y="105"/>
                  </a:lnTo>
                  <a:lnTo>
                    <a:pt x="6531" y="132"/>
                  </a:lnTo>
                  <a:lnTo>
                    <a:pt x="6664" y="158"/>
                  </a:lnTo>
                  <a:lnTo>
                    <a:pt x="6796" y="185"/>
                  </a:lnTo>
                  <a:lnTo>
                    <a:pt x="0" y="2144"/>
                  </a:lnTo>
                  <a:lnTo>
                    <a:pt x="5817" y="0"/>
                  </a:lnTo>
                  <a:close/>
                </a:path>
              </a:pathLst>
            </a:custGeom>
            <a:solidFill>
              <a:srgbClr val="8020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38600" y="1724040"/>
              <a:ext cx="2913480" cy="705240"/>
            </a:xfrm>
            <a:custGeom>
              <a:avLst/>
              <a:gdLst/>
              <a:ahLst/>
              <a:rect l="0" t="0" r="r" b="b"/>
              <a:pathLst>
                <a:path w="8093" h="1959">
                  <a:moveTo>
                    <a:pt x="6797" y="0"/>
                  </a:moveTo>
                  <a:lnTo>
                    <a:pt x="6929" y="26"/>
                  </a:lnTo>
                  <a:lnTo>
                    <a:pt x="7061" y="79"/>
                  </a:lnTo>
                  <a:lnTo>
                    <a:pt x="7167" y="105"/>
                  </a:lnTo>
                  <a:lnTo>
                    <a:pt x="7300" y="132"/>
                  </a:lnTo>
                  <a:lnTo>
                    <a:pt x="7432" y="158"/>
                  </a:lnTo>
                  <a:lnTo>
                    <a:pt x="7538" y="211"/>
                  </a:lnTo>
                  <a:lnTo>
                    <a:pt x="7670" y="238"/>
                  </a:lnTo>
                  <a:lnTo>
                    <a:pt x="7776" y="264"/>
                  </a:lnTo>
                  <a:lnTo>
                    <a:pt x="7882" y="317"/>
                  </a:lnTo>
                  <a:lnTo>
                    <a:pt x="7988" y="343"/>
                  </a:lnTo>
                  <a:lnTo>
                    <a:pt x="8093" y="370"/>
                  </a:lnTo>
                  <a:lnTo>
                    <a:pt x="0" y="1959"/>
                  </a:lnTo>
                  <a:lnTo>
                    <a:pt x="6797" y="0"/>
                  </a:lnTo>
                  <a:close/>
                </a:path>
              </a:pathLst>
            </a:custGeom>
            <a:solidFill>
              <a:srgbClr val="ffff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38600" y="1857240"/>
              <a:ext cx="3285000" cy="572040"/>
            </a:xfrm>
            <a:custGeom>
              <a:avLst/>
              <a:gdLst/>
              <a:ahLst/>
              <a:rect l="0" t="0" r="r" b="b"/>
              <a:pathLst>
                <a:path w="9125" h="1589">
                  <a:moveTo>
                    <a:pt x="8093" y="0"/>
                  </a:moveTo>
                  <a:lnTo>
                    <a:pt x="8199" y="52"/>
                  </a:lnTo>
                  <a:lnTo>
                    <a:pt x="8305" y="79"/>
                  </a:lnTo>
                  <a:lnTo>
                    <a:pt x="8411" y="132"/>
                  </a:lnTo>
                  <a:lnTo>
                    <a:pt x="8517" y="158"/>
                  </a:lnTo>
                  <a:lnTo>
                    <a:pt x="8596" y="211"/>
                  </a:lnTo>
                  <a:lnTo>
                    <a:pt x="8702" y="238"/>
                  </a:lnTo>
                  <a:lnTo>
                    <a:pt x="8781" y="264"/>
                  </a:lnTo>
                  <a:lnTo>
                    <a:pt x="8887" y="317"/>
                  </a:lnTo>
                  <a:lnTo>
                    <a:pt x="8966" y="370"/>
                  </a:lnTo>
                  <a:lnTo>
                    <a:pt x="9046" y="396"/>
                  </a:lnTo>
                  <a:lnTo>
                    <a:pt x="9125" y="450"/>
                  </a:lnTo>
                  <a:lnTo>
                    <a:pt x="0" y="1589"/>
                  </a:lnTo>
                  <a:lnTo>
                    <a:pt x="8093" y="0"/>
                  </a:lnTo>
                  <a:close/>
                </a:path>
              </a:pathLst>
            </a:custGeom>
            <a:solidFill>
              <a:srgbClr val="a0e0e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638600" y="2019240"/>
              <a:ext cx="3618360" cy="410040"/>
            </a:xfrm>
            <a:custGeom>
              <a:avLst/>
              <a:gdLst/>
              <a:ahLst/>
              <a:rect l="0" t="0" r="r" b="b"/>
              <a:pathLst>
                <a:path w="10051" h="1139">
                  <a:moveTo>
                    <a:pt x="9125" y="0"/>
                  </a:moveTo>
                  <a:lnTo>
                    <a:pt x="9205" y="26"/>
                  </a:lnTo>
                  <a:lnTo>
                    <a:pt x="9284" y="79"/>
                  </a:lnTo>
                  <a:lnTo>
                    <a:pt x="9337" y="105"/>
                  </a:lnTo>
                  <a:lnTo>
                    <a:pt x="9416" y="158"/>
                  </a:lnTo>
                  <a:lnTo>
                    <a:pt x="9469" y="211"/>
                  </a:lnTo>
                  <a:lnTo>
                    <a:pt x="9549" y="238"/>
                  </a:lnTo>
                  <a:lnTo>
                    <a:pt x="9601" y="292"/>
                  </a:lnTo>
                  <a:lnTo>
                    <a:pt x="9654" y="344"/>
                  </a:lnTo>
                  <a:lnTo>
                    <a:pt x="9707" y="371"/>
                  </a:lnTo>
                  <a:lnTo>
                    <a:pt x="9760" y="424"/>
                  </a:lnTo>
                  <a:lnTo>
                    <a:pt x="9813" y="450"/>
                  </a:lnTo>
                  <a:lnTo>
                    <a:pt x="9840" y="503"/>
                  </a:lnTo>
                  <a:lnTo>
                    <a:pt x="9893" y="556"/>
                  </a:lnTo>
                  <a:lnTo>
                    <a:pt x="9919" y="609"/>
                  </a:lnTo>
                  <a:lnTo>
                    <a:pt x="9972" y="636"/>
                  </a:lnTo>
                  <a:lnTo>
                    <a:pt x="9998" y="688"/>
                  </a:lnTo>
                  <a:lnTo>
                    <a:pt x="10025" y="741"/>
                  </a:lnTo>
                  <a:lnTo>
                    <a:pt x="10051" y="768"/>
                  </a:lnTo>
                  <a:lnTo>
                    <a:pt x="0" y="1139"/>
                  </a:lnTo>
                  <a:lnTo>
                    <a:pt x="9125" y="0"/>
                  </a:lnTo>
                  <a:close/>
                </a:path>
              </a:pathLst>
            </a:custGeom>
            <a:solidFill>
              <a:srgbClr val="600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38600" y="2295360"/>
              <a:ext cx="3656520" cy="362160"/>
            </a:xfrm>
            <a:custGeom>
              <a:avLst/>
              <a:gdLst/>
              <a:ahLst/>
              <a:rect l="0" t="0" r="r" b="b"/>
              <a:pathLst>
                <a:path w="10157" h="1006">
                  <a:moveTo>
                    <a:pt x="10051" y="0"/>
                  </a:moveTo>
                  <a:lnTo>
                    <a:pt x="10078" y="52"/>
                  </a:lnTo>
                  <a:lnTo>
                    <a:pt x="10104" y="105"/>
                  </a:lnTo>
                  <a:lnTo>
                    <a:pt x="10104" y="158"/>
                  </a:lnTo>
                  <a:lnTo>
                    <a:pt x="10131" y="185"/>
                  </a:lnTo>
                  <a:lnTo>
                    <a:pt x="10131" y="238"/>
                  </a:lnTo>
                  <a:lnTo>
                    <a:pt x="10157" y="291"/>
                  </a:lnTo>
                  <a:lnTo>
                    <a:pt x="10157" y="343"/>
                  </a:lnTo>
                  <a:lnTo>
                    <a:pt x="10157" y="370"/>
                  </a:lnTo>
                  <a:lnTo>
                    <a:pt x="10157" y="423"/>
                  </a:lnTo>
                  <a:lnTo>
                    <a:pt x="10157" y="476"/>
                  </a:lnTo>
                  <a:lnTo>
                    <a:pt x="10131" y="502"/>
                  </a:lnTo>
                  <a:lnTo>
                    <a:pt x="10131" y="556"/>
                  </a:lnTo>
                  <a:lnTo>
                    <a:pt x="10104" y="609"/>
                  </a:lnTo>
                  <a:lnTo>
                    <a:pt x="10104" y="662"/>
                  </a:lnTo>
                  <a:lnTo>
                    <a:pt x="10078" y="688"/>
                  </a:lnTo>
                  <a:lnTo>
                    <a:pt x="10051" y="741"/>
                  </a:lnTo>
                  <a:lnTo>
                    <a:pt x="10025" y="794"/>
                  </a:lnTo>
                  <a:lnTo>
                    <a:pt x="9998" y="847"/>
                  </a:lnTo>
                  <a:lnTo>
                    <a:pt x="9972" y="874"/>
                  </a:lnTo>
                  <a:lnTo>
                    <a:pt x="9919" y="927"/>
                  </a:lnTo>
                  <a:lnTo>
                    <a:pt x="9893" y="979"/>
                  </a:lnTo>
                  <a:lnTo>
                    <a:pt x="9840" y="1006"/>
                  </a:lnTo>
                  <a:lnTo>
                    <a:pt x="0" y="370"/>
                  </a:lnTo>
                  <a:lnTo>
                    <a:pt x="10051" y="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38600" y="2428920"/>
              <a:ext cx="3542040" cy="543240"/>
            </a:xfrm>
            <a:custGeom>
              <a:avLst/>
              <a:gdLst/>
              <a:ahLst/>
              <a:rect l="0" t="0" r="r" b="b"/>
              <a:pathLst>
                <a:path w="9839" h="1509">
                  <a:moveTo>
                    <a:pt x="9839" y="635"/>
                  </a:moveTo>
                  <a:lnTo>
                    <a:pt x="9812" y="687"/>
                  </a:lnTo>
                  <a:lnTo>
                    <a:pt x="9759" y="740"/>
                  </a:lnTo>
                  <a:lnTo>
                    <a:pt x="9706" y="768"/>
                  </a:lnTo>
                  <a:lnTo>
                    <a:pt x="9653" y="821"/>
                  </a:lnTo>
                  <a:lnTo>
                    <a:pt x="9600" y="874"/>
                  </a:lnTo>
                  <a:lnTo>
                    <a:pt x="9548" y="900"/>
                  </a:lnTo>
                  <a:lnTo>
                    <a:pt x="9468" y="953"/>
                  </a:lnTo>
                  <a:lnTo>
                    <a:pt x="9415" y="1006"/>
                  </a:lnTo>
                  <a:lnTo>
                    <a:pt x="9336" y="1032"/>
                  </a:lnTo>
                  <a:lnTo>
                    <a:pt x="9283" y="1085"/>
                  </a:lnTo>
                  <a:lnTo>
                    <a:pt x="9204" y="1112"/>
                  </a:lnTo>
                  <a:lnTo>
                    <a:pt x="9124" y="1165"/>
                  </a:lnTo>
                  <a:lnTo>
                    <a:pt x="9045" y="1191"/>
                  </a:lnTo>
                  <a:lnTo>
                    <a:pt x="8965" y="1244"/>
                  </a:lnTo>
                  <a:lnTo>
                    <a:pt x="8886" y="1271"/>
                  </a:lnTo>
                  <a:lnTo>
                    <a:pt x="8780" y="1323"/>
                  </a:lnTo>
                  <a:lnTo>
                    <a:pt x="8701" y="1350"/>
                  </a:lnTo>
                  <a:lnTo>
                    <a:pt x="8595" y="1403"/>
                  </a:lnTo>
                  <a:lnTo>
                    <a:pt x="8516" y="1429"/>
                  </a:lnTo>
                  <a:lnTo>
                    <a:pt x="8410" y="1482"/>
                  </a:lnTo>
                  <a:lnTo>
                    <a:pt x="8304" y="1509"/>
                  </a:lnTo>
                  <a:lnTo>
                    <a:pt x="0" y="0"/>
                  </a:lnTo>
                  <a:lnTo>
                    <a:pt x="9839" y="635"/>
                  </a:lnTo>
                  <a:close/>
                </a:path>
              </a:pathLst>
            </a:custGeom>
            <a:solidFill>
              <a:srgbClr val="008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38600" y="2428920"/>
              <a:ext cx="2989800" cy="884520"/>
            </a:xfrm>
            <a:custGeom>
              <a:avLst/>
              <a:gdLst/>
              <a:ahLst/>
              <a:rect l="0" t="0" r="r" b="b"/>
              <a:pathLst>
                <a:path w="8305" h="2457">
                  <a:moveTo>
                    <a:pt x="8305" y="1509"/>
                  </a:moveTo>
                  <a:lnTo>
                    <a:pt x="8199" y="1562"/>
                  </a:lnTo>
                  <a:lnTo>
                    <a:pt x="8093" y="1588"/>
                  </a:lnTo>
                  <a:lnTo>
                    <a:pt x="7988" y="1641"/>
                  </a:lnTo>
                  <a:lnTo>
                    <a:pt x="7882" y="1667"/>
                  </a:lnTo>
                  <a:lnTo>
                    <a:pt x="7776" y="1694"/>
                  </a:lnTo>
                  <a:lnTo>
                    <a:pt x="7670" y="1747"/>
                  </a:lnTo>
                  <a:lnTo>
                    <a:pt x="7538" y="1773"/>
                  </a:lnTo>
                  <a:lnTo>
                    <a:pt x="7432" y="1800"/>
                  </a:lnTo>
                  <a:lnTo>
                    <a:pt x="7300" y="1826"/>
                  </a:lnTo>
                  <a:lnTo>
                    <a:pt x="7167" y="1879"/>
                  </a:lnTo>
                  <a:lnTo>
                    <a:pt x="7061" y="1906"/>
                  </a:lnTo>
                  <a:lnTo>
                    <a:pt x="6929" y="1932"/>
                  </a:lnTo>
                  <a:lnTo>
                    <a:pt x="6797" y="1954"/>
                  </a:lnTo>
                  <a:lnTo>
                    <a:pt x="6665" y="1980"/>
                  </a:lnTo>
                  <a:lnTo>
                    <a:pt x="6532" y="2007"/>
                  </a:lnTo>
                  <a:lnTo>
                    <a:pt x="6374" y="2060"/>
                  </a:lnTo>
                  <a:lnTo>
                    <a:pt x="6241" y="2086"/>
                  </a:lnTo>
                  <a:lnTo>
                    <a:pt x="6108" y="2113"/>
                  </a:lnTo>
                  <a:lnTo>
                    <a:pt x="5949" y="2139"/>
                  </a:lnTo>
                  <a:lnTo>
                    <a:pt x="5817" y="2166"/>
                  </a:lnTo>
                  <a:lnTo>
                    <a:pt x="5658" y="2192"/>
                  </a:lnTo>
                  <a:lnTo>
                    <a:pt x="5526" y="2219"/>
                  </a:lnTo>
                  <a:lnTo>
                    <a:pt x="5367" y="2245"/>
                  </a:lnTo>
                  <a:lnTo>
                    <a:pt x="5235" y="2272"/>
                  </a:lnTo>
                  <a:lnTo>
                    <a:pt x="5076" y="2272"/>
                  </a:lnTo>
                  <a:lnTo>
                    <a:pt x="4917" y="2298"/>
                  </a:lnTo>
                  <a:lnTo>
                    <a:pt x="4759" y="2324"/>
                  </a:lnTo>
                  <a:lnTo>
                    <a:pt x="4600" y="2351"/>
                  </a:lnTo>
                  <a:lnTo>
                    <a:pt x="4441" y="2377"/>
                  </a:lnTo>
                  <a:lnTo>
                    <a:pt x="4282" y="2377"/>
                  </a:lnTo>
                  <a:lnTo>
                    <a:pt x="4124" y="2404"/>
                  </a:lnTo>
                  <a:lnTo>
                    <a:pt x="3965" y="2430"/>
                  </a:lnTo>
                  <a:lnTo>
                    <a:pt x="3806" y="2457"/>
                  </a:lnTo>
                  <a:lnTo>
                    <a:pt x="0" y="0"/>
                  </a:lnTo>
                  <a:lnTo>
                    <a:pt x="8305" y="1509"/>
                  </a:lnTo>
                  <a:close/>
                </a:path>
              </a:pathLst>
            </a:custGeom>
            <a:solidFill>
              <a:srgbClr val="c0c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00680" y="2428920"/>
              <a:ext cx="2008440" cy="951120"/>
            </a:xfrm>
            <a:custGeom>
              <a:avLst/>
              <a:gdLst/>
              <a:ahLst/>
              <a:rect l="0" t="0" r="r" b="b"/>
              <a:pathLst>
                <a:path w="5579" h="2642">
                  <a:moveTo>
                    <a:pt x="5579" y="2457"/>
                  </a:moveTo>
                  <a:lnTo>
                    <a:pt x="5394" y="2457"/>
                  </a:lnTo>
                  <a:lnTo>
                    <a:pt x="5235" y="2483"/>
                  </a:lnTo>
                  <a:lnTo>
                    <a:pt x="5076" y="2483"/>
                  </a:lnTo>
                  <a:lnTo>
                    <a:pt x="4891" y="2510"/>
                  </a:lnTo>
                  <a:lnTo>
                    <a:pt x="4732" y="2510"/>
                  </a:lnTo>
                  <a:lnTo>
                    <a:pt x="4573" y="2536"/>
                  </a:lnTo>
                  <a:lnTo>
                    <a:pt x="4388" y="2536"/>
                  </a:lnTo>
                  <a:lnTo>
                    <a:pt x="4229" y="2563"/>
                  </a:lnTo>
                  <a:lnTo>
                    <a:pt x="4044" y="2563"/>
                  </a:lnTo>
                  <a:lnTo>
                    <a:pt x="3885" y="2589"/>
                  </a:lnTo>
                  <a:lnTo>
                    <a:pt x="3700" y="2589"/>
                  </a:lnTo>
                  <a:lnTo>
                    <a:pt x="3515" y="2589"/>
                  </a:lnTo>
                  <a:lnTo>
                    <a:pt x="3356" y="2615"/>
                  </a:lnTo>
                  <a:lnTo>
                    <a:pt x="3171" y="2615"/>
                  </a:lnTo>
                  <a:lnTo>
                    <a:pt x="3012" y="2615"/>
                  </a:lnTo>
                  <a:lnTo>
                    <a:pt x="2827" y="2615"/>
                  </a:lnTo>
                  <a:lnTo>
                    <a:pt x="2641" y="2615"/>
                  </a:lnTo>
                  <a:lnTo>
                    <a:pt x="2482" y="2642"/>
                  </a:lnTo>
                  <a:lnTo>
                    <a:pt x="2297" y="2642"/>
                  </a:lnTo>
                  <a:lnTo>
                    <a:pt x="2116" y="2642"/>
                  </a:lnTo>
                  <a:lnTo>
                    <a:pt x="1931" y="2642"/>
                  </a:lnTo>
                  <a:lnTo>
                    <a:pt x="1772" y="2642"/>
                  </a:lnTo>
                  <a:lnTo>
                    <a:pt x="1587" y="2642"/>
                  </a:lnTo>
                  <a:lnTo>
                    <a:pt x="1402" y="2642"/>
                  </a:lnTo>
                  <a:lnTo>
                    <a:pt x="1243" y="2642"/>
                  </a:lnTo>
                  <a:lnTo>
                    <a:pt x="1058" y="2642"/>
                  </a:lnTo>
                  <a:lnTo>
                    <a:pt x="873" y="2615"/>
                  </a:lnTo>
                  <a:lnTo>
                    <a:pt x="714" y="2615"/>
                  </a:lnTo>
                  <a:lnTo>
                    <a:pt x="529" y="2615"/>
                  </a:lnTo>
                  <a:lnTo>
                    <a:pt x="343" y="2615"/>
                  </a:lnTo>
                  <a:lnTo>
                    <a:pt x="185" y="2615"/>
                  </a:lnTo>
                  <a:lnTo>
                    <a:pt x="0" y="2589"/>
                  </a:lnTo>
                  <a:lnTo>
                    <a:pt x="1772" y="0"/>
                  </a:lnTo>
                  <a:lnTo>
                    <a:pt x="5579" y="2457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09880" y="2428920"/>
              <a:ext cx="2629080" cy="932400"/>
            </a:xfrm>
            <a:custGeom>
              <a:avLst/>
              <a:gdLst/>
              <a:ahLst/>
              <a:rect l="0" t="0" r="r" b="b"/>
              <a:pathLst>
                <a:path w="7303" h="2590">
                  <a:moveTo>
                    <a:pt x="5530" y="2590"/>
                  </a:moveTo>
                  <a:lnTo>
                    <a:pt x="5345" y="2590"/>
                  </a:lnTo>
                  <a:lnTo>
                    <a:pt x="5186" y="2590"/>
                  </a:lnTo>
                  <a:lnTo>
                    <a:pt x="5001" y="2564"/>
                  </a:lnTo>
                  <a:lnTo>
                    <a:pt x="4842" y="2564"/>
                  </a:lnTo>
                  <a:lnTo>
                    <a:pt x="4657" y="2537"/>
                  </a:lnTo>
                  <a:lnTo>
                    <a:pt x="4498" y="2537"/>
                  </a:lnTo>
                  <a:lnTo>
                    <a:pt x="4313" y="2511"/>
                  </a:lnTo>
                  <a:lnTo>
                    <a:pt x="4154" y="2511"/>
                  </a:lnTo>
                  <a:lnTo>
                    <a:pt x="3996" y="2484"/>
                  </a:lnTo>
                  <a:lnTo>
                    <a:pt x="3811" y="2484"/>
                  </a:lnTo>
                  <a:lnTo>
                    <a:pt x="3651" y="2458"/>
                  </a:lnTo>
                  <a:lnTo>
                    <a:pt x="3492" y="2458"/>
                  </a:lnTo>
                  <a:lnTo>
                    <a:pt x="3333" y="2431"/>
                  </a:lnTo>
                  <a:lnTo>
                    <a:pt x="3175" y="2405"/>
                  </a:lnTo>
                  <a:lnTo>
                    <a:pt x="2989" y="2378"/>
                  </a:lnTo>
                  <a:lnTo>
                    <a:pt x="2831" y="2378"/>
                  </a:lnTo>
                  <a:lnTo>
                    <a:pt x="2672" y="2352"/>
                  </a:lnTo>
                  <a:lnTo>
                    <a:pt x="2513" y="2325"/>
                  </a:lnTo>
                  <a:lnTo>
                    <a:pt x="2381" y="2299"/>
                  </a:lnTo>
                  <a:lnTo>
                    <a:pt x="2222" y="2273"/>
                  </a:lnTo>
                  <a:lnTo>
                    <a:pt x="2063" y="2273"/>
                  </a:lnTo>
                  <a:lnTo>
                    <a:pt x="1905" y="2246"/>
                  </a:lnTo>
                  <a:lnTo>
                    <a:pt x="1772" y="2220"/>
                  </a:lnTo>
                  <a:lnTo>
                    <a:pt x="1613" y="2193"/>
                  </a:lnTo>
                  <a:lnTo>
                    <a:pt x="1481" y="2167"/>
                  </a:lnTo>
                  <a:lnTo>
                    <a:pt x="1322" y="2140"/>
                  </a:lnTo>
                  <a:lnTo>
                    <a:pt x="1190" y="2114"/>
                  </a:lnTo>
                  <a:lnTo>
                    <a:pt x="1031" y="2087"/>
                  </a:lnTo>
                  <a:lnTo>
                    <a:pt x="899" y="2061"/>
                  </a:lnTo>
                  <a:lnTo>
                    <a:pt x="767" y="2008"/>
                  </a:lnTo>
                  <a:lnTo>
                    <a:pt x="635" y="1981"/>
                  </a:lnTo>
                  <a:lnTo>
                    <a:pt x="502" y="1955"/>
                  </a:lnTo>
                  <a:lnTo>
                    <a:pt x="370" y="1932"/>
                  </a:lnTo>
                  <a:lnTo>
                    <a:pt x="238" y="1906"/>
                  </a:lnTo>
                  <a:lnTo>
                    <a:pt x="105" y="1879"/>
                  </a:lnTo>
                  <a:lnTo>
                    <a:pt x="0" y="1826"/>
                  </a:lnTo>
                  <a:lnTo>
                    <a:pt x="7303" y="0"/>
                  </a:lnTo>
                  <a:lnTo>
                    <a:pt x="5530" y="2590"/>
                  </a:lnTo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81000" y="2266920"/>
              <a:ext cx="3657960" cy="819360"/>
            </a:xfrm>
            <a:custGeom>
              <a:avLst/>
              <a:gdLst/>
              <a:ahLst/>
              <a:rect l="0" t="0" r="r" b="b"/>
              <a:pathLst>
                <a:path w="10161" h="2276">
                  <a:moveTo>
                    <a:pt x="2857" y="2276"/>
                  </a:moveTo>
                  <a:lnTo>
                    <a:pt x="2725" y="2249"/>
                  </a:lnTo>
                  <a:lnTo>
                    <a:pt x="2592" y="2223"/>
                  </a:lnTo>
                  <a:lnTo>
                    <a:pt x="2487" y="2197"/>
                  </a:lnTo>
                  <a:lnTo>
                    <a:pt x="2381" y="2144"/>
                  </a:lnTo>
                  <a:lnTo>
                    <a:pt x="2248" y="2117"/>
                  </a:lnTo>
                  <a:lnTo>
                    <a:pt x="2143" y="2091"/>
                  </a:lnTo>
                  <a:lnTo>
                    <a:pt x="2037" y="2038"/>
                  </a:lnTo>
                  <a:lnTo>
                    <a:pt x="1931" y="2011"/>
                  </a:lnTo>
                  <a:lnTo>
                    <a:pt x="1825" y="1958"/>
                  </a:lnTo>
                  <a:lnTo>
                    <a:pt x="1719" y="1932"/>
                  </a:lnTo>
                  <a:lnTo>
                    <a:pt x="1640" y="1879"/>
                  </a:lnTo>
                  <a:lnTo>
                    <a:pt x="1534" y="1853"/>
                  </a:lnTo>
                  <a:lnTo>
                    <a:pt x="1455" y="1800"/>
                  </a:lnTo>
                  <a:lnTo>
                    <a:pt x="1349" y="1773"/>
                  </a:lnTo>
                  <a:lnTo>
                    <a:pt x="1270" y="1720"/>
                  </a:lnTo>
                  <a:lnTo>
                    <a:pt x="1190" y="1694"/>
                  </a:lnTo>
                  <a:lnTo>
                    <a:pt x="1111" y="1641"/>
                  </a:lnTo>
                  <a:lnTo>
                    <a:pt x="1031" y="1614"/>
                  </a:lnTo>
                  <a:lnTo>
                    <a:pt x="952" y="1562"/>
                  </a:lnTo>
                  <a:lnTo>
                    <a:pt x="873" y="1535"/>
                  </a:lnTo>
                  <a:lnTo>
                    <a:pt x="793" y="1482"/>
                  </a:lnTo>
                  <a:lnTo>
                    <a:pt x="740" y="1456"/>
                  </a:lnTo>
                  <a:lnTo>
                    <a:pt x="661" y="1403"/>
                  </a:lnTo>
                  <a:lnTo>
                    <a:pt x="608" y="1350"/>
                  </a:lnTo>
                  <a:lnTo>
                    <a:pt x="555" y="1323"/>
                  </a:lnTo>
                  <a:lnTo>
                    <a:pt x="502" y="1271"/>
                  </a:lnTo>
                  <a:lnTo>
                    <a:pt x="449" y="1218"/>
                  </a:lnTo>
                  <a:lnTo>
                    <a:pt x="396" y="1191"/>
                  </a:lnTo>
                  <a:lnTo>
                    <a:pt x="343" y="1137"/>
                  </a:lnTo>
                  <a:lnTo>
                    <a:pt x="291" y="1084"/>
                  </a:lnTo>
                  <a:lnTo>
                    <a:pt x="264" y="1058"/>
                  </a:lnTo>
                  <a:lnTo>
                    <a:pt x="211" y="1005"/>
                  </a:lnTo>
                  <a:lnTo>
                    <a:pt x="185" y="952"/>
                  </a:lnTo>
                  <a:lnTo>
                    <a:pt x="158" y="926"/>
                  </a:lnTo>
                  <a:lnTo>
                    <a:pt x="105" y="873"/>
                  </a:lnTo>
                  <a:lnTo>
                    <a:pt x="79" y="820"/>
                  </a:lnTo>
                  <a:lnTo>
                    <a:pt x="79" y="767"/>
                  </a:lnTo>
                  <a:lnTo>
                    <a:pt x="52" y="740"/>
                  </a:lnTo>
                  <a:lnTo>
                    <a:pt x="26" y="687"/>
                  </a:lnTo>
                  <a:lnTo>
                    <a:pt x="26" y="635"/>
                  </a:lnTo>
                  <a:lnTo>
                    <a:pt x="0" y="582"/>
                  </a:lnTo>
                  <a:lnTo>
                    <a:pt x="0" y="555"/>
                  </a:lnTo>
                  <a:lnTo>
                    <a:pt x="0" y="502"/>
                  </a:lnTo>
                  <a:lnTo>
                    <a:pt x="0" y="449"/>
                  </a:lnTo>
                  <a:lnTo>
                    <a:pt x="0" y="423"/>
                  </a:lnTo>
                  <a:lnTo>
                    <a:pt x="0" y="370"/>
                  </a:lnTo>
                  <a:lnTo>
                    <a:pt x="0" y="317"/>
                  </a:lnTo>
                  <a:lnTo>
                    <a:pt x="26" y="264"/>
                  </a:lnTo>
                  <a:lnTo>
                    <a:pt x="26" y="238"/>
                  </a:lnTo>
                  <a:lnTo>
                    <a:pt x="52" y="185"/>
                  </a:lnTo>
                  <a:lnTo>
                    <a:pt x="79" y="132"/>
                  </a:lnTo>
                  <a:lnTo>
                    <a:pt x="79" y="79"/>
                  </a:lnTo>
                  <a:lnTo>
                    <a:pt x="105" y="52"/>
                  </a:lnTo>
                  <a:lnTo>
                    <a:pt x="158" y="0"/>
                  </a:lnTo>
                  <a:lnTo>
                    <a:pt x="10161" y="449"/>
                  </a:lnTo>
                  <a:lnTo>
                    <a:pt x="2857" y="2276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2451240" y="90180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2593800" y="1168560"/>
              <a:ext cx="488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8002440" y="383364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8202600" y="410040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6935760" y="423396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7135920" y="450072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4641840" y="446256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4840200" y="472932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2155680" y="433872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2298600" y="4605480"/>
              <a:ext cx="488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8288280" y="2359080"/>
              <a:ext cx="996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8583480" y="262584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8088480" y="164448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8288280" y="191124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7135920" y="105408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7335720" y="132084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6450120" y="87300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6649920" y="113976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7593120" y="127332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7792920" y="1539720"/>
              <a:ext cx="387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517680" y="3624120"/>
              <a:ext cx="793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660240" y="3890880"/>
              <a:ext cx="488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47840" y="504720"/>
            <a:ext cx="8723160" cy="5227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¨ÈÁp¤uµ{ÅU°ÝªÑ¥÷¦³­­¤½¥q  ¹B¿é³W¹º³¡</dc:creator>
  <dc:description/>
  <dc:language>en-US</dc:language>
  <cp:lastModifiedBy>¨ÈÁp¤uµ{ÅU°ÝªÑ¥÷¦³­­¤½¥q  ¹B¿é³W¹º³¡</cp:lastModifiedBy>
  <cp:revision>0</cp:revision>
  <dc:subject/>
  <dc:title/>
</cp:coreProperties>
</file>