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19200" y="6400800"/>
            <a:ext cx="87631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9afff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19200" y="1600200"/>
            <a:ext cx="1295280" cy="47242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8045280" y="5181480"/>
            <a:ext cx="1259280" cy="1524240"/>
            <a:chOff x="8045280" y="5181480"/>
            <a:chExt cx="1259280" cy="1524240"/>
          </a:xfrm>
        </p:grpSpPr>
        <p:grpSp>
          <p:nvGrpSpPr>
            <p:cNvPr id="3" name=""/>
            <p:cNvGrpSpPr/>
            <p:nvPr/>
          </p:nvGrpSpPr>
          <p:grpSpPr>
            <a:xfrm>
              <a:off x="8210520" y="5181480"/>
              <a:ext cx="1094040" cy="1524240"/>
              <a:chOff x="8210520" y="5181480"/>
              <a:chExt cx="1094040" cy="1524240"/>
            </a:xfrm>
          </p:grpSpPr>
          <p:sp>
            <p:nvSpPr>
              <p:cNvPr id="4" name=""/>
              <p:cNvSpPr/>
              <p:nvPr/>
            </p:nvSpPr>
            <p:spPr>
              <a:xfrm>
                <a:off x="8210520" y="5222880"/>
                <a:ext cx="1094040" cy="1360800"/>
              </a:xfrm>
              <a:custGeom>
                <a:avLst/>
                <a:gdLst/>
                <a:ahLst/>
                <a:rect l="0" t="0" r="r" b="b"/>
                <a:pathLst>
                  <a:path w="3039" h="3780">
                    <a:moveTo>
                      <a:pt x="1715" y="0"/>
                    </a:moveTo>
                    <a:lnTo>
                      <a:pt x="1904" y="71"/>
                    </a:lnTo>
                    <a:lnTo>
                      <a:pt x="2083" y="166"/>
                    </a:lnTo>
                    <a:lnTo>
                      <a:pt x="2252" y="276"/>
                    </a:lnTo>
                    <a:lnTo>
                      <a:pt x="2408" y="399"/>
                    </a:lnTo>
                    <a:lnTo>
                      <a:pt x="2549" y="547"/>
                    </a:lnTo>
                    <a:lnTo>
                      <a:pt x="2671" y="704"/>
                    </a:lnTo>
                    <a:lnTo>
                      <a:pt x="2780" y="875"/>
                    </a:lnTo>
                    <a:lnTo>
                      <a:pt x="2874" y="1051"/>
                    </a:lnTo>
                    <a:lnTo>
                      <a:pt x="2945" y="1242"/>
                    </a:lnTo>
                    <a:lnTo>
                      <a:pt x="2996" y="1437"/>
                    </a:lnTo>
                    <a:lnTo>
                      <a:pt x="3029" y="1637"/>
                    </a:lnTo>
                    <a:lnTo>
                      <a:pt x="3039" y="1841"/>
                    </a:lnTo>
                    <a:lnTo>
                      <a:pt x="3029" y="2047"/>
                    </a:lnTo>
                    <a:lnTo>
                      <a:pt x="2996" y="2247"/>
                    </a:lnTo>
                    <a:lnTo>
                      <a:pt x="2945" y="2442"/>
                    </a:lnTo>
                    <a:lnTo>
                      <a:pt x="2874" y="2628"/>
                    </a:lnTo>
                    <a:lnTo>
                      <a:pt x="2780" y="2809"/>
                    </a:lnTo>
                    <a:lnTo>
                      <a:pt x="2671" y="2980"/>
                    </a:lnTo>
                    <a:lnTo>
                      <a:pt x="2549" y="3137"/>
                    </a:lnTo>
                    <a:lnTo>
                      <a:pt x="2408" y="3285"/>
                    </a:lnTo>
                    <a:lnTo>
                      <a:pt x="2252" y="3413"/>
                    </a:lnTo>
                    <a:lnTo>
                      <a:pt x="2083" y="3518"/>
                    </a:lnTo>
                    <a:lnTo>
                      <a:pt x="1904" y="3613"/>
                    </a:lnTo>
                    <a:lnTo>
                      <a:pt x="1715" y="3684"/>
                    </a:lnTo>
                    <a:lnTo>
                      <a:pt x="1522" y="3737"/>
                    </a:lnTo>
                    <a:lnTo>
                      <a:pt x="1323" y="3770"/>
                    </a:lnTo>
                    <a:lnTo>
                      <a:pt x="1125" y="3780"/>
                    </a:lnTo>
                    <a:lnTo>
                      <a:pt x="923" y="3770"/>
                    </a:lnTo>
                    <a:lnTo>
                      <a:pt x="725" y="3737"/>
                    </a:lnTo>
                    <a:lnTo>
                      <a:pt x="532" y="3684"/>
                    </a:lnTo>
                    <a:lnTo>
                      <a:pt x="348" y="3613"/>
                    </a:lnTo>
                    <a:lnTo>
                      <a:pt x="169" y="3518"/>
                    </a:lnTo>
                    <a:lnTo>
                      <a:pt x="0" y="3413"/>
                    </a:lnTo>
                    <a:lnTo>
                      <a:pt x="108" y="3256"/>
                    </a:lnTo>
                    <a:lnTo>
                      <a:pt x="263" y="3356"/>
                    </a:lnTo>
                    <a:lnTo>
                      <a:pt x="423" y="3437"/>
                    </a:lnTo>
                    <a:lnTo>
                      <a:pt x="593" y="3504"/>
                    </a:lnTo>
                    <a:lnTo>
                      <a:pt x="767" y="3551"/>
                    </a:lnTo>
                    <a:lnTo>
                      <a:pt x="942" y="3580"/>
                    </a:lnTo>
                    <a:lnTo>
                      <a:pt x="1125" y="3589"/>
                    </a:lnTo>
                    <a:lnTo>
                      <a:pt x="1304" y="3580"/>
                    </a:lnTo>
                    <a:lnTo>
                      <a:pt x="1483" y="3551"/>
                    </a:lnTo>
                    <a:lnTo>
                      <a:pt x="1659" y="3504"/>
                    </a:lnTo>
                    <a:lnTo>
                      <a:pt x="1828" y="3437"/>
                    </a:lnTo>
                    <a:lnTo>
                      <a:pt x="1988" y="3356"/>
                    </a:lnTo>
                    <a:lnTo>
                      <a:pt x="2139" y="3256"/>
                    </a:lnTo>
                    <a:lnTo>
                      <a:pt x="2280" y="3142"/>
                    </a:lnTo>
                    <a:lnTo>
                      <a:pt x="2408" y="3013"/>
                    </a:lnTo>
                    <a:lnTo>
                      <a:pt x="2521" y="2871"/>
                    </a:lnTo>
                    <a:lnTo>
                      <a:pt x="2620" y="2713"/>
                    </a:lnTo>
                    <a:lnTo>
                      <a:pt x="2704" y="2552"/>
                    </a:lnTo>
                    <a:lnTo>
                      <a:pt x="2770" y="2385"/>
                    </a:lnTo>
                    <a:lnTo>
                      <a:pt x="2813" y="2204"/>
                    </a:lnTo>
                    <a:lnTo>
                      <a:pt x="2841" y="2023"/>
                    </a:lnTo>
                    <a:lnTo>
                      <a:pt x="2850" y="1841"/>
                    </a:lnTo>
                    <a:lnTo>
                      <a:pt x="2841" y="1656"/>
                    </a:lnTo>
                    <a:lnTo>
                      <a:pt x="2813" y="1475"/>
                    </a:lnTo>
                    <a:lnTo>
                      <a:pt x="2770" y="1299"/>
                    </a:lnTo>
                    <a:lnTo>
                      <a:pt x="2704" y="1132"/>
                    </a:lnTo>
                    <a:lnTo>
                      <a:pt x="2620" y="966"/>
                    </a:lnTo>
                    <a:lnTo>
                      <a:pt x="2521" y="813"/>
                    </a:lnTo>
                    <a:lnTo>
                      <a:pt x="2408" y="671"/>
                    </a:lnTo>
                    <a:lnTo>
                      <a:pt x="2280" y="542"/>
                    </a:lnTo>
                    <a:lnTo>
                      <a:pt x="2139" y="428"/>
                    </a:lnTo>
                    <a:lnTo>
                      <a:pt x="1988" y="328"/>
                    </a:lnTo>
                    <a:lnTo>
                      <a:pt x="1828" y="242"/>
                    </a:lnTo>
                    <a:lnTo>
                      <a:pt x="1659" y="180"/>
                    </a:lnTo>
                    <a:lnTo>
                      <a:pt x="1663" y="166"/>
                    </a:lnTo>
                    <a:lnTo>
                      <a:pt x="1715" y="0"/>
                    </a:lnTo>
                    <a:close/>
                  </a:path>
                </a:pathLst>
              </a:cu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37520" y="6372360"/>
                <a:ext cx="109440" cy="196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842320" y="5311800"/>
                <a:ext cx="36720" cy="77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V="1">
                <a:off x="8904240" y="5181480"/>
                <a:ext cx="39600" cy="7488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358120" y="6588000"/>
                <a:ext cx="638640" cy="117720"/>
              </a:xfrm>
              <a:custGeom>
                <a:avLst/>
                <a:gdLst/>
                <a:ahLst/>
                <a:rect l="0" t="0" r="r" b="b"/>
                <a:pathLst>
                  <a:path w="1774" h="327">
                    <a:moveTo>
                      <a:pt x="7" y="210"/>
                    </a:moveTo>
                    <a:lnTo>
                      <a:pt x="43" y="173"/>
                    </a:lnTo>
                    <a:lnTo>
                      <a:pt x="93" y="138"/>
                    </a:lnTo>
                    <a:lnTo>
                      <a:pt x="187" y="92"/>
                    </a:lnTo>
                    <a:lnTo>
                      <a:pt x="295" y="64"/>
                    </a:lnTo>
                    <a:lnTo>
                      <a:pt x="396" y="40"/>
                    </a:lnTo>
                    <a:lnTo>
                      <a:pt x="534" y="18"/>
                    </a:lnTo>
                    <a:lnTo>
                      <a:pt x="663" y="6"/>
                    </a:lnTo>
                    <a:lnTo>
                      <a:pt x="815" y="0"/>
                    </a:lnTo>
                    <a:lnTo>
                      <a:pt x="1002" y="3"/>
                    </a:lnTo>
                    <a:lnTo>
                      <a:pt x="1197" y="12"/>
                    </a:lnTo>
                    <a:lnTo>
                      <a:pt x="1335" y="30"/>
                    </a:lnTo>
                    <a:lnTo>
                      <a:pt x="1479" y="58"/>
                    </a:lnTo>
                    <a:lnTo>
                      <a:pt x="1616" y="101"/>
                    </a:lnTo>
                    <a:lnTo>
                      <a:pt x="1688" y="141"/>
                    </a:lnTo>
                    <a:lnTo>
                      <a:pt x="1731" y="176"/>
                    </a:lnTo>
                    <a:lnTo>
                      <a:pt x="1774" y="231"/>
                    </a:lnTo>
                    <a:lnTo>
                      <a:pt x="1702" y="262"/>
                    </a:lnTo>
                    <a:lnTo>
                      <a:pt x="1580" y="287"/>
                    </a:lnTo>
                    <a:lnTo>
                      <a:pt x="1428" y="302"/>
                    </a:lnTo>
                    <a:lnTo>
                      <a:pt x="1283" y="318"/>
                    </a:lnTo>
                    <a:lnTo>
                      <a:pt x="1110" y="324"/>
                    </a:lnTo>
                    <a:lnTo>
                      <a:pt x="923" y="327"/>
                    </a:lnTo>
                    <a:lnTo>
                      <a:pt x="743" y="327"/>
                    </a:lnTo>
                    <a:lnTo>
                      <a:pt x="555" y="324"/>
                    </a:lnTo>
                    <a:lnTo>
                      <a:pt x="345" y="308"/>
                    </a:lnTo>
                    <a:lnTo>
                      <a:pt x="180" y="290"/>
                    </a:lnTo>
                    <a:lnTo>
                      <a:pt x="43" y="259"/>
                    </a:lnTo>
                    <a:lnTo>
                      <a:pt x="0" y="234"/>
                    </a:lnTo>
                    <a:lnTo>
                      <a:pt x="7" y="210"/>
                    </a:lnTo>
                    <a:close/>
                  </a:path>
                </a:pathLst>
              </a:cu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8045280" y="5280120"/>
              <a:ext cx="1138320" cy="1149480"/>
            </a:xfrm>
            <a:prstGeom prst="ellipse">
              <a:avLst/>
            </a:prstGeom>
            <a:gradFill rotWithShape="0">
              <a:gsLst>
                <a:gs pos="0">
                  <a:srgbClr val="ccd3eb"/>
                </a:gs>
                <a:gs pos="100000">
                  <a:srgbClr val="00279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8045280" y="5400720"/>
              <a:ext cx="1056240" cy="851400"/>
              <a:chOff x="8045280" y="5400720"/>
              <a:chExt cx="1056240" cy="851400"/>
            </a:xfrm>
          </p:grpSpPr>
          <p:sp>
            <p:nvSpPr>
              <p:cNvPr id="11" name=""/>
              <p:cNvSpPr/>
              <p:nvPr/>
            </p:nvSpPr>
            <p:spPr>
              <a:xfrm>
                <a:off x="8196120" y="5711760"/>
                <a:ext cx="0" cy="10800"/>
              </a:xfrm>
              <a:custGeom>
                <a:avLst/>
                <a:gdLst/>
                <a:ahLst/>
                <a:rect l="0" t="0" r="r" b="b"/>
                <a:pathLst>
                  <a:path w="0" h="30">
                    <a:moveTo>
                      <a:pt x="0" y="0"/>
                    </a:moveTo>
                    <a:lnTo>
                      <a:pt x="0" y="30"/>
                    </a:lnTo>
                    <a:lnTo>
                      <a:pt x="0" y="30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004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213760" y="573732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w="14" h="14">
                    <a:moveTo>
                      <a:pt x="0" y="0"/>
                    </a:moveTo>
                    <a:lnTo>
                      <a:pt x="14" y="0"/>
                    </a:lnTo>
                    <a:lnTo>
                      <a:pt x="14" y="1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004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273880" y="5705640"/>
                <a:ext cx="38520" cy="36720"/>
              </a:xfrm>
              <a:custGeom>
                <a:avLst/>
                <a:gdLst/>
                <a:ahLst/>
                <a:rect l="0" t="0" r="r" b="b"/>
                <a:pathLst>
                  <a:path w="107" h="102">
                    <a:moveTo>
                      <a:pt x="107" y="0"/>
                    </a:moveTo>
                    <a:lnTo>
                      <a:pt x="65" y="0"/>
                    </a:lnTo>
                    <a:lnTo>
                      <a:pt x="44" y="27"/>
                    </a:lnTo>
                    <a:lnTo>
                      <a:pt x="28" y="27"/>
                    </a:lnTo>
                    <a:lnTo>
                      <a:pt x="15" y="40"/>
                    </a:lnTo>
                    <a:lnTo>
                      <a:pt x="0" y="40"/>
                    </a:lnTo>
                    <a:lnTo>
                      <a:pt x="0" y="77"/>
                    </a:lnTo>
                    <a:lnTo>
                      <a:pt x="25" y="102"/>
                    </a:lnTo>
                    <a:lnTo>
                      <a:pt x="88" y="102"/>
                    </a:lnTo>
                    <a:lnTo>
                      <a:pt x="107" y="77"/>
                    </a:lnTo>
                    <a:lnTo>
                      <a:pt x="10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004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045280" y="5734080"/>
                <a:ext cx="343440" cy="451080"/>
              </a:xfrm>
              <a:custGeom>
                <a:avLst/>
                <a:gdLst/>
                <a:ahLst/>
                <a:rect l="0" t="0" r="r" b="b"/>
                <a:pathLst>
                  <a:path w="954" h="1253">
                    <a:moveTo>
                      <a:pt x="226" y="0"/>
                    </a:moveTo>
                    <a:lnTo>
                      <a:pt x="209" y="33"/>
                    </a:lnTo>
                    <a:lnTo>
                      <a:pt x="136" y="99"/>
                    </a:lnTo>
                    <a:lnTo>
                      <a:pt x="117" y="161"/>
                    </a:lnTo>
                    <a:lnTo>
                      <a:pt x="62" y="203"/>
                    </a:lnTo>
                    <a:lnTo>
                      <a:pt x="25" y="288"/>
                    </a:lnTo>
                    <a:lnTo>
                      <a:pt x="25" y="339"/>
                    </a:lnTo>
                    <a:lnTo>
                      <a:pt x="0" y="428"/>
                    </a:lnTo>
                    <a:lnTo>
                      <a:pt x="33" y="466"/>
                    </a:lnTo>
                    <a:lnTo>
                      <a:pt x="119" y="581"/>
                    </a:lnTo>
                    <a:lnTo>
                      <a:pt x="144" y="566"/>
                    </a:lnTo>
                    <a:lnTo>
                      <a:pt x="294" y="566"/>
                    </a:lnTo>
                    <a:lnTo>
                      <a:pt x="366" y="594"/>
                    </a:lnTo>
                    <a:lnTo>
                      <a:pt x="357" y="682"/>
                    </a:lnTo>
                    <a:lnTo>
                      <a:pt x="410" y="801"/>
                    </a:lnTo>
                    <a:lnTo>
                      <a:pt x="405" y="833"/>
                    </a:lnTo>
                    <a:lnTo>
                      <a:pt x="426" y="869"/>
                    </a:lnTo>
                    <a:lnTo>
                      <a:pt x="395" y="951"/>
                    </a:lnTo>
                    <a:lnTo>
                      <a:pt x="433" y="1055"/>
                    </a:lnTo>
                    <a:lnTo>
                      <a:pt x="454" y="1138"/>
                    </a:lnTo>
                    <a:lnTo>
                      <a:pt x="479" y="1189"/>
                    </a:lnTo>
                    <a:lnTo>
                      <a:pt x="506" y="1253"/>
                    </a:lnTo>
                    <a:lnTo>
                      <a:pt x="556" y="1244"/>
                    </a:lnTo>
                    <a:lnTo>
                      <a:pt x="640" y="1198"/>
                    </a:lnTo>
                    <a:lnTo>
                      <a:pt x="678" y="1140"/>
                    </a:lnTo>
                    <a:lnTo>
                      <a:pt x="676" y="1102"/>
                    </a:lnTo>
                    <a:lnTo>
                      <a:pt x="725" y="1068"/>
                    </a:lnTo>
                    <a:lnTo>
                      <a:pt x="717" y="1013"/>
                    </a:lnTo>
                    <a:lnTo>
                      <a:pt x="790" y="924"/>
                    </a:lnTo>
                    <a:lnTo>
                      <a:pt x="801" y="852"/>
                    </a:lnTo>
                    <a:lnTo>
                      <a:pt x="782" y="826"/>
                    </a:lnTo>
                    <a:lnTo>
                      <a:pt x="790" y="796"/>
                    </a:lnTo>
                    <a:lnTo>
                      <a:pt x="774" y="769"/>
                    </a:lnTo>
                    <a:lnTo>
                      <a:pt x="828" y="699"/>
                    </a:lnTo>
                    <a:lnTo>
                      <a:pt x="828" y="663"/>
                    </a:lnTo>
                    <a:lnTo>
                      <a:pt x="906" y="602"/>
                    </a:lnTo>
                    <a:lnTo>
                      <a:pt x="954" y="441"/>
                    </a:lnTo>
                    <a:lnTo>
                      <a:pt x="885" y="483"/>
                    </a:lnTo>
                    <a:lnTo>
                      <a:pt x="822" y="464"/>
                    </a:lnTo>
                    <a:lnTo>
                      <a:pt x="830" y="426"/>
                    </a:lnTo>
                    <a:lnTo>
                      <a:pt x="769" y="384"/>
                    </a:lnTo>
                    <a:lnTo>
                      <a:pt x="740" y="282"/>
                    </a:lnTo>
                    <a:lnTo>
                      <a:pt x="680" y="199"/>
                    </a:lnTo>
                    <a:lnTo>
                      <a:pt x="680" y="140"/>
                    </a:lnTo>
                    <a:lnTo>
                      <a:pt x="649" y="137"/>
                    </a:lnTo>
                    <a:lnTo>
                      <a:pt x="628" y="146"/>
                    </a:lnTo>
                    <a:lnTo>
                      <a:pt x="538" y="114"/>
                    </a:lnTo>
                    <a:lnTo>
                      <a:pt x="515" y="137"/>
                    </a:lnTo>
                    <a:lnTo>
                      <a:pt x="496" y="167"/>
                    </a:lnTo>
                    <a:lnTo>
                      <a:pt x="447" y="112"/>
                    </a:lnTo>
                    <a:lnTo>
                      <a:pt x="401" y="99"/>
                    </a:lnTo>
                    <a:lnTo>
                      <a:pt x="397" y="31"/>
                    </a:lnTo>
                    <a:lnTo>
                      <a:pt x="328" y="42"/>
                    </a:lnTo>
                    <a:lnTo>
                      <a:pt x="286" y="27"/>
                    </a:lnTo>
                    <a:lnTo>
                      <a:pt x="22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004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836200" y="5846760"/>
                <a:ext cx="12960" cy="22680"/>
              </a:xfrm>
              <a:custGeom>
                <a:avLst/>
                <a:gdLst/>
                <a:ahLst/>
                <a:rect l="0" t="0" r="r" b="b"/>
                <a:pathLst>
                  <a:path w="36" h="63">
                    <a:moveTo>
                      <a:pt x="14" y="0"/>
                    </a:moveTo>
                    <a:lnTo>
                      <a:pt x="21" y="20"/>
                    </a:lnTo>
                    <a:lnTo>
                      <a:pt x="14" y="31"/>
                    </a:lnTo>
                    <a:lnTo>
                      <a:pt x="14" y="43"/>
                    </a:lnTo>
                    <a:lnTo>
                      <a:pt x="36" y="54"/>
                    </a:lnTo>
                    <a:lnTo>
                      <a:pt x="36" y="63"/>
                    </a:lnTo>
                    <a:lnTo>
                      <a:pt x="21" y="54"/>
                    </a:lnTo>
                    <a:lnTo>
                      <a:pt x="6" y="63"/>
                    </a:lnTo>
                    <a:lnTo>
                      <a:pt x="0" y="54"/>
                    </a:lnTo>
                    <a:lnTo>
                      <a:pt x="6" y="43"/>
                    </a:lnTo>
                    <a:lnTo>
                      <a:pt x="0" y="31"/>
                    </a:lnTo>
                    <a:lnTo>
                      <a:pt x="6" y="9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004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772480" y="5940360"/>
                <a:ext cx="49680" cy="74880"/>
              </a:xfrm>
              <a:custGeom>
                <a:avLst/>
                <a:gdLst/>
                <a:ahLst/>
                <a:rect l="0" t="0" r="r" b="b"/>
                <a:pathLst>
                  <a:path w="138" h="208">
                    <a:moveTo>
                      <a:pt x="0" y="105"/>
                    </a:moveTo>
                    <a:lnTo>
                      <a:pt x="50" y="105"/>
                    </a:lnTo>
                    <a:lnTo>
                      <a:pt x="107" y="0"/>
                    </a:lnTo>
                    <a:lnTo>
                      <a:pt x="138" y="59"/>
                    </a:lnTo>
                    <a:lnTo>
                      <a:pt x="114" y="208"/>
                    </a:lnTo>
                    <a:lnTo>
                      <a:pt x="11" y="173"/>
                    </a:lnTo>
                    <a:lnTo>
                      <a:pt x="0" y="10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004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874000" y="5970600"/>
                <a:ext cx="87840" cy="71640"/>
              </a:xfrm>
              <a:custGeom>
                <a:avLst/>
                <a:gdLst/>
                <a:ahLst/>
                <a:rect l="0" t="0" r="r" b="b"/>
                <a:pathLst>
                  <a:path w="244" h="199">
                    <a:moveTo>
                      <a:pt x="14" y="47"/>
                    </a:moveTo>
                    <a:lnTo>
                      <a:pt x="0" y="0"/>
                    </a:lnTo>
                    <a:lnTo>
                      <a:pt x="83" y="19"/>
                    </a:lnTo>
                    <a:lnTo>
                      <a:pt x="200" y="68"/>
                    </a:lnTo>
                    <a:lnTo>
                      <a:pt x="200" y="105"/>
                    </a:lnTo>
                    <a:lnTo>
                      <a:pt x="244" y="199"/>
                    </a:lnTo>
                    <a:lnTo>
                      <a:pt x="153" y="109"/>
                    </a:lnTo>
                    <a:lnTo>
                      <a:pt x="93" y="116"/>
                    </a:lnTo>
                    <a:lnTo>
                      <a:pt x="14" y="4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004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9043920" y="6116760"/>
                <a:ext cx="57600" cy="76680"/>
              </a:xfrm>
              <a:custGeom>
                <a:avLst/>
                <a:gdLst/>
                <a:ahLst/>
                <a:rect l="0" t="0" r="r" b="b"/>
                <a:pathLst>
                  <a:path w="160" h="213">
                    <a:moveTo>
                      <a:pt x="97" y="0"/>
                    </a:moveTo>
                    <a:lnTo>
                      <a:pt x="160" y="63"/>
                    </a:lnTo>
                    <a:lnTo>
                      <a:pt x="32" y="213"/>
                    </a:lnTo>
                    <a:lnTo>
                      <a:pt x="0" y="179"/>
                    </a:lnTo>
                    <a:lnTo>
                      <a:pt x="91" y="83"/>
                    </a:lnTo>
                    <a:lnTo>
                      <a:pt x="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004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153280" y="5587920"/>
                <a:ext cx="28800" cy="52920"/>
              </a:xfrm>
              <a:custGeom>
                <a:avLst/>
                <a:gdLst/>
                <a:ahLst/>
                <a:rect l="0" t="0" r="r" b="b"/>
                <a:pathLst>
                  <a:path w="80" h="147">
                    <a:moveTo>
                      <a:pt x="80" y="116"/>
                    </a:moveTo>
                    <a:lnTo>
                      <a:pt x="58" y="96"/>
                    </a:lnTo>
                    <a:lnTo>
                      <a:pt x="58" y="31"/>
                    </a:lnTo>
                    <a:lnTo>
                      <a:pt x="69" y="18"/>
                    </a:lnTo>
                    <a:lnTo>
                      <a:pt x="51" y="18"/>
                    </a:lnTo>
                    <a:lnTo>
                      <a:pt x="62" y="0"/>
                    </a:lnTo>
                    <a:lnTo>
                      <a:pt x="47" y="0"/>
                    </a:lnTo>
                    <a:lnTo>
                      <a:pt x="28" y="20"/>
                    </a:lnTo>
                    <a:lnTo>
                      <a:pt x="28" y="61"/>
                    </a:lnTo>
                    <a:lnTo>
                      <a:pt x="37" y="69"/>
                    </a:lnTo>
                    <a:lnTo>
                      <a:pt x="37" y="88"/>
                    </a:lnTo>
                    <a:lnTo>
                      <a:pt x="32" y="88"/>
                    </a:lnTo>
                    <a:lnTo>
                      <a:pt x="18" y="102"/>
                    </a:lnTo>
                    <a:lnTo>
                      <a:pt x="18" y="120"/>
                    </a:lnTo>
                    <a:lnTo>
                      <a:pt x="0" y="147"/>
                    </a:lnTo>
                    <a:lnTo>
                      <a:pt x="60" y="147"/>
                    </a:lnTo>
                    <a:lnTo>
                      <a:pt x="8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004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142120" y="5605560"/>
                <a:ext cx="14760" cy="16200"/>
              </a:xfrm>
              <a:custGeom>
                <a:avLst/>
                <a:gdLst/>
                <a:ahLst/>
                <a:rect l="0" t="0" r="r" b="b"/>
                <a:pathLst>
                  <a:path w="41" h="45">
                    <a:moveTo>
                      <a:pt x="35" y="15"/>
                    </a:moveTo>
                    <a:lnTo>
                      <a:pt x="41" y="15"/>
                    </a:lnTo>
                    <a:lnTo>
                      <a:pt x="41" y="0"/>
                    </a:lnTo>
                    <a:lnTo>
                      <a:pt x="26" y="0"/>
                    </a:lnTo>
                    <a:lnTo>
                      <a:pt x="0" y="29"/>
                    </a:lnTo>
                    <a:lnTo>
                      <a:pt x="0" y="45"/>
                    </a:lnTo>
                    <a:lnTo>
                      <a:pt x="25" y="45"/>
                    </a:lnTo>
                    <a:lnTo>
                      <a:pt x="35" y="34"/>
                    </a:lnTo>
                    <a:lnTo>
                      <a:pt x="35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004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116920" y="5576760"/>
                <a:ext cx="195480" cy="165600"/>
              </a:xfrm>
              <a:custGeom>
                <a:avLst/>
                <a:gdLst/>
                <a:ahLst/>
                <a:rect l="0" t="0" r="r" b="b"/>
                <a:pathLst>
                  <a:path w="543" h="460">
                    <a:moveTo>
                      <a:pt x="358" y="0"/>
                    </a:moveTo>
                    <a:lnTo>
                      <a:pt x="358" y="31"/>
                    </a:lnTo>
                    <a:lnTo>
                      <a:pt x="368" y="43"/>
                    </a:lnTo>
                    <a:lnTo>
                      <a:pt x="427" y="43"/>
                    </a:lnTo>
                    <a:lnTo>
                      <a:pt x="427" y="60"/>
                    </a:lnTo>
                    <a:lnTo>
                      <a:pt x="385" y="60"/>
                    </a:lnTo>
                    <a:lnTo>
                      <a:pt x="385" y="109"/>
                    </a:lnTo>
                    <a:lnTo>
                      <a:pt x="366" y="87"/>
                    </a:lnTo>
                    <a:lnTo>
                      <a:pt x="366" y="121"/>
                    </a:lnTo>
                    <a:lnTo>
                      <a:pt x="341" y="150"/>
                    </a:lnTo>
                    <a:lnTo>
                      <a:pt x="324" y="133"/>
                    </a:lnTo>
                    <a:lnTo>
                      <a:pt x="299" y="154"/>
                    </a:lnTo>
                    <a:lnTo>
                      <a:pt x="295" y="148"/>
                    </a:lnTo>
                    <a:lnTo>
                      <a:pt x="260" y="148"/>
                    </a:lnTo>
                    <a:lnTo>
                      <a:pt x="280" y="127"/>
                    </a:lnTo>
                    <a:lnTo>
                      <a:pt x="280" y="119"/>
                    </a:lnTo>
                    <a:lnTo>
                      <a:pt x="262" y="101"/>
                    </a:lnTo>
                    <a:lnTo>
                      <a:pt x="262" y="78"/>
                    </a:lnTo>
                    <a:lnTo>
                      <a:pt x="241" y="101"/>
                    </a:lnTo>
                    <a:lnTo>
                      <a:pt x="241" y="148"/>
                    </a:lnTo>
                    <a:lnTo>
                      <a:pt x="216" y="148"/>
                    </a:lnTo>
                    <a:lnTo>
                      <a:pt x="185" y="179"/>
                    </a:lnTo>
                    <a:lnTo>
                      <a:pt x="172" y="179"/>
                    </a:lnTo>
                    <a:lnTo>
                      <a:pt x="155" y="202"/>
                    </a:lnTo>
                    <a:lnTo>
                      <a:pt x="90" y="202"/>
                    </a:lnTo>
                    <a:lnTo>
                      <a:pt x="113" y="231"/>
                    </a:lnTo>
                    <a:lnTo>
                      <a:pt x="113" y="279"/>
                    </a:lnTo>
                    <a:lnTo>
                      <a:pt x="92" y="306"/>
                    </a:lnTo>
                    <a:lnTo>
                      <a:pt x="65" y="279"/>
                    </a:lnTo>
                    <a:lnTo>
                      <a:pt x="16" y="279"/>
                    </a:lnTo>
                    <a:lnTo>
                      <a:pt x="16" y="312"/>
                    </a:lnTo>
                    <a:lnTo>
                      <a:pt x="0" y="333"/>
                    </a:lnTo>
                    <a:lnTo>
                      <a:pt x="0" y="379"/>
                    </a:lnTo>
                    <a:lnTo>
                      <a:pt x="31" y="414"/>
                    </a:lnTo>
                    <a:lnTo>
                      <a:pt x="77" y="414"/>
                    </a:lnTo>
                    <a:lnTo>
                      <a:pt x="151" y="326"/>
                    </a:lnTo>
                    <a:lnTo>
                      <a:pt x="214" y="326"/>
                    </a:lnTo>
                    <a:lnTo>
                      <a:pt x="222" y="310"/>
                    </a:lnTo>
                    <a:lnTo>
                      <a:pt x="237" y="326"/>
                    </a:lnTo>
                    <a:lnTo>
                      <a:pt x="235" y="343"/>
                    </a:lnTo>
                    <a:lnTo>
                      <a:pt x="297" y="404"/>
                    </a:lnTo>
                    <a:lnTo>
                      <a:pt x="297" y="431"/>
                    </a:lnTo>
                    <a:lnTo>
                      <a:pt x="310" y="419"/>
                    </a:lnTo>
                    <a:lnTo>
                      <a:pt x="303" y="404"/>
                    </a:lnTo>
                    <a:lnTo>
                      <a:pt x="310" y="396"/>
                    </a:lnTo>
                    <a:lnTo>
                      <a:pt x="320" y="404"/>
                    </a:lnTo>
                    <a:lnTo>
                      <a:pt x="324" y="402"/>
                    </a:lnTo>
                    <a:lnTo>
                      <a:pt x="260" y="324"/>
                    </a:lnTo>
                    <a:lnTo>
                      <a:pt x="260" y="297"/>
                    </a:lnTo>
                    <a:lnTo>
                      <a:pt x="280" y="297"/>
                    </a:lnTo>
                    <a:lnTo>
                      <a:pt x="280" y="312"/>
                    </a:lnTo>
                    <a:lnTo>
                      <a:pt x="341" y="381"/>
                    </a:lnTo>
                    <a:lnTo>
                      <a:pt x="341" y="402"/>
                    </a:lnTo>
                    <a:lnTo>
                      <a:pt x="366" y="433"/>
                    </a:lnTo>
                    <a:lnTo>
                      <a:pt x="360" y="439"/>
                    </a:lnTo>
                    <a:lnTo>
                      <a:pt x="379" y="460"/>
                    </a:lnTo>
                    <a:lnTo>
                      <a:pt x="406" y="429"/>
                    </a:lnTo>
                    <a:lnTo>
                      <a:pt x="389" y="408"/>
                    </a:lnTo>
                    <a:lnTo>
                      <a:pt x="406" y="390"/>
                    </a:lnTo>
                    <a:lnTo>
                      <a:pt x="429" y="390"/>
                    </a:lnTo>
                    <a:lnTo>
                      <a:pt x="440" y="379"/>
                    </a:lnTo>
                    <a:lnTo>
                      <a:pt x="457" y="379"/>
                    </a:lnTo>
                    <a:lnTo>
                      <a:pt x="436" y="352"/>
                    </a:lnTo>
                    <a:lnTo>
                      <a:pt x="446" y="337"/>
                    </a:lnTo>
                    <a:lnTo>
                      <a:pt x="446" y="293"/>
                    </a:lnTo>
                    <a:lnTo>
                      <a:pt x="467" y="270"/>
                    </a:lnTo>
                    <a:lnTo>
                      <a:pt x="476" y="279"/>
                    </a:lnTo>
                    <a:lnTo>
                      <a:pt x="495" y="279"/>
                    </a:lnTo>
                    <a:lnTo>
                      <a:pt x="486" y="291"/>
                    </a:lnTo>
                    <a:lnTo>
                      <a:pt x="503" y="310"/>
                    </a:lnTo>
                    <a:lnTo>
                      <a:pt x="513" y="293"/>
                    </a:lnTo>
                    <a:lnTo>
                      <a:pt x="526" y="293"/>
                    </a:lnTo>
                    <a:lnTo>
                      <a:pt x="526" y="287"/>
                    </a:lnTo>
                    <a:lnTo>
                      <a:pt x="520" y="287"/>
                    </a:lnTo>
                    <a:lnTo>
                      <a:pt x="509" y="279"/>
                    </a:lnTo>
                    <a:lnTo>
                      <a:pt x="537" y="243"/>
                    </a:lnTo>
                    <a:lnTo>
                      <a:pt x="537" y="293"/>
                    </a:lnTo>
                    <a:lnTo>
                      <a:pt x="543" y="293"/>
                    </a:lnTo>
                    <a:lnTo>
                      <a:pt x="543" y="0"/>
                    </a:lnTo>
                    <a:lnTo>
                      <a:pt x="35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004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202600" y="5400720"/>
                <a:ext cx="825840" cy="590760"/>
              </a:xfrm>
              <a:custGeom>
                <a:avLst/>
                <a:gdLst/>
                <a:ahLst/>
                <a:rect l="0" t="0" r="r" b="b"/>
                <a:pathLst>
                  <a:path w="2294" h="1641">
                    <a:moveTo>
                      <a:pt x="0" y="482"/>
                    </a:moveTo>
                    <a:lnTo>
                      <a:pt x="67" y="431"/>
                    </a:lnTo>
                    <a:lnTo>
                      <a:pt x="130" y="333"/>
                    </a:lnTo>
                    <a:lnTo>
                      <a:pt x="208" y="286"/>
                    </a:lnTo>
                    <a:lnTo>
                      <a:pt x="288" y="342"/>
                    </a:lnTo>
                    <a:lnTo>
                      <a:pt x="299" y="386"/>
                    </a:lnTo>
                    <a:lnTo>
                      <a:pt x="280" y="386"/>
                    </a:lnTo>
                    <a:lnTo>
                      <a:pt x="248" y="382"/>
                    </a:lnTo>
                    <a:lnTo>
                      <a:pt x="288" y="431"/>
                    </a:lnTo>
                    <a:lnTo>
                      <a:pt x="455" y="367"/>
                    </a:lnTo>
                    <a:lnTo>
                      <a:pt x="434" y="318"/>
                    </a:lnTo>
                    <a:lnTo>
                      <a:pt x="505" y="235"/>
                    </a:lnTo>
                    <a:lnTo>
                      <a:pt x="552" y="237"/>
                    </a:lnTo>
                    <a:lnTo>
                      <a:pt x="507" y="265"/>
                    </a:lnTo>
                    <a:lnTo>
                      <a:pt x="469" y="327"/>
                    </a:lnTo>
                    <a:lnTo>
                      <a:pt x="469" y="367"/>
                    </a:lnTo>
                    <a:lnTo>
                      <a:pt x="537" y="412"/>
                    </a:lnTo>
                    <a:lnTo>
                      <a:pt x="634" y="284"/>
                    </a:lnTo>
                    <a:lnTo>
                      <a:pt x="971" y="133"/>
                    </a:lnTo>
                    <a:lnTo>
                      <a:pt x="969" y="48"/>
                    </a:lnTo>
                    <a:lnTo>
                      <a:pt x="1123" y="16"/>
                    </a:lnTo>
                    <a:lnTo>
                      <a:pt x="1210" y="61"/>
                    </a:lnTo>
                    <a:lnTo>
                      <a:pt x="1415" y="0"/>
                    </a:lnTo>
                    <a:lnTo>
                      <a:pt x="1478" y="31"/>
                    </a:lnTo>
                    <a:lnTo>
                      <a:pt x="1615" y="180"/>
                    </a:lnTo>
                    <a:lnTo>
                      <a:pt x="1771" y="150"/>
                    </a:lnTo>
                    <a:lnTo>
                      <a:pt x="1868" y="203"/>
                    </a:lnTo>
                    <a:lnTo>
                      <a:pt x="2110" y="193"/>
                    </a:lnTo>
                    <a:lnTo>
                      <a:pt x="2294" y="252"/>
                    </a:lnTo>
                    <a:lnTo>
                      <a:pt x="2277" y="333"/>
                    </a:lnTo>
                    <a:lnTo>
                      <a:pt x="2121" y="386"/>
                    </a:lnTo>
                    <a:lnTo>
                      <a:pt x="2148" y="439"/>
                    </a:lnTo>
                    <a:lnTo>
                      <a:pt x="2081" y="469"/>
                    </a:lnTo>
                    <a:lnTo>
                      <a:pt x="2076" y="575"/>
                    </a:lnTo>
                    <a:lnTo>
                      <a:pt x="2017" y="650"/>
                    </a:lnTo>
                    <a:lnTo>
                      <a:pt x="1992" y="582"/>
                    </a:lnTo>
                    <a:lnTo>
                      <a:pt x="2026" y="520"/>
                    </a:lnTo>
                    <a:lnTo>
                      <a:pt x="2020" y="393"/>
                    </a:lnTo>
                    <a:lnTo>
                      <a:pt x="1958" y="458"/>
                    </a:lnTo>
                    <a:lnTo>
                      <a:pt x="1910" y="495"/>
                    </a:lnTo>
                    <a:lnTo>
                      <a:pt x="1864" y="437"/>
                    </a:lnTo>
                    <a:lnTo>
                      <a:pt x="1830" y="582"/>
                    </a:lnTo>
                    <a:lnTo>
                      <a:pt x="1866" y="582"/>
                    </a:lnTo>
                    <a:lnTo>
                      <a:pt x="1857" y="679"/>
                    </a:lnTo>
                    <a:lnTo>
                      <a:pt x="1815" y="781"/>
                    </a:lnTo>
                    <a:lnTo>
                      <a:pt x="1765" y="823"/>
                    </a:lnTo>
                    <a:lnTo>
                      <a:pt x="1807" y="891"/>
                    </a:lnTo>
                    <a:lnTo>
                      <a:pt x="1779" y="938"/>
                    </a:lnTo>
                    <a:lnTo>
                      <a:pt x="1769" y="897"/>
                    </a:lnTo>
                    <a:lnTo>
                      <a:pt x="1769" y="882"/>
                    </a:lnTo>
                    <a:lnTo>
                      <a:pt x="1735" y="859"/>
                    </a:lnTo>
                    <a:lnTo>
                      <a:pt x="1680" y="889"/>
                    </a:lnTo>
                    <a:lnTo>
                      <a:pt x="1729" y="1001"/>
                    </a:lnTo>
                    <a:lnTo>
                      <a:pt x="1746" y="1061"/>
                    </a:lnTo>
                    <a:lnTo>
                      <a:pt x="1689" y="1216"/>
                    </a:lnTo>
                    <a:lnTo>
                      <a:pt x="1583" y="1258"/>
                    </a:lnTo>
                    <a:lnTo>
                      <a:pt x="1497" y="1250"/>
                    </a:lnTo>
                    <a:lnTo>
                      <a:pt x="1539" y="1314"/>
                    </a:lnTo>
                    <a:lnTo>
                      <a:pt x="1543" y="1403"/>
                    </a:lnTo>
                    <a:lnTo>
                      <a:pt x="1482" y="1509"/>
                    </a:lnTo>
                    <a:lnTo>
                      <a:pt x="1413" y="1452"/>
                    </a:lnTo>
                    <a:lnTo>
                      <a:pt x="1402" y="1513"/>
                    </a:lnTo>
                    <a:lnTo>
                      <a:pt x="1455" y="1564"/>
                    </a:lnTo>
                    <a:lnTo>
                      <a:pt x="1499" y="1641"/>
                    </a:lnTo>
                    <a:lnTo>
                      <a:pt x="1425" y="1596"/>
                    </a:lnTo>
                    <a:lnTo>
                      <a:pt x="1337" y="1337"/>
                    </a:lnTo>
                    <a:lnTo>
                      <a:pt x="1229" y="1267"/>
                    </a:lnTo>
                    <a:lnTo>
                      <a:pt x="1149" y="1273"/>
                    </a:lnTo>
                    <a:lnTo>
                      <a:pt x="1047" y="1420"/>
                    </a:lnTo>
                    <a:lnTo>
                      <a:pt x="1060" y="1473"/>
                    </a:lnTo>
                    <a:lnTo>
                      <a:pt x="1026" y="1577"/>
                    </a:lnTo>
                    <a:lnTo>
                      <a:pt x="992" y="1577"/>
                    </a:lnTo>
                    <a:lnTo>
                      <a:pt x="876" y="1358"/>
                    </a:lnTo>
                    <a:lnTo>
                      <a:pt x="876" y="1265"/>
                    </a:lnTo>
                    <a:lnTo>
                      <a:pt x="851" y="1299"/>
                    </a:lnTo>
                    <a:lnTo>
                      <a:pt x="786" y="1297"/>
                    </a:lnTo>
                    <a:lnTo>
                      <a:pt x="811" y="1239"/>
                    </a:lnTo>
                    <a:lnTo>
                      <a:pt x="708" y="1165"/>
                    </a:lnTo>
                    <a:lnTo>
                      <a:pt x="579" y="1165"/>
                    </a:lnTo>
                    <a:lnTo>
                      <a:pt x="469" y="1091"/>
                    </a:lnTo>
                    <a:lnTo>
                      <a:pt x="463" y="1165"/>
                    </a:lnTo>
                    <a:lnTo>
                      <a:pt x="554" y="1233"/>
                    </a:lnTo>
                    <a:lnTo>
                      <a:pt x="585" y="1231"/>
                    </a:lnTo>
                    <a:lnTo>
                      <a:pt x="493" y="1324"/>
                    </a:lnTo>
                    <a:lnTo>
                      <a:pt x="400" y="1346"/>
                    </a:lnTo>
                    <a:lnTo>
                      <a:pt x="400" y="1292"/>
                    </a:lnTo>
                    <a:lnTo>
                      <a:pt x="267" y="1108"/>
                    </a:lnTo>
                    <a:lnTo>
                      <a:pt x="250" y="1059"/>
                    </a:lnTo>
                    <a:lnTo>
                      <a:pt x="322" y="997"/>
                    </a:lnTo>
                    <a:lnTo>
                      <a:pt x="314" y="923"/>
                    </a:lnTo>
                    <a:lnTo>
                      <a:pt x="314" y="840"/>
                    </a:lnTo>
                    <a:lnTo>
                      <a:pt x="349" y="823"/>
                    </a:lnTo>
                    <a:lnTo>
                      <a:pt x="314" y="781"/>
                    </a:lnTo>
                    <a:lnTo>
                      <a:pt x="314" y="482"/>
                    </a:lnTo>
                    <a:lnTo>
                      <a:pt x="128" y="482"/>
                    </a:lnTo>
                    <a:lnTo>
                      <a:pt x="181" y="412"/>
                    </a:lnTo>
                    <a:lnTo>
                      <a:pt x="177" y="386"/>
                    </a:lnTo>
                    <a:lnTo>
                      <a:pt x="115" y="448"/>
                    </a:lnTo>
                    <a:lnTo>
                      <a:pt x="94" y="482"/>
                    </a:lnTo>
                    <a:lnTo>
                      <a:pt x="0" y="4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004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53480" y="5643720"/>
                <a:ext cx="70200" cy="117720"/>
              </a:xfrm>
              <a:custGeom>
                <a:avLst/>
                <a:gdLst/>
                <a:ahLst/>
                <a:rect l="0" t="0" r="r" b="b"/>
                <a:pathLst>
                  <a:path w="195" h="327">
                    <a:moveTo>
                      <a:pt x="131" y="0"/>
                    </a:moveTo>
                    <a:lnTo>
                      <a:pt x="131" y="42"/>
                    </a:lnTo>
                    <a:lnTo>
                      <a:pt x="115" y="68"/>
                    </a:lnTo>
                    <a:lnTo>
                      <a:pt x="119" y="112"/>
                    </a:lnTo>
                    <a:lnTo>
                      <a:pt x="99" y="173"/>
                    </a:lnTo>
                    <a:lnTo>
                      <a:pt x="65" y="227"/>
                    </a:lnTo>
                    <a:lnTo>
                      <a:pt x="13" y="263"/>
                    </a:lnTo>
                    <a:lnTo>
                      <a:pt x="0" y="323"/>
                    </a:lnTo>
                    <a:lnTo>
                      <a:pt x="21" y="327"/>
                    </a:lnTo>
                    <a:lnTo>
                      <a:pt x="21" y="271"/>
                    </a:lnTo>
                    <a:lnTo>
                      <a:pt x="91" y="267"/>
                    </a:lnTo>
                    <a:lnTo>
                      <a:pt x="145" y="229"/>
                    </a:lnTo>
                    <a:lnTo>
                      <a:pt x="145" y="150"/>
                    </a:lnTo>
                    <a:lnTo>
                      <a:pt x="161" y="122"/>
                    </a:lnTo>
                    <a:lnTo>
                      <a:pt x="133" y="72"/>
                    </a:lnTo>
                    <a:lnTo>
                      <a:pt x="171" y="56"/>
                    </a:lnTo>
                    <a:lnTo>
                      <a:pt x="195" y="16"/>
                    </a:lnTo>
                    <a:lnTo>
                      <a:pt x="145" y="24"/>
                    </a:lnTo>
                    <a:lnTo>
                      <a:pt x="1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004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583480" y="5965920"/>
                <a:ext cx="14760" cy="25920"/>
              </a:xfrm>
              <a:custGeom>
                <a:avLst/>
                <a:gdLst/>
                <a:ahLst/>
                <a:rect l="0" t="0" r="r" b="b"/>
                <a:pathLst>
                  <a:path w="41" h="72">
                    <a:moveTo>
                      <a:pt x="19" y="0"/>
                    </a:moveTo>
                    <a:lnTo>
                      <a:pt x="0" y="32"/>
                    </a:lnTo>
                    <a:lnTo>
                      <a:pt x="14" y="72"/>
                    </a:lnTo>
                    <a:lnTo>
                      <a:pt x="41" y="42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004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694720" y="5994360"/>
                <a:ext cx="165600" cy="70200"/>
              </a:xfrm>
              <a:custGeom>
                <a:avLst/>
                <a:gdLst/>
                <a:ahLst/>
                <a:rect l="0" t="0" r="r" b="b"/>
                <a:pathLst>
                  <a:path w="460" h="195">
                    <a:moveTo>
                      <a:pt x="0" y="0"/>
                    </a:moveTo>
                    <a:lnTo>
                      <a:pt x="69" y="13"/>
                    </a:lnTo>
                    <a:lnTo>
                      <a:pt x="172" y="86"/>
                    </a:lnTo>
                    <a:lnTo>
                      <a:pt x="158" y="126"/>
                    </a:lnTo>
                    <a:lnTo>
                      <a:pt x="242" y="161"/>
                    </a:lnTo>
                    <a:lnTo>
                      <a:pt x="460" y="161"/>
                    </a:lnTo>
                    <a:lnTo>
                      <a:pt x="222" y="195"/>
                    </a:lnTo>
                    <a:lnTo>
                      <a:pt x="158" y="126"/>
                    </a:lnTo>
                    <a:lnTo>
                      <a:pt x="96" y="1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004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825040" y="6054840"/>
                <a:ext cx="179640" cy="167040"/>
              </a:xfrm>
              <a:custGeom>
                <a:avLst/>
                <a:gdLst/>
                <a:ahLst/>
                <a:rect l="0" t="0" r="r" b="b"/>
                <a:pathLst>
                  <a:path w="499" h="464">
                    <a:moveTo>
                      <a:pt x="415" y="453"/>
                    </a:moveTo>
                    <a:lnTo>
                      <a:pt x="402" y="455"/>
                    </a:lnTo>
                    <a:lnTo>
                      <a:pt x="392" y="464"/>
                    </a:lnTo>
                    <a:lnTo>
                      <a:pt x="379" y="447"/>
                    </a:lnTo>
                    <a:lnTo>
                      <a:pt x="335" y="427"/>
                    </a:lnTo>
                    <a:lnTo>
                      <a:pt x="327" y="394"/>
                    </a:lnTo>
                    <a:lnTo>
                      <a:pt x="312" y="384"/>
                    </a:lnTo>
                    <a:lnTo>
                      <a:pt x="277" y="384"/>
                    </a:lnTo>
                    <a:lnTo>
                      <a:pt x="277" y="359"/>
                    </a:lnTo>
                    <a:lnTo>
                      <a:pt x="264" y="353"/>
                    </a:lnTo>
                    <a:lnTo>
                      <a:pt x="262" y="330"/>
                    </a:lnTo>
                    <a:lnTo>
                      <a:pt x="232" y="326"/>
                    </a:lnTo>
                    <a:lnTo>
                      <a:pt x="207" y="320"/>
                    </a:lnTo>
                    <a:lnTo>
                      <a:pt x="184" y="326"/>
                    </a:lnTo>
                    <a:lnTo>
                      <a:pt x="184" y="330"/>
                    </a:lnTo>
                    <a:lnTo>
                      <a:pt x="131" y="347"/>
                    </a:lnTo>
                    <a:lnTo>
                      <a:pt x="131" y="357"/>
                    </a:lnTo>
                    <a:lnTo>
                      <a:pt x="85" y="357"/>
                    </a:lnTo>
                    <a:lnTo>
                      <a:pt x="58" y="371"/>
                    </a:lnTo>
                    <a:lnTo>
                      <a:pt x="31" y="357"/>
                    </a:lnTo>
                    <a:lnTo>
                      <a:pt x="29" y="353"/>
                    </a:lnTo>
                    <a:lnTo>
                      <a:pt x="29" y="320"/>
                    </a:lnTo>
                    <a:lnTo>
                      <a:pt x="20" y="293"/>
                    </a:lnTo>
                    <a:lnTo>
                      <a:pt x="10" y="267"/>
                    </a:lnTo>
                    <a:lnTo>
                      <a:pt x="16" y="248"/>
                    </a:lnTo>
                    <a:lnTo>
                      <a:pt x="6" y="240"/>
                    </a:lnTo>
                    <a:lnTo>
                      <a:pt x="0" y="196"/>
                    </a:lnTo>
                    <a:lnTo>
                      <a:pt x="6" y="165"/>
                    </a:lnTo>
                    <a:lnTo>
                      <a:pt x="33" y="143"/>
                    </a:lnTo>
                    <a:lnTo>
                      <a:pt x="94" y="127"/>
                    </a:lnTo>
                    <a:lnTo>
                      <a:pt x="108" y="106"/>
                    </a:lnTo>
                    <a:lnTo>
                      <a:pt x="102" y="86"/>
                    </a:lnTo>
                    <a:lnTo>
                      <a:pt x="117" y="79"/>
                    </a:lnTo>
                    <a:lnTo>
                      <a:pt x="121" y="90"/>
                    </a:lnTo>
                    <a:lnTo>
                      <a:pt x="127" y="73"/>
                    </a:lnTo>
                    <a:lnTo>
                      <a:pt x="163" y="47"/>
                    </a:lnTo>
                    <a:lnTo>
                      <a:pt x="184" y="59"/>
                    </a:lnTo>
                    <a:lnTo>
                      <a:pt x="207" y="53"/>
                    </a:lnTo>
                    <a:lnTo>
                      <a:pt x="215" y="26"/>
                    </a:lnTo>
                    <a:lnTo>
                      <a:pt x="238" y="20"/>
                    </a:lnTo>
                    <a:lnTo>
                      <a:pt x="232" y="4"/>
                    </a:lnTo>
                    <a:lnTo>
                      <a:pt x="266" y="16"/>
                    </a:lnTo>
                    <a:lnTo>
                      <a:pt x="294" y="10"/>
                    </a:lnTo>
                    <a:lnTo>
                      <a:pt x="308" y="71"/>
                    </a:lnTo>
                    <a:lnTo>
                      <a:pt x="327" y="90"/>
                    </a:lnTo>
                    <a:lnTo>
                      <a:pt x="346" y="90"/>
                    </a:lnTo>
                    <a:lnTo>
                      <a:pt x="354" y="53"/>
                    </a:lnTo>
                    <a:lnTo>
                      <a:pt x="350" y="32"/>
                    </a:lnTo>
                    <a:lnTo>
                      <a:pt x="354" y="4"/>
                    </a:lnTo>
                    <a:lnTo>
                      <a:pt x="365" y="0"/>
                    </a:lnTo>
                    <a:lnTo>
                      <a:pt x="379" y="36"/>
                    </a:lnTo>
                    <a:lnTo>
                      <a:pt x="392" y="47"/>
                    </a:lnTo>
                    <a:lnTo>
                      <a:pt x="400" y="79"/>
                    </a:lnTo>
                    <a:lnTo>
                      <a:pt x="415" y="127"/>
                    </a:lnTo>
                    <a:lnTo>
                      <a:pt x="438" y="139"/>
                    </a:lnTo>
                    <a:lnTo>
                      <a:pt x="465" y="174"/>
                    </a:lnTo>
                    <a:lnTo>
                      <a:pt x="469" y="190"/>
                    </a:lnTo>
                    <a:lnTo>
                      <a:pt x="493" y="213"/>
                    </a:lnTo>
                    <a:lnTo>
                      <a:pt x="499" y="250"/>
                    </a:lnTo>
                    <a:lnTo>
                      <a:pt x="499" y="281"/>
                    </a:lnTo>
                    <a:lnTo>
                      <a:pt x="493" y="326"/>
                    </a:lnTo>
                    <a:lnTo>
                      <a:pt x="469" y="357"/>
                    </a:lnTo>
                    <a:lnTo>
                      <a:pt x="461" y="394"/>
                    </a:lnTo>
                    <a:lnTo>
                      <a:pt x="461" y="427"/>
                    </a:lnTo>
                    <a:lnTo>
                      <a:pt x="438" y="433"/>
                    </a:lnTo>
                    <a:lnTo>
                      <a:pt x="415" y="4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004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969400" y="6232680"/>
                <a:ext cx="12960" cy="19440"/>
              </a:xfrm>
              <a:custGeom>
                <a:avLst/>
                <a:gdLst/>
                <a:ahLst/>
                <a:rect l="0" t="0" r="r" b="b"/>
                <a:pathLst>
                  <a:path w="36" h="54">
                    <a:moveTo>
                      <a:pt x="17" y="49"/>
                    </a:moveTo>
                    <a:lnTo>
                      <a:pt x="6" y="41"/>
                    </a:lnTo>
                    <a:lnTo>
                      <a:pt x="6" y="31"/>
                    </a:lnTo>
                    <a:lnTo>
                      <a:pt x="6" y="23"/>
                    </a:lnTo>
                    <a:lnTo>
                      <a:pt x="3" y="1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7" y="8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6" y="0"/>
                    </a:lnTo>
                    <a:lnTo>
                      <a:pt x="36" y="23"/>
                    </a:lnTo>
                    <a:lnTo>
                      <a:pt x="31" y="31"/>
                    </a:lnTo>
                    <a:lnTo>
                      <a:pt x="28" y="41"/>
                    </a:lnTo>
                    <a:lnTo>
                      <a:pt x="28" y="46"/>
                    </a:lnTo>
                    <a:lnTo>
                      <a:pt x="25" y="49"/>
                    </a:lnTo>
                    <a:lnTo>
                      <a:pt x="25" y="54"/>
                    </a:lnTo>
                    <a:lnTo>
                      <a:pt x="17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004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344080" y="6037200"/>
                <a:ext cx="19440" cy="81360"/>
              </a:xfrm>
              <a:custGeom>
                <a:avLst/>
                <a:gdLst/>
                <a:ahLst/>
                <a:rect l="0" t="0" r="r" b="b"/>
                <a:pathLst>
                  <a:path w="54" h="226">
                    <a:moveTo>
                      <a:pt x="7" y="79"/>
                    </a:moveTo>
                    <a:lnTo>
                      <a:pt x="27" y="60"/>
                    </a:lnTo>
                    <a:lnTo>
                      <a:pt x="44" y="0"/>
                    </a:lnTo>
                    <a:lnTo>
                      <a:pt x="54" y="91"/>
                    </a:lnTo>
                    <a:lnTo>
                      <a:pt x="36" y="204"/>
                    </a:lnTo>
                    <a:lnTo>
                      <a:pt x="0" y="226"/>
                    </a:lnTo>
                    <a:lnTo>
                      <a:pt x="0" y="173"/>
                    </a:lnTo>
                    <a:lnTo>
                      <a:pt x="10" y="137"/>
                    </a:lnTo>
                    <a:lnTo>
                      <a:pt x="7" y="7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004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" name=""/>
          <p:cNvGrpSpPr/>
          <p:nvPr/>
        </p:nvGrpSpPr>
        <p:grpSpPr>
          <a:xfrm>
            <a:off x="666720" y="388800"/>
            <a:ext cx="1243440" cy="981360"/>
            <a:chOff x="666720" y="388800"/>
            <a:chExt cx="1243440" cy="981360"/>
          </a:xfrm>
        </p:grpSpPr>
        <p:sp>
          <p:nvSpPr>
            <p:cNvPr id="30" name=""/>
            <p:cNvSpPr/>
            <p:nvPr/>
          </p:nvSpPr>
          <p:spPr>
            <a:xfrm>
              <a:off x="666720" y="388800"/>
              <a:ext cx="1243440" cy="981360"/>
            </a:xfrm>
            <a:custGeom>
              <a:avLst/>
              <a:gdLst/>
              <a:ahLst/>
              <a:rect l="0" t="0" r="r" b="b"/>
              <a:pathLst>
                <a:path w="3454" h="2726">
                  <a:moveTo>
                    <a:pt x="3454" y="2086"/>
                  </a:moveTo>
                  <a:lnTo>
                    <a:pt x="3454" y="2025"/>
                  </a:lnTo>
                  <a:lnTo>
                    <a:pt x="3450" y="1963"/>
                  </a:lnTo>
                  <a:lnTo>
                    <a:pt x="3437" y="1901"/>
                  </a:lnTo>
                  <a:lnTo>
                    <a:pt x="3415" y="1839"/>
                  </a:lnTo>
                  <a:lnTo>
                    <a:pt x="3410" y="1839"/>
                  </a:lnTo>
                  <a:lnTo>
                    <a:pt x="3401" y="1839"/>
                  </a:lnTo>
                  <a:lnTo>
                    <a:pt x="3397" y="1839"/>
                  </a:lnTo>
                  <a:lnTo>
                    <a:pt x="3393" y="1866"/>
                  </a:lnTo>
                  <a:lnTo>
                    <a:pt x="3384" y="1892"/>
                  </a:lnTo>
                  <a:lnTo>
                    <a:pt x="3375" y="1919"/>
                  </a:lnTo>
                  <a:lnTo>
                    <a:pt x="3366" y="1945"/>
                  </a:lnTo>
                  <a:lnTo>
                    <a:pt x="3353" y="1972"/>
                  </a:lnTo>
                  <a:lnTo>
                    <a:pt x="3340" y="1994"/>
                  </a:lnTo>
                  <a:lnTo>
                    <a:pt x="3331" y="2016"/>
                  </a:lnTo>
                  <a:lnTo>
                    <a:pt x="3313" y="2038"/>
                  </a:lnTo>
                  <a:lnTo>
                    <a:pt x="3304" y="2051"/>
                  </a:lnTo>
                  <a:lnTo>
                    <a:pt x="3300" y="2064"/>
                  </a:lnTo>
                  <a:lnTo>
                    <a:pt x="3291" y="2077"/>
                  </a:lnTo>
                  <a:lnTo>
                    <a:pt x="3282" y="2091"/>
                  </a:lnTo>
                  <a:lnTo>
                    <a:pt x="3274" y="2104"/>
                  </a:lnTo>
                  <a:lnTo>
                    <a:pt x="3260" y="2117"/>
                  </a:lnTo>
                  <a:lnTo>
                    <a:pt x="3247" y="2126"/>
                  </a:lnTo>
                  <a:lnTo>
                    <a:pt x="3229" y="2135"/>
                  </a:lnTo>
                  <a:lnTo>
                    <a:pt x="3229" y="2139"/>
                  </a:lnTo>
                  <a:lnTo>
                    <a:pt x="3229" y="2144"/>
                  </a:lnTo>
                  <a:lnTo>
                    <a:pt x="3225" y="2144"/>
                  </a:lnTo>
                  <a:lnTo>
                    <a:pt x="3185" y="2174"/>
                  </a:lnTo>
                  <a:lnTo>
                    <a:pt x="3177" y="2174"/>
                  </a:lnTo>
                  <a:lnTo>
                    <a:pt x="3168" y="2179"/>
                  </a:lnTo>
                  <a:lnTo>
                    <a:pt x="3168" y="2183"/>
                  </a:lnTo>
                  <a:lnTo>
                    <a:pt x="3159" y="2188"/>
                  </a:lnTo>
                  <a:lnTo>
                    <a:pt x="3119" y="2210"/>
                  </a:lnTo>
                  <a:lnTo>
                    <a:pt x="3102" y="2205"/>
                  </a:lnTo>
                  <a:lnTo>
                    <a:pt x="3084" y="2205"/>
                  </a:lnTo>
                  <a:lnTo>
                    <a:pt x="3066" y="2205"/>
                  </a:lnTo>
                  <a:lnTo>
                    <a:pt x="3049" y="2201"/>
                  </a:lnTo>
                  <a:lnTo>
                    <a:pt x="3031" y="2197"/>
                  </a:lnTo>
                  <a:lnTo>
                    <a:pt x="3013" y="2192"/>
                  </a:lnTo>
                  <a:lnTo>
                    <a:pt x="3000" y="2183"/>
                  </a:lnTo>
                  <a:lnTo>
                    <a:pt x="2982" y="2174"/>
                  </a:lnTo>
                  <a:lnTo>
                    <a:pt x="2965" y="2179"/>
                  </a:lnTo>
                  <a:lnTo>
                    <a:pt x="2947" y="2174"/>
                  </a:lnTo>
                  <a:lnTo>
                    <a:pt x="2930" y="2170"/>
                  </a:lnTo>
                  <a:lnTo>
                    <a:pt x="2921" y="2157"/>
                  </a:lnTo>
                  <a:lnTo>
                    <a:pt x="2908" y="2148"/>
                  </a:lnTo>
                  <a:lnTo>
                    <a:pt x="2894" y="2139"/>
                  </a:lnTo>
                  <a:lnTo>
                    <a:pt x="2881" y="2126"/>
                  </a:lnTo>
                  <a:lnTo>
                    <a:pt x="2872" y="2117"/>
                  </a:lnTo>
                  <a:lnTo>
                    <a:pt x="2850" y="2104"/>
                  </a:lnTo>
                  <a:lnTo>
                    <a:pt x="2828" y="2091"/>
                  </a:lnTo>
                  <a:lnTo>
                    <a:pt x="2815" y="2073"/>
                  </a:lnTo>
                  <a:lnTo>
                    <a:pt x="2797" y="2055"/>
                  </a:lnTo>
                  <a:lnTo>
                    <a:pt x="2784" y="2038"/>
                  </a:lnTo>
                  <a:lnTo>
                    <a:pt x="2771" y="2016"/>
                  </a:lnTo>
                  <a:lnTo>
                    <a:pt x="2758" y="1998"/>
                  </a:lnTo>
                  <a:lnTo>
                    <a:pt x="2749" y="1972"/>
                  </a:lnTo>
                  <a:lnTo>
                    <a:pt x="2731" y="1932"/>
                  </a:lnTo>
                  <a:lnTo>
                    <a:pt x="2722" y="1892"/>
                  </a:lnTo>
                  <a:lnTo>
                    <a:pt x="2713" y="1853"/>
                  </a:lnTo>
                  <a:lnTo>
                    <a:pt x="2705" y="1808"/>
                  </a:lnTo>
                  <a:lnTo>
                    <a:pt x="2705" y="1769"/>
                  </a:lnTo>
                  <a:lnTo>
                    <a:pt x="2705" y="1729"/>
                  </a:lnTo>
                  <a:lnTo>
                    <a:pt x="2713" y="1685"/>
                  </a:lnTo>
                  <a:lnTo>
                    <a:pt x="2722" y="1650"/>
                  </a:lnTo>
                  <a:lnTo>
                    <a:pt x="2775" y="1619"/>
                  </a:lnTo>
                  <a:lnTo>
                    <a:pt x="2780" y="1614"/>
                  </a:lnTo>
                  <a:lnTo>
                    <a:pt x="2784" y="1614"/>
                  </a:lnTo>
                  <a:lnTo>
                    <a:pt x="2780" y="1610"/>
                  </a:lnTo>
                  <a:lnTo>
                    <a:pt x="2775" y="1601"/>
                  </a:lnTo>
                  <a:lnTo>
                    <a:pt x="2709" y="1548"/>
                  </a:lnTo>
                  <a:lnTo>
                    <a:pt x="2705" y="1544"/>
                  </a:lnTo>
                  <a:lnTo>
                    <a:pt x="2705" y="1535"/>
                  </a:lnTo>
                  <a:lnTo>
                    <a:pt x="2705" y="1531"/>
                  </a:lnTo>
                  <a:lnTo>
                    <a:pt x="2700" y="1522"/>
                  </a:lnTo>
                  <a:lnTo>
                    <a:pt x="2639" y="1416"/>
                  </a:lnTo>
                  <a:lnTo>
                    <a:pt x="2608" y="1327"/>
                  </a:lnTo>
                  <a:lnTo>
                    <a:pt x="2594" y="1300"/>
                  </a:lnTo>
                  <a:lnTo>
                    <a:pt x="2567" y="1217"/>
                  </a:lnTo>
                  <a:lnTo>
                    <a:pt x="2558" y="1199"/>
                  </a:lnTo>
                  <a:lnTo>
                    <a:pt x="2549" y="1186"/>
                  </a:lnTo>
                  <a:lnTo>
                    <a:pt x="2545" y="1164"/>
                  </a:lnTo>
                  <a:lnTo>
                    <a:pt x="2536" y="1150"/>
                  </a:lnTo>
                  <a:lnTo>
                    <a:pt x="2527" y="1137"/>
                  </a:lnTo>
                  <a:lnTo>
                    <a:pt x="2518" y="1124"/>
                  </a:lnTo>
                  <a:lnTo>
                    <a:pt x="2505" y="1111"/>
                  </a:lnTo>
                  <a:lnTo>
                    <a:pt x="2492" y="1102"/>
                  </a:lnTo>
                  <a:lnTo>
                    <a:pt x="2483" y="1084"/>
                  </a:lnTo>
                  <a:lnTo>
                    <a:pt x="2470" y="1071"/>
                  </a:lnTo>
                  <a:lnTo>
                    <a:pt x="2457" y="1058"/>
                  </a:lnTo>
                  <a:lnTo>
                    <a:pt x="2443" y="1040"/>
                  </a:lnTo>
                  <a:lnTo>
                    <a:pt x="2439" y="1036"/>
                  </a:lnTo>
                  <a:lnTo>
                    <a:pt x="2435" y="1031"/>
                  </a:lnTo>
                  <a:lnTo>
                    <a:pt x="2399" y="930"/>
                  </a:lnTo>
                  <a:lnTo>
                    <a:pt x="2395" y="930"/>
                  </a:lnTo>
                  <a:lnTo>
                    <a:pt x="2391" y="930"/>
                  </a:lnTo>
                  <a:lnTo>
                    <a:pt x="2386" y="930"/>
                  </a:lnTo>
                  <a:lnTo>
                    <a:pt x="2382" y="934"/>
                  </a:lnTo>
                  <a:lnTo>
                    <a:pt x="2377" y="939"/>
                  </a:lnTo>
                  <a:lnTo>
                    <a:pt x="2373" y="1075"/>
                  </a:lnTo>
                  <a:lnTo>
                    <a:pt x="2351" y="1071"/>
                  </a:lnTo>
                  <a:lnTo>
                    <a:pt x="2333" y="1058"/>
                  </a:lnTo>
                  <a:lnTo>
                    <a:pt x="2316" y="1045"/>
                  </a:lnTo>
                  <a:lnTo>
                    <a:pt x="2302" y="1031"/>
                  </a:lnTo>
                  <a:lnTo>
                    <a:pt x="2285" y="1018"/>
                  </a:lnTo>
                  <a:lnTo>
                    <a:pt x="2272" y="1001"/>
                  </a:lnTo>
                  <a:lnTo>
                    <a:pt x="2254" y="987"/>
                  </a:lnTo>
                  <a:lnTo>
                    <a:pt x="2232" y="970"/>
                  </a:lnTo>
                  <a:lnTo>
                    <a:pt x="2219" y="965"/>
                  </a:lnTo>
                  <a:lnTo>
                    <a:pt x="2205" y="952"/>
                  </a:lnTo>
                  <a:lnTo>
                    <a:pt x="2188" y="943"/>
                  </a:lnTo>
                  <a:lnTo>
                    <a:pt x="2170" y="939"/>
                  </a:lnTo>
                  <a:lnTo>
                    <a:pt x="2152" y="939"/>
                  </a:lnTo>
                  <a:lnTo>
                    <a:pt x="2139" y="934"/>
                  </a:lnTo>
                  <a:lnTo>
                    <a:pt x="2126" y="930"/>
                  </a:lnTo>
                  <a:lnTo>
                    <a:pt x="2108" y="930"/>
                  </a:lnTo>
                  <a:lnTo>
                    <a:pt x="2104" y="930"/>
                  </a:lnTo>
                  <a:lnTo>
                    <a:pt x="2100" y="926"/>
                  </a:lnTo>
                  <a:lnTo>
                    <a:pt x="2126" y="899"/>
                  </a:lnTo>
                  <a:lnTo>
                    <a:pt x="2152" y="873"/>
                  </a:lnTo>
                  <a:lnTo>
                    <a:pt x="2170" y="846"/>
                  </a:lnTo>
                  <a:lnTo>
                    <a:pt x="2192" y="815"/>
                  </a:lnTo>
                  <a:lnTo>
                    <a:pt x="2205" y="780"/>
                  </a:lnTo>
                  <a:lnTo>
                    <a:pt x="2219" y="745"/>
                  </a:lnTo>
                  <a:lnTo>
                    <a:pt x="2223" y="705"/>
                  </a:lnTo>
                  <a:lnTo>
                    <a:pt x="2227" y="665"/>
                  </a:lnTo>
                  <a:lnTo>
                    <a:pt x="2223" y="639"/>
                  </a:lnTo>
                  <a:lnTo>
                    <a:pt x="2223" y="617"/>
                  </a:lnTo>
                  <a:lnTo>
                    <a:pt x="2223" y="595"/>
                  </a:lnTo>
                  <a:lnTo>
                    <a:pt x="2214" y="568"/>
                  </a:lnTo>
                  <a:lnTo>
                    <a:pt x="2205" y="546"/>
                  </a:lnTo>
                  <a:lnTo>
                    <a:pt x="2192" y="524"/>
                  </a:lnTo>
                  <a:lnTo>
                    <a:pt x="2179" y="502"/>
                  </a:lnTo>
                  <a:lnTo>
                    <a:pt x="2166" y="480"/>
                  </a:lnTo>
                  <a:lnTo>
                    <a:pt x="2152" y="458"/>
                  </a:lnTo>
                  <a:lnTo>
                    <a:pt x="2135" y="440"/>
                  </a:lnTo>
                  <a:lnTo>
                    <a:pt x="2122" y="427"/>
                  </a:lnTo>
                  <a:lnTo>
                    <a:pt x="2100" y="414"/>
                  </a:lnTo>
                  <a:lnTo>
                    <a:pt x="2077" y="405"/>
                  </a:lnTo>
                  <a:lnTo>
                    <a:pt x="2055" y="396"/>
                  </a:lnTo>
                  <a:lnTo>
                    <a:pt x="2033" y="392"/>
                  </a:lnTo>
                  <a:lnTo>
                    <a:pt x="2011" y="392"/>
                  </a:lnTo>
                  <a:lnTo>
                    <a:pt x="1989" y="392"/>
                  </a:lnTo>
                  <a:lnTo>
                    <a:pt x="1963" y="392"/>
                  </a:lnTo>
                  <a:lnTo>
                    <a:pt x="1941" y="396"/>
                  </a:lnTo>
                  <a:lnTo>
                    <a:pt x="1919" y="405"/>
                  </a:lnTo>
                  <a:lnTo>
                    <a:pt x="1906" y="410"/>
                  </a:lnTo>
                  <a:lnTo>
                    <a:pt x="1892" y="423"/>
                  </a:lnTo>
                  <a:lnTo>
                    <a:pt x="1879" y="432"/>
                  </a:lnTo>
                  <a:lnTo>
                    <a:pt x="1870" y="445"/>
                  </a:lnTo>
                  <a:lnTo>
                    <a:pt x="1861" y="458"/>
                  </a:lnTo>
                  <a:lnTo>
                    <a:pt x="1853" y="471"/>
                  </a:lnTo>
                  <a:lnTo>
                    <a:pt x="1844" y="485"/>
                  </a:lnTo>
                  <a:lnTo>
                    <a:pt x="1839" y="502"/>
                  </a:lnTo>
                  <a:lnTo>
                    <a:pt x="1826" y="533"/>
                  </a:lnTo>
                  <a:lnTo>
                    <a:pt x="1831" y="568"/>
                  </a:lnTo>
                  <a:lnTo>
                    <a:pt x="1839" y="608"/>
                  </a:lnTo>
                  <a:lnTo>
                    <a:pt x="1848" y="639"/>
                  </a:lnTo>
                  <a:lnTo>
                    <a:pt x="1866" y="652"/>
                  </a:lnTo>
                  <a:lnTo>
                    <a:pt x="1879" y="665"/>
                  </a:lnTo>
                  <a:lnTo>
                    <a:pt x="1897" y="679"/>
                  </a:lnTo>
                  <a:lnTo>
                    <a:pt x="1910" y="687"/>
                  </a:lnTo>
                  <a:lnTo>
                    <a:pt x="1928" y="701"/>
                  </a:lnTo>
                  <a:lnTo>
                    <a:pt x="1945" y="705"/>
                  </a:lnTo>
                  <a:lnTo>
                    <a:pt x="1963" y="714"/>
                  </a:lnTo>
                  <a:lnTo>
                    <a:pt x="1980" y="714"/>
                  </a:lnTo>
                  <a:lnTo>
                    <a:pt x="1980" y="705"/>
                  </a:lnTo>
                  <a:lnTo>
                    <a:pt x="1980" y="701"/>
                  </a:lnTo>
                  <a:lnTo>
                    <a:pt x="1972" y="701"/>
                  </a:lnTo>
                  <a:lnTo>
                    <a:pt x="1963" y="687"/>
                  </a:lnTo>
                  <a:lnTo>
                    <a:pt x="1954" y="683"/>
                  </a:lnTo>
                  <a:lnTo>
                    <a:pt x="1945" y="679"/>
                  </a:lnTo>
                  <a:lnTo>
                    <a:pt x="1936" y="670"/>
                  </a:lnTo>
                  <a:lnTo>
                    <a:pt x="1932" y="661"/>
                  </a:lnTo>
                  <a:lnTo>
                    <a:pt x="1928" y="648"/>
                  </a:lnTo>
                  <a:lnTo>
                    <a:pt x="1919" y="639"/>
                  </a:lnTo>
                  <a:lnTo>
                    <a:pt x="1919" y="612"/>
                  </a:lnTo>
                  <a:lnTo>
                    <a:pt x="1923" y="582"/>
                  </a:lnTo>
                  <a:lnTo>
                    <a:pt x="1928" y="555"/>
                  </a:lnTo>
                  <a:lnTo>
                    <a:pt x="1941" y="533"/>
                  </a:lnTo>
                  <a:lnTo>
                    <a:pt x="1945" y="529"/>
                  </a:lnTo>
                  <a:lnTo>
                    <a:pt x="1954" y="520"/>
                  </a:lnTo>
                  <a:lnTo>
                    <a:pt x="1963" y="515"/>
                  </a:lnTo>
                  <a:lnTo>
                    <a:pt x="1976" y="515"/>
                  </a:lnTo>
                  <a:lnTo>
                    <a:pt x="1989" y="511"/>
                  </a:lnTo>
                  <a:lnTo>
                    <a:pt x="1998" y="507"/>
                  </a:lnTo>
                  <a:lnTo>
                    <a:pt x="2007" y="511"/>
                  </a:lnTo>
                  <a:lnTo>
                    <a:pt x="2016" y="515"/>
                  </a:lnTo>
                  <a:lnTo>
                    <a:pt x="2025" y="520"/>
                  </a:lnTo>
                  <a:lnTo>
                    <a:pt x="2033" y="529"/>
                  </a:lnTo>
                  <a:lnTo>
                    <a:pt x="2042" y="542"/>
                  </a:lnTo>
                  <a:lnTo>
                    <a:pt x="2047" y="551"/>
                  </a:lnTo>
                  <a:lnTo>
                    <a:pt x="2051" y="564"/>
                  </a:lnTo>
                  <a:lnTo>
                    <a:pt x="2060" y="573"/>
                  </a:lnTo>
                  <a:lnTo>
                    <a:pt x="2064" y="582"/>
                  </a:lnTo>
                  <a:lnTo>
                    <a:pt x="2069" y="595"/>
                  </a:lnTo>
                  <a:lnTo>
                    <a:pt x="2055" y="679"/>
                  </a:lnTo>
                  <a:lnTo>
                    <a:pt x="2051" y="683"/>
                  </a:lnTo>
                  <a:lnTo>
                    <a:pt x="2051" y="687"/>
                  </a:lnTo>
                  <a:lnTo>
                    <a:pt x="2042" y="687"/>
                  </a:lnTo>
                  <a:lnTo>
                    <a:pt x="2038" y="709"/>
                  </a:lnTo>
                  <a:lnTo>
                    <a:pt x="2029" y="718"/>
                  </a:lnTo>
                  <a:lnTo>
                    <a:pt x="2016" y="727"/>
                  </a:lnTo>
                  <a:lnTo>
                    <a:pt x="2007" y="736"/>
                  </a:lnTo>
                  <a:lnTo>
                    <a:pt x="1998" y="749"/>
                  </a:lnTo>
                  <a:lnTo>
                    <a:pt x="1976" y="762"/>
                  </a:lnTo>
                  <a:lnTo>
                    <a:pt x="1958" y="767"/>
                  </a:lnTo>
                  <a:lnTo>
                    <a:pt x="1936" y="776"/>
                  </a:lnTo>
                  <a:lnTo>
                    <a:pt x="1919" y="771"/>
                  </a:lnTo>
                  <a:lnTo>
                    <a:pt x="1897" y="767"/>
                  </a:lnTo>
                  <a:lnTo>
                    <a:pt x="1875" y="767"/>
                  </a:lnTo>
                  <a:lnTo>
                    <a:pt x="1857" y="767"/>
                  </a:lnTo>
                  <a:lnTo>
                    <a:pt x="1835" y="762"/>
                  </a:lnTo>
                  <a:lnTo>
                    <a:pt x="1822" y="754"/>
                  </a:lnTo>
                  <a:lnTo>
                    <a:pt x="1813" y="749"/>
                  </a:lnTo>
                  <a:lnTo>
                    <a:pt x="1804" y="740"/>
                  </a:lnTo>
                  <a:lnTo>
                    <a:pt x="1795" y="732"/>
                  </a:lnTo>
                  <a:lnTo>
                    <a:pt x="1778" y="727"/>
                  </a:lnTo>
                  <a:lnTo>
                    <a:pt x="1769" y="714"/>
                  </a:lnTo>
                  <a:lnTo>
                    <a:pt x="1760" y="701"/>
                  </a:lnTo>
                  <a:lnTo>
                    <a:pt x="1751" y="687"/>
                  </a:lnTo>
                  <a:lnTo>
                    <a:pt x="1725" y="635"/>
                  </a:lnTo>
                  <a:lnTo>
                    <a:pt x="1654" y="489"/>
                  </a:lnTo>
                  <a:lnTo>
                    <a:pt x="1650" y="476"/>
                  </a:lnTo>
                  <a:lnTo>
                    <a:pt x="1641" y="463"/>
                  </a:lnTo>
                  <a:lnTo>
                    <a:pt x="1632" y="449"/>
                  </a:lnTo>
                  <a:lnTo>
                    <a:pt x="1623" y="436"/>
                  </a:lnTo>
                  <a:lnTo>
                    <a:pt x="1610" y="423"/>
                  </a:lnTo>
                  <a:lnTo>
                    <a:pt x="1597" y="414"/>
                  </a:lnTo>
                  <a:lnTo>
                    <a:pt x="1584" y="405"/>
                  </a:lnTo>
                  <a:lnTo>
                    <a:pt x="1566" y="396"/>
                  </a:lnTo>
                  <a:lnTo>
                    <a:pt x="1553" y="392"/>
                  </a:lnTo>
                  <a:lnTo>
                    <a:pt x="1544" y="383"/>
                  </a:lnTo>
                  <a:lnTo>
                    <a:pt x="1531" y="383"/>
                  </a:lnTo>
                  <a:lnTo>
                    <a:pt x="1517" y="374"/>
                  </a:lnTo>
                  <a:lnTo>
                    <a:pt x="1509" y="370"/>
                  </a:lnTo>
                  <a:lnTo>
                    <a:pt x="1495" y="366"/>
                  </a:lnTo>
                  <a:lnTo>
                    <a:pt x="1482" y="361"/>
                  </a:lnTo>
                  <a:lnTo>
                    <a:pt x="1473" y="357"/>
                  </a:lnTo>
                  <a:lnTo>
                    <a:pt x="1487" y="335"/>
                  </a:lnTo>
                  <a:lnTo>
                    <a:pt x="1504" y="313"/>
                  </a:lnTo>
                  <a:lnTo>
                    <a:pt x="1517" y="282"/>
                  </a:lnTo>
                  <a:lnTo>
                    <a:pt x="1531" y="251"/>
                  </a:lnTo>
                  <a:lnTo>
                    <a:pt x="1539" y="224"/>
                  </a:lnTo>
                  <a:lnTo>
                    <a:pt x="1544" y="189"/>
                  </a:lnTo>
                  <a:lnTo>
                    <a:pt x="1548" y="158"/>
                  </a:lnTo>
                  <a:lnTo>
                    <a:pt x="1544" y="119"/>
                  </a:lnTo>
                  <a:lnTo>
                    <a:pt x="1544" y="92"/>
                  </a:lnTo>
                  <a:lnTo>
                    <a:pt x="1544" y="66"/>
                  </a:lnTo>
                  <a:lnTo>
                    <a:pt x="1539" y="35"/>
                  </a:lnTo>
                  <a:lnTo>
                    <a:pt x="1531" y="8"/>
                  </a:lnTo>
                  <a:lnTo>
                    <a:pt x="1526" y="4"/>
                  </a:lnTo>
                  <a:lnTo>
                    <a:pt x="1526" y="0"/>
                  </a:lnTo>
                  <a:lnTo>
                    <a:pt x="1517" y="0"/>
                  </a:lnTo>
                  <a:lnTo>
                    <a:pt x="1513" y="0"/>
                  </a:lnTo>
                  <a:lnTo>
                    <a:pt x="1482" y="88"/>
                  </a:lnTo>
                  <a:lnTo>
                    <a:pt x="1478" y="92"/>
                  </a:lnTo>
                  <a:lnTo>
                    <a:pt x="1473" y="92"/>
                  </a:lnTo>
                  <a:lnTo>
                    <a:pt x="1473" y="97"/>
                  </a:lnTo>
                  <a:lnTo>
                    <a:pt x="1469" y="110"/>
                  </a:lnTo>
                  <a:lnTo>
                    <a:pt x="1465" y="123"/>
                  </a:lnTo>
                  <a:lnTo>
                    <a:pt x="1456" y="132"/>
                  </a:lnTo>
                  <a:lnTo>
                    <a:pt x="1451" y="145"/>
                  </a:lnTo>
                  <a:lnTo>
                    <a:pt x="1442" y="158"/>
                  </a:lnTo>
                  <a:lnTo>
                    <a:pt x="1434" y="171"/>
                  </a:lnTo>
                  <a:lnTo>
                    <a:pt x="1425" y="180"/>
                  </a:lnTo>
                  <a:lnTo>
                    <a:pt x="1416" y="194"/>
                  </a:lnTo>
                  <a:lnTo>
                    <a:pt x="1394" y="202"/>
                  </a:lnTo>
                  <a:lnTo>
                    <a:pt x="1376" y="207"/>
                  </a:lnTo>
                  <a:lnTo>
                    <a:pt x="1359" y="216"/>
                  </a:lnTo>
                  <a:lnTo>
                    <a:pt x="1341" y="220"/>
                  </a:lnTo>
                  <a:lnTo>
                    <a:pt x="1319" y="224"/>
                  </a:lnTo>
                  <a:lnTo>
                    <a:pt x="1301" y="229"/>
                  </a:lnTo>
                  <a:lnTo>
                    <a:pt x="1284" y="238"/>
                  </a:lnTo>
                  <a:lnTo>
                    <a:pt x="1266" y="242"/>
                  </a:lnTo>
                  <a:lnTo>
                    <a:pt x="1244" y="238"/>
                  </a:lnTo>
                  <a:lnTo>
                    <a:pt x="1222" y="242"/>
                  </a:lnTo>
                  <a:lnTo>
                    <a:pt x="1204" y="242"/>
                  </a:lnTo>
                  <a:lnTo>
                    <a:pt x="1187" y="246"/>
                  </a:lnTo>
                  <a:lnTo>
                    <a:pt x="1165" y="251"/>
                  </a:lnTo>
                  <a:lnTo>
                    <a:pt x="1143" y="251"/>
                  </a:lnTo>
                  <a:lnTo>
                    <a:pt x="1125" y="255"/>
                  </a:lnTo>
                  <a:lnTo>
                    <a:pt x="1103" y="264"/>
                  </a:lnTo>
                  <a:lnTo>
                    <a:pt x="1081" y="264"/>
                  </a:lnTo>
                  <a:lnTo>
                    <a:pt x="1063" y="268"/>
                  </a:lnTo>
                  <a:lnTo>
                    <a:pt x="1037" y="277"/>
                  </a:lnTo>
                  <a:lnTo>
                    <a:pt x="1019" y="286"/>
                  </a:lnTo>
                  <a:lnTo>
                    <a:pt x="1002" y="291"/>
                  </a:lnTo>
                  <a:lnTo>
                    <a:pt x="979" y="304"/>
                  </a:lnTo>
                  <a:lnTo>
                    <a:pt x="966" y="317"/>
                  </a:lnTo>
                  <a:lnTo>
                    <a:pt x="949" y="330"/>
                  </a:lnTo>
                  <a:lnTo>
                    <a:pt x="931" y="330"/>
                  </a:lnTo>
                  <a:lnTo>
                    <a:pt x="913" y="343"/>
                  </a:lnTo>
                  <a:lnTo>
                    <a:pt x="896" y="352"/>
                  </a:lnTo>
                  <a:lnTo>
                    <a:pt x="882" y="366"/>
                  </a:lnTo>
                  <a:lnTo>
                    <a:pt x="865" y="379"/>
                  </a:lnTo>
                  <a:lnTo>
                    <a:pt x="855" y="396"/>
                  </a:lnTo>
                  <a:lnTo>
                    <a:pt x="842" y="414"/>
                  </a:lnTo>
                  <a:lnTo>
                    <a:pt x="829" y="432"/>
                  </a:lnTo>
                  <a:lnTo>
                    <a:pt x="815" y="476"/>
                  </a:lnTo>
                  <a:lnTo>
                    <a:pt x="811" y="520"/>
                  </a:lnTo>
                  <a:lnTo>
                    <a:pt x="811" y="573"/>
                  </a:lnTo>
                  <a:lnTo>
                    <a:pt x="811" y="626"/>
                  </a:lnTo>
                  <a:lnTo>
                    <a:pt x="811" y="648"/>
                  </a:lnTo>
                  <a:lnTo>
                    <a:pt x="806" y="661"/>
                  </a:lnTo>
                  <a:lnTo>
                    <a:pt x="802" y="679"/>
                  </a:lnTo>
                  <a:lnTo>
                    <a:pt x="793" y="692"/>
                  </a:lnTo>
                  <a:lnTo>
                    <a:pt x="745" y="736"/>
                  </a:lnTo>
                  <a:lnTo>
                    <a:pt x="736" y="749"/>
                  </a:lnTo>
                  <a:lnTo>
                    <a:pt x="723" y="758"/>
                  </a:lnTo>
                  <a:lnTo>
                    <a:pt x="718" y="771"/>
                  </a:lnTo>
                  <a:lnTo>
                    <a:pt x="709" y="780"/>
                  </a:lnTo>
                  <a:lnTo>
                    <a:pt x="705" y="798"/>
                  </a:lnTo>
                  <a:lnTo>
                    <a:pt x="696" y="811"/>
                  </a:lnTo>
                  <a:lnTo>
                    <a:pt x="692" y="824"/>
                  </a:lnTo>
                  <a:lnTo>
                    <a:pt x="692" y="842"/>
                  </a:lnTo>
                  <a:lnTo>
                    <a:pt x="683" y="859"/>
                  </a:lnTo>
                  <a:lnTo>
                    <a:pt x="674" y="877"/>
                  </a:lnTo>
                  <a:lnTo>
                    <a:pt x="661" y="895"/>
                  </a:lnTo>
                  <a:lnTo>
                    <a:pt x="652" y="908"/>
                  </a:lnTo>
                  <a:lnTo>
                    <a:pt x="635" y="926"/>
                  </a:lnTo>
                  <a:lnTo>
                    <a:pt x="626" y="939"/>
                  </a:lnTo>
                  <a:lnTo>
                    <a:pt x="612" y="952"/>
                  </a:lnTo>
                  <a:lnTo>
                    <a:pt x="599" y="965"/>
                  </a:lnTo>
                  <a:lnTo>
                    <a:pt x="586" y="978"/>
                  </a:lnTo>
                  <a:lnTo>
                    <a:pt x="573" y="996"/>
                  </a:lnTo>
                  <a:lnTo>
                    <a:pt x="560" y="1014"/>
                  </a:lnTo>
                  <a:lnTo>
                    <a:pt x="542" y="1031"/>
                  </a:lnTo>
                  <a:lnTo>
                    <a:pt x="533" y="1045"/>
                  </a:lnTo>
                  <a:lnTo>
                    <a:pt x="524" y="1067"/>
                  </a:lnTo>
                  <a:lnTo>
                    <a:pt x="515" y="1084"/>
                  </a:lnTo>
                  <a:lnTo>
                    <a:pt x="511" y="1111"/>
                  </a:lnTo>
                  <a:lnTo>
                    <a:pt x="520" y="1142"/>
                  </a:lnTo>
                  <a:lnTo>
                    <a:pt x="533" y="1177"/>
                  </a:lnTo>
                  <a:lnTo>
                    <a:pt x="551" y="1208"/>
                  </a:lnTo>
                  <a:lnTo>
                    <a:pt x="573" y="1234"/>
                  </a:lnTo>
                  <a:lnTo>
                    <a:pt x="595" y="1256"/>
                  </a:lnTo>
                  <a:lnTo>
                    <a:pt x="617" y="1278"/>
                  </a:lnTo>
                  <a:lnTo>
                    <a:pt x="643" y="1296"/>
                  </a:lnTo>
                  <a:lnTo>
                    <a:pt x="670" y="1309"/>
                  </a:lnTo>
                  <a:lnTo>
                    <a:pt x="683" y="1309"/>
                  </a:lnTo>
                  <a:lnTo>
                    <a:pt x="696" y="1309"/>
                  </a:lnTo>
                  <a:lnTo>
                    <a:pt x="709" y="1314"/>
                  </a:lnTo>
                  <a:lnTo>
                    <a:pt x="723" y="1318"/>
                  </a:lnTo>
                  <a:lnTo>
                    <a:pt x="732" y="1318"/>
                  </a:lnTo>
                  <a:lnTo>
                    <a:pt x="745" y="1314"/>
                  </a:lnTo>
                  <a:lnTo>
                    <a:pt x="754" y="1309"/>
                  </a:lnTo>
                  <a:lnTo>
                    <a:pt x="762" y="1300"/>
                  </a:lnTo>
                  <a:lnTo>
                    <a:pt x="754" y="1256"/>
                  </a:lnTo>
                  <a:lnTo>
                    <a:pt x="749" y="1212"/>
                  </a:lnTo>
                  <a:lnTo>
                    <a:pt x="758" y="1168"/>
                  </a:lnTo>
                  <a:lnTo>
                    <a:pt x="776" y="1137"/>
                  </a:lnTo>
                  <a:lnTo>
                    <a:pt x="789" y="1124"/>
                  </a:lnTo>
                  <a:lnTo>
                    <a:pt x="802" y="1120"/>
                  </a:lnTo>
                  <a:lnTo>
                    <a:pt x="815" y="1111"/>
                  </a:lnTo>
                  <a:lnTo>
                    <a:pt x="829" y="1106"/>
                  </a:lnTo>
                  <a:lnTo>
                    <a:pt x="842" y="1106"/>
                  </a:lnTo>
                  <a:lnTo>
                    <a:pt x="855" y="1106"/>
                  </a:lnTo>
                  <a:lnTo>
                    <a:pt x="869" y="1106"/>
                  </a:lnTo>
                  <a:lnTo>
                    <a:pt x="882" y="1106"/>
                  </a:lnTo>
                  <a:lnTo>
                    <a:pt x="887" y="1111"/>
                  </a:lnTo>
                  <a:lnTo>
                    <a:pt x="896" y="1115"/>
                  </a:lnTo>
                  <a:lnTo>
                    <a:pt x="900" y="1120"/>
                  </a:lnTo>
                  <a:lnTo>
                    <a:pt x="900" y="1128"/>
                  </a:lnTo>
                  <a:lnTo>
                    <a:pt x="900" y="1164"/>
                  </a:lnTo>
                  <a:lnTo>
                    <a:pt x="887" y="1190"/>
                  </a:lnTo>
                  <a:lnTo>
                    <a:pt x="874" y="1217"/>
                  </a:lnTo>
                  <a:lnTo>
                    <a:pt x="859" y="1247"/>
                  </a:lnTo>
                  <a:lnTo>
                    <a:pt x="909" y="1287"/>
                  </a:lnTo>
                  <a:lnTo>
                    <a:pt x="900" y="1296"/>
                  </a:lnTo>
                  <a:lnTo>
                    <a:pt x="891" y="1305"/>
                  </a:lnTo>
                  <a:lnTo>
                    <a:pt x="882" y="1314"/>
                  </a:lnTo>
                  <a:lnTo>
                    <a:pt x="869" y="1322"/>
                  </a:lnTo>
                  <a:lnTo>
                    <a:pt x="851" y="1327"/>
                  </a:lnTo>
                  <a:lnTo>
                    <a:pt x="829" y="1336"/>
                  </a:lnTo>
                  <a:lnTo>
                    <a:pt x="806" y="1340"/>
                  </a:lnTo>
                  <a:lnTo>
                    <a:pt x="784" y="1349"/>
                  </a:lnTo>
                  <a:lnTo>
                    <a:pt x="762" y="1358"/>
                  </a:lnTo>
                  <a:lnTo>
                    <a:pt x="740" y="1368"/>
                  </a:lnTo>
                  <a:lnTo>
                    <a:pt x="718" y="1376"/>
                  </a:lnTo>
                  <a:lnTo>
                    <a:pt x="696" y="1385"/>
                  </a:lnTo>
                  <a:lnTo>
                    <a:pt x="661" y="1416"/>
                  </a:lnTo>
                  <a:lnTo>
                    <a:pt x="630" y="1451"/>
                  </a:lnTo>
                  <a:lnTo>
                    <a:pt x="604" y="1491"/>
                  </a:lnTo>
                  <a:lnTo>
                    <a:pt x="582" y="1531"/>
                  </a:lnTo>
                  <a:lnTo>
                    <a:pt x="560" y="1575"/>
                  </a:lnTo>
                  <a:lnTo>
                    <a:pt x="542" y="1614"/>
                  </a:lnTo>
                  <a:lnTo>
                    <a:pt x="524" y="1667"/>
                  </a:lnTo>
                  <a:lnTo>
                    <a:pt x="511" y="1711"/>
                  </a:lnTo>
                  <a:lnTo>
                    <a:pt x="502" y="1720"/>
                  </a:lnTo>
                  <a:lnTo>
                    <a:pt x="498" y="1729"/>
                  </a:lnTo>
                  <a:lnTo>
                    <a:pt x="498" y="1738"/>
                  </a:lnTo>
                  <a:lnTo>
                    <a:pt x="498" y="1751"/>
                  </a:lnTo>
                  <a:lnTo>
                    <a:pt x="485" y="1769"/>
                  </a:lnTo>
                  <a:lnTo>
                    <a:pt x="476" y="1786"/>
                  </a:lnTo>
                  <a:lnTo>
                    <a:pt x="467" y="1804"/>
                  </a:lnTo>
                  <a:lnTo>
                    <a:pt x="454" y="1822"/>
                  </a:lnTo>
                  <a:lnTo>
                    <a:pt x="445" y="1839"/>
                  </a:lnTo>
                  <a:lnTo>
                    <a:pt x="436" y="1853"/>
                  </a:lnTo>
                  <a:lnTo>
                    <a:pt x="423" y="1870"/>
                  </a:lnTo>
                  <a:lnTo>
                    <a:pt x="410" y="1888"/>
                  </a:lnTo>
                  <a:lnTo>
                    <a:pt x="401" y="1897"/>
                  </a:lnTo>
                  <a:lnTo>
                    <a:pt x="383" y="1906"/>
                  </a:lnTo>
                  <a:lnTo>
                    <a:pt x="374" y="1914"/>
                  </a:lnTo>
                  <a:lnTo>
                    <a:pt x="357" y="1919"/>
                  </a:lnTo>
                  <a:lnTo>
                    <a:pt x="339" y="1923"/>
                  </a:lnTo>
                  <a:lnTo>
                    <a:pt x="330" y="1932"/>
                  </a:lnTo>
                  <a:lnTo>
                    <a:pt x="313" y="1941"/>
                  </a:lnTo>
                  <a:lnTo>
                    <a:pt x="304" y="1950"/>
                  </a:lnTo>
                  <a:lnTo>
                    <a:pt x="304" y="1958"/>
                  </a:lnTo>
                  <a:lnTo>
                    <a:pt x="304" y="1967"/>
                  </a:lnTo>
                  <a:lnTo>
                    <a:pt x="299" y="1972"/>
                  </a:lnTo>
                  <a:lnTo>
                    <a:pt x="299" y="1980"/>
                  </a:lnTo>
                  <a:lnTo>
                    <a:pt x="304" y="1989"/>
                  </a:lnTo>
                  <a:lnTo>
                    <a:pt x="313" y="1998"/>
                  </a:lnTo>
                  <a:lnTo>
                    <a:pt x="326" y="2007"/>
                  </a:lnTo>
                  <a:lnTo>
                    <a:pt x="339" y="2011"/>
                  </a:lnTo>
                  <a:lnTo>
                    <a:pt x="352" y="2016"/>
                  </a:lnTo>
                  <a:lnTo>
                    <a:pt x="366" y="2020"/>
                  </a:lnTo>
                  <a:lnTo>
                    <a:pt x="383" y="2025"/>
                  </a:lnTo>
                  <a:lnTo>
                    <a:pt x="396" y="2025"/>
                  </a:lnTo>
                  <a:lnTo>
                    <a:pt x="410" y="2020"/>
                  </a:lnTo>
                  <a:lnTo>
                    <a:pt x="418" y="2020"/>
                  </a:lnTo>
                  <a:lnTo>
                    <a:pt x="427" y="2020"/>
                  </a:lnTo>
                  <a:lnTo>
                    <a:pt x="436" y="2016"/>
                  </a:lnTo>
                  <a:lnTo>
                    <a:pt x="445" y="2016"/>
                  </a:lnTo>
                  <a:lnTo>
                    <a:pt x="454" y="2011"/>
                  </a:lnTo>
                  <a:lnTo>
                    <a:pt x="467" y="2011"/>
                  </a:lnTo>
                  <a:lnTo>
                    <a:pt x="476" y="2011"/>
                  </a:lnTo>
                  <a:lnTo>
                    <a:pt x="480" y="2011"/>
                  </a:lnTo>
                  <a:lnTo>
                    <a:pt x="480" y="2007"/>
                  </a:lnTo>
                  <a:lnTo>
                    <a:pt x="480" y="2003"/>
                  </a:lnTo>
                  <a:lnTo>
                    <a:pt x="485" y="1998"/>
                  </a:lnTo>
                  <a:lnTo>
                    <a:pt x="493" y="1994"/>
                  </a:lnTo>
                  <a:lnTo>
                    <a:pt x="507" y="1994"/>
                  </a:lnTo>
                  <a:lnTo>
                    <a:pt x="520" y="1998"/>
                  </a:lnTo>
                  <a:lnTo>
                    <a:pt x="533" y="1994"/>
                  </a:lnTo>
                  <a:lnTo>
                    <a:pt x="542" y="2007"/>
                  </a:lnTo>
                  <a:lnTo>
                    <a:pt x="546" y="2025"/>
                  </a:lnTo>
                  <a:lnTo>
                    <a:pt x="546" y="2047"/>
                  </a:lnTo>
                  <a:lnTo>
                    <a:pt x="542" y="2060"/>
                  </a:lnTo>
                  <a:lnTo>
                    <a:pt x="533" y="2077"/>
                  </a:lnTo>
                  <a:lnTo>
                    <a:pt x="524" y="2091"/>
                  </a:lnTo>
                  <a:lnTo>
                    <a:pt x="515" y="2104"/>
                  </a:lnTo>
                  <a:lnTo>
                    <a:pt x="507" y="2117"/>
                  </a:lnTo>
                  <a:lnTo>
                    <a:pt x="498" y="2135"/>
                  </a:lnTo>
                  <a:lnTo>
                    <a:pt x="489" y="2148"/>
                  </a:lnTo>
                  <a:lnTo>
                    <a:pt x="480" y="2161"/>
                  </a:lnTo>
                  <a:lnTo>
                    <a:pt x="471" y="2174"/>
                  </a:lnTo>
                  <a:lnTo>
                    <a:pt x="467" y="2179"/>
                  </a:lnTo>
                  <a:lnTo>
                    <a:pt x="467" y="2183"/>
                  </a:lnTo>
                  <a:lnTo>
                    <a:pt x="463" y="2183"/>
                  </a:lnTo>
                  <a:lnTo>
                    <a:pt x="463" y="2188"/>
                  </a:lnTo>
                  <a:lnTo>
                    <a:pt x="396" y="2241"/>
                  </a:lnTo>
                  <a:lnTo>
                    <a:pt x="392" y="2249"/>
                  </a:lnTo>
                  <a:lnTo>
                    <a:pt x="383" y="2263"/>
                  </a:lnTo>
                  <a:lnTo>
                    <a:pt x="374" y="2263"/>
                  </a:lnTo>
                  <a:lnTo>
                    <a:pt x="366" y="2272"/>
                  </a:lnTo>
                  <a:lnTo>
                    <a:pt x="357" y="2276"/>
                  </a:lnTo>
                  <a:lnTo>
                    <a:pt x="348" y="2280"/>
                  </a:lnTo>
                  <a:lnTo>
                    <a:pt x="339" y="2285"/>
                  </a:lnTo>
                  <a:lnTo>
                    <a:pt x="330" y="2289"/>
                  </a:lnTo>
                  <a:lnTo>
                    <a:pt x="313" y="2294"/>
                  </a:lnTo>
                  <a:lnTo>
                    <a:pt x="295" y="2294"/>
                  </a:lnTo>
                  <a:lnTo>
                    <a:pt x="282" y="2298"/>
                  </a:lnTo>
                  <a:lnTo>
                    <a:pt x="268" y="2294"/>
                  </a:lnTo>
                  <a:lnTo>
                    <a:pt x="251" y="2294"/>
                  </a:lnTo>
                  <a:lnTo>
                    <a:pt x="233" y="2289"/>
                  </a:lnTo>
                  <a:lnTo>
                    <a:pt x="220" y="2285"/>
                  </a:lnTo>
                  <a:lnTo>
                    <a:pt x="207" y="2276"/>
                  </a:lnTo>
                  <a:lnTo>
                    <a:pt x="198" y="2254"/>
                  </a:lnTo>
                  <a:lnTo>
                    <a:pt x="185" y="2227"/>
                  </a:lnTo>
                  <a:lnTo>
                    <a:pt x="180" y="2197"/>
                  </a:lnTo>
                  <a:lnTo>
                    <a:pt x="189" y="2170"/>
                  </a:lnTo>
                  <a:lnTo>
                    <a:pt x="198" y="2157"/>
                  </a:lnTo>
                  <a:lnTo>
                    <a:pt x="207" y="2148"/>
                  </a:lnTo>
                  <a:lnTo>
                    <a:pt x="216" y="2139"/>
                  </a:lnTo>
                  <a:lnTo>
                    <a:pt x="224" y="2135"/>
                  </a:lnTo>
                  <a:lnTo>
                    <a:pt x="229" y="2135"/>
                  </a:lnTo>
                  <a:lnTo>
                    <a:pt x="233" y="2135"/>
                  </a:lnTo>
                  <a:lnTo>
                    <a:pt x="233" y="2139"/>
                  </a:lnTo>
                  <a:lnTo>
                    <a:pt x="238" y="2157"/>
                  </a:lnTo>
                  <a:lnTo>
                    <a:pt x="233" y="2170"/>
                  </a:lnTo>
                  <a:lnTo>
                    <a:pt x="224" y="2183"/>
                  </a:lnTo>
                  <a:lnTo>
                    <a:pt x="224" y="2197"/>
                  </a:lnTo>
                  <a:lnTo>
                    <a:pt x="229" y="2205"/>
                  </a:lnTo>
                  <a:lnTo>
                    <a:pt x="233" y="2210"/>
                  </a:lnTo>
                  <a:lnTo>
                    <a:pt x="238" y="2214"/>
                  </a:lnTo>
                  <a:lnTo>
                    <a:pt x="246" y="2219"/>
                  </a:lnTo>
                  <a:lnTo>
                    <a:pt x="286" y="2219"/>
                  </a:lnTo>
                  <a:lnTo>
                    <a:pt x="304" y="2197"/>
                  </a:lnTo>
                  <a:lnTo>
                    <a:pt x="308" y="2170"/>
                  </a:lnTo>
                  <a:lnTo>
                    <a:pt x="308" y="2139"/>
                  </a:lnTo>
                  <a:lnTo>
                    <a:pt x="308" y="2113"/>
                  </a:lnTo>
                  <a:lnTo>
                    <a:pt x="295" y="2077"/>
                  </a:lnTo>
                  <a:lnTo>
                    <a:pt x="286" y="2051"/>
                  </a:lnTo>
                  <a:lnTo>
                    <a:pt x="277" y="2025"/>
                  </a:lnTo>
                  <a:lnTo>
                    <a:pt x="260" y="1998"/>
                  </a:lnTo>
                  <a:lnTo>
                    <a:pt x="255" y="1998"/>
                  </a:lnTo>
                  <a:lnTo>
                    <a:pt x="255" y="1994"/>
                  </a:lnTo>
                  <a:lnTo>
                    <a:pt x="238" y="1989"/>
                  </a:lnTo>
                  <a:lnTo>
                    <a:pt x="224" y="1989"/>
                  </a:lnTo>
                  <a:lnTo>
                    <a:pt x="207" y="1989"/>
                  </a:lnTo>
                  <a:lnTo>
                    <a:pt x="189" y="1989"/>
                  </a:lnTo>
                  <a:lnTo>
                    <a:pt x="176" y="1994"/>
                  </a:lnTo>
                  <a:lnTo>
                    <a:pt x="158" y="1998"/>
                  </a:lnTo>
                  <a:lnTo>
                    <a:pt x="145" y="2003"/>
                  </a:lnTo>
                  <a:lnTo>
                    <a:pt x="132" y="2011"/>
                  </a:lnTo>
                  <a:lnTo>
                    <a:pt x="123" y="2016"/>
                  </a:lnTo>
                  <a:lnTo>
                    <a:pt x="114" y="2020"/>
                  </a:lnTo>
                  <a:lnTo>
                    <a:pt x="110" y="2020"/>
                  </a:lnTo>
                  <a:lnTo>
                    <a:pt x="101" y="2025"/>
                  </a:lnTo>
                  <a:lnTo>
                    <a:pt x="88" y="2029"/>
                  </a:lnTo>
                  <a:lnTo>
                    <a:pt x="83" y="2038"/>
                  </a:lnTo>
                  <a:lnTo>
                    <a:pt x="74" y="2051"/>
                  </a:lnTo>
                  <a:lnTo>
                    <a:pt x="61" y="2055"/>
                  </a:lnTo>
                  <a:lnTo>
                    <a:pt x="17" y="2135"/>
                  </a:lnTo>
                  <a:lnTo>
                    <a:pt x="4" y="2174"/>
                  </a:lnTo>
                  <a:lnTo>
                    <a:pt x="0" y="2219"/>
                  </a:lnTo>
                  <a:lnTo>
                    <a:pt x="0" y="2263"/>
                  </a:lnTo>
                  <a:lnTo>
                    <a:pt x="4" y="2302"/>
                  </a:lnTo>
                  <a:lnTo>
                    <a:pt x="48" y="2377"/>
                  </a:lnTo>
                  <a:lnTo>
                    <a:pt x="70" y="2395"/>
                  </a:lnTo>
                  <a:lnTo>
                    <a:pt x="88" y="2413"/>
                  </a:lnTo>
                  <a:lnTo>
                    <a:pt x="110" y="2426"/>
                  </a:lnTo>
                  <a:lnTo>
                    <a:pt x="132" y="2435"/>
                  </a:lnTo>
                  <a:lnTo>
                    <a:pt x="158" y="2448"/>
                  </a:lnTo>
                  <a:lnTo>
                    <a:pt x="180" y="2457"/>
                  </a:lnTo>
                  <a:lnTo>
                    <a:pt x="207" y="2461"/>
                  </a:lnTo>
                  <a:lnTo>
                    <a:pt x="233" y="2470"/>
                  </a:lnTo>
                  <a:lnTo>
                    <a:pt x="238" y="2474"/>
                  </a:lnTo>
                  <a:lnTo>
                    <a:pt x="246" y="2474"/>
                  </a:lnTo>
                  <a:lnTo>
                    <a:pt x="251" y="2479"/>
                  </a:lnTo>
                  <a:lnTo>
                    <a:pt x="255" y="2479"/>
                  </a:lnTo>
                  <a:lnTo>
                    <a:pt x="255" y="2607"/>
                  </a:lnTo>
                  <a:lnTo>
                    <a:pt x="273" y="2633"/>
                  </a:lnTo>
                  <a:lnTo>
                    <a:pt x="330" y="2673"/>
                  </a:lnTo>
                  <a:lnTo>
                    <a:pt x="330" y="2682"/>
                  </a:lnTo>
                  <a:lnTo>
                    <a:pt x="335" y="2690"/>
                  </a:lnTo>
                  <a:lnTo>
                    <a:pt x="339" y="2695"/>
                  </a:lnTo>
                  <a:lnTo>
                    <a:pt x="343" y="2699"/>
                  </a:lnTo>
                  <a:lnTo>
                    <a:pt x="348" y="2721"/>
                  </a:lnTo>
                  <a:lnTo>
                    <a:pt x="357" y="2726"/>
                  </a:lnTo>
                  <a:lnTo>
                    <a:pt x="366" y="2726"/>
                  </a:lnTo>
                  <a:lnTo>
                    <a:pt x="374" y="2726"/>
                  </a:lnTo>
                  <a:lnTo>
                    <a:pt x="379" y="2726"/>
                  </a:lnTo>
                  <a:lnTo>
                    <a:pt x="388" y="2726"/>
                  </a:lnTo>
                  <a:lnTo>
                    <a:pt x="396" y="2726"/>
                  </a:lnTo>
                  <a:lnTo>
                    <a:pt x="401" y="2721"/>
                  </a:lnTo>
                  <a:lnTo>
                    <a:pt x="410" y="2712"/>
                  </a:lnTo>
                  <a:lnTo>
                    <a:pt x="418" y="2708"/>
                  </a:lnTo>
                  <a:lnTo>
                    <a:pt x="423" y="2699"/>
                  </a:lnTo>
                  <a:lnTo>
                    <a:pt x="432" y="2690"/>
                  </a:lnTo>
                  <a:lnTo>
                    <a:pt x="436" y="2686"/>
                  </a:lnTo>
                  <a:lnTo>
                    <a:pt x="440" y="2677"/>
                  </a:lnTo>
                  <a:lnTo>
                    <a:pt x="445" y="2673"/>
                  </a:lnTo>
                  <a:lnTo>
                    <a:pt x="454" y="2664"/>
                  </a:lnTo>
                  <a:lnTo>
                    <a:pt x="463" y="2660"/>
                  </a:lnTo>
                  <a:lnTo>
                    <a:pt x="485" y="2633"/>
                  </a:lnTo>
                  <a:lnTo>
                    <a:pt x="533" y="2607"/>
                  </a:lnTo>
                  <a:lnTo>
                    <a:pt x="560" y="2593"/>
                  </a:lnTo>
                  <a:lnTo>
                    <a:pt x="709" y="2505"/>
                  </a:lnTo>
                  <a:lnTo>
                    <a:pt x="909" y="2443"/>
                  </a:lnTo>
                  <a:lnTo>
                    <a:pt x="913" y="2443"/>
                  </a:lnTo>
                  <a:lnTo>
                    <a:pt x="913" y="2439"/>
                  </a:lnTo>
                  <a:lnTo>
                    <a:pt x="913" y="2435"/>
                  </a:lnTo>
                  <a:lnTo>
                    <a:pt x="909" y="2430"/>
                  </a:lnTo>
                  <a:lnTo>
                    <a:pt x="855" y="2382"/>
                  </a:lnTo>
                  <a:lnTo>
                    <a:pt x="855" y="2369"/>
                  </a:lnTo>
                  <a:lnTo>
                    <a:pt x="855" y="2355"/>
                  </a:lnTo>
                  <a:lnTo>
                    <a:pt x="865" y="2342"/>
                  </a:lnTo>
                  <a:lnTo>
                    <a:pt x="869" y="2329"/>
                  </a:lnTo>
                  <a:lnTo>
                    <a:pt x="874" y="2329"/>
                  </a:lnTo>
                  <a:lnTo>
                    <a:pt x="878" y="2324"/>
                  </a:lnTo>
                  <a:lnTo>
                    <a:pt x="882" y="2324"/>
                  </a:lnTo>
                  <a:lnTo>
                    <a:pt x="900" y="2316"/>
                  </a:lnTo>
                  <a:lnTo>
                    <a:pt x="918" y="2316"/>
                  </a:lnTo>
                  <a:lnTo>
                    <a:pt x="940" y="2311"/>
                  </a:lnTo>
                  <a:lnTo>
                    <a:pt x="957" y="2307"/>
                  </a:lnTo>
                  <a:lnTo>
                    <a:pt x="975" y="2307"/>
                  </a:lnTo>
                  <a:lnTo>
                    <a:pt x="993" y="2302"/>
                  </a:lnTo>
                  <a:lnTo>
                    <a:pt x="1010" y="2302"/>
                  </a:lnTo>
                  <a:lnTo>
                    <a:pt x="1028" y="2302"/>
                  </a:lnTo>
                  <a:lnTo>
                    <a:pt x="1050" y="2302"/>
                  </a:lnTo>
                  <a:lnTo>
                    <a:pt x="1068" y="2302"/>
                  </a:lnTo>
                  <a:lnTo>
                    <a:pt x="1085" y="2302"/>
                  </a:lnTo>
                  <a:lnTo>
                    <a:pt x="1107" y="2294"/>
                  </a:lnTo>
                  <a:lnTo>
                    <a:pt x="1125" y="2289"/>
                  </a:lnTo>
                  <a:lnTo>
                    <a:pt x="1143" y="2289"/>
                  </a:lnTo>
                  <a:lnTo>
                    <a:pt x="1160" y="2280"/>
                  </a:lnTo>
                  <a:lnTo>
                    <a:pt x="1178" y="2272"/>
                  </a:lnTo>
                  <a:lnTo>
                    <a:pt x="1182" y="2267"/>
                  </a:lnTo>
                  <a:lnTo>
                    <a:pt x="1187" y="2267"/>
                  </a:lnTo>
                  <a:lnTo>
                    <a:pt x="1213" y="2254"/>
                  </a:lnTo>
                  <a:lnTo>
                    <a:pt x="1235" y="2249"/>
                  </a:lnTo>
                  <a:lnTo>
                    <a:pt x="1257" y="2236"/>
                  </a:lnTo>
                  <a:lnTo>
                    <a:pt x="1275" y="2227"/>
                  </a:lnTo>
                  <a:lnTo>
                    <a:pt x="1297" y="2214"/>
                  </a:lnTo>
                  <a:lnTo>
                    <a:pt x="1319" y="2201"/>
                  </a:lnTo>
                  <a:lnTo>
                    <a:pt x="1337" y="2192"/>
                  </a:lnTo>
                  <a:lnTo>
                    <a:pt x="1359" y="2179"/>
                  </a:lnTo>
                  <a:lnTo>
                    <a:pt x="1376" y="2166"/>
                  </a:lnTo>
                  <a:lnTo>
                    <a:pt x="1381" y="2166"/>
                  </a:lnTo>
                  <a:lnTo>
                    <a:pt x="1381" y="2161"/>
                  </a:lnTo>
                  <a:lnTo>
                    <a:pt x="1385" y="2157"/>
                  </a:lnTo>
                  <a:lnTo>
                    <a:pt x="1473" y="2100"/>
                  </a:lnTo>
                  <a:lnTo>
                    <a:pt x="1478" y="2095"/>
                  </a:lnTo>
                  <a:lnTo>
                    <a:pt x="1482" y="2091"/>
                  </a:lnTo>
                  <a:lnTo>
                    <a:pt x="1487" y="2086"/>
                  </a:lnTo>
                  <a:lnTo>
                    <a:pt x="1544" y="2051"/>
                  </a:lnTo>
                  <a:lnTo>
                    <a:pt x="1553" y="2047"/>
                  </a:lnTo>
                  <a:lnTo>
                    <a:pt x="1570" y="2038"/>
                  </a:lnTo>
                  <a:lnTo>
                    <a:pt x="1584" y="2038"/>
                  </a:lnTo>
                  <a:lnTo>
                    <a:pt x="1597" y="2033"/>
                  </a:lnTo>
                  <a:lnTo>
                    <a:pt x="1614" y="2033"/>
                  </a:lnTo>
                  <a:lnTo>
                    <a:pt x="1628" y="2033"/>
                  </a:lnTo>
                  <a:lnTo>
                    <a:pt x="1641" y="2033"/>
                  </a:lnTo>
                  <a:lnTo>
                    <a:pt x="1659" y="2033"/>
                  </a:lnTo>
                  <a:lnTo>
                    <a:pt x="1667" y="2038"/>
                  </a:lnTo>
                  <a:lnTo>
                    <a:pt x="1672" y="2042"/>
                  </a:lnTo>
                  <a:lnTo>
                    <a:pt x="1676" y="2051"/>
                  </a:lnTo>
                  <a:lnTo>
                    <a:pt x="1676" y="2055"/>
                  </a:lnTo>
                  <a:lnTo>
                    <a:pt x="1676" y="2064"/>
                  </a:lnTo>
                  <a:lnTo>
                    <a:pt x="1672" y="2073"/>
                  </a:lnTo>
                  <a:lnTo>
                    <a:pt x="1667" y="2077"/>
                  </a:lnTo>
                  <a:lnTo>
                    <a:pt x="1659" y="2086"/>
                  </a:lnTo>
                  <a:lnTo>
                    <a:pt x="1654" y="2091"/>
                  </a:lnTo>
                  <a:lnTo>
                    <a:pt x="1645" y="2095"/>
                  </a:lnTo>
                  <a:lnTo>
                    <a:pt x="1641" y="2104"/>
                  </a:lnTo>
                  <a:lnTo>
                    <a:pt x="1628" y="2104"/>
                  </a:lnTo>
                  <a:lnTo>
                    <a:pt x="1614" y="2108"/>
                  </a:lnTo>
                  <a:lnTo>
                    <a:pt x="1606" y="2117"/>
                  </a:lnTo>
                  <a:lnTo>
                    <a:pt x="1597" y="2122"/>
                  </a:lnTo>
                  <a:lnTo>
                    <a:pt x="1588" y="2130"/>
                  </a:lnTo>
                  <a:lnTo>
                    <a:pt x="1579" y="2144"/>
                  </a:lnTo>
                  <a:lnTo>
                    <a:pt x="1570" y="2152"/>
                  </a:lnTo>
                  <a:lnTo>
                    <a:pt x="1566" y="2161"/>
                  </a:lnTo>
                  <a:lnTo>
                    <a:pt x="1562" y="2174"/>
                  </a:lnTo>
                  <a:lnTo>
                    <a:pt x="1553" y="2192"/>
                  </a:lnTo>
                  <a:lnTo>
                    <a:pt x="1544" y="2210"/>
                  </a:lnTo>
                  <a:lnTo>
                    <a:pt x="1544" y="2227"/>
                  </a:lnTo>
                  <a:lnTo>
                    <a:pt x="1548" y="2249"/>
                  </a:lnTo>
                  <a:lnTo>
                    <a:pt x="1553" y="2254"/>
                  </a:lnTo>
                  <a:lnTo>
                    <a:pt x="1562" y="2263"/>
                  </a:lnTo>
                  <a:lnTo>
                    <a:pt x="1566" y="2263"/>
                  </a:lnTo>
                  <a:lnTo>
                    <a:pt x="1570" y="2267"/>
                  </a:lnTo>
                  <a:lnTo>
                    <a:pt x="1597" y="2267"/>
                  </a:lnTo>
                  <a:lnTo>
                    <a:pt x="1623" y="2263"/>
                  </a:lnTo>
                  <a:lnTo>
                    <a:pt x="1650" y="2249"/>
                  </a:lnTo>
                  <a:lnTo>
                    <a:pt x="1676" y="2245"/>
                  </a:lnTo>
                  <a:lnTo>
                    <a:pt x="1703" y="2236"/>
                  </a:lnTo>
                  <a:lnTo>
                    <a:pt x="1729" y="2236"/>
                  </a:lnTo>
                  <a:lnTo>
                    <a:pt x="1756" y="2241"/>
                  </a:lnTo>
                  <a:lnTo>
                    <a:pt x="1786" y="2254"/>
                  </a:lnTo>
                  <a:lnTo>
                    <a:pt x="1795" y="2249"/>
                  </a:lnTo>
                  <a:lnTo>
                    <a:pt x="1808" y="2249"/>
                  </a:lnTo>
                  <a:lnTo>
                    <a:pt x="1817" y="2249"/>
                  </a:lnTo>
                  <a:lnTo>
                    <a:pt x="1826" y="2241"/>
                  </a:lnTo>
                  <a:lnTo>
                    <a:pt x="1844" y="2197"/>
                  </a:lnTo>
                  <a:lnTo>
                    <a:pt x="1813" y="2055"/>
                  </a:lnTo>
                  <a:lnTo>
                    <a:pt x="1800" y="2029"/>
                  </a:lnTo>
                  <a:lnTo>
                    <a:pt x="1795" y="2007"/>
                  </a:lnTo>
                  <a:lnTo>
                    <a:pt x="1778" y="1989"/>
                  </a:lnTo>
                  <a:lnTo>
                    <a:pt x="1764" y="1972"/>
                  </a:lnTo>
                  <a:lnTo>
                    <a:pt x="1751" y="1958"/>
                  </a:lnTo>
                  <a:lnTo>
                    <a:pt x="1729" y="1954"/>
                  </a:lnTo>
                  <a:lnTo>
                    <a:pt x="1711" y="1945"/>
                  </a:lnTo>
                  <a:lnTo>
                    <a:pt x="1694" y="1941"/>
                  </a:lnTo>
                  <a:lnTo>
                    <a:pt x="1676" y="1932"/>
                  </a:lnTo>
                  <a:lnTo>
                    <a:pt x="1659" y="1928"/>
                  </a:lnTo>
                  <a:lnTo>
                    <a:pt x="1641" y="1919"/>
                  </a:lnTo>
                  <a:lnTo>
                    <a:pt x="1623" y="1906"/>
                  </a:lnTo>
                  <a:lnTo>
                    <a:pt x="1606" y="1901"/>
                  </a:lnTo>
                  <a:lnTo>
                    <a:pt x="1606" y="1892"/>
                  </a:lnTo>
                  <a:lnTo>
                    <a:pt x="1597" y="1888"/>
                  </a:lnTo>
                  <a:lnTo>
                    <a:pt x="1588" y="1848"/>
                  </a:lnTo>
                  <a:lnTo>
                    <a:pt x="1592" y="1804"/>
                  </a:lnTo>
                  <a:lnTo>
                    <a:pt x="1606" y="1764"/>
                  </a:lnTo>
                  <a:lnTo>
                    <a:pt x="1628" y="1729"/>
                  </a:lnTo>
                  <a:lnTo>
                    <a:pt x="1632" y="1725"/>
                  </a:lnTo>
                  <a:lnTo>
                    <a:pt x="1632" y="1720"/>
                  </a:lnTo>
                  <a:lnTo>
                    <a:pt x="1641" y="1707"/>
                  </a:lnTo>
                  <a:lnTo>
                    <a:pt x="1650" y="1689"/>
                  </a:lnTo>
                  <a:lnTo>
                    <a:pt x="1659" y="1676"/>
                  </a:lnTo>
                  <a:lnTo>
                    <a:pt x="1672" y="1667"/>
                  </a:lnTo>
                  <a:lnTo>
                    <a:pt x="1685" y="1654"/>
                  </a:lnTo>
                  <a:lnTo>
                    <a:pt x="1698" y="1641"/>
                  </a:lnTo>
                  <a:lnTo>
                    <a:pt x="1711" y="1628"/>
                  </a:lnTo>
                  <a:lnTo>
                    <a:pt x="1720" y="1619"/>
                  </a:lnTo>
                  <a:lnTo>
                    <a:pt x="1760" y="1562"/>
                  </a:lnTo>
                  <a:lnTo>
                    <a:pt x="1764" y="1597"/>
                  </a:lnTo>
                  <a:lnTo>
                    <a:pt x="1773" y="1632"/>
                  </a:lnTo>
                  <a:lnTo>
                    <a:pt x="1786" y="1667"/>
                  </a:lnTo>
                  <a:lnTo>
                    <a:pt x="1795" y="1703"/>
                  </a:lnTo>
                  <a:lnTo>
                    <a:pt x="1813" y="1734"/>
                  </a:lnTo>
                  <a:lnTo>
                    <a:pt x="1831" y="1764"/>
                  </a:lnTo>
                  <a:lnTo>
                    <a:pt x="1857" y="1791"/>
                  </a:lnTo>
                  <a:lnTo>
                    <a:pt x="1883" y="1813"/>
                  </a:lnTo>
                  <a:lnTo>
                    <a:pt x="1892" y="1817"/>
                  </a:lnTo>
                  <a:lnTo>
                    <a:pt x="1901" y="1826"/>
                  </a:lnTo>
                  <a:lnTo>
                    <a:pt x="1906" y="1831"/>
                  </a:lnTo>
                  <a:lnTo>
                    <a:pt x="1910" y="1831"/>
                  </a:lnTo>
                  <a:lnTo>
                    <a:pt x="1932" y="1839"/>
                  </a:lnTo>
                  <a:lnTo>
                    <a:pt x="1954" y="1844"/>
                  </a:lnTo>
                  <a:lnTo>
                    <a:pt x="1980" y="1853"/>
                  </a:lnTo>
                  <a:lnTo>
                    <a:pt x="2003" y="1853"/>
                  </a:lnTo>
                  <a:lnTo>
                    <a:pt x="2025" y="1857"/>
                  </a:lnTo>
                  <a:lnTo>
                    <a:pt x="2051" y="1857"/>
                  </a:lnTo>
                  <a:lnTo>
                    <a:pt x="2077" y="1866"/>
                  </a:lnTo>
                  <a:lnTo>
                    <a:pt x="2100" y="1866"/>
                  </a:lnTo>
                  <a:lnTo>
                    <a:pt x="2108" y="1875"/>
                  </a:lnTo>
                  <a:lnTo>
                    <a:pt x="2117" y="1879"/>
                  </a:lnTo>
                  <a:lnTo>
                    <a:pt x="2126" y="1879"/>
                  </a:lnTo>
                  <a:lnTo>
                    <a:pt x="2135" y="1888"/>
                  </a:lnTo>
                  <a:lnTo>
                    <a:pt x="2144" y="1892"/>
                  </a:lnTo>
                  <a:lnTo>
                    <a:pt x="2152" y="1892"/>
                  </a:lnTo>
                  <a:lnTo>
                    <a:pt x="2157" y="1901"/>
                  </a:lnTo>
                  <a:lnTo>
                    <a:pt x="2161" y="1906"/>
                  </a:lnTo>
                  <a:lnTo>
                    <a:pt x="2174" y="1914"/>
                  </a:lnTo>
                  <a:lnTo>
                    <a:pt x="2183" y="1923"/>
                  </a:lnTo>
                  <a:lnTo>
                    <a:pt x="2192" y="1932"/>
                  </a:lnTo>
                  <a:lnTo>
                    <a:pt x="2205" y="1941"/>
                  </a:lnTo>
                  <a:lnTo>
                    <a:pt x="2210" y="1967"/>
                  </a:lnTo>
                  <a:lnTo>
                    <a:pt x="2210" y="1998"/>
                  </a:lnTo>
                  <a:lnTo>
                    <a:pt x="2205" y="2029"/>
                  </a:lnTo>
                  <a:lnTo>
                    <a:pt x="2197" y="2055"/>
                  </a:lnTo>
                  <a:lnTo>
                    <a:pt x="2170" y="2086"/>
                  </a:lnTo>
                  <a:lnTo>
                    <a:pt x="2157" y="2091"/>
                  </a:lnTo>
                  <a:lnTo>
                    <a:pt x="2144" y="2104"/>
                  </a:lnTo>
                  <a:lnTo>
                    <a:pt x="2126" y="2113"/>
                  </a:lnTo>
                  <a:lnTo>
                    <a:pt x="2117" y="2126"/>
                  </a:lnTo>
                  <a:lnTo>
                    <a:pt x="2104" y="2139"/>
                  </a:lnTo>
                  <a:lnTo>
                    <a:pt x="2095" y="2152"/>
                  </a:lnTo>
                  <a:lnTo>
                    <a:pt x="2086" y="2166"/>
                  </a:lnTo>
                  <a:lnTo>
                    <a:pt x="2073" y="2183"/>
                  </a:lnTo>
                  <a:lnTo>
                    <a:pt x="2073" y="2227"/>
                  </a:lnTo>
                  <a:lnTo>
                    <a:pt x="2086" y="2249"/>
                  </a:lnTo>
                  <a:lnTo>
                    <a:pt x="2095" y="2249"/>
                  </a:lnTo>
                  <a:lnTo>
                    <a:pt x="2100" y="2254"/>
                  </a:lnTo>
                  <a:lnTo>
                    <a:pt x="2104" y="2263"/>
                  </a:lnTo>
                  <a:lnTo>
                    <a:pt x="2108" y="2267"/>
                  </a:lnTo>
                  <a:lnTo>
                    <a:pt x="2126" y="2272"/>
                  </a:lnTo>
                  <a:lnTo>
                    <a:pt x="2144" y="2276"/>
                  </a:lnTo>
                  <a:lnTo>
                    <a:pt x="2161" y="2272"/>
                  </a:lnTo>
                  <a:lnTo>
                    <a:pt x="2183" y="2267"/>
                  </a:lnTo>
                  <a:lnTo>
                    <a:pt x="2205" y="2263"/>
                  </a:lnTo>
                  <a:lnTo>
                    <a:pt x="2223" y="2263"/>
                  </a:lnTo>
                  <a:lnTo>
                    <a:pt x="2241" y="2254"/>
                  </a:lnTo>
                  <a:lnTo>
                    <a:pt x="2258" y="2249"/>
                  </a:lnTo>
                  <a:lnTo>
                    <a:pt x="2294" y="2214"/>
                  </a:lnTo>
                  <a:lnTo>
                    <a:pt x="2307" y="2192"/>
                  </a:lnTo>
                  <a:lnTo>
                    <a:pt x="2320" y="2161"/>
                  </a:lnTo>
                  <a:lnTo>
                    <a:pt x="2329" y="2135"/>
                  </a:lnTo>
                  <a:lnTo>
                    <a:pt x="2338" y="2104"/>
                  </a:lnTo>
                  <a:lnTo>
                    <a:pt x="2342" y="2077"/>
                  </a:lnTo>
                  <a:lnTo>
                    <a:pt x="2346" y="2051"/>
                  </a:lnTo>
                  <a:lnTo>
                    <a:pt x="2355" y="2029"/>
                  </a:lnTo>
                  <a:lnTo>
                    <a:pt x="2360" y="2007"/>
                  </a:lnTo>
                  <a:lnTo>
                    <a:pt x="2364" y="1972"/>
                  </a:lnTo>
                  <a:lnTo>
                    <a:pt x="2373" y="1932"/>
                  </a:lnTo>
                  <a:lnTo>
                    <a:pt x="2373" y="1901"/>
                  </a:lnTo>
                  <a:lnTo>
                    <a:pt x="2377" y="1866"/>
                  </a:lnTo>
                  <a:lnTo>
                    <a:pt x="2382" y="1857"/>
                  </a:lnTo>
                  <a:lnTo>
                    <a:pt x="2382" y="1853"/>
                  </a:lnTo>
                  <a:lnTo>
                    <a:pt x="2386" y="1848"/>
                  </a:lnTo>
                  <a:lnTo>
                    <a:pt x="2391" y="1839"/>
                  </a:lnTo>
                  <a:lnTo>
                    <a:pt x="2395" y="1831"/>
                  </a:lnTo>
                  <a:lnTo>
                    <a:pt x="2408" y="1826"/>
                  </a:lnTo>
                  <a:lnTo>
                    <a:pt x="2417" y="1822"/>
                  </a:lnTo>
                  <a:lnTo>
                    <a:pt x="2426" y="1817"/>
                  </a:lnTo>
                  <a:lnTo>
                    <a:pt x="2443" y="1813"/>
                  </a:lnTo>
                  <a:lnTo>
                    <a:pt x="2452" y="1808"/>
                  </a:lnTo>
                  <a:lnTo>
                    <a:pt x="2466" y="1804"/>
                  </a:lnTo>
                  <a:lnTo>
                    <a:pt x="2479" y="1800"/>
                  </a:lnTo>
                  <a:lnTo>
                    <a:pt x="2483" y="1795"/>
                  </a:lnTo>
                  <a:lnTo>
                    <a:pt x="2488" y="1795"/>
                  </a:lnTo>
                  <a:lnTo>
                    <a:pt x="2492" y="1795"/>
                  </a:lnTo>
                  <a:lnTo>
                    <a:pt x="2496" y="1795"/>
                  </a:lnTo>
                  <a:lnTo>
                    <a:pt x="2505" y="1800"/>
                  </a:lnTo>
                  <a:lnTo>
                    <a:pt x="2518" y="1804"/>
                  </a:lnTo>
                  <a:lnTo>
                    <a:pt x="2523" y="1813"/>
                  </a:lnTo>
                  <a:lnTo>
                    <a:pt x="2532" y="1826"/>
                  </a:lnTo>
                  <a:lnTo>
                    <a:pt x="2536" y="1835"/>
                  </a:lnTo>
                  <a:lnTo>
                    <a:pt x="2545" y="1848"/>
                  </a:lnTo>
                  <a:lnTo>
                    <a:pt x="2549" y="1857"/>
                  </a:lnTo>
                  <a:lnTo>
                    <a:pt x="2554" y="1870"/>
                  </a:lnTo>
                  <a:lnTo>
                    <a:pt x="2563" y="1897"/>
                  </a:lnTo>
                  <a:lnTo>
                    <a:pt x="2571" y="1919"/>
                  </a:lnTo>
                  <a:lnTo>
                    <a:pt x="2585" y="1936"/>
                  </a:lnTo>
                  <a:lnTo>
                    <a:pt x="2589" y="1958"/>
                  </a:lnTo>
                  <a:lnTo>
                    <a:pt x="2608" y="1998"/>
                  </a:lnTo>
                  <a:lnTo>
                    <a:pt x="2616" y="2033"/>
                  </a:lnTo>
                  <a:lnTo>
                    <a:pt x="2625" y="2069"/>
                  </a:lnTo>
                  <a:lnTo>
                    <a:pt x="2639" y="2104"/>
                  </a:lnTo>
                  <a:lnTo>
                    <a:pt x="2647" y="2130"/>
                  </a:lnTo>
                  <a:lnTo>
                    <a:pt x="2652" y="2148"/>
                  </a:lnTo>
                  <a:lnTo>
                    <a:pt x="2661" y="2170"/>
                  </a:lnTo>
                  <a:lnTo>
                    <a:pt x="2669" y="2188"/>
                  </a:lnTo>
                  <a:lnTo>
                    <a:pt x="2678" y="2210"/>
                  </a:lnTo>
                  <a:lnTo>
                    <a:pt x="2687" y="2227"/>
                  </a:lnTo>
                  <a:lnTo>
                    <a:pt x="2696" y="2249"/>
                  </a:lnTo>
                  <a:lnTo>
                    <a:pt x="2705" y="2267"/>
                  </a:lnTo>
                  <a:lnTo>
                    <a:pt x="2705" y="2276"/>
                  </a:lnTo>
                  <a:lnTo>
                    <a:pt x="2705" y="2280"/>
                  </a:lnTo>
                  <a:lnTo>
                    <a:pt x="2705" y="2289"/>
                  </a:lnTo>
                  <a:lnTo>
                    <a:pt x="2705" y="2294"/>
                  </a:lnTo>
                  <a:lnTo>
                    <a:pt x="2731" y="2320"/>
                  </a:lnTo>
                  <a:lnTo>
                    <a:pt x="2749" y="2342"/>
                  </a:lnTo>
                  <a:lnTo>
                    <a:pt x="2775" y="2369"/>
                  </a:lnTo>
                  <a:lnTo>
                    <a:pt x="2797" y="2395"/>
                  </a:lnTo>
                  <a:lnTo>
                    <a:pt x="2824" y="2421"/>
                  </a:lnTo>
                  <a:lnTo>
                    <a:pt x="2850" y="2439"/>
                  </a:lnTo>
                  <a:lnTo>
                    <a:pt x="2877" y="2461"/>
                  </a:lnTo>
                  <a:lnTo>
                    <a:pt x="2908" y="2479"/>
                  </a:lnTo>
                  <a:lnTo>
                    <a:pt x="2938" y="2492"/>
                  </a:lnTo>
                  <a:lnTo>
                    <a:pt x="2965" y="2501"/>
                  </a:lnTo>
                  <a:lnTo>
                    <a:pt x="2991" y="2501"/>
                  </a:lnTo>
                  <a:lnTo>
                    <a:pt x="3022" y="2501"/>
                  </a:lnTo>
                  <a:lnTo>
                    <a:pt x="3053" y="2501"/>
                  </a:lnTo>
                  <a:lnTo>
                    <a:pt x="3079" y="2501"/>
                  </a:lnTo>
                  <a:lnTo>
                    <a:pt x="3110" y="2501"/>
                  </a:lnTo>
                  <a:lnTo>
                    <a:pt x="3141" y="2501"/>
                  </a:lnTo>
                  <a:lnTo>
                    <a:pt x="3150" y="2501"/>
                  </a:lnTo>
                  <a:lnTo>
                    <a:pt x="3154" y="2501"/>
                  </a:lnTo>
                  <a:lnTo>
                    <a:pt x="3159" y="2496"/>
                  </a:lnTo>
                  <a:lnTo>
                    <a:pt x="3168" y="2492"/>
                  </a:lnTo>
                  <a:lnTo>
                    <a:pt x="3185" y="2488"/>
                  </a:lnTo>
                  <a:lnTo>
                    <a:pt x="3203" y="2483"/>
                  </a:lnTo>
                  <a:lnTo>
                    <a:pt x="3216" y="2474"/>
                  </a:lnTo>
                  <a:lnTo>
                    <a:pt x="3229" y="2466"/>
                  </a:lnTo>
                  <a:lnTo>
                    <a:pt x="3243" y="2461"/>
                  </a:lnTo>
                  <a:lnTo>
                    <a:pt x="3256" y="2448"/>
                  </a:lnTo>
                  <a:lnTo>
                    <a:pt x="3265" y="2435"/>
                  </a:lnTo>
                  <a:lnTo>
                    <a:pt x="3274" y="2426"/>
                  </a:lnTo>
                  <a:lnTo>
                    <a:pt x="3300" y="2408"/>
                  </a:lnTo>
                  <a:lnTo>
                    <a:pt x="3313" y="2395"/>
                  </a:lnTo>
                  <a:lnTo>
                    <a:pt x="3331" y="2369"/>
                  </a:lnTo>
                  <a:lnTo>
                    <a:pt x="3348" y="2351"/>
                  </a:lnTo>
                  <a:lnTo>
                    <a:pt x="3366" y="2324"/>
                  </a:lnTo>
                  <a:lnTo>
                    <a:pt x="3379" y="2302"/>
                  </a:lnTo>
                  <a:lnTo>
                    <a:pt x="3393" y="2276"/>
                  </a:lnTo>
                  <a:lnTo>
                    <a:pt x="3406" y="2249"/>
                  </a:lnTo>
                  <a:lnTo>
                    <a:pt x="3454" y="2086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1880" y="689040"/>
              <a:ext cx="295560" cy="354240"/>
            </a:xfrm>
            <a:custGeom>
              <a:avLst/>
              <a:gdLst/>
              <a:ahLst/>
              <a:rect l="0" t="0" r="r" b="b"/>
              <a:pathLst>
                <a:path w="821" h="984">
                  <a:moveTo>
                    <a:pt x="821" y="144"/>
                  </a:moveTo>
                  <a:lnTo>
                    <a:pt x="804" y="127"/>
                  </a:lnTo>
                  <a:lnTo>
                    <a:pt x="778" y="114"/>
                  </a:lnTo>
                  <a:lnTo>
                    <a:pt x="762" y="102"/>
                  </a:lnTo>
                  <a:lnTo>
                    <a:pt x="740" y="89"/>
                  </a:lnTo>
                  <a:lnTo>
                    <a:pt x="719" y="72"/>
                  </a:lnTo>
                  <a:lnTo>
                    <a:pt x="698" y="51"/>
                  </a:lnTo>
                  <a:lnTo>
                    <a:pt x="685" y="34"/>
                  </a:lnTo>
                  <a:lnTo>
                    <a:pt x="673" y="0"/>
                  </a:lnTo>
                  <a:lnTo>
                    <a:pt x="664" y="0"/>
                  </a:lnTo>
                  <a:lnTo>
                    <a:pt x="656" y="0"/>
                  </a:lnTo>
                  <a:lnTo>
                    <a:pt x="647" y="25"/>
                  </a:lnTo>
                  <a:lnTo>
                    <a:pt x="635" y="38"/>
                  </a:lnTo>
                  <a:lnTo>
                    <a:pt x="622" y="51"/>
                  </a:lnTo>
                  <a:lnTo>
                    <a:pt x="605" y="63"/>
                  </a:lnTo>
                  <a:lnTo>
                    <a:pt x="592" y="76"/>
                  </a:lnTo>
                  <a:lnTo>
                    <a:pt x="575" y="85"/>
                  </a:lnTo>
                  <a:lnTo>
                    <a:pt x="559" y="89"/>
                  </a:lnTo>
                  <a:lnTo>
                    <a:pt x="542" y="93"/>
                  </a:lnTo>
                  <a:lnTo>
                    <a:pt x="521" y="93"/>
                  </a:lnTo>
                  <a:lnTo>
                    <a:pt x="512" y="89"/>
                  </a:lnTo>
                  <a:lnTo>
                    <a:pt x="504" y="80"/>
                  </a:lnTo>
                  <a:lnTo>
                    <a:pt x="499" y="76"/>
                  </a:lnTo>
                  <a:lnTo>
                    <a:pt x="491" y="76"/>
                  </a:lnTo>
                  <a:lnTo>
                    <a:pt x="470" y="80"/>
                  </a:lnTo>
                  <a:lnTo>
                    <a:pt x="491" y="161"/>
                  </a:lnTo>
                  <a:lnTo>
                    <a:pt x="504" y="246"/>
                  </a:lnTo>
                  <a:lnTo>
                    <a:pt x="495" y="332"/>
                  </a:lnTo>
                  <a:lnTo>
                    <a:pt x="474" y="421"/>
                  </a:lnTo>
                  <a:lnTo>
                    <a:pt x="453" y="459"/>
                  </a:lnTo>
                  <a:lnTo>
                    <a:pt x="436" y="499"/>
                  </a:lnTo>
                  <a:lnTo>
                    <a:pt x="411" y="533"/>
                  </a:lnTo>
                  <a:lnTo>
                    <a:pt x="384" y="562"/>
                  </a:lnTo>
                  <a:lnTo>
                    <a:pt x="355" y="592"/>
                  </a:lnTo>
                  <a:lnTo>
                    <a:pt x="329" y="622"/>
                  </a:lnTo>
                  <a:lnTo>
                    <a:pt x="295" y="643"/>
                  </a:lnTo>
                  <a:lnTo>
                    <a:pt x="262" y="669"/>
                  </a:lnTo>
                  <a:lnTo>
                    <a:pt x="240" y="677"/>
                  </a:lnTo>
                  <a:lnTo>
                    <a:pt x="219" y="686"/>
                  </a:lnTo>
                  <a:lnTo>
                    <a:pt x="198" y="694"/>
                  </a:lnTo>
                  <a:lnTo>
                    <a:pt x="177" y="703"/>
                  </a:lnTo>
                  <a:lnTo>
                    <a:pt x="160" y="711"/>
                  </a:lnTo>
                  <a:lnTo>
                    <a:pt x="139" y="716"/>
                  </a:lnTo>
                  <a:lnTo>
                    <a:pt x="118" y="724"/>
                  </a:lnTo>
                  <a:lnTo>
                    <a:pt x="97" y="728"/>
                  </a:lnTo>
                  <a:lnTo>
                    <a:pt x="84" y="733"/>
                  </a:lnTo>
                  <a:lnTo>
                    <a:pt x="67" y="741"/>
                  </a:lnTo>
                  <a:lnTo>
                    <a:pt x="59" y="750"/>
                  </a:lnTo>
                  <a:lnTo>
                    <a:pt x="42" y="754"/>
                  </a:lnTo>
                  <a:lnTo>
                    <a:pt x="33" y="763"/>
                  </a:lnTo>
                  <a:lnTo>
                    <a:pt x="21" y="775"/>
                  </a:lnTo>
                  <a:lnTo>
                    <a:pt x="12" y="784"/>
                  </a:lnTo>
                  <a:lnTo>
                    <a:pt x="4" y="801"/>
                  </a:lnTo>
                  <a:lnTo>
                    <a:pt x="0" y="822"/>
                  </a:lnTo>
                  <a:lnTo>
                    <a:pt x="0" y="843"/>
                  </a:lnTo>
                  <a:lnTo>
                    <a:pt x="0" y="869"/>
                  </a:lnTo>
                  <a:lnTo>
                    <a:pt x="4" y="886"/>
                  </a:lnTo>
                  <a:lnTo>
                    <a:pt x="12" y="907"/>
                  </a:lnTo>
                  <a:lnTo>
                    <a:pt x="21" y="929"/>
                  </a:lnTo>
                  <a:lnTo>
                    <a:pt x="25" y="946"/>
                  </a:lnTo>
                  <a:lnTo>
                    <a:pt x="42" y="958"/>
                  </a:lnTo>
                  <a:lnTo>
                    <a:pt x="59" y="975"/>
                  </a:lnTo>
                  <a:lnTo>
                    <a:pt x="80" y="984"/>
                  </a:lnTo>
                  <a:lnTo>
                    <a:pt x="101" y="984"/>
                  </a:lnTo>
                  <a:lnTo>
                    <a:pt x="122" y="984"/>
                  </a:lnTo>
                  <a:lnTo>
                    <a:pt x="143" y="984"/>
                  </a:lnTo>
                  <a:lnTo>
                    <a:pt x="169" y="980"/>
                  </a:lnTo>
                  <a:lnTo>
                    <a:pt x="186" y="971"/>
                  </a:lnTo>
                  <a:lnTo>
                    <a:pt x="211" y="963"/>
                  </a:lnTo>
                  <a:lnTo>
                    <a:pt x="219" y="958"/>
                  </a:lnTo>
                  <a:lnTo>
                    <a:pt x="224" y="958"/>
                  </a:lnTo>
                  <a:lnTo>
                    <a:pt x="228" y="954"/>
                  </a:lnTo>
                  <a:lnTo>
                    <a:pt x="236" y="946"/>
                  </a:lnTo>
                  <a:lnTo>
                    <a:pt x="245" y="946"/>
                  </a:lnTo>
                  <a:lnTo>
                    <a:pt x="253" y="946"/>
                  </a:lnTo>
                  <a:lnTo>
                    <a:pt x="257" y="937"/>
                  </a:lnTo>
                  <a:lnTo>
                    <a:pt x="262" y="933"/>
                  </a:lnTo>
                  <a:lnTo>
                    <a:pt x="270" y="924"/>
                  </a:lnTo>
                  <a:lnTo>
                    <a:pt x="279" y="920"/>
                  </a:lnTo>
                  <a:lnTo>
                    <a:pt x="283" y="911"/>
                  </a:lnTo>
                  <a:lnTo>
                    <a:pt x="291" y="907"/>
                  </a:lnTo>
                  <a:lnTo>
                    <a:pt x="308" y="894"/>
                  </a:lnTo>
                  <a:lnTo>
                    <a:pt x="325" y="886"/>
                  </a:lnTo>
                  <a:lnTo>
                    <a:pt x="338" y="873"/>
                  </a:lnTo>
                  <a:lnTo>
                    <a:pt x="355" y="856"/>
                  </a:lnTo>
                  <a:lnTo>
                    <a:pt x="367" y="843"/>
                  </a:lnTo>
                  <a:lnTo>
                    <a:pt x="380" y="831"/>
                  </a:lnTo>
                  <a:lnTo>
                    <a:pt x="397" y="818"/>
                  </a:lnTo>
                  <a:lnTo>
                    <a:pt x="405" y="801"/>
                  </a:lnTo>
                  <a:lnTo>
                    <a:pt x="411" y="792"/>
                  </a:lnTo>
                  <a:lnTo>
                    <a:pt x="411" y="788"/>
                  </a:lnTo>
                  <a:lnTo>
                    <a:pt x="415" y="784"/>
                  </a:lnTo>
                  <a:lnTo>
                    <a:pt x="419" y="784"/>
                  </a:lnTo>
                  <a:lnTo>
                    <a:pt x="461" y="711"/>
                  </a:lnTo>
                  <a:lnTo>
                    <a:pt x="495" y="660"/>
                  </a:lnTo>
                  <a:lnTo>
                    <a:pt x="647" y="357"/>
                  </a:lnTo>
                  <a:lnTo>
                    <a:pt x="715" y="263"/>
                  </a:lnTo>
                  <a:lnTo>
                    <a:pt x="821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001880" y="689040"/>
              <a:ext cx="306720" cy="365400"/>
            </a:xfrm>
            <a:custGeom>
              <a:avLst/>
              <a:gdLst/>
              <a:ahLst/>
              <a:rect l="0" t="0" r="r" b="b"/>
              <a:pathLst>
                <a:path fill="none" w="852" h="1015">
                  <a:moveTo>
                    <a:pt x="852" y="149"/>
                  </a:moveTo>
                  <a:lnTo>
                    <a:pt x="852" y="149"/>
                  </a:lnTo>
                  <a:lnTo>
                    <a:pt x="830" y="132"/>
                  </a:lnTo>
                  <a:lnTo>
                    <a:pt x="807" y="119"/>
                  </a:lnTo>
                  <a:lnTo>
                    <a:pt x="790" y="105"/>
                  </a:lnTo>
                  <a:lnTo>
                    <a:pt x="763" y="92"/>
                  </a:lnTo>
                  <a:lnTo>
                    <a:pt x="746" y="74"/>
                  </a:lnTo>
                  <a:lnTo>
                    <a:pt x="724" y="52"/>
                  </a:lnTo>
                  <a:lnTo>
                    <a:pt x="710" y="35"/>
                  </a:lnTo>
                  <a:lnTo>
                    <a:pt x="697" y="0"/>
                  </a:lnTo>
                  <a:lnTo>
                    <a:pt x="693" y="0"/>
                  </a:lnTo>
                  <a:lnTo>
                    <a:pt x="688" y="0"/>
                  </a:lnTo>
                  <a:lnTo>
                    <a:pt x="684" y="0"/>
                  </a:lnTo>
                  <a:lnTo>
                    <a:pt x="680" y="0"/>
                  </a:lnTo>
                  <a:lnTo>
                    <a:pt x="675" y="0"/>
                  </a:lnTo>
                  <a:lnTo>
                    <a:pt x="666" y="26"/>
                  </a:lnTo>
                  <a:lnTo>
                    <a:pt x="658" y="39"/>
                  </a:lnTo>
                  <a:lnTo>
                    <a:pt x="644" y="52"/>
                  </a:lnTo>
                  <a:lnTo>
                    <a:pt x="631" y="66"/>
                  </a:lnTo>
                  <a:lnTo>
                    <a:pt x="613" y="79"/>
                  </a:lnTo>
                  <a:lnTo>
                    <a:pt x="596" y="88"/>
                  </a:lnTo>
                  <a:lnTo>
                    <a:pt x="578" y="92"/>
                  </a:lnTo>
                  <a:lnTo>
                    <a:pt x="561" y="97"/>
                  </a:lnTo>
                  <a:lnTo>
                    <a:pt x="543" y="97"/>
                  </a:lnTo>
                  <a:lnTo>
                    <a:pt x="530" y="92"/>
                  </a:lnTo>
                  <a:lnTo>
                    <a:pt x="525" y="83"/>
                  </a:lnTo>
                  <a:lnTo>
                    <a:pt x="516" y="79"/>
                  </a:lnTo>
                  <a:lnTo>
                    <a:pt x="508" y="79"/>
                  </a:lnTo>
                  <a:lnTo>
                    <a:pt x="486" y="83"/>
                  </a:lnTo>
                  <a:lnTo>
                    <a:pt x="508" y="167"/>
                  </a:lnTo>
                  <a:lnTo>
                    <a:pt x="521" y="251"/>
                  </a:lnTo>
                  <a:lnTo>
                    <a:pt x="512" y="343"/>
                  </a:lnTo>
                  <a:lnTo>
                    <a:pt x="490" y="432"/>
                  </a:lnTo>
                  <a:lnTo>
                    <a:pt x="472" y="471"/>
                  </a:lnTo>
                  <a:lnTo>
                    <a:pt x="450" y="512"/>
                  </a:lnTo>
                  <a:lnTo>
                    <a:pt x="423" y="547"/>
                  </a:lnTo>
                  <a:lnTo>
                    <a:pt x="396" y="583"/>
                  </a:lnTo>
                  <a:lnTo>
                    <a:pt x="370" y="609"/>
                  </a:lnTo>
                  <a:lnTo>
                    <a:pt x="339" y="640"/>
                  </a:lnTo>
                  <a:lnTo>
                    <a:pt x="304" y="662"/>
                  </a:lnTo>
                  <a:lnTo>
                    <a:pt x="268" y="688"/>
                  </a:lnTo>
                  <a:lnTo>
                    <a:pt x="246" y="697"/>
                  </a:lnTo>
                  <a:lnTo>
                    <a:pt x="229" y="706"/>
                  </a:lnTo>
                  <a:lnTo>
                    <a:pt x="207" y="715"/>
                  </a:lnTo>
                  <a:lnTo>
                    <a:pt x="185" y="724"/>
                  </a:lnTo>
                  <a:lnTo>
                    <a:pt x="167" y="733"/>
                  </a:lnTo>
                  <a:lnTo>
                    <a:pt x="145" y="741"/>
                  </a:lnTo>
                  <a:lnTo>
                    <a:pt x="123" y="746"/>
                  </a:lnTo>
                  <a:lnTo>
                    <a:pt x="101" y="755"/>
                  </a:lnTo>
                  <a:lnTo>
                    <a:pt x="88" y="755"/>
                  </a:lnTo>
                  <a:lnTo>
                    <a:pt x="70" y="763"/>
                  </a:lnTo>
                  <a:lnTo>
                    <a:pt x="61" y="768"/>
                  </a:lnTo>
                  <a:lnTo>
                    <a:pt x="44" y="777"/>
                  </a:lnTo>
                  <a:lnTo>
                    <a:pt x="35" y="781"/>
                  </a:lnTo>
                  <a:lnTo>
                    <a:pt x="22" y="794"/>
                  </a:lnTo>
                  <a:lnTo>
                    <a:pt x="13" y="807"/>
                  </a:lnTo>
                  <a:lnTo>
                    <a:pt x="4" y="821"/>
                  </a:lnTo>
                  <a:lnTo>
                    <a:pt x="0" y="847"/>
                  </a:lnTo>
                  <a:lnTo>
                    <a:pt x="0" y="869"/>
                  </a:lnTo>
                  <a:lnTo>
                    <a:pt x="0" y="891"/>
                  </a:lnTo>
                  <a:lnTo>
                    <a:pt x="4" y="913"/>
                  </a:lnTo>
                  <a:lnTo>
                    <a:pt x="13" y="935"/>
                  </a:lnTo>
                  <a:lnTo>
                    <a:pt x="22" y="953"/>
                  </a:lnTo>
                  <a:lnTo>
                    <a:pt x="26" y="975"/>
                  </a:lnTo>
                  <a:lnTo>
                    <a:pt x="44" y="988"/>
                  </a:lnTo>
                  <a:lnTo>
                    <a:pt x="61" y="1006"/>
                  </a:lnTo>
                  <a:lnTo>
                    <a:pt x="83" y="1010"/>
                  </a:lnTo>
                  <a:lnTo>
                    <a:pt x="105" y="1015"/>
                  </a:lnTo>
                  <a:lnTo>
                    <a:pt x="127" y="1015"/>
                  </a:lnTo>
                  <a:lnTo>
                    <a:pt x="149" y="1010"/>
                  </a:lnTo>
                  <a:lnTo>
                    <a:pt x="176" y="1006"/>
                  </a:lnTo>
                  <a:lnTo>
                    <a:pt x="194" y="997"/>
                  </a:lnTo>
                  <a:lnTo>
                    <a:pt x="216" y="993"/>
                  </a:lnTo>
                  <a:lnTo>
                    <a:pt x="224" y="988"/>
                  </a:lnTo>
                  <a:lnTo>
                    <a:pt x="229" y="984"/>
                  </a:lnTo>
                  <a:lnTo>
                    <a:pt x="238" y="979"/>
                  </a:lnTo>
                  <a:lnTo>
                    <a:pt x="242" y="975"/>
                  </a:lnTo>
                  <a:lnTo>
                    <a:pt x="251" y="975"/>
                  </a:lnTo>
                  <a:lnTo>
                    <a:pt x="260" y="971"/>
                  </a:lnTo>
                  <a:lnTo>
                    <a:pt x="264" y="966"/>
                  </a:lnTo>
                  <a:lnTo>
                    <a:pt x="273" y="957"/>
                  </a:lnTo>
                  <a:lnTo>
                    <a:pt x="277" y="953"/>
                  </a:lnTo>
                  <a:lnTo>
                    <a:pt x="286" y="944"/>
                  </a:lnTo>
                  <a:lnTo>
                    <a:pt x="291" y="940"/>
                  </a:lnTo>
                  <a:lnTo>
                    <a:pt x="299" y="935"/>
                  </a:lnTo>
                  <a:lnTo>
                    <a:pt x="317" y="922"/>
                  </a:lnTo>
                  <a:lnTo>
                    <a:pt x="335" y="913"/>
                  </a:lnTo>
                  <a:lnTo>
                    <a:pt x="352" y="900"/>
                  </a:lnTo>
                  <a:lnTo>
                    <a:pt x="366" y="882"/>
                  </a:lnTo>
                  <a:lnTo>
                    <a:pt x="379" y="869"/>
                  </a:lnTo>
                  <a:lnTo>
                    <a:pt x="396" y="856"/>
                  </a:lnTo>
                  <a:lnTo>
                    <a:pt x="410" y="838"/>
                  </a:lnTo>
                  <a:lnTo>
                    <a:pt x="418" y="821"/>
                  </a:lnTo>
                  <a:lnTo>
                    <a:pt x="423" y="816"/>
                  </a:lnTo>
                  <a:lnTo>
                    <a:pt x="428" y="807"/>
                  </a:lnTo>
                  <a:lnTo>
                    <a:pt x="433" y="807"/>
                  </a:lnTo>
                  <a:lnTo>
                    <a:pt x="477" y="733"/>
                  </a:lnTo>
                  <a:lnTo>
                    <a:pt x="516" y="680"/>
                  </a:lnTo>
                  <a:lnTo>
                    <a:pt x="666" y="370"/>
                  </a:lnTo>
                  <a:lnTo>
                    <a:pt x="741" y="268"/>
                  </a:lnTo>
                  <a:lnTo>
                    <a:pt x="852" y="149"/>
                  </a:ln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19160" y="522360"/>
              <a:ext cx="190800" cy="149760"/>
            </a:xfrm>
            <a:custGeom>
              <a:avLst/>
              <a:gdLst/>
              <a:ahLst/>
              <a:rect l="0" t="0" r="r" b="b"/>
              <a:pathLst>
                <a:path w="530" h="416">
                  <a:moveTo>
                    <a:pt x="530" y="323"/>
                  </a:moveTo>
                  <a:lnTo>
                    <a:pt x="526" y="305"/>
                  </a:lnTo>
                  <a:lnTo>
                    <a:pt x="521" y="293"/>
                  </a:lnTo>
                  <a:lnTo>
                    <a:pt x="521" y="281"/>
                  </a:lnTo>
                  <a:lnTo>
                    <a:pt x="530" y="269"/>
                  </a:lnTo>
                  <a:lnTo>
                    <a:pt x="526" y="261"/>
                  </a:lnTo>
                  <a:lnTo>
                    <a:pt x="521" y="252"/>
                  </a:lnTo>
                  <a:lnTo>
                    <a:pt x="517" y="244"/>
                  </a:lnTo>
                  <a:lnTo>
                    <a:pt x="513" y="232"/>
                  </a:lnTo>
                  <a:lnTo>
                    <a:pt x="501" y="204"/>
                  </a:lnTo>
                  <a:lnTo>
                    <a:pt x="497" y="183"/>
                  </a:lnTo>
                  <a:lnTo>
                    <a:pt x="488" y="167"/>
                  </a:lnTo>
                  <a:lnTo>
                    <a:pt x="476" y="151"/>
                  </a:lnTo>
                  <a:lnTo>
                    <a:pt x="464" y="135"/>
                  </a:lnTo>
                  <a:lnTo>
                    <a:pt x="451" y="118"/>
                  </a:lnTo>
                  <a:lnTo>
                    <a:pt x="439" y="97"/>
                  </a:lnTo>
                  <a:lnTo>
                    <a:pt x="426" y="85"/>
                  </a:lnTo>
                  <a:lnTo>
                    <a:pt x="414" y="69"/>
                  </a:lnTo>
                  <a:lnTo>
                    <a:pt x="389" y="52"/>
                  </a:lnTo>
                  <a:lnTo>
                    <a:pt x="373" y="36"/>
                  </a:lnTo>
                  <a:lnTo>
                    <a:pt x="352" y="28"/>
                  </a:lnTo>
                  <a:lnTo>
                    <a:pt x="335" y="20"/>
                  </a:lnTo>
                  <a:lnTo>
                    <a:pt x="311" y="12"/>
                  </a:lnTo>
                  <a:lnTo>
                    <a:pt x="286" y="8"/>
                  </a:lnTo>
                  <a:lnTo>
                    <a:pt x="264" y="4"/>
                  </a:lnTo>
                  <a:lnTo>
                    <a:pt x="239" y="0"/>
                  </a:lnTo>
                  <a:lnTo>
                    <a:pt x="219" y="0"/>
                  </a:lnTo>
                  <a:lnTo>
                    <a:pt x="194" y="4"/>
                  </a:lnTo>
                  <a:lnTo>
                    <a:pt x="165" y="12"/>
                  </a:lnTo>
                  <a:lnTo>
                    <a:pt x="140" y="20"/>
                  </a:lnTo>
                  <a:lnTo>
                    <a:pt x="115" y="32"/>
                  </a:lnTo>
                  <a:lnTo>
                    <a:pt x="90" y="44"/>
                  </a:lnTo>
                  <a:lnTo>
                    <a:pt x="70" y="56"/>
                  </a:lnTo>
                  <a:lnTo>
                    <a:pt x="49" y="73"/>
                  </a:lnTo>
                  <a:lnTo>
                    <a:pt x="33" y="97"/>
                  </a:lnTo>
                  <a:lnTo>
                    <a:pt x="20" y="126"/>
                  </a:lnTo>
                  <a:lnTo>
                    <a:pt x="4" y="159"/>
                  </a:lnTo>
                  <a:lnTo>
                    <a:pt x="0" y="192"/>
                  </a:lnTo>
                  <a:lnTo>
                    <a:pt x="12" y="220"/>
                  </a:lnTo>
                  <a:lnTo>
                    <a:pt x="20" y="244"/>
                  </a:lnTo>
                  <a:lnTo>
                    <a:pt x="28" y="265"/>
                  </a:lnTo>
                  <a:lnTo>
                    <a:pt x="37" y="281"/>
                  </a:lnTo>
                  <a:lnTo>
                    <a:pt x="53" y="293"/>
                  </a:lnTo>
                  <a:lnTo>
                    <a:pt x="62" y="293"/>
                  </a:lnTo>
                  <a:lnTo>
                    <a:pt x="70" y="301"/>
                  </a:lnTo>
                  <a:lnTo>
                    <a:pt x="74" y="305"/>
                  </a:lnTo>
                  <a:lnTo>
                    <a:pt x="78" y="305"/>
                  </a:lnTo>
                  <a:lnTo>
                    <a:pt x="169" y="289"/>
                  </a:lnTo>
                  <a:lnTo>
                    <a:pt x="219" y="183"/>
                  </a:lnTo>
                  <a:lnTo>
                    <a:pt x="231" y="192"/>
                  </a:lnTo>
                  <a:lnTo>
                    <a:pt x="243" y="208"/>
                  </a:lnTo>
                  <a:lnTo>
                    <a:pt x="243" y="232"/>
                  </a:lnTo>
                  <a:lnTo>
                    <a:pt x="252" y="248"/>
                  </a:lnTo>
                  <a:lnTo>
                    <a:pt x="252" y="269"/>
                  </a:lnTo>
                  <a:lnTo>
                    <a:pt x="248" y="285"/>
                  </a:lnTo>
                  <a:lnTo>
                    <a:pt x="243" y="301"/>
                  </a:lnTo>
                  <a:lnTo>
                    <a:pt x="239" y="318"/>
                  </a:lnTo>
                  <a:lnTo>
                    <a:pt x="231" y="331"/>
                  </a:lnTo>
                  <a:lnTo>
                    <a:pt x="223" y="343"/>
                  </a:lnTo>
                  <a:lnTo>
                    <a:pt x="214" y="355"/>
                  </a:lnTo>
                  <a:lnTo>
                    <a:pt x="202" y="367"/>
                  </a:lnTo>
                  <a:lnTo>
                    <a:pt x="219" y="379"/>
                  </a:lnTo>
                  <a:lnTo>
                    <a:pt x="235" y="392"/>
                  </a:lnTo>
                  <a:lnTo>
                    <a:pt x="252" y="400"/>
                  </a:lnTo>
                  <a:lnTo>
                    <a:pt x="269" y="404"/>
                  </a:lnTo>
                  <a:lnTo>
                    <a:pt x="286" y="412"/>
                  </a:lnTo>
                  <a:lnTo>
                    <a:pt x="306" y="416"/>
                  </a:lnTo>
                  <a:lnTo>
                    <a:pt x="323" y="416"/>
                  </a:lnTo>
                  <a:lnTo>
                    <a:pt x="344" y="416"/>
                  </a:lnTo>
                  <a:lnTo>
                    <a:pt x="348" y="412"/>
                  </a:lnTo>
                  <a:lnTo>
                    <a:pt x="348" y="408"/>
                  </a:lnTo>
                  <a:lnTo>
                    <a:pt x="352" y="408"/>
                  </a:lnTo>
                  <a:lnTo>
                    <a:pt x="381" y="293"/>
                  </a:lnTo>
                  <a:lnTo>
                    <a:pt x="389" y="305"/>
                  </a:lnTo>
                  <a:lnTo>
                    <a:pt x="406" y="318"/>
                  </a:lnTo>
                  <a:lnTo>
                    <a:pt x="414" y="339"/>
                  </a:lnTo>
                  <a:lnTo>
                    <a:pt x="422" y="355"/>
                  </a:lnTo>
                  <a:lnTo>
                    <a:pt x="426" y="355"/>
                  </a:lnTo>
                  <a:lnTo>
                    <a:pt x="430" y="359"/>
                  </a:lnTo>
                  <a:lnTo>
                    <a:pt x="435" y="363"/>
                  </a:lnTo>
                  <a:lnTo>
                    <a:pt x="439" y="367"/>
                  </a:lnTo>
                  <a:lnTo>
                    <a:pt x="451" y="367"/>
                  </a:lnTo>
                  <a:lnTo>
                    <a:pt x="464" y="367"/>
                  </a:lnTo>
                  <a:lnTo>
                    <a:pt x="476" y="367"/>
                  </a:lnTo>
                  <a:lnTo>
                    <a:pt x="488" y="363"/>
                  </a:lnTo>
                  <a:lnTo>
                    <a:pt x="497" y="355"/>
                  </a:lnTo>
                  <a:lnTo>
                    <a:pt x="509" y="343"/>
                  </a:lnTo>
                  <a:lnTo>
                    <a:pt x="521" y="335"/>
                  </a:lnTo>
                  <a:lnTo>
                    <a:pt x="530" y="327"/>
                  </a:lnTo>
                  <a:lnTo>
                    <a:pt x="530" y="3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19160" y="522360"/>
              <a:ext cx="200520" cy="159120"/>
            </a:xfrm>
            <a:custGeom>
              <a:avLst/>
              <a:gdLst/>
              <a:ahLst/>
              <a:rect l="0" t="0" r="r" b="b"/>
              <a:pathLst>
                <a:path fill="none" w="557" h="442">
                  <a:moveTo>
                    <a:pt x="557" y="345"/>
                  </a:moveTo>
                  <a:lnTo>
                    <a:pt x="557" y="345"/>
                  </a:lnTo>
                  <a:lnTo>
                    <a:pt x="557" y="332"/>
                  </a:lnTo>
                  <a:lnTo>
                    <a:pt x="553" y="318"/>
                  </a:lnTo>
                  <a:lnTo>
                    <a:pt x="553" y="305"/>
                  </a:lnTo>
                  <a:lnTo>
                    <a:pt x="557" y="292"/>
                  </a:lnTo>
                  <a:lnTo>
                    <a:pt x="557" y="278"/>
                  </a:lnTo>
                  <a:lnTo>
                    <a:pt x="548" y="269"/>
                  </a:lnTo>
                  <a:lnTo>
                    <a:pt x="548" y="261"/>
                  </a:lnTo>
                  <a:lnTo>
                    <a:pt x="544" y="247"/>
                  </a:lnTo>
                  <a:lnTo>
                    <a:pt x="531" y="217"/>
                  </a:lnTo>
                  <a:lnTo>
                    <a:pt x="522" y="199"/>
                  </a:lnTo>
                  <a:lnTo>
                    <a:pt x="513" y="177"/>
                  </a:lnTo>
                  <a:lnTo>
                    <a:pt x="504" y="159"/>
                  </a:lnTo>
                  <a:lnTo>
                    <a:pt x="491" y="142"/>
                  </a:lnTo>
                  <a:lnTo>
                    <a:pt x="478" y="124"/>
                  </a:lnTo>
                  <a:lnTo>
                    <a:pt x="460" y="105"/>
                  </a:lnTo>
                  <a:lnTo>
                    <a:pt x="451" y="92"/>
                  </a:lnTo>
                  <a:lnTo>
                    <a:pt x="434" y="74"/>
                  </a:lnTo>
                  <a:lnTo>
                    <a:pt x="415" y="57"/>
                  </a:lnTo>
                  <a:lnTo>
                    <a:pt x="393" y="39"/>
                  </a:lnTo>
                  <a:lnTo>
                    <a:pt x="371" y="30"/>
                  </a:lnTo>
                  <a:lnTo>
                    <a:pt x="353" y="22"/>
                  </a:lnTo>
                  <a:lnTo>
                    <a:pt x="331" y="13"/>
                  </a:lnTo>
                  <a:lnTo>
                    <a:pt x="305" y="8"/>
                  </a:lnTo>
                  <a:lnTo>
                    <a:pt x="278" y="4"/>
                  </a:lnTo>
                  <a:lnTo>
                    <a:pt x="252" y="0"/>
                  </a:lnTo>
                  <a:lnTo>
                    <a:pt x="230" y="0"/>
                  </a:lnTo>
                  <a:lnTo>
                    <a:pt x="203" y="4"/>
                  </a:lnTo>
                  <a:lnTo>
                    <a:pt x="172" y="13"/>
                  </a:lnTo>
                  <a:lnTo>
                    <a:pt x="146" y="22"/>
                  </a:lnTo>
                  <a:lnTo>
                    <a:pt x="123" y="35"/>
                  </a:lnTo>
                  <a:lnTo>
                    <a:pt x="97" y="48"/>
                  </a:lnTo>
                  <a:lnTo>
                    <a:pt x="74" y="61"/>
                  </a:lnTo>
                  <a:lnTo>
                    <a:pt x="52" y="79"/>
                  </a:lnTo>
                  <a:lnTo>
                    <a:pt x="35" y="105"/>
                  </a:lnTo>
                  <a:lnTo>
                    <a:pt x="22" y="133"/>
                  </a:lnTo>
                  <a:lnTo>
                    <a:pt x="4" y="168"/>
                  </a:lnTo>
                  <a:lnTo>
                    <a:pt x="0" y="203"/>
                  </a:lnTo>
                  <a:lnTo>
                    <a:pt x="13" y="239"/>
                  </a:lnTo>
                  <a:lnTo>
                    <a:pt x="22" y="265"/>
                  </a:lnTo>
                  <a:lnTo>
                    <a:pt x="30" y="283"/>
                  </a:lnTo>
                  <a:lnTo>
                    <a:pt x="39" y="300"/>
                  </a:lnTo>
                  <a:lnTo>
                    <a:pt x="57" y="318"/>
                  </a:lnTo>
                  <a:lnTo>
                    <a:pt x="66" y="318"/>
                  </a:lnTo>
                  <a:lnTo>
                    <a:pt x="74" y="322"/>
                  </a:lnTo>
                  <a:lnTo>
                    <a:pt x="79" y="327"/>
                  </a:lnTo>
                  <a:lnTo>
                    <a:pt x="83" y="332"/>
                  </a:lnTo>
                  <a:lnTo>
                    <a:pt x="181" y="309"/>
                  </a:lnTo>
                  <a:lnTo>
                    <a:pt x="230" y="199"/>
                  </a:lnTo>
                  <a:lnTo>
                    <a:pt x="243" y="203"/>
                  </a:lnTo>
                  <a:lnTo>
                    <a:pt x="256" y="225"/>
                  </a:lnTo>
                  <a:lnTo>
                    <a:pt x="261" y="247"/>
                  </a:lnTo>
                  <a:lnTo>
                    <a:pt x="265" y="265"/>
                  </a:lnTo>
                  <a:lnTo>
                    <a:pt x="265" y="292"/>
                  </a:lnTo>
                  <a:lnTo>
                    <a:pt x="261" y="305"/>
                  </a:lnTo>
                  <a:lnTo>
                    <a:pt x="261" y="322"/>
                  </a:lnTo>
                  <a:lnTo>
                    <a:pt x="252" y="341"/>
                  </a:lnTo>
                  <a:lnTo>
                    <a:pt x="243" y="354"/>
                  </a:lnTo>
                  <a:lnTo>
                    <a:pt x="234" y="368"/>
                  </a:lnTo>
                  <a:lnTo>
                    <a:pt x="225" y="381"/>
                  </a:lnTo>
                  <a:lnTo>
                    <a:pt x="217" y="394"/>
                  </a:lnTo>
                  <a:lnTo>
                    <a:pt x="230" y="403"/>
                  </a:lnTo>
                  <a:lnTo>
                    <a:pt x="247" y="416"/>
                  </a:lnTo>
                  <a:lnTo>
                    <a:pt x="265" y="425"/>
                  </a:lnTo>
                  <a:lnTo>
                    <a:pt x="283" y="434"/>
                  </a:lnTo>
                  <a:lnTo>
                    <a:pt x="305" y="438"/>
                  </a:lnTo>
                  <a:lnTo>
                    <a:pt x="322" y="442"/>
                  </a:lnTo>
                  <a:lnTo>
                    <a:pt x="340" y="442"/>
                  </a:lnTo>
                  <a:lnTo>
                    <a:pt x="362" y="442"/>
                  </a:lnTo>
                  <a:lnTo>
                    <a:pt x="367" y="438"/>
                  </a:lnTo>
                  <a:lnTo>
                    <a:pt x="371" y="438"/>
                  </a:lnTo>
                  <a:lnTo>
                    <a:pt x="402" y="318"/>
                  </a:lnTo>
                  <a:lnTo>
                    <a:pt x="415" y="327"/>
                  </a:lnTo>
                  <a:lnTo>
                    <a:pt x="425" y="341"/>
                  </a:lnTo>
                  <a:lnTo>
                    <a:pt x="434" y="359"/>
                  </a:lnTo>
                  <a:lnTo>
                    <a:pt x="447" y="376"/>
                  </a:lnTo>
                  <a:lnTo>
                    <a:pt x="451" y="381"/>
                  </a:lnTo>
                  <a:lnTo>
                    <a:pt x="451" y="385"/>
                  </a:lnTo>
                  <a:lnTo>
                    <a:pt x="460" y="385"/>
                  </a:lnTo>
                  <a:lnTo>
                    <a:pt x="460" y="390"/>
                  </a:lnTo>
                  <a:lnTo>
                    <a:pt x="478" y="394"/>
                  </a:lnTo>
                  <a:lnTo>
                    <a:pt x="491" y="394"/>
                  </a:lnTo>
                  <a:lnTo>
                    <a:pt x="504" y="390"/>
                  </a:lnTo>
                  <a:lnTo>
                    <a:pt x="513" y="385"/>
                  </a:lnTo>
                  <a:lnTo>
                    <a:pt x="526" y="376"/>
                  </a:lnTo>
                  <a:lnTo>
                    <a:pt x="539" y="368"/>
                  </a:lnTo>
                  <a:lnTo>
                    <a:pt x="548" y="359"/>
                  </a:lnTo>
                  <a:lnTo>
                    <a:pt x="557" y="345"/>
                  </a:ln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41480" y="728640"/>
              <a:ext cx="65520" cy="124200"/>
            </a:xfrm>
            <a:custGeom>
              <a:avLst/>
              <a:gdLst/>
              <a:ahLst/>
              <a:rect l="0" t="0" r="r" b="b"/>
              <a:pathLst>
                <a:path w="182" h="345">
                  <a:moveTo>
                    <a:pt x="179" y="140"/>
                  </a:moveTo>
                  <a:lnTo>
                    <a:pt x="168" y="31"/>
                  </a:lnTo>
                  <a:lnTo>
                    <a:pt x="138" y="0"/>
                  </a:lnTo>
                  <a:lnTo>
                    <a:pt x="48" y="11"/>
                  </a:lnTo>
                  <a:lnTo>
                    <a:pt x="40" y="19"/>
                  </a:lnTo>
                  <a:lnTo>
                    <a:pt x="33" y="27"/>
                  </a:lnTo>
                  <a:lnTo>
                    <a:pt x="25" y="35"/>
                  </a:lnTo>
                  <a:lnTo>
                    <a:pt x="18" y="43"/>
                  </a:lnTo>
                  <a:lnTo>
                    <a:pt x="11" y="51"/>
                  </a:lnTo>
                  <a:lnTo>
                    <a:pt x="7" y="63"/>
                  </a:lnTo>
                  <a:lnTo>
                    <a:pt x="3" y="75"/>
                  </a:lnTo>
                  <a:lnTo>
                    <a:pt x="0" y="92"/>
                  </a:lnTo>
                  <a:lnTo>
                    <a:pt x="0" y="116"/>
                  </a:lnTo>
                  <a:lnTo>
                    <a:pt x="3" y="140"/>
                  </a:lnTo>
                  <a:lnTo>
                    <a:pt x="11" y="160"/>
                  </a:lnTo>
                  <a:lnTo>
                    <a:pt x="22" y="176"/>
                  </a:lnTo>
                  <a:lnTo>
                    <a:pt x="25" y="180"/>
                  </a:lnTo>
                  <a:lnTo>
                    <a:pt x="33" y="180"/>
                  </a:lnTo>
                  <a:lnTo>
                    <a:pt x="40" y="184"/>
                  </a:lnTo>
                  <a:lnTo>
                    <a:pt x="48" y="184"/>
                  </a:lnTo>
                  <a:lnTo>
                    <a:pt x="52" y="184"/>
                  </a:lnTo>
                  <a:lnTo>
                    <a:pt x="56" y="184"/>
                  </a:lnTo>
                  <a:lnTo>
                    <a:pt x="63" y="184"/>
                  </a:lnTo>
                  <a:lnTo>
                    <a:pt x="67" y="184"/>
                  </a:lnTo>
                  <a:lnTo>
                    <a:pt x="74" y="188"/>
                  </a:lnTo>
                  <a:lnTo>
                    <a:pt x="78" y="192"/>
                  </a:lnTo>
                  <a:lnTo>
                    <a:pt x="78" y="200"/>
                  </a:lnTo>
                  <a:lnTo>
                    <a:pt x="74" y="212"/>
                  </a:lnTo>
                  <a:lnTo>
                    <a:pt x="71" y="232"/>
                  </a:lnTo>
                  <a:lnTo>
                    <a:pt x="63" y="248"/>
                  </a:lnTo>
                  <a:lnTo>
                    <a:pt x="56" y="273"/>
                  </a:lnTo>
                  <a:lnTo>
                    <a:pt x="40" y="285"/>
                  </a:lnTo>
                  <a:lnTo>
                    <a:pt x="33" y="297"/>
                  </a:lnTo>
                  <a:lnTo>
                    <a:pt x="22" y="313"/>
                  </a:lnTo>
                  <a:lnTo>
                    <a:pt x="11" y="325"/>
                  </a:lnTo>
                  <a:lnTo>
                    <a:pt x="0" y="341"/>
                  </a:lnTo>
                  <a:lnTo>
                    <a:pt x="7" y="341"/>
                  </a:lnTo>
                  <a:lnTo>
                    <a:pt x="14" y="345"/>
                  </a:lnTo>
                  <a:lnTo>
                    <a:pt x="22" y="345"/>
                  </a:lnTo>
                  <a:lnTo>
                    <a:pt x="29" y="341"/>
                  </a:lnTo>
                  <a:lnTo>
                    <a:pt x="33" y="341"/>
                  </a:lnTo>
                  <a:lnTo>
                    <a:pt x="33" y="337"/>
                  </a:lnTo>
                  <a:lnTo>
                    <a:pt x="36" y="333"/>
                  </a:lnTo>
                  <a:lnTo>
                    <a:pt x="40" y="329"/>
                  </a:lnTo>
                  <a:lnTo>
                    <a:pt x="56" y="329"/>
                  </a:lnTo>
                  <a:lnTo>
                    <a:pt x="74" y="321"/>
                  </a:lnTo>
                  <a:lnTo>
                    <a:pt x="85" y="313"/>
                  </a:lnTo>
                  <a:lnTo>
                    <a:pt x="96" y="301"/>
                  </a:lnTo>
                  <a:lnTo>
                    <a:pt x="108" y="289"/>
                  </a:lnTo>
                  <a:lnTo>
                    <a:pt x="119" y="273"/>
                  </a:lnTo>
                  <a:lnTo>
                    <a:pt x="130" y="261"/>
                  </a:lnTo>
                  <a:lnTo>
                    <a:pt x="142" y="240"/>
                  </a:lnTo>
                  <a:lnTo>
                    <a:pt x="153" y="224"/>
                  </a:lnTo>
                  <a:lnTo>
                    <a:pt x="156" y="212"/>
                  </a:lnTo>
                  <a:lnTo>
                    <a:pt x="160" y="196"/>
                  </a:lnTo>
                  <a:lnTo>
                    <a:pt x="168" y="184"/>
                  </a:lnTo>
                  <a:lnTo>
                    <a:pt x="168" y="172"/>
                  </a:lnTo>
                  <a:lnTo>
                    <a:pt x="171" y="164"/>
                  </a:lnTo>
                  <a:lnTo>
                    <a:pt x="175" y="152"/>
                  </a:lnTo>
                  <a:lnTo>
                    <a:pt x="182" y="144"/>
                  </a:lnTo>
                  <a:lnTo>
                    <a:pt x="179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041480" y="728640"/>
              <a:ext cx="74880" cy="133560"/>
            </a:xfrm>
            <a:custGeom>
              <a:avLst/>
              <a:gdLst/>
              <a:ahLst/>
              <a:rect l="0" t="0" r="r" b="b"/>
              <a:pathLst>
                <a:path fill="none" w="208" h="371">
                  <a:moveTo>
                    <a:pt x="208" y="149"/>
                  </a:moveTo>
                  <a:lnTo>
                    <a:pt x="190" y="35"/>
                  </a:lnTo>
                  <a:lnTo>
                    <a:pt x="159" y="0"/>
                  </a:lnTo>
                  <a:lnTo>
                    <a:pt x="57" y="13"/>
                  </a:lnTo>
                  <a:lnTo>
                    <a:pt x="48" y="22"/>
                  </a:lnTo>
                  <a:lnTo>
                    <a:pt x="39" y="30"/>
                  </a:lnTo>
                  <a:lnTo>
                    <a:pt x="30" y="39"/>
                  </a:lnTo>
                  <a:lnTo>
                    <a:pt x="22" y="48"/>
                  </a:lnTo>
                  <a:lnTo>
                    <a:pt x="13" y="57"/>
                  </a:lnTo>
                  <a:lnTo>
                    <a:pt x="8" y="70"/>
                  </a:lnTo>
                  <a:lnTo>
                    <a:pt x="4" y="83"/>
                  </a:lnTo>
                  <a:lnTo>
                    <a:pt x="0" y="97"/>
                  </a:lnTo>
                  <a:lnTo>
                    <a:pt x="0" y="127"/>
                  </a:lnTo>
                  <a:lnTo>
                    <a:pt x="4" y="154"/>
                  </a:lnTo>
                  <a:lnTo>
                    <a:pt x="13" y="171"/>
                  </a:lnTo>
                  <a:lnTo>
                    <a:pt x="26" y="195"/>
                  </a:lnTo>
                  <a:lnTo>
                    <a:pt x="30" y="195"/>
                  </a:lnTo>
                  <a:lnTo>
                    <a:pt x="39" y="195"/>
                  </a:lnTo>
                  <a:lnTo>
                    <a:pt x="48" y="199"/>
                  </a:lnTo>
                  <a:lnTo>
                    <a:pt x="52" y="199"/>
                  </a:lnTo>
                  <a:lnTo>
                    <a:pt x="57" y="199"/>
                  </a:lnTo>
                  <a:lnTo>
                    <a:pt x="66" y="199"/>
                  </a:lnTo>
                  <a:lnTo>
                    <a:pt x="74" y="199"/>
                  </a:lnTo>
                  <a:lnTo>
                    <a:pt x="83" y="203"/>
                  </a:lnTo>
                  <a:lnTo>
                    <a:pt x="88" y="208"/>
                  </a:lnTo>
                  <a:lnTo>
                    <a:pt x="88" y="221"/>
                  </a:lnTo>
                  <a:lnTo>
                    <a:pt x="83" y="230"/>
                  </a:lnTo>
                  <a:lnTo>
                    <a:pt x="79" y="252"/>
                  </a:lnTo>
                  <a:lnTo>
                    <a:pt x="70" y="274"/>
                  </a:lnTo>
                  <a:lnTo>
                    <a:pt x="61" y="292"/>
                  </a:lnTo>
                  <a:lnTo>
                    <a:pt x="48" y="305"/>
                  </a:lnTo>
                  <a:lnTo>
                    <a:pt x="39" y="322"/>
                  </a:lnTo>
                  <a:lnTo>
                    <a:pt x="26" y="340"/>
                  </a:lnTo>
                  <a:lnTo>
                    <a:pt x="13" y="353"/>
                  </a:lnTo>
                  <a:lnTo>
                    <a:pt x="0" y="367"/>
                  </a:lnTo>
                  <a:lnTo>
                    <a:pt x="8" y="367"/>
                  </a:lnTo>
                  <a:lnTo>
                    <a:pt x="17" y="371"/>
                  </a:lnTo>
                  <a:lnTo>
                    <a:pt x="26" y="371"/>
                  </a:lnTo>
                  <a:lnTo>
                    <a:pt x="35" y="367"/>
                  </a:lnTo>
                  <a:lnTo>
                    <a:pt x="39" y="367"/>
                  </a:lnTo>
                  <a:lnTo>
                    <a:pt x="44" y="358"/>
                  </a:lnTo>
                  <a:lnTo>
                    <a:pt x="48" y="353"/>
                  </a:lnTo>
                  <a:lnTo>
                    <a:pt x="66" y="353"/>
                  </a:lnTo>
                  <a:lnTo>
                    <a:pt x="83" y="344"/>
                  </a:lnTo>
                  <a:lnTo>
                    <a:pt x="101" y="340"/>
                  </a:lnTo>
                  <a:lnTo>
                    <a:pt x="111" y="327"/>
                  </a:lnTo>
                  <a:lnTo>
                    <a:pt x="128" y="314"/>
                  </a:lnTo>
                  <a:lnTo>
                    <a:pt x="137" y="296"/>
                  </a:lnTo>
                  <a:lnTo>
                    <a:pt x="150" y="278"/>
                  </a:lnTo>
                  <a:lnTo>
                    <a:pt x="164" y="261"/>
                  </a:lnTo>
                  <a:lnTo>
                    <a:pt x="172" y="247"/>
                  </a:lnTo>
                  <a:lnTo>
                    <a:pt x="181" y="230"/>
                  </a:lnTo>
                  <a:lnTo>
                    <a:pt x="186" y="212"/>
                  </a:lnTo>
                  <a:lnTo>
                    <a:pt x="190" y="199"/>
                  </a:lnTo>
                  <a:lnTo>
                    <a:pt x="195" y="186"/>
                  </a:lnTo>
                  <a:lnTo>
                    <a:pt x="199" y="176"/>
                  </a:lnTo>
                  <a:lnTo>
                    <a:pt x="203" y="167"/>
                  </a:lnTo>
                  <a:lnTo>
                    <a:pt x="208" y="154"/>
                  </a:lnTo>
                  <a:lnTo>
                    <a:pt x="208" y="149"/>
                  </a:ln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17560" y="1125360"/>
              <a:ext cx="114840" cy="147960"/>
            </a:xfrm>
            <a:custGeom>
              <a:avLst/>
              <a:gdLst/>
              <a:ahLst/>
              <a:rect l="0" t="0" r="r" b="b"/>
              <a:pathLst>
                <a:path w="319" h="411">
                  <a:moveTo>
                    <a:pt x="319" y="268"/>
                  </a:moveTo>
                  <a:lnTo>
                    <a:pt x="307" y="174"/>
                  </a:lnTo>
                  <a:lnTo>
                    <a:pt x="295" y="158"/>
                  </a:lnTo>
                  <a:lnTo>
                    <a:pt x="283" y="138"/>
                  </a:lnTo>
                  <a:lnTo>
                    <a:pt x="275" y="113"/>
                  </a:lnTo>
                  <a:lnTo>
                    <a:pt x="263" y="93"/>
                  </a:lnTo>
                  <a:lnTo>
                    <a:pt x="252" y="77"/>
                  </a:lnTo>
                  <a:lnTo>
                    <a:pt x="231" y="60"/>
                  </a:lnTo>
                  <a:lnTo>
                    <a:pt x="215" y="44"/>
                  </a:lnTo>
                  <a:lnTo>
                    <a:pt x="195" y="32"/>
                  </a:lnTo>
                  <a:lnTo>
                    <a:pt x="187" y="0"/>
                  </a:lnTo>
                  <a:lnTo>
                    <a:pt x="179" y="0"/>
                  </a:lnTo>
                  <a:lnTo>
                    <a:pt x="179" y="48"/>
                  </a:lnTo>
                  <a:lnTo>
                    <a:pt x="179" y="97"/>
                  </a:lnTo>
                  <a:lnTo>
                    <a:pt x="167" y="150"/>
                  </a:lnTo>
                  <a:lnTo>
                    <a:pt x="147" y="186"/>
                  </a:lnTo>
                  <a:lnTo>
                    <a:pt x="116" y="268"/>
                  </a:lnTo>
                  <a:lnTo>
                    <a:pt x="0" y="398"/>
                  </a:lnTo>
                  <a:lnTo>
                    <a:pt x="0" y="402"/>
                  </a:lnTo>
                  <a:lnTo>
                    <a:pt x="0" y="407"/>
                  </a:lnTo>
                  <a:lnTo>
                    <a:pt x="0" y="411"/>
                  </a:lnTo>
                  <a:lnTo>
                    <a:pt x="15" y="411"/>
                  </a:lnTo>
                  <a:lnTo>
                    <a:pt x="31" y="411"/>
                  </a:lnTo>
                  <a:lnTo>
                    <a:pt x="51" y="407"/>
                  </a:lnTo>
                  <a:lnTo>
                    <a:pt x="71" y="407"/>
                  </a:lnTo>
                  <a:lnTo>
                    <a:pt x="92" y="407"/>
                  </a:lnTo>
                  <a:lnTo>
                    <a:pt x="112" y="398"/>
                  </a:lnTo>
                  <a:lnTo>
                    <a:pt x="128" y="394"/>
                  </a:lnTo>
                  <a:lnTo>
                    <a:pt x="147" y="390"/>
                  </a:lnTo>
                  <a:lnTo>
                    <a:pt x="163" y="386"/>
                  </a:lnTo>
                  <a:lnTo>
                    <a:pt x="183" y="382"/>
                  </a:lnTo>
                  <a:lnTo>
                    <a:pt x="203" y="374"/>
                  </a:lnTo>
                  <a:lnTo>
                    <a:pt x="219" y="370"/>
                  </a:lnTo>
                  <a:lnTo>
                    <a:pt x="244" y="362"/>
                  </a:lnTo>
                  <a:lnTo>
                    <a:pt x="259" y="354"/>
                  </a:lnTo>
                  <a:lnTo>
                    <a:pt x="275" y="346"/>
                  </a:lnTo>
                  <a:lnTo>
                    <a:pt x="291" y="338"/>
                  </a:lnTo>
                  <a:lnTo>
                    <a:pt x="307" y="305"/>
                  </a:lnTo>
                  <a:lnTo>
                    <a:pt x="319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17560" y="1125360"/>
              <a:ext cx="125640" cy="159120"/>
            </a:xfrm>
            <a:custGeom>
              <a:avLst/>
              <a:gdLst/>
              <a:ahLst/>
              <a:rect l="0" t="0" r="r" b="b"/>
              <a:pathLst>
                <a:path fill="none" w="349" h="442">
                  <a:moveTo>
                    <a:pt x="349" y="287"/>
                  </a:moveTo>
                  <a:lnTo>
                    <a:pt x="331" y="190"/>
                  </a:lnTo>
                  <a:lnTo>
                    <a:pt x="322" y="168"/>
                  </a:lnTo>
                  <a:lnTo>
                    <a:pt x="309" y="146"/>
                  </a:lnTo>
                  <a:lnTo>
                    <a:pt x="296" y="124"/>
                  </a:lnTo>
                  <a:lnTo>
                    <a:pt x="287" y="101"/>
                  </a:lnTo>
                  <a:lnTo>
                    <a:pt x="269" y="83"/>
                  </a:lnTo>
                  <a:lnTo>
                    <a:pt x="252" y="66"/>
                  </a:lnTo>
                  <a:lnTo>
                    <a:pt x="234" y="48"/>
                  </a:lnTo>
                  <a:lnTo>
                    <a:pt x="217" y="35"/>
                  </a:lnTo>
                  <a:lnTo>
                    <a:pt x="208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9" y="52"/>
                  </a:lnTo>
                  <a:lnTo>
                    <a:pt x="195" y="105"/>
                  </a:lnTo>
                  <a:lnTo>
                    <a:pt x="181" y="159"/>
                  </a:lnTo>
                  <a:lnTo>
                    <a:pt x="158" y="199"/>
                  </a:lnTo>
                  <a:lnTo>
                    <a:pt x="123" y="287"/>
                  </a:lnTo>
                  <a:lnTo>
                    <a:pt x="0" y="429"/>
                  </a:lnTo>
                  <a:lnTo>
                    <a:pt x="0" y="434"/>
                  </a:lnTo>
                  <a:lnTo>
                    <a:pt x="0" y="438"/>
                  </a:lnTo>
                  <a:lnTo>
                    <a:pt x="0" y="442"/>
                  </a:lnTo>
                  <a:lnTo>
                    <a:pt x="17" y="442"/>
                  </a:lnTo>
                  <a:lnTo>
                    <a:pt x="35" y="442"/>
                  </a:lnTo>
                  <a:lnTo>
                    <a:pt x="57" y="438"/>
                  </a:lnTo>
                  <a:lnTo>
                    <a:pt x="79" y="438"/>
                  </a:lnTo>
                  <a:lnTo>
                    <a:pt x="97" y="434"/>
                  </a:lnTo>
                  <a:lnTo>
                    <a:pt x="119" y="429"/>
                  </a:lnTo>
                  <a:lnTo>
                    <a:pt x="141" y="425"/>
                  </a:lnTo>
                  <a:lnTo>
                    <a:pt x="158" y="416"/>
                  </a:lnTo>
                  <a:lnTo>
                    <a:pt x="181" y="416"/>
                  </a:lnTo>
                  <a:lnTo>
                    <a:pt x="199" y="407"/>
                  </a:lnTo>
                  <a:lnTo>
                    <a:pt x="221" y="403"/>
                  </a:lnTo>
                  <a:lnTo>
                    <a:pt x="243" y="394"/>
                  </a:lnTo>
                  <a:lnTo>
                    <a:pt x="261" y="390"/>
                  </a:lnTo>
                  <a:lnTo>
                    <a:pt x="278" y="376"/>
                  </a:lnTo>
                  <a:lnTo>
                    <a:pt x="296" y="372"/>
                  </a:lnTo>
                  <a:lnTo>
                    <a:pt x="318" y="363"/>
                  </a:lnTo>
                  <a:lnTo>
                    <a:pt x="331" y="327"/>
                  </a:lnTo>
                  <a:lnTo>
                    <a:pt x="349" y="287"/>
                  </a:ln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371680" y="38088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43080" y="2286000"/>
            <a:ext cx="6553080" cy="2514600"/>
          </a:xfrm>
          <a:prstGeom prst="rect">
            <a:avLst/>
          </a:prstGeom>
          <a:solidFill>
            <a:srgbClr val="82d0ff"/>
          </a:solidFill>
          <a:ln w="0">
            <a:noFill/>
          </a:ln>
          <a:effectLst>
            <a:outerShdw dist="0" dir="0" blurRad="0" rotWithShape="0">
              <a:srgbClr val="00619c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286080" y="22860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90800" y="121932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286080" y="22860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14480" y="121932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143080" y="990720"/>
            <a:ext cx="6705720" cy="2743200"/>
          </a:xfrm>
          <a:prstGeom prst="rect">
            <a:avLst/>
          </a:prstGeom>
          <a:solidFill>
            <a:srgbClr val="82d0ff"/>
          </a:solidFill>
          <a:ln w="0">
            <a:noFill/>
          </a:ln>
          <a:effectLst>
            <a:outerShdw dist="0" dir="0" blurRad="0" rotWithShape="0">
              <a:srgbClr val="00619c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19400" y="464832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591000" y="442800"/>
            <a:ext cx="304812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066760" y="160020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743280" y="380880"/>
            <a:ext cx="3048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3080" y="1428840"/>
            <a:ext cx="7010280" cy="47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91000" y="22860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990800" y="1200240"/>
            <a:ext cx="71629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514680" y="228600"/>
            <a:ext cx="3276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066760" y="129528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362400" y="228600"/>
            <a:ext cx="3657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990800" y="144792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743280" y="228600"/>
            <a:ext cx="3048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990800" y="1066680"/>
            <a:ext cx="7315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743280" y="228600"/>
            <a:ext cx="3048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990800" y="114300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743280" y="228600"/>
            <a:ext cx="3200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066760" y="114300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CL</dc:creator>
  <dc:description/>
  <dc:language>en-US</dc:language>
  <cp:lastModifiedBy>PECL</cp:lastModifiedBy>
  <cp:revision>0</cp:revision>
  <dc:subject/>
  <dc:title>ªÀ·|¤j¾Ç¥¼¨Ó»â³S¾Ç°|  ·s¬Fªv»P·s¬F©²²Õ</dc:title>
</cp:coreProperties>
</file>