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B86-B096-4EDA-89E5-2AEE306A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B78-B992-475B-9622-B010C7D1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2194-94BE-4063-BFD8-4545B967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E7E1-447F-4FF2-8B34-2F68F43B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AA9-527D-4617-9B43-ABF1C4D9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177-0D25-49C3-AA30-E287628F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A8F-7A5B-439C-B553-D6B3FE15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1FAF-5215-4EFF-8700-EF45799D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B54-5DD3-485A-9F8A-4D1B1041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F78-7B28-4407-AD20-7E044518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8C8-BFED-432B-947F-A57297E3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A3F6-1139-4117-88C4-9D9AA133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7FD9-AFEF-41E2-94B7-52F6AC4E329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13716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運輸安全白皮書（Ⅲ）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安全篇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全真楷書"/>
              </a:rPr>
              <a:t>           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全真楷書"/>
              </a:rPr>
              <a:t>主辦單位：運輸安全組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三章  軌道安全施政概況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2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二、頒布「捷運軌道車輛技術標準規範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高運量鋼軌車輛規劃基準」規劃基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三、編印「台北地區鐵路地下化松山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板橋區間安全手冊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四、頒布「捷運系統災害防救規劃原則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五、頒布「捷運系統發生災變時乘客逃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系統規劃原則」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三章  軌道安全施政概況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3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3.2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行車安全改進之經常性工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一、鐵路平交道安全宣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二、以台鐵行車安全績效量化指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持續進行安全績效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3.3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舉行鐵路局「行安一號」演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訂定故處理程序及模擬演練手冊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四章  軌道安全問題分析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1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安全背景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安全問題之探討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1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車輛安全問題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2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行車人員安全管理問題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3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場站安全管理問題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4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工程管理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5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列車運行及行車號誌系統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6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平交道安全管理問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四章  軌道安全問題分析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7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乘客保險制度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8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安全教育與宣導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9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重大行車事故救護體系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   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緊急應變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10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行車事故分析系統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11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系統安全認證制度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12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運輸風險管理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2.13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監理問題管理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3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安全課題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五章  軌道安全政策與措施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1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5.1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安全之政策方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5.2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安全短期措施之加強項目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一、建立運輸安全資訊系統</a:t>
            </a:r>
            <a:br>
              <a:rPr sz="3200"/>
            </a:b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肇事分析評估一元化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肇事分析周延化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肇事分析邏輯及技術推論化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</a:t>
            </a: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建立軌道行車事故資料庫之建置、管理及維修制度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5.</a:t>
            </a: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建立常態的曝光量資料調查分析的系統與制度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6.</a:t>
            </a: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健全行車保安委員會之組織制度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7.</a:t>
            </a: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建立即時通報救援之機制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8.</a:t>
            </a:r>
            <a:r>
              <a:rPr b="0" lang="zh-TW" sz="2400" spc="-1" strike="noStrike">
                <a:solidFill>
                  <a:srgbClr val="000000"/>
                </a:solidFill>
                <a:latin typeface="全真楷書"/>
                <a:ea typeface="全真楷書"/>
              </a:rPr>
              <a:t>對強震即時通報系統之建立應有執行之計畫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五章  軌道安全政策與措施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2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二、推行運輸安全監督制度</a:t>
            </a:r>
            <a:br>
              <a:rPr sz="32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建立風險管理及國際安全評估系統方法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建立人員訓練制度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對各項軌道運輸之合格證照核發予以規定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加強自我管理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進行成立專責安全監理單位規劃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對緊急事故及災害應有完備之應變計畫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五章  軌道安全政策與措施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3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三、建立系統設備安全檢核制度</a:t>
            </a:r>
            <a:br>
              <a:rPr sz="32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檢討營運單位的維修計畫之執行實況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審慎檢討「行車安全規則」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辦理營運單位行車安全績效管理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持續進行增添鐵路新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機車車輛改善工作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建立車輛零組件之安全存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採購作業程序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行車有關的設備必須事前進行檢查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7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落實軌道設施設備檢修制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五章  軌道安全政策與措施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4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四、強化先進運輸技術之應用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推動</a:t>
            </a:r>
            <a:r>
              <a:rPr b="0" lang="en-US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ISO 9000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國際品保制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落實安全服務品質標準化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持續進行鐵路全面更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列車自動防護系統等工作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持續進行鐵路全線電腦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中央控制行車系統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五章  軌道安全政策與措施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5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五、加強改善鐵路平交道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持續全面檢討平交道的缺失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改善鐵路平交道及其週邊道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之安全措施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鐵路局重新檢討看柵工的定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及規劃作業方式及程序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增設現有鐵路警察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違規照相設備及告示牌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六章結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鐵路為重要的城際大眾運輸系統之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現代的列車行車控制電腦自動化控制及通訊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鐵路局死傷人數最多者為「闖越平交道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安全五項課題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1)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建立運輸安全資訊系統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2)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推行運輸安全監督制度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3)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建立車輛安全檢核制度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4)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強化先進運輸技術之應用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5)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加強改善鐵路平交道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簡報內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一章  前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二章  軌道安全現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三章  軌道安全施政概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四章  軌道安全問題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五章  軌道安全政策與措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六章  結語</a:t>
            </a:r>
            <a:br>
              <a:rPr sz="3200"/>
            </a:b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一章  前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本研究為運輸安全白皮書系列研究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定運輸安全之發展方向為「由善後提升至防範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內容包括：軌道安全現況、施政現況、問題分析、軌道安全政策、軌道安全短期施政實施要領及中長期措施展望等。</a:t>
            </a:r>
            <a:br>
              <a:rPr sz="3200"/>
            </a:b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全真楷書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二章  軌道安全現況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1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425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2.1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安全之演變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項目 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	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2666880"/>
          <a:ext cx="6629400" cy="41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666880"/>
                    <a:ext cx="66294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二章  軌道安全現況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2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全真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2.2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安全概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台灣鐵路局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行車事故主要原因總分析</a:t>
            </a:r>
            <a:br>
              <a:rPr sz="32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設備故障或老朽原因比例（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50.5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路外人員過失或犯罪原因（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31.3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天災不可抗力及其他因素（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2.0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）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員工過失原因（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6.2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）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二章  軌道安全現況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3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平交道事故原因分析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汽車（大型車及小汽車）駕駛人疏忽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55.58%)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汽車以外其他車輛（機車及牛馬車）駕 駛人疏忽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27.22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)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行人疏忽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3.22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看柵工疏忽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2.82%)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其他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.16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二章  軌道安全現況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4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2. 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台北捷運公司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行車事故主要原因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 設備故障或老朽（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53.1%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）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員工過失（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8.8%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）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天災不可抗力及其他因素（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5.6%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）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旅客民眾或承商過失或犯罪（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12.5%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），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二章  軌道安全現況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5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2.3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安全執行現況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軌道地理條件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軌道設施及營運狀況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軌道行車安全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危險品運送管理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事故救護體系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貨物運送及場站作業安全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第三章  軌道安全施政概況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(1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3.1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行車秩序與安全改進之重點工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一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全真楷書"/>
                <a:ea typeface="全真楷書"/>
              </a:rPr>
              <a:t>推動專案計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為增添新車及機車車輛改善工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進行全線電腦化中央控制行車系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前省交通處進行平交道防護設備改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及鐵路行車保安設備改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竹南、豐原間改線與雙軌工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東部鐵路改善工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完成鐵路地下化工程「萬華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板橋專案」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10:05:31Z</dcterms:created>
  <dc:creator>田養民</dc:creator>
  <dc:description/>
  <dc:language>en-US</dc:language>
  <cp:lastModifiedBy>田養民</cp:lastModifiedBy>
  <cp:lastPrinted>2001-08-30T10:47:53Z</cp:lastPrinted>
  <dcterms:modified xsi:type="dcterms:W3CDTF">2001-08-30T10:49:59Z</dcterms:modified>
  <cp:revision>8</cp:revision>
  <dc:subject/>
  <dc:title>運輸安全白皮書（Ⅲ）--軌道安全篇  主辦單位：運輸安全組  </dc:title>
</cp:coreProperties>
</file>