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31c73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1960" y="63961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ffff"/>
                </a:solidFill>
                <a:latin typeface="華康中黑體"/>
                <a:ea typeface="華康中黑體"/>
              </a:rPr>
              <a:t>交通部運輸研究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84040" y="254160"/>
            <a:ext cx="9421920" cy="6065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6769080" y="6343200"/>
            <a:ext cx="286848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全真顏體"/>
                <a:ea typeface="全真顏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40E3-A211-49CE-AC9A-3EF1691E60F1}" type="slidenum">
              <a:rPr b="1" lang="zh-TW" sz="1400" spc="-1" strike="noStrike">
                <a:solidFill>
                  <a:srgbClr val="ffffff"/>
                </a:solidFill>
                <a:latin typeface="全真顏體"/>
                <a:ea typeface="全真顏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561960" y="774720"/>
            <a:ext cx="9013320" cy="5816520"/>
            <a:chOff x="561960" y="774720"/>
            <a:chExt cx="9013320" cy="5816520"/>
          </a:xfrm>
        </p:grpSpPr>
        <p:pic>
          <p:nvPicPr>
            <p:cNvPr id="40" name="small" descr=""/>
            <p:cNvPicPr/>
            <p:nvPr/>
          </p:nvPicPr>
          <p:blipFill>
            <a:blip r:embed="rId1"/>
            <a:stretch/>
          </p:blipFill>
          <p:spPr>
            <a:xfrm>
              <a:off x="675360" y="774720"/>
              <a:ext cx="8762400" cy="50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r13-5" descr=""/>
            <p:cNvPicPr/>
            <p:nvPr/>
          </p:nvPicPr>
          <p:blipFill>
            <a:blip r:embed="rId2"/>
            <a:srcRect l="14548" t="32235" r="6890" b="0"/>
            <a:stretch/>
          </p:blipFill>
          <p:spPr>
            <a:xfrm>
              <a:off x="561960" y="1328760"/>
              <a:ext cx="9013320" cy="52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4183560" y="3773520"/>
              <a:ext cx="11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觀音工業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528360" y="4106880"/>
              <a:ext cx="108684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桃園科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工業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08560" y="2943000"/>
              <a:ext cx="139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中正國際機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685920" y="3119400"/>
              <a:ext cx="135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大園工業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24560" y="3711600"/>
              <a:ext cx="143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新長發工業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29160" y="4560840"/>
              <a:ext cx="9612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桃園科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工業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33600" y="5068800"/>
              <a:ext cx="125172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大潭濱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特定工業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9040" y="3295440"/>
              <a:ext cx="142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西濱快速道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97280" y="4008240"/>
              <a:ext cx="2131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台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55000" y="4049640"/>
              <a:ext cx="139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508000">
              <a:off x="7786800" y="4490280"/>
              <a:ext cx="324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1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508000">
              <a:off x="8290080" y="5019840"/>
              <a:ext cx="493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110</a:t>
              </a:r>
              <a:r>
                <a:rPr b="1" lang="zh-TW" sz="8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甲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839200">
              <a:off x="8913240" y="4920840"/>
              <a:ext cx="325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1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69800">
              <a:off x="4429080" y="4979520"/>
              <a:ext cx="32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1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64520" y="2359080"/>
              <a:ext cx="2095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cc"/>
                  </a:solidFill>
                  <a:latin typeface="Times New Roman"/>
                  <a:ea typeface="標楷體"/>
                </a:rPr>
                <a:t>台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cc"/>
                  </a:solidFill>
                  <a:latin typeface="Times New Roman"/>
                  <a:ea typeface="標楷體"/>
                </a:rPr>
                <a:t> </a:t>
              </a:r>
              <a:r>
                <a:rPr b="1" lang="zh-TW" sz="800" spc="-1" strike="noStrike">
                  <a:solidFill>
                    <a:srgbClr val="3333cc"/>
                  </a:solidFill>
                  <a:latin typeface="Times New Roman"/>
                  <a:ea typeface="標楷體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714400">
              <a:off x="3629520" y="5125320"/>
              <a:ext cx="325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1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743800">
              <a:off x="2286360" y="5248080"/>
              <a:ext cx="133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東西向快速道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880000">
              <a:off x="8121240" y="4143600"/>
              <a:ext cx="325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003300"/>
                  </a:solidFill>
                  <a:latin typeface="Times New Roman"/>
                  <a:ea typeface="標楷體"/>
                </a:rPr>
                <a:t>1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772800" y="1201680"/>
              <a:ext cx="3563280" cy="2246040"/>
              <a:chOff x="3772800" y="1201680"/>
              <a:chExt cx="3563280" cy="2246040"/>
            </a:xfrm>
          </p:grpSpPr>
          <p:pic>
            <p:nvPicPr>
              <p:cNvPr id="61" name="r13" descr=""/>
              <p:cNvPicPr/>
              <p:nvPr/>
            </p:nvPicPr>
            <p:blipFill>
              <a:blip r:embed="rId3"/>
              <a:srcRect l="14800" t="21877" r="0" b="14441"/>
              <a:stretch/>
            </p:blipFill>
            <p:spPr>
              <a:xfrm>
                <a:off x="3772800" y="1645560"/>
                <a:ext cx="3563280" cy="180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20532000">
                <a:off x="4505040" y="1656000"/>
                <a:ext cx="1120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第一階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535000">
                <a:off x="5439960" y="1365120"/>
                <a:ext cx="112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第二階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4506840" y="5935680"/>
            <a:ext cx="17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圖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7-2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桃園港規劃平面佈置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92880" y="3571560"/>
            <a:ext cx="6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顏體"/>
              </a:rPr>
              <a:t>7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06:29:34Z</dcterms:created>
  <dc:creator>Robert</dc:creator>
  <dc:description/>
  <dc:language>en-US</dc:language>
  <cp:lastModifiedBy>SOPHIA</cp:lastModifiedBy>
  <cp:lastPrinted>2000-11-22T06:20:42Z</cp:lastPrinted>
  <dcterms:modified xsi:type="dcterms:W3CDTF">2001-08-17T01:53:59Z</dcterms:modified>
  <cp:revision>661</cp:revision>
  <dc:subject/>
  <dc:title>無投影片標題</dc:title>
</cp:coreProperties>
</file>