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71381-9A37-43DD-AD9D-6E84FC118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2621F-0EF5-40BB-976F-F9C28F8A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FB26-2B55-472E-A97E-DDA1F4503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DA9F3-B122-4E70-A070-F92DAD7C1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3B47-854C-4741-B773-F000D944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C0E-E5CD-42EE-9EFA-742EF30E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9E1-DF11-433C-B843-B7F70333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35C0-AA08-4AE0-A017-605126B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9F15-B121-4E05-A58A-77566757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C59-67D0-4D9F-BB7E-5375F9844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5058-7CF6-4B50-B0EC-86B700D73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0E38-A2B6-4385-A290-A39BED11D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D740-B6CB-467A-9B29-17915C793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0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354720" cy="8381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1566360" y="8624880"/>
            <a:ext cx="365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圖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5-1 </a:t>
            </a:r>
            <a:r>
              <a:rPr b="0" lang="zh-TW" sz="2000" spc="-1" strike="noStrike">
                <a:solidFill>
                  <a:srgbClr val="000000"/>
                </a:solidFill>
                <a:latin typeface="華康楷書體W5"/>
                <a:ea typeface="華康楷書體W5"/>
              </a:rPr>
              <a:t>離島地區聯外空運航線分佈建議示意圖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6T03:48:46Z</dcterms:created>
  <dc:creator>Trace</dc:creator>
  <dc:description/>
  <dc:language>en-US</dc:language>
  <cp:lastModifiedBy>Trace</cp:lastModifiedBy>
  <dcterms:modified xsi:type="dcterms:W3CDTF">1999-07-26T10:00:58Z</dcterms:modified>
  <cp:revision>4</cp:revision>
  <dc:subject/>
  <dc:title>無投影片標題</dc:title>
</cp:coreProperties>
</file>