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946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3223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946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3223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6668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4936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4936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細明體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細明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細明體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細明體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549360" y="482760"/>
            <a:ext cx="8878680" cy="54352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3079440" y="5979960"/>
            <a:ext cx="39790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圖 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3-1 </a:t>
            </a:r>
            <a:r>
              <a:rPr b="0" lang="zh-TW" sz="2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旅遊運輸中心理念示意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4374360" y="1481040"/>
            <a:ext cx="1156680" cy="698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旅遊運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Times New Roman"/>
                <a:ea typeface="細明體"/>
              </a:rPr>
              <a:t>   </a:t>
            </a:r>
            <a:r>
              <a:rPr b="0" lang="zh-TW" sz="2000" spc="-1" strike="noStrike">
                <a:solidFill>
                  <a:srgbClr val="000000"/>
                </a:solidFill>
                <a:latin typeface="全真楷書"/>
                <a:ea typeface="全真楷書"/>
              </a:rPr>
              <a:t>中 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189320" y="2857680"/>
            <a:ext cx="1527120" cy="13903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045040" y="3065400"/>
            <a:ext cx="730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遊憩系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聯外運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整體規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80320" y="5000760"/>
            <a:ext cx="73008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配合設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12920" y="5000760"/>
            <a:ext cx="730080" cy="363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道路系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410720" y="4835520"/>
            <a:ext cx="1059120" cy="637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公共運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  <a:ea typeface="細明體"/>
              </a:rPr>
              <a:t>  </a:t>
            </a: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系  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56240" y="4390920"/>
            <a:ext cx="596880" cy="374760"/>
          </a:xfrm>
          <a:custGeom>
            <a:avLst/>
            <a:gdLst/>
            <a:ahLst/>
            <a:rect l="l" t="t" r="r" b="b"/>
            <a:pathLst>
              <a:path w="376" h="236">
                <a:moveTo>
                  <a:pt x="271" y="0"/>
                </a:moveTo>
                <a:lnTo>
                  <a:pt x="271" y="100"/>
                </a:lnTo>
                <a:lnTo>
                  <a:pt x="375" y="100"/>
                </a:lnTo>
                <a:lnTo>
                  <a:pt x="188" y="235"/>
                </a:lnTo>
                <a:lnTo>
                  <a:pt x="0" y="100"/>
                </a:lnTo>
                <a:lnTo>
                  <a:pt x="115" y="100"/>
                </a:lnTo>
                <a:lnTo>
                  <a:pt x="112" y="0"/>
                </a:lnTo>
                <a:lnTo>
                  <a:pt x="271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37120" y="1627200"/>
            <a:ext cx="374760" cy="596880"/>
          </a:xfrm>
          <a:custGeom>
            <a:avLst/>
            <a:gdLst/>
            <a:ahLst/>
            <a:rect l="l" t="t" r="r" b="b"/>
            <a:pathLst>
              <a:path w="236" h="376">
                <a:moveTo>
                  <a:pt x="235" y="271"/>
                </a:moveTo>
                <a:lnTo>
                  <a:pt x="135" y="271"/>
                </a:lnTo>
                <a:lnTo>
                  <a:pt x="135" y="375"/>
                </a:lnTo>
                <a:lnTo>
                  <a:pt x="0" y="188"/>
                </a:lnTo>
                <a:lnTo>
                  <a:pt x="135" y="0"/>
                </a:lnTo>
                <a:lnTo>
                  <a:pt x="135" y="115"/>
                </a:lnTo>
                <a:lnTo>
                  <a:pt x="235" y="112"/>
                </a:lnTo>
                <a:lnTo>
                  <a:pt x="235" y="271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25920" y="1627200"/>
            <a:ext cx="374760" cy="596880"/>
          </a:xfrm>
          <a:custGeom>
            <a:avLst/>
            <a:gdLst/>
            <a:ahLst/>
            <a:rect l="l" t="t" r="r" b="b"/>
            <a:pathLst>
              <a:path w="236" h="376">
                <a:moveTo>
                  <a:pt x="0" y="271"/>
                </a:moveTo>
                <a:lnTo>
                  <a:pt x="100" y="271"/>
                </a:lnTo>
                <a:lnTo>
                  <a:pt x="100" y="375"/>
                </a:lnTo>
                <a:lnTo>
                  <a:pt x="235" y="188"/>
                </a:lnTo>
                <a:lnTo>
                  <a:pt x="100" y="0"/>
                </a:lnTo>
                <a:lnTo>
                  <a:pt x="100" y="115"/>
                </a:lnTo>
                <a:lnTo>
                  <a:pt x="0" y="112"/>
                </a:lnTo>
                <a:lnTo>
                  <a:pt x="0" y="271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576840" y="1231920"/>
            <a:ext cx="1414800" cy="1414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404120" y="1460520"/>
            <a:ext cx="730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遊憩系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檢討規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50960" y="1460520"/>
            <a:ext cx="7300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運輸系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全真楷書"/>
                <a:ea typeface="全真楷書"/>
              </a:rPr>
              <a:t>角色功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14480" y="1217520"/>
            <a:ext cx="1414440" cy="14144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75320" y="2389320"/>
            <a:ext cx="596880" cy="374400"/>
          </a:xfrm>
          <a:custGeom>
            <a:avLst/>
            <a:gdLst/>
            <a:ahLst/>
            <a:rect l="l" t="t" r="r" b="b"/>
            <a:pathLst>
              <a:path w="376" h="236">
                <a:moveTo>
                  <a:pt x="104" y="0"/>
                </a:moveTo>
                <a:lnTo>
                  <a:pt x="104" y="100"/>
                </a:lnTo>
                <a:lnTo>
                  <a:pt x="0" y="100"/>
                </a:lnTo>
                <a:lnTo>
                  <a:pt x="188" y="235"/>
                </a:lnTo>
                <a:lnTo>
                  <a:pt x="375" y="100"/>
                </a:lnTo>
                <a:lnTo>
                  <a:pt x="260" y="100"/>
                </a:lnTo>
                <a:lnTo>
                  <a:pt x="263" y="0"/>
                </a:lnTo>
                <a:lnTo>
                  <a:pt x="104" y="0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017200" y="191304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749000" y="1046160"/>
            <a:ext cx="43704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  <a:ea typeface="細明體"/>
              </a:rPr>
              <a:t> </a:t>
            </a: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48080" y="166680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81600" y="267480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架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77480" y="789120"/>
            <a:ext cx="288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96720" y="888840"/>
            <a:ext cx="288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22880" y="696960"/>
            <a:ext cx="2333520" cy="2457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5" y="0"/>
                </a:moveTo>
                <a:arcTo wR="10800" hR="10800" stAng="-5404674" swAng="5404674"/>
                <a:lnTo>
                  <a:pt x="10800" y="10800"/>
                </a:lnTo>
                <a:close/>
              </a:path>
              <a:path fill="none" w="21600" h="21600">
                <a:moveTo>
                  <a:pt x="10785" y="0"/>
                </a:moveTo>
                <a:arcTo wR="10800" hR="10800" stAng="-5404674" swAng="5404674"/>
              </a:path>
            </a:pathLst>
          </a:custGeom>
          <a:noFill/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6040440" y="771840"/>
            <a:ext cx="2532960" cy="230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308720" y="704880"/>
            <a:ext cx="0" cy="48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315200" y="2685960"/>
            <a:ext cx="0" cy="47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7997760" y="1917720"/>
            <a:ext cx="47304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32840" y="274644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893360" y="237492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旅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15600" y="257004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遊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01400" y="270360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習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33040" y="215568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民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2880" y="706320"/>
            <a:ext cx="2333880" cy="2438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323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323"/>
              </a:path>
            </a:pathLst>
          </a:custGeom>
          <a:noFill/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rot="16200000">
            <a:off x="1364040" y="766800"/>
            <a:ext cx="2491560" cy="233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800"/>
                </a:moveTo>
                <a:arcTo wR="10800" hR="10800" stAng="10800000" swAng="5395621"/>
                <a:lnTo>
                  <a:pt x="10800" y="10800"/>
                </a:lnTo>
                <a:close/>
              </a:path>
              <a:path fill="none" w="21600" h="21600">
                <a:moveTo>
                  <a:pt x="0" y="10800"/>
                </a:moveTo>
                <a:arcTo wR="10800" hR="10800" stAng="10800000" swAng="5395621"/>
              </a:path>
            </a:pathLst>
          </a:custGeom>
          <a:noFill/>
          <a:ln cap="rnd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606760" y="704880"/>
            <a:ext cx="0" cy="485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06760" y="2666880"/>
            <a:ext cx="0" cy="4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422000" y="1917720"/>
            <a:ext cx="498600" cy="17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46480" y="78912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59560" y="84600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962720" y="101772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19800" y="120348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統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05320" y="140328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648080" y="193212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路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05320" y="214632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網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848240" y="234648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層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16640" y="251784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391120" y="2774880"/>
            <a:ext cx="2880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816520" y="5181480"/>
            <a:ext cx="711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97320" y="5181480"/>
            <a:ext cx="7110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923600" y="1222200"/>
            <a:ext cx="288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047440" y="1432080"/>
            <a:ext cx="288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104680" y="1679400"/>
            <a:ext cx="288000" cy="25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全真楷書"/>
                <a:ea typeface="全真楷書"/>
              </a:rPr>
              <a:t>性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30T10:00:44Z</dcterms:created>
  <dc:creator>張圓圓</dc:creator>
  <dc:description/>
  <dc:language>en-US</dc:language>
  <cp:lastModifiedBy>Trace</cp:lastModifiedBy>
  <dcterms:modified xsi:type="dcterms:W3CDTF">1999-07-26T08:53:31Z</dcterms:modified>
  <cp:revision>3</cp:revision>
  <dc:subject/>
  <dc:title>無投影片標題</dc:title>
</cp:coreProperties>
</file>