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0DE2-E336-4F61-969B-A81AA64E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2F8C-1134-4D35-A428-AA5948B3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3808-3F6B-407D-9FCC-90E23878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311E-57EE-4955-9A7C-63FD82BB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421F-23A5-4061-BF23-0FCFBEC6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E044-1CA3-4F67-9B70-4019C4D8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754B-A4F8-46D9-BAFB-E6DA18A1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B59E-38AC-4235-8F52-22BA3148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6C01-6EB1-4E77-854B-A80791D6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BBAF-8511-4DE3-92B6-40A9EBE4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7556-9F18-4BDB-ABAA-A91A329D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B042-24E9-46E3-8B3E-4A9D74C3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B212-CB98-4575-8C2F-4DF3AC05C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5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5623200" cy="8534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33480" y="8610480"/>
            <a:ext cx="30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</a:t>
            </a:r>
            <a:r>
              <a:rPr b="0" lang="zh-TW" sz="2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2 </a:t>
            </a:r>
            <a:r>
              <a:rPr b="0" lang="zh-TW" sz="2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交通量調查設站位置示意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03:48:46Z</dcterms:created>
  <dc:creator>Trace</dc:creator>
  <dc:description/>
  <dc:language>en-US</dc:language>
  <cp:lastModifiedBy>Trace</cp:lastModifiedBy>
  <dcterms:modified xsi:type="dcterms:W3CDTF">1999-07-26T08:28:27Z</dcterms:modified>
  <cp:revision>3</cp:revision>
  <dc:subject/>
  <dc:title>無投影片標題</dc:title>
</cp:coreProperties>
</file>