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784-B4C1-4895-8BEB-1F6B2F07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E08-DFBA-4E10-8EF2-6E5F8EE1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618-850A-40AE-93B3-3D637D1D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94C-B739-437A-8571-1931876D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486-BE43-406F-875E-B73C3D00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9BD-130E-48B7-9A0D-2C5B92FA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2C7-00C0-4625-9F82-95A959AF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FBF-B18B-4813-911B-6609E5A6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736-D57B-4C36-93D0-F2903CD3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4EB-C42A-45F2-81AD-7EF29202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1DB-4D63-4668-98C0-F8BC60C0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97E-00AB-4085-8D43-E2FF6547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ECB2-7B59-454A-9A47-760A4BC32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64840" y="39974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烈嶼環島公路現況〈湖井頭戰史館附近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211" descr=""/>
          <p:cNvPicPr/>
          <p:nvPr/>
        </p:nvPicPr>
        <p:blipFill>
          <a:blip r:embed="rId1"/>
          <a:srcRect l="0" t="0" r="1512" b="4180"/>
          <a:stretch/>
        </p:blipFill>
        <p:spPr>
          <a:xfrm>
            <a:off x="1035000" y="723960"/>
            <a:ext cx="48801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8:21:46Z</dcterms:created>
  <dc:creator>吳心琪</dc:creator>
  <dc:description/>
  <dc:language>en-US</dc:language>
  <cp:lastModifiedBy>Trace</cp:lastModifiedBy>
  <dcterms:modified xsi:type="dcterms:W3CDTF">1999-07-21T02:06:06Z</dcterms:modified>
  <cp:revision>1</cp:revision>
  <dc:subject/>
  <dc:title>無投影片標題</dc:title>
</cp:coreProperties>
</file>