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518-6452-4410-8576-EC87F77C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36E-E7B4-444F-9D70-D6CCAAE8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963-39ED-4ACF-8D59-8294A145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EC5-7E0A-4E04-BF7C-D2E67963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9ED-BE51-457A-A450-291B792F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F3F-4C3C-4BD9-B234-5072A394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A0D-61D4-4485-94D3-642ACE4D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CF9-73AC-4FAD-8588-485C7628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1CA-ACCB-4198-B8E3-2E627DA0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03F-1B2D-46A5-A8A2-9288A8EC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F06-C441-4985-812E-B5D8F194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70E-0EA1-46FB-AC3F-0482B803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4FB7-C9E0-4999-BCA5-CE4B8FB32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88480" y="4025880"/>
            <a:ext cx="349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3-13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金門地區遊憩指示標誌現況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3-13" descr=""/>
          <p:cNvPicPr/>
          <p:nvPr/>
        </p:nvPicPr>
        <p:blipFill>
          <a:blip r:embed="rId1"/>
          <a:srcRect l="547" t="2996" r="0" b="0"/>
          <a:stretch/>
        </p:blipFill>
        <p:spPr>
          <a:xfrm>
            <a:off x="1084320" y="757080"/>
            <a:ext cx="4924440" cy="3206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6000" y="8386920"/>
            <a:ext cx="349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3-14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綠島蘭嶼遊憩指示標誌現況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3-14" descr=""/>
          <p:cNvPicPr/>
          <p:nvPr/>
        </p:nvPicPr>
        <p:blipFill>
          <a:blip r:embed="rId2"/>
          <a:srcRect l="814" t="1916" r="0" b="0"/>
          <a:stretch/>
        </p:blipFill>
        <p:spPr>
          <a:xfrm>
            <a:off x="1100160" y="5122800"/>
            <a:ext cx="4908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8:14:06Z</dcterms:created>
  <dc:creator>吳心琪</dc:creator>
  <dc:description/>
  <dc:language>en-US</dc:language>
  <cp:lastModifiedBy>Trace</cp:lastModifiedBy>
  <dcterms:modified xsi:type="dcterms:W3CDTF">1999-07-22T01:57:34Z</dcterms:modified>
  <cp:revision>2</cp:revision>
  <dc:subject/>
  <dc:title>無投影片標題</dc:title>
</cp:coreProperties>
</file>