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49360" y="482760"/>
            <a:ext cx="8878680" cy="5435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863600" y="5979960"/>
            <a:ext cx="397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圖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5-2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旅遊運輸中心理念示意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374360" y="1481040"/>
            <a:ext cx="1156680" cy="698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旅遊運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細明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中 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89320" y="2857680"/>
            <a:ext cx="1527120" cy="1390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45040" y="3065400"/>
            <a:ext cx="730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憩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聯外運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整體規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80320" y="5000760"/>
            <a:ext cx="7300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配合設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2920" y="5000760"/>
            <a:ext cx="7300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道路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0720" y="4835520"/>
            <a:ext cx="1059120" cy="63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公共運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細明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系  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56240" y="4390920"/>
            <a:ext cx="596880" cy="374760"/>
          </a:xfrm>
          <a:custGeom>
            <a:avLst/>
            <a:gdLst/>
            <a:ahLst/>
            <a:rect l="l" t="t" r="r" b="b"/>
            <a:pathLst>
              <a:path w="376" h="236">
                <a:moveTo>
                  <a:pt x="271" y="0"/>
                </a:moveTo>
                <a:lnTo>
                  <a:pt x="271" y="100"/>
                </a:lnTo>
                <a:lnTo>
                  <a:pt x="375" y="100"/>
                </a:lnTo>
                <a:lnTo>
                  <a:pt x="188" y="235"/>
                </a:lnTo>
                <a:lnTo>
                  <a:pt x="0" y="100"/>
                </a:lnTo>
                <a:lnTo>
                  <a:pt x="115" y="100"/>
                </a:lnTo>
                <a:lnTo>
                  <a:pt x="112" y="0"/>
                </a:lnTo>
                <a:lnTo>
                  <a:pt x="27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37120" y="1627200"/>
            <a:ext cx="374760" cy="596880"/>
          </a:xfrm>
          <a:custGeom>
            <a:avLst/>
            <a:gdLst/>
            <a:ahLst/>
            <a:rect l="l" t="t" r="r" b="b"/>
            <a:pathLst>
              <a:path w="236" h="376">
                <a:moveTo>
                  <a:pt x="235" y="271"/>
                </a:moveTo>
                <a:lnTo>
                  <a:pt x="135" y="271"/>
                </a:lnTo>
                <a:lnTo>
                  <a:pt x="135" y="375"/>
                </a:lnTo>
                <a:lnTo>
                  <a:pt x="0" y="188"/>
                </a:lnTo>
                <a:lnTo>
                  <a:pt x="135" y="0"/>
                </a:lnTo>
                <a:lnTo>
                  <a:pt x="135" y="115"/>
                </a:lnTo>
                <a:lnTo>
                  <a:pt x="235" y="112"/>
                </a:lnTo>
                <a:lnTo>
                  <a:pt x="235" y="27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25920" y="1627200"/>
            <a:ext cx="374760" cy="596880"/>
          </a:xfrm>
          <a:custGeom>
            <a:avLst/>
            <a:gdLst/>
            <a:ahLst/>
            <a:rect l="l" t="t" r="r" b="b"/>
            <a:pathLst>
              <a:path w="236" h="376">
                <a:moveTo>
                  <a:pt x="0" y="271"/>
                </a:moveTo>
                <a:lnTo>
                  <a:pt x="100" y="271"/>
                </a:lnTo>
                <a:lnTo>
                  <a:pt x="100" y="375"/>
                </a:lnTo>
                <a:lnTo>
                  <a:pt x="235" y="188"/>
                </a:lnTo>
                <a:lnTo>
                  <a:pt x="100" y="0"/>
                </a:lnTo>
                <a:lnTo>
                  <a:pt x="100" y="115"/>
                </a:lnTo>
                <a:lnTo>
                  <a:pt x="0" y="112"/>
                </a:lnTo>
                <a:lnTo>
                  <a:pt x="0" y="27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76840" y="1231920"/>
            <a:ext cx="1414800" cy="1414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04120" y="1460520"/>
            <a:ext cx="730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憩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檢討規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0960" y="1460520"/>
            <a:ext cx="730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運輸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角色功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14480" y="1217520"/>
            <a:ext cx="1414440" cy="1414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75320" y="2389320"/>
            <a:ext cx="596880" cy="374400"/>
          </a:xfrm>
          <a:custGeom>
            <a:avLst/>
            <a:gdLst/>
            <a:ahLst/>
            <a:rect l="l" t="t" r="r" b="b"/>
            <a:pathLst>
              <a:path w="376" h="236">
                <a:moveTo>
                  <a:pt x="104" y="0"/>
                </a:moveTo>
                <a:lnTo>
                  <a:pt x="104" y="100"/>
                </a:lnTo>
                <a:lnTo>
                  <a:pt x="0" y="100"/>
                </a:lnTo>
                <a:lnTo>
                  <a:pt x="188" y="235"/>
                </a:lnTo>
                <a:lnTo>
                  <a:pt x="375" y="100"/>
                </a:lnTo>
                <a:lnTo>
                  <a:pt x="260" y="100"/>
                </a:lnTo>
                <a:lnTo>
                  <a:pt x="263" y="0"/>
                </a:lnTo>
                <a:lnTo>
                  <a:pt x="104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17200" y="19130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49000" y="1046160"/>
            <a:ext cx="4370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48080" y="16668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81600" y="26748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77480" y="78912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720" y="88884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22880" y="696960"/>
            <a:ext cx="2333520" cy="245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674" swAng="54046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674" swAng="5404674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040440" y="771840"/>
            <a:ext cx="253296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704880"/>
            <a:ext cx="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2685960"/>
            <a:ext cx="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997760" y="1917720"/>
            <a:ext cx="47304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32840" y="27464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93360" y="23749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15600" y="25700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01400" y="27036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33040" y="21556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2880" y="706320"/>
            <a:ext cx="23338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32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323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364040" y="766800"/>
            <a:ext cx="2491560" cy="23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62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621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06760" y="704880"/>
            <a:ext cx="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06760" y="2666880"/>
            <a:ext cx="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422000" y="1917720"/>
            <a:ext cx="49860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46480" y="7891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9560" y="8460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2720" y="10177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19800" y="12034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05320" y="14032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8080" y="19321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05320" y="21463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48240" y="23464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16640" y="25178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91120" y="27748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6520" y="518148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7320" y="518148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3600" y="122220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47440" y="143208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04680" y="167940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30T10:00:44Z</dcterms:created>
  <dc:creator>張圓圓</dc:creator>
  <dc:description/>
  <dc:language>en-US</dc:language>
  <cp:lastModifiedBy>Trace</cp:lastModifiedBy>
  <dcterms:modified xsi:type="dcterms:W3CDTF">1999-07-21T02:03:28Z</dcterms:modified>
  <cp:revision>2</cp:revision>
  <dc:subject/>
  <dc:title>無投影片標題</dc:title>
</cp:coreProperties>
</file>