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4FE-60FB-4748-9B8E-D18D4AA9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BF1-28C8-485B-A983-B0973321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6FE-95E7-481B-913A-A445E728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C9E-815F-44F2-B253-6547E77E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B5F-7E5E-41D4-AAAC-6F0B66F7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5E4-2B7C-41DE-9FB8-A935B94B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FEB-2378-4664-836E-505B33BA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372-B0E2-4090-A22B-F077A48D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756-FCF4-4985-B84C-D6ECE25C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258-09AD-4EF9-8263-3B843DFA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D29-D5BC-4168-AA04-6773A0E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A24-5388-4FFB-ACC2-C1045E9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18B-EBDC-4173-A912-C201E832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-11" descr=""/>
          <p:cNvPicPr/>
          <p:nvPr/>
        </p:nvPicPr>
        <p:blipFill>
          <a:blip r:embed="rId1"/>
          <a:srcRect l="814" t="2439" r="1279" b="0"/>
          <a:stretch/>
        </p:blipFill>
        <p:spPr>
          <a:xfrm>
            <a:off x="820800" y="444600"/>
            <a:ext cx="5157720" cy="3430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74960" y="3886200"/>
            <a:ext cx="139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3-11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澎湖系統遊憩指示標誌現況圖〈懸掛式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98640" y="8077320"/>
            <a:ext cx="139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3-12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澎湖系統遊憩指示標誌現況圖〈豎立式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3-12" descr=""/>
          <p:cNvPicPr/>
          <p:nvPr/>
        </p:nvPicPr>
        <p:blipFill>
          <a:blip r:embed="rId2"/>
          <a:srcRect l="814" t="0" r="0" b="3135"/>
          <a:stretch/>
        </p:blipFill>
        <p:spPr>
          <a:xfrm>
            <a:off x="914400" y="4800600"/>
            <a:ext cx="49118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08:12:18Z</dcterms:created>
  <dc:creator>吳心琪</dc:creator>
  <dc:description/>
  <dc:language>en-US</dc:language>
  <cp:lastModifiedBy>吳心琪</cp:lastModifiedBy>
  <dcterms:modified xsi:type="dcterms:W3CDTF">1999-06-17T10:22:21Z</dcterms:modified>
  <cp:revision>2</cp:revision>
  <dc:subject/>
  <dc:title>無投影片標題</dc:title>
</cp:coreProperties>
</file>