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0A9-06FB-4DBB-B448-ECCD16B9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ED3-5AA0-4C92-9B54-FAF535FF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09A-D10A-4A0B-88D9-889C0E89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FDDD-ABDE-4296-9B84-2351C001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26C1-F9D3-4530-B8C6-868D69F8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926-7820-4DFC-9FC6-44A3F1AE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0F8-A696-425B-B36F-4298BAF2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9E5C-E616-4965-B63F-F5397D74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F964-F11F-41AE-8CF0-9106FE8A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F81-C37F-4895-8320-08EA41D8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D42-FF5D-449A-B301-4F7B7149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176-56C4-4027-A319-42719061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162F-E50E-4015-9E1B-ABB16B4F4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19120" y="399744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東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90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鄉道〈綠島環島公路〉現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214" descr=""/>
          <p:cNvPicPr/>
          <p:nvPr/>
        </p:nvPicPr>
        <p:blipFill>
          <a:blip r:embed="rId1"/>
          <a:srcRect l="814" t="0" r="3256" b="2090"/>
          <a:stretch/>
        </p:blipFill>
        <p:spPr>
          <a:xfrm>
            <a:off x="1189080" y="571680"/>
            <a:ext cx="47545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8:23:28Z</dcterms:created>
  <dc:creator>吳心琪</dc:creator>
  <dc:description/>
  <dc:language>en-US</dc:language>
  <cp:lastModifiedBy>Trace</cp:lastModifiedBy>
  <dcterms:modified xsi:type="dcterms:W3CDTF">1999-07-21T02:08:33Z</dcterms:modified>
  <cp:revision>1</cp:revision>
  <dc:subject/>
  <dc:title>無投影片標題</dc:title>
</cp:coreProperties>
</file>