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977423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94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22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94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22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細明體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4952880" y="98748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6216480" y="3498840"/>
            <a:ext cx="274968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6210360" y="1092240"/>
            <a:ext cx="0" cy="321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3867120" y="1087560"/>
            <a:ext cx="0" cy="323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73600" y="1085760"/>
            <a:ext cx="2330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952880" y="4330800"/>
            <a:ext cx="0" cy="135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269892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6216480" y="2111400"/>
            <a:ext cx="2752920" cy="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5360" y="668160"/>
            <a:ext cx="135504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前階段計畫運輸需求預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03360" y="2328840"/>
            <a:ext cx="207324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『台灣地區整體運輸系統規劃離島旅運特性及交通調查分析評估』之運輸需求預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00920" y="1319040"/>
            <a:ext cx="970560" cy="515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一般假日非遊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 </a:t>
            </a: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旅次需求預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6197760" y="2641680"/>
            <a:ext cx="2768400" cy="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729920" y="2521080"/>
            <a:ext cx="82152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遊憩旅次分佈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58640" y="3240000"/>
            <a:ext cx="608040" cy="515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遊憩旅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運具分配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45480" y="2898720"/>
            <a:ext cx="821520" cy="515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一般假日各遊憩據點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旅次分佈預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51920" y="1319040"/>
            <a:ext cx="1290960" cy="515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一般假日各遊憩系統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旅運需求總量預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32280" y="3643200"/>
            <a:ext cx="1482120" cy="515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調整後一般假日非遊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旅次需求預測</a:t>
            </a: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(</a:t>
            </a: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車旅次</a:t>
            </a: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02800" y="3643200"/>
            <a:ext cx="1268640" cy="515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一般假日遊憩旅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需求預測</a:t>
            </a: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(</a:t>
            </a: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車旅次</a:t>
            </a: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73240" y="4583160"/>
            <a:ext cx="35964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一般假日運輸需求預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83200" y="5153040"/>
            <a:ext cx="156816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遊憩分區聯外道路交通量預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222080" y="5683320"/>
            <a:ext cx="146160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聯外道路系統供需檢測分析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66360" y="4800600"/>
            <a:ext cx="9280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路網分析與建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29920" y="1841400"/>
            <a:ext cx="821520" cy="515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離島地區遊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旅運需求調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977320" y="2120760"/>
            <a:ext cx="0" cy="13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73600" y="4324320"/>
            <a:ext cx="234288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657600" y="4962600"/>
            <a:ext cx="128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27080" y="5487840"/>
            <a:ext cx="18637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註：『前階段計畫』係指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        </a:t>
            </a:r>
            <a:r>
              <a:rPr b="0" lang="zh-TW" sz="1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台灣地區遊憩系統聯外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        </a:t>
            </a:r>
            <a:r>
              <a:rPr b="0" lang="zh-TW" sz="1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運輸系統整體規劃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83280" y="6235560"/>
            <a:ext cx="41709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圖 </a:t>
            </a:r>
            <a:r>
              <a:rPr b="0" lang="zh-TW" sz="2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4-16 </a:t>
            </a:r>
            <a:r>
              <a:rPr b="0" lang="zh-TW" sz="2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島內運輸需求分析與預測作業流程圖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 rot="10800000">
            <a:off x="3840840" y="1187280"/>
            <a:ext cx="44280" cy="12096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 rot="10800000">
            <a:off x="6181560" y="1187280"/>
            <a:ext cx="44640" cy="12096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 rot="10800000">
            <a:off x="6184800" y="2758680"/>
            <a:ext cx="44640" cy="12060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 rot="10800000">
            <a:off x="4926600" y="4436640"/>
            <a:ext cx="44280" cy="12060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rot="16200000">
            <a:off x="6255360" y="2052720"/>
            <a:ext cx="44280" cy="12060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5400000">
            <a:off x="3776400" y="2635200"/>
            <a:ext cx="44280" cy="12060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 rot="10800000">
            <a:off x="3840120" y="3514320"/>
            <a:ext cx="44640" cy="12060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rot="10800000">
            <a:off x="6184800" y="3531960"/>
            <a:ext cx="44640" cy="12060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 rot="16200000">
            <a:off x="6255000" y="2589120"/>
            <a:ext cx="44640" cy="12060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 rot="16200000">
            <a:off x="6250320" y="3433680"/>
            <a:ext cx="44640" cy="12060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 rot="10800000">
            <a:off x="4926600" y="5559120"/>
            <a:ext cx="44280" cy="12060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 rot="10800000">
            <a:off x="4926600" y="5027400"/>
            <a:ext cx="44280" cy="12060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5400000">
            <a:off x="4861800" y="4895640"/>
            <a:ext cx="44640" cy="12060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rot="16200000">
            <a:off x="8807760" y="2582640"/>
            <a:ext cx="44640" cy="12060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 rot="16200000">
            <a:off x="8465040" y="3443400"/>
            <a:ext cx="44280" cy="12060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2-06T15:21:10Z</dcterms:created>
  <dc:creator>管理部</dc:creator>
  <dc:description/>
  <dc:language>en-US</dc:language>
  <cp:lastModifiedBy>Trace</cp:lastModifiedBy>
  <cp:lastPrinted>1997-03-31T17:55:54Z</cp:lastPrinted>
  <dcterms:modified xsi:type="dcterms:W3CDTF">1999-07-22T02:57:20Z</dcterms:modified>
  <cp:revision>5</cp:revision>
  <dc:subject/>
  <dc:title>無投影片標題</dc:title>
</cp:coreProperties>
</file>