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2BB-C727-4227-8EBD-BCE2A598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FEC-C0F1-4D9D-A33A-B9049489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941-A8E5-4E53-ACA1-BBE074CB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84D-C1CC-44DD-B795-A2E1D9D5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61B-AD2D-4221-BC85-D91C2920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AA7-8912-42C9-BE37-E3311FD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9C6-064B-441E-ACBF-4EFF4D06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569-7341-4859-89CE-0D86927D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09C-B4C7-4FC7-8B96-5D9FE0DE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945-BF6F-47B3-B2F8-26E041EF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E34-3596-4DE6-AF60-17684F2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E3D-0AC2-4D6D-9666-01E5E662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FD78-2D54-423D-990B-8078593C7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204" descr=""/>
          <p:cNvPicPr/>
          <p:nvPr/>
        </p:nvPicPr>
        <p:blipFill>
          <a:blip r:embed="rId1"/>
          <a:srcRect l="3256" t="0" r="0" b="2090"/>
          <a:stretch/>
        </p:blipFill>
        <p:spPr>
          <a:xfrm>
            <a:off x="1066680" y="457200"/>
            <a:ext cx="4789440" cy="323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98280" y="388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古寧頭戰史館聯外道路現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20:16Z</dcterms:created>
  <dc:creator>吳心琪</dc:creator>
  <dc:description/>
  <dc:language>en-US</dc:language>
  <cp:lastModifiedBy>Trace</cp:lastModifiedBy>
  <dcterms:modified xsi:type="dcterms:W3CDTF">1999-07-21T02:04:48Z</dcterms:modified>
  <cp:revision>1</cp:revision>
  <dc:subject/>
  <dc:title>無投影片標題</dc:title>
</cp:coreProperties>
</file>