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936800" y="743040"/>
            <a:ext cx="2749680" cy="366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新細明體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80560" y="4663800"/>
            <a:ext cx="4859640" cy="41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新細明體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51200" y="0"/>
            <a:ext cx="2871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1200" y="9320040"/>
            <a:ext cx="2871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2004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936800" y="743040"/>
            <a:ext cx="2749680" cy="3665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80560" y="4663800"/>
            <a:ext cx="485964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新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新細明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新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62760" cy="890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29000" y="698400"/>
            <a:ext cx="2457360" cy="194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663480"/>
            <a:ext cx="963720" cy="369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12800" y="2700360"/>
            <a:ext cx="5224320" cy="11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2700360"/>
            <a:ext cx="3184560" cy="270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720" y="4419720"/>
            <a:ext cx="1689120" cy="9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759040" y="5409720"/>
            <a:ext cx="134928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99040" y="6954840"/>
            <a:ext cx="67464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30920" y="7031160"/>
            <a:ext cx="101520" cy="110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02480" y="8167680"/>
            <a:ext cx="98280" cy="8748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22880" y="6927840"/>
            <a:ext cx="519120" cy="168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27560" y="6916680"/>
            <a:ext cx="608040" cy="12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51040" y="5600880"/>
            <a:ext cx="333360" cy="65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5040" y="4027320"/>
            <a:ext cx="2874960" cy="3208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7280" y="5575320"/>
            <a:ext cx="637920" cy="18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8160" y="787320"/>
            <a:ext cx="3022560" cy="1793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77320" y="2386080"/>
            <a:ext cx="36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基隆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1800" y="620640"/>
            <a:ext cx="42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南竿福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30600" y="249120"/>
            <a:ext cx="220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0000" y="37800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馬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6480" y="44928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北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720" y="41292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台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160" y="353232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金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6560" y="3894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料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9640" y="56991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望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72160" y="59659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七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48680" y="674064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高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50440" y="68943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屏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8760" y="54594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嘉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96040" y="5183280"/>
            <a:ext cx="36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箔子寮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93200" y="57117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布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7280" y="55800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鎖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15880" y="492300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澎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2520" y="68943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台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38480" y="688968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綠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84640" y="801684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蘭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3240" y="7054920"/>
            <a:ext cx="42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南寮漁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8080" y="8221680"/>
            <a:ext cx="36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開元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7600" y="6648480"/>
            <a:ext cx="425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富岡漁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7920" y="7337520"/>
            <a:ext cx="1873080" cy="130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5560" y="7346880"/>
            <a:ext cx="54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例</a:t>
            </a:r>
            <a:r>
              <a:rPr b="1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7480" y="7593120"/>
            <a:ext cx="48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7672320"/>
            <a:ext cx="139680" cy="136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6440" y="7910640"/>
            <a:ext cx="161640" cy="13320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800" y="8226360"/>
            <a:ext cx="62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8640" y="8430840"/>
            <a:ext cx="723960" cy="50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03800" y="7281720"/>
            <a:ext cx="36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高雄港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569880"/>
            <a:ext cx="10656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577960" y="3909960"/>
            <a:ext cx="6644880" cy="34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0" y="0"/>
                </a:moveTo>
                <a:arcTo wR="10800" hR="10800" stAng="-5396715" swAng="5396715"/>
                <a:lnTo>
                  <a:pt x="10800" y="10800"/>
                </a:lnTo>
                <a:close/>
              </a:path>
              <a:path fill="none" w="21600" h="21600">
                <a:moveTo>
                  <a:pt x="10810" y="0"/>
                </a:moveTo>
                <a:arcTo wR="10800" hR="10800" stAng="-5396715" swAng="5396715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837160" y="3897360"/>
            <a:ext cx="7210440" cy="97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0" y="0"/>
                </a:moveTo>
                <a:arcTo wR="10800" hR="10800" stAng="-5396972" swAng="5385770"/>
                <a:lnTo>
                  <a:pt x="10800" y="10800"/>
                </a:lnTo>
                <a:close/>
              </a:path>
              <a:path fill="none" w="21600" h="21600">
                <a:moveTo>
                  <a:pt x="10810" y="0"/>
                </a:moveTo>
                <a:arcTo wR="10800" hR="10800" stAng="-5396972" swAng="538577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8360" y="4366080"/>
            <a:ext cx="1713960" cy="21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0" y="21600"/>
                </a:moveTo>
                <a:arcTo wR="10800" hR="10800" stAng="5412751" swAng="5397572"/>
                <a:lnTo>
                  <a:pt x="10800" y="10800"/>
                </a:lnTo>
                <a:close/>
              </a:path>
              <a:path fill="none" w="21600" h="21600">
                <a:moveTo>
                  <a:pt x="10760" y="21600"/>
                </a:moveTo>
                <a:arcTo wR="10800" hR="10800" stAng="5412751" swAng="53975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5000" y="5119560"/>
            <a:ext cx="2835000" cy="192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21600"/>
                </a:moveTo>
                <a:arcTo wR="10800" hR="10800" stAng="5407712" swAng="5392288"/>
                <a:lnTo>
                  <a:pt x="10800" y="10800"/>
                </a:lnTo>
                <a:close/>
              </a:path>
              <a:path fill="none" w="21600" h="21600">
                <a:moveTo>
                  <a:pt x="10776" y="21600"/>
                </a:moveTo>
                <a:arcTo wR="10800" hR="10800" stAng="5407712" swAng="539228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3520" y="4550040"/>
            <a:ext cx="2600280" cy="247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21600"/>
                </a:moveTo>
                <a:arcTo wR="10800" hR="10800" stAng="5408405" swAng="5400409"/>
                <a:lnTo>
                  <a:pt x="10800" y="10800"/>
                </a:lnTo>
                <a:close/>
              </a:path>
              <a:path fill="none" w="21600" h="21600">
                <a:moveTo>
                  <a:pt x="10774" y="21600"/>
                </a:moveTo>
                <a:arcTo wR="10800" hR="10800" stAng="5408405" swAng="5400409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7120" y="5478480"/>
            <a:ext cx="2704320" cy="322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960" y="1285560"/>
            <a:ext cx="5727240" cy="52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320000">
            <a:off x="3101400" y="6806520"/>
            <a:ext cx="2971800" cy="22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327" swAng="5396327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327" swAng="5396327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0200" y="5954400"/>
            <a:ext cx="4044600" cy="22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8107" swAng="5401800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8107" swAng="54018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6240" y="7050240"/>
            <a:ext cx="88920" cy="7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56280" y="6837480"/>
            <a:ext cx="114120" cy="9360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9000" y="6977160"/>
            <a:ext cx="76320" cy="698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22920" y="7077240"/>
            <a:ext cx="93600" cy="9360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18040" y="8126280"/>
            <a:ext cx="66960" cy="6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9880" y="650880"/>
            <a:ext cx="152280" cy="11268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2560" y="2570040"/>
            <a:ext cx="115920" cy="10008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78440" y="2624040"/>
            <a:ext cx="96840" cy="104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63920" y="4332240"/>
            <a:ext cx="90720" cy="84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4960" y="3913200"/>
            <a:ext cx="142920" cy="10476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1600" y="5460840"/>
            <a:ext cx="120600" cy="13032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58880" y="5467320"/>
            <a:ext cx="155880" cy="13032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38360" y="5718240"/>
            <a:ext cx="1094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13080" y="5985000"/>
            <a:ext cx="12204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989440" y="5319720"/>
            <a:ext cx="252360" cy="115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0" y="5362560"/>
            <a:ext cx="539640" cy="1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6" y="0"/>
                </a:moveTo>
                <a:arcTo wR="10800" hR="10800" stAng="-5420222" swAng="4573263"/>
                <a:lnTo>
                  <a:pt x="10800" y="10800"/>
                </a:lnTo>
                <a:close/>
              </a:path>
              <a:path fill="none" w="21600" h="21600">
                <a:moveTo>
                  <a:pt x="10736" y="0"/>
                </a:moveTo>
                <a:arcTo wR="10800" hR="10800" stAng="-5420222" swAng="4573263"/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2360" y="5351400"/>
            <a:ext cx="136440" cy="9864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5291280"/>
            <a:ext cx="114120" cy="9504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5840" y="5702400"/>
            <a:ext cx="122400" cy="12708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97120" y="6470640"/>
            <a:ext cx="8892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93240" y="6477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台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2560" y="6273720"/>
            <a:ext cx="755640" cy="947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0040" y="7201080"/>
            <a:ext cx="135000" cy="12060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02120" y="5551560"/>
            <a:ext cx="117360" cy="120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90720" y="3862800"/>
            <a:ext cx="2244600" cy="31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21600"/>
                </a:moveTo>
                <a:arcTo wR="10800" hR="10800" stAng="5404867" swAng="5402043"/>
                <a:lnTo>
                  <a:pt x="10800" y="10800"/>
                </a:lnTo>
                <a:close/>
              </a:path>
              <a:path fill="none" w="21600" h="21600">
                <a:moveTo>
                  <a:pt x="10785" y="21600"/>
                </a:moveTo>
                <a:arcTo wR="10800" hR="10800" stAng="5404867" swAng="540204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8880" y="677880"/>
            <a:ext cx="6311160" cy="636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4" y="21600"/>
                </a:moveTo>
                <a:arcTo wR="10800" hR="10800" stAng="5405190" swAng="5399953"/>
                <a:lnTo>
                  <a:pt x="10800" y="10800"/>
                </a:lnTo>
                <a:close/>
              </a:path>
              <a:path fill="none" w="21600" h="21600">
                <a:moveTo>
                  <a:pt x="10784" y="21600"/>
                </a:moveTo>
                <a:arcTo wR="10800" hR="10800" stAng="5405190" swAng="539995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720" y="3811680"/>
            <a:ext cx="10656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68560" y="6997680"/>
            <a:ext cx="92160" cy="84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2680" y="5375160"/>
            <a:ext cx="101520" cy="10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88360" y="524988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龍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28400" y="2697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台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7760" y="53053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馬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10360" y="8699400"/>
            <a:ext cx="350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-5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聯外公共運輸系統現況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41720" y="759132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機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60800" y="7839000"/>
            <a:ext cx="36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2920" y="808200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空運路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2920" y="831996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海運路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26600" y="30337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000000"/>
                </a:solidFill>
                <a:latin typeface="華康粗黑體"/>
                <a:ea typeface="華康粗黑體"/>
              </a:rPr>
              <a:t>新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26920" y="3201480"/>
            <a:ext cx="3999240" cy="6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7720" y="3205080"/>
            <a:ext cx="2052720" cy="219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62520" y="3164040"/>
            <a:ext cx="96840" cy="104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6908760"/>
            <a:ext cx="870120" cy="12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5680" y="6886440"/>
            <a:ext cx="90360" cy="81000"/>
          </a:xfrm>
          <a:prstGeom prst="rect">
            <a:avLst/>
          </a:prstGeom>
          <a:solidFill>
            <a:srgbClr val="0000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6440" y="266760"/>
            <a:ext cx="228600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5840" y="3352680"/>
            <a:ext cx="1047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7:32:24Z</dcterms:created>
  <dc:creator>MIS</dc:creator>
  <dc:description/>
  <dc:language>en-US</dc:language>
  <cp:lastModifiedBy>吳心琪</cp:lastModifiedBy>
  <cp:lastPrinted>1998-08-22T03:44:46Z</cp:lastPrinted>
  <dcterms:modified xsi:type="dcterms:W3CDTF">1999-06-17T10:28:00Z</dcterms:modified>
  <cp:revision>3</cp:revision>
  <dc:subject/>
  <dc:title>無投影片標題</dc:title>
</cp:coreProperties>
</file>