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8FF-8070-4DB4-89BF-6008B0E8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09A-55A0-46FA-8CA5-30406F04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87C-A9D2-4E86-A60B-DC6ADE05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335-D747-4A35-B7A6-BA42C303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7B6-1E55-4882-85F4-CA3AC70A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C8E-9CE1-49F4-94E6-FAE605FD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7EC2-C638-4F1D-8951-16741078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88F-9E85-4A25-9E6C-4A03AC2C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5F4-B1E9-46C5-A6FA-4A6141D4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FCC3-CAC1-4449-8286-2CD4FB80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9FB-2541-4794-8DD7-4B53C42B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DB7-A7EA-45D7-9768-E28F3B3C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C902-675B-46CD-A2A5-8C95B3EAF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5240" y="414972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東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80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鄉道〈蘭嶼環島公路〉現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215" descr=""/>
          <p:cNvPicPr/>
          <p:nvPr/>
        </p:nvPicPr>
        <p:blipFill>
          <a:blip r:embed="rId1"/>
          <a:srcRect l="0" t="2090" r="5698" b="0"/>
          <a:stretch/>
        </p:blipFill>
        <p:spPr>
          <a:xfrm>
            <a:off x="990720" y="685800"/>
            <a:ext cx="49593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08:25:02Z</dcterms:created>
  <dc:creator>吳心琪</dc:creator>
  <dc:description/>
  <dc:language>en-US</dc:language>
  <cp:lastModifiedBy>Trace</cp:lastModifiedBy>
  <dcterms:modified xsi:type="dcterms:W3CDTF">1999-07-21T02:09:24Z</dcterms:modified>
  <cp:revision>1</cp:revision>
  <dc:subject/>
  <dc:title>無投影片標題</dc:title>
</cp:coreProperties>
</file>