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細明體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476360" y="1438200"/>
            <a:ext cx="3745080" cy="211320"/>
          </a:xfrm>
          <a:custGeom>
            <a:avLst/>
            <a:gdLst/>
            <a:ahLst/>
            <a:rect l="l" t="t" r="r" b="b"/>
            <a:pathLst>
              <a:path w="2359" h="133">
                <a:moveTo>
                  <a:pt x="0" y="132"/>
                </a:moveTo>
                <a:lnTo>
                  <a:pt x="0" y="0"/>
                </a:lnTo>
                <a:lnTo>
                  <a:pt x="2358" y="0"/>
                </a:lnTo>
                <a:lnTo>
                  <a:pt x="2358" y="1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495440" y="2028960"/>
            <a:ext cx="3716280" cy="201600"/>
          </a:xfrm>
          <a:custGeom>
            <a:avLst/>
            <a:gdLst/>
            <a:ahLst/>
            <a:rect l="l" t="t" r="r" b="b"/>
            <a:pathLst>
              <a:path w="2341" h="127">
                <a:moveTo>
                  <a:pt x="0" y="0"/>
                </a:moveTo>
                <a:lnTo>
                  <a:pt x="0" y="126"/>
                </a:lnTo>
                <a:lnTo>
                  <a:pt x="2340" y="126"/>
                </a:lnTo>
                <a:lnTo>
                  <a:pt x="2340" y="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749680" y="7356600"/>
            <a:ext cx="2880" cy="79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228760" y="2314440"/>
            <a:ext cx="2400480" cy="2486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3421080" y="770040"/>
            <a:ext cx="0" cy="658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78160" y="7346880"/>
            <a:ext cx="324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58040" y="569880"/>
            <a:ext cx="114156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計畫範圍與目標確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3433680"/>
            <a:ext cx="0" cy="4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58040" y="1062000"/>
            <a:ext cx="114156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基本資料蒐集與調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18240" y="3424320"/>
            <a:ext cx="82152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路網分析建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與交通量預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0440" y="1633680"/>
            <a:ext cx="107712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遊憩旅運需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現況分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84680" y="1633680"/>
            <a:ext cx="82152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遊憩系統聯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運輸系統分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82960" y="1633680"/>
            <a:ext cx="92736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遊憩系統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分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14800" y="2525760"/>
            <a:ext cx="1690920" cy="94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檢測『台灣地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遊憩系統聯外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輸系統整體規劃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之預測資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95760" y="4143240"/>
            <a:ext cx="129996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聯外道路系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  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供需檢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27600" y="5006880"/>
            <a:ext cx="82152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聯外運輸系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改善計畫研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30920" y="7524720"/>
            <a:ext cx="60804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改善經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概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94920" y="7529400"/>
            <a:ext cx="60804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實施年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研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40360" y="7524720"/>
            <a:ext cx="92376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主管單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歸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63600" y="8407440"/>
            <a:ext cx="71496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結論與建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3520" y="6889680"/>
            <a:ext cx="114156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電腦展示系統之建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01800" y="6877080"/>
            <a:ext cx="148932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實施計畫研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363760" y="2511360"/>
            <a:ext cx="2104920" cy="738720"/>
            <a:chOff x="2363760" y="2511360"/>
            <a:chExt cx="2104920" cy="738720"/>
          </a:xfrm>
        </p:grpSpPr>
        <p:sp>
          <p:nvSpPr>
            <p:cNvPr id="61" name=""/>
            <p:cNvSpPr/>
            <p:nvPr/>
          </p:nvSpPr>
          <p:spPr>
            <a:xfrm>
              <a:off x="2363760" y="2511360"/>
              <a:ext cx="2104920" cy="73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   </a:t>
              </a: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運輸需求分析與預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‧</a:t>
              </a: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遊憩旅次分析預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‧</a:t>
              </a: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非遊憩旅次分析預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70240" y="2809800"/>
              <a:ext cx="209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 flipH="1">
            <a:off x="4644720" y="3095640"/>
            <a:ext cx="37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657680" y="2901600"/>
            <a:ext cx="3747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13160" y="8182080"/>
            <a:ext cx="14400" cy="21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23320" y="7529400"/>
            <a:ext cx="60804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優先順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評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75200" y="5280120"/>
            <a:ext cx="66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40120" y="3699000"/>
            <a:ext cx="0" cy="15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68720" y="3699000"/>
            <a:ext cx="66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52560" y="9005760"/>
            <a:ext cx="351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 </a:t>
            </a:r>
            <a:r>
              <a:rPr b="0" lang="zh-TW" sz="2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1-3 </a:t>
            </a:r>
            <a:r>
              <a:rPr b="0" lang="zh-TW" sz="2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研究作業流程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rot="10800000">
            <a:off x="3396240" y="939600"/>
            <a:ext cx="44280" cy="1141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rot="10800000">
            <a:off x="1457280" y="1501560"/>
            <a:ext cx="44640" cy="1141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rot="10800000">
            <a:off x="5194800" y="1512720"/>
            <a:ext cx="44280" cy="1144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rot="10800000">
            <a:off x="3398760" y="1504800"/>
            <a:ext cx="44640" cy="1144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rot="10800000">
            <a:off x="3395520" y="3314520"/>
            <a:ext cx="44640" cy="1141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4933800" y="2838240"/>
            <a:ext cx="44280" cy="1144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rot="10800000">
            <a:off x="3398760" y="2393640"/>
            <a:ext cx="44640" cy="1141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rot="16200000">
            <a:off x="4673520" y="3028680"/>
            <a:ext cx="44280" cy="1144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rot="16200000">
            <a:off x="4100400" y="3635280"/>
            <a:ext cx="44640" cy="1144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rot="10800000">
            <a:off x="3395520" y="4884480"/>
            <a:ext cx="44640" cy="1141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rot="10800000">
            <a:off x="3398760" y="4024080"/>
            <a:ext cx="44640" cy="1141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45240" y="5815080"/>
            <a:ext cx="60804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道路系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62440" y="5815080"/>
            <a:ext cx="82152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公共運輸系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3440" y="5815080"/>
            <a:ext cx="1278000" cy="724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  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配合設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停車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指示標誌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9920" y="6149880"/>
            <a:ext cx="127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rot="10800000">
            <a:off x="3393000" y="5690880"/>
            <a:ext cx="44280" cy="1141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rot="10800000">
            <a:off x="1497600" y="5694120"/>
            <a:ext cx="44280" cy="1141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rot="10800000">
            <a:off x="5240880" y="5694120"/>
            <a:ext cx="44280" cy="1141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rot="10800000">
            <a:off x="3393000" y="6765840"/>
            <a:ext cx="44280" cy="1144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rot="10800000">
            <a:off x="1449360" y="7408800"/>
            <a:ext cx="44640" cy="1144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rot="5400000">
            <a:off x="2798640" y="8481960"/>
            <a:ext cx="44640" cy="1144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rot="10800000">
            <a:off x="3388320" y="8281800"/>
            <a:ext cx="44280" cy="1141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rot="10800000">
            <a:off x="5515560" y="7405560"/>
            <a:ext cx="44280" cy="1144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rot="10800000">
            <a:off x="4151160" y="7414920"/>
            <a:ext cx="44640" cy="1141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800000">
            <a:off x="2725560" y="7408800"/>
            <a:ext cx="44640" cy="1144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5648400"/>
            <a:ext cx="3745080" cy="172800"/>
          </a:xfrm>
          <a:custGeom>
            <a:avLst/>
            <a:gdLst/>
            <a:ahLst/>
            <a:rect l="l" t="t" r="r" b="b"/>
            <a:pathLst>
              <a:path w="2359" h="109">
                <a:moveTo>
                  <a:pt x="0" y="102"/>
                </a:moveTo>
                <a:lnTo>
                  <a:pt x="0" y="0"/>
                </a:lnTo>
                <a:lnTo>
                  <a:pt x="2358" y="0"/>
                </a:lnTo>
                <a:lnTo>
                  <a:pt x="2358" y="10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38400" y="6524640"/>
            <a:ext cx="2182680" cy="363600"/>
          </a:xfrm>
          <a:custGeom>
            <a:avLst/>
            <a:gdLst/>
            <a:ahLst/>
            <a:rect l="l" t="t" r="r" b="b"/>
            <a:pathLst>
              <a:path w="1375" h="229">
                <a:moveTo>
                  <a:pt x="0" y="228"/>
                </a:moveTo>
                <a:lnTo>
                  <a:pt x="0" y="0"/>
                </a:lnTo>
                <a:lnTo>
                  <a:pt x="137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rot="10800000">
            <a:off x="1212840" y="6756120"/>
            <a:ext cx="44640" cy="11412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7210440"/>
            <a:ext cx="1963800" cy="1335240"/>
          </a:xfrm>
          <a:custGeom>
            <a:avLst/>
            <a:gdLst/>
            <a:ahLst/>
            <a:rect l="l" t="t" r="r" b="b"/>
            <a:pathLst>
              <a:path w="1237" h="841">
                <a:moveTo>
                  <a:pt x="0" y="0"/>
                </a:moveTo>
                <a:lnTo>
                  <a:pt x="0" y="840"/>
                </a:lnTo>
                <a:lnTo>
                  <a:pt x="1236" y="8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1680" y="8058240"/>
            <a:ext cx="4073400" cy="106200"/>
          </a:xfrm>
          <a:custGeom>
            <a:avLst/>
            <a:gdLst/>
            <a:ahLst/>
            <a:rect l="l" t="t" r="r" b="b"/>
            <a:pathLst>
              <a:path w="2566" h="67">
                <a:moveTo>
                  <a:pt x="0" y="0"/>
                </a:moveTo>
                <a:lnTo>
                  <a:pt x="0" y="66"/>
                </a:lnTo>
                <a:lnTo>
                  <a:pt x="2565" y="66"/>
                </a:lnTo>
                <a:lnTo>
                  <a:pt x="256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71680" y="7343640"/>
            <a:ext cx="4073400" cy="182520"/>
          </a:xfrm>
          <a:custGeom>
            <a:avLst/>
            <a:gdLst/>
            <a:ahLst/>
            <a:rect l="l" t="t" r="r" b="b"/>
            <a:pathLst>
              <a:path w="2566" h="115">
                <a:moveTo>
                  <a:pt x="0" y="114"/>
                </a:moveTo>
                <a:lnTo>
                  <a:pt x="0" y="0"/>
                </a:lnTo>
                <a:lnTo>
                  <a:pt x="2565" y="0"/>
                </a:lnTo>
                <a:lnTo>
                  <a:pt x="256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09T12:29:38Z</dcterms:created>
  <dc:creator>張圓圓</dc:creator>
  <dc:description/>
  <dc:language>en-US</dc:language>
  <cp:lastModifiedBy>吳心琪</cp:lastModifiedBy>
  <cp:lastPrinted>1996-08-09T12:15:58Z</cp:lastPrinted>
  <dcterms:modified xsi:type="dcterms:W3CDTF">1999-06-17T09:47:21Z</dcterms:modified>
  <cp:revision>2</cp:revision>
  <dc:subject/>
  <dc:title>無投影片標題</dc:title>
</cp:coreProperties>
</file>