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7995-BB57-4573-B1C6-854DB3194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14FE-8240-4B66-BB4C-2846BE0F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9436-E0A8-4A0C-AD29-C930ABCCE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C5DC-F96E-4ECC-B1FC-1FF67EDE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D53F-3F9F-49F5-AA6F-94D21F23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8607-D657-45E0-8B09-A4DFDA5F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B694-CB5B-4EA4-9155-F91EF925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1B8D-F081-45CC-989E-5A733463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ECB6-54CF-4D88-90DD-5874826F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847E-A692-46F7-92B4-66651124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214F-EC3E-4CEF-9AFF-0C8DF671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2946-8EA4-4FBD-9516-EBA437A0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3C77-73C5-47C4-B40F-C10D15088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4533840" y="4951440"/>
            <a:ext cx="1440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43560" y="5364000"/>
            <a:ext cx="0" cy="1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7080" y="4662360"/>
            <a:ext cx="1397520" cy="51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據點位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‧‧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據點相關位置示意圖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16920" y="4614840"/>
            <a:ext cx="1204920" cy="115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基本資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‧‧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位置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地址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‧‧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聯絡電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‧‧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適合活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‧‧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服務設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30600" y="662040"/>
            <a:ext cx="1800" cy="84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4560" y="1886040"/>
            <a:ext cx="3624120" cy="495360"/>
          </a:xfrm>
          <a:custGeom>
            <a:avLst/>
            <a:gdLst/>
            <a:ahLst/>
            <a:rect l="l" t="t" r="r" b="b"/>
            <a:pathLst>
              <a:path w="2473" h="312">
                <a:moveTo>
                  <a:pt x="0" y="311"/>
                </a:moveTo>
                <a:lnTo>
                  <a:pt x="0" y="145"/>
                </a:lnTo>
                <a:lnTo>
                  <a:pt x="2472" y="145"/>
                </a:lnTo>
                <a:lnTo>
                  <a:pt x="2472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91120" y="369720"/>
            <a:ext cx="66924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程式啟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13520" y="938160"/>
            <a:ext cx="42516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簡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78160" y="1606680"/>
            <a:ext cx="66924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中部區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87880" y="1606680"/>
            <a:ext cx="66924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南部區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621400" y="1606680"/>
            <a:ext cx="66924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東部區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58680" y="3659040"/>
            <a:ext cx="7366320" cy="187560"/>
          </a:xfrm>
          <a:custGeom>
            <a:avLst/>
            <a:gdLst/>
            <a:ahLst/>
            <a:rect l="l" t="t" r="r" b="b"/>
            <a:pathLst>
              <a:path w="5027" h="118">
                <a:moveTo>
                  <a:pt x="0" y="102"/>
                </a:moveTo>
                <a:lnTo>
                  <a:pt x="0" y="0"/>
                </a:lnTo>
                <a:lnTo>
                  <a:pt x="5026" y="0"/>
                </a:lnTo>
                <a:lnTo>
                  <a:pt x="5026" y="11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66920" y="3675240"/>
            <a:ext cx="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20960" y="3665520"/>
            <a:ext cx="0" cy="12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97400" y="366552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7002360" y="3672000"/>
            <a:ext cx="12960" cy="1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64160" y="4678200"/>
            <a:ext cx="1397520" cy="94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據點聯外道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‧‧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據點聯外道路示意圖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‧‧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主要路線及里程說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‧‧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相關道路服務水準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62440" y="4641840"/>
            <a:ext cx="1717560" cy="115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公共運輸系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‧‧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鐵路轉運市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‧‧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公路客運所在市鎮（含客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路線早晚班時刻、班距、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車處及查詢電話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3040" y="2382840"/>
            <a:ext cx="3713040" cy="363600"/>
          </a:xfrm>
          <a:custGeom>
            <a:avLst/>
            <a:gdLst/>
            <a:ahLst/>
            <a:rect l="l" t="t" r="r" b="b"/>
            <a:pathLst>
              <a:path w="2533" h="229">
                <a:moveTo>
                  <a:pt x="0" y="228"/>
                </a:moveTo>
                <a:lnTo>
                  <a:pt x="0" y="0"/>
                </a:lnTo>
                <a:lnTo>
                  <a:pt x="2532" y="0"/>
                </a:lnTo>
                <a:lnTo>
                  <a:pt x="2532" y="17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3040" y="2935440"/>
            <a:ext cx="3713040" cy="325440"/>
          </a:xfrm>
          <a:custGeom>
            <a:avLst/>
            <a:gdLst/>
            <a:ahLst/>
            <a:rect l="l" t="t" r="r" b="b"/>
            <a:pathLst>
              <a:path w="2533" h="205">
                <a:moveTo>
                  <a:pt x="2532" y="0"/>
                </a:moveTo>
                <a:lnTo>
                  <a:pt x="2532" y="204"/>
                </a:lnTo>
                <a:lnTo>
                  <a:pt x="0" y="204"/>
                </a:lnTo>
                <a:lnTo>
                  <a:pt x="0" y="5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6120" y="2662200"/>
            <a:ext cx="66924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蘇花系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4056120"/>
            <a:ext cx="7373880" cy="156960"/>
          </a:xfrm>
          <a:custGeom>
            <a:avLst/>
            <a:gdLst/>
            <a:ahLst/>
            <a:rect l="l" t="t" r="r" b="b"/>
            <a:pathLst>
              <a:path w="5033" h="99">
                <a:moveTo>
                  <a:pt x="0" y="12"/>
                </a:moveTo>
                <a:lnTo>
                  <a:pt x="0" y="98"/>
                </a:lnTo>
                <a:lnTo>
                  <a:pt x="5032" y="98"/>
                </a:lnTo>
                <a:lnTo>
                  <a:pt x="5032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76640" y="4056120"/>
            <a:ext cx="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5360" y="404964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11800" y="404964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24680" y="404352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97160" y="4475160"/>
            <a:ext cx="6583320" cy="203040"/>
          </a:xfrm>
          <a:custGeom>
            <a:avLst/>
            <a:gdLst/>
            <a:ahLst/>
            <a:rect l="l" t="t" r="r" b="b"/>
            <a:pathLst>
              <a:path w="4493" h="128">
                <a:moveTo>
                  <a:pt x="0" y="111"/>
                </a:moveTo>
                <a:lnTo>
                  <a:pt x="0" y="0"/>
                </a:lnTo>
                <a:lnTo>
                  <a:pt x="4492" y="0"/>
                </a:lnTo>
                <a:lnTo>
                  <a:pt x="4492" y="12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67000" y="448776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00800" y="44877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716120" y="2386080"/>
            <a:ext cx="14400" cy="86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98440" y="1474920"/>
            <a:ext cx="4729320" cy="147600"/>
          </a:xfrm>
          <a:custGeom>
            <a:avLst/>
            <a:gdLst/>
            <a:ahLst/>
            <a:rect l="l" t="t" r="r" b="b"/>
            <a:pathLst>
              <a:path w="3227" h="93">
                <a:moveTo>
                  <a:pt x="0" y="92"/>
                </a:moveTo>
                <a:lnTo>
                  <a:pt x="0" y="0"/>
                </a:lnTo>
                <a:lnTo>
                  <a:pt x="3226" y="0"/>
                </a:lnTo>
                <a:lnTo>
                  <a:pt x="3226" y="9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22680" y="148104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30600" y="148104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13360" y="1477800"/>
            <a:ext cx="164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47040" y="14716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89600" y="2401920"/>
            <a:ext cx="2428920" cy="344520"/>
          </a:xfrm>
          <a:custGeom>
            <a:avLst/>
            <a:gdLst/>
            <a:ahLst/>
            <a:rect l="l" t="t" r="r" b="b"/>
            <a:pathLst>
              <a:path w="1657" h="217">
                <a:moveTo>
                  <a:pt x="0" y="216"/>
                </a:moveTo>
                <a:lnTo>
                  <a:pt x="0" y="0"/>
                </a:lnTo>
                <a:lnTo>
                  <a:pt x="1656" y="0"/>
                </a:lnTo>
                <a:lnTo>
                  <a:pt x="1656" y="162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89600" y="2859120"/>
            <a:ext cx="2446200" cy="382680"/>
          </a:xfrm>
          <a:custGeom>
            <a:avLst/>
            <a:gdLst/>
            <a:ahLst/>
            <a:rect l="l" t="t" r="r" b="b"/>
            <a:pathLst>
              <a:path w="1669" h="241">
                <a:moveTo>
                  <a:pt x="1668" y="0"/>
                </a:moveTo>
                <a:lnTo>
                  <a:pt x="1668" y="240"/>
                </a:lnTo>
                <a:lnTo>
                  <a:pt x="0" y="240"/>
                </a:lnTo>
                <a:lnTo>
                  <a:pt x="0" y="6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96200" y="2643120"/>
            <a:ext cx="66924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澎湖系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925040" y="2541600"/>
            <a:ext cx="669240" cy="57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綠島蘭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系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56440" y="1866960"/>
            <a:ext cx="369720" cy="536400"/>
          </a:xfrm>
          <a:custGeom>
            <a:avLst/>
            <a:gdLst/>
            <a:ahLst/>
            <a:rect l="l" t="t" r="r" b="b"/>
            <a:pathLst>
              <a:path w="253" h="338">
                <a:moveTo>
                  <a:pt x="0" y="337"/>
                </a:moveTo>
                <a:lnTo>
                  <a:pt x="0" y="157"/>
                </a:lnTo>
                <a:lnTo>
                  <a:pt x="252" y="157"/>
                </a:lnTo>
                <a:lnTo>
                  <a:pt x="252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71920" y="1606680"/>
            <a:ext cx="66924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北部區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21600" y="1606680"/>
            <a:ext cx="66924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離島地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68480" y="2624040"/>
            <a:ext cx="79092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東海岸系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965320" y="2395440"/>
            <a:ext cx="14400" cy="85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57880" y="2414520"/>
            <a:ext cx="6480" cy="8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75560" y="2655720"/>
            <a:ext cx="66924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金馬系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41000" y="2548080"/>
            <a:ext cx="790920" cy="57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太魯閣國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公園系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41680" y="2548080"/>
            <a:ext cx="669240" cy="57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花東縱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系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01840" y="3236760"/>
            <a:ext cx="4873680" cy="230400"/>
          </a:xfrm>
          <a:custGeom>
            <a:avLst/>
            <a:gdLst/>
            <a:ahLst/>
            <a:rect l="l" t="t" r="r" b="b"/>
            <a:pathLst>
              <a:path w="3325" h="145">
                <a:moveTo>
                  <a:pt x="0" y="18"/>
                </a:moveTo>
                <a:lnTo>
                  <a:pt x="0" y="144"/>
                </a:lnTo>
                <a:lnTo>
                  <a:pt x="3324" y="144"/>
                </a:lnTo>
                <a:lnTo>
                  <a:pt x="332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97560" y="3475080"/>
            <a:ext cx="0" cy="16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68440" y="3795840"/>
            <a:ext cx="54396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據點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63200" y="3789360"/>
            <a:ext cx="54396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據點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37960" y="3795840"/>
            <a:ext cx="54396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據點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32000" y="3795840"/>
            <a:ext cx="54396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據點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056080" y="3795840"/>
            <a:ext cx="54396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據點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9040" y="3795840"/>
            <a:ext cx="54396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據點</a:t>
            </a: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14840" y="4218120"/>
            <a:ext cx="0" cy="2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8800" y="6095880"/>
            <a:ext cx="3499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圖</a:t>
            </a: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1 </a:t>
            </a: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電腦資料庫展示系統內容流程示意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7T00:58:12Z</dcterms:created>
  <dc:creator>Plan02_90x</dc:creator>
  <dc:description/>
  <dc:language>en-US</dc:language>
  <cp:lastModifiedBy>吳心琪</cp:lastModifiedBy>
  <cp:lastPrinted>1998-08-27T01:06:40Z</cp:lastPrinted>
  <dcterms:modified xsi:type="dcterms:W3CDTF">1999-06-17T09:50:15Z</dcterms:modified>
  <cp:revision>2</cp:revision>
  <dc:subject/>
  <dc:title>無投影片標題</dc:title>
</cp:coreProperties>
</file>