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318E-3A14-4F1C-89C3-25AC53843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4ACD-7609-4C56-8381-F3C18BD72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6F1B-9DC1-4C94-83EF-F3B137F7D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5F11-4239-450F-BDB4-812C6DC8D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2FC3-18E8-479A-83EF-45D921555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0453-C3B6-4959-99B6-C635BCB51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5786-D405-4AD1-9F4B-1D16C7B1F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237F-FE17-4C1A-8018-0529A6CCA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C89B-43A3-4A39-90A2-4CDDF4098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1636-2611-422D-8648-ED8CDC03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A144-4A40-4784-B04B-AD9AC15D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F6EB-98F8-40FA-846F-2A192A5E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E3438-E8E8-459A-9D54-8E2E2B6E51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04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6354720" cy="8381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1566360" y="8624880"/>
            <a:ext cx="365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圖</a:t>
            </a:r>
            <a:r>
              <a:rPr b="0" lang="zh-TW" sz="20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7-1 </a:t>
            </a:r>
            <a:r>
              <a:rPr b="0" lang="zh-TW" sz="20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離島地區聯外空運航線分佈建議示意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6T03:48:46Z</dcterms:created>
  <dc:creator>Trace</dc:creator>
  <dc:description/>
  <dc:language>en-US</dc:language>
  <cp:lastModifiedBy>Trace</cp:lastModifiedBy>
  <dcterms:modified xsi:type="dcterms:W3CDTF">1999-07-26T08:28:00Z</dcterms:modified>
  <cp:revision>3</cp:revision>
  <dc:subject/>
  <dc:title>無投影片標題</dc:title>
</cp:coreProperties>
</file>