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7.jpeg" ContentType="image/jpeg"/>
  <Override PartName="/ppt/media/image18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9.wmf" ContentType="image/x-wmf"/>
  <Override PartName="/ppt/media/image2.png" ContentType="image/png"/>
  <Override PartName="/ppt/media/image9.jpeg" ContentType="image/jpeg"/>
  <Override PartName="/ppt/media/image17.wmf" ContentType="image/x-wmf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F11-E921-4C94-8B36-C483E06E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8EF-AE0B-4C94-999C-B9E3D62F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76A-647E-46DF-934B-E379DC42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C54-87A5-48C3-B89B-CEDC153D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B1B7-4774-4A41-9055-675042EB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765-D16A-4FAD-B8E8-2C629D03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B10F-5A13-43DB-B832-2279C44D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9D29-76D1-4F89-9735-ACBA4290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65F9-9880-43BB-91DA-7E32C1EF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4B17-39D2-464D-A6D3-F353459B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5618-813F-4ED4-87A6-B8B5ED6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49E-6423-47F5-8FEA-4A0ADF79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2EFC-66A0-454D-A217-28D123A1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BDCB-CAB0-42F3-8B38-DDA7E48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A0DB-CF81-4FD2-A860-95BC397A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F4C6-CE74-4B25-AB7C-7F6EA370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8BCF-1E1E-4F23-9AFD-A3590057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6E6-E33A-44B0-9DD5-803A435F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0F4-87DA-44EB-894A-218BF99C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70D-D3F1-4E02-ADE3-813F4B78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DD8-0FD6-40E9-9D50-6BFCD34D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B73-B3B3-4CA5-837C-7B29E00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61E-22F1-49A0-A694-AD5D9E9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CB8-AE85-44D7-9305-746EDB3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561F-14CA-4E7A-BA2F-A366596CF774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2440" y="382680"/>
            <a:ext cx="8745120" cy="223920"/>
            <a:chOff x="82440" y="382680"/>
            <a:chExt cx="8745120" cy="223920"/>
          </a:xfrm>
        </p:grpSpPr>
        <p:sp>
          <p:nvSpPr>
            <p:cNvPr id="67" name=""/>
            <p:cNvSpPr/>
            <p:nvPr/>
          </p:nvSpPr>
          <p:spPr>
            <a:xfrm>
              <a:off x="82440" y="382680"/>
              <a:ext cx="8745120" cy="22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840" y="446400"/>
              <a:ext cx="8649360" cy="55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16000" y="149400"/>
            <a:ext cx="1253880" cy="1169280"/>
            <a:chOff x="216000" y="149400"/>
            <a:chExt cx="1253880" cy="1169280"/>
          </a:xfrm>
        </p:grpSpPr>
        <p:sp>
          <p:nvSpPr>
            <p:cNvPr id="70" name=""/>
            <p:cNvSpPr/>
            <p:nvPr/>
          </p:nvSpPr>
          <p:spPr>
            <a:xfrm>
              <a:off x="216000" y="166320"/>
              <a:ext cx="1253880" cy="11523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4720" y="172800"/>
              <a:ext cx="287640" cy="845640"/>
            </a:xfrm>
            <a:custGeom>
              <a:avLst/>
              <a:gdLst/>
              <a:ahLst/>
              <a:rect l="l" t="t" r="r" b="b"/>
              <a:pathLst>
                <a:path w="181" h="533">
                  <a:moveTo>
                    <a:pt x="60" y="12"/>
                  </a:moveTo>
                  <a:cubicBezTo>
                    <a:pt x="18" y="35"/>
                    <a:pt x="0" y="83"/>
                    <a:pt x="2" y="153"/>
                  </a:cubicBezTo>
                  <a:cubicBezTo>
                    <a:pt x="3" y="212"/>
                    <a:pt x="39" y="306"/>
                    <a:pt x="63" y="366"/>
                  </a:cubicBezTo>
                  <a:cubicBezTo>
                    <a:pt x="87" y="426"/>
                    <a:pt x="131" y="492"/>
                    <a:pt x="146" y="512"/>
                  </a:cubicBezTo>
                  <a:cubicBezTo>
                    <a:pt x="162" y="533"/>
                    <a:pt x="168" y="526"/>
                    <a:pt x="156" y="489"/>
                  </a:cubicBezTo>
                  <a:cubicBezTo>
                    <a:pt x="144" y="453"/>
                    <a:pt x="90" y="350"/>
                    <a:pt x="74" y="294"/>
                  </a:cubicBezTo>
                  <a:cubicBezTo>
                    <a:pt x="59" y="239"/>
                    <a:pt x="59" y="196"/>
                    <a:pt x="63" y="155"/>
                  </a:cubicBezTo>
                  <a:cubicBezTo>
                    <a:pt x="67" y="115"/>
                    <a:pt x="86" y="74"/>
                    <a:pt x="98" y="53"/>
                  </a:cubicBezTo>
                  <a:cubicBezTo>
                    <a:pt x="110" y="33"/>
                    <a:pt x="121" y="39"/>
                    <a:pt x="135" y="32"/>
                  </a:cubicBezTo>
                  <a:cubicBezTo>
                    <a:pt x="148" y="26"/>
                    <a:pt x="177" y="21"/>
                    <a:pt x="179" y="16"/>
                  </a:cubicBezTo>
                  <a:cubicBezTo>
                    <a:pt x="181" y="11"/>
                    <a:pt x="161" y="4"/>
                    <a:pt x="146" y="2"/>
                  </a:cubicBezTo>
                  <a:cubicBezTo>
                    <a:pt x="132" y="0"/>
                    <a:pt x="107" y="1"/>
                    <a:pt x="93" y="2"/>
                  </a:cubicBezTo>
                  <a:cubicBezTo>
                    <a:pt x="78" y="4"/>
                    <a:pt x="74" y="0"/>
                    <a:pt x="60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ecd882"/>
                </a:gs>
                <a:gs pos="100000">
                  <a:srgbClr val="b1a2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8440" y="149400"/>
              <a:ext cx="1057320" cy="309240"/>
            </a:xfrm>
            <a:custGeom>
              <a:avLst/>
              <a:gdLst/>
              <a:ahLst/>
              <a:rect l="l" t="t" r="r" b="b"/>
              <a:pathLst>
                <a:path w="666" h="195">
                  <a:moveTo>
                    <a:pt x="10" y="32"/>
                  </a:moveTo>
                  <a:cubicBezTo>
                    <a:pt x="20" y="24"/>
                    <a:pt x="38" y="6"/>
                    <a:pt x="72" y="3"/>
                  </a:cubicBezTo>
                  <a:cubicBezTo>
                    <a:pt x="106" y="0"/>
                    <a:pt x="153" y="4"/>
                    <a:pt x="214" y="16"/>
                  </a:cubicBezTo>
                  <a:cubicBezTo>
                    <a:pt x="275" y="28"/>
                    <a:pt x="375" y="53"/>
                    <a:pt x="440" y="74"/>
                  </a:cubicBezTo>
                  <a:cubicBezTo>
                    <a:pt x="505" y="95"/>
                    <a:pt x="568" y="122"/>
                    <a:pt x="604" y="140"/>
                  </a:cubicBezTo>
                  <a:cubicBezTo>
                    <a:pt x="640" y="158"/>
                    <a:pt x="647" y="174"/>
                    <a:pt x="653" y="182"/>
                  </a:cubicBezTo>
                  <a:cubicBezTo>
                    <a:pt x="659" y="190"/>
                    <a:pt x="666" y="195"/>
                    <a:pt x="638" y="186"/>
                  </a:cubicBezTo>
                  <a:cubicBezTo>
                    <a:pt x="609" y="177"/>
                    <a:pt x="548" y="150"/>
                    <a:pt x="483" y="129"/>
                  </a:cubicBezTo>
                  <a:cubicBezTo>
                    <a:pt x="416" y="109"/>
                    <a:pt x="306" y="78"/>
                    <a:pt x="244" y="64"/>
                  </a:cubicBezTo>
                  <a:cubicBezTo>
                    <a:pt x="181" y="51"/>
                    <a:pt x="139" y="49"/>
                    <a:pt x="107" y="51"/>
                  </a:cubicBezTo>
                  <a:cubicBezTo>
                    <a:pt x="76" y="53"/>
                    <a:pt x="71" y="75"/>
                    <a:pt x="55" y="74"/>
                  </a:cubicBezTo>
                  <a:cubicBezTo>
                    <a:pt x="39" y="74"/>
                    <a:pt x="18" y="57"/>
                    <a:pt x="10" y="50"/>
                  </a:cubicBezTo>
                  <a:cubicBezTo>
                    <a:pt x="2" y="43"/>
                    <a:pt x="0" y="40"/>
                    <a:pt x="10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a262"/>
                </a:gs>
                <a:gs pos="100000">
                  <a:srgbClr val="ecd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2480" y="460080"/>
              <a:ext cx="682560" cy="661680"/>
            </a:xfrm>
            <a:custGeom>
              <a:avLst/>
              <a:gdLst/>
              <a:ahLst/>
              <a:rect l="l" t="t" r="r" b="b"/>
              <a:pathLst>
                <a:path w="1547" h="1502">
                  <a:moveTo>
                    <a:pt x="54" y="275"/>
                  </a:moveTo>
                  <a:cubicBezTo>
                    <a:pt x="112" y="178"/>
                    <a:pt x="177" y="66"/>
                    <a:pt x="388" y="33"/>
                  </a:cubicBezTo>
                  <a:cubicBezTo>
                    <a:pt x="599" y="0"/>
                    <a:pt x="1146" y="55"/>
                    <a:pt x="1323" y="74"/>
                  </a:cubicBezTo>
                  <a:cubicBezTo>
                    <a:pt x="1500" y="93"/>
                    <a:pt x="1547" y="143"/>
                    <a:pt x="1448" y="149"/>
                  </a:cubicBezTo>
                  <a:cubicBezTo>
                    <a:pt x="1349" y="155"/>
                    <a:pt x="920" y="97"/>
                    <a:pt x="730" y="108"/>
                  </a:cubicBezTo>
                  <a:cubicBezTo>
                    <a:pt x="540" y="119"/>
                    <a:pt x="402" y="147"/>
                    <a:pt x="305" y="216"/>
                  </a:cubicBezTo>
                  <a:cubicBezTo>
                    <a:pt x="208" y="285"/>
                    <a:pt x="156" y="373"/>
                    <a:pt x="146" y="525"/>
                  </a:cubicBezTo>
                  <a:cubicBezTo>
                    <a:pt x="136" y="677"/>
                    <a:pt x="214" y="974"/>
                    <a:pt x="246" y="1126"/>
                  </a:cubicBezTo>
                  <a:cubicBezTo>
                    <a:pt x="278" y="1278"/>
                    <a:pt x="332" y="1383"/>
                    <a:pt x="338" y="1435"/>
                  </a:cubicBezTo>
                  <a:cubicBezTo>
                    <a:pt x="344" y="1487"/>
                    <a:pt x="316" y="1502"/>
                    <a:pt x="280" y="1435"/>
                  </a:cubicBezTo>
                  <a:cubicBezTo>
                    <a:pt x="244" y="1368"/>
                    <a:pt x="161" y="1170"/>
                    <a:pt x="121" y="1034"/>
                  </a:cubicBezTo>
                  <a:cubicBezTo>
                    <a:pt x="81" y="898"/>
                    <a:pt x="49" y="743"/>
                    <a:pt x="38" y="617"/>
                  </a:cubicBezTo>
                  <a:cubicBezTo>
                    <a:pt x="27" y="491"/>
                    <a:pt x="0" y="375"/>
                    <a:pt x="54" y="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ecd882"/>
                </a:gs>
                <a:gs pos="50000">
                  <a:srgbClr val="fbf8ea"/>
                </a:gs>
                <a:gs pos="100000">
                  <a:srgbClr val="ecd8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440" y="379080"/>
              <a:ext cx="406080" cy="402840"/>
            </a:xfrm>
            <a:custGeom>
              <a:avLst/>
              <a:gdLst/>
              <a:ahLst/>
              <a:rect l="l" t="t" r="r" b="b"/>
              <a:pathLst>
                <a:path w="921" h="912">
                  <a:moveTo>
                    <a:pt x="14" y="164"/>
                  </a:moveTo>
                  <a:cubicBezTo>
                    <a:pt x="0" y="66"/>
                    <a:pt x="67" y="0"/>
                    <a:pt x="216" y="33"/>
                  </a:cubicBezTo>
                  <a:cubicBezTo>
                    <a:pt x="419" y="54"/>
                    <a:pt x="487" y="8"/>
                    <a:pt x="871" y="217"/>
                  </a:cubicBezTo>
                  <a:cubicBezTo>
                    <a:pt x="921" y="234"/>
                    <a:pt x="692" y="228"/>
                    <a:pt x="613" y="258"/>
                  </a:cubicBezTo>
                  <a:cubicBezTo>
                    <a:pt x="534" y="288"/>
                    <a:pt x="450" y="347"/>
                    <a:pt x="396" y="400"/>
                  </a:cubicBezTo>
                  <a:cubicBezTo>
                    <a:pt x="342" y="453"/>
                    <a:pt x="309" y="502"/>
                    <a:pt x="287" y="576"/>
                  </a:cubicBezTo>
                  <a:cubicBezTo>
                    <a:pt x="265" y="650"/>
                    <a:pt x="308" y="912"/>
                    <a:pt x="262" y="843"/>
                  </a:cubicBezTo>
                  <a:cubicBezTo>
                    <a:pt x="45" y="626"/>
                    <a:pt x="59" y="295"/>
                    <a:pt x="14" y="16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f9ee"/>
                </a:gs>
                <a:gs pos="100000">
                  <a:srgbClr val="ecd8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26E-FBC4-45CB-8811-A9C62B7AC297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0066"/>
                </a:solidFill>
                <a:latin typeface="Tahoma"/>
                <a:ea typeface="全真中圓體"/>
              </a:rPr>
              <a:t>新世紀版台灣地區交通路網數值地圖</a:t>
            </a:r>
            <a:br>
              <a:rPr sz="4000"/>
            </a:br>
            <a:r>
              <a:rPr b="0" lang="zh-TW" sz="4000" spc="-1" strike="noStrike">
                <a:solidFill>
                  <a:srgbClr val="660066"/>
                </a:solidFill>
                <a:latin typeface="Tahoma"/>
                <a:ea typeface="全真中圓體"/>
              </a:rPr>
              <a:t>之製作發行與示範應用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676520" y="3505320"/>
            <a:ext cx="579096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0458c"/>
                </a:solidFill>
                <a:latin typeface="華康隸書體W5"/>
                <a:ea typeface="華康隸書體W5"/>
              </a:rPr>
              <a:t>期末簡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華康隸書體W5"/>
                <a:ea typeface="華康隸書體W5"/>
              </a:rPr>
              <a:t>運輸資訊組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華康隸書體W5"/>
                <a:ea typeface="華康隸書體W5"/>
              </a:rPr>
              <a:t>民國九十二年一月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2 </a:t>
            </a:r>
            <a:r>
              <a:rPr b="1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參考圖源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五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：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IKONOS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衛星影像圖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作為澎湖馬公市道路路網編修參考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715000" cy="465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277-3C77-4747-8514-594BE3A956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90720" y="838080"/>
            <a:ext cx="784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2 </a:t>
            </a:r>
            <a:r>
              <a:rPr b="1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參考圖源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六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：已定線規劃國道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國工局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及</a:t>
            </a:r>
            <a:br>
              <a:rPr sz="2800"/>
            </a:b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   快速道路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公路總局、營建署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之道路線形資料</a:t>
            </a:r>
            <a:r>
              <a:rPr b="0" lang="zh-TW" sz="2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ew" descr=""/>
          <p:cNvPicPr/>
          <p:nvPr/>
        </p:nvPicPr>
        <p:blipFill>
          <a:blip r:embed="rId1"/>
          <a:stretch/>
        </p:blipFill>
        <p:spPr>
          <a:xfrm>
            <a:off x="1219320" y="1954080"/>
            <a:ext cx="7467480" cy="475164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9C1-CBF5-42FA-9B2B-658C8526AD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83808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2 </a:t>
            </a:r>
            <a:r>
              <a:rPr b="1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參考圖源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七</a:t>
            </a:r>
            <a:r>
              <a:rPr b="1" lang="en-US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1" lang="en-US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：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縣市政府通報之道路異動資訊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88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7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至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89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5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道路異動資訊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(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雲林縣崙背鄉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NEW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6552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27B-9062-41F9-A0B8-475FBD59AE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90720" y="762120"/>
            <a:ext cx="7467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3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處理－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道路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含節點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2801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將各項圖源處理成數值檔後，再進行資料數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化編修作業，編修時係以五千分之一像片基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本圖之道路中心線為準，現地調查之軌跡線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形為輔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依據節線與節點特性分別建置其對應之屬性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資料，內容包括道路各路段代碼、道路結構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碼、道路狀況碼、橋梁編碼、隧道編碼、道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路名稱、道路共線關係及節點類別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A1E-B15F-41A7-B000-65DAA548F2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90720" y="762120"/>
            <a:ext cx="7467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3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處理－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鐵路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/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都市捷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2801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台鐵：依據內政部最新版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/2500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地形圖上之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鐵路線形數化，並加入路線名稱之屬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性資料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高鐵：依據交通部高速鐵路局提供之中心樁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位里程點資料連線而成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都市捷運：僅建置台北市捷運路網，依據台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        北市政府捷運工程局所提供之台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        北捷運各路線數值檔資料製作而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        成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996-441A-47CF-AF39-06905F94CD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90720" y="762120"/>
            <a:ext cx="73911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3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處理－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行政區界與河流湖泊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2801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行政區界：依據內政部最新版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/2500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地形圖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       數值檔之行政界線形數化而成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河流湖泊：依據內政部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89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2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31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日前發行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	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	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最新版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/2500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地形圖上之河流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	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	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湖泊及水潭數化而成，若為面狀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	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	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資料，即以面狀數化；若為單線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	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	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資料，則先數化單線後再以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       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Buffer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功能產生面狀資料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7B5-B54E-4083-B93E-C4F0823282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90720" y="762120"/>
            <a:ext cx="76197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3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處理－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地標地物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2801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配合道路實地外業調查作業，以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DGPS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記錄位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置座標後，再進行空間及屬性資料建置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利用前述各項地標地物資料來源，收集名稱及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地址資料再加以增建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各地標地物資料來源：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華康標楷體W5"/>
                <a:ea typeface="華康標楷體W5"/>
              </a:rPr>
              <a:t>警察局、消防隊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內政部警政署與消防署網站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華康標楷體W5"/>
                <a:ea typeface="華康標楷體W5"/>
              </a:rPr>
              <a:t>郵局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郵政總局提供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華康標楷體W5"/>
                <a:ea typeface="華康標楷體W5"/>
              </a:rPr>
              <a:t>醫院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中央健保局網站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華康標楷體W5"/>
                <a:ea typeface="華康標楷體W5"/>
              </a:rPr>
              <a:t>風景遊憩區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觀光局提供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華康標楷體W5"/>
                <a:ea typeface="華康標楷體W5"/>
              </a:rPr>
              <a:t>政府機關以及客運車站、停車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中華電信最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                                                            新版電話簿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4E7-6F78-4196-8584-A8758C47ED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90720" y="762120"/>
            <a:ext cx="72388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3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處理－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橋梁隧道中心點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2801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依據內政部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89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2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31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日前發行最新版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/2500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地形圖上之橋梁隧道註記，分別建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置橋梁隧道中心點圖層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若該橋梁隧道長度大於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0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公尺者，亦建入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路網圖層資料中，兩者可藉由橋梁隧道編碼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欄位進行資料連結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13B-CAC0-4D13-8246-39B7E1BBA2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90720" y="762120"/>
            <a:ext cx="73911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4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檢核編修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35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為能確保資料之精確性，運輸研究所除要求製圖單位於資料完成後，進行資料品管檢查工作，亦於取得資料成果後，運用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GIS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軟體工具以及人工目視方式，完成另一階段之資料檢核工作。資料檢核工作項目包括有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華康標楷體W5"/>
                <a:ea typeface="華康標楷體W5"/>
              </a:rPr>
              <a:t>空間資料之檢核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以及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華康標楷體W5"/>
                <a:ea typeface="華康標楷體W5"/>
              </a:rPr>
              <a:t>屬性資料之檢核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，舉例說明如後：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623-8522-4F44-B9FA-0663B5AB95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ath1" descr=""/>
          <p:cNvPicPr/>
          <p:nvPr/>
        </p:nvPicPr>
        <p:blipFill>
          <a:blip r:embed="rId1"/>
          <a:stretch/>
        </p:blipFill>
        <p:spPr>
          <a:xfrm>
            <a:off x="1981080" y="2071800"/>
            <a:ext cx="5562720" cy="4676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914400"/>
            <a:ext cx="7391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道路線形正確性與精確度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以新竹市為例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實線部份為成果路網；點資料為車行軌跡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55040" y="220968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比例尺</a:t>
            </a:r>
            <a:br>
              <a:rPr sz="2400"/>
            </a:br>
            <a:r>
              <a:rPr b="0" lang="zh-TW" sz="2400" spc="-1" strike="noStrike">
                <a:solidFill>
                  <a:srgbClr val="40458c"/>
                </a:solidFill>
                <a:latin typeface="Times New Roman"/>
              </a:rPr>
              <a:t>1:5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074-B2CB-4E25-A3C0-F5DC2A47AE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660066"/>
                </a:solidFill>
                <a:latin typeface="全真中圓體"/>
                <a:ea typeface="全真中圓體"/>
              </a:rPr>
              <a:t>簡 報 大 綱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全真中圓體"/>
                <a:ea typeface="全真中圓體"/>
              </a:rPr>
              <a:t>一、緒論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全真中圓體"/>
                <a:ea typeface="全真中圓體"/>
              </a:rPr>
              <a:t>二、資料說明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全真中圓體"/>
                <a:ea typeface="全真中圓體"/>
              </a:rPr>
              <a:t>三、流通供應與更新維護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全真中圓體"/>
                <a:ea typeface="全真中圓體"/>
              </a:rPr>
              <a:t>四、路網示範應用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0458c"/>
                </a:solidFill>
                <a:latin typeface="全真中圓體"/>
                <a:ea typeface="全真中圓體"/>
              </a:rPr>
              <a:t>五、結論與建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0B5-CC15-4D8E-A624-5CCCC0608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90720" y="914400"/>
            <a:ext cx="7391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道路分級之正確性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（國道、快速道路、省道、縣道…等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2209680"/>
          <a:ext cx="8535960" cy="43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53596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B52-BCA6-428E-B936-F40BBFB2FA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dn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9148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7086600" y="1981080"/>
            <a:ext cx="1828800" cy="1923480"/>
            <a:chOff x="7086600" y="1981080"/>
            <a:chExt cx="1828800" cy="1923480"/>
          </a:xfrm>
        </p:grpSpPr>
        <p:sp>
          <p:nvSpPr>
            <p:cNvPr id="254" name=""/>
            <p:cNvSpPr/>
            <p:nvPr/>
          </p:nvSpPr>
          <p:spPr>
            <a:xfrm>
              <a:off x="7086600" y="1981080"/>
              <a:ext cx="1828800" cy="19234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0458c"/>
                  </a:solidFill>
                  <a:latin typeface="Times New Roman"/>
                  <a:ea typeface="標楷體"/>
                </a:rPr>
                <a:t>圖例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40458c"/>
                  </a:solidFill>
                  <a:latin typeface="Times New Roman"/>
                  <a:ea typeface="標楷體"/>
                </a:rPr>
                <a:t>國道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40458c"/>
                  </a:solidFill>
                  <a:latin typeface="Times New Roman"/>
                  <a:ea typeface="標楷體"/>
                </a:rPr>
                <a:t>快速道路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40458c"/>
                  </a:solidFill>
                  <a:latin typeface="Times New Roman"/>
                  <a:ea typeface="標楷體"/>
                </a:rPr>
                <a:t>省道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40458c"/>
                  </a:solidFill>
                  <a:latin typeface="Times New Roman"/>
                  <a:ea typeface="標楷體"/>
                </a:rPr>
                <a:t>縣道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40458c"/>
                  </a:solidFill>
                  <a:latin typeface="Times New Roman"/>
                  <a:ea typeface="標楷體"/>
                </a:rPr>
                <a:t>鄉道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24680" y="251460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1880" y="2819520"/>
              <a:ext cx="45720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24680" y="3124080"/>
              <a:ext cx="9144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429000"/>
              <a:ext cx="91440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24680" y="3733920"/>
              <a:ext cx="9144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33520" y="14479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利用道路分級碼製作主題圖檢核道路的連續性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5BA-086D-45C3-85A7-237BEDFB7C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9072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道路結構正確性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Times New Roman"/>
                <a:ea typeface="華康標楷體W5"/>
              </a:rPr>
              <a:t>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一般道路；</a:t>
            </a:r>
            <a:r>
              <a:rPr b="0" lang="zh-TW" sz="2800" spc="-1" strike="noStrike">
                <a:solidFill>
                  <a:srgbClr val="ffcc00"/>
                </a:solidFill>
                <a:latin typeface="Times New Roman"/>
                <a:ea typeface="華康標楷體W5"/>
              </a:rPr>
              <a:t>1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橋梁；</a:t>
            </a:r>
            <a:r>
              <a:rPr b="0" lang="zh-TW" sz="2800" spc="-1" strike="noStrike">
                <a:solidFill>
                  <a:srgbClr val="ffcc00"/>
                </a:solidFill>
                <a:latin typeface="Times New Roman"/>
                <a:ea typeface="華康標楷體W5"/>
              </a:rPr>
              <a:t>2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隧道；</a:t>
            </a:r>
            <a:r>
              <a:rPr b="0" lang="zh-TW" sz="2800" spc="-1" strike="noStrike">
                <a:solidFill>
                  <a:srgbClr val="ffcc00"/>
                </a:solidFill>
                <a:latin typeface="Times New Roman"/>
                <a:ea typeface="華康標楷體W5"/>
              </a:rPr>
              <a:t>3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匝道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2" name="check4nN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410440" cy="479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002-040C-43FF-80CF-7B59E6C785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072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道路狀況正確性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Times New Roman"/>
                <a:ea typeface="華康標楷體W5"/>
              </a:rPr>
              <a:t>1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既有道路； </a:t>
            </a:r>
            <a:r>
              <a:rPr b="0" lang="zh-TW" sz="2800" spc="-1" strike="noStrike">
                <a:solidFill>
                  <a:srgbClr val="ffcc00"/>
                </a:solidFill>
                <a:latin typeface="Times New Roman"/>
                <a:ea typeface="華康標楷體W5"/>
              </a:rPr>
              <a:t>2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規劃道路；</a:t>
            </a:r>
            <a:r>
              <a:rPr b="0" lang="zh-TW" sz="2800" spc="-1" strike="noStrike">
                <a:solidFill>
                  <a:srgbClr val="ffcc00"/>
                </a:solidFill>
                <a:latin typeface="Times New Roman"/>
                <a:ea typeface="華康標楷體W5"/>
              </a:rPr>
              <a:t>3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：阻斷道路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check5nN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867280" cy="47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6B0-DB83-46C8-9722-B280BE2CEF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9072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縣市名稱與市鄉鎮區名稱正確性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包含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個直轄市、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5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個省轄市、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3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個縣轄市及其他鄉鎮區，代碼編號係參考主計處之行政區編碼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regionn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6248520" cy="396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D09-F33B-4475-ABBF-B9FE4E63E4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9072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地標地物代碼與名稱是否相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333440" y="1676520"/>
          <a:ext cx="4076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676520"/>
                    <a:ext cx="4076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410080" y="1676520"/>
          <a:ext cx="3492720" cy="3827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676520"/>
                    <a:ext cx="34927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E59-50D0-42BC-A04B-3C4B3BD7AF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9907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道路節點代碼與節點說明是否相符，節點關係是否合理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node" descr=""/>
          <p:cNvPicPr/>
          <p:nvPr/>
        </p:nvPicPr>
        <p:blipFill>
          <a:blip r:embed="rId1"/>
          <a:stretch/>
        </p:blipFill>
        <p:spPr>
          <a:xfrm>
            <a:off x="3733920" y="1555920"/>
            <a:ext cx="5181480" cy="4844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40992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C52-952A-4EB9-B31B-3D65789CD8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90720" y="1676520"/>
            <a:ext cx="7162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5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精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在縣轄市以上都市地區之路網精度應達到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5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公尺，其他地區之路網精度應達到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2.5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公尺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6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格式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具透通性，以文字檔型態呈現，易於轉入一般地理資訊系統開發工具軟體中使用。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EB5-D7CD-41FD-99CA-70A23CCCC8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  <a:ea typeface="全真中圓體"/>
              </a:rPr>
              <a:t>三、流通供應與更新維護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5238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3.1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流通供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為能使相關領域之產官學界能提早享受此項成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果，並期望能獲得試用者意見之回饋以使最終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成果更為完善，運輸研究所於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9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月免費提供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新版數值地圖之期中成果予已購買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前版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數值地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圖之使用者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4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另為求儘速將「新世紀台灣地區交通路網數值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地圖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1.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版」提供外界共享建置成果，亦修訂流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通管理要點，並依據「水陸地圖審查條例」經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內政部審查通過取得地圖發行許可證後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正式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對外流通供應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1BF-D087-47C0-AA5C-22A4A40CF0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90720" y="762120"/>
            <a:ext cx="7619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3.2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更新維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28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數值地圖之價值在於其資料庫內容的維護與更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新，因此於本交通路網數值地圖公開發行後，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同步建立路網資訊更新維護機制，以期能於短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時間內，隨時掌握已定線或已通車之最新路段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以及道路變更等資訊，其更新維護辦法初擬如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下：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cc00"/>
                </a:solidFill>
                <a:uFillTx/>
                <a:latin typeface="Times New Roman"/>
                <a:ea typeface="標楷體"/>
              </a:rPr>
              <a:t>定期更新計畫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：以五年時間為主，每年配合實地外業調查工作，以及參考各項圖源，進行數值地圖之定期編修工作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86E-91C3-44E3-A935-87226143F1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  <a:ea typeface="全真中圓體"/>
              </a:rPr>
              <a:t>一、緒論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具有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網路資料結構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的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交通路網數值地圖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不但可用於顯示車輛位置、道路交通狀況與導引車輛資訊，作為發展智慧型運輸系統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ITS)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的重要基礎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；同時亦可提供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企業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用於規劃符合經濟原則的物流系統與銷售佈點方式，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提昇營運的競爭力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為避免民間業者耗費資源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重複製圖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作不符經濟價值的競爭，及考量後續更新圖檔時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取得道路異動資料的一致性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，宜由政府編列預算執行數值地圖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基礎資料庫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製作， 再以</a:t>
            </a:r>
            <a:r>
              <a:rPr b="0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使用者付費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原則提供廠商開發加值產品作市場競爭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DFD-4DEC-4662-ABCA-102C3DE53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66680" y="1523880"/>
            <a:ext cx="75438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cc00"/>
                </a:solidFill>
                <a:uFillTx/>
                <a:latin typeface="Times New Roman"/>
                <a:ea typeface="標楷體"/>
              </a:rPr>
              <a:t>機動更新計畫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：配合路網更新通報制度，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請國工局、高公局、公路總局及其他公路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監理或養護單位於道路規劃定線及完工通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車、現有道路發生路形變更或拓寬之異動  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時，主動將該道路之圖形及屬性資料同時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提供予運輸研究所，另外再參考使用者之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回饋資訊，以進行道路路網維護更新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最後為兼顧政府更新數值地圖的財源與對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購買數值地圖者的服務，運輸研究所擬參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考建立會員制度作為後續數值地圖維護服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務的方式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B3E-4F8A-451D-BC74-16C1DB960A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  <a:ea typeface="全真中圓體"/>
              </a:rPr>
              <a:t>四、路網示範應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7524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利用本交通路網數值地圖為基礎，針對彰化縣農產品運送為例，以農作集散地（或集貨場）與主要公路系統之銜接進行路網可行性分析研究，除可供檢核本數值地圖之路網完整性外，亦可藉以進行非都市地區之路網可及性研究分析。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7FD-356E-43E7-B9CD-38C3FA7C7B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90720" y="762120"/>
            <a:ext cx="7696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4.1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工作項目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2801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蒐集彰化縣地區之農會、合作農場、集貨場之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相關據點資料，建置完整之點圖層資料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4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參考替代道路路網圖外，另針對各果菜市場、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批發市場之據點所在，選擇適當之農產品運送  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出口，並建置運送出口點圖層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蒐集各級道路之設計速限，於路網屬性資料中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  增建彰化縣內各道路路段旅行時間，計算各農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  產品集散地至各運送出口之最適路徑及最適服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  務範圍分析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C71-6AD7-4B72-817A-1C8BD2E674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62120" y="7621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4.2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應用展示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)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－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最適路徑計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以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彰化縣農會至鄰近運送出口之最適路徑為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447920" y="2209680"/>
            <a:ext cx="6858000" cy="4422960"/>
            <a:chOff x="1447920" y="2209680"/>
            <a:chExt cx="6858000" cy="4422960"/>
          </a:xfrm>
        </p:grpSpPr>
        <p:pic>
          <p:nvPicPr>
            <p:cNvPr id="285" name="onenode" descr=""/>
            <p:cNvPicPr/>
            <p:nvPr/>
          </p:nvPicPr>
          <p:blipFill>
            <a:blip r:embed="rId1"/>
            <a:stretch/>
          </p:blipFill>
          <p:spPr>
            <a:xfrm>
              <a:off x="1447920" y="2209680"/>
              <a:ext cx="6858000" cy="44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225680" y="4741920"/>
              <a:ext cx="279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Tahoma"/>
                </a:rPr>
                <a:t>會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99120" y="3727440"/>
              <a:ext cx="135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Tahoma"/>
                </a:rPr>
                <a:t>會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5E7-0A3B-4FB9-9D15-E0DDC466A3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90720" y="7621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4.2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應用展示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)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－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最適服務範圍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以中山高上下匝道服務範圍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為例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(1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分鐘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service" descr=""/>
          <p:cNvPicPr/>
          <p:nvPr/>
        </p:nvPicPr>
        <p:blipFill>
          <a:blip r:embed="rId1"/>
          <a:stretch/>
        </p:blipFill>
        <p:spPr>
          <a:xfrm>
            <a:off x="1752480" y="2085840"/>
            <a:ext cx="6019920" cy="471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131-5A52-4FD6-A0F5-63225B6971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90720" y="7621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4.2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應用展示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)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－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最適服務範圍分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以中山高上下匝道服務範圍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為例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(2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分鐘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1" name="service20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7102440" cy="45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CA2-17A2-4FA2-8DB5-0635EE8F28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  <a:ea typeface="全真中圓體"/>
              </a:rPr>
              <a:t>五、結論與建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5.1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結論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649"/>
              </a:spcBef>
              <a:spcAft>
                <a:spcPts val="649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為使國內擁有一套由政府流通供應，且具有網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路資料結構的交通路網數值地圖，運輸研究所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於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89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6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月開始辦理製作「新世紀台灣地區交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通路網數值地圖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1.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版」，此項成果已於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9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12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月完成，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91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月正式公開對外發行。</a:t>
            </a:r>
            <a:r>
              <a:rPr b="1" lang="zh-TW" sz="26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為確認資料之正確性以及配合數值地圖之發行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，運輸研究所仍於數值地圖完成前，同步建立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了數值地圖檢核辦法、數值地圖流通供應辦法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以及數值地圖發行前之送審相關行政程序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F22-3378-43EE-BF58-C185924DE7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90720" y="762120"/>
            <a:ext cx="76197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5.1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結論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續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400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數值地圖之價值在於其資料庫內容之維護與更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新，本研究在蒐集目前國內定期產出與不定期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產出之圖資後，進行各類圖資之取得來源、取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得方式之彙整分析，進而提出本數值地圖之後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續維護計畫。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數值地圖之路網完整性對於運輸規劃或路網分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析、區域發展比較等應用甚為重要，本研究以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彰化縣蔬果類農產品之運送為例，進行最適路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徑路網分析以及最適服務範圍分析，由實證結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果可說明本數值地圖之路網應屬完整，其路網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結構亦無不合理之現象產生。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A2F-B9D7-4411-AEAA-9BC5F264BB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762120"/>
            <a:ext cx="76197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5.2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標楷體"/>
              </a:rPr>
              <a:t>建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301"/>
              </a:spcBef>
              <a:spcAft>
                <a:spcPts val="649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在資料檢核部分，建議應由第三者執行，如此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可較具公正性、公平性及嚴謹性。  </a:t>
            </a:r>
            <a:r>
              <a:rPr b="1" lang="zh-TW" sz="26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在路網異動資料取得部分，建議應由交通部路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政司統籌制訂一道路異動通報措施，如此可確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實掌握各級道路異動情形，以利製作編修最即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時之更新路網資料 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在路網更新部分，建議後續應持續擴充全台灣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地區路網資料涵蓋至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6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米或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8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米以上道路，另針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對路網屬性資料亦建議增建道路方向性、左右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轉限制以及路寬、車道數、…等資料，可讓各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標楷體"/>
              </a:rPr>
              <a:t>   項應用有更廣泛的發展。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084-1588-4B09-8E26-3FA6B8A20F0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8600" y="1752480"/>
            <a:ext cx="8686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40458c"/>
                </a:solidFill>
                <a:latin typeface="全真中圓體"/>
                <a:ea typeface="全真中圓體"/>
              </a:rPr>
              <a:t>簡 報 完 畢</a:t>
            </a:r>
            <a:br>
              <a:rPr sz="6000"/>
            </a:br>
            <a:r>
              <a:rPr b="0" lang="zh-TW" sz="6000" spc="-1" strike="noStrike">
                <a:solidFill>
                  <a:srgbClr val="40458c"/>
                </a:solidFill>
                <a:latin typeface="全真中圓體"/>
                <a:ea typeface="全真中圓體"/>
              </a:rPr>
              <a:t>敬 請 指 教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DDA-4CB7-4992-B117-21EA0BB6E7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16002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交通部編列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89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度預算由運輸研究所執行之「</a:t>
            </a:r>
            <a:r>
              <a:rPr b="1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新世紀台灣地區交通路網數值地圖</a:t>
            </a:r>
            <a:r>
              <a:rPr b="1" lang="zh-TW" sz="3200" spc="-1" strike="noStrike">
                <a:solidFill>
                  <a:srgbClr val="ffcc00"/>
                </a:solidFill>
                <a:latin typeface="Times New Roman"/>
                <a:ea typeface="華康標楷體W5"/>
              </a:rPr>
              <a:t>1.0</a:t>
            </a:r>
            <a:r>
              <a:rPr b="1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版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」，已於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90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0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建置完成，自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91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正式對外公開發行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除更新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87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0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所發行之「台灣本島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/25000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交通路網數值地圖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.0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版」路網資料外，並且</a:t>
            </a:r>
            <a:r>
              <a:rPr b="1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新增更多圖層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以及</a:t>
            </a:r>
            <a:r>
              <a:rPr b="1" lang="zh-TW" sz="3200" spc="-1" strike="noStrike">
                <a:solidFill>
                  <a:srgbClr val="ffcc00"/>
                </a:solidFill>
                <a:latin typeface="華康標楷體W5"/>
                <a:ea typeface="華康標楷體W5"/>
              </a:rPr>
              <a:t>充實路網資料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內容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2ED-823A-41BE-8766-288CC1DEB8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399960"/>
            <a:ext cx="7619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  <a:ea typeface="全真中圓體"/>
              </a:rPr>
              <a:t>二、資料說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1 </a:t>
            </a: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資料內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更新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/2500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交通路網數值地圖之國道、省道、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縣道、鄉道、都市道路以及產業道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新增縣轄市以上都市地區所有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8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米以上道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新增已定線之規劃國道、省道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(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含快速道路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)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新增行政區、河流湖泊、鐵路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(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含台鐵、高鐵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)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與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台北市捷運、橋梁隧道中心點等圖層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新增政府機關、文教機構、運輸場站及其他公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   共設施之地標地物圖層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860-3771-4ED5-9484-D0A2AD7224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17840" y="2895480"/>
            <a:ext cx="4645080" cy="386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90720" y="83808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2 </a:t>
            </a:r>
            <a:r>
              <a:rPr b="1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參考圖源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一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：實地外業調查資料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可取得道路路網線形軌跡、地標地物點位坐標以及相關屬性資料，調查時間為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88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2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至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90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年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5</a:t>
            </a: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月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D2D-976F-4E07-BB04-30E6CC4B92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25000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4953240" cy="431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90720" y="83808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2 </a:t>
            </a:r>
            <a:r>
              <a:rPr b="1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參考圖源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二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：內政部最新版</a:t>
            </a:r>
            <a:r>
              <a:rPr b="1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/25000</a:t>
            </a:r>
            <a:r>
              <a:rPr b="1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地形圖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作為行政區界、鐵路以及河流湖泊線形數化編修依據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302-4286-48B9-90B1-E94140FDA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5000" descr=""/>
          <p:cNvPicPr/>
          <p:nvPr/>
        </p:nvPicPr>
        <p:blipFill>
          <a:blip r:embed="rId1"/>
          <a:stretch/>
        </p:blipFill>
        <p:spPr>
          <a:xfrm>
            <a:off x="1905120" y="2395440"/>
            <a:ext cx="6019560" cy="4367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838080"/>
            <a:ext cx="8153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2 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參考圖源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三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：</a:t>
            </a:r>
            <a:r>
              <a:rPr b="0" lang="zh-TW" sz="26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內政部最新版</a:t>
            </a:r>
            <a:r>
              <a:rPr b="0" lang="zh-TW" sz="26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1/5000</a:t>
            </a:r>
            <a:r>
              <a:rPr b="0" lang="zh-TW" sz="26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像片基本圖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作為道路路網編修參考以及非縣轄市地區之路網精度檢核依據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A9D-C7F4-4AD9-AF4E-E2525CA02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AIR" descr=""/>
          <p:cNvPicPr/>
          <p:nvPr/>
        </p:nvPicPr>
        <p:blipFill>
          <a:blip r:embed="rId1"/>
          <a:stretch/>
        </p:blipFill>
        <p:spPr>
          <a:xfrm>
            <a:off x="1905120" y="2089080"/>
            <a:ext cx="5790960" cy="4675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2.2 </a:t>
            </a:r>
            <a:r>
              <a:rPr b="0" lang="zh-TW" sz="32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參考圖源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(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四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)</a:t>
            </a:r>
            <a:r>
              <a:rPr b="0" lang="zh-TW" sz="2800" spc="-1" strike="noStrike">
                <a:solidFill>
                  <a:srgbClr val="40458c"/>
                </a:solidFill>
                <a:latin typeface="華康標楷體W5"/>
                <a:ea typeface="華康標楷體W5"/>
              </a:rPr>
              <a:t>：農航所航空照片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imes New Roman"/>
                <a:ea typeface="華康標楷體W5"/>
              </a:rPr>
              <a:t>用以比對縣轄市以上都市地區八米以上路網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97A-CBFE-45EA-8C8B-607B224ED6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0:07:53Z</dcterms:created>
  <dc:creator>GREEN98</dc:creator>
  <dc:description/>
  <dc:language>en-US</dc:language>
  <cp:lastModifiedBy>user</cp:lastModifiedBy>
  <cp:lastPrinted>1995-12-08T18:33:06Z</cp:lastPrinted>
  <dcterms:modified xsi:type="dcterms:W3CDTF">2003-01-15T02:24:11Z</dcterms:modified>
  <cp:revision>32</cp:revision>
  <dc:subject/>
  <dc:title>新世紀台灣地區交通路網數值地圖 檢核及發行辦法研擬</dc:title>
</cp:coreProperties>
</file>