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F22-6904-4AE4-B3D8-FB230284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10A-654C-4623-8E55-CB715CB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230-88F4-49F5-BABD-6E1FEB8D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015-037C-4E92-93F1-DB0E0C14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71D0-4D91-4C3C-A680-C144A548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ADBA-725F-484F-912F-E35503AC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23D3-4383-4AF3-9312-BA7DECA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663D-C334-4C63-A8B7-8047BD5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C27-4DAF-40A1-A36F-0E718F39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7B8B-F055-49E2-8811-62FE38CD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CEE3-ED97-41C1-A375-7D52B1F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06C-2071-466F-A3DD-2B218B2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D86A-06D7-4DF4-9E94-BC516A21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FFBA-C4AD-4270-9D94-E7368FC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ED05-7287-430F-A2F4-8F073A7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DFF9-785E-4148-958B-C45AED2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360B-18A3-45F5-878B-63939D68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D21-A7A6-4631-A34C-6B63EA2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82F-2638-4F21-B632-226F4EC4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D02-C60B-4F6F-A719-28E6BD4F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0998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C95-E464-4CAB-8290-1A866D6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9B2-A5FF-4DB6-98E1-6D9C4D2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129-43ED-41B3-B35E-A033EDA7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995-EFEA-474B-863E-4A52BE5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E72-8A2E-47EB-9900-1ABECBFD3C9A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B464-A2E3-4DAF-A9FD-57F82CB08C28}" type="slidenum"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            </a:t>
            </a: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標楷體"/>
              </a:rPr>
              <a:t>交通部運輸研究所</a:t>
            </a:r>
            <a:br>
              <a:rPr sz="4400"/>
            </a:br>
            <a:r>
              <a:rPr b="0" lang="zh-TW" sz="4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 「</a:t>
            </a: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台灣地區遊憩系統聯外</a:t>
            </a:r>
            <a:br>
              <a:rPr sz="4400"/>
            </a:br>
            <a:r>
              <a:rPr b="1" lang="zh-TW" sz="4400" spc="-1" strike="noStrike">
                <a:solidFill>
                  <a:srgbClr val="0000ff"/>
                </a:solidFill>
                <a:latin typeface="Times New Roman"/>
                <a:ea typeface="標楷體"/>
              </a:rPr>
              <a:t>            運輸資訊查詢系統</a:t>
            </a:r>
            <a:r>
              <a:rPr b="0" lang="zh-TW" sz="4400" spc="-1" strike="noStrike">
                <a:solidFill>
                  <a:srgbClr val="660066"/>
                </a:solidFill>
                <a:latin typeface="Times New Roman"/>
                <a:ea typeface="標楷體"/>
              </a:rPr>
              <a:t>」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66"/>
                </a:solidFill>
                <a:latin typeface="標楷體"/>
                <a:ea typeface="標楷體"/>
              </a:rPr>
              <a:t>期末工作簡報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九福科技顧問股份有限公司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66"/>
                </a:solidFill>
                <a:latin typeface="標楷體"/>
                <a:ea typeface="標楷體"/>
              </a:rPr>
              <a:t>中華民國八十八年六月二十九日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應用軟體架構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1676520"/>
            <a:ext cx="5029200" cy="4363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地區遊憩系統聯外運輸資訊查詢系統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35280" y="2546280"/>
            <a:ext cx="542880" cy="20541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遊憩據點查詢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27480" y="2546280"/>
            <a:ext cx="542880" cy="20541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遊憩網站連結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2546280"/>
            <a:ext cx="541080" cy="20541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資料回傳系統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77240" y="2546280"/>
            <a:ext cx="542880" cy="20541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Times New Roman"/>
                <a:ea typeface="標楷體"/>
              </a:rPr>
              <a:t>回傳資料審核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057400" y="4600440"/>
            <a:ext cx="4613040" cy="1800000"/>
            <a:chOff x="2057400" y="4600440"/>
            <a:chExt cx="4613040" cy="1800000"/>
          </a:xfrm>
        </p:grpSpPr>
        <p:sp>
          <p:nvSpPr>
            <p:cNvPr id="210" name=""/>
            <p:cNvSpPr/>
            <p:nvPr/>
          </p:nvSpPr>
          <p:spPr>
            <a:xfrm>
              <a:off x="205740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縣市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600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區域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1424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名稱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9284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資料特性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968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遊憩據點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7920" y="5036760"/>
              <a:ext cx="542520" cy="1363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道路資料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32848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36428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68532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00708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72112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399360" y="4818240"/>
              <a:ext cx="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007080" y="460044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992200" y="460044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28480" y="4818600"/>
              <a:ext cx="203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21120" y="481860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3006720" y="23288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498920" y="23288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91120" y="23288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348680" y="23288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78600" y="2112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06720" y="2328840"/>
            <a:ext cx="434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安全管制作業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一般使用者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無資料回傳與審核權限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公路局、住都處、林務局、縣市政府、鄉鎮公所層級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具資料回傳權限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私人單位層級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具資料回傳權限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交通部層級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具資料回傳與審核權限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遊憩據點查詢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圖面點選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縣市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依各縣市境內所轄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區域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分北、中、南、東四區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名稱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輸入遊憩據點全名或關鍵字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資料特性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山岳型、古蹟文化型、海岸型、湖泊型、遊樂園型及其他等五種資源特性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即時資料回傳系統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提供使用者在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線上端直接點選圖面物件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並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填寫相關資料，立即回傳經確認後即可更新資料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回傳資料項目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點資料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遊憩據點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線資料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－道路資料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國道、省道、縣道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                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、一般道路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回傳資料審核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考慮交通路網資料影響民眾權益甚大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，因此各機關回傳之道路資料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國道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、省道、縣道、一般道路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)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，仍需經由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Arial"/>
                <a:ea typeface="標楷體"/>
              </a:rPr>
              <a:t>交通部</a:t>
            </a:r>
            <a:r>
              <a:rPr b="0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審核後，方能對外公開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1099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系統展示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0574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66"/>
                </a:solidFill>
                <a:latin typeface="Times New Roman"/>
                <a:ea typeface="標楷體"/>
              </a:rPr>
              <a:t>台灣地區遊憩系統聯外運輸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66"/>
                </a:solidFill>
                <a:latin typeface="Times New Roman"/>
                <a:ea typeface="標楷體"/>
              </a:rPr>
              <a:t>資訊查詢系統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簡報內容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66006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系統說明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系統目標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交付項目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組織架構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66006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建置程序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建置步驟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專案時程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66006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軟體架構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開發軟體架構     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-</a:t>
            </a: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應用軟體架構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66006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660066"/>
                </a:solidFill>
                <a:latin typeface="Times New Roman"/>
                <a:ea typeface="標楷體"/>
              </a:rPr>
              <a:t>系統展示</a:t>
            </a: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系統目標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運用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全球資訊網路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(WWW)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，有效提供便民服務，提高行政效率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以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向量圖檔取代影像圖檔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，加速資訊擷取與資料更新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構建</a:t>
            </a:r>
            <a:r>
              <a:rPr b="0" lang="zh-TW" sz="32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資訊即時回傳系統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  <a:ea typeface="標楷體"/>
              </a:rPr>
              <a:t>，使用者可隨時查詢到最新之參考資料</a:t>
            </a:r>
            <a:r>
              <a:rPr b="0" lang="zh-TW" sz="32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交付項目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71600" y="2133720"/>
          <a:ext cx="777240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77724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組織架構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55880" y="3581280"/>
            <a:ext cx="1959120" cy="7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計畫主持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蔡世霖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41680" y="2743200"/>
            <a:ext cx="224964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貴所專案聯絡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464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440" y="3429000"/>
            <a:ext cx="6627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71600" y="5105520"/>
            <a:ext cx="2057400" cy="1371600"/>
            <a:chOff x="1371600" y="5105520"/>
            <a:chExt cx="2057400" cy="1371600"/>
          </a:xfrm>
        </p:grpSpPr>
        <p:sp>
          <p:nvSpPr>
            <p:cNvPr id="119" name=""/>
            <p:cNvSpPr/>
            <p:nvPr/>
          </p:nvSpPr>
          <p:spPr>
            <a:xfrm>
              <a:off x="1371600" y="5105520"/>
              <a:ext cx="20574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系統分析設計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郭淑玲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黃學文、陳敏娟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5595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086600" y="4114800"/>
            <a:ext cx="1406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決策小組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0066"/>
                </a:solidFill>
                <a:latin typeface="標楷體"/>
                <a:ea typeface="標楷體"/>
              </a:rPr>
              <a:t>黃國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449568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876920"/>
            <a:ext cx="4343400" cy="280800"/>
          </a:xfrm>
          <a:custGeom>
            <a:avLst/>
            <a:gdLst/>
            <a:ahLst/>
            <a:rect l="l" t="t" r="r" b="b"/>
            <a:pathLst>
              <a:path w="7140" h="380">
                <a:moveTo>
                  <a:pt x="0" y="320"/>
                </a:moveTo>
                <a:lnTo>
                  <a:pt x="0" y="0"/>
                </a:lnTo>
                <a:lnTo>
                  <a:pt x="7140" y="0"/>
                </a:lnTo>
                <a:lnTo>
                  <a:pt x="7140" y="3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87980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434340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600" y="1651680"/>
            <a:ext cx="2057400" cy="710640"/>
            <a:chOff x="3657600" y="1651680"/>
            <a:chExt cx="2057400" cy="710640"/>
          </a:xfrm>
        </p:grpSpPr>
        <p:sp>
          <p:nvSpPr>
            <p:cNvPr id="128" name=""/>
            <p:cNvSpPr/>
            <p:nvPr/>
          </p:nvSpPr>
          <p:spPr>
            <a:xfrm>
              <a:off x="3657600" y="16765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25160" y="16516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交通部運輸研究所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專案小組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657600" y="5105520"/>
            <a:ext cx="2057400" cy="1371600"/>
            <a:chOff x="3657600" y="5105520"/>
            <a:chExt cx="2057400" cy="1371600"/>
          </a:xfrm>
        </p:grpSpPr>
        <p:sp>
          <p:nvSpPr>
            <p:cNvPr id="131" name=""/>
            <p:cNvSpPr/>
            <p:nvPr/>
          </p:nvSpPr>
          <p:spPr>
            <a:xfrm>
              <a:off x="3657600" y="5105520"/>
              <a:ext cx="20574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資料轉檔、建置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謝女束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黃淑敏、賴千惠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55951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5105520"/>
            <a:ext cx="1447560" cy="1371600"/>
            <a:chOff x="6019920" y="5105520"/>
            <a:chExt cx="1447560" cy="1371600"/>
          </a:xfrm>
        </p:grpSpPr>
        <p:sp>
          <p:nvSpPr>
            <p:cNvPr id="134" name=""/>
            <p:cNvSpPr/>
            <p:nvPr/>
          </p:nvSpPr>
          <p:spPr>
            <a:xfrm>
              <a:off x="6019920" y="5105520"/>
              <a:ext cx="14475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品質管制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660066"/>
                  </a:solidFill>
                  <a:latin typeface="標楷體"/>
                  <a:ea typeface="標楷體"/>
                </a:rPr>
                <a:t>黃學文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5595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47242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66360" y="6521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建置步驟</a:t>
            </a:r>
            <a:endParaRPr b="0" lang="en-US" sz="44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003480"/>
            <a:ext cx="554040" cy="1676520"/>
          </a:xfrm>
          <a:custGeom>
            <a:avLst/>
            <a:gdLst>
              <a:gd name="textAreaLeft" fmla="*/ 27000 w 554040"/>
              <a:gd name="textAreaRight" fmla="*/ 527040 w 554040"/>
              <a:gd name="textAreaTop" fmla="*/ 27000 h 1676520"/>
              <a:gd name="textAreaBottom" fmla="*/ 1649520 h 1676520"/>
            </a:gdLst>
            <a:ahLst/>
            <a:rect l="textAreaLeft" t="textAreaTop" r="textAreaRight" b="textAreaBottom"/>
            <a:pathLst>
              <a:path w="21600" h="65333">
                <a:moveTo>
                  <a:pt x="3600" y="0"/>
                </a:moveTo>
                <a:arcTo wR="3600" hR="3600" stAng="16200000" swAng="-5400000"/>
                <a:lnTo>
                  <a:pt x="0" y="61733"/>
                </a:lnTo>
                <a:arcTo wR="3600" hR="3600" stAng="10800000" swAng="-5400000"/>
                <a:lnTo>
                  <a:pt x="18000" y="653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166920"/>
            <a:ext cx="5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</a:rPr>
              <a:t>計畫開始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2808360"/>
            <a:ext cx="555480" cy="2063520"/>
          </a:xfrm>
          <a:custGeom>
            <a:avLst/>
            <a:gdLst>
              <a:gd name="textAreaLeft" fmla="*/ 27000 w 555480"/>
              <a:gd name="textAreaRight" fmla="*/ 528480 w 555480"/>
              <a:gd name="textAreaTop" fmla="*/ 27000 h 2063520"/>
              <a:gd name="textAreaBottom" fmla="*/ 2036520 h 2063520"/>
            </a:gdLst>
            <a:ahLst/>
            <a:rect l="textAreaLeft" t="textAreaTop" r="textAreaRight" b="textAreaBottom"/>
            <a:pathLst>
              <a:path w="21600" h="80203">
                <a:moveTo>
                  <a:pt x="3600" y="0"/>
                </a:moveTo>
                <a:arcTo wR="3600" hR="3600" stAng="16200000" swAng="-5400000"/>
                <a:lnTo>
                  <a:pt x="0" y="76603"/>
                </a:lnTo>
                <a:arcTo wR="3600" hR="3600" stAng="10800000" swAng="-5400000"/>
                <a:lnTo>
                  <a:pt x="18000" y="80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44720" y="2870280"/>
            <a:ext cx="55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</a:rPr>
              <a:t>計畫目標確定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46520" y="1752480"/>
            <a:ext cx="656640" cy="2028600"/>
            <a:chOff x="2846520" y="1752480"/>
            <a:chExt cx="656640" cy="2028600"/>
          </a:xfrm>
        </p:grpSpPr>
        <p:sp>
          <p:nvSpPr>
            <p:cNvPr id="144" name=""/>
            <p:cNvSpPr/>
            <p:nvPr/>
          </p:nvSpPr>
          <p:spPr>
            <a:xfrm>
              <a:off x="2846520" y="1752480"/>
              <a:ext cx="590760" cy="2028600"/>
            </a:xfrm>
            <a:custGeom>
              <a:avLst/>
              <a:gdLst>
                <a:gd name="textAreaLeft" fmla="*/ 28800 w 590760"/>
                <a:gd name="textAreaRight" fmla="*/ 561960 w 590760"/>
                <a:gd name="textAreaTop" fmla="*/ 28800 h 2028600"/>
                <a:gd name="textAreaBottom" fmla="*/ 1999800 h 2028600"/>
              </a:gdLst>
              <a:ahLst/>
              <a:rect l="textAreaLeft" t="textAreaTop" r="textAreaRight" b="textAreaBottom"/>
              <a:pathLst>
                <a:path w="21600" h="74140">
                  <a:moveTo>
                    <a:pt x="3600" y="0"/>
                  </a:moveTo>
                  <a:arcTo wR="3600" hR="3600" stAng="16200000" swAng="-5400000"/>
                  <a:lnTo>
                    <a:pt x="0" y="70540"/>
                  </a:lnTo>
                  <a:arcTo wR="3600" hR="3600" stAng="10800000" swAng="-5400000"/>
                  <a:lnTo>
                    <a:pt x="18000" y="741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0200" y="1847520"/>
              <a:ext cx="552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資料蒐集整理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676520" y="3733920"/>
            <a:ext cx="15228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17920" y="3782880"/>
            <a:ext cx="201600" cy="211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38600" y="4114800"/>
            <a:ext cx="647280" cy="2028960"/>
            <a:chOff x="2838600" y="4114800"/>
            <a:chExt cx="647280" cy="2028960"/>
          </a:xfrm>
        </p:grpSpPr>
        <p:sp>
          <p:nvSpPr>
            <p:cNvPr id="149" name=""/>
            <p:cNvSpPr/>
            <p:nvPr/>
          </p:nvSpPr>
          <p:spPr>
            <a:xfrm flipH="1">
              <a:off x="2892240" y="4707000"/>
              <a:ext cx="15876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8600" y="4114800"/>
              <a:ext cx="593280" cy="2028960"/>
            </a:xfrm>
            <a:custGeom>
              <a:avLst/>
              <a:gdLst>
                <a:gd name="textAreaLeft" fmla="*/ 28800 w 593280"/>
                <a:gd name="textAreaRight" fmla="*/ 564480 w 593280"/>
                <a:gd name="textAreaTop" fmla="*/ 28800 h 2028960"/>
                <a:gd name="textAreaBottom" fmla="*/ 2000160 h 2028960"/>
              </a:gdLst>
              <a:ahLst/>
              <a:rect l="textAreaLeft" t="textAreaTop" r="textAreaRight" b="textAreaBottom"/>
              <a:pathLst>
                <a:path w="21600" h="73838">
                  <a:moveTo>
                    <a:pt x="3600" y="0"/>
                  </a:moveTo>
                  <a:arcTo wR="3600" hR="3600" stAng="16200000" swAng="-5400000"/>
                  <a:lnTo>
                    <a:pt x="0" y="70238"/>
                  </a:lnTo>
                  <a:arcTo wR="3600" hR="3600" stAng="10800000" swAng="-5400000"/>
                  <a:lnTo>
                    <a:pt x="18000" y="73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1120" y="4191120"/>
              <a:ext cx="55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需 求整理確認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589200" y="3792600"/>
            <a:ext cx="201600" cy="210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60640" y="1905120"/>
            <a:ext cx="591840" cy="1552320"/>
            <a:chOff x="3860640" y="1905120"/>
            <a:chExt cx="591840" cy="1552320"/>
          </a:xfrm>
        </p:grpSpPr>
        <p:sp>
          <p:nvSpPr>
            <p:cNvPr id="154" name=""/>
            <p:cNvSpPr/>
            <p:nvPr/>
          </p:nvSpPr>
          <p:spPr>
            <a:xfrm flipH="1">
              <a:off x="3914640" y="2496960"/>
              <a:ext cx="15804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60640" y="1905120"/>
              <a:ext cx="591840" cy="155232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1552320"/>
                <a:gd name="textAreaBottom" fmla="*/ 1523520 h 1552320"/>
              </a:gdLst>
              <a:ahLst/>
              <a:rect l="textAreaLeft" t="textAreaTop" r="textAreaRight" b="textAreaBottom"/>
              <a:pathLst>
                <a:path w="21600" h="56633">
                  <a:moveTo>
                    <a:pt x="3600" y="0"/>
                  </a:moveTo>
                  <a:arcTo wR="3600" hR="3600" stAng="16200000" swAng="-5400000"/>
                  <a:lnTo>
                    <a:pt x="0" y="53033"/>
                  </a:lnTo>
                  <a:arcTo wR="3600" hR="3600" stAng="10800000" swAng="-5400000"/>
                  <a:lnTo>
                    <a:pt x="18000" y="566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0440" y="1950840"/>
              <a:ext cx="55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系統分析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573440" y="3768840"/>
            <a:ext cx="200160" cy="210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897080" y="3271680"/>
            <a:ext cx="158760" cy="0"/>
          </a:xfrm>
          <a:prstGeom prst="line">
            <a:avLst/>
          </a:prstGeom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3440" y="2362320"/>
            <a:ext cx="592200" cy="3429000"/>
          </a:xfrm>
          <a:custGeom>
            <a:avLst/>
            <a:gdLst>
              <a:gd name="textAreaLeft" fmla="*/ 28800 w 592200"/>
              <a:gd name="textAreaRight" fmla="*/ 563400 w 592200"/>
              <a:gd name="textAreaTop" fmla="*/ 28800 h 3429000"/>
              <a:gd name="textAreaBottom" fmla="*/ 3400200 h 3429000"/>
            </a:gdLst>
            <a:ahLst/>
            <a:rect l="textAreaLeft" t="textAreaTop" r="textAreaRight" b="textAreaBottom"/>
            <a:pathLst>
              <a:path w="21600" h="125007">
                <a:moveTo>
                  <a:pt x="3600" y="0"/>
                </a:moveTo>
                <a:arcTo wR="3600" hR="3600" stAng="16200000" swAng="-5400000"/>
                <a:lnTo>
                  <a:pt x="0" y="121407"/>
                </a:lnTo>
                <a:arcTo wR="3600" hR="3600" stAng="10800000" swAng="-5400000"/>
                <a:lnTo>
                  <a:pt x="18000" y="125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1600" y="2438280"/>
            <a:ext cx="5540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</a:rPr>
              <a:t>系統細部規劃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TW" sz="2000" spc="-1" strike="noStrike">
                <a:solidFill>
                  <a:srgbClr val="660066"/>
                </a:solidFill>
                <a:latin typeface="Times New Roman"/>
              </a:rPr>
              <a:t>分析設計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75320" y="3760920"/>
            <a:ext cx="200160" cy="210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64240" y="3726000"/>
            <a:ext cx="201600" cy="210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851440" y="3100320"/>
            <a:ext cx="591840" cy="1547640"/>
            <a:chOff x="5851440" y="3100320"/>
            <a:chExt cx="591840" cy="1547640"/>
          </a:xfrm>
        </p:grpSpPr>
        <p:sp>
          <p:nvSpPr>
            <p:cNvPr id="164" name=""/>
            <p:cNvSpPr/>
            <p:nvPr/>
          </p:nvSpPr>
          <p:spPr>
            <a:xfrm flipH="1">
              <a:off x="5905440" y="3714480"/>
              <a:ext cx="158400" cy="144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51440" y="3100320"/>
              <a:ext cx="591840" cy="154764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1547640"/>
                <a:gd name="textAreaBottom" fmla="*/ 1518840 h 1547640"/>
              </a:gdLst>
              <a:ahLst/>
              <a:rect l="textAreaLeft" t="textAreaTop" r="textAreaRight" b="textAreaBottom"/>
              <a:pathLst>
                <a:path w="21600" h="56462">
                  <a:moveTo>
                    <a:pt x="3600" y="0"/>
                  </a:moveTo>
                  <a:arcTo wR="3600" hR="3600" stAng="16200000" swAng="-5400000"/>
                  <a:lnTo>
                    <a:pt x="0" y="52862"/>
                  </a:lnTo>
                  <a:arcTo wR="3600" hR="3600" stAng="10800000" swAng="-5400000"/>
                  <a:lnTo>
                    <a:pt x="18000" y="56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71240" y="3147840"/>
              <a:ext cx="55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系統整合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23080" y="2779560"/>
            <a:ext cx="591840" cy="2097000"/>
            <a:chOff x="6823080" y="2779560"/>
            <a:chExt cx="591840" cy="2097000"/>
          </a:xfrm>
        </p:grpSpPr>
        <p:sp>
          <p:nvSpPr>
            <p:cNvPr id="168" name=""/>
            <p:cNvSpPr/>
            <p:nvPr/>
          </p:nvSpPr>
          <p:spPr>
            <a:xfrm flipH="1">
              <a:off x="6877080" y="3371760"/>
              <a:ext cx="15804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080" y="2779560"/>
              <a:ext cx="591840" cy="2097000"/>
            </a:xfrm>
            <a:custGeom>
              <a:avLst/>
              <a:gdLst>
                <a:gd name="textAreaLeft" fmla="*/ 28800 w 591840"/>
                <a:gd name="textAreaRight" fmla="*/ 563040 w 591840"/>
                <a:gd name="textAreaTop" fmla="*/ 28800 h 2097000"/>
                <a:gd name="textAreaBottom" fmla="*/ 2068200 h 2097000"/>
              </a:gdLst>
              <a:ahLst/>
              <a:rect l="textAreaLeft" t="textAreaTop" r="textAreaRight" b="textAreaBottom"/>
              <a:pathLst>
                <a:path w="21600" h="76499">
                  <a:moveTo>
                    <a:pt x="3600" y="0"/>
                  </a:moveTo>
                  <a:arcTo wR="3600" hR="3600" stAng="16200000" swAng="-5400000"/>
                  <a:lnTo>
                    <a:pt x="0" y="72899"/>
                  </a:lnTo>
                  <a:arcTo wR="3600" hR="3600" stAng="10800000" swAng="-5400000"/>
                  <a:lnTo>
                    <a:pt x="18000" y="764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2880" y="2825640"/>
              <a:ext cx="554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系統開發建置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512120" y="3736800"/>
            <a:ext cx="201600" cy="211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770960" y="2638440"/>
            <a:ext cx="591480" cy="2611440"/>
            <a:chOff x="7770960" y="2638440"/>
            <a:chExt cx="591480" cy="2611440"/>
          </a:xfrm>
        </p:grpSpPr>
        <p:sp>
          <p:nvSpPr>
            <p:cNvPr id="173" name=""/>
            <p:cNvSpPr/>
            <p:nvPr/>
          </p:nvSpPr>
          <p:spPr>
            <a:xfrm flipH="1">
              <a:off x="7824960" y="3230640"/>
              <a:ext cx="15804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0960" y="2638440"/>
              <a:ext cx="591480" cy="2611440"/>
            </a:xfrm>
            <a:custGeom>
              <a:avLst/>
              <a:gdLst>
                <a:gd name="textAreaLeft" fmla="*/ 28800 w 591480"/>
                <a:gd name="textAreaRight" fmla="*/ 562680 w 591480"/>
                <a:gd name="textAreaTop" fmla="*/ 28800 h 2611440"/>
                <a:gd name="textAreaBottom" fmla="*/ 2582640 h 2611440"/>
              </a:gdLst>
              <a:ahLst/>
              <a:rect l="textAreaLeft" t="textAreaTop" r="textAreaRight" b="textAreaBottom"/>
              <a:pathLst>
                <a:path w="21600" h="95321">
                  <a:moveTo>
                    <a:pt x="3600" y="0"/>
                  </a:moveTo>
                  <a:arcTo wR="3600" hR="3600" stAng="16200000" swAng="-5400000"/>
                  <a:lnTo>
                    <a:pt x="0" y="91721"/>
                  </a:lnTo>
                  <a:arcTo wR="3600" hR="3600" stAng="10800000" swAng="-5400000"/>
                  <a:lnTo>
                    <a:pt x="18000" y="953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90760" y="2684520"/>
              <a:ext cx="554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系統移交及訓練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886200" y="4038480"/>
            <a:ext cx="569880" cy="2590920"/>
            <a:chOff x="3886200" y="4038480"/>
            <a:chExt cx="569880" cy="2590920"/>
          </a:xfrm>
        </p:grpSpPr>
        <p:sp>
          <p:nvSpPr>
            <p:cNvPr id="177" name=""/>
            <p:cNvSpPr/>
            <p:nvPr/>
          </p:nvSpPr>
          <p:spPr>
            <a:xfrm flipH="1">
              <a:off x="3938400" y="4630680"/>
              <a:ext cx="1522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4038480"/>
              <a:ext cx="569880" cy="2590920"/>
            </a:xfrm>
            <a:custGeom>
              <a:avLst/>
              <a:gdLst>
                <a:gd name="textAreaLeft" fmla="*/ 27720 w 569880"/>
                <a:gd name="textAreaRight" fmla="*/ 542160 w 569880"/>
                <a:gd name="textAreaTop" fmla="*/ 27720 h 2590920"/>
                <a:gd name="textAreaBottom" fmla="*/ 2563200 h 2590920"/>
              </a:gdLst>
              <a:ahLst/>
              <a:rect l="textAreaLeft" t="textAreaTop" r="textAreaRight" b="textAreaBottom"/>
              <a:pathLst>
                <a:path w="21600" h="98155">
                  <a:moveTo>
                    <a:pt x="3600" y="0"/>
                  </a:moveTo>
                  <a:arcTo wR="3600" hR="3600" stAng="16200000" swAng="-5400000"/>
                  <a:lnTo>
                    <a:pt x="0" y="94555"/>
                  </a:lnTo>
                  <a:arcTo wR="3600" hR="3600" stAng="10800000" swAng="-5400000"/>
                  <a:lnTo>
                    <a:pt x="18000" y="98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05280" y="4038480"/>
              <a:ext cx="533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TW" sz="2000" spc="-1" strike="noStrike">
                  <a:solidFill>
                    <a:srgbClr val="660066"/>
                  </a:solidFill>
                  <a:latin typeface="Times New Roman"/>
                </a:rPr>
                <a:t>地理圖資蒐集轉入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81280" y="3024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專案時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10600" y="54118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1332000"/>
          <a:ext cx="7238880" cy="476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32000"/>
                    <a:ext cx="723888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543640" y="2362320"/>
            <a:ext cx="38088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2666880"/>
            <a:ext cx="38088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971800"/>
            <a:ext cx="38088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276720"/>
            <a:ext cx="190512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3581280"/>
            <a:ext cx="7617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4495680"/>
            <a:ext cx="38124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3280" y="4952880"/>
            <a:ext cx="38124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5486400"/>
            <a:ext cx="38124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Times New Roman"/>
                <a:ea typeface="標楷體"/>
              </a:rPr>
              <a:t>開發軟體架構</a:t>
            </a:r>
            <a:r>
              <a:rPr b="0" lang="zh-TW" sz="3600" spc="-1" strike="noStrike">
                <a:solidFill>
                  <a:srgbClr val="0000cc"/>
                </a:solidFill>
                <a:latin typeface="Times New Roman"/>
                <a:ea typeface="標楷體"/>
              </a:rPr>
              <a:t>(Autodesk MapGuide)</a:t>
            </a:r>
            <a:endParaRPr b="0" lang="en-US" sz="36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Autodesk MapGuide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是一套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GIS for WEB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的軟體，提供最快且簡單的方式來建置與維護一個以向量及影像為基礎的 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GIS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解決方案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Autodesk MapGuide Viewer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：安裝在使用者端，它是用來觀看並查詢由 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Autodesk MapGuide Server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所提供給它的地理資訊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Autodesk MapGuide Author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：用來編輯及建立地理資訊，以提供給與網際網路及企業內網路所使用的地理資訊資料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0066"/>
                </a:solidFill>
                <a:uFillTx/>
                <a:latin typeface="Times New Roman"/>
                <a:ea typeface="標楷體"/>
              </a:rPr>
              <a:t>Autodesk MapGuide Server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：是一個地理資訊資料伺服器，它提供由 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  <a:ea typeface="標楷體"/>
              </a:rPr>
              <a:t>Autodesk MapGuide Author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 </a:t>
            </a:r>
            <a:r>
              <a:rPr b="0" lang="zh-TW" sz="2400" spc="-1" strike="noStrike">
                <a:solidFill>
                  <a:srgbClr val="660066"/>
                </a:solidFill>
                <a:latin typeface="Arial"/>
                <a:ea typeface="標楷體"/>
              </a:rPr>
              <a:t>所編輯建立出來的資料</a:t>
            </a:r>
            <a:r>
              <a:rPr b="0" lang="zh-TW" sz="2400" spc="-1" strike="noStrike">
                <a:solidFill>
                  <a:srgbClr val="66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Times New Roman"/>
                <a:ea typeface="標楷體"/>
              </a:rPr>
              <a:t>開發軟體架構</a:t>
            </a:r>
            <a:r>
              <a:rPr b="0" lang="zh-TW" sz="3600" spc="-1" strike="noStrike">
                <a:solidFill>
                  <a:srgbClr val="0000cc"/>
                </a:solidFill>
                <a:latin typeface="Times New Roman"/>
                <a:ea typeface="標楷體"/>
              </a:rPr>
              <a:t>(Autodesk MapGuide)</a:t>
            </a:r>
            <a:endParaRPr b="0" lang="en-US" sz="3600" spc="-1" strike="noStrike">
              <a:solidFill>
                <a:srgbClr val="ff00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66360" y="64008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九福科技顧問股份有限公司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57400" y="1058760"/>
          <a:ext cx="6019920" cy="587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058760"/>
                    <a:ext cx="601992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08:47:18Z</dcterms:created>
  <dc:creator>calvin</dc:creator>
  <dc:description/>
  <dc:language>en-US</dc:language>
  <cp:lastModifiedBy>Chiou Pei-chun</cp:lastModifiedBy>
  <dcterms:modified xsi:type="dcterms:W3CDTF">1999-09-27T09:35:13Z</dcterms:modified>
  <cp:revision>30</cp:revision>
  <dc:subject/>
  <dc:title>交通部運輸研究所 「台灣地區遊憩系統聯外運輸資訊查詢系統」</dc:title>
</cp:coreProperties>
</file>