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2C5-8BB9-49D3-8BA1-C592E3B5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5C2-9634-445E-80F2-844CB736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6F4-AC54-4667-9BC1-7DD11F09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26A-24F7-498E-BB9D-63462B82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8F64-7F47-4F3A-9E71-F6628D07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C4E7-05E3-443A-AA7D-587ED375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BFA2-1D6C-421C-BED5-5C33FCD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CE9C-B759-4A9C-B999-D4983CEA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FDBD-2A31-4950-93BD-87C65274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0709-1EE3-4113-A2A1-4DB3C782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A24-FC81-4109-A197-0355642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B52-B01F-404B-B4C6-95F905B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B4C9-375E-401A-A271-64CC797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9D5D-0537-4DD5-AF1E-1083FE6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DB1-9B4F-4318-9595-573D68FA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890B-7CC0-40BC-83B9-DF25AE92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77E6-A32D-4414-B5EC-D8F0C6A2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ABE-AC1B-4D3B-A04C-503038E3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D6C-4D65-4718-B113-083AFFA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34A-21C3-477D-AE8A-8F5489F8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5C1-499A-44E8-BD14-5CBB412A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A3C-952B-4728-9AD4-FF15B62B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D56-BD3B-43FA-B588-A62E293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794-8F57-4708-BC05-6219630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5F3-6674-464B-846A-89F3A3A9ACEA}" type="slidenum"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D77-8F20-46C0-B7C8-6857F2AEEDA6}" type="slidenum">
              <a:rPr b="0" lang="zh-TW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685800"/>
            <a:ext cx="760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Times New Roman"/>
                <a:ea typeface="標楷體"/>
              </a:rPr>
              <a:t>「交通事故與交通違規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Times New Roman"/>
                <a:ea typeface="標楷體"/>
              </a:rPr>
              <a:t>    </a:t>
            </a:r>
            <a:r>
              <a:rPr b="1" lang="zh-TW" sz="4400" spc="-1" strike="noStrike">
                <a:solidFill>
                  <a:srgbClr val="0000ff"/>
                </a:solidFill>
                <a:latin typeface="Times New Roman"/>
                <a:ea typeface="標楷體"/>
              </a:rPr>
              <a:t>社會成本推估研討會」 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1800" y="2971800"/>
            <a:ext cx="430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主辦單位：交通部運輸研究所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協辦單位：財團法人中華經濟研究院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	</a:t>
            </a:r>
            <a:r>
              <a:rPr b="1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	</a:t>
            </a:r>
            <a:r>
              <a:rPr b="1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中華民國運輸學會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標楷體"/>
                <a:ea typeface="標楷體"/>
              </a:rPr>
              <a:t>日期：中華民國八十九年元月十八日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3C1-DDDF-4003-8461-81F2243886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83440" y="730080"/>
            <a:ext cx="33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本研討會之辦理緣由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95160" y="1428840"/>
            <a:ext cx="496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國人駕駛習慣不良，交通事故與違規常是因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駕駛者不守法的行為所致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交通事故與交通違規所造成之社會成本的損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失，由社會大眾共同分擔並不公平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缺乏社會成本的量化分析模式，無法訂出客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觀且合理的社會成本值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研究交通事故與交通違規所引發之社會成本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應該如何透過合理的方式與負擔程度，轉嫁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式分配給違規者，以創造公平與合理的交通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環境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B93-14D6-4D53-ADF6-248604EFDD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08640" y="533520"/>
            <a:ext cx="33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本研討會之辦理目的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9760" y="1219320"/>
            <a:ext cx="4960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期望經由相關子題的逐一探討，集合相關領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域的專家經驗與智慧，投入『交通事故與交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通違規之社會成本推估』相關議題之研究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除獲取共識外，並可發現與尚須加強之處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引導有興趣之學者專家繼續投入後續相關研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究工作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期望未來能訂定出社會成本量化估算模式，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並以教育及執法的方法改善交通秩序及促進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交通安全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促使社會大眾覺醒到交通事故與交通違規的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社會成本龐大而能自主地遵守交通法規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E2B-4C02-4C5B-811D-D03AD49E5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25760" y="609480"/>
            <a:ext cx="28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本研討會之特色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56560" y="1338120"/>
            <a:ext cx="51735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依據本研討會的目的，邀請學者專家共同擬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定研討會之研討架構及相關研討子題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廣泛地邀請學者專家依研討架構及子題撰寫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論文，並辦理其論文歸屬之自評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論文發表之安排乃依照研討架構的分類依序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發表，使參與者對於『交通事故與交通違規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之社會成本推估』的各項主題及其於全案中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的定位有一全面之概念，以便於研討時能集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中焦點及會後可整理出有系統的結論與有待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進一步研發之課題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（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  <a:ea typeface="全真楷書"/>
              </a:rPr>
              <a:t>研討架構與相關子題如下圖所示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977-9B27-45B0-9F8E-6AEA85E92C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181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本研討會之研討架構與研討子題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1320" y="1447920"/>
            <a:ext cx="18306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81320" y="1379520"/>
            <a:ext cx="1830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15480" y="145404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社會成本之意涵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0560" y="2189160"/>
            <a:ext cx="144936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13200" y="2282760"/>
            <a:ext cx="114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2357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交通事故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3480" y="2216160"/>
            <a:ext cx="2594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5040" y="2189160"/>
            <a:ext cx="2622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75360" y="22003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交通違規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30360" y="24415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3880" y="2428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未發生事故的違規事件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95920" y="24415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65440" y="2790720"/>
            <a:ext cx="104760" cy="225360"/>
            <a:chOff x="3565440" y="2790720"/>
            <a:chExt cx="104760" cy="225360"/>
          </a:xfrm>
        </p:grpSpPr>
        <p:sp>
          <p:nvSpPr>
            <p:cNvPr id="122" name=""/>
            <p:cNvSpPr/>
            <p:nvPr/>
          </p:nvSpPr>
          <p:spPr>
            <a:xfrm>
              <a:off x="3622680" y="2790720"/>
              <a:ext cx="14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5440" y="2922480"/>
              <a:ext cx="104760" cy="9360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0" y="0"/>
                  </a:moveTo>
                  <a:lnTo>
                    <a:pt x="36" y="59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313320" y="2790720"/>
            <a:ext cx="105120" cy="225360"/>
            <a:chOff x="6313320" y="2790720"/>
            <a:chExt cx="105120" cy="225360"/>
          </a:xfrm>
        </p:grpSpPr>
        <p:sp>
          <p:nvSpPr>
            <p:cNvPr id="125" name=""/>
            <p:cNvSpPr/>
            <p:nvPr/>
          </p:nvSpPr>
          <p:spPr>
            <a:xfrm>
              <a:off x="6370560" y="2790720"/>
              <a:ext cx="18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13320" y="2922480"/>
              <a:ext cx="105120" cy="9360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0" y="0"/>
                  </a:moveTo>
                  <a:lnTo>
                    <a:pt x="36" y="59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843440" y="5575320"/>
            <a:ext cx="26719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67120" y="5575320"/>
            <a:ext cx="2824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0880" y="562932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現有相關法規與社會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71480" y="56293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成本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90720" y="5857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求償之法規面的探討及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6840" y="608652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求償金的運用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60560" y="3016080"/>
            <a:ext cx="144936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82800" y="2987640"/>
            <a:ext cx="155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3600" y="30384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員警處理程序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3267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及相關文件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83320" y="3016080"/>
            <a:ext cx="1420920" cy="6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07000" y="2987640"/>
            <a:ext cx="1554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76360" y="30384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員警處理程序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44760" y="3267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及相關文件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1920" y="5575320"/>
            <a:ext cx="2212920" cy="67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01920" y="5575320"/>
            <a:ext cx="2441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08080" y="562932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交通事故與交通違規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8040" y="585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社會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5640" y="585792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成本之觀念宣導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62520" y="4370400"/>
            <a:ext cx="104760" cy="225360"/>
            <a:chOff x="4862520" y="4370400"/>
            <a:chExt cx="104760" cy="225360"/>
          </a:xfrm>
        </p:grpSpPr>
        <p:sp>
          <p:nvSpPr>
            <p:cNvPr id="147" name=""/>
            <p:cNvSpPr/>
            <p:nvPr/>
          </p:nvSpPr>
          <p:spPr>
            <a:xfrm>
              <a:off x="4919760" y="4370400"/>
              <a:ext cx="14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2520" y="4502160"/>
              <a:ext cx="104760" cy="9360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0" y="0"/>
                  </a:moveTo>
                  <a:lnTo>
                    <a:pt x="36" y="59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995720" y="1812960"/>
            <a:ext cx="180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2680" y="1962000"/>
            <a:ext cx="274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65440" y="1962000"/>
            <a:ext cx="104760" cy="227160"/>
            <a:chOff x="3565440" y="1962000"/>
            <a:chExt cx="104760" cy="227160"/>
          </a:xfrm>
        </p:grpSpPr>
        <p:sp>
          <p:nvSpPr>
            <p:cNvPr id="152" name=""/>
            <p:cNvSpPr/>
            <p:nvPr/>
          </p:nvSpPr>
          <p:spPr>
            <a:xfrm>
              <a:off x="3622680" y="1962000"/>
              <a:ext cx="14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65440" y="20937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6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313320" y="1962000"/>
            <a:ext cx="105120" cy="227160"/>
            <a:chOff x="6313320" y="1962000"/>
            <a:chExt cx="105120" cy="227160"/>
          </a:xfrm>
        </p:grpSpPr>
        <p:sp>
          <p:nvSpPr>
            <p:cNvPr id="155" name=""/>
            <p:cNvSpPr/>
            <p:nvPr/>
          </p:nvSpPr>
          <p:spPr>
            <a:xfrm>
              <a:off x="6370560" y="1962000"/>
              <a:ext cx="18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13320" y="2093760"/>
              <a:ext cx="10512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6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919760" y="5199120"/>
            <a:ext cx="14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22680" y="5348160"/>
            <a:ext cx="267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65440" y="5348160"/>
            <a:ext cx="104760" cy="227160"/>
            <a:chOff x="3565440" y="5348160"/>
            <a:chExt cx="104760" cy="227160"/>
          </a:xfrm>
        </p:grpSpPr>
        <p:sp>
          <p:nvSpPr>
            <p:cNvPr id="160" name=""/>
            <p:cNvSpPr/>
            <p:nvPr/>
          </p:nvSpPr>
          <p:spPr>
            <a:xfrm>
              <a:off x="3622680" y="5348160"/>
              <a:ext cx="14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5440" y="54799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6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37360" y="5348160"/>
            <a:ext cx="104760" cy="227160"/>
            <a:chOff x="6237360" y="5348160"/>
            <a:chExt cx="104760" cy="227160"/>
          </a:xfrm>
        </p:grpSpPr>
        <p:sp>
          <p:nvSpPr>
            <p:cNvPr id="163" name=""/>
            <p:cNvSpPr/>
            <p:nvPr/>
          </p:nvSpPr>
          <p:spPr>
            <a:xfrm>
              <a:off x="6294600" y="5348160"/>
              <a:ext cx="14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37360" y="54799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6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470400" y="4595760"/>
            <a:ext cx="305280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46360" y="4595760"/>
            <a:ext cx="3052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15720" y="46386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交通事故社會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8760" y="463860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成本貨幣值及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4280" y="486720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交通違規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680" y="486720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社會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3040" y="48672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成本貨幣值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49640" y="3843360"/>
            <a:ext cx="26701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28160" y="3876840"/>
            <a:ext cx="15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交通事故社會成本之探討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65440" y="3618000"/>
            <a:ext cx="104760" cy="225000"/>
            <a:chOff x="3565440" y="3618000"/>
            <a:chExt cx="104760" cy="225000"/>
          </a:xfrm>
        </p:grpSpPr>
        <p:sp>
          <p:nvSpPr>
            <p:cNvPr id="175" name=""/>
            <p:cNvSpPr/>
            <p:nvPr/>
          </p:nvSpPr>
          <p:spPr>
            <a:xfrm>
              <a:off x="3622680" y="3618000"/>
              <a:ext cx="144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5440" y="3749400"/>
              <a:ext cx="104760" cy="9360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0" y="0"/>
                  </a:moveTo>
                  <a:lnTo>
                    <a:pt x="36" y="59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622680" y="421956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73480" y="3843360"/>
            <a:ext cx="26704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3480" y="3825720"/>
            <a:ext cx="274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71440" y="3876840"/>
            <a:ext cx="15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交通違規社會成本之探討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313320" y="3618000"/>
            <a:ext cx="105120" cy="225000"/>
            <a:chOff x="6313320" y="3618000"/>
            <a:chExt cx="105120" cy="225000"/>
          </a:xfrm>
        </p:grpSpPr>
        <p:sp>
          <p:nvSpPr>
            <p:cNvPr id="182" name=""/>
            <p:cNvSpPr/>
            <p:nvPr/>
          </p:nvSpPr>
          <p:spPr>
            <a:xfrm>
              <a:off x="6370560" y="3618000"/>
              <a:ext cx="180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13320" y="3749400"/>
              <a:ext cx="105120" cy="9360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0" y="0"/>
                  </a:moveTo>
                  <a:lnTo>
                    <a:pt x="36" y="59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622680" y="4370400"/>
            <a:ext cx="274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0560" y="4219560"/>
            <a:ext cx="180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830160"/>
            <a:ext cx="183060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762120"/>
            <a:ext cx="1830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72640" y="83664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ff"/>
                </a:solidFill>
                <a:latin typeface="全真楷書"/>
                <a:ea typeface="全真楷書"/>
              </a:rPr>
              <a:t>研討會探討範圍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952880" y="1219320"/>
            <a:ext cx="104760" cy="226440"/>
            <a:chOff x="4952880" y="1219320"/>
            <a:chExt cx="104760" cy="226440"/>
          </a:xfrm>
        </p:grpSpPr>
        <p:sp>
          <p:nvSpPr>
            <p:cNvPr id="190" name=""/>
            <p:cNvSpPr/>
            <p:nvPr/>
          </p:nvSpPr>
          <p:spPr>
            <a:xfrm>
              <a:off x="5009760" y="1219320"/>
              <a:ext cx="144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2880" y="135072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lnTo>
                    <a:pt x="36" y="60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F25-00B5-42BD-A344-B270F69E2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490920" y="1619280"/>
          <a:ext cx="114156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0920" y="1619280"/>
                    <a:ext cx="11415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642680" y="304920"/>
            <a:ext cx="31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本研討會論文內容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18560" y="1447920"/>
            <a:ext cx="4746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400" spc="-1" strike="noStrike">
                <a:solidFill>
                  <a:srgbClr val="660066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社會成本含意及應包含之社會成本項目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事故處理程序及相關文件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社會成本細項目之分析與實證，成本項目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包括：交通影響成本（如：延滯時間、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間成本、污染與油耗等）、行政處理成本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、死亡成本、受傷成本、當事者財損成本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 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、以及公共設施損壞成本等成本項目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交通違規社會成本之探討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交通事故與交通違規社會成本之觀念宣導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cc"/>
                </a:solidFill>
                <a:latin typeface="Symbol"/>
                <a:ea typeface="Symbol"/>
              </a:rPr>
              <a:t>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33cc"/>
                </a:solidFill>
                <a:latin typeface="Times New Roman"/>
                <a:ea typeface="標楷體"/>
              </a:rPr>
              <a:t>相關法規與社會成本求償之法規面探討。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20800" y="914400"/>
            <a:ext cx="50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本研討會將發表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25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篇論文，內容包括：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51F-ECCD-47BB-924C-A037CD01A4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143000" y="895320"/>
          <a:ext cx="737244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95320"/>
                    <a:ext cx="737244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439360" y="44280"/>
            <a:ext cx="53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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1" lang="zh-TW" sz="3600" spc="-1" strike="noStrike">
                <a:solidFill>
                  <a:srgbClr val="0000ff"/>
                </a:solidFill>
                <a:latin typeface="標楷體"/>
                <a:ea typeface="標楷體"/>
              </a:rPr>
              <a:t>情境案例分析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（採用本論文集之相關成本資料）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B51-E869-430A-BA79-90E003C1C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52640" y="2057400"/>
            <a:ext cx="80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ff"/>
                </a:solidFill>
                <a:latin typeface="Times New Roman"/>
                <a:ea typeface="標楷體"/>
              </a:rPr>
              <a:t>歡迎蒞臨 敬請指正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123-413C-4C34-8F50-46617D659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2:23:16Z</dcterms:created>
  <dc:creator>陳菀蕙</dc:creator>
  <dc:description/>
  <dc:language>en-US</dc:language>
  <cp:lastModifiedBy>陳菀蕙</cp:lastModifiedBy>
  <cp:lastPrinted>2000-04-24T08:34:37Z</cp:lastPrinted>
  <dcterms:modified xsi:type="dcterms:W3CDTF">2000-04-24T08:38:03Z</dcterms:modified>
  <cp:revision>25</cp:revision>
  <dc:subject/>
  <dc:title>無投影片標題</dc:title>
</cp:coreProperties>
</file>