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AF5-C962-4160-86F9-17FF5C35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C41-BCC7-4ED0-B31F-AEC1D8E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981-9DE2-4483-B2E6-EE407273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8E5-A740-442B-A200-FC8BB7CB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3E0-E84E-449D-B617-95D5D3B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F8F-B9D1-44FA-A070-5A4B6187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03B-2F3A-4A04-A225-C615E447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201-1B85-4241-AACA-C092395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544-CBF7-4895-8B04-F3558B38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D28-83FD-4E6A-9F78-E2C850B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A6D-CDA7-4194-8A97-8A4BAD13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8BB-2AC8-4ABF-86FE-E67F248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9F8-F541-4BD9-AC60-EEB67D2FDFE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371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輸安全白皮書（Ⅲ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        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主辦單位：運輸安全組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頒布「捷運軌道車輛技術標準規範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高運量鋼軌車輛規劃基準」規劃基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三、編印「台北地區鐵路地下化松山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板橋區間安全手冊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四、頒布「捷運系統災害防救規劃原則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五、頒布「捷運系統發生災變時乘客逃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統規劃原則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安全改進之經常性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、鐵路平交道安全宣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以台鐵行車安全績效量化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安全績效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舉行鐵路局「行安一號」演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訂定故處理程序及模擬演練手冊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1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背景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問題之探討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車輛安全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行車人員安全管理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場站安全管理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4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工程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5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列車運行及行車號誌系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6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平交道安全管理問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7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乘客保險制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8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教育與宣導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9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重大行車事故救護體系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   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緊急應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0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事故分析系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1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系統安全認證制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2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運輸風險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3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監理問題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課題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之政策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2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短期措施之加強項目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、建立運輸安全資訊系統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評估一元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周延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邏輯及技術推論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軌道行車事故資料庫之建置、管理及維修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常態的曝光量資料調查分析的系統與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健全行車保安委員會之組織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即時通報救援之機制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強震即時通報系統之建立應有執行之計畫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推行運輸安全監督制度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風險管理及國際安全評估系統方法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人員訓練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各項軌道運輸之合格證照核發予以規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加強自我管理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進行成立專責安全監理單位規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緊急事故及災害應有完備之應變計畫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三、建立系統設備安全檢核制度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檢討營運單位的維修計畫之執行實況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審慎檢討「行車安全規則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辦理營運單位行車安全績效管理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增添鐵路新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機車車輛改善工作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車輛零組件之安全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採購作業程序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行車有關的設備必須事前進行檢查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落實軌道設施設備檢修制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4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四、強化先進運輸技術之應用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動</a:t>
            </a:r>
            <a:r>
              <a:rPr b="0" lang="en-US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ISO 9000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國際品保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落實安全服務品質標準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鐵路全面更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列車自動防護系統等工作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鐵路全線電腦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央控制行車系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5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五、加強改善鐵路平交道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全面檢討平交道的缺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改善鐵路平交道及其週邊道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之安全措施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鐵路局重新檢討看柵工的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及規劃作業方式及程序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增設現有鐵路警察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違規照相設備及告示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六章結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鐵路為重要的城際大眾運輸系統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現代的列車行車控制電腦自動化控制及通訊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鐵路局死傷人數最多者為「闖越平交道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五項課題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運輸安全資訊系統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行運輸安全監督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車輛安全檢核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強化先進運輸技術之應用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加強改善鐵路平交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簡報內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一章  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六章  結語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一章  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本研究為運輸安全白皮書系列研究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定運輸安全之發展方向為「由善後提升至防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內容包括：軌道安全現況、施政現況、問題分析、軌道安全政策、軌道安全短期施政實施要領及中長期措施展望等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42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之演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項目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	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2666880"/>
          <a:ext cx="66294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629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2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概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台灣鐵路局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車事故主要原因總分析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設備故障或老朽原因比例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0.5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路外人員過失或犯罪原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31.3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天災不可抗力及其他因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2.0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員工過失原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6.2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平交道事故原因分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汽車（大型車及小汽車）駕駛人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5.58%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汽車以外其他車輛（機車及牛馬車）駕 駛人疏忽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7.22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人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.2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看柵工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.82%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其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.16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4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台北捷運公司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車事故主要原因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設備故障或老朽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3.1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員工過失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8.8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天災不可抗力及其他因素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.6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旅客民眾或承商過失或犯罪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2.5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5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3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執行現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地理條件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設施及營運狀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行車安全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危險品運送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事故救護體系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貨物運送及場站作業安全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秩序與安全改進之重點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動專案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為增添新車及機車車輛改善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進行全線電腦化中央控制行車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前省交通處進行平交道防護設備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及鐵路行車保安設備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竹南、豐原間改線與雙軌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東部鐵路改善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完成鐵路地下化工程「萬華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板橋專案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05:31Z</dcterms:created>
  <dc:creator>田養民</dc:creator>
  <dc:description/>
  <dc:language>en-US</dc:language>
  <cp:lastModifiedBy>田養民</cp:lastModifiedBy>
  <cp:lastPrinted>2001-08-30T10:47:53Z</cp:lastPrinted>
  <dcterms:modified xsi:type="dcterms:W3CDTF">2001-08-30T10:49:59Z</dcterms:modified>
  <cp:revision>8</cp:revision>
  <dc:subject/>
  <dc:title>運輸安全白皮書（Ⅲ）--軌道安全篇  主辦單位：運輸安全組  </dc:title>
</cp:coreProperties>
</file>