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CD4-16B0-4FB3-90E2-889D47DB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85B-A8B5-4E26-9C71-23D7B50B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E774-1FB9-4433-896D-0C13D8A0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93C-317C-4E32-9D8A-AAD360CB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284-CBE2-4C01-BC6C-0085CE8A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B47-36EC-4735-8E1E-98023FEB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E85-3BCB-4E16-88AF-C68AAFBF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83A-CF3B-4C03-BFBF-6DD720E2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968-C79C-4996-87CF-C341402B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993-01FC-461A-BFD6-868F0713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666-D725-4497-BC91-416FF074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E884-15F4-4554-924A-616E606A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9f1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025F-DCF1-41AD-8C10-E70CAF137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4876560" cy="45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XFILE/XFILE/&#27665;&#29151;&#21270;/&#30740;&#31350;&#35336;&#30059;/&#22283;&#36947;&#31199;&#21806;/&#25152;&#38263;&#31777;&#22577;.ppt#Slide 11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XFILE/XFILE/&#27665;&#29151;&#21270;/&#30740;&#31350;&#35336;&#30059;/&#22283;&#36947;&#31199;&#21806;/&#25152;&#38263;&#31777;&#22577;.ppt#Slide 11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XFILE/XFILE/&#27665;&#29151;&#21270;/&#30740;&#31350;&#35336;&#30059;/&#22283;&#36947;&#31199;&#21806;/&#25152;&#38263;&#31777;&#22577;.ppt#Slide 11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XFILE/XFILE/&#27665;&#29151;&#21270;/&#30740;&#31350;&#35336;&#30059;/&#22283;&#36947;&#31199;&#21806;/&#25152;&#38263;&#31777;&#22577;.ppt#Slide 11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XFILE/XFILE/&#27665;&#29151;&#21270;/&#30740;&#31350;&#35336;&#30059;/&#22283;&#36947;&#31199;&#21806;/&#25152;&#38263;&#31777;&#22577;.ppt#Slide 11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9f1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467480" cy="4010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cc"/>
                </a:solidFill>
                <a:latin typeface="Times New Roman"/>
              </a:rPr>
              <a:t>美國南加州</a:t>
            </a:r>
            <a:r>
              <a:rPr b="0" lang="zh-TW" sz="4400" spc="-1" strike="noStrike">
                <a:solidFill>
                  <a:srgbClr val="3333cc"/>
                </a:solidFill>
                <a:latin typeface="Times New Roman"/>
              </a:rPr>
              <a:t>SR-91</a:t>
            </a:r>
            <a:r>
              <a:rPr b="0" lang="zh-TW" sz="4400" spc="-1" strike="noStrike">
                <a:solidFill>
                  <a:srgbClr val="3333cc"/>
                </a:solidFill>
                <a:latin typeface="Times New Roman"/>
              </a:rPr>
              <a:t>快速車道</a:t>
            </a:r>
            <a:br>
              <a:rPr sz="4400"/>
            </a:br>
            <a:r>
              <a:rPr b="0" lang="zh-TW" sz="4400" spc="-1" strike="noStrike">
                <a:solidFill>
                  <a:srgbClr val="3333cc"/>
                </a:solidFill>
                <a:latin typeface="Times New Roman"/>
              </a:rPr>
              <a:t>BOT</a:t>
            </a:r>
            <a:r>
              <a:rPr b="0" lang="zh-TW" sz="4400" spc="-1" strike="noStrike">
                <a:solidFill>
                  <a:srgbClr val="3333cc"/>
                </a:solidFill>
                <a:latin typeface="Times New Roman"/>
              </a:rPr>
              <a:t>案例簡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Times New Roman"/>
                <a:ea typeface="華康中黑體"/>
              </a:rPr>
              <a:t>內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華康中黑體"/>
              </a:rPr>
              <a:t>計畫背景（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華康中黑體"/>
              </a:rPr>
              <a:t>2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華康中黑體"/>
              </a:rPr>
              <a:t>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華康中黑體"/>
              </a:rPr>
              <a:t>計畫特色（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華康中黑體"/>
              </a:rPr>
              <a:t>7</a:t>
            </a:r>
            <a:r>
              <a:rPr b="0" lang="zh-TW" sz="2800" spc="-1" strike="noStrike">
                <a:solidFill>
                  <a:srgbClr val="ffff00"/>
                </a:solidFill>
                <a:latin typeface="Times New Roman"/>
                <a:ea typeface="華康中黑體"/>
              </a:rPr>
              <a:t>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F29-25EC-438A-BE07-38963A0D1A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9f1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計畫特色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(7/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istinguished Innovative Pro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ational Council of Public/Private Partnershi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nnovative Project Aw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stitute of Transportation Engine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nnovative Highway Finance Aw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ederal Highway Administ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xcellence in Transportation Aw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lifornia D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al of the Y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stitutional Investor Magaz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0 Most Creative De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frastructure Finance Magaz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nnovations in American Government Aw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d Foundation, Harva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6392880"/>
            <a:ext cx="1752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ebding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回原報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E7D-4280-4B35-ADB6-763B303DAD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9f1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興建地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SR-91 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快速車道連接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Riverside  County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西區與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Orange County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中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興建於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SR-91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公路（雙向八車道）的中央分隔帶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公有地以租賃取得，私有地以協議價購取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幾何條件與經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SR-91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快速車道為雙向四車道，全長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英哩，沿線無進出匝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總建造經費為一億二仟六佰萬美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2298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計畫背景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(1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6392880"/>
            <a:ext cx="17524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ccff"/>
              </a:buClr>
              <a:buFont typeface="Webding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2"/>
              </a:rPr>
              <a:t>回原報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124-7564-4D4A-B0B2-891B55E6A9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9f1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計畫背景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(2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經營環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SR-91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公路十分擁塞，在上午尖峰時段，約需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小時行駛此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英哩路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加州政府特許加州民營運輸公司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( California Private Transportation Company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；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CPTC)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興建營運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SR-91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快速車道，特許期間為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35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SR-91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快速車道於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995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年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月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27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日開始通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使用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SR-91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快速車道之用路人每日來回旅次可節省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40-90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分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6392880"/>
            <a:ext cx="17524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ccff"/>
              </a:buClr>
              <a:buFont typeface="Webding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1"/>
              </a:rPr>
              <a:t>回原報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CA9-966A-4D61-834A-18684DB704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9f1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計畫特色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(1/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創意獨特，財源獨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SR-91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快速車道源自民間投資創意，其所需經費亦全部由民間自行籌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自有資金二仟六佰萬美元，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年期公司債六仟五佰萬美元，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年期長期貸款三仟五佰萬美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無市場獨占問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SR-91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快速車道兩旁即為平行免收費高速公路，用路人可自由選擇使用一般高速公路或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SR-91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快速車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6392880"/>
            <a:ext cx="17524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ccff"/>
              </a:buClr>
              <a:buFont typeface="Webding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1"/>
              </a:rPr>
              <a:t>回原報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676-A9E4-446A-BCD6-AC5884F32D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9f1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計畫特色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(2/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市場機能，充分發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民營機構可在內部報酬率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7%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之限制下，自行研定費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電子收費，擁塞定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採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FasTrak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電子自動收費系統，可同時用於  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I-15, SR-241, SR73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等公路及 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Carquinez 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SR-91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快速車道為全美第一條實施擁塞定價之道路，尖峰時段最高收費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$3.5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元，離峰時段最低收費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$0.75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元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乘坐三人以上之車輛，營運初期免費通行，目前半價優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6392880"/>
            <a:ext cx="17524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ccff"/>
              </a:buClr>
              <a:buFont typeface="Webding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2"/>
              </a:rPr>
              <a:t>回原報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A92-B3DB-434A-95D2-B337078C76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9f1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2590920"/>
            <a:ext cx="4190760" cy="2997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計畫特色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(3/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Times New Roman"/>
              </a:rPr>
              <a:t>各時段通行費費率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以東行為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Times New Roman"/>
              </a:rPr>
              <a:t>HOV-3+ 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</a:rPr>
              <a:t>收費車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6392880"/>
            <a:ext cx="1752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ebding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回原報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1652760"/>
          </a:xfrm>
          <a:prstGeom prst="rect">
            <a:avLst/>
          </a:prstGeom>
          <a:ln w="0">
            <a:noFill/>
          </a:ln>
        </p:spPr>
      </p:pic>
      <p:pic>
        <p:nvPicPr>
          <p:cNvPr id="65" name="ebschedule" descr=""/>
          <p:cNvPicPr/>
          <p:nvPr/>
        </p:nvPicPr>
        <p:blipFill>
          <a:blip r:embed="rId3"/>
          <a:stretch/>
        </p:blipFill>
        <p:spPr>
          <a:xfrm>
            <a:off x="228600" y="2514600"/>
            <a:ext cx="4343400" cy="3567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CD6-6BB6-4774-A3F0-C9709A4D91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9f1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計畫特色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(4/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交通管理與執法外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CPTC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將公路維護業務外包加州交通局，取締違規業務外包加州高速公路警察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大型車輛禁止使用此快速車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違規罰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非高乘載車輛行駛高乘載車道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$271~$813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無車上單元而使用收費車道 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$100~$300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州政府立法授權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CPTC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得吊銷滯付罰款車輛之車籍登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CPTC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提供事件監控與即時拖吊服務，以確保快速車道之行車安全與順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6400800"/>
            <a:ext cx="17524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ccff"/>
              </a:buClr>
              <a:buFont typeface="Webding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ea typeface="標楷體"/>
                <a:hlinkClick r:id="rId1"/>
              </a:rPr>
              <a:t>回原報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174-3942-41AF-9D86-2E9DF4C1E5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9f1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計畫特色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(5/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積極行銷，顧客至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CPTC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經常在鄰近購物中心調查用路人偏好，以決定通行費率與行銷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觀念推廣，漸獲認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財務考量下，以收費道路提高道路容量已獲多數用路人贊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用路人對於「擁塞定價」與「民間經營收費道路」之認同程度有增加之趨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6392880"/>
            <a:ext cx="1752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ebding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回原報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81D-E205-46EE-8DD1-F2DD0C9B4B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9f1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計畫特色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(6/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SR-91</a:t>
            </a: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快速車道為一成功之民營化案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通行費收入足以自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1996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年通行費收入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7.07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百萬美元，營運成本及折舊攤提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11.18 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百萬美元，淨損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4.11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百萬美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1997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年通行費收入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13.88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百萬美元，營運成本及折舊攤提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18.79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百萬美元，淨損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4.91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百萬美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1998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年通行費收入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20.12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百萬美元，營運成本及折舊攤提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19.81 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百萬美元，淨利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0.308</a:t>
            </a:r>
            <a:r>
              <a:rPr b="0" lang="zh-TW" sz="2000" spc="-1" strike="noStrike">
                <a:solidFill>
                  <a:srgbClr val="3333cc"/>
                </a:solidFill>
                <a:latin typeface="Times New Roman"/>
              </a:rPr>
              <a:t>百萬美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CPTC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在工程創意與財務經營上，獲得諸多獎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ff0000"/>
                </a:solidFill>
                <a:latin typeface="Times New Roman"/>
              </a:rPr>
              <a:t>Toll Innovation Award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, International Bridge, Tunnel and Turnpike Associ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>
                <a:solidFill>
                  <a:srgbClr val="ff0000"/>
                </a:solidFill>
                <a:latin typeface="Times New Roman"/>
              </a:rPr>
              <a:t>Excellence in Highway Design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, Federal Highway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6392880"/>
            <a:ext cx="1752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ebding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回原報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7C6-FDF6-463E-8F68-C8C33DA68C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1T02:31:51Z</dcterms:created>
  <dc:creator>運輸經營管理組</dc:creator>
  <dc:description/>
  <dc:language>en-US</dc:language>
  <cp:lastModifiedBy>蕭傑諭</cp:lastModifiedBy>
  <cp:lastPrinted>1999-08-10T08:28:57Z</cp:lastPrinted>
  <dcterms:modified xsi:type="dcterms:W3CDTF">1999-08-10T09:26:17Z</dcterms:modified>
  <cp:revision>34</cp:revision>
  <dc:subject/>
  <dc:title>美國南加州SR-91高速公路</dc:title>
</cp:coreProperties>
</file>