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2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2CB-D5CD-491C-A58E-4AC3D742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240" y="3909240"/>
            <a:ext cx="74278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019-C53F-4B72-BF15-092C36F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816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240" y="390924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8160" y="390924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1CE-2C0D-4FC1-A312-87DC2A31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600" y="201780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4960" y="201780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240" y="390924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600" y="390924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4960" y="3909240"/>
            <a:ext cx="2391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C4F-FADB-401D-AEE2-CBE85B73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42788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613-8B13-411D-8AD1-DC09C7B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94E-D217-4DF4-9426-C4B3A9F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6244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8160" y="2017800"/>
            <a:ext cx="36244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F1C-5C63-48C3-A891-0BF159B3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628-1F27-47A1-A9A8-8D573BB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797-96DC-4C2B-A3B3-0A02633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8160" y="2017800"/>
            <a:ext cx="36244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240" y="390924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495-1FD2-4AA8-86E9-EA9F9D7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6244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816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8160" y="390924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9F7-A3BF-41A2-B810-58CC19B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8160" y="2017800"/>
            <a:ext cx="3624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240" y="3909240"/>
            <a:ext cx="74278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9F6-09A1-406E-B7AC-A3BB1BC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4278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1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3A0B-FA6F-423A-B392-AE5583742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48320" y="457200"/>
          <a:ext cx="4093920" cy="60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57200"/>
                    <a:ext cx="40939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3520" y="914400"/>
            <a:ext cx="556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66"/>
                </a:solidFill>
                <a:latin typeface="全真楷書"/>
                <a:ea typeface="全真楷書"/>
              </a:rPr>
              <a:t>第十九期台灣地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66"/>
                </a:solidFill>
                <a:latin typeface="全真楷書"/>
                <a:ea typeface="全真楷書"/>
              </a:rPr>
              <a:t>易肇事路段改善計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37480" y="4876920"/>
            <a:ext cx="3351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全真楷書"/>
                <a:ea typeface="全真楷書"/>
              </a:rPr>
              <a:t>簡報單位：交通部運輸研究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3240" y="55627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全真楷書"/>
                <a:ea typeface="全真楷書"/>
              </a:rPr>
              <a:t>中華民國九十年四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3" descr=""/>
          <p:cNvPicPr/>
          <p:nvPr/>
        </p:nvPicPr>
        <p:blipFill>
          <a:blip r:embed="rId1"/>
          <a:stretch/>
        </p:blipFill>
        <p:spPr>
          <a:xfrm>
            <a:off x="2343240" y="3087720"/>
            <a:ext cx="4298760" cy="3774960"/>
          </a:xfrm>
          <a:prstGeom prst="rect">
            <a:avLst/>
          </a:prstGeom>
          <a:ln w="0">
            <a:noFill/>
          </a:ln>
        </p:spPr>
      </p:pic>
      <p:pic>
        <p:nvPicPr>
          <p:cNvPr id="110" name="3" descr=""/>
          <p:cNvPicPr/>
          <p:nvPr/>
        </p:nvPicPr>
        <p:blipFill>
          <a:blip r:embed="rId2"/>
          <a:stretch/>
        </p:blipFill>
        <p:spPr>
          <a:xfrm>
            <a:off x="687240" y="0"/>
            <a:ext cx="7585200" cy="2854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16000" y="2459160"/>
            <a:ext cx="1246320" cy="3828960"/>
          </a:xfrm>
          <a:custGeom>
            <a:avLst/>
            <a:gdLst/>
            <a:ahLst/>
            <a:rect l="l" t="t" r="r" b="b"/>
            <a:pathLst>
              <a:path w="1002" h="1797">
                <a:moveTo>
                  <a:pt x="0" y="0"/>
                </a:moveTo>
                <a:lnTo>
                  <a:pt x="0" y="1797"/>
                </a:lnTo>
                <a:lnTo>
                  <a:pt x="426" y="1792"/>
                </a:lnTo>
                <a:lnTo>
                  <a:pt x="1002" y="1797"/>
                </a:lnTo>
              </a:path>
            </a:pathLst>
          </a:custGeom>
          <a:noFill/>
          <a:ln w="38160">
            <a:solidFill>
              <a:srgbClr val="66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8400" y="2448000"/>
            <a:ext cx="1800" cy="1442880"/>
          </a:xfrm>
          <a:custGeom>
            <a:avLst/>
            <a:gdLst/>
            <a:ahLst/>
            <a:rect l="l" t="t" r="r" b="b"/>
            <a:pathLst>
              <a:path w="1" h="909">
                <a:moveTo>
                  <a:pt x="0" y="0"/>
                </a:moveTo>
                <a:lnTo>
                  <a:pt x="0" y="909"/>
                </a:lnTo>
              </a:path>
            </a:pathLst>
          </a:custGeom>
          <a:noFill/>
          <a:ln w="3816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84560" y="2454120"/>
            <a:ext cx="7920" cy="768600"/>
          </a:xfrm>
          <a:custGeom>
            <a:avLst/>
            <a:gdLst/>
            <a:ahLst/>
            <a:rect l="l" t="t" r="r" b="b"/>
            <a:pathLst>
              <a:path w="5" h="484">
                <a:moveTo>
                  <a:pt x="0" y="0"/>
                </a:moveTo>
                <a:lnTo>
                  <a:pt x="5" y="484"/>
                </a:lnTo>
              </a:path>
            </a:pathLst>
          </a:custGeom>
          <a:noFill/>
          <a:ln w="38160">
            <a:solidFill>
              <a:srgbClr val="ff7c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4760" y="246852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439" y="0"/>
                </a:moveTo>
                <a:lnTo>
                  <a:pt x="439" y="163"/>
                </a:lnTo>
                <a:lnTo>
                  <a:pt x="0" y="166"/>
                </a:lnTo>
                <a:lnTo>
                  <a:pt x="1" y="480"/>
                </a:lnTo>
              </a:path>
            </a:pathLst>
          </a:custGeom>
          <a:noFill/>
          <a:ln w="38160">
            <a:solidFill>
              <a:srgbClr val="9999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95960" y="2451240"/>
            <a:ext cx="451080" cy="2219040"/>
          </a:xfrm>
          <a:custGeom>
            <a:avLst/>
            <a:gdLst/>
            <a:ahLst/>
            <a:rect l="l" t="t" r="r" b="b"/>
            <a:pathLst>
              <a:path w="284" h="1398">
                <a:moveTo>
                  <a:pt x="284" y="0"/>
                </a:moveTo>
                <a:lnTo>
                  <a:pt x="284" y="1383"/>
                </a:lnTo>
                <a:lnTo>
                  <a:pt x="0" y="1398"/>
                </a:lnTo>
              </a:path>
            </a:pathLst>
          </a:custGeom>
          <a:noFill/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98000" y="467748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ahoma"/>
                <a:ea typeface="全真楷書"/>
              </a:rPr>
              <a:t>圖示如下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3" descr=""/>
          <p:cNvPicPr/>
          <p:nvPr/>
        </p:nvPicPr>
        <p:blipFill>
          <a:blip r:embed="rId1"/>
          <a:stretch/>
        </p:blipFill>
        <p:spPr>
          <a:xfrm>
            <a:off x="642960" y="412920"/>
            <a:ext cx="75326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" descr=""/>
          <p:cNvPicPr/>
          <p:nvPr/>
        </p:nvPicPr>
        <p:blipFill>
          <a:blip r:embed="rId1"/>
          <a:stretch/>
        </p:blipFill>
        <p:spPr>
          <a:xfrm>
            <a:off x="6261120" y="57240"/>
            <a:ext cx="2376360" cy="6615000"/>
          </a:xfrm>
          <a:prstGeom prst="rect">
            <a:avLst/>
          </a:prstGeom>
          <a:ln w="0">
            <a:noFill/>
          </a:ln>
        </p:spPr>
      </p:pic>
      <p:pic>
        <p:nvPicPr>
          <p:cNvPr id="119" name="3" descr=""/>
          <p:cNvPicPr/>
          <p:nvPr/>
        </p:nvPicPr>
        <p:blipFill>
          <a:blip r:embed="rId2"/>
          <a:stretch/>
        </p:blipFill>
        <p:spPr>
          <a:xfrm>
            <a:off x="581040" y="460440"/>
            <a:ext cx="5746680" cy="565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1320" y="2106720"/>
            <a:ext cx="2346120" cy="232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全真顏體"/>
              </a:rPr>
              <a:t>各縣市改善經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" descr=""/>
          <p:cNvPicPr/>
          <p:nvPr/>
        </p:nvPicPr>
        <p:blipFill>
          <a:blip r:embed="rId1"/>
          <a:stretch/>
        </p:blipFill>
        <p:spPr>
          <a:xfrm>
            <a:off x="189000" y="85680"/>
            <a:ext cx="8775720" cy="3197160"/>
          </a:xfrm>
          <a:prstGeom prst="rect">
            <a:avLst/>
          </a:prstGeom>
          <a:ln w="0">
            <a:noFill/>
          </a:ln>
        </p:spPr>
      </p:pic>
      <p:pic>
        <p:nvPicPr>
          <p:cNvPr id="122" name="3" descr=""/>
          <p:cNvPicPr/>
          <p:nvPr/>
        </p:nvPicPr>
        <p:blipFill>
          <a:blip r:embed="rId2"/>
          <a:stretch/>
        </p:blipFill>
        <p:spPr>
          <a:xfrm>
            <a:off x="1251000" y="3241800"/>
            <a:ext cx="561636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67040" y="457200"/>
            <a:ext cx="16444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全真楷書"/>
                <a:ea typeface="全真楷書"/>
              </a:rPr>
              <a:t>陸﹑結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39720"/>
            <a:ext cx="853416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細明體"/>
              </a:rPr>
              <a:t>	</a:t>
            </a:r>
            <a:r>
              <a:rPr b="1" lang="zh-TW" sz="42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改善</a:t>
            </a:r>
            <a:r>
              <a:rPr b="1" lang="zh-TW" sz="4200" spc="-1" strike="noStrike">
                <a:solidFill>
                  <a:srgbClr val="000000"/>
                </a:solidFill>
                <a:latin typeface="華康中黑體"/>
                <a:ea typeface="華康隸書體W5"/>
              </a:rPr>
              <a:t>經費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細明體"/>
              </a:rPr>
              <a:t>	</a:t>
            </a:r>
            <a:r>
              <a:rPr b="1" lang="zh-TW" sz="42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補助</a:t>
            </a:r>
            <a:r>
              <a:rPr b="1" lang="zh-TW" sz="4200" spc="-1" strike="noStrike">
                <a:solidFill>
                  <a:srgbClr val="000000"/>
                </a:solidFill>
                <a:latin typeface="華康中黑體"/>
                <a:ea typeface="華康隸書體W5"/>
              </a:rPr>
              <a:t>經費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全真楷書"/>
                <a:ea typeface="全真楷書"/>
              </a:rPr>
              <a:t>公路局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00ff"/>
                </a:solidFill>
                <a:latin typeface="全真楷書"/>
                <a:ea typeface="全真楷書"/>
              </a:rPr>
              <a:t>：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66ff"/>
                </a:solidFill>
                <a:latin typeface="Arial"/>
                <a:ea typeface="細明體"/>
              </a:rPr>
              <a:t>29,871,030</a:t>
            </a:r>
            <a:r>
              <a:rPr b="1" lang="zh-TW" sz="3600" spc="-1" strike="noStrike">
                <a:solidFill>
                  <a:srgbClr val="0000ff"/>
                </a:solidFill>
                <a:latin typeface="全真楷書"/>
                <a:ea typeface="全真楷書"/>
              </a:rPr>
              <a:t>元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細明體"/>
              </a:rPr>
              <a:t>0</a:t>
            </a:r>
            <a:r>
              <a:rPr b="1" lang="zh-TW" sz="3600" spc="-1" strike="noStrike">
                <a:solidFill>
                  <a:srgbClr val="0000ff"/>
                </a:solidFill>
                <a:latin typeface="全真楷書"/>
                <a:ea typeface="全真楷書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全真楷書"/>
                <a:ea typeface="全真楷書"/>
              </a:rPr>
              <a:t>台北市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ff0000"/>
                </a:solidFill>
                <a:latin typeface="全真楷書"/>
                <a:ea typeface="全真楷書"/>
              </a:rPr>
              <a:t>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細明體"/>
              </a:rPr>
              <a:t>6,000</a:t>
            </a:r>
            <a:r>
              <a:rPr b="1" lang="zh-TW" sz="3600" spc="-1" strike="noStrike">
                <a:solidFill>
                  <a:srgbClr val="ff0000"/>
                </a:solidFill>
                <a:latin typeface="全真楷書"/>
                <a:ea typeface="全真楷書"/>
              </a:rPr>
              <a:t>元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細明體"/>
              </a:rPr>
              <a:t>0</a:t>
            </a:r>
            <a:r>
              <a:rPr b="1" lang="zh-TW" sz="3600" spc="-1" strike="noStrike">
                <a:solidFill>
                  <a:srgbClr val="ff0000"/>
                </a:solidFill>
                <a:latin typeface="全真楷書"/>
                <a:ea typeface="全真楷書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台灣省</a:t>
            </a: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	</a:t>
            </a: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：</a:t>
            </a: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細明體"/>
              </a:rPr>
              <a:t>45,428,307</a:t>
            </a: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元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  <a:ea typeface="細明體"/>
              </a:rPr>
              <a:t>    </a:t>
            </a: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細明體"/>
              </a:rPr>
              <a:t>45,428,307</a:t>
            </a: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cc"/>
                </a:solidFill>
                <a:latin typeface="全真楷書"/>
                <a:ea typeface="全真楷書"/>
              </a:rPr>
              <a:t>福建省</a:t>
            </a:r>
            <a:r>
              <a:rPr b="1" lang="zh-TW" sz="3600" spc="-1" strike="noStrike">
                <a:solidFill>
                  <a:srgbClr val="9900cc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9900cc"/>
                </a:solidFill>
                <a:latin typeface="全真楷書"/>
                <a:ea typeface="全真楷書"/>
              </a:rPr>
              <a:t>：</a:t>
            </a:r>
            <a:r>
              <a:rPr b="1" lang="zh-TW" sz="3600" spc="-1" strike="noStrike">
                <a:solidFill>
                  <a:srgbClr val="9900cc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9900cc"/>
                </a:solidFill>
                <a:latin typeface="Arial"/>
                <a:ea typeface="細明體"/>
              </a:rPr>
              <a:t>1,016,683</a:t>
            </a:r>
            <a:r>
              <a:rPr b="1" lang="zh-TW" sz="3600" spc="-1" strike="noStrike">
                <a:solidFill>
                  <a:srgbClr val="9900cc"/>
                </a:solidFill>
                <a:latin typeface="全真楷書"/>
                <a:ea typeface="全真楷書"/>
              </a:rPr>
              <a:t>元</a:t>
            </a:r>
            <a:r>
              <a:rPr b="1" lang="zh-TW" sz="3600" spc="-1" strike="noStrike">
                <a:solidFill>
                  <a:srgbClr val="9900cc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9900cc"/>
                </a:solidFill>
                <a:latin typeface="Times New Roman"/>
                <a:ea typeface="細明體"/>
              </a:rPr>
              <a:t> </a:t>
            </a:r>
            <a:r>
              <a:rPr b="1" lang="zh-TW" sz="3600" spc="-1" strike="noStrike">
                <a:solidFill>
                  <a:srgbClr val="9900cc"/>
                </a:solidFill>
                <a:latin typeface="Arial"/>
                <a:ea typeface="細明體"/>
              </a:rPr>
              <a:t>1,016,683</a:t>
            </a:r>
            <a:r>
              <a:rPr b="1" lang="zh-TW" sz="3600" spc="-1" strike="noStrike">
                <a:solidFill>
                  <a:srgbClr val="9900cc"/>
                </a:solidFill>
                <a:latin typeface="全真楷書"/>
                <a:ea typeface="全真楷書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1523880"/>
                <a:tab algn="r" pos="4772160"/>
                <a:tab algn="r" pos="790092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總經費</a:t>
            </a: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細明體"/>
                <a:ea typeface="細明體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76,322,020</a:t>
            </a: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元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細明體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46,444,990</a:t>
            </a: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029200"/>
            <a:ext cx="863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458496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cc"/>
                </a:solidFill>
                <a:latin typeface="全真楷書"/>
                <a:ea typeface="全真楷書"/>
              </a:rPr>
              <a:t>柒﹑建議  </a:t>
            </a: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(1/2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</a:t>
            </a:r>
            <a:r>
              <a:rPr b="1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﹑本案總改善經費</a:t>
            </a: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全真楷書"/>
              </a:rPr>
              <a:t>76,322,020</a:t>
            </a:r>
            <a:r>
              <a:rPr b="1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元，其中</a:t>
            </a:r>
            <a:r>
              <a:rPr b="1" lang="zh-TW" sz="3800" spc="-1" strike="noStrike">
                <a:solidFill>
                  <a:srgbClr val="9900cc"/>
                </a:solidFill>
                <a:latin typeface="全真楷書"/>
                <a:ea typeface="全真楷書"/>
              </a:rPr>
              <a:t>交通部公路局與台北市政府不補助</a:t>
            </a:r>
            <a:r>
              <a:rPr b="1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，</a:t>
            </a:r>
            <a:r>
              <a:rPr b="1" lang="zh-TW" sz="3800" spc="-1" strike="noStrike">
                <a:solidFill>
                  <a:srgbClr val="009900"/>
                </a:solidFill>
                <a:latin typeface="全真楷書"/>
                <a:ea typeface="全真楷書"/>
              </a:rPr>
              <a:t>台灣省各縣市交通</a:t>
            </a:r>
            <a:r>
              <a:rPr b="1" lang="zh-TW" sz="3800" spc="-1" strike="noStrike">
                <a:solidFill>
                  <a:srgbClr val="009900"/>
                </a:solidFill>
                <a:latin typeface="全真楷書"/>
                <a:ea typeface="全真楷書"/>
              </a:rPr>
              <a:t>(</a:t>
            </a:r>
            <a:r>
              <a:rPr b="1" lang="zh-TW" sz="3800" spc="-1" strike="noStrike">
                <a:solidFill>
                  <a:srgbClr val="009900"/>
                </a:solidFill>
                <a:latin typeface="全真楷書"/>
                <a:ea typeface="全真楷書"/>
              </a:rPr>
              <a:t>旅遊</a:t>
            </a:r>
            <a:r>
              <a:rPr b="1" lang="zh-TW" sz="3800" spc="-1" strike="noStrike">
                <a:solidFill>
                  <a:srgbClr val="009900"/>
                </a:solidFill>
                <a:latin typeface="全真楷書"/>
                <a:ea typeface="全真楷書"/>
              </a:rPr>
              <a:t>)</a:t>
            </a:r>
            <a:r>
              <a:rPr b="1" lang="zh-TW" sz="3800" spc="-1" strike="noStrike">
                <a:solidFill>
                  <a:srgbClr val="009900"/>
                </a:solidFill>
                <a:latin typeface="全真楷書"/>
                <a:ea typeface="全真楷書"/>
              </a:rPr>
              <a:t>局、警察局及福建省金門縣全額補助，</a:t>
            </a:r>
            <a:r>
              <a:rPr b="1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總補助經費為</a:t>
            </a: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全真楷書"/>
              </a:rPr>
              <a:t>46,444,990</a:t>
            </a:r>
            <a:r>
              <a:rPr b="1" lang="zh-TW" sz="3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元，建請道安會加以補助，俾利易肇事改善工作之執行。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625320"/>
            <a:ext cx="3893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cc"/>
                </a:solidFill>
                <a:latin typeface="全真楷書"/>
                <a:ea typeface="全真楷書"/>
              </a:rPr>
              <a:t>柒﹑建議  </a:t>
            </a: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61920" indent="-9619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推動建立新型交通設施之試用評估程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61920" indent="-96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三、鼓勵公路局及縣市政府建立道路交通設施資料庫與其管理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61920" indent="-96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四、推動交通事故資料與地理資訊系統之結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61920" indent="-96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五、增進縣市政府道安會報之功能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63680" y="1936800"/>
            <a:ext cx="2619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全真楷書"/>
                <a:ea typeface="全真楷書"/>
              </a:rPr>
              <a:t>簡報完畢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全真楷書"/>
                <a:ea typeface="全真楷書"/>
              </a:rPr>
              <a:t>恭請裁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99"/>
                </a:solidFill>
                <a:latin typeface="全真楷書"/>
                <a:ea typeface="全真楷書"/>
              </a:rPr>
              <a:t>簡報大綱</a:t>
            </a:r>
            <a:endParaRPr b="0" lang="en-US" sz="4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81480" y="1628280"/>
            <a:ext cx="5904360" cy="4467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8599a6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53753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全真楷書"/>
                <a:ea typeface="全真楷書"/>
              </a:rPr>
              <a:t>壹﹑計畫緣起與目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9900"/>
                </a:solidFill>
                <a:latin typeface="全真楷書"/>
                <a:ea typeface="全真楷書"/>
              </a:rPr>
              <a:t>貳</a:t>
            </a:r>
            <a:r>
              <a:rPr b="1" lang="zh-TW" sz="4000" spc="-1" strike="noStrike">
                <a:solidFill>
                  <a:srgbClr val="ff9900"/>
                </a:solidFill>
                <a:latin typeface="全真楷書"/>
                <a:ea typeface="全真楷書"/>
              </a:rPr>
              <a:t>﹑</a:t>
            </a:r>
            <a:r>
              <a:rPr b="1" lang="zh-TW" sz="3600" spc="-1" strike="noStrike">
                <a:solidFill>
                  <a:srgbClr val="ff9900"/>
                </a:solidFill>
                <a:latin typeface="全真楷書"/>
                <a:ea typeface="全真楷書"/>
              </a:rPr>
              <a:t>辦理方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全真楷書"/>
                <a:ea typeface="全真楷書"/>
              </a:rPr>
              <a:t>參﹑改善地點事故特性分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全真楷書"/>
                <a:ea typeface="全真楷書"/>
              </a:rPr>
              <a:t>肆﹑詳細改善地點與措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全真楷書"/>
                <a:ea typeface="全真楷書"/>
              </a:rPr>
              <a:t>伍﹑計畫內容與經費概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全真楷書"/>
                <a:ea typeface="全真楷書"/>
              </a:rPr>
              <a:t>陸﹑結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柒﹑建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1828800"/>
            <a:ext cx="3505320" cy="4114800"/>
          </a:xfrm>
          <a:prstGeom prst="foldedCorner">
            <a:avLst>
              <a:gd name="adj" fmla="val 353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計畫緣起</a:t>
            </a:r>
            <a:r>
              <a:rPr b="1" lang="zh-TW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828800"/>
            <a:ext cx="3581280" cy="3733920"/>
          </a:xfrm>
          <a:prstGeom prst="foldedCorner">
            <a:avLst>
              <a:gd name="adj" fmla="val 2987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計畫目的</a:t>
            </a:r>
            <a:r>
              <a:rPr b="1" lang="zh-TW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0280" y="625320"/>
            <a:ext cx="3473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全真楷書"/>
                <a:ea typeface="全真楷書"/>
              </a:rPr>
              <a:t>壹﹑計畫緣起與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971800"/>
            <a:ext cx="32767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全真楷書"/>
                <a:ea typeface="全真楷書"/>
              </a:rPr>
              <a:t>道路交通秩序與交通安全改進方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895480"/>
            <a:ext cx="32767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全真楷書"/>
                <a:ea typeface="全真楷書"/>
              </a:rPr>
              <a:t>降低事故發生與增進整體安全品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8160" y="380880"/>
            <a:ext cx="2376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全真楷書"/>
                <a:ea typeface="全真楷書"/>
              </a:rPr>
              <a:t>貳﹑辦理方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1371600" cy="4498920"/>
          </a:xfrm>
          <a:prstGeom prst="rightArrowCallout">
            <a:avLst>
              <a:gd name="adj1" fmla="val 38423"/>
              <a:gd name="adj2" fmla="val 39695"/>
              <a:gd name="adj3" fmla="val 30208"/>
              <a:gd name="adj4" fmla="val 50347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肇事資料建檔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0640" y="1295280"/>
            <a:ext cx="1444680" cy="4498920"/>
          </a:xfrm>
          <a:prstGeom prst="rightArrowCallout">
            <a:avLst>
              <a:gd name="adj1" fmla="val 36479"/>
              <a:gd name="adj2" fmla="val 39013"/>
              <a:gd name="adj3" fmla="val 40000"/>
              <a:gd name="adj4" fmla="val 40880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易肇事路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鑑定篩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295280"/>
            <a:ext cx="1282680" cy="4498920"/>
          </a:xfrm>
          <a:prstGeom prst="rightArrowCallout">
            <a:avLst>
              <a:gd name="adj1" fmla="val 50018"/>
              <a:gd name="adj2" fmla="val 61380"/>
              <a:gd name="adj3" fmla="val 26546"/>
              <a:gd name="adj4" fmla="val 51968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現場會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研提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37200" y="1295280"/>
            <a:ext cx="1354320" cy="4498920"/>
          </a:xfrm>
          <a:prstGeom prst="rightArrowCallout">
            <a:avLst>
              <a:gd name="adj1" fmla="val 38913"/>
              <a:gd name="adj2" fmla="val 55442"/>
              <a:gd name="adj3" fmla="val 29060"/>
              <a:gd name="adj4" fmla="val 54292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計畫確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估算經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6920" y="1295280"/>
            <a:ext cx="1287360" cy="4498920"/>
          </a:xfrm>
          <a:prstGeom prst="rightArrowCallout">
            <a:avLst>
              <a:gd name="adj1" fmla="val 46859"/>
              <a:gd name="adj2" fmla="val 54006"/>
              <a:gd name="adj3" fmla="val 24231"/>
              <a:gd name="adj4" fmla="val 53472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主管單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確認提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1295280"/>
            <a:ext cx="718920" cy="44989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提報道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委員會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248520" y="1600200"/>
            <a:ext cx="761760" cy="2666880"/>
          </a:xfrm>
          <a:custGeom>
            <a:avLst/>
            <a:gdLst>
              <a:gd name="textAreaLeft" fmla="*/ 486720 w 761760"/>
              <a:gd name="textAreaRight" fmla="*/ 762120 w 761760"/>
              <a:gd name="textAreaTop" fmla="*/ 37440 h 2666880"/>
              <a:gd name="textAreaBottom" fmla="*/ 262944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9"/>
                  <a:pt x="10800" y="977"/>
                </a:cubicBezTo>
                <a:lnTo>
                  <a:pt x="10800" y="4937"/>
                </a:lnTo>
                <a:cubicBezTo>
                  <a:pt x="10800" y="5426"/>
                  <a:pt x="5400" y="5914"/>
                  <a:pt x="0" y="5914"/>
                </a:cubicBezTo>
                <a:cubicBezTo>
                  <a:pt x="5400" y="5914"/>
                  <a:pt x="10800" y="6403"/>
                  <a:pt x="10800" y="6891"/>
                </a:cubicBezTo>
                <a:lnTo>
                  <a:pt x="10800" y="20623"/>
                </a:lnTo>
                <a:cubicBezTo>
                  <a:pt x="10800" y="2111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666160" y="1600200"/>
            <a:ext cx="762120" cy="26668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7440 h 2666880"/>
              <a:gd name="textAreaBottom" fmla="*/ 262944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9"/>
                  <a:pt x="10800" y="977"/>
                </a:cubicBezTo>
                <a:lnTo>
                  <a:pt x="10800" y="4937"/>
                </a:lnTo>
                <a:cubicBezTo>
                  <a:pt x="10800" y="5426"/>
                  <a:pt x="5400" y="5914"/>
                  <a:pt x="0" y="5914"/>
                </a:cubicBezTo>
                <a:cubicBezTo>
                  <a:pt x="5400" y="5914"/>
                  <a:pt x="10800" y="6403"/>
                  <a:pt x="10800" y="6891"/>
                </a:cubicBezTo>
                <a:lnTo>
                  <a:pt x="10800" y="20623"/>
                </a:lnTo>
                <a:cubicBezTo>
                  <a:pt x="10800" y="2111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15160" y="5334120"/>
            <a:ext cx="59356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會勘時間：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細明體"/>
              </a:rPr>
              <a:t>90.08.21</a:t>
            </a:r>
            <a:r>
              <a:rPr b="1" lang="zh-TW" sz="4000" spc="-1" strike="noStrike">
                <a:solidFill>
                  <a:srgbClr val="000000"/>
                </a:solidFill>
                <a:latin typeface="細明體"/>
                <a:ea typeface="細明體"/>
              </a:rPr>
              <a:t>～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細明體"/>
              </a:rPr>
              <a:t>90.10.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19320"/>
            <a:ext cx="2743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道  安  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  研  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路  政  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公  路  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部辦公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58760" y="457200"/>
            <a:ext cx="1400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會勘單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590920"/>
            <a:ext cx="1800000" cy="1800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ff"/>
                </a:solidFill>
                <a:latin typeface="全真楷書"/>
                <a:ea typeface="全真楷書"/>
              </a:rPr>
              <a:t>警政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1219320"/>
            <a:ext cx="2057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道安會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交 通 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警 察 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工 務 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 設 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1800000" cy="18003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全真楷書"/>
                <a:ea typeface="全真楷書"/>
              </a:rPr>
              <a:t>縣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全真楷書"/>
                <a:ea typeface="全真楷書"/>
              </a:rPr>
              <a:t>政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1523880"/>
            <a:ext cx="1800360" cy="18003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交通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457200" y="2133720"/>
            <a:ext cx="4952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85760">
              <a:lnSpc>
                <a:spcPct val="100000"/>
              </a:lnSpc>
              <a:buClr>
                <a:srgbClr val="cc00cc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擦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85760">
              <a:lnSpc>
                <a:spcPct val="100000"/>
              </a:lnSpc>
              <a:buClr>
                <a:srgbClr val="cc00cc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側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85760">
              <a:lnSpc>
                <a:spcPct val="100000"/>
              </a:lnSpc>
              <a:buClr>
                <a:srgbClr val="cc00cc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路口交岔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85760">
              <a:lnSpc>
                <a:spcPct val="100000"/>
              </a:lnSpc>
              <a:buClr>
                <a:srgbClr val="cc00cc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對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85760">
              <a:lnSpc>
                <a:spcPct val="100000"/>
              </a:lnSpc>
              <a:buClr>
                <a:srgbClr val="cc00cc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全真楷書"/>
                <a:ea typeface="全真楷書"/>
              </a:rPr>
              <a:t>追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82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全真楷書"/>
                <a:ea typeface="全真楷書"/>
              </a:rPr>
              <a:t>參﹑改善地點事故特性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4600" y="12193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ff0000"/>
                </a:solidFill>
                <a:uFillTx/>
                <a:latin typeface="華康中黑體"/>
                <a:ea typeface="華康中黑體"/>
              </a:rPr>
              <a:t>一、肇事型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21400" y="3660840"/>
            <a:ext cx="2847960" cy="1538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24520" y="3003480"/>
            <a:ext cx="1122480" cy="270684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39880" y="3621240"/>
            <a:ext cx="457524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全真楷書"/>
                <a:ea typeface="全真楷書"/>
              </a:rPr>
              <a:t>參﹑改善地點事故特性分析</a:t>
            </a:r>
            <a:endParaRPr b="0" lang="en-US" sz="4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1880" y="1142640"/>
            <a:ext cx="3232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3333cc"/>
                </a:solidFill>
                <a:uFillTx/>
                <a:latin typeface="華康中黑體"/>
                <a:ea typeface="華康中黑體"/>
              </a:rPr>
              <a:t>二、肇事原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7200" y="1905120"/>
            <a:ext cx="3657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6920" indent="-196920">
              <a:lnSpc>
                <a:spcPct val="100000"/>
              </a:lnSpc>
              <a:buClr>
                <a:srgbClr val="0099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超速失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99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未注意車前狀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99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未依規定減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99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支道未讓幹道車先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99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全真楷書"/>
                <a:ea typeface="全真楷書"/>
              </a:rPr>
              <a:t>未依規定車道行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176000" y="1128960"/>
            <a:ext cx="3713400" cy="813960"/>
          </a:xfrm>
          <a:custGeom>
            <a:avLst/>
            <a:gdLst>
              <a:gd name="textAreaLeft" fmla="*/ 579960 w 3713400"/>
              <a:gd name="textAreaRight" fmla="*/ 2905920 w 3713400"/>
              <a:gd name="textAreaTop" fmla="*/ 116280 h 813960"/>
              <a:gd name="textAreaBottom" fmla="*/ 697680 h 813960"/>
            </a:gdLst>
            <a:ahLst/>
            <a:rect l="textAreaLeft" t="textAreaTop" r="textAreaRight" b="textAreaBottom"/>
            <a:pathLst>
              <a:path w="21600" h="21600">
                <a:moveTo>
                  <a:pt x="3375" y="3089"/>
                </a:moveTo>
                <a:lnTo>
                  <a:pt x="15020" y="3089"/>
                </a:lnTo>
                <a:lnTo>
                  <a:pt x="15020" y="0"/>
                </a:lnTo>
                <a:lnTo>
                  <a:pt x="21600" y="10800"/>
                </a:lnTo>
                <a:lnTo>
                  <a:pt x="15020" y="21600"/>
                </a:lnTo>
                <a:lnTo>
                  <a:pt x="15020" y="18511"/>
                </a:lnTo>
                <a:lnTo>
                  <a:pt x="3375" y="18511"/>
                </a:lnTo>
                <a:close/>
              </a:path>
              <a:path w="21600" h="21600">
                <a:moveTo>
                  <a:pt x="0" y="3089"/>
                </a:moveTo>
                <a:lnTo>
                  <a:pt x="675" y="3089"/>
                </a:lnTo>
                <a:lnTo>
                  <a:pt x="675" y="18511"/>
                </a:lnTo>
                <a:lnTo>
                  <a:pt x="0" y="18511"/>
                </a:lnTo>
                <a:close/>
              </a:path>
              <a:path w="21600" h="21600">
                <a:moveTo>
                  <a:pt x="1350" y="3089"/>
                </a:moveTo>
                <a:lnTo>
                  <a:pt x="2700" y="3089"/>
                </a:lnTo>
                <a:lnTo>
                  <a:pt x="2700" y="18511"/>
                </a:lnTo>
                <a:lnTo>
                  <a:pt x="1350" y="18511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駕駛不當為主</a:t>
            </a:r>
            <a:r>
              <a:rPr b="1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83120" y="2104920"/>
            <a:ext cx="46940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0608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9600" y="152280"/>
            <a:ext cx="5802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8000"/>
                </a:solidFill>
                <a:latin typeface="全真楷書"/>
                <a:ea typeface="全真楷書"/>
              </a:rPr>
              <a:t>肆﹑詳細改善地點與措施</a:t>
            </a:r>
            <a:r>
              <a:rPr b="1" lang="zh-TW" sz="2800" spc="-1" strike="noStrike">
                <a:solidFill>
                  <a:srgbClr val="3333cc"/>
                </a:solidFill>
                <a:latin typeface="全真楷書"/>
                <a:ea typeface="全真楷書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全真楷書"/>
                <a:ea typeface="全真楷書"/>
              </a:rPr>
              <a:t>詳閱附錄</a:t>
            </a:r>
            <a:r>
              <a:rPr b="1" lang="zh-TW" sz="2800" spc="-1" strike="noStrike">
                <a:solidFill>
                  <a:srgbClr val="3333cc"/>
                </a:solidFill>
                <a:latin typeface="全真楷書"/>
                <a:ea typeface="全真楷書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" descr=""/>
          <p:cNvPicPr/>
          <p:nvPr/>
        </p:nvPicPr>
        <p:blipFill>
          <a:blip r:embed="rId1"/>
          <a:stretch/>
        </p:blipFill>
        <p:spPr>
          <a:xfrm>
            <a:off x="747720" y="1060560"/>
            <a:ext cx="6773760" cy="5213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" y="6248520"/>
            <a:ext cx="905508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0" y="6324480"/>
            <a:ext cx="905508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00" y="5670720"/>
            <a:ext cx="102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rial"/>
                <a:ea typeface="細明體"/>
              </a:rPr>
              <a:t>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8880" y="152280"/>
            <a:ext cx="4204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全真楷書"/>
                <a:ea typeface="全真楷書"/>
              </a:rPr>
              <a:t>伍﹑計畫內容與經費概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914400"/>
            <a:ext cx="6801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總改善地點數：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細明體"/>
              </a:rPr>
              <a:t>186</a:t>
            </a:r>
            <a:r>
              <a:rPr b="1" lang="zh-TW" sz="4000" spc="-1" strike="noStrike">
                <a:solidFill>
                  <a:srgbClr val="000000"/>
                </a:solidFill>
                <a:latin typeface="全真楷書"/>
                <a:ea typeface="全真楷書"/>
              </a:rPr>
              <a:t>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總改善經費：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細明體"/>
              </a:rPr>
              <a:t>76,322,020</a:t>
            </a:r>
            <a:r>
              <a:rPr b="1" lang="zh-TW" sz="4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812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143000" indent="-11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表三、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第十九期台灣地區易肇事路段改善計畫</a:t>
            </a:r>
            <a:r>
              <a:rPr b="1" lang="zh-TW" sz="2800" spc="-1" strike="noStrike">
                <a:solidFill>
                  <a:srgbClr val="ff0000"/>
                </a:solidFill>
                <a:latin typeface="全真楷書"/>
                <a:ea typeface="全真楷書"/>
              </a:rPr>
              <a:t>經費項目分類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表四、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第十九期易肇事路段改善計畫</a:t>
            </a:r>
            <a:r>
              <a:rPr b="1" lang="zh-TW" sz="2800" spc="-1" strike="noStrike">
                <a:solidFill>
                  <a:srgbClr val="ff0000"/>
                </a:solidFill>
                <a:latin typeface="全真楷書"/>
                <a:ea typeface="全真楷書"/>
              </a:rPr>
              <a:t>各縣市改善經費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一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表五、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第十九期台灣地區易肇事路段改善計畫</a:t>
            </a:r>
            <a:r>
              <a:rPr b="1" lang="zh-TW" sz="2800" spc="-1" strike="noStrike">
                <a:solidFill>
                  <a:srgbClr val="ff0000"/>
                </a:solidFill>
                <a:latin typeface="全真楷書"/>
                <a:ea typeface="全真楷書"/>
              </a:rPr>
              <a:t>執行單位改善經費分配</a:t>
            </a:r>
            <a:r>
              <a:rPr b="1" lang="zh-TW" sz="2800" spc="-1" strike="noStrike">
                <a:solidFill>
                  <a:srgbClr val="0099ff"/>
                </a:solidFill>
                <a:latin typeface="全真楷書"/>
                <a:ea typeface="全真楷書"/>
              </a:rPr>
              <a:t>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5T11:28:44Z</dcterms:created>
  <dc:creator>IOT</dc:creator>
  <dc:description/>
  <dc:language>en-US</dc:language>
  <cp:lastModifiedBy>楊智凱</cp:lastModifiedBy>
  <cp:lastPrinted>1999-09-22T02:11:37Z</cp:lastPrinted>
  <dcterms:modified xsi:type="dcterms:W3CDTF">2002-07-18T08:41:36Z</dcterms:modified>
  <cp:revision>153</cp:revision>
  <dc:subject/>
  <dc:title>易肇事改善</dc:title>
</cp:coreProperties>
</file>