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.wmf" ContentType="image/x-wmf"/>
  <Override PartName="/ppt/media/image21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87F-701D-43EC-853E-D65EBAF4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D87-4C96-4832-8DF2-C261903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51C-29A9-413F-820E-CCD1AE1F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4F1-657B-4807-9F49-8B44E9ED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94A-CE4D-4320-AF0D-1D31CF44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3D1-AB06-4815-8179-4464E46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0E4-6A4B-45D8-994A-7A95B4C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FF85-E6B5-4566-A3BC-46C58E8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BBD4-D63B-4D9A-834F-D84CE49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19F9-BFDF-4BF7-9688-4510F67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987D-BCF2-4459-BAA3-C084C1D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D80-D9F9-4E26-9B5A-DA1A023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F38-B44E-4861-9525-2D8B96E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EF4-E296-48D6-A13A-DF1CD6B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D2F6-3A4F-440C-8FBD-FDF32D66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668-9B29-4F2A-BAA1-EA0F3A8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7FBF-EB63-45CC-826D-F675D1EA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989-6D70-495E-87C5-6213BAF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A00-9693-4836-B931-DB377A3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456-5817-4E55-8BE9-F500BC2A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4C3-0578-4508-A040-88963E31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F8E-FF5F-4BC7-BB69-1E09151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113-D69E-400C-9483-622FC20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1C6-8B92-4520-A643-7E93347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0" t="0" r="27345" b="11442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7F3-42A2-4E4F-A538-D9809DF136B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0" t="0" r="27345" b="11442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7068-506D-4150-AB54-AA2A7FCB997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&#26580;&#24615;&#37610;&#38754;&#39178;&#35703;&#26368;&#36969;&#26178;&#27231;&#20043;&#30740;&#31350;/PMS.ppt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&#26580;&#24615;&#37610;&#38754;&#39178;&#35703;&#26368;&#36969;&#26178;&#27231;&#20043;&#30740;&#31350;/&#27298;&#26597;&#34920;3&#29256;.ppt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33640"/>
            <a:ext cx="7772400" cy="18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柔性鋪面養護最適時機之研究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期末報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報告人：林志棟教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委託單位：交通部運輸研究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執行單位：國立中央大學土木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中華民國八十八年六月二十二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構成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600200"/>
          <a:ext cx="4446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4446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路網定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8880" y="1982880"/>
          <a:ext cx="768492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1982880"/>
                    <a:ext cx="7684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道路形式，尺寸與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PMS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屬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82880" y="2058840"/>
          <a:ext cx="5418000" cy="10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058840"/>
                    <a:ext cx="54180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295280" y="3124080"/>
          <a:ext cx="6596280" cy="14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124080"/>
                    <a:ext cx="6596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905120" y="4648320"/>
          <a:ext cx="5529240" cy="1272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648320"/>
                    <a:ext cx="552924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道路種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3124080"/>
          <a:ext cx="8915400" cy="22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89154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道路結構、面層形式與服務年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28800" y="1981080"/>
          <a:ext cx="5867280" cy="19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8672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5120" y="5105520"/>
          <a:ext cx="5867280" cy="1539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105520"/>
                    <a:ext cx="58672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85800" y="4038480"/>
          <a:ext cx="7924680" cy="1170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038480"/>
                    <a:ext cx="79246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環境與地域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66680" y="2438280"/>
          <a:ext cx="7239240" cy="15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72392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914400" y="4191120"/>
          <a:ext cx="7391520" cy="140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91120"/>
                    <a:ext cx="73915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交通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3200400"/>
          <a:ext cx="8153280" cy="154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8153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狀況與改善考量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1905120"/>
          <a:ext cx="5943600" cy="49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9436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歷史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鋪面成效預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維修與改善成效預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評估維修與改善活動的影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規劃例行維修與改善所需預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維修與改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例行性維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裂縫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坑洞填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噴霧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淺層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改良排水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緣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之功能旨在對用路者能提供良好舒適性與高安全性之服務品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績效綜合評估即是調查路面狀況之良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前維修方式多為工程師或巡路員目視調查憑經驗維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修費用的編列無依據可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維修與改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主要維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斷面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加熱翻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磨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砂漿填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局部表面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裂縫修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維修與改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改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重新鋪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表面翻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碾碎與翻修路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熱拌現地表面再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冷拌現地表面再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urier New"/>
                <a:ea typeface="標楷體"/>
              </a:rPr>
              <a:t>全斷面再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資料處理程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目視破壞調查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維修與改善量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鋪面成效預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每個維修與改善的單位成本及量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視調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儀器量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坦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抗滑係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面層撓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轍深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量調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坦度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統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ASHTO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試驗道路平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喬恩平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路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路面粗糙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高低平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加州平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直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K.J.Law 690-DNC Profil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K.J.Law Model 8300 Roughness Survey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South Dakota Prof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Si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Swedish VTI Laser Road Surfac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平坦度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儀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ARAN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縱向平坦度輸出畫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717560"/>
          <a:ext cx="868680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7560"/>
                    <a:ext cx="86868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ARAN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橫向平坦度輸出畫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666880" y="1752480"/>
          <a:ext cx="372744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372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抗滑係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室內試驗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定拉力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定速度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英式擺錘試驗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地測定裝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減速度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制動停止距離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拖車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橫向滑溜推抗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抗滑係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英式擺錘及其資料儲存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89200" y="3429000"/>
          <a:ext cx="5554800" cy="20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0" y="3429000"/>
                    <a:ext cx="555480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英式擺錘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動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路面維修作業達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費分配合理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效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面層撓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彭柯曼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動力撓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道路評審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落錘式撓度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面層撓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76520"/>
          <a:ext cx="8381880" cy="46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818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道路狀況調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轍深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車轍測量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明尼蘇達車轍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RAN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檢測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ARAN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車轍資料輸出畫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1752480"/>
          <a:ext cx="7772400" cy="48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8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urier New"/>
                <a:ea typeface="標楷體"/>
              </a:rPr>
              <a:t>資料管理與地理資訊系統之建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在路政管理方面，路面管理地理資訊系統是資訊系統的一種，它除扮演著交易處理的角色，同時也須扮演著決策支援的角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路面管理的資訊能突破時空限制，將遠端內容正確資訊能即時地傳遞，將路面資料分析後之實際狀況於網路上告知民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公路路政管理機構架設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Internet/Intranet</a:t>
            </a: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的優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降低公路路政管理機構內資訊流通之成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降低公路路政管理機構內資訊系統之管理成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加速公路路政管理機構行政電腦化作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加強路政管理各單位間團隊合作與感情溝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a9a460"/>
                </a:solidFill>
                <a:uFillTx/>
                <a:latin typeface="Courier New"/>
                <a:ea typeface="標楷體"/>
                <a:hlinkClick r:id="rId1"/>
              </a:rPr>
              <a:t>路面管理網際地理資訊系統構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地理資訊系統</a:t>
            </a: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G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地圖是描述地球表面空間的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GIS</a:t>
            </a:r>
            <a:r>
              <a:rPr b="0" lang="zh-TW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是幫助處理地理資料及空間決策的電腦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GIS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整合了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標楷體"/>
              </a:rPr>
              <a:t>GPS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媒體資料、分散式資料庫、電腦網路、網際網路等最新技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將地理資訊系統代入網際網路的世界，將此種地理資訊系統稱之為網際地理資訊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網際地理資訊系統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676520"/>
          <a:ext cx="81532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8153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urier New"/>
                <a:ea typeface="標楷體"/>
              </a:rPr>
              <a:t>傳統地理資訊系統與網際地理資訊系統之比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8600" y="2362320"/>
          <a:ext cx="8534520" cy="32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853452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範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階段（本計畫研究目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收集與文獻回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出實驗性道路構想，並進行實驗設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收集本土化的鋪面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構高速公路或一般省道之鋪面資料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資料庫建立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目視調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能應用於路面機能之調查，不適用於結構強度調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對路面機能狀況做出定性方面的評估，評估的數據較為主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數據分析上宜採用多值邏輯的模糊數學方法加以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a9a460"/>
                </a:solidFill>
                <a:uFillTx/>
                <a:latin typeface="Times New Roman"/>
                <a:ea typeface="標楷體"/>
                <a:hlinkClick r:id="rId1"/>
              </a:rPr>
              <a:t>瀝青路面表面機能狀況_x000b_目視調查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狀況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903240"/>
          <a:ext cx="7924680" cy="595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03240"/>
                    <a:ext cx="792468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狀況資料庫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960480"/>
          <a:ext cx="784872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60480"/>
                    <a:ext cx="784872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破損資料之編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19320" y="946080"/>
          <a:ext cx="6172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46080"/>
                    <a:ext cx="6172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段基本資料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1017720"/>
          <a:ext cx="7772400" cy="58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17720"/>
                    <a:ext cx="77724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段破損資料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903240"/>
          <a:ext cx="7924680" cy="595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03240"/>
                    <a:ext cx="792468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CQI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0" y="3048120"/>
                <a:ext cx="91440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,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,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,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,0</m:t>
                            </m:r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鋪面管理系統與鋪面指標建立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狀況資料庫的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理資訊系統的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前只初步完成資料庫的建立，未來因應路面需求應對本資料庫加以改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有助於分析路面現況，未來應針對此現況提出破壞預測模式，以利養護最適時機之擬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養護預算的多寡對於該年度的養護路段有所影響，應在時機分析時加入成本生命週期的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範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階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展高速公路或一般省道的養護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柔性鋪面最適養護時機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展自動化檢測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簡報完畢</a:t>
            </a:r>
            <a:br>
              <a:rPr sz="7200"/>
            </a:br>
            <a:r>
              <a:rPr b="0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敬請指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究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關文獻回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外使用鋪面成效檢測車狀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速公路之實驗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十五線之實驗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鋪面資料收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鋪面資料庫之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內養護實務單位之養護特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57400" y="1752480"/>
          <a:ext cx="521496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214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68580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6858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e"/>
            </a:gs>
            <a:gs pos="100000">
              <a:srgbClr val="c3b5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資料必備條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料含義必須觀念簡單清楚、涵蓋範圍應廣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必須具有一貫性、保存性、連續性以利整理、儲存、保管與傳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必須具有時效性、客觀性、確實性，俾使系統運用符合實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料在有效靈活應用方面，必須能達到預測、狀況掌握、處理快速等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55:37Z</dcterms:created>
  <dc:creator>實驗室三號</dc:creator>
  <dc:description/>
  <dc:language>en-US</dc:language>
  <cp:lastModifiedBy>public</cp:lastModifiedBy>
  <cp:lastPrinted>1999-06-22T04:03:09Z</cp:lastPrinted>
  <dcterms:modified xsi:type="dcterms:W3CDTF">1999-06-22T09:07:08Z</dcterms:modified>
  <cp:revision>12</cp:revision>
  <dc:subject/>
  <dc:title>柔性鋪面養護最適時機之研究 期末報告</dc:title>
</cp:coreProperties>
</file>