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700-9719-4E3A-BC8A-C5D7E482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C3B-01D9-4CA9-8E91-212B13B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236-BF6E-4FFE-B780-C32D3844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2AE-8993-4BDB-9C21-FB5F76C1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868-0731-41BD-9AA7-421099F9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AE77-463B-4ECD-80F9-242D86C6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2645-F3F5-40AC-95D8-7229A5F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F0FF-7D10-4564-8E96-5F5A805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2E3-9A05-4FC4-A27C-6713BD3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D80-EC01-49BE-BBB6-893C2A5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7AA4-FCFD-489E-B783-A5FCF6D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955-411F-435B-8DD6-05D0B3A5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58E-F600-4823-A150-46C7C627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A8D3-F473-4189-BE0D-AF6A942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354D-3442-42D8-8074-543020C6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2D2C-C3FF-40D6-AF00-EF8F4E1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01F-CEDE-4C00-9401-7B6CAC4B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BD9-13BB-41E9-AF79-84FDCBE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AE8-16BA-4E6A-844F-DC9DEA5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0BE-BBAE-450A-AB4F-DA628CD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368-0A07-42AF-9C95-DA24B38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537-6273-4BEC-873D-0D68F2A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B22-00C2-473C-8C40-5FE99EC3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CC7-6001-4651-8CD5-A6ACAB0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41C-C825-48CE-BF32-3D4361228977}" type="slidenum"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3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416-931F-418B-9688-ACB6CD416F0D}" type="slidenum">
              <a:rPr b="0" lang="zh-TW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柔性鋪面最適養護時機之研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  <a:ea typeface="華康儷粗黑"/>
              </a:rPr>
              <a:t>期中報告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191120"/>
            <a:ext cx="4724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報  告  人：林  志  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委託單位：交通部運輸研究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執行單位：中央大學土木研究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民國八十八年一月二十九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路網層級路面管理系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76400"/>
          <a:ext cx="7620120" cy="488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76400"/>
                    <a:ext cx="762012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305920" y="2590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專案層級路面管理系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1600200"/>
          <a:ext cx="7022880" cy="487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70228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2296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外路面管理系統概況</a:t>
            </a: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北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PMS (Pavement Maintenance System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調查路面狀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路面惡化狀況、粗糙度及交通資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系統績效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經常性維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預算維修需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外路面管理系統概況</a:t>
            </a: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英國與澳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MMW (Maintenance Management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維護項目成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維修項目優先權重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PS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定路面整體缺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估維修成本之經濟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維修措施極其優先順序考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輸出結果考核追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外路面管理系統概況</a:t>
            </a: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東亞國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Maintaining and Managing the Metropolitan Express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短期維修之破壞等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長期維修之破壞等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維修材料及技術之改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道路結構資料庫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外路面管理系統概況</a:t>
            </a: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開發中國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HDM (Highway Design and Maintenance Standards Model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例行維修、表面處理、重舖、結構重建、路型改建等五種維修類型及其各別產生之影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各種維修類型之生命週期曲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最佳維修方式之時程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外路面管理系統概況</a:t>
            </a: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--</a:t>
            </a:r>
            <a:r>
              <a:rPr b="0" lang="zh-TW" sz="32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台灣地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台灣區高速公路路面養護管理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調查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析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設計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評審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養護實施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施工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規劃與執行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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研究發展與人員培訓系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養護實務單位之養護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828800" y="1828800"/>
          <a:ext cx="533412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53341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高公局養護組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33720" y="1600200"/>
          <a:ext cx="475596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600200"/>
                    <a:ext cx="4755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公路局養護組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95280" y="1523880"/>
          <a:ext cx="632484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523880"/>
                    <a:ext cx="6324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研究緣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之功能旨在對用路者能提供良好舒適性與高安全性之服務品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績效綜合評估即是調查路面狀況之良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前維修方式多為工程師或巡路員目視調查憑經驗維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修費用的編列無依據可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鋪面指標建立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路面損壞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美國陸軍工兵研究所發展之</a:t>
            </a: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PAVER</a:t>
            </a: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CI=100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Ｆ（損壞扣減點數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台北市路面服務力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服務力</a:t>
            </a: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=A</a:t>
            </a:r>
            <a:r>
              <a:rPr b="0" sz="2800" spc="-1" strike="noStrike" baseline="-25000">
                <a:solidFill>
                  <a:srgbClr val="000000"/>
                </a:solidFill>
                <a:latin typeface="標楷體"/>
                <a:ea typeface="標楷體"/>
              </a:rPr>
              <a:t>0</a:t>
            </a: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+Σ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鋪面指標建立模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路面績效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美國州際公路與運輸員司協會</a:t>
            </a: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AASH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SI=5.03-1.91log(1+SV)-1.38R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0.01(C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台灣省路面工程整修標準芻議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SI=5.21-1.27og(1+PrI)-0.21R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0.01(C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加拿大安大略省</a:t>
            </a:r>
            <a:r>
              <a:rPr b="0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PC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CR=F(</a:t>
            </a: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駕駛品質，損壞嚴重性，損壞密度</a:t>
            </a:r>
            <a:r>
              <a:rPr b="0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31484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238880" y="3809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7238880" y="5181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外路面檢測儀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結構檢測儀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靜力撓度（彭柯曼樑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穩態撓度（道路評審儀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衝擊荷重撓度（動力撓度儀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FWD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外路面檢測儀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機能檢測儀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車轍（車轍量測儀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平坦度（高低平坦儀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表面破損（目視調查、影像處理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外路面檢測儀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安全檢測儀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固定輪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滑動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側滑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英式擺錘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英式擺錘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38577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外路面檢測儀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動化檢測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A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AR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I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K.J.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Laser 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aran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國內外路面檢測儀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交通量量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靜態地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動態地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62520" y="2895480"/>
          <a:ext cx="3681360" cy="249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895480"/>
                    <a:ext cx="36813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華康勘亭流"/>
                <a:ea typeface="華康勘亭流"/>
              </a:rPr>
              <a:t>國內現有檢測儀器調查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1752480"/>
          <a:ext cx="6937560" cy="4826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752480"/>
                    <a:ext cx="693756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台十五線實驗配置與評估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905120"/>
          <a:ext cx="8001000" cy="430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05120"/>
                    <a:ext cx="800100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台十五線實驗配置與評估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133720"/>
          <a:ext cx="7925040" cy="373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79250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研究動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路面維修作業達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費分配合理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調查效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動態地磅車型分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743200" y="1752480"/>
          <a:ext cx="400068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752480"/>
                    <a:ext cx="40006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車輛對路面損壞影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單體車數量較多之重車車型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從表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1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看出相同之載重範圍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路面衝擊較小，其次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2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影響最大，不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2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於其車型之關係，無法超載過多。所以如要採用單體車車型來作貨物運輸，應採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來運輸，以減低對路面之衝擊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車輛對路面損壞影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法定載重範圍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5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57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路面衝擊較小，其次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4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影響最大，但在法定載重範圍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4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呈現很大的衝擊，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30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於其車型之關係，無法超載過多。所以如要採用半聯結車之車型來作貨物運輸，應採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5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57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來運輸，以減低對路面之衝擊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厚度對路面的影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撓度試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3200400"/>
          <a:ext cx="8458200" cy="200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4582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厚度對路面的影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平坦度試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3200400"/>
          <a:ext cx="7772400" cy="2411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200400"/>
                    <a:ext cx="77724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厚度對路面的影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車轍深度試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2597040"/>
          <a:ext cx="7467840" cy="4260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597040"/>
                    <a:ext cx="746784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資料庫的建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59436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收集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視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工儀器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動偵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資料庫的建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59436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的優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減少瑣碎的資料存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的一貫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的分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的安全保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的準確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使用者運用資料庫的優先順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資料之獨立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資料庫的建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59436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庫所需調查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幾何資料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結構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平坦度（糙度）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破壞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抗滑與安全性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交通軸重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環境資料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路面材料性質調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本階段研究結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管理系統與鋪面指標建立之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對於國內外路面管理系統作一文獻回顧，了解路面管理系統的建立需要考量路面狀況，而路面狀況可利用路面狀況指標的建立來表示之，但指標的建立須考慮各地狀況而評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研究範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階段（本計畫研究目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收集與文獻回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出實驗性道路構想，並進行實驗設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收集本土化的鋪面資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構高速公路或一般省道之鋪面資料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本階段研究結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目前國內外檢測儀器現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內已經引進國外先進設備，但是各單位擁有設備不一，鋪面資料庫需要考量各單位儀器審慎評估建立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本階段研究結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4800" y="1905120"/>
            <a:ext cx="7797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台十五線評估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車型對於路面影響甚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厚度設計應重新考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路面狀況資料庫的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配合自動化檢測儀器建立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後續研究項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4800" y="1905120"/>
            <a:ext cx="7797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台十五線成效觀測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利用檢測車進行觀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高速公路成效觀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須注意路面平坦度與抗滑能力，以及地下水位的影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後續研究項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鋪面資料庫之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利後面鋪面成效指標與養護最適時機之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最適養護時機之初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進行成果驗證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研究範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階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展高速公路或一般省道的養護指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建立柔性鋪面最適養護時機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發展自動化檢測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研究步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相關文獻回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外使用鋪面成效檢測車狀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速公路之實驗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十五線之實驗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鋪面資料收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鋪面資料庫之建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預期成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藉由自動化檢測車的調查效率，對現有國道或省道狀況進行資料的蒐集，建立鋪面維修資料庫，經由鋪修資料庫發展一鋪面服務績效指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績效指標初擬，提供路面管理單位一道路養護養指標，對養護作業進行客觀的評斷標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路面管理系統概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路面管理系統主要作業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2139840"/>
          <a:ext cx="6629400" cy="4718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139840"/>
                    <a:ext cx="66294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華康勘亭流"/>
              </a:rPr>
              <a:t>路面管理資料必備條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料含義必須觀念簡單清楚、涵蓋範圍應廣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必須具有一貫性、保存性、連續性以利整理、儲存、保管與傳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必須具有時效性、客觀性、確實性，俾使系統運用符合實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資料在有效靈活應用方面，必須能達到預測、狀況掌握、處理快速等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05:53:51Z</dcterms:created>
  <dc:creator>實驗室三號</dc:creator>
  <dc:description/>
  <dc:language>en-US</dc:language>
  <cp:lastModifiedBy>public</cp:lastModifiedBy>
  <cp:lastPrinted>1999-01-29T03:21:13Z</cp:lastPrinted>
  <dcterms:modified xsi:type="dcterms:W3CDTF">1999-04-21T07:12:36Z</dcterms:modified>
  <cp:revision>9</cp:revision>
  <dc:subject/>
  <dc:title>柔性鋪面最適養護時機之研究</dc:title>
</cp:coreProperties>
</file>