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769-1F22-49C8-979F-8E1F4664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AC7-2A87-47A9-A675-1E73BFCB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D59-B7CD-411D-9AF6-0A1DF758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46A-D36B-4F81-9CE0-85825C83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1DE4-47A3-4C4F-9D81-F90D5124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609-0923-4E67-832F-096EFC98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BF7-AEA1-44D6-BED7-81CAF572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D347-252A-482B-9B48-4041A76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76B-F50C-4A91-B382-539F8A3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EB65-C3CC-49CE-A846-A29D440E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1737-A29C-443C-9F49-CB265F1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4A8-021B-417B-9392-CF4221AD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BC56-E0FA-4894-8490-10D5661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E2F-CD35-42BC-84D5-D5CCED3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E03-9469-4741-92A4-6DFDCEE9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B447-03E3-4461-8E61-5E47DC93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9B9-14C2-430F-B774-E6FB48B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876-B75C-4439-8151-0C635C6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8B1-C777-4A4F-A4E2-6C019D79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71F-5EBF-459A-A46C-7466FED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55A-7BEF-4202-B9C7-14DD18EF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0C2-00DF-4963-8DAC-0EA0A8D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339-7759-4AFF-B2D1-8C336F5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3EC-0055-4FC6-8D12-8E77EC5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a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a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EB0-C814-46F3-8F0A-3493EB40DA43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5E47-E9E4-49CF-97E1-BD7F28741A7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a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a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018-FD76-4E71-BD3B-2036CE2ED852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F80-273A-48F5-9199-FE1DF358924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3600" y="609120"/>
            <a:ext cx="84200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標楷體"/>
                <a:ea typeface="標楷體"/>
              </a:rPr>
              <a:t>應用先進式微觀車流模擬器─</a:t>
            </a:r>
            <a:r>
              <a:rPr b="0" lang="en-US" sz="4400" spc="-1" strike="noStrike">
                <a:solidFill>
                  <a:srgbClr val="cbcbcb"/>
                </a:solidFill>
                <a:latin typeface="標楷體"/>
                <a:ea typeface="標楷體"/>
              </a:rPr>
              <a:t>PARAMICS</a:t>
            </a:r>
            <a:r>
              <a:rPr b="0" lang="zh-TW" sz="4400" spc="-1" strike="noStrike">
                <a:solidFill>
                  <a:srgbClr val="cbcbcb"/>
                </a:solidFill>
                <a:latin typeface="標楷體"/>
                <a:ea typeface="標楷體"/>
              </a:rPr>
              <a:t>構建台灣地區智慧型運輸模擬系統之可行性研究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計劃主持人：陳一昌組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主辦人員：許鉅秉高級規劃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黃燦煌工程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白仁德工程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研究人員：全組人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438280"/>
            <a:ext cx="84582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05C0-5FEC-4D52-BB93-924D85DB0B9B}" type="slidenum">
              <a:t>1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模擬網路雛型之建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15" descr=""/>
          <p:cNvPicPr/>
          <p:nvPr/>
        </p:nvPicPr>
        <p:blipFill>
          <a:blip r:embed="rId1"/>
          <a:stretch/>
        </p:blipFill>
        <p:spPr>
          <a:xfrm>
            <a:off x="1981080" y="1920960"/>
            <a:ext cx="4953240" cy="3759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43000" y="5692680"/>
            <a:ext cx="6019920" cy="11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4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6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由加入節點來建立路網之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78D-334F-4551-B64E-FFFA59D2C92D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28800" y="2057400"/>
            <a:ext cx="617220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模擬網路雛型之建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09680" y="2286000"/>
            <a:ext cx="5181840" cy="3962520"/>
            <a:chOff x="2209680" y="2286000"/>
            <a:chExt cx="5181840" cy="3962520"/>
          </a:xfrm>
        </p:grpSpPr>
        <p:pic>
          <p:nvPicPr>
            <p:cNvPr id="227" name="3" descr=""/>
            <p:cNvPicPr/>
            <p:nvPr/>
          </p:nvPicPr>
          <p:blipFill>
            <a:blip r:embed="rId1"/>
            <a:stretch/>
          </p:blipFill>
          <p:spPr>
            <a:xfrm>
              <a:off x="2361960" y="2390040"/>
              <a:ext cx="1600200" cy="31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4" descr=""/>
            <p:cNvPicPr/>
            <p:nvPr/>
          </p:nvPicPr>
          <p:blipFill>
            <a:blip r:embed="rId2"/>
            <a:stretch/>
          </p:blipFill>
          <p:spPr>
            <a:xfrm>
              <a:off x="4038480" y="2390040"/>
              <a:ext cx="1523880" cy="31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5" descr=""/>
            <p:cNvPicPr/>
            <p:nvPr/>
          </p:nvPicPr>
          <p:blipFill>
            <a:blip r:embed="rId3"/>
            <a:stretch/>
          </p:blipFill>
          <p:spPr>
            <a:xfrm>
              <a:off x="5638680" y="2390040"/>
              <a:ext cx="1600200" cy="31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209680" y="2286000"/>
              <a:ext cx="5181840" cy="396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1440" y="5831280"/>
              <a:ext cx="3429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33720" y="571500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-7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模擬網路節線屬性資料可選擇輸入項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822-5B66-4506-8233-2550C598752E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模擬網路雛型之建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10" descr=""/>
          <p:cNvPicPr/>
          <p:nvPr/>
        </p:nvPicPr>
        <p:blipFill>
          <a:blip r:embed="rId1"/>
          <a:stretch/>
        </p:blipFill>
        <p:spPr>
          <a:xfrm>
            <a:off x="2055960" y="19810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47920" y="56386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8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路網建立高速公路下匝道之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3CA-F162-4123-9DFD-5B71F72E0CB0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模擬網路雛型之建立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11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676520" y="5715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9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網路加入高速公路上匝道之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4D9-FA8A-4E59-9032-E13A71CDE905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說明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NET2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676520" y="5638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10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網路加入交通分區之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B63-BFFB-4F7B-99EF-0EE01A0BACB4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說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11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交通分區起迄旅次輸入方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AEA-27CF-4584-9AA7-B4BBC5C3EDC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說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13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05120" y="5638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12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駕駛人行為目錄下可供調整之參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EED-0662-418F-B794-499271FFBC3E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說明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-13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網路車流分配率輸入方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224760" cy="45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484-CF30-4AB9-8DA9-AAE399FDE23F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結果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5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F3E-FCA0-4108-88B2-97060DAF5DC5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結果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35680" cy="398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733-1230-42B7-8189-17B504A9BA35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523880"/>
            <a:ext cx="8381880" cy="8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6094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簡報大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76520"/>
            <a:ext cx="7696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研究緣起與目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研究內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◇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蒐集及分析國外相關車流模擬器之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◇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系統功能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◇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界定國內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ITS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系統模擬非量化評估準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◇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探討應用於國內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ITS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研究之可行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結論與建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533-232F-48F7-8C7D-CE107AED8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結果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9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08520" cy="4114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52388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5-15   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顯示模擬結果之流量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02D-F99B-473B-91DD-8B63F04E09AE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結果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10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270400" cy="4038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5943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601992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5-16   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顯示模擬結果之速度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258-1922-44C8-8A43-58AD042897EA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七、網路模擬結果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續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8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270760" cy="3932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0020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圖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5-17   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顯示模擬結果之密度情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53F-BE2B-44BA-9212-675157D3D736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八、結論與建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車流模擬器大多依特定用途而發展，本研究主要針對系統模擬器進行回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經由所訂評量項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各項功能均屬良好或至少可達到功能之需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於模擬網路之規模並無一定之限制，適合國內各都會型路網模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對機車、路邊停車及號誌連鎖控制等我國特殊情況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已較其他軟體為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63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09B-940A-44F2-80CA-144578E49379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八、結論與建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能更適合國內之交通情況，「</a:t>
            </a: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校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與「</a:t>
            </a: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測試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為現階段級重要的課題，已列為八十九年度合辦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針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駕駛人對道路資訊之接收情況，亦列為八十九年度自辦案，期能儘快提供作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ITS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相關策略之測試平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1880" y="63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665-32E7-4A08-8908-0A2D92B634ED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762120" y="1600200"/>
            <a:ext cx="7197480" cy="3894120"/>
            <a:chOff x="762120" y="1600200"/>
            <a:chExt cx="7197480" cy="3894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295280" y="4017960"/>
              <a:ext cx="327672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10080" y="3941640"/>
              <a:ext cx="254952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133720" y="2514600"/>
              <a:ext cx="1371600" cy="762120"/>
            </a:xfrm>
            <a:prstGeom prst="ellipse">
              <a:avLst/>
            </a:prstGeom>
            <a:solidFill>
              <a:srgbClr val="ffff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62520" y="3048120"/>
              <a:ext cx="304560" cy="2286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480" y="1600200"/>
              <a:ext cx="304920" cy="2286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3200400"/>
              <a:ext cx="304920" cy="2286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2133720"/>
              <a:ext cx="304920" cy="2286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77120" y="2743200"/>
              <a:ext cx="304560" cy="2286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67080" y="2666880"/>
              <a:ext cx="533520" cy="1526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62120" y="4876200"/>
              <a:ext cx="4800600" cy="2286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2120" y="762120"/>
            <a:ext cx="838188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762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標楷體"/>
              </a:rPr>
              <a:t>謝謝！歡迎指教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B16-3508-4577-B048-D36DE5581A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33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一、研究緣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182880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智慧型運輸系統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TS)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儼然已成為近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、二十年交通發展之主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目前國內有關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T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之發展計畫，多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零星而片段，更缺乏一可供測試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評估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T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系統績效之模擬環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藉由模擬程式模擬交通狀況之運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可作為蒐集測試資料之途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523880"/>
            <a:ext cx="8381880" cy="8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DA3-EEB3-46AE-93C7-DC3D7D1D4A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5029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二、研究目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介紹並探討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之特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分析比較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與國外其他著名模擬器於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T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研究應用之優、缺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以非量化評估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運用於國內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T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研究發展之可行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構建一雛型路網，以測試相關系統之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479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B1C-3134-49AB-838C-8B2134F4C1FE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1981080"/>
            <a:ext cx="6934320" cy="4038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三、車流模擬器之回顧與探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46360" y="2133720"/>
          <a:ext cx="5521320" cy="36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133720"/>
                    <a:ext cx="552132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976-2E21-4C62-B120-5A67ADEE4C8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四、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PARAMICS</a:t>
            </a: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系統功能介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係西元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992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由英國蘇格蘭所研發，以</a:t>
            </a:r>
            <a:r>
              <a:rPr b="0" lang="en-US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Para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llel </a:t>
            </a:r>
            <a:r>
              <a:rPr b="0" lang="en-US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Mic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oscopic </a:t>
            </a:r>
            <a:r>
              <a:rPr b="0" lang="en-US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imulation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而命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在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模組中如等候線長度、延滯及旅行時間等車流變數係以數學模式加以預測，交通擁擠時亦較能適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PARAMICS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模擬過程中如車輛、道路等均可將其立體化呈現，使模擬情境更趨逼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58200" y="579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6EB-9CC4-47C8-91B1-8678678B2D3C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609480"/>
            <a:ext cx="601956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685800"/>
          <a:ext cx="5529240" cy="22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52924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ll" descr=""/>
          <p:cNvPicPr/>
          <p:nvPr/>
        </p:nvPicPr>
        <p:blipFill>
          <a:blip r:embed="rId3"/>
          <a:stretch/>
        </p:blipFill>
        <p:spPr>
          <a:xfrm>
            <a:off x="1828800" y="3276720"/>
            <a:ext cx="5273640" cy="3022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229600" y="5943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2CE-B36D-4EA0-8959-C35EB1F5E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0"/>
            <a:ext cx="8381880" cy="838080"/>
          </a:xfrm>
          <a:prstGeom prst="rect">
            <a:avLst/>
          </a:prstGeom>
          <a:solidFill>
            <a:srgbClr val="6a1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五、非量化評估準則與評估結果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914400"/>
            <a:ext cx="83818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600200"/>
            <a:ext cx="1600200" cy="533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整合性路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447920"/>
            <a:ext cx="2133360" cy="4876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供給層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209680"/>
            <a:ext cx="1676160" cy="533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監測能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895480"/>
            <a:ext cx="1676160" cy="5335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控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581280"/>
            <a:ext cx="1676160" cy="533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267080"/>
            <a:ext cx="1676160" cy="533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952880"/>
            <a:ext cx="198108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5638680"/>
            <a:ext cx="1676520" cy="5335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旅行資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收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事故偵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停車模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需求層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1447920"/>
            <a:ext cx="2133720" cy="4876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5238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05740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590920"/>
            <a:ext cx="1676520" cy="45720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1240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65760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19112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80060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33412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58672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動態起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眾運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種組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接收資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旅次選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駕駛行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800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巨觀車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候因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867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擁擠成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447920"/>
            <a:ext cx="3581280" cy="182880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4191120"/>
            <a:ext cx="3504960" cy="220968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環境影響評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15238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05740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67616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廢氣排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噪音污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燃料消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操作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579132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86600" y="579132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51814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5181480"/>
            <a:ext cx="167616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4495680"/>
            <a:ext cx="167652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4572000"/>
            <a:ext cx="1676160" cy="45720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57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圍限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速度限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操作方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輸出整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格式相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模組界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3F2-09D2-4402-B622-9595AABF8022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模擬網路雛型之建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網路背景底圖之轉檔測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模擬雛型網路範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547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9320" y="1523880"/>
            <a:ext cx="84582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3" descr=""/>
          <p:cNvPicPr/>
          <p:nvPr/>
        </p:nvPicPr>
        <p:blipFill>
          <a:blip r:embed="rId1"/>
          <a:stretch/>
        </p:blipFill>
        <p:spPr>
          <a:xfrm>
            <a:off x="1752480" y="3324240"/>
            <a:ext cx="3886200" cy="29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8A9-7B54-48EC-B438-EA367BCA30B0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08:21:24Z</dcterms:created>
  <dc:creator>黃燦煌</dc:creator>
  <dc:description/>
  <dc:language>en-US</dc:language>
  <cp:lastModifiedBy>黃燦煌</cp:lastModifiedBy>
  <cp:lastPrinted>1999-10-05T01:48:05Z</cp:lastPrinted>
  <dcterms:modified xsi:type="dcterms:W3CDTF">1999-10-05T02:11:14Z</dcterms:modified>
  <cp:revision>34</cp:revision>
  <dc:subject/>
  <dc:title>應用先進式微觀車流模擬器─PARAMICS構建台灣地區智慧型運輸模擬系統之可行性研究</dc:title>
</cp:coreProperties>
</file>