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15BD6-3B7B-428B-B252-4D1E6FD0E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41AA4-D1E8-477D-BF9C-5FFEAA975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A480F-A689-4C3D-88F0-0A6329476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386E9-44D3-4037-A570-EF6571B54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11B51-882C-44BD-8367-BC89A5330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46151-9E2E-462F-BE61-AA012CE47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BEDD0-5914-4E22-BB51-BEAC0601B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C3207-E573-4879-9A81-1F6BED8D1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2C0A5-E62E-4922-8249-8600EB30B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90EA8-E2F7-4206-A6F9-1ADB6F961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81AE4-15C9-4C68-ACB7-FB4FDF651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5B41E-58A1-4C1F-8F84-86F0B8054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76B72-E129-425F-A1F7-3FD738148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476B4-E1E4-4F0B-A70B-7E2B1E135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67B16-94CF-4D21-8ED6-F3451C53B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CAB03-E203-4E1E-9A0A-429601855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8939B-0126-4311-A643-536A8FA0D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47D07-03AA-4620-ADC2-66CF2F477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45FB5-22AA-40F6-8966-076C7FDCE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94FF1-7356-45DA-89A8-490E0ED5F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B78E1-B67B-418F-958B-73D96FC9F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C26B-B1A3-4AD2-A77B-ED7213E4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96EB4-A3FD-4B43-8201-0A80DDEB4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E991B-8FBE-4922-9DB1-FF4C8F934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B398-A862-4979-9E99-E472EF972343}" type="slidenum">
              <a:rPr b="0" lang="zh-TW"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8503-2BFF-49DC-845A-1A5EB2992B65}" type="slidenum">
              <a:rPr b="0" lang="zh-TW"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33"/>
                </a:solidFill>
                <a:latin typeface="Times New Roman"/>
                <a:ea typeface="標楷體"/>
              </a:rPr>
              <a:t>兩岸直航之安全問題</a:t>
            </a:r>
            <a:endParaRPr b="0" lang="en-US" sz="4000" spc="-1" strike="noStrike">
              <a:solidFill>
                <a:srgbClr val="004c2b"/>
              </a:solidFill>
              <a:latin typeface="Times New Roman"/>
            </a:endParaRPr>
          </a:p>
        </p:txBody>
      </p:sp>
      <p:sp>
        <p:nvSpPr>
          <p:cNvPr id="84" name="PlaceHolder 2"/>
          <p:cNvSpPr>
            <a:spLocks noGrp="1"/>
          </p:cNvSpPr>
          <p:nvPr>
            <p:ph type="subTitle"/>
          </p:nvPr>
        </p:nvSpPr>
        <p:spPr>
          <a:xfrm>
            <a:off x="1295280" y="3123720"/>
            <a:ext cx="6400800" cy="26672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33"/>
                </a:solidFill>
                <a:latin typeface="Times New Roman"/>
                <a:ea typeface="標楷體"/>
              </a:rPr>
              <a:t>交通部運輸研究所</a:t>
            </a:r>
            <a:endParaRPr b="0" lang="en-US" sz="3600" spc="-1" strike="noStrike">
              <a:solidFill>
                <a:srgbClr val="333333"/>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3333"/>
                </a:solidFill>
                <a:latin typeface="Times New Roman"/>
                <a:ea typeface="標楷體"/>
              </a:rPr>
              <a:t>運輸安全組</a:t>
            </a:r>
            <a:endParaRPr b="0" lang="en-US" sz="2600" spc="-1" strike="noStrike">
              <a:solidFill>
                <a:srgbClr val="333333"/>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3333"/>
                </a:solidFill>
                <a:latin typeface="Times New Roman"/>
                <a:ea typeface="標楷體"/>
              </a:rPr>
              <a:t>林豐福組長</a:t>
            </a:r>
            <a:endParaRPr b="0" lang="en-US" sz="2600" spc="-1" strike="noStrike">
              <a:solidFill>
                <a:srgbClr val="333333"/>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3333"/>
                </a:solidFill>
                <a:latin typeface="Times New Roman"/>
                <a:ea typeface="標楷體"/>
              </a:rPr>
              <a:t>喻世祥助理研究員</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1760" y="1218960"/>
            <a:ext cx="7543800" cy="464796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ea typeface="標楷體"/>
              </a:rPr>
              <a:t>情境二  民航機對我方航空識別區進行情報收集，或搭載電子干擾裝置對我方機場及戰管中心進行干擾。</a:t>
            </a:r>
            <a:endParaRPr b="0" lang="en-US" sz="2800" spc="-1" strike="noStrike">
              <a:solidFill>
                <a:srgbClr val="333333"/>
              </a:solidFill>
              <a:latin typeface="Times New Roman"/>
            </a:endParaRPr>
          </a:p>
          <a:p>
            <a:pPr lvl="1" marL="743040" indent="-285840">
              <a:lnSpc>
                <a:spcPct val="100000"/>
              </a:lnSpc>
              <a:spcBef>
                <a:spcPts val="1375"/>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rPr>
              <a:t>以兩岸直航之名，改裝中共民航機在進入台灣本島後進行上述工作作業。偵蒐我方電子參數可作為電子反制及反輻射飛彈等之用。</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rPr>
              <a:t>提昇我軍雷達與電子參數保密措施，例如跳頻、展頻等。除對可疑民航器主動實施偵蒐、鑑別外，還應包含監控大陸內陸戰機動態。加強我方雷達之電子干擾反制能力。</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61760" y="990360"/>
            <a:ext cx="7543800" cy="5105160"/>
          </a:xfrm>
          <a:prstGeom prst="rect">
            <a:avLst/>
          </a:prstGeom>
          <a:noFill/>
          <a:ln w="0">
            <a:noFill/>
          </a:ln>
        </p:spPr>
        <p:txBody>
          <a:bodyPr lIns="90000" rIns="90000" tIns="46800" bIns="46800" anchor="t">
            <a:normAutofit/>
          </a:bodyPr>
          <a:p>
            <a:pPr marL="343080" indent="-343080">
              <a:spcBef>
                <a:spcPts val="601"/>
              </a:spcBef>
              <a:spcAft>
                <a:spcPts val="601"/>
              </a:spcAft>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ea typeface="標楷體"/>
              </a:rPr>
              <a:t>情境三</a:t>
            </a:r>
            <a:r>
              <a:rPr b="0" lang="zh-TW" sz="2800" spc="-1" strike="noStrike">
                <a:solidFill>
                  <a:srgbClr val="333333"/>
                </a:solidFill>
                <a:latin typeface="標楷體"/>
              </a:rPr>
              <a:t>  </a:t>
            </a:r>
            <a:r>
              <a:rPr b="0" lang="zh-TW" sz="2800" spc="-1" strike="noStrike">
                <a:solidFill>
                  <a:srgbClr val="333333"/>
                </a:solidFill>
                <a:latin typeface="標楷體"/>
                <a:ea typeface="標楷體"/>
              </a:rPr>
              <a:t>如「烏干達行動」中，以運輸機或民航機載運突擊隊和經偽裝的武器裝備進入我方機場。</a:t>
            </a:r>
            <a:endParaRPr b="0" lang="en-US" sz="2800" spc="-1" strike="noStrike">
              <a:solidFill>
                <a:srgbClr val="333333"/>
              </a:solidFill>
              <a:latin typeface="Times New Roman"/>
            </a:endParaRPr>
          </a:p>
          <a:p>
            <a:pPr lvl="1" marL="743040" indent="-285840">
              <a:lnSpc>
                <a:spcPct val="100000"/>
              </a:lnSpc>
              <a:spcBef>
                <a:spcPts val="1375"/>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rPr>
              <a:t>平時載送情報人員及間諜進入我國境內實施滲透和情報蒐集等活動。戰時利用運輸機或民航機載送突擊隊員及武器裝備，對我機場重要設施或重要指揮人員，實施破壞、控制，以利後續支援部隊進駐。</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rPr>
              <a:t>平時即加強管制人員辨證及各項突發狀況演練，對各航次班機降落後須加強地面警戒及安全管制措施。兩岸情勢繄張時，應採取一次一批一架且均強迫實施待命航線分段進入台海，待前機落地後引導滑行至特定停機點（最好為封閉區域）停機，並在我方監視下開艙下載。</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440" y="1066680"/>
            <a:ext cx="7543800" cy="45720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標楷體"/>
                <a:ea typeface="標楷體"/>
              </a:rPr>
              <a:t>情境四 以「巴比倫行動」方式。</a:t>
            </a:r>
            <a:endParaRPr b="0" lang="en-US" sz="2800" spc="-1" strike="noStrike">
              <a:solidFill>
                <a:srgbClr val="333333"/>
              </a:solidFill>
              <a:latin typeface="Times New Roman"/>
            </a:endParaRPr>
          </a:p>
          <a:p>
            <a:pPr lvl="1" marL="743040" indent="-285840">
              <a:lnSpc>
                <a:spcPct val="100000"/>
              </a:lnSpc>
              <a:spcBef>
                <a:spcPts val="1375"/>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rPr>
              <a:t>採多機編隊高空上下重疊的密集隊形，利用國際航道，偽裝成民航機，進入台灣領空。</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rPr>
              <a:t>以固定航路（設計一定之高度與航線使其通過戰管及航管雷達偵測範圍內）至通過報告點以我方航管或戰管雷達接收無誤後以航路引導管制方式進入各機場管制範圍後交由塔台降落。遇可疑航班機，立即通令各雷達站實施高度複測，並可由作戰司令部下令執行</a:t>
            </a:r>
            <a:r>
              <a:rPr b="0" lang="zh-TW" sz="2200" spc="-1" strike="noStrike">
                <a:solidFill>
                  <a:srgbClr val="333333"/>
                </a:solidFill>
                <a:latin typeface="標楷體"/>
              </a:rPr>
              <a:t>CAP</a:t>
            </a:r>
            <a:r>
              <a:rPr b="0" lang="zh-TW" sz="2200" spc="-1" strike="noStrike">
                <a:solidFill>
                  <a:srgbClr val="333333"/>
                </a:solidFill>
                <a:latin typeface="標楷體"/>
              </a:rPr>
              <a:t>任務之戰鬥機轉往辨證該航班。</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1760" y="1066680"/>
            <a:ext cx="7543800" cy="45720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標楷體"/>
                <a:ea typeface="標楷體"/>
              </a:rPr>
              <a:t>情境五 假借客機遭到劫持，或未按照既定飛航計劃飛抵指定機場，欲進行其他任務。</a:t>
            </a:r>
            <a:endParaRPr b="0" lang="en-US" sz="2800" spc="-1" strike="noStrike">
              <a:solidFill>
                <a:srgbClr val="333333"/>
              </a:solidFill>
              <a:latin typeface="Times New Roman"/>
            </a:endParaRPr>
          </a:p>
          <a:p>
            <a:pPr lvl="1" marL="743040" indent="-285840">
              <a:lnSpc>
                <a:spcPct val="100000"/>
              </a:lnSpc>
              <a:spcBef>
                <a:spcPts val="1375"/>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rPr>
              <a:t>民航機加裝偵蒐裝備，機上裝載情報人員持偵蒐器材，沿途偵蒐我方之情報資料。飛機上裝置爆炸物或核生化武器，測試我方之處置作為。</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rPr>
              <a:t>航、戰管對於此飛機之航跡應確實掌握，如未按既定路線飛行，可派我方戰機至附近空域監偵待命或引航落地。加強地面反劫持作戰人員之訓練，以因應突發狀況。</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066680"/>
            <a:ext cx="7543800" cy="45720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波灣戰爭爆發後，中共軍方深受震撼，其後的軍事事務革命思潮，對中共領導人的軍事思維更造成強大的衝擊，認定高技術已成為戰爭勝負的主要關鍵。</a:t>
            </a:r>
            <a:endParaRPr b="0" lang="en-US" sz="2400" spc="-1" strike="noStrike">
              <a:solidFill>
                <a:srgbClr val="333333"/>
              </a:solidFill>
              <a:latin typeface="Times New Roman"/>
            </a:endParaRPr>
          </a:p>
          <a:p>
            <a:pPr marL="343080" indent="-343080">
              <a:lnSpc>
                <a:spcPct val="100000"/>
              </a:lnSpc>
              <a:spcBef>
                <a:spcPts val="601"/>
              </a:spcBef>
              <a:spcAft>
                <a:spcPts val="601"/>
              </a:spcAft>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中共仍會以傳統武力對台灣維持威嚇態勢，間或實施特定戰術以產生我方社會、經濟與心理上的不安。</a:t>
            </a:r>
            <a:endParaRPr b="0" lang="en-US" sz="2400" spc="-1" strike="noStrike">
              <a:solidFill>
                <a:srgbClr val="333333"/>
              </a:solidFill>
              <a:latin typeface="Times New Roman"/>
            </a:endParaRPr>
          </a:p>
          <a:p>
            <a:pPr marL="343080" indent="-343080">
              <a:lnSpc>
                <a:spcPct val="100000"/>
              </a:lnSpc>
              <a:spcBef>
                <a:spcPts val="601"/>
              </a:spcBef>
              <a:spcAft>
                <a:spcPts val="601"/>
              </a:spcAft>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另一方面，中共更追求低成本高效能的戰略思維：在經濟上，發展經濟的強大力量吸納我方資源，形成兩岸經濟上的依存與統合。在軍事上因應資訊戰爭的發展，可有效打擊對方指揮通訊中樞的概念，掌握資訊遂成為最基礎的工作。</a:t>
            </a:r>
            <a:endParaRPr b="0" lang="en-US" sz="2400" spc="-1" strike="noStrike">
              <a:solidFill>
                <a:srgbClr val="333333"/>
              </a:solidFill>
              <a:latin typeface="Times New Roman"/>
            </a:endParaRPr>
          </a:p>
          <a:p>
            <a:pPr lvl="1" marL="74304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33"/>
                </a:solidFill>
                <a:latin typeface="標楷體"/>
                <a:ea typeface="華康中黑體"/>
              </a:rPr>
              <a:t>四、直航之因應措施</a:t>
            </a:r>
            <a:endParaRPr b="0" lang="en-US" sz="3600" spc="-1" strike="noStrike">
              <a:solidFill>
                <a:srgbClr val="004c2b"/>
              </a:solidFill>
              <a:latin typeface="Times New Roman"/>
            </a:endParaRPr>
          </a:p>
        </p:txBody>
      </p:sp>
      <p:sp>
        <p:nvSpPr>
          <p:cNvPr id="103" name="PlaceHolder 2"/>
          <p:cNvSpPr>
            <a:spLocks noGrp="1"/>
          </p:cNvSpPr>
          <p:nvPr>
            <p:ph/>
          </p:nvPr>
        </p:nvSpPr>
        <p:spPr>
          <a:xfrm>
            <a:off x="685800" y="2133360"/>
            <a:ext cx="7772400" cy="3809880"/>
          </a:xfrm>
          <a:prstGeom prst="rect">
            <a:avLst/>
          </a:prstGeom>
          <a:noFill/>
          <a:ln w="0">
            <a:noFill/>
          </a:ln>
        </p:spPr>
        <p:txBody>
          <a:bodyPr lIns="90000" rIns="90000" tIns="46800" bIns="46800"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標楷體"/>
                <a:ea typeface="標楷體"/>
              </a:rPr>
              <a:t>直航對國防安全的重大影響可包括下列情形：</a:t>
            </a:r>
            <a:endParaRPr b="0" lang="en-US" sz="2800" spc="-1" strike="noStrike">
              <a:solidFill>
                <a:srgbClr val="333333"/>
              </a:solidFill>
              <a:latin typeface="Times New Roman"/>
            </a:endParaRPr>
          </a:p>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標楷體"/>
                <a:ea typeface="標楷體"/>
              </a:rPr>
              <a:t>空中早期預警的減少：</a:t>
            </a:r>
            <a:endParaRPr b="0" lang="en-US" sz="28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兩岸存在一條無形的海峽制約線，中共戰機出海不超過十五浬，國軍對出海戰機採保持適當距離的空中監視。</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一旦中共戰機超越海岸十五哩，我戰機立刻會在空中予以攔截，此時我國的空防預警時間只有四分鐘。</a:t>
            </a:r>
            <a:endParaRPr b="0" lang="en-US" sz="2200" spc="-1" strike="noStrike">
              <a:solidFill>
                <a:srgbClr val="333333"/>
              </a:solidFill>
              <a:latin typeface="Times New Roman"/>
            </a:endParaRPr>
          </a:p>
          <a:p>
            <a:pPr lvl="1" marL="743040" indent="-285840">
              <a:lnSpc>
                <a:spcPct val="10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但通航後，若兩岸直航將飛航情報區重新劃立，此一無形海峽中線將面臨新考驗</a:t>
            </a:r>
            <a:r>
              <a:rPr b="0" lang="zh-TW" sz="2000" spc="-1" strike="noStrike">
                <a:solidFill>
                  <a:srgbClr val="333333"/>
                </a:solidFill>
                <a:latin typeface="標楷體"/>
                <a:ea typeface="標楷體"/>
              </a:rPr>
              <a:t>。</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標楷體"/>
                <a:ea typeface="標楷體"/>
              </a:rPr>
              <a:t>作戰防禦措施的提高：</a:t>
            </a:r>
            <a:endParaRPr b="0" lang="en-US" sz="28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中共軍機曾多批次出海且有飛越十五浬逼近海峽情事，致使原來無形的制約力量逐漸消失。</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直航後，因空軍所能使用的空域縮小而調整防空作戰的各項偵控防禦措施（如空中戰鬥巡邏區等）。</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直航使中共具備隨時武力犯台能力，並可「以民掩軍」發動偵查與奇襲，發生如本研究所模擬的各項情境。</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標楷體"/>
                <a:ea typeface="標楷體"/>
              </a:rPr>
              <a:t>地面戰略要點與空防戰力的暴露：</a:t>
            </a:r>
            <a:endParaRPr b="0" lang="en-US" sz="28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民用航空器經過金門、馬祖所防衛的領空，將不利我前方軍事的部署和防衛。即使不飛越金馬等地，繞經台灣本島，其他的軍事設施亦有先行曝光的可能。</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軍機逼近台灣本島可收集的空防戰力的情報包含：雷達所能偵測的範圍及高度，情報傳遞的反應時間，戰管的攔截引導方式，戰機攔截的應用戰術，以及飛彈的擊截性能與導向頻率等將會一覽無遺。</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台灣西岸現有民航機場使用率已達飽和狀態，為解決通航後帶來之膨脹壓力，屆時若需要開放軍用機場，將不利我國防安全。</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增進直航安全必須朝：保持現有空中預警時間，增加空防作戰縱深與避免軍事戰略情資的偵知三方面規劃。</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空軍建議政府應限定大陸民航客機在航線上不能直線飛過台灣海峽，必須採取迂迴航線繞過台灣海峽中線進入台灣，以保障我領空安全，維持飛行訓練空域。</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大陸民航客機只能從南、北各一機場進入台灣，以北部的桃園中正國際機場與南部的高雄小港國際機場較為適當，至於軍民通用機場，並不適宜開放。</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空軍已初步規劃南北兩條「曲折辨證航線」以供兩岸直航後對於大陸來台灣的飛機使用，我方有足夠的識別時間和空間可以進行研判。</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7" name=""/>
          <p:cNvGraphicFramePr/>
          <p:nvPr/>
        </p:nvGraphicFramePr>
        <p:xfrm>
          <a:off x="990720" y="914400"/>
          <a:ext cx="7162560" cy="4952880"/>
        </p:xfrm>
        <a:graphic>
          <a:graphicData uri="http://schemas.openxmlformats.org/presentationml/2006/ole">
            <p:oleObj progId="Word.Document.12" r:id="rId2" spid="">
              <p:embed/>
              <p:pic>
                <p:nvPicPr>
                  <p:cNvPr id="108" name="" descr=""/>
                  <p:cNvPicPr/>
                  <p:nvPr/>
                </p:nvPicPr>
                <p:blipFill>
                  <a:blip r:embed="rId3"/>
                  <a:stretch/>
                </p:blipFill>
                <p:spPr>
                  <a:xfrm>
                    <a:off x="990720" y="914400"/>
                    <a:ext cx="716256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4c2b"/>
                </a:solidFill>
                <a:latin typeface="Times New Roman"/>
                <a:ea typeface="華康中黑體"/>
              </a:rPr>
              <a:t>簡報內容</a:t>
            </a:r>
            <a:endParaRPr b="0" lang="en-US" sz="3600" spc="-1" strike="noStrike">
              <a:solidFill>
                <a:srgbClr val="004c2b"/>
              </a:solidFill>
              <a:latin typeface="Times New Roman"/>
            </a:endParaRPr>
          </a:p>
        </p:txBody>
      </p:sp>
      <p:sp>
        <p:nvSpPr>
          <p:cNvPr id="86" name="PlaceHolder 2"/>
          <p:cNvSpPr>
            <a:spLocks noGrp="1"/>
          </p:cNvSpPr>
          <p:nvPr>
            <p:ph type="subTitle"/>
          </p:nvPr>
        </p:nvSpPr>
        <p:spPr>
          <a:xfrm>
            <a:off x="914040" y="2438280"/>
            <a:ext cx="7162920" cy="3200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ea typeface="標楷體"/>
              </a:rPr>
              <a:t>一、前言</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ea typeface="標楷體"/>
              </a:rPr>
              <a:t>二、文獻回顧</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ea typeface="標楷體"/>
              </a:rPr>
              <a:t>三、直航安全情境模擬與分析</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ea typeface="標楷體"/>
              </a:rPr>
              <a:t>四、直航之因應措施</a:t>
            </a:r>
            <a:endParaRPr b="0" lang="en-US" sz="2800" spc="-1" strike="noStrike">
              <a:solidFill>
                <a:srgbClr val="333333"/>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ea typeface="標楷體"/>
              </a:rPr>
              <a:t>五、結論與建議</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10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為避免我方軍事戰略情資的偵知，應落實相關保密措施：</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檢視現有軍事設施的保護狀況，對重要部署要地應做好隱蔽工事，或將基地以地下化方式建立。</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積極換裝新型防空預警雷達、無線電系統及情報電子戰系統，加強空防人員之訓練，提昇作戰能力。</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戰術數據鏈（</a:t>
            </a:r>
            <a:r>
              <a:rPr b="0" lang="zh-TW" sz="2400" spc="-1" strike="noStrike">
                <a:solidFill>
                  <a:srgbClr val="333333"/>
                </a:solidFill>
                <a:latin typeface="Times New Roman"/>
                <a:ea typeface="標楷體"/>
              </a:rPr>
              <a:t>data link</a:t>
            </a:r>
            <a:r>
              <a:rPr b="0" lang="zh-TW" sz="2400" spc="-1" strike="noStrike">
                <a:solidFill>
                  <a:srgbClr val="333333"/>
                </a:solidFill>
                <a:latin typeface="Times New Roman"/>
                <a:ea typeface="標楷體"/>
              </a:rPr>
              <a:t>）系統應換裝具保密之</a:t>
            </a:r>
            <a:r>
              <a:rPr b="0" lang="zh-TW" sz="2400" spc="-1" strike="noStrike">
                <a:solidFill>
                  <a:srgbClr val="333333"/>
                </a:solidFill>
                <a:latin typeface="Times New Roman"/>
                <a:ea typeface="標楷體"/>
              </a:rPr>
              <a:t>link-16</a:t>
            </a:r>
            <a:r>
              <a:rPr b="0" lang="zh-TW" sz="2400" spc="-1" strike="noStrike">
                <a:solidFill>
                  <a:srgbClr val="333333"/>
                </a:solidFill>
                <a:latin typeface="標楷體"/>
                <a:ea typeface="標楷體"/>
              </a:rPr>
              <a:t>系統，情報、戰訊、情資網路傳遞應預防病毒破壞、加強保密及備用功能。</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因應未來資訊戰的發展，儘速建立國防資訊基礎建設，培養資訊作戰人才，以建構整體資訊作戰能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美國在「九一一」事件中徹底改變了對戰爭的傳統看法，發動戰爭的主體不必為一個國家，一個恐怖組織利用民航客機進行自殺式攻擊或是在重要機構安置炸彈，同樣可以造成對方的重大傷亡及士氣的影響。</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超限戰」是中共空軍政治部兩位現役上校軍官─喬良與王湘穗，針對全球化時代來臨，對戰爭觀與戰法，所提出的新的論點。</a:t>
            </a:r>
            <a:endParaRPr b="0" lang="en-US" sz="2400" spc="-1" strike="noStrike">
              <a:solidFill>
                <a:srgbClr val="333333"/>
              </a:solidFill>
              <a:latin typeface="Times New Roman"/>
            </a:endParaRPr>
          </a:p>
          <a:p>
            <a:pPr marL="343080" indent="-343080">
              <a:lnSpc>
                <a:spcPct val="100000"/>
              </a:lnSpc>
              <a:spcBef>
                <a:spcPts val="601"/>
              </a:spcBef>
              <a:spcAft>
                <a:spcPts val="1500"/>
              </a:spcAft>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超限戰」就是窮國弱國的軍事戰略，就是要打破一切限制，在兩個國力不對等的敵對國家間，運用一切手段，特別是將非軍事手段組合應用，從各個角度、層次、領域打擊敵人，達成戰爭目的。</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因應全球化與資訊社會形成相互依賴的關係，國家的安全無法區分平時與戰時，或是前方或後方。所以，「國家安全」必須以「威脅」的考量為起點，思考到所有軍事和非軍事的層面，而運用武力與非武力的方式來達到國家安全的目標。</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超限戰概念最初在美國受到重視之後，美國政府即宣布，將對美國民用網路系統，如民航、郵電、電力、金融網路進行國家級保護，其保護等級與國防部相同。</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安全再度成為各國所重視的第一課題。危機處理未來將成為例行的演練課題，從個人、社會乃至於國家，都要有因應緊急事件的意識與能力。</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7617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33"/>
                </a:solidFill>
                <a:latin typeface="標楷體"/>
                <a:ea typeface="華康中黑體"/>
              </a:rPr>
              <a:t>五、結論與建議</a:t>
            </a:r>
            <a:endParaRPr b="0" lang="en-US" sz="36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問卷調查以模擬情境方式，彙整國內軍事相關領域專家之意見。每個情境均有其可能執行性，將對我國防造成不同程度的影響，各情境之因應措施可作為軍方之參考。</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中共將會以不同的方式對我進行資訊的收集與分析，所涵蓋的領域也不限於傳統的雷達、監聽設備、衛星等，民航機也有可能成為資訊收集的工具。</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為減低兩岸直航所帶來的不利影響，增進直航安全必須朝：保持現有空中預警時間，增加空防作戰縱深與避免軍事戰略情資的偵知三方面規劃。</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本研究限於經費與人力，內容係收集國防領域專家及從業人員之專業意見加以彙整，並以文獻及時事資料補充，內容均無涉國家機密，旨在指出民航機擔任軍事任務的可行性與對我飛安與國防上的影響。</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全球區域危機已從軍事對抗走向政治和解，對於面對強大實力的中共，台灣除了充實國防實力，仍應尋求避免戰爭為首要目標。</a:t>
            </a:r>
            <a:endParaRPr b="0" lang="en-US" sz="2400" spc="-1" strike="noStrike">
              <a:solidFill>
                <a:srgbClr val="333333"/>
              </a:solidFill>
              <a:latin typeface="Times New Roman"/>
            </a:endParaRPr>
          </a:p>
          <a:p>
            <a:pPr marL="343080" indent="-343080">
              <a:lnSpc>
                <a:spcPct val="10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民眾面對中共的外在干擾常有信心不足或缺乏警覺的狀況，民心士氣為國防中最關鍵的一環，朝野及全民均應團結一致，才能知己知彼，在狀況發生時不憂不懼，以鞏固堅實的心防。</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4c2b"/>
                </a:solidFill>
                <a:latin typeface="Times New Roman"/>
                <a:ea typeface="華康中黑體"/>
              </a:rPr>
              <a:t>一</a:t>
            </a:r>
            <a:r>
              <a:rPr b="0" lang="zh-TW" sz="3600" spc="-1" strike="noStrike">
                <a:solidFill>
                  <a:srgbClr val="333333"/>
                </a:solidFill>
                <a:latin typeface="Times New Roman"/>
                <a:ea typeface="華康中黑體"/>
              </a:rPr>
              <a:t>、前言</a:t>
            </a:r>
            <a:endParaRPr b="0" lang="en-US" sz="3600" spc="-1" strike="noStrike">
              <a:solidFill>
                <a:srgbClr val="004c2b"/>
              </a:solidFill>
              <a:latin typeface="Times New Roman"/>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ea typeface="標楷體"/>
              </a:rPr>
              <a:t>根據我國八十九年「國防報告書」針對國家安全概況所評估：「當前國家安全環境，現階段對我國家生存最嚴重之威脅乃為中共武力犯臺。」</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ea typeface="標楷體"/>
              </a:rPr>
              <a:t>中共發表的「二○○○年中國的國防」白皮書在「國防政策」部分重申對台政策白皮書的對台動武「三個如果」條件。</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ea typeface="標楷體"/>
              </a:rPr>
              <a:t>民國八十四年六月七日李登輝總統赴美進行私人性訪問，卻引來中共激烈的抗議與韃伐。除了全力動員國內外的文宣媒體加以批判，甚而舉行三次的導彈射擊。</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ea typeface="標楷體"/>
              </a:rPr>
              <a:t>由於共軍積極發展超限戰、信息戰、不對稱戰法及戰具等，中共武力犯臺模式將不會一成不變，而是更加多樣化。</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ea typeface="標楷體"/>
              </a:rPr>
              <a:t>資訊在現代戰爭所扮演的重要角色，故各國對於事前的收集工作均不遺餘力。最典型的例子即是九十年四月美國海軍一架</a:t>
            </a:r>
            <a:r>
              <a:rPr b="0" lang="zh-TW" sz="2400" spc="-1" strike="noStrike">
                <a:solidFill>
                  <a:srgbClr val="333333"/>
                </a:solidFill>
                <a:latin typeface="Times New Roman"/>
                <a:ea typeface="標楷體"/>
              </a:rPr>
              <a:t>EP-3</a:t>
            </a:r>
            <a:r>
              <a:rPr b="0" lang="zh-TW" sz="2400" spc="-1" strike="noStrike">
                <a:solidFill>
                  <a:srgbClr val="333333"/>
                </a:solidFill>
                <a:latin typeface="Times New Roman"/>
                <a:ea typeface="標楷體"/>
              </a:rPr>
              <a:t>偵察機在南海執行蒐情任務時，與一架中共殲八噴射戰鬥機擦撞。</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ea typeface="標楷體"/>
              </a:rPr>
              <a:t>傳統的軍事及偵察行動容易防範，唯有趁對方不備或不察，才能獲致最大的功效。</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907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33"/>
                </a:solidFill>
                <a:latin typeface="Times New Roman"/>
                <a:ea typeface="華康中黑體"/>
              </a:rPr>
              <a:t>二、文獻回顧</a:t>
            </a:r>
            <a:endParaRPr b="0" lang="en-US" sz="3600" spc="-1" strike="noStrike">
              <a:solidFill>
                <a:srgbClr val="004c2b"/>
              </a:solidFill>
              <a:latin typeface="Times New Roman"/>
            </a:endParaRPr>
          </a:p>
        </p:txBody>
      </p:sp>
      <p:sp>
        <p:nvSpPr>
          <p:cNvPr id="91" name="PlaceHolder 2"/>
          <p:cNvSpPr>
            <a:spLocks noGrp="1"/>
          </p:cNvSpPr>
          <p:nvPr>
            <p:ph/>
          </p:nvPr>
        </p:nvSpPr>
        <p:spPr>
          <a:xfrm>
            <a:off x="685440" y="2286000"/>
            <a:ext cx="79246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標楷體"/>
                <a:ea typeface="標楷體"/>
              </a:rPr>
              <a:t>烏干達行動（</a:t>
            </a:r>
            <a:r>
              <a:rPr b="0" lang="zh-TW" sz="2400" spc="-1" strike="noStrike">
                <a:solidFill>
                  <a:srgbClr val="333333"/>
                </a:solidFill>
                <a:latin typeface="標楷體"/>
                <a:ea typeface="標楷體"/>
              </a:rPr>
              <a:t>亦稱雷球行動</a:t>
            </a:r>
            <a:r>
              <a:rPr b="0" lang="zh-TW" sz="2400" spc="-1" strike="noStrike">
                <a:solidFill>
                  <a:srgbClr val="333333"/>
                </a:solidFill>
                <a:latin typeface="標楷體"/>
                <a:ea typeface="標楷體"/>
              </a:rPr>
              <a:t>Operation thunderball</a:t>
            </a:r>
            <a:r>
              <a:rPr b="0" lang="zh-TW" sz="2800" spc="-1" strike="noStrike">
                <a:solidFill>
                  <a:srgbClr val="333333"/>
                </a:solidFill>
                <a:latin typeface="標楷體"/>
                <a:ea typeface="標楷體"/>
              </a:rPr>
              <a:t>）</a:t>
            </a:r>
            <a:endParaRPr b="0" lang="en-US" sz="28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一九六七年六月二十七日，一架載滿</a:t>
            </a:r>
            <a:r>
              <a:rPr b="0" lang="zh-TW" sz="2200" spc="-1" strike="noStrike">
                <a:solidFill>
                  <a:srgbClr val="333333"/>
                </a:solidFill>
                <a:latin typeface="標楷體"/>
                <a:ea typeface="標楷體"/>
              </a:rPr>
              <a:t>254</a:t>
            </a:r>
            <a:r>
              <a:rPr b="0" lang="zh-TW" sz="2200" spc="-1" strike="noStrike">
                <a:solidFill>
                  <a:srgbClr val="333333"/>
                </a:solidFill>
                <a:latin typeface="標楷體"/>
                <a:ea typeface="標楷體"/>
              </a:rPr>
              <a:t>名乘客與機師從特拉維夫飛往巴黎的法國航空公司班機，在經過雅典時遭到巴勒斯坦與德國恐怖份子挾持至烏干達恩得比機場。</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利用國際航線航行、載運囚犯為藉口，來掩護本身企圖；而在經過埃及、蘇丹邊界紅海和阿拉伯海雷達偵測區，機上人員還利用阿拉伯語隱匿本身企圖，一路騙過航管管制和偵測。</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標楷體"/>
                <a:ea typeface="標楷體"/>
              </a:rPr>
              <a:t>巴比倫行動</a:t>
            </a:r>
            <a:endParaRPr b="0" lang="en-US" sz="28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以色列戰鬥機利用約旦和沙國境內雷達空隙和地形掩護，採低空飛行，遇到爬昇高度被雷達發現時，還以熟練的約旦腔阿拉伯語回應，使約旦航管人員信以為真。</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戰機保持上下重疊的密集隊形，使突擊隊在沙烏地阿拉伯的雷達上，顯示像是大型客機的反射脈波，而非軍機群，一方面更使用民航術語消除沙國管制人員的疑慮。</a:t>
            </a:r>
            <a:endParaRPr b="0" lang="en-US" sz="2200" spc="-1" strike="noStrike">
              <a:solidFill>
                <a:srgbClr val="333333"/>
              </a:solidFill>
              <a:latin typeface="Times New Roman"/>
            </a:endParaRPr>
          </a:p>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標楷體"/>
                <a:ea typeface="標楷體"/>
              </a:rPr>
              <a:t>KE--</a:t>
            </a:r>
            <a:r>
              <a:rPr b="0" lang="zh-TW" sz="2600" spc="-1" strike="noStrike">
                <a:solidFill>
                  <a:srgbClr val="333333"/>
                </a:solidFill>
                <a:latin typeface="標楷體"/>
                <a:ea typeface="標楷體"/>
              </a:rPr>
              <a:t>００７</a:t>
            </a:r>
            <a:r>
              <a:rPr b="0" lang="zh-TW" sz="2800" spc="-1" strike="noStrike">
                <a:solidFill>
                  <a:srgbClr val="333333"/>
                </a:solidFill>
                <a:latin typeface="標楷體"/>
                <a:ea typeface="標楷體"/>
              </a:rPr>
              <a:t>航班悲劇</a:t>
            </a:r>
            <a:endParaRPr b="0" lang="en-US" sz="28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在當時冷戰對峙的年代未化解敵意前，對於不明飛行機誤入領空，往往被賦予其他的意義，也印證了民航機具備偵蒐情報的角色。</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62120" y="838080"/>
            <a:ext cx="7772400" cy="518184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標楷體"/>
                <a:ea typeface="標楷體"/>
              </a:rPr>
              <a:t>軍事小說與戰爭模擬</a:t>
            </a:r>
            <a:endParaRPr b="0" lang="en-US" sz="28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China Attacks</a:t>
            </a:r>
            <a:r>
              <a:rPr b="0" lang="zh-TW" sz="2200" spc="-1" strike="noStrike">
                <a:solidFill>
                  <a:srgbClr val="333333"/>
                </a:solidFill>
                <a:latin typeface="標楷體"/>
                <a:ea typeface="標楷體"/>
              </a:rPr>
              <a:t>一書中，ㄧ架由香港飛台北的波音</a:t>
            </a:r>
            <a:r>
              <a:rPr b="0" lang="zh-TW" sz="2200" spc="-1" strike="noStrike">
                <a:solidFill>
                  <a:srgbClr val="333333"/>
                </a:solidFill>
                <a:latin typeface="標楷體"/>
                <a:ea typeface="標楷體"/>
              </a:rPr>
              <a:t>747-400</a:t>
            </a:r>
            <a:r>
              <a:rPr b="0" lang="zh-TW" sz="2200" spc="-1" strike="noStrike">
                <a:solidFill>
                  <a:srgbClr val="333333"/>
                </a:solidFill>
                <a:latin typeface="標楷體"/>
                <a:ea typeface="標楷體"/>
              </a:rPr>
              <a:t>班機搭載</a:t>
            </a:r>
            <a:r>
              <a:rPr b="0" lang="zh-TW" sz="2200" spc="-1" strike="noStrike">
                <a:solidFill>
                  <a:srgbClr val="333333"/>
                </a:solidFill>
                <a:latin typeface="標楷體"/>
                <a:ea typeface="標楷體"/>
              </a:rPr>
              <a:t>428</a:t>
            </a:r>
            <a:r>
              <a:rPr b="0" lang="zh-TW" sz="2200" spc="-1" strike="noStrike">
                <a:solidFill>
                  <a:srgbClr val="333333"/>
                </a:solidFill>
                <a:latin typeface="標楷體"/>
                <a:ea typeface="標楷體"/>
              </a:rPr>
              <a:t>名解放軍突擊隊，全副武裝，機腹貨艙裝載彈藥。降落至中正機場後，飛機施放毒氣，解放軍再進入機場突擊。</a:t>
            </a:r>
            <a:endParaRPr b="0" lang="en-US" sz="2200" spc="-1" strike="noStrike">
              <a:solidFill>
                <a:srgbClr val="333333"/>
              </a:solidFill>
              <a:latin typeface="Times New Roman"/>
            </a:endParaRPr>
          </a:p>
          <a:p>
            <a:pPr lvl="1" marL="743040" indent="-285840">
              <a:lnSpc>
                <a:spcPct val="100000"/>
              </a:lnSpc>
              <a:spcBef>
                <a:spcPts val="55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解放軍攻打台灣」中列舉了十三項北京犯台之戰略選擇，其中第十ㄧ項：快速反應部隊及十五空降師夜襲台灣，攻佔電視台，控制媒體及資訊中樞，以民航機作為運送快速部隊的載具。</a:t>
            </a:r>
            <a:endParaRPr b="0" lang="en-US" sz="2200" spc="-1" strike="noStrike">
              <a:solidFill>
                <a:srgbClr val="333333"/>
              </a:solidFill>
              <a:latin typeface="Times New Roman"/>
            </a:endParaRPr>
          </a:p>
          <a:p>
            <a:pPr lvl="1" marL="743040" indent="-285840">
              <a:lnSpc>
                <a:spcPct val="100000"/>
              </a:lnSpc>
              <a:spcBef>
                <a:spcPts val="300"/>
              </a:spcBef>
              <a:spcAft>
                <a:spcPts val="300"/>
              </a:spcAft>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ea typeface="標楷體"/>
              </a:rPr>
              <a:t>Executive Orders</a:t>
            </a:r>
            <a:r>
              <a:rPr b="0" lang="zh-TW" sz="2200" spc="-1" strike="noStrike">
                <a:solidFill>
                  <a:srgbClr val="333333"/>
                </a:solidFill>
                <a:latin typeface="標楷體"/>
                <a:ea typeface="標楷體"/>
              </a:rPr>
              <a:t>一書中以民航機成為攻擊的武器，作為小說的開場：『日本客機神風式地撞毀白宮，導致美國領導中樞癱瘓。』</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77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33"/>
                </a:solidFill>
                <a:latin typeface="標楷體"/>
                <a:ea typeface="華康中黑體"/>
              </a:rPr>
              <a:t>三、直航安全情境模擬與分析</a:t>
            </a:r>
            <a:endParaRPr b="0" lang="en-US" sz="3600" spc="-1" strike="noStrike">
              <a:solidFill>
                <a:srgbClr val="004c2b"/>
              </a:solidFill>
              <a:latin typeface="Times New Roman"/>
            </a:endParaRPr>
          </a:p>
        </p:txBody>
      </p:sp>
      <p:sp>
        <p:nvSpPr>
          <p:cNvPr id="95" name="PlaceHolder 2"/>
          <p:cNvSpPr>
            <a:spLocks noGrp="1"/>
          </p:cNvSpPr>
          <p:nvPr>
            <p:ph/>
          </p:nvPr>
        </p:nvSpPr>
        <p:spPr>
          <a:xfrm>
            <a:off x="762120" y="2209680"/>
            <a:ext cx="7772400" cy="36576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回顧前述利用民航機進行軍事任務的歷史及可能性，本研究試擬了五個情境，以問卷方式，於民國九十年五月十一日起郵寄訪問國內軍事相關領域專家：包括軍方、學術研究單位及軍事雜誌編輯等。</a:t>
            </a:r>
            <a:endParaRPr b="0" lang="en-US" sz="2400" spc="-1" strike="noStrike">
              <a:solidFill>
                <a:srgbClr val="333333"/>
              </a:solidFill>
              <a:latin typeface="Times New Roman"/>
            </a:endParaRPr>
          </a:p>
          <a:p>
            <a:pPr marL="343080" indent="-343080">
              <a:lnSpc>
                <a:spcPct val="100000"/>
              </a:lnSpc>
              <a:spcBef>
                <a:spcPts val="601"/>
              </a:spcBef>
              <a:spcAft>
                <a:spcPts val="601"/>
              </a:spcAft>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總共發出十五份問卷，至民國九十年六月十五日截止，回收四份問卷。根據專家回答問卷所評估各模擬情境發生的可能及因應辦法，歸納於下節，以作為兩岸直航時國防安全之參考。</a:t>
            </a:r>
            <a:endParaRPr b="0" lang="en-US" sz="2400" spc="-1" strike="noStrike">
              <a:solidFill>
                <a:srgbClr val="333333"/>
              </a:solidFill>
              <a:latin typeface="Times New Roman"/>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spcAft>
                <a:spcPts val="601"/>
              </a:spcAft>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ea typeface="標楷體"/>
              </a:rPr>
              <a:t>情境一</a:t>
            </a:r>
            <a:r>
              <a:rPr b="0" lang="zh-TW" sz="2800" spc="-1" strike="noStrike">
                <a:solidFill>
                  <a:srgbClr val="333333"/>
                </a:solidFill>
                <a:latin typeface="標楷體"/>
              </a:rPr>
              <a:t>  </a:t>
            </a:r>
            <a:r>
              <a:rPr b="0" lang="zh-TW" sz="2800" spc="-1" strike="noStrike">
                <a:solidFill>
                  <a:srgbClr val="333333"/>
                </a:solidFill>
                <a:latin typeface="標楷體"/>
                <a:ea typeface="標楷體"/>
              </a:rPr>
              <a:t>敵方戰鬥機尾隨民航機進入我方領空。</a:t>
            </a:r>
            <a:endParaRPr b="0" lang="en-US" sz="2800" spc="-1" strike="noStrike">
              <a:solidFill>
                <a:srgbClr val="333333"/>
              </a:solidFill>
              <a:latin typeface="Times New Roman"/>
            </a:endParaRPr>
          </a:p>
          <a:p>
            <a:pPr lvl="1" marL="743040" indent="-285840">
              <a:lnSpc>
                <a:spcPct val="100000"/>
              </a:lnSpc>
              <a:spcBef>
                <a:spcPts val="601"/>
              </a:spcBef>
              <a:spcAft>
                <a:spcPts val="601"/>
              </a:spcAft>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rPr>
              <a:t>平時以</a:t>
            </a:r>
            <a:r>
              <a:rPr b="0" lang="zh-TW" sz="2200" spc="-1" strike="noStrike">
                <a:solidFill>
                  <a:srgbClr val="333333"/>
                </a:solidFill>
                <a:latin typeface="標楷體"/>
              </a:rPr>
              <a:t>1-2</a:t>
            </a:r>
            <a:r>
              <a:rPr b="0" lang="zh-TW" sz="2200" spc="-1" strike="noStrike">
                <a:solidFill>
                  <a:srgbClr val="333333"/>
                </a:solidFill>
                <a:latin typeface="標楷體"/>
              </a:rPr>
              <a:t>架戰機尾隨民航機進入我領空，直至我方發現及採取驅離措施後方始返航，藉以明瞭我防空反應能力及處置措施。處於臨戰狀態下，對我重要軍經設施實施第一波之奇襲作戰。</a:t>
            </a:r>
            <a:endParaRPr b="0" lang="en-US" sz="2200" spc="-1" strike="noStrike">
              <a:solidFill>
                <a:srgbClr val="333333"/>
              </a:solidFill>
              <a:latin typeface="Times New Roman"/>
            </a:endParaRPr>
          </a:p>
          <a:p>
            <a:pPr lvl="1" marL="743040" indent="-285840">
              <a:lnSpc>
                <a:spcPct val="100000"/>
              </a:lnSpc>
              <a:spcBef>
                <a:spcPts val="601"/>
              </a:spcBef>
              <a:spcAft>
                <a:spcPts val="601"/>
              </a:spcAft>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標楷體"/>
              </a:rPr>
              <a:t>落實飛航規則，循協定航路飛航。換裝新型防空預警雷達，加強空防人員之訓練，提昇作戰能力。加強電訊監察單位之截情能力。</a:t>
            </a:r>
            <a:endParaRPr b="0" lang="en-US" sz="2200" spc="-1" strike="noStrike">
              <a:solidFill>
                <a:srgbClr val="333333"/>
              </a:solidFill>
              <a:latin typeface="Times New Roman"/>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8T03:17:51Z</dcterms:created>
  <dc:creator>user</dc:creator>
  <dc:description/>
  <dc:language>en-US</dc:language>
  <cp:lastModifiedBy>user</cp:lastModifiedBy>
  <dcterms:modified xsi:type="dcterms:W3CDTF">2002-04-09T04:00:28Z</dcterms:modified>
  <cp:revision>69</cp:revision>
  <dc:subject/>
  <dc:title>兩岸直航之安全問題</dc:title>
</cp:coreProperties>
</file>