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7BF5-F7D5-4DCD-AE1C-A801723D1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CE13-0511-4929-B678-8C10B53F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3CFF-3088-48CE-B190-01340AEB0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271F-DD66-45FC-BA78-43D647CA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8E17-C8A8-4374-9C67-8DF3E843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0690-045A-40ED-934C-E3483839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604A-8142-4988-8379-C1011BAE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A303-9819-4619-AE86-953D24CD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3784-6D68-49B5-A9EA-3D2AF929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977E-7AD3-4443-9853-E5630571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A8D0-DE92-479B-B89E-0BCB0229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D1BB-B7CF-4289-98FD-CCE948B2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 fontScale="91000"/>
          </a:bodyPr>
          <a:p>
            <a:pPr marL="342000" indent="-3420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0880" indent="-28440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320" indent="-2264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94440" indent="-22788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9480" indent="-22644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9480" indent="-22644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9480" indent="-22644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 algn="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fld id="{C6BA9EAE-4B65-42FB-A27E-ABAB581A4309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3800" y="685800"/>
          <a:ext cx="38890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685800"/>
                    <a:ext cx="38890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5256360" y="685800"/>
          <a:ext cx="3902040" cy="502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6360" y="685800"/>
                    <a:ext cx="390204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3819960" y="5867280"/>
            <a:ext cx="22294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中黑體"/>
              </a:rPr>
              <a:t>圖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中黑體"/>
              </a:rPr>
              <a:t>3-6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中黑體"/>
              </a:rPr>
              <a:t>北部地區貨櫃經由中、南部港口進出之內陸貨櫃運輸量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中黑體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中黑體"/>
              </a:rPr>
              <a:t>北櫃中南運實櫃，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中黑體"/>
              </a:rPr>
              <a:t>87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中黑體"/>
              </a:rPr>
              <a:t>年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中黑體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363760" y="914400"/>
            <a:ext cx="1752480" cy="10666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52160" y="888840"/>
            <a:ext cx="1613520" cy="57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zh-TW" sz="3100" spc="-1" strike="noStrike">
                <a:solidFill>
                  <a:srgbClr val="000000"/>
                </a:solidFill>
                <a:latin typeface="Times New Roman"/>
              </a:rPr>
              <a:t>53,756</a:t>
            </a:r>
            <a:r>
              <a:rPr b="0" lang="zh-TW" sz="31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677960" y="1066680"/>
            <a:ext cx="2587680" cy="31244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6553080" y="990360"/>
            <a:ext cx="1754280" cy="990360"/>
          </a:xfrm>
          <a:prstGeom prst="line">
            <a:avLst/>
          </a:prstGeom>
          <a:ln w="76320">
            <a:solidFill>
              <a:srgbClr val="0000cc"/>
            </a:solidFill>
            <a:prstDash val="sysDot"/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74920" y="965160"/>
            <a:ext cx="1613520" cy="57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zh-TW" sz="3100" spc="-1" strike="noStrike">
                <a:solidFill>
                  <a:srgbClr val="000000"/>
                </a:solidFill>
                <a:latin typeface="Times New Roman"/>
              </a:rPr>
              <a:t>22,719</a:t>
            </a:r>
            <a:r>
              <a:rPr b="0" lang="zh-TW" sz="31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5789520" y="1066680"/>
            <a:ext cx="2668680" cy="3276720"/>
          </a:xfrm>
          <a:prstGeom prst="line">
            <a:avLst/>
          </a:prstGeom>
          <a:ln w="76320">
            <a:solidFill>
              <a:srgbClr val="0000cc"/>
            </a:solidFill>
            <a:prstDash val="sysDot"/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38240" y="2793960"/>
            <a:ext cx="1810080" cy="57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zh-TW" sz="3100" spc="-1" strike="noStrike">
                <a:solidFill>
                  <a:srgbClr val="000000"/>
                </a:solidFill>
                <a:latin typeface="Times New Roman"/>
              </a:rPr>
              <a:t>302,588</a:t>
            </a:r>
            <a:r>
              <a:rPr b="0" lang="zh-TW" sz="31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13320" y="2717640"/>
            <a:ext cx="1810080" cy="57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zh-TW" sz="3100" spc="-1" strike="noStrike">
                <a:solidFill>
                  <a:srgbClr val="000000"/>
                </a:solidFill>
                <a:latin typeface="Times New Roman"/>
              </a:rPr>
              <a:t>179,650</a:t>
            </a:r>
            <a:r>
              <a:rPr b="0" lang="zh-TW" sz="31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5374800">
            <a:off x="241920" y="3262680"/>
            <a:ext cx="6094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3-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249200" y="685800"/>
          <a:ext cx="37036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685800"/>
                    <a:ext cx="37036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56360" y="685800"/>
          <a:ext cx="4012920" cy="502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6360" y="685800"/>
                    <a:ext cx="40129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 flipV="1">
            <a:off x="2590920" y="990360"/>
            <a:ext cx="1674720" cy="1066680"/>
          </a:xfrm>
          <a:prstGeom prst="line">
            <a:avLst/>
          </a:prstGeom>
          <a:ln w="76320">
            <a:solidFill>
              <a:srgbClr val="0000cc"/>
            </a:solidFill>
            <a:prstDash val="sysDot"/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752480" y="2209680"/>
            <a:ext cx="611280" cy="2057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705360" y="1066680"/>
            <a:ext cx="1677960" cy="990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789520" y="2133720"/>
            <a:ext cx="685800" cy="2209680"/>
          </a:xfrm>
          <a:prstGeom prst="line">
            <a:avLst/>
          </a:prstGeom>
          <a:ln w="76320">
            <a:solidFill>
              <a:srgbClr val="0000cc"/>
            </a:solidFill>
            <a:prstDash val="sysDot"/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73720" y="3352680"/>
            <a:ext cx="2000160" cy="57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zh-TW" sz="3100" spc="-1" strike="noStrike">
                <a:solidFill>
                  <a:srgbClr val="000000"/>
                </a:solidFill>
                <a:latin typeface="Times New Roman"/>
              </a:rPr>
              <a:t>75,483</a:t>
            </a:r>
            <a:r>
              <a:rPr b="0" lang="zh-TW" sz="31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03280" y="1066680"/>
            <a:ext cx="1797120" cy="57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zh-TW" sz="3100" spc="-1" strike="noStrike">
                <a:solidFill>
                  <a:srgbClr val="000000"/>
                </a:solidFill>
                <a:latin typeface="Times New Roman"/>
              </a:rPr>
              <a:t>45,663</a:t>
            </a:r>
            <a:r>
              <a:rPr b="0" lang="zh-TW" sz="31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5160" y="3352680"/>
            <a:ext cx="1992240" cy="57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zh-TW" sz="3100" spc="-1" strike="noStrike">
                <a:solidFill>
                  <a:srgbClr val="000000"/>
                </a:solidFill>
                <a:latin typeface="Times New Roman"/>
              </a:rPr>
              <a:t>186,601</a:t>
            </a:r>
            <a:r>
              <a:rPr b="0" lang="zh-TW" sz="31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990720"/>
            <a:ext cx="1697040" cy="57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zh-TW" sz="3100" spc="-1" strike="noStrike">
                <a:solidFill>
                  <a:srgbClr val="000000"/>
                </a:solidFill>
                <a:latin typeface="Times New Roman"/>
              </a:rPr>
              <a:t>10,314</a:t>
            </a:r>
            <a:r>
              <a:rPr b="0" lang="zh-TW" sz="31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96280" y="5715000"/>
            <a:ext cx="22294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中黑體"/>
              </a:rPr>
              <a:t>圖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中黑體"/>
              </a:rPr>
              <a:t>3-7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中黑體"/>
              </a:rPr>
              <a:t>中部地區貨櫃經由北、南部港口進出之內陸貨櫃運輸量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中黑體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中黑體"/>
              </a:rPr>
              <a:t>中櫃南北運實櫃，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中黑體"/>
              </a:rPr>
              <a:t>87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中黑體"/>
              </a:rPr>
              <a:t>年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中黑體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5396400">
            <a:off x="177480" y="3259440"/>
            <a:ext cx="60012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3-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094360" y="609480"/>
          <a:ext cx="4147920" cy="502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4360" y="609480"/>
                    <a:ext cx="4147920" cy="50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486080" y="609480"/>
          <a:ext cx="3979800" cy="502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86080" y="609480"/>
                    <a:ext cx="39798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 flipV="1">
            <a:off x="1989000" y="1980720"/>
            <a:ext cx="457200" cy="2057400"/>
          </a:xfrm>
          <a:prstGeom prst="line">
            <a:avLst/>
          </a:prstGeom>
          <a:ln w="76320">
            <a:solidFill>
              <a:srgbClr val="0000cc"/>
            </a:solidFill>
            <a:prstDash val="sysDot"/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138400" y="914400"/>
            <a:ext cx="2592360" cy="3276720"/>
          </a:xfrm>
          <a:prstGeom prst="line">
            <a:avLst/>
          </a:prstGeom>
          <a:ln w="76320">
            <a:solidFill>
              <a:srgbClr val="0000cc"/>
            </a:solidFill>
            <a:prstDash val="sysDot"/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55600" y="2590920"/>
            <a:ext cx="1703520" cy="57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zh-TW" sz="3100" spc="-1" strike="noStrike">
                <a:solidFill>
                  <a:srgbClr val="000000"/>
                </a:solidFill>
                <a:latin typeface="Times New Roman"/>
              </a:rPr>
              <a:t>54,971</a:t>
            </a:r>
            <a:r>
              <a:rPr b="0" lang="zh-TW" sz="31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37040" y="1676520"/>
            <a:ext cx="1815840" cy="57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zh-TW" sz="3100" spc="-1" strike="noStrike">
                <a:solidFill>
                  <a:srgbClr val="000000"/>
                </a:solidFill>
                <a:latin typeface="Times New Roman"/>
              </a:rPr>
              <a:t>80,818</a:t>
            </a:r>
            <a:r>
              <a:rPr b="0" lang="zh-TW" sz="31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026040" y="2133720"/>
            <a:ext cx="533520" cy="19810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102360" y="990720"/>
            <a:ext cx="2741760" cy="3200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52880" y="2854440"/>
            <a:ext cx="1568520" cy="57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zh-TW" sz="3100" spc="-1" strike="noStrike">
                <a:solidFill>
                  <a:srgbClr val="000000"/>
                </a:solidFill>
                <a:latin typeface="Times New Roman"/>
              </a:rPr>
              <a:t>2,263</a:t>
            </a:r>
            <a:r>
              <a:rPr b="0" lang="zh-TW" sz="31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429680" y="2971800"/>
            <a:ext cx="1562040" cy="57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zh-TW" sz="3100" spc="-1" strike="noStrike">
                <a:solidFill>
                  <a:srgbClr val="000000"/>
                </a:solidFill>
                <a:latin typeface="Times New Roman"/>
              </a:rPr>
              <a:t>7,685</a:t>
            </a:r>
            <a:r>
              <a:rPr b="0" lang="zh-TW" sz="31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19960" y="5638680"/>
            <a:ext cx="22294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中黑體"/>
              </a:rPr>
              <a:t>圖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中黑體"/>
              </a:rPr>
              <a:t>3-8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中黑體"/>
              </a:rPr>
              <a:t>南部地區貨櫃經由北、中部港口進出之內陸貨櫃運輸量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中黑體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中黑體"/>
              </a:rPr>
              <a:t>南櫃中北運實櫃，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中黑體"/>
              </a:rPr>
              <a:t>87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中黑體"/>
              </a:rPr>
              <a:t>年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中黑體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5410200">
            <a:off x="243000" y="3262320"/>
            <a:ext cx="6094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3-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39520" y="5257800"/>
            <a:ext cx="146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cc"/>
                </a:solidFill>
                <a:latin typeface="Times New Roman"/>
                <a:ea typeface="全真顏體"/>
              </a:rPr>
              <a:t>基隆港運至中南部之實櫃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82480" y="457200"/>
          <a:ext cx="373392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2480" y="457200"/>
                    <a:ext cx="373392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 flipH="1">
            <a:off x="1649160" y="685800"/>
            <a:ext cx="1904760" cy="13716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191960" y="838080"/>
            <a:ext cx="2514600" cy="35053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73200" y="838080"/>
            <a:ext cx="1741680" cy="57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zh-TW" sz="3100" spc="-1" strike="noStrike">
                <a:solidFill>
                  <a:srgbClr val="000000"/>
                </a:solidFill>
                <a:latin typeface="Times New Roman"/>
              </a:rPr>
              <a:t>64,070</a:t>
            </a:r>
            <a:r>
              <a:rPr b="0" lang="zh-TW" sz="31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2514600"/>
            <a:ext cx="1877760" cy="57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zh-TW" sz="3100" spc="-1" strike="noStrike">
                <a:solidFill>
                  <a:srgbClr val="000000"/>
                </a:solidFill>
                <a:latin typeface="Times New Roman"/>
              </a:rPr>
              <a:t>310,273</a:t>
            </a:r>
            <a:r>
              <a:rPr b="0" lang="zh-TW" sz="31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341520" y="457200"/>
          <a:ext cx="3733920" cy="571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1520" y="457200"/>
                    <a:ext cx="37339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 flipV="1">
            <a:off x="4637160" y="837720"/>
            <a:ext cx="1752480" cy="1219320"/>
          </a:xfrm>
          <a:prstGeom prst="line">
            <a:avLst/>
          </a:prstGeom>
          <a:ln w="76320">
            <a:solidFill>
              <a:srgbClr val="0000cc"/>
            </a:solidFill>
            <a:prstDash val="sysDot"/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875040" y="2514600"/>
            <a:ext cx="457200" cy="19810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2854440"/>
            <a:ext cx="1992600" cy="57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zh-TW" sz="3100" spc="-1" strike="noStrike">
                <a:solidFill>
                  <a:srgbClr val="000000"/>
                </a:solidFill>
                <a:latin typeface="Times New Roman"/>
              </a:rPr>
              <a:t>188,864</a:t>
            </a:r>
            <a:r>
              <a:rPr b="0" lang="zh-TW" sz="31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37160" y="1219320"/>
            <a:ext cx="1730160" cy="57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zh-TW" sz="3100" spc="-1" strike="noStrike">
                <a:solidFill>
                  <a:srgbClr val="000000"/>
                </a:solidFill>
                <a:latin typeface="Times New Roman"/>
              </a:rPr>
              <a:t>68,382</a:t>
            </a:r>
            <a:r>
              <a:rPr b="0" lang="zh-TW" sz="31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183360" y="533520"/>
          <a:ext cx="3581280" cy="5715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83360" y="533520"/>
                    <a:ext cx="35812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 flipV="1">
            <a:off x="6716880" y="2133360"/>
            <a:ext cx="457200" cy="2438280"/>
          </a:xfrm>
          <a:prstGeom prst="line">
            <a:avLst/>
          </a:prstGeom>
          <a:ln w="76320">
            <a:solidFill>
              <a:srgbClr val="0000cc"/>
            </a:solidFill>
            <a:prstDash val="sysDot"/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792840" y="837720"/>
            <a:ext cx="2438640" cy="3886200"/>
          </a:xfrm>
          <a:prstGeom prst="line">
            <a:avLst/>
          </a:prstGeom>
          <a:ln w="76320">
            <a:solidFill>
              <a:srgbClr val="0000cc"/>
            </a:solidFill>
            <a:prstDash val="sysDot"/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97560" y="3200400"/>
            <a:ext cx="1893960" cy="57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zh-TW" sz="3100" spc="-1" strike="noStrike">
                <a:solidFill>
                  <a:srgbClr val="000000"/>
                </a:solidFill>
                <a:latin typeface="Times New Roman"/>
              </a:rPr>
              <a:t>130,454</a:t>
            </a:r>
            <a:r>
              <a:rPr b="0" lang="zh-TW" sz="31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2666880"/>
            <a:ext cx="1969920" cy="57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zh-TW" sz="3100" spc="-1" strike="noStrike">
                <a:solidFill>
                  <a:srgbClr val="000000"/>
                </a:solidFill>
                <a:latin typeface="Times New Roman"/>
              </a:rPr>
              <a:t>260,468</a:t>
            </a:r>
            <a:r>
              <a:rPr b="0" lang="zh-TW" sz="3100" spc="-1" strike="noStrike">
                <a:solidFill>
                  <a:srgbClr val="000000"/>
                </a:solidFill>
                <a:latin typeface="Times New Roman"/>
                <a:ea typeface="全真楷書"/>
              </a:rPr>
              <a:t>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21760" y="6095880"/>
            <a:ext cx="227520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中黑體"/>
              </a:rPr>
              <a:t>圖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中黑體"/>
              </a:rPr>
              <a:t>3-9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中黑體"/>
              </a:rPr>
              <a:t>各流向內陸貨櫃運輸量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中黑體"/>
              </a:rPr>
              <a:t>(87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中黑體"/>
              </a:rPr>
              <a:t>年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全真中黑體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1880" y="5257800"/>
            <a:ext cx="146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cc"/>
                </a:solidFill>
                <a:latin typeface="Times New Roman"/>
                <a:ea typeface="全真顏體"/>
              </a:rPr>
              <a:t>台中港運至北南部之實櫃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83120" y="5257800"/>
            <a:ext cx="146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cc"/>
                </a:solidFill>
                <a:latin typeface="Times New Roman"/>
                <a:ea typeface="全真顏體"/>
              </a:rPr>
              <a:t>高雄港運至中北部之實櫃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10200">
            <a:off x="112320" y="3272040"/>
            <a:ext cx="60984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3-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8T07:23:09Z</dcterms:created>
  <dc:creator>小郭</dc:creator>
  <dc:description/>
  <dc:language>en-US</dc:language>
  <cp:lastModifiedBy>sophia</cp:lastModifiedBy>
  <cp:lastPrinted>2000-05-04T04:49:32Z</cp:lastPrinted>
  <dcterms:modified xsi:type="dcterms:W3CDTF">2000-05-04T07:18:14Z</dcterms:modified>
  <cp:revision>12</cp:revision>
  <dc:subject/>
  <dc:title>無投影片標題</dc:title>
</cp:coreProperties>
</file>