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169080" y="6010200"/>
            <a:ext cx="3500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1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我國整體運輸規劃體系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894680" y="741240"/>
            <a:ext cx="5772600" cy="4890960"/>
            <a:chOff x="1894680" y="741240"/>
            <a:chExt cx="5772600" cy="4890960"/>
          </a:xfrm>
        </p:grpSpPr>
        <p:sp>
          <p:nvSpPr>
            <p:cNvPr id="40" name=""/>
            <p:cNvSpPr/>
            <p:nvPr/>
          </p:nvSpPr>
          <p:spPr>
            <a:xfrm>
              <a:off x="2711520" y="741240"/>
              <a:ext cx="135504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國家／區域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314440" y="2668680"/>
              <a:ext cx="200988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會區／縣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市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133520" y="1593720"/>
              <a:ext cx="714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控制總量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發展方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37600" y="1593720"/>
              <a:ext cx="608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方民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發展條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2695680" y="1671120"/>
              <a:ext cx="825480" cy="368280"/>
            </a:xfrm>
            <a:prstGeom prst="rightArrow">
              <a:avLst>
                <a:gd name="adj1" fmla="val 50000"/>
                <a:gd name="adj2" fmla="val 11210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6200000">
              <a:off x="3170880" y="1747800"/>
              <a:ext cx="825480" cy="368280"/>
            </a:xfrm>
            <a:prstGeom prst="rightArrow">
              <a:avLst>
                <a:gd name="adj1" fmla="val 50000"/>
                <a:gd name="adj2" fmla="val 11210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40600" y="4560840"/>
              <a:ext cx="114156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市鄉鎮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2695680" y="3578040"/>
              <a:ext cx="825480" cy="368280"/>
            </a:xfrm>
            <a:prstGeom prst="rightArrow">
              <a:avLst>
                <a:gd name="adj1" fmla="val 50000"/>
                <a:gd name="adj2" fmla="val 11210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6200000">
              <a:off x="3170880" y="3616200"/>
              <a:ext cx="825480" cy="368280"/>
            </a:xfrm>
            <a:prstGeom prst="rightArrow">
              <a:avLst>
                <a:gd name="adj1" fmla="val 50000"/>
                <a:gd name="adj2" fmla="val 11210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94680" y="3557520"/>
              <a:ext cx="6080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功能需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方民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28760" y="3538440"/>
              <a:ext cx="714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控制總量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發展計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4680" y="844560"/>
              <a:ext cx="777960" cy="336600"/>
            </a:xfrm>
            <a:prstGeom prst="rightArrow">
              <a:avLst>
                <a:gd name="adj1" fmla="val 50000"/>
                <a:gd name="adj2" fmla="val 11559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54680" y="4622760"/>
              <a:ext cx="777960" cy="336600"/>
            </a:xfrm>
            <a:prstGeom prst="rightArrow">
              <a:avLst>
                <a:gd name="adj1" fmla="val 50000"/>
                <a:gd name="adj2" fmla="val 11559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4680" y="2747880"/>
              <a:ext cx="777960" cy="336600"/>
            </a:xfrm>
            <a:prstGeom prst="rightArrow">
              <a:avLst>
                <a:gd name="adj1" fmla="val 50000"/>
                <a:gd name="adj2" fmla="val 115593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34400" y="4600440"/>
              <a:ext cx="82152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短期改善計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61680" y="1376280"/>
              <a:ext cx="114156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政策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台灣區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區域性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60520" y="3359160"/>
              <a:ext cx="1524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會區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或縣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(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市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)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整體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60240" y="5032440"/>
              <a:ext cx="114156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區性路網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區性聯外運輸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區性運輸設施規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12240" y="2757600"/>
              <a:ext cx="135504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長期發展與短期改善計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800280"/>
              <a:ext cx="26388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政策、方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17:03:02Z</dcterms:created>
  <dc:creator>亞聯工程顧問股份有限公司  運輸規劃部</dc:creator>
  <dc:description/>
  <dc:language>en-US</dc:language>
  <cp:lastModifiedBy>管理部</cp:lastModifiedBy>
  <cp:lastPrinted>1998-12-09T05:54:06Z</cp:lastPrinted>
  <dcterms:modified xsi:type="dcterms:W3CDTF">1998-12-24T07:22:50Z</dcterms:modified>
  <cp:revision>8</cp:revision>
  <dc:subject/>
  <dc:title>無投影片標題</dc:title>
</cp:coreProperties>
</file>