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51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23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551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623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290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34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290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5034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551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623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551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23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551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23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623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23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51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"/>
          <p:cNvGrpSpPr/>
          <p:nvPr/>
        </p:nvGrpSpPr>
        <p:grpSpPr>
          <a:xfrm>
            <a:off x="2001960" y="-1262160"/>
            <a:ext cx="6114960" cy="8120160"/>
            <a:chOff x="2001960" y="-1262160"/>
            <a:chExt cx="6114960" cy="8120160"/>
          </a:xfrm>
        </p:grpSpPr>
        <p:sp>
          <p:nvSpPr>
            <p:cNvPr id="37" name=""/>
            <p:cNvSpPr/>
            <p:nvPr/>
          </p:nvSpPr>
          <p:spPr>
            <a:xfrm>
              <a:off x="6076800" y="2460600"/>
              <a:ext cx="0" cy="747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 txBox="1"/>
            <p:nvPr/>
          </p:nvSpPr>
          <p:spPr>
            <a:xfrm>
              <a:off x="5958000" y="-1262160"/>
              <a:ext cx="1177920" cy="915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951520" y="-907920"/>
              <a:ext cx="1179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 txBox="1"/>
            <p:nvPr/>
          </p:nvSpPr>
          <p:spPr>
            <a:xfrm>
              <a:off x="6059520" y="-17640"/>
              <a:ext cx="911160" cy="63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75360" y="289080"/>
              <a:ext cx="892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515280" y="-325440"/>
              <a:ext cx="0" cy="33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5807160" y="617400"/>
              <a:ext cx="714240" cy="38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13480" y="625320"/>
              <a:ext cx="779400" cy="381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29480" y="1622520"/>
              <a:ext cx="0" cy="29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96120" y="1622520"/>
              <a:ext cx="0" cy="29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81280" y="2471760"/>
              <a:ext cx="2248200" cy="800640"/>
            </a:xfrm>
            <a:custGeom>
              <a:avLst/>
              <a:gdLst/>
              <a:ahLst/>
              <a:rect l="0" t="0" r="r" b="b"/>
              <a:pathLst>
                <a:path fill="none" w="6245" h="2224">
                  <a:moveTo>
                    <a:pt x="6245" y="0"/>
                  </a:moveTo>
                  <a:lnTo>
                    <a:pt x="6245" y="529"/>
                  </a:lnTo>
                  <a:lnTo>
                    <a:pt x="0" y="529"/>
                  </a:lnTo>
                  <a:lnTo>
                    <a:pt x="0" y="2224"/>
                  </a:lnTo>
                </a:path>
              </a:pathLst>
            </a:custGeom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24160" y="2452680"/>
              <a:ext cx="5069160" cy="838440"/>
            </a:xfrm>
            <a:custGeom>
              <a:avLst/>
              <a:gdLst/>
              <a:ahLst/>
              <a:rect l="0" t="0" r="r" b="b"/>
              <a:pathLst>
                <a:path fill="none" w="14081" h="2329">
                  <a:moveTo>
                    <a:pt x="14081" y="0"/>
                  </a:moveTo>
                  <a:lnTo>
                    <a:pt x="14081" y="1058"/>
                  </a:lnTo>
                  <a:lnTo>
                    <a:pt x="0" y="1058"/>
                  </a:lnTo>
                  <a:lnTo>
                    <a:pt x="0" y="2329"/>
                  </a:lnTo>
                </a:path>
              </a:pathLst>
            </a:custGeom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52680" y="2851200"/>
              <a:ext cx="0" cy="414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43360" y="2670120"/>
              <a:ext cx="0" cy="55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95680" y="2851200"/>
              <a:ext cx="0" cy="376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67560" y="2470320"/>
              <a:ext cx="0" cy="76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329080" y="4618080"/>
              <a:ext cx="754200" cy="480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84720" y="4618080"/>
              <a:ext cx="633600" cy="480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24480" y="5638680"/>
              <a:ext cx="0" cy="4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3080" y="5638680"/>
              <a:ext cx="381240" cy="729000"/>
            </a:xfrm>
            <a:custGeom>
              <a:avLst/>
              <a:gdLst/>
              <a:ahLst/>
              <a:rect l="0" t="0" r="r" b="b"/>
              <a:pathLst>
                <a:path fill="none" w="1059" h="2025">
                  <a:moveTo>
                    <a:pt x="0" y="0"/>
                  </a:moveTo>
                  <a:lnTo>
                    <a:pt x="0" y="2025"/>
                  </a:lnTo>
                  <a:lnTo>
                    <a:pt x="1059" y="2025"/>
                  </a:lnTo>
                </a:path>
              </a:pathLst>
            </a:custGeom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586640" y="4017960"/>
              <a:ext cx="0" cy="198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24160" y="3781440"/>
              <a:ext cx="2553120" cy="2534040"/>
            </a:xfrm>
            <a:custGeom>
              <a:avLst/>
              <a:gdLst/>
              <a:ahLst/>
              <a:rect l="0" t="0" r="r" b="b"/>
              <a:pathLst>
                <a:path fill="none" w="7092" h="7039">
                  <a:moveTo>
                    <a:pt x="0" y="0"/>
                  </a:moveTo>
                  <a:lnTo>
                    <a:pt x="0" y="7039"/>
                  </a:lnTo>
                  <a:lnTo>
                    <a:pt x="7092" y="7039"/>
                  </a:lnTo>
                </a:path>
              </a:pathLst>
            </a:custGeom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86240" y="3789360"/>
              <a:ext cx="0" cy="2519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2909880" y="6434280"/>
              <a:ext cx="4232160" cy="42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58080" y="3998880"/>
              <a:ext cx="0" cy="252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5494320" y="1058760"/>
              <a:ext cx="7333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6942240" y="1058760"/>
              <a:ext cx="7333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5545080" y="1914480"/>
              <a:ext cx="91116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7018200" y="1914480"/>
              <a:ext cx="91116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2001960" y="3249720"/>
              <a:ext cx="7333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4284720" y="3249720"/>
              <a:ext cx="1089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3144960" y="3249720"/>
              <a:ext cx="7333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7027920" y="3249720"/>
              <a:ext cx="1089000" cy="74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5640480" y="4280040"/>
              <a:ext cx="911160" cy="320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4935600" y="5159520"/>
              <a:ext cx="91116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6230880" y="5159520"/>
              <a:ext cx="1089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5000760" y="6060960"/>
              <a:ext cx="91116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7050240" y="6060960"/>
              <a:ext cx="91116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5532480" y="3211560"/>
              <a:ext cx="1266840" cy="74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¨ÈÁp¤uµ{ÅU°ÝªÑ¥÷¦³­­¤½¥q  ¹B¿é³W¹º³¡</dc:creator>
  <dc:description/>
  <dc:language>en-US</dc:language>
  <cp:lastModifiedBy>ºÞ²z³¡</cp:lastModifiedBy>
  <cp:revision>0</cp:revision>
  <dc:subject/>
  <dc:title>µL§ë¼v¤ù¼ÐÃD</dc:title>
</cp:coreProperties>
</file>