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21240" y="8513640"/>
            <a:ext cx="3332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5-1 </a:t>
            </a:r>
            <a:r>
              <a:rPr b="0" lang="zh-TW" sz="22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方案研擬與評估之作業程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657080" y="838080"/>
            <a:ext cx="3752640" cy="6123600"/>
            <a:chOff x="1657080" y="838080"/>
            <a:chExt cx="3752640" cy="6123600"/>
          </a:xfrm>
        </p:grpSpPr>
        <p:sp>
          <p:nvSpPr>
            <p:cNvPr id="40" name=""/>
            <p:cNvSpPr/>
            <p:nvPr/>
          </p:nvSpPr>
          <p:spPr>
            <a:xfrm>
              <a:off x="2840760" y="6629400"/>
              <a:ext cx="91296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發展方案評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309840" y="2114640"/>
              <a:ext cx="0" cy="28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309840" y="5257800"/>
              <a:ext cx="0" cy="13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4038120" y="518148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35400" y="349416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6000" y="1338120"/>
              <a:ext cx="2562480" cy="768600"/>
            </a:xfrm>
            <a:custGeom>
              <a:avLst/>
              <a:gdLst/>
              <a:ahLst/>
              <a:rect l="l" t="t" r="r" b="b"/>
              <a:pathLst>
                <a:path w="1855" h="307">
                  <a:moveTo>
                    <a:pt x="0" y="0"/>
                  </a:moveTo>
                  <a:lnTo>
                    <a:pt x="0" y="306"/>
                  </a:lnTo>
                  <a:lnTo>
                    <a:pt x="1854" y="306"/>
                  </a:lnTo>
                  <a:lnTo>
                    <a:pt x="1854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40480" y="4800600"/>
              <a:ext cx="669240" cy="81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專家學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地方民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施政理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02400" y="3276720"/>
              <a:ext cx="66924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規劃原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40760" y="5029200"/>
              <a:ext cx="91296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研擬發展方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57080" y="838080"/>
              <a:ext cx="790920" cy="57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輸政策與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規劃目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88800" y="838080"/>
              <a:ext cx="1156680" cy="57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運輸系統供需問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華康楷書體W5"/>
                  <a:ea typeface="華康楷書體W5"/>
                </a:rPr>
                <a:t>與發展課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9T17:07:28Z</dcterms:created>
  <dc:creator>亞聯工程顧問股份有限公司  運輸規劃部</dc:creator>
  <dc:description/>
  <dc:language>en-US</dc:language>
  <cp:lastModifiedBy>吳心琪</cp:lastModifiedBy>
  <cp:lastPrinted>1997-05-12T12:36:16Z</cp:lastPrinted>
  <dcterms:modified xsi:type="dcterms:W3CDTF">1998-12-09T04:05:36Z</dcterms:modified>
  <cp:revision>10</cp:revision>
  <dc:subject/>
  <dc:title>無投影片標題</dc:title>
</cp:coreProperties>
</file>