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細明體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609480" y="1271520"/>
            <a:ext cx="5261040" cy="7643880"/>
            <a:chOff x="609480" y="1271520"/>
            <a:chExt cx="5261040" cy="7643880"/>
          </a:xfrm>
        </p:grpSpPr>
        <p:graphicFrame>
          <p:nvGraphicFramePr>
            <p:cNvPr id="39" name=""/>
            <p:cNvGraphicFramePr/>
            <p:nvPr/>
          </p:nvGraphicFramePr>
          <p:xfrm>
            <a:off x="609480" y="7904160"/>
            <a:ext cx="787680" cy="10112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7904160"/>
                      <a:ext cx="787680" cy="101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" name=""/>
            <p:cNvSpPr/>
            <p:nvPr/>
          </p:nvSpPr>
          <p:spPr>
            <a:xfrm>
              <a:off x="1676520" y="1500120"/>
              <a:ext cx="1296720" cy="5821560"/>
            </a:xfrm>
            <a:custGeom>
              <a:avLst/>
              <a:gdLst/>
              <a:ahLst/>
              <a:rect l="l" t="t" r="r" b="b"/>
              <a:pathLst>
                <a:path w="817" h="3667">
                  <a:moveTo>
                    <a:pt x="816" y="3666"/>
                  </a:moveTo>
                  <a:lnTo>
                    <a:pt x="0" y="3666"/>
                  </a:lnTo>
                  <a:lnTo>
                    <a:pt x="0" y="0"/>
                  </a:lnTo>
                  <a:lnTo>
                    <a:pt x="67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488240" y="7948440"/>
              <a:ext cx="42717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圖 </a:t>
              </a:r>
              <a:r>
                <a:rPr b="0" lang="zh-TW" sz="22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2-1 </a:t>
              </a:r>
              <a:r>
                <a:rPr b="0" lang="zh-TW" sz="22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縣</a:t>
              </a:r>
              <a:r>
                <a:rPr b="0" lang="zh-TW" sz="22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(</a:t>
              </a:r>
              <a:r>
                <a:rPr b="0" lang="zh-TW" sz="22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市</a:t>
              </a:r>
              <a:r>
                <a:rPr b="0" lang="zh-TW" sz="22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)</a:t>
              </a:r>
              <a:r>
                <a:rPr b="0" lang="zh-TW" sz="22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整體運輸規劃基本作業程序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460680" y="1446120"/>
              <a:ext cx="0" cy="64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965680" y="6040440"/>
              <a:ext cx="821520" cy="30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運輸計畫擬定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42640" y="3425400"/>
              <a:ext cx="394200" cy="25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配合都市計畫通盤檢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62440" y="1271520"/>
              <a:ext cx="821520" cy="30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確定規劃目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920" y="2124000"/>
              <a:ext cx="821520" cy="30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確定規劃範圍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96640" y="2889360"/>
              <a:ext cx="928080" cy="30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資料蒐集與調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60680" y="2465280"/>
              <a:ext cx="0" cy="39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60680" y="3236760"/>
              <a:ext cx="0" cy="28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60680" y="467532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9240" y="556092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44080" y="5195880"/>
              <a:ext cx="928080" cy="30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方案研擬與評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797360" y="6507000"/>
              <a:ext cx="1073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381400" y="3521160"/>
              <a:ext cx="2139840" cy="1256760"/>
              <a:chOff x="2381400" y="3521160"/>
              <a:chExt cx="2139840" cy="125676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2381400" y="3521160"/>
                <a:ext cx="1958760" cy="1256760"/>
                <a:chOff x="2381400" y="3521160"/>
                <a:chExt cx="1958760" cy="125676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2706840" y="3521160"/>
                  <a:ext cx="1504080" cy="1256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</a:rPr>
                    <a:t>       </a:t>
                  </a:r>
                  <a:r>
                    <a:rPr b="0" lang="zh-TW" sz="1400" spc="-1" strike="noStrike">
                      <a:solidFill>
                        <a:srgbClr val="000000"/>
                      </a:solidFill>
                      <a:latin typeface="華康楷書體W5"/>
                      <a:ea typeface="華康楷書體W5"/>
                    </a:rPr>
                    <a:t>運輸需求分析與預測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華康楷書體W5"/>
                      <a:ea typeface="華康楷書體W5"/>
                    </a:rPr>
                    <a:t>社經與運輸系統發展分析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華康楷書體W5"/>
                      <a:ea typeface="華康楷書體W5"/>
                    </a:rPr>
                    <a:t>需求模式建立與預測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華康楷書體W5"/>
                      <a:ea typeface="華康楷書體W5"/>
                    </a:rPr>
                    <a:t>供需問題分析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華康楷書體W5"/>
                      <a:ea typeface="華康楷書體W5"/>
                    </a:rPr>
                    <a:t>發展課題探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381400" y="3912840"/>
                  <a:ext cx="19587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" name=""/>
              <p:cNvSpPr/>
              <p:nvPr/>
            </p:nvSpPr>
            <p:spPr>
              <a:xfrm>
                <a:off x="2394000" y="3852720"/>
                <a:ext cx="212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 flipH="1">
              <a:off x="3455640" y="6372360"/>
              <a:ext cx="27000" cy="75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20120" y="7139160"/>
              <a:ext cx="608040" cy="30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計畫執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33880" y="4043520"/>
              <a:ext cx="992160" cy="1325520"/>
            </a:xfrm>
            <a:custGeom>
              <a:avLst/>
              <a:gdLst/>
              <a:ahLst/>
              <a:rect l="l" t="t" r="r" b="b"/>
              <a:pathLst>
                <a:path w="625" h="835">
                  <a:moveTo>
                    <a:pt x="0" y="834"/>
                  </a:moveTo>
                  <a:lnTo>
                    <a:pt x="624" y="834"/>
                  </a:lnTo>
                  <a:lnTo>
                    <a:pt x="624" y="0"/>
                  </a:lnTo>
                  <a:lnTo>
                    <a:pt x="30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106600" y="4039560"/>
              <a:ext cx="39420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回饋修正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9T17:04:46Z</dcterms:created>
  <dc:creator>亞聯工程顧問股份有限公司  運輸規劃部</dc:creator>
  <dc:description/>
  <dc:language>en-US</dc:language>
  <cp:lastModifiedBy>管理部</cp:lastModifiedBy>
  <cp:lastPrinted>1998-12-17T07:06:34Z</cp:lastPrinted>
  <dcterms:modified xsi:type="dcterms:W3CDTF">1998-12-17T07:06:34Z</dcterms:modified>
  <cp:revision>4</cp:revision>
  <dc:subject/>
  <dc:title>無投影片標題</dc:title>
</cp:coreProperties>
</file>