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51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23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290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34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290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034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551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551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23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51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51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23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51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2062080" y="-876240"/>
            <a:ext cx="5972400" cy="7734240"/>
            <a:chOff x="2062080" y="-876240"/>
            <a:chExt cx="5972400" cy="7734240"/>
          </a:xfrm>
        </p:grpSpPr>
        <p:sp>
          <p:nvSpPr>
            <p:cNvPr id="37" name=""/>
            <p:cNvSpPr/>
            <p:nvPr/>
          </p:nvSpPr>
          <p:spPr>
            <a:xfrm>
              <a:off x="5229360" y="-533520"/>
              <a:ext cx="0" cy="159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 txBox="1"/>
            <p:nvPr/>
          </p:nvSpPr>
          <p:spPr>
            <a:xfrm>
              <a:off x="2728800" y="6434280"/>
              <a:ext cx="451152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603600" y="5381640"/>
              <a:ext cx="3238920" cy="555840"/>
            </a:xfrm>
            <a:custGeom>
              <a:avLst/>
              <a:gdLst/>
              <a:ahLst/>
              <a:rect l="0" t="0" r="r" b="b"/>
              <a:pathLst>
                <a:path fill="none" w="8997" h="1544">
                  <a:moveTo>
                    <a:pt x="0" y="0"/>
                  </a:moveTo>
                  <a:lnTo>
                    <a:pt x="0" y="1544"/>
                  </a:lnTo>
                  <a:lnTo>
                    <a:pt x="8997" y="1544"/>
                  </a:lnTo>
                  <a:lnTo>
                    <a:pt x="8997" y="5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6853320" y="2158920"/>
              <a:ext cx="40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6853320" y="142920"/>
              <a:ext cx="40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71880" y="4222800"/>
              <a:ext cx="57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657600" y="-484200"/>
              <a:ext cx="0" cy="131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3100320" y="-784080"/>
              <a:ext cx="111456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675320" y="-784080"/>
              <a:ext cx="111456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6446880" y="-876240"/>
              <a:ext cx="809640" cy="47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2973240" y="876240"/>
              <a:ext cx="136836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062080" y="-115920"/>
              <a:ext cx="1057320" cy="47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548240" y="1058760"/>
              <a:ext cx="1368360" cy="47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7224840" y="-23760"/>
              <a:ext cx="80964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462720" y="1058760"/>
              <a:ext cx="809640" cy="47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7224840" y="1919160"/>
              <a:ext cx="809640" cy="47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3100320" y="2705040"/>
              <a:ext cx="111456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2109960" y="2011320"/>
              <a:ext cx="96192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109960" y="3848040"/>
              <a:ext cx="96192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3176640" y="4832280"/>
              <a:ext cx="96192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4808520" y="4923000"/>
              <a:ext cx="809640" cy="47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6446880" y="4832280"/>
              <a:ext cx="80964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672080" y="6384960"/>
              <a:ext cx="1114560" cy="47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827600" y="2705040"/>
              <a:ext cx="80964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2000" y="12384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1722600"/>
              <a:ext cx="0" cy="9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87720" y="218772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9360" y="1563840"/>
              <a:ext cx="0" cy="1096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87720" y="2111400"/>
              <a:ext cx="2135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29360" y="3389400"/>
              <a:ext cx="0" cy="15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57600" y="337356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03560" y="4095720"/>
              <a:ext cx="211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46520" y="-492120"/>
              <a:ext cx="1483200" cy="460800"/>
            </a:xfrm>
            <a:custGeom>
              <a:avLst/>
              <a:gdLst/>
              <a:ahLst/>
              <a:rect l="0" t="0" r="r" b="b"/>
              <a:pathLst>
                <a:path fill="none" w="4120" h="1280">
                  <a:moveTo>
                    <a:pt x="0" y="0"/>
                  </a:moveTo>
                  <a:lnTo>
                    <a:pt x="0" y="1280"/>
                  </a:lnTo>
                  <a:lnTo>
                    <a:pt x="4120" y="1280"/>
                  </a:lnTo>
                </a:path>
              </a:pathLst>
            </a:custGeom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0" y="-372960"/>
              <a:ext cx="0" cy="144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1547640"/>
              <a:ext cx="0" cy="3303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22880" y="5405400"/>
              <a:ext cx="0" cy="1017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¨ÈÁp¤uµ{ÅU°ÝªÑ¥÷¦³­­¤½¥q  ¹B¿é³W¹º³¡</dc:creator>
  <dc:description/>
  <dc:language>en-US</dc:language>
  <cp:lastModifiedBy>ºÞ²z³¡</cp:lastModifiedBy>
  <cp:revision>0</cp:revision>
  <dc:subject/>
  <dc:title>µL§ë¼v¤ù¼ÐÃD</dc:title>
</cp:coreProperties>
</file>