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078280" y="8348760"/>
            <a:ext cx="3165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-3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都市發展分析與預測流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829800" y="914400"/>
            <a:ext cx="5538240" cy="7030080"/>
            <a:chOff x="829800" y="914400"/>
            <a:chExt cx="5538240" cy="7030080"/>
          </a:xfrm>
        </p:grpSpPr>
        <p:sp>
          <p:nvSpPr>
            <p:cNvPr id="40" name=""/>
            <p:cNvSpPr/>
            <p:nvPr/>
          </p:nvSpPr>
          <p:spPr>
            <a:xfrm>
              <a:off x="3720960" y="272412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714840" y="1187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284640" y="1884240"/>
              <a:ext cx="82152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市發展型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及趨勢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930400" y="4284720"/>
              <a:ext cx="1568160" cy="82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市發展及社經預測模式建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‧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市成長模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‧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區位分派模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1440" y="2724120"/>
              <a:ext cx="4888080" cy="297000"/>
            </a:xfrm>
            <a:custGeom>
              <a:avLst/>
              <a:gdLst/>
              <a:ahLst/>
              <a:rect l="l" t="t" r="r" b="b"/>
              <a:pathLst>
                <a:path w="3079" h="187">
                  <a:moveTo>
                    <a:pt x="0" y="165"/>
                  </a:moveTo>
                  <a:lnTo>
                    <a:pt x="0" y="0"/>
                  </a:lnTo>
                  <a:lnTo>
                    <a:pt x="3078" y="0"/>
                  </a:lnTo>
                  <a:lnTo>
                    <a:pt x="3078" y="1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71440" y="3467160"/>
              <a:ext cx="4888080" cy="372960"/>
            </a:xfrm>
            <a:custGeom>
              <a:avLst/>
              <a:gdLst/>
              <a:ahLst/>
              <a:rect l="l" t="t" r="r" b="b"/>
              <a:pathLst>
                <a:path w="3079" h="235">
                  <a:moveTo>
                    <a:pt x="0" y="0"/>
                  </a:moveTo>
                  <a:lnTo>
                    <a:pt x="0" y="234"/>
                  </a:lnTo>
                  <a:lnTo>
                    <a:pt x="3078" y="234"/>
                  </a:lnTo>
                  <a:lnTo>
                    <a:pt x="3078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43040" y="2743200"/>
              <a:ext cx="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57840" y="2730600"/>
              <a:ext cx="0" cy="11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9800" y="2975040"/>
              <a:ext cx="71496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人口成長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分佈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53880" y="2975040"/>
              <a:ext cx="71496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產業發展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結構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9080" y="297504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土地使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現況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56880" y="297504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發展限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及潛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000" y="297504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市發展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型態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01880" y="514188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13120" y="6434280"/>
              <a:ext cx="3252600" cy="282600"/>
            </a:xfrm>
            <a:custGeom>
              <a:avLst/>
              <a:gdLst/>
              <a:ahLst/>
              <a:rect l="l" t="t" r="r" b="b"/>
              <a:pathLst>
                <a:path w="2049" h="178">
                  <a:moveTo>
                    <a:pt x="0" y="170"/>
                  </a:moveTo>
                  <a:lnTo>
                    <a:pt x="0" y="0"/>
                  </a:lnTo>
                  <a:lnTo>
                    <a:pt x="2048" y="0"/>
                  </a:lnTo>
                  <a:lnTo>
                    <a:pt x="2048" y="1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89280" y="639936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612800" y="6678720"/>
              <a:ext cx="906480" cy="1265760"/>
              <a:chOff x="1612800" y="6678720"/>
              <a:chExt cx="906480" cy="1265760"/>
            </a:xfrm>
          </p:grpSpPr>
          <p:sp>
            <p:nvSpPr>
              <p:cNvPr id="57" name=""/>
              <p:cNvSpPr/>
              <p:nvPr/>
            </p:nvSpPr>
            <p:spPr>
              <a:xfrm>
                <a:off x="1738440" y="6678720"/>
                <a:ext cx="650520" cy="126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人口預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及分佈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人口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戶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戶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12800" y="7219800"/>
                <a:ext cx="90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971800" y="6678720"/>
              <a:ext cx="1433520" cy="1265760"/>
              <a:chOff x="2971800" y="6678720"/>
              <a:chExt cx="1433520" cy="1265760"/>
            </a:xfrm>
          </p:grpSpPr>
          <p:sp>
            <p:nvSpPr>
              <p:cNvPr id="60" name=""/>
              <p:cNvSpPr/>
              <p:nvPr/>
            </p:nvSpPr>
            <p:spPr>
              <a:xfrm>
                <a:off x="3205440" y="6678720"/>
                <a:ext cx="970560" cy="126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經濟發展預測及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活動分佈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家戶所得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產業活動分析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車輛持有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71800" y="7209000"/>
                <a:ext cx="14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751280" y="6678720"/>
              <a:ext cx="1078200" cy="1265760"/>
              <a:chOff x="4751280" y="6678720"/>
              <a:chExt cx="1078200" cy="1265760"/>
            </a:xfrm>
          </p:grpSpPr>
          <p:sp>
            <p:nvSpPr>
              <p:cNvPr id="63" name=""/>
              <p:cNvSpPr/>
              <p:nvPr/>
            </p:nvSpPr>
            <p:spPr>
              <a:xfrm>
                <a:off x="4914000" y="6678720"/>
                <a:ext cx="757080" cy="126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就業、就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預測及分佈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就業人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及業人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‧</a:t>
                </a:r>
                <a:r>
                  <a:rPr b="0" lang="zh-TW" sz="1400" spc="-1" strike="noStrike">
                    <a:solidFill>
                      <a:srgbClr val="000000"/>
                    </a:solidFill>
                    <a:latin typeface="華康楷書體W5"/>
                    <a:ea typeface="華康楷書體W5"/>
                  </a:rPr>
                  <a:t>就學人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751280" y="7219800"/>
                <a:ext cx="107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186000" y="914400"/>
              <a:ext cx="103500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上位計畫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重要開發計畫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57360" y="456264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3880" y="5603760"/>
              <a:ext cx="114156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都市發展及社經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2520" y="5932440"/>
              <a:ext cx="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20960" y="2419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6:46:42Z</dcterms:created>
  <dc:creator>亞聯工程顧問股份有限公司  運輸規劃部</dc:creator>
  <dc:description/>
  <dc:language>en-US</dc:language>
  <cp:lastModifiedBy>吳心琪</cp:lastModifiedBy>
  <cp:lastPrinted>1998-06-30T14:51:08Z</cp:lastPrinted>
  <dcterms:modified xsi:type="dcterms:W3CDTF">1998-12-09T04:07:10Z</dcterms:modified>
  <cp:revision>6</cp:revision>
  <dc:subject/>
  <dc:title>無投影片標題</dc:title>
</cp:coreProperties>
</file>