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83808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512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5512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2052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0296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8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62052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40296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83808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5512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83808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512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83808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512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5512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512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2424240" y="6434280"/>
            <a:ext cx="507060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 txBox="1"/>
          <p:nvPr/>
        </p:nvSpPr>
        <p:spPr>
          <a:xfrm>
            <a:off x="4059360" y="6080040"/>
            <a:ext cx="1800360" cy="32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5954760" y="4530600"/>
            <a:ext cx="1266840" cy="32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3489480" y="-9360"/>
            <a:ext cx="3067560" cy="535320"/>
          </a:xfrm>
          <a:custGeom>
            <a:avLst/>
            <a:gdLst/>
            <a:ahLst/>
            <a:rect l="0" t="0" r="r" b="b"/>
            <a:pathLst>
              <a:path fill="none" w="8521" h="1487">
                <a:moveTo>
                  <a:pt x="0" y="1487"/>
                </a:moveTo>
                <a:lnTo>
                  <a:pt x="0" y="0"/>
                </a:lnTo>
                <a:lnTo>
                  <a:pt x="8521" y="0"/>
                </a:lnTo>
                <a:lnTo>
                  <a:pt x="8521" y="1487"/>
                </a:ln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4952880" y="-746280"/>
            <a:ext cx="0" cy="730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057560" y="-1038240"/>
            <a:ext cx="1800360" cy="32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89480" y="880920"/>
            <a:ext cx="0" cy="660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89480" y="1903320"/>
            <a:ext cx="0" cy="567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89480" y="3019320"/>
            <a:ext cx="0" cy="612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89480" y="397188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35600" y="3390840"/>
            <a:ext cx="1464120" cy="465480"/>
          </a:xfrm>
          <a:custGeom>
            <a:avLst/>
            <a:gdLst/>
            <a:ahLst/>
            <a:rect l="0" t="0" r="r" b="b"/>
            <a:pathLst>
              <a:path fill="none" w="4067" h="1293">
                <a:moveTo>
                  <a:pt x="0" y="127"/>
                </a:moveTo>
                <a:lnTo>
                  <a:pt x="0" y="1293"/>
                </a:lnTo>
                <a:lnTo>
                  <a:pt x="4067" y="1293"/>
                </a:lnTo>
                <a:lnTo>
                  <a:pt x="4067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02400" y="3111480"/>
            <a:ext cx="0" cy="1425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11840" y="1222200"/>
            <a:ext cx="1487880" cy="651240"/>
          </a:xfrm>
          <a:custGeom>
            <a:avLst/>
            <a:gdLst/>
            <a:ahLst/>
            <a:rect l="0" t="0" r="r" b="b"/>
            <a:pathLst>
              <a:path fill="none" w="4133" h="1809">
                <a:moveTo>
                  <a:pt x="0" y="1809"/>
                </a:moveTo>
                <a:lnTo>
                  <a:pt x="0" y="0"/>
                </a:lnTo>
                <a:lnTo>
                  <a:pt x="4133" y="0"/>
                </a:lnTo>
                <a:lnTo>
                  <a:pt x="4133" y="1809"/>
                </a:ln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56320" y="858960"/>
            <a:ext cx="0" cy="1030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52640" y="523800"/>
            <a:ext cx="1266840" cy="32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757840" y="523800"/>
            <a:ext cx="1622520" cy="32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9120" y="1539720"/>
            <a:ext cx="1266840" cy="32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9120" y="2484360"/>
            <a:ext cx="12668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9120" y="3651120"/>
            <a:ext cx="1266840" cy="32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59120" y="4556160"/>
            <a:ext cx="1266840" cy="32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641920" y="1890720"/>
            <a:ext cx="412920" cy="153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381720" y="1890720"/>
            <a:ext cx="412920" cy="153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086600" y="1890720"/>
            <a:ext cx="412920" cy="153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89480" y="4846680"/>
            <a:ext cx="3137400" cy="603720"/>
          </a:xfrm>
          <a:custGeom>
            <a:avLst/>
            <a:gdLst/>
            <a:ahLst/>
            <a:rect l="0" t="0" r="r" b="b"/>
            <a:pathLst>
              <a:path fill="none" w="8715" h="1677">
                <a:moveTo>
                  <a:pt x="0" y="61"/>
                </a:moveTo>
                <a:lnTo>
                  <a:pt x="0" y="1677"/>
                </a:lnTo>
                <a:lnTo>
                  <a:pt x="8715" y="1677"/>
                </a:lnTo>
                <a:lnTo>
                  <a:pt x="8715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548172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¨ÈÁp¤uµ{ÅU°ÝªÑ¥÷¦³­­¤½¥q  ¹B¿é³W¹º³¡</dc:creator>
  <dc:description/>
  <dc:language>en-US</dc:language>
  <cp:lastModifiedBy>atci</cp:lastModifiedBy>
  <cp:revision>0</cp:revision>
  <dc:subject/>
  <dc:title>µL§ë¼v¤ù¼ÐÃD</dc:title>
</cp:coreProperties>
</file>