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691640" y="9067680"/>
            <a:ext cx="36680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4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運輸需求分析與預測之作業流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76440" y="380880"/>
            <a:ext cx="5311440" cy="8533440"/>
            <a:chOff x="676440" y="380880"/>
            <a:chExt cx="5311440" cy="8533440"/>
          </a:xfrm>
        </p:grpSpPr>
        <p:sp>
          <p:nvSpPr>
            <p:cNvPr id="40" name=""/>
            <p:cNvSpPr/>
            <p:nvPr/>
          </p:nvSpPr>
          <p:spPr>
            <a:xfrm>
              <a:off x="4179960" y="1611360"/>
              <a:ext cx="23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042000" y="8612280"/>
              <a:ext cx="82152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績效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239920" y="7162920"/>
              <a:ext cx="2613240" cy="102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83080" y="5410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3080" y="6629400"/>
              <a:ext cx="0" cy="4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3080" y="441972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3080" y="3124080"/>
              <a:ext cx="0" cy="9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83480" y="487692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旅次分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22360" y="5181480"/>
              <a:ext cx="2138400" cy="809640"/>
            </a:xfrm>
            <a:custGeom>
              <a:avLst/>
              <a:gdLst/>
              <a:ahLst/>
              <a:rect l="l" t="t" r="r" b="b"/>
              <a:pathLst>
                <a:path w="1473" h="425">
                  <a:moveTo>
                    <a:pt x="0" y="0"/>
                  </a:moveTo>
                  <a:lnTo>
                    <a:pt x="0" y="424"/>
                  </a:lnTo>
                  <a:lnTo>
                    <a:pt x="1472" y="4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6680" y="7645320"/>
              <a:ext cx="15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0720" y="7823160"/>
              <a:ext cx="17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34960" y="4038480"/>
              <a:ext cx="71496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旅次發生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96080" y="3124080"/>
              <a:ext cx="82152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需求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模式建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9960" y="487692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貨運旅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42360" y="487692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界外旅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3080" y="1523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3080" y="2743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21560" y="380880"/>
              <a:ext cx="927720" cy="115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  </a:t>
              </a: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現況分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華康楷書體W5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社經現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華康楷書體W5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系統現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華康楷書體W5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需求現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1800" y="7467480"/>
              <a:ext cx="71496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公路運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交通量分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47440" y="746748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大眾運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量分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2400" y="6248520"/>
              <a:ext cx="608040" cy="51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具分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23640" y="1828800"/>
              <a:ext cx="1140840" cy="94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楷書體W5"/>
                </a:rPr>
                <a:t>社經發展分析與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楷書體W5"/>
                </a:rPr>
                <a:t>都市發展遠景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楷書體W5"/>
                </a:rPr>
                <a:t>社經發展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95680" y="220968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24280" y="762120"/>
              <a:ext cx="130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6440" y="3809880"/>
              <a:ext cx="4914720" cy="457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94400" y="5139360"/>
              <a:ext cx="393480" cy="15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華康楷書體W5"/>
                </a:rPr>
                <a:t>運輸需求預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67080" y="5400720"/>
              <a:ext cx="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8204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17:06:40Z</dcterms:created>
  <dc:creator>亞聯工程顧問股份有限公司  運輸規劃部</dc:creator>
  <dc:description/>
  <dc:language>en-US</dc:language>
  <cp:lastModifiedBy>吳心琪</cp:lastModifiedBy>
  <cp:lastPrinted>1998-06-29T16:39:08Z</cp:lastPrinted>
  <dcterms:modified xsi:type="dcterms:W3CDTF">1998-12-09T04:04:51Z</dcterms:modified>
  <cp:revision>7</cp:revision>
  <dc:subject/>
  <dc:title>無投影片標題</dc:title>
</cp:coreProperties>
</file>