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51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23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90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34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290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034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551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551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23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2448000" y="6129360"/>
            <a:ext cx="5073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4788000" y="3579840"/>
            <a:ext cx="1727640" cy="852840"/>
          </a:xfrm>
          <a:custGeom>
            <a:avLst/>
            <a:gdLst/>
            <a:ahLst/>
            <a:rect l="0" t="0" r="r" b="b"/>
            <a:pathLst>
              <a:path w="4799" h="2369">
                <a:moveTo>
                  <a:pt x="2399" y="2369"/>
                </a:moveTo>
                <a:lnTo>
                  <a:pt x="4799" y="1185"/>
                </a:lnTo>
                <a:lnTo>
                  <a:pt x="2399" y="0"/>
                </a:lnTo>
                <a:lnTo>
                  <a:pt x="0" y="1185"/>
                </a:lnTo>
                <a:lnTo>
                  <a:pt x="2399" y="236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4633920" y="-673200"/>
            <a:ext cx="198108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927680" y="1447920"/>
            <a:ext cx="144792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025960" y="3699000"/>
            <a:ext cx="1251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94440" y="5086440"/>
            <a:ext cx="914400" cy="324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2160" y="2649600"/>
            <a:ext cx="144792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22560" y="-330120"/>
            <a:ext cx="91440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988320" y="35971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19600" y="45576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29320" y="2822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48400" y="442584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19600" y="180972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19600" y="69516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19600" y="-352440"/>
            <a:ext cx="0" cy="701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43440" y="-6336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60680" y="222120"/>
            <a:ext cx="2159280" cy="730440"/>
          </a:xfrm>
          <a:custGeom>
            <a:avLst/>
            <a:gdLst/>
            <a:ahLst/>
            <a:rect l="0" t="0" r="r" b="b"/>
            <a:pathLst>
              <a:path fill="none" w="5998" h="2029">
                <a:moveTo>
                  <a:pt x="0" y="0"/>
                </a:moveTo>
                <a:lnTo>
                  <a:pt x="0" y="2029"/>
                </a:lnTo>
                <a:lnTo>
                  <a:pt x="5998" y="2029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73600" y="2762280"/>
            <a:ext cx="1174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73600" y="3214800"/>
            <a:ext cx="174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08800" y="-507960"/>
            <a:ext cx="952920" cy="4528080"/>
          </a:xfrm>
          <a:custGeom>
            <a:avLst/>
            <a:gdLst/>
            <a:ahLst/>
            <a:rect l="0" t="0" r="r" b="b"/>
            <a:pathLst>
              <a:path fill="none" w="2647" h="12578">
                <a:moveTo>
                  <a:pt x="0" y="12578"/>
                </a:moveTo>
                <a:lnTo>
                  <a:pt x="2647" y="12578"/>
                </a:lnTo>
                <a:lnTo>
                  <a:pt x="2647" y="0"/>
                </a:lnTo>
                <a:lnTo>
                  <a:pt x="529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16600" y="2522520"/>
            <a:ext cx="12700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60920" y="379440"/>
            <a:ext cx="1981080" cy="3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¨ÈÁp¤uµ{ÅU°ÝªÑ¥÷¦³­­¤½¥q  ¹B¿é³W¹º³¡</dc:creator>
  <dc:description/>
  <dc:language>en-US</dc:language>
  <cp:lastModifiedBy>¨ÈÁp¤uµ{ÅU°ÝªÑ¥÷¦³­­¤½¥q  ¹B¿é³W¹º³¡</cp:lastModifiedBy>
  <cp:revision>0</cp:revision>
  <dc:subject/>
  <dc:title/>
</cp:coreProperties>
</file>