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53812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8360" y="5967000"/>
            <a:ext cx="53812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95960" y="286236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8360" y="596700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495960" y="596700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1732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558160" y="2862360"/>
            <a:ext cx="1732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77600" y="2862360"/>
            <a:ext cx="1732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8360" y="5967000"/>
            <a:ext cx="1732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558160" y="5967000"/>
            <a:ext cx="1732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377600" y="5967000"/>
            <a:ext cx="1732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8360" y="2862360"/>
            <a:ext cx="5381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538128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262584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495960" y="2862360"/>
            <a:ext cx="262584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8360" y="880560"/>
            <a:ext cx="5381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495960" y="2862360"/>
            <a:ext cx="262584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8360" y="596700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262584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495960" y="286236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95960" y="596700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8360" y="286236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95960" y="2862360"/>
            <a:ext cx="262584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8360" y="5967000"/>
            <a:ext cx="53812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8360" y="880560"/>
            <a:ext cx="53812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細明體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8360" y="2862360"/>
            <a:ext cx="538128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429000" y="5181480"/>
            <a:ext cx="2211480" cy="1297080"/>
          </a:xfrm>
          <a:custGeom>
            <a:avLst/>
            <a:gdLst/>
            <a:ahLst/>
            <a:rect l="l" t="t" r="r" b="b"/>
            <a:pathLst>
              <a:path w="1393" h="817">
                <a:moveTo>
                  <a:pt x="1392" y="0"/>
                </a:moveTo>
                <a:lnTo>
                  <a:pt x="1392" y="816"/>
                </a:lnTo>
                <a:lnTo>
                  <a:pt x="0" y="816"/>
                </a:lnTo>
                <a:lnTo>
                  <a:pt x="0" y="66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279600" y="55728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143000" y="990720"/>
            <a:ext cx="4116240" cy="153720"/>
          </a:xfrm>
          <a:custGeom>
            <a:avLst/>
            <a:gdLst/>
            <a:ahLst/>
            <a:rect l="l" t="t" r="r" b="b"/>
            <a:pathLst>
              <a:path w="2593" h="97">
                <a:moveTo>
                  <a:pt x="0" y="96"/>
                </a:moveTo>
                <a:lnTo>
                  <a:pt x="0" y="0"/>
                </a:lnTo>
                <a:lnTo>
                  <a:pt x="2592" y="0"/>
                </a:lnTo>
                <a:lnTo>
                  <a:pt x="2592" y="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514600" y="100476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1004760"/>
            <a:ext cx="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676520"/>
            <a:ext cx="1373040" cy="153720"/>
          </a:xfrm>
          <a:custGeom>
            <a:avLst/>
            <a:gdLst/>
            <a:ahLst/>
            <a:rect l="l" t="t" r="r" b="b"/>
            <a:pathLst>
              <a:path w="865" h="97">
                <a:moveTo>
                  <a:pt x="0" y="0"/>
                </a:moveTo>
                <a:lnTo>
                  <a:pt x="0" y="96"/>
                </a:lnTo>
                <a:lnTo>
                  <a:pt x="864" y="96"/>
                </a:lnTo>
                <a:lnTo>
                  <a:pt x="86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1676520"/>
            <a:ext cx="1296720" cy="382320"/>
          </a:xfrm>
          <a:custGeom>
            <a:avLst/>
            <a:gdLst/>
            <a:ahLst/>
            <a:rect l="l" t="t" r="r" b="b"/>
            <a:pathLst>
              <a:path w="817" h="241">
                <a:moveTo>
                  <a:pt x="0" y="0"/>
                </a:moveTo>
                <a:lnTo>
                  <a:pt x="0" y="240"/>
                </a:lnTo>
                <a:lnTo>
                  <a:pt x="816" y="240"/>
                </a:lnTo>
                <a:lnTo>
                  <a:pt x="8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828800"/>
            <a:ext cx="1440" cy="439560"/>
          </a:xfrm>
          <a:custGeom>
            <a:avLst/>
            <a:gdLst/>
            <a:ahLst/>
            <a:rect l="l" t="t" r="r" b="b"/>
            <a:pathLst>
              <a:path w="1" h="277">
                <a:moveTo>
                  <a:pt x="0" y="0"/>
                </a:moveTo>
                <a:lnTo>
                  <a:pt x="0" y="2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00400" y="3581280"/>
            <a:ext cx="65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71800" y="5816520"/>
            <a:ext cx="480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80160" y="540864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6959520"/>
            <a:ext cx="1600200" cy="134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45920" y="7342200"/>
            <a:ext cx="71496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調整各路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旅行時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920" y="7093080"/>
            <a:ext cx="608040" cy="72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運具分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調整旅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起迄矩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46280" y="5403960"/>
            <a:ext cx="1739880" cy="8254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71520" y="5535720"/>
            <a:ext cx="714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調整前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速率差極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38200" y="5567400"/>
            <a:ext cx="50148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分派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業完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40240" y="858060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2560" y="1147680"/>
            <a:ext cx="71496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大眾運輸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次起迄矩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01840" y="1147680"/>
            <a:ext cx="50148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大眾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輸路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90080" y="1147680"/>
            <a:ext cx="39492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公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路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1147680"/>
            <a:ext cx="82152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公路車輛旅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分佈矩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99400" y="2290680"/>
            <a:ext cx="60804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大眾運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乘客分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75360" y="3281400"/>
            <a:ext cx="608040" cy="72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公車乘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轉換成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車流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800" y="3281400"/>
            <a:ext cx="608040" cy="72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公車流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對公路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網影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18560" y="2290680"/>
            <a:ext cx="60804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公路交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量分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76960" y="615780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21840" y="9077400"/>
            <a:ext cx="2829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4-5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交通量分派作業流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10160" y="209088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91080" y="2833560"/>
            <a:ext cx="0" cy="487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3843360"/>
            <a:ext cx="0" cy="334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18560" y="3281400"/>
            <a:ext cx="60804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路段旅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時間調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00600" y="3600360"/>
            <a:ext cx="239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09720" y="2833560"/>
            <a:ext cx="0" cy="487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47440" y="4500720"/>
            <a:ext cx="608040" cy="72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公路車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行駛速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調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429000" y="511344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99600" y="4576680"/>
            <a:ext cx="608040" cy="51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公車行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速率調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10160" y="64832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91080" y="8319960"/>
            <a:ext cx="0" cy="27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67240" y="8604360"/>
            <a:ext cx="254160" cy="253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89320" y="571680"/>
            <a:ext cx="291960" cy="27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4267080"/>
            <a:ext cx="2211480" cy="306360"/>
          </a:xfrm>
          <a:custGeom>
            <a:avLst/>
            <a:gdLst/>
            <a:ahLst/>
            <a:rect l="l" t="t" r="r" b="b"/>
            <a:pathLst>
              <a:path w="1393" h="193">
                <a:moveTo>
                  <a:pt x="0" y="192"/>
                </a:moveTo>
                <a:lnTo>
                  <a:pt x="0" y="0"/>
                </a:lnTo>
                <a:lnTo>
                  <a:pt x="1392" y="0"/>
                </a:lnTo>
                <a:lnTo>
                  <a:pt x="1392" y="1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29000" y="43812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85716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31360" y="169920"/>
            <a:ext cx="39492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開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9T17:18:46Z</dcterms:created>
  <dc:creator>亞聯工程顧問股份有限公司  管理部</dc:creator>
  <dc:description/>
  <dc:language>en-US</dc:language>
  <cp:lastModifiedBy>manage2</cp:lastModifiedBy>
  <cp:lastPrinted>1998-07-23T01:45:24Z</cp:lastPrinted>
  <dcterms:modified xsi:type="dcterms:W3CDTF">1998-07-23T01:45:26Z</dcterms:modified>
  <cp:revision>6</cp:revision>
  <dc:subject/>
  <dc:title>無投影片標題</dc:title>
</cp:coreProperties>
</file>