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9.jpeg" ContentType="image/jpeg"/>
  <Override PartName="/ppt/media/image23.wmf" ContentType="image/x-wmf"/>
  <Override PartName="/ppt/media/image7.wmf" ContentType="image/x-wmf"/>
  <Override PartName="/ppt/media/image37.wmf" ContentType="image/x-wmf"/>
  <Override PartName="/ppt/media/image40.png" ContentType="image/png"/>
  <Override PartName="/ppt/media/image8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29.wmf" ContentType="image/x-wmf"/>
  <Override PartName="/ppt/media/image31.wmf" ContentType="image/x-wmf"/>
  <Override PartName="/ppt/media/image38.jpeg" ContentType="image/jpeg"/>
  <Override PartName="/ppt/media/image39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B8F-4E13-4A60-8DFF-FD8AD66C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84-1B7C-4F3A-AA2E-EC812ADC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820-25A6-4495-9616-4DA550A9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C94-2A25-4709-90AB-15184296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635-0EA7-4175-B82F-96024FA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FE7-AF78-4862-B6CD-7DE68BE7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0E2-1DF2-467F-9272-B3BD5A4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747-8CC3-4FF5-AE41-13F77AF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61A-750E-461F-A0BB-A571ECD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947-0040-4A24-9B77-A3196BC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20C-6292-4D37-AB5A-695D911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E0D-8289-4019-9B08-2736E74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DB9A-EE5D-4F2F-B92B-2C33C88EFA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9.wmf"/><Relationship Id="rId4" Type="http://schemas.openxmlformats.org/officeDocument/2006/relationships/image" Target="../media/image21.png"/><Relationship Id="rId5" Type="http://schemas.openxmlformats.org/officeDocument/2006/relationships/image" Target="../media/image4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52280"/>
            <a:ext cx="8382240" cy="6019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2320" y="3922560"/>
            <a:ext cx="3200400" cy="1640160"/>
          </a:xfrm>
          <a:prstGeom prst="ellipse">
            <a:avLst/>
          </a:prstGeom>
          <a:gradFill rotWithShape="0">
            <a:gsLst>
              <a:gs pos="0">
                <a:srgbClr val="697da4"/>
              </a:gs>
              <a:gs pos="100000">
                <a:srgbClr val="a2c1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81240" y="3797280"/>
            <a:ext cx="2671200" cy="1612080"/>
            <a:chOff x="1281240" y="3797280"/>
            <a:chExt cx="2671200" cy="1612080"/>
          </a:xfrm>
        </p:grpSpPr>
        <p:grpSp>
          <p:nvGrpSpPr>
            <p:cNvPr id="44" name=""/>
            <p:cNvGrpSpPr/>
            <p:nvPr/>
          </p:nvGrpSpPr>
          <p:grpSpPr>
            <a:xfrm>
              <a:off x="1814040" y="3797280"/>
              <a:ext cx="414000" cy="1047960"/>
              <a:chOff x="1814040" y="3797280"/>
              <a:chExt cx="414000" cy="1047960"/>
            </a:xfrm>
          </p:grpSpPr>
          <p:sp>
            <p:nvSpPr>
              <p:cNvPr id="45" name=""/>
              <p:cNvSpPr/>
              <p:nvPr/>
            </p:nvSpPr>
            <p:spPr>
              <a:xfrm>
                <a:off x="1829520" y="4053240"/>
                <a:ext cx="37944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814040" y="4086720"/>
                <a:ext cx="414000" cy="105120"/>
              </a:xfrm>
              <a:custGeom>
                <a:avLst/>
                <a:gdLst/>
                <a:ahLst/>
                <a:rect l="l" t="t" r="r" b="b"/>
                <a:pathLst>
                  <a:path w="108" h="35">
                    <a:moveTo>
                      <a:pt x="107" y="1"/>
                    </a:moveTo>
                    <a:lnTo>
                      <a:pt x="105" y="23"/>
                    </a:lnTo>
                    <a:lnTo>
                      <a:pt x="99" y="27"/>
                    </a:lnTo>
                    <a:lnTo>
                      <a:pt x="89" y="31"/>
                    </a:lnTo>
                    <a:lnTo>
                      <a:pt x="75" y="33"/>
                    </a:lnTo>
                    <a:lnTo>
                      <a:pt x="66" y="34"/>
                    </a:lnTo>
                    <a:lnTo>
                      <a:pt x="58" y="34"/>
                    </a:lnTo>
                    <a:lnTo>
                      <a:pt x="38" y="34"/>
                    </a:lnTo>
                    <a:lnTo>
                      <a:pt x="29" y="33"/>
                    </a:lnTo>
                    <a:lnTo>
                      <a:pt x="20" y="32"/>
                    </a:lnTo>
                    <a:lnTo>
                      <a:pt x="14" y="30"/>
                    </a:lnTo>
                    <a:lnTo>
                      <a:pt x="7" y="25"/>
                    </a:lnTo>
                    <a:lnTo>
                      <a:pt x="1" y="21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3" y="8"/>
                    </a:lnTo>
                    <a:lnTo>
                      <a:pt x="22" y="10"/>
                    </a:lnTo>
                    <a:lnTo>
                      <a:pt x="30" y="11"/>
                    </a:lnTo>
                    <a:lnTo>
                      <a:pt x="42" y="12"/>
                    </a:lnTo>
                    <a:lnTo>
                      <a:pt x="56" y="12"/>
                    </a:lnTo>
                    <a:lnTo>
                      <a:pt x="64" y="12"/>
                    </a:lnTo>
                    <a:lnTo>
                      <a:pt x="75" y="11"/>
                    </a:lnTo>
                    <a:lnTo>
                      <a:pt x="89" y="9"/>
                    </a:lnTo>
                    <a:lnTo>
                      <a:pt x="98" y="6"/>
                    </a:lnTo>
                    <a:lnTo>
                      <a:pt x="107" y="1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50000">
                    <a:srgbClr val="dcdcdc"/>
                  </a:gs>
                  <a:gs pos="100000">
                    <a:srgbClr val="91919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821600" y="4152960"/>
                <a:ext cx="99720" cy="11736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0" y="0"/>
                    </a:moveTo>
                    <a:lnTo>
                      <a:pt x="8" y="29"/>
                    </a:lnTo>
                    <a:lnTo>
                      <a:pt x="13" y="34"/>
                    </a:lnTo>
                    <a:lnTo>
                      <a:pt x="20" y="38"/>
                    </a:lnTo>
                    <a:lnTo>
                      <a:pt x="25" y="38"/>
                    </a:lnTo>
                    <a:lnTo>
                      <a:pt x="20" y="10"/>
                    </a:lnTo>
                    <a:lnTo>
                      <a:pt x="13" y="9"/>
                    </a:lnTo>
                    <a:lnTo>
                      <a:pt x="7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894680" y="4188960"/>
                <a:ext cx="76320" cy="8640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6" y="26"/>
                    </a:moveTo>
                    <a:lnTo>
                      <a:pt x="10" y="28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26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63080" y="4188960"/>
                <a:ext cx="80640" cy="9000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" y="28"/>
                    </a:moveTo>
                    <a:lnTo>
                      <a:pt x="10" y="29"/>
                    </a:lnTo>
                    <a:lnTo>
                      <a:pt x="20" y="2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32560" y="4188960"/>
                <a:ext cx="72720" cy="9000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" y="28"/>
                    </a:moveTo>
                    <a:lnTo>
                      <a:pt x="9" y="29"/>
                    </a:lnTo>
                    <a:lnTo>
                      <a:pt x="15" y="27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1" y="28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093400" y="4179600"/>
                <a:ext cx="72720" cy="961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0" y="31"/>
                    </a:moveTo>
                    <a:lnTo>
                      <a:pt x="7" y="30"/>
                    </a:lnTo>
                    <a:lnTo>
                      <a:pt x="14" y="28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3" y="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143800" y="4159080"/>
                <a:ext cx="79560" cy="1112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6"/>
                    </a:moveTo>
                    <a:lnTo>
                      <a:pt x="8" y="31"/>
                    </a:lnTo>
                    <a:lnTo>
                      <a:pt x="13" y="27"/>
                    </a:lnTo>
                    <a:lnTo>
                      <a:pt x="20" y="0"/>
                    </a:lnTo>
                    <a:lnTo>
                      <a:pt x="11" y="5"/>
                    </a:lnTo>
                    <a:lnTo>
                      <a:pt x="5" y="7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63de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25920" y="4230720"/>
                <a:ext cx="401760" cy="78480"/>
              </a:xfrm>
              <a:custGeom>
                <a:avLst/>
                <a:gdLst/>
                <a:ahLst/>
                <a:rect l="l" t="t" r="r" b="b"/>
                <a:pathLst>
                  <a:path w="105" h="26">
                    <a:moveTo>
                      <a:pt x="6" y="4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4" y="17"/>
                    </a:lnTo>
                    <a:lnTo>
                      <a:pt x="10" y="21"/>
                    </a:lnTo>
                    <a:lnTo>
                      <a:pt x="17" y="23"/>
                    </a:lnTo>
                    <a:lnTo>
                      <a:pt x="37" y="25"/>
                    </a:lnTo>
                    <a:lnTo>
                      <a:pt x="57" y="25"/>
                    </a:lnTo>
                    <a:lnTo>
                      <a:pt x="75" y="25"/>
                    </a:lnTo>
                    <a:lnTo>
                      <a:pt x="83" y="23"/>
                    </a:lnTo>
                    <a:lnTo>
                      <a:pt x="90" y="21"/>
                    </a:lnTo>
                    <a:lnTo>
                      <a:pt x="95" y="17"/>
                    </a:lnTo>
                    <a:lnTo>
                      <a:pt x="101" y="13"/>
                    </a:lnTo>
                    <a:lnTo>
                      <a:pt x="104" y="6"/>
                    </a:lnTo>
                    <a:lnTo>
                      <a:pt x="101" y="2"/>
                    </a:lnTo>
                    <a:lnTo>
                      <a:pt x="97" y="0"/>
                    </a:lnTo>
                    <a:lnTo>
                      <a:pt x="93" y="6"/>
                    </a:lnTo>
                    <a:lnTo>
                      <a:pt x="89" y="9"/>
                    </a:lnTo>
                    <a:lnTo>
                      <a:pt x="84" y="12"/>
                    </a:lnTo>
                    <a:lnTo>
                      <a:pt x="76" y="13"/>
                    </a:lnTo>
                    <a:lnTo>
                      <a:pt x="69" y="14"/>
                    </a:lnTo>
                    <a:lnTo>
                      <a:pt x="62" y="15"/>
                    </a:lnTo>
                    <a:lnTo>
                      <a:pt x="55" y="15"/>
                    </a:lnTo>
                    <a:lnTo>
                      <a:pt x="46" y="15"/>
                    </a:lnTo>
                    <a:lnTo>
                      <a:pt x="36" y="14"/>
                    </a:lnTo>
                    <a:lnTo>
                      <a:pt x="30" y="14"/>
                    </a:lnTo>
                    <a:lnTo>
                      <a:pt x="24" y="13"/>
                    </a:lnTo>
                    <a:lnTo>
                      <a:pt x="16" y="11"/>
                    </a:lnTo>
                    <a:lnTo>
                      <a:pt x="11" y="8"/>
                    </a:lnTo>
                    <a:lnTo>
                      <a:pt x="6" y="4"/>
                    </a:lnTo>
                  </a:path>
                </a:pathLst>
              </a:custGeom>
              <a:gradFill rotWithShape="0">
                <a:gsLst>
                  <a:gs pos="0">
                    <a:srgbClr val="474747"/>
                  </a:gs>
                  <a:gs pos="50000">
                    <a:srgbClr val="ebebeb"/>
                  </a:gs>
                  <a:gs pos="100000">
                    <a:srgbClr val="474747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25920" y="4264200"/>
                <a:ext cx="68400" cy="553680"/>
              </a:xfrm>
              <a:custGeom>
                <a:avLst/>
                <a:gdLst/>
                <a:ahLst/>
                <a:rect l="l" t="t" r="r" b="b"/>
                <a:pathLst>
                  <a:path w="18" h="184">
                    <a:moveTo>
                      <a:pt x="17" y="183"/>
                    </a:moveTo>
                    <a:lnTo>
                      <a:pt x="17" y="12"/>
                    </a:lnTo>
                    <a:lnTo>
                      <a:pt x="11" y="11"/>
                    </a:lnTo>
                    <a:lnTo>
                      <a:pt x="7" y="8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17" y="18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91080" y="4303080"/>
                <a:ext cx="79560" cy="542160"/>
              </a:xfrm>
              <a:custGeom>
                <a:avLst/>
                <a:gdLst/>
                <a:ahLst/>
                <a:rect l="l" t="t" r="r" b="b"/>
                <a:pathLst>
                  <a:path w="21" h="180">
                    <a:moveTo>
                      <a:pt x="0" y="171"/>
                    </a:moveTo>
                    <a:lnTo>
                      <a:pt x="20" y="179"/>
                    </a:lnTo>
                    <a:lnTo>
                      <a:pt x="20" y="1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171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67400" y="4309200"/>
                <a:ext cx="160560" cy="533160"/>
              </a:xfrm>
              <a:custGeom>
                <a:avLst/>
                <a:gdLst/>
                <a:ahLst/>
                <a:rect l="l" t="t" r="r" b="b"/>
                <a:pathLst>
                  <a:path w="42" h="177">
                    <a:moveTo>
                      <a:pt x="0" y="176"/>
                    </a:moveTo>
                    <a:lnTo>
                      <a:pt x="41" y="17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17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24720" y="4285440"/>
                <a:ext cx="68400" cy="557280"/>
              </a:xfrm>
              <a:custGeom>
                <a:avLst/>
                <a:gdLst/>
                <a:ahLst/>
                <a:rect l="l" t="t" r="r" b="b"/>
                <a:pathLst>
                  <a:path w="18" h="185">
                    <a:moveTo>
                      <a:pt x="0" y="184"/>
                    </a:moveTo>
                    <a:lnTo>
                      <a:pt x="17" y="174"/>
                    </a:lnTo>
                    <a:lnTo>
                      <a:pt x="17" y="0"/>
                    </a:lnTo>
                    <a:lnTo>
                      <a:pt x="12" y="3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89880" y="4245840"/>
                <a:ext cx="38160" cy="565920"/>
              </a:xfrm>
              <a:custGeom>
                <a:avLst/>
                <a:gdLst/>
                <a:ahLst/>
                <a:rect l="l" t="t" r="r" b="b"/>
                <a:pathLst>
                  <a:path w="10" h="188">
                    <a:moveTo>
                      <a:pt x="0" y="187"/>
                    </a:moveTo>
                    <a:lnTo>
                      <a:pt x="9" y="171"/>
                    </a:lnTo>
                    <a:lnTo>
                      <a:pt x="9" y="0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0" y="13"/>
                    </a:lnTo>
                    <a:lnTo>
                      <a:pt x="0" y="187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2055240" y="3962880"/>
                <a:ext cx="0" cy="10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66480" y="3797280"/>
                <a:ext cx="23400" cy="27432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0"/>
                    </a:moveTo>
                    <a:lnTo>
                      <a:pt x="0" y="51"/>
                    </a:lnTo>
                    <a:lnTo>
                      <a:pt x="5" y="51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43800" y="3851640"/>
                <a:ext cx="26640" cy="1022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6" y="33"/>
                    </a:move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81240" y="4909320"/>
              <a:ext cx="2488320" cy="500040"/>
            </a:xfrm>
            <a:custGeom>
              <a:avLst/>
              <a:gdLst/>
              <a:ahLst/>
              <a:rect l="l" t="t" r="r" b="b"/>
              <a:pathLst>
                <a:path w="649" h="166">
                  <a:moveTo>
                    <a:pt x="85" y="113"/>
                  </a:moveTo>
                  <a:lnTo>
                    <a:pt x="207" y="99"/>
                  </a:lnTo>
                  <a:lnTo>
                    <a:pt x="0" y="8"/>
                  </a:lnTo>
                  <a:lnTo>
                    <a:pt x="54" y="0"/>
                  </a:lnTo>
                  <a:lnTo>
                    <a:pt x="268" y="91"/>
                  </a:lnTo>
                  <a:lnTo>
                    <a:pt x="598" y="49"/>
                  </a:lnTo>
                  <a:lnTo>
                    <a:pt x="648" y="66"/>
                  </a:lnTo>
                  <a:lnTo>
                    <a:pt x="315" y="113"/>
                  </a:lnTo>
                  <a:lnTo>
                    <a:pt x="404" y="151"/>
                  </a:lnTo>
                  <a:lnTo>
                    <a:pt x="352" y="165"/>
                  </a:lnTo>
                  <a:lnTo>
                    <a:pt x="255" y="123"/>
                  </a:lnTo>
                  <a:lnTo>
                    <a:pt x="141" y="137"/>
                  </a:lnTo>
                  <a:lnTo>
                    <a:pt x="85" y="113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473120" y="4562280"/>
              <a:ext cx="2479320" cy="556920"/>
              <a:chOff x="1473120" y="4562280"/>
              <a:chExt cx="2479320" cy="556920"/>
            </a:xfrm>
          </p:grpSpPr>
          <p:sp>
            <p:nvSpPr>
              <p:cNvPr id="64" name=""/>
              <p:cNvSpPr/>
              <p:nvPr/>
            </p:nvSpPr>
            <p:spPr>
              <a:xfrm>
                <a:off x="1473120" y="4562280"/>
                <a:ext cx="2476080" cy="442800"/>
              </a:xfrm>
              <a:custGeom>
                <a:avLst/>
                <a:gdLst/>
                <a:ahLst/>
                <a:rect l="l" t="t" r="r" b="b"/>
                <a:pathLst>
                  <a:path w="646" h="147">
                    <a:moveTo>
                      <a:pt x="226" y="146"/>
                    </a:moveTo>
                    <a:lnTo>
                      <a:pt x="0" y="44"/>
                    </a:lnTo>
                    <a:lnTo>
                      <a:pt x="45" y="38"/>
                    </a:lnTo>
                    <a:lnTo>
                      <a:pt x="147" y="78"/>
                    </a:lnTo>
                    <a:lnTo>
                      <a:pt x="277" y="59"/>
                    </a:lnTo>
                    <a:lnTo>
                      <a:pt x="169" y="25"/>
                    </a:lnTo>
                    <a:lnTo>
                      <a:pt x="215" y="17"/>
                    </a:lnTo>
                    <a:lnTo>
                      <a:pt x="328" y="52"/>
                    </a:lnTo>
                    <a:lnTo>
                      <a:pt x="436" y="36"/>
                    </a:lnTo>
                    <a:lnTo>
                      <a:pt x="322" y="6"/>
                    </a:lnTo>
                    <a:lnTo>
                      <a:pt x="376" y="0"/>
                    </a:lnTo>
                    <a:lnTo>
                      <a:pt x="645" y="69"/>
                    </a:lnTo>
                    <a:lnTo>
                      <a:pt x="593" y="78"/>
                    </a:lnTo>
                    <a:lnTo>
                      <a:pt x="483" y="48"/>
                    </a:lnTo>
                    <a:lnTo>
                      <a:pt x="366" y="65"/>
                    </a:lnTo>
                    <a:lnTo>
                      <a:pt x="476" y="98"/>
                    </a:lnTo>
                    <a:lnTo>
                      <a:pt x="420" y="109"/>
                    </a:lnTo>
                    <a:lnTo>
                      <a:pt x="312" y="71"/>
                    </a:lnTo>
                    <a:lnTo>
                      <a:pt x="174" y="92"/>
                    </a:lnTo>
                    <a:lnTo>
                      <a:pt x="276" y="137"/>
                    </a:lnTo>
                    <a:lnTo>
                      <a:pt x="226" y="1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39640" y="4971600"/>
                <a:ext cx="202320" cy="12600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51" y="0"/>
                    </a:moveTo>
                    <a:lnTo>
                      <a:pt x="52" y="32"/>
                    </a:lnTo>
                    <a:lnTo>
                      <a:pt x="1" y="41"/>
                    </a:lnTo>
                    <a:lnTo>
                      <a:pt x="0" y="9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73120" y="4694400"/>
                <a:ext cx="873360" cy="403200"/>
              </a:xfrm>
              <a:custGeom>
                <a:avLst/>
                <a:gdLst/>
                <a:ahLst/>
                <a:rect l="l" t="t" r="r" b="b"/>
                <a:pathLst>
                  <a:path w="228" h="134">
                    <a:moveTo>
                      <a:pt x="226" y="102"/>
                    </a:moveTo>
                    <a:lnTo>
                      <a:pt x="227" y="133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226" y="102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39480" y="4776480"/>
                <a:ext cx="543960" cy="126000"/>
              </a:xfrm>
              <a:custGeom>
                <a:avLst/>
                <a:gdLst/>
                <a:ahLst/>
                <a:rect l="l" t="t" r="r" b="b"/>
                <a:pathLst>
                  <a:path w="142" h="42">
                    <a:moveTo>
                      <a:pt x="46" y="41"/>
                    </a:moveTo>
                    <a:lnTo>
                      <a:pt x="141" y="27"/>
                    </a:lnTo>
                    <a:lnTo>
                      <a:pt x="140" y="0"/>
                    </a:lnTo>
                    <a:lnTo>
                      <a:pt x="0" y="21"/>
                    </a:lnTo>
                    <a:lnTo>
                      <a:pt x="46" y="4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76960" y="4779000"/>
                <a:ext cx="413640" cy="21060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0" y="0"/>
                    </a:moveTo>
                    <a:lnTo>
                      <a:pt x="106" y="37"/>
                    </a:lnTo>
                    <a:lnTo>
                      <a:pt x="107" y="69"/>
                    </a:lnTo>
                    <a:lnTo>
                      <a:pt x="1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20400" y="4637880"/>
                <a:ext cx="421560" cy="12276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0" y="0"/>
                    </a:moveTo>
                    <a:lnTo>
                      <a:pt x="1" y="19"/>
                    </a:lnTo>
                    <a:lnTo>
                      <a:pt x="65" y="40"/>
                    </a:lnTo>
                    <a:lnTo>
                      <a:pt x="109" y="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07200" y="4580640"/>
                <a:ext cx="440640" cy="11988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0" y="0"/>
                    </a:moveTo>
                    <a:lnTo>
                      <a:pt x="1" y="23"/>
                    </a:lnTo>
                    <a:lnTo>
                      <a:pt x="53" y="39"/>
                    </a:lnTo>
                    <a:lnTo>
                      <a:pt x="114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79280" y="4706640"/>
                <a:ext cx="452520" cy="108360"/>
              </a:xfrm>
              <a:custGeom>
                <a:avLst/>
                <a:gdLst/>
                <a:ahLst/>
                <a:rect l="l" t="t" r="r" b="b"/>
                <a:pathLst>
                  <a:path w="118" h="36">
                    <a:moveTo>
                      <a:pt x="116" y="0"/>
                    </a:moveTo>
                    <a:lnTo>
                      <a:pt x="117" y="26"/>
                    </a:lnTo>
                    <a:lnTo>
                      <a:pt x="60" y="35"/>
                    </a:lnTo>
                    <a:lnTo>
                      <a:pt x="0" y="17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324240" y="4706640"/>
                <a:ext cx="429120" cy="171000"/>
              </a:xfrm>
              <a:custGeom>
                <a:avLst/>
                <a:gdLst/>
                <a:ahLst/>
                <a:rect l="l" t="t" r="r" b="b"/>
                <a:pathLst>
                  <a:path w="112" h="57">
                    <a:moveTo>
                      <a:pt x="110" y="30"/>
                    </a:moveTo>
                    <a:lnTo>
                      <a:pt x="111" y="56"/>
                    </a:lnTo>
                    <a:lnTo>
                      <a:pt x="1" y="26"/>
                    </a:lnTo>
                    <a:lnTo>
                      <a:pt x="0" y="0"/>
                    </a:lnTo>
                    <a:lnTo>
                      <a:pt x="110" y="30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86280" y="4857480"/>
                <a:ext cx="218880" cy="128880"/>
              </a:xfrm>
              <a:custGeom>
                <a:avLst/>
                <a:gdLst/>
                <a:ahLst/>
                <a:rect l="l" t="t" r="r" b="b"/>
                <a:pathLst>
                  <a:path w="57" h="43">
                    <a:moveTo>
                      <a:pt x="1" y="42"/>
                    </a:moveTo>
                    <a:lnTo>
                      <a:pt x="0" y="11"/>
                    </a:lnTo>
                    <a:lnTo>
                      <a:pt x="55" y="0"/>
                    </a:lnTo>
                    <a:lnTo>
                      <a:pt x="56" y="30"/>
                    </a:lnTo>
                    <a:lnTo>
                      <a:pt x="1" y="4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745800" y="4770360"/>
                <a:ext cx="206640" cy="1076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5"/>
                    </a:moveTo>
                    <a:lnTo>
                      <a:pt x="0" y="9"/>
                    </a:lnTo>
                    <a:lnTo>
                      <a:pt x="52" y="0"/>
                    </a:lnTo>
                    <a:lnTo>
                      <a:pt x="53" y="25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20560" y="5071320"/>
                <a:ext cx="202320" cy="4752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2" y="0"/>
                    </a:moveTo>
                    <a:lnTo>
                      <a:pt x="49" y="7"/>
                    </a:lnTo>
                    <a:lnTo>
                      <a:pt x="1" y="15"/>
                    </a:lnTo>
                    <a:lnTo>
                      <a:pt x="0" y="6"/>
                    </a:lnTo>
                    <a:lnTo>
                      <a:pt x="6" y="8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95440" y="4791600"/>
                <a:ext cx="835920" cy="327600"/>
              </a:xfrm>
              <a:custGeom>
                <a:avLst/>
                <a:gdLst/>
                <a:ahLst/>
                <a:rect l="l" t="t" r="r" b="b"/>
                <a:pathLst>
                  <a:path w="218" h="109">
                    <a:moveTo>
                      <a:pt x="217" y="108"/>
                    </a:moveTo>
                    <a:lnTo>
                      <a:pt x="215" y="98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217" y="10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063600" y="4950360"/>
                <a:ext cx="222480" cy="5112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7" y="0"/>
                    </a:moveTo>
                    <a:lnTo>
                      <a:pt x="53" y="4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6" y="11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91720" y="4863240"/>
                <a:ext cx="379800" cy="138240"/>
              </a:xfrm>
              <a:custGeom>
                <a:avLst/>
                <a:gdLst/>
                <a:ahLst/>
                <a:rect l="l" t="t" r="r" b="b"/>
                <a:pathLst>
                  <a:path w="99" h="46">
                    <a:moveTo>
                      <a:pt x="98" y="38"/>
                    </a:moveTo>
                    <a:lnTo>
                      <a:pt x="98" y="4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98" y="3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12640" y="4857480"/>
                <a:ext cx="383040" cy="6876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99" y="9"/>
                    </a:moveTo>
                    <a:lnTo>
                      <a:pt x="99" y="2"/>
                    </a:lnTo>
                    <a:lnTo>
                      <a:pt x="96" y="0"/>
                    </a:lnTo>
                    <a:lnTo>
                      <a:pt x="0" y="15"/>
                    </a:lnTo>
                    <a:lnTo>
                      <a:pt x="16" y="22"/>
                    </a:lnTo>
                    <a:lnTo>
                      <a:pt x="99" y="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30320" y="4851360"/>
                <a:ext cx="199800" cy="45000"/>
              </a:xfrm>
              <a:custGeom>
                <a:avLst/>
                <a:gdLst/>
                <a:ahLst/>
                <a:rect l="l" t="t" r="r" b="b"/>
                <a:pathLst>
                  <a:path w="52" h="15">
                    <a:moveTo>
                      <a:pt x="51" y="0"/>
                    </a:moveTo>
                    <a:lnTo>
                      <a:pt x="48" y="6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4" y="8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6920" y="4788000"/>
                <a:ext cx="390960" cy="10836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101" y="28"/>
                    </a:moveTo>
                    <a:lnTo>
                      <a:pt x="101" y="3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01" y="2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09680" y="4781880"/>
                <a:ext cx="241560" cy="54360"/>
              </a:xfrm>
              <a:custGeom>
                <a:avLst/>
                <a:gdLst/>
                <a:ahLst/>
                <a:rect l="l" t="t" r="r" b="b"/>
                <a:pathLst>
                  <a:path w="63" h="18">
                    <a:moveTo>
                      <a:pt x="62" y="9"/>
                    </a:moveTo>
                    <a:lnTo>
                      <a:pt x="62" y="2"/>
                    </a:lnTo>
                    <a:lnTo>
                      <a:pt x="56" y="0"/>
                    </a:lnTo>
                    <a:lnTo>
                      <a:pt x="0" y="10"/>
                    </a:lnTo>
                    <a:lnTo>
                      <a:pt x="21" y="17"/>
                    </a:lnTo>
                    <a:lnTo>
                      <a:pt x="62" y="9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7400" y="4700520"/>
                <a:ext cx="225720" cy="720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0"/>
                    </a:moveTo>
                    <a:lnTo>
                      <a:pt x="3" y="10"/>
                    </a:lnTo>
                    <a:lnTo>
                      <a:pt x="36" y="23"/>
                    </a:lnTo>
                    <a:lnTo>
                      <a:pt x="58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34200" y="4655520"/>
                <a:ext cx="187560" cy="5364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0"/>
                    </a:moveTo>
                    <a:lnTo>
                      <a:pt x="2" y="9"/>
                    </a:lnTo>
                    <a:lnTo>
                      <a:pt x="29" y="17"/>
                    </a:lnTo>
                    <a:lnTo>
                      <a:pt x="48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9720" y="3733920"/>
            <a:ext cx="1177920" cy="4554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630520" y="946080"/>
            <a:ext cx="1328400" cy="910440"/>
            <a:chOff x="2630520" y="946080"/>
            <a:chExt cx="1328400" cy="910440"/>
          </a:xfrm>
        </p:grpSpPr>
        <p:sp>
          <p:nvSpPr>
            <p:cNvPr id="87" name=""/>
            <p:cNvSpPr/>
            <p:nvPr/>
          </p:nvSpPr>
          <p:spPr>
            <a:xfrm>
              <a:off x="3061800" y="1042200"/>
              <a:ext cx="515520" cy="131400"/>
            </a:xfrm>
            <a:custGeom>
              <a:avLst/>
              <a:gdLst/>
              <a:ahLst/>
              <a:rect l="l" t="t" r="r" b="b"/>
              <a:pathLst>
                <a:path w="120" h="43">
                  <a:moveTo>
                    <a:pt x="22" y="43"/>
                  </a:moveTo>
                  <a:lnTo>
                    <a:pt x="69" y="43"/>
                  </a:lnTo>
                  <a:lnTo>
                    <a:pt x="91" y="16"/>
                  </a:lnTo>
                  <a:lnTo>
                    <a:pt x="106" y="16"/>
                  </a:lnTo>
                  <a:lnTo>
                    <a:pt x="12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3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0" y="19"/>
                  </a:lnTo>
                  <a:lnTo>
                    <a:pt x="10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9"/>
                  </a:lnTo>
                  <a:lnTo>
                    <a:pt x="59" y="16"/>
                  </a:lnTo>
                  <a:lnTo>
                    <a:pt x="75" y="16"/>
                  </a:lnTo>
                  <a:lnTo>
                    <a:pt x="58" y="36"/>
                  </a:lnTo>
                  <a:lnTo>
                    <a:pt x="18" y="36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20600" y="946080"/>
              <a:ext cx="514440" cy="134280"/>
            </a:xfrm>
            <a:custGeom>
              <a:avLst/>
              <a:gdLst/>
              <a:ahLst/>
              <a:rect l="l" t="t" r="r" b="b"/>
              <a:pathLst>
                <a:path w="120" h="45">
                  <a:moveTo>
                    <a:pt x="97" y="0"/>
                  </a:moveTo>
                  <a:lnTo>
                    <a:pt x="49" y="0"/>
                  </a:lnTo>
                  <a:lnTo>
                    <a:pt x="28" y="27"/>
                  </a:lnTo>
                  <a:lnTo>
                    <a:pt x="12" y="27"/>
                  </a:lnTo>
                  <a:lnTo>
                    <a:pt x="0" y="45"/>
                  </a:lnTo>
                  <a:lnTo>
                    <a:pt x="52" y="45"/>
                  </a:lnTo>
                  <a:lnTo>
                    <a:pt x="57" y="43"/>
                  </a:lnTo>
                  <a:lnTo>
                    <a:pt x="60" y="39"/>
                  </a:lnTo>
                  <a:lnTo>
                    <a:pt x="73" y="26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120" y="24"/>
                  </a:lnTo>
                  <a:lnTo>
                    <a:pt x="110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3" y="13"/>
                  </a:lnTo>
                  <a:lnTo>
                    <a:pt x="59" y="27"/>
                  </a:lnTo>
                  <a:lnTo>
                    <a:pt x="43" y="27"/>
                  </a:lnTo>
                  <a:lnTo>
                    <a:pt x="60" y="7"/>
                  </a:lnTo>
                  <a:lnTo>
                    <a:pt x="102" y="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9120" y="1363320"/>
              <a:ext cx="503640" cy="242280"/>
            </a:xfrm>
            <a:custGeom>
              <a:avLst/>
              <a:gdLst/>
              <a:ahLst/>
              <a:rect l="l" t="t" r="r" b="b"/>
              <a:pathLst>
                <a:path w="117" h="80">
                  <a:moveTo>
                    <a:pt x="117" y="80"/>
                  </a:moveTo>
                  <a:lnTo>
                    <a:pt x="102" y="74"/>
                  </a:lnTo>
                  <a:lnTo>
                    <a:pt x="93" y="52"/>
                  </a:lnTo>
                  <a:lnTo>
                    <a:pt x="96" y="35"/>
                  </a:lnTo>
                  <a:lnTo>
                    <a:pt x="93" y="19"/>
                  </a:lnTo>
                  <a:lnTo>
                    <a:pt x="77" y="7"/>
                  </a:lnTo>
                  <a:lnTo>
                    <a:pt x="46" y="2"/>
                  </a:lnTo>
                  <a:lnTo>
                    <a:pt x="3" y="0"/>
                  </a:lnTo>
                  <a:lnTo>
                    <a:pt x="3" y="12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76"/>
                  </a:lnTo>
                  <a:lnTo>
                    <a:pt x="5" y="78"/>
                  </a:lnTo>
                  <a:lnTo>
                    <a:pt x="14" y="76"/>
                  </a:lnTo>
                  <a:lnTo>
                    <a:pt x="112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639880" y="1312560"/>
              <a:ext cx="1147320" cy="124920"/>
              <a:chOff x="2639880" y="1312560"/>
              <a:chExt cx="1147320" cy="124920"/>
            </a:xfrm>
          </p:grpSpPr>
          <p:sp>
            <p:nvSpPr>
              <p:cNvPr id="91" name=""/>
              <p:cNvSpPr/>
              <p:nvPr/>
            </p:nvSpPr>
            <p:spPr>
              <a:xfrm>
                <a:off x="2639880" y="1312560"/>
                <a:ext cx="1147320" cy="124920"/>
              </a:xfrm>
              <a:custGeom>
                <a:avLst/>
                <a:gdLst/>
                <a:ahLst/>
                <a:rect l="l" t="t" r="r" b="b"/>
                <a:pathLst>
                  <a:path w="267" h="41">
                    <a:moveTo>
                      <a:pt x="0" y="34"/>
                    </a:moveTo>
                    <a:lnTo>
                      <a:pt x="14" y="29"/>
                    </a:lnTo>
                    <a:lnTo>
                      <a:pt x="37" y="24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52" y="0"/>
                    </a:lnTo>
                    <a:lnTo>
                      <a:pt x="178" y="0"/>
                    </a:lnTo>
                    <a:lnTo>
                      <a:pt x="203" y="1"/>
                    </a:lnTo>
                    <a:lnTo>
                      <a:pt x="227" y="3"/>
                    </a:lnTo>
                    <a:lnTo>
                      <a:pt x="253" y="7"/>
                    </a:lnTo>
                    <a:lnTo>
                      <a:pt x="258" y="7"/>
                    </a:lnTo>
                    <a:lnTo>
                      <a:pt x="261" y="8"/>
                    </a:lnTo>
                    <a:lnTo>
                      <a:pt x="267" y="14"/>
                    </a:lnTo>
                    <a:lnTo>
                      <a:pt x="250" y="12"/>
                    </a:lnTo>
                    <a:lnTo>
                      <a:pt x="221" y="8"/>
                    </a:lnTo>
                    <a:lnTo>
                      <a:pt x="194" y="8"/>
                    </a:lnTo>
                    <a:lnTo>
                      <a:pt x="166" y="7"/>
                    </a:lnTo>
                    <a:lnTo>
                      <a:pt x="154" y="8"/>
                    </a:lnTo>
                    <a:lnTo>
                      <a:pt x="141" y="10"/>
                    </a:lnTo>
                    <a:lnTo>
                      <a:pt x="99" y="19"/>
                    </a:lnTo>
                    <a:lnTo>
                      <a:pt x="48" y="31"/>
                    </a:lnTo>
                    <a:lnTo>
                      <a:pt x="0" y="4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39880" y="1312560"/>
                <a:ext cx="1147320" cy="124920"/>
              </a:xfrm>
              <a:custGeom>
                <a:avLst/>
                <a:gdLst/>
                <a:ahLst/>
                <a:rect l="l" t="t" r="r" b="b"/>
                <a:pathLst>
                  <a:path w="267" h="41">
                    <a:moveTo>
                      <a:pt x="0" y="34"/>
                    </a:moveTo>
                    <a:lnTo>
                      <a:pt x="14" y="29"/>
                    </a:lnTo>
                    <a:lnTo>
                      <a:pt x="37" y="24"/>
                    </a:lnTo>
                    <a:lnTo>
                      <a:pt x="139" y="1"/>
                    </a:lnTo>
                    <a:lnTo>
                      <a:pt x="144" y="1"/>
                    </a:lnTo>
                    <a:lnTo>
                      <a:pt x="152" y="0"/>
                    </a:lnTo>
                    <a:lnTo>
                      <a:pt x="178" y="0"/>
                    </a:lnTo>
                    <a:lnTo>
                      <a:pt x="203" y="1"/>
                    </a:lnTo>
                    <a:lnTo>
                      <a:pt x="227" y="3"/>
                    </a:lnTo>
                    <a:lnTo>
                      <a:pt x="253" y="7"/>
                    </a:lnTo>
                    <a:lnTo>
                      <a:pt x="258" y="7"/>
                    </a:lnTo>
                    <a:lnTo>
                      <a:pt x="261" y="8"/>
                    </a:lnTo>
                    <a:lnTo>
                      <a:pt x="267" y="14"/>
                    </a:lnTo>
                    <a:lnTo>
                      <a:pt x="250" y="12"/>
                    </a:lnTo>
                    <a:lnTo>
                      <a:pt x="221" y="8"/>
                    </a:lnTo>
                    <a:lnTo>
                      <a:pt x="194" y="8"/>
                    </a:lnTo>
                    <a:lnTo>
                      <a:pt x="166" y="7"/>
                    </a:lnTo>
                    <a:lnTo>
                      <a:pt x="154" y="8"/>
                    </a:lnTo>
                    <a:lnTo>
                      <a:pt x="141" y="10"/>
                    </a:lnTo>
                    <a:lnTo>
                      <a:pt x="99" y="19"/>
                    </a:lnTo>
                    <a:lnTo>
                      <a:pt x="48" y="31"/>
                    </a:lnTo>
                    <a:lnTo>
                      <a:pt x="0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371400" y="1359000"/>
              <a:ext cx="551520" cy="246600"/>
            </a:xfrm>
            <a:custGeom>
              <a:avLst/>
              <a:gdLst/>
              <a:ahLst/>
              <a:rect l="l" t="t" r="r" b="b"/>
              <a:pathLst>
                <a:path w="129" h="82">
                  <a:moveTo>
                    <a:pt x="3" y="0"/>
                  </a:moveTo>
                  <a:lnTo>
                    <a:pt x="0" y="21"/>
                  </a:lnTo>
                  <a:lnTo>
                    <a:pt x="0" y="38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16" y="80"/>
                  </a:lnTo>
                  <a:lnTo>
                    <a:pt x="75" y="80"/>
                  </a:lnTo>
                  <a:lnTo>
                    <a:pt x="124" y="82"/>
                  </a:lnTo>
                  <a:lnTo>
                    <a:pt x="128" y="82"/>
                  </a:lnTo>
                  <a:lnTo>
                    <a:pt x="129" y="80"/>
                  </a:lnTo>
                  <a:lnTo>
                    <a:pt x="124" y="40"/>
                  </a:lnTo>
                  <a:lnTo>
                    <a:pt x="120" y="12"/>
                  </a:lnTo>
                  <a:lnTo>
                    <a:pt x="118" y="9"/>
                  </a:lnTo>
                  <a:lnTo>
                    <a:pt x="115" y="7"/>
                  </a:lnTo>
                  <a:lnTo>
                    <a:pt x="100" y="5"/>
                  </a:lnTo>
                  <a:lnTo>
                    <a:pt x="81" y="4"/>
                  </a:lnTo>
                  <a:lnTo>
                    <a:pt x="43" y="2"/>
                  </a:lnTo>
                  <a:lnTo>
                    <a:pt x="14" y="0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9880" y="1359000"/>
              <a:ext cx="1319040" cy="364680"/>
            </a:xfrm>
            <a:custGeom>
              <a:avLst/>
              <a:gdLst/>
              <a:ahLst/>
              <a:rect l="l" t="t" r="r" b="b"/>
              <a:pathLst>
                <a:path w="307" h="121">
                  <a:moveTo>
                    <a:pt x="267" y="0"/>
                  </a:moveTo>
                  <a:lnTo>
                    <a:pt x="291" y="5"/>
                  </a:lnTo>
                  <a:lnTo>
                    <a:pt x="294" y="9"/>
                  </a:lnTo>
                  <a:lnTo>
                    <a:pt x="301" y="47"/>
                  </a:lnTo>
                  <a:lnTo>
                    <a:pt x="307" y="94"/>
                  </a:lnTo>
                  <a:lnTo>
                    <a:pt x="307" y="113"/>
                  </a:lnTo>
                  <a:lnTo>
                    <a:pt x="306" y="120"/>
                  </a:lnTo>
                  <a:lnTo>
                    <a:pt x="253" y="118"/>
                  </a:lnTo>
                  <a:lnTo>
                    <a:pt x="206" y="120"/>
                  </a:lnTo>
                  <a:lnTo>
                    <a:pt x="160" y="121"/>
                  </a:lnTo>
                  <a:lnTo>
                    <a:pt x="130" y="121"/>
                  </a:lnTo>
                  <a:lnTo>
                    <a:pt x="88" y="120"/>
                  </a:lnTo>
                  <a:lnTo>
                    <a:pt x="45" y="118"/>
                  </a:lnTo>
                  <a:lnTo>
                    <a:pt x="0" y="116"/>
                  </a:lnTo>
                  <a:lnTo>
                    <a:pt x="1" y="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71160" y="1392480"/>
              <a:ext cx="203400" cy="424800"/>
            </a:xfrm>
            <a:custGeom>
              <a:avLst/>
              <a:gdLst/>
              <a:ahLst/>
              <a:rect l="l" t="t" r="r" b="b"/>
              <a:pathLst>
                <a:path w="48" h="141">
                  <a:moveTo>
                    <a:pt x="10" y="7"/>
                  </a:moveTo>
                  <a:lnTo>
                    <a:pt x="5" y="43"/>
                  </a:lnTo>
                  <a:lnTo>
                    <a:pt x="0" y="69"/>
                  </a:lnTo>
                  <a:lnTo>
                    <a:pt x="0" y="88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2" y="138"/>
                  </a:lnTo>
                  <a:lnTo>
                    <a:pt x="40" y="141"/>
                  </a:lnTo>
                  <a:lnTo>
                    <a:pt x="38" y="109"/>
                  </a:lnTo>
                  <a:lnTo>
                    <a:pt x="38" y="86"/>
                  </a:lnTo>
                  <a:lnTo>
                    <a:pt x="43" y="39"/>
                  </a:lnTo>
                  <a:lnTo>
                    <a:pt x="48" y="0"/>
                  </a:lnTo>
                  <a:lnTo>
                    <a:pt x="10" y="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1080" y="1420200"/>
              <a:ext cx="222120" cy="389880"/>
            </a:xfrm>
            <a:custGeom>
              <a:avLst/>
              <a:gdLst/>
              <a:ahLst/>
              <a:rect l="l" t="t" r="r" b="b"/>
              <a:pathLst>
                <a:path w="51" h="128">
                  <a:moveTo>
                    <a:pt x="51" y="0"/>
                  </a:moveTo>
                  <a:lnTo>
                    <a:pt x="6" y="9"/>
                  </a:lnTo>
                  <a:lnTo>
                    <a:pt x="3" y="36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97"/>
                  </a:lnTo>
                  <a:lnTo>
                    <a:pt x="1" y="121"/>
                  </a:lnTo>
                  <a:lnTo>
                    <a:pt x="45" y="1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6680" y="1440720"/>
              <a:ext cx="72000" cy="17928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2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17" y="3"/>
                  </a:lnTo>
                  <a:lnTo>
                    <a:pt x="17" y="17"/>
                  </a:lnTo>
                  <a:lnTo>
                    <a:pt x="16" y="38"/>
                  </a:lnTo>
                  <a:lnTo>
                    <a:pt x="16" y="55"/>
                  </a:lnTo>
                  <a:lnTo>
                    <a:pt x="14" y="59"/>
                  </a:lnTo>
                  <a:lnTo>
                    <a:pt x="6" y="59"/>
                  </a:lnTo>
                  <a:lnTo>
                    <a:pt x="0" y="59"/>
                  </a:lnTo>
                  <a:lnTo>
                    <a:pt x="1" y="2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62800" y="1464120"/>
              <a:ext cx="86760" cy="16056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3" y="3"/>
                  </a:moveTo>
                  <a:lnTo>
                    <a:pt x="11" y="2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1" y="19"/>
                  </a:lnTo>
                  <a:lnTo>
                    <a:pt x="19" y="50"/>
                  </a:lnTo>
                  <a:lnTo>
                    <a:pt x="18" y="52"/>
                  </a:lnTo>
                  <a:lnTo>
                    <a:pt x="2" y="53"/>
                  </a:lnTo>
                  <a:lnTo>
                    <a:pt x="0" y="5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5360" y="1484640"/>
              <a:ext cx="87120" cy="15192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2" y="3"/>
                  </a:moveTo>
                  <a:lnTo>
                    <a:pt x="18" y="0"/>
                  </a:lnTo>
                  <a:lnTo>
                    <a:pt x="21" y="0"/>
                  </a:lnTo>
                  <a:lnTo>
                    <a:pt x="20" y="17"/>
                  </a:lnTo>
                  <a:lnTo>
                    <a:pt x="18" y="43"/>
                  </a:lnTo>
                  <a:lnTo>
                    <a:pt x="15" y="50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661120" y="1497960"/>
              <a:ext cx="19440" cy="138240"/>
              <a:chOff x="2661120" y="1497960"/>
              <a:chExt cx="19440" cy="138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661120" y="1497960"/>
                <a:ext cx="19440" cy="13824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5" y="19"/>
                    </a:lnTo>
                    <a:lnTo>
                      <a:pt x="3" y="29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61120" y="1497960"/>
                <a:ext cx="19440" cy="13824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5" y="19"/>
                    </a:lnTo>
                    <a:lnTo>
                      <a:pt x="3" y="29"/>
                    </a:lnTo>
                    <a:lnTo>
                      <a:pt x="1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760920" y="1810440"/>
              <a:ext cx="101520" cy="259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lnTo>
                    <a:pt x="0" y="7"/>
                  </a:lnTo>
                  <a:lnTo>
                    <a:pt x="5" y="9"/>
                  </a:lnTo>
                  <a:lnTo>
                    <a:pt x="22" y="7"/>
                  </a:lnTo>
                  <a:lnTo>
                    <a:pt x="22" y="3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630520" y="1706400"/>
              <a:ext cx="1117800" cy="150120"/>
              <a:chOff x="2630520" y="1706400"/>
              <a:chExt cx="1117800" cy="150120"/>
            </a:xfrm>
          </p:grpSpPr>
          <p:sp>
            <p:nvSpPr>
              <p:cNvPr id="105" name=""/>
              <p:cNvSpPr/>
              <p:nvPr/>
            </p:nvSpPr>
            <p:spPr>
              <a:xfrm>
                <a:off x="2630520" y="1706400"/>
                <a:ext cx="1117800" cy="150120"/>
              </a:xfrm>
              <a:custGeom>
                <a:avLst/>
                <a:gdLst/>
                <a:ahLst/>
                <a:rect l="l" t="t" r="r" b="b"/>
                <a:pathLst>
                  <a:path w="260" h="49">
                    <a:moveTo>
                      <a:pt x="2" y="0"/>
                    </a:moveTo>
                    <a:lnTo>
                      <a:pt x="0" y="40"/>
                    </a:lnTo>
                    <a:lnTo>
                      <a:pt x="5" y="40"/>
                    </a:lnTo>
                    <a:lnTo>
                      <a:pt x="10" y="43"/>
                    </a:lnTo>
                    <a:lnTo>
                      <a:pt x="15" y="45"/>
                    </a:lnTo>
                    <a:lnTo>
                      <a:pt x="19" y="42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6" y="45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58" y="47"/>
                    </a:lnTo>
                    <a:lnTo>
                      <a:pt x="189" y="47"/>
                    </a:lnTo>
                    <a:lnTo>
                      <a:pt x="186" y="42"/>
                    </a:lnTo>
                    <a:lnTo>
                      <a:pt x="192" y="47"/>
                    </a:lnTo>
                    <a:lnTo>
                      <a:pt x="200" y="49"/>
                    </a:lnTo>
                    <a:lnTo>
                      <a:pt x="199" y="43"/>
                    </a:lnTo>
                    <a:lnTo>
                      <a:pt x="202" y="43"/>
                    </a:lnTo>
                    <a:lnTo>
                      <a:pt x="204" y="47"/>
                    </a:lnTo>
                    <a:lnTo>
                      <a:pt x="213" y="47"/>
                    </a:lnTo>
                    <a:lnTo>
                      <a:pt x="215" y="36"/>
                    </a:lnTo>
                    <a:lnTo>
                      <a:pt x="213" y="35"/>
                    </a:lnTo>
                    <a:lnTo>
                      <a:pt x="218" y="30"/>
                    </a:lnTo>
                    <a:lnTo>
                      <a:pt x="220" y="35"/>
                    </a:lnTo>
                    <a:lnTo>
                      <a:pt x="215" y="35"/>
                    </a:lnTo>
                    <a:lnTo>
                      <a:pt x="218" y="38"/>
                    </a:lnTo>
                    <a:lnTo>
                      <a:pt x="216" y="47"/>
                    </a:lnTo>
                    <a:lnTo>
                      <a:pt x="234" y="47"/>
                    </a:lnTo>
                    <a:lnTo>
                      <a:pt x="234" y="33"/>
                    </a:lnTo>
                    <a:lnTo>
                      <a:pt x="231" y="31"/>
                    </a:lnTo>
                    <a:lnTo>
                      <a:pt x="231" y="26"/>
                    </a:lnTo>
                    <a:lnTo>
                      <a:pt x="237" y="26"/>
                    </a:lnTo>
                    <a:lnTo>
                      <a:pt x="242" y="28"/>
                    </a:lnTo>
                    <a:lnTo>
                      <a:pt x="252" y="28"/>
                    </a:lnTo>
                    <a:lnTo>
                      <a:pt x="253" y="31"/>
                    </a:lnTo>
                    <a:lnTo>
                      <a:pt x="236" y="30"/>
                    </a:lnTo>
                    <a:lnTo>
                      <a:pt x="237" y="33"/>
                    </a:lnTo>
                    <a:lnTo>
                      <a:pt x="245" y="35"/>
                    </a:lnTo>
                    <a:lnTo>
                      <a:pt x="248" y="33"/>
                    </a:lnTo>
                    <a:lnTo>
                      <a:pt x="260" y="33"/>
                    </a:lnTo>
                    <a:lnTo>
                      <a:pt x="256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30520" y="1706400"/>
                <a:ext cx="1117800" cy="150120"/>
              </a:xfrm>
              <a:custGeom>
                <a:avLst/>
                <a:gdLst/>
                <a:ahLst/>
                <a:rect l="l" t="t" r="r" b="b"/>
                <a:pathLst>
                  <a:path w="260" h="49">
                    <a:moveTo>
                      <a:pt x="2" y="0"/>
                    </a:moveTo>
                    <a:lnTo>
                      <a:pt x="0" y="40"/>
                    </a:lnTo>
                    <a:lnTo>
                      <a:pt x="5" y="40"/>
                    </a:lnTo>
                    <a:lnTo>
                      <a:pt x="10" y="43"/>
                    </a:lnTo>
                    <a:lnTo>
                      <a:pt x="15" y="45"/>
                    </a:lnTo>
                    <a:lnTo>
                      <a:pt x="19" y="42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6" y="45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58" y="47"/>
                    </a:lnTo>
                    <a:lnTo>
                      <a:pt x="189" y="47"/>
                    </a:lnTo>
                    <a:lnTo>
                      <a:pt x="186" y="42"/>
                    </a:lnTo>
                    <a:lnTo>
                      <a:pt x="192" y="47"/>
                    </a:lnTo>
                    <a:lnTo>
                      <a:pt x="200" y="49"/>
                    </a:lnTo>
                    <a:lnTo>
                      <a:pt x="199" y="43"/>
                    </a:lnTo>
                    <a:lnTo>
                      <a:pt x="202" y="43"/>
                    </a:lnTo>
                    <a:lnTo>
                      <a:pt x="204" y="47"/>
                    </a:lnTo>
                    <a:lnTo>
                      <a:pt x="213" y="47"/>
                    </a:lnTo>
                    <a:lnTo>
                      <a:pt x="215" y="36"/>
                    </a:lnTo>
                    <a:lnTo>
                      <a:pt x="213" y="35"/>
                    </a:lnTo>
                    <a:lnTo>
                      <a:pt x="218" y="30"/>
                    </a:lnTo>
                    <a:lnTo>
                      <a:pt x="220" y="35"/>
                    </a:lnTo>
                    <a:lnTo>
                      <a:pt x="215" y="35"/>
                    </a:lnTo>
                    <a:lnTo>
                      <a:pt x="218" y="38"/>
                    </a:lnTo>
                    <a:lnTo>
                      <a:pt x="216" y="47"/>
                    </a:lnTo>
                    <a:lnTo>
                      <a:pt x="234" y="47"/>
                    </a:lnTo>
                    <a:lnTo>
                      <a:pt x="234" y="33"/>
                    </a:lnTo>
                    <a:lnTo>
                      <a:pt x="231" y="31"/>
                    </a:lnTo>
                    <a:lnTo>
                      <a:pt x="231" y="26"/>
                    </a:lnTo>
                    <a:lnTo>
                      <a:pt x="237" y="26"/>
                    </a:lnTo>
                    <a:lnTo>
                      <a:pt x="242" y="28"/>
                    </a:lnTo>
                    <a:lnTo>
                      <a:pt x="252" y="28"/>
                    </a:lnTo>
                    <a:lnTo>
                      <a:pt x="253" y="31"/>
                    </a:lnTo>
                    <a:lnTo>
                      <a:pt x="236" y="30"/>
                    </a:lnTo>
                    <a:lnTo>
                      <a:pt x="237" y="33"/>
                    </a:lnTo>
                    <a:lnTo>
                      <a:pt x="245" y="35"/>
                    </a:lnTo>
                    <a:lnTo>
                      <a:pt x="248" y="33"/>
                    </a:lnTo>
                    <a:lnTo>
                      <a:pt x="260" y="33"/>
                    </a:lnTo>
                    <a:lnTo>
                      <a:pt x="256" y="1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43200" y="1464120"/>
              <a:ext cx="153000" cy="122400"/>
              <a:chOff x="3643200" y="1464120"/>
              <a:chExt cx="153000" cy="122400"/>
            </a:xfrm>
          </p:grpSpPr>
          <p:sp>
            <p:nvSpPr>
              <p:cNvPr id="108" name=""/>
              <p:cNvSpPr/>
              <p:nvPr/>
            </p:nvSpPr>
            <p:spPr>
              <a:xfrm>
                <a:off x="3643200" y="1464120"/>
                <a:ext cx="153000" cy="12240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3" y="0"/>
                    </a:moveTo>
                    <a:lnTo>
                      <a:pt x="0" y="5"/>
                    </a:lnTo>
                    <a:lnTo>
                      <a:pt x="0" y="12"/>
                    </a:lnTo>
                    <a:lnTo>
                      <a:pt x="0" y="41"/>
                    </a:lnTo>
                    <a:lnTo>
                      <a:pt x="36" y="41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43200" y="1464120"/>
                <a:ext cx="153000" cy="12240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3" y="0"/>
                    </a:moveTo>
                    <a:lnTo>
                      <a:pt x="0" y="5"/>
                    </a:lnTo>
                    <a:lnTo>
                      <a:pt x="0" y="12"/>
                    </a:lnTo>
                    <a:lnTo>
                      <a:pt x="0" y="41"/>
                    </a:lnTo>
                    <a:lnTo>
                      <a:pt x="36" y="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630520" y="1703880"/>
              <a:ext cx="1325520" cy="126360"/>
              <a:chOff x="2630520" y="1703880"/>
              <a:chExt cx="1325520" cy="126360"/>
            </a:xfrm>
          </p:grpSpPr>
          <p:sp>
            <p:nvSpPr>
              <p:cNvPr id="111" name=""/>
              <p:cNvSpPr/>
              <p:nvPr/>
            </p:nvSpPr>
            <p:spPr>
              <a:xfrm>
                <a:off x="2630520" y="1703880"/>
                <a:ext cx="1325520" cy="126360"/>
              </a:xfrm>
              <a:custGeom>
                <a:avLst/>
                <a:gdLst/>
                <a:ahLst/>
                <a:rect l="l" t="t" r="r" b="b"/>
                <a:pathLst>
                  <a:path w="308" h="42">
                    <a:moveTo>
                      <a:pt x="308" y="2"/>
                    </a:moveTo>
                    <a:lnTo>
                      <a:pt x="303" y="19"/>
                    </a:lnTo>
                    <a:lnTo>
                      <a:pt x="288" y="35"/>
                    </a:lnTo>
                    <a:lnTo>
                      <a:pt x="261" y="37"/>
                    </a:lnTo>
                    <a:lnTo>
                      <a:pt x="258" y="18"/>
                    </a:lnTo>
                    <a:lnTo>
                      <a:pt x="253" y="16"/>
                    </a:lnTo>
                    <a:lnTo>
                      <a:pt x="213" y="14"/>
                    </a:lnTo>
                    <a:lnTo>
                      <a:pt x="184" y="37"/>
                    </a:lnTo>
                    <a:lnTo>
                      <a:pt x="162" y="26"/>
                    </a:lnTo>
                    <a:lnTo>
                      <a:pt x="144" y="42"/>
                    </a:lnTo>
                    <a:lnTo>
                      <a:pt x="141" y="37"/>
                    </a:lnTo>
                    <a:lnTo>
                      <a:pt x="130" y="38"/>
                    </a:lnTo>
                    <a:lnTo>
                      <a:pt x="98" y="35"/>
                    </a:lnTo>
                    <a:lnTo>
                      <a:pt x="56" y="30"/>
                    </a:lnTo>
                    <a:lnTo>
                      <a:pt x="0" y="2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08" y="2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30520" y="1703880"/>
                <a:ext cx="1325520" cy="126360"/>
              </a:xfrm>
              <a:custGeom>
                <a:avLst/>
                <a:gdLst/>
                <a:ahLst/>
                <a:rect l="l" t="t" r="r" b="b"/>
                <a:pathLst>
                  <a:path w="308" h="42">
                    <a:moveTo>
                      <a:pt x="308" y="2"/>
                    </a:moveTo>
                    <a:lnTo>
                      <a:pt x="303" y="19"/>
                    </a:lnTo>
                    <a:lnTo>
                      <a:pt x="288" y="35"/>
                    </a:lnTo>
                    <a:lnTo>
                      <a:pt x="261" y="37"/>
                    </a:lnTo>
                    <a:lnTo>
                      <a:pt x="258" y="18"/>
                    </a:lnTo>
                    <a:lnTo>
                      <a:pt x="253" y="16"/>
                    </a:lnTo>
                    <a:lnTo>
                      <a:pt x="213" y="14"/>
                    </a:lnTo>
                    <a:lnTo>
                      <a:pt x="184" y="37"/>
                    </a:lnTo>
                    <a:lnTo>
                      <a:pt x="162" y="26"/>
                    </a:lnTo>
                    <a:lnTo>
                      <a:pt x="144" y="42"/>
                    </a:lnTo>
                    <a:lnTo>
                      <a:pt x="141" y="37"/>
                    </a:lnTo>
                    <a:lnTo>
                      <a:pt x="130" y="38"/>
                    </a:lnTo>
                    <a:lnTo>
                      <a:pt x="98" y="35"/>
                    </a:lnTo>
                    <a:lnTo>
                      <a:pt x="56" y="30"/>
                    </a:lnTo>
                    <a:lnTo>
                      <a:pt x="0" y="25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402000" y="1484640"/>
              <a:ext cx="141840" cy="946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5"/>
                  </a:moveTo>
                  <a:lnTo>
                    <a:pt x="0" y="17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6"/>
                  </a:lnTo>
                  <a:lnTo>
                    <a:pt x="33" y="1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96840" y="1620360"/>
              <a:ext cx="120600" cy="3780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23" y="0"/>
                  </a:moveTo>
                  <a:lnTo>
                    <a:pt x="12" y="0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6" y="5"/>
                  </a:lnTo>
                  <a:lnTo>
                    <a:pt x="28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8080" y="1658520"/>
              <a:ext cx="124200" cy="349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5" y="12"/>
                  </a:moveTo>
                  <a:lnTo>
                    <a:pt x="16" y="1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81240" y="2181240"/>
            <a:ext cx="220968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52320" y="1521000"/>
            <a:ext cx="1954440" cy="7524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5770440" y="465120"/>
            <a:ext cx="2362320" cy="2666880"/>
            <a:chOff x="5770440" y="465120"/>
            <a:chExt cx="2362320" cy="2666880"/>
          </a:xfrm>
        </p:grpSpPr>
        <p:sp>
          <p:nvSpPr>
            <p:cNvPr id="119" name=""/>
            <p:cNvSpPr/>
            <p:nvPr/>
          </p:nvSpPr>
          <p:spPr>
            <a:xfrm>
              <a:off x="6402600" y="465120"/>
              <a:ext cx="1697040" cy="2666880"/>
            </a:xfrm>
            <a:custGeom>
              <a:avLst/>
              <a:gdLst/>
              <a:ahLst/>
              <a:rect l="l" t="t" r="r" b="b"/>
              <a:pathLst>
                <a:path w="2067" h="3622">
                  <a:moveTo>
                    <a:pt x="1978" y="168"/>
                  </a:moveTo>
                  <a:lnTo>
                    <a:pt x="1801" y="142"/>
                  </a:lnTo>
                  <a:lnTo>
                    <a:pt x="1757" y="136"/>
                  </a:lnTo>
                  <a:lnTo>
                    <a:pt x="1742" y="116"/>
                  </a:lnTo>
                  <a:lnTo>
                    <a:pt x="1713" y="91"/>
                  </a:lnTo>
                  <a:lnTo>
                    <a:pt x="1684" y="78"/>
                  </a:lnTo>
                  <a:lnTo>
                    <a:pt x="1684" y="52"/>
                  </a:lnTo>
                  <a:lnTo>
                    <a:pt x="1654" y="19"/>
                  </a:lnTo>
                  <a:lnTo>
                    <a:pt x="1618" y="6"/>
                  </a:lnTo>
                  <a:lnTo>
                    <a:pt x="1588" y="0"/>
                  </a:lnTo>
                  <a:lnTo>
                    <a:pt x="1566" y="0"/>
                  </a:lnTo>
                  <a:lnTo>
                    <a:pt x="1515" y="19"/>
                  </a:lnTo>
                  <a:lnTo>
                    <a:pt x="1478" y="58"/>
                  </a:lnTo>
                  <a:lnTo>
                    <a:pt x="1470" y="84"/>
                  </a:lnTo>
                  <a:lnTo>
                    <a:pt x="1441" y="103"/>
                  </a:lnTo>
                  <a:lnTo>
                    <a:pt x="1434" y="129"/>
                  </a:lnTo>
                  <a:lnTo>
                    <a:pt x="1419" y="155"/>
                  </a:lnTo>
                  <a:lnTo>
                    <a:pt x="1397" y="168"/>
                  </a:lnTo>
                  <a:lnTo>
                    <a:pt x="1360" y="181"/>
                  </a:lnTo>
                  <a:lnTo>
                    <a:pt x="1316" y="194"/>
                  </a:lnTo>
                  <a:lnTo>
                    <a:pt x="1272" y="188"/>
                  </a:lnTo>
                  <a:lnTo>
                    <a:pt x="1243" y="188"/>
                  </a:lnTo>
                  <a:lnTo>
                    <a:pt x="1198" y="200"/>
                  </a:lnTo>
                  <a:lnTo>
                    <a:pt x="1162" y="220"/>
                  </a:lnTo>
                  <a:lnTo>
                    <a:pt x="1140" y="220"/>
                  </a:lnTo>
                  <a:lnTo>
                    <a:pt x="1110" y="233"/>
                  </a:lnTo>
                  <a:lnTo>
                    <a:pt x="1073" y="259"/>
                  </a:lnTo>
                  <a:lnTo>
                    <a:pt x="1037" y="304"/>
                  </a:lnTo>
                  <a:lnTo>
                    <a:pt x="1022" y="343"/>
                  </a:lnTo>
                  <a:lnTo>
                    <a:pt x="1007" y="375"/>
                  </a:lnTo>
                  <a:lnTo>
                    <a:pt x="978" y="401"/>
                  </a:lnTo>
                  <a:lnTo>
                    <a:pt x="971" y="420"/>
                  </a:lnTo>
                  <a:lnTo>
                    <a:pt x="956" y="440"/>
                  </a:lnTo>
                  <a:lnTo>
                    <a:pt x="934" y="466"/>
                  </a:lnTo>
                  <a:lnTo>
                    <a:pt x="904" y="491"/>
                  </a:lnTo>
                  <a:lnTo>
                    <a:pt x="904" y="511"/>
                  </a:lnTo>
                  <a:lnTo>
                    <a:pt x="919" y="537"/>
                  </a:lnTo>
                  <a:lnTo>
                    <a:pt x="897" y="556"/>
                  </a:lnTo>
                  <a:lnTo>
                    <a:pt x="897" y="595"/>
                  </a:lnTo>
                  <a:lnTo>
                    <a:pt x="875" y="601"/>
                  </a:lnTo>
                  <a:lnTo>
                    <a:pt x="860" y="647"/>
                  </a:lnTo>
                  <a:lnTo>
                    <a:pt x="831" y="666"/>
                  </a:lnTo>
                  <a:lnTo>
                    <a:pt x="787" y="679"/>
                  </a:lnTo>
                  <a:lnTo>
                    <a:pt x="757" y="692"/>
                  </a:lnTo>
                  <a:lnTo>
                    <a:pt x="735" y="731"/>
                  </a:lnTo>
                  <a:lnTo>
                    <a:pt x="698" y="757"/>
                  </a:lnTo>
                  <a:lnTo>
                    <a:pt x="684" y="808"/>
                  </a:lnTo>
                  <a:lnTo>
                    <a:pt x="662" y="834"/>
                  </a:lnTo>
                  <a:lnTo>
                    <a:pt x="632" y="886"/>
                  </a:lnTo>
                  <a:lnTo>
                    <a:pt x="588" y="931"/>
                  </a:lnTo>
                  <a:lnTo>
                    <a:pt x="573" y="970"/>
                  </a:lnTo>
                  <a:lnTo>
                    <a:pt x="566" y="996"/>
                  </a:lnTo>
                  <a:lnTo>
                    <a:pt x="544" y="1009"/>
                  </a:lnTo>
                  <a:lnTo>
                    <a:pt x="529" y="1022"/>
                  </a:lnTo>
                  <a:lnTo>
                    <a:pt x="529" y="1048"/>
                  </a:lnTo>
                  <a:lnTo>
                    <a:pt x="500" y="1067"/>
                  </a:lnTo>
                  <a:lnTo>
                    <a:pt x="478" y="1099"/>
                  </a:lnTo>
                  <a:lnTo>
                    <a:pt x="478" y="1138"/>
                  </a:lnTo>
                  <a:lnTo>
                    <a:pt x="478" y="1164"/>
                  </a:lnTo>
                  <a:lnTo>
                    <a:pt x="471" y="1183"/>
                  </a:lnTo>
                  <a:lnTo>
                    <a:pt x="463" y="1190"/>
                  </a:lnTo>
                  <a:lnTo>
                    <a:pt x="448" y="1203"/>
                  </a:lnTo>
                  <a:lnTo>
                    <a:pt x="419" y="1209"/>
                  </a:lnTo>
                  <a:lnTo>
                    <a:pt x="412" y="1209"/>
                  </a:lnTo>
                  <a:lnTo>
                    <a:pt x="382" y="1248"/>
                  </a:lnTo>
                  <a:lnTo>
                    <a:pt x="434" y="1267"/>
                  </a:lnTo>
                  <a:lnTo>
                    <a:pt x="404" y="1326"/>
                  </a:lnTo>
                  <a:lnTo>
                    <a:pt x="346" y="1345"/>
                  </a:lnTo>
                  <a:lnTo>
                    <a:pt x="353" y="1371"/>
                  </a:lnTo>
                  <a:lnTo>
                    <a:pt x="331" y="1397"/>
                  </a:lnTo>
                  <a:lnTo>
                    <a:pt x="301" y="1403"/>
                  </a:lnTo>
                  <a:lnTo>
                    <a:pt x="301" y="1429"/>
                  </a:lnTo>
                  <a:lnTo>
                    <a:pt x="265" y="1487"/>
                  </a:lnTo>
                  <a:lnTo>
                    <a:pt x="250" y="1526"/>
                  </a:lnTo>
                  <a:lnTo>
                    <a:pt x="243" y="1584"/>
                  </a:lnTo>
                  <a:lnTo>
                    <a:pt x="206" y="1591"/>
                  </a:lnTo>
                  <a:lnTo>
                    <a:pt x="184" y="1591"/>
                  </a:lnTo>
                  <a:lnTo>
                    <a:pt x="169" y="1617"/>
                  </a:lnTo>
                  <a:lnTo>
                    <a:pt x="132" y="1649"/>
                  </a:lnTo>
                  <a:lnTo>
                    <a:pt x="125" y="1733"/>
                  </a:lnTo>
                  <a:lnTo>
                    <a:pt x="96" y="1778"/>
                  </a:lnTo>
                  <a:lnTo>
                    <a:pt x="88" y="1817"/>
                  </a:lnTo>
                  <a:lnTo>
                    <a:pt x="103" y="1843"/>
                  </a:lnTo>
                  <a:lnTo>
                    <a:pt x="103" y="1882"/>
                  </a:lnTo>
                  <a:lnTo>
                    <a:pt x="81" y="1895"/>
                  </a:lnTo>
                  <a:lnTo>
                    <a:pt x="66" y="1901"/>
                  </a:lnTo>
                  <a:lnTo>
                    <a:pt x="66" y="1920"/>
                  </a:lnTo>
                  <a:lnTo>
                    <a:pt x="74" y="1933"/>
                  </a:lnTo>
                  <a:lnTo>
                    <a:pt x="96" y="1940"/>
                  </a:lnTo>
                  <a:lnTo>
                    <a:pt x="118" y="1920"/>
                  </a:lnTo>
                  <a:lnTo>
                    <a:pt x="110" y="1966"/>
                  </a:lnTo>
                  <a:lnTo>
                    <a:pt x="125" y="2011"/>
                  </a:lnTo>
                  <a:lnTo>
                    <a:pt x="125" y="2037"/>
                  </a:lnTo>
                  <a:lnTo>
                    <a:pt x="110" y="2050"/>
                  </a:lnTo>
                  <a:lnTo>
                    <a:pt x="88" y="2063"/>
                  </a:lnTo>
                  <a:lnTo>
                    <a:pt x="66" y="2082"/>
                  </a:lnTo>
                  <a:lnTo>
                    <a:pt x="66" y="2101"/>
                  </a:lnTo>
                  <a:lnTo>
                    <a:pt x="59" y="2160"/>
                  </a:lnTo>
                  <a:lnTo>
                    <a:pt x="59" y="2173"/>
                  </a:lnTo>
                  <a:lnTo>
                    <a:pt x="37" y="2218"/>
                  </a:lnTo>
                  <a:lnTo>
                    <a:pt x="22" y="2263"/>
                  </a:lnTo>
                  <a:lnTo>
                    <a:pt x="44" y="2315"/>
                  </a:lnTo>
                  <a:lnTo>
                    <a:pt x="0" y="2341"/>
                  </a:lnTo>
                  <a:lnTo>
                    <a:pt x="0" y="2367"/>
                  </a:lnTo>
                  <a:lnTo>
                    <a:pt x="22" y="2399"/>
                  </a:lnTo>
                  <a:lnTo>
                    <a:pt x="29" y="2425"/>
                  </a:lnTo>
                  <a:lnTo>
                    <a:pt x="51" y="2438"/>
                  </a:lnTo>
                  <a:lnTo>
                    <a:pt x="74" y="2444"/>
                  </a:lnTo>
                  <a:lnTo>
                    <a:pt x="110" y="2464"/>
                  </a:lnTo>
                  <a:lnTo>
                    <a:pt x="132" y="2483"/>
                  </a:lnTo>
                  <a:lnTo>
                    <a:pt x="147" y="2515"/>
                  </a:lnTo>
                  <a:lnTo>
                    <a:pt x="154" y="2561"/>
                  </a:lnTo>
                  <a:lnTo>
                    <a:pt x="206" y="2690"/>
                  </a:lnTo>
                  <a:lnTo>
                    <a:pt x="228" y="2722"/>
                  </a:lnTo>
                  <a:lnTo>
                    <a:pt x="250" y="2761"/>
                  </a:lnTo>
                  <a:lnTo>
                    <a:pt x="228" y="2813"/>
                  </a:lnTo>
                  <a:lnTo>
                    <a:pt x="257" y="2877"/>
                  </a:lnTo>
                  <a:lnTo>
                    <a:pt x="279" y="2916"/>
                  </a:lnTo>
                  <a:lnTo>
                    <a:pt x="338" y="2968"/>
                  </a:lnTo>
                  <a:lnTo>
                    <a:pt x="426" y="3000"/>
                  </a:lnTo>
                  <a:lnTo>
                    <a:pt x="500" y="3058"/>
                  </a:lnTo>
                  <a:lnTo>
                    <a:pt x="573" y="3104"/>
                  </a:lnTo>
                  <a:lnTo>
                    <a:pt x="669" y="3214"/>
                  </a:lnTo>
                  <a:lnTo>
                    <a:pt x="728" y="3362"/>
                  </a:lnTo>
                  <a:lnTo>
                    <a:pt x="757" y="3401"/>
                  </a:lnTo>
                  <a:lnTo>
                    <a:pt x="743" y="3427"/>
                  </a:lnTo>
                  <a:lnTo>
                    <a:pt x="706" y="3440"/>
                  </a:lnTo>
                  <a:lnTo>
                    <a:pt x="713" y="3453"/>
                  </a:lnTo>
                  <a:lnTo>
                    <a:pt x="728" y="3498"/>
                  </a:lnTo>
                  <a:lnTo>
                    <a:pt x="721" y="3563"/>
                  </a:lnTo>
                  <a:lnTo>
                    <a:pt x="750" y="3602"/>
                  </a:lnTo>
                  <a:lnTo>
                    <a:pt x="772" y="3608"/>
                  </a:lnTo>
                  <a:lnTo>
                    <a:pt x="779" y="3589"/>
                  </a:lnTo>
                  <a:lnTo>
                    <a:pt x="787" y="3563"/>
                  </a:lnTo>
                  <a:lnTo>
                    <a:pt x="794" y="3550"/>
                  </a:lnTo>
                  <a:lnTo>
                    <a:pt x="816" y="3550"/>
                  </a:lnTo>
                  <a:lnTo>
                    <a:pt x="846" y="3569"/>
                  </a:lnTo>
                  <a:lnTo>
                    <a:pt x="868" y="3589"/>
                  </a:lnTo>
                  <a:lnTo>
                    <a:pt x="912" y="3621"/>
                  </a:lnTo>
                  <a:lnTo>
                    <a:pt x="912" y="3576"/>
                  </a:lnTo>
                  <a:lnTo>
                    <a:pt x="890" y="3550"/>
                  </a:lnTo>
                  <a:lnTo>
                    <a:pt x="890" y="3530"/>
                  </a:lnTo>
                  <a:lnTo>
                    <a:pt x="904" y="3492"/>
                  </a:lnTo>
                  <a:lnTo>
                    <a:pt x="948" y="3427"/>
                  </a:lnTo>
                  <a:lnTo>
                    <a:pt x="941" y="3408"/>
                  </a:lnTo>
                  <a:lnTo>
                    <a:pt x="948" y="3375"/>
                  </a:lnTo>
                  <a:lnTo>
                    <a:pt x="912" y="3324"/>
                  </a:lnTo>
                  <a:lnTo>
                    <a:pt x="919" y="3259"/>
                  </a:lnTo>
                  <a:lnTo>
                    <a:pt x="934" y="3162"/>
                  </a:lnTo>
                  <a:lnTo>
                    <a:pt x="948" y="3097"/>
                  </a:lnTo>
                  <a:lnTo>
                    <a:pt x="978" y="3039"/>
                  </a:lnTo>
                  <a:lnTo>
                    <a:pt x="985" y="2949"/>
                  </a:lnTo>
                  <a:lnTo>
                    <a:pt x="1022" y="2884"/>
                  </a:lnTo>
                  <a:lnTo>
                    <a:pt x="1051" y="2845"/>
                  </a:lnTo>
                  <a:lnTo>
                    <a:pt x="1066" y="2813"/>
                  </a:lnTo>
                  <a:lnTo>
                    <a:pt x="1125" y="2748"/>
                  </a:lnTo>
                  <a:lnTo>
                    <a:pt x="1169" y="2729"/>
                  </a:lnTo>
                  <a:lnTo>
                    <a:pt x="1206" y="2703"/>
                  </a:lnTo>
                  <a:lnTo>
                    <a:pt x="1243" y="2683"/>
                  </a:lnTo>
                  <a:lnTo>
                    <a:pt x="1235" y="2645"/>
                  </a:lnTo>
                  <a:lnTo>
                    <a:pt x="1250" y="2619"/>
                  </a:lnTo>
                  <a:lnTo>
                    <a:pt x="1250" y="2593"/>
                  </a:lnTo>
                  <a:lnTo>
                    <a:pt x="1257" y="2573"/>
                  </a:lnTo>
                  <a:lnTo>
                    <a:pt x="1272" y="2561"/>
                  </a:lnTo>
                  <a:lnTo>
                    <a:pt x="1301" y="2548"/>
                  </a:lnTo>
                  <a:lnTo>
                    <a:pt x="1338" y="2509"/>
                  </a:lnTo>
                  <a:lnTo>
                    <a:pt x="1368" y="2457"/>
                  </a:lnTo>
                  <a:lnTo>
                    <a:pt x="1382" y="2425"/>
                  </a:lnTo>
                  <a:lnTo>
                    <a:pt x="1397" y="2399"/>
                  </a:lnTo>
                  <a:lnTo>
                    <a:pt x="1478" y="2283"/>
                  </a:lnTo>
                  <a:lnTo>
                    <a:pt x="1500" y="2270"/>
                  </a:lnTo>
                  <a:lnTo>
                    <a:pt x="1470" y="2231"/>
                  </a:lnTo>
                  <a:lnTo>
                    <a:pt x="1456" y="2192"/>
                  </a:lnTo>
                  <a:lnTo>
                    <a:pt x="1485" y="2140"/>
                  </a:lnTo>
                  <a:lnTo>
                    <a:pt x="1507" y="2101"/>
                  </a:lnTo>
                  <a:lnTo>
                    <a:pt x="1544" y="2056"/>
                  </a:lnTo>
                  <a:lnTo>
                    <a:pt x="1559" y="1998"/>
                  </a:lnTo>
                  <a:lnTo>
                    <a:pt x="1588" y="1927"/>
                  </a:lnTo>
                  <a:lnTo>
                    <a:pt x="1588" y="1895"/>
                  </a:lnTo>
                  <a:lnTo>
                    <a:pt x="1581" y="1875"/>
                  </a:lnTo>
                  <a:lnTo>
                    <a:pt x="1588" y="1830"/>
                  </a:lnTo>
                  <a:lnTo>
                    <a:pt x="1595" y="1785"/>
                  </a:lnTo>
                  <a:lnTo>
                    <a:pt x="1610" y="1701"/>
                  </a:lnTo>
                  <a:lnTo>
                    <a:pt x="1610" y="1681"/>
                  </a:lnTo>
                  <a:lnTo>
                    <a:pt x="1618" y="1655"/>
                  </a:lnTo>
                  <a:lnTo>
                    <a:pt x="1632" y="1623"/>
                  </a:lnTo>
                  <a:lnTo>
                    <a:pt x="1640" y="1597"/>
                  </a:lnTo>
                  <a:lnTo>
                    <a:pt x="1640" y="1578"/>
                  </a:lnTo>
                  <a:lnTo>
                    <a:pt x="1647" y="1558"/>
                  </a:lnTo>
                  <a:lnTo>
                    <a:pt x="1669" y="1507"/>
                  </a:lnTo>
                  <a:lnTo>
                    <a:pt x="1676" y="1461"/>
                  </a:lnTo>
                  <a:lnTo>
                    <a:pt x="1669" y="1448"/>
                  </a:lnTo>
                  <a:lnTo>
                    <a:pt x="1676" y="1423"/>
                  </a:lnTo>
                  <a:lnTo>
                    <a:pt x="1676" y="1416"/>
                  </a:lnTo>
                  <a:lnTo>
                    <a:pt x="1698" y="1384"/>
                  </a:lnTo>
                  <a:lnTo>
                    <a:pt x="1720" y="1345"/>
                  </a:lnTo>
                  <a:lnTo>
                    <a:pt x="1728" y="1332"/>
                  </a:lnTo>
                  <a:lnTo>
                    <a:pt x="1698" y="1267"/>
                  </a:lnTo>
                  <a:lnTo>
                    <a:pt x="1720" y="1235"/>
                  </a:lnTo>
                  <a:lnTo>
                    <a:pt x="1728" y="1209"/>
                  </a:lnTo>
                  <a:lnTo>
                    <a:pt x="1735" y="1170"/>
                  </a:lnTo>
                  <a:lnTo>
                    <a:pt x="1757" y="1138"/>
                  </a:lnTo>
                  <a:lnTo>
                    <a:pt x="1787" y="1112"/>
                  </a:lnTo>
                  <a:lnTo>
                    <a:pt x="1831" y="1086"/>
                  </a:lnTo>
                  <a:lnTo>
                    <a:pt x="1853" y="1054"/>
                  </a:lnTo>
                  <a:lnTo>
                    <a:pt x="1853" y="1022"/>
                  </a:lnTo>
                  <a:lnTo>
                    <a:pt x="1853" y="1002"/>
                  </a:lnTo>
                  <a:lnTo>
                    <a:pt x="1860" y="951"/>
                  </a:lnTo>
                  <a:lnTo>
                    <a:pt x="1867" y="944"/>
                  </a:lnTo>
                  <a:lnTo>
                    <a:pt x="1875" y="925"/>
                  </a:lnTo>
                  <a:lnTo>
                    <a:pt x="1890" y="892"/>
                  </a:lnTo>
                  <a:lnTo>
                    <a:pt x="1897" y="886"/>
                  </a:lnTo>
                  <a:lnTo>
                    <a:pt x="1912" y="873"/>
                  </a:lnTo>
                  <a:lnTo>
                    <a:pt x="1963" y="847"/>
                  </a:lnTo>
                  <a:lnTo>
                    <a:pt x="1941" y="828"/>
                  </a:lnTo>
                  <a:lnTo>
                    <a:pt x="1934" y="821"/>
                  </a:lnTo>
                  <a:lnTo>
                    <a:pt x="1934" y="815"/>
                  </a:lnTo>
                  <a:lnTo>
                    <a:pt x="1963" y="795"/>
                  </a:lnTo>
                  <a:lnTo>
                    <a:pt x="1948" y="744"/>
                  </a:lnTo>
                  <a:lnTo>
                    <a:pt x="1963" y="724"/>
                  </a:lnTo>
                  <a:lnTo>
                    <a:pt x="1970" y="711"/>
                  </a:lnTo>
                  <a:lnTo>
                    <a:pt x="1934" y="698"/>
                  </a:lnTo>
                  <a:lnTo>
                    <a:pt x="1912" y="653"/>
                  </a:lnTo>
                  <a:lnTo>
                    <a:pt x="1904" y="614"/>
                  </a:lnTo>
                  <a:lnTo>
                    <a:pt x="1904" y="575"/>
                  </a:lnTo>
                  <a:lnTo>
                    <a:pt x="1897" y="530"/>
                  </a:lnTo>
                  <a:lnTo>
                    <a:pt x="1890" y="491"/>
                  </a:lnTo>
                  <a:lnTo>
                    <a:pt x="1890" y="466"/>
                  </a:lnTo>
                  <a:lnTo>
                    <a:pt x="1919" y="407"/>
                  </a:lnTo>
                  <a:lnTo>
                    <a:pt x="1926" y="381"/>
                  </a:lnTo>
                  <a:lnTo>
                    <a:pt x="1970" y="349"/>
                  </a:lnTo>
                  <a:lnTo>
                    <a:pt x="1992" y="323"/>
                  </a:lnTo>
                  <a:lnTo>
                    <a:pt x="2015" y="304"/>
                  </a:lnTo>
                  <a:lnTo>
                    <a:pt x="2066" y="291"/>
                  </a:lnTo>
                  <a:lnTo>
                    <a:pt x="2066" y="285"/>
                  </a:lnTo>
                  <a:lnTo>
                    <a:pt x="2000" y="272"/>
                  </a:lnTo>
                  <a:lnTo>
                    <a:pt x="1992" y="259"/>
                  </a:lnTo>
                  <a:lnTo>
                    <a:pt x="2000" y="239"/>
                  </a:lnTo>
                  <a:lnTo>
                    <a:pt x="1992" y="233"/>
                  </a:lnTo>
                  <a:lnTo>
                    <a:pt x="1970" y="200"/>
                  </a:lnTo>
                  <a:lnTo>
                    <a:pt x="1978" y="168"/>
                  </a:lnTo>
                </a:path>
              </a:pathLst>
            </a:custGeom>
            <a:gradFill rotWithShape="0">
              <a:gsLst>
                <a:gs pos="0">
                  <a:srgbClr val="a2ffa3"/>
                </a:gs>
                <a:gs pos="100000">
                  <a:srgbClr val="e2fee2"/>
                </a:gs>
              </a:gsLst>
              <a:lin ang="8100000"/>
            </a:gradFill>
            <a:ln cap="rnd" w="12600">
              <a:solidFill>
                <a:srgbClr val="a2c1fe"/>
              </a:solidFill>
              <a:round/>
            </a:ln>
            <a:effectLst>
              <a:outerShdw dist="114480" dir="0" blurRad="0" rotWithShape="0">
                <a:srgbClr val="a2c1f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770440" y="465120"/>
              <a:ext cx="236232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6248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一  創造迅速便捷舒適之運輸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00600" y="3576600"/>
            <a:ext cx="3504960" cy="1979640"/>
            <a:chOff x="4800600" y="3576600"/>
            <a:chExt cx="3504960" cy="1979640"/>
          </a:xfrm>
        </p:grpSpPr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4800600" y="4083120"/>
              <a:ext cx="1038960" cy="11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675400" y="3576600"/>
              <a:ext cx="2628720" cy="1275480"/>
            </a:xfrm>
            <a:prstGeom prst="rect">
              <a:avLst/>
            </a:prstGeom>
            <a:solidFill>
              <a:srgbClr val="c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13640" y="3709080"/>
              <a:ext cx="2302560" cy="1169640"/>
              <a:chOff x="5813640" y="3709080"/>
              <a:chExt cx="2302560" cy="11696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406920" y="3981960"/>
                <a:ext cx="242640" cy="896040"/>
                <a:chOff x="6406920" y="3981960"/>
                <a:chExt cx="242640" cy="896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444720" y="4046400"/>
                  <a:ext cx="204840" cy="8316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406920" y="4040640"/>
                  <a:ext cx="75600" cy="83592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417360" y="3981960"/>
                  <a:ext cx="59040" cy="79560"/>
                </a:xfrm>
                <a:custGeom>
                  <a:avLst/>
                  <a:gdLst/>
                  <a:ahLst/>
                  <a:rect l="l" t="t" r="r" b="b"/>
                  <a:pathLst>
                    <a:path w="118" h="211">
                      <a:moveTo>
                        <a:pt x="118" y="211"/>
                      </a:moveTo>
                      <a:lnTo>
                        <a:pt x="118" y="21"/>
                      </a:lnTo>
                      <a:lnTo>
                        <a:pt x="0" y="0"/>
                      </a:lnTo>
                      <a:lnTo>
                        <a:pt x="4" y="211"/>
                      </a:lnTo>
                      <a:lnTo>
                        <a:pt x="118" y="21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474960" y="3981960"/>
                  <a:ext cx="174600" cy="127800"/>
                </a:xfrm>
                <a:custGeom>
                  <a:avLst/>
                  <a:gdLst/>
                  <a:ahLst/>
                  <a:rect l="l" t="t" r="r" b="b"/>
                  <a:pathLst>
                    <a:path w="343" h="341">
                      <a:moveTo>
                        <a:pt x="0" y="0"/>
                      </a:moveTo>
                      <a:lnTo>
                        <a:pt x="343" y="177"/>
                      </a:lnTo>
                      <a:lnTo>
                        <a:pt x="343" y="341"/>
                      </a:lnTo>
                      <a:lnTo>
                        <a:pt x="0" y="1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13640" y="3709080"/>
                <a:ext cx="620280" cy="1167840"/>
                <a:chOff x="5813640" y="3709080"/>
                <a:chExt cx="620280" cy="1167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062760" y="3709080"/>
                  <a:ext cx="16560" cy="82800"/>
                </a:xfrm>
                <a:custGeom>
                  <a:avLst/>
                  <a:gdLst/>
                  <a:ahLst/>
                  <a:rect l="l" t="t" r="r" b="b"/>
                  <a:pathLst>
                    <a:path w="33" h="220">
                      <a:moveTo>
                        <a:pt x="0" y="220"/>
                      </a:moveTo>
                      <a:lnTo>
                        <a:pt x="0" y="0"/>
                      </a:lnTo>
                      <a:lnTo>
                        <a:pt x="33" y="8"/>
                      </a:lnTo>
                      <a:lnTo>
                        <a:pt x="33" y="205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21720" y="3780000"/>
                  <a:ext cx="97200" cy="45000"/>
                </a:xfrm>
                <a:custGeom>
                  <a:avLst/>
                  <a:gdLst/>
                  <a:ahLst/>
                  <a:rect l="l" t="t" r="r" b="b"/>
                  <a:pathLst>
                    <a:path w="194" h="119">
                      <a:moveTo>
                        <a:pt x="0" y="119"/>
                      </a:moveTo>
                      <a:lnTo>
                        <a:pt x="0" y="29"/>
                      </a:lnTo>
                      <a:lnTo>
                        <a:pt x="194" y="0"/>
                      </a:lnTo>
                      <a:lnTo>
                        <a:pt x="194" y="89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16040" y="3780000"/>
                  <a:ext cx="42480" cy="28080"/>
                </a:xfrm>
                <a:custGeom>
                  <a:avLst/>
                  <a:gdLst/>
                  <a:ahLst/>
                  <a:rect l="l" t="t" r="r" b="b"/>
                  <a:pathLst>
                    <a:path w="83" h="78">
                      <a:moveTo>
                        <a:pt x="0" y="67"/>
                      </a:moveTo>
                      <a:lnTo>
                        <a:pt x="0" y="0"/>
                      </a:lnTo>
                      <a:lnTo>
                        <a:pt x="83" y="29"/>
                      </a:lnTo>
                      <a:lnTo>
                        <a:pt x="72" y="78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57880" y="3810240"/>
                  <a:ext cx="95400" cy="91800"/>
                </a:xfrm>
                <a:custGeom>
                  <a:avLst/>
                  <a:gdLst/>
                  <a:ahLst/>
                  <a:rect l="l" t="t" r="r" b="b"/>
                  <a:pathLst>
                    <a:path w="189" h="242">
                      <a:moveTo>
                        <a:pt x="160" y="0"/>
                      </a:moveTo>
                      <a:lnTo>
                        <a:pt x="0" y="43"/>
                      </a:lnTo>
                      <a:lnTo>
                        <a:pt x="48" y="242"/>
                      </a:lnTo>
                      <a:lnTo>
                        <a:pt x="189" y="195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206040" y="3785760"/>
                  <a:ext cx="227880" cy="1091160"/>
                </a:xfrm>
                <a:custGeom>
                  <a:avLst/>
                  <a:gdLst/>
                  <a:ahLst/>
                  <a:rect l="l" t="t" r="r" b="b"/>
                  <a:pathLst>
                    <a:path w="450" h="2895">
                      <a:moveTo>
                        <a:pt x="0" y="2314"/>
                      </a:moveTo>
                      <a:lnTo>
                        <a:pt x="0" y="1797"/>
                      </a:lnTo>
                      <a:lnTo>
                        <a:pt x="66" y="1609"/>
                      </a:lnTo>
                      <a:lnTo>
                        <a:pt x="66" y="0"/>
                      </a:lnTo>
                      <a:lnTo>
                        <a:pt x="262" y="139"/>
                      </a:lnTo>
                      <a:lnTo>
                        <a:pt x="262" y="60"/>
                      </a:lnTo>
                      <a:lnTo>
                        <a:pt x="425" y="179"/>
                      </a:lnTo>
                      <a:lnTo>
                        <a:pt x="425" y="257"/>
                      </a:lnTo>
                      <a:lnTo>
                        <a:pt x="450" y="296"/>
                      </a:lnTo>
                      <a:lnTo>
                        <a:pt x="450" y="2895"/>
                      </a:lnTo>
                      <a:lnTo>
                        <a:pt x="65" y="2895"/>
                      </a:lnTo>
                      <a:lnTo>
                        <a:pt x="0" y="2892"/>
                      </a:lnTo>
                      <a:lnTo>
                        <a:pt x="0" y="231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814720" y="3785760"/>
                  <a:ext cx="427320" cy="1091160"/>
                </a:xfrm>
                <a:custGeom>
                  <a:avLst/>
                  <a:gdLst/>
                  <a:ahLst/>
                  <a:rect l="l" t="t" r="r" b="b"/>
                  <a:pathLst>
                    <a:path w="841" h="2895">
                      <a:moveTo>
                        <a:pt x="0" y="2895"/>
                      </a:moveTo>
                      <a:lnTo>
                        <a:pt x="0" y="1799"/>
                      </a:lnTo>
                      <a:lnTo>
                        <a:pt x="70" y="1616"/>
                      </a:lnTo>
                      <a:lnTo>
                        <a:pt x="70" y="196"/>
                      </a:lnTo>
                      <a:lnTo>
                        <a:pt x="108" y="114"/>
                      </a:lnTo>
                      <a:lnTo>
                        <a:pt x="841" y="0"/>
                      </a:lnTo>
                      <a:lnTo>
                        <a:pt x="841" y="1620"/>
                      </a:lnTo>
                      <a:lnTo>
                        <a:pt x="778" y="1808"/>
                      </a:lnTo>
                      <a:lnTo>
                        <a:pt x="778" y="2895"/>
                      </a:lnTo>
                      <a:lnTo>
                        <a:pt x="0" y="289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5827320" y="4548600"/>
                  <a:ext cx="371160" cy="77760"/>
                  <a:chOff x="5827320" y="4548600"/>
                  <a:chExt cx="371160" cy="7776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828400" y="4548600"/>
                    <a:ext cx="36972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827320" y="4574160"/>
                    <a:ext cx="37116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827320" y="4625280"/>
                    <a:ext cx="37116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827320" y="4600800"/>
                    <a:ext cx="37116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397560" y="3894480"/>
                  <a:ext cx="16560" cy="588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98920" y="3849480"/>
                  <a:ext cx="16560" cy="588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62640" y="3876480"/>
                  <a:ext cx="16560" cy="588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333840" y="3861360"/>
                  <a:ext cx="16560" cy="587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66880" y="3831120"/>
                  <a:ext cx="16560" cy="587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850000" y="3785760"/>
                  <a:ext cx="392040" cy="78480"/>
                </a:xfrm>
                <a:custGeom>
                  <a:avLst/>
                  <a:gdLst/>
                  <a:ahLst/>
                  <a:rect l="l" t="t" r="r" b="b"/>
                  <a:pathLst>
                    <a:path w="775" h="207">
                      <a:moveTo>
                        <a:pt x="0" y="207"/>
                      </a:moveTo>
                      <a:lnTo>
                        <a:pt x="42" y="118"/>
                      </a:lnTo>
                      <a:lnTo>
                        <a:pt x="775" y="0"/>
                      </a:lnTo>
                      <a:lnTo>
                        <a:pt x="775" y="114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13640" y="4396320"/>
                  <a:ext cx="428760" cy="72360"/>
                </a:xfrm>
                <a:custGeom>
                  <a:avLst/>
                  <a:gdLst/>
                  <a:ahLst/>
                  <a:rect l="l" t="t" r="r" b="b"/>
                  <a:pathLst>
                    <a:path w="845" h="190">
                      <a:moveTo>
                        <a:pt x="75" y="0"/>
                      </a:moveTo>
                      <a:lnTo>
                        <a:pt x="845" y="0"/>
                      </a:lnTo>
                      <a:lnTo>
                        <a:pt x="782" y="190"/>
                      </a:lnTo>
                      <a:lnTo>
                        <a:pt x="0" y="19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122160" y="3832560"/>
                  <a:ext cx="56160" cy="637200"/>
                </a:xfrm>
                <a:custGeom>
                  <a:avLst/>
                  <a:gdLst/>
                  <a:ahLst/>
                  <a:rect l="l" t="t" r="r" b="b"/>
                  <a:pathLst>
                    <a:path w="111" h="1691">
                      <a:moveTo>
                        <a:pt x="111" y="0"/>
                      </a:moveTo>
                      <a:lnTo>
                        <a:pt x="111" y="1500"/>
                      </a:lnTo>
                      <a:lnTo>
                        <a:pt x="42" y="1691"/>
                      </a:lnTo>
                      <a:lnTo>
                        <a:pt x="0" y="1691"/>
                      </a:lnTo>
                      <a:lnTo>
                        <a:pt x="71" y="1501"/>
                      </a:lnTo>
                      <a:lnTo>
                        <a:pt x="71" y="4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61680" y="3838680"/>
                  <a:ext cx="51480" cy="631080"/>
                </a:xfrm>
                <a:custGeom>
                  <a:avLst/>
                  <a:gdLst/>
                  <a:ahLst/>
                  <a:rect l="l" t="t" r="r" b="b"/>
                  <a:pathLst>
                    <a:path w="101" h="1674">
                      <a:moveTo>
                        <a:pt x="0" y="1672"/>
                      </a:moveTo>
                      <a:lnTo>
                        <a:pt x="65" y="1483"/>
                      </a:lnTo>
                      <a:lnTo>
                        <a:pt x="65" y="3"/>
                      </a:lnTo>
                      <a:lnTo>
                        <a:pt x="101" y="0"/>
                      </a:lnTo>
                      <a:lnTo>
                        <a:pt x="101" y="1487"/>
                      </a:lnTo>
                      <a:lnTo>
                        <a:pt x="39" y="1674"/>
                      </a:lnTo>
                      <a:lnTo>
                        <a:pt x="0" y="167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92920" y="3844440"/>
                  <a:ext cx="54720" cy="623880"/>
                </a:xfrm>
                <a:custGeom>
                  <a:avLst/>
                  <a:gdLst/>
                  <a:ahLst/>
                  <a:rect l="l" t="t" r="r" b="b"/>
                  <a:pathLst>
                    <a:path w="106" h="1656">
                      <a:moveTo>
                        <a:pt x="67" y="6"/>
                      </a:moveTo>
                      <a:lnTo>
                        <a:pt x="106" y="0"/>
                      </a:lnTo>
                      <a:lnTo>
                        <a:pt x="106" y="1477"/>
                      </a:lnTo>
                      <a:lnTo>
                        <a:pt x="44" y="1656"/>
                      </a:lnTo>
                      <a:lnTo>
                        <a:pt x="0" y="1656"/>
                      </a:lnTo>
                      <a:lnTo>
                        <a:pt x="67" y="1471"/>
                      </a:lnTo>
                      <a:lnTo>
                        <a:pt x="67" y="6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5960" y="3850920"/>
                  <a:ext cx="56160" cy="619200"/>
                </a:xfrm>
                <a:custGeom>
                  <a:avLst/>
                  <a:gdLst/>
                  <a:ahLst/>
                  <a:rect l="l" t="t" r="r" b="b"/>
                  <a:pathLst>
                    <a:path w="111" h="1642">
                      <a:moveTo>
                        <a:pt x="72" y="3"/>
                      </a:moveTo>
                      <a:lnTo>
                        <a:pt x="111" y="0"/>
                      </a:lnTo>
                      <a:lnTo>
                        <a:pt x="111" y="1457"/>
                      </a:lnTo>
                      <a:lnTo>
                        <a:pt x="46" y="1642"/>
                      </a:lnTo>
                      <a:lnTo>
                        <a:pt x="0" y="1642"/>
                      </a:lnTo>
                      <a:lnTo>
                        <a:pt x="72" y="1455"/>
                      </a:lnTo>
                      <a:lnTo>
                        <a:pt x="72" y="3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865120" y="3857040"/>
                  <a:ext cx="54720" cy="611640"/>
                </a:xfrm>
                <a:custGeom>
                  <a:avLst/>
                  <a:gdLst/>
                  <a:ahLst/>
                  <a:rect l="l" t="t" r="r" b="b"/>
                  <a:pathLst>
                    <a:path w="107" h="1622">
                      <a:moveTo>
                        <a:pt x="66" y="4"/>
                      </a:moveTo>
                      <a:lnTo>
                        <a:pt x="107" y="0"/>
                      </a:lnTo>
                      <a:lnTo>
                        <a:pt x="107" y="1437"/>
                      </a:lnTo>
                      <a:lnTo>
                        <a:pt x="37" y="1622"/>
                      </a:lnTo>
                      <a:lnTo>
                        <a:pt x="0" y="1622"/>
                      </a:lnTo>
                      <a:lnTo>
                        <a:pt x="66" y="1438"/>
                      </a:lnTo>
                      <a:lnTo>
                        <a:pt x="66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496560" y="4520160"/>
                <a:ext cx="95760" cy="358200"/>
                <a:chOff x="6496560" y="4520160"/>
                <a:chExt cx="95760" cy="358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496560" y="4520160"/>
                  <a:ext cx="95760" cy="358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519240" y="4539600"/>
                  <a:ext cx="19440" cy="127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49480" y="4539600"/>
                  <a:ext cx="18000" cy="127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507000" y="4563720"/>
                  <a:ext cx="74160" cy="108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511680" y="4590720"/>
                  <a:ext cx="74160" cy="144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07000" y="4613040"/>
                  <a:ext cx="75600" cy="144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11680" y="4638960"/>
                  <a:ext cx="74160" cy="144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895080" y="4339080"/>
                <a:ext cx="289800" cy="537840"/>
                <a:chOff x="6895080" y="4339080"/>
                <a:chExt cx="289800" cy="537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072560" y="4385520"/>
                  <a:ext cx="112320" cy="49104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895080" y="4339080"/>
                  <a:ext cx="223200" cy="537840"/>
                </a:xfrm>
                <a:custGeom>
                  <a:avLst/>
                  <a:gdLst/>
                  <a:ahLst/>
                  <a:rect l="l" t="t" r="r" b="b"/>
                  <a:pathLst>
                    <a:path w="441" h="1427">
                      <a:moveTo>
                        <a:pt x="0" y="34"/>
                      </a:moveTo>
                      <a:lnTo>
                        <a:pt x="0" y="1427"/>
                      </a:lnTo>
                      <a:lnTo>
                        <a:pt x="441" y="1427"/>
                      </a:lnTo>
                      <a:lnTo>
                        <a:pt x="441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112520" y="4339080"/>
                  <a:ext cx="72360" cy="91800"/>
                </a:xfrm>
                <a:custGeom>
                  <a:avLst/>
                  <a:gdLst/>
                  <a:ahLst/>
                  <a:rect l="l" t="t" r="r" b="b"/>
                  <a:pathLst>
                    <a:path w="143" h="245">
                      <a:moveTo>
                        <a:pt x="0" y="0"/>
                      </a:moveTo>
                      <a:lnTo>
                        <a:pt x="143" y="126"/>
                      </a:lnTo>
                      <a:lnTo>
                        <a:pt x="143" y="245"/>
                      </a:lnTo>
                      <a:lnTo>
                        <a:pt x="0" y="1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16320" y="4405320"/>
                  <a:ext cx="22680" cy="227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057440" y="4408200"/>
                  <a:ext cx="21240" cy="228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2640" y="4444200"/>
                  <a:ext cx="20340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906960" y="4487760"/>
                  <a:ext cx="19152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04080" y="4539240"/>
                  <a:ext cx="19404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911640" y="4582800"/>
                  <a:ext cx="186480" cy="10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882560" y="4265280"/>
                <a:ext cx="233640" cy="611280"/>
                <a:chOff x="7882560" y="4265280"/>
                <a:chExt cx="233640" cy="611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990200" y="4265280"/>
                  <a:ext cx="75960" cy="66240"/>
                </a:xfrm>
                <a:custGeom>
                  <a:avLst/>
                  <a:gdLst/>
                  <a:ahLst/>
                  <a:rect l="l" t="t" r="r" b="b"/>
                  <a:pathLst>
                    <a:path w="151" h="177">
                      <a:moveTo>
                        <a:pt x="15" y="0"/>
                      </a:moveTo>
                      <a:lnTo>
                        <a:pt x="151" y="59"/>
                      </a:lnTo>
                      <a:lnTo>
                        <a:pt x="144" y="177"/>
                      </a:lnTo>
                      <a:lnTo>
                        <a:pt x="0" y="12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961400" y="4265280"/>
                  <a:ext cx="40680" cy="705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882560" y="4313160"/>
                  <a:ext cx="142920" cy="56340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020440" y="4313160"/>
                  <a:ext cx="95760" cy="563400"/>
                </a:xfrm>
                <a:custGeom>
                  <a:avLst/>
                  <a:gdLst/>
                  <a:ahLst/>
                  <a:rect l="l" t="t" r="r" b="b"/>
                  <a:pathLst>
                    <a:path w="189" h="1496">
                      <a:moveTo>
                        <a:pt x="0" y="0"/>
                      </a:moveTo>
                      <a:lnTo>
                        <a:pt x="189" y="61"/>
                      </a:lnTo>
                      <a:lnTo>
                        <a:pt x="189" y="1496"/>
                      </a:lnTo>
                      <a:lnTo>
                        <a:pt x="0" y="14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08120" y="4344840"/>
                  <a:ext cx="21240" cy="275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938720" y="4344840"/>
                  <a:ext cx="22680" cy="275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975080" y="4344840"/>
                  <a:ext cx="21240" cy="275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85440" y="4392720"/>
                  <a:ext cx="12924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90120" y="4444200"/>
                  <a:ext cx="12924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886880" y="4506120"/>
                  <a:ext cx="13212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894440" y="4559040"/>
                  <a:ext cx="118440" cy="10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683120" y="4459680"/>
                <a:ext cx="223560" cy="419040"/>
                <a:chOff x="7683120" y="4459680"/>
                <a:chExt cx="223560" cy="4190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683120" y="4459680"/>
                  <a:ext cx="133560" cy="41904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810920" y="4459680"/>
                  <a:ext cx="95760" cy="417600"/>
                </a:xfrm>
                <a:custGeom>
                  <a:avLst/>
                  <a:gdLst/>
                  <a:ahLst/>
                  <a:rect l="l" t="t" r="r" b="b"/>
                  <a:pathLst>
                    <a:path w="190" h="1108">
                      <a:moveTo>
                        <a:pt x="0" y="0"/>
                      </a:moveTo>
                      <a:lnTo>
                        <a:pt x="190" y="87"/>
                      </a:lnTo>
                      <a:lnTo>
                        <a:pt x="190" y="1108"/>
                      </a:lnTo>
                      <a:lnTo>
                        <a:pt x="0" y="11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258680" y="3938400"/>
                <a:ext cx="436320" cy="939960"/>
                <a:chOff x="7258680" y="3938400"/>
                <a:chExt cx="436320" cy="939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610040" y="3939480"/>
                  <a:ext cx="84960" cy="938520"/>
                </a:xfrm>
                <a:custGeom>
                  <a:avLst/>
                  <a:gdLst/>
                  <a:ahLst/>
                  <a:rect l="l" t="t" r="r" b="b"/>
                  <a:pathLst>
                    <a:path w="167" h="2493">
                      <a:moveTo>
                        <a:pt x="14" y="0"/>
                      </a:moveTo>
                      <a:lnTo>
                        <a:pt x="167" y="195"/>
                      </a:lnTo>
                      <a:lnTo>
                        <a:pt x="167" y="2490"/>
                      </a:lnTo>
                      <a:lnTo>
                        <a:pt x="0" y="249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58680" y="3938400"/>
                  <a:ext cx="364680" cy="939960"/>
                </a:xfrm>
                <a:custGeom>
                  <a:avLst/>
                  <a:gdLst/>
                  <a:ahLst/>
                  <a:rect l="l" t="t" r="r" b="b"/>
                  <a:pathLst>
                    <a:path w="719" h="2495">
                      <a:moveTo>
                        <a:pt x="0" y="75"/>
                      </a:moveTo>
                      <a:lnTo>
                        <a:pt x="719" y="0"/>
                      </a:lnTo>
                      <a:lnTo>
                        <a:pt x="719" y="2495"/>
                      </a:lnTo>
                      <a:lnTo>
                        <a:pt x="0" y="249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41280" y="3942720"/>
                  <a:ext cx="25560" cy="935280"/>
                </a:xfrm>
                <a:custGeom>
                  <a:avLst/>
                  <a:gdLst/>
                  <a:ahLst/>
                  <a:rect l="l" t="t" r="r" b="b"/>
                  <a:pathLst>
                    <a:path w="51" h="2485">
                      <a:moveTo>
                        <a:pt x="51" y="0"/>
                      </a:moveTo>
                      <a:lnTo>
                        <a:pt x="0" y="3"/>
                      </a:lnTo>
                      <a:lnTo>
                        <a:pt x="0" y="2485"/>
                      </a:lnTo>
                      <a:lnTo>
                        <a:pt x="51" y="2485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77560" y="3947040"/>
                  <a:ext cx="22680" cy="929520"/>
                </a:xfrm>
                <a:custGeom>
                  <a:avLst/>
                  <a:gdLst/>
                  <a:ahLst/>
                  <a:rect l="l" t="t" r="r" b="b"/>
                  <a:pathLst>
                    <a:path w="47" h="2466">
                      <a:moveTo>
                        <a:pt x="47" y="0"/>
                      </a:moveTo>
                      <a:lnTo>
                        <a:pt x="1" y="8"/>
                      </a:lnTo>
                      <a:lnTo>
                        <a:pt x="0" y="2466"/>
                      </a:lnTo>
                      <a:lnTo>
                        <a:pt x="46" y="246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12040" y="3953160"/>
                  <a:ext cx="23040" cy="923400"/>
                </a:xfrm>
                <a:custGeom>
                  <a:avLst/>
                  <a:gdLst/>
                  <a:ahLst/>
                  <a:rect l="l" t="t" r="r" b="b"/>
                  <a:pathLst>
                    <a:path w="47" h="2450">
                      <a:moveTo>
                        <a:pt x="47" y="0"/>
                      </a:moveTo>
                      <a:lnTo>
                        <a:pt x="2" y="3"/>
                      </a:lnTo>
                      <a:lnTo>
                        <a:pt x="0" y="2450"/>
                      </a:lnTo>
                      <a:lnTo>
                        <a:pt x="46" y="245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348320" y="3957840"/>
                  <a:ext cx="24480" cy="919080"/>
                </a:xfrm>
                <a:custGeom>
                  <a:avLst/>
                  <a:gdLst/>
                  <a:ahLst/>
                  <a:rect l="l" t="t" r="r" b="b"/>
                  <a:pathLst>
                    <a:path w="48" h="2438">
                      <a:moveTo>
                        <a:pt x="48" y="0"/>
                      </a:moveTo>
                      <a:lnTo>
                        <a:pt x="1" y="3"/>
                      </a:lnTo>
                      <a:lnTo>
                        <a:pt x="0" y="2438"/>
                      </a:lnTo>
                      <a:lnTo>
                        <a:pt x="47" y="243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84240" y="3963960"/>
                  <a:ext cx="24480" cy="912960"/>
                </a:xfrm>
                <a:custGeom>
                  <a:avLst/>
                  <a:gdLst/>
                  <a:ahLst/>
                  <a:rect l="l" t="t" r="r" b="b"/>
                  <a:pathLst>
                    <a:path w="48" h="2425">
                      <a:moveTo>
                        <a:pt x="48" y="0"/>
                      </a:moveTo>
                      <a:lnTo>
                        <a:pt x="2" y="2"/>
                      </a:lnTo>
                      <a:lnTo>
                        <a:pt x="0" y="2425"/>
                      </a:lnTo>
                      <a:lnTo>
                        <a:pt x="47" y="242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604560" y="4488120"/>
                <a:ext cx="291960" cy="388800"/>
                <a:chOff x="6604560" y="4488120"/>
                <a:chExt cx="291960" cy="3888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604560" y="4488120"/>
                  <a:ext cx="174600" cy="388800"/>
                </a:xfrm>
                <a:custGeom>
                  <a:avLst/>
                  <a:gdLst/>
                  <a:ahLst/>
                  <a:rect l="l" t="t" r="r" b="b"/>
                  <a:pathLst>
                    <a:path w="346" h="1030">
                      <a:moveTo>
                        <a:pt x="0" y="0"/>
                      </a:moveTo>
                      <a:lnTo>
                        <a:pt x="346" y="12"/>
                      </a:lnTo>
                      <a:lnTo>
                        <a:pt x="346" y="1030"/>
                      </a:lnTo>
                      <a:lnTo>
                        <a:pt x="0" y="10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697080" y="4536000"/>
                  <a:ext cx="18000" cy="12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733800" y="4536000"/>
                  <a:ext cx="18000" cy="12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74840" y="4492440"/>
                  <a:ext cx="121680" cy="384120"/>
                </a:xfrm>
                <a:custGeom>
                  <a:avLst/>
                  <a:gdLst/>
                  <a:ahLst/>
                  <a:rect l="l" t="t" r="r" b="b"/>
                  <a:pathLst>
                    <a:path w="240" h="1020">
                      <a:moveTo>
                        <a:pt x="0" y="0"/>
                      </a:moveTo>
                      <a:lnTo>
                        <a:pt x="0" y="1020"/>
                      </a:lnTo>
                      <a:lnTo>
                        <a:pt x="240" y="1017"/>
                      </a:lnTo>
                      <a:lnTo>
                        <a:pt x="240" y="10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625800" y="4536000"/>
                  <a:ext cx="18000" cy="12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662160" y="4536000"/>
                  <a:ext cx="17640" cy="126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604560" y="4559040"/>
                  <a:ext cx="163800" cy="10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12120" y="4584240"/>
                  <a:ext cx="14112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08880" y="4609800"/>
                  <a:ext cx="165600" cy="144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19680" y="4634280"/>
                  <a:ext cx="141120" cy="10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5676840" y="4734360"/>
              <a:ext cx="2628720" cy="434160"/>
              <a:chOff x="5676840" y="4734360"/>
              <a:chExt cx="2628720" cy="434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676840" y="4906800"/>
                <a:ext cx="2628720" cy="261720"/>
              </a:xfrm>
              <a:prstGeom prst="rect">
                <a:avLst/>
              </a:prstGeom>
              <a:solidFill>
                <a:srgbClr val="c0c0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9360" y="4842720"/>
                <a:ext cx="2618640" cy="224640"/>
              </a:xfrm>
              <a:custGeom>
                <a:avLst/>
                <a:gdLst/>
                <a:ahLst/>
                <a:rect l="l" t="t" r="r" b="b"/>
                <a:pathLst>
                  <a:path w="5621" h="582">
                    <a:moveTo>
                      <a:pt x="0" y="43"/>
                    </a:moveTo>
                    <a:lnTo>
                      <a:pt x="0" y="455"/>
                    </a:lnTo>
                    <a:lnTo>
                      <a:pt x="159" y="440"/>
                    </a:lnTo>
                    <a:lnTo>
                      <a:pt x="285" y="369"/>
                    </a:lnTo>
                    <a:lnTo>
                      <a:pt x="308" y="354"/>
                    </a:lnTo>
                    <a:lnTo>
                      <a:pt x="410" y="342"/>
                    </a:lnTo>
                    <a:lnTo>
                      <a:pt x="500" y="354"/>
                    </a:lnTo>
                    <a:lnTo>
                      <a:pt x="580" y="369"/>
                    </a:lnTo>
                    <a:lnTo>
                      <a:pt x="694" y="426"/>
                    </a:lnTo>
                    <a:lnTo>
                      <a:pt x="741" y="455"/>
                    </a:lnTo>
                    <a:lnTo>
                      <a:pt x="877" y="511"/>
                    </a:lnTo>
                    <a:lnTo>
                      <a:pt x="956" y="511"/>
                    </a:lnTo>
                    <a:lnTo>
                      <a:pt x="1083" y="511"/>
                    </a:lnTo>
                    <a:lnTo>
                      <a:pt x="1105" y="511"/>
                    </a:lnTo>
                    <a:lnTo>
                      <a:pt x="1174" y="496"/>
                    </a:lnTo>
                    <a:lnTo>
                      <a:pt x="1205" y="480"/>
                    </a:lnTo>
                    <a:lnTo>
                      <a:pt x="1275" y="481"/>
                    </a:lnTo>
                    <a:lnTo>
                      <a:pt x="1299" y="481"/>
                    </a:lnTo>
                    <a:lnTo>
                      <a:pt x="1413" y="539"/>
                    </a:lnTo>
                    <a:lnTo>
                      <a:pt x="1458" y="554"/>
                    </a:lnTo>
                    <a:lnTo>
                      <a:pt x="1481" y="554"/>
                    </a:lnTo>
                    <a:lnTo>
                      <a:pt x="1550" y="567"/>
                    </a:lnTo>
                    <a:lnTo>
                      <a:pt x="1606" y="567"/>
                    </a:lnTo>
                    <a:lnTo>
                      <a:pt x="1630" y="567"/>
                    </a:lnTo>
                    <a:lnTo>
                      <a:pt x="1710" y="567"/>
                    </a:lnTo>
                    <a:lnTo>
                      <a:pt x="1858" y="567"/>
                    </a:lnTo>
                    <a:lnTo>
                      <a:pt x="2029" y="567"/>
                    </a:lnTo>
                    <a:lnTo>
                      <a:pt x="2154" y="582"/>
                    </a:lnTo>
                    <a:lnTo>
                      <a:pt x="2451" y="567"/>
                    </a:lnTo>
                    <a:lnTo>
                      <a:pt x="2576" y="539"/>
                    </a:lnTo>
                    <a:lnTo>
                      <a:pt x="2622" y="524"/>
                    </a:lnTo>
                    <a:lnTo>
                      <a:pt x="2747" y="481"/>
                    </a:lnTo>
                    <a:lnTo>
                      <a:pt x="2850" y="426"/>
                    </a:lnTo>
                    <a:lnTo>
                      <a:pt x="2986" y="382"/>
                    </a:lnTo>
                    <a:lnTo>
                      <a:pt x="3078" y="382"/>
                    </a:lnTo>
                    <a:lnTo>
                      <a:pt x="3192" y="412"/>
                    </a:lnTo>
                    <a:lnTo>
                      <a:pt x="3249" y="426"/>
                    </a:lnTo>
                    <a:lnTo>
                      <a:pt x="3386" y="440"/>
                    </a:lnTo>
                    <a:lnTo>
                      <a:pt x="3442" y="440"/>
                    </a:lnTo>
                    <a:lnTo>
                      <a:pt x="3500" y="455"/>
                    </a:lnTo>
                    <a:lnTo>
                      <a:pt x="3636" y="469"/>
                    </a:lnTo>
                    <a:lnTo>
                      <a:pt x="3717" y="469"/>
                    </a:lnTo>
                    <a:lnTo>
                      <a:pt x="3795" y="469"/>
                    </a:lnTo>
                    <a:lnTo>
                      <a:pt x="3865" y="469"/>
                    </a:lnTo>
                    <a:lnTo>
                      <a:pt x="3956" y="511"/>
                    </a:lnTo>
                    <a:lnTo>
                      <a:pt x="4024" y="524"/>
                    </a:lnTo>
                    <a:lnTo>
                      <a:pt x="4173" y="539"/>
                    </a:lnTo>
                    <a:lnTo>
                      <a:pt x="4264" y="539"/>
                    </a:lnTo>
                    <a:lnTo>
                      <a:pt x="4355" y="539"/>
                    </a:lnTo>
                    <a:lnTo>
                      <a:pt x="4481" y="524"/>
                    </a:lnTo>
                    <a:lnTo>
                      <a:pt x="4595" y="524"/>
                    </a:lnTo>
                    <a:lnTo>
                      <a:pt x="4674" y="524"/>
                    </a:lnTo>
                    <a:lnTo>
                      <a:pt x="4742" y="524"/>
                    </a:lnTo>
                    <a:lnTo>
                      <a:pt x="4925" y="524"/>
                    </a:lnTo>
                    <a:lnTo>
                      <a:pt x="4959" y="524"/>
                    </a:lnTo>
                    <a:lnTo>
                      <a:pt x="5073" y="511"/>
                    </a:lnTo>
                    <a:lnTo>
                      <a:pt x="5143" y="481"/>
                    </a:lnTo>
                    <a:lnTo>
                      <a:pt x="5198" y="469"/>
                    </a:lnTo>
                    <a:lnTo>
                      <a:pt x="5302" y="455"/>
                    </a:lnTo>
                    <a:lnTo>
                      <a:pt x="5357" y="440"/>
                    </a:lnTo>
                    <a:lnTo>
                      <a:pt x="5427" y="455"/>
                    </a:lnTo>
                    <a:lnTo>
                      <a:pt x="5471" y="455"/>
                    </a:lnTo>
                    <a:lnTo>
                      <a:pt x="5598" y="412"/>
                    </a:lnTo>
                    <a:lnTo>
                      <a:pt x="5621" y="397"/>
                    </a:lnTo>
                    <a:lnTo>
                      <a:pt x="5621" y="142"/>
                    </a:lnTo>
                    <a:lnTo>
                      <a:pt x="5050" y="58"/>
                    </a:lnTo>
                    <a:lnTo>
                      <a:pt x="3409" y="0"/>
                    </a:lnTo>
                    <a:lnTo>
                      <a:pt x="2256" y="86"/>
                    </a:lnTo>
                    <a:lnTo>
                      <a:pt x="1275" y="200"/>
                    </a:lnTo>
                    <a:lnTo>
                      <a:pt x="991" y="86"/>
                    </a:lnTo>
                    <a:lnTo>
                      <a:pt x="18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e0c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79360" y="4734360"/>
                <a:ext cx="2620440" cy="236160"/>
              </a:xfrm>
              <a:custGeom>
                <a:avLst/>
                <a:gdLst/>
                <a:ahLst/>
                <a:rect l="l" t="t" r="r" b="b"/>
                <a:pathLst>
                  <a:path w="5625" h="610">
                    <a:moveTo>
                      <a:pt x="0" y="25"/>
                    </a:moveTo>
                    <a:lnTo>
                      <a:pt x="55" y="0"/>
                    </a:lnTo>
                    <a:lnTo>
                      <a:pt x="79" y="0"/>
                    </a:lnTo>
                    <a:lnTo>
                      <a:pt x="180" y="0"/>
                    </a:lnTo>
                    <a:lnTo>
                      <a:pt x="216" y="0"/>
                    </a:lnTo>
                    <a:lnTo>
                      <a:pt x="261" y="28"/>
                    </a:lnTo>
                    <a:lnTo>
                      <a:pt x="296" y="28"/>
                    </a:lnTo>
                    <a:lnTo>
                      <a:pt x="329" y="41"/>
                    </a:lnTo>
                    <a:lnTo>
                      <a:pt x="352" y="70"/>
                    </a:lnTo>
                    <a:lnTo>
                      <a:pt x="352" y="99"/>
                    </a:lnTo>
                    <a:lnTo>
                      <a:pt x="375" y="99"/>
                    </a:lnTo>
                    <a:lnTo>
                      <a:pt x="410" y="127"/>
                    </a:lnTo>
                    <a:lnTo>
                      <a:pt x="421" y="154"/>
                    </a:lnTo>
                    <a:lnTo>
                      <a:pt x="467" y="169"/>
                    </a:lnTo>
                    <a:lnTo>
                      <a:pt x="524" y="169"/>
                    </a:lnTo>
                    <a:lnTo>
                      <a:pt x="546" y="169"/>
                    </a:lnTo>
                    <a:lnTo>
                      <a:pt x="592" y="184"/>
                    </a:lnTo>
                    <a:lnTo>
                      <a:pt x="660" y="184"/>
                    </a:lnTo>
                    <a:lnTo>
                      <a:pt x="705" y="198"/>
                    </a:lnTo>
                    <a:lnTo>
                      <a:pt x="752" y="227"/>
                    </a:lnTo>
                    <a:lnTo>
                      <a:pt x="775" y="241"/>
                    </a:lnTo>
                    <a:lnTo>
                      <a:pt x="808" y="270"/>
                    </a:lnTo>
                    <a:lnTo>
                      <a:pt x="842" y="283"/>
                    </a:lnTo>
                    <a:lnTo>
                      <a:pt x="866" y="283"/>
                    </a:lnTo>
                    <a:lnTo>
                      <a:pt x="900" y="283"/>
                    </a:lnTo>
                    <a:lnTo>
                      <a:pt x="934" y="296"/>
                    </a:lnTo>
                    <a:lnTo>
                      <a:pt x="956" y="296"/>
                    </a:lnTo>
                    <a:lnTo>
                      <a:pt x="979" y="296"/>
                    </a:lnTo>
                    <a:lnTo>
                      <a:pt x="1002" y="283"/>
                    </a:lnTo>
                    <a:lnTo>
                      <a:pt x="1025" y="283"/>
                    </a:lnTo>
                    <a:lnTo>
                      <a:pt x="1048" y="283"/>
                    </a:lnTo>
                    <a:lnTo>
                      <a:pt x="1072" y="296"/>
                    </a:lnTo>
                    <a:lnTo>
                      <a:pt x="1116" y="311"/>
                    </a:lnTo>
                    <a:lnTo>
                      <a:pt x="1161" y="326"/>
                    </a:lnTo>
                    <a:lnTo>
                      <a:pt x="1219" y="326"/>
                    </a:lnTo>
                    <a:lnTo>
                      <a:pt x="1275" y="340"/>
                    </a:lnTo>
                    <a:lnTo>
                      <a:pt x="1298" y="354"/>
                    </a:lnTo>
                    <a:lnTo>
                      <a:pt x="1322" y="354"/>
                    </a:lnTo>
                    <a:lnTo>
                      <a:pt x="1390" y="383"/>
                    </a:lnTo>
                    <a:lnTo>
                      <a:pt x="1411" y="383"/>
                    </a:lnTo>
                    <a:lnTo>
                      <a:pt x="1435" y="395"/>
                    </a:lnTo>
                    <a:lnTo>
                      <a:pt x="1481" y="369"/>
                    </a:lnTo>
                    <a:lnTo>
                      <a:pt x="1527" y="369"/>
                    </a:lnTo>
                    <a:lnTo>
                      <a:pt x="1572" y="340"/>
                    </a:lnTo>
                    <a:lnTo>
                      <a:pt x="1617" y="340"/>
                    </a:lnTo>
                    <a:lnTo>
                      <a:pt x="1652" y="340"/>
                    </a:lnTo>
                    <a:lnTo>
                      <a:pt x="1709" y="311"/>
                    </a:lnTo>
                    <a:lnTo>
                      <a:pt x="1731" y="311"/>
                    </a:lnTo>
                    <a:lnTo>
                      <a:pt x="1754" y="311"/>
                    </a:lnTo>
                    <a:lnTo>
                      <a:pt x="1778" y="311"/>
                    </a:lnTo>
                    <a:lnTo>
                      <a:pt x="1812" y="283"/>
                    </a:lnTo>
                    <a:lnTo>
                      <a:pt x="1834" y="270"/>
                    </a:lnTo>
                    <a:lnTo>
                      <a:pt x="1858" y="241"/>
                    </a:lnTo>
                    <a:lnTo>
                      <a:pt x="1880" y="198"/>
                    </a:lnTo>
                    <a:lnTo>
                      <a:pt x="1959" y="184"/>
                    </a:lnTo>
                    <a:lnTo>
                      <a:pt x="2006" y="184"/>
                    </a:lnTo>
                    <a:lnTo>
                      <a:pt x="2029" y="198"/>
                    </a:lnTo>
                    <a:lnTo>
                      <a:pt x="2084" y="198"/>
                    </a:lnTo>
                    <a:lnTo>
                      <a:pt x="2142" y="198"/>
                    </a:lnTo>
                    <a:lnTo>
                      <a:pt x="2165" y="184"/>
                    </a:lnTo>
                    <a:lnTo>
                      <a:pt x="2233" y="169"/>
                    </a:lnTo>
                    <a:lnTo>
                      <a:pt x="2256" y="169"/>
                    </a:lnTo>
                    <a:lnTo>
                      <a:pt x="2303" y="169"/>
                    </a:lnTo>
                    <a:lnTo>
                      <a:pt x="2325" y="184"/>
                    </a:lnTo>
                    <a:lnTo>
                      <a:pt x="2347" y="212"/>
                    </a:lnTo>
                    <a:lnTo>
                      <a:pt x="2370" y="212"/>
                    </a:lnTo>
                    <a:lnTo>
                      <a:pt x="2393" y="212"/>
                    </a:lnTo>
                    <a:lnTo>
                      <a:pt x="2428" y="212"/>
                    </a:lnTo>
                    <a:lnTo>
                      <a:pt x="2473" y="212"/>
                    </a:lnTo>
                    <a:lnTo>
                      <a:pt x="2496" y="198"/>
                    </a:lnTo>
                    <a:lnTo>
                      <a:pt x="2541" y="198"/>
                    </a:lnTo>
                    <a:lnTo>
                      <a:pt x="2598" y="198"/>
                    </a:lnTo>
                    <a:lnTo>
                      <a:pt x="2621" y="184"/>
                    </a:lnTo>
                    <a:lnTo>
                      <a:pt x="2645" y="169"/>
                    </a:lnTo>
                    <a:lnTo>
                      <a:pt x="2712" y="154"/>
                    </a:lnTo>
                    <a:lnTo>
                      <a:pt x="2815" y="142"/>
                    </a:lnTo>
                    <a:lnTo>
                      <a:pt x="2872" y="154"/>
                    </a:lnTo>
                    <a:lnTo>
                      <a:pt x="2895" y="169"/>
                    </a:lnTo>
                    <a:lnTo>
                      <a:pt x="2918" y="169"/>
                    </a:lnTo>
                    <a:lnTo>
                      <a:pt x="2940" y="169"/>
                    </a:lnTo>
                    <a:lnTo>
                      <a:pt x="2963" y="169"/>
                    </a:lnTo>
                    <a:lnTo>
                      <a:pt x="2985" y="184"/>
                    </a:lnTo>
                    <a:lnTo>
                      <a:pt x="3009" y="198"/>
                    </a:lnTo>
                    <a:lnTo>
                      <a:pt x="3054" y="198"/>
                    </a:lnTo>
                    <a:lnTo>
                      <a:pt x="3077" y="212"/>
                    </a:lnTo>
                    <a:lnTo>
                      <a:pt x="3112" y="212"/>
                    </a:lnTo>
                    <a:lnTo>
                      <a:pt x="3134" y="212"/>
                    </a:lnTo>
                    <a:lnTo>
                      <a:pt x="3168" y="212"/>
                    </a:lnTo>
                    <a:lnTo>
                      <a:pt x="3191" y="212"/>
                    </a:lnTo>
                    <a:lnTo>
                      <a:pt x="3214" y="212"/>
                    </a:lnTo>
                    <a:lnTo>
                      <a:pt x="3249" y="212"/>
                    </a:lnTo>
                    <a:lnTo>
                      <a:pt x="3283" y="212"/>
                    </a:lnTo>
                    <a:lnTo>
                      <a:pt x="3316" y="212"/>
                    </a:lnTo>
                    <a:lnTo>
                      <a:pt x="3351" y="212"/>
                    </a:lnTo>
                    <a:lnTo>
                      <a:pt x="3374" y="212"/>
                    </a:lnTo>
                    <a:lnTo>
                      <a:pt x="3408" y="227"/>
                    </a:lnTo>
                    <a:lnTo>
                      <a:pt x="3442" y="227"/>
                    </a:lnTo>
                    <a:lnTo>
                      <a:pt x="3476" y="227"/>
                    </a:lnTo>
                    <a:lnTo>
                      <a:pt x="3499" y="227"/>
                    </a:lnTo>
                    <a:lnTo>
                      <a:pt x="3521" y="227"/>
                    </a:lnTo>
                    <a:lnTo>
                      <a:pt x="3545" y="227"/>
                    </a:lnTo>
                    <a:lnTo>
                      <a:pt x="3568" y="227"/>
                    </a:lnTo>
                    <a:lnTo>
                      <a:pt x="3591" y="212"/>
                    </a:lnTo>
                    <a:lnTo>
                      <a:pt x="3612" y="198"/>
                    </a:lnTo>
                    <a:lnTo>
                      <a:pt x="3635" y="198"/>
                    </a:lnTo>
                    <a:lnTo>
                      <a:pt x="3659" y="198"/>
                    </a:lnTo>
                    <a:lnTo>
                      <a:pt x="3682" y="198"/>
                    </a:lnTo>
                    <a:lnTo>
                      <a:pt x="3727" y="198"/>
                    </a:lnTo>
                    <a:lnTo>
                      <a:pt x="3751" y="212"/>
                    </a:lnTo>
                    <a:lnTo>
                      <a:pt x="3818" y="241"/>
                    </a:lnTo>
                    <a:lnTo>
                      <a:pt x="3852" y="241"/>
                    </a:lnTo>
                    <a:lnTo>
                      <a:pt x="3899" y="256"/>
                    </a:lnTo>
                    <a:lnTo>
                      <a:pt x="3920" y="256"/>
                    </a:lnTo>
                    <a:lnTo>
                      <a:pt x="4001" y="241"/>
                    </a:lnTo>
                    <a:lnTo>
                      <a:pt x="4024" y="227"/>
                    </a:lnTo>
                    <a:lnTo>
                      <a:pt x="4068" y="212"/>
                    </a:lnTo>
                    <a:lnTo>
                      <a:pt x="4149" y="212"/>
                    </a:lnTo>
                    <a:lnTo>
                      <a:pt x="4183" y="212"/>
                    </a:lnTo>
                    <a:lnTo>
                      <a:pt x="4229" y="227"/>
                    </a:lnTo>
                    <a:lnTo>
                      <a:pt x="4251" y="227"/>
                    </a:lnTo>
                    <a:lnTo>
                      <a:pt x="4274" y="241"/>
                    </a:lnTo>
                    <a:lnTo>
                      <a:pt x="4332" y="256"/>
                    </a:lnTo>
                    <a:lnTo>
                      <a:pt x="4376" y="256"/>
                    </a:lnTo>
                    <a:lnTo>
                      <a:pt x="4422" y="270"/>
                    </a:lnTo>
                    <a:lnTo>
                      <a:pt x="4446" y="270"/>
                    </a:lnTo>
                    <a:lnTo>
                      <a:pt x="4514" y="270"/>
                    </a:lnTo>
                    <a:lnTo>
                      <a:pt x="4593" y="270"/>
                    </a:lnTo>
                    <a:lnTo>
                      <a:pt x="4616" y="270"/>
                    </a:lnTo>
                    <a:lnTo>
                      <a:pt x="4707" y="241"/>
                    </a:lnTo>
                    <a:lnTo>
                      <a:pt x="4844" y="198"/>
                    </a:lnTo>
                    <a:lnTo>
                      <a:pt x="4866" y="184"/>
                    </a:lnTo>
                    <a:lnTo>
                      <a:pt x="4936" y="184"/>
                    </a:lnTo>
                    <a:lnTo>
                      <a:pt x="4958" y="198"/>
                    </a:lnTo>
                    <a:lnTo>
                      <a:pt x="4981" y="212"/>
                    </a:lnTo>
                    <a:lnTo>
                      <a:pt x="5003" y="212"/>
                    </a:lnTo>
                    <a:lnTo>
                      <a:pt x="5027" y="227"/>
                    </a:lnTo>
                    <a:lnTo>
                      <a:pt x="5061" y="241"/>
                    </a:lnTo>
                    <a:lnTo>
                      <a:pt x="5107" y="270"/>
                    </a:lnTo>
                    <a:lnTo>
                      <a:pt x="5153" y="270"/>
                    </a:lnTo>
                    <a:lnTo>
                      <a:pt x="5220" y="283"/>
                    </a:lnTo>
                    <a:lnTo>
                      <a:pt x="5244" y="296"/>
                    </a:lnTo>
                    <a:lnTo>
                      <a:pt x="5301" y="296"/>
                    </a:lnTo>
                    <a:lnTo>
                      <a:pt x="5322" y="311"/>
                    </a:lnTo>
                    <a:lnTo>
                      <a:pt x="5380" y="326"/>
                    </a:lnTo>
                    <a:lnTo>
                      <a:pt x="5438" y="326"/>
                    </a:lnTo>
                    <a:lnTo>
                      <a:pt x="5505" y="354"/>
                    </a:lnTo>
                    <a:lnTo>
                      <a:pt x="5551" y="369"/>
                    </a:lnTo>
                    <a:lnTo>
                      <a:pt x="5575" y="369"/>
                    </a:lnTo>
                    <a:lnTo>
                      <a:pt x="5625" y="373"/>
                    </a:lnTo>
                    <a:lnTo>
                      <a:pt x="5625" y="493"/>
                    </a:lnTo>
                    <a:lnTo>
                      <a:pt x="5380" y="483"/>
                    </a:lnTo>
                    <a:lnTo>
                      <a:pt x="5322" y="483"/>
                    </a:lnTo>
                    <a:lnTo>
                      <a:pt x="5232" y="410"/>
                    </a:lnTo>
                    <a:lnTo>
                      <a:pt x="5208" y="410"/>
                    </a:lnTo>
                    <a:lnTo>
                      <a:pt x="5107" y="425"/>
                    </a:lnTo>
                    <a:lnTo>
                      <a:pt x="5061" y="453"/>
                    </a:lnTo>
                    <a:lnTo>
                      <a:pt x="5038" y="453"/>
                    </a:lnTo>
                    <a:lnTo>
                      <a:pt x="4970" y="483"/>
                    </a:lnTo>
                    <a:lnTo>
                      <a:pt x="4947" y="496"/>
                    </a:lnTo>
                    <a:lnTo>
                      <a:pt x="4902" y="511"/>
                    </a:lnTo>
                    <a:lnTo>
                      <a:pt x="4855" y="511"/>
                    </a:lnTo>
                    <a:lnTo>
                      <a:pt x="4753" y="511"/>
                    </a:lnTo>
                    <a:lnTo>
                      <a:pt x="4686" y="524"/>
                    </a:lnTo>
                    <a:lnTo>
                      <a:pt x="4639" y="524"/>
                    </a:lnTo>
                    <a:lnTo>
                      <a:pt x="4616" y="511"/>
                    </a:lnTo>
                    <a:lnTo>
                      <a:pt x="4525" y="511"/>
                    </a:lnTo>
                    <a:lnTo>
                      <a:pt x="4502" y="511"/>
                    </a:lnTo>
                    <a:lnTo>
                      <a:pt x="4457" y="511"/>
                    </a:lnTo>
                    <a:lnTo>
                      <a:pt x="4410" y="524"/>
                    </a:lnTo>
                    <a:lnTo>
                      <a:pt x="4366" y="524"/>
                    </a:lnTo>
                    <a:lnTo>
                      <a:pt x="4343" y="511"/>
                    </a:lnTo>
                    <a:lnTo>
                      <a:pt x="4274" y="496"/>
                    </a:lnTo>
                    <a:lnTo>
                      <a:pt x="4207" y="496"/>
                    </a:lnTo>
                    <a:lnTo>
                      <a:pt x="4138" y="496"/>
                    </a:lnTo>
                    <a:lnTo>
                      <a:pt x="4115" y="511"/>
                    </a:lnTo>
                    <a:lnTo>
                      <a:pt x="4047" y="511"/>
                    </a:lnTo>
                    <a:lnTo>
                      <a:pt x="4013" y="511"/>
                    </a:lnTo>
                    <a:lnTo>
                      <a:pt x="3955" y="496"/>
                    </a:lnTo>
                    <a:lnTo>
                      <a:pt x="3932" y="496"/>
                    </a:lnTo>
                    <a:lnTo>
                      <a:pt x="3807" y="538"/>
                    </a:lnTo>
                    <a:lnTo>
                      <a:pt x="3739" y="538"/>
                    </a:lnTo>
                    <a:lnTo>
                      <a:pt x="3670" y="483"/>
                    </a:lnTo>
                    <a:lnTo>
                      <a:pt x="3646" y="483"/>
                    </a:lnTo>
                    <a:lnTo>
                      <a:pt x="3601" y="468"/>
                    </a:lnTo>
                    <a:lnTo>
                      <a:pt x="3557" y="453"/>
                    </a:lnTo>
                    <a:lnTo>
                      <a:pt x="3487" y="440"/>
                    </a:lnTo>
                    <a:lnTo>
                      <a:pt x="3432" y="425"/>
                    </a:lnTo>
                    <a:lnTo>
                      <a:pt x="3385" y="425"/>
                    </a:lnTo>
                    <a:lnTo>
                      <a:pt x="3293" y="395"/>
                    </a:lnTo>
                    <a:lnTo>
                      <a:pt x="3260" y="395"/>
                    </a:lnTo>
                    <a:lnTo>
                      <a:pt x="3237" y="383"/>
                    </a:lnTo>
                    <a:lnTo>
                      <a:pt x="3214" y="383"/>
                    </a:lnTo>
                    <a:lnTo>
                      <a:pt x="3191" y="383"/>
                    </a:lnTo>
                    <a:lnTo>
                      <a:pt x="3156" y="383"/>
                    </a:lnTo>
                    <a:lnTo>
                      <a:pt x="3134" y="383"/>
                    </a:lnTo>
                    <a:lnTo>
                      <a:pt x="3112" y="395"/>
                    </a:lnTo>
                    <a:lnTo>
                      <a:pt x="3089" y="425"/>
                    </a:lnTo>
                    <a:lnTo>
                      <a:pt x="3066" y="440"/>
                    </a:lnTo>
                    <a:lnTo>
                      <a:pt x="3031" y="453"/>
                    </a:lnTo>
                    <a:lnTo>
                      <a:pt x="3009" y="468"/>
                    </a:lnTo>
                    <a:lnTo>
                      <a:pt x="2985" y="483"/>
                    </a:lnTo>
                    <a:lnTo>
                      <a:pt x="2963" y="496"/>
                    </a:lnTo>
                    <a:lnTo>
                      <a:pt x="2940" y="496"/>
                    </a:lnTo>
                    <a:lnTo>
                      <a:pt x="2918" y="496"/>
                    </a:lnTo>
                    <a:lnTo>
                      <a:pt x="2895" y="511"/>
                    </a:lnTo>
                    <a:lnTo>
                      <a:pt x="2872" y="511"/>
                    </a:lnTo>
                    <a:lnTo>
                      <a:pt x="2848" y="511"/>
                    </a:lnTo>
                    <a:lnTo>
                      <a:pt x="2826" y="511"/>
                    </a:lnTo>
                    <a:lnTo>
                      <a:pt x="2804" y="496"/>
                    </a:lnTo>
                    <a:lnTo>
                      <a:pt x="2759" y="496"/>
                    </a:lnTo>
                    <a:lnTo>
                      <a:pt x="2735" y="496"/>
                    </a:lnTo>
                    <a:lnTo>
                      <a:pt x="2689" y="496"/>
                    </a:lnTo>
                    <a:lnTo>
                      <a:pt x="2667" y="496"/>
                    </a:lnTo>
                    <a:lnTo>
                      <a:pt x="2645" y="468"/>
                    </a:lnTo>
                    <a:lnTo>
                      <a:pt x="2621" y="453"/>
                    </a:lnTo>
                    <a:lnTo>
                      <a:pt x="2598" y="440"/>
                    </a:lnTo>
                    <a:lnTo>
                      <a:pt x="2541" y="440"/>
                    </a:lnTo>
                    <a:lnTo>
                      <a:pt x="2496" y="440"/>
                    </a:lnTo>
                    <a:lnTo>
                      <a:pt x="2451" y="440"/>
                    </a:lnTo>
                    <a:lnTo>
                      <a:pt x="2393" y="453"/>
                    </a:lnTo>
                    <a:lnTo>
                      <a:pt x="2358" y="453"/>
                    </a:lnTo>
                    <a:lnTo>
                      <a:pt x="2314" y="496"/>
                    </a:lnTo>
                    <a:lnTo>
                      <a:pt x="2290" y="511"/>
                    </a:lnTo>
                    <a:lnTo>
                      <a:pt x="2267" y="538"/>
                    </a:lnTo>
                    <a:lnTo>
                      <a:pt x="2256" y="567"/>
                    </a:lnTo>
                    <a:lnTo>
                      <a:pt x="2233" y="567"/>
                    </a:lnTo>
                    <a:lnTo>
                      <a:pt x="2211" y="595"/>
                    </a:lnTo>
                    <a:lnTo>
                      <a:pt x="2189" y="595"/>
                    </a:lnTo>
                    <a:lnTo>
                      <a:pt x="2165" y="595"/>
                    </a:lnTo>
                    <a:lnTo>
                      <a:pt x="2097" y="610"/>
                    </a:lnTo>
                    <a:lnTo>
                      <a:pt x="2073" y="610"/>
                    </a:lnTo>
                    <a:lnTo>
                      <a:pt x="1972" y="610"/>
                    </a:lnTo>
                    <a:lnTo>
                      <a:pt x="1914" y="610"/>
                    </a:lnTo>
                    <a:lnTo>
                      <a:pt x="1870" y="595"/>
                    </a:lnTo>
                    <a:lnTo>
                      <a:pt x="1834" y="595"/>
                    </a:lnTo>
                    <a:lnTo>
                      <a:pt x="1800" y="581"/>
                    </a:lnTo>
                    <a:lnTo>
                      <a:pt x="1778" y="581"/>
                    </a:lnTo>
                    <a:lnTo>
                      <a:pt x="1754" y="567"/>
                    </a:lnTo>
                    <a:lnTo>
                      <a:pt x="1731" y="567"/>
                    </a:lnTo>
                    <a:lnTo>
                      <a:pt x="1652" y="567"/>
                    </a:lnTo>
                    <a:lnTo>
                      <a:pt x="1594" y="567"/>
                    </a:lnTo>
                    <a:lnTo>
                      <a:pt x="1458" y="567"/>
                    </a:lnTo>
                    <a:lnTo>
                      <a:pt x="1367" y="552"/>
                    </a:lnTo>
                    <a:lnTo>
                      <a:pt x="1322" y="538"/>
                    </a:lnTo>
                    <a:lnTo>
                      <a:pt x="1286" y="538"/>
                    </a:lnTo>
                    <a:lnTo>
                      <a:pt x="1242" y="538"/>
                    </a:lnTo>
                    <a:lnTo>
                      <a:pt x="1197" y="496"/>
                    </a:lnTo>
                    <a:lnTo>
                      <a:pt x="1173" y="483"/>
                    </a:lnTo>
                    <a:lnTo>
                      <a:pt x="1150" y="468"/>
                    </a:lnTo>
                    <a:lnTo>
                      <a:pt x="1127" y="440"/>
                    </a:lnTo>
                    <a:lnTo>
                      <a:pt x="1105" y="440"/>
                    </a:lnTo>
                    <a:lnTo>
                      <a:pt x="1083" y="425"/>
                    </a:lnTo>
                    <a:lnTo>
                      <a:pt x="1048" y="425"/>
                    </a:lnTo>
                    <a:lnTo>
                      <a:pt x="1014" y="425"/>
                    </a:lnTo>
                    <a:lnTo>
                      <a:pt x="979" y="425"/>
                    </a:lnTo>
                    <a:lnTo>
                      <a:pt x="956" y="425"/>
                    </a:lnTo>
                    <a:lnTo>
                      <a:pt x="923" y="440"/>
                    </a:lnTo>
                    <a:lnTo>
                      <a:pt x="889" y="453"/>
                    </a:lnTo>
                    <a:lnTo>
                      <a:pt x="842" y="453"/>
                    </a:lnTo>
                    <a:lnTo>
                      <a:pt x="796" y="468"/>
                    </a:lnTo>
                    <a:lnTo>
                      <a:pt x="763" y="483"/>
                    </a:lnTo>
                    <a:lnTo>
                      <a:pt x="717" y="483"/>
                    </a:lnTo>
                    <a:lnTo>
                      <a:pt x="636" y="483"/>
                    </a:lnTo>
                    <a:lnTo>
                      <a:pt x="558" y="483"/>
                    </a:lnTo>
                    <a:lnTo>
                      <a:pt x="524" y="468"/>
                    </a:lnTo>
                    <a:lnTo>
                      <a:pt x="500" y="468"/>
                    </a:lnTo>
                    <a:lnTo>
                      <a:pt x="444" y="453"/>
                    </a:lnTo>
                    <a:lnTo>
                      <a:pt x="421" y="453"/>
                    </a:lnTo>
                    <a:lnTo>
                      <a:pt x="397" y="468"/>
                    </a:lnTo>
                    <a:lnTo>
                      <a:pt x="319" y="524"/>
                    </a:lnTo>
                    <a:lnTo>
                      <a:pt x="296" y="538"/>
                    </a:lnTo>
                    <a:lnTo>
                      <a:pt x="238" y="538"/>
                    </a:lnTo>
                    <a:lnTo>
                      <a:pt x="216" y="538"/>
                    </a:lnTo>
                    <a:lnTo>
                      <a:pt x="193" y="552"/>
                    </a:lnTo>
                    <a:lnTo>
                      <a:pt x="147" y="524"/>
                    </a:lnTo>
                    <a:lnTo>
                      <a:pt x="102" y="511"/>
                    </a:lnTo>
                    <a:lnTo>
                      <a:pt x="79" y="496"/>
                    </a:lnTo>
                    <a:lnTo>
                      <a:pt x="44" y="468"/>
                    </a:lnTo>
                    <a:lnTo>
                      <a:pt x="21" y="453"/>
                    </a:lnTo>
                    <a:lnTo>
                      <a:pt x="0" y="4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a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749920" y="4589640"/>
              <a:ext cx="2116440" cy="966600"/>
              <a:chOff x="5749920" y="4589640"/>
              <a:chExt cx="2116440" cy="966600"/>
            </a:xfrm>
          </p:grpSpPr>
          <p:sp>
            <p:nvSpPr>
              <p:cNvPr id="213" name=""/>
              <p:cNvSpPr/>
              <p:nvPr/>
            </p:nvSpPr>
            <p:spPr>
              <a:xfrm>
                <a:off x="7238520" y="4811040"/>
                <a:ext cx="627840" cy="352080"/>
              </a:xfrm>
              <a:custGeom>
                <a:avLst/>
                <a:gdLst/>
                <a:ahLst/>
                <a:rect l="l" t="t" r="r" b="b"/>
                <a:pathLst>
                  <a:path w="126" h="154">
                    <a:moveTo>
                      <a:pt x="0" y="0"/>
                    </a:moveTo>
                    <a:lnTo>
                      <a:pt x="73" y="150"/>
                    </a:lnTo>
                    <a:lnTo>
                      <a:pt x="113" y="153"/>
                    </a:lnTo>
                    <a:lnTo>
                      <a:pt x="125" y="104"/>
                    </a:lnTo>
                    <a:lnTo>
                      <a:pt x="52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38360" y="4589640"/>
                <a:ext cx="188280" cy="241920"/>
              </a:xfrm>
              <a:custGeom>
                <a:avLst/>
                <a:gdLst/>
                <a:ahLst/>
                <a:rect l="l" t="t" r="r" b="b"/>
                <a:pathLst>
                  <a:path w="38" h="106">
                    <a:moveTo>
                      <a:pt x="17" y="0"/>
                    </a:moveTo>
                    <a:lnTo>
                      <a:pt x="0" y="50"/>
                    </a:lnTo>
                    <a:lnTo>
                      <a:pt x="15" y="105"/>
                    </a:lnTo>
                    <a:lnTo>
                      <a:pt x="37" y="6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5749920" y="4620960"/>
                <a:ext cx="2020680" cy="935280"/>
                <a:chOff x="5749920" y="4620960"/>
                <a:chExt cx="2020680" cy="935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939720" y="4920480"/>
                  <a:ext cx="93600" cy="73080"/>
                </a:xfrm>
                <a:custGeom>
                  <a:avLst/>
                  <a:gdLst/>
                  <a:ahLst/>
                  <a:rect l="l" t="t" r="r" b="b"/>
                  <a:pathLst>
                    <a:path w="19" h="32">
                      <a:moveTo>
                        <a:pt x="0" y="31"/>
                      </a:moveTo>
                      <a:lnTo>
                        <a:pt x="10" y="1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033320" y="4920480"/>
                  <a:ext cx="104760" cy="2268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20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92360" y="4920480"/>
                  <a:ext cx="99000" cy="230400"/>
                </a:xfrm>
                <a:custGeom>
                  <a:avLst/>
                  <a:gdLst/>
                  <a:ahLst/>
                  <a:rect l="l" t="t" r="r" b="b"/>
                  <a:pathLst>
                    <a:path w="20" h="101">
                      <a:moveTo>
                        <a:pt x="0" y="95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9" y="100"/>
                      </a:lnTo>
                      <a:lnTo>
                        <a:pt x="16" y="99"/>
                      </a:lnTo>
                      <a:lnTo>
                        <a:pt x="7" y="8"/>
                      </a:lnTo>
                      <a:lnTo>
                        <a:pt x="3" y="96"/>
                      </a:lnTo>
                      <a:lnTo>
                        <a:pt x="0" y="95"/>
                      </a:lnTo>
                    </a:path>
                  </a:pathLst>
                </a:custGeom>
                <a:solidFill>
                  <a:srgbClr val="c0c27c"/>
                </a:solidFill>
                <a:ln cap="rnd" w="12600">
                  <a:solidFill>
                    <a:srgbClr val="c0c2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37160" y="5108400"/>
                  <a:ext cx="30240" cy="3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87040" y="4653000"/>
                  <a:ext cx="39240" cy="98280"/>
                </a:xfrm>
                <a:custGeom>
                  <a:avLst/>
                  <a:gdLst/>
                  <a:ahLst/>
                  <a:rect l="l" t="t" r="r" b="b"/>
                  <a:pathLst>
                    <a:path w="8" h="43">
                      <a:moveTo>
                        <a:pt x="0" y="42"/>
                      </a:move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7" y="41"/>
                      </a:lnTo>
                      <a:lnTo>
                        <a:pt x="5" y="41"/>
                      </a:lnTo>
                      <a:lnTo>
                        <a:pt x="3" y="41"/>
                      </a:lnTo>
                      <a:lnTo>
                        <a:pt x="2" y="42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87040" y="4620960"/>
                  <a:ext cx="39240" cy="3888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2" y="16"/>
                      </a:moveTo>
                      <a:lnTo>
                        <a:pt x="0" y="12"/>
                      </a:lnTo>
                      <a:lnTo>
                        <a:pt x="3" y="8"/>
                      </a:lnTo>
                      <a:lnTo>
                        <a:pt x="4" y="0"/>
                      </a:lnTo>
                      <a:lnTo>
                        <a:pt x="5" y="8"/>
                      </a:lnTo>
                      <a:lnTo>
                        <a:pt x="7" y="12"/>
                      </a:lnTo>
                      <a:lnTo>
                        <a:pt x="5" y="16"/>
                      </a:lnTo>
                      <a:lnTo>
                        <a:pt x="2" y="1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95560" y="4653000"/>
                  <a:ext cx="169200" cy="459360"/>
                </a:xfrm>
                <a:custGeom>
                  <a:avLst/>
                  <a:gdLst/>
                  <a:ahLst/>
                  <a:rect l="l" t="t" r="r" b="b"/>
                  <a:pathLst>
                    <a:path w="34" h="201">
                      <a:moveTo>
                        <a:pt x="0" y="200"/>
                      </a:moveTo>
                      <a:lnTo>
                        <a:pt x="31" y="0"/>
                      </a:lnTo>
                      <a:lnTo>
                        <a:pt x="33" y="1"/>
                      </a:lnTo>
                      <a:lnTo>
                        <a:pt x="4" y="200"/>
                      </a:lnTo>
                      <a:lnTo>
                        <a:pt x="0" y="200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54680" y="4620960"/>
                  <a:ext cx="15480" cy="38880"/>
                </a:xfrm>
                <a:custGeom>
                  <a:avLst/>
                  <a:gdLst/>
                  <a:ahLst/>
                  <a:rect l="l" t="t" r="r" b="b"/>
                  <a:pathLst>
                    <a:path w="3" h="17">
                      <a:moveTo>
                        <a:pt x="0" y="15"/>
                      </a:moveTo>
                      <a:lnTo>
                        <a:pt x="0" y="11"/>
                      </a:lnTo>
                      <a:lnTo>
                        <a:pt x="1" y="8"/>
                      </a:lnTo>
                      <a:lnTo>
                        <a:pt x="2" y="0"/>
                      </a:lnTo>
                      <a:lnTo>
                        <a:pt x="1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983640" y="4932000"/>
                  <a:ext cx="55080" cy="109800"/>
                </a:xfrm>
                <a:custGeom>
                  <a:avLst/>
                  <a:gdLst/>
                  <a:ahLst/>
                  <a:rect l="l" t="t" r="r" b="b"/>
                  <a:pathLst>
                    <a:path w="11" h="48">
                      <a:moveTo>
                        <a:pt x="0" y="47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4" y="47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18920" y="4902480"/>
                  <a:ext cx="34920" cy="31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1" y="13"/>
                      </a:moveTo>
                      <a:lnTo>
                        <a:pt x="0" y="9"/>
                      </a:lnTo>
                      <a:lnTo>
                        <a:pt x="3" y="7"/>
                      </a:lnTo>
                      <a:lnTo>
                        <a:pt x="5" y="0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3" y="13"/>
                      </a:lnTo>
                      <a:lnTo>
                        <a:pt x="1" y="1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73360" y="4858920"/>
                  <a:ext cx="69840" cy="200880"/>
                </a:xfrm>
                <a:custGeom>
                  <a:avLst/>
                  <a:gdLst/>
                  <a:ahLst/>
                  <a:rect l="l" t="t" r="r" b="b"/>
                  <a:pathLst>
                    <a:path w="14" h="88">
                      <a:moveTo>
                        <a:pt x="0" y="78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" y="87"/>
                      </a:lnTo>
                      <a:lnTo>
                        <a:pt x="1" y="87"/>
                      </a:lnTo>
                      <a:lnTo>
                        <a:pt x="2" y="78"/>
                      </a:lnTo>
                      <a:lnTo>
                        <a:pt x="0" y="78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227720" y="48294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1" y="13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3" y="0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2" y="13"/>
                      </a:lnTo>
                      <a:lnTo>
                        <a:pt x="1" y="1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77840" y="4858920"/>
                  <a:ext cx="64080" cy="303840"/>
                </a:xfrm>
                <a:custGeom>
                  <a:avLst/>
                  <a:gdLst/>
                  <a:ahLst/>
                  <a:rect l="l" t="t" r="r" b="b"/>
                  <a:pathLst>
                    <a:path w="13" h="133">
                      <a:moveTo>
                        <a:pt x="0" y="131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3" y="132"/>
                      </a:lnTo>
                      <a:lnTo>
                        <a:pt x="0" y="131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37600" y="4829400"/>
                  <a:ext cx="24480" cy="313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1" y="12"/>
                      </a:moveTo>
                      <a:lnTo>
                        <a:pt x="0" y="9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2" y="13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26640" y="4767120"/>
                  <a:ext cx="284400" cy="34560"/>
                </a:xfrm>
                <a:custGeom>
                  <a:avLst/>
                  <a:gdLst/>
                  <a:ahLst/>
                  <a:rect l="l" t="t" r="r" b="b"/>
                  <a:pathLst>
                    <a:path w="57" h="15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56" y="14"/>
                      </a:lnTo>
                      <a:lnTo>
                        <a:pt x="5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0000"/>
                </a:solidFill>
                <a:ln cap="rnd" w="12600">
                  <a:solidFill>
                    <a:srgbClr val="a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640560" y="4829400"/>
                  <a:ext cx="263880" cy="31320"/>
                </a:xfrm>
                <a:custGeom>
                  <a:avLst/>
                  <a:gdLst/>
                  <a:ahLst/>
                  <a:rect l="l" t="t" r="r" b="b"/>
                  <a:pathLst>
                    <a:path w="53" h="14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52" y="13"/>
                      </a:lnTo>
                      <a:lnTo>
                        <a:pt x="5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0000"/>
                </a:solidFill>
                <a:ln cap="rnd" w="12600">
                  <a:solidFill>
                    <a:srgbClr val="a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67960" y="4941360"/>
                  <a:ext cx="199800" cy="38880"/>
                </a:xfrm>
                <a:custGeom>
                  <a:avLst/>
                  <a:gdLst/>
                  <a:ahLst/>
                  <a:rect l="l" t="t" r="r" b="b"/>
                  <a:pathLst>
                    <a:path w="40" h="17">
                      <a:moveTo>
                        <a:pt x="0" y="16"/>
                      </a:moveTo>
                      <a:lnTo>
                        <a:pt x="0" y="5"/>
                      </a:lnTo>
                      <a:lnTo>
                        <a:pt x="39" y="0"/>
                      </a:lnTo>
                      <a:lnTo>
                        <a:pt x="39" y="13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81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87040" y="4742280"/>
                  <a:ext cx="64080" cy="423000"/>
                </a:xfrm>
                <a:custGeom>
                  <a:avLst/>
                  <a:gdLst/>
                  <a:ahLst/>
                  <a:rect l="l" t="t" r="r" b="b"/>
                  <a:pathLst>
                    <a:path w="13" h="185">
                      <a:moveTo>
                        <a:pt x="9" y="7"/>
                      </a:move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181"/>
                      </a:lnTo>
                      <a:lnTo>
                        <a:pt x="12" y="184"/>
                      </a:lnTo>
                      <a:lnTo>
                        <a:pt x="9" y="9"/>
                      </a:lnTo>
                      <a:lnTo>
                        <a:pt x="9" y="7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287040" y="4762800"/>
                  <a:ext cx="45000" cy="648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8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595560" y="4732920"/>
                  <a:ext cx="59760" cy="404640"/>
                </a:xfrm>
                <a:custGeom>
                  <a:avLst/>
                  <a:gdLst/>
                  <a:ahLst/>
                  <a:rect l="l" t="t" r="r" b="b"/>
                  <a:pathLst>
                    <a:path w="12" h="177">
                      <a:moveTo>
                        <a:pt x="9" y="7"/>
                      </a:move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0" y="176"/>
                      </a:lnTo>
                      <a:lnTo>
                        <a:pt x="11" y="176"/>
                      </a:lnTo>
                      <a:lnTo>
                        <a:pt x="9" y="9"/>
                      </a:lnTo>
                      <a:lnTo>
                        <a:pt x="9" y="7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605640" y="4748760"/>
                  <a:ext cx="39240" cy="158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7" y="6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879960" y="4810680"/>
                  <a:ext cx="68760" cy="354600"/>
                </a:xfrm>
                <a:custGeom>
                  <a:avLst/>
                  <a:gdLst/>
                  <a:ahLst/>
                  <a:rect l="l" t="t" r="r" b="b"/>
                  <a:pathLst>
                    <a:path w="14" h="155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154"/>
                      </a:lnTo>
                      <a:lnTo>
                        <a:pt x="13" y="154"/>
                      </a:lnTo>
                      <a:lnTo>
                        <a:pt x="10" y="9"/>
                      </a:lnTo>
                      <a:lnTo>
                        <a:pt x="10" y="7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899040" y="4826520"/>
                  <a:ext cx="34920" cy="43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134120" y="4934160"/>
                  <a:ext cx="39240" cy="107640"/>
                </a:xfrm>
                <a:custGeom>
                  <a:avLst/>
                  <a:gdLst/>
                  <a:ahLst/>
                  <a:rect l="l" t="t" r="r" b="b"/>
                  <a:pathLst>
                    <a:path w="8" h="47">
                      <a:moveTo>
                        <a:pt x="7" y="6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0" y="46"/>
                      </a:lnTo>
                      <a:lnTo>
                        <a:pt x="7" y="46"/>
                      </a:lnTo>
                      <a:lnTo>
                        <a:pt x="7" y="8"/>
                      </a:lnTo>
                      <a:lnTo>
                        <a:pt x="7" y="6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43120" y="4941360"/>
                  <a:ext cx="30240" cy="111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5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97560" y="4980240"/>
                  <a:ext cx="49320" cy="8640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8" y="6"/>
                      </a:move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37"/>
                      </a:lnTo>
                      <a:lnTo>
                        <a:pt x="9" y="37"/>
                      </a:lnTo>
                      <a:lnTo>
                        <a:pt x="8" y="7"/>
                      </a:lnTo>
                      <a:lnTo>
                        <a:pt x="8" y="6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22400" y="4993560"/>
                  <a:ext cx="24480" cy="111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2000" y="4932000"/>
                  <a:ext cx="24480" cy="148680"/>
                </a:xfrm>
                <a:custGeom>
                  <a:avLst/>
                  <a:gdLst/>
                  <a:ahLst/>
                  <a:rect l="l" t="t" r="r" b="b"/>
                  <a:pathLst>
                    <a:path w="5" h="65">
                      <a:moveTo>
                        <a:pt x="4" y="6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63"/>
                      </a:lnTo>
                      <a:lnTo>
                        <a:pt x="4" y="64"/>
                      </a:lnTo>
                      <a:lnTo>
                        <a:pt x="4" y="8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62000" y="4941360"/>
                  <a:ext cx="20160" cy="180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56680" y="5112360"/>
                  <a:ext cx="109440" cy="7560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" y="0"/>
                      </a:moveTo>
                      <a:lnTo>
                        <a:pt x="0" y="32"/>
                      </a:lnTo>
                      <a:lnTo>
                        <a:pt x="21" y="32"/>
                      </a:lnTo>
                      <a:lnTo>
                        <a:pt x="18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a13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56680" y="5099040"/>
                  <a:ext cx="109440" cy="1584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21" y="6"/>
                      </a:move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0" y="6"/>
                      </a:lnTo>
                      <a:lnTo>
                        <a:pt x="21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67120" y="5133240"/>
                  <a:ext cx="88920" cy="4320"/>
                </a:xfrm>
                <a:custGeom>
                  <a:avLst/>
                  <a:gdLst/>
                  <a:ahLst/>
                  <a:rect l="l" t="t" r="r" b="b"/>
                  <a:pathLst>
                    <a:path w="18" h="2">
                      <a:moveTo>
                        <a:pt x="0" y="1"/>
                      </a:moveTo>
                      <a:lnTo>
                        <a:pt x="9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56680" y="5135040"/>
                  <a:ext cx="104760" cy="1116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0" y="3"/>
                      </a:moveTo>
                      <a:lnTo>
                        <a:pt x="10" y="4"/>
                      </a:lnTo>
                      <a:lnTo>
                        <a:pt x="20" y="3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56680" y="5144400"/>
                  <a:ext cx="104760" cy="6480"/>
                </a:xfrm>
                <a:custGeom>
                  <a:avLst/>
                  <a:gdLst/>
                  <a:ahLst/>
                  <a:rect l="l" t="t" r="r" b="b"/>
                  <a:pathLst>
                    <a:path w="21" h="3">
                      <a:moveTo>
                        <a:pt x="0" y="2"/>
                      </a:moveTo>
                      <a:lnTo>
                        <a:pt x="10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56680" y="5149080"/>
                  <a:ext cx="104760" cy="15840"/>
                </a:xfrm>
                <a:custGeom>
                  <a:avLst/>
                  <a:gdLst/>
                  <a:ahLst/>
                  <a:rect l="l" t="t" r="r" b="b"/>
                  <a:pathLst>
                    <a:path w="21" h="7">
                      <a:moveTo>
                        <a:pt x="0" y="4"/>
                      </a:moveTo>
                      <a:lnTo>
                        <a:pt x="10" y="6"/>
                      </a:lnTo>
                      <a:lnTo>
                        <a:pt x="15" y="6"/>
                      </a:lnTo>
                      <a:lnTo>
                        <a:pt x="20" y="4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561800" y="5078160"/>
                  <a:ext cx="54000" cy="116640"/>
                </a:xfrm>
                <a:custGeom>
                  <a:avLst/>
                  <a:gdLst/>
                  <a:ahLst/>
                  <a:rect l="l" t="t" r="r" b="b"/>
                  <a:pathLst>
                    <a:path w="11" h="51">
                      <a:moveTo>
                        <a:pt x="9" y="4"/>
                      </a:moveTo>
                      <a:lnTo>
                        <a:pt x="10" y="1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0"/>
                      </a:lnTo>
                      <a:lnTo>
                        <a:pt x="10" y="49"/>
                      </a:lnTo>
                      <a:lnTo>
                        <a:pt x="9" y="6"/>
                      </a:lnTo>
                      <a:lnTo>
                        <a:pt x="9" y="4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561800" y="5080680"/>
                  <a:ext cx="54000" cy="648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0" y="1"/>
                      </a:move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5" y="1"/>
                      </a:lnTo>
                      <a:lnTo>
                        <a:pt x="10" y="2"/>
                      </a:lnTo>
                      <a:lnTo>
                        <a:pt x="10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522200" y="4964040"/>
                  <a:ext cx="93600" cy="287640"/>
                </a:xfrm>
                <a:custGeom>
                  <a:avLst/>
                  <a:gdLst/>
                  <a:ahLst/>
                  <a:rect l="l" t="t" r="r" b="b"/>
                  <a:pathLst>
                    <a:path w="19" h="126">
                      <a:moveTo>
                        <a:pt x="18" y="125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4" y="125"/>
                      </a:lnTo>
                      <a:lnTo>
                        <a:pt x="18" y="125"/>
                      </a:lnTo>
                    </a:path>
                  </a:pathLst>
                </a:custGeom>
                <a:solidFill>
                  <a:srgbClr val="d2b06a"/>
                </a:solidFill>
                <a:ln cap="rnd" w="12600">
                  <a:solidFill>
                    <a:srgbClr val="d2b0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12120" y="4932000"/>
                  <a:ext cx="34920" cy="3420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5" y="14"/>
                      </a:moveTo>
                      <a:lnTo>
                        <a:pt x="6" y="10"/>
                      </a:lnTo>
                      <a:lnTo>
                        <a:pt x="3" y="7"/>
                      </a:lnTo>
                      <a:lnTo>
                        <a:pt x="1" y="0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427520" y="5144400"/>
                  <a:ext cx="208800" cy="66240"/>
                </a:xfrm>
                <a:custGeom>
                  <a:avLst/>
                  <a:gdLst/>
                  <a:ahLst/>
                  <a:rect l="l" t="t" r="r" b="b"/>
                  <a:pathLst>
                    <a:path w="42" h="29">
                      <a:moveTo>
                        <a:pt x="1" y="18"/>
                      </a:moveTo>
                      <a:lnTo>
                        <a:pt x="6" y="18"/>
                      </a:lnTo>
                      <a:lnTo>
                        <a:pt x="6" y="15"/>
                      </a:lnTo>
                      <a:lnTo>
                        <a:pt x="9" y="15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2" y="8"/>
                      </a:lnTo>
                      <a:lnTo>
                        <a:pt x="16" y="5"/>
                      </a:lnTo>
                      <a:lnTo>
                        <a:pt x="15" y="18"/>
                      </a:lnTo>
                      <a:lnTo>
                        <a:pt x="19" y="18"/>
                      </a:lnTo>
                      <a:lnTo>
                        <a:pt x="19" y="12"/>
                      </a:lnTo>
                      <a:lnTo>
                        <a:pt x="21" y="14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9" y="16"/>
                      </a:lnTo>
                      <a:lnTo>
                        <a:pt x="29" y="19"/>
                      </a:lnTo>
                      <a:lnTo>
                        <a:pt x="32" y="19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35" y="21"/>
                      </a:lnTo>
                      <a:lnTo>
                        <a:pt x="35" y="28"/>
                      </a:lnTo>
                      <a:lnTo>
                        <a:pt x="0" y="28"/>
                      </a:lnTo>
                      <a:lnTo>
                        <a:pt x="1" y="18"/>
                      </a:lnTo>
                    </a:path>
                  </a:pathLst>
                </a:custGeom>
                <a:solidFill>
                  <a:srgbClr val="104160"/>
                </a:solidFill>
                <a:ln cap="rnd" w="12600">
                  <a:solidFill>
                    <a:srgbClr val="1041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37600" y="5208840"/>
                  <a:ext cx="333000" cy="77040"/>
                </a:xfrm>
                <a:custGeom>
                  <a:avLst/>
                  <a:gdLst/>
                  <a:ahLst/>
                  <a:rect l="l" t="t" r="r" b="b"/>
                  <a:pathLst>
                    <a:path w="67" h="34">
                      <a:moveTo>
                        <a:pt x="34" y="0"/>
                      </a:moveTo>
                      <a:lnTo>
                        <a:pt x="36" y="0"/>
                      </a:lnTo>
                      <a:lnTo>
                        <a:pt x="49" y="0"/>
                      </a:lnTo>
                      <a:lnTo>
                        <a:pt x="50" y="12"/>
                      </a:lnTo>
                      <a:lnTo>
                        <a:pt x="61" y="12"/>
                      </a:lnTo>
                      <a:lnTo>
                        <a:pt x="66" y="33"/>
                      </a:lnTo>
                      <a:lnTo>
                        <a:pt x="56" y="33"/>
                      </a:lnTo>
                      <a:lnTo>
                        <a:pt x="46" y="33"/>
                      </a:lnTo>
                      <a:lnTo>
                        <a:pt x="37" y="32"/>
                      </a:ln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058160" y="4856040"/>
                  <a:ext cx="30240" cy="185400"/>
                </a:xfrm>
                <a:custGeom>
                  <a:avLst/>
                  <a:gdLst/>
                  <a:ahLst/>
                  <a:rect l="l" t="t" r="r" b="b"/>
                  <a:pathLst>
                    <a:path w="6" h="81">
                      <a:moveTo>
                        <a:pt x="0" y="80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80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104160"/>
                </a:solidFill>
                <a:ln cap="rnd" w="12600">
                  <a:solidFill>
                    <a:srgbClr val="1041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14240" y="4856040"/>
                  <a:ext cx="109440" cy="2520"/>
                </a:xfrm>
                <a:prstGeom prst="rect">
                  <a:avLst/>
                </a:prstGeom>
                <a:solidFill>
                  <a:srgbClr val="a2a2a2"/>
                </a:solidFill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058160" y="4835880"/>
                  <a:ext cx="24480" cy="11160"/>
                </a:xfrm>
                <a:prstGeom prst="rect">
                  <a:avLst/>
                </a:prstGeom>
                <a:solidFill>
                  <a:srgbClr val="71b2cf"/>
                </a:solidFill>
                <a:ln w="12600">
                  <a:solidFill>
                    <a:srgbClr val="71b2c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049160" y="4847400"/>
                  <a:ext cx="43920" cy="1800"/>
                </a:xfrm>
                <a:prstGeom prst="rect">
                  <a:avLst/>
                </a:prstGeom>
                <a:solidFill>
                  <a:srgbClr val="004080"/>
                </a:solidFill>
                <a:ln w="12600">
                  <a:solidFill>
                    <a:srgbClr val="004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049160" y="4829400"/>
                  <a:ext cx="43920" cy="1800"/>
                </a:xfrm>
                <a:prstGeom prst="rect">
                  <a:avLst/>
                </a:prstGeom>
                <a:solidFill>
                  <a:srgbClr val="004080"/>
                </a:solidFill>
                <a:ln w="12600">
                  <a:solidFill>
                    <a:srgbClr val="004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053840" y="4810680"/>
                  <a:ext cx="29160" cy="15840"/>
                </a:xfrm>
                <a:prstGeom prst="rect">
                  <a:avLst/>
                </a:prstGeom>
                <a:solidFill>
                  <a:srgbClr val="004080"/>
                </a:solidFill>
                <a:ln w="12600">
                  <a:solidFill>
                    <a:srgbClr val="004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437600" y="5208840"/>
                  <a:ext cx="33840" cy="74880"/>
                </a:xfrm>
                <a:custGeom>
                  <a:avLst/>
                  <a:gdLst/>
                  <a:ahLst/>
                  <a:rect l="l" t="t" r="r" b="b"/>
                  <a:pathLst>
                    <a:path w="7" h="3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f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37600" y="5185440"/>
                  <a:ext cx="33840" cy="90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4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99680" y="5030280"/>
                  <a:ext cx="642240" cy="253440"/>
                </a:xfrm>
                <a:custGeom>
                  <a:avLst/>
                  <a:gdLst/>
                  <a:ahLst/>
                  <a:rect l="l" t="t" r="r" b="b"/>
                  <a:pathLst>
                    <a:path w="129" h="111">
                      <a:moveTo>
                        <a:pt x="0" y="85"/>
                      </a:moveTo>
                      <a:lnTo>
                        <a:pt x="0" y="1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76" y="4"/>
                      </a:lnTo>
                      <a:lnTo>
                        <a:pt x="76" y="12"/>
                      </a:lnTo>
                      <a:lnTo>
                        <a:pt x="123" y="18"/>
                      </a:lnTo>
                      <a:lnTo>
                        <a:pt x="123" y="31"/>
                      </a:lnTo>
                      <a:lnTo>
                        <a:pt x="108" y="29"/>
                      </a:lnTo>
                      <a:lnTo>
                        <a:pt x="108" y="54"/>
                      </a:lnTo>
                      <a:lnTo>
                        <a:pt x="128" y="58"/>
                      </a:lnTo>
                      <a:lnTo>
                        <a:pt x="128" y="110"/>
                      </a:lnTo>
                      <a:lnTo>
                        <a:pt x="98" y="106"/>
                      </a:lnTo>
                      <a:lnTo>
                        <a:pt x="68" y="10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8f8f8f"/>
                </a:solidFill>
                <a:ln cap="rnd" w="12600">
                  <a:solidFill>
                    <a:srgbClr val="8f8f8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705000" y="5085000"/>
                  <a:ext cx="59760" cy="525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21"/>
                      </a:move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8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c0c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475680" y="5053320"/>
                  <a:ext cx="84600" cy="134640"/>
                </a:xfrm>
                <a:custGeom>
                  <a:avLst/>
                  <a:gdLst/>
                  <a:ahLst/>
                  <a:rect l="l" t="t" r="r" b="b"/>
                  <a:pathLst>
                    <a:path w="17" h="59">
                      <a:moveTo>
                        <a:pt x="0" y="56"/>
                      </a:move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6" y="1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2" y="12"/>
                      </a:lnTo>
                      <a:lnTo>
                        <a:pt x="11" y="15"/>
                      </a:lnTo>
                      <a:lnTo>
                        <a:pt x="11" y="58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e0a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417000" y="5058000"/>
                  <a:ext cx="64080" cy="115920"/>
                </a:xfrm>
                <a:custGeom>
                  <a:avLst/>
                  <a:gdLst/>
                  <a:ahLst/>
                  <a:rect l="l" t="t" r="r" b="b"/>
                  <a:pathLst>
                    <a:path w="13" h="51">
                      <a:moveTo>
                        <a:pt x="0" y="47"/>
                      </a:moveTo>
                      <a:lnTo>
                        <a:pt x="0" y="12"/>
                      </a:lnTo>
                      <a:lnTo>
                        <a:pt x="1" y="4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2" y="11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8" y="5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272640" y="4920480"/>
                  <a:ext cx="19080" cy="90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8320" y="4911120"/>
                  <a:ext cx="203040" cy="200880"/>
                </a:xfrm>
                <a:custGeom>
                  <a:avLst/>
                  <a:gdLst/>
                  <a:ahLst/>
                  <a:rect l="l" t="t" r="r" b="b"/>
                  <a:pathLst>
                    <a:path w="41" h="88">
                      <a:moveTo>
                        <a:pt x="0" y="0"/>
                      </a:moveTo>
                      <a:lnTo>
                        <a:pt x="27" y="33"/>
                      </a:lnTo>
                      <a:lnTo>
                        <a:pt x="24" y="87"/>
                      </a:lnTo>
                      <a:lnTo>
                        <a:pt x="40" y="66"/>
                      </a:lnTo>
                      <a:lnTo>
                        <a:pt x="10" y="38"/>
                      </a:lnTo>
                      <a:lnTo>
                        <a:pt x="1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88320" y="4881600"/>
                  <a:ext cx="203040" cy="230400"/>
                </a:xfrm>
                <a:custGeom>
                  <a:avLst/>
                  <a:gdLst/>
                  <a:ahLst/>
                  <a:rect l="l" t="t" r="r" b="b"/>
                  <a:pathLst>
                    <a:path w="41" h="101">
                      <a:moveTo>
                        <a:pt x="23" y="100"/>
                      </a:moveTo>
                      <a:lnTo>
                        <a:pt x="0" y="13"/>
                      </a:lnTo>
                      <a:lnTo>
                        <a:pt x="2" y="0"/>
                      </a:lnTo>
                      <a:lnTo>
                        <a:pt x="14" y="13"/>
                      </a:lnTo>
                      <a:lnTo>
                        <a:pt x="40" y="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32600" y="4941360"/>
                  <a:ext cx="39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152760" y="4970520"/>
                  <a:ext cx="5400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6146640" y="5027760"/>
                  <a:ext cx="1148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167520" y="4920480"/>
                  <a:ext cx="99000" cy="18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17840" y="4920480"/>
                  <a:ext cx="94680" cy="18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152760" y="4970520"/>
                  <a:ext cx="5400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088320" y="4657680"/>
                  <a:ext cx="208800" cy="443160"/>
                </a:xfrm>
                <a:custGeom>
                  <a:avLst/>
                  <a:gdLst/>
                  <a:ahLst/>
                  <a:rect l="l" t="t" r="r" b="b"/>
                  <a:pathLst>
                    <a:path w="42" h="194">
                      <a:moveTo>
                        <a:pt x="0" y="193"/>
                      </a:moveTo>
                      <a:lnTo>
                        <a:pt x="24" y="98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326640" y="4799160"/>
                  <a:ext cx="318240" cy="313200"/>
                </a:xfrm>
                <a:custGeom>
                  <a:avLst/>
                  <a:gdLst/>
                  <a:ahLst/>
                  <a:rect l="l" t="t" r="r" b="b"/>
                  <a:pathLst>
                    <a:path w="64" h="137">
                      <a:moveTo>
                        <a:pt x="0" y="0"/>
                      </a:moveTo>
                      <a:lnTo>
                        <a:pt x="28" y="70"/>
                      </a:lnTo>
                      <a:lnTo>
                        <a:pt x="45" y="104"/>
                      </a:lnTo>
                      <a:lnTo>
                        <a:pt x="63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07560" y="4629960"/>
                  <a:ext cx="457200" cy="5004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0" y="0"/>
                      </a:moveTo>
                      <a:lnTo>
                        <a:pt x="19" y="12"/>
                      </a:lnTo>
                      <a:lnTo>
                        <a:pt x="48" y="20"/>
                      </a:lnTo>
                      <a:lnTo>
                        <a:pt x="55" y="21"/>
                      </a:lnTo>
                      <a:lnTo>
                        <a:pt x="58" y="21"/>
                      </a:lnTo>
                      <a:lnTo>
                        <a:pt x="62" y="21"/>
                      </a:lnTo>
                      <a:lnTo>
                        <a:pt x="75" y="18"/>
                      </a:lnTo>
                      <a:lnTo>
                        <a:pt x="85" y="12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760080" y="4657680"/>
                  <a:ext cx="88920" cy="37476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1" y="0"/>
                      </a:move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0" y="41"/>
                      </a:lnTo>
                      <a:lnTo>
                        <a:pt x="3" y="82"/>
                      </a:lnTo>
                      <a:lnTo>
                        <a:pt x="8" y="123"/>
                      </a:lnTo>
                      <a:lnTo>
                        <a:pt x="17" y="16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760080" y="4657680"/>
                  <a:ext cx="123840" cy="347400"/>
                </a:xfrm>
                <a:custGeom>
                  <a:avLst/>
                  <a:gdLst/>
                  <a:ahLst/>
                  <a:rect l="l" t="t" r="r" b="b"/>
                  <a:pathLst>
                    <a:path w="25" h="152">
                      <a:moveTo>
                        <a:pt x="0" y="0"/>
                      </a:moveTo>
                      <a:lnTo>
                        <a:pt x="9" y="76"/>
                      </a:lnTo>
                      <a:lnTo>
                        <a:pt x="24" y="1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929640" y="4829400"/>
                  <a:ext cx="94680" cy="203040"/>
                </a:xfrm>
                <a:custGeom>
                  <a:avLst/>
                  <a:gdLst/>
                  <a:ahLst/>
                  <a:rect l="l" t="t" r="r" b="b"/>
                  <a:pathLst>
                    <a:path w="19" h="89">
                      <a:moveTo>
                        <a:pt x="0" y="0"/>
                      </a:moveTo>
                      <a:lnTo>
                        <a:pt x="7" y="45"/>
                      </a:lnTo>
                      <a:lnTo>
                        <a:pt x="18" y="8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237800" y="4849560"/>
                  <a:ext cx="204120" cy="11160"/>
                </a:xfrm>
                <a:custGeom>
                  <a:avLst/>
                  <a:gdLst/>
                  <a:ahLst/>
                  <a:rect l="l" t="t" r="r" b="b"/>
                  <a:pathLst>
                    <a:path w="41" h="5">
                      <a:moveTo>
                        <a:pt x="0" y="1"/>
                      </a:moveTo>
                      <a:lnTo>
                        <a:pt x="20" y="4"/>
                      </a:lnTo>
                      <a:lnTo>
                        <a:pt x="27" y="4"/>
                      </a:lnTo>
                      <a:lnTo>
                        <a:pt x="29" y="4"/>
                      </a:lnTo>
                      <a:lnTo>
                        <a:pt x="31" y="4"/>
                      </a:lnTo>
                      <a:lnTo>
                        <a:pt x="37" y="3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237800" y="4858920"/>
                  <a:ext cx="204120" cy="22680"/>
                </a:xfrm>
                <a:custGeom>
                  <a:avLst/>
                  <a:gdLst/>
                  <a:ahLst/>
                  <a:rect l="l" t="t" r="r" b="b"/>
                  <a:pathLst>
                    <a:path w="41" h="10">
                      <a:moveTo>
                        <a:pt x="0" y="2"/>
                      </a:moveTo>
                      <a:lnTo>
                        <a:pt x="14" y="7"/>
                      </a:lnTo>
                      <a:lnTo>
                        <a:pt x="20" y="9"/>
                      </a:lnTo>
                      <a:lnTo>
                        <a:pt x="22" y="9"/>
                      </a:lnTo>
                      <a:lnTo>
                        <a:pt x="25" y="9"/>
                      </a:lnTo>
                      <a:lnTo>
                        <a:pt x="33" y="7"/>
                      </a:ln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88320" y="4911120"/>
                  <a:ext cx="43920" cy="226440"/>
                </a:xfrm>
                <a:custGeom>
                  <a:avLst/>
                  <a:gdLst/>
                  <a:ahLst/>
                  <a:rect l="l" t="t" r="r" b="b"/>
                  <a:pathLst>
                    <a:path w="9" h="99">
                      <a:moveTo>
                        <a:pt x="8" y="98"/>
                      </a:moveTo>
                      <a:lnTo>
                        <a:pt x="8" y="74"/>
                      </a:lnTo>
                      <a:lnTo>
                        <a:pt x="8" y="68"/>
                      </a:lnTo>
                      <a:lnTo>
                        <a:pt x="8" y="65"/>
                      </a:lnTo>
                      <a:lnTo>
                        <a:pt x="8" y="61"/>
                      </a:lnTo>
                      <a:lnTo>
                        <a:pt x="7" y="48"/>
                      </a:lnTo>
                      <a:lnTo>
                        <a:pt x="5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456680" y="4849560"/>
                  <a:ext cx="99000" cy="262800"/>
                </a:xfrm>
                <a:custGeom>
                  <a:avLst/>
                  <a:gdLst/>
                  <a:ahLst/>
                  <a:rect l="l" t="t" r="r" b="b"/>
                  <a:pathLst>
                    <a:path w="20" h="115">
                      <a:moveTo>
                        <a:pt x="0" y="0"/>
                      </a:moveTo>
                      <a:lnTo>
                        <a:pt x="7" y="68"/>
                      </a:lnTo>
                      <a:lnTo>
                        <a:pt x="12" y="98"/>
                      </a:lnTo>
                      <a:lnTo>
                        <a:pt x="15" y="108"/>
                      </a:lnTo>
                      <a:lnTo>
                        <a:pt x="19" y="11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437600" y="4858920"/>
                  <a:ext cx="39240" cy="241920"/>
                </a:xfrm>
                <a:custGeom>
                  <a:avLst/>
                  <a:gdLst/>
                  <a:ahLst/>
                  <a:rect l="l" t="t" r="r" b="b"/>
                  <a:pathLst>
                    <a:path w="8" h="10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0" y="26"/>
                      </a:lnTo>
                      <a:lnTo>
                        <a:pt x="1" y="53"/>
                      </a:lnTo>
                      <a:lnTo>
                        <a:pt x="7" y="10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43120" y="4881600"/>
                  <a:ext cx="34920" cy="98280"/>
                </a:xfrm>
                <a:custGeom>
                  <a:avLst/>
                  <a:gdLst/>
                  <a:ahLst/>
                  <a:rect l="l" t="t" r="r" b="b"/>
                  <a:pathLst>
                    <a:path w="7" h="43">
                      <a:moveTo>
                        <a:pt x="6" y="0"/>
                      </a:move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0" y="31"/>
                      </a:lnTo>
                      <a:lnTo>
                        <a:pt x="2" y="4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551720" y="5085000"/>
                  <a:ext cx="164520" cy="200880"/>
                </a:xfrm>
                <a:custGeom>
                  <a:avLst/>
                  <a:gdLst/>
                  <a:ahLst/>
                  <a:rect l="l" t="t" r="r" b="b"/>
                  <a:pathLst>
                    <a:path w="33" h="8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1" y="25"/>
                      </a:lnTo>
                      <a:lnTo>
                        <a:pt x="7" y="48"/>
                      </a:lnTo>
                      <a:lnTo>
                        <a:pt x="18" y="69"/>
                      </a:lnTo>
                      <a:lnTo>
                        <a:pt x="32" y="8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083000" y="4856040"/>
                  <a:ext cx="244800" cy="148680"/>
                </a:xfrm>
                <a:custGeom>
                  <a:avLst/>
                  <a:gdLst/>
                  <a:ahLst/>
                  <a:rect l="l" t="t" r="r" b="b"/>
                  <a:pathLst>
                    <a:path w="49" h="65">
                      <a:moveTo>
                        <a:pt x="0" y="0"/>
                      </a:moveTo>
                      <a:lnTo>
                        <a:pt x="9" y="23"/>
                      </a:lnTo>
                      <a:lnTo>
                        <a:pt x="22" y="47"/>
                      </a:lnTo>
                      <a:lnTo>
                        <a:pt x="29" y="55"/>
                      </a:lnTo>
                      <a:lnTo>
                        <a:pt x="36" y="62"/>
                      </a:lnTo>
                      <a:lnTo>
                        <a:pt x="42" y="64"/>
                      </a:lnTo>
                      <a:lnTo>
                        <a:pt x="45" y="63"/>
                      </a:lnTo>
                      <a:lnTo>
                        <a:pt x="48" y="6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963040" y="5058000"/>
                  <a:ext cx="15480" cy="79560"/>
                </a:xfrm>
                <a:custGeom>
                  <a:avLst/>
                  <a:gdLst/>
                  <a:ahLst/>
                  <a:rect l="l" t="t" r="r" b="b"/>
                  <a:pathLst>
                    <a:path w="3" h="35">
                      <a:moveTo>
                        <a:pt x="0" y="34"/>
                      </a:moveTo>
                      <a:lnTo>
                        <a:pt x="1" y="29"/>
                      </a:lnTo>
                      <a:lnTo>
                        <a:pt x="2" y="18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948280" y="5053320"/>
                  <a:ext cx="30240" cy="84240"/>
                </a:xfrm>
                <a:custGeom>
                  <a:avLst/>
                  <a:gdLst/>
                  <a:ahLst/>
                  <a:rect l="l" t="t" r="r" b="b"/>
                  <a:pathLst>
                    <a:path w="6" h="37">
                      <a:moveTo>
                        <a:pt x="5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6"/>
                      </a:lnTo>
                      <a:lnTo>
                        <a:pt x="1" y="36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5" y="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8f8f8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467120" y="5220360"/>
                  <a:ext cx="2448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11480" y="5220360"/>
                  <a:ext cx="2016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61160" y="5220360"/>
                  <a:ext cx="432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7317720" y="5123520"/>
                  <a:ext cx="13860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62000" y="5133240"/>
                  <a:ext cx="0" cy="1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67760" y="5133240"/>
                  <a:ext cx="0" cy="15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377840" y="5135040"/>
                  <a:ext cx="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402680" y="514440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17440" y="514440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37600" y="515376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018920" y="5030280"/>
                  <a:ext cx="253800" cy="232560"/>
                </a:xfrm>
                <a:custGeom>
                  <a:avLst/>
                  <a:gdLst/>
                  <a:ahLst/>
                  <a:rect l="l" t="t" r="r" b="b"/>
                  <a:pathLst>
                    <a:path w="51" h="102">
                      <a:moveTo>
                        <a:pt x="0" y="0"/>
                      </a:moveTo>
                      <a:lnTo>
                        <a:pt x="22" y="53"/>
                      </a:lnTo>
                      <a:lnTo>
                        <a:pt x="35" y="78"/>
                      </a:lnTo>
                      <a:lnTo>
                        <a:pt x="50" y="10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83640" y="5039280"/>
                  <a:ext cx="194040" cy="13248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38" y="0"/>
                      </a:moveTo>
                      <a:lnTo>
                        <a:pt x="17" y="26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535440" y="5135040"/>
                  <a:ext cx="269640" cy="8892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52" y="5"/>
                      </a:move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25"/>
                      </a:lnTo>
                      <a:lnTo>
                        <a:pt x="53" y="38"/>
                      </a:lnTo>
                      <a:lnTo>
                        <a:pt x="53" y="5"/>
                      </a:lnTo>
                      <a:lnTo>
                        <a:pt x="52" y="5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685560" y="5135040"/>
                  <a:ext cx="19080" cy="75600"/>
                </a:xfrm>
                <a:custGeom>
                  <a:avLst/>
                  <a:gdLst/>
                  <a:ahLst/>
                  <a:rect l="l" t="t" r="r" b="b"/>
                  <a:pathLst>
                    <a:path w="4" h="33">
                      <a:moveTo>
                        <a:pt x="0" y="0"/>
                      </a:moveTo>
                      <a:lnTo>
                        <a:pt x="0" y="31"/>
                      </a:lnTo>
                      <a:lnTo>
                        <a:pt x="3" y="3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605640" y="5135040"/>
                  <a:ext cx="14400" cy="5940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2" y="25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760080" y="5144400"/>
                  <a:ext cx="4320" cy="79560"/>
                </a:xfrm>
                <a:custGeom>
                  <a:avLst/>
                  <a:gdLst/>
                  <a:ahLst/>
                  <a:rect l="l" t="t" r="r" b="b"/>
                  <a:pathLst>
                    <a:path w="1" h="35">
                      <a:moveTo>
                        <a:pt x="0" y="0"/>
                      </a:moveTo>
                      <a:lnTo>
                        <a:pt x="0" y="33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35440" y="5110200"/>
                  <a:ext cx="269640" cy="11160"/>
                </a:xfrm>
                <a:custGeom>
                  <a:avLst/>
                  <a:gdLst/>
                  <a:ahLst/>
                  <a:rect l="l" t="t" r="r" b="b"/>
                  <a:pathLst>
                    <a:path w="54" h="5">
                      <a:moveTo>
                        <a:pt x="53" y="4"/>
                      </a:moveTo>
                      <a:lnTo>
                        <a:pt x="27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611040" y="5119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700320" y="5119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555960" y="512172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799680" y="512856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820200" y="5099040"/>
                  <a:ext cx="59760" cy="73080"/>
                </a:xfrm>
                <a:custGeom>
                  <a:avLst/>
                  <a:gdLst/>
                  <a:ahLst/>
                  <a:rect l="l" t="t" r="r" b="b"/>
                  <a:pathLst>
                    <a:path w="12" h="32">
                      <a:moveTo>
                        <a:pt x="0" y="31"/>
                      </a:move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1" y="11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8" y="31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72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795360" y="5085000"/>
                  <a:ext cx="64080" cy="8028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0" y="34"/>
                      </a:move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2" y="1"/>
                      </a:lnTo>
                      <a:lnTo>
                        <a:pt x="12" y="13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8" y="3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6021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362000" y="5211000"/>
                  <a:ext cx="20160" cy="73080"/>
                </a:xfrm>
                <a:custGeom>
                  <a:avLst/>
                  <a:gdLst/>
                  <a:ahLst/>
                  <a:rect l="l" t="t" r="r" b="b"/>
                  <a:pathLst>
                    <a:path w="4" h="3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3" y="3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f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58160" y="5192640"/>
                  <a:ext cx="313560" cy="91080"/>
                </a:xfrm>
                <a:custGeom>
                  <a:avLst/>
                  <a:gdLst/>
                  <a:ahLst/>
                  <a:rect l="l" t="t" r="r" b="b"/>
                  <a:pathLst>
                    <a:path w="63" h="40">
                      <a:moveTo>
                        <a:pt x="62" y="39"/>
                      </a:moveTo>
                      <a:lnTo>
                        <a:pt x="62" y="9"/>
                      </a:lnTo>
                      <a:lnTo>
                        <a:pt x="31" y="2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29" y="34"/>
                      </a:lnTo>
                      <a:lnTo>
                        <a:pt x="62" y="39"/>
                      </a:lnTo>
                    </a:path>
                  </a:pathLst>
                </a:custGeom>
                <a:solidFill>
                  <a:srgbClr val="e0a175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37800" y="5208840"/>
                  <a:ext cx="104760" cy="543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20" y="4"/>
                      </a:lnTo>
                      <a:lnTo>
                        <a:pt x="20" y="23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058160" y="5192640"/>
                  <a:ext cx="59760" cy="5904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0" y="24"/>
                      </a:moveTo>
                      <a:lnTo>
                        <a:pt x="8" y="2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a16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795360" y="5172120"/>
                  <a:ext cx="173520" cy="66240"/>
                </a:xfrm>
                <a:custGeom>
                  <a:avLst/>
                  <a:gdLst/>
                  <a:ahLst/>
                  <a:rect l="l" t="t" r="r" b="b"/>
                  <a:pathLst>
                    <a:path w="35" h="29">
                      <a:moveTo>
                        <a:pt x="0" y="1"/>
                      </a:moveTo>
                      <a:lnTo>
                        <a:pt x="34" y="0"/>
                      </a:lnTo>
                      <a:lnTo>
                        <a:pt x="34" y="28"/>
                      </a:lnTo>
                      <a:lnTo>
                        <a:pt x="0" y="19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64560" y="5172120"/>
                  <a:ext cx="123840" cy="79560"/>
                </a:xfrm>
                <a:custGeom>
                  <a:avLst/>
                  <a:gdLst/>
                  <a:ahLst/>
                  <a:rect l="l" t="t" r="r" b="b"/>
                  <a:pathLst>
                    <a:path w="25" h="35">
                      <a:moveTo>
                        <a:pt x="0" y="29"/>
                      </a:moveTo>
                      <a:lnTo>
                        <a:pt x="0" y="0"/>
                      </a:lnTo>
                      <a:lnTo>
                        <a:pt x="24" y="7"/>
                      </a:lnTo>
                      <a:lnTo>
                        <a:pt x="24" y="34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a2a2a2"/>
                </a:solidFill>
                <a:ln cap="rnd" w="12600">
                  <a:solidFill>
                    <a:srgbClr val="a2a2a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784920" y="5162760"/>
                  <a:ext cx="308160" cy="3204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0" y="1"/>
                      </a:moveTo>
                      <a:lnTo>
                        <a:pt x="38" y="0"/>
                      </a:lnTo>
                      <a:lnTo>
                        <a:pt x="61" y="6"/>
                      </a:lnTo>
                      <a:lnTo>
                        <a:pt x="61" y="13"/>
                      </a:lnTo>
                      <a:lnTo>
                        <a:pt x="38" y="7"/>
                      </a:lnTo>
                      <a:lnTo>
                        <a:pt x="0" y="8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31200" y="5112360"/>
                  <a:ext cx="15480" cy="2268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1" y="9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9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e1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551720" y="5160600"/>
                  <a:ext cx="10080" cy="1332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e1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41640" y="513504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41640" y="514908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54480" y="5043960"/>
                  <a:ext cx="24480" cy="158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994080" y="5043960"/>
                  <a:ext cx="45000" cy="22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8" y="9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58160" y="5043960"/>
                  <a:ext cx="50760" cy="22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9"/>
                      </a:move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9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8360" y="5053320"/>
                  <a:ext cx="20160" cy="133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45040" y="5043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37160" y="5160600"/>
                  <a:ext cx="34920" cy="3420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6" y="14"/>
                      </a:lnTo>
                      <a:lnTo>
                        <a:pt x="6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77840" y="5162760"/>
                  <a:ext cx="29160" cy="3204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5" y="13"/>
                      </a:lnTo>
                      <a:lnTo>
                        <a:pt x="5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287480" y="5149080"/>
                  <a:ext cx="40320" cy="3888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7" y="16"/>
                      </a:lnTo>
                      <a:lnTo>
                        <a:pt x="7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58800" y="509904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33320" y="5099040"/>
                  <a:ext cx="30240" cy="158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34120" y="5099040"/>
                  <a:ext cx="29160" cy="158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49920" y="5110200"/>
                  <a:ext cx="153360" cy="54720"/>
                </a:xfrm>
                <a:custGeom>
                  <a:avLst/>
                  <a:gdLst/>
                  <a:ahLst/>
                  <a:rect l="l" t="t" r="r" b="b"/>
                  <a:pathLst>
                    <a:path w="31" h="24">
                      <a:moveTo>
                        <a:pt x="13" y="0"/>
                      </a:moveTo>
                      <a:lnTo>
                        <a:pt x="8" y="3"/>
                      </a:lnTo>
                      <a:lnTo>
                        <a:pt x="5" y="5"/>
                      </a:lnTo>
                      <a:lnTo>
                        <a:pt x="3" y="8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6"/>
                      </a:lnTo>
                      <a:lnTo>
                        <a:pt x="2" y="19"/>
                      </a:lnTo>
                      <a:lnTo>
                        <a:pt x="3" y="23"/>
                      </a:lnTo>
                      <a:lnTo>
                        <a:pt x="11" y="19"/>
                      </a:lnTo>
                      <a:lnTo>
                        <a:pt x="17" y="17"/>
                      </a:lnTo>
                      <a:lnTo>
                        <a:pt x="24" y="15"/>
                      </a:lnTo>
                      <a:lnTo>
                        <a:pt x="30" y="13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20" y="9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769000" y="5135040"/>
                  <a:ext cx="268560" cy="420840"/>
                </a:xfrm>
                <a:custGeom>
                  <a:avLst/>
                  <a:gdLst/>
                  <a:ahLst/>
                  <a:rect l="l" t="t" r="r" b="b"/>
                  <a:pathLst>
                    <a:path w="54" h="184">
                      <a:moveTo>
                        <a:pt x="21" y="2"/>
                      </a:moveTo>
                      <a:lnTo>
                        <a:pt x="14" y="3"/>
                      </a:lnTo>
                      <a:lnTo>
                        <a:pt x="8" y="6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" y="20"/>
                      </a:lnTo>
                      <a:lnTo>
                        <a:pt x="5" y="29"/>
                      </a:lnTo>
                      <a:lnTo>
                        <a:pt x="10" y="39"/>
                      </a:lnTo>
                      <a:lnTo>
                        <a:pt x="16" y="51"/>
                      </a:lnTo>
                      <a:lnTo>
                        <a:pt x="27" y="77"/>
                      </a:lnTo>
                      <a:lnTo>
                        <a:pt x="37" y="105"/>
                      </a:lnTo>
                      <a:lnTo>
                        <a:pt x="44" y="134"/>
                      </a:lnTo>
                      <a:lnTo>
                        <a:pt x="47" y="164"/>
                      </a:lnTo>
                      <a:lnTo>
                        <a:pt x="47" y="166"/>
                      </a:lnTo>
                      <a:lnTo>
                        <a:pt x="47" y="171"/>
                      </a:lnTo>
                      <a:lnTo>
                        <a:pt x="47" y="174"/>
                      </a:lnTo>
                      <a:lnTo>
                        <a:pt x="47" y="176"/>
                      </a:lnTo>
                      <a:lnTo>
                        <a:pt x="49" y="180"/>
                      </a:lnTo>
                      <a:lnTo>
                        <a:pt x="51" y="183"/>
                      </a:lnTo>
                      <a:lnTo>
                        <a:pt x="51" y="183"/>
                      </a:lnTo>
                      <a:lnTo>
                        <a:pt x="52" y="167"/>
                      </a:lnTo>
                      <a:lnTo>
                        <a:pt x="53" y="145"/>
                      </a:lnTo>
                      <a:lnTo>
                        <a:pt x="53" y="134"/>
                      </a:lnTo>
                      <a:lnTo>
                        <a:pt x="53" y="129"/>
                      </a:lnTo>
                      <a:lnTo>
                        <a:pt x="53" y="123"/>
                      </a:lnTo>
                      <a:lnTo>
                        <a:pt x="49" y="81"/>
                      </a:lnTo>
                      <a:lnTo>
                        <a:pt x="41" y="40"/>
                      </a:lnTo>
                      <a:lnTo>
                        <a:pt x="27" y="0"/>
                      </a:lnTo>
                      <a:lnTo>
                        <a:pt x="21" y="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03920" y="5092200"/>
                  <a:ext cx="617400" cy="79560"/>
                </a:xfrm>
                <a:custGeom>
                  <a:avLst/>
                  <a:gdLst/>
                  <a:ahLst/>
                  <a:rect l="l" t="t" r="r" b="b"/>
                  <a:pathLst>
                    <a:path w="124" h="35">
                      <a:moveTo>
                        <a:pt x="12" y="1"/>
                      </a:move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52" y="2"/>
                      </a:lnTo>
                      <a:lnTo>
                        <a:pt x="98" y="12"/>
                      </a:lnTo>
                      <a:lnTo>
                        <a:pt x="117" y="18"/>
                      </a:lnTo>
                      <a:lnTo>
                        <a:pt x="117" y="22"/>
                      </a:lnTo>
                      <a:lnTo>
                        <a:pt x="118" y="27"/>
                      </a:lnTo>
                      <a:lnTo>
                        <a:pt x="123" y="34"/>
                      </a:lnTo>
                      <a:lnTo>
                        <a:pt x="123" y="34"/>
                      </a:lnTo>
                      <a:lnTo>
                        <a:pt x="102" y="28"/>
                      </a:lnTo>
                      <a:lnTo>
                        <a:pt x="101" y="22"/>
                      </a:lnTo>
                      <a:lnTo>
                        <a:pt x="98" y="19"/>
                      </a:lnTo>
                      <a:lnTo>
                        <a:pt x="96" y="18"/>
                      </a:lnTo>
                      <a:lnTo>
                        <a:pt x="94" y="19"/>
                      </a:lnTo>
                      <a:lnTo>
                        <a:pt x="92" y="25"/>
                      </a:lnTo>
                      <a:lnTo>
                        <a:pt x="69" y="21"/>
                      </a:lnTo>
                      <a:lnTo>
                        <a:pt x="64" y="15"/>
                      </a:lnTo>
                      <a:lnTo>
                        <a:pt x="62" y="14"/>
                      </a:lnTo>
                      <a:lnTo>
                        <a:pt x="58" y="14"/>
                      </a:lnTo>
                      <a:lnTo>
                        <a:pt x="51" y="18"/>
                      </a:lnTo>
                      <a:lnTo>
                        <a:pt x="34" y="17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9" y="10"/>
                      </a:lnTo>
                      <a:lnTo>
                        <a:pt x="27" y="10"/>
                      </a:lnTo>
                      <a:lnTo>
                        <a:pt x="26" y="12"/>
                      </a:lnTo>
                      <a:lnTo>
                        <a:pt x="25" y="14"/>
                      </a:lnTo>
                      <a:lnTo>
                        <a:pt x="26" y="17"/>
                      </a:lnTo>
                      <a:lnTo>
                        <a:pt x="17" y="19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0" y="6"/>
                      </a:lnTo>
                      <a:lnTo>
                        <a:pt x="12" y="1"/>
                      </a:lnTo>
                    </a:path>
                  </a:pathLst>
                </a:custGeom>
                <a:solidFill>
                  <a:srgbClr val="81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392160" y="5135040"/>
                  <a:ext cx="1378440" cy="116640"/>
                </a:xfrm>
                <a:custGeom>
                  <a:avLst/>
                  <a:gdLst/>
                  <a:ahLst/>
                  <a:rect l="l" t="t" r="r" b="b"/>
                  <a:pathLst>
                    <a:path w="277" h="51">
                      <a:moveTo>
                        <a:pt x="0" y="0"/>
                      </a:moveTo>
                      <a:lnTo>
                        <a:pt x="121" y="31"/>
                      </a:lnTo>
                      <a:lnTo>
                        <a:pt x="180" y="42"/>
                      </a:lnTo>
                      <a:lnTo>
                        <a:pt x="229" y="48"/>
                      </a:lnTo>
                      <a:lnTo>
                        <a:pt x="261" y="50"/>
                      </a:lnTo>
                      <a:lnTo>
                        <a:pt x="276" y="5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417000" y="514440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46520" y="5153760"/>
                  <a:ext cx="0" cy="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481440" y="5153760"/>
                  <a:ext cx="0" cy="2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531120" y="515844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60280" y="5158440"/>
                  <a:ext cx="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90880" y="51721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15720" y="51721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55320" y="51721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00320" y="517860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29840" y="518148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60080" y="5181480"/>
                  <a:ext cx="0" cy="2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89600" y="519480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09760" y="519480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49360" y="520164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9960" y="520164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909120" y="5201640"/>
                  <a:ext cx="0" cy="2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944400" y="5201640"/>
                  <a:ext cx="0" cy="2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3560" y="5217480"/>
                  <a:ext cx="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994080" y="5217480"/>
                  <a:ext cx="0" cy="13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033320" y="5220360"/>
                  <a:ext cx="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083000" y="5220360"/>
                  <a:ext cx="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113600" y="5231520"/>
                  <a:ext cx="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143120" y="5240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173360" y="5240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202880" y="5240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227720" y="52405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277400" y="5245200"/>
                  <a:ext cx="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297560" y="5245200"/>
                  <a:ext cx="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328160" y="52498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362000" y="52498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382160" y="5249880"/>
                  <a:ext cx="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27520" y="5249880"/>
                  <a:ext cx="0" cy="2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67120" y="525456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91960" y="525456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522200" y="5254560"/>
                  <a:ext cx="0" cy="1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551720" y="5254560"/>
                  <a:ext cx="0" cy="2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66480" y="5254560"/>
                  <a:ext cx="0" cy="2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611480" y="5259240"/>
                  <a:ext cx="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765108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766116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71084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74144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775044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766280" y="5240520"/>
                  <a:ext cx="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98600" y="5133240"/>
                  <a:ext cx="1871640" cy="423000"/>
                </a:xfrm>
                <a:custGeom>
                  <a:avLst/>
                  <a:gdLst/>
                  <a:ahLst/>
                  <a:rect l="l" t="t" r="r" b="b"/>
                  <a:pathLst>
                    <a:path w="376" h="185">
                      <a:moveTo>
                        <a:pt x="0" y="2"/>
                      </a:moveTo>
                      <a:lnTo>
                        <a:pt x="12" y="41"/>
                      </a:lnTo>
                      <a:lnTo>
                        <a:pt x="20" y="82"/>
                      </a:lnTo>
                      <a:lnTo>
                        <a:pt x="24" y="124"/>
                      </a:lnTo>
                      <a:lnTo>
                        <a:pt x="24" y="146"/>
                      </a:lnTo>
                      <a:lnTo>
                        <a:pt x="24" y="168"/>
                      </a:lnTo>
                      <a:lnTo>
                        <a:pt x="23" y="183"/>
                      </a:lnTo>
                      <a:lnTo>
                        <a:pt x="23" y="184"/>
                      </a:lnTo>
                      <a:lnTo>
                        <a:pt x="31" y="184"/>
                      </a:lnTo>
                      <a:lnTo>
                        <a:pt x="47" y="184"/>
                      </a:lnTo>
                      <a:lnTo>
                        <a:pt x="71" y="183"/>
                      </a:lnTo>
                      <a:lnTo>
                        <a:pt x="112" y="180"/>
                      </a:lnTo>
                      <a:lnTo>
                        <a:pt x="150" y="176"/>
                      </a:lnTo>
                      <a:lnTo>
                        <a:pt x="197" y="171"/>
                      </a:lnTo>
                      <a:lnTo>
                        <a:pt x="242" y="163"/>
                      </a:lnTo>
                      <a:lnTo>
                        <a:pt x="281" y="157"/>
                      </a:lnTo>
                      <a:lnTo>
                        <a:pt x="322" y="147"/>
                      </a:lnTo>
                      <a:lnTo>
                        <a:pt x="361" y="135"/>
                      </a:lnTo>
                      <a:lnTo>
                        <a:pt x="371" y="101"/>
                      </a:lnTo>
                      <a:lnTo>
                        <a:pt x="375" y="65"/>
                      </a:lnTo>
                      <a:lnTo>
                        <a:pt x="360" y="65"/>
                      </a:lnTo>
                      <a:lnTo>
                        <a:pt x="328" y="64"/>
                      </a:lnTo>
                      <a:lnTo>
                        <a:pt x="307" y="62"/>
                      </a:lnTo>
                      <a:lnTo>
                        <a:pt x="279" y="58"/>
                      </a:lnTo>
                      <a:lnTo>
                        <a:pt x="236" y="50"/>
                      </a:lnTo>
                      <a:lnTo>
                        <a:pt x="215" y="45"/>
                      </a:lnTo>
                      <a:lnTo>
                        <a:pt x="181" y="37"/>
                      </a:lnTo>
                      <a:lnTo>
                        <a:pt x="143" y="27"/>
                      </a:lnTo>
                      <a:lnTo>
                        <a:pt x="105" y="17"/>
                      </a:lnTo>
                      <a:lnTo>
                        <a:pt x="74" y="8"/>
                      </a:lnTo>
                      <a:lnTo>
                        <a:pt x="47" y="3"/>
                      </a:lnTo>
                      <a:lnTo>
                        <a:pt x="30" y="1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072480" y="5231520"/>
                  <a:ext cx="99000" cy="6156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16" y="11"/>
                      </a:moveTo>
                      <a:lnTo>
                        <a:pt x="15" y="15"/>
                      </a:lnTo>
                      <a:lnTo>
                        <a:pt x="14" y="18"/>
                      </a:lnTo>
                      <a:lnTo>
                        <a:pt x="12" y="20"/>
                      </a:lnTo>
                      <a:lnTo>
                        <a:pt x="9" y="21"/>
                      </a:lnTo>
                      <a:lnTo>
                        <a:pt x="7" y="20"/>
                      </a:lnTo>
                      <a:lnTo>
                        <a:pt x="5" y="17"/>
                      </a:lnTo>
                      <a:lnTo>
                        <a:pt x="5" y="12"/>
                      </a:lnTo>
                      <a:lnTo>
                        <a:pt x="7" y="8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4"/>
                      </a:lnTo>
                      <a:lnTo>
                        <a:pt x="1" y="10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2"/>
                      </a:lnTo>
                      <a:lnTo>
                        <a:pt x="6" y="26"/>
                      </a:lnTo>
                      <a:lnTo>
                        <a:pt x="8" y="26"/>
                      </a:lnTo>
                      <a:lnTo>
                        <a:pt x="11" y="26"/>
                      </a:lnTo>
                      <a:lnTo>
                        <a:pt x="15" y="24"/>
                      </a:lnTo>
                      <a:lnTo>
                        <a:pt x="17" y="21"/>
                      </a:lnTo>
                      <a:lnTo>
                        <a:pt x="18" y="16"/>
                      </a:lnTo>
                      <a:lnTo>
                        <a:pt x="19" y="10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60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993640" y="5405400"/>
                  <a:ext cx="1731600" cy="150840"/>
                </a:xfrm>
                <a:custGeom>
                  <a:avLst/>
                  <a:gdLst/>
                  <a:ahLst/>
                  <a:rect l="l" t="t" r="r" b="b"/>
                  <a:pathLst>
                    <a:path w="348" h="66">
                      <a:moveTo>
                        <a:pt x="347" y="0"/>
                      </a:moveTo>
                      <a:lnTo>
                        <a:pt x="281" y="20"/>
                      </a:lnTo>
                      <a:lnTo>
                        <a:pt x="228" y="29"/>
                      </a:lnTo>
                      <a:lnTo>
                        <a:pt x="181" y="35"/>
                      </a:lnTo>
                      <a:lnTo>
                        <a:pt x="137" y="41"/>
                      </a:lnTo>
                      <a:lnTo>
                        <a:pt x="98" y="45"/>
                      </a:lnTo>
                      <a:lnTo>
                        <a:pt x="58" y="48"/>
                      </a:lnTo>
                      <a:lnTo>
                        <a:pt x="34" y="50"/>
                      </a:lnTo>
                      <a:lnTo>
                        <a:pt x="28" y="50"/>
                      </a:lnTo>
                      <a:lnTo>
                        <a:pt x="24" y="50"/>
                      </a:lnTo>
                      <a:lnTo>
                        <a:pt x="22" y="50"/>
                      </a:lnTo>
                      <a:lnTo>
                        <a:pt x="19" y="50"/>
                      </a:lnTo>
                      <a:lnTo>
                        <a:pt x="10" y="50"/>
                      </a:lnTo>
                      <a:lnTo>
                        <a:pt x="5" y="49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2" y="63"/>
                      </a:lnTo>
                      <a:lnTo>
                        <a:pt x="4" y="65"/>
                      </a:lnTo>
                      <a:lnTo>
                        <a:pt x="12" y="65"/>
                      </a:lnTo>
                      <a:lnTo>
                        <a:pt x="29" y="65"/>
                      </a:lnTo>
                      <a:lnTo>
                        <a:pt x="53" y="64"/>
                      </a:lnTo>
                      <a:lnTo>
                        <a:pt x="94" y="61"/>
                      </a:lnTo>
                      <a:lnTo>
                        <a:pt x="132" y="57"/>
                      </a:lnTo>
                      <a:lnTo>
                        <a:pt x="178" y="51"/>
                      </a:lnTo>
                      <a:lnTo>
                        <a:pt x="223" y="43"/>
                      </a:lnTo>
                      <a:lnTo>
                        <a:pt x="262" y="37"/>
                      </a:lnTo>
                      <a:lnTo>
                        <a:pt x="303" y="27"/>
                      </a:lnTo>
                      <a:lnTo>
                        <a:pt x="342" y="14"/>
                      </a:lnTo>
                      <a:lnTo>
                        <a:pt x="344" y="8"/>
                      </a:lnTo>
                      <a:lnTo>
                        <a:pt x="347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5334120" y="1857240"/>
            <a:ext cx="761760" cy="324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52320" y="290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全真中圓體"/>
              </a:rPr>
              <a:t>提供高品質的軌道運輸服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8360" y="56865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全真中圓體"/>
              </a:rPr>
              <a:t>積極發展民航場站建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57880" y="5662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全真中圓體"/>
              </a:rPr>
              <a:t>發展海運轉運中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2905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全真中圓體"/>
              </a:rPr>
              <a:t>強化高快速公路運輸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7238880" y="2714760"/>
            <a:ext cx="914400" cy="417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95520" y="2328840"/>
            <a:ext cx="2349720" cy="1515960"/>
          </a:xfrm>
          <a:prstGeom prst="ellipse">
            <a:avLst/>
          </a:prstGeom>
          <a:solidFill>
            <a:srgbClr val="c1ceff"/>
          </a:solidFill>
          <a:ln w="38160">
            <a:solidFill>
              <a:srgbClr val="923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44840" y="265104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粗圓體"/>
                <a:ea typeface="華康粗圓體"/>
              </a:rPr>
              <a:t>複合運輸系統及節點之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3132000"/>
            <a:ext cx="3021120" cy="0"/>
          </a:xfrm>
          <a:prstGeom prst="line">
            <a:avLst/>
          </a:prstGeom>
          <a:ln w="28440">
            <a:solidFill>
              <a:srgbClr val="9234d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45240" y="3132000"/>
            <a:ext cx="3017880" cy="0"/>
          </a:xfrm>
          <a:prstGeom prst="line">
            <a:avLst/>
          </a:prstGeom>
          <a:ln w="28440">
            <a:solidFill>
              <a:srgbClr val="9234d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52920" y="152280"/>
            <a:ext cx="0" cy="2176560"/>
          </a:xfrm>
          <a:prstGeom prst="line">
            <a:avLst/>
          </a:prstGeom>
          <a:ln w="28440">
            <a:solidFill>
              <a:srgbClr val="9234d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2920" y="3895560"/>
            <a:ext cx="0" cy="2276640"/>
          </a:xfrm>
          <a:prstGeom prst="line">
            <a:avLst/>
          </a:prstGeom>
          <a:ln w="28440">
            <a:solidFill>
              <a:srgbClr val="9234d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752480" y="6324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二  提升運輸建設計畫之施行績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57200" y="14400"/>
            <a:ext cx="8305920" cy="6234120"/>
            <a:chOff x="457200" y="14400"/>
            <a:chExt cx="8305920" cy="6234120"/>
          </a:xfrm>
        </p:grpSpPr>
        <p:sp>
          <p:nvSpPr>
            <p:cNvPr id="404" name=""/>
            <p:cNvSpPr/>
            <p:nvPr/>
          </p:nvSpPr>
          <p:spPr>
            <a:xfrm>
              <a:off x="457200" y="76320"/>
              <a:ext cx="8305920" cy="6172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1400" y="533520"/>
              <a:ext cx="7337520" cy="5257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1951200" y="1371600"/>
              <a:ext cx="228888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5181480" y="3886200"/>
              <a:ext cx="1540080" cy="150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"/>
            <p:cNvGrpSpPr/>
            <p:nvPr/>
          </p:nvGrpSpPr>
          <p:grpSpPr>
            <a:xfrm>
              <a:off x="2152800" y="3929040"/>
              <a:ext cx="2355480" cy="1250640"/>
              <a:chOff x="2152800" y="3929040"/>
              <a:chExt cx="2355480" cy="1250640"/>
            </a:xfrm>
          </p:grpSpPr>
          <p:pic>
            <p:nvPicPr>
              <p:cNvPr id="4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52800" y="4399920"/>
                <a:ext cx="1531440" cy="7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66160" y="3929040"/>
                <a:ext cx="942120" cy="819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1" name="" descr=""/>
            <p:cNvPicPr/>
            <p:nvPr/>
          </p:nvPicPr>
          <p:blipFill>
            <a:blip r:embed="rId7"/>
            <a:stretch/>
          </p:blipFill>
          <p:spPr>
            <a:xfrm>
              <a:off x="6124680" y="2054160"/>
              <a:ext cx="11444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8"/>
            <a:stretch/>
          </p:blipFill>
          <p:spPr>
            <a:xfrm>
              <a:off x="6124680" y="1384200"/>
              <a:ext cx="107640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9"/>
            <a:stretch/>
          </p:blipFill>
          <p:spPr>
            <a:xfrm>
              <a:off x="4844880" y="1143000"/>
              <a:ext cx="120204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4610160" y="533520"/>
              <a:ext cx="0" cy="519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41400" y="3271680"/>
              <a:ext cx="733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46840" y="2819520"/>
              <a:ext cx="24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研訂工程管理制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14400" y="2819520"/>
              <a:ext cx="24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加強公共溝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71600" y="3403440"/>
              <a:ext cx="28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華康粗圓體"/>
                </a:rPr>
                <a:t>編訂運輸規劃作業手冊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2880" y="3403440"/>
              <a:ext cx="27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華康粗圓體"/>
                  <a:ea typeface="華康粗圓體"/>
                </a:rPr>
                <a:t>試辦運輸系統績效監測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480" y="20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" y="2438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2819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" y="32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80" y="3581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962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14400" y="4267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9320" y="45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23880" y="489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5120" y="5119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66880" y="542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8120" y="5562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29600" y="23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2666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05920" y="30621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229600" y="3443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77320" y="382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4872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3800" y="45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62920" y="489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81680" y="5119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00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47920" y="1004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2480" y="762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33720" y="5335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380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19520" y="243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0400" y="152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76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6252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6708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8320" y="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29200" y="76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152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1320" y="228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2200" y="304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77120" y="457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0" y="623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62920" y="914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67480" y="1157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76520" y="6324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三  提振運輸產業經營效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330200" y="152280"/>
            <a:ext cx="6483600" cy="5870160"/>
            <a:chOff x="1330200" y="152280"/>
            <a:chExt cx="6483600" cy="5870160"/>
          </a:xfrm>
        </p:grpSpPr>
        <p:sp>
          <p:nvSpPr>
            <p:cNvPr id="463" name=""/>
            <p:cNvSpPr/>
            <p:nvPr/>
          </p:nvSpPr>
          <p:spPr>
            <a:xfrm>
              <a:off x="1371600" y="166680"/>
              <a:ext cx="6442200" cy="5850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611280"/>
              <a:ext cx="5570640" cy="4949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260880" y="890640"/>
              <a:ext cx="1099440" cy="523440"/>
              <a:chOff x="3260880" y="890640"/>
              <a:chExt cx="1099440" cy="523440"/>
            </a:xfrm>
          </p:grpSpPr>
          <p:sp>
            <p:nvSpPr>
              <p:cNvPr id="466" name=""/>
              <p:cNvSpPr/>
              <p:nvPr/>
            </p:nvSpPr>
            <p:spPr>
              <a:xfrm>
                <a:off x="3427920" y="890640"/>
                <a:ext cx="9324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64120" y="1123560"/>
                <a:ext cx="1048680" cy="200880"/>
              </a:xfrm>
              <a:custGeom>
                <a:avLst/>
                <a:gdLst/>
                <a:ahLst/>
                <a:rect l="l" t="t" r="r" b="b"/>
                <a:pathLst>
                  <a:path w="351" h="112">
                    <a:moveTo>
                      <a:pt x="348" y="27"/>
                    </a:moveTo>
                    <a:lnTo>
                      <a:pt x="349" y="22"/>
                    </a:lnTo>
                    <a:lnTo>
                      <a:pt x="351" y="21"/>
                    </a:lnTo>
                    <a:lnTo>
                      <a:pt x="345" y="15"/>
                    </a:lnTo>
                    <a:lnTo>
                      <a:pt x="333" y="10"/>
                    </a:lnTo>
                    <a:lnTo>
                      <a:pt x="313" y="7"/>
                    </a:lnTo>
                    <a:lnTo>
                      <a:pt x="292" y="8"/>
                    </a:lnTo>
                    <a:lnTo>
                      <a:pt x="276" y="12"/>
                    </a:lnTo>
                    <a:lnTo>
                      <a:pt x="122" y="52"/>
                    </a:lnTo>
                    <a:lnTo>
                      <a:pt x="96" y="62"/>
                    </a:lnTo>
                    <a:lnTo>
                      <a:pt x="79" y="71"/>
                    </a:lnTo>
                    <a:lnTo>
                      <a:pt x="95" y="48"/>
                    </a:lnTo>
                    <a:lnTo>
                      <a:pt x="93" y="40"/>
                    </a:lnTo>
                    <a:lnTo>
                      <a:pt x="88" y="36"/>
                    </a:lnTo>
                    <a:lnTo>
                      <a:pt x="69" y="41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29" y="50"/>
                    </a:lnTo>
                    <a:lnTo>
                      <a:pt x="5" y="60"/>
                    </a:lnTo>
                    <a:lnTo>
                      <a:pt x="8" y="74"/>
                    </a:lnTo>
                    <a:lnTo>
                      <a:pt x="28" y="69"/>
                    </a:lnTo>
                    <a:lnTo>
                      <a:pt x="184" y="112"/>
                    </a:lnTo>
                    <a:lnTo>
                      <a:pt x="216" y="107"/>
                    </a:lnTo>
                    <a:lnTo>
                      <a:pt x="216" y="102"/>
                    </a:lnTo>
                    <a:lnTo>
                      <a:pt x="213" y="98"/>
                    </a:lnTo>
                    <a:lnTo>
                      <a:pt x="205" y="98"/>
                    </a:lnTo>
                    <a:lnTo>
                      <a:pt x="189" y="100"/>
                    </a:lnTo>
                    <a:lnTo>
                      <a:pt x="181" y="100"/>
                    </a:lnTo>
                    <a:lnTo>
                      <a:pt x="208" y="81"/>
                    </a:lnTo>
                    <a:lnTo>
                      <a:pt x="34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539160" y="1150560"/>
                <a:ext cx="773640" cy="136080"/>
              </a:xfrm>
              <a:custGeom>
                <a:avLst/>
                <a:gdLst/>
                <a:ahLst/>
                <a:rect l="l" t="t" r="r" b="b"/>
                <a:pathLst>
                  <a:path w="259" h="76">
                    <a:moveTo>
                      <a:pt x="0" y="63"/>
                    </a:moveTo>
                    <a:lnTo>
                      <a:pt x="16" y="57"/>
                    </a:lnTo>
                    <a:lnTo>
                      <a:pt x="209" y="6"/>
                    </a:lnTo>
                    <a:lnTo>
                      <a:pt x="224" y="2"/>
                    </a:lnTo>
                    <a:lnTo>
                      <a:pt x="237" y="0"/>
                    </a:lnTo>
                    <a:lnTo>
                      <a:pt x="254" y="2"/>
                    </a:lnTo>
                    <a:lnTo>
                      <a:pt x="259" y="6"/>
                    </a:lnTo>
                    <a:lnTo>
                      <a:pt x="259" y="9"/>
                    </a:lnTo>
                    <a:lnTo>
                      <a:pt x="256" y="14"/>
                    </a:lnTo>
                    <a:lnTo>
                      <a:pt x="163" y="31"/>
                    </a:lnTo>
                    <a:lnTo>
                      <a:pt x="160" y="25"/>
                    </a:lnTo>
                    <a:lnTo>
                      <a:pt x="156" y="23"/>
                    </a:lnTo>
                    <a:lnTo>
                      <a:pt x="155" y="21"/>
                    </a:lnTo>
                    <a:lnTo>
                      <a:pt x="132" y="28"/>
                    </a:lnTo>
                    <a:lnTo>
                      <a:pt x="131" y="31"/>
                    </a:lnTo>
                    <a:lnTo>
                      <a:pt x="73" y="57"/>
                    </a:lnTo>
                    <a:lnTo>
                      <a:pt x="6" y="76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60880" y="1116360"/>
                <a:ext cx="1046160" cy="297720"/>
              </a:xfrm>
              <a:custGeom>
                <a:avLst/>
                <a:gdLst/>
                <a:ahLst/>
                <a:rect l="l" t="t" r="r" b="b"/>
                <a:pathLst>
                  <a:path w="350" h="166">
                    <a:moveTo>
                      <a:pt x="81" y="165"/>
                    </a:moveTo>
                    <a:lnTo>
                      <a:pt x="203" y="92"/>
                    </a:lnTo>
                    <a:lnTo>
                      <a:pt x="304" y="66"/>
                    </a:lnTo>
                    <a:lnTo>
                      <a:pt x="323" y="56"/>
                    </a:lnTo>
                    <a:lnTo>
                      <a:pt x="338" y="45"/>
                    </a:lnTo>
                    <a:lnTo>
                      <a:pt x="347" y="37"/>
                    </a:lnTo>
                    <a:lnTo>
                      <a:pt x="350" y="31"/>
                    </a:lnTo>
                    <a:lnTo>
                      <a:pt x="347" y="30"/>
                    </a:lnTo>
                    <a:lnTo>
                      <a:pt x="336" y="30"/>
                    </a:lnTo>
                    <a:lnTo>
                      <a:pt x="299" y="37"/>
                    </a:lnTo>
                    <a:lnTo>
                      <a:pt x="254" y="50"/>
                    </a:lnTo>
                    <a:lnTo>
                      <a:pt x="253" y="45"/>
                    </a:lnTo>
                    <a:lnTo>
                      <a:pt x="254" y="50"/>
                    </a:lnTo>
                    <a:lnTo>
                      <a:pt x="253" y="54"/>
                    </a:lnTo>
                    <a:lnTo>
                      <a:pt x="249" y="57"/>
                    </a:lnTo>
                    <a:lnTo>
                      <a:pt x="227" y="59"/>
                    </a:lnTo>
                    <a:lnTo>
                      <a:pt x="214" y="64"/>
                    </a:lnTo>
                    <a:lnTo>
                      <a:pt x="213" y="61"/>
                    </a:lnTo>
                    <a:lnTo>
                      <a:pt x="225" y="50"/>
                    </a:lnTo>
                    <a:lnTo>
                      <a:pt x="219" y="50"/>
                    </a:lnTo>
                    <a:lnTo>
                      <a:pt x="176" y="0"/>
                    </a:lnTo>
                    <a:lnTo>
                      <a:pt x="157" y="6"/>
                    </a:lnTo>
                    <a:lnTo>
                      <a:pt x="161" y="25"/>
                    </a:lnTo>
                    <a:lnTo>
                      <a:pt x="166" y="25"/>
                    </a:lnTo>
                    <a:lnTo>
                      <a:pt x="161" y="30"/>
                    </a:lnTo>
                    <a:lnTo>
                      <a:pt x="168" y="57"/>
                    </a:lnTo>
                    <a:lnTo>
                      <a:pt x="166" y="66"/>
                    </a:lnTo>
                    <a:lnTo>
                      <a:pt x="173" y="64"/>
                    </a:lnTo>
                    <a:lnTo>
                      <a:pt x="166" y="70"/>
                    </a:lnTo>
                    <a:lnTo>
                      <a:pt x="166" y="75"/>
                    </a:lnTo>
                    <a:lnTo>
                      <a:pt x="110" y="90"/>
                    </a:lnTo>
                    <a:lnTo>
                      <a:pt x="105" y="90"/>
                    </a:lnTo>
                    <a:lnTo>
                      <a:pt x="96" y="82"/>
                    </a:lnTo>
                    <a:lnTo>
                      <a:pt x="86" y="80"/>
                    </a:lnTo>
                    <a:lnTo>
                      <a:pt x="62" y="49"/>
                    </a:lnTo>
                    <a:lnTo>
                      <a:pt x="41" y="52"/>
                    </a:lnTo>
                    <a:lnTo>
                      <a:pt x="45" y="90"/>
                    </a:lnTo>
                    <a:lnTo>
                      <a:pt x="40" y="92"/>
                    </a:lnTo>
                    <a:lnTo>
                      <a:pt x="37" y="95"/>
                    </a:lnTo>
                    <a:lnTo>
                      <a:pt x="37" y="99"/>
                    </a:lnTo>
                    <a:lnTo>
                      <a:pt x="37" y="102"/>
                    </a:lnTo>
                    <a:lnTo>
                      <a:pt x="40" y="104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48" y="111"/>
                    </a:lnTo>
                    <a:lnTo>
                      <a:pt x="78" y="114"/>
                    </a:lnTo>
                    <a:lnTo>
                      <a:pt x="101" y="118"/>
                    </a:lnTo>
                    <a:lnTo>
                      <a:pt x="115" y="114"/>
                    </a:lnTo>
                    <a:lnTo>
                      <a:pt x="144" y="109"/>
                    </a:lnTo>
                    <a:lnTo>
                      <a:pt x="129" y="120"/>
                    </a:lnTo>
                    <a:lnTo>
                      <a:pt x="133" y="120"/>
                    </a:lnTo>
                    <a:lnTo>
                      <a:pt x="59" y="166"/>
                    </a:lnTo>
                    <a:lnTo>
                      <a:pt x="80" y="159"/>
                    </a:lnTo>
                    <a:lnTo>
                      <a:pt x="81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294000" y="1213560"/>
                <a:ext cx="253800" cy="5508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6" y="28"/>
                    </a:moveTo>
                    <a:lnTo>
                      <a:pt x="19" y="31"/>
                    </a:lnTo>
                    <a:lnTo>
                      <a:pt x="43" y="28"/>
                    </a:lnTo>
                    <a:lnTo>
                      <a:pt x="70" y="21"/>
                    </a:lnTo>
                    <a:lnTo>
                      <a:pt x="75" y="19"/>
                    </a:lnTo>
                    <a:lnTo>
                      <a:pt x="75" y="16"/>
                    </a:lnTo>
                    <a:lnTo>
                      <a:pt x="83" y="10"/>
                    </a:lnTo>
                    <a:lnTo>
                      <a:pt x="85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34" y="16"/>
                    </a:lnTo>
                    <a:lnTo>
                      <a:pt x="21" y="17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1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35760" y="1188360"/>
                <a:ext cx="190800" cy="4284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64" y="0"/>
                    </a:moveTo>
                    <a:lnTo>
                      <a:pt x="2" y="24"/>
                    </a:lnTo>
                    <a:lnTo>
                      <a:pt x="0" y="24"/>
                    </a:lnTo>
                    <a:lnTo>
                      <a:pt x="56" y="2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47960" y="1306800"/>
                <a:ext cx="90000" cy="370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10" y="17"/>
                    </a:moveTo>
                    <a:lnTo>
                      <a:pt x="14" y="14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6" y="2"/>
                    </a:lnTo>
                    <a:lnTo>
                      <a:pt x="29" y="5"/>
                    </a:lnTo>
                    <a:lnTo>
                      <a:pt x="30" y="14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16" y="19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28600" y="1303200"/>
                <a:ext cx="80640" cy="4104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12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16" y="23"/>
                    </a:lnTo>
                    <a:lnTo>
                      <a:pt x="2" y="2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53080" y="1306800"/>
                <a:ext cx="38520" cy="140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3"/>
                    </a:lnTo>
                    <a:lnTo>
                      <a:pt x="3" y="8"/>
                    </a:lnTo>
                    <a:lnTo>
                      <a:pt x="13" y="7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0120" y="120636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2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63600" y="1195200"/>
                <a:ext cx="41040" cy="234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"/>
                    </a:moveTo>
                    <a:lnTo>
                      <a:pt x="10" y="0"/>
                    </a:lnTo>
                    <a:lnTo>
                      <a:pt x="13" y="5"/>
                    </a:lnTo>
                    <a:lnTo>
                      <a:pt x="14" y="13"/>
                    </a:lnTo>
                    <a:lnTo>
                      <a:pt x="5" y="13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692520" y="2498760"/>
              <a:ext cx="4572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37080" y="611280"/>
              <a:ext cx="0" cy="24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2049480" y="3035160"/>
              <a:ext cx="2479680" cy="11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37080" y="3035160"/>
              <a:ext cx="2481120" cy="117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255760" y="1614600"/>
              <a:ext cx="2170800" cy="634320"/>
              <a:chOff x="2255760" y="1614600"/>
              <a:chExt cx="2170800" cy="6343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2255760" y="1614600"/>
                <a:ext cx="1779120" cy="634320"/>
                <a:chOff x="2255760" y="1614600"/>
                <a:chExt cx="1779120" cy="6343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281320" y="1675080"/>
                  <a:ext cx="475560" cy="285120"/>
                </a:xfrm>
                <a:custGeom>
                  <a:avLst/>
                  <a:gdLst/>
                  <a:ahLst/>
                  <a:rect l="l" t="t" r="r" b="b"/>
                  <a:pathLst>
                    <a:path w="109" h="80">
                      <a:moveTo>
                        <a:pt x="98" y="76"/>
                      </a:moveTo>
                      <a:lnTo>
                        <a:pt x="4" y="80"/>
                      </a:lnTo>
                      <a:lnTo>
                        <a:pt x="0" y="78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8" y="12"/>
                      </a:lnTo>
                      <a:lnTo>
                        <a:pt x="12" y="9"/>
                      </a:lnTo>
                      <a:lnTo>
                        <a:pt x="15" y="7"/>
                      </a:lnTo>
                      <a:lnTo>
                        <a:pt x="96" y="0"/>
                      </a:lnTo>
                      <a:lnTo>
                        <a:pt x="101" y="2"/>
                      </a:lnTo>
                      <a:lnTo>
                        <a:pt x="106" y="7"/>
                      </a:lnTo>
                      <a:lnTo>
                        <a:pt x="109" y="71"/>
                      </a:lnTo>
                      <a:lnTo>
                        <a:pt x="104" y="74"/>
                      </a:lnTo>
                      <a:lnTo>
                        <a:pt x="98" y="7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442600" y="1614600"/>
                  <a:ext cx="344880" cy="54000"/>
                </a:xfrm>
                <a:custGeom>
                  <a:avLst/>
                  <a:gdLst/>
                  <a:ahLst/>
                  <a:rect l="l" t="t" r="r" b="b"/>
                  <a:pathLst>
                    <a:path w="79" h="15">
                      <a:moveTo>
                        <a:pt x="0" y="15"/>
                      </a:moveTo>
                      <a:lnTo>
                        <a:pt x="15" y="3"/>
                      </a:lnTo>
                      <a:lnTo>
                        <a:pt x="69" y="0"/>
                      </a:lnTo>
                      <a:lnTo>
                        <a:pt x="79" y="1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752200" y="161460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0"/>
                      </a:moveTo>
                      <a:lnTo>
                        <a:pt x="25" y="15"/>
                      </a:lnTo>
                      <a:lnTo>
                        <a:pt x="8" y="1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255760" y="1643400"/>
                  <a:ext cx="1779120" cy="427320"/>
                </a:xfrm>
                <a:custGeom>
                  <a:avLst/>
                  <a:gdLst/>
                  <a:ahLst/>
                  <a:rect l="l" t="t" r="r" b="b"/>
                  <a:pathLst>
                    <a:path w="408" h="120">
                      <a:moveTo>
                        <a:pt x="402" y="85"/>
                      </a:moveTo>
                      <a:lnTo>
                        <a:pt x="400" y="85"/>
                      </a:lnTo>
                      <a:lnTo>
                        <a:pt x="394" y="85"/>
                      </a:lnTo>
                      <a:lnTo>
                        <a:pt x="389" y="85"/>
                      </a:lnTo>
                      <a:lnTo>
                        <a:pt x="322" y="83"/>
                      </a:lnTo>
                      <a:lnTo>
                        <a:pt x="315" y="80"/>
                      </a:lnTo>
                      <a:lnTo>
                        <a:pt x="258" y="70"/>
                      </a:lnTo>
                      <a:lnTo>
                        <a:pt x="136" y="6"/>
                      </a:lnTo>
                      <a:lnTo>
                        <a:pt x="120" y="0"/>
                      </a:lnTo>
                      <a:lnTo>
                        <a:pt x="43" y="6"/>
                      </a:lnTo>
                      <a:lnTo>
                        <a:pt x="11" y="12"/>
                      </a:lnTo>
                      <a:lnTo>
                        <a:pt x="0" y="120"/>
                      </a:lnTo>
                      <a:lnTo>
                        <a:pt x="5" y="115"/>
                      </a:lnTo>
                      <a:lnTo>
                        <a:pt x="134" y="116"/>
                      </a:lnTo>
                      <a:lnTo>
                        <a:pt x="259" y="111"/>
                      </a:lnTo>
                      <a:lnTo>
                        <a:pt x="327" y="111"/>
                      </a:lnTo>
                      <a:lnTo>
                        <a:pt x="408" y="106"/>
                      </a:lnTo>
                      <a:lnTo>
                        <a:pt x="408" y="95"/>
                      </a:lnTo>
                      <a:lnTo>
                        <a:pt x="402" y="8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856960" y="1732320"/>
                  <a:ext cx="139320" cy="249480"/>
                </a:xfrm>
                <a:custGeom>
                  <a:avLst/>
                  <a:gdLst/>
                  <a:ahLst/>
                  <a:rect l="l" t="t" r="r" b="b"/>
                  <a:pathLst>
                    <a:path w="32" h="70">
                      <a:moveTo>
                        <a:pt x="25" y="10"/>
                      </a:moveTo>
                      <a:lnTo>
                        <a:pt x="0" y="0"/>
                      </a:lnTo>
                      <a:lnTo>
                        <a:pt x="9" y="67"/>
                      </a:lnTo>
                      <a:lnTo>
                        <a:pt x="32" y="70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966760" y="1767960"/>
                  <a:ext cx="125280" cy="214200"/>
                </a:xfrm>
                <a:custGeom>
                  <a:avLst/>
                  <a:gdLst/>
                  <a:ahLst/>
                  <a:rect l="l" t="t" r="r" b="b"/>
                  <a:pathLst>
                    <a:path w="29" h="60">
                      <a:moveTo>
                        <a:pt x="24" y="10"/>
                      </a:moveTo>
                      <a:lnTo>
                        <a:pt x="0" y="0"/>
                      </a:lnTo>
                      <a:lnTo>
                        <a:pt x="7" y="59"/>
                      </a:lnTo>
                      <a:lnTo>
                        <a:pt x="29" y="60"/>
                      </a:lnTo>
                      <a:lnTo>
                        <a:pt x="24" y="1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079440" y="1810800"/>
                  <a:ext cx="91800" cy="178560"/>
                </a:xfrm>
                <a:custGeom>
                  <a:avLst/>
                  <a:gdLst/>
                  <a:ahLst/>
                  <a:rect l="l" t="t" r="r" b="b"/>
                  <a:pathLst>
                    <a:path w="21" h="50">
                      <a:moveTo>
                        <a:pt x="0" y="0"/>
                      </a:moveTo>
                      <a:lnTo>
                        <a:pt x="14" y="5"/>
                      </a:lnTo>
                      <a:lnTo>
                        <a:pt x="21" y="50"/>
                      </a:lnTo>
                      <a:lnTo>
                        <a:pt x="3" y="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49640" y="1843200"/>
                  <a:ext cx="130320" cy="152640"/>
                </a:xfrm>
                <a:custGeom>
                  <a:avLst/>
                  <a:gdLst/>
                  <a:ahLst/>
                  <a:rect l="l" t="t" r="r" b="b"/>
                  <a:pathLst>
                    <a:path w="30" h="43">
                      <a:moveTo>
                        <a:pt x="0" y="0"/>
                      </a:moveTo>
                      <a:lnTo>
                        <a:pt x="30" y="10"/>
                      </a:lnTo>
                      <a:lnTo>
                        <a:pt x="30" y="43"/>
                      </a:lnTo>
                      <a:lnTo>
                        <a:pt x="3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8960" y="1886040"/>
                  <a:ext cx="61200" cy="11700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0" y="0"/>
                      </a:moveTo>
                      <a:lnTo>
                        <a:pt x="13" y="8"/>
                      </a:lnTo>
                      <a:lnTo>
                        <a:pt x="14" y="33"/>
                      </a:lnTo>
                      <a:lnTo>
                        <a:pt x="2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406680" y="1935360"/>
                  <a:ext cx="43200" cy="85680"/>
                </a:xfrm>
                <a:custGeom>
                  <a:avLst/>
                  <a:gdLst/>
                  <a:ahLst/>
                  <a:rect l="l" t="t" r="r" b="b"/>
                  <a:pathLst>
                    <a:path w="10" h="2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4"/>
                      </a:lnTo>
                      <a:lnTo>
                        <a:pt x="2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24400" y="1953000"/>
                  <a:ext cx="21600" cy="60480"/>
                </a:xfrm>
                <a:custGeom>
                  <a:avLst/>
                  <a:gdLst/>
                  <a:ahLst/>
                  <a:rect l="l" t="t" r="r" b="b"/>
                  <a:pathLst>
                    <a:path w="5" h="17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" y="17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58960" y="1953000"/>
                  <a:ext cx="30600" cy="60480"/>
                </a:xfrm>
                <a:custGeom>
                  <a:avLst/>
                  <a:gdLst/>
                  <a:ahLst/>
                  <a:rect l="l" t="t" r="r" b="b"/>
                  <a:pathLst>
                    <a:path w="7" h="17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7" y="15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729240" y="1971000"/>
                  <a:ext cx="26640" cy="428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6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846960" y="1971000"/>
                  <a:ext cx="35280" cy="42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12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8" y="1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938760" y="1978200"/>
                  <a:ext cx="21600" cy="35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883600" y="1775160"/>
                  <a:ext cx="99720" cy="195480"/>
                </a:xfrm>
                <a:custGeom>
                  <a:avLst/>
                  <a:gdLst/>
                  <a:ahLst/>
                  <a:rect l="l" t="t" r="r" b="b"/>
                  <a:pathLst>
                    <a:path w="23" h="55">
                      <a:moveTo>
                        <a:pt x="15" y="7"/>
                      </a:moveTo>
                      <a:lnTo>
                        <a:pt x="0" y="0"/>
                      </a:lnTo>
                      <a:lnTo>
                        <a:pt x="5" y="52"/>
                      </a:lnTo>
                      <a:lnTo>
                        <a:pt x="23" y="5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10320" y="1818000"/>
                  <a:ext cx="82080" cy="1526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13" y="3"/>
                      </a:moveTo>
                      <a:lnTo>
                        <a:pt x="0" y="0"/>
                      </a:lnTo>
                      <a:lnTo>
                        <a:pt x="3" y="43"/>
                      </a:lnTo>
                      <a:lnTo>
                        <a:pt x="19" y="4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27760" y="1910160"/>
                  <a:ext cx="39240" cy="5400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8" y="1"/>
                      </a:moveTo>
                      <a:lnTo>
                        <a:pt x="0" y="0"/>
                      </a:lnTo>
                      <a:lnTo>
                        <a:pt x="1" y="15"/>
                      </a:lnTo>
                      <a:lnTo>
                        <a:pt x="9" y="15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171240" y="1914480"/>
                  <a:ext cx="34560" cy="457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1" y="11"/>
                      </a:lnTo>
                      <a:lnTo>
                        <a:pt x="8" y="1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264400" y="2038680"/>
                  <a:ext cx="1770120" cy="125280"/>
                </a:xfrm>
                <a:custGeom>
                  <a:avLst/>
                  <a:gdLst/>
                  <a:ahLst/>
                  <a:rect l="l" t="t" r="r" b="b"/>
                  <a:pathLst>
                    <a:path w="406" h="35">
                      <a:moveTo>
                        <a:pt x="0" y="9"/>
                      </a:moveTo>
                      <a:lnTo>
                        <a:pt x="3" y="5"/>
                      </a:lnTo>
                      <a:lnTo>
                        <a:pt x="140" y="5"/>
                      </a:lnTo>
                      <a:lnTo>
                        <a:pt x="262" y="0"/>
                      </a:lnTo>
                      <a:lnTo>
                        <a:pt x="406" y="0"/>
                      </a:lnTo>
                      <a:lnTo>
                        <a:pt x="406" y="4"/>
                      </a:lnTo>
                      <a:lnTo>
                        <a:pt x="325" y="5"/>
                      </a:lnTo>
                      <a:lnTo>
                        <a:pt x="235" y="9"/>
                      </a:lnTo>
                      <a:lnTo>
                        <a:pt x="129" y="35"/>
                      </a:lnTo>
                      <a:lnTo>
                        <a:pt x="121" y="23"/>
                      </a:lnTo>
                      <a:lnTo>
                        <a:pt x="89" y="23"/>
                      </a:lnTo>
                      <a:lnTo>
                        <a:pt x="86" y="12"/>
                      </a:lnTo>
                      <a:lnTo>
                        <a:pt x="25" y="14"/>
                      </a:lnTo>
                      <a:lnTo>
                        <a:pt x="19" y="9"/>
                      </a:lnTo>
                      <a:lnTo>
                        <a:pt x="4" y="5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68360" y="2053440"/>
                  <a:ext cx="1766160" cy="195480"/>
                </a:xfrm>
                <a:custGeom>
                  <a:avLst/>
                  <a:gdLst/>
                  <a:ahLst/>
                  <a:rect l="l" t="t" r="r" b="b"/>
                  <a:pathLst>
                    <a:path w="405" h="55">
                      <a:moveTo>
                        <a:pt x="0" y="6"/>
                      </a:moveTo>
                      <a:lnTo>
                        <a:pt x="8" y="1"/>
                      </a:lnTo>
                      <a:lnTo>
                        <a:pt x="21" y="5"/>
                      </a:lnTo>
                      <a:lnTo>
                        <a:pt x="23" y="12"/>
                      </a:lnTo>
                      <a:lnTo>
                        <a:pt x="23" y="8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9" y="19"/>
                      </a:lnTo>
                      <a:lnTo>
                        <a:pt x="103" y="15"/>
                      </a:lnTo>
                      <a:lnTo>
                        <a:pt x="104" y="20"/>
                      </a:lnTo>
                      <a:lnTo>
                        <a:pt x="120" y="19"/>
                      </a:lnTo>
                      <a:lnTo>
                        <a:pt x="128" y="32"/>
                      </a:lnTo>
                      <a:lnTo>
                        <a:pt x="234" y="6"/>
                      </a:lnTo>
                      <a:lnTo>
                        <a:pt x="405" y="0"/>
                      </a:lnTo>
                      <a:lnTo>
                        <a:pt x="405" y="5"/>
                      </a:lnTo>
                      <a:lnTo>
                        <a:pt x="234" y="13"/>
                      </a:lnTo>
                      <a:lnTo>
                        <a:pt x="135" y="44"/>
                      </a:lnTo>
                      <a:lnTo>
                        <a:pt x="127" y="50"/>
                      </a:lnTo>
                      <a:lnTo>
                        <a:pt x="104" y="55"/>
                      </a:lnTo>
                      <a:lnTo>
                        <a:pt x="21" y="55"/>
                      </a:lnTo>
                      <a:lnTo>
                        <a:pt x="21" y="43"/>
                      </a:lnTo>
                      <a:lnTo>
                        <a:pt x="13" y="38"/>
                      </a:lnTo>
                      <a:lnTo>
                        <a:pt x="13" y="24"/>
                      </a:lnTo>
                      <a:lnTo>
                        <a:pt x="8" y="25"/>
                      </a:lnTo>
                      <a:lnTo>
                        <a:pt x="2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48160" y="2056680"/>
                  <a:ext cx="130320" cy="5724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9" y="12"/>
                      </a:moveTo>
                      <a:lnTo>
                        <a:pt x="6" y="11"/>
                      </a:lnTo>
                      <a:lnTo>
                        <a:pt x="6" y="7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30" y="7"/>
                      </a:lnTo>
                      <a:lnTo>
                        <a:pt x="24" y="16"/>
                      </a:lnTo>
                      <a:lnTo>
                        <a:pt x="14" y="7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722320" y="2074320"/>
                  <a:ext cx="43200" cy="32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0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10" y="6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268360" y="2074320"/>
                  <a:ext cx="56160" cy="468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0"/>
                      </a:moveTo>
                      <a:lnTo>
                        <a:pt x="13" y="2"/>
                      </a:lnTo>
                      <a:lnTo>
                        <a:pt x="13" y="9"/>
                      </a:lnTo>
                      <a:lnTo>
                        <a:pt x="7" y="13"/>
                      </a:lnTo>
                      <a:lnTo>
                        <a:pt x="0" y="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966760" y="1767960"/>
                  <a:ext cx="34560" cy="363600"/>
                </a:xfrm>
                <a:custGeom>
                  <a:avLst/>
                  <a:gdLst/>
                  <a:ahLst/>
                  <a:rect l="l" t="t" r="r" b="b"/>
                  <a:pathLst>
                    <a:path w="8" h="102">
                      <a:moveTo>
                        <a:pt x="0" y="0"/>
                      </a:moveTo>
                      <a:lnTo>
                        <a:pt x="8" y="60"/>
                      </a:lnTo>
                      <a:lnTo>
                        <a:pt x="8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070440" y="1803600"/>
                  <a:ext cx="30600" cy="310320"/>
                </a:xfrm>
                <a:custGeom>
                  <a:avLst/>
                  <a:gdLst/>
                  <a:ahLst/>
                  <a:rect l="l" t="t" r="r" b="b"/>
                  <a:pathLst>
                    <a:path w="7" h="87">
                      <a:moveTo>
                        <a:pt x="0" y="0"/>
                      </a:moveTo>
                      <a:lnTo>
                        <a:pt x="7" y="50"/>
                      </a:lnTo>
                      <a:lnTo>
                        <a:pt x="5" y="8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288960" y="1886040"/>
                  <a:ext cx="3600" cy="185040"/>
                </a:xfrm>
                <a:custGeom>
                  <a:avLst/>
                  <a:gdLst/>
                  <a:ahLst/>
                  <a:rect l="l" t="t" r="r" b="b"/>
                  <a:pathLst>
                    <a:path w="0" h="52">
                      <a:moveTo>
                        <a:pt x="0" y="0"/>
                      </a:moveTo>
                      <a:lnTo>
                        <a:pt x="0" y="38"/>
                      </a:lnTo>
                      <a:lnTo>
                        <a:pt x="0" y="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930120" y="1982160"/>
                  <a:ext cx="8640" cy="5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98640" y="1946520"/>
                  <a:ext cx="468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351520" y="1700280"/>
                  <a:ext cx="86760" cy="252720"/>
                </a:xfrm>
                <a:custGeom>
                  <a:avLst/>
                  <a:gdLst/>
                  <a:ahLst/>
                  <a:rect l="l" t="t" r="r" b="b"/>
                  <a:pathLst>
                    <a:path w="20" h="71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4" y="19"/>
                      </a:lnTo>
                      <a:lnTo>
                        <a:pt x="2" y="29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60520" y="1682280"/>
                  <a:ext cx="391320" cy="277920"/>
                </a:xfrm>
                <a:custGeom>
                  <a:avLst/>
                  <a:gdLst/>
                  <a:ahLst/>
                  <a:rect l="l" t="t" r="r" b="b"/>
                  <a:pathLst>
                    <a:path w="90" h="78">
                      <a:moveTo>
                        <a:pt x="22" y="5"/>
                      </a:moveTo>
                      <a:lnTo>
                        <a:pt x="75" y="0"/>
                      </a:lnTo>
                      <a:lnTo>
                        <a:pt x="85" y="5"/>
                      </a:lnTo>
                      <a:lnTo>
                        <a:pt x="90" y="67"/>
                      </a:lnTo>
                      <a:lnTo>
                        <a:pt x="80" y="74"/>
                      </a:lnTo>
                      <a:lnTo>
                        <a:pt x="0" y="78"/>
                      </a:lnTo>
                      <a:lnTo>
                        <a:pt x="0" y="57"/>
                      </a:lnTo>
                      <a:lnTo>
                        <a:pt x="0" y="43"/>
                      </a:lnTo>
                      <a:lnTo>
                        <a:pt x="0" y="27"/>
                      </a:lnTo>
                      <a:lnTo>
                        <a:pt x="8" y="12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77960" y="1825560"/>
                  <a:ext cx="117360" cy="138960"/>
                </a:xfrm>
                <a:custGeom>
                  <a:avLst/>
                  <a:gdLst/>
                  <a:ahLst/>
                  <a:rect l="l" t="t" r="r" b="b"/>
                  <a:pathLst>
                    <a:path w="27" h="39">
                      <a:moveTo>
                        <a:pt x="27" y="1"/>
                      </a:moveTo>
                      <a:lnTo>
                        <a:pt x="1" y="0"/>
                      </a:lnTo>
                      <a:lnTo>
                        <a:pt x="0" y="36"/>
                      </a:lnTo>
                      <a:lnTo>
                        <a:pt x="27" y="39"/>
                      </a:lnTo>
                      <a:lnTo>
                        <a:pt x="27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416680" y="1778400"/>
                  <a:ext cx="139320" cy="181800"/>
                </a:xfrm>
                <a:custGeom>
                  <a:avLst/>
                  <a:gdLst/>
                  <a:ahLst/>
                  <a:rect l="l" t="t" r="r" b="b"/>
                  <a:pathLst>
                    <a:path w="32" h="51">
                      <a:moveTo>
                        <a:pt x="27" y="6"/>
                      </a:moveTo>
                      <a:lnTo>
                        <a:pt x="1" y="0"/>
                      </a:lnTo>
                      <a:lnTo>
                        <a:pt x="0" y="47"/>
                      </a:lnTo>
                      <a:lnTo>
                        <a:pt x="32" y="51"/>
                      </a:lnTo>
                      <a:lnTo>
                        <a:pt x="27" y="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3241080" y="1745640"/>
                <a:ext cx="1185480" cy="441720"/>
                <a:chOff x="3241080" y="1745640"/>
                <a:chExt cx="1185480" cy="441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241080" y="1745640"/>
                  <a:ext cx="1182240" cy="383040"/>
                </a:xfrm>
                <a:custGeom>
                  <a:avLst/>
                  <a:gdLst/>
                  <a:ahLst/>
                  <a:rect l="l" t="t" r="r" b="b"/>
                  <a:pathLst>
                    <a:path w="328" h="111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9" y="17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8" y="19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3"/>
                      </a:lnTo>
                      <a:lnTo>
                        <a:pt x="8" y="23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3" y="35"/>
                      </a:lnTo>
                      <a:lnTo>
                        <a:pt x="3" y="36"/>
                      </a:lnTo>
                      <a:lnTo>
                        <a:pt x="3" y="36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1" y="43"/>
                      </a:lnTo>
                      <a:lnTo>
                        <a:pt x="1" y="99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19" y="111"/>
                      </a:lnTo>
                      <a:lnTo>
                        <a:pt x="38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0"/>
                      </a:lnTo>
                      <a:lnTo>
                        <a:pt x="38" y="99"/>
                      </a:lnTo>
                      <a:lnTo>
                        <a:pt x="38" y="97"/>
                      </a:lnTo>
                      <a:lnTo>
                        <a:pt x="38" y="97"/>
                      </a:lnTo>
                      <a:lnTo>
                        <a:pt x="38" y="97"/>
                      </a:lnTo>
                      <a:lnTo>
                        <a:pt x="38" y="95"/>
                      </a:lnTo>
                      <a:lnTo>
                        <a:pt x="38" y="95"/>
                      </a:lnTo>
                      <a:lnTo>
                        <a:pt x="38" y="93"/>
                      </a:lnTo>
                      <a:lnTo>
                        <a:pt x="40" y="93"/>
                      </a:lnTo>
                      <a:lnTo>
                        <a:pt x="40" y="93"/>
                      </a:lnTo>
                      <a:lnTo>
                        <a:pt x="40" y="92"/>
                      </a:lnTo>
                      <a:lnTo>
                        <a:pt x="40" y="92"/>
                      </a:lnTo>
                      <a:lnTo>
                        <a:pt x="40" y="92"/>
                      </a:lnTo>
                      <a:lnTo>
                        <a:pt x="40" y="90"/>
                      </a:lnTo>
                      <a:lnTo>
                        <a:pt x="40" y="90"/>
                      </a:lnTo>
                      <a:lnTo>
                        <a:pt x="41" y="90"/>
                      </a:lnTo>
                      <a:lnTo>
                        <a:pt x="41" y="90"/>
                      </a:lnTo>
                      <a:lnTo>
                        <a:pt x="41" y="88"/>
                      </a:lnTo>
                      <a:lnTo>
                        <a:pt x="41" y="88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3" y="87"/>
                      </a:lnTo>
                      <a:lnTo>
                        <a:pt x="43" y="87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5" y="85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8" y="83"/>
                      </a:lnTo>
                      <a:lnTo>
                        <a:pt x="48" y="81"/>
                      </a:lnTo>
                      <a:lnTo>
                        <a:pt x="48" y="81"/>
                      </a:lnTo>
                      <a:lnTo>
                        <a:pt x="48" y="81"/>
                      </a:lnTo>
                      <a:lnTo>
                        <a:pt x="49" y="81"/>
                      </a:lnTo>
                      <a:lnTo>
                        <a:pt x="49" y="80"/>
                      </a:lnTo>
                      <a:lnTo>
                        <a:pt x="49" y="80"/>
                      </a:lnTo>
                      <a:lnTo>
                        <a:pt x="51" y="80"/>
                      </a:lnTo>
                      <a:lnTo>
                        <a:pt x="51" y="80"/>
                      </a:lnTo>
                      <a:lnTo>
                        <a:pt x="53" y="80"/>
                      </a:lnTo>
                      <a:lnTo>
                        <a:pt x="53" y="80"/>
                      </a:lnTo>
                      <a:lnTo>
                        <a:pt x="53" y="80"/>
                      </a:lnTo>
                      <a:lnTo>
                        <a:pt x="54" y="80"/>
                      </a:lnTo>
                      <a:lnTo>
                        <a:pt x="54" y="78"/>
                      </a:lnTo>
                      <a:lnTo>
                        <a:pt x="54" y="78"/>
                      </a:lnTo>
                      <a:lnTo>
                        <a:pt x="93" y="78"/>
                      </a:lnTo>
                      <a:lnTo>
                        <a:pt x="94" y="78"/>
                      </a:lnTo>
                      <a:lnTo>
                        <a:pt x="94" y="78"/>
                      </a:lnTo>
                      <a:lnTo>
                        <a:pt x="96" y="78"/>
                      </a:lnTo>
                      <a:lnTo>
                        <a:pt x="96" y="78"/>
                      </a:lnTo>
                      <a:lnTo>
                        <a:pt x="328" y="78"/>
                      </a:lnTo>
                      <a:lnTo>
                        <a:pt x="328" y="61"/>
                      </a:lnTo>
                      <a:lnTo>
                        <a:pt x="328" y="48"/>
                      </a:lnTo>
                      <a:lnTo>
                        <a:pt x="328" y="42"/>
                      </a:lnTo>
                      <a:lnTo>
                        <a:pt x="328" y="36"/>
                      </a:lnTo>
                      <a:lnTo>
                        <a:pt x="328" y="33"/>
                      </a:lnTo>
                      <a:lnTo>
                        <a:pt x="326" y="33"/>
                      </a:lnTo>
                      <a:lnTo>
                        <a:pt x="326" y="31"/>
                      </a:lnTo>
                      <a:lnTo>
                        <a:pt x="326" y="31"/>
                      </a:lnTo>
                      <a:lnTo>
                        <a:pt x="326" y="31"/>
                      </a:lnTo>
                      <a:lnTo>
                        <a:pt x="325" y="31"/>
                      </a:lnTo>
                      <a:lnTo>
                        <a:pt x="325" y="31"/>
                      </a:lnTo>
                      <a:lnTo>
                        <a:pt x="325" y="29"/>
                      </a:lnTo>
                      <a:lnTo>
                        <a:pt x="325" y="29"/>
                      </a:lnTo>
                      <a:lnTo>
                        <a:pt x="323" y="29"/>
                      </a:lnTo>
                      <a:lnTo>
                        <a:pt x="323" y="29"/>
                      </a:lnTo>
                      <a:lnTo>
                        <a:pt x="323" y="29"/>
                      </a:lnTo>
                      <a:lnTo>
                        <a:pt x="321" y="29"/>
                      </a:lnTo>
                      <a:lnTo>
                        <a:pt x="321" y="28"/>
                      </a:lnTo>
                      <a:lnTo>
                        <a:pt x="321" y="28"/>
                      </a:lnTo>
                      <a:lnTo>
                        <a:pt x="320" y="28"/>
                      </a:lnTo>
                      <a:lnTo>
                        <a:pt x="320" y="28"/>
                      </a:lnTo>
                      <a:lnTo>
                        <a:pt x="320" y="28"/>
                      </a:lnTo>
                      <a:lnTo>
                        <a:pt x="318" y="28"/>
                      </a:lnTo>
                      <a:lnTo>
                        <a:pt x="318" y="26"/>
                      </a:lnTo>
                      <a:lnTo>
                        <a:pt x="318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5" y="26"/>
                      </a:lnTo>
                      <a:lnTo>
                        <a:pt x="313" y="26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0" y="24"/>
                      </a:lnTo>
                      <a:lnTo>
                        <a:pt x="309" y="24"/>
                      </a:lnTo>
                      <a:lnTo>
                        <a:pt x="309" y="24"/>
                      </a:lnTo>
                      <a:lnTo>
                        <a:pt x="305" y="24"/>
                      </a:lnTo>
                      <a:lnTo>
                        <a:pt x="304" y="24"/>
                      </a:lnTo>
                      <a:lnTo>
                        <a:pt x="304" y="23"/>
                      </a:lnTo>
                      <a:lnTo>
                        <a:pt x="304" y="23"/>
                      </a:lnTo>
                      <a:lnTo>
                        <a:pt x="304" y="23"/>
                      </a:lnTo>
                      <a:lnTo>
                        <a:pt x="304" y="21"/>
                      </a:lnTo>
                      <a:lnTo>
                        <a:pt x="302" y="21"/>
                      </a:lnTo>
                      <a:lnTo>
                        <a:pt x="302" y="21"/>
                      </a:lnTo>
                      <a:lnTo>
                        <a:pt x="302" y="19"/>
                      </a:lnTo>
                      <a:lnTo>
                        <a:pt x="302" y="19"/>
                      </a:lnTo>
                      <a:lnTo>
                        <a:pt x="302" y="19"/>
                      </a:lnTo>
                      <a:lnTo>
                        <a:pt x="302" y="17"/>
                      </a:lnTo>
                      <a:lnTo>
                        <a:pt x="301" y="17"/>
                      </a:lnTo>
                      <a:lnTo>
                        <a:pt x="301" y="17"/>
                      </a:lnTo>
                      <a:lnTo>
                        <a:pt x="301" y="17"/>
                      </a:lnTo>
                      <a:lnTo>
                        <a:pt x="301" y="16"/>
                      </a:lnTo>
                      <a:lnTo>
                        <a:pt x="299" y="16"/>
                      </a:lnTo>
                      <a:lnTo>
                        <a:pt x="299" y="16"/>
                      </a:lnTo>
                      <a:lnTo>
                        <a:pt x="299" y="14"/>
                      </a:lnTo>
                      <a:lnTo>
                        <a:pt x="299" y="14"/>
                      </a:lnTo>
                      <a:lnTo>
                        <a:pt x="299" y="14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7" y="12"/>
                      </a:lnTo>
                      <a:lnTo>
                        <a:pt x="296" y="12"/>
                      </a:lnTo>
                      <a:lnTo>
                        <a:pt x="296" y="10"/>
                      </a:lnTo>
                      <a:lnTo>
                        <a:pt x="296" y="10"/>
                      </a:lnTo>
                      <a:lnTo>
                        <a:pt x="294" y="9"/>
                      </a:lnTo>
                      <a:lnTo>
                        <a:pt x="294" y="9"/>
                      </a:lnTo>
                      <a:lnTo>
                        <a:pt x="294" y="9"/>
                      </a:lnTo>
                      <a:lnTo>
                        <a:pt x="294" y="7"/>
                      </a:lnTo>
                      <a:lnTo>
                        <a:pt x="294" y="7"/>
                      </a:lnTo>
                      <a:lnTo>
                        <a:pt x="293" y="7"/>
                      </a:lnTo>
                      <a:lnTo>
                        <a:pt x="293" y="7"/>
                      </a:lnTo>
                      <a:lnTo>
                        <a:pt x="293" y="5"/>
                      </a:lnTo>
                      <a:lnTo>
                        <a:pt x="291" y="5"/>
                      </a:lnTo>
                      <a:lnTo>
                        <a:pt x="291" y="5"/>
                      </a:lnTo>
                      <a:lnTo>
                        <a:pt x="291" y="4"/>
                      </a:lnTo>
                      <a:lnTo>
                        <a:pt x="291" y="4"/>
                      </a:lnTo>
                      <a:lnTo>
                        <a:pt x="291" y="4"/>
                      </a:lnTo>
                      <a:lnTo>
                        <a:pt x="289" y="4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2"/>
                      </a:lnTo>
                      <a:lnTo>
                        <a:pt x="289" y="0"/>
                      </a:lnTo>
                      <a:lnTo>
                        <a:pt x="288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08640" y="2014920"/>
                  <a:ext cx="814680" cy="113400"/>
                </a:xfrm>
                <a:custGeom>
                  <a:avLst/>
                  <a:gdLst/>
                  <a:ahLst/>
                  <a:rect l="l" t="t" r="r" b="b"/>
                  <a:pathLst>
                    <a:path w="226" h="3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9"/>
                      </a:lnTo>
                      <a:lnTo>
                        <a:pt x="16" y="21"/>
                      </a:lnTo>
                      <a:lnTo>
                        <a:pt x="16" y="21"/>
                      </a:ln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6" y="26"/>
                      </a:lnTo>
                      <a:lnTo>
                        <a:pt x="16" y="29"/>
                      </a:lnTo>
                      <a:lnTo>
                        <a:pt x="16" y="31"/>
                      </a:lnTo>
                      <a:lnTo>
                        <a:pt x="16" y="33"/>
                      </a:lnTo>
                      <a:lnTo>
                        <a:pt x="147" y="33"/>
                      </a:lnTo>
                      <a:lnTo>
                        <a:pt x="147" y="31"/>
                      </a:lnTo>
                      <a:lnTo>
                        <a:pt x="146" y="31"/>
                      </a:lnTo>
                      <a:lnTo>
                        <a:pt x="146" y="26"/>
                      </a:lnTo>
                      <a:lnTo>
                        <a:pt x="147" y="26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19"/>
                      </a:lnTo>
                      <a:lnTo>
                        <a:pt x="147" y="19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5"/>
                      </a:lnTo>
                      <a:lnTo>
                        <a:pt x="149" y="15"/>
                      </a:lnTo>
                      <a:lnTo>
                        <a:pt x="149" y="15"/>
                      </a:lnTo>
                      <a:lnTo>
                        <a:pt x="149" y="14"/>
                      </a:lnTo>
                      <a:lnTo>
                        <a:pt x="149" y="14"/>
                      </a:lnTo>
                      <a:lnTo>
                        <a:pt x="149" y="14"/>
                      </a:lnTo>
                      <a:lnTo>
                        <a:pt x="149" y="12"/>
                      </a:lnTo>
                      <a:lnTo>
                        <a:pt x="149" y="12"/>
                      </a:lnTo>
                      <a:lnTo>
                        <a:pt x="151" y="12"/>
                      </a:lnTo>
                      <a:lnTo>
                        <a:pt x="151" y="12"/>
                      </a:lnTo>
                      <a:lnTo>
                        <a:pt x="151" y="10"/>
                      </a:lnTo>
                      <a:lnTo>
                        <a:pt x="151" y="10"/>
                      </a:lnTo>
                      <a:lnTo>
                        <a:pt x="151" y="10"/>
                      </a:lnTo>
                      <a:lnTo>
                        <a:pt x="152" y="10"/>
                      </a:lnTo>
                      <a:lnTo>
                        <a:pt x="152" y="9"/>
                      </a:lnTo>
                      <a:lnTo>
                        <a:pt x="152" y="9"/>
                      </a:lnTo>
                      <a:lnTo>
                        <a:pt x="152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7"/>
                      </a:lnTo>
                      <a:lnTo>
                        <a:pt x="154" y="5"/>
                      </a:lnTo>
                      <a:lnTo>
                        <a:pt x="155" y="5"/>
                      </a:lnTo>
                      <a:lnTo>
                        <a:pt x="155" y="5"/>
                      </a:lnTo>
                      <a:lnTo>
                        <a:pt x="157" y="5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9" y="2"/>
                      </a:lnTo>
                      <a:lnTo>
                        <a:pt x="160" y="2"/>
                      </a:lnTo>
                      <a:lnTo>
                        <a:pt x="160" y="2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3" y="2"/>
                      </a:lnTo>
                      <a:lnTo>
                        <a:pt x="165" y="2"/>
                      </a:lnTo>
                      <a:lnTo>
                        <a:pt x="165" y="2"/>
                      </a:lnTo>
                      <a:lnTo>
                        <a:pt x="226" y="2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460680" y="2014920"/>
                  <a:ext cx="115200" cy="30240"/>
                </a:xfrm>
                <a:custGeom>
                  <a:avLst/>
                  <a:gdLst/>
                  <a:ahLst/>
                  <a:rect l="l" t="t" r="r" b="b"/>
                  <a:pathLst>
                    <a:path w="32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4" y="7"/>
                      </a:lnTo>
                      <a:lnTo>
                        <a:pt x="25" y="5"/>
                      </a:lnTo>
                      <a:lnTo>
                        <a:pt x="25" y="5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224960" y="2021400"/>
                  <a:ext cx="198360" cy="10728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3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2"/>
                      </a:lnTo>
                      <a:lnTo>
                        <a:pt x="16" y="24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16" y="31"/>
                      </a:lnTo>
                      <a:lnTo>
                        <a:pt x="55" y="31"/>
                      </a:lnTo>
                      <a:lnTo>
                        <a:pt x="55" y="24"/>
                      </a:lnTo>
                      <a:lnTo>
                        <a:pt x="55" y="22"/>
                      </a:lnTo>
                      <a:lnTo>
                        <a:pt x="55" y="22"/>
                      </a:lnTo>
                      <a:lnTo>
                        <a:pt x="53" y="22"/>
                      </a:lnTo>
                      <a:lnTo>
                        <a:pt x="53" y="22"/>
                      </a:lnTo>
                      <a:lnTo>
                        <a:pt x="53" y="15"/>
                      </a:lnTo>
                      <a:lnTo>
                        <a:pt x="53" y="13"/>
                      </a:lnTo>
                      <a:lnTo>
                        <a:pt x="53" y="12"/>
                      </a:lnTo>
                      <a:lnTo>
                        <a:pt x="55" y="12"/>
                      </a:lnTo>
                      <a:lnTo>
                        <a:pt x="55" y="10"/>
                      </a:lnTo>
                      <a:lnTo>
                        <a:pt x="55" y="8"/>
                      </a:lnTo>
                      <a:lnTo>
                        <a:pt x="55" y="8"/>
                      </a:lnTo>
                      <a:lnTo>
                        <a:pt x="55" y="7"/>
                      </a:lnTo>
                      <a:lnTo>
                        <a:pt x="55" y="7"/>
                      </a:lnTo>
                      <a:lnTo>
                        <a:pt x="55" y="5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41080" y="1745640"/>
                  <a:ext cx="1182240" cy="383040"/>
                </a:xfrm>
                <a:custGeom>
                  <a:avLst/>
                  <a:gdLst/>
                  <a:ahLst/>
                  <a:rect l="l" t="t" r="r" b="b"/>
                  <a:pathLst>
                    <a:path w="328" h="111">
                      <a:moveTo>
                        <a:pt x="118" y="109"/>
                      </a:moveTo>
                      <a:lnTo>
                        <a:pt x="249" y="109"/>
                      </a:lnTo>
                      <a:lnTo>
                        <a:pt x="249" y="109"/>
                      </a:lnTo>
                      <a:lnTo>
                        <a:pt x="248" y="109"/>
                      </a:lnTo>
                      <a:lnTo>
                        <a:pt x="248" y="104"/>
                      </a:lnTo>
                      <a:lnTo>
                        <a:pt x="249" y="102"/>
                      </a:lnTo>
                      <a:lnTo>
                        <a:pt x="249" y="102"/>
                      </a:lnTo>
                      <a:lnTo>
                        <a:pt x="249" y="100"/>
                      </a:lnTo>
                      <a:lnTo>
                        <a:pt x="249" y="99"/>
                      </a:lnTo>
                      <a:lnTo>
                        <a:pt x="249" y="97"/>
                      </a:lnTo>
                      <a:lnTo>
                        <a:pt x="249" y="95"/>
                      </a:lnTo>
                      <a:lnTo>
                        <a:pt x="249" y="95"/>
                      </a:lnTo>
                      <a:lnTo>
                        <a:pt x="251" y="93"/>
                      </a:lnTo>
                      <a:lnTo>
                        <a:pt x="251" y="92"/>
                      </a:lnTo>
                      <a:lnTo>
                        <a:pt x="253" y="90"/>
                      </a:lnTo>
                      <a:lnTo>
                        <a:pt x="253" y="88"/>
                      </a:lnTo>
                      <a:lnTo>
                        <a:pt x="254" y="87"/>
                      </a:lnTo>
                      <a:lnTo>
                        <a:pt x="256" y="85"/>
                      </a:lnTo>
                      <a:lnTo>
                        <a:pt x="256" y="83"/>
                      </a:lnTo>
                      <a:lnTo>
                        <a:pt x="257" y="83"/>
                      </a:lnTo>
                      <a:lnTo>
                        <a:pt x="259" y="81"/>
                      </a:lnTo>
                      <a:lnTo>
                        <a:pt x="261" y="81"/>
                      </a:lnTo>
                      <a:lnTo>
                        <a:pt x="262" y="80"/>
                      </a:lnTo>
                      <a:lnTo>
                        <a:pt x="264" y="80"/>
                      </a:lnTo>
                      <a:lnTo>
                        <a:pt x="267" y="80"/>
                      </a:lnTo>
                      <a:lnTo>
                        <a:pt x="269" y="80"/>
                      </a:lnTo>
                      <a:lnTo>
                        <a:pt x="272" y="80"/>
                      </a:lnTo>
                      <a:lnTo>
                        <a:pt x="273" y="80"/>
                      </a:lnTo>
                      <a:lnTo>
                        <a:pt x="277" y="80"/>
                      </a:lnTo>
                      <a:lnTo>
                        <a:pt x="277" y="80"/>
                      </a:lnTo>
                      <a:lnTo>
                        <a:pt x="278" y="81"/>
                      </a:lnTo>
                      <a:lnTo>
                        <a:pt x="280" y="81"/>
                      </a:lnTo>
                      <a:lnTo>
                        <a:pt x="281" y="83"/>
                      </a:lnTo>
                      <a:lnTo>
                        <a:pt x="281" y="83"/>
                      </a:lnTo>
                      <a:lnTo>
                        <a:pt x="283" y="85"/>
                      </a:lnTo>
                      <a:lnTo>
                        <a:pt x="283" y="87"/>
                      </a:lnTo>
                      <a:lnTo>
                        <a:pt x="285" y="87"/>
                      </a:lnTo>
                      <a:lnTo>
                        <a:pt x="286" y="88"/>
                      </a:lnTo>
                      <a:lnTo>
                        <a:pt x="286" y="90"/>
                      </a:lnTo>
                      <a:lnTo>
                        <a:pt x="286" y="92"/>
                      </a:lnTo>
                      <a:lnTo>
                        <a:pt x="288" y="93"/>
                      </a:lnTo>
                      <a:lnTo>
                        <a:pt x="288" y="95"/>
                      </a:lnTo>
                      <a:lnTo>
                        <a:pt x="288" y="95"/>
                      </a:lnTo>
                      <a:lnTo>
                        <a:pt x="289" y="97"/>
                      </a:lnTo>
                      <a:lnTo>
                        <a:pt x="289" y="99"/>
                      </a:lnTo>
                      <a:lnTo>
                        <a:pt x="289" y="100"/>
                      </a:lnTo>
                      <a:lnTo>
                        <a:pt x="289" y="102"/>
                      </a:lnTo>
                      <a:lnTo>
                        <a:pt x="289" y="102"/>
                      </a:lnTo>
                      <a:lnTo>
                        <a:pt x="289" y="104"/>
                      </a:lnTo>
                      <a:lnTo>
                        <a:pt x="289" y="106"/>
                      </a:lnTo>
                      <a:lnTo>
                        <a:pt x="289" y="106"/>
                      </a:lnTo>
                      <a:lnTo>
                        <a:pt x="289" y="107"/>
                      </a:lnTo>
                      <a:lnTo>
                        <a:pt x="289" y="109"/>
                      </a:lnTo>
                      <a:lnTo>
                        <a:pt x="328" y="109"/>
                      </a:lnTo>
                      <a:lnTo>
                        <a:pt x="328" y="104"/>
                      </a:lnTo>
                      <a:lnTo>
                        <a:pt x="326" y="102"/>
                      </a:lnTo>
                      <a:lnTo>
                        <a:pt x="326" y="95"/>
                      </a:lnTo>
                      <a:lnTo>
                        <a:pt x="328" y="85"/>
                      </a:lnTo>
                      <a:lnTo>
                        <a:pt x="328" y="62"/>
                      </a:lnTo>
                      <a:lnTo>
                        <a:pt x="328" y="40"/>
                      </a:lnTo>
                      <a:lnTo>
                        <a:pt x="328" y="33"/>
                      </a:lnTo>
                      <a:lnTo>
                        <a:pt x="326" y="31"/>
                      </a:lnTo>
                      <a:lnTo>
                        <a:pt x="325" y="31"/>
                      </a:lnTo>
                      <a:lnTo>
                        <a:pt x="325" y="29"/>
                      </a:lnTo>
                      <a:lnTo>
                        <a:pt x="323" y="29"/>
                      </a:lnTo>
                      <a:lnTo>
                        <a:pt x="321" y="29"/>
                      </a:lnTo>
                      <a:lnTo>
                        <a:pt x="321" y="28"/>
                      </a:lnTo>
                      <a:lnTo>
                        <a:pt x="320" y="28"/>
                      </a:lnTo>
                      <a:lnTo>
                        <a:pt x="318" y="28"/>
                      </a:lnTo>
                      <a:lnTo>
                        <a:pt x="318" y="26"/>
                      </a:lnTo>
                      <a:lnTo>
                        <a:pt x="317" y="26"/>
                      </a:lnTo>
                      <a:lnTo>
                        <a:pt x="317" y="26"/>
                      </a:lnTo>
                      <a:lnTo>
                        <a:pt x="315" y="26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2" y="24"/>
                      </a:lnTo>
                      <a:lnTo>
                        <a:pt x="312" y="24"/>
                      </a:lnTo>
                      <a:lnTo>
                        <a:pt x="310" y="24"/>
                      </a:lnTo>
                      <a:lnTo>
                        <a:pt x="310" y="24"/>
                      </a:lnTo>
                      <a:lnTo>
                        <a:pt x="309" y="24"/>
                      </a:lnTo>
                      <a:lnTo>
                        <a:pt x="309" y="24"/>
                      </a:lnTo>
                      <a:lnTo>
                        <a:pt x="305" y="24"/>
                      </a:lnTo>
                      <a:lnTo>
                        <a:pt x="288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11" y="10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8" y="19"/>
                      </a:lnTo>
                      <a:lnTo>
                        <a:pt x="8" y="21"/>
                      </a:lnTo>
                      <a:lnTo>
                        <a:pt x="8" y="23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5" y="35"/>
                      </a:lnTo>
                      <a:lnTo>
                        <a:pt x="3" y="35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8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3" y="42"/>
                      </a:lnTo>
                      <a:lnTo>
                        <a:pt x="3" y="43"/>
                      </a:lnTo>
                      <a:lnTo>
                        <a:pt x="1" y="43"/>
                      </a:lnTo>
                      <a:lnTo>
                        <a:pt x="1" y="99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0" y="100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4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7"/>
                      </a:lnTo>
                      <a:lnTo>
                        <a:pt x="38" y="107"/>
                      </a:lnTo>
                      <a:lnTo>
                        <a:pt x="38" y="100"/>
                      </a:lnTo>
                      <a:lnTo>
                        <a:pt x="38" y="99"/>
                      </a:lnTo>
                      <a:lnTo>
                        <a:pt x="38" y="99"/>
                      </a:lnTo>
                      <a:lnTo>
                        <a:pt x="38" y="97"/>
                      </a:lnTo>
                      <a:lnTo>
                        <a:pt x="38" y="95"/>
                      </a:lnTo>
                      <a:lnTo>
                        <a:pt x="38" y="95"/>
                      </a:lnTo>
                      <a:lnTo>
                        <a:pt x="40" y="93"/>
                      </a:lnTo>
                      <a:lnTo>
                        <a:pt x="40" y="92"/>
                      </a:lnTo>
                      <a:lnTo>
                        <a:pt x="40" y="90"/>
                      </a:lnTo>
                      <a:lnTo>
                        <a:pt x="41" y="90"/>
                      </a:lnTo>
                      <a:lnTo>
                        <a:pt x="41" y="88"/>
                      </a:lnTo>
                      <a:lnTo>
                        <a:pt x="43" y="88"/>
                      </a:lnTo>
                      <a:lnTo>
                        <a:pt x="43" y="87"/>
                      </a:lnTo>
                      <a:lnTo>
                        <a:pt x="45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8" y="81"/>
                      </a:lnTo>
                      <a:lnTo>
                        <a:pt x="49" y="80"/>
                      </a:lnTo>
                      <a:lnTo>
                        <a:pt x="51" y="80"/>
                      </a:lnTo>
                      <a:lnTo>
                        <a:pt x="53" y="80"/>
                      </a:lnTo>
                      <a:lnTo>
                        <a:pt x="54" y="80"/>
                      </a:lnTo>
                      <a:lnTo>
                        <a:pt x="54" y="78"/>
                      </a:lnTo>
                      <a:lnTo>
                        <a:pt x="56" y="78"/>
                      </a:lnTo>
                      <a:lnTo>
                        <a:pt x="59" y="78"/>
                      </a:lnTo>
                      <a:lnTo>
                        <a:pt x="61" y="78"/>
                      </a:lnTo>
                      <a:lnTo>
                        <a:pt x="61" y="78"/>
                      </a:lnTo>
                      <a:lnTo>
                        <a:pt x="62" y="78"/>
                      </a:lnTo>
                      <a:lnTo>
                        <a:pt x="64" y="80"/>
                      </a:lnTo>
                      <a:lnTo>
                        <a:pt x="64" y="80"/>
                      </a:lnTo>
                      <a:lnTo>
                        <a:pt x="65" y="80"/>
                      </a:lnTo>
                      <a:lnTo>
                        <a:pt x="67" y="80"/>
                      </a:lnTo>
                      <a:lnTo>
                        <a:pt x="67" y="80"/>
                      </a:lnTo>
                      <a:lnTo>
                        <a:pt x="69" y="81"/>
                      </a:lnTo>
                      <a:lnTo>
                        <a:pt x="69" y="81"/>
                      </a:lnTo>
                      <a:lnTo>
                        <a:pt x="70" y="81"/>
                      </a:lnTo>
                      <a:lnTo>
                        <a:pt x="70" y="83"/>
                      </a:lnTo>
                      <a:lnTo>
                        <a:pt x="70" y="83"/>
                      </a:lnTo>
                      <a:lnTo>
                        <a:pt x="70" y="83"/>
                      </a:lnTo>
                      <a:lnTo>
                        <a:pt x="72" y="85"/>
                      </a:lnTo>
                      <a:lnTo>
                        <a:pt x="72" y="85"/>
                      </a:lnTo>
                      <a:lnTo>
                        <a:pt x="72" y="85"/>
                      </a:lnTo>
                      <a:lnTo>
                        <a:pt x="73" y="85"/>
                      </a:lnTo>
                      <a:lnTo>
                        <a:pt x="83" y="85"/>
                      </a:lnTo>
                      <a:lnTo>
                        <a:pt x="83" y="85"/>
                      </a:lnTo>
                      <a:lnTo>
                        <a:pt x="85" y="85"/>
                      </a:lnTo>
                      <a:lnTo>
                        <a:pt x="85" y="85"/>
                      </a:lnTo>
                      <a:lnTo>
                        <a:pt x="86" y="83"/>
                      </a:lnTo>
                      <a:lnTo>
                        <a:pt x="86" y="83"/>
                      </a:lnTo>
                      <a:lnTo>
                        <a:pt x="88" y="81"/>
                      </a:lnTo>
                      <a:lnTo>
                        <a:pt x="88" y="81"/>
                      </a:lnTo>
                      <a:lnTo>
                        <a:pt x="89" y="80"/>
                      </a:lnTo>
                      <a:lnTo>
                        <a:pt x="91" y="80"/>
                      </a:lnTo>
                      <a:lnTo>
                        <a:pt x="93" y="80"/>
                      </a:lnTo>
                      <a:lnTo>
                        <a:pt x="93" y="78"/>
                      </a:lnTo>
                      <a:lnTo>
                        <a:pt x="93" y="78"/>
                      </a:lnTo>
                      <a:lnTo>
                        <a:pt x="94" y="78"/>
                      </a:lnTo>
                      <a:lnTo>
                        <a:pt x="96" y="78"/>
                      </a:lnTo>
                      <a:lnTo>
                        <a:pt x="96" y="78"/>
                      </a:lnTo>
                      <a:lnTo>
                        <a:pt x="97" y="76"/>
                      </a:lnTo>
                      <a:lnTo>
                        <a:pt x="101" y="76"/>
                      </a:lnTo>
                      <a:lnTo>
                        <a:pt x="102" y="78"/>
                      </a:lnTo>
                      <a:lnTo>
                        <a:pt x="104" y="78"/>
                      </a:lnTo>
                      <a:lnTo>
                        <a:pt x="104" y="78"/>
                      </a:lnTo>
                      <a:lnTo>
                        <a:pt x="105" y="78"/>
                      </a:lnTo>
                      <a:lnTo>
                        <a:pt x="107" y="80"/>
                      </a:lnTo>
                      <a:lnTo>
                        <a:pt x="107" y="80"/>
                      </a:lnTo>
                      <a:lnTo>
                        <a:pt x="109" y="81"/>
                      </a:lnTo>
                      <a:lnTo>
                        <a:pt x="110" y="81"/>
                      </a:lnTo>
                      <a:lnTo>
                        <a:pt x="112" y="83"/>
                      </a:lnTo>
                      <a:lnTo>
                        <a:pt x="112" y="85"/>
                      </a:lnTo>
                      <a:lnTo>
                        <a:pt x="113" y="85"/>
                      </a:lnTo>
                      <a:lnTo>
                        <a:pt x="115" y="87"/>
                      </a:lnTo>
                      <a:lnTo>
                        <a:pt x="115" y="88"/>
                      </a:lnTo>
                      <a:lnTo>
                        <a:pt x="115" y="88"/>
                      </a:lnTo>
                      <a:lnTo>
                        <a:pt x="117" y="90"/>
                      </a:lnTo>
                      <a:lnTo>
                        <a:pt x="117" y="92"/>
                      </a:lnTo>
                      <a:lnTo>
                        <a:pt x="117" y="92"/>
                      </a:lnTo>
                      <a:lnTo>
                        <a:pt x="117" y="93"/>
                      </a:lnTo>
                      <a:lnTo>
                        <a:pt x="118" y="95"/>
                      </a:lnTo>
                      <a:lnTo>
                        <a:pt x="118" y="95"/>
                      </a:lnTo>
                      <a:lnTo>
                        <a:pt x="118" y="97"/>
                      </a:lnTo>
                      <a:lnTo>
                        <a:pt x="118" y="99"/>
                      </a:lnTo>
                      <a:lnTo>
                        <a:pt x="118" y="100"/>
                      </a:lnTo>
                      <a:lnTo>
                        <a:pt x="118" y="102"/>
                      </a:lnTo>
                      <a:lnTo>
                        <a:pt x="118" y="102"/>
                      </a:lnTo>
                      <a:lnTo>
                        <a:pt x="118" y="104"/>
                      </a:lnTo>
                      <a:lnTo>
                        <a:pt x="118" y="106"/>
                      </a:lnTo>
                      <a:lnTo>
                        <a:pt x="118" y="107"/>
                      </a:lnTo>
                      <a:lnTo>
                        <a:pt x="118" y="109"/>
                      </a:lnTo>
                      <a:lnTo>
                        <a:pt x="118" y="109"/>
                      </a:lnTo>
                    </a:path>
                  </a:pathLst>
                </a:custGeom>
                <a:noFill/>
                <a:ln w="3240">
                  <a:solidFill>
                    <a:srgbClr val="bc37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684600" y="2032200"/>
                  <a:ext cx="972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792600" y="2032200"/>
                  <a:ext cx="1404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36240" y="2032200"/>
                  <a:ext cx="140400" cy="96120"/>
                </a:xfrm>
                <a:prstGeom prst="rect">
                  <a:avLst/>
                </a:prstGeom>
                <a:noFill/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32680" y="2021400"/>
                  <a:ext cx="13392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562200" y="2062800"/>
                  <a:ext cx="7488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88680" y="2021400"/>
                  <a:ext cx="13320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17480" y="2062800"/>
                  <a:ext cx="7596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45400" y="2021400"/>
                  <a:ext cx="137160" cy="165960"/>
                </a:xfrm>
                <a:prstGeom prst="ellipse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1400" y="2062800"/>
                  <a:ext cx="68400" cy="82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11360" y="1890360"/>
                  <a:ext cx="3240" cy="23112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98120" y="1883520"/>
                  <a:ext cx="3240" cy="23796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4397760" y="2091240"/>
                  <a:ext cx="176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4405320" y="1883160"/>
                  <a:ext cx="3240" cy="7596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281040" y="1966320"/>
                  <a:ext cx="1145520" cy="34200"/>
                </a:xfrm>
                <a:prstGeom prst="rect">
                  <a:avLst/>
                </a:prstGeom>
                <a:solidFill>
                  <a:srgbClr val="bc37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4325400" y="200808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25400" y="202536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4325400" y="203940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4325400" y="206280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25400" y="207396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4325400" y="208728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325400" y="209736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4325400" y="2111400"/>
                  <a:ext cx="61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4325400" y="2049480"/>
                  <a:ext cx="61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3273120" y="2008080"/>
                  <a:ext cx="10155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4250160" y="2025360"/>
                  <a:ext cx="3888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3636720" y="2025360"/>
                  <a:ext cx="54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3493080" y="2025360"/>
                  <a:ext cx="644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3273480" y="2025360"/>
                  <a:ext cx="133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3480" y="2039400"/>
                  <a:ext cx="1296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647880" y="2039400"/>
                  <a:ext cx="507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268160" y="2039400"/>
                  <a:ext cx="21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4271040" y="2049480"/>
                  <a:ext cx="176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3662280" y="2049480"/>
                  <a:ext cx="489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3273480" y="2049480"/>
                  <a:ext cx="115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73480" y="2062800"/>
                  <a:ext cx="1116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673080" y="2062800"/>
                  <a:ext cx="47232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4282920" y="206280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4282920" y="2073960"/>
                  <a:ext cx="648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>
                  <a:off x="4282920" y="208728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4282920" y="209736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4282920" y="2111400"/>
                  <a:ext cx="64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>
                  <a:off x="3666240" y="2111400"/>
                  <a:ext cx="4575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73080" y="2073960"/>
                  <a:ext cx="4647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3677400" y="2087280"/>
                  <a:ext cx="4608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673080" y="2097360"/>
                  <a:ext cx="45108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3406680" y="202536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403440" y="203940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3489480" y="2025360"/>
                  <a:ext cx="684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3666240" y="2087280"/>
                  <a:ext cx="1764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338868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3385080" y="204948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3040" y="1800360"/>
                  <a:ext cx="38880" cy="1072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7" y="0"/>
                      </a:moveTo>
                      <a:lnTo>
                        <a:pt x="11" y="10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268160" y="1758960"/>
                  <a:ext cx="50400" cy="6948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4" y="17"/>
                      </a:move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14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4123800" y="2097360"/>
                  <a:ext cx="1044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27400" y="2111400"/>
                  <a:ext cx="720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423320" y="1858680"/>
                  <a:ext cx="3240" cy="2412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4242600" y="202536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260600" y="203940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271400" y="204948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278600" y="2062800"/>
                  <a:ext cx="39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282920" y="207396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4156200" y="203940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414540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662280" y="2073960"/>
                  <a:ext cx="396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662640" y="2062800"/>
                  <a:ext cx="3960" cy="360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3655080" y="2049480"/>
                  <a:ext cx="720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3644280" y="203940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3633480" y="2025360"/>
                  <a:ext cx="3240" cy="2880"/>
                </a:xfrm>
                <a:prstGeom prst="line">
                  <a:avLst/>
                </a:prstGeom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91480" y="1834920"/>
                  <a:ext cx="64440" cy="7272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8" y="0"/>
                      </a:moveTo>
                      <a:lnTo>
                        <a:pt x="10" y="0"/>
                      </a:lnTo>
                      <a:lnTo>
                        <a:pt x="0" y="21"/>
                      </a:lnTo>
                      <a:lnTo>
                        <a:pt x="7" y="21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33828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8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9344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9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655080" y="1834920"/>
                  <a:ext cx="17316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37" y="21"/>
                      </a:lnTo>
                      <a:lnTo>
                        <a:pt x="4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806280" y="1834920"/>
                  <a:ext cx="177120" cy="72720"/>
                </a:xfrm>
                <a:custGeom>
                  <a:avLst/>
                  <a:gdLst/>
                  <a:ahLst/>
                  <a:rect l="l" t="t" r="r" b="b"/>
                  <a:pathLst>
                    <a:path w="49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40" y="21"/>
                      </a:lnTo>
                      <a:lnTo>
                        <a:pt x="49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965760" y="1834920"/>
                  <a:ext cx="17208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0" y="0"/>
                      </a:moveTo>
                      <a:lnTo>
                        <a:pt x="0" y="21"/>
                      </a:lnTo>
                      <a:lnTo>
                        <a:pt x="39" y="21"/>
                      </a:lnTo>
                      <a:lnTo>
                        <a:pt x="4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124160" y="1834920"/>
                  <a:ext cx="172080" cy="7272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11" y="0"/>
                      </a:moveTo>
                      <a:lnTo>
                        <a:pt x="0" y="21"/>
                      </a:lnTo>
                      <a:lnTo>
                        <a:pt x="38" y="21"/>
                      </a:lnTo>
                      <a:lnTo>
                        <a:pt x="48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318920" y="1883520"/>
                  <a:ext cx="86400" cy="82800"/>
                </a:xfrm>
                <a:prstGeom prst="rect">
                  <a:avLst/>
                </a:prstGeom>
                <a:solidFill>
                  <a:srgbClr val="000000"/>
                </a:solidFill>
                <a:ln w="3240">
                  <a:solidFill>
                    <a:srgbClr val="bc3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6095880" y="2773440"/>
              <a:ext cx="1061640" cy="915480"/>
              <a:chOff x="6095880" y="2773440"/>
              <a:chExt cx="1061640" cy="915480"/>
            </a:xfrm>
          </p:grpSpPr>
          <p:pic>
            <p:nvPicPr>
              <p:cNvPr id="5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5880" y="2773440"/>
                <a:ext cx="1061640" cy="53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3035160"/>
                <a:ext cx="1022400" cy="653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1" name="" descr=""/>
            <p:cNvPicPr/>
            <p:nvPr/>
          </p:nvPicPr>
          <p:blipFill>
            <a:blip r:embed="rId4"/>
            <a:stretch/>
          </p:blipFill>
          <p:spPr>
            <a:xfrm>
              <a:off x="4745160" y="1481040"/>
              <a:ext cx="172404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" descr=""/>
            <p:cNvPicPr/>
            <p:nvPr/>
          </p:nvPicPr>
          <p:blipFill>
            <a:blip r:embed="rId5"/>
            <a:stretch/>
          </p:blipFill>
          <p:spPr>
            <a:xfrm>
              <a:off x="4648320" y="2306520"/>
              <a:ext cx="1861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537080" y="110952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通建設民營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6019920" y="2286000"/>
              <a:ext cx="11430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華康勘亭流"/>
                </a:rPr>
                <a:t>BOT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華康勘亭流"/>
                <a:ea typeface="華康勘亭流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651760" y="3581640"/>
              <a:ext cx="1826280" cy="1202760"/>
              <a:chOff x="2651760" y="3581640"/>
              <a:chExt cx="1826280" cy="12027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809800" y="4187880"/>
                <a:ext cx="190440" cy="241560"/>
                <a:chOff x="2809800" y="4187880"/>
                <a:chExt cx="190440" cy="24156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2809800" y="4187880"/>
                  <a:ext cx="190440" cy="241560"/>
                  <a:chOff x="2809800" y="4187880"/>
                  <a:chExt cx="190440" cy="24156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2865960" y="4204440"/>
                    <a:ext cx="1281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">
                        <a:moveTo>
                          <a:pt x="0" y="0"/>
                        </a:moveTo>
                        <a:lnTo>
                          <a:pt x="9" y="5"/>
                        </a:lnTo>
                        <a:lnTo>
                          <a:pt x="148" y="5"/>
                        </a:lnTo>
                        <a:lnTo>
                          <a:pt x="14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865240" y="4203720"/>
                    <a:ext cx="3276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58">
                        <a:moveTo>
                          <a:pt x="0" y="249"/>
                        </a:moveTo>
                        <a:lnTo>
                          <a:pt x="8" y="258"/>
                        </a:lnTo>
                        <a:lnTo>
                          <a:pt x="38" y="86"/>
                        </a:lnTo>
                        <a:lnTo>
                          <a:pt x="10" y="6"/>
                        </a:lnTo>
                        <a:lnTo>
                          <a:pt x="1" y="0"/>
                        </a:lnTo>
                        <a:lnTo>
                          <a:pt x="0" y="94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809800" y="4187880"/>
                    <a:ext cx="561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67">
                        <a:moveTo>
                          <a:pt x="0" y="0"/>
                        </a:moveTo>
                        <a:lnTo>
                          <a:pt x="65" y="18"/>
                        </a:lnTo>
                        <a:lnTo>
                          <a:pt x="65" y="267"/>
                        </a:lnTo>
                        <a:lnTo>
                          <a:pt x="0" y="2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809800" y="4187880"/>
                    <a:ext cx="1814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19">
                        <a:moveTo>
                          <a:pt x="65" y="19"/>
                        </a:moveTo>
                        <a:lnTo>
                          <a:pt x="210" y="19"/>
                        </a:lnTo>
                        <a:lnTo>
                          <a:pt x="109" y="0"/>
                        </a:lnTo>
                        <a:lnTo>
                          <a:pt x="0" y="0"/>
                        </a:lnTo>
                        <a:lnTo>
                          <a:pt x="65" y="1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872800" y="4287600"/>
                    <a:ext cx="117720" cy="1407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873880" y="4208760"/>
                    <a:ext cx="126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0">
                        <a:moveTo>
                          <a:pt x="0" y="0"/>
                        </a:moveTo>
                        <a:lnTo>
                          <a:pt x="139" y="0"/>
                        </a:lnTo>
                        <a:lnTo>
                          <a:pt x="146" y="80"/>
                        </a:lnTo>
                        <a:lnTo>
                          <a:pt x="7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872080" y="4278960"/>
                    <a:ext cx="12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">
                        <a:moveTo>
                          <a:pt x="0" y="9"/>
                        </a:moveTo>
                        <a:lnTo>
                          <a:pt x="136" y="9"/>
                        </a:lnTo>
                        <a:lnTo>
                          <a:pt x="14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2873880" y="4204440"/>
                  <a:ext cx="35640" cy="225000"/>
                  <a:chOff x="2873880" y="4204440"/>
                  <a:chExt cx="35640" cy="2250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287388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7" y="3"/>
                        </a:lnTo>
                        <a:lnTo>
                          <a:pt x="12" y="85"/>
                        </a:lnTo>
                        <a:lnTo>
                          <a:pt x="7" y="96"/>
                        </a:lnTo>
                        <a:lnTo>
                          <a:pt x="7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87784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2" y="87"/>
                        </a:lnTo>
                        <a:lnTo>
                          <a:pt x="5" y="96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88072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7" y="5"/>
                        </a:lnTo>
                        <a:lnTo>
                          <a:pt x="12" y="85"/>
                        </a:lnTo>
                        <a:lnTo>
                          <a:pt x="7" y="94"/>
                        </a:lnTo>
                        <a:lnTo>
                          <a:pt x="7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884680" y="4204440"/>
                    <a:ext cx="100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7">
                        <a:moveTo>
                          <a:pt x="0" y="0"/>
                        </a:moveTo>
                        <a:lnTo>
                          <a:pt x="5" y="3"/>
                        </a:lnTo>
                        <a:lnTo>
                          <a:pt x="12" y="85"/>
                        </a:lnTo>
                        <a:lnTo>
                          <a:pt x="5" y="94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888280" y="4204440"/>
                    <a:ext cx="93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55">
                        <a:moveTo>
                          <a:pt x="0" y="0"/>
                        </a:moveTo>
                        <a:lnTo>
                          <a:pt x="6" y="5"/>
                        </a:lnTo>
                        <a:lnTo>
                          <a:pt x="11" y="85"/>
                        </a:lnTo>
                        <a:lnTo>
                          <a:pt x="6" y="94"/>
                        </a:lnTo>
                        <a:lnTo>
                          <a:pt x="5" y="255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892600" y="4204440"/>
                    <a:ext cx="93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1" y="85"/>
                        </a:lnTo>
                        <a:lnTo>
                          <a:pt x="5" y="94"/>
                        </a:lnTo>
                        <a:lnTo>
                          <a:pt x="5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96920" y="4204440"/>
                    <a:ext cx="828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5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0" y="85"/>
                        </a:lnTo>
                        <a:lnTo>
                          <a:pt x="3" y="94"/>
                        </a:lnTo>
                        <a:lnTo>
                          <a:pt x="3" y="257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899440" y="4204440"/>
                    <a:ext cx="1008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55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2" y="85"/>
                        </a:lnTo>
                        <a:lnTo>
                          <a:pt x="5" y="94"/>
                        </a:lnTo>
                        <a:lnTo>
                          <a:pt x="5" y="255"/>
                        </a:lnTo>
                      </a:path>
                    </a:pathLst>
                  </a:custGeom>
                  <a:noFill/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4" name=""/>
                <p:cNvSpPr/>
                <p:nvPr/>
              </p:nvSpPr>
              <p:spPr>
                <a:xfrm>
                  <a:off x="2909160" y="4305960"/>
                  <a:ext cx="74880" cy="1101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909160" y="4327920"/>
                  <a:ext cx="74880" cy="2160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909160" y="4350600"/>
                  <a:ext cx="74880" cy="21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4372560"/>
                  <a:ext cx="74880" cy="2160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22120" y="4332240"/>
                  <a:ext cx="48960" cy="1224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22120" y="4354200"/>
                  <a:ext cx="489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955960" y="4307760"/>
                  <a:ext cx="3240" cy="14040"/>
                </a:xfrm>
                <a:custGeom>
                  <a:avLst/>
                  <a:gdLst/>
                  <a:ahLst/>
                  <a:rect l="l" t="t" r="r" b="b"/>
                  <a:pathLst>
                    <a:path w="4" h="16">
                      <a:moveTo>
                        <a:pt x="4" y="0"/>
                      </a:moveTo>
                      <a:lnTo>
                        <a:pt x="4" y="16"/>
                      </a:lnTo>
                      <a:lnTo>
                        <a:pt x="0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2909160" y="4305960"/>
                  <a:ext cx="74880" cy="21600"/>
                  <a:chOff x="2909160" y="4305960"/>
                  <a:chExt cx="74880" cy="216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2909160" y="4305960"/>
                    <a:ext cx="74880" cy="21600"/>
                  </a:xfrm>
                  <a:prstGeom prst="rect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914920" y="4309200"/>
                    <a:ext cx="5760" cy="252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2912400" y="4307400"/>
                    <a:ext cx="68040" cy="16560"/>
                    <a:chOff x="2912400" y="4307400"/>
                    <a:chExt cx="68040" cy="165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2942640" y="4307400"/>
                      <a:ext cx="162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7">
                          <a:moveTo>
                            <a:pt x="19" y="0"/>
                          </a:moveTo>
                          <a:lnTo>
                            <a:pt x="2" y="0"/>
                          </a:lnTo>
                          <a:lnTo>
                            <a:pt x="0" y="7"/>
                          </a:lnTo>
                          <a:lnTo>
                            <a:pt x="17" y="7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2942640" y="4316040"/>
                      <a:ext cx="360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">
                          <a:moveTo>
                            <a:pt x="42" y="8"/>
                          </a:moveTo>
                          <a:lnTo>
                            <a:pt x="2" y="8"/>
                          </a:lnTo>
                          <a:lnTo>
                            <a:pt x="0" y="0"/>
                          </a:lnTo>
                          <a:lnTo>
                            <a:pt x="41" y="0"/>
                          </a:lnTo>
                          <a:lnTo>
                            <a:pt x="42" y="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2958840" y="4311720"/>
                      <a:ext cx="19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">
                          <a:moveTo>
                            <a:pt x="23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22" y="2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2975760" y="4309920"/>
                      <a:ext cx="2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3">
                          <a:moveTo>
                            <a:pt x="3" y="0"/>
                          </a:moveTo>
                          <a:lnTo>
                            <a:pt x="3" y="13"/>
                          </a:lnTo>
                          <a:lnTo>
                            <a:pt x="0" y="4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2959560" y="4317120"/>
                      <a:ext cx="5040" cy="3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2912400" y="4313520"/>
                      <a:ext cx="68040" cy="25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41" name=""/>
                    <p:cNvGrpSpPr/>
                    <p:nvPr/>
                  </p:nvGrpSpPr>
                  <p:grpSpPr>
                    <a:xfrm>
                      <a:off x="2957040" y="4307400"/>
                      <a:ext cx="6840" cy="16560"/>
                      <a:chOff x="2957040" y="4307400"/>
                      <a:chExt cx="6840" cy="16560"/>
                    </a:xfrm>
                  </p:grpSpPr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2957040" y="4307400"/>
                        <a:ext cx="684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9">
                            <a:moveTo>
                              <a:pt x="7" y="0"/>
                            </a:move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lnTo>
                              <a:pt x="2" y="3"/>
                            </a:lnTo>
                            <a:lnTo>
                              <a:pt x="0" y="7"/>
                            </a:lnTo>
                            <a:lnTo>
                              <a:pt x="2" y="19"/>
                            </a:lnTo>
                            <a:lnTo>
                              <a:pt x="3" y="19"/>
                            </a:lnTo>
                            <a:lnTo>
                              <a:pt x="3" y="9"/>
                            </a:lnTo>
                            <a:lnTo>
                              <a:pt x="7" y="5"/>
                            </a:lnTo>
                            <a:lnTo>
                              <a:pt x="8" y="3"/>
                            </a:lnTo>
                            <a:lnTo>
                              <a:pt x="8" y="2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2958480" y="4307400"/>
                        <a:ext cx="504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9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1" y="19"/>
                            </a:lnTo>
                            <a:lnTo>
                              <a:pt x="3" y="19"/>
                            </a:lnTo>
                            <a:lnTo>
                              <a:pt x="3" y="9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44" name=""/>
                <p:cNvSpPr/>
                <p:nvPr/>
              </p:nvSpPr>
              <p:spPr>
                <a:xfrm>
                  <a:off x="2923920" y="4334760"/>
                  <a:ext cx="45000" cy="2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937960" y="4340160"/>
                  <a:ext cx="19800" cy="2520"/>
                </a:xfrm>
                <a:custGeom>
                  <a:avLst/>
                  <a:gdLst/>
                  <a:ahLst/>
                  <a:rect l="l" t="t" r="r" b="b"/>
                  <a:pathLst>
                    <a:path w="23" h="3">
                      <a:moveTo>
                        <a:pt x="1" y="3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4320" y="42192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0" y="0"/>
                      </a:lnTo>
                      <a:lnTo>
                        <a:pt x="1" y="19"/>
                      </a:lnTo>
                      <a:lnTo>
                        <a:pt x="20" y="19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886840" y="4247280"/>
                  <a:ext cx="16920" cy="172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2" y="20"/>
                      </a:lnTo>
                      <a:lnTo>
                        <a:pt x="2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"/>
                <p:cNvGrpSpPr/>
                <p:nvPr/>
              </p:nvGrpSpPr>
              <p:grpSpPr>
                <a:xfrm>
                  <a:off x="2912040" y="4247280"/>
                  <a:ext cx="76680" cy="16560"/>
                  <a:chOff x="2912040" y="4247280"/>
                  <a:chExt cx="76680" cy="1656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2912040" y="4247280"/>
                    <a:ext cx="76680" cy="1656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927520" y="424872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927520" y="4257000"/>
                    <a:ext cx="8280" cy="50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944440" y="4252320"/>
                    <a:ext cx="10080" cy="50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917080" y="4252320"/>
                    <a:ext cx="6840" cy="68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3220200" y="4254840"/>
                <a:ext cx="239040" cy="225720"/>
                <a:chOff x="3220200" y="4254840"/>
                <a:chExt cx="239040" cy="225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280320" y="4471920"/>
                  <a:ext cx="5040" cy="864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437640" y="4448880"/>
                  <a:ext cx="5040" cy="97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220200" y="4259880"/>
                  <a:ext cx="38160" cy="211680"/>
                </a:xfrm>
                <a:custGeom>
                  <a:avLst/>
                  <a:gdLst/>
                  <a:ahLst/>
                  <a:rect l="l" t="t" r="r" b="b"/>
                  <a:pathLst>
                    <a:path w="44" h="241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44" y="241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271320" y="4254840"/>
                  <a:ext cx="177120" cy="18000"/>
                </a:xfrm>
                <a:custGeom>
                  <a:avLst/>
                  <a:gdLst/>
                  <a:ahLst/>
                  <a:rect l="l" t="t" r="r" b="b"/>
                  <a:pathLst>
                    <a:path w="204" h="21">
                      <a:moveTo>
                        <a:pt x="0" y="5"/>
                      </a:moveTo>
                      <a:lnTo>
                        <a:pt x="0" y="21"/>
                      </a:lnTo>
                      <a:lnTo>
                        <a:pt x="204" y="15"/>
                      </a:lnTo>
                      <a:lnTo>
                        <a:pt x="204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271320" y="4267800"/>
                  <a:ext cx="177120" cy="178200"/>
                </a:xfrm>
                <a:custGeom>
                  <a:avLst/>
                  <a:gdLst/>
                  <a:ahLst/>
                  <a:rect l="l" t="t" r="r" b="b"/>
                  <a:pathLst>
                    <a:path w="204" h="203">
                      <a:moveTo>
                        <a:pt x="0" y="203"/>
                      </a:moveTo>
                      <a:lnTo>
                        <a:pt x="204" y="176"/>
                      </a:lnTo>
                      <a:lnTo>
                        <a:pt x="204" y="0"/>
                      </a:lnTo>
                      <a:lnTo>
                        <a:pt x="0" y="6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274200" y="4282920"/>
                  <a:ext cx="6840" cy="146520"/>
                </a:xfrm>
                <a:custGeom>
                  <a:avLst/>
                  <a:gdLst/>
                  <a:ahLst/>
                  <a:rect l="l" t="t" r="r" b="b"/>
                  <a:pathLst>
                    <a:path w="8" h="167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0" y="167"/>
                      </a:lnTo>
                      <a:lnTo>
                        <a:pt x="8" y="16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288960" y="4282920"/>
                  <a:ext cx="6840" cy="145080"/>
                </a:xfrm>
                <a:custGeom>
                  <a:avLst/>
                  <a:gdLst/>
                  <a:ahLst/>
                  <a:rect l="l" t="t" r="r" b="b"/>
                  <a:pathLst>
                    <a:path w="8" h="165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65"/>
                      </a:lnTo>
                      <a:lnTo>
                        <a:pt x="8" y="16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301920" y="4281120"/>
                  <a:ext cx="6840" cy="144000"/>
                </a:xfrm>
                <a:custGeom>
                  <a:avLst/>
                  <a:gdLst/>
                  <a:ahLst/>
                  <a:rect l="l" t="t" r="r" b="b"/>
                  <a:pathLst>
                    <a:path w="8" h="164">
                      <a:moveTo>
                        <a:pt x="8" y="0"/>
                      </a:moveTo>
                      <a:lnTo>
                        <a:pt x="0" y="2"/>
                      </a:lnTo>
                      <a:lnTo>
                        <a:pt x="0" y="164"/>
                      </a:lnTo>
                      <a:lnTo>
                        <a:pt x="8" y="16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316680" y="4281120"/>
                  <a:ext cx="5040" cy="143280"/>
                </a:xfrm>
                <a:custGeom>
                  <a:avLst/>
                  <a:gdLst/>
                  <a:ahLst/>
                  <a:rect l="l" t="t" r="r" b="b"/>
                  <a:pathLst>
                    <a:path w="6" h="163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163"/>
                      </a:lnTo>
                      <a:lnTo>
                        <a:pt x="6" y="16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329640" y="4280040"/>
                  <a:ext cx="6840" cy="142200"/>
                </a:xfrm>
                <a:custGeom>
                  <a:avLst/>
                  <a:gdLst/>
                  <a:ahLst/>
                  <a:rect l="l" t="t" r="r" b="b"/>
                  <a:pathLst>
                    <a:path w="8" h="162">
                      <a:moveTo>
                        <a:pt x="8" y="0"/>
                      </a:moveTo>
                      <a:lnTo>
                        <a:pt x="0" y="1"/>
                      </a:lnTo>
                      <a:lnTo>
                        <a:pt x="0" y="162"/>
                      </a:lnTo>
                      <a:lnTo>
                        <a:pt x="8" y="16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342600" y="4280040"/>
                  <a:ext cx="6840" cy="139680"/>
                </a:xfrm>
                <a:custGeom>
                  <a:avLst/>
                  <a:gdLst/>
                  <a:ahLst/>
                  <a:rect l="l" t="t" r="r" b="b"/>
                  <a:pathLst>
                    <a:path w="8" h="159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59"/>
                      </a:lnTo>
                      <a:lnTo>
                        <a:pt x="8" y="15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355560" y="4278240"/>
                  <a:ext cx="6840" cy="140400"/>
                </a:xfrm>
                <a:custGeom>
                  <a:avLst/>
                  <a:gdLst/>
                  <a:ahLst/>
                  <a:rect l="l" t="t" r="r" b="b"/>
                  <a:pathLst>
                    <a:path w="8" h="160">
                      <a:moveTo>
                        <a:pt x="8" y="0"/>
                      </a:moveTo>
                      <a:lnTo>
                        <a:pt x="0" y="2"/>
                      </a:lnTo>
                      <a:lnTo>
                        <a:pt x="0" y="160"/>
                      </a:lnTo>
                      <a:lnTo>
                        <a:pt x="8" y="15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367080" y="4278240"/>
                  <a:ext cx="7560" cy="137880"/>
                </a:xfrm>
                <a:custGeom>
                  <a:avLst/>
                  <a:gdLst/>
                  <a:ahLst/>
                  <a:rect l="l" t="t" r="r" b="b"/>
                  <a:pathLst>
                    <a:path w="9" h="157">
                      <a:moveTo>
                        <a:pt x="9" y="0"/>
                      </a:moveTo>
                      <a:lnTo>
                        <a:pt x="0" y="2"/>
                      </a:lnTo>
                      <a:lnTo>
                        <a:pt x="0" y="157"/>
                      </a:lnTo>
                      <a:lnTo>
                        <a:pt x="9" y="15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380040" y="4279320"/>
                  <a:ext cx="5040" cy="13428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399120" y="4277520"/>
                  <a:ext cx="7560" cy="134280"/>
                </a:xfrm>
                <a:custGeom>
                  <a:avLst/>
                  <a:gdLst/>
                  <a:ahLst/>
                  <a:rect l="l" t="t" r="r" b="b"/>
                  <a:pathLst>
                    <a:path w="9" h="153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53"/>
                      </a:lnTo>
                      <a:lnTo>
                        <a:pt x="9" y="15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414240" y="4277520"/>
                  <a:ext cx="6840" cy="133560"/>
                </a:xfrm>
                <a:custGeom>
                  <a:avLst/>
                  <a:gdLst/>
                  <a:ahLst/>
                  <a:rect l="l" t="t" r="r" b="b"/>
                  <a:pathLst>
                    <a:path w="8" h="152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152"/>
                      </a:lnTo>
                      <a:lnTo>
                        <a:pt x="8" y="15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58360" y="4259160"/>
                  <a:ext cx="12960" cy="221400"/>
                </a:xfrm>
                <a:custGeom>
                  <a:avLst/>
                  <a:gdLst/>
                  <a:ahLst/>
                  <a:rect l="l" t="t" r="r" b="b"/>
                  <a:pathLst>
                    <a:path w="15" h="252">
                      <a:moveTo>
                        <a:pt x="15" y="0"/>
                      </a:moveTo>
                      <a:lnTo>
                        <a:pt x="0" y="0"/>
                      </a:lnTo>
                      <a:lnTo>
                        <a:pt x="0" y="252"/>
                      </a:lnTo>
                      <a:lnTo>
                        <a:pt x="15" y="249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271320" y="4422600"/>
                  <a:ext cx="177120" cy="55080"/>
                </a:xfrm>
                <a:custGeom>
                  <a:avLst/>
                  <a:gdLst/>
                  <a:ahLst/>
                  <a:rect l="l" t="t" r="r" b="b"/>
                  <a:pathLst>
                    <a:path w="204" h="63">
                      <a:moveTo>
                        <a:pt x="0" y="63"/>
                      </a:moveTo>
                      <a:lnTo>
                        <a:pt x="204" y="35"/>
                      </a:lnTo>
                      <a:lnTo>
                        <a:pt x="204" y="0"/>
                      </a:lnTo>
                      <a:lnTo>
                        <a:pt x="0" y="27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284640" y="4272840"/>
                  <a:ext cx="720" cy="172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298320" y="4272120"/>
                  <a:ext cx="720" cy="170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312360" y="4272120"/>
                  <a:ext cx="720" cy="1688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326040" y="4272120"/>
                  <a:ext cx="720" cy="1677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339360" y="4270320"/>
                  <a:ext cx="720" cy="167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1240" y="4270320"/>
                  <a:ext cx="1440" cy="164160"/>
                </a:xfrm>
                <a:custGeom>
                  <a:avLst/>
                  <a:gdLst/>
                  <a:ahLst/>
                  <a:rect l="l" t="t" r="r" b="b"/>
                  <a:pathLst>
                    <a:path w="2" h="187">
                      <a:moveTo>
                        <a:pt x="2" y="0"/>
                      </a:moveTo>
                      <a:lnTo>
                        <a:pt x="2" y="185"/>
                      </a:lnTo>
                      <a:lnTo>
                        <a:pt x="0" y="187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364200" y="4270320"/>
                  <a:ext cx="720" cy="1641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377520" y="4269600"/>
                  <a:ext cx="720" cy="163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388680" y="4269600"/>
                  <a:ext cx="720" cy="1605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390480" y="4278240"/>
                  <a:ext cx="6840" cy="146520"/>
                </a:xfrm>
                <a:custGeom>
                  <a:avLst/>
                  <a:gdLst/>
                  <a:ahLst/>
                  <a:rect l="l" t="t" r="r" b="b"/>
                  <a:pathLst>
                    <a:path w="8" h="16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6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409560" y="4269600"/>
                  <a:ext cx="720" cy="15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25400" y="4267800"/>
                  <a:ext cx="720" cy="156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29720" y="4395240"/>
                  <a:ext cx="11880" cy="104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4" y="1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432240" y="4342680"/>
                  <a:ext cx="9360" cy="9360"/>
                </a:xfrm>
                <a:prstGeom prst="ellipse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448800" y="4254840"/>
                  <a:ext cx="10440" cy="198360"/>
                </a:xfrm>
                <a:custGeom>
                  <a:avLst/>
                  <a:gdLst/>
                  <a:ahLst/>
                  <a:rect l="l" t="t" r="r" b="b"/>
                  <a:pathLst>
                    <a:path w="12" h="226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0" y="226"/>
                      </a:lnTo>
                      <a:lnTo>
                        <a:pt x="12" y="2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29720" y="4411800"/>
                  <a:ext cx="17280" cy="2520"/>
                </a:xfrm>
                <a:custGeom>
                  <a:avLst/>
                  <a:gdLst/>
                  <a:ahLst/>
                  <a:rect l="l" t="t" r="r" b="b"/>
                  <a:pathLst>
                    <a:path w="20" h="3">
                      <a:moveTo>
                        <a:pt x="0" y="2"/>
                      </a:moveTo>
                      <a:lnTo>
                        <a:pt x="5" y="3"/>
                      </a:lnTo>
                      <a:lnTo>
                        <a:pt x="20" y="2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429720" y="4334760"/>
                  <a:ext cx="13680" cy="432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290760" y="4340880"/>
                  <a:ext cx="2520" cy="752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304440" y="4340160"/>
                  <a:ext cx="2520" cy="752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316680" y="433908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331440" y="4338360"/>
                  <a:ext cx="2520" cy="727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343680" y="433656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357360" y="4334760"/>
                  <a:ext cx="4320" cy="76320"/>
                </a:xfrm>
                <a:custGeom>
                  <a:avLst/>
                  <a:gdLst/>
                  <a:ahLst/>
                  <a:rect l="l" t="t" r="r" b="b"/>
                  <a:pathLst>
                    <a:path w="5" h="87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368880" y="4333680"/>
                  <a:ext cx="4320" cy="75240"/>
                </a:xfrm>
                <a:custGeom>
                  <a:avLst/>
                  <a:gdLst/>
                  <a:ahLst/>
                  <a:rect l="l" t="t" r="r" b="b"/>
                  <a:pathLst>
                    <a:path w="5" h="8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6"/>
                      </a:lnTo>
                      <a:lnTo>
                        <a:pt x="5" y="8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380760" y="4334760"/>
                  <a:ext cx="2520" cy="7092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400920" y="4331880"/>
                  <a:ext cx="4320" cy="73440"/>
                </a:xfrm>
                <a:custGeom>
                  <a:avLst/>
                  <a:gdLst/>
                  <a:ahLst/>
                  <a:rect l="l" t="t" r="r" b="b"/>
                  <a:pathLst>
                    <a:path w="5" h="84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84"/>
                      </a:lnTo>
                      <a:lnTo>
                        <a:pt x="5" y="8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416760" y="4331880"/>
                  <a:ext cx="2520" cy="7020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441960" y="4430520"/>
                  <a:ext cx="5040" cy="14760"/>
                </a:xfrm>
                <a:custGeom>
                  <a:avLst/>
                  <a:gdLst/>
                  <a:ahLst/>
                  <a:rect l="l" t="t" r="r" b="b"/>
                  <a:pathLst>
                    <a:path w="6" h="17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6" y="17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3263760" y="4266000"/>
                  <a:ext cx="2520" cy="205200"/>
                  <a:chOff x="3263760" y="4266000"/>
                  <a:chExt cx="2520" cy="2052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3263760" y="442224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3263760" y="445212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3263760" y="446004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3263760" y="446976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3263760" y="431172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3263760" y="428616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3263760" y="427644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3263760" y="426600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3453120" y="4258080"/>
                  <a:ext cx="2520" cy="188280"/>
                  <a:chOff x="3453120" y="4258080"/>
                  <a:chExt cx="2520" cy="18828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453120" y="440100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3453120" y="442800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3453120" y="44362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3453120" y="444384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453120" y="4299840"/>
                    <a:ext cx="25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453120" y="42760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453120" y="4267440"/>
                    <a:ext cx="25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453120" y="4258080"/>
                    <a:ext cx="25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3274200" y="4302000"/>
                  <a:ext cx="8640" cy="23400"/>
                  <a:chOff x="3274200" y="4302000"/>
                  <a:chExt cx="8640" cy="2340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3274920" y="4308840"/>
                    <a:ext cx="5400" cy="15840"/>
                  </a:xfrm>
                  <a:prstGeom prst="rect">
                    <a:avLst/>
                  </a:prstGeom>
                  <a:solidFill>
                    <a:srgbClr val="60606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274200" y="4302000"/>
                    <a:ext cx="8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7">
                        <a:moveTo>
                          <a:pt x="2" y="0"/>
                        </a:move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7" y="27"/>
                        </a:lnTo>
                        <a:lnTo>
                          <a:pt x="10" y="27"/>
                        </a:lnTo>
                        <a:lnTo>
                          <a:pt x="10" y="6"/>
                        </a:lnTo>
                        <a:lnTo>
                          <a:pt x="7" y="4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2" name=""/>
                <p:cNvGrpSpPr/>
                <p:nvPr/>
              </p:nvGrpSpPr>
              <p:grpSpPr>
                <a:xfrm>
                  <a:off x="3289680" y="4283640"/>
                  <a:ext cx="4320" cy="52560"/>
                  <a:chOff x="3289680" y="4283640"/>
                  <a:chExt cx="4320" cy="525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3289680" y="4283640"/>
                    <a:ext cx="360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28968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328968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289680" y="42933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289680" y="4296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289680" y="43002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3289680" y="4304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3289680" y="430992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3289680" y="4313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3289680" y="431784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289680" y="43214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289680" y="43257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289680" y="43282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289680" y="4331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3303720" y="4283640"/>
                  <a:ext cx="5040" cy="52560"/>
                  <a:chOff x="3303720" y="4283640"/>
                  <a:chExt cx="5040" cy="5256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3304440" y="4283640"/>
                    <a:ext cx="360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303720" y="428508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30372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303720" y="4293360"/>
                    <a:ext cx="504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303720" y="42969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3303720" y="430020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3303720" y="4304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3303720" y="430812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3303720" y="43124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303720" y="43160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303720" y="43203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303720" y="4323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303720" y="43282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303720" y="4331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3316680" y="4282920"/>
                  <a:ext cx="5040" cy="51480"/>
                  <a:chOff x="3316680" y="4282920"/>
                  <a:chExt cx="5040" cy="5148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317400" y="4282920"/>
                    <a:ext cx="360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3316680" y="42836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3316680" y="4287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3316680" y="42915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316680" y="42951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316680" y="429948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3316680" y="4302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3316680" y="430704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3316680" y="4312440"/>
                    <a:ext cx="504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3316680" y="43149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3316680" y="4318560"/>
                    <a:ext cx="504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331668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331668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3316680" y="4331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3330360" y="4282920"/>
                  <a:ext cx="4320" cy="51480"/>
                  <a:chOff x="3330360" y="4282920"/>
                  <a:chExt cx="4320" cy="5148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3330360" y="4282920"/>
                    <a:ext cx="324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3330360" y="4283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3330360" y="4287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330360" y="4291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3330360" y="4295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3330360" y="4299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3330360" y="4302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330360" y="4307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33036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33036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33036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333036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333036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330360" y="4331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3343680" y="4282920"/>
                  <a:ext cx="4320" cy="51480"/>
                  <a:chOff x="3343680" y="4282920"/>
                  <a:chExt cx="4320" cy="5148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3343680" y="4282920"/>
                    <a:ext cx="432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343680" y="42836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343680" y="42879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343680" y="42915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343680" y="42951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343680" y="429948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343680" y="430272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343680" y="4307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34368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34368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34368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3343680" y="43232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343680" y="4326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343680" y="433116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3357360" y="4281120"/>
                  <a:ext cx="4320" cy="52560"/>
                  <a:chOff x="3357360" y="4281120"/>
                  <a:chExt cx="4320" cy="5256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3358080" y="4281120"/>
                    <a:ext cx="1440" cy="525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3357360" y="4282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357360" y="4286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3357360" y="4290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357360" y="4294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3357360" y="4297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3357360" y="43020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357360" y="4305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57360" y="4309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357360" y="43135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357360" y="4317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357360" y="43214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3357360" y="4325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3357360" y="4329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3368880" y="4280040"/>
                  <a:ext cx="4320" cy="51480"/>
                  <a:chOff x="3368880" y="4280040"/>
                  <a:chExt cx="4320" cy="51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3370320" y="4280040"/>
                    <a:ext cx="2520" cy="514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36888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36888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336888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368880" y="429300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368880" y="4296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368880" y="4299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368880" y="4304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368880" y="4307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368880" y="4312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368880" y="4315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368880" y="4320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368880" y="4323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368880" y="4327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3380040" y="4280040"/>
                  <a:ext cx="4320" cy="50760"/>
                  <a:chOff x="3380040" y="4280040"/>
                  <a:chExt cx="4320" cy="50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>
                    <a:off x="3381840" y="4280040"/>
                    <a:ext cx="252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38004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38004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38004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3380040" y="429300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380040" y="4296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3380040" y="4299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3380040" y="4304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380040" y="4307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380040" y="431244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380040" y="431604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38004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380040" y="4322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380040" y="43261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3400920" y="4280040"/>
                  <a:ext cx="4320" cy="50760"/>
                  <a:chOff x="3400920" y="4280040"/>
                  <a:chExt cx="4320" cy="5076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3402360" y="4280040"/>
                    <a:ext cx="252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400920" y="42807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400920" y="42850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400920" y="42886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400920" y="429300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400920" y="42948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400920" y="42991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400920" y="43023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400920" y="430776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400920" y="43106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3400920" y="4314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3400920" y="43185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400920" y="43228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400920" y="4326120"/>
                    <a:ext cx="432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3415680" y="4278240"/>
                  <a:ext cx="4320" cy="50040"/>
                  <a:chOff x="3415680" y="4278240"/>
                  <a:chExt cx="4320" cy="500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>
                    <a:off x="3416400" y="4278240"/>
                    <a:ext cx="1800" cy="500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415680" y="42800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415680" y="428328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3415680" y="4287600"/>
                    <a:ext cx="43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3415680" y="429048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415680" y="42937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3415680" y="42973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415680" y="43020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415680" y="430560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415680" y="430992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415680" y="43131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15680" y="431784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415680" y="4321440"/>
                    <a:ext cx="4320" cy="1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415680" y="4323960"/>
                    <a:ext cx="4320" cy="25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3431520" y="4355640"/>
                  <a:ext cx="12960" cy="12960"/>
                  <a:chOff x="3431520" y="4355640"/>
                  <a:chExt cx="12960" cy="129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31520" y="435564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5">
                        <a:moveTo>
                          <a:pt x="15" y="0"/>
                        </a:moveTo>
                        <a:lnTo>
                          <a:pt x="0" y="2"/>
                        </a:lnTo>
                        <a:lnTo>
                          <a:pt x="0" y="15"/>
                        </a:lnTo>
                        <a:lnTo>
                          <a:pt x="15" y="1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32960" y="4357080"/>
                    <a:ext cx="8640" cy="86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37640" y="4358160"/>
                    <a:ext cx="72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437640" y="4362480"/>
                    <a:ext cx="720" cy="324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3277440" y="4413600"/>
                  <a:ext cx="142200" cy="28440"/>
                  <a:chOff x="3277440" y="4413600"/>
                  <a:chExt cx="142200" cy="2844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>
                    <a:off x="3416400" y="441360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4" y="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402360" y="4414320"/>
                    <a:ext cx="2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381840" y="4416840"/>
                    <a:ext cx="2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2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370320" y="441864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0" y="1"/>
                        </a:lnTo>
                        <a:lnTo>
                          <a:pt x="0" y="13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357360" y="4421520"/>
                    <a:ext cx="2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344400" y="4424760"/>
                    <a:ext cx="252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332160" y="4424760"/>
                    <a:ext cx="2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317400" y="442656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4" y="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305160" y="4430160"/>
                    <a:ext cx="144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290400" y="4430880"/>
                    <a:ext cx="252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277440" y="4433400"/>
                    <a:ext cx="1440" cy="86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3278520" y="4426920"/>
                  <a:ext cx="159840" cy="45000"/>
                  <a:chOff x="3278520" y="4426920"/>
                  <a:chExt cx="159840" cy="450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3281040" y="4431960"/>
                    <a:ext cx="1573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39">
                        <a:moveTo>
                          <a:pt x="0" y="24"/>
                        </a:moveTo>
                        <a:lnTo>
                          <a:pt x="0" y="39"/>
                        </a:lnTo>
                        <a:lnTo>
                          <a:pt x="181" y="13"/>
                        </a:lnTo>
                        <a:lnTo>
                          <a:pt x="181" y="0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287160" y="444780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291480" y="444780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297600" y="444600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303720" y="444528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3308760" y="4445280"/>
                    <a:ext cx="144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314880" y="4443480"/>
                    <a:ext cx="25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321000" y="4442760"/>
                    <a:ext cx="252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326040" y="4440960"/>
                    <a:ext cx="32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332160" y="4440960"/>
                    <a:ext cx="25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338280" y="4438440"/>
                    <a:ext cx="7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343680" y="4439880"/>
                    <a:ext cx="32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349800" y="4438440"/>
                    <a:ext cx="14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355560" y="44384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361680" y="4437360"/>
                    <a:ext cx="72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367080" y="4437360"/>
                    <a:ext cx="14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373200" y="443556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379320" y="443556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3384360" y="44348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3390480" y="443484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3394800" y="4433040"/>
                    <a:ext cx="252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400920" y="4431960"/>
                    <a:ext cx="14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3407040" y="443196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412440" y="4431960"/>
                    <a:ext cx="1440" cy="24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3416760" y="4430160"/>
                    <a:ext cx="324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422880" y="4429440"/>
                    <a:ext cx="144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3427200" y="4426920"/>
                    <a:ext cx="2520" cy="244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3431520" y="4427640"/>
                    <a:ext cx="25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437640" y="4426920"/>
                    <a:ext cx="7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278520" y="4448520"/>
                    <a:ext cx="4320" cy="23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0" name=""/>
                <p:cNvSpPr/>
                <p:nvPr/>
              </p:nvSpPr>
              <p:spPr>
                <a:xfrm>
                  <a:off x="3280320" y="4453200"/>
                  <a:ext cx="504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1" y="0"/>
                      </a:moveTo>
                      <a:lnTo>
                        <a:pt x="6" y="1"/>
                      </a:lnTo>
                      <a:lnTo>
                        <a:pt x="6" y="16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1" name=""/>
                <p:cNvGrpSpPr/>
                <p:nvPr/>
              </p:nvGrpSpPr>
              <p:grpSpPr>
                <a:xfrm>
                  <a:off x="3274200" y="4278240"/>
                  <a:ext cx="3240" cy="2520"/>
                  <a:chOff x="3274200" y="4278240"/>
                  <a:chExt cx="3240" cy="252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3274920" y="4278240"/>
                    <a:ext cx="72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3274920" y="4278240"/>
                    <a:ext cx="25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276720" y="4278240"/>
                    <a:ext cx="72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274200" y="42782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3288960" y="4277520"/>
                  <a:ext cx="3240" cy="3240"/>
                  <a:chOff x="3288960" y="4277520"/>
                  <a:chExt cx="3240" cy="324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32889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289680" y="4278240"/>
                    <a:ext cx="25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290760" y="4278240"/>
                    <a:ext cx="144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2889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3302640" y="4277520"/>
                  <a:ext cx="3960" cy="3240"/>
                  <a:chOff x="3302640" y="4277520"/>
                  <a:chExt cx="3960" cy="324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>
                    <a:off x="3302640" y="4278240"/>
                    <a:ext cx="72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304440" y="4278240"/>
                    <a:ext cx="72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305160" y="4278240"/>
                    <a:ext cx="144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3303360" y="42775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316680" y="4275720"/>
                  <a:ext cx="2880" cy="4320"/>
                  <a:chOff x="3316680" y="4275720"/>
                  <a:chExt cx="2880" cy="43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316680" y="42757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317400" y="427644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318120" y="427644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316680" y="42757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3329640" y="4275720"/>
                  <a:ext cx="4320" cy="3240"/>
                  <a:chOff x="3329640" y="4275720"/>
                  <a:chExt cx="4320" cy="324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3330360" y="42757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3331440" y="4275720"/>
                    <a:ext cx="180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3333240" y="427572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3329640" y="427572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3342600" y="4274640"/>
                  <a:ext cx="3600" cy="3240"/>
                  <a:chOff x="3342600" y="4274640"/>
                  <a:chExt cx="3600" cy="324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3343320" y="427536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343320" y="4275360"/>
                    <a:ext cx="216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3345840" y="4275360"/>
                    <a:ext cx="36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342600" y="427464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3355560" y="4274640"/>
                  <a:ext cx="4680" cy="3240"/>
                  <a:chOff x="3355560" y="4274640"/>
                  <a:chExt cx="4680" cy="324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3356280" y="427536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3358080" y="427536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358800" y="4275360"/>
                    <a:ext cx="144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355560" y="4274640"/>
                    <a:ext cx="144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3367080" y="4273920"/>
                  <a:ext cx="5040" cy="3240"/>
                  <a:chOff x="3367080" y="4273920"/>
                  <a:chExt cx="5040" cy="324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3367800" y="427392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369600" y="4273920"/>
                    <a:ext cx="7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371400" y="427392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367080" y="4274640"/>
                    <a:ext cx="32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3380040" y="4272840"/>
                  <a:ext cx="3240" cy="4320"/>
                  <a:chOff x="3380040" y="4272840"/>
                  <a:chExt cx="3240" cy="432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3380040" y="427356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3380760" y="4273560"/>
                    <a:ext cx="180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3382560" y="427356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3380040" y="427284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3400200" y="4272840"/>
                  <a:ext cx="4320" cy="2520"/>
                  <a:chOff x="3400200" y="4272840"/>
                  <a:chExt cx="4320" cy="252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3400200" y="4272840"/>
                    <a:ext cx="180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40200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403800" y="427284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400920" y="4272840"/>
                    <a:ext cx="14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3414240" y="4272120"/>
                  <a:ext cx="5040" cy="3240"/>
                  <a:chOff x="3414240" y="4272120"/>
                  <a:chExt cx="5040" cy="324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3414960" y="42728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41676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417480" y="4272840"/>
                    <a:ext cx="180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414240" y="4272120"/>
                    <a:ext cx="25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3427200" y="4272120"/>
                  <a:ext cx="5040" cy="3240"/>
                  <a:chOff x="3427200" y="4272120"/>
                  <a:chExt cx="5040" cy="324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3427920" y="42728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429720" y="427284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430800" y="4272840"/>
                    <a:ext cx="144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427200" y="4272120"/>
                    <a:ext cx="25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3441960" y="4270320"/>
                  <a:ext cx="2880" cy="4320"/>
                  <a:chOff x="3441960" y="4270320"/>
                  <a:chExt cx="2880" cy="432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3441960" y="427032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442680" y="427104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443400" y="427104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441960" y="427212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390480" y="42696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9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3273120" y="4440960"/>
                  <a:ext cx="4320" cy="4320"/>
                  <a:chOff x="3273120" y="4440960"/>
                  <a:chExt cx="4320" cy="43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3273120" y="444168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274920" y="444168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276720" y="444168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273840" y="444096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3285360" y="4439160"/>
                  <a:ext cx="4680" cy="3240"/>
                  <a:chOff x="3285360" y="4439160"/>
                  <a:chExt cx="4680" cy="32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3286080" y="4439160"/>
                    <a:ext cx="144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287520" y="4439160"/>
                    <a:ext cx="72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289320" y="443916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285360" y="4439880"/>
                    <a:ext cx="14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3301200" y="4437360"/>
                  <a:ext cx="3960" cy="3240"/>
                  <a:chOff x="3301200" y="4437360"/>
                  <a:chExt cx="3960" cy="32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3301200" y="4438080"/>
                    <a:ext cx="144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302640" y="443808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304440" y="443808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301920" y="443736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3313080" y="4435560"/>
                  <a:ext cx="4680" cy="2880"/>
                  <a:chOff x="3313080" y="4435560"/>
                  <a:chExt cx="4680" cy="288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3313800" y="4436280"/>
                    <a:ext cx="144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315600" y="4436280"/>
                    <a:ext cx="72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317040" y="443628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13080" y="4435560"/>
                    <a:ext cx="324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3327120" y="4433760"/>
                  <a:ext cx="3960" cy="3240"/>
                  <a:chOff x="3327120" y="4433760"/>
                  <a:chExt cx="3960" cy="324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3327120" y="443376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328920" y="4433760"/>
                    <a:ext cx="7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330360" y="4433760"/>
                    <a:ext cx="72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327840" y="4434480"/>
                    <a:ext cx="180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3340800" y="4432320"/>
                  <a:ext cx="3240" cy="3240"/>
                  <a:chOff x="3340800" y="4432320"/>
                  <a:chExt cx="3240" cy="324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3341520" y="4433040"/>
                    <a:ext cx="360" cy="18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341520" y="4433040"/>
                    <a:ext cx="2160" cy="180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343320" y="4433040"/>
                    <a:ext cx="720" cy="1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340800" y="4432320"/>
                    <a:ext cx="144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3354120" y="4430520"/>
                  <a:ext cx="3240" cy="4320"/>
                  <a:chOff x="3354120" y="4430520"/>
                  <a:chExt cx="3240" cy="43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354840" y="44312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354840" y="4431240"/>
                    <a:ext cx="25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356640" y="4431240"/>
                    <a:ext cx="72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354120" y="4430520"/>
                    <a:ext cx="144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3367080" y="4428720"/>
                  <a:ext cx="3240" cy="3240"/>
                  <a:chOff x="3367080" y="4428720"/>
                  <a:chExt cx="3240" cy="324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3367080" y="4428720"/>
                    <a:ext cx="72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367800" y="4428720"/>
                    <a:ext cx="1800" cy="216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369600" y="4428720"/>
                    <a:ext cx="720" cy="216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67080" y="4429440"/>
                    <a:ext cx="180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379320" y="4426920"/>
                  <a:ext cx="3600" cy="3240"/>
                  <a:chOff x="3379320" y="4426920"/>
                  <a:chExt cx="3600" cy="32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3380040" y="4427640"/>
                    <a:ext cx="72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380040" y="4427640"/>
                    <a:ext cx="216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382560" y="4427640"/>
                    <a:ext cx="36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379320" y="442692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3399120" y="4424400"/>
                  <a:ext cx="5040" cy="3240"/>
                  <a:chOff x="3399120" y="4424400"/>
                  <a:chExt cx="5040" cy="324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3399840" y="4425120"/>
                    <a:ext cx="1800" cy="14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401640" y="4425120"/>
                    <a:ext cx="720" cy="14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403440" y="4425120"/>
                    <a:ext cx="720" cy="14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399120" y="4424400"/>
                    <a:ext cx="180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3411360" y="4422600"/>
                  <a:ext cx="3240" cy="4320"/>
                  <a:chOff x="3411360" y="4422600"/>
                  <a:chExt cx="3240" cy="432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3411360" y="4422600"/>
                    <a:ext cx="72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412080" y="4423320"/>
                    <a:ext cx="25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412800" y="4423320"/>
                    <a:ext cx="180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411360" y="442260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427200" y="4420080"/>
                  <a:ext cx="5040" cy="4320"/>
                  <a:chOff x="3427200" y="4420080"/>
                  <a:chExt cx="5040" cy="432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427920" y="4420800"/>
                    <a:ext cx="720" cy="25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429720" y="4420800"/>
                    <a:ext cx="720" cy="252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430800" y="4420800"/>
                    <a:ext cx="1440" cy="2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427200" y="4420080"/>
                    <a:ext cx="1800" cy="43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3441960" y="4418280"/>
                  <a:ext cx="3240" cy="3240"/>
                  <a:chOff x="3441960" y="4418280"/>
                  <a:chExt cx="3240" cy="324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3442680" y="4418280"/>
                    <a:ext cx="720" cy="32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442680" y="4418280"/>
                    <a:ext cx="2520" cy="3240"/>
                  </a:xfrm>
                  <a:prstGeom prst="rect">
                    <a:avLst/>
                  </a:pr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443400" y="4418280"/>
                    <a:ext cx="1440" cy="3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3441960" y="4419000"/>
                    <a:ext cx="720" cy="21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3549960" y="4062600"/>
                <a:ext cx="217800" cy="91800"/>
                <a:chOff x="3549960" y="4062600"/>
                <a:chExt cx="217800" cy="9180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3549960" y="4062600"/>
                  <a:ext cx="217800" cy="91800"/>
                  <a:chOff x="3549960" y="4062600"/>
                  <a:chExt cx="217800" cy="9180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63640" y="4097160"/>
                    <a:ext cx="203040" cy="5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9960" y="4062600"/>
                    <a:ext cx="217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39">
                        <a:moveTo>
                          <a:pt x="251" y="39"/>
                        </a:moveTo>
                        <a:lnTo>
                          <a:pt x="15" y="39"/>
                        </a:lnTo>
                        <a:lnTo>
                          <a:pt x="0" y="0"/>
                        </a:lnTo>
                        <a:lnTo>
                          <a:pt x="213" y="0"/>
                        </a:lnTo>
                        <a:lnTo>
                          <a:pt x="251" y="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9960" y="4062600"/>
                    <a:ext cx="129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06">
                        <a:moveTo>
                          <a:pt x="15" y="39"/>
                        </a:moveTo>
                        <a:lnTo>
                          <a:pt x="15" y="106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15" y="3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7" name=""/>
                <p:cNvSpPr/>
                <p:nvPr/>
              </p:nvSpPr>
              <p:spPr>
                <a:xfrm>
                  <a:off x="3567960" y="4149000"/>
                  <a:ext cx="194400" cy="14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3567960" y="4115160"/>
                  <a:ext cx="194400" cy="23760"/>
                  <a:chOff x="3567960" y="4115160"/>
                  <a:chExt cx="194400" cy="237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3567960" y="4118400"/>
                    <a:ext cx="19440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567960" y="412092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567960" y="4125240"/>
                    <a:ext cx="19440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567960" y="412884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567960" y="4133160"/>
                    <a:ext cx="19440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567960" y="4136400"/>
                    <a:ext cx="19440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567960" y="4115160"/>
                    <a:ext cx="19440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6" name=""/>
                <p:cNvSpPr/>
                <p:nvPr/>
              </p:nvSpPr>
              <p:spPr>
                <a:xfrm>
                  <a:off x="3582000" y="414216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596760" y="414216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11520" y="4142160"/>
                  <a:ext cx="9360" cy="3240"/>
                </a:xfrm>
                <a:prstGeom prst="rect">
                  <a:avLst/>
                </a:prstGeom>
                <a:solidFill>
                  <a:srgbClr val="00ff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629880" y="414288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641040" y="414288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567960" y="4100400"/>
                  <a:ext cx="24120" cy="75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561120" y="4093560"/>
                  <a:ext cx="204120" cy="56880"/>
                </a:xfrm>
                <a:custGeom>
                  <a:avLst/>
                  <a:gdLst/>
                  <a:ahLst/>
                  <a:rect l="l" t="t" r="r" b="b"/>
                  <a:pathLst>
                    <a:path w="235" h="66">
                      <a:moveTo>
                        <a:pt x="0" y="66"/>
                      </a:moveTo>
                      <a:lnTo>
                        <a:pt x="0" y="0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3171600" y="411480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3478320" y="4158720"/>
                <a:ext cx="168840" cy="164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52040" y="4399560"/>
                <a:ext cx="19548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2994840" y="4320720"/>
                <a:ext cx="218520" cy="6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794400" y="3870000"/>
                <a:ext cx="624960" cy="217080"/>
                <a:chOff x="3794400" y="3870000"/>
                <a:chExt cx="624960" cy="217080"/>
              </a:xfrm>
            </p:grpSpPr>
            <p:grpSp>
              <p:nvGrpSpPr>
                <p:cNvPr id="1078" name=""/>
                <p:cNvGrpSpPr/>
                <p:nvPr/>
              </p:nvGrpSpPr>
              <p:grpSpPr>
                <a:xfrm>
                  <a:off x="4127040" y="3870000"/>
                  <a:ext cx="195480" cy="156240"/>
                  <a:chOff x="4127040" y="3870000"/>
                  <a:chExt cx="195480" cy="156240"/>
                </a:xfrm>
              </p:grpSpPr>
              <p:grpSp>
                <p:nvGrpSpPr>
                  <p:cNvPr id="1079" name=""/>
                  <p:cNvGrpSpPr/>
                  <p:nvPr/>
                </p:nvGrpSpPr>
                <p:grpSpPr>
                  <a:xfrm>
                    <a:off x="4134600" y="3967560"/>
                    <a:ext cx="180000" cy="47880"/>
                    <a:chOff x="4134600" y="3967560"/>
                    <a:chExt cx="180000" cy="47880"/>
                  </a:xfrm>
                </p:grpSpPr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4134600" y="3967560"/>
                      <a:ext cx="180000" cy="47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4233960" y="3975120"/>
                      <a:ext cx="6264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2" name=""/>
                  <p:cNvGrpSpPr/>
                  <p:nvPr/>
                </p:nvGrpSpPr>
                <p:grpSpPr>
                  <a:xfrm>
                    <a:off x="4127040" y="3994920"/>
                    <a:ext cx="195480" cy="31320"/>
                    <a:chOff x="4127040" y="3994920"/>
                    <a:chExt cx="195480" cy="31320"/>
                  </a:xfrm>
                </p:grpSpPr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4127040" y="3994920"/>
                      <a:ext cx="195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36">
                          <a:moveTo>
                            <a:pt x="28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4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4138200" y="4001040"/>
                      <a:ext cx="1288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23">
                          <a:moveTo>
                            <a:pt x="20" y="0"/>
                          </a:moveTo>
                          <a:lnTo>
                            <a:pt x="141" y="0"/>
                          </a:lnTo>
                          <a:lnTo>
                            <a:pt x="148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4272120" y="4001040"/>
                      <a:ext cx="392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8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6" name=""/>
                  <p:cNvGrpSpPr/>
                  <p:nvPr/>
                </p:nvGrpSpPr>
                <p:grpSpPr>
                  <a:xfrm>
                    <a:off x="4159800" y="3870000"/>
                    <a:ext cx="129960" cy="95040"/>
                    <a:chOff x="4159800" y="3870000"/>
                    <a:chExt cx="129960" cy="95040"/>
                  </a:xfrm>
                </p:grpSpPr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4159800" y="3870000"/>
                      <a:ext cx="129960" cy="95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168440" y="3877560"/>
                      <a:ext cx="112680" cy="8028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4264560" y="3877560"/>
                      <a:ext cx="16560" cy="80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4268880" y="3882240"/>
                      <a:ext cx="792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4268880" y="391680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4268880" y="393264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4268880" y="3945960"/>
                      <a:ext cx="612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4" name=""/>
                <p:cNvGrpSpPr/>
                <p:nvPr/>
              </p:nvGrpSpPr>
              <p:grpSpPr>
                <a:xfrm>
                  <a:off x="3876480" y="3870000"/>
                  <a:ext cx="196200" cy="156240"/>
                  <a:chOff x="3876480" y="3870000"/>
                  <a:chExt cx="196200" cy="15624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3885120" y="3967560"/>
                    <a:ext cx="178920" cy="47880"/>
                    <a:chOff x="3885120" y="3967560"/>
                    <a:chExt cx="178920" cy="4788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3885120" y="3967560"/>
                      <a:ext cx="178920" cy="47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3984480" y="3975120"/>
                      <a:ext cx="6192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3876480" y="3994920"/>
                    <a:ext cx="196200" cy="31320"/>
                    <a:chOff x="3876480" y="3994920"/>
                    <a:chExt cx="196200" cy="3132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876480" y="3994920"/>
                      <a:ext cx="1962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36">
                          <a:moveTo>
                            <a:pt x="29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5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4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3888720" y="4001040"/>
                      <a:ext cx="1281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3">
                          <a:moveTo>
                            <a:pt x="20" y="0"/>
                          </a:moveTo>
                          <a:lnTo>
                            <a:pt x="140" y="0"/>
                          </a:lnTo>
                          <a:lnTo>
                            <a:pt x="147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4021200" y="4001040"/>
                      <a:ext cx="388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9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3909600" y="3870000"/>
                    <a:ext cx="129960" cy="95040"/>
                    <a:chOff x="3909600" y="3870000"/>
                    <a:chExt cx="129960" cy="9504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3909600" y="3870000"/>
                      <a:ext cx="129960" cy="95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918240" y="3877560"/>
                      <a:ext cx="112320" cy="8028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4015080" y="3877560"/>
                      <a:ext cx="15480" cy="80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4019400" y="3882240"/>
                      <a:ext cx="684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4019400" y="391680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4019400" y="393264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4019400" y="394596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10" name=""/>
                <p:cNvSpPr/>
                <p:nvPr/>
              </p:nvSpPr>
              <p:spPr>
                <a:xfrm>
                  <a:off x="3970440" y="4026240"/>
                  <a:ext cx="1080" cy="608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235040" y="4032360"/>
                  <a:ext cx="720" cy="54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794400" y="4079520"/>
                  <a:ext cx="62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3647520" y="4351320"/>
                <a:ext cx="217440" cy="93240"/>
                <a:chOff x="3647520" y="4351320"/>
                <a:chExt cx="217440" cy="93240"/>
              </a:xfrm>
            </p:grpSpPr>
            <p:grpSp>
              <p:nvGrpSpPr>
                <p:cNvPr id="1114" name=""/>
                <p:cNvGrpSpPr/>
                <p:nvPr/>
              </p:nvGrpSpPr>
              <p:grpSpPr>
                <a:xfrm>
                  <a:off x="3647520" y="4351320"/>
                  <a:ext cx="217440" cy="93240"/>
                  <a:chOff x="3647520" y="4351320"/>
                  <a:chExt cx="217440" cy="9324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3661200" y="4386240"/>
                    <a:ext cx="202680" cy="5724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647520" y="4351320"/>
                    <a:ext cx="217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39">
                        <a:moveTo>
                          <a:pt x="251" y="39"/>
                        </a:moveTo>
                        <a:lnTo>
                          <a:pt x="15" y="39"/>
                        </a:lnTo>
                        <a:lnTo>
                          <a:pt x="0" y="0"/>
                        </a:lnTo>
                        <a:lnTo>
                          <a:pt x="213" y="0"/>
                        </a:lnTo>
                        <a:lnTo>
                          <a:pt x="251" y="3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647520" y="4351320"/>
                    <a:ext cx="129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06">
                        <a:moveTo>
                          <a:pt x="15" y="39"/>
                        </a:moveTo>
                        <a:lnTo>
                          <a:pt x="15" y="106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15" y="3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8" name=""/>
                <p:cNvSpPr/>
                <p:nvPr/>
              </p:nvSpPr>
              <p:spPr>
                <a:xfrm>
                  <a:off x="3665520" y="4439160"/>
                  <a:ext cx="194040" cy="1440"/>
                </a:xfrm>
                <a:prstGeom prst="rect">
                  <a:avLst/>
                </a:prstGeom>
                <a:solidFill>
                  <a:srgbClr val="40404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9" name=""/>
                <p:cNvGrpSpPr/>
                <p:nvPr/>
              </p:nvGrpSpPr>
              <p:grpSpPr>
                <a:xfrm>
                  <a:off x="3665520" y="4404960"/>
                  <a:ext cx="194040" cy="24120"/>
                  <a:chOff x="3665520" y="4404960"/>
                  <a:chExt cx="194040" cy="2412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3665520" y="4408200"/>
                    <a:ext cx="19404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665520" y="441108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665520" y="4415400"/>
                    <a:ext cx="19404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665520" y="441900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665520" y="4423320"/>
                    <a:ext cx="19404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665520" y="4426560"/>
                    <a:ext cx="194040" cy="25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665520" y="4404960"/>
                    <a:ext cx="194040" cy="720"/>
                  </a:xfrm>
                  <a:prstGeom prst="rect">
                    <a:avLst/>
                  </a:prstGeom>
                  <a:solidFill>
                    <a:srgbClr val="40404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7" name=""/>
                <p:cNvSpPr/>
                <p:nvPr/>
              </p:nvSpPr>
              <p:spPr>
                <a:xfrm>
                  <a:off x="3679560" y="443232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3693960" y="4432320"/>
                  <a:ext cx="10080" cy="3240"/>
                </a:xfrm>
                <a:prstGeom prst="rect">
                  <a:avLst/>
                </a:prstGeom>
                <a:solidFill>
                  <a:srgbClr val="ff80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708720" y="4432320"/>
                  <a:ext cx="9360" cy="3240"/>
                </a:xfrm>
                <a:prstGeom prst="rect">
                  <a:avLst/>
                </a:prstGeom>
                <a:solidFill>
                  <a:srgbClr val="00ff0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727080" y="4433040"/>
                  <a:ext cx="252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738240" y="4433040"/>
                  <a:ext cx="3240" cy="2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665520" y="4389840"/>
                  <a:ext cx="24120" cy="792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658680" y="4383000"/>
                  <a:ext cx="203760" cy="57960"/>
                </a:xfrm>
                <a:custGeom>
                  <a:avLst/>
                  <a:gdLst/>
                  <a:ahLst/>
                  <a:rect l="l" t="t" r="r" b="b"/>
                  <a:pathLst>
                    <a:path w="235" h="66">
                      <a:moveTo>
                        <a:pt x="0" y="66"/>
                      </a:moveTo>
                      <a:lnTo>
                        <a:pt x="0" y="0"/>
                      </a:lnTo>
                      <a:lnTo>
                        <a:pt x="235" y="0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875400" y="4206960"/>
                <a:ext cx="602640" cy="218520"/>
                <a:chOff x="3875400" y="4206960"/>
                <a:chExt cx="602640" cy="218520"/>
              </a:xfrm>
            </p:grpSpPr>
            <p:grpSp>
              <p:nvGrpSpPr>
                <p:cNvPr id="1135" name=""/>
                <p:cNvGrpSpPr/>
                <p:nvPr/>
              </p:nvGrpSpPr>
              <p:grpSpPr>
                <a:xfrm>
                  <a:off x="4205160" y="4206960"/>
                  <a:ext cx="193320" cy="157320"/>
                  <a:chOff x="4205160" y="4206960"/>
                  <a:chExt cx="193320" cy="157320"/>
                </a:xfrm>
              </p:grpSpPr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4212720" y="4305240"/>
                    <a:ext cx="177840" cy="48240"/>
                    <a:chOff x="4212720" y="4305240"/>
                    <a:chExt cx="177840" cy="4824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4212720" y="4305240"/>
                      <a:ext cx="177840" cy="48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311000" y="4313160"/>
                      <a:ext cx="6192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4205160" y="4332600"/>
                    <a:ext cx="193320" cy="31680"/>
                    <a:chOff x="4205160" y="4332600"/>
                    <a:chExt cx="193320" cy="3168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4205160" y="4332600"/>
                      <a:ext cx="1933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36">
                          <a:moveTo>
                            <a:pt x="28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4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3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4216320" y="4338720"/>
                      <a:ext cx="1278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23">
                          <a:moveTo>
                            <a:pt x="20" y="0"/>
                          </a:moveTo>
                          <a:lnTo>
                            <a:pt x="141" y="0"/>
                          </a:lnTo>
                          <a:lnTo>
                            <a:pt x="148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4348440" y="4338720"/>
                      <a:ext cx="38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8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3" name=""/>
                  <p:cNvGrpSpPr/>
                  <p:nvPr/>
                </p:nvGrpSpPr>
                <p:grpSpPr>
                  <a:xfrm>
                    <a:off x="4237560" y="4206960"/>
                    <a:ext cx="128520" cy="95760"/>
                    <a:chOff x="4237560" y="4206960"/>
                    <a:chExt cx="128520" cy="95760"/>
                  </a:xfrm>
                </p:grpSpPr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4237560" y="4206960"/>
                      <a:ext cx="128520" cy="9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4245840" y="4214880"/>
                      <a:ext cx="111240" cy="8064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4340880" y="4214880"/>
                      <a:ext cx="16200" cy="80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4345200" y="4219200"/>
                      <a:ext cx="756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4345200" y="425412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4345200" y="427032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4345200" y="4283280"/>
                      <a:ext cx="576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51" name=""/>
                <p:cNvGrpSpPr/>
                <p:nvPr/>
              </p:nvGrpSpPr>
              <p:grpSpPr>
                <a:xfrm>
                  <a:off x="3954600" y="4206960"/>
                  <a:ext cx="194400" cy="157320"/>
                  <a:chOff x="3954600" y="4206960"/>
                  <a:chExt cx="194400" cy="157320"/>
                </a:xfrm>
              </p:grpSpPr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3962880" y="4305240"/>
                    <a:ext cx="177120" cy="48240"/>
                    <a:chOff x="3962880" y="4305240"/>
                    <a:chExt cx="177120" cy="4824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3962880" y="4305240"/>
                      <a:ext cx="177120" cy="48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4061520" y="4313160"/>
                      <a:ext cx="61200" cy="21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3954600" y="4332600"/>
                    <a:ext cx="194400" cy="31680"/>
                    <a:chOff x="3954600" y="4332600"/>
                    <a:chExt cx="194400" cy="3168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3954600" y="4332600"/>
                      <a:ext cx="1944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36">
                          <a:moveTo>
                            <a:pt x="29" y="0"/>
                          </a:moveTo>
                          <a:lnTo>
                            <a:pt x="198" y="0"/>
                          </a:lnTo>
                          <a:lnTo>
                            <a:pt x="223" y="31"/>
                          </a:lnTo>
                          <a:lnTo>
                            <a:pt x="225" y="33"/>
                          </a:lnTo>
                          <a:lnTo>
                            <a:pt x="223" y="34"/>
                          </a:lnTo>
                          <a:lnTo>
                            <a:pt x="221" y="36"/>
                          </a:lnTo>
                          <a:lnTo>
                            <a:pt x="4" y="36"/>
                          </a:lnTo>
                          <a:lnTo>
                            <a:pt x="2" y="34"/>
                          </a:lnTo>
                          <a:lnTo>
                            <a:pt x="0" y="33"/>
                          </a:lnTo>
                          <a:lnTo>
                            <a:pt x="2" y="31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3966480" y="4338720"/>
                      <a:ext cx="12708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3">
                          <a:moveTo>
                            <a:pt x="20" y="0"/>
                          </a:moveTo>
                          <a:lnTo>
                            <a:pt x="140" y="0"/>
                          </a:lnTo>
                          <a:lnTo>
                            <a:pt x="147" y="23"/>
                          </a:lnTo>
                          <a:lnTo>
                            <a:pt x="0" y="23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4097880" y="4338720"/>
                      <a:ext cx="3852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45" y="23"/>
                          </a:lnTo>
                          <a:lnTo>
                            <a:pt x="9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3987360" y="4206960"/>
                    <a:ext cx="128520" cy="95760"/>
                    <a:chOff x="3987360" y="4206960"/>
                    <a:chExt cx="128520" cy="9576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3987360" y="4206960"/>
                      <a:ext cx="128520" cy="9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3995640" y="4214880"/>
                      <a:ext cx="111240" cy="80640"/>
                    </a:xfrm>
                    <a:prstGeom prst="rect">
                      <a:avLst/>
                    </a:prstGeom>
                    <a:solidFill>
                      <a:srgbClr val="1050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4091400" y="4214880"/>
                      <a:ext cx="15120" cy="80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4095720" y="4219200"/>
                      <a:ext cx="6840" cy="4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4095720" y="425412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4095720" y="427032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4095720" y="4283280"/>
                      <a:ext cx="504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67" name=""/>
                <p:cNvSpPr/>
                <p:nvPr/>
              </p:nvSpPr>
              <p:spPr>
                <a:xfrm>
                  <a:off x="4048200" y="4364280"/>
                  <a:ext cx="1080" cy="612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312080" y="4370400"/>
                  <a:ext cx="1080" cy="54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875400" y="4421520"/>
                  <a:ext cx="60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3002040" y="3908160"/>
                <a:ext cx="498600" cy="288360"/>
                <a:chOff x="3002040" y="3908160"/>
                <a:chExt cx="498600" cy="288360"/>
              </a:xfrm>
            </p:grpSpPr>
            <p:grpSp>
              <p:nvGrpSpPr>
                <p:cNvPr id="1171" name=""/>
                <p:cNvGrpSpPr/>
                <p:nvPr/>
              </p:nvGrpSpPr>
              <p:grpSpPr>
                <a:xfrm>
                  <a:off x="3002040" y="3908160"/>
                  <a:ext cx="498600" cy="154440"/>
                  <a:chOff x="3002040" y="3908160"/>
                  <a:chExt cx="498600" cy="15444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3158280" y="3912840"/>
                    <a:ext cx="117720" cy="482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259440" y="3908160"/>
                    <a:ext cx="95400" cy="385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3349440" y="3951000"/>
                    <a:ext cx="151200" cy="63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3057840" y="3980160"/>
                    <a:ext cx="173520" cy="72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3304080" y="3989880"/>
                    <a:ext cx="129240" cy="5364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3011760" y="3994560"/>
                    <a:ext cx="95760" cy="38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3002040" y="3961080"/>
                    <a:ext cx="95400" cy="381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047040" y="3922200"/>
                    <a:ext cx="151200" cy="6300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3180960" y="3998880"/>
                    <a:ext cx="150840" cy="637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3371760" y="3926520"/>
                    <a:ext cx="118440" cy="4932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3336840" y="3908160"/>
                    <a:ext cx="107280" cy="43560"/>
                  </a:xfrm>
                  <a:prstGeom prst="ellipse">
                    <a:avLst/>
                  </a:prstGeom>
                  <a:solidFill>
                    <a:srgbClr val="cecec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3040920" y="3918600"/>
                    <a:ext cx="4341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236">
                        <a:moveTo>
                          <a:pt x="216" y="23"/>
                        </a:moveTo>
                        <a:lnTo>
                          <a:pt x="244" y="6"/>
                        </a:lnTo>
                        <a:lnTo>
                          <a:pt x="375" y="7"/>
                        </a:lnTo>
                        <a:lnTo>
                          <a:pt x="467" y="0"/>
                        </a:lnTo>
                        <a:lnTo>
                          <a:pt x="584" y="28"/>
                        </a:lnTo>
                        <a:lnTo>
                          <a:pt x="643" y="20"/>
                        </a:lnTo>
                        <a:lnTo>
                          <a:pt x="673" y="23"/>
                        </a:lnTo>
                        <a:lnTo>
                          <a:pt x="681" y="93"/>
                        </a:lnTo>
                        <a:lnTo>
                          <a:pt x="699" y="105"/>
                        </a:lnTo>
                        <a:lnTo>
                          <a:pt x="645" y="158"/>
                        </a:lnTo>
                        <a:lnTo>
                          <a:pt x="585" y="121"/>
                        </a:lnTo>
                        <a:lnTo>
                          <a:pt x="570" y="140"/>
                        </a:lnTo>
                        <a:lnTo>
                          <a:pt x="488" y="214"/>
                        </a:lnTo>
                        <a:lnTo>
                          <a:pt x="210" y="235"/>
                        </a:lnTo>
                        <a:lnTo>
                          <a:pt x="67" y="220"/>
                        </a:lnTo>
                        <a:lnTo>
                          <a:pt x="23" y="174"/>
                        </a:lnTo>
                        <a:lnTo>
                          <a:pt x="23" y="126"/>
                        </a:lnTo>
                        <a:lnTo>
                          <a:pt x="0" y="87"/>
                        </a:lnTo>
                        <a:lnTo>
                          <a:pt x="216" y="23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4" name=""/>
                <p:cNvSpPr/>
                <p:nvPr/>
              </p:nvSpPr>
              <p:spPr>
                <a:xfrm>
                  <a:off x="3022560" y="3921120"/>
                  <a:ext cx="457560" cy="27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ff0033"/>
                      </a:solidFill>
                      <a:latin typeface="Arial"/>
                      <a:ea typeface="華康楷書體W5"/>
                    </a:rPr>
                    <a:t>Interne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2865600" y="4482720"/>
                <a:ext cx="192960" cy="301680"/>
                <a:chOff x="2865600" y="4482720"/>
                <a:chExt cx="192960" cy="301680"/>
              </a:xfrm>
            </p:grpSpPr>
            <p:grpSp>
              <p:nvGrpSpPr>
                <p:cNvPr id="1186" name=""/>
                <p:cNvGrpSpPr/>
                <p:nvPr/>
              </p:nvGrpSpPr>
              <p:grpSpPr>
                <a:xfrm>
                  <a:off x="2865600" y="4713840"/>
                  <a:ext cx="192960" cy="70560"/>
                  <a:chOff x="2865600" y="4713840"/>
                  <a:chExt cx="192960" cy="7056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>
                    <a:off x="2865600" y="4713840"/>
                    <a:ext cx="165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81">
                        <a:moveTo>
                          <a:pt x="20" y="42"/>
                        </a:moveTo>
                        <a:lnTo>
                          <a:pt x="17" y="47"/>
                        </a:lnTo>
                        <a:lnTo>
                          <a:pt x="7" y="53"/>
                        </a:lnTo>
                        <a:lnTo>
                          <a:pt x="2" y="56"/>
                        </a:lnTo>
                        <a:lnTo>
                          <a:pt x="0" y="59"/>
                        </a:lnTo>
                        <a:lnTo>
                          <a:pt x="0" y="62"/>
                        </a:lnTo>
                        <a:lnTo>
                          <a:pt x="2" y="63"/>
                        </a:lnTo>
                        <a:lnTo>
                          <a:pt x="5" y="66"/>
                        </a:lnTo>
                        <a:lnTo>
                          <a:pt x="12" y="68"/>
                        </a:lnTo>
                        <a:lnTo>
                          <a:pt x="19" y="68"/>
                        </a:lnTo>
                        <a:lnTo>
                          <a:pt x="121" y="80"/>
                        </a:lnTo>
                        <a:lnTo>
                          <a:pt x="131" y="81"/>
                        </a:lnTo>
                        <a:lnTo>
                          <a:pt x="139" y="81"/>
                        </a:lnTo>
                        <a:lnTo>
                          <a:pt x="145" y="80"/>
                        </a:lnTo>
                        <a:lnTo>
                          <a:pt x="150" y="80"/>
                        </a:lnTo>
                        <a:lnTo>
                          <a:pt x="153" y="77"/>
                        </a:lnTo>
                        <a:lnTo>
                          <a:pt x="156" y="75"/>
                        </a:lnTo>
                        <a:lnTo>
                          <a:pt x="158" y="74"/>
                        </a:lnTo>
                        <a:lnTo>
                          <a:pt x="191" y="0"/>
                        </a:lnTo>
                        <a:lnTo>
                          <a:pt x="20" y="4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980800" y="4713840"/>
                    <a:ext cx="777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77">
                        <a:moveTo>
                          <a:pt x="0" y="50"/>
                        </a:moveTo>
                        <a:lnTo>
                          <a:pt x="1" y="56"/>
                        </a:lnTo>
                        <a:lnTo>
                          <a:pt x="1" y="59"/>
                        </a:lnTo>
                        <a:lnTo>
                          <a:pt x="3" y="62"/>
                        </a:lnTo>
                        <a:lnTo>
                          <a:pt x="3" y="65"/>
                        </a:lnTo>
                        <a:lnTo>
                          <a:pt x="6" y="69"/>
                        </a:lnTo>
                        <a:lnTo>
                          <a:pt x="10" y="71"/>
                        </a:lnTo>
                        <a:lnTo>
                          <a:pt x="12" y="74"/>
                        </a:lnTo>
                        <a:lnTo>
                          <a:pt x="15" y="75"/>
                        </a:lnTo>
                        <a:lnTo>
                          <a:pt x="18" y="77"/>
                        </a:lnTo>
                        <a:lnTo>
                          <a:pt x="23" y="77"/>
                        </a:lnTo>
                        <a:lnTo>
                          <a:pt x="27" y="72"/>
                        </a:lnTo>
                        <a:lnTo>
                          <a:pt x="90" y="11"/>
                        </a:lnTo>
                        <a:lnTo>
                          <a:pt x="90" y="9"/>
                        </a:lnTo>
                        <a:lnTo>
                          <a:pt x="90" y="8"/>
                        </a:lnTo>
                        <a:lnTo>
                          <a:pt x="90" y="8"/>
                        </a:lnTo>
                        <a:lnTo>
                          <a:pt x="89" y="6"/>
                        </a:lnTo>
                        <a:lnTo>
                          <a:pt x="87" y="6"/>
                        </a:lnTo>
                        <a:lnTo>
                          <a:pt x="85" y="6"/>
                        </a:lnTo>
                        <a:lnTo>
                          <a:pt x="62" y="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9" name=""/>
                <p:cNvSpPr/>
                <p:nvPr/>
              </p:nvSpPr>
              <p:spPr>
                <a:xfrm>
                  <a:off x="2882880" y="4715640"/>
                  <a:ext cx="149760" cy="44280"/>
                </a:xfrm>
                <a:custGeom>
                  <a:avLst/>
                  <a:gdLst/>
                  <a:ahLst/>
                  <a:rect l="l" t="t" r="r" b="b"/>
                  <a:pathLst>
                    <a:path w="173" h="51">
                      <a:moveTo>
                        <a:pt x="173" y="0"/>
                      </a:moveTo>
                      <a:lnTo>
                        <a:pt x="116" y="46"/>
                      </a:lnTo>
                      <a:lnTo>
                        <a:pt x="114" y="48"/>
                      </a:lnTo>
                      <a:lnTo>
                        <a:pt x="111" y="49"/>
                      </a:lnTo>
                      <a:lnTo>
                        <a:pt x="108" y="51"/>
                      </a:lnTo>
                      <a:lnTo>
                        <a:pt x="101" y="49"/>
                      </a:lnTo>
                      <a:lnTo>
                        <a:pt x="0" y="40"/>
                      </a:lnTo>
                      <a:lnTo>
                        <a:pt x="2" y="33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2881800" y="4482720"/>
                  <a:ext cx="150480" cy="275760"/>
                  <a:chOff x="2881800" y="4482720"/>
                  <a:chExt cx="150480" cy="27576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2882520" y="4485240"/>
                    <a:ext cx="14976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13">
                        <a:moveTo>
                          <a:pt x="173" y="0"/>
                        </a:moveTo>
                        <a:lnTo>
                          <a:pt x="173" y="262"/>
                        </a:lnTo>
                        <a:lnTo>
                          <a:pt x="114" y="309"/>
                        </a:lnTo>
                        <a:lnTo>
                          <a:pt x="113" y="310"/>
                        </a:lnTo>
                        <a:lnTo>
                          <a:pt x="111" y="312"/>
                        </a:lnTo>
                        <a:lnTo>
                          <a:pt x="108" y="313"/>
                        </a:lnTo>
                        <a:lnTo>
                          <a:pt x="101" y="312"/>
                        </a:lnTo>
                        <a:lnTo>
                          <a:pt x="5" y="303"/>
                        </a:lnTo>
                        <a:lnTo>
                          <a:pt x="2" y="303"/>
                        </a:lnTo>
                        <a:lnTo>
                          <a:pt x="0" y="301"/>
                        </a:lnTo>
                        <a:lnTo>
                          <a:pt x="0" y="298"/>
                        </a:lnTo>
                        <a:lnTo>
                          <a:pt x="0" y="295"/>
                        </a:lnTo>
                        <a:lnTo>
                          <a:pt x="0" y="10"/>
                        </a:lnTo>
                        <a:lnTo>
                          <a:pt x="104" y="0"/>
                        </a:lnTo>
                        <a:lnTo>
                          <a:pt x="17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3240">
                    <a:solidFill>
                      <a:srgbClr val="e0e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881800" y="4482720"/>
                    <a:ext cx="149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9">
                        <a:moveTo>
                          <a:pt x="1" y="13"/>
                        </a:moveTo>
                        <a:lnTo>
                          <a:pt x="99" y="0"/>
                        </a:lnTo>
                        <a:lnTo>
                          <a:pt x="172" y="3"/>
                        </a:lnTo>
                        <a:lnTo>
                          <a:pt x="105" y="19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13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2880000" y="4493160"/>
                  <a:ext cx="103680" cy="256680"/>
                  <a:chOff x="2880000" y="4493160"/>
                  <a:chExt cx="103680" cy="25668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2880000" y="4493160"/>
                    <a:ext cx="9612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92">
                        <a:moveTo>
                          <a:pt x="2" y="282"/>
                        </a:moveTo>
                        <a:lnTo>
                          <a:pt x="3" y="286"/>
                        </a:lnTo>
                        <a:lnTo>
                          <a:pt x="7" y="286"/>
                        </a:lnTo>
                        <a:lnTo>
                          <a:pt x="10" y="286"/>
                        </a:lnTo>
                        <a:lnTo>
                          <a:pt x="14" y="286"/>
                        </a:lnTo>
                        <a:lnTo>
                          <a:pt x="111" y="292"/>
                        </a:lnTo>
                        <a:lnTo>
                          <a:pt x="111" y="12"/>
                        </a:lnTo>
                        <a:lnTo>
                          <a:pt x="111" y="9"/>
                        </a:lnTo>
                        <a:lnTo>
                          <a:pt x="107" y="7"/>
                        </a:lnTo>
                        <a:lnTo>
                          <a:pt x="106" y="6"/>
                        </a:lnTo>
                        <a:lnTo>
                          <a:pt x="102" y="6"/>
                        </a:lnTo>
                        <a:lnTo>
                          <a:pt x="99" y="6"/>
                        </a:lnTo>
                        <a:lnTo>
                          <a:pt x="24" y="1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lnTo>
                          <a:pt x="0" y="161"/>
                        </a:lnTo>
                        <a:lnTo>
                          <a:pt x="0" y="162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2" y="28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982960" y="4498200"/>
                    <a:ext cx="720" cy="247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974320" y="4496400"/>
                    <a:ext cx="82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88">
                        <a:moveTo>
                          <a:pt x="0" y="288"/>
                        </a:moveTo>
                        <a:lnTo>
                          <a:pt x="10" y="285"/>
                        </a:lnTo>
                        <a:lnTo>
                          <a:pt x="10" y="0"/>
                        </a:lnTo>
                        <a:lnTo>
                          <a:pt x="0" y="3"/>
                        </a:lnTo>
                        <a:lnTo>
                          <a:pt x="0" y="288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880000" y="4615200"/>
                    <a:ext cx="96120" cy="50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880000" y="4629960"/>
                    <a:ext cx="96120" cy="68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2886840" y="4636440"/>
                    <a:ext cx="88920" cy="113400"/>
                    <a:chOff x="2886840" y="4636440"/>
                    <a:chExt cx="88920" cy="11340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2886840" y="4740480"/>
                      <a:ext cx="88920" cy="7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V="1">
                      <a:off x="2965320" y="46425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>
                      <a:off x="2888280" y="463644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2891880" y="463644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289440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289872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290124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291348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2904840" y="46371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290736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2909880" y="463716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2916000" y="46389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291852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292212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292644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2928960" y="463896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293328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2935800" y="46396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2939400" y="463968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V="1">
                      <a:off x="2941920" y="4639680"/>
                      <a:ext cx="720" cy="1072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2945160" y="46414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2948040" y="464148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295236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295488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V="1">
                      <a:off x="2958480" y="4641480"/>
                      <a:ext cx="720" cy="1065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2961000" y="4642560"/>
                      <a:ext cx="72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6" name=""/>
                  <p:cNvSpPr/>
                  <p:nvPr/>
                </p:nvSpPr>
                <p:spPr>
                  <a:xfrm>
                    <a:off x="2880000" y="4517280"/>
                    <a:ext cx="96120" cy="5040"/>
                  </a:xfrm>
                  <a:prstGeom prst="line">
                    <a:avLst/>
                  </a:prstGeom>
                  <a:ln w="324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880000" y="4634640"/>
                    <a:ext cx="94320" cy="68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2889360" y="4502520"/>
                    <a:ext cx="77400" cy="14400"/>
                    <a:chOff x="2889360" y="4502520"/>
                    <a:chExt cx="77400" cy="14400"/>
                  </a:xfrm>
                </p:grpSpPr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2889360" y="4502520"/>
                      <a:ext cx="8280" cy="8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2906280" y="4502520"/>
                      <a:ext cx="8280" cy="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>
                      <a:off x="2925360" y="4503960"/>
                      <a:ext cx="8280" cy="8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2958480" y="4503960"/>
                      <a:ext cx="828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5">
                          <a:moveTo>
                            <a:pt x="0" y="0"/>
                          </a:moveTo>
                          <a:lnTo>
                            <a:pt x="10" y="2"/>
                          </a:lnTo>
                          <a:lnTo>
                            <a:pt x="10" y="15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2880000" y="4533120"/>
                    <a:ext cx="96120" cy="72360"/>
                    <a:chOff x="2880000" y="4533120"/>
                    <a:chExt cx="96120" cy="7236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2880000" y="4533120"/>
                      <a:ext cx="961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2880000" y="4549680"/>
                      <a:ext cx="96120" cy="504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2880000" y="4581000"/>
                      <a:ext cx="943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2880000" y="4598640"/>
                      <a:ext cx="96120" cy="684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2880000" y="4566240"/>
                      <a:ext cx="96120" cy="612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2886840" y="4533840"/>
                      <a:ext cx="78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6">
                          <a:moveTo>
                            <a:pt x="0" y="0"/>
                          </a:moveTo>
                          <a:lnTo>
                            <a:pt x="0" y="20"/>
                          </a:lnTo>
                          <a:lnTo>
                            <a:pt x="91" y="26"/>
                          </a:lnTo>
                          <a:lnTo>
                            <a:pt x="91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2886840" y="4551480"/>
                      <a:ext cx="78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4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91" y="24"/>
                          </a:lnTo>
                          <a:lnTo>
                            <a:pt x="91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2886840" y="4566960"/>
                      <a:ext cx="78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4">
                          <a:moveTo>
                            <a:pt x="0" y="0"/>
                          </a:moveTo>
                          <a:lnTo>
                            <a:pt x="0" y="18"/>
                          </a:lnTo>
                          <a:lnTo>
                            <a:pt x="91" y="24"/>
                          </a:lnTo>
                          <a:lnTo>
                            <a:pt x="91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2886840" y="4582800"/>
                      <a:ext cx="7848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25">
                          <a:moveTo>
                            <a:pt x="0" y="0"/>
                          </a:moveTo>
                          <a:lnTo>
                            <a:pt x="0" y="19"/>
                          </a:lnTo>
                          <a:lnTo>
                            <a:pt x="91" y="25"/>
                          </a:lnTo>
                          <a:lnTo>
                            <a:pt x="91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324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2894400" y="4539240"/>
                      <a:ext cx="62280" cy="28440"/>
                      <a:chOff x="2894400" y="4539240"/>
                      <a:chExt cx="62280" cy="28440"/>
                    </a:xfrm>
                  </p:grpSpPr>
                  <p:sp>
                    <p:nvSpPr>
                      <p:cNvPr id="1244" name=""/>
                      <p:cNvSpPr/>
                      <p:nvPr/>
                    </p:nvSpPr>
                    <p:spPr>
                      <a:xfrm>
                        <a:off x="2944440" y="4541760"/>
                        <a:ext cx="360" cy="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2901240" y="4554000"/>
                        <a:ext cx="482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2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2904480" y="4559400"/>
                        <a:ext cx="432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6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50" y="6"/>
                            </a:lnTo>
                            <a:lnTo>
                              <a:pt x="50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324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2933280" y="4564440"/>
                        <a:ext cx="144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">
                            <a:moveTo>
                              <a:pt x="0" y="0"/>
                            </a:moveTo>
                            <a:lnTo>
                              <a:pt x="17" y="1"/>
                            </a:lnTo>
                            <a:lnTo>
                              <a:pt x="17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2905560" y="4539240"/>
                        <a:ext cx="352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4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41" y="14"/>
                            </a:lnTo>
                            <a:lnTo>
                              <a:pt x="41" y="2"/>
                            </a:lnTo>
                            <a:lnTo>
                              <a:pt x="22" y="0"/>
                            </a:lnTo>
                            <a:lnTo>
                              <a:pt x="20" y="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" name=""/>
                      <p:cNvSpPr/>
                      <p:nvPr/>
                    </p:nvSpPr>
                    <p:spPr>
                      <a:xfrm>
                        <a:off x="2894400" y="4541760"/>
                        <a:ext cx="622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6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2" y="2"/>
                            </a:lnTo>
                            <a:lnTo>
                              <a:pt x="3" y="2"/>
                            </a:lnTo>
                            <a:lnTo>
                              <a:pt x="70" y="6"/>
                            </a:lnTo>
                            <a:lnTo>
                              <a:pt x="72" y="6"/>
                            </a:lnTo>
                            <a:lnTo>
                              <a:pt x="72" y="5"/>
                            </a:lnTo>
                            <a:lnTo>
                              <a:pt x="70" y="5"/>
                            </a:lnTo>
                            <a:lnTo>
                              <a:pt x="69" y="5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50" name=""/>
              <p:cNvSpPr/>
              <p:nvPr/>
            </p:nvSpPr>
            <p:spPr>
              <a:xfrm flipV="1">
                <a:off x="3042720" y="4467240"/>
                <a:ext cx="2134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3968600">
                <a:off x="2576520" y="3943080"/>
                <a:ext cx="577440" cy="97560"/>
              </a:xfrm>
              <a:custGeom>
                <a:avLst/>
                <a:gdLst/>
                <a:ahLst/>
                <a:rect l="l" t="t" r="r" b="b"/>
                <a:pathLst>
                  <a:path w="2005" h="82">
                    <a:moveTo>
                      <a:pt x="2004" y="5"/>
                    </a:moveTo>
                    <a:lnTo>
                      <a:pt x="916" y="0"/>
                    </a:lnTo>
                    <a:lnTo>
                      <a:pt x="997" y="63"/>
                    </a:lnTo>
                    <a:lnTo>
                      <a:pt x="0" y="76"/>
                    </a:lnTo>
                    <a:lnTo>
                      <a:pt x="1090" y="81"/>
                    </a:lnTo>
                    <a:lnTo>
                      <a:pt x="1013" y="18"/>
                    </a:lnTo>
                    <a:lnTo>
                      <a:pt x="2004" y="5"/>
                    </a:lnTo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7509800">
                <a:off x="3236040" y="3829680"/>
                <a:ext cx="611640" cy="113760"/>
              </a:xfrm>
              <a:custGeom>
                <a:avLst/>
                <a:gdLst/>
                <a:ahLst/>
                <a:rect l="l" t="t" r="r" b="b"/>
                <a:pathLst>
                  <a:path w="2005" h="82">
                    <a:moveTo>
                      <a:pt x="2004" y="5"/>
                    </a:moveTo>
                    <a:lnTo>
                      <a:pt x="916" y="0"/>
                    </a:lnTo>
                    <a:lnTo>
                      <a:pt x="997" y="63"/>
                    </a:lnTo>
                    <a:lnTo>
                      <a:pt x="0" y="76"/>
                    </a:lnTo>
                    <a:lnTo>
                      <a:pt x="1090" y="81"/>
                    </a:lnTo>
                    <a:lnTo>
                      <a:pt x="1013" y="18"/>
                    </a:lnTo>
                    <a:lnTo>
                      <a:pt x="2004" y="5"/>
                    </a:lnTo>
                  </a:path>
                </a:pathLst>
              </a:custGeom>
              <a:solidFill>
                <a:srgbClr val="ffcc00"/>
              </a:solidFill>
              <a:ln cap="rnd"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05520" y="4496040"/>
                <a:ext cx="464040" cy="258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4" name="" descr=""/>
            <p:cNvPicPr/>
            <p:nvPr/>
          </p:nvPicPr>
          <p:blipFill>
            <a:blip r:embed="rId7"/>
            <a:stretch/>
          </p:blipFill>
          <p:spPr>
            <a:xfrm flipH="1">
              <a:off x="2117520" y="3086280"/>
              <a:ext cx="898200" cy="53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5" name=""/>
            <p:cNvGrpSpPr/>
            <p:nvPr/>
          </p:nvGrpSpPr>
          <p:grpSpPr>
            <a:xfrm>
              <a:off x="2739960" y="2751120"/>
              <a:ext cx="830160" cy="736200"/>
              <a:chOff x="2739960" y="2751120"/>
              <a:chExt cx="830160" cy="73620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2779200" y="2751120"/>
                <a:ext cx="419040" cy="337680"/>
                <a:chOff x="2779200" y="2751120"/>
                <a:chExt cx="419040" cy="337680"/>
              </a:xfrm>
            </p:grpSpPr>
            <p:grpSp>
              <p:nvGrpSpPr>
                <p:cNvPr id="1257" name=""/>
                <p:cNvGrpSpPr/>
                <p:nvPr/>
              </p:nvGrpSpPr>
              <p:grpSpPr>
                <a:xfrm>
                  <a:off x="2779200" y="2751120"/>
                  <a:ext cx="395640" cy="337680"/>
                  <a:chOff x="2779200" y="2751120"/>
                  <a:chExt cx="395640" cy="33768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2887200" y="2751120"/>
                    <a:ext cx="124920" cy="118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2779200" y="2890080"/>
                    <a:ext cx="395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1" h="589">
                        <a:moveTo>
                          <a:pt x="199" y="589"/>
                        </a:moveTo>
                        <a:lnTo>
                          <a:pt x="742" y="589"/>
                        </a:lnTo>
                        <a:lnTo>
                          <a:pt x="648" y="211"/>
                        </a:lnTo>
                        <a:lnTo>
                          <a:pt x="687" y="211"/>
                        </a:lnTo>
                        <a:lnTo>
                          <a:pt x="744" y="432"/>
                        </a:lnTo>
                        <a:lnTo>
                          <a:pt x="750" y="446"/>
                        </a:lnTo>
                        <a:lnTo>
                          <a:pt x="757" y="457"/>
                        </a:lnTo>
                        <a:lnTo>
                          <a:pt x="766" y="466"/>
                        </a:lnTo>
                        <a:lnTo>
                          <a:pt x="777" y="473"/>
                        </a:lnTo>
                        <a:lnTo>
                          <a:pt x="787" y="478"/>
                        </a:lnTo>
                        <a:lnTo>
                          <a:pt x="800" y="482"/>
                        </a:lnTo>
                        <a:lnTo>
                          <a:pt x="815" y="482"/>
                        </a:lnTo>
                        <a:lnTo>
                          <a:pt x="826" y="481"/>
                        </a:lnTo>
                        <a:lnTo>
                          <a:pt x="836" y="477"/>
                        </a:lnTo>
                        <a:lnTo>
                          <a:pt x="845" y="472"/>
                        </a:lnTo>
                        <a:lnTo>
                          <a:pt x="852" y="463"/>
                        </a:lnTo>
                        <a:lnTo>
                          <a:pt x="862" y="458"/>
                        </a:lnTo>
                        <a:lnTo>
                          <a:pt x="1098" y="197"/>
                        </a:lnTo>
                        <a:lnTo>
                          <a:pt x="1102" y="191"/>
                        </a:lnTo>
                        <a:lnTo>
                          <a:pt x="1107" y="182"/>
                        </a:lnTo>
                        <a:lnTo>
                          <a:pt x="1111" y="166"/>
                        </a:lnTo>
                        <a:lnTo>
                          <a:pt x="1111" y="151"/>
                        </a:lnTo>
                        <a:lnTo>
                          <a:pt x="1111" y="139"/>
                        </a:lnTo>
                        <a:lnTo>
                          <a:pt x="1107" y="128"/>
                        </a:lnTo>
                        <a:lnTo>
                          <a:pt x="1102" y="116"/>
                        </a:lnTo>
                        <a:lnTo>
                          <a:pt x="1095" y="106"/>
                        </a:lnTo>
                        <a:lnTo>
                          <a:pt x="1087" y="96"/>
                        </a:lnTo>
                        <a:lnTo>
                          <a:pt x="1076" y="90"/>
                        </a:lnTo>
                        <a:lnTo>
                          <a:pt x="1064" y="84"/>
                        </a:lnTo>
                        <a:lnTo>
                          <a:pt x="1051" y="80"/>
                        </a:lnTo>
                        <a:lnTo>
                          <a:pt x="1039" y="80"/>
                        </a:lnTo>
                        <a:lnTo>
                          <a:pt x="1027" y="83"/>
                        </a:lnTo>
                        <a:lnTo>
                          <a:pt x="1016" y="86"/>
                        </a:lnTo>
                        <a:lnTo>
                          <a:pt x="1006" y="91"/>
                        </a:lnTo>
                        <a:lnTo>
                          <a:pt x="998" y="99"/>
                        </a:lnTo>
                        <a:lnTo>
                          <a:pt x="847" y="270"/>
                        </a:lnTo>
                        <a:lnTo>
                          <a:pt x="803" y="79"/>
                        </a:lnTo>
                        <a:lnTo>
                          <a:pt x="800" y="66"/>
                        </a:lnTo>
                        <a:lnTo>
                          <a:pt x="798" y="54"/>
                        </a:lnTo>
                        <a:lnTo>
                          <a:pt x="794" y="45"/>
                        </a:lnTo>
                        <a:lnTo>
                          <a:pt x="788" y="35"/>
                        </a:lnTo>
                        <a:lnTo>
                          <a:pt x="781" y="27"/>
                        </a:lnTo>
                        <a:lnTo>
                          <a:pt x="773" y="19"/>
                        </a:lnTo>
                        <a:lnTo>
                          <a:pt x="765" y="12"/>
                        </a:lnTo>
                        <a:lnTo>
                          <a:pt x="754" y="6"/>
                        </a:lnTo>
                        <a:lnTo>
                          <a:pt x="743" y="2"/>
                        </a:lnTo>
                        <a:lnTo>
                          <a:pt x="731" y="0"/>
                        </a:lnTo>
                        <a:lnTo>
                          <a:pt x="214" y="0"/>
                        </a:lnTo>
                        <a:lnTo>
                          <a:pt x="198" y="5"/>
                        </a:lnTo>
                        <a:lnTo>
                          <a:pt x="184" y="9"/>
                        </a:lnTo>
                        <a:lnTo>
                          <a:pt x="174" y="16"/>
                        </a:lnTo>
                        <a:lnTo>
                          <a:pt x="166" y="21"/>
                        </a:lnTo>
                        <a:lnTo>
                          <a:pt x="157" y="32"/>
                        </a:lnTo>
                        <a:lnTo>
                          <a:pt x="150" y="42"/>
                        </a:lnTo>
                        <a:lnTo>
                          <a:pt x="146" y="53"/>
                        </a:lnTo>
                        <a:lnTo>
                          <a:pt x="140" y="65"/>
                        </a:lnTo>
                        <a:lnTo>
                          <a:pt x="0" y="589"/>
                        </a:lnTo>
                        <a:lnTo>
                          <a:pt x="151" y="589"/>
                        </a:lnTo>
                        <a:lnTo>
                          <a:pt x="249" y="214"/>
                        </a:lnTo>
                        <a:lnTo>
                          <a:pt x="293" y="214"/>
                        </a:lnTo>
                        <a:lnTo>
                          <a:pt x="199" y="5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3136320" y="2809800"/>
                  <a:ext cx="61920" cy="11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2739960" y="2751120"/>
                <a:ext cx="830160" cy="736200"/>
                <a:chOff x="2739960" y="2751120"/>
                <a:chExt cx="830160" cy="736200"/>
              </a:xfrm>
            </p:grpSpPr>
            <p:grpSp>
              <p:nvGrpSpPr>
                <p:cNvPr id="1262" name=""/>
                <p:cNvGrpSpPr/>
                <p:nvPr/>
              </p:nvGrpSpPr>
              <p:grpSpPr>
                <a:xfrm>
                  <a:off x="3144240" y="2751120"/>
                  <a:ext cx="381600" cy="736200"/>
                  <a:chOff x="3144240" y="2751120"/>
                  <a:chExt cx="381600" cy="736200"/>
                </a:xfrm>
              </p:grpSpPr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3144240" y="2751120"/>
                    <a:ext cx="381600" cy="354240"/>
                    <a:chOff x="3144240" y="2751120"/>
                    <a:chExt cx="381600" cy="354240"/>
                  </a:xfrm>
                </p:grpSpPr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3144240" y="2890080"/>
                      <a:ext cx="381600" cy="21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0" h="637">
                          <a:moveTo>
                            <a:pt x="486" y="637"/>
                          </a:moveTo>
                          <a:lnTo>
                            <a:pt x="1070" y="637"/>
                          </a:lnTo>
                          <a:lnTo>
                            <a:pt x="1070" y="115"/>
                          </a:lnTo>
                          <a:lnTo>
                            <a:pt x="1067" y="100"/>
                          </a:lnTo>
                          <a:lnTo>
                            <a:pt x="1062" y="83"/>
                          </a:lnTo>
                          <a:lnTo>
                            <a:pt x="1056" y="67"/>
                          </a:lnTo>
                          <a:lnTo>
                            <a:pt x="1047" y="52"/>
                          </a:lnTo>
                          <a:lnTo>
                            <a:pt x="1037" y="41"/>
                          </a:lnTo>
                          <a:lnTo>
                            <a:pt x="1026" y="30"/>
                          </a:lnTo>
                          <a:lnTo>
                            <a:pt x="1015" y="19"/>
                          </a:lnTo>
                          <a:lnTo>
                            <a:pt x="1002" y="12"/>
                          </a:lnTo>
                          <a:lnTo>
                            <a:pt x="988" y="7"/>
                          </a:lnTo>
                          <a:lnTo>
                            <a:pt x="972" y="1"/>
                          </a:lnTo>
                          <a:lnTo>
                            <a:pt x="953" y="0"/>
                          </a:lnTo>
                          <a:lnTo>
                            <a:pt x="487" y="0"/>
                          </a:lnTo>
                          <a:lnTo>
                            <a:pt x="463" y="0"/>
                          </a:lnTo>
                          <a:lnTo>
                            <a:pt x="442" y="0"/>
                          </a:lnTo>
                          <a:lnTo>
                            <a:pt x="425" y="4"/>
                          </a:lnTo>
                          <a:lnTo>
                            <a:pt x="410" y="11"/>
                          </a:lnTo>
                          <a:lnTo>
                            <a:pt x="395" y="24"/>
                          </a:lnTo>
                          <a:lnTo>
                            <a:pt x="381" y="40"/>
                          </a:lnTo>
                          <a:lnTo>
                            <a:pt x="370" y="56"/>
                          </a:lnTo>
                          <a:lnTo>
                            <a:pt x="22" y="462"/>
                          </a:lnTo>
                          <a:lnTo>
                            <a:pt x="14" y="472"/>
                          </a:lnTo>
                          <a:lnTo>
                            <a:pt x="9" y="483"/>
                          </a:lnTo>
                          <a:lnTo>
                            <a:pt x="3" y="494"/>
                          </a:lnTo>
                          <a:lnTo>
                            <a:pt x="0" y="509"/>
                          </a:lnTo>
                          <a:lnTo>
                            <a:pt x="0" y="517"/>
                          </a:lnTo>
                          <a:lnTo>
                            <a:pt x="0" y="531"/>
                          </a:lnTo>
                          <a:lnTo>
                            <a:pt x="5" y="543"/>
                          </a:lnTo>
                          <a:lnTo>
                            <a:pt x="10" y="556"/>
                          </a:lnTo>
                          <a:lnTo>
                            <a:pt x="18" y="569"/>
                          </a:lnTo>
                          <a:lnTo>
                            <a:pt x="28" y="580"/>
                          </a:lnTo>
                          <a:lnTo>
                            <a:pt x="41" y="589"/>
                          </a:lnTo>
                          <a:lnTo>
                            <a:pt x="55" y="595"/>
                          </a:lnTo>
                          <a:lnTo>
                            <a:pt x="69" y="597"/>
                          </a:lnTo>
                          <a:lnTo>
                            <a:pt x="84" y="600"/>
                          </a:lnTo>
                          <a:lnTo>
                            <a:pt x="97" y="599"/>
                          </a:lnTo>
                          <a:lnTo>
                            <a:pt x="111" y="595"/>
                          </a:lnTo>
                          <a:lnTo>
                            <a:pt x="127" y="588"/>
                          </a:lnTo>
                          <a:lnTo>
                            <a:pt x="138" y="580"/>
                          </a:lnTo>
                          <a:lnTo>
                            <a:pt x="149" y="569"/>
                          </a:lnTo>
                          <a:lnTo>
                            <a:pt x="486" y="172"/>
                          </a:lnTo>
                          <a:lnTo>
                            <a:pt x="486" y="6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3344040" y="2751120"/>
                      <a:ext cx="123840" cy="118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3337560" y="3167640"/>
                    <a:ext cx="171720" cy="319680"/>
                    <a:chOff x="3337560" y="3167640"/>
                    <a:chExt cx="171720" cy="319680"/>
                  </a:xfrm>
                </p:grpSpPr>
                <p:grpSp>
                  <p:nvGrpSpPr>
                    <p:cNvPr id="1267" name=""/>
                    <p:cNvGrpSpPr/>
                    <p:nvPr/>
                  </p:nvGrpSpPr>
                  <p:grpSpPr>
                    <a:xfrm>
                      <a:off x="3433680" y="3167640"/>
                      <a:ext cx="75600" cy="319680"/>
                      <a:chOff x="3433680" y="3167640"/>
                      <a:chExt cx="75600" cy="319680"/>
                    </a:xfrm>
                  </p:grpSpPr>
                  <p:sp>
                    <p:nvSpPr>
                      <p:cNvPr id="1268" name=""/>
                      <p:cNvSpPr/>
                      <p:nvPr/>
                    </p:nvSpPr>
                    <p:spPr>
                      <a:xfrm>
                        <a:off x="3433680" y="3167640"/>
                        <a:ext cx="75600" cy="2883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9" name=""/>
                      <p:cNvSpPr/>
                      <p:nvPr/>
                    </p:nvSpPr>
                    <p:spPr>
                      <a:xfrm>
                        <a:off x="3433680" y="3422520"/>
                        <a:ext cx="75600" cy="648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70" name=""/>
                    <p:cNvGrpSpPr/>
                    <p:nvPr/>
                  </p:nvGrpSpPr>
                  <p:grpSpPr>
                    <a:xfrm>
                      <a:off x="3337560" y="3167640"/>
                      <a:ext cx="75600" cy="319680"/>
                      <a:chOff x="3337560" y="3167640"/>
                      <a:chExt cx="75600" cy="319680"/>
                    </a:xfrm>
                  </p:grpSpPr>
                  <p:sp>
                    <p:nvSpPr>
                      <p:cNvPr id="1271" name=""/>
                      <p:cNvSpPr/>
                      <p:nvPr/>
                    </p:nvSpPr>
                    <p:spPr>
                      <a:xfrm>
                        <a:off x="3337560" y="3167640"/>
                        <a:ext cx="75600" cy="287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3337560" y="3421440"/>
                        <a:ext cx="75600" cy="65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" bIns="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73" name=""/>
                <p:cNvSpPr/>
                <p:nvPr/>
              </p:nvSpPr>
              <p:spPr>
                <a:xfrm>
                  <a:off x="2739960" y="3105720"/>
                  <a:ext cx="83016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4" name=""/>
            <p:cNvSpPr/>
            <p:nvPr/>
          </p:nvSpPr>
          <p:spPr>
            <a:xfrm>
              <a:off x="2187720" y="2336760"/>
              <a:ext cx="207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通費率合理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5" name="" descr=""/>
            <p:cNvPicPr/>
            <p:nvPr/>
          </p:nvPicPr>
          <p:blipFill>
            <a:blip r:embed="rId8"/>
            <a:stretch/>
          </p:blipFill>
          <p:spPr>
            <a:xfrm>
              <a:off x="4898880" y="3787920"/>
              <a:ext cx="1435320" cy="7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9"/>
            <a:stretch/>
          </p:blipFill>
          <p:spPr>
            <a:xfrm>
              <a:off x="4745160" y="4122720"/>
              <a:ext cx="7761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895480" y="4768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運輸作業電子化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22680" y="4768920"/>
              <a:ext cx="16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運輸法規現代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195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1480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7200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292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86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4360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24280" y="152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29200" y="22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10080" y="30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1320" y="457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00800" y="914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0572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3888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31520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152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934320" y="144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866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1520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1629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809880" y="152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429000" y="22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8120" y="38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666880" y="53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623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5740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28800" y="137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600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447920" y="20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7160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33020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71600" y="3200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479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四  強化交通運輸安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762120" y="304920"/>
            <a:ext cx="7656480" cy="5630760"/>
            <a:chOff x="762120" y="304920"/>
            <a:chExt cx="7656480" cy="5630760"/>
          </a:xfrm>
        </p:grpSpPr>
        <p:sp>
          <p:nvSpPr>
            <p:cNvPr id="1316" name=""/>
            <p:cNvSpPr/>
            <p:nvPr/>
          </p:nvSpPr>
          <p:spPr>
            <a:xfrm>
              <a:off x="762120" y="304920"/>
              <a:ext cx="7656480" cy="5616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24080" y="1828800"/>
              <a:ext cx="2895840" cy="259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91080" y="30492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91080" y="4406760"/>
              <a:ext cx="1440" cy="152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62120" y="311292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9920" y="3112920"/>
              <a:ext cx="239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5867280" y="1143000"/>
              <a:ext cx="2087280" cy="1353600"/>
              <a:chOff x="5867280" y="1143000"/>
              <a:chExt cx="2087280" cy="1353600"/>
            </a:xfrm>
          </p:grpSpPr>
          <p:pic>
            <p:nvPicPr>
              <p:cNvPr id="13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67280" y="1143000"/>
                <a:ext cx="1527840" cy="13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49760" y="1642680"/>
                <a:ext cx="604800" cy="853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5" name="" descr=""/>
            <p:cNvPicPr/>
            <p:nvPr/>
          </p:nvPicPr>
          <p:blipFill>
            <a:blip r:embed="rId3"/>
            <a:stretch/>
          </p:blipFill>
          <p:spPr>
            <a:xfrm>
              <a:off x="1171440" y="3554280"/>
              <a:ext cx="1555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4"/>
            <a:stretch/>
          </p:blipFill>
          <p:spPr>
            <a:xfrm>
              <a:off x="2057400" y="4038480"/>
              <a:ext cx="1492200" cy="12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7" name=""/>
            <p:cNvGrpSpPr/>
            <p:nvPr/>
          </p:nvGrpSpPr>
          <p:grpSpPr>
            <a:xfrm>
              <a:off x="1371600" y="2057400"/>
              <a:ext cx="1600200" cy="990720"/>
              <a:chOff x="1371600" y="2057400"/>
              <a:chExt cx="1600200" cy="990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1371600" y="2057400"/>
                <a:ext cx="1600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4b4b4"/>
                  </a:gs>
                  <a:gs pos="50000">
                    <a:srgbClr val="dddddd"/>
                  </a:gs>
                  <a:gs pos="100000">
                    <a:srgbClr val="b4b4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9" name=""/>
              <p:cNvGrpSpPr/>
              <p:nvPr/>
            </p:nvGrpSpPr>
            <p:grpSpPr>
              <a:xfrm>
                <a:off x="2109240" y="2387880"/>
                <a:ext cx="657000" cy="453600"/>
                <a:chOff x="2109240" y="2387880"/>
                <a:chExt cx="657000" cy="4536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109240" y="2777040"/>
                  <a:ext cx="111240" cy="64440"/>
                </a:xfrm>
                <a:custGeom>
                  <a:avLst/>
                  <a:gdLst/>
                  <a:ahLst/>
                  <a:rect l="l" t="t" r="r" b="b"/>
                  <a:pathLst>
                    <a:path w="608" h="414">
                      <a:moveTo>
                        <a:pt x="0" y="414"/>
                      </a:moveTo>
                      <a:lnTo>
                        <a:pt x="233" y="0"/>
                      </a:lnTo>
                      <a:lnTo>
                        <a:pt x="608" y="0"/>
                      </a:lnTo>
                      <a:lnTo>
                        <a:pt x="401" y="414"/>
                      </a:lnTo>
                      <a:lnTo>
                        <a:pt x="0" y="4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294640" y="2777040"/>
                  <a:ext cx="91800" cy="64440"/>
                </a:xfrm>
                <a:custGeom>
                  <a:avLst/>
                  <a:gdLst/>
                  <a:ahLst/>
                  <a:rect l="l" t="t" r="r" b="b"/>
                  <a:pathLst>
                    <a:path w="501" h="414">
                      <a:moveTo>
                        <a:pt x="0" y="414"/>
                      </a:moveTo>
                      <a:lnTo>
                        <a:pt x="440" y="414"/>
                      </a:lnTo>
                      <a:lnTo>
                        <a:pt x="501" y="0"/>
                      </a:lnTo>
                      <a:lnTo>
                        <a:pt x="246" y="0"/>
                      </a:lnTo>
                      <a:lnTo>
                        <a:pt x="48" y="281"/>
                      </a:lnTo>
                      <a:lnTo>
                        <a:pt x="0" y="4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482560" y="2777040"/>
                  <a:ext cx="96480" cy="64440"/>
                </a:xfrm>
                <a:custGeom>
                  <a:avLst/>
                  <a:gdLst/>
                  <a:ahLst/>
                  <a:rect l="l" t="t" r="r" b="b"/>
                  <a:pathLst>
                    <a:path w="526" h="414">
                      <a:moveTo>
                        <a:pt x="0" y="0"/>
                      </a:moveTo>
                      <a:lnTo>
                        <a:pt x="77" y="414"/>
                      </a:lnTo>
                      <a:lnTo>
                        <a:pt x="526" y="414"/>
                      </a:lnTo>
                      <a:lnTo>
                        <a:pt x="409" y="250"/>
                      </a:lnTo>
                      <a:lnTo>
                        <a:pt x="323" y="237"/>
                      </a:lnTo>
                      <a:lnTo>
                        <a:pt x="263" y="199"/>
                      </a:lnTo>
                      <a:lnTo>
                        <a:pt x="237" y="151"/>
                      </a:lnTo>
                      <a:lnTo>
                        <a:pt x="254" y="108"/>
                      </a:lnTo>
                      <a:lnTo>
                        <a:pt x="293" y="65"/>
                      </a:lnTo>
                      <a:lnTo>
                        <a:pt x="2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258640" y="2387880"/>
                  <a:ext cx="336600" cy="417600"/>
                </a:xfrm>
                <a:custGeom>
                  <a:avLst/>
                  <a:gdLst/>
                  <a:ahLst/>
                  <a:rect l="l" t="t" r="r" b="b"/>
                  <a:pathLst>
                    <a:path w="1829" h="2675">
                      <a:moveTo>
                        <a:pt x="9" y="2464"/>
                      </a:moveTo>
                      <a:lnTo>
                        <a:pt x="0" y="2421"/>
                      </a:lnTo>
                      <a:lnTo>
                        <a:pt x="60" y="2429"/>
                      </a:lnTo>
                      <a:lnTo>
                        <a:pt x="138" y="2421"/>
                      </a:lnTo>
                      <a:lnTo>
                        <a:pt x="229" y="2352"/>
                      </a:lnTo>
                      <a:lnTo>
                        <a:pt x="380" y="2110"/>
                      </a:lnTo>
                      <a:lnTo>
                        <a:pt x="595" y="1752"/>
                      </a:lnTo>
                      <a:lnTo>
                        <a:pt x="712" y="1562"/>
                      </a:lnTo>
                      <a:lnTo>
                        <a:pt x="790" y="1394"/>
                      </a:lnTo>
                      <a:lnTo>
                        <a:pt x="803" y="1307"/>
                      </a:lnTo>
                      <a:lnTo>
                        <a:pt x="803" y="1200"/>
                      </a:lnTo>
                      <a:lnTo>
                        <a:pt x="777" y="1135"/>
                      </a:lnTo>
                      <a:lnTo>
                        <a:pt x="738" y="1096"/>
                      </a:lnTo>
                      <a:lnTo>
                        <a:pt x="699" y="1096"/>
                      </a:lnTo>
                      <a:lnTo>
                        <a:pt x="647" y="1122"/>
                      </a:lnTo>
                      <a:lnTo>
                        <a:pt x="570" y="1187"/>
                      </a:lnTo>
                      <a:lnTo>
                        <a:pt x="466" y="1251"/>
                      </a:lnTo>
                      <a:lnTo>
                        <a:pt x="401" y="1290"/>
                      </a:lnTo>
                      <a:lnTo>
                        <a:pt x="350" y="1303"/>
                      </a:lnTo>
                      <a:lnTo>
                        <a:pt x="315" y="1286"/>
                      </a:lnTo>
                      <a:lnTo>
                        <a:pt x="298" y="1260"/>
                      </a:lnTo>
                      <a:lnTo>
                        <a:pt x="306" y="1230"/>
                      </a:lnTo>
                      <a:lnTo>
                        <a:pt x="319" y="1200"/>
                      </a:lnTo>
                      <a:lnTo>
                        <a:pt x="388" y="1135"/>
                      </a:lnTo>
                      <a:lnTo>
                        <a:pt x="518" y="1044"/>
                      </a:lnTo>
                      <a:lnTo>
                        <a:pt x="582" y="992"/>
                      </a:lnTo>
                      <a:lnTo>
                        <a:pt x="634" y="915"/>
                      </a:lnTo>
                      <a:lnTo>
                        <a:pt x="660" y="798"/>
                      </a:lnTo>
                      <a:lnTo>
                        <a:pt x="673" y="682"/>
                      </a:lnTo>
                      <a:lnTo>
                        <a:pt x="699" y="630"/>
                      </a:lnTo>
                      <a:lnTo>
                        <a:pt x="738" y="578"/>
                      </a:lnTo>
                      <a:lnTo>
                        <a:pt x="794" y="522"/>
                      </a:lnTo>
                      <a:lnTo>
                        <a:pt x="824" y="483"/>
                      </a:lnTo>
                      <a:lnTo>
                        <a:pt x="828" y="436"/>
                      </a:lnTo>
                      <a:lnTo>
                        <a:pt x="803" y="371"/>
                      </a:lnTo>
                      <a:lnTo>
                        <a:pt x="777" y="332"/>
                      </a:lnTo>
                      <a:lnTo>
                        <a:pt x="751" y="293"/>
                      </a:lnTo>
                      <a:lnTo>
                        <a:pt x="738" y="216"/>
                      </a:lnTo>
                      <a:lnTo>
                        <a:pt x="751" y="138"/>
                      </a:lnTo>
                      <a:lnTo>
                        <a:pt x="772" y="82"/>
                      </a:lnTo>
                      <a:lnTo>
                        <a:pt x="807" y="39"/>
                      </a:lnTo>
                      <a:lnTo>
                        <a:pt x="854" y="9"/>
                      </a:lnTo>
                      <a:lnTo>
                        <a:pt x="936" y="0"/>
                      </a:lnTo>
                      <a:lnTo>
                        <a:pt x="997" y="22"/>
                      </a:lnTo>
                      <a:lnTo>
                        <a:pt x="1035" y="56"/>
                      </a:lnTo>
                      <a:lnTo>
                        <a:pt x="1061" y="112"/>
                      </a:lnTo>
                      <a:lnTo>
                        <a:pt x="1066" y="160"/>
                      </a:lnTo>
                      <a:lnTo>
                        <a:pt x="1061" y="203"/>
                      </a:lnTo>
                      <a:lnTo>
                        <a:pt x="1035" y="280"/>
                      </a:lnTo>
                      <a:lnTo>
                        <a:pt x="1023" y="319"/>
                      </a:lnTo>
                      <a:lnTo>
                        <a:pt x="1010" y="371"/>
                      </a:lnTo>
                      <a:lnTo>
                        <a:pt x="1023" y="423"/>
                      </a:lnTo>
                      <a:lnTo>
                        <a:pt x="1057" y="475"/>
                      </a:lnTo>
                      <a:lnTo>
                        <a:pt x="1113" y="513"/>
                      </a:lnTo>
                      <a:lnTo>
                        <a:pt x="1178" y="552"/>
                      </a:lnTo>
                      <a:lnTo>
                        <a:pt x="1225" y="583"/>
                      </a:lnTo>
                      <a:lnTo>
                        <a:pt x="1277" y="630"/>
                      </a:lnTo>
                      <a:lnTo>
                        <a:pt x="1316" y="695"/>
                      </a:lnTo>
                      <a:lnTo>
                        <a:pt x="1372" y="798"/>
                      </a:lnTo>
                      <a:lnTo>
                        <a:pt x="1406" y="906"/>
                      </a:lnTo>
                      <a:lnTo>
                        <a:pt x="1437" y="1005"/>
                      </a:lnTo>
                      <a:lnTo>
                        <a:pt x="1450" y="1122"/>
                      </a:lnTo>
                      <a:lnTo>
                        <a:pt x="1463" y="1251"/>
                      </a:lnTo>
                      <a:lnTo>
                        <a:pt x="1463" y="1342"/>
                      </a:lnTo>
                      <a:lnTo>
                        <a:pt x="1458" y="1411"/>
                      </a:lnTo>
                      <a:lnTo>
                        <a:pt x="1445" y="1450"/>
                      </a:lnTo>
                      <a:lnTo>
                        <a:pt x="1424" y="1480"/>
                      </a:lnTo>
                      <a:lnTo>
                        <a:pt x="1385" y="1493"/>
                      </a:lnTo>
                      <a:lnTo>
                        <a:pt x="1359" y="1480"/>
                      </a:lnTo>
                      <a:lnTo>
                        <a:pt x="1346" y="1450"/>
                      </a:lnTo>
                      <a:lnTo>
                        <a:pt x="1342" y="1364"/>
                      </a:lnTo>
                      <a:lnTo>
                        <a:pt x="1342" y="1221"/>
                      </a:lnTo>
                      <a:lnTo>
                        <a:pt x="1337" y="1135"/>
                      </a:lnTo>
                      <a:lnTo>
                        <a:pt x="1320" y="1070"/>
                      </a:lnTo>
                      <a:lnTo>
                        <a:pt x="1281" y="1018"/>
                      </a:lnTo>
                      <a:lnTo>
                        <a:pt x="1238" y="1001"/>
                      </a:lnTo>
                      <a:lnTo>
                        <a:pt x="1195" y="1014"/>
                      </a:lnTo>
                      <a:lnTo>
                        <a:pt x="1178" y="1044"/>
                      </a:lnTo>
                      <a:lnTo>
                        <a:pt x="1191" y="1148"/>
                      </a:lnTo>
                      <a:lnTo>
                        <a:pt x="1208" y="1295"/>
                      </a:lnTo>
                      <a:lnTo>
                        <a:pt x="1234" y="1424"/>
                      </a:lnTo>
                      <a:lnTo>
                        <a:pt x="1264" y="1536"/>
                      </a:lnTo>
                      <a:lnTo>
                        <a:pt x="1303" y="1683"/>
                      </a:lnTo>
                      <a:lnTo>
                        <a:pt x="1346" y="1808"/>
                      </a:lnTo>
                      <a:lnTo>
                        <a:pt x="1450" y="1976"/>
                      </a:lnTo>
                      <a:lnTo>
                        <a:pt x="1527" y="2080"/>
                      </a:lnTo>
                      <a:lnTo>
                        <a:pt x="1670" y="2235"/>
                      </a:lnTo>
                      <a:lnTo>
                        <a:pt x="1760" y="2352"/>
                      </a:lnTo>
                      <a:lnTo>
                        <a:pt x="1829" y="2460"/>
                      </a:lnTo>
                      <a:lnTo>
                        <a:pt x="1825" y="2507"/>
                      </a:lnTo>
                      <a:lnTo>
                        <a:pt x="1760" y="2585"/>
                      </a:lnTo>
                      <a:lnTo>
                        <a:pt x="1657" y="2675"/>
                      </a:lnTo>
                      <a:lnTo>
                        <a:pt x="1557" y="2675"/>
                      </a:lnTo>
                      <a:lnTo>
                        <a:pt x="1527" y="2649"/>
                      </a:lnTo>
                      <a:lnTo>
                        <a:pt x="1575" y="2598"/>
                      </a:lnTo>
                      <a:lnTo>
                        <a:pt x="1622" y="2542"/>
                      </a:lnTo>
                      <a:lnTo>
                        <a:pt x="1618" y="2490"/>
                      </a:lnTo>
                      <a:lnTo>
                        <a:pt x="1549" y="2391"/>
                      </a:lnTo>
                      <a:lnTo>
                        <a:pt x="1437" y="2274"/>
                      </a:lnTo>
                      <a:lnTo>
                        <a:pt x="1260" y="2054"/>
                      </a:lnTo>
                      <a:lnTo>
                        <a:pt x="1117" y="1864"/>
                      </a:lnTo>
                      <a:lnTo>
                        <a:pt x="1061" y="1808"/>
                      </a:lnTo>
                      <a:lnTo>
                        <a:pt x="1023" y="1769"/>
                      </a:lnTo>
                      <a:lnTo>
                        <a:pt x="958" y="1756"/>
                      </a:lnTo>
                      <a:lnTo>
                        <a:pt x="893" y="1782"/>
                      </a:lnTo>
                      <a:lnTo>
                        <a:pt x="828" y="1834"/>
                      </a:lnTo>
                      <a:lnTo>
                        <a:pt x="686" y="2024"/>
                      </a:lnTo>
                      <a:lnTo>
                        <a:pt x="531" y="2235"/>
                      </a:lnTo>
                      <a:lnTo>
                        <a:pt x="375" y="2455"/>
                      </a:lnTo>
                      <a:lnTo>
                        <a:pt x="285" y="2585"/>
                      </a:lnTo>
                      <a:lnTo>
                        <a:pt x="246" y="2611"/>
                      </a:lnTo>
                      <a:lnTo>
                        <a:pt x="190" y="2602"/>
                      </a:lnTo>
                      <a:lnTo>
                        <a:pt x="130" y="2563"/>
                      </a:lnTo>
                      <a:lnTo>
                        <a:pt x="65" y="2511"/>
                      </a:lnTo>
                      <a:lnTo>
                        <a:pt x="9" y="24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654280" y="2777040"/>
                  <a:ext cx="111960" cy="64440"/>
                </a:xfrm>
                <a:custGeom>
                  <a:avLst/>
                  <a:gdLst/>
                  <a:ahLst/>
                  <a:rect l="l" t="t" r="r" b="b"/>
                  <a:pathLst>
                    <a:path w="609" h="414">
                      <a:moveTo>
                        <a:pt x="609" y="414"/>
                      </a:moveTo>
                      <a:lnTo>
                        <a:pt x="376" y="0"/>
                      </a:lnTo>
                      <a:lnTo>
                        <a:pt x="0" y="0"/>
                      </a:lnTo>
                      <a:lnTo>
                        <a:pt x="207" y="414"/>
                      </a:lnTo>
                      <a:lnTo>
                        <a:pt x="609" y="4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1535040" y="2412720"/>
                <a:ext cx="493200" cy="511560"/>
                <a:chOff x="1535040" y="2412720"/>
                <a:chExt cx="493200" cy="511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1535040" y="2599920"/>
                  <a:ext cx="335520" cy="324360"/>
                </a:xfrm>
                <a:custGeom>
                  <a:avLst/>
                  <a:gdLst/>
                  <a:ahLst/>
                  <a:rect l="l" t="t" r="r" b="b"/>
                  <a:pathLst>
                    <a:path w="1175" h="1227">
                      <a:moveTo>
                        <a:pt x="1088" y="1227"/>
                      </a:moveTo>
                      <a:lnTo>
                        <a:pt x="1088" y="907"/>
                      </a:lnTo>
                      <a:lnTo>
                        <a:pt x="696" y="907"/>
                      </a:lnTo>
                      <a:lnTo>
                        <a:pt x="696" y="498"/>
                      </a:lnTo>
                      <a:lnTo>
                        <a:pt x="306" y="498"/>
                      </a:lnTo>
                      <a:lnTo>
                        <a:pt x="306" y="91"/>
                      </a:lnTo>
                      <a:lnTo>
                        <a:pt x="0" y="91"/>
                      </a:lnTo>
                      <a:lnTo>
                        <a:pt x="0" y="0"/>
                      </a:lnTo>
                      <a:lnTo>
                        <a:pt x="392" y="0"/>
                      </a:lnTo>
                      <a:lnTo>
                        <a:pt x="392" y="408"/>
                      </a:lnTo>
                      <a:lnTo>
                        <a:pt x="783" y="408"/>
                      </a:lnTo>
                      <a:lnTo>
                        <a:pt x="783" y="818"/>
                      </a:lnTo>
                      <a:lnTo>
                        <a:pt x="1175" y="818"/>
                      </a:lnTo>
                      <a:lnTo>
                        <a:pt x="1175" y="1227"/>
                      </a:lnTo>
                      <a:lnTo>
                        <a:pt x="1088" y="1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1755360" y="2412720"/>
                  <a:ext cx="272880" cy="389880"/>
                  <a:chOff x="1755360" y="2412720"/>
                  <a:chExt cx="272880" cy="38988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1755360" y="2559600"/>
                    <a:ext cx="262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9">
                        <a:moveTo>
                          <a:pt x="79" y="30"/>
                        </a:moveTo>
                        <a:lnTo>
                          <a:pt x="81" y="30"/>
                        </a:lnTo>
                        <a:lnTo>
                          <a:pt x="83" y="29"/>
                        </a:lnTo>
                        <a:lnTo>
                          <a:pt x="84" y="27"/>
                        </a:lnTo>
                        <a:lnTo>
                          <a:pt x="86" y="26"/>
                        </a:lnTo>
                        <a:lnTo>
                          <a:pt x="88" y="22"/>
                        </a:lnTo>
                        <a:lnTo>
                          <a:pt x="90" y="18"/>
                        </a:lnTo>
                        <a:lnTo>
                          <a:pt x="89" y="14"/>
                        </a:lnTo>
                        <a:lnTo>
                          <a:pt x="87" y="10"/>
                        </a:lnTo>
                        <a:lnTo>
                          <a:pt x="85" y="8"/>
                        </a:lnTo>
                        <a:lnTo>
                          <a:pt x="83" y="8"/>
                        </a:lnTo>
                        <a:lnTo>
                          <a:pt x="80" y="7"/>
                        </a:lnTo>
                        <a:lnTo>
                          <a:pt x="78" y="7"/>
                        </a:lnTo>
                        <a:lnTo>
                          <a:pt x="76" y="6"/>
                        </a:lnTo>
                        <a:lnTo>
                          <a:pt x="73" y="6"/>
                        </a:lnTo>
                        <a:lnTo>
                          <a:pt x="70" y="5"/>
                        </a:lnTo>
                        <a:lnTo>
                          <a:pt x="65" y="4"/>
                        </a:lnTo>
                        <a:lnTo>
                          <a:pt x="60" y="4"/>
                        </a:lnTo>
                        <a:lnTo>
                          <a:pt x="56" y="3"/>
                        </a:lnTo>
                        <a:lnTo>
                          <a:pt x="51" y="3"/>
                        </a:lnTo>
                        <a:lnTo>
                          <a:pt x="47" y="3"/>
                        </a:lnTo>
                        <a:lnTo>
                          <a:pt x="42" y="3"/>
                        </a:lnTo>
                        <a:lnTo>
                          <a:pt x="35" y="2"/>
                        </a:lnTo>
                        <a:lnTo>
                          <a:pt x="28" y="2"/>
                        </a:lnTo>
                        <a:lnTo>
                          <a:pt x="22" y="1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2" y="3"/>
                        </a:lnTo>
                        <a:lnTo>
                          <a:pt x="1" y="5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1" y="18"/>
                        </a:lnTo>
                        <a:lnTo>
                          <a:pt x="3" y="28"/>
                        </a:lnTo>
                        <a:lnTo>
                          <a:pt x="4" y="38"/>
                        </a:lnTo>
                        <a:lnTo>
                          <a:pt x="5" y="45"/>
                        </a:lnTo>
                        <a:lnTo>
                          <a:pt x="5" y="51"/>
                        </a:lnTo>
                        <a:lnTo>
                          <a:pt x="7" y="55"/>
                        </a:lnTo>
                        <a:lnTo>
                          <a:pt x="10" y="58"/>
                        </a:lnTo>
                        <a:lnTo>
                          <a:pt x="16" y="59"/>
                        </a:lnTo>
                        <a:lnTo>
                          <a:pt x="20" y="59"/>
                        </a:lnTo>
                        <a:lnTo>
                          <a:pt x="25" y="58"/>
                        </a:lnTo>
                        <a:lnTo>
                          <a:pt x="30" y="58"/>
                        </a:lnTo>
                        <a:lnTo>
                          <a:pt x="35" y="58"/>
                        </a:lnTo>
                        <a:lnTo>
                          <a:pt x="41" y="58"/>
                        </a:lnTo>
                        <a:lnTo>
                          <a:pt x="46" y="58"/>
                        </a:lnTo>
                        <a:lnTo>
                          <a:pt x="50" y="58"/>
                        </a:lnTo>
                        <a:lnTo>
                          <a:pt x="53" y="58"/>
                        </a:lnTo>
                        <a:lnTo>
                          <a:pt x="55" y="56"/>
                        </a:lnTo>
                        <a:lnTo>
                          <a:pt x="54" y="53"/>
                        </a:lnTo>
                        <a:lnTo>
                          <a:pt x="50" y="48"/>
                        </a:lnTo>
                        <a:lnTo>
                          <a:pt x="43" y="45"/>
                        </a:lnTo>
                        <a:lnTo>
                          <a:pt x="51" y="43"/>
                        </a:lnTo>
                        <a:lnTo>
                          <a:pt x="57" y="42"/>
                        </a:lnTo>
                        <a:lnTo>
                          <a:pt x="62" y="40"/>
                        </a:lnTo>
                        <a:lnTo>
                          <a:pt x="66" y="38"/>
                        </a:lnTo>
                        <a:lnTo>
                          <a:pt x="71" y="35"/>
                        </a:lnTo>
                        <a:lnTo>
                          <a:pt x="74" y="33"/>
                        </a:lnTo>
                        <a:lnTo>
                          <a:pt x="76" y="32"/>
                        </a:lnTo>
                        <a:lnTo>
                          <a:pt x="7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1779120" y="2482200"/>
                    <a:ext cx="900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340">
                        <a:moveTo>
                          <a:pt x="25" y="340"/>
                        </a:moveTo>
                        <a:lnTo>
                          <a:pt x="23" y="338"/>
                        </a:lnTo>
                        <a:lnTo>
                          <a:pt x="19" y="332"/>
                        </a:lnTo>
                        <a:lnTo>
                          <a:pt x="15" y="323"/>
                        </a:lnTo>
                        <a:lnTo>
                          <a:pt x="9" y="313"/>
                        </a:lnTo>
                        <a:lnTo>
                          <a:pt x="4" y="304"/>
                        </a:lnTo>
                        <a:lnTo>
                          <a:pt x="1" y="294"/>
                        </a:lnTo>
                        <a:lnTo>
                          <a:pt x="0" y="287"/>
                        </a:lnTo>
                        <a:lnTo>
                          <a:pt x="1" y="283"/>
                        </a:lnTo>
                        <a:lnTo>
                          <a:pt x="6" y="280"/>
                        </a:lnTo>
                        <a:lnTo>
                          <a:pt x="16" y="275"/>
                        </a:lnTo>
                        <a:lnTo>
                          <a:pt x="28" y="270"/>
                        </a:lnTo>
                        <a:lnTo>
                          <a:pt x="43" y="264"/>
                        </a:lnTo>
                        <a:lnTo>
                          <a:pt x="56" y="257"/>
                        </a:lnTo>
                        <a:lnTo>
                          <a:pt x="70" y="252"/>
                        </a:lnTo>
                        <a:lnTo>
                          <a:pt x="81" y="246"/>
                        </a:lnTo>
                        <a:lnTo>
                          <a:pt x="89" y="242"/>
                        </a:lnTo>
                        <a:lnTo>
                          <a:pt x="97" y="238"/>
                        </a:lnTo>
                        <a:lnTo>
                          <a:pt x="105" y="231"/>
                        </a:lnTo>
                        <a:lnTo>
                          <a:pt x="115" y="225"/>
                        </a:lnTo>
                        <a:lnTo>
                          <a:pt x="126" y="217"/>
                        </a:lnTo>
                        <a:lnTo>
                          <a:pt x="135" y="212"/>
                        </a:lnTo>
                        <a:lnTo>
                          <a:pt x="143" y="206"/>
                        </a:lnTo>
                        <a:lnTo>
                          <a:pt x="150" y="203"/>
                        </a:lnTo>
                        <a:lnTo>
                          <a:pt x="155" y="203"/>
                        </a:lnTo>
                        <a:lnTo>
                          <a:pt x="160" y="205"/>
                        </a:lnTo>
                        <a:lnTo>
                          <a:pt x="163" y="204"/>
                        </a:lnTo>
                        <a:lnTo>
                          <a:pt x="165" y="202"/>
                        </a:lnTo>
                        <a:lnTo>
                          <a:pt x="164" y="199"/>
                        </a:lnTo>
                        <a:lnTo>
                          <a:pt x="163" y="194"/>
                        </a:lnTo>
                        <a:lnTo>
                          <a:pt x="163" y="190"/>
                        </a:lnTo>
                        <a:lnTo>
                          <a:pt x="166" y="187"/>
                        </a:lnTo>
                        <a:lnTo>
                          <a:pt x="171" y="186"/>
                        </a:lnTo>
                        <a:lnTo>
                          <a:pt x="175" y="186"/>
                        </a:lnTo>
                        <a:lnTo>
                          <a:pt x="176" y="182"/>
                        </a:lnTo>
                        <a:lnTo>
                          <a:pt x="176" y="178"/>
                        </a:lnTo>
                        <a:lnTo>
                          <a:pt x="175" y="173"/>
                        </a:lnTo>
                        <a:lnTo>
                          <a:pt x="175" y="163"/>
                        </a:lnTo>
                        <a:lnTo>
                          <a:pt x="178" y="151"/>
                        </a:lnTo>
                        <a:lnTo>
                          <a:pt x="184" y="137"/>
                        </a:lnTo>
                        <a:lnTo>
                          <a:pt x="190" y="123"/>
                        </a:lnTo>
                        <a:lnTo>
                          <a:pt x="201" y="95"/>
                        </a:lnTo>
                        <a:lnTo>
                          <a:pt x="211" y="70"/>
                        </a:lnTo>
                        <a:lnTo>
                          <a:pt x="220" y="47"/>
                        </a:lnTo>
                        <a:lnTo>
                          <a:pt x="229" y="28"/>
                        </a:lnTo>
                        <a:lnTo>
                          <a:pt x="240" y="14"/>
                        </a:lnTo>
                        <a:lnTo>
                          <a:pt x="251" y="5"/>
                        </a:lnTo>
                        <a:lnTo>
                          <a:pt x="266" y="0"/>
                        </a:lnTo>
                        <a:lnTo>
                          <a:pt x="284" y="2"/>
                        </a:lnTo>
                        <a:lnTo>
                          <a:pt x="288" y="4"/>
                        </a:lnTo>
                        <a:lnTo>
                          <a:pt x="294" y="7"/>
                        </a:lnTo>
                        <a:lnTo>
                          <a:pt x="299" y="11"/>
                        </a:lnTo>
                        <a:lnTo>
                          <a:pt x="305" y="17"/>
                        </a:lnTo>
                        <a:lnTo>
                          <a:pt x="310" y="24"/>
                        </a:lnTo>
                        <a:lnTo>
                          <a:pt x="314" y="33"/>
                        </a:lnTo>
                        <a:lnTo>
                          <a:pt x="315" y="44"/>
                        </a:lnTo>
                        <a:lnTo>
                          <a:pt x="314" y="56"/>
                        </a:lnTo>
                        <a:lnTo>
                          <a:pt x="305" y="85"/>
                        </a:lnTo>
                        <a:lnTo>
                          <a:pt x="294" y="115"/>
                        </a:lnTo>
                        <a:lnTo>
                          <a:pt x="281" y="145"/>
                        </a:lnTo>
                        <a:lnTo>
                          <a:pt x="268" y="174"/>
                        </a:lnTo>
                        <a:lnTo>
                          <a:pt x="255" y="200"/>
                        </a:lnTo>
                        <a:lnTo>
                          <a:pt x="245" y="220"/>
                        </a:lnTo>
                        <a:lnTo>
                          <a:pt x="238" y="236"/>
                        </a:lnTo>
                        <a:lnTo>
                          <a:pt x="234" y="246"/>
                        </a:lnTo>
                        <a:lnTo>
                          <a:pt x="230" y="256"/>
                        </a:lnTo>
                        <a:lnTo>
                          <a:pt x="226" y="262"/>
                        </a:lnTo>
                        <a:lnTo>
                          <a:pt x="220" y="266"/>
                        </a:lnTo>
                        <a:lnTo>
                          <a:pt x="215" y="267"/>
                        </a:lnTo>
                        <a:lnTo>
                          <a:pt x="211" y="268"/>
                        </a:lnTo>
                        <a:lnTo>
                          <a:pt x="205" y="271"/>
                        </a:lnTo>
                        <a:lnTo>
                          <a:pt x="199" y="274"/>
                        </a:lnTo>
                        <a:lnTo>
                          <a:pt x="193" y="279"/>
                        </a:lnTo>
                        <a:lnTo>
                          <a:pt x="186" y="282"/>
                        </a:lnTo>
                        <a:lnTo>
                          <a:pt x="179" y="286"/>
                        </a:lnTo>
                        <a:lnTo>
                          <a:pt x="174" y="290"/>
                        </a:lnTo>
                        <a:lnTo>
                          <a:pt x="170" y="292"/>
                        </a:lnTo>
                        <a:lnTo>
                          <a:pt x="166" y="294"/>
                        </a:lnTo>
                        <a:lnTo>
                          <a:pt x="160" y="296"/>
                        </a:lnTo>
                        <a:lnTo>
                          <a:pt x="151" y="299"/>
                        </a:lnTo>
                        <a:lnTo>
                          <a:pt x="142" y="304"/>
                        </a:lnTo>
                        <a:lnTo>
                          <a:pt x="133" y="307"/>
                        </a:lnTo>
                        <a:lnTo>
                          <a:pt x="125" y="310"/>
                        </a:lnTo>
                        <a:lnTo>
                          <a:pt x="116" y="312"/>
                        </a:lnTo>
                        <a:lnTo>
                          <a:pt x="110" y="313"/>
                        </a:lnTo>
                        <a:lnTo>
                          <a:pt x="103" y="314"/>
                        </a:lnTo>
                        <a:lnTo>
                          <a:pt x="91" y="318"/>
                        </a:lnTo>
                        <a:lnTo>
                          <a:pt x="78" y="323"/>
                        </a:lnTo>
                        <a:lnTo>
                          <a:pt x="64" y="327"/>
                        </a:lnTo>
                        <a:lnTo>
                          <a:pt x="51" y="333"/>
                        </a:lnTo>
                        <a:lnTo>
                          <a:pt x="38" y="337"/>
                        </a:lnTo>
                        <a:lnTo>
                          <a:pt x="30" y="339"/>
                        </a:lnTo>
                        <a:lnTo>
                          <a:pt x="25" y="3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1773720" y="2557440"/>
                    <a:ext cx="11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3">
                        <a:moveTo>
                          <a:pt x="21" y="0"/>
                        </a:moveTo>
                        <a:lnTo>
                          <a:pt x="22" y="9"/>
                        </a:lnTo>
                        <a:lnTo>
                          <a:pt x="26" y="21"/>
                        </a:lnTo>
                        <a:lnTo>
                          <a:pt x="34" y="35"/>
                        </a:lnTo>
                        <a:lnTo>
                          <a:pt x="40" y="47"/>
                        </a:lnTo>
                        <a:lnTo>
                          <a:pt x="34" y="49"/>
                        </a:lnTo>
                        <a:lnTo>
                          <a:pt x="27" y="52"/>
                        </a:lnTo>
                        <a:lnTo>
                          <a:pt x="22" y="53"/>
                        </a:lnTo>
                        <a:lnTo>
                          <a:pt x="19" y="53"/>
                        </a:lnTo>
                        <a:lnTo>
                          <a:pt x="12" y="43"/>
                        </a:lnTo>
                        <a:lnTo>
                          <a:pt x="6" y="30"/>
                        </a:lnTo>
                        <a:lnTo>
                          <a:pt x="1" y="17"/>
                        </a:lnTo>
                        <a:lnTo>
                          <a:pt x="0" y="8"/>
                        </a:lnTo>
                        <a:lnTo>
                          <a:pt x="8" y="4"/>
                        </a:lnTo>
                        <a:lnTo>
                          <a:pt x="14" y="2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1822680" y="2417760"/>
                    <a:ext cx="442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263">
                        <a:moveTo>
                          <a:pt x="21" y="168"/>
                        </a:moveTo>
                        <a:lnTo>
                          <a:pt x="18" y="166"/>
                        </a:lnTo>
                        <a:lnTo>
                          <a:pt x="16" y="164"/>
                        </a:lnTo>
                        <a:lnTo>
                          <a:pt x="16" y="161"/>
                        </a:lnTo>
                        <a:lnTo>
                          <a:pt x="17" y="159"/>
                        </a:lnTo>
                        <a:lnTo>
                          <a:pt x="17" y="159"/>
                        </a:lnTo>
                        <a:lnTo>
                          <a:pt x="17" y="158"/>
                        </a:lnTo>
                        <a:lnTo>
                          <a:pt x="17" y="158"/>
                        </a:lnTo>
                        <a:lnTo>
                          <a:pt x="17" y="158"/>
                        </a:lnTo>
                        <a:lnTo>
                          <a:pt x="16" y="156"/>
                        </a:lnTo>
                        <a:lnTo>
                          <a:pt x="15" y="155"/>
                        </a:lnTo>
                        <a:lnTo>
                          <a:pt x="14" y="153"/>
                        </a:lnTo>
                        <a:lnTo>
                          <a:pt x="14" y="150"/>
                        </a:lnTo>
                        <a:lnTo>
                          <a:pt x="14" y="147"/>
                        </a:lnTo>
                        <a:lnTo>
                          <a:pt x="14" y="145"/>
                        </a:lnTo>
                        <a:lnTo>
                          <a:pt x="12" y="141"/>
                        </a:lnTo>
                        <a:lnTo>
                          <a:pt x="10" y="140"/>
                        </a:lnTo>
                        <a:lnTo>
                          <a:pt x="8" y="139"/>
                        </a:lnTo>
                        <a:lnTo>
                          <a:pt x="6" y="139"/>
                        </a:lnTo>
                        <a:lnTo>
                          <a:pt x="4" y="138"/>
                        </a:lnTo>
                        <a:lnTo>
                          <a:pt x="2" y="137"/>
                        </a:lnTo>
                        <a:lnTo>
                          <a:pt x="0" y="130"/>
                        </a:lnTo>
                        <a:lnTo>
                          <a:pt x="4" y="124"/>
                        </a:lnTo>
                        <a:lnTo>
                          <a:pt x="9" y="117"/>
                        </a:lnTo>
                        <a:lnTo>
                          <a:pt x="13" y="111"/>
                        </a:lnTo>
                        <a:lnTo>
                          <a:pt x="15" y="103"/>
                        </a:lnTo>
                        <a:lnTo>
                          <a:pt x="16" y="94"/>
                        </a:lnTo>
                        <a:lnTo>
                          <a:pt x="15" y="84"/>
                        </a:lnTo>
                        <a:lnTo>
                          <a:pt x="15" y="76"/>
                        </a:lnTo>
                        <a:lnTo>
                          <a:pt x="16" y="63"/>
                        </a:lnTo>
                        <a:lnTo>
                          <a:pt x="20" y="50"/>
                        </a:lnTo>
                        <a:lnTo>
                          <a:pt x="27" y="37"/>
                        </a:lnTo>
                        <a:lnTo>
                          <a:pt x="36" y="24"/>
                        </a:lnTo>
                        <a:lnTo>
                          <a:pt x="47" y="13"/>
                        </a:lnTo>
                        <a:lnTo>
                          <a:pt x="61" y="6"/>
                        </a:lnTo>
                        <a:lnTo>
                          <a:pt x="76" y="2"/>
                        </a:lnTo>
                        <a:lnTo>
                          <a:pt x="94" y="0"/>
                        </a:lnTo>
                        <a:lnTo>
                          <a:pt x="110" y="3"/>
                        </a:lnTo>
                        <a:lnTo>
                          <a:pt x="124" y="8"/>
                        </a:lnTo>
                        <a:lnTo>
                          <a:pt x="135" y="16"/>
                        </a:lnTo>
                        <a:lnTo>
                          <a:pt x="145" y="25"/>
                        </a:lnTo>
                        <a:lnTo>
                          <a:pt x="151" y="36"/>
                        </a:lnTo>
                        <a:lnTo>
                          <a:pt x="155" y="49"/>
                        </a:lnTo>
                        <a:lnTo>
                          <a:pt x="157" y="62"/>
                        </a:lnTo>
                        <a:lnTo>
                          <a:pt x="157" y="76"/>
                        </a:lnTo>
                        <a:lnTo>
                          <a:pt x="153" y="101"/>
                        </a:lnTo>
                        <a:lnTo>
                          <a:pt x="147" y="121"/>
                        </a:lnTo>
                        <a:lnTo>
                          <a:pt x="138" y="134"/>
                        </a:lnTo>
                        <a:lnTo>
                          <a:pt x="132" y="142"/>
                        </a:lnTo>
                        <a:lnTo>
                          <a:pt x="128" y="152"/>
                        </a:lnTo>
                        <a:lnTo>
                          <a:pt x="126" y="164"/>
                        </a:lnTo>
                        <a:lnTo>
                          <a:pt x="129" y="179"/>
                        </a:lnTo>
                        <a:lnTo>
                          <a:pt x="135" y="197"/>
                        </a:lnTo>
                        <a:lnTo>
                          <a:pt x="141" y="216"/>
                        </a:lnTo>
                        <a:lnTo>
                          <a:pt x="143" y="234"/>
                        </a:lnTo>
                        <a:lnTo>
                          <a:pt x="140" y="249"/>
                        </a:lnTo>
                        <a:lnTo>
                          <a:pt x="134" y="257"/>
                        </a:lnTo>
                        <a:lnTo>
                          <a:pt x="129" y="260"/>
                        </a:lnTo>
                        <a:lnTo>
                          <a:pt x="123" y="263"/>
                        </a:lnTo>
                        <a:lnTo>
                          <a:pt x="117" y="263"/>
                        </a:lnTo>
                        <a:lnTo>
                          <a:pt x="110" y="260"/>
                        </a:lnTo>
                        <a:lnTo>
                          <a:pt x="103" y="257"/>
                        </a:lnTo>
                        <a:lnTo>
                          <a:pt x="96" y="252"/>
                        </a:lnTo>
                        <a:lnTo>
                          <a:pt x="90" y="244"/>
                        </a:lnTo>
                        <a:lnTo>
                          <a:pt x="82" y="234"/>
                        </a:lnTo>
                        <a:lnTo>
                          <a:pt x="77" y="227"/>
                        </a:lnTo>
                        <a:lnTo>
                          <a:pt x="73" y="219"/>
                        </a:lnTo>
                        <a:lnTo>
                          <a:pt x="69" y="213"/>
                        </a:lnTo>
                        <a:lnTo>
                          <a:pt x="66" y="207"/>
                        </a:lnTo>
                        <a:lnTo>
                          <a:pt x="62" y="202"/>
                        </a:lnTo>
                        <a:lnTo>
                          <a:pt x="59" y="199"/>
                        </a:lnTo>
                        <a:lnTo>
                          <a:pt x="54" y="197"/>
                        </a:lnTo>
                        <a:lnTo>
                          <a:pt x="51" y="195"/>
                        </a:lnTo>
                        <a:lnTo>
                          <a:pt x="43" y="194"/>
                        </a:lnTo>
                        <a:lnTo>
                          <a:pt x="35" y="194"/>
                        </a:lnTo>
                        <a:lnTo>
                          <a:pt x="26" y="192"/>
                        </a:lnTo>
                        <a:lnTo>
                          <a:pt x="21" y="189"/>
                        </a:lnTo>
                        <a:lnTo>
                          <a:pt x="19" y="184"/>
                        </a:lnTo>
                        <a:lnTo>
                          <a:pt x="18" y="177"/>
                        </a:lnTo>
                        <a:lnTo>
                          <a:pt x="19" y="172"/>
                        </a:lnTo>
                        <a:lnTo>
                          <a:pt x="21" y="1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1822680" y="2412720"/>
                    <a:ext cx="500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99">
                        <a:moveTo>
                          <a:pt x="96" y="129"/>
                        </a:moveTo>
                        <a:lnTo>
                          <a:pt x="90" y="125"/>
                        </a:lnTo>
                        <a:lnTo>
                          <a:pt x="81" y="120"/>
                        </a:lnTo>
                        <a:lnTo>
                          <a:pt x="73" y="118"/>
                        </a:lnTo>
                        <a:lnTo>
                          <a:pt x="66" y="115"/>
                        </a:lnTo>
                        <a:lnTo>
                          <a:pt x="58" y="109"/>
                        </a:lnTo>
                        <a:lnTo>
                          <a:pt x="51" y="102"/>
                        </a:lnTo>
                        <a:lnTo>
                          <a:pt x="45" y="92"/>
                        </a:lnTo>
                        <a:lnTo>
                          <a:pt x="42" y="81"/>
                        </a:lnTo>
                        <a:lnTo>
                          <a:pt x="37" y="82"/>
                        </a:lnTo>
                        <a:lnTo>
                          <a:pt x="31" y="82"/>
                        </a:lnTo>
                        <a:lnTo>
                          <a:pt x="25" y="82"/>
                        </a:lnTo>
                        <a:lnTo>
                          <a:pt x="20" y="81"/>
                        </a:lnTo>
                        <a:lnTo>
                          <a:pt x="15" y="80"/>
                        </a:lnTo>
                        <a:lnTo>
                          <a:pt x="11" y="78"/>
                        </a:lnTo>
                        <a:lnTo>
                          <a:pt x="8" y="75"/>
                        </a:lnTo>
                        <a:lnTo>
                          <a:pt x="7" y="69"/>
                        </a:lnTo>
                        <a:lnTo>
                          <a:pt x="7" y="66"/>
                        </a:lnTo>
                        <a:lnTo>
                          <a:pt x="7" y="62"/>
                        </a:lnTo>
                        <a:lnTo>
                          <a:pt x="7" y="59"/>
                        </a:lnTo>
                        <a:lnTo>
                          <a:pt x="7" y="57"/>
                        </a:lnTo>
                        <a:lnTo>
                          <a:pt x="4" y="54"/>
                        </a:lnTo>
                        <a:lnTo>
                          <a:pt x="1" y="51"/>
                        </a:lnTo>
                        <a:lnTo>
                          <a:pt x="0" y="46"/>
                        </a:lnTo>
                        <a:lnTo>
                          <a:pt x="1" y="40"/>
                        </a:lnTo>
                        <a:lnTo>
                          <a:pt x="5" y="33"/>
                        </a:lnTo>
                        <a:lnTo>
                          <a:pt x="10" y="26"/>
                        </a:lnTo>
                        <a:lnTo>
                          <a:pt x="17" y="17"/>
                        </a:lnTo>
                        <a:lnTo>
                          <a:pt x="27" y="10"/>
                        </a:lnTo>
                        <a:lnTo>
                          <a:pt x="31" y="13"/>
                        </a:lnTo>
                        <a:lnTo>
                          <a:pt x="35" y="15"/>
                        </a:lnTo>
                        <a:lnTo>
                          <a:pt x="38" y="14"/>
                        </a:lnTo>
                        <a:lnTo>
                          <a:pt x="41" y="11"/>
                        </a:lnTo>
                        <a:lnTo>
                          <a:pt x="46" y="7"/>
                        </a:lnTo>
                        <a:lnTo>
                          <a:pt x="51" y="3"/>
                        </a:lnTo>
                        <a:lnTo>
                          <a:pt x="57" y="2"/>
                        </a:lnTo>
                        <a:lnTo>
                          <a:pt x="64" y="4"/>
                        </a:lnTo>
                        <a:lnTo>
                          <a:pt x="69" y="8"/>
                        </a:lnTo>
                        <a:lnTo>
                          <a:pt x="73" y="10"/>
                        </a:lnTo>
                        <a:lnTo>
                          <a:pt x="78" y="10"/>
                        </a:lnTo>
                        <a:lnTo>
                          <a:pt x="82" y="10"/>
                        </a:lnTo>
                        <a:lnTo>
                          <a:pt x="87" y="9"/>
                        </a:lnTo>
                        <a:lnTo>
                          <a:pt x="95" y="5"/>
                        </a:lnTo>
                        <a:lnTo>
                          <a:pt x="103" y="2"/>
                        </a:lnTo>
                        <a:lnTo>
                          <a:pt x="110" y="0"/>
                        </a:lnTo>
                        <a:lnTo>
                          <a:pt x="115" y="1"/>
                        </a:lnTo>
                        <a:lnTo>
                          <a:pt x="124" y="3"/>
                        </a:lnTo>
                        <a:lnTo>
                          <a:pt x="133" y="9"/>
                        </a:lnTo>
                        <a:lnTo>
                          <a:pt x="143" y="15"/>
                        </a:lnTo>
                        <a:lnTo>
                          <a:pt x="154" y="23"/>
                        </a:lnTo>
                        <a:lnTo>
                          <a:pt x="162" y="31"/>
                        </a:lnTo>
                        <a:lnTo>
                          <a:pt x="168" y="40"/>
                        </a:lnTo>
                        <a:lnTo>
                          <a:pt x="171" y="50"/>
                        </a:lnTo>
                        <a:lnTo>
                          <a:pt x="172" y="66"/>
                        </a:lnTo>
                        <a:lnTo>
                          <a:pt x="171" y="75"/>
                        </a:lnTo>
                        <a:lnTo>
                          <a:pt x="169" y="80"/>
                        </a:lnTo>
                        <a:lnTo>
                          <a:pt x="169" y="86"/>
                        </a:lnTo>
                        <a:lnTo>
                          <a:pt x="171" y="92"/>
                        </a:lnTo>
                        <a:lnTo>
                          <a:pt x="175" y="98"/>
                        </a:lnTo>
                        <a:lnTo>
                          <a:pt x="177" y="103"/>
                        </a:lnTo>
                        <a:lnTo>
                          <a:pt x="179" y="109"/>
                        </a:lnTo>
                        <a:lnTo>
                          <a:pt x="178" y="118"/>
                        </a:lnTo>
                        <a:lnTo>
                          <a:pt x="172" y="128"/>
                        </a:lnTo>
                        <a:lnTo>
                          <a:pt x="166" y="139"/>
                        </a:lnTo>
                        <a:lnTo>
                          <a:pt x="159" y="151"/>
                        </a:lnTo>
                        <a:lnTo>
                          <a:pt x="151" y="161"/>
                        </a:lnTo>
                        <a:lnTo>
                          <a:pt x="145" y="171"/>
                        </a:lnTo>
                        <a:lnTo>
                          <a:pt x="139" y="179"/>
                        </a:lnTo>
                        <a:lnTo>
                          <a:pt x="138" y="185"/>
                        </a:lnTo>
                        <a:lnTo>
                          <a:pt x="140" y="189"/>
                        </a:lnTo>
                        <a:lnTo>
                          <a:pt x="143" y="190"/>
                        </a:lnTo>
                        <a:lnTo>
                          <a:pt x="147" y="189"/>
                        </a:lnTo>
                        <a:lnTo>
                          <a:pt x="149" y="189"/>
                        </a:lnTo>
                        <a:lnTo>
                          <a:pt x="142" y="197"/>
                        </a:lnTo>
                        <a:lnTo>
                          <a:pt x="134" y="199"/>
                        </a:lnTo>
                        <a:lnTo>
                          <a:pt x="126" y="196"/>
                        </a:lnTo>
                        <a:lnTo>
                          <a:pt x="122" y="190"/>
                        </a:lnTo>
                        <a:lnTo>
                          <a:pt x="122" y="186"/>
                        </a:lnTo>
                        <a:lnTo>
                          <a:pt x="122" y="182"/>
                        </a:lnTo>
                        <a:lnTo>
                          <a:pt x="123" y="179"/>
                        </a:lnTo>
                        <a:lnTo>
                          <a:pt x="123" y="178"/>
                        </a:lnTo>
                        <a:lnTo>
                          <a:pt x="115" y="177"/>
                        </a:lnTo>
                        <a:lnTo>
                          <a:pt x="111" y="173"/>
                        </a:lnTo>
                        <a:lnTo>
                          <a:pt x="109" y="169"/>
                        </a:lnTo>
                        <a:lnTo>
                          <a:pt x="109" y="165"/>
                        </a:lnTo>
                        <a:lnTo>
                          <a:pt x="119" y="163"/>
                        </a:lnTo>
                        <a:lnTo>
                          <a:pt x="125" y="156"/>
                        </a:lnTo>
                        <a:lnTo>
                          <a:pt x="129" y="148"/>
                        </a:lnTo>
                        <a:lnTo>
                          <a:pt x="129" y="139"/>
                        </a:lnTo>
                        <a:lnTo>
                          <a:pt x="127" y="127"/>
                        </a:lnTo>
                        <a:lnTo>
                          <a:pt x="124" y="119"/>
                        </a:lnTo>
                        <a:lnTo>
                          <a:pt x="119" y="116"/>
                        </a:lnTo>
                        <a:lnTo>
                          <a:pt x="111" y="115"/>
                        </a:lnTo>
                        <a:lnTo>
                          <a:pt x="105" y="116"/>
                        </a:lnTo>
                        <a:lnTo>
                          <a:pt x="102" y="118"/>
                        </a:lnTo>
                        <a:lnTo>
                          <a:pt x="99" y="122"/>
                        </a:lnTo>
                        <a:lnTo>
                          <a:pt x="96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1795320" y="2592360"/>
                    <a:ext cx="900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740">
                        <a:moveTo>
                          <a:pt x="121" y="740"/>
                        </a:moveTo>
                        <a:lnTo>
                          <a:pt x="128" y="737"/>
                        </a:lnTo>
                        <a:lnTo>
                          <a:pt x="132" y="727"/>
                        </a:lnTo>
                        <a:lnTo>
                          <a:pt x="134" y="713"/>
                        </a:lnTo>
                        <a:lnTo>
                          <a:pt x="133" y="695"/>
                        </a:lnTo>
                        <a:lnTo>
                          <a:pt x="129" y="661"/>
                        </a:lnTo>
                        <a:lnTo>
                          <a:pt x="125" y="610"/>
                        </a:lnTo>
                        <a:lnTo>
                          <a:pt x="125" y="555"/>
                        </a:lnTo>
                        <a:lnTo>
                          <a:pt x="130" y="510"/>
                        </a:lnTo>
                        <a:lnTo>
                          <a:pt x="132" y="493"/>
                        </a:lnTo>
                        <a:lnTo>
                          <a:pt x="130" y="479"/>
                        </a:lnTo>
                        <a:lnTo>
                          <a:pt x="125" y="464"/>
                        </a:lnTo>
                        <a:lnTo>
                          <a:pt x="120" y="445"/>
                        </a:lnTo>
                        <a:lnTo>
                          <a:pt x="116" y="435"/>
                        </a:lnTo>
                        <a:lnTo>
                          <a:pt x="111" y="423"/>
                        </a:lnTo>
                        <a:lnTo>
                          <a:pt x="105" y="411"/>
                        </a:lnTo>
                        <a:lnTo>
                          <a:pt x="99" y="399"/>
                        </a:lnTo>
                        <a:lnTo>
                          <a:pt x="92" y="389"/>
                        </a:lnTo>
                        <a:lnTo>
                          <a:pt x="88" y="379"/>
                        </a:lnTo>
                        <a:lnTo>
                          <a:pt x="84" y="373"/>
                        </a:lnTo>
                        <a:lnTo>
                          <a:pt x="82" y="368"/>
                        </a:lnTo>
                        <a:lnTo>
                          <a:pt x="81" y="364"/>
                        </a:lnTo>
                        <a:lnTo>
                          <a:pt x="81" y="359"/>
                        </a:lnTo>
                        <a:lnTo>
                          <a:pt x="82" y="354"/>
                        </a:lnTo>
                        <a:lnTo>
                          <a:pt x="83" y="350"/>
                        </a:lnTo>
                        <a:lnTo>
                          <a:pt x="86" y="346"/>
                        </a:lnTo>
                        <a:lnTo>
                          <a:pt x="93" y="338"/>
                        </a:lnTo>
                        <a:lnTo>
                          <a:pt x="104" y="327"/>
                        </a:lnTo>
                        <a:lnTo>
                          <a:pt x="116" y="314"/>
                        </a:lnTo>
                        <a:lnTo>
                          <a:pt x="131" y="299"/>
                        </a:lnTo>
                        <a:lnTo>
                          <a:pt x="147" y="282"/>
                        </a:lnTo>
                        <a:lnTo>
                          <a:pt x="165" y="263"/>
                        </a:lnTo>
                        <a:lnTo>
                          <a:pt x="184" y="244"/>
                        </a:lnTo>
                        <a:lnTo>
                          <a:pt x="203" y="223"/>
                        </a:lnTo>
                        <a:lnTo>
                          <a:pt x="222" y="204"/>
                        </a:lnTo>
                        <a:lnTo>
                          <a:pt x="240" y="183"/>
                        </a:lnTo>
                        <a:lnTo>
                          <a:pt x="256" y="165"/>
                        </a:lnTo>
                        <a:lnTo>
                          <a:pt x="272" y="146"/>
                        </a:lnTo>
                        <a:lnTo>
                          <a:pt x="285" y="129"/>
                        </a:lnTo>
                        <a:lnTo>
                          <a:pt x="296" y="114"/>
                        </a:lnTo>
                        <a:lnTo>
                          <a:pt x="303" y="101"/>
                        </a:lnTo>
                        <a:lnTo>
                          <a:pt x="308" y="88"/>
                        </a:lnTo>
                        <a:lnTo>
                          <a:pt x="312" y="74"/>
                        </a:lnTo>
                        <a:lnTo>
                          <a:pt x="314" y="60"/>
                        </a:lnTo>
                        <a:lnTo>
                          <a:pt x="314" y="46"/>
                        </a:lnTo>
                        <a:lnTo>
                          <a:pt x="312" y="33"/>
                        </a:lnTo>
                        <a:lnTo>
                          <a:pt x="307" y="21"/>
                        </a:lnTo>
                        <a:lnTo>
                          <a:pt x="299" y="11"/>
                        </a:lnTo>
                        <a:lnTo>
                          <a:pt x="288" y="3"/>
                        </a:lnTo>
                        <a:lnTo>
                          <a:pt x="281" y="1"/>
                        </a:lnTo>
                        <a:lnTo>
                          <a:pt x="274" y="0"/>
                        </a:lnTo>
                        <a:lnTo>
                          <a:pt x="265" y="0"/>
                        </a:lnTo>
                        <a:lnTo>
                          <a:pt x="257" y="2"/>
                        </a:lnTo>
                        <a:lnTo>
                          <a:pt x="249" y="6"/>
                        </a:lnTo>
                        <a:lnTo>
                          <a:pt x="240" y="9"/>
                        </a:lnTo>
                        <a:lnTo>
                          <a:pt x="231" y="14"/>
                        </a:lnTo>
                        <a:lnTo>
                          <a:pt x="223" y="19"/>
                        </a:lnTo>
                        <a:lnTo>
                          <a:pt x="213" y="26"/>
                        </a:lnTo>
                        <a:lnTo>
                          <a:pt x="201" y="35"/>
                        </a:lnTo>
                        <a:lnTo>
                          <a:pt x="190" y="45"/>
                        </a:lnTo>
                        <a:lnTo>
                          <a:pt x="177" y="57"/>
                        </a:lnTo>
                        <a:lnTo>
                          <a:pt x="166" y="68"/>
                        </a:lnTo>
                        <a:lnTo>
                          <a:pt x="153" y="81"/>
                        </a:lnTo>
                        <a:lnTo>
                          <a:pt x="141" y="95"/>
                        </a:lnTo>
                        <a:lnTo>
                          <a:pt x="130" y="111"/>
                        </a:lnTo>
                        <a:lnTo>
                          <a:pt x="117" y="126"/>
                        </a:lnTo>
                        <a:lnTo>
                          <a:pt x="105" y="143"/>
                        </a:lnTo>
                        <a:lnTo>
                          <a:pt x="93" y="159"/>
                        </a:lnTo>
                        <a:lnTo>
                          <a:pt x="82" y="177"/>
                        </a:lnTo>
                        <a:lnTo>
                          <a:pt x="72" y="194"/>
                        </a:lnTo>
                        <a:lnTo>
                          <a:pt x="61" y="212"/>
                        </a:lnTo>
                        <a:lnTo>
                          <a:pt x="51" y="230"/>
                        </a:lnTo>
                        <a:lnTo>
                          <a:pt x="42" y="248"/>
                        </a:lnTo>
                        <a:lnTo>
                          <a:pt x="34" y="262"/>
                        </a:lnTo>
                        <a:lnTo>
                          <a:pt x="26" y="279"/>
                        </a:lnTo>
                        <a:lnTo>
                          <a:pt x="18" y="295"/>
                        </a:lnTo>
                        <a:lnTo>
                          <a:pt x="11" y="306"/>
                        </a:lnTo>
                        <a:lnTo>
                          <a:pt x="6" y="313"/>
                        </a:lnTo>
                        <a:lnTo>
                          <a:pt x="2" y="322"/>
                        </a:lnTo>
                        <a:lnTo>
                          <a:pt x="0" y="333"/>
                        </a:lnTo>
                        <a:lnTo>
                          <a:pt x="0" y="346"/>
                        </a:lnTo>
                        <a:lnTo>
                          <a:pt x="2" y="353"/>
                        </a:lnTo>
                        <a:lnTo>
                          <a:pt x="5" y="362"/>
                        </a:lnTo>
                        <a:lnTo>
                          <a:pt x="10" y="370"/>
                        </a:lnTo>
                        <a:lnTo>
                          <a:pt x="17" y="378"/>
                        </a:lnTo>
                        <a:lnTo>
                          <a:pt x="23" y="389"/>
                        </a:lnTo>
                        <a:lnTo>
                          <a:pt x="29" y="401"/>
                        </a:lnTo>
                        <a:lnTo>
                          <a:pt x="35" y="415"/>
                        </a:lnTo>
                        <a:lnTo>
                          <a:pt x="39" y="431"/>
                        </a:lnTo>
                        <a:lnTo>
                          <a:pt x="42" y="443"/>
                        </a:lnTo>
                        <a:lnTo>
                          <a:pt x="46" y="459"/>
                        </a:lnTo>
                        <a:lnTo>
                          <a:pt x="51" y="480"/>
                        </a:lnTo>
                        <a:lnTo>
                          <a:pt x="56" y="501"/>
                        </a:lnTo>
                        <a:lnTo>
                          <a:pt x="61" y="522"/>
                        </a:lnTo>
                        <a:lnTo>
                          <a:pt x="65" y="543"/>
                        </a:lnTo>
                        <a:lnTo>
                          <a:pt x="70" y="559"/>
                        </a:lnTo>
                        <a:lnTo>
                          <a:pt x="72" y="571"/>
                        </a:lnTo>
                        <a:lnTo>
                          <a:pt x="76" y="601"/>
                        </a:lnTo>
                        <a:lnTo>
                          <a:pt x="82" y="645"/>
                        </a:lnTo>
                        <a:lnTo>
                          <a:pt x="87" y="686"/>
                        </a:lnTo>
                        <a:lnTo>
                          <a:pt x="91" y="711"/>
                        </a:lnTo>
                        <a:lnTo>
                          <a:pt x="93" y="722"/>
                        </a:lnTo>
                        <a:lnTo>
                          <a:pt x="99" y="731"/>
                        </a:lnTo>
                        <a:lnTo>
                          <a:pt x="107" y="739"/>
                        </a:lnTo>
                        <a:lnTo>
                          <a:pt x="121" y="7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1790640" y="2772360"/>
                    <a:ext cx="4428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03">
                        <a:moveTo>
                          <a:pt x="139" y="0"/>
                        </a:moveTo>
                        <a:lnTo>
                          <a:pt x="143" y="5"/>
                        </a:lnTo>
                        <a:lnTo>
                          <a:pt x="147" y="13"/>
                        </a:lnTo>
                        <a:lnTo>
                          <a:pt x="149" y="24"/>
                        </a:lnTo>
                        <a:lnTo>
                          <a:pt x="151" y="34"/>
                        </a:lnTo>
                        <a:lnTo>
                          <a:pt x="153" y="43"/>
                        </a:lnTo>
                        <a:lnTo>
                          <a:pt x="156" y="51"/>
                        </a:lnTo>
                        <a:lnTo>
                          <a:pt x="158" y="59"/>
                        </a:lnTo>
                        <a:lnTo>
                          <a:pt x="157" y="64"/>
                        </a:lnTo>
                        <a:lnTo>
                          <a:pt x="152" y="69"/>
                        </a:lnTo>
                        <a:lnTo>
                          <a:pt x="146" y="73"/>
                        </a:lnTo>
                        <a:lnTo>
                          <a:pt x="136" y="76"/>
                        </a:lnTo>
                        <a:lnTo>
                          <a:pt x="127" y="78"/>
                        </a:lnTo>
                        <a:lnTo>
                          <a:pt x="122" y="79"/>
                        </a:lnTo>
                        <a:lnTo>
                          <a:pt x="116" y="79"/>
                        </a:lnTo>
                        <a:lnTo>
                          <a:pt x="108" y="82"/>
                        </a:lnTo>
                        <a:lnTo>
                          <a:pt x="100" y="84"/>
                        </a:lnTo>
                        <a:lnTo>
                          <a:pt x="92" y="87"/>
                        </a:lnTo>
                        <a:lnTo>
                          <a:pt x="82" y="90"/>
                        </a:lnTo>
                        <a:lnTo>
                          <a:pt x="73" y="96"/>
                        </a:lnTo>
                        <a:lnTo>
                          <a:pt x="64" y="101"/>
                        </a:lnTo>
                        <a:lnTo>
                          <a:pt x="60" y="103"/>
                        </a:lnTo>
                        <a:lnTo>
                          <a:pt x="56" y="103"/>
                        </a:lnTo>
                        <a:lnTo>
                          <a:pt x="53" y="103"/>
                        </a:lnTo>
                        <a:lnTo>
                          <a:pt x="49" y="102"/>
                        </a:lnTo>
                        <a:lnTo>
                          <a:pt x="46" y="101"/>
                        </a:lnTo>
                        <a:lnTo>
                          <a:pt x="42" y="100"/>
                        </a:lnTo>
                        <a:lnTo>
                          <a:pt x="36" y="99"/>
                        </a:lnTo>
                        <a:lnTo>
                          <a:pt x="29" y="97"/>
                        </a:lnTo>
                        <a:lnTo>
                          <a:pt x="23" y="96"/>
                        </a:lnTo>
                        <a:lnTo>
                          <a:pt x="17" y="95"/>
                        </a:lnTo>
                        <a:lnTo>
                          <a:pt x="12" y="94"/>
                        </a:lnTo>
                        <a:lnTo>
                          <a:pt x="8" y="92"/>
                        </a:lnTo>
                        <a:lnTo>
                          <a:pt x="2" y="90"/>
                        </a:lnTo>
                        <a:lnTo>
                          <a:pt x="0" y="86"/>
                        </a:lnTo>
                        <a:lnTo>
                          <a:pt x="0" y="83"/>
                        </a:lnTo>
                        <a:lnTo>
                          <a:pt x="2" y="81"/>
                        </a:lnTo>
                        <a:lnTo>
                          <a:pt x="5" y="79"/>
                        </a:lnTo>
                        <a:lnTo>
                          <a:pt x="8" y="78"/>
                        </a:lnTo>
                        <a:lnTo>
                          <a:pt x="10" y="77"/>
                        </a:lnTo>
                        <a:lnTo>
                          <a:pt x="14" y="76"/>
                        </a:lnTo>
                        <a:lnTo>
                          <a:pt x="18" y="76"/>
                        </a:lnTo>
                        <a:lnTo>
                          <a:pt x="22" y="75"/>
                        </a:lnTo>
                        <a:lnTo>
                          <a:pt x="27" y="76"/>
                        </a:lnTo>
                        <a:lnTo>
                          <a:pt x="34" y="76"/>
                        </a:lnTo>
                        <a:lnTo>
                          <a:pt x="46" y="66"/>
                        </a:lnTo>
                        <a:lnTo>
                          <a:pt x="61" y="55"/>
                        </a:lnTo>
                        <a:lnTo>
                          <a:pt x="77" y="42"/>
                        </a:lnTo>
                        <a:lnTo>
                          <a:pt x="95" y="29"/>
                        </a:lnTo>
                        <a:lnTo>
                          <a:pt x="110" y="18"/>
                        </a:lnTo>
                        <a:lnTo>
                          <a:pt x="124" y="8"/>
                        </a:lnTo>
                        <a:lnTo>
                          <a:pt x="134" y="3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1789560" y="277848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95">
                        <a:moveTo>
                          <a:pt x="158" y="1"/>
                        </a:moveTo>
                        <a:lnTo>
                          <a:pt x="161" y="7"/>
                        </a:lnTo>
                        <a:lnTo>
                          <a:pt x="165" y="15"/>
                        </a:lnTo>
                        <a:lnTo>
                          <a:pt x="169" y="26"/>
                        </a:lnTo>
                        <a:lnTo>
                          <a:pt x="169" y="37"/>
                        </a:lnTo>
                        <a:lnTo>
                          <a:pt x="164" y="49"/>
                        </a:lnTo>
                        <a:lnTo>
                          <a:pt x="157" y="59"/>
                        </a:lnTo>
                        <a:lnTo>
                          <a:pt x="149" y="72"/>
                        </a:lnTo>
                        <a:lnTo>
                          <a:pt x="139" y="95"/>
                        </a:lnTo>
                        <a:lnTo>
                          <a:pt x="136" y="95"/>
                        </a:lnTo>
                        <a:lnTo>
                          <a:pt x="134" y="93"/>
                        </a:lnTo>
                        <a:lnTo>
                          <a:pt x="133" y="93"/>
                        </a:lnTo>
                        <a:lnTo>
                          <a:pt x="131" y="92"/>
                        </a:lnTo>
                        <a:lnTo>
                          <a:pt x="133" y="83"/>
                        </a:lnTo>
                        <a:lnTo>
                          <a:pt x="134" y="72"/>
                        </a:lnTo>
                        <a:lnTo>
                          <a:pt x="132" y="63"/>
                        </a:lnTo>
                        <a:lnTo>
                          <a:pt x="127" y="57"/>
                        </a:lnTo>
                        <a:lnTo>
                          <a:pt x="114" y="60"/>
                        </a:lnTo>
                        <a:lnTo>
                          <a:pt x="103" y="63"/>
                        </a:lnTo>
                        <a:lnTo>
                          <a:pt x="94" y="67"/>
                        </a:lnTo>
                        <a:lnTo>
                          <a:pt x="85" y="73"/>
                        </a:lnTo>
                        <a:lnTo>
                          <a:pt x="78" y="76"/>
                        </a:lnTo>
                        <a:lnTo>
                          <a:pt x="72" y="80"/>
                        </a:lnTo>
                        <a:lnTo>
                          <a:pt x="68" y="83"/>
                        </a:lnTo>
                        <a:lnTo>
                          <a:pt x="64" y="83"/>
                        </a:lnTo>
                        <a:lnTo>
                          <a:pt x="59" y="83"/>
                        </a:lnTo>
                        <a:lnTo>
                          <a:pt x="52" y="82"/>
                        </a:lnTo>
                        <a:lnTo>
                          <a:pt x="45" y="79"/>
                        </a:lnTo>
                        <a:lnTo>
                          <a:pt x="37" y="78"/>
                        </a:lnTo>
                        <a:lnTo>
                          <a:pt x="27" y="76"/>
                        </a:lnTo>
                        <a:lnTo>
                          <a:pt x="20" y="74"/>
                        </a:lnTo>
                        <a:lnTo>
                          <a:pt x="13" y="71"/>
                        </a:lnTo>
                        <a:lnTo>
                          <a:pt x="9" y="69"/>
                        </a:lnTo>
                        <a:lnTo>
                          <a:pt x="3" y="64"/>
                        </a:lnTo>
                        <a:lnTo>
                          <a:pt x="0" y="60"/>
                        </a:lnTo>
                        <a:lnTo>
                          <a:pt x="1" y="57"/>
                        </a:lnTo>
                        <a:lnTo>
                          <a:pt x="5" y="52"/>
                        </a:lnTo>
                        <a:lnTo>
                          <a:pt x="10" y="50"/>
                        </a:lnTo>
                        <a:lnTo>
                          <a:pt x="14" y="49"/>
                        </a:lnTo>
                        <a:lnTo>
                          <a:pt x="19" y="49"/>
                        </a:lnTo>
                        <a:lnTo>
                          <a:pt x="24" y="48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7" y="49"/>
                        </a:lnTo>
                        <a:lnTo>
                          <a:pt x="40" y="49"/>
                        </a:lnTo>
                        <a:lnTo>
                          <a:pt x="43" y="52"/>
                        </a:lnTo>
                        <a:lnTo>
                          <a:pt x="46" y="54"/>
                        </a:lnTo>
                        <a:lnTo>
                          <a:pt x="49" y="56"/>
                        </a:lnTo>
                        <a:lnTo>
                          <a:pt x="53" y="57"/>
                        </a:lnTo>
                        <a:lnTo>
                          <a:pt x="56" y="57"/>
                        </a:lnTo>
                        <a:lnTo>
                          <a:pt x="61" y="57"/>
                        </a:lnTo>
                        <a:lnTo>
                          <a:pt x="68" y="54"/>
                        </a:lnTo>
                        <a:lnTo>
                          <a:pt x="75" y="52"/>
                        </a:lnTo>
                        <a:lnTo>
                          <a:pt x="84" y="49"/>
                        </a:lnTo>
                        <a:lnTo>
                          <a:pt x="95" y="46"/>
                        </a:lnTo>
                        <a:lnTo>
                          <a:pt x="107" y="40"/>
                        </a:lnTo>
                        <a:lnTo>
                          <a:pt x="118" y="36"/>
                        </a:lnTo>
                        <a:lnTo>
                          <a:pt x="130" y="31"/>
                        </a:lnTo>
                        <a:lnTo>
                          <a:pt x="139" y="25"/>
                        </a:lnTo>
                        <a:lnTo>
                          <a:pt x="146" y="21"/>
                        </a:lnTo>
                        <a:lnTo>
                          <a:pt x="151" y="17"/>
                        </a:lnTo>
                        <a:lnTo>
                          <a:pt x="153" y="11"/>
                        </a:lnTo>
                        <a:lnTo>
                          <a:pt x="155" y="7"/>
                        </a:lnTo>
                        <a:lnTo>
                          <a:pt x="156" y="4"/>
                        </a:lnTo>
                        <a:lnTo>
                          <a:pt x="156" y="0"/>
                        </a:lnTo>
                        <a:lnTo>
                          <a:pt x="15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1853640" y="2593440"/>
                    <a:ext cx="1573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540">
                        <a:moveTo>
                          <a:pt x="552" y="523"/>
                        </a:moveTo>
                        <a:lnTo>
                          <a:pt x="552" y="520"/>
                        </a:lnTo>
                        <a:lnTo>
                          <a:pt x="552" y="515"/>
                        </a:lnTo>
                        <a:lnTo>
                          <a:pt x="550" y="511"/>
                        </a:lnTo>
                        <a:lnTo>
                          <a:pt x="546" y="507"/>
                        </a:lnTo>
                        <a:lnTo>
                          <a:pt x="541" y="502"/>
                        </a:lnTo>
                        <a:lnTo>
                          <a:pt x="535" y="498"/>
                        </a:lnTo>
                        <a:lnTo>
                          <a:pt x="528" y="495"/>
                        </a:lnTo>
                        <a:lnTo>
                          <a:pt x="520" y="490"/>
                        </a:lnTo>
                        <a:lnTo>
                          <a:pt x="507" y="485"/>
                        </a:lnTo>
                        <a:lnTo>
                          <a:pt x="490" y="477"/>
                        </a:lnTo>
                        <a:lnTo>
                          <a:pt x="469" y="468"/>
                        </a:lnTo>
                        <a:lnTo>
                          <a:pt x="445" y="455"/>
                        </a:lnTo>
                        <a:lnTo>
                          <a:pt x="421" y="442"/>
                        </a:lnTo>
                        <a:lnTo>
                          <a:pt x="399" y="429"/>
                        </a:lnTo>
                        <a:lnTo>
                          <a:pt x="380" y="414"/>
                        </a:lnTo>
                        <a:lnTo>
                          <a:pt x="364" y="403"/>
                        </a:lnTo>
                        <a:lnTo>
                          <a:pt x="357" y="397"/>
                        </a:lnTo>
                        <a:lnTo>
                          <a:pt x="351" y="393"/>
                        </a:lnTo>
                        <a:lnTo>
                          <a:pt x="345" y="390"/>
                        </a:lnTo>
                        <a:lnTo>
                          <a:pt x="337" y="386"/>
                        </a:lnTo>
                        <a:lnTo>
                          <a:pt x="330" y="385"/>
                        </a:lnTo>
                        <a:lnTo>
                          <a:pt x="323" y="383"/>
                        </a:lnTo>
                        <a:lnTo>
                          <a:pt x="314" y="382"/>
                        </a:lnTo>
                        <a:lnTo>
                          <a:pt x="305" y="380"/>
                        </a:lnTo>
                        <a:lnTo>
                          <a:pt x="294" y="378"/>
                        </a:lnTo>
                        <a:lnTo>
                          <a:pt x="281" y="377"/>
                        </a:lnTo>
                        <a:lnTo>
                          <a:pt x="269" y="377"/>
                        </a:lnTo>
                        <a:lnTo>
                          <a:pt x="256" y="377"/>
                        </a:lnTo>
                        <a:lnTo>
                          <a:pt x="244" y="377"/>
                        </a:lnTo>
                        <a:lnTo>
                          <a:pt x="234" y="377"/>
                        </a:lnTo>
                        <a:lnTo>
                          <a:pt x="226" y="377"/>
                        </a:lnTo>
                        <a:lnTo>
                          <a:pt x="222" y="377"/>
                        </a:lnTo>
                        <a:lnTo>
                          <a:pt x="218" y="375"/>
                        </a:lnTo>
                        <a:lnTo>
                          <a:pt x="213" y="373"/>
                        </a:lnTo>
                        <a:lnTo>
                          <a:pt x="210" y="370"/>
                        </a:lnTo>
                        <a:lnTo>
                          <a:pt x="207" y="367"/>
                        </a:lnTo>
                        <a:lnTo>
                          <a:pt x="201" y="352"/>
                        </a:lnTo>
                        <a:lnTo>
                          <a:pt x="193" y="318"/>
                        </a:lnTo>
                        <a:lnTo>
                          <a:pt x="182" y="274"/>
                        </a:lnTo>
                        <a:lnTo>
                          <a:pt x="168" y="222"/>
                        </a:lnTo>
                        <a:lnTo>
                          <a:pt x="153" y="167"/>
                        </a:lnTo>
                        <a:lnTo>
                          <a:pt x="137" y="117"/>
                        </a:lnTo>
                        <a:lnTo>
                          <a:pt x="122" y="73"/>
                        </a:lnTo>
                        <a:lnTo>
                          <a:pt x="107" y="43"/>
                        </a:lnTo>
                        <a:lnTo>
                          <a:pt x="99" y="31"/>
                        </a:lnTo>
                        <a:lnTo>
                          <a:pt x="89" y="21"/>
                        </a:lnTo>
                        <a:lnTo>
                          <a:pt x="79" y="13"/>
                        </a:lnTo>
                        <a:lnTo>
                          <a:pt x="68" y="6"/>
                        </a:lnTo>
                        <a:lnTo>
                          <a:pt x="55" y="2"/>
                        </a:lnTo>
                        <a:lnTo>
                          <a:pt x="43" y="0"/>
                        </a:lnTo>
                        <a:lnTo>
                          <a:pt x="30" y="2"/>
                        </a:lnTo>
                        <a:lnTo>
                          <a:pt x="18" y="8"/>
                        </a:lnTo>
                        <a:lnTo>
                          <a:pt x="9" y="20"/>
                        </a:lnTo>
                        <a:lnTo>
                          <a:pt x="3" y="36"/>
                        </a:lnTo>
                        <a:lnTo>
                          <a:pt x="1" y="56"/>
                        </a:lnTo>
                        <a:lnTo>
                          <a:pt x="0" y="75"/>
                        </a:lnTo>
                        <a:lnTo>
                          <a:pt x="3" y="104"/>
                        </a:lnTo>
                        <a:lnTo>
                          <a:pt x="9" y="135"/>
                        </a:lnTo>
                        <a:lnTo>
                          <a:pt x="18" y="171"/>
                        </a:lnTo>
                        <a:lnTo>
                          <a:pt x="30" y="206"/>
                        </a:lnTo>
                        <a:lnTo>
                          <a:pt x="45" y="244"/>
                        </a:lnTo>
                        <a:lnTo>
                          <a:pt x="61" y="282"/>
                        </a:lnTo>
                        <a:lnTo>
                          <a:pt x="80" y="319"/>
                        </a:lnTo>
                        <a:lnTo>
                          <a:pt x="101" y="354"/>
                        </a:lnTo>
                        <a:lnTo>
                          <a:pt x="105" y="360"/>
                        </a:lnTo>
                        <a:lnTo>
                          <a:pt x="109" y="367"/>
                        </a:lnTo>
                        <a:lnTo>
                          <a:pt x="114" y="375"/>
                        </a:lnTo>
                        <a:lnTo>
                          <a:pt x="120" y="383"/>
                        </a:lnTo>
                        <a:lnTo>
                          <a:pt x="125" y="391"/>
                        </a:lnTo>
                        <a:lnTo>
                          <a:pt x="129" y="398"/>
                        </a:lnTo>
                        <a:lnTo>
                          <a:pt x="133" y="405"/>
                        </a:lnTo>
                        <a:lnTo>
                          <a:pt x="135" y="409"/>
                        </a:lnTo>
                        <a:lnTo>
                          <a:pt x="138" y="418"/>
                        </a:lnTo>
                        <a:lnTo>
                          <a:pt x="143" y="425"/>
                        </a:lnTo>
                        <a:lnTo>
                          <a:pt x="152" y="433"/>
                        </a:lnTo>
                        <a:lnTo>
                          <a:pt x="163" y="439"/>
                        </a:lnTo>
                        <a:lnTo>
                          <a:pt x="170" y="442"/>
                        </a:lnTo>
                        <a:lnTo>
                          <a:pt x="179" y="442"/>
                        </a:lnTo>
                        <a:lnTo>
                          <a:pt x="188" y="442"/>
                        </a:lnTo>
                        <a:lnTo>
                          <a:pt x="198" y="440"/>
                        </a:lnTo>
                        <a:lnTo>
                          <a:pt x="210" y="439"/>
                        </a:lnTo>
                        <a:lnTo>
                          <a:pt x="222" y="440"/>
                        </a:lnTo>
                        <a:lnTo>
                          <a:pt x="237" y="442"/>
                        </a:lnTo>
                        <a:lnTo>
                          <a:pt x="253" y="446"/>
                        </a:lnTo>
                        <a:lnTo>
                          <a:pt x="265" y="449"/>
                        </a:lnTo>
                        <a:lnTo>
                          <a:pt x="280" y="453"/>
                        </a:lnTo>
                        <a:lnTo>
                          <a:pt x="299" y="459"/>
                        </a:lnTo>
                        <a:lnTo>
                          <a:pt x="320" y="465"/>
                        </a:lnTo>
                        <a:lnTo>
                          <a:pt x="340" y="471"/>
                        </a:lnTo>
                        <a:lnTo>
                          <a:pt x="360" y="476"/>
                        </a:lnTo>
                        <a:lnTo>
                          <a:pt x="376" y="481"/>
                        </a:lnTo>
                        <a:lnTo>
                          <a:pt x="387" y="485"/>
                        </a:lnTo>
                        <a:lnTo>
                          <a:pt x="398" y="489"/>
                        </a:lnTo>
                        <a:lnTo>
                          <a:pt x="414" y="497"/>
                        </a:lnTo>
                        <a:lnTo>
                          <a:pt x="433" y="504"/>
                        </a:lnTo>
                        <a:lnTo>
                          <a:pt x="453" y="512"/>
                        </a:lnTo>
                        <a:lnTo>
                          <a:pt x="473" y="521"/>
                        </a:lnTo>
                        <a:lnTo>
                          <a:pt x="491" y="527"/>
                        </a:lnTo>
                        <a:lnTo>
                          <a:pt x="504" y="533"/>
                        </a:lnTo>
                        <a:lnTo>
                          <a:pt x="512" y="536"/>
                        </a:lnTo>
                        <a:lnTo>
                          <a:pt x="518" y="538"/>
                        </a:lnTo>
                        <a:lnTo>
                          <a:pt x="523" y="539"/>
                        </a:lnTo>
                        <a:lnTo>
                          <a:pt x="528" y="540"/>
                        </a:lnTo>
                        <a:lnTo>
                          <a:pt x="534" y="540"/>
                        </a:lnTo>
                        <a:lnTo>
                          <a:pt x="539" y="539"/>
                        </a:lnTo>
                        <a:lnTo>
                          <a:pt x="544" y="536"/>
                        </a:lnTo>
                        <a:lnTo>
                          <a:pt x="549" y="530"/>
                        </a:lnTo>
                        <a:lnTo>
                          <a:pt x="552" y="5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1994040" y="2720520"/>
                    <a:ext cx="31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56">
                        <a:moveTo>
                          <a:pt x="0" y="32"/>
                        </a:moveTo>
                        <a:lnTo>
                          <a:pt x="3" y="28"/>
                        </a:lnTo>
                        <a:lnTo>
                          <a:pt x="11" y="22"/>
                        </a:lnTo>
                        <a:lnTo>
                          <a:pt x="20" y="17"/>
                        </a:lnTo>
                        <a:lnTo>
                          <a:pt x="29" y="13"/>
                        </a:lnTo>
                        <a:lnTo>
                          <a:pt x="37" y="9"/>
                        </a:lnTo>
                        <a:lnTo>
                          <a:pt x="44" y="5"/>
                        </a:lnTo>
                        <a:lnTo>
                          <a:pt x="52" y="0"/>
                        </a:lnTo>
                        <a:lnTo>
                          <a:pt x="57" y="0"/>
                        </a:lnTo>
                        <a:lnTo>
                          <a:pt x="62" y="4"/>
                        </a:lnTo>
                        <a:lnTo>
                          <a:pt x="67" y="10"/>
                        </a:lnTo>
                        <a:lnTo>
                          <a:pt x="71" y="19"/>
                        </a:lnTo>
                        <a:lnTo>
                          <a:pt x="75" y="29"/>
                        </a:lnTo>
                        <a:lnTo>
                          <a:pt x="77" y="34"/>
                        </a:lnTo>
                        <a:lnTo>
                          <a:pt x="80" y="41"/>
                        </a:lnTo>
                        <a:lnTo>
                          <a:pt x="83" y="47"/>
                        </a:lnTo>
                        <a:lnTo>
                          <a:pt x="86" y="55"/>
                        </a:lnTo>
                        <a:lnTo>
                          <a:pt x="90" y="63"/>
                        </a:lnTo>
                        <a:lnTo>
                          <a:pt x="95" y="71"/>
                        </a:lnTo>
                        <a:lnTo>
                          <a:pt x="101" y="80"/>
                        </a:lnTo>
                        <a:lnTo>
                          <a:pt x="109" y="88"/>
                        </a:lnTo>
                        <a:lnTo>
                          <a:pt x="112" y="91"/>
                        </a:lnTo>
                        <a:lnTo>
                          <a:pt x="113" y="95"/>
                        </a:lnTo>
                        <a:lnTo>
                          <a:pt x="113" y="98"/>
                        </a:lnTo>
                        <a:lnTo>
                          <a:pt x="113" y="102"/>
                        </a:lnTo>
                        <a:lnTo>
                          <a:pt x="113" y="110"/>
                        </a:lnTo>
                        <a:lnTo>
                          <a:pt x="113" y="123"/>
                        </a:lnTo>
                        <a:lnTo>
                          <a:pt x="112" y="137"/>
                        </a:lnTo>
                        <a:lnTo>
                          <a:pt x="112" y="147"/>
                        </a:lnTo>
                        <a:lnTo>
                          <a:pt x="111" y="152"/>
                        </a:lnTo>
                        <a:lnTo>
                          <a:pt x="109" y="155"/>
                        </a:lnTo>
                        <a:lnTo>
                          <a:pt x="105" y="156"/>
                        </a:lnTo>
                        <a:lnTo>
                          <a:pt x="102" y="154"/>
                        </a:lnTo>
                        <a:lnTo>
                          <a:pt x="99" y="150"/>
                        </a:lnTo>
                        <a:lnTo>
                          <a:pt x="96" y="143"/>
                        </a:lnTo>
                        <a:lnTo>
                          <a:pt x="93" y="135"/>
                        </a:lnTo>
                        <a:lnTo>
                          <a:pt x="91" y="123"/>
                        </a:lnTo>
                        <a:lnTo>
                          <a:pt x="80" y="113"/>
                        </a:lnTo>
                        <a:lnTo>
                          <a:pt x="66" y="100"/>
                        </a:lnTo>
                        <a:lnTo>
                          <a:pt x="51" y="86"/>
                        </a:lnTo>
                        <a:lnTo>
                          <a:pt x="36" y="71"/>
                        </a:lnTo>
                        <a:lnTo>
                          <a:pt x="22" y="58"/>
                        </a:lnTo>
                        <a:lnTo>
                          <a:pt x="10" y="46"/>
                        </a:lnTo>
                        <a:lnTo>
                          <a:pt x="3" y="36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000880" y="2718360"/>
                    <a:ext cx="273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8">
                        <a:moveTo>
                          <a:pt x="0" y="18"/>
                        </a:moveTo>
                        <a:lnTo>
                          <a:pt x="2" y="16"/>
                        </a:lnTo>
                        <a:lnTo>
                          <a:pt x="5" y="14"/>
                        </a:lnTo>
                        <a:lnTo>
                          <a:pt x="8" y="11"/>
                        </a:lnTo>
                        <a:lnTo>
                          <a:pt x="12" y="7"/>
                        </a:lnTo>
                        <a:lnTo>
                          <a:pt x="16" y="4"/>
                        </a:lnTo>
                        <a:lnTo>
                          <a:pt x="21" y="2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38" y="1"/>
                        </a:lnTo>
                        <a:lnTo>
                          <a:pt x="43" y="3"/>
                        </a:lnTo>
                        <a:lnTo>
                          <a:pt x="48" y="5"/>
                        </a:lnTo>
                        <a:lnTo>
                          <a:pt x="54" y="9"/>
                        </a:lnTo>
                        <a:lnTo>
                          <a:pt x="61" y="12"/>
                        </a:lnTo>
                        <a:lnTo>
                          <a:pt x="68" y="15"/>
                        </a:lnTo>
                        <a:lnTo>
                          <a:pt x="78" y="18"/>
                        </a:lnTo>
                        <a:lnTo>
                          <a:pt x="91" y="20"/>
                        </a:lnTo>
                        <a:lnTo>
                          <a:pt x="91" y="24"/>
                        </a:lnTo>
                        <a:lnTo>
                          <a:pt x="91" y="26"/>
                        </a:lnTo>
                        <a:lnTo>
                          <a:pt x="91" y="27"/>
                        </a:lnTo>
                        <a:lnTo>
                          <a:pt x="90" y="29"/>
                        </a:lnTo>
                        <a:lnTo>
                          <a:pt x="85" y="29"/>
                        </a:lnTo>
                        <a:lnTo>
                          <a:pt x="81" y="29"/>
                        </a:lnTo>
                        <a:lnTo>
                          <a:pt x="75" y="30"/>
                        </a:lnTo>
                        <a:lnTo>
                          <a:pt x="70" y="30"/>
                        </a:lnTo>
                        <a:lnTo>
                          <a:pt x="66" y="31"/>
                        </a:lnTo>
                        <a:lnTo>
                          <a:pt x="62" y="33"/>
                        </a:lnTo>
                        <a:lnTo>
                          <a:pt x="59" y="37"/>
                        </a:lnTo>
                        <a:lnTo>
                          <a:pt x="57" y="40"/>
                        </a:lnTo>
                        <a:lnTo>
                          <a:pt x="62" y="52"/>
                        </a:lnTo>
                        <a:lnTo>
                          <a:pt x="67" y="63"/>
                        </a:lnTo>
                        <a:lnTo>
                          <a:pt x="73" y="71"/>
                        </a:lnTo>
                        <a:lnTo>
                          <a:pt x="79" y="79"/>
                        </a:lnTo>
                        <a:lnTo>
                          <a:pt x="85" y="85"/>
                        </a:lnTo>
                        <a:lnTo>
                          <a:pt x="89" y="91"/>
                        </a:lnTo>
                        <a:lnTo>
                          <a:pt x="92" y="95"/>
                        </a:lnTo>
                        <a:lnTo>
                          <a:pt x="93" y="100"/>
                        </a:lnTo>
                        <a:lnTo>
                          <a:pt x="93" y="111"/>
                        </a:lnTo>
                        <a:lnTo>
                          <a:pt x="93" y="129"/>
                        </a:lnTo>
                        <a:lnTo>
                          <a:pt x="91" y="146"/>
                        </a:lnTo>
                        <a:lnTo>
                          <a:pt x="89" y="158"/>
                        </a:lnTo>
                        <a:lnTo>
                          <a:pt x="86" y="165"/>
                        </a:lnTo>
                        <a:lnTo>
                          <a:pt x="83" y="168"/>
                        </a:lnTo>
                        <a:lnTo>
                          <a:pt x="78" y="168"/>
                        </a:lnTo>
                        <a:lnTo>
                          <a:pt x="74" y="165"/>
                        </a:lnTo>
                        <a:lnTo>
                          <a:pt x="70" y="156"/>
                        </a:lnTo>
                        <a:lnTo>
                          <a:pt x="68" y="146"/>
                        </a:lnTo>
                        <a:lnTo>
                          <a:pt x="66" y="136"/>
                        </a:lnTo>
                        <a:lnTo>
                          <a:pt x="65" y="130"/>
                        </a:lnTo>
                        <a:lnTo>
                          <a:pt x="69" y="122"/>
                        </a:lnTo>
                        <a:lnTo>
                          <a:pt x="70" y="115"/>
                        </a:lnTo>
                        <a:lnTo>
                          <a:pt x="68" y="106"/>
                        </a:lnTo>
                        <a:lnTo>
                          <a:pt x="62" y="93"/>
                        </a:lnTo>
                        <a:lnTo>
                          <a:pt x="58" y="84"/>
                        </a:lnTo>
                        <a:lnTo>
                          <a:pt x="51" y="74"/>
                        </a:lnTo>
                        <a:lnTo>
                          <a:pt x="45" y="63"/>
                        </a:lnTo>
                        <a:lnTo>
                          <a:pt x="38" y="51"/>
                        </a:lnTo>
                        <a:lnTo>
                          <a:pt x="31" y="41"/>
                        </a:lnTo>
                        <a:lnTo>
                          <a:pt x="25" y="31"/>
                        </a:lnTo>
                        <a:lnTo>
                          <a:pt x="18" y="25"/>
                        </a:lnTo>
                        <a:lnTo>
                          <a:pt x="14" y="22"/>
                        </a:lnTo>
                        <a:lnTo>
                          <a:pt x="10" y="20"/>
                        </a:lnTo>
                        <a:lnTo>
                          <a:pt x="8" y="19"/>
                        </a:lnTo>
                        <a:lnTo>
                          <a:pt x="6" y="19"/>
                        </a:lnTo>
                        <a:lnTo>
                          <a:pt x="4" y="19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1793880" y="2554200"/>
                    <a:ext cx="1267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606">
                        <a:moveTo>
                          <a:pt x="432" y="519"/>
                        </a:moveTo>
                        <a:lnTo>
                          <a:pt x="437" y="519"/>
                        </a:lnTo>
                        <a:lnTo>
                          <a:pt x="442" y="521"/>
                        </a:lnTo>
                        <a:lnTo>
                          <a:pt x="444" y="524"/>
                        </a:lnTo>
                        <a:lnTo>
                          <a:pt x="441" y="528"/>
                        </a:lnTo>
                        <a:lnTo>
                          <a:pt x="437" y="529"/>
                        </a:lnTo>
                        <a:lnTo>
                          <a:pt x="434" y="531"/>
                        </a:lnTo>
                        <a:lnTo>
                          <a:pt x="430" y="533"/>
                        </a:lnTo>
                        <a:lnTo>
                          <a:pt x="425" y="536"/>
                        </a:lnTo>
                        <a:lnTo>
                          <a:pt x="420" y="541"/>
                        </a:lnTo>
                        <a:lnTo>
                          <a:pt x="415" y="546"/>
                        </a:lnTo>
                        <a:lnTo>
                          <a:pt x="408" y="551"/>
                        </a:lnTo>
                        <a:lnTo>
                          <a:pt x="402" y="559"/>
                        </a:lnTo>
                        <a:lnTo>
                          <a:pt x="396" y="567"/>
                        </a:lnTo>
                        <a:lnTo>
                          <a:pt x="390" y="573"/>
                        </a:lnTo>
                        <a:lnTo>
                          <a:pt x="385" y="578"/>
                        </a:lnTo>
                        <a:lnTo>
                          <a:pt x="378" y="584"/>
                        </a:lnTo>
                        <a:lnTo>
                          <a:pt x="372" y="588"/>
                        </a:lnTo>
                        <a:lnTo>
                          <a:pt x="366" y="591"/>
                        </a:lnTo>
                        <a:lnTo>
                          <a:pt x="360" y="594"/>
                        </a:lnTo>
                        <a:lnTo>
                          <a:pt x="352" y="596"/>
                        </a:lnTo>
                        <a:lnTo>
                          <a:pt x="340" y="599"/>
                        </a:lnTo>
                        <a:lnTo>
                          <a:pt x="328" y="601"/>
                        </a:lnTo>
                        <a:lnTo>
                          <a:pt x="315" y="602"/>
                        </a:lnTo>
                        <a:lnTo>
                          <a:pt x="302" y="603"/>
                        </a:lnTo>
                        <a:lnTo>
                          <a:pt x="289" y="604"/>
                        </a:lnTo>
                        <a:lnTo>
                          <a:pt x="275" y="606"/>
                        </a:lnTo>
                        <a:lnTo>
                          <a:pt x="261" y="604"/>
                        </a:lnTo>
                        <a:lnTo>
                          <a:pt x="248" y="604"/>
                        </a:lnTo>
                        <a:lnTo>
                          <a:pt x="233" y="603"/>
                        </a:lnTo>
                        <a:lnTo>
                          <a:pt x="219" y="602"/>
                        </a:lnTo>
                        <a:lnTo>
                          <a:pt x="205" y="600"/>
                        </a:lnTo>
                        <a:lnTo>
                          <a:pt x="191" y="599"/>
                        </a:lnTo>
                        <a:lnTo>
                          <a:pt x="176" y="596"/>
                        </a:lnTo>
                        <a:lnTo>
                          <a:pt x="162" y="594"/>
                        </a:lnTo>
                        <a:lnTo>
                          <a:pt x="148" y="590"/>
                        </a:lnTo>
                        <a:lnTo>
                          <a:pt x="134" y="587"/>
                        </a:lnTo>
                        <a:lnTo>
                          <a:pt x="123" y="584"/>
                        </a:lnTo>
                        <a:lnTo>
                          <a:pt x="107" y="580"/>
                        </a:lnTo>
                        <a:lnTo>
                          <a:pt x="87" y="573"/>
                        </a:lnTo>
                        <a:lnTo>
                          <a:pt x="66" y="567"/>
                        </a:lnTo>
                        <a:lnTo>
                          <a:pt x="46" y="559"/>
                        </a:lnTo>
                        <a:lnTo>
                          <a:pt x="27" y="554"/>
                        </a:lnTo>
                        <a:lnTo>
                          <a:pt x="12" y="548"/>
                        </a:lnTo>
                        <a:lnTo>
                          <a:pt x="4" y="545"/>
                        </a:lnTo>
                        <a:lnTo>
                          <a:pt x="2" y="528"/>
                        </a:lnTo>
                        <a:lnTo>
                          <a:pt x="0" y="506"/>
                        </a:lnTo>
                        <a:lnTo>
                          <a:pt x="0" y="485"/>
                        </a:lnTo>
                        <a:lnTo>
                          <a:pt x="2" y="468"/>
                        </a:lnTo>
                        <a:lnTo>
                          <a:pt x="5" y="456"/>
                        </a:lnTo>
                        <a:lnTo>
                          <a:pt x="9" y="447"/>
                        </a:lnTo>
                        <a:lnTo>
                          <a:pt x="12" y="441"/>
                        </a:lnTo>
                        <a:lnTo>
                          <a:pt x="17" y="432"/>
                        </a:lnTo>
                        <a:lnTo>
                          <a:pt x="23" y="418"/>
                        </a:lnTo>
                        <a:lnTo>
                          <a:pt x="36" y="395"/>
                        </a:lnTo>
                        <a:lnTo>
                          <a:pt x="55" y="365"/>
                        </a:lnTo>
                        <a:lnTo>
                          <a:pt x="77" y="330"/>
                        </a:lnTo>
                        <a:lnTo>
                          <a:pt x="99" y="295"/>
                        </a:lnTo>
                        <a:lnTo>
                          <a:pt x="123" y="260"/>
                        </a:lnTo>
                        <a:lnTo>
                          <a:pt x="146" y="230"/>
                        </a:lnTo>
                        <a:lnTo>
                          <a:pt x="165" y="207"/>
                        </a:lnTo>
                        <a:lnTo>
                          <a:pt x="168" y="203"/>
                        </a:lnTo>
                        <a:lnTo>
                          <a:pt x="170" y="200"/>
                        </a:lnTo>
                        <a:lnTo>
                          <a:pt x="171" y="198"/>
                        </a:lnTo>
                        <a:lnTo>
                          <a:pt x="171" y="196"/>
                        </a:lnTo>
                        <a:lnTo>
                          <a:pt x="171" y="194"/>
                        </a:lnTo>
                        <a:lnTo>
                          <a:pt x="172" y="192"/>
                        </a:lnTo>
                        <a:lnTo>
                          <a:pt x="174" y="192"/>
                        </a:lnTo>
                        <a:lnTo>
                          <a:pt x="176" y="192"/>
                        </a:lnTo>
                        <a:lnTo>
                          <a:pt x="179" y="193"/>
                        </a:lnTo>
                        <a:lnTo>
                          <a:pt x="182" y="193"/>
                        </a:lnTo>
                        <a:lnTo>
                          <a:pt x="184" y="191"/>
                        </a:lnTo>
                        <a:lnTo>
                          <a:pt x="184" y="189"/>
                        </a:lnTo>
                        <a:lnTo>
                          <a:pt x="181" y="186"/>
                        </a:lnTo>
                        <a:lnTo>
                          <a:pt x="177" y="183"/>
                        </a:lnTo>
                        <a:lnTo>
                          <a:pt x="173" y="180"/>
                        </a:lnTo>
                        <a:lnTo>
                          <a:pt x="171" y="177"/>
                        </a:lnTo>
                        <a:lnTo>
                          <a:pt x="171" y="169"/>
                        </a:lnTo>
                        <a:lnTo>
                          <a:pt x="170" y="157"/>
                        </a:lnTo>
                        <a:lnTo>
                          <a:pt x="170" y="143"/>
                        </a:lnTo>
                        <a:lnTo>
                          <a:pt x="168" y="128"/>
                        </a:lnTo>
                        <a:lnTo>
                          <a:pt x="165" y="109"/>
                        </a:lnTo>
                        <a:lnTo>
                          <a:pt x="162" y="88"/>
                        </a:lnTo>
                        <a:lnTo>
                          <a:pt x="160" y="67"/>
                        </a:lnTo>
                        <a:lnTo>
                          <a:pt x="160" y="55"/>
                        </a:lnTo>
                        <a:lnTo>
                          <a:pt x="161" y="53"/>
                        </a:lnTo>
                        <a:lnTo>
                          <a:pt x="162" y="51"/>
                        </a:lnTo>
                        <a:lnTo>
                          <a:pt x="163" y="49"/>
                        </a:lnTo>
                        <a:lnTo>
                          <a:pt x="163" y="47"/>
                        </a:lnTo>
                        <a:lnTo>
                          <a:pt x="162" y="40"/>
                        </a:lnTo>
                        <a:lnTo>
                          <a:pt x="161" y="30"/>
                        </a:lnTo>
                        <a:lnTo>
                          <a:pt x="161" y="21"/>
                        </a:lnTo>
                        <a:lnTo>
                          <a:pt x="162" y="16"/>
                        </a:lnTo>
                        <a:lnTo>
                          <a:pt x="183" y="17"/>
                        </a:lnTo>
                        <a:lnTo>
                          <a:pt x="204" y="17"/>
                        </a:lnTo>
                        <a:lnTo>
                          <a:pt x="225" y="15"/>
                        </a:lnTo>
                        <a:lnTo>
                          <a:pt x="245" y="12"/>
                        </a:lnTo>
                        <a:lnTo>
                          <a:pt x="261" y="9"/>
                        </a:lnTo>
                        <a:lnTo>
                          <a:pt x="276" y="5"/>
                        </a:lnTo>
                        <a:lnTo>
                          <a:pt x="286" y="2"/>
                        </a:lnTo>
                        <a:lnTo>
                          <a:pt x="291" y="0"/>
                        </a:lnTo>
                        <a:lnTo>
                          <a:pt x="295" y="21"/>
                        </a:lnTo>
                        <a:lnTo>
                          <a:pt x="305" y="43"/>
                        </a:lnTo>
                        <a:lnTo>
                          <a:pt x="317" y="68"/>
                        </a:lnTo>
                        <a:lnTo>
                          <a:pt x="331" y="93"/>
                        </a:lnTo>
                        <a:lnTo>
                          <a:pt x="343" y="120"/>
                        </a:lnTo>
                        <a:lnTo>
                          <a:pt x="353" y="146"/>
                        </a:lnTo>
                        <a:lnTo>
                          <a:pt x="359" y="172"/>
                        </a:lnTo>
                        <a:lnTo>
                          <a:pt x="357" y="198"/>
                        </a:lnTo>
                        <a:lnTo>
                          <a:pt x="355" y="207"/>
                        </a:lnTo>
                        <a:lnTo>
                          <a:pt x="352" y="217"/>
                        </a:lnTo>
                        <a:lnTo>
                          <a:pt x="351" y="226"/>
                        </a:lnTo>
                        <a:lnTo>
                          <a:pt x="351" y="234"/>
                        </a:lnTo>
                        <a:lnTo>
                          <a:pt x="353" y="238"/>
                        </a:lnTo>
                        <a:lnTo>
                          <a:pt x="355" y="243"/>
                        </a:lnTo>
                        <a:lnTo>
                          <a:pt x="355" y="247"/>
                        </a:lnTo>
                        <a:lnTo>
                          <a:pt x="353" y="251"/>
                        </a:lnTo>
                        <a:lnTo>
                          <a:pt x="351" y="256"/>
                        </a:lnTo>
                        <a:lnTo>
                          <a:pt x="351" y="259"/>
                        </a:lnTo>
                        <a:lnTo>
                          <a:pt x="351" y="263"/>
                        </a:lnTo>
                        <a:lnTo>
                          <a:pt x="353" y="268"/>
                        </a:lnTo>
                        <a:lnTo>
                          <a:pt x="356" y="273"/>
                        </a:lnTo>
                        <a:lnTo>
                          <a:pt x="359" y="285"/>
                        </a:lnTo>
                        <a:lnTo>
                          <a:pt x="363" y="301"/>
                        </a:lnTo>
                        <a:lnTo>
                          <a:pt x="368" y="321"/>
                        </a:lnTo>
                        <a:lnTo>
                          <a:pt x="373" y="340"/>
                        </a:lnTo>
                        <a:lnTo>
                          <a:pt x="377" y="360"/>
                        </a:lnTo>
                        <a:lnTo>
                          <a:pt x="383" y="377"/>
                        </a:lnTo>
                        <a:lnTo>
                          <a:pt x="386" y="390"/>
                        </a:lnTo>
                        <a:lnTo>
                          <a:pt x="393" y="420"/>
                        </a:lnTo>
                        <a:lnTo>
                          <a:pt x="401" y="458"/>
                        </a:lnTo>
                        <a:lnTo>
                          <a:pt x="409" y="492"/>
                        </a:lnTo>
                        <a:lnTo>
                          <a:pt x="415" y="507"/>
                        </a:lnTo>
                        <a:lnTo>
                          <a:pt x="418" y="508"/>
                        </a:lnTo>
                        <a:lnTo>
                          <a:pt x="420" y="507"/>
                        </a:lnTo>
                        <a:lnTo>
                          <a:pt x="422" y="505"/>
                        </a:lnTo>
                        <a:lnTo>
                          <a:pt x="425" y="505"/>
                        </a:lnTo>
                        <a:lnTo>
                          <a:pt x="427" y="508"/>
                        </a:lnTo>
                        <a:lnTo>
                          <a:pt x="428" y="513"/>
                        </a:lnTo>
                        <a:lnTo>
                          <a:pt x="429" y="518"/>
                        </a:lnTo>
                        <a:lnTo>
                          <a:pt x="432" y="5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1841040" y="2469600"/>
                    <a:ext cx="579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427">
                        <a:moveTo>
                          <a:pt x="204" y="384"/>
                        </a:moveTo>
                        <a:lnTo>
                          <a:pt x="199" y="388"/>
                        </a:lnTo>
                        <a:lnTo>
                          <a:pt x="185" y="395"/>
                        </a:lnTo>
                        <a:lnTo>
                          <a:pt x="167" y="403"/>
                        </a:lnTo>
                        <a:lnTo>
                          <a:pt x="145" y="413"/>
                        </a:lnTo>
                        <a:lnTo>
                          <a:pt x="121" y="421"/>
                        </a:lnTo>
                        <a:lnTo>
                          <a:pt x="99" y="426"/>
                        </a:lnTo>
                        <a:lnTo>
                          <a:pt x="82" y="427"/>
                        </a:lnTo>
                        <a:lnTo>
                          <a:pt x="69" y="423"/>
                        </a:lnTo>
                        <a:lnTo>
                          <a:pt x="62" y="413"/>
                        </a:lnTo>
                        <a:lnTo>
                          <a:pt x="56" y="398"/>
                        </a:lnTo>
                        <a:lnTo>
                          <a:pt x="50" y="381"/>
                        </a:lnTo>
                        <a:lnTo>
                          <a:pt x="46" y="361"/>
                        </a:lnTo>
                        <a:lnTo>
                          <a:pt x="41" y="341"/>
                        </a:lnTo>
                        <a:lnTo>
                          <a:pt x="37" y="321"/>
                        </a:lnTo>
                        <a:lnTo>
                          <a:pt x="32" y="303"/>
                        </a:lnTo>
                        <a:lnTo>
                          <a:pt x="27" y="286"/>
                        </a:lnTo>
                        <a:lnTo>
                          <a:pt x="20" y="268"/>
                        </a:lnTo>
                        <a:lnTo>
                          <a:pt x="14" y="244"/>
                        </a:lnTo>
                        <a:lnTo>
                          <a:pt x="9" y="217"/>
                        </a:lnTo>
                        <a:lnTo>
                          <a:pt x="5" y="188"/>
                        </a:lnTo>
                        <a:lnTo>
                          <a:pt x="2" y="158"/>
                        </a:lnTo>
                        <a:lnTo>
                          <a:pt x="0" y="128"/>
                        </a:lnTo>
                        <a:lnTo>
                          <a:pt x="0" y="103"/>
                        </a:lnTo>
                        <a:lnTo>
                          <a:pt x="3" y="83"/>
                        </a:lnTo>
                        <a:lnTo>
                          <a:pt x="7" y="67"/>
                        </a:lnTo>
                        <a:lnTo>
                          <a:pt x="10" y="52"/>
                        </a:lnTo>
                        <a:lnTo>
                          <a:pt x="13" y="41"/>
                        </a:lnTo>
                        <a:lnTo>
                          <a:pt x="17" y="31"/>
                        </a:lnTo>
                        <a:lnTo>
                          <a:pt x="21" y="23"/>
                        </a:lnTo>
                        <a:lnTo>
                          <a:pt x="27" y="17"/>
                        </a:lnTo>
                        <a:lnTo>
                          <a:pt x="35" y="11"/>
                        </a:lnTo>
                        <a:lnTo>
                          <a:pt x="44" y="8"/>
                        </a:lnTo>
                        <a:lnTo>
                          <a:pt x="54" y="5"/>
                        </a:lnTo>
                        <a:lnTo>
                          <a:pt x="61" y="3"/>
                        </a:lnTo>
                        <a:lnTo>
                          <a:pt x="68" y="2"/>
                        </a:lnTo>
                        <a:lnTo>
                          <a:pt x="73" y="0"/>
                        </a:lnTo>
                        <a:lnTo>
                          <a:pt x="76" y="0"/>
                        </a:lnTo>
                        <a:lnTo>
                          <a:pt x="80" y="2"/>
                        </a:lnTo>
                        <a:lnTo>
                          <a:pt x="82" y="3"/>
                        </a:lnTo>
                        <a:lnTo>
                          <a:pt x="83" y="4"/>
                        </a:lnTo>
                        <a:lnTo>
                          <a:pt x="84" y="8"/>
                        </a:lnTo>
                        <a:lnTo>
                          <a:pt x="87" y="13"/>
                        </a:lnTo>
                        <a:lnTo>
                          <a:pt x="88" y="18"/>
                        </a:lnTo>
                        <a:lnTo>
                          <a:pt x="88" y="20"/>
                        </a:lnTo>
                        <a:lnTo>
                          <a:pt x="87" y="21"/>
                        </a:lnTo>
                        <a:lnTo>
                          <a:pt x="87" y="23"/>
                        </a:lnTo>
                        <a:lnTo>
                          <a:pt x="87" y="24"/>
                        </a:lnTo>
                        <a:lnTo>
                          <a:pt x="87" y="24"/>
                        </a:lnTo>
                        <a:lnTo>
                          <a:pt x="95" y="31"/>
                        </a:lnTo>
                        <a:lnTo>
                          <a:pt x="103" y="38"/>
                        </a:lnTo>
                        <a:lnTo>
                          <a:pt x="113" y="47"/>
                        </a:lnTo>
                        <a:lnTo>
                          <a:pt x="121" y="58"/>
                        </a:lnTo>
                        <a:lnTo>
                          <a:pt x="129" y="71"/>
                        </a:lnTo>
                        <a:lnTo>
                          <a:pt x="137" y="86"/>
                        </a:lnTo>
                        <a:lnTo>
                          <a:pt x="144" y="104"/>
                        </a:lnTo>
                        <a:lnTo>
                          <a:pt x="149" y="126"/>
                        </a:lnTo>
                        <a:lnTo>
                          <a:pt x="154" y="169"/>
                        </a:lnTo>
                        <a:lnTo>
                          <a:pt x="156" y="208"/>
                        </a:lnTo>
                        <a:lnTo>
                          <a:pt x="159" y="244"/>
                        </a:lnTo>
                        <a:lnTo>
                          <a:pt x="170" y="282"/>
                        </a:lnTo>
                        <a:lnTo>
                          <a:pt x="177" y="302"/>
                        </a:lnTo>
                        <a:lnTo>
                          <a:pt x="184" y="320"/>
                        </a:lnTo>
                        <a:lnTo>
                          <a:pt x="189" y="336"/>
                        </a:lnTo>
                        <a:lnTo>
                          <a:pt x="195" y="350"/>
                        </a:lnTo>
                        <a:lnTo>
                          <a:pt x="199" y="363"/>
                        </a:lnTo>
                        <a:lnTo>
                          <a:pt x="202" y="373"/>
                        </a:lnTo>
                        <a:lnTo>
                          <a:pt x="204" y="380"/>
                        </a:lnTo>
                        <a:lnTo>
                          <a:pt x="204" y="3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1828440" y="2466360"/>
                    <a:ext cx="3384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353">
                        <a:moveTo>
                          <a:pt x="120" y="11"/>
                        </a:moveTo>
                        <a:lnTo>
                          <a:pt x="118" y="11"/>
                        </a:lnTo>
                        <a:lnTo>
                          <a:pt x="115" y="13"/>
                        </a:lnTo>
                        <a:lnTo>
                          <a:pt x="112" y="14"/>
                        </a:lnTo>
                        <a:lnTo>
                          <a:pt x="108" y="14"/>
                        </a:lnTo>
                        <a:lnTo>
                          <a:pt x="104" y="15"/>
                        </a:lnTo>
                        <a:lnTo>
                          <a:pt x="100" y="16"/>
                        </a:lnTo>
                        <a:lnTo>
                          <a:pt x="94" y="18"/>
                        </a:lnTo>
                        <a:lnTo>
                          <a:pt x="89" y="19"/>
                        </a:lnTo>
                        <a:lnTo>
                          <a:pt x="80" y="22"/>
                        </a:lnTo>
                        <a:lnTo>
                          <a:pt x="72" y="28"/>
                        </a:lnTo>
                        <a:lnTo>
                          <a:pt x="66" y="34"/>
                        </a:lnTo>
                        <a:lnTo>
                          <a:pt x="62" y="42"/>
                        </a:lnTo>
                        <a:lnTo>
                          <a:pt x="58" y="52"/>
                        </a:lnTo>
                        <a:lnTo>
                          <a:pt x="55" y="63"/>
                        </a:lnTo>
                        <a:lnTo>
                          <a:pt x="52" y="78"/>
                        </a:lnTo>
                        <a:lnTo>
                          <a:pt x="48" y="94"/>
                        </a:lnTo>
                        <a:lnTo>
                          <a:pt x="45" y="114"/>
                        </a:lnTo>
                        <a:lnTo>
                          <a:pt x="45" y="139"/>
                        </a:lnTo>
                        <a:lnTo>
                          <a:pt x="47" y="169"/>
                        </a:lnTo>
                        <a:lnTo>
                          <a:pt x="50" y="199"/>
                        </a:lnTo>
                        <a:lnTo>
                          <a:pt x="54" y="228"/>
                        </a:lnTo>
                        <a:lnTo>
                          <a:pt x="59" y="255"/>
                        </a:lnTo>
                        <a:lnTo>
                          <a:pt x="65" y="279"/>
                        </a:lnTo>
                        <a:lnTo>
                          <a:pt x="72" y="297"/>
                        </a:lnTo>
                        <a:lnTo>
                          <a:pt x="76" y="308"/>
                        </a:lnTo>
                        <a:lnTo>
                          <a:pt x="79" y="320"/>
                        </a:lnTo>
                        <a:lnTo>
                          <a:pt x="82" y="334"/>
                        </a:lnTo>
                        <a:lnTo>
                          <a:pt x="85" y="348"/>
                        </a:lnTo>
                        <a:lnTo>
                          <a:pt x="80" y="348"/>
                        </a:lnTo>
                        <a:lnTo>
                          <a:pt x="75" y="348"/>
                        </a:lnTo>
                        <a:lnTo>
                          <a:pt x="70" y="348"/>
                        </a:lnTo>
                        <a:lnTo>
                          <a:pt x="65" y="348"/>
                        </a:lnTo>
                        <a:lnTo>
                          <a:pt x="60" y="348"/>
                        </a:lnTo>
                        <a:lnTo>
                          <a:pt x="55" y="348"/>
                        </a:lnTo>
                        <a:lnTo>
                          <a:pt x="50" y="347"/>
                        </a:lnTo>
                        <a:lnTo>
                          <a:pt x="45" y="347"/>
                        </a:lnTo>
                        <a:lnTo>
                          <a:pt x="44" y="348"/>
                        </a:lnTo>
                        <a:lnTo>
                          <a:pt x="44" y="349"/>
                        </a:lnTo>
                        <a:lnTo>
                          <a:pt x="44" y="352"/>
                        </a:lnTo>
                        <a:lnTo>
                          <a:pt x="44" y="353"/>
                        </a:lnTo>
                        <a:lnTo>
                          <a:pt x="36" y="351"/>
                        </a:lnTo>
                        <a:lnTo>
                          <a:pt x="32" y="347"/>
                        </a:lnTo>
                        <a:lnTo>
                          <a:pt x="29" y="344"/>
                        </a:lnTo>
                        <a:lnTo>
                          <a:pt x="29" y="336"/>
                        </a:lnTo>
                        <a:lnTo>
                          <a:pt x="28" y="321"/>
                        </a:lnTo>
                        <a:lnTo>
                          <a:pt x="24" y="299"/>
                        </a:lnTo>
                        <a:lnTo>
                          <a:pt x="18" y="274"/>
                        </a:lnTo>
                        <a:lnTo>
                          <a:pt x="10" y="251"/>
                        </a:lnTo>
                        <a:lnTo>
                          <a:pt x="3" y="234"/>
                        </a:lnTo>
                        <a:lnTo>
                          <a:pt x="0" y="219"/>
                        </a:lnTo>
                        <a:lnTo>
                          <a:pt x="2" y="208"/>
                        </a:lnTo>
                        <a:lnTo>
                          <a:pt x="7" y="197"/>
                        </a:lnTo>
                        <a:lnTo>
                          <a:pt x="15" y="186"/>
                        </a:lnTo>
                        <a:lnTo>
                          <a:pt x="20" y="173"/>
                        </a:lnTo>
                        <a:lnTo>
                          <a:pt x="24" y="160"/>
                        </a:lnTo>
                        <a:lnTo>
                          <a:pt x="26" y="145"/>
                        </a:lnTo>
                        <a:lnTo>
                          <a:pt x="26" y="125"/>
                        </a:lnTo>
                        <a:lnTo>
                          <a:pt x="24" y="100"/>
                        </a:lnTo>
                        <a:lnTo>
                          <a:pt x="24" y="80"/>
                        </a:lnTo>
                        <a:lnTo>
                          <a:pt x="25" y="69"/>
                        </a:lnTo>
                        <a:lnTo>
                          <a:pt x="28" y="68"/>
                        </a:lnTo>
                        <a:lnTo>
                          <a:pt x="31" y="66"/>
                        </a:lnTo>
                        <a:lnTo>
                          <a:pt x="34" y="63"/>
                        </a:lnTo>
                        <a:lnTo>
                          <a:pt x="39" y="61"/>
                        </a:lnTo>
                        <a:lnTo>
                          <a:pt x="37" y="56"/>
                        </a:lnTo>
                        <a:lnTo>
                          <a:pt x="34" y="50"/>
                        </a:lnTo>
                        <a:lnTo>
                          <a:pt x="33" y="46"/>
                        </a:lnTo>
                        <a:lnTo>
                          <a:pt x="34" y="43"/>
                        </a:lnTo>
                        <a:lnTo>
                          <a:pt x="43" y="34"/>
                        </a:lnTo>
                        <a:lnTo>
                          <a:pt x="53" y="26"/>
                        </a:lnTo>
                        <a:lnTo>
                          <a:pt x="64" y="18"/>
                        </a:lnTo>
                        <a:lnTo>
                          <a:pt x="76" y="11"/>
                        </a:lnTo>
                        <a:lnTo>
                          <a:pt x="87" y="5"/>
                        </a:lnTo>
                        <a:lnTo>
                          <a:pt x="99" y="2"/>
                        </a:lnTo>
                        <a:lnTo>
                          <a:pt x="107" y="0"/>
                        </a:lnTo>
                        <a:lnTo>
                          <a:pt x="114" y="0"/>
                        </a:lnTo>
                        <a:lnTo>
                          <a:pt x="116" y="4"/>
                        </a:lnTo>
                        <a:lnTo>
                          <a:pt x="117" y="6"/>
                        </a:lnTo>
                        <a:lnTo>
                          <a:pt x="119" y="8"/>
                        </a:lnTo>
                        <a:lnTo>
                          <a:pt x="12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1878840" y="2596680"/>
                    <a:ext cx="946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237">
                        <a:moveTo>
                          <a:pt x="37" y="237"/>
                        </a:moveTo>
                        <a:lnTo>
                          <a:pt x="33" y="237"/>
                        </a:lnTo>
                        <a:lnTo>
                          <a:pt x="30" y="235"/>
                        </a:lnTo>
                        <a:lnTo>
                          <a:pt x="28" y="232"/>
                        </a:lnTo>
                        <a:lnTo>
                          <a:pt x="27" y="229"/>
                        </a:lnTo>
                        <a:lnTo>
                          <a:pt x="0" y="58"/>
                        </a:lnTo>
                        <a:lnTo>
                          <a:pt x="0" y="54"/>
                        </a:lnTo>
                        <a:lnTo>
                          <a:pt x="2" y="50"/>
                        </a:lnTo>
                        <a:lnTo>
                          <a:pt x="5" y="48"/>
                        </a:lnTo>
                        <a:lnTo>
                          <a:pt x="8" y="47"/>
                        </a:lnTo>
                        <a:lnTo>
                          <a:pt x="296" y="0"/>
                        </a:lnTo>
                        <a:lnTo>
                          <a:pt x="300" y="0"/>
                        </a:lnTo>
                        <a:lnTo>
                          <a:pt x="302" y="2"/>
                        </a:lnTo>
                        <a:lnTo>
                          <a:pt x="304" y="4"/>
                        </a:lnTo>
                        <a:lnTo>
                          <a:pt x="305" y="7"/>
                        </a:lnTo>
                        <a:lnTo>
                          <a:pt x="332" y="179"/>
                        </a:lnTo>
                        <a:lnTo>
                          <a:pt x="332" y="182"/>
                        </a:lnTo>
                        <a:lnTo>
                          <a:pt x="331" y="186"/>
                        </a:lnTo>
                        <a:lnTo>
                          <a:pt x="328" y="188"/>
                        </a:lnTo>
                        <a:lnTo>
                          <a:pt x="325" y="189"/>
                        </a:lnTo>
                        <a:lnTo>
                          <a:pt x="37" y="2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1875240" y="2591280"/>
                    <a:ext cx="88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50">
                        <a:moveTo>
                          <a:pt x="115" y="42"/>
                        </a:moveTo>
                        <a:lnTo>
                          <a:pt x="295" y="12"/>
                        </a:lnTo>
                        <a:lnTo>
                          <a:pt x="296" y="12"/>
                        </a:lnTo>
                        <a:lnTo>
                          <a:pt x="298" y="12"/>
                        </a:lnTo>
                        <a:lnTo>
                          <a:pt x="298" y="13"/>
                        </a:lnTo>
                        <a:lnTo>
                          <a:pt x="299" y="13"/>
                        </a:lnTo>
                        <a:lnTo>
                          <a:pt x="300" y="13"/>
                        </a:lnTo>
                        <a:lnTo>
                          <a:pt x="303" y="15"/>
                        </a:lnTo>
                        <a:lnTo>
                          <a:pt x="307" y="17"/>
                        </a:lnTo>
                        <a:lnTo>
                          <a:pt x="313" y="20"/>
                        </a:lnTo>
                        <a:lnTo>
                          <a:pt x="312" y="19"/>
                        </a:lnTo>
                        <a:lnTo>
                          <a:pt x="311" y="19"/>
                        </a:lnTo>
                        <a:lnTo>
                          <a:pt x="310" y="19"/>
                        </a:lnTo>
                        <a:lnTo>
                          <a:pt x="308" y="20"/>
                        </a:lnTo>
                        <a:lnTo>
                          <a:pt x="20" y="67"/>
                        </a:lnTo>
                        <a:lnTo>
                          <a:pt x="17" y="68"/>
                        </a:lnTo>
                        <a:lnTo>
                          <a:pt x="14" y="70"/>
                        </a:lnTo>
                        <a:lnTo>
                          <a:pt x="12" y="74"/>
                        </a:lnTo>
                        <a:lnTo>
                          <a:pt x="12" y="78"/>
                        </a:lnTo>
                        <a:lnTo>
                          <a:pt x="39" y="250"/>
                        </a:lnTo>
                        <a:lnTo>
                          <a:pt x="25" y="231"/>
                        </a:lnTo>
                        <a:lnTo>
                          <a:pt x="0" y="70"/>
                        </a:lnTo>
                        <a:lnTo>
                          <a:pt x="0" y="66"/>
                        </a:lnTo>
                        <a:lnTo>
                          <a:pt x="1" y="63"/>
                        </a:lnTo>
                        <a:lnTo>
                          <a:pt x="4" y="61"/>
                        </a:lnTo>
                        <a:lnTo>
                          <a:pt x="7" y="59"/>
                        </a:lnTo>
                        <a:lnTo>
                          <a:pt x="97" y="44"/>
                        </a:lnTo>
                        <a:lnTo>
                          <a:pt x="97" y="41"/>
                        </a:lnTo>
                        <a:lnTo>
                          <a:pt x="97" y="38"/>
                        </a:lnTo>
                        <a:lnTo>
                          <a:pt x="98" y="37"/>
                        </a:lnTo>
                        <a:lnTo>
                          <a:pt x="101" y="36"/>
                        </a:lnTo>
                        <a:lnTo>
                          <a:pt x="101" y="24"/>
                        </a:lnTo>
                        <a:lnTo>
                          <a:pt x="102" y="16"/>
                        </a:lnTo>
                        <a:lnTo>
                          <a:pt x="105" y="12"/>
                        </a:lnTo>
                        <a:lnTo>
                          <a:pt x="112" y="10"/>
                        </a:lnTo>
                        <a:lnTo>
                          <a:pt x="118" y="9"/>
                        </a:lnTo>
                        <a:lnTo>
                          <a:pt x="126" y="7"/>
                        </a:lnTo>
                        <a:lnTo>
                          <a:pt x="135" y="6"/>
                        </a:lnTo>
                        <a:lnTo>
                          <a:pt x="144" y="4"/>
                        </a:lnTo>
                        <a:lnTo>
                          <a:pt x="152" y="3"/>
                        </a:lnTo>
                        <a:lnTo>
                          <a:pt x="161" y="2"/>
                        </a:lnTo>
                        <a:lnTo>
                          <a:pt x="167" y="1"/>
                        </a:lnTo>
                        <a:lnTo>
                          <a:pt x="171" y="0"/>
                        </a:lnTo>
                        <a:lnTo>
                          <a:pt x="176" y="0"/>
                        </a:lnTo>
                        <a:lnTo>
                          <a:pt x="181" y="0"/>
                        </a:lnTo>
                        <a:lnTo>
                          <a:pt x="184" y="3"/>
                        </a:lnTo>
                        <a:lnTo>
                          <a:pt x="187" y="9"/>
                        </a:lnTo>
                        <a:lnTo>
                          <a:pt x="189" y="14"/>
                        </a:lnTo>
                        <a:lnTo>
                          <a:pt x="190" y="18"/>
                        </a:lnTo>
                        <a:lnTo>
                          <a:pt x="191" y="22"/>
                        </a:lnTo>
                        <a:lnTo>
                          <a:pt x="191" y="23"/>
                        </a:lnTo>
                        <a:lnTo>
                          <a:pt x="195" y="23"/>
                        </a:lnTo>
                        <a:lnTo>
                          <a:pt x="197" y="24"/>
                        </a:lnTo>
                        <a:lnTo>
                          <a:pt x="198" y="25"/>
                        </a:lnTo>
                        <a:lnTo>
                          <a:pt x="199" y="28"/>
                        </a:lnTo>
                        <a:lnTo>
                          <a:pt x="179" y="31"/>
                        </a:lnTo>
                        <a:lnTo>
                          <a:pt x="178" y="25"/>
                        </a:lnTo>
                        <a:lnTo>
                          <a:pt x="177" y="22"/>
                        </a:lnTo>
                        <a:lnTo>
                          <a:pt x="176" y="19"/>
                        </a:lnTo>
                        <a:lnTo>
                          <a:pt x="176" y="17"/>
                        </a:lnTo>
                        <a:lnTo>
                          <a:pt x="175" y="16"/>
                        </a:lnTo>
                        <a:lnTo>
                          <a:pt x="174" y="14"/>
                        </a:lnTo>
                        <a:lnTo>
                          <a:pt x="172" y="14"/>
                        </a:lnTo>
                        <a:lnTo>
                          <a:pt x="170" y="14"/>
                        </a:lnTo>
                        <a:lnTo>
                          <a:pt x="167" y="14"/>
                        </a:lnTo>
                        <a:lnTo>
                          <a:pt x="161" y="15"/>
                        </a:lnTo>
                        <a:lnTo>
                          <a:pt x="152" y="16"/>
                        </a:lnTo>
                        <a:lnTo>
                          <a:pt x="144" y="18"/>
                        </a:lnTo>
                        <a:lnTo>
                          <a:pt x="135" y="19"/>
                        </a:lnTo>
                        <a:lnTo>
                          <a:pt x="126" y="20"/>
                        </a:lnTo>
                        <a:lnTo>
                          <a:pt x="120" y="22"/>
                        </a:lnTo>
                        <a:lnTo>
                          <a:pt x="117" y="23"/>
                        </a:lnTo>
                        <a:lnTo>
                          <a:pt x="116" y="23"/>
                        </a:lnTo>
                        <a:lnTo>
                          <a:pt x="115" y="25"/>
                        </a:lnTo>
                        <a:lnTo>
                          <a:pt x="115" y="26"/>
                        </a:lnTo>
                        <a:lnTo>
                          <a:pt x="114" y="28"/>
                        </a:lnTo>
                        <a:lnTo>
                          <a:pt x="114" y="31"/>
                        </a:lnTo>
                        <a:lnTo>
                          <a:pt x="115" y="35"/>
                        </a:lnTo>
                        <a:lnTo>
                          <a:pt x="115" y="39"/>
                        </a:lnTo>
                        <a:lnTo>
                          <a:pt x="115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1908360" y="2579400"/>
                    <a:ext cx="169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93">
                        <a:moveTo>
                          <a:pt x="37" y="13"/>
                        </a:moveTo>
                        <a:lnTo>
                          <a:pt x="37" y="10"/>
                        </a:lnTo>
                        <a:lnTo>
                          <a:pt x="36" y="8"/>
                        </a:lnTo>
                        <a:lnTo>
                          <a:pt x="35" y="7"/>
                        </a:lnTo>
                        <a:lnTo>
                          <a:pt x="34" y="5"/>
                        </a:lnTo>
                        <a:lnTo>
                          <a:pt x="31" y="2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1" y="2"/>
                        </a:lnTo>
                        <a:lnTo>
                          <a:pt x="19" y="4"/>
                        </a:lnTo>
                        <a:lnTo>
                          <a:pt x="18" y="6"/>
                        </a:lnTo>
                        <a:lnTo>
                          <a:pt x="17" y="9"/>
                        </a:lnTo>
                        <a:lnTo>
                          <a:pt x="16" y="11"/>
                        </a:lnTo>
                        <a:lnTo>
                          <a:pt x="14" y="17"/>
                        </a:lnTo>
                        <a:lnTo>
                          <a:pt x="11" y="23"/>
                        </a:lnTo>
                        <a:lnTo>
                          <a:pt x="8" y="33"/>
                        </a:lnTo>
                        <a:lnTo>
                          <a:pt x="7" y="43"/>
                        </a:lnTo>
                        <a:lnTo>
                          <a:pt x="5" y="55"/>
                        </a:lnTo>
                        <a:lnTo>
                          <a:pt x="2" y="68"/>
                        </a:lnTo>
                        <a:lnTo>
                          <a:pt x="0" y="80"/>
                        </a:lnTo>
                        <a:lnTo>
                          <a:pt x="0" y="86"/>
                        </a:lnTo>
                        <a:lnTo>
                          <a:pt x="2" y="88"/>
                        </a:lnTo>
                        <a:lnTo>
                          <a:pt x="3" y="91"/>
                        </a:lnTo>
                        <a:lnTo>
                          <a:pt x="6" y="92"/>
                        </a:lnTo>
                        <a:lnTo>
                          <a:pt x="9" y="93"/>
                        </a:lnTo>
                        <a:lnTo>
                          <a:pt x="12" y="93"/>
                        </a:lnTo>
                        <a:lnTo>
                          <a:pt x="16" y="93"/>
                        </a:lnTo>
                        <a:lnTo>
                          <a:pt x="20" y="92"/>
                        </a:lnTo>
                        <a:lnTo>
                          <a:pt x="25" y="92"/>
                        </a:lnTo>
                        <a:lnTo>
                          <a:pt x="30" y="92"/>
                        </a:lnTo>
                        <a:lnTo>
                          <a:pt x="34" y="92"/>
                        </a:lnTo>
                        <a:lnTo>
                          <a:pt x="38" y="92"/>
                        </a:lnTo>
                        <a:lnTo>
                          <a:pt x="41" y="92"/>
                        </a:lnTo>
                        <a:lnTo>
                          <a:pt x="47" y="92"/>
                        </a:lnTo>
                        <a:lnTo>
                          <a:pt x="51" y="91"/>
                        </a:lnTo>
                        <a:lnTo>
                          <a:pt x="55" y="87"/>
                        </a:lnTo>
                        <a:lnTo>
                          <a:pt x="56" y="82"/>
                        </a:lnTo>
                        <a:lnTo>
                          <a:pt x="57" y="73"/>
                        </a:lnTo>
                        <a:lnTo>
                          <a:pt x="58" y="61"/>
                        </a:lnTo>
                        <a:lnTo>
                          <a:pt x="59" y="50"/>
                        </a:lnTo>
                        <a:lnTo>
                          <a:pt x="60" y="44"/>
                        </a:lnTo>
                        <a:lnTo>
                          <a:pt x="59" y="42"/>
                        </a:lnTo>
                        <a:lnTo>
                          <a:pt x="56" y="42"/>
                        </a:lnTo>
                        <a:lnTo>
                          <a:pt x="51" y="45"/>
                        </a:lnTo>
                        <a:lnTo>
                          <a:pt x="47" y="53"/>
                        </a:lnTo>
                        <a:lnTo>
                          <a:pt x="46" y="37"/>
                        </a:lnTo>
                        <a:lnTo>
                          <a:pt x="44" y="27"/>
                        </a:lnTo>
                        <a:lnTo>
                          <a:pt x="40" y="19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1843200" y="2482200"/>
                    <a:ext cx="79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67">
                        <a:moveTo>
                          <a:pt x="168" y="194"/>
                        </a:moveTo>
                        <a:lnTo>
                          <a:pt x="164" y="192"/>
                        </a:lnTo>
                        <a:lnTo>
                          <a:pt x="157" y="187"/>
                        </a:lnTo>
                        <a:lnTo>
                          <a:pt x="148" y="181"/>
                        </a:lnTo>
                        <a:lnTo>
                          <a:pt x="140" y="176"/>
                        </a:lnTo>
                        <a:lnTo>
                          <a:pt x="117" y="164"/>
                        </a:lnTo>
                        <a:lnTo>
                          <a:pt x="92" y="150"/>
                        </a:lnTo>
                        <a:lnTo>
                          <a:pt x="65" y="135"/>
                        </a:lnTo>
                        <a:lnTo>
                          <a:pt x="41" y="116"/>
                        </a:lnTo>
                        <a:lnTo>
                          <a:pt x="21" y="98"/>
                        </a:lnTo>
                        <a:lnTo>
                          <a:pt x="6" y="77"/>
                        </a:lnTo>
                        <a:lnTo>
                          <a:pt x="0" y="56"/>
                        </a:lnTo>
                        <a:lnTo>
                          <a:pt x="4" y="34"/>
                        </a:lnTo>
                        <a:lnTo>
                          <a:pt x="7" y="27"/>
                        </a:lnTo>
                        <a:lnTo>
                          <a:pt x="11" y="21"/>
                        </a:lnTo>
                        <a:lnTo>
                          <a:pt x="18" y="13"/>
                        </a:lnTo>
                        <a:lnTo>
                          <a:pt x="24" y="8"/>
                        </a:lnTo>
                        <a:lnTo>
                          <a:pt x="32" y="3"/>
                        </a:lnTo>
                        <a:lnTo>
                          <a:pt x="41" y="0"/>
                        </a:lnTo>
                        <a:lnTo>
                          <a:pt x="51" y="0"/>
                        </a:lnTo>
                        <a:lnTo>
                          <a:pt x="62" y="5"/>
                        </a:lnTo>
                        <a:lnTo>
                          <a:pt x="69" y="9"/>
                        </a:lnTo>
                        <a:lnTo>
                          <a:pt x="78" y="14"/>
                        </a:lnTo>
                        <a:lnTo>
                          <a:pt x="88" y="22"/>
                        </a:lnTo>
                        <a:lnTo>
                          <a:pt x="99" y="31"/>
                        </a:lnTo>
                        <a:lnTo>
                          <a:pt x="112" y="40"/>
                        </a:lnTo>
                        <a:lnTo>
                          <a:pt x="124" y="50"/>
                        </a:lnTo>
                        <a:lnTo>
                          <a:pt x="138" y="61"/>
                        </a:lnTo>
                        <a:lnTo>
                          <a:pt x="151" y="72"/>
                        </a:lnTo>
                        <a:lnTo>
                          <a:pt x="165" y="83"/>
                        </a:lnTo>
                        <a:lnTo>
                          <a:pt x="177" y="92"/>
                        </a:lnTo>
                        <a:lnTo>
                          <a:pt x="189" y="102"/>
                        </a:lnTo>
                        <a:lnTo>
                          <a:pt x="200" y="111"/>
                        </a:lnTo>
                        <a:lnTo>
                          <a:pt x="209" y="118"/>
                        </a:lnTo>
                        <a:lnTo>
                          <a:pt x="218" y="125"/>
                        </a:lnTo>
                        <a:lnTo>
                          <a:pt x="224" y="129"/>
                        </a:lnTo>
                        <a:lnTo>
                          <a:pt x="228" y="131"/>
                        </a:lnTo>
                        <a:lnTo>
                          <a:pt x="237" y="138"/>
                        </a:lnTo>
                        <a:lnTo>
                          <a:pt x="243" y="144"/>
                        </a:lnTo>
                        <a:lnTo>
                          <a:pt x="245" y="152"/>
                        </a:lnTo>
                        <a:lnTo>
                          <a:pt x="246" y="160"/>
                        </a:lnTo>
                        <a:lnTo>
                          <a:pt x="248" y="167"/>
                        </a:lnTo>
                        <a:lnTo>
                          <a:pt x="252" y="181"/>
                        </a:lnTo>
                        <a:lnTo>
                          <a:pt x="257" y="201"/>
                        </a:lnTo>
                        <a:lnTo>
                          <a:pt x="262" y="224"/>
                        </a:lnTo>
                        <a:lnTo>
                          <a:pt x="267" y="247"/>
                        </a:lnTo>
                        <a:lnTo>
                          <a:pt x="273" y="269"/>
                        </a:lnTo>
                        <a:lnTo>
                          <a:pt x="275" y="289"/>
                        </a:lnTo>
                        <a:lnTo>
                          <a:pt x="276" y="304"/>
                        </a:lnTo>
                        <a:lnTo>
                          <a:pt x="277" y="316"/>
                        </a:lnTo>
                        <a:lnTo>
                          <a:pt x="279" y="331"/>
                        </a:lnTo>
                        <a:lnTo>
                          <a:pt x="282" y="344"/>
                        </a:lnTo>
                        <a:lnTo>
                          <a:pt x="282" y="350"/>
                        </a:lnTo>
                        <a:lnTo>
                          <a:pt x="277" y="355"/>
                        </a:lnTo>
                        <a:lnTo>
                          <a:pt x="268" y="358"/>
                        </a:lnTo>
                        <a:lnTo>
                          <a:pt x="260" y="361"/>
                        </a:lnTo>
                        <a:lnTo>
                          <a:pt x="251" y="363"/>
                        </a:lnTo>
                        <a:lnTo>
                          <a:pt x="241" y="365"/>
                        </a:lnTo>
                        <a:lnTo>
                          <a:pt x="231" y="367"/>
                        </a:lnTo>
                        <a:lnTo>
                          <a:pt x="222" y="367"/>
                        </a:lnTo>
                        <a:lnTo>
                          <a:pt x="215" y="365"/>
                        </a:lnTo>
                        <a:lnTo>
                          <a:pt x="211" y="352"/>
                        </a:lnTo>
                        <a:lnTo>
                          <a:pt x="207" y="333"/>
                        </a:lnTo>
                        <a:lnTo>
                          <a:pt x="203" y="310"/>
                        </a:lnTo>
                        <a:lnTo>
                          <a:pt x="198" y="285"/>
                        </a:lnTo>
                        <a:lnTo>
                          <a:pt x="192" y="260"/>
                        </a:lnTo>
                        <a:lnTo>
                          <a:pt x="187" y="239"/>
                        </a:lnTo>
                        <a:lnTo>
                          <a:pt x="182" y="221"/>
                        </a:lnTo>
                        <a:lnTo>
                          <a:pt x="178" y="211"/>
                        </a:lnTo>
                        <a:lnTo>
                          <a:pt x="176" y="207"/>
                        </a:lnTo>
                        <a:lnTo>
                          <a:pt x="175" y="204"/>
                        </a:lnTo>
                        <a:lnTo>
                          <a:pt x="174" y="201"/>
                        </a:lnTo>
                        <a:lnTo>
                          <a:pt x="175" y="199"/>
                        </a:lnTo>
                        <a:lnTo>
                          <a:pt x="176" y="196"/>
                        </a:lnTo>
                        <a:lnTo>
                          <a:pt x="174" y="194"/>
                        </a:lnTo>
                        <a:lnTo>
                          <a:pt x="171" y="194"/>
                        </a:lnTo>
                        <a:lnTo>
                          <a:pt x="168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1904760" y="2576520"/>
                    <a:ext cx="16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2">
                        <a:moveTo>
                          <a:pt x="53" y="0"/>
                        </a:moveTo>
                        <a:lnTo>
                          <a:pt x="46" y="2"/>
                        </a:lnTo>
                        <a:lnTo>
                          <a:pt x="40" y="4"/>
                        </a:lnTo>
                        <a:lnTo>
                          <a:pt x="34" y="6"/>
                        </a:lnTo>
                        <a:lnTo>
                          <a:pt x="27" y="7"/>
                        </a:lnTo>
                        <a:lnTo>
                          <a:pt x="19" y="8"/>
                        </a:lnTo>
                        <a:lnTo>
                          <a:pt x="12" y="8"/>
                        </a:lnTo>
                        <a:lnTo>
                          <a:pt x="6" y="8"/>
                        </a:lnTo>
                        <a:lnTo>
                          <a:pt x="0" y="8"/>
                        </a:lnTo>
                        <a:lnTo>
                          <a:pt x="2" y="17"/>
                        </a:lnTo>
                        <a:lnTo>
                          <a:pt x="5" y="25"/>
                        </a:lnTo>
                        <a:lnTo>
                          <a:pt x="7" y="30"/>
                        </a:lnTo>
                        <a:lnTo>
                          <a:pt x="9" y="32"/>
                        </a:lnTo>
                        <a:lnTo>
                          <a:pt x="15" y="32"/>
                        </a:lnTo>
                        <a:lnTo>
                          <a:pt x="22" y="31"/>
                        </a:lnTo>
                        <a:lnTo>
                          <a:pt x="28" y="30"/>
                        </a:lnTo>
                        <a:lnTo>
                          <a:pt x="34" y="29"/>
                        </a:lnTo>
                        <a:lnTo>
                          <a:pt x="40" y="27"/>
                        </a:lnTo>
                        <a:lnTo>
                          <a:pt x="46" y="25"/>
                        </a:lnTo>
                        <a:lnTo>
                          <a:pt x="52" y="23"/>
                        </a:lnTo>
                        <a:lnTo>
                          <a:pt x="57" y="19"/>
                        </a:lnTo>
                        <a:lnTo>
                          <a:pt x="56" y="14"/>
                        </a:lnTo>
                        <a:lnTo>
                          <a:pt x="55" y="8"/>
                        </a:lnTo>
                        <a:lnTo>
                          <a:pt x="54" y="4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3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87200" y="2101320"/>
                <a:ext cx="326880" cy="32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58" name="" descr=""/>
            <p:cNvPicPr/>
            <p:nvPr/>
          </p:nvPicPr>
          <p:blipFill>
            <a:blip r:embed="rId6"/>
            <a:stretch/>
          </p:blipFill>
          <p:spPr>
            <a:xfrm>
              <a:off x="5562720" y="3767040"/>
              <a:ext cx="21762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"/>
            <p:cNvSpPr/>
            <p:nvPr/>
          </p:nvSpPr>
          <p:spPr>
            <a:xfrm>
              <a:off x="5334120" y="53352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建置運輸事件資料庫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25880" y="5454720"/>
              <a:ext cx="30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加強運輸從業人員專業訓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89000" y="5470560"/>
              <a:ext cx="33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全真中圓體"/>
                </a:rPr>
                <a:t>調整運輸安全組織功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47920" y="40968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建立智慧型安全管理系統、無障礙運輸環境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352680" y="1905120"/>
              <a:ext cx="2438640" cy="14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7920" indent="-277920" algn="ctr">
                <a:lnSpc>
                  <a:spcPct val="100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具體構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2779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1.</a:t>
              </a:r>
              <a:r>
                <a:rPr b="1" lang="zh-TW" sz="18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健全運輸安全資訊系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2779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2.</a:t>
              </a:r>
              <a:r>
                <a:rPr b="1" lang="zh-TW" sz="18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推動運輸安全系統智慧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7920" indent="-2779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3.</a:t>
              </a:r>
              <a:r>
                <a:rPr b="1" lang="zh-TW" sz="1800" spc="-1" strike="noStrike">
                  <a:solidFill>
                    <a:srgbClr val="000000"/>
                  </a:solidFill>
                  <a:latin typeface="全真中圓體"/>
                  <a:ea typeface="全真中圓體"/>
                </a:rPr>
                <a:t>整合運輸安全監督管理體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2895480" y="1066680"/>
              <a:ext cx="1218240" cy="837360"/>
              <a:chOff x="2895480" y="1066680"/>
              <a:chExt cx="1218240" cy="83736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2895480" y="1616400"/>
                <a:ext cx="749880" cy="287640"/>
                <a:chOff x="2895480" y="1616400"/>
                <a:chExt cx="749880" cy="28764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895480" y="1616400"/>
                  <a:ext cx="748440" cy="253080"/>
                </a:xfrm>
                <a:custGeom>
                  <a:avLst/>
                  <a:gdLst/>
                  <a:ahLst/>
                  <a:rect l="l" t="t" r="r" b="b"/>
                  <a:pathLst>
                    <a:path w="916" h="246">
                      <a:moveTo>
                        <a:pt x="62" y="0"/>
                      </a:moveTo>
                      <a:lnTo>
                        <a:pt x="62" y="0"/>
                      </a:lnTo>
                      <a:lnTo>
                        <a:pt x="59" y="0"/>
                      </a:lnTo>
                      <a:lnTo>
                        <a:pt x="59" y="2"/>
                      </a:lnTo>
                      <a:lnTo>
                        <a:pt x="56" y="2"/>
                      </a:lnTo>
                      <a:lnTo>
                        <a:pt x="56" y="3"/>
                      </a:lnTo>
                      <a:lnTo>
                        <a:pt x="53" y="3"/>
                      </a:lnTo>
                      <a:lnTo>
                        <a:pt x="51" y="3"/>
                      </a:lnTo>
                      <a:lnTo>
                        <a:pt x="51" y="5"/>
                      </a:lnTo>
                      <a:lnTo>
                        <a:pt x="48" y="5"/>
                      </a:lnTo>
                      <a:lnTo>
                        <a:pt x="48" y="6"/>
                      </a:lnTo>
                      <a:lnTo>
                        <a:pt x="47" y="6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3" y="11"/>
                      </a:lnTo>
                      <a:lnTo>
                        <a:pt x="41" y="11"/>
                      </a:lnTo>
                      <a:lnTo>
                        <a:pt x="41" y="12"/>
                      </a:lnTo>
                      <a:lnTo>
                        <a:pt x="40" y="14"/>
                      </a:lnTo>
                      <a:lnTo>
                        <a:pt x="40" y="14"/>
                      </a:lnTo>
                      <a:lnTo>
                        <a:pt x="38" y="14"/>
                      </a:lnTo>
                      <a:lnTo>
                        <a:pt x="38" y="16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9"/>
                      </a:lnTo>
                      <a:lnTo>
                        <a:pt x="34" y="21"/>
                      </a:lnTo>
                      <a:lnTo>
                        <a:pt x="32" y="21"/>
                      </a:lnTo>
                      <a:lnTo>
                        <a:pt x="32" y="24"/>
                      </a:lnTo>
                      <a:lnTo>
                        <a:pt x="32" y="24"/>
                      </a:lnTo>
                      <a:lnTo>
                        <a:pt x="32" y="25"/>
                      </a:lnTo>
                      <a:lnTo>
                        <a:pt x="29" y="27"/>
                      </a:lnTo>
                      <a:lnTo>
                        <a:pt x="29" y="28"/>
                      </a:lnTo>
                      <a:lnTo>
                        <a:pt x="29" y="28"/>
                      </a:lnTo>
                      <a:lnTo>
                        <a:pt x="29" y="31"/>
                      </a:lnTo>
                      <a:lnTo>
                        <a:pt x="28" y="31"/>
                      </a:lnTo>
                      <a:lnTo>
                        <a:pt x="28" y="34"/>
                      </a:lnTo>
                      <a:lnTo>
                        <a:pt x="26" y="34"/>
                      </a:lnTo>
                      <a:lnTo>
                        <a:pt x="26" y="37"/>
                      </a:lnTo>
                      <a:lnTo>
                        <a:pt x="26" y="37"/>
                      </a:lnTo>
                      <a:lnTo>
                        <a:pt x="26" y="38"/>
                      </a:lnTo>
                      <a:lnTo>
                        <a:pt x="25" y="38"/>
                      </a:lnTo>
                      <a:lnTo>
                        <a:pt x="25" y="41"/>
                      </a:lnTo>
                      <a:lnTo>
                        <a:pt x="24" y="41"/>
                      </a:lnTo>
                      <a:lnTo>
                        <a:pt x="24" y="44"/>
                      </a:lnTo>
                      <a:lnTo>
                        <a:pt x="24" y="44"/>
                      </a:lnTo>
                      <a:lnTo>
                        <a:pt x="24" y="47"/>
                      </a:lnTo>
                      <a:lnTo>
                        <a:pt x="22" y="47"/>
                      </a:lnTo>
                      <a:lnTo>
                        <a:pt x="22" y="50"/>
                      </a:lnTo>
                      <a:lnTo>
                        <a:pt x="21" y="50"/>
                      </a:lnTo>
                      <a:lnTo>
                        <a:pt x="21" y="52"/>
                      </a:lnTo>
                      <a:lnTo>
                        <a:pt x="19" y="52"/>
                      </a:lnTo>
                      <a:lnTo>
                        <a:pt x="19" y="55"/>
                      </a:lnTo>
                      <a:lnTo>
                        <a:pt x="19" y="55"/>
                      </a:lnTo>
                      <a:lnTo>
                        <a:pt x="19" y="59"/>
                      </a:lnTo>
                      <a:lnTo>
                        <a:pt x="18" y="59"/>
                      </a:lnTo>
                      <a:lnTo>
                        <a:pt x="18" y="62"/>
                      </a:lnTo>
                      <a:lnTo>
                        <a:pt x="16" y="62"/>
                      </a:lnTo>
                      <a:lnTo>
                        <a:pt x="16" y="66"/>
                      </a:lnTo>
                      <a:lnTo>
                        <a:pt x="16" y="66"/>
                      </a:lnTo>
                      <a:lnTo>
                        <a:pt x="16" y="69"/>
                      </a:lnTo>
                      <a:lnTo>
                        <a:pt x="15" y="69"/>
                      </a:lnTo>
                      <a:lnTo>
                        <a:pt x="15" y="72"/>
                      </a:lnTo>
                      <a:lnTo>
                        <a:pt x="13" y="72"/>
                      </a:lnTo>
                      <a:lnTo>
                        <a:pt x="13" y="77"/>
                      </a:lnTo>
                      <a:lnTo>
                        <a:pt x="13" y="77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82"/>
                      </a:lnTo>
                      <a:lnTo>
                        <a:pt x="10" y="82"/>
                      </a:lnTo>
                      <a:lnTo>
                        <a:pt x="10" y="87"/>
                      </a:lnTo>
                      <a:lnTo>
                        <a:pt x="10" y="87"/>
                      </a:lnTo>
                      <a:lnTo>
                        <a:pt x="10" y="91"/>
                      </a:lnTo>
                      <a:lnTo>
                        <a:pt x="9" y="91"/>
                      </a:lnTo>
                      <a:lnTo>
                        <a:pt x="9" y="96"/>
                      </a:lnTo>
                      <a:lnTo>
                        <a:pt x="7" y="96"/>
                      </a:lnTo>
                      <a:lnTo>
                        <a:pt x="7" y="222"/>
                      </a:lnTo>
                      <a:lnTo>
                        <a:pt x="6" y="222"/>
                      </a:lnTo>
                      <a:lnTo>
                        <a:pt x="6" y="223"/>
                      </a:lnTo>
                      <a:lnTo>
                        <a:pt x="3" y="224"/>
                      </a:lnTo>
                      <a:lnTo>
                        <a:pt x="3" y="224"/>
                      </a:lnTo>
                      <a:lnTo>
                        <a:pt x="2" y="226"/>
                      </a:lnTo>
                      <a:lnTo>
                        <a:pt x="2" y="227"/>
                      </a:lnTo>
                      <a:lnTo>
                        <a:pt x="0" y="227"/>
                      </a:lnTo>
                      <a:lnTo>
                        <a:pt x="0" y="230"/>
                      </a:lnTo>
                      <a:lnTo>
                        <a:pt x="0" y="230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5"/>
                      </a:lnTo>
                      <a:lnTo>
                        <a:pt x="2" y="245"/>
                      </a:lnTo>
                      <a:lnTo>
                        <a:pt x="2" y="246"/>
                      </a:lnTo>
                      <a:lnTo>
                        <a:pt x="108" y="245"/>
                      </a:lnTo>
                      <a:lnTo>
                        <a:pt x="108" y="242"/>
                      </a:lnTo>
                      <a:lnTo>
                        <a:pt x="107" y="242"/>
                      </a:lnTo>
                      <a:lnTo>
                        <a:pt x="107" y="239"/>
                      </a:lnTo>
                      <a:lnTo>
                        <a:pt x="107" y="239"/>
                      </a:lnTo>
                      <a:lnTo>
                        <a:pt x="107" y="223"/>
                      </a:lnTo>
                      <a:lnTo>
                        <a:pt x="107" y="223"/>
                      </a:lnTo>
                      <a:lnTo>
                        <a:pt x="107" y="219"/>
                      </a:lnTo>
                      <a:lnTo>
                        <a:pt x="108" y="219"/>
                      </a:lnTo>
                      <a:lnTo>
                        <a:pt x="108" y="216"/>
                      </a:lnTo>
                      <a:lnTo>
                        <a:pt x="110" y="216"/>
                      </a:lnTo>
                      <a:lnTo>
                        <a:pt x="110" y="211"/>
                      </a:lnTo>
                      <a:lnTo>
                        <a:pt x="110" y="211"/>
                      </a:lnTo>
                      <a:lnTo>
                        <a:pt x="110" y="208"/>
                      </a:lnTo>
                      <a:lnTo>
                        <a:pt x="111" y="208"/>
                      </a:lnTo>
                      <a:lnTo>
                        <a:pt x="111" y="207"/>
                      </a:lnTo>
                      <a:lnTo>
                        <a:pt x="113" y="205"/>
                      </a:lnTo>
                      <a:lnTo>
                        <a:pt x="113" y="204"/>
                      </a:lnTo>
                      <a:lnTo>
                        <a:pt x="114" y="204"/>
                      </a:lnTo>
                      <a:lnTo>
                        <a:pt x="114" y="201"/>
                      </a:lnTo>
                      <a:lnTo>
                        <a:pt x="117" y="201"/>
                      </a:lnTo>
                      <a:lnTo>
                        <a:pt x="117" y="198"/>
                      </a:lnTo>
                      <a:lnTo>
                        <a:pt x="119" y="198"/>
                      </a:lnTo>
                      <a:lnTo>
                        <a:pt x="119" y="197"/>
                      </a:lnTo>
                      <a:lnTo>
                        <a:pt x="120" y="195"/>
                      </a:lnTo>
                      <a:lnTo>
                        <a:pt x="120" y="194"/>
                      </a:lnTo>
                      <a:lnTo>
                        <a:pt x="123" y="194"/>
                      </a:lnTo>
                      <a:lnTo>
                        <a:pt x="123" y="192"/>
                      </a:lnTo>
                      <a:lnTo>
                        <a:pt x="125" y="191"/>
                      </a:lnTo>
                      <a:lnTo>
                        <a:pt x="125" y="191"/>
                      </a:lnTo>
                      <a:lnTo>
                        <a:pt x="126" y="189"/>
                      </a:lnTo>
                      <a:lnTo>
                        <a:pt x="126" y="188"/>
                      </a:lnTo>
                      <a:lnTo>
                        <a:pt x="129" y="188"/>
                      </a:lnTo>
                      <a:lnTo>
                        <a:pt x="129" y="188"/>
                      </a:lnTo>
                      <a:lnTo>
                        <a:pt x="130" y="186"/>
                      </a:lnTo>
                      <a:lnTo>
                        <a:pt x="133" y="185"/>
                      </a:lnTo>
                      <a:lnTo>
                        <a:pt x="133" y="185"/>
                      </a:lnTo>
                      <a:lnTo>
                        <a:pt x="135" y="185"/>
                      </a:lnTo>
                      <a:lnTo>
                        <a:pt x="135" y="183"/>
                      </a:lnTo>
                      <a:lnTo>
                        <a:pt x="136" y="183"/>
                      </a:lnTo>
                      <a:lnTo>
                        <a:pt x="136" y="182"/>
                      </a:lnTo>
                      <a:lnTo>
                        <a:pt x="139" y="182"/>
                      </a:lnTo>
                      <a:lnTo>
                        <a:pt x="139" y="181"/>
                      </a:lnTo>
                      <a:lnTo>
                        <a:pt x="141" y="181"/>
                      </a:lnTo>
                      <a:lnTo>
                        <a:pt x="142" y="179"/>
                      </a:lnTo>
                      <a:lnTo>
                        <a:pt x="145" y="178"/>
                      </a:lnTo>
                      <a:lnTo>
                        <a:pt x="147" y="178"/>
                      </a:lnTo>
                      <a:lnTo>
                        <a:pt x="147" y="178"/>
                      </a:lnTo>
                      <a:lnTo>
                        <a:pt x="151" y="178"/>
                      </a:lnTo>
                      <a:lnTo>
                        <a:pt x="151" y="176"/>
                      </a:lnTo>
                      <a:lnTo>
                        <a:pt x="154" y="176"/>
                      </a:lnTo>
                      <a:lnTo>
                        <a:pt x="154" y="175"/>
                      </a:lnTo>
                      <a:lnTo>
                        <a:pt x="262" y="175"/>
                      </a:lnTo>
                      <a:lnTo>
                        <a:pt x="262" y="175"/>
                      </a:lnTo>
                      <a:lnTo>
                        <a:pt x="268" y="175"/>
                      </a:lnTo>
                      <a:lnTo>
                        <a:pt x="268" y="173"/>
                      </a:lnTo>
                      <a:lnTo>
                        <a:pt x="916" y="173"/>
                      </a:lnTo>
                      <a:lnTo>
                        <a:pt x="916" y="128"/>
                      </a:lnTo>
                      <a:lnTo>
                        <a:pt x="916" y="128"/>
                      </a:lnTo>
                      <a:lnTo>
                        <a:pt x="916" y="101"/>
                      </a:lnTo>
                      <a:lnTo>
                        <a:pt x="914" y="101"/>
                      </a:lnTo>
                      <a:lnTo>
                        <a:pt x="914" y="81"/>
                      </a:lnTo>
                      <a:lnTo>
                        <a:pt x="913" y="81"/>
                      </a:lnTo>
                      <a:lnTo>
                        <a:pt x="913" y="72"/>
                      </a:lnTo>
                      <a:lnTo>
                        <a:pt x="911" y="72"/>
                      </a:lnTo>
                      <a:lnTo>
                        <a:pt x="911" y="72"/>
                      </a:lnTo>
                      <a:lnTo>
                        <a:pt x="910" y="72"/>
                      </a:lnTo>
                      <a:lnTo>
                        <a:pt x="908" y="69"/>
                      </a:lnTo>
                      <a:lnTo>
                        <a:pt x="907" y="69"/>
                      </a:lnTo>
                      <a:lnTo>
                        <a:pt x="907" y="69"/>
                      </a:lnTo>
                      <a:lnTo>
                        <a:pt x="904" y="69"/>
                      </a:lnTo>
                      <a:lnTo>
                        <a:pt x="902" y="66"/>
                      </a:lnTo>
                      <a:lnTo>
                        <a:pt x="901" y="66"/>
                      </a:lnTo>
                      <a:lnTo>
                        <a:pt x="901" y="65"/>
                      </a:lnTo>
                      <a:lnTo>
                        <a:pt x="898" y="65"/>
                      </a:lnTo>
                      <a:lnTo>
                        <a:pt x="897" y="63"/>
                      </a:lnTo>
                      <a:lnTo>
                        <a:pt x="895" y="63"/>
                      </a:lnTo>
                      <a:lnTo>
                        <a:pt x="895" y="62"/>
                      </a:lnTo>
                      <a:lnTo>
                        <a:pt x="892" y="62"/>
                      </a:lnTo>
                      <a:lnTo>
                        <a:pt x="892" y="62"/>
                      </a:lnTo>
                      <a:lnTo>
                        <a:pt x="889" y="62"/>
                      </a:lnTo>
                      <a:lnTo>
                        <a:pt x="889" y="60"/>
                      </a:lnTo>
                      <a:lnTo>
                        <a:pt x="886" y="60"/>
                      </a:lnTo>
                      <a:lnTo>
                        <a:pt x="886" y="59"/>
                      </a:lnTo>
                      <a:lnTo>
                        <a:pt x="885" y="59"/>
                      </a:lnTo>
                      <a:lnTo>
                        <a:pt x="885" y="59"/>
                      </a:lnTo>
                      <a:lnTo>
                        <a:pt x="882" y="59"/>
                      </a:lnTo>
                      <a:lnTo>
                        <a:pt x="882" y="57"/>
                      </a:lnTo>
                      <a:lnTo>
                        <a:pt x="876" y="57"/>
                      </a:lnTo>
                      <a:lnTo>
                        <a:pt x="876" y="56"/>
                      </a:lnTo>
                      <a:lnTo>
                        <a:pt x="873" y="56"/>
                      </a:lnTo>
                      <a:lnTo>
                        <a:pt x="873" y="55"/>
                      </a:lnTo>
                      <a:lnTo>
                        <a:pt x="867" y="55"/>
                      </a:lnTo>
                      <a:lnTo>
                        <a:pt x="867" y="55"/>
                      </a:lnTo>
                      <a:lnTo>
                        <a:pt x="863" y="55"/>
                      </a:lnTo>
                      <a:lnTo>
                        <a:pt x="863" y="53"/>
                      </a:lnTo>
                      <a:lnTo>
                        <a:pt x="851" y="53"/>
                      </a:lnTo>
                      <a:lnTo>
                        <a:pt x="850" y="52"/>
                      </a:lnTo>
                      <a:lnTo>
                        <a:pt x="848" y="52"/>
                      </a:lnTo>
                      <a:lnTo>
                        <a:pt x="847" y="49"/>
                      </a:lnTo>
                      <a:lnTo>
                        <a:pt x="847" y="49"/>
                      </a:lnTo>
                      <a:lnTo>
                        <a:pt x="847" y="47"/>
                      </a:lnTo>
                      <a:lnTo>
                        <a:pt x="845" y="47"/>
                      </a:lnTo>
                      <a:lnTo>
                        <a:pt x="844" y="44"/>
                      </a:lnTo>
                      <a:lnTo>
                        <a:pt x="844" y="44"/>
                      </a:lnTo>
                      <a:lnTo>
                        <a:pt x="842" y="43"/>
                      </a:lnTo>
                      <a:lnTo>
                        <a:pt x="841" y="43"/>
                      </a:lnTo>
                      <a:lnTo>
                        <a:pt x="841" y="41"/>
                      </a:lnTo>
                      <a:lnTo>
                        <a:pt x="839" y="41"/>
                      </a:lnTo>
                      <a:lnTo>
                        <a:pt x="838" y="38"/>
                      </a:lnTo>
                      <a:lnTo>
                        <a:pt x="838" y="38"/>
                      </a:lnTo>
                      <a:lnTo>
                        <a:pt x="838" y="37"/>
                      </a:lnTo>
                      <a:lnTo>
                        <a:pt x="836" y="37"/>
                      </a:lnTo>
                      <a:lnTo>
                        <a:pt x="835" y="34"/>
                      </a:lnTo>
                      <a:lnTo>
                        <a:pt x="835" y="34"/>
                      </a:lnTo>
                      <a:lnTo>
                        <a:pt x="834" y="33"/>
                      </a:lnTo>
                      <a:lnTo>
                        <a:pt x="832" y="33"/>
                      </a:lnTo>
                      <a:lnTo>
                        <a:pt x="831" y="31"/>
                      </a:lnTo>
                      <a:lnTo>
                        <a:pt x="831" y="31"/>
                      </a:lnTo>
                      <a:lnTo>
                        <a:pt x="829" y="28"/>
                      </a:lnTo>
                      <a:lnTo>
                        <a:pt x="828" y="28"/>
                      </a:lnTo>
                      <a:lnTo>
                        <a:pt x="828" y="27"/>
                      </a:lnTo>
                      <a:lnTo>
                        <a:pt x="828" y="27"/>
                      </a:lnTo>
                      <a:lnTo>
                        <a:pt x="826" y="24"/>
                      </a:lnTo>
                      <a:lnTo>
                        <a:pt x="825" y="24"/>
                      </a:lnTo>
                      <a:lnTo>
                        <a:pt x="825" y="22"/>
                      </a:lnTo>
                      <a:lnTo>
                        <a:pt x="823" y="22"/>
                      </a:lnTo>
                      <a:lnTo>
                        <a:pt x="822" y="21"/>
                      </a:lnTo>
                      <a:lnTo>
                        <a:pt x="822" y="21"/>
                      </a:lnTo>
                      <a:lnTo>
                        <a:pt x="820" y="18"/>
                      </a:lnTo>
                      <a:lnTo>
                        <a:pt x="819" y="18"/>
                      </a:lnTo>
                      <a:lnTo>
                        <a:pt x="817" y="16"/>
                      </a:lnTo>
                      <a:lnTo>
                        <a:pt x="817" y="14"/>
                      </a:lnTo>
                      <a:lnTo>
                        <a:pt x="816" y="14"/>
                      </a:lnTo>
                      <a:lnTo>
                        <a:pt x="815" y="12"/>
                      </a:lnTo>
                      <a:lnTo>
                        <a:pt x="815" y="12"/>
                      </a:lnTo>
                      <a:lnTo>
                        <a:pt x="813" y="11"/>
                      </a:lnTo>
                      <a:lnTo>
                        <a:pt x="812" y="11"/>
                      </a:lnTo>
                      <a:lnTo>
                        <a:pt x="812" y="8"/>
                      </a:lnTo>
                      <a:lnTo>
                        <a:pt x="810" y="8"/>
                      </a:lnTo>
                      <a:lnTo>
                        <a:pt x="809" y="6"/>
                      </a:lnTo>
                      <a:lnTo>
                        <a:pt x="809" y="3"/>
                      </a:lnTo>
                      <a:lnTo>
                        <a:pt x="807" y="3"/>
                      </a:lnTo>
                      <a:lnTo>
                        <a:pt x="806" y="2"/>
                      </a:lnTo>
                      <a:lnTo>
                        <a:pt x="806" y="2"/>
                      </a:lnTo>
                      <a:lnTo>
                        <a:pt x="804" y="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131280" y="1795680"/>
                  <a:ext cx="512640" cy="71640"/>
                </a:xfrm>
                <a:custGeom>
                  <a:avLst/>
                  <a:gdLst/>
                  <a:ahLst/>
                  <a:rect l="l" t="t" r="r" b="b"/>
                  <a:pathLst>
                    <a:path w="627" h="7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6" y="6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20" y="12"/>
                      </a:lnTo>
                      <a:lnTo>
                        <a:pt x="22" y="12"/>
                      </a:lnTo>
                      <a:lnTo>
                        <a:pt x="22" y="12"/>
                      </a:lnTo>
                      <a:lnTo>
                        <a:pt x="23" y="12"/>
                      </a:lnTo>
                      <a:lnTo>
                        <a:pt x="25" y="15"/>
                      </a:lnTo>
                      <a:lnTo>
                        <a:pt x="25" y="15"/>
                      </a:lnTo>
                      <a:lnTo>
                        <a:pt x="26" y="16"/>
                      </a:lnTo>
                      <a:lnTo>
                        <a:pt x="27" y="16"/>
                      </a:lnTo>
                      <a:lnTo>
                        <a:pt x="27" y="18"/>
                      </a:lnTo>
                      <a:lnTo>
                        <a:pt x="29" y="18"/>
                      </a:lnTo>
                      <a:lnTo>
                        <a:pt x="29" y="21"/>
                      </a:lnTo>
                      <a:lnTo>
                        <a:pt x="30" y="21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33" y="25"/>
                      </a:lnTo>
                      <a:lnTo>
                        <a:pt x="35" y="27"/>
                      </a:lnTo>
                      <a:lnTo>
                        <a:pt x="35" y="27"/>
                      </a:lnTo>
                      <a:lnTo>
                        <a:pt x="35" y="28"/>
                      </a:lnTo>
                      <a:lnTo>
                        <a:pt x="36" y="28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8" y="32"/>
                      </a:lnTo>
                      <a:lnTo>
                        <a:pt x="39" y="35"/>
                      </a:lnTo>
                      <a:lnTo>
                        <a:pt x="41" y="37"/>
                      </a:lnTo>
                      <a:lnTo>
                        <a:pt x="41" y="38"/>
                      </a:lnTo>
                      <a:lnTo>
                        <a:pt x="41" y="38"/>
                      </a:lnTo>
                      <a:lnTo>
                        <a:pt x="41" y="44"/>
                      </a:lnTo>
                      <a:lnTo>
                        <a:pt x="42" y="44"/>
                      </a:lnTo>
                      <a:lnTo>
                        <a:pt x="42" y="47"/>
                      </a:lnTo>
                      <a:lnTo>
                        <a:pt x="44" y="47"/>
                      </a:lnTo>
                      <a:lnTo>
                        <a:pt x="44" y="54"/>
                      </a:lnTo>
                      <a:lnTo>
                        <a:pt x="44" y="54"/>
                      </a:lnTo>
                      <a:lnTo>
                        <a:pt x="44" y="69"/>
                      </a:lnTo>
                      <a:lnTo>
                        <a:pt x="44" y="69"/>
                      </a:lnTo>
                      <a:lnTo>
                        <a:pt x="44" y="72"/>
                      </a:lnTo>
                      <a:lnTo>
                        <a:pt x="405" y="72"/>
                      </a:lnTo>
                      <a:lnTo>
                        <a:pt x="405" y="51"/>
                      </a:lnTo>
                      <a:lnTo>
                        <a:pt x="407" y="51"/>
                      </a:lnTo>
                      <a:lnTo>
                        <a:pt x="407" y="46"/>
                      </a:lnTo>
                      <a:lnTo>
                        <a:pt x="407" y="46"/>
                      </a:lnTo>
                      <a:lnTo>
                        <a:pt x="407" y="43"/>
                      </a:lnTo>
                      <a:lnTo>
                        <a:pt x="408" y="43"/>
                      </a:lnTo>
                      <a:lnTo>
                        <a:pt x="408" y="40"/>
                      </a:lnTo>
                      <a:lnTo>
                        <a:pt x="410" y="40"/>
                      </a:lnTo>
                      <a:lnTo>
                        <a:pt x="410" y="37"/>
                      </a:lnTo>
                      <a:lnTo>
                        <a:pt x="410" y="37"/>
                      </a:lnTo>
                      <a:lnTo>
                        <a:pt x="410" y="34"/>
                      </a:lnTo>
                      <a:lnTo>
                        <a:pt x="411" y="34"/>
                      </a:lnTo>
                      <a:lnTo>
                        <a:pt x="411" y="31"/>
                      </a:lnTo>
                      <a:lnTo>
                        <a:pt x="413" y="31"/>
                      </a:lnTo>
                      <a:lnTo>
                        <a:pt x="413" y="29"/>
                      </a:lnTo>
                      <a:lnTo>
                        <a:pt x="413" y="29"/>
                      </a:lnTo>
                      <a:lnTo>
                        <a:pt x="413" y="28"/>
                      </a:lnTo>
                      <a:lnTo>
                        <a:pt x="414" y="28"/>
                      </a:lnTo>
                      <a:lnTo>
                        <a:pt x="414" y="25"/>
                      </a:lnTo>
                      <a:lnTo>
                        <a:pt x="416" y="25"/>
                      </a:lnTo>
                      <a:lnTo>
                        <a:pt x="416" y="24"/>
                      </a:lnTo>
                      <a:lnTo>
                        <a:pt x="419" y="22"/>
                      </a:lnTo>
                      <a:lnTo>
                        <a:pt x="419" y="21"/>
                      </a:lnTo>
                      <a:lnTo>
                        <a:pt x="420" y="21"/>
                      </a:lnTo>
                      <a:lnTo>
                        <a:pt x="420" y="19"/>
                      </a:lnTo>
                      <a:lnTo>
                        <a:pt x="423" y="18"/>
                      </a:lnTo>
                      <a:lnTo>
                        <a:pt x="423" y="18"/>
                      </a:lnTo>
                      <a:lnTo>
                        <a:pt x="424" y="16"/>
                      </a:lnTo>
                      <a:lnTo>
                        <a:pt x="424" y="15"/>
                      </a:lnTo>
                      <a:lnTo>
                        <a:pt x="426" y="15"/>
                      </a:lnTo>
                      <a:lnTo>
                        <a:pt x="426" y="13"/>
                      </a:lnTo>
                      <a:lnTo>
                        <a:pt x="429" y="13"/>
                      </a:lnTo>
                      <a:lnTo>
                        <a:pt x="429" y="12"/>
                      </a:lnTo>
                      <a:lnTo>
                        <a:pt x="430" y="12"/>
                      </a:lnTo>
                      <a:lnTo>
                        <a:pt x="430" y="12"/>
                      </a:lnTo>
                      <a:lnTo>
                        <a:pt x="432" y="12"/>
                      </a:lnTo>
                      <a:lnTo>
                        <a:pt x="432" y="10"/>
                      </a:lnTo>
                      <a:lnTo>
                        <a:pt x="435" y="9"/>
                      </a:lnTo>
                      <a:lnTo>
                        <a:pt x="436" y="9"/>
                      </a:lnTo>
                      <a:lnTo>
                        <a:pt x="436" y="8"/>
                      </a:lnTo>
                      <a:lnTo>
                        <a:pt x="439" y="8"/>
                      </a:lnTo>
                      <a:lnTo>
                        <a:pt x="439" y="8"/>
                      </a:lnTo>
                      <a:lnTo>
                        <a:pt x="442" y="8"/>
                      </a:lnTo>
                      <a:lnTo>
                        <a:pt x="442" y="6"/>
                      </a:lnTo>
                      <a:lnTo>
                        <a:pt x="448" y="6"/>
                      </a:lnTo>
                      <a:lnTo>
                        <a:pt x="448" y="5"/>
                      </a:lnTo>
                      <a:lnTo>
                        <a:pt x="454" y="5"/>
                      </a:lnTo>
                      <a:lnTo>
                        <a:pt x="454" y="5"/>
                      </a:lnTo>
                      <a:lnTo>
                        <a:pt x="627" y="5"/>
                      </a:lnTo>
                      <a:lnTo>
                        <a:pt x="62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036240" y="1795680"/>
                  <a:ext cx="70560" cy="18000"/>
                </a:xfrm>
                <a:custGeom>
                  <a:avLst/>
                  <a:gdLst/>
                  <a:ahLst/>
                  <a:rect l="l" t="t" r="r" b="b"/>
                  <a:pathLst>
                    <a:path w="86" h="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10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6" y="13"/>
                      </a:lnTo>
                      <a:lnTo>
                        <a:pt x="28" y="13"/>
                      </a:lnTo>
                      <a:lnTo>
                        <a:pt x="29" y="14"/>
                      </a:lnTo>
                      <a:lnTo>
                        <a:pt x="31" y="14"/>
                      </a:lnTo>
                      <a:lnTo>
                        <a:pt x="31" y="16"/>
                      </a:lnTo>
                      <a:lnTo>
                        <a:pt x="32" y="16"/>
                      </a:lnTo>
                      <a:lnTo>
                        <a:pt x="32" y="17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63" y="16"/>
                      </a:lnTo>
                      <a:lnTo>
                        <a:pt x="63" y="14"/>
                      </a:lnTo>
                      <a:lnTo>
                        <a:pt x="66" y="13"/>
                      </a:lnTo>
                      <a:lnTo>
                        <a:pt x="66" y="13"/>
                      </a:lnTo>
                      <a:lnTo>
                        <a:pt x="67" y="11"/>
                      </a:lnTo>
                      <a:lnTo>
                        <a:pt x="70" y="10"/>
                      </a:lnTo>
                      <a:lnTo>
                        <a:pt x="70" y="10"/>
                      </a:lnTo>
                      <a:lnTo>
                        <a:pt x="72" y="10"/>
                      </a:lnTo>
                      <a:lnTo>
                        <a:pt x="72" y="8"/>
                      </a:lnTo>
                      <a:lnTo>
                        <a:pt x="73" y="8"/>
                      </a:lnTo>
                      <a:lnTo>
                        <a:pt x="73" y="7"/>
                      </a:lnTo>
                      <a:lnTo>
                        <a:pt x="76" y="6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8" y="4"/>
                      </a:lnTo>
                      <a:lnTo>
                        <a:pt x="79" y="4"/>
                      </a:lnTo>
                      <a:lnTo>
                        <a:pt x="79" y="3"/>
                      </a:lnTo>
                      <a:lnTo>
                        <a:pt x="82" y="3"/>
                      </a:lnTo>
                      <a:lnTo>
                        <a:pt x="82" y="3"/>
                      </a:lnTo>
                      <a:lnTo>
                        <a:pt x="83" y="3"/>
                      </a:lnTo>
                      <a:lnTo>
                        <a:pt x="83" y="1"/>
                      </a:lnTo>
                      <a:lnTo>
                        <a:pt x="86" y="1"/>
                      </a:lnTo>
                      <a:lnTo>
                        <a:pt x="8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521160" y="1799280"/>
                  <a:ext cx="122760" cy="68040"/>
                </a:xfrm>
                <a:custGeom>
                  <a:avLst/>
                  <a:gdLst/>
                  <a:ahLst/>
                  <a:rect l="l" t="t" r="r" b="b"/>
                  <a:pathLst>
                    <a:path w="15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8" y="1"/>
                      </a:lnTo>
                      <a:lnTo>
                        <a:pt x="8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13"/>
                      </a:lnTo>
                      <a:lnTo>
                        <a:pt x="26" y="13"/>
                      </a:lnTo>
                      <a:lnTo>
                        <a:pt x="26" y="14"/>
                      </a:lnTo>
                      <a:lnTo>
                        <a:pt x="28" y="14"/>
                      </a:lnTo>
                      <a:lnTo>
                        <a:pt x="28" y="16"/>
                      </a:lnTo>
                      <a:lnTo>
                        <a:pt x="30" y="16"/>
                      </a:lnTo>
                      <a:lnTo>
                        <a:pt x="30" y="19"/>
                      </a:lnTo>
                      <a:lnTo>
                        <a:pt x="32" y="20"/>
                      </a:lnTo>
                      <a:lnTo>
                        <a:pt x="33" y="20"/>
                      </a:lnTo>
                      <a:lnTo>
                        <a:pt x="33" y="23"/>
                      </a:lnTo>
                      <a:lnTo>
                        <a:pt x="33" y="23"/>
                      </a:lnTo>
                      <a:lnTo>
                        <a:pt x="33" y="24"/>
                      </a:lnTo>
                      <a:lnTo>
                        <a:pt x="35" y="24"/>
                      </a:lnTo>
                      <a:lnTo>
                        <a:pt x="35" y="26"/>
                      </a:lnTo>
                      <a:lnTo>
                        <a:pt x="36" y="26"/>
                      </a:lnTo>
                      <a:lnTo>
                        <a:pt x="36" y="29"/>
                      </a:lnTo>
                      <a:lnTo>
                        <a:pt x="36" y="29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38" y="35"/>
                      </a:lnTo>
                      <a:lnTo>
                        <a:pt x="39" y="35"/>
                      </a:lnTo>
                      <a:lnTo>
                        <a:pt x="39" y="38"/>
                      </a:lnTo>
                      <a:lnTo>
                        <a:pt x="41" y="38"/>
                      </a:lnTo>
                      <a:lnTo>
                        <a:pt x="41" y="41"/>
                      </a:lnTo>
                      <a:lnTo>
                        <a:pt x="41" y="41"/>
                      </a:lnTo>
                      <a:lnTo>
                        <a:pt x="41" y="44"/>
                      </a:lnTo>
                      <a:lnTo>
                        <a:pt x="42" y="44"/>
                      </a:lnTo>
                      <a:lnTo>
                        <a:pt x="42" y="51"/>
                      </a:lnTo>
                      <a:lnTo>
                        <a:pt x="44" y="51"/>
                      </a:lnTo>
                      <a:lnTo>
                        <a:pt x="44" y="58"/>
                      </a:lnTo>
                      <a:lnTo>
                        <a:pt x="44" y="58"/>
                      </a:lnTo>
                      <a:lnTo>
                        <a:pt x="44" y="67"/>
                      </a:lnTo>
                      <a:lnTo>
                        <a:pt x="151" y="67"/>
                      </a:lnTo>
                      <a:lnTo>
                        <a:pt x="151" y="54"/>
                      </a:lnTo>
                      <a:lnTo>
                        <a:pt x="151" y="54"/>
                      </a:lnTo>
                      <a:lnTo>
                        <a:pt x="149" y="51"/>
                      </a:lnTo>
                      <a:lnTo>
                        <a:pt x="148" y="49"/>
                      </a:lnTo>
                      <a:lnTo>
                        <a:pt x="146" y="49"/>
                      </a:lnTo>
                      <a:lnTo>
                        <a:pt x="146" y="46"/>
                      </a:lnTo>
                      <a:lnTo>
                        <a:pt x="146" y="32"/>
                      </a:lnTo>
                      <a:lnTo>
                        <a:pt x="146" y="32"/>
                      </a:lnTo>
                      <a:lnTo>
                        <a:pt x="146" y="27"/>
                      </a:lnTo>
                      <a:lnTo>
                        <a:pt x="148" y="27"/>
                      </a:lnTo>
                      <a:lnTo>
                        <a:pt x="148" y="23"/>
                      </a:lnTo>
                      <a:lnTo>
                        <a:pt x="149" y="23"/>
                      </a:lnTo>
                      <a:lnTo>
                        <a:pt x="149" y="17"/>
                      </a:lnTo>
                      <a:lnTo>
                        <a:pt x="151" y="17"/>
                      </a:lnTo>
                      <a:lnTo>
                        <a:pt x="151" y="13"/>
                      </a:lnTo>
                      <a:lnTo>
                        <a:pt x="151" y="13"/>
                      </a:lnTo>
                      <a:lnTo>
                        <a:pt x="1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895480" y="1616400"/>
                  <a:ext cx="748440" cy="253080"/>
                </a:xfrm>
                <a:custGeom>
                  <a:avLst/>
                  <a:gdLst/>
                  <a:ahLst/>
                  <a:rect l="l" t="t" r="r" b="b"/>
                  <a:pathLst>
                    <a:path w="916" h="246">
                      <a:moveTo>
                        <a:pt x="333" y="245"/>
                      </a:moveTo>
                      <a:lnTo>
                        <a:pt x="694" y="245"/>
                      </a:lnTo>
                      <a:lnTo>
                        <a:pt x="694" y="226"/>
                      </a:lnTo>
                      <a:lnTo>
                        <a:pt x="696" y="223"/>
                      </a:lnTo>
                      <a:lnTo>
                        <a:pt x="696" y="220"/>
                      </a:lnTo>
                      <a:lnTo>
                        <a:pt x="696" y="217"/>
                      </a:lnTo>
                      <a:lnTo>
                        <a:pt x="697" y="214"/>
                      </a:lnTo>
                      <a:lnTo>
                        <a:pt x="699" y="211"/>
                      </a:lnTo>
                      <a:lnTo>
                        <a:pt x="699" y="207"/>
                      </a:lnTo>
                      <a:lnTo>
                        <a:pt x="702" y="204"/>
                      </a:lnTo>
                      <a:lnTo>
                        <a:pt x="702" y="201"/>
                      </a:lnTo>
                      <a:lnTo>
                        <a:pt x="705" y="198"/>
                      </a:lnTo>
                      <a:lnTo>
                        <a:pt x="715" y="186"/>
                      </a:lnTo>
                      <a:lnTo>
                        <a:pt x="719" y="185"/>
                      </a:lnTo>
                      <a:lnTo>
                        <a:pt x="722" y="182"/>
                      </a:lnTo>
                      <a:lnTo>
                        <a:pt x="728" y="181"/>
                      </a:lnTo>
                      <a:lnTo>
                        <a:pt x="731" y="179"/>
                      </a:lnTo>
                      <a:lnTo>
                        <a:pt x="737" y="178"/>
                      </a:lnTo>
                      <a:lnTo>
                        <a:pt x="743" y="178"/>
                      </a:lnTo>
                      <a:lnTo>
                        <a:pt x="749" y="176"/>
                      </a:lnTo>
                      <a:lnTo>
                        <a:pt x="760" y="176"/>
                      </a:lnTo>
                      <a:lnTo>
                        <a:pt x="765" y="178"/>
                      </a:lnTo>
                      <a:lnTo>
                        <a:pt x="769" y="178"/>
                      </a:lnTo>
                      <a:lnTo>
                        <a:pt x="773" y="179"/>
                      </a:lnTo>
                      <a:lnTo>
                        <a:pt x="776" y="181"/>
                      </a:lnTo>
                      <a:lnTo>
                        <a:pt x="781" y="182"/>
                      </a:lnTo>
                      <a:lnTo>
                        <a:pt x="784" y="185"/>
                      </a:lnTo>
                      <a:lnTo>
                        <a:pt x="787" y="186"/>
                      </a:lnTo>
                      <a:lnTo>
                        <a:pt x="790" y="189"/>
                      </a:lnTo>
                      <a:lnTo>
                        <a:pt x="793" y="192"/>
                      </a:lnTo>
                      <a:lnTo>
                        <a:pt x="795" y="194"/>
                      </a:lnTo>
                      <a:lnTo>
                        <a:pt x="797" y="198"/>
                      </a:lnTo>
                      <a:lnTo>
                        <a:pt x="798" y="201"/>
                      </a:lnTo>
                      <a:lnTo>
                        <a:pt x="800" y="204"/>
                      </a:lnTo>
                      <a:lnTo>
                        <a:pt x="801" y="207"/>
                      </a:lnTo>
                      <a:lnTo>
                        <a:pt x="803" y="211"/>
                      </a:lnTo>
                      <a:lnTo>
                        <a:pt x="804" y="214"/>
                      </a:lnTo>
                      <a:lnTo>
                        <a:pt x="806" y="217"/>
                      </a:lnTo>
                      <a:lnTo>
                        <a:pt x="806" y="220"/>
                      </a:lnTo>
                      <a:lnTo>
                        <a:pt x="807" y="223"/>
                      </a:lnTo>
                      <a:lnTo>
                        <a:pt x="807" y="226"/>
                      </a:lnTo>
                      <a:lnTo>
                        <a:pt x="809" y="229"/>
                      </a:lnTo>
                      <a:lnTo>
                        <a:pt x="809" y="235"/>
                      </a:lnTo>
                      <a:lnTo>
                        <a:pt x="809" y="236"/>
                      </a:lnTo>
                      <a:lnTo>
                        <a:pt x="809" y="245"/>
                      </a:lnTo>
                      <a:lnTo>
                        <a:pt x="916" y="245"/>
                      </a:lnTo>
                      <a:lnTo>
                        <a:pt x="916" y="232"/>
                      </a:lnTo>
                      <a:lnTo>
                        <a:pt x="911" y="224"/>
                      </a:lnTo>
                      <a:lnTo>
                        <a:pt x="911" y="211"/>
                      </a:lnTo>
                      <a:lnTo>
                        <a:pt x="916" y="188"/>
                      </a:lnTo>
                      <a:lnTo>
                        <a:pt x="916" y="140"/>
                      </a:lnTo>
                      <a:lnTo>
                        <a:pt x="914" y="88"/>
                      </a:lnTo>
                      <a:lnTo>
                        <a:pt x="913" y="72"/>
                      </a:lnTo>
                      <a:lnTo>
                        <a:pt x="910" y="71"/>
                      </a:lnTo>
                      <a:lnTo>
                        <a:pt x="907" y="69"/>
                      </a:lnTo>
                      <a:lnTo>
                        <a:pt x="904" y="68"/>
                      </a:lnTo>
                      <a:lnTo>
                        <a:pt x="901" y="65"/>
                      </a:lnTo>
                      <a:lnTo>
                        <a:pt x="898" y="65"/>
                      </a:lnTo>
                      <a:lnTo>
                        <a:pt x="895" y="62"/>
                      </a:lnTo>
                      <a:lnTo>
                        <a:pt x="892" y="62"/>
                      </a:lnTo>
                      <a:lnTo>
                        <a:pt x="889" y="60"/>
                      </a:lnTo>
                      <a:lnTo>
                        <a:pt x="886" y="59"/>
                      </a:lnTo>
                      <a:lnTo>
                        <a:pt x="885" y="59"/>
                      </a:lnTo>
                      <a:lnTo>
                        <a:pt x="882" y="57"/>
                      </a:lnTo>
                      <a:lnTo>
                        <a:pt x="879" y="57"/>
                      </a:lnTo>
                      <a:lnTo>
                        <a:pt x="876" y="56"/>
                      </a:lnTo>
                      <a:lnTo>
                        <a:pt x="875" y="56"/>
                      </a:lnTo>
                      <a:lnTo>
                        <a:pt x="873" y="55"/>
                      </a:lnTo>
                      <a:lnTo>
                        <a:pt x="870" y="55"/>
                      </a:lnTo>
                      <a:lnTo>
                        <a:pt x="867" y="55"/>
                      </a:lnTo>
                      <a:lnTo>
                        <a:pt x="864" y="55"/>
                      </a:lnTo>
                      <a:lnTo>
                        <a:pt x="863" y="53"/>
                      </a:lnTo>
                      <a:lnTo>
                        <a:pt x="851" y="53"/>
                      </a:lnTo>
                      <a:lnTo>
                        <a:pt x="804" y="0"/>
                      </a:lnTo>
                      <a:lnTo>
                        <a:pt x="69" y="0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59" y="0"/>
                      </a:lnTo>
                      <a:lnTo>
                        <a:pt x="57" y="2"/>
                      </a:lnTo>
                      <a:lnTo>
                        <a:pt x="56" y="2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8" y="5"/>
                      </a:lnTo>
                      <a:lnTo>
                        <a:pt x="47" y="6"/>
                      </a:lnTo>
                      <a:lnTo>
                        <a:pt x="44" y="9"/>
                      </a:lnTo>
                      <a:lnTo>
                        <a:pt x="43" y="11"/>
                      </a:lnTo>
                      <a:lnTo>
                        <a:pt x="40" y="14"/>
                      </a:lnTo>
                      <a:lnTo>
                        <a:pt x="38" y="15"/>
                      </a:lnTo>
                      <a:lnTo>
                        <a:pt x="34" y="19"/>
                      </a:lnTo>
                      <a:lnTo>
                        <a:pt x="32" y="21"/>
                      </a:lnTo>
                      <a:lnTo>
                        <a:pt x="32" y="24"/>
                      </a:lnTo>
                      <a:lnTo>
                        <a:pt x="29" y="27"/>
                      </a:lnTo>
                      <a:lnTo>
                        <a:pt x="29" y="30"/>
                      </a:lnTo>
                      <a:lnTo>
                        <a:pt x="28" y="33"/>
                      </a:lnTo>
                      <a:lnTo>
                        <a:pt x="26" y="35"/>
                      </a:lnTo>
                      <a:lnTo>
                        <a:pt x="25" y="38"/>
                      </a:lnTo>
                      <a:lnTo>
                        <a:pt x="24" y="41"/>
                      </a:lnTo>
                      <a:lnTo>
                        <a:pt x="24" y="44"/>
                      </a:lnTo>
                      <a:lnTo>
                        <a:pt x="22" y="49"/>
                      </a:lnTo>
                      <a:lnTo>
                        <a:pt x="21" y="52"/>
                      </a:lnTo>
                      <a:lnTo>
                        <a:pt x="19" y="53"/>
                      </a:lnTo>
                      <a:lnTo>
                        <a:pt x="19" y="56"/>
                      </a:lnTo>
                      <a:lnTo>
                        <a:pt x="18" y="59"/>
                      </a:lnTo>
                      <a:lnTo>
                        <a:pt x="16" y="62"/>
                      </a:lnTo>
                      <a:lnTo>
                        <a:pt x="16" y="65"/>
                      </a:lnTo>
                      <a:lnTo>
                        <a:pt x="16" y="68"/>
                      </a:lnTo>
                      <a:lnTo>
                        <a:pt x="15" y="71"/>
                      </a:lnTo>
                      <a:lnTo>
                        <a:pt x="13" y="72"/>
                      </a:lnTo>
                      <a:lnTo>
                        <a:pt x="13" y="75"/>
                      </a:lnTo>
                      <a:lnTo>
                        <a:pt x="13" y="78"/>
                      </a:lnTo>
                      <a:lnTo>
                        <a:pt x="12" y="79"/>
                      </a:lnTo>
                      <a:lnTo>
                        <a:pt x="12" y="82"/>
                      </a:lnTo>
                      <a:lnTo>
                        <a:pt x="10" y="84"/>
                      </a:lnTo>
                      <a:lnTo>
                        <a:pt x="10" y="85"/>
                      </a:lnTo>
                      <a:lnTo>
                        <a:pt x="10" y="88"/>
                      </a:lnTo>
                      <a:lnTo>
                        <a:pt x="10" y="90"/>
                      </a:lnTo>
                      <a:lnTo>
                        <a:pt x="9" y="91"/>
                      </a:lnTo>
                      <a:lnTo>
                        <a:pt x="9" y="96"/>
                      </a:lnTo>
                      <a:lnTo>
                        <a:pt x="7" y="96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7" y="222"/>
                      </a:lnTo>
                      <a:lnTo>
                        <a:pt x="6" y="222"/>
                      </a:lnTo>
                      <a:lnTo>
                        <a:pt x="3" y="224"/>
                      </a:lnTo>
                      <a:lnTo>
                        <a:pt x="3" y="226"/>
                      </a:lnTo>
                      <a:lnTo>
                        <a:pt x="2" y="226"/>
                      </a:lnTo>
                      <a:lnTo>
                        <a:pt x="0" y="227"/>
                      </a:lnTo>
                      <a:lnTo>
                        <a:pt x="0" y="229"/>
                      </a:lnTo>
                      <a:lnTo>
                        <a:pt x="0" y="230"/>
                      </a:lnTo>
                      <a:lnTo>
                        <a:pt x="0" y="241"/>
                      </a:lnTo>
                      <a:lnTo>
                        <a:pt x="0" y="242"/>
                      </a:lnTo>
                      <a:lnTo>
                        <a:pt x="0" y="245"/>
                      </a:lnTo>
                      <a:lnTo>
                        <a:pt x="2" y="245"/>
                      </a:lnTo>
                      <a:lnTo>
                        <a:pt x="2" y="246"/>
                      </a:lnTo>
                      <a:lnTo>
                        <a:pt x="108" y="245"/>
                      </a:lnTo>
                      <a:lnTo>
                        <a:pt x="108" y="242"/>
                      </a:lnTo>
                      <a:lnTo>
                        <a:pt x="107" y="242"/>
                      </a:lnTo>
                      <a:lnTo>
                        <a:pt x="107" y="239"/>
                      </a:lnTo>
                      <a:lnTo>
                        <a:pt x="107" y="238"/>
                      </a:lnTo>
                      <a:lnTo>
                        <a:pt x="107" y="223"/>
                      </a:lnTo>
                      <a:lnTo>
                        <a:pt x="107" y="222"/>
                      </a:lnTo>
                      <a:lnTo>
                        <a:pt x="107" y="219"/>
                      </a:lnTo>
                      <a:lnTo>
                        <a:pt x="108" y="216"/>
                      </a:lnTo>
                      <a:lnTo>
                        <a:pt x="110" y="214"/>
                      </a:lnTo>
                      <a:lnTo>
                        <a:pt x="110" y="211"/>
                      </a:lnTo>
                      <a:lnTo>
                        <a:pt x="110" y="208"/>
                      </a:lnTo>
                      <a:lnTo>
                        <a:pt x="113" y="205"/>
                      </a:lnTo>
                      <a:lnTo>
                        <a:pt x="113" y="204"/>
                      </a:lnTo>
                      <a:lnTo>
                        <a:pt x="116" y="201"/>
                      </a:lnTo>
                      <a:lnTo>
                        <a:pt x="117" y="198"/>
                      </a:lnTo>
                      <a:lnTo>
                        <a:pt x="126" y="188"/>
                      </a:lnTo>
                      <a:lnTo>
                        <a:pt x="129" y="186"/>
                      </a:lnTo>
                      <a:lnTo>
                        <a:pt x="133" y="185"/>
                      </a:lnTo>
                      <a:lnTo>
                        <a:pt x="136" y="182"/>
                      </a:lnTo>
                      <a:lnTo>
                        <a:pt x="139" y="181"/>
                      </a:lnTo>
                      <a:lnTo>
                        <a:pt x="144" y="178"/>
                      </a:lnTo>
                      <a:lnTo>
                        <a:pt x="147" y="178"/>
                      </a:lnTo>
                      <a:lnTo>
                        <a:pt x="151" y="176"/>
                      </a:lnTo>
                      <a:lnTo>
                        <a:pt x="154" y="175"/>
                      </a:lnTo>
                      <a:lnTo>
                        <a:pt x="157" y="175"/>
                      </a:lnTo>
                      <a:lnTo>
                        <a:pt x="170" y="175"/>
                      </a:lnTo>
                      <a:lnTo>
                        <a:pt x="173" y="175"/>
                      </a:lnTo>
                      <a:lnTo>
                        <a:pt x="176" y="175"/>
                      </a:lnTo>
                      <a:lnTo>
                        <a:pt x="177" y="176"/>
                      </a:lnTo>
                      <a:lnTo>
                        <a:pt x="182" y="178"/>
                      </a:lnTo>
                      <a:lnTo>
                        <a:pt x="185" y="178"/>
                      </a:lnTo>
                      <a:lnTo>
                        <a:pt x="186" y="179"/>
                      </a:lnTo>
                      <a:lnTo>
                        <a:pt x="188" y="181"/>
                      </a:lnTo>
                      <a:lnTo>
                        <a:pt x="190" y="181"/>
                      </a:lnTo>
                      <a:lnTo>
                        <a:pt x="193" y="182"/>
                      </a:lnTo>
                      <a:lnTo>
                        <a:pt x="195" y="183"/>
                      </a:lnTo>
                      <a:lnTo>
                        <a:pt x="196" y="185"/>
                      </a:lnTo>
                      <a:lnTo>
                        <a:pt x="198" y="185"/>
                      </a:lnTo>
                      <a:lnTo>
                        <a:pt x="199" y="186"/>
                      </a:lnTo>
                      <a:lnTo>
                        <a:pt x="201" y="188"/>
                      </a:lnTo>
                      <a:lnTo>
                        <a:pt x="205" y="191"/>
                      </a:lnTo>
                      <a:lnTo>
                        <a:pt x="234" y="191"/>
                      </a:lnTo>
                      <a:lnTo>
                        <a:pt x="239" y="186"/>
                      </a:lnTo>
                      <a:lnTo>
                        <a:pt x="242" y="185"/>
                      </a:lnTo>
                      <a:lnTo>
                        <a:pt x="243" y="185"/>
                      </a:lnTo>
                      <a:lnTo>
                        <a:pt x="245" y="183"/>
                      </a:lnTo>
                      <a:lnTo>
                        <a:pt x="246" y="182"/>
                      </a:lnTo>
                      <a:lnTo>
                        <a:pt x="249" y="181"/>
                      </a:lnTo>
                      <a:lnTo>
                        <a:pt x="251" y="179"/>
                      </a:lnTo>
                      <a:lnTo>
                        <a:pt x="252" y="178"/>
                      </a:lnTo>
                      <a:lnTo>
                        <a:pt x="255" y="178"/>
                      </a:lnTo>
                      <a:lnTo>
                        <a:pt x="256" y="176"/>
                      </a:lnTo>
                      <a:lnTo>
                        <a:pt x="259" y="175"/>
                      </a:lnTo>
                      <a:lnTo>
                        <a:pt x="262" y="175"/>
                      </a:lnTo>
                      <a:lnTo>
                        <a:pt x="265" y="173"/>
                      </a:lnTo>
                      <a:lnTo>
                        <a:pt x="268" y="173"/>
                      </a:lnTo>
                      <a:lnTo>
                        <a:pt x="271" y="172"/>
                      </a:lnTo>
                      <a:lnTo>
                        <a:pt x="286" y="172"/>
                      </a:lnTo>
                      <a:lnTo>
                        <a:pt x="289" y="173"/>
                      </a:lnTo>
                      <a:lnTo>
                        <a:pt x="292" y="175"/>
                      </a:lnTo>
                      <a:lnTo>
                        <a:pt x="294" y="175"/>
                      </a:lnTo>
                      <a:lnTo>
                        <a:pt x="299" y="176"/>
                      </a:lnTo>
                      <a:lnTo>
                        <a:pt x="302" y="178"/>
                      </a:lnTo>
                      <a:lnTo>
                        <a:pt x="306" y="181"/>
                      </a:lnTo>
                      <a:lnTo>
                        <a:pt x="309" y="183"/>
                      </a:lnTo>
                      <a:lnTo>
                        <a:pt x="312" y="185"/>
                      </a:lnTo>
                      <a:lnTo>
                        <a:pt x="316" y="191"/>
                      </a:lnTo>
                      <a:lnTo>
                        <a:pt x="319" y="194"/>
                      </a:lnTo>
                      <a:lnTo>
                        <a:pt x="321" y="195"/>
                      </a:lnTo>
                      <a:lnTo>
                        <a:pt x="324" y="198"/>
                      </a:lnTo>
                      <a:lnTo>
                        <a:pt x="325" y="201"/>
                      </a:lnTo>
                      <a:lnTo>
                        <a:pt x="327" y="204"/>
                      </a:lnTo>
                      <a:lnTo>
                        <a:pt x="328" y="207"/>
                      </a:lnTo>
                      <a:lnTo>
                        <a:pt x="330" y="210"/>
                      </a:lnTo>
                      <a:lnTo>
                        <a:pt x="330" y="211"/>
                      </a:lnTo>
                      <a:lnTo>
                        <a:pt x="330" y="214"/>
                      </a:lnTo>
                      <a:lnTo>
                        <a:pt x="331" y="219"/>
                      </a:lnTo>
                      <a:lnTo>
                        <a:pt x="333" y="220"/>
                      </a:lnTo>
                      <a:lnTo>
                        <a:pt x="333" y="224"/>
                      </a:lnTo>
                      <a:lnTo>
                        <a:pt x="333" y="227"/>
                      </a:lnTo>
                      <a:lnTo>
                        <a:pt x="333" y="241"/>
                      </a:lnTo>
                      <a:lnTo>
                        <a:pt x="333" y="242"/>
                      </a:lnTo>
                      <a:lnTo>
                        <a:pt x="333" y="24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171960" y="1803600"/>
                  <a:ext cx="63720" cy="637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244320" y="1803600"/>
                  <a:ext cx="84960" cy="637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336120" y="1803600"/>
                  <a:ext cx="84960" cy="637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076920" y="1799280"/>
                  <a:ext cx="86760" cy="10476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098520" y="1824120"/>
                  <a:ext cx="43920" cy="5544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986920" y="1799280"/>
                  <a:ext cx="84960" cy="10476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008160" y="1824120"/>
                  <a:ext cx="42480" cy="5544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467160" y="1799280"/>
                  <a:ext cx="84960" cy="10476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486960" y="1824120"/>
                  <a:ext cx="45360" cy="5544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571920" y="1708560"/>
                  <a:ext cx="1440" cy="1587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627720" y="1706760"/>
                  <a:ext cx="1440" cy="160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627720" y="1847160"/>
                  <a:ext cx="129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630960" y="1706400"/>
                  <a:ext cx="1440" cy="536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916360" y="1760760"/>
                  <a:ext cx="727560" cy="223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3579840" y="1793160"/>
                  <a:ext cx="406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3580200" y="180180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>
                  <a:off x="3579840" y="1809720"/>
                  <a:ext cx="406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3579840" y="182628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580200" y="1834560"/>
                  <a:ext cx="406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3579840" y="184104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580200" y="185112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>
                  <a:off x="3579840" y="185724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>
                  <a:off x="3579840" y="1818000"/>
                  <a:ext cx="406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>
                  <a:off x="2916000" y="1793160"/>
                  <a:ext cx="6454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3535560" y="1801800"/>
                  <a:ext cx="262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3147120" y="1801800"/>
                  <a:ext cx="3423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>
                  <a:off x="3055320" y="1801800"/>
                  <a:ext cx="40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>
                  <a:off x="2916000" y="1801800"/>
                  <a:ext cx="867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2916360" y="1809720"/>
                  <a:ext cx="7992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154320" y="1809720"/>
                  <a:ext cx="32220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542760" y="1809720"/>
                  <a:ext cx="194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>
                  <a:off x="3548520" y="1818000"/>
                  <a:ext cx="1332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3160080" y="1818000"/>
                  <a:ext cx="30780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2916000" y="1818000"/>
                  <a:ext cx="7380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916360" y="1826280"/>
                  <a:ext cx="720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3167280" y="1826280"/>
                  <a:ext cx="29952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3555720" y="1826280"/>
                  <a:ext cx="64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>
                  <a:off x="3555720" y="1834560"/>
                  <a:ext cx="64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>
                  <a:off x="3557160" y="184104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>
                  <a:off x="3557160" y="185112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3557160" y="185724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3167280" y="1857240"/>
                  <a:ext cx="2880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167280" y="1834560"/>
                  <a:ext cx="29772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3173760" y="1841040"/>
                  <a:ext cx="290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167280" y="1851120"/>
                  <a:ext cx="28800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>
                  <a:off x="3001680" y="1801800"/>
                  <a:ext cx="50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2994840" y="1809720"/>
                  <a:ext cx="32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3051000" y="1801800"/>
                  <a:ext cx="453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>
                  <a:off x="3165120" y="1841040"/>
                  <a:ext cx="972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>
                  <a:off x="2990520" y="1818000"/>
                  <a:ext cx="28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2986560" y="1818000"/>
                  <a:ext cx="32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2908440" y="1653120"/>
                  <a:ext cx="26280" cy="69840"/>
                </a:xfrm>
                <a:custGeom>
                  <a:avLst/>
                  <a:gdLst/>
                  <a:ahLst/>
                  <a:rect l="l" t="t" r="r" b="b"/>
                  <a:pathLst>
                    <a:path w="32" h="69">
                      <a:moveTo>
                        <a:pt x="18" y="0"/>
                      </a:moveTo>
                      <a:lnTo>
                        <a:pt x="32" y="24"/>
                      </a:lnTo>
                      <a:lnTo>
                        <a:pt x="3" y="69"/>
                      </a:lnTo>
                      <a:lnTo>
                        <a:pt x="0" y="63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542760" y="1624680"/>
                  <a:ext cx="33840" cy="47160"/>
                </a:xfrm>
                <a:custGeom>
                  <a:avLst/>
                  <a:gdLst/>
                  <a:ahLst/>
                  <a:rect l="l" t="t" r="r" b="b"/>
                  <a:pathLst>
                    <a:path w="43" h="47">
                      <a:moveTo>
                        <a:pt x="43" y="38"/>
                      </a:move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43" y="3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>
                  <a:off x="3455640" y="1851120"/>
                  <a:ext cx="64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3455640" y="1857240"/>
                  <a:ext cx="64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V="1">
                  <a:off x="3643920" y="1694520"/>
                  <a:ext cx="1440" cy="118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>
                  <a:off x="3530880" y="1801800"/>
                  <a:ext cx="4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540600" y="1809720"/>
                  <a:ext cx="180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547440" y="1818000"/>
                  <a:ext cx="14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550680" y="1826280"/>
                  <a:ext cx="46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>
                  <a:off x="3554280" y="1834560"/>
                  <a:ext cx="28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>
                  <a:off x="3473640" y="1809720"/>
                  <a:ext cx="648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>
                  <a:off x="3468240" y="1818000"/>
                  <a:ext cx="32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3163680" y="1834560"/>
                  <a:ext cx="32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160440" y="1826280"/>
                  <a:ext cx="648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>
                  <a:off x="3156840" y="1818000"/>
                  <a:ext cx="180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3150720" y="1809720"/>
                  <a:ext cx="3240" cy="2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>
                  <a:off x="3143880" y="1801800"/>
                  <a:ext cx="324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926440" y="1677960"/>
                  <a:ext cx="38880" cy="45000"/>
                </a:xfrm>
                <a:custGeom>
                  <a:avLst/>
                  <a:gdLst/>
                  <a:ahLst/>
                  <a:rect l="l" t="t" r="r" b="b"/>
                  <a:pathLst>
                    <a:path w="48" h="44">
                      <a:moveTo>
                        <a:pt x="48" y="0"/>
                      </a:move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20" y="4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957400" y="1677960"/>
                  <a:ext cx="109800" cy="45000"/>
                </a:xfrm>
                <a:custGeom>
                  <a:avLst/>
                  <a:gdLst/>
                  <a:ahLst/>
                  <a:rect l="l" t="t" r="r" b="b"/>
                  <a:pathLst>
                    <a:path w="135" h="44">
                      <a:moveTo>
                        <a:pt x="31" y="0"/>
                      </a:moveTo>
                      <a:lnTo>
                        <a:pt x="0" y="44"/>
                      </a:lnTo>
                      <a:lnTo>
                        <a:pt x="107" y="44"/>
                      </a:lnTo>
                      <a:lnTo>
                        <a:pt x="13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055680" y="1677960"/>
                  <a:ext cx="109440" cy="45000"/>
                </a:xfrm>
                <a:custGeom>
                  <a:avLst/>
                  <a:gdLst/>
                  <a:ahLst/>
                  <a:rect l="l" t="t" r="r" b="b"/>
                  <a:pathLst>
                    <a:path w="133" h="44">
                      <a:moveTo>
                        <a:pt x="29" y="0"/>
                      </a:moveTo>
                      <a:lnTo>
                        <a:pt x="0" y="44"/>
                      </a:lnTo>
                      <a:lnTo>
                        <a:pt x="107" y="44"/>
                      </a:lnTo>
                      <a:lnTo>
                        <a:pt x="133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155760" y="1677960"/>
                  <a:ext cx="109440" cy="45000"/>
                </a:xfrm>
                <a:custGeom>
                  <a:avLst/>
                  <a:gdLst/>
                  <a:ahLst/>
                  <a:rect l="l" t="t" r="r" b="b"/>
                  <a:pathLst>
                    <a:path w="134" h="44">
                      <a:moveTo>
                        <a:pt x="30" y="0"/>
                      </a:moveTo>
                      <a:lnTo>
                        <a:pt x="0" y="44"/>
                      </a:lnTo>
                      <a:lnTo>
                        <a:pt x="107" y="44"/>
                      </a:lnTo>
                      <a:lnTo>
                        <a:pt x="13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3254400" y="1677960"/>
                  <a:ext cx="109440" cy="45000"/>
                </a:xfrm>
                <a:custGeom>
                  <a:avLst/>
                  <a:gdLst/>
                  <a:ahLst/>
                  <a:rect l="l" t="t" r="r" b="b"/>
                  <a:pathLst>
                    <a:path w="133" h="44">
                      <a:moveTo>
                        <a:pt x="29" y="0"/>
                      </a:moveTo>
                      <a:lnTo>
                        <a:pt x="0" y="44"/>
                      </a:lnTo>
                      <a:lnTo>
                        <a:pt x="106" y="44"/>
                      </a:lnTo>
                      <a:lnTo>
                        <a:pt x="133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352320" y="1677960"/>
                  <a:ext cx="111240" cy="45000"/>
                </a:xfrm>
                <a:custGeom>
                  <a:avLst/>
                  <a:gdLst/>
                  <a:ahLst/>
                  <a:rect l="l" t="t" r="r" b="b"/>
                  <a:pathLst>
                    <a:path w="134" h="44">
                      <a:moveTo>
                        <a:pt x="30" y="0"/>
                      </a:moveTo>
                      <a:lnTo>
                        <a:pt x="0" y="44"/>
                      </a:lnTo>
                      <a:lnTo>
                        <a:pt x="108" y="44"/>
                      </a:lnTo>
                      <a:lnTo>
                        <a:pt x="13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454200" y="1677960"/>
                  <a:ext cx="109440" cy="45000"/>
                </a:xfrm>
                <a:custGeom>
                  <a:avLst/>
                  <a:gdLst/>
                  <a:ahLst/>
                  <a:rect l="l" t="t" r="r" b="b"/>
                  <a:pathLst>
                    <a:path w="134" h="44">
                      <a:moveTo>
                        <a:pt x="29" y="0"/>
                      </a:moveTo>
                      <a:lnTo>
                        <a:pt x="0" y="44"/>
                      </a:lnTo>
                      <a:lnTo>
                        <a:pt x="108" y="44"/>
                      </a:lnTo>
                      <a:lnTo>
                        <a:pt x="134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575160" y="1704960"/>
                  <a:ext cx="52200" cy="55440"/>
                </a:xfrm>
                <a:prstGeom prst="rect">
                  <a:avLst/>
                </a:prstGeom>
                <a:solidFill>
                  <a:srgbClr val="40404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3621600" y="1341360"/>
                <a:ext cx="268920" cy="285840"/>
                <a:chOff x="3621600" y="1341360"/>
                <a:chExt cx="268920" cy="285840"/>
              </a:xfrm>
            </p:grpSpPr>
            <p:sp>
              <p:nvSpPr>
                <p:cNvPr id="1448" name=""/>
                <p:cNvSpPr/>
                <p:nvPr/>
              </p:nvSpPr>
              <p:spPr>
                <a:xfrm flipH="1">
                  <a:off x="3789720" y="1341360"/>
                  <a:ext cx="10080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791520" y="1416240"/>
                  <a:ext cx="36720" cy="3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>
                  <a:off x="3706560" y="1442160"/>
                  <a:ext cx="11736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706560" y="1522080"/>
                  <a:ext cx="324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>
                  <a:off x="3621600" y="1547640"/>
                  <a:ext cx="105120" cy="7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3621600" y="1568880"/>
                  <a:ext cx="169920" cy="5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H="1" flipV="1">
                  <a:off x="3746520" y="1542960"/>
                  <a:ext cx="44280" cy="3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flipV="1">
                  <a:off x="3746880" y="1441800"/>
                  <a:ext cx="12168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 flipV="1">
                  <a:off x="3835800" y="1425600"/>
                  <a:ext cx="42480" cy="2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3835800" y="1341360"/>
                  <a:ext cx="5436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3891240" y="1066680"/>
                <a:ext cx="222480" cy="600840"/>
                <a:chOff x="3891240" y="1066680"/>
                <a:chExt cx="222480" cy="600840"/>
              </a:xfrm>
            </p:grpSpPr>
            <p:grpSp>
              <p:nvGrpSpPr>
                <p:cNvPr id="1459" name=""/>
                <p:cNvGrpSpPr/>
                <p:nvPr/>
              </p:nvGrpSpPr>
              <p:grpSpPr>
                <a:xfrm>
                  <a:off x="3891240" y="1066680"/>
                  <a:ext cx="222480" cy="394200"/>
                  <a:chOff x="3891240" y="1066680"/>
                  <a:chExt cx="222480" cy="394200"/>
                </a:xfrm>
              </p:grpSpPr>
              <p:sp>
                <p:nvSpPr>
                  <p:cNvPr id="1460" name=""/>
                  <p:cNvSpPr/>
                  <p:nvPr/>
                </p:nvSpPr>
                <p:spPr>
                  <a:xfrm>
                    <a:off x="3959640" y="1158120"/>
                    <a:ext cx="792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3970080" y="1158120"/>
                    <a:ext cx="7560" cy="20520"/>
                  </a:xfrm>
                  <a:prstGeom prst="rect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3980160" y="1158120"/>
                    <a:ext cx="7560" cy="20520"/>
                  </a:xfrm>
                  <a:prstGeom prst="rect">
                    <a:avLst/>
                  </a:prstGeom>
                  <a:solidFill>
                    <a:srgbClr val="fa00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3990240" y="1158120"/>
                    <a:ext cx="5760" cy="20520"/>
                  </a:xfrm>
                  <a:prstGeom prst="rect">
                    <a:avLst/>
                  </a:prstGeom>
                  <a:solidFill>
                    <a:srgbClr val="fa85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4002120" y="1158120"/>
                    <a:ext cx="5760" cy="20520"/>
                  </a:xfrm>
                  <a:prstGeom prst="rect">
                    <a:avLst/>
                  </a:prstGeom>
                  <a:solidFill>
                    <a:srgbClr val="fa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4012200" y="1158120"/>
                    <a:ext cx="5760" cy="20520"/>
                  </a:xfrm>
                  <a:prstGeom prst="rect">
                    <a:avLst/>
                  </a:prstGeom>
                  <a:solidFill>
                    <a:srgbClr val="f7fa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4020480" y="1158120"/>
                    <a:ext cx="7560" cy="20520"/>
                  </a:xfrm>
                  <a:prstGeom prst="rect">
                    <a:avLst/>
                  </a:prstGeom>
                  <a:solidFill>
                    <a:srgbClr val="09f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4030560" y="1158120"/>
                    <a:ext cx="7560" cy="20520"/>
                  </a:xfrm>
                  <a:prstGeom prst="rect">
                    <a:avLst/>
                  </a:prstGeom>
                  <a:solidFill>
                    <a:srgbClr val="a2fa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4032360" y="1125000"/>
                    <a:ext cx="68760" cy="93600"/>
                  </a:xfrm>
                  <a:prstGeom prst="ellipse">
                    <a:avLst/>
                  </a:prstGeom>
                  <a:solidFill>
                    <a:srgbClr val="fa00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3901320" y="1350360"/>
                    <a:ext cx="70560" cy="91440"/>
                  </a:xfrm>
                  <a:prstGeom prst="ellipse">
                    <a:avLst/>
                  </a:prstGeom>
                  <a:solidFill>
                    <a:srgbClr val="09f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4002120" y="1066680"/>
                    <a:ext cx="2160" cy="44640"/>
                  </a:xfrm>
                  <a:prstGeom prst="line">
                    <a:avLst/>
                  </a:prstGeom>
                  <a:ln w="237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032360" y="1350360"/>
                    <a:ext cx="68760" cy="91440"/>
                  </a:xfrm>
                  <a:prstGeom prst="ellipse">
                    <a:avLst/>
                  </a:prstGeom>
                  <a:solidFill>
                    <a:srgbClr val="09f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4032360" y="1239840"/>
                    <a:ext cx="68760" cy="89280"/>
                  </a:xfrm>
                  <a:prstGeom prst="ellipse">
                    <a:avLst/>
                  </a:prstGeom>
                  <a:solidFill>
                    <a:srgbClr val="fa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3901320" y="1125000"/>
                    <a:ext cx="70560" cy="93600"/>
                  </a:xfrm>
                  <a:prstGeom prst="ellipse">
                    <a:avLst/>
                  </a:prstGeom>
                  <a:solidFill>
                    <a:srgbClr val="fa00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3901320" y="1239840"/>
                    <a:ext cx="70560" cy="89280"/>
                  </a:xfrm>
                  <a:prstGeom prst="ellipse">
                    <a:avLst/>
                  </a:prstGeom>
                  <a:solidFill>
                    <a:srgbClr val="fa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3929040" y="1111320"/>
                    <a:ext cx="145800" cy="349560"/>
                  </a:xfrm>
                  <a:prstGeom prst="rect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4075200" y="1350360"/>
                    <a:ext cx="385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8">
                        <a:moveTo>
                          <a:pt x="37" y="0"/>
                        </a:moveTo>
                        <a:lnTo>
                          <a:pt x="30" y="2"/>
                        </a:lnTo>
                        <a:lnTo>
                          <a:pt x="25" y="5"/>
                        </a:lnTo>
                        <a:lnTo>
                          <a:pt x="19" y="11"/>
                        </a:lnTo>
                        <a:lnTo>
                          <a:pt x="17" y="17"/>
                        </a:lnTo>
                        <a:lnTo>
                          <a:pt x="12" y="25"/>
                        </a:lnTo>
                        <a:lnTo>
                          <a:pt x="11" y="33"/>
                        </a:lnTo>
                        <a:lnTo>
                          <a:pt x="8" y="47"/>
                        </a:lnTo>
                        <a:lnTo>
                          <a:pt x="3" y="63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4075200" y="1239840"/>
                    <a:ext cx="3852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8">
                        <a:moveTo>
                          <a:pt x="37" y="0"/>
                        </a:moveTo>
                        <a:lnTo>
                          <a:pt x="30" y="2"/>
                        </a:lnTo>
                        <a:lnTo>
                          <a:pt x="25" y="5"/>
                        </a:lnTo>
                        <a:lnTo>
                          <a:pt x="19" y="11"/>
                        </a:lnTo>
                        <a:lnTo>
                          <a:pt x="17" y="16"/>
                        </a:lnTo>
                        <a:lnTo>
                          <a:pt x="12" y="24"/>
                        </a:lnTo>
                        <a:lnTo>
                          <a:pt x="11" y="33"/>
                        </a:lnTo>
                        <a:lnTo>
                          <a:pt x="8" y="47"/>
                        </a:lnTo>
                        <a:lnTo>
                          <a:pt x="3" y="63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4075200" y="1125000"/>
                    <a:ext cx="385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9">
                        <a:moveTo>
                          <a:pt x="37" y="0"/>
                        </a:moveTo>
                        <a:lnTo>
                          <a:pt x="30" y="3"/>
                        </a:lnTo>
                        <a:lnTo>
                          <a:pt x="25" y="5"/>
                        </a:lnTo>
                        <a:lnTo>
                          <a:pt x="19" y="10"/>
                        </a:lnTo>
                        <a:lnTo>
                          <a:pt x="17" y="17"/>
                        </a:lnTo>
                        <a:lnTo>
                          <a:pt x="12" y="24"/>
                        </a:lnTo>
                        <a:lnTo>
                          <a:pt x="11" y="32"/>
                        </a:lnTo>
                        <a:lnTo>
                          <a:pt x="8" y="48"/>
                        </a:lnTo>
                        <a:lnTo>
                          <a:pt x="3" y="63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3891240" y="1350360"/>
                    <a:ext cx="3780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12" y="5"/>
                        </a:lnTo>
                        <a:lnTo>
                          <a:pt x="17" y="11"/>
                        </a:lnTo>
                        <a:lnTo>
                          <a:pt x="20" y="17"/>
                        </a:lnTo>
                        <a:lnTo>
                          <a:pt x="23" y="25"/>
                        </a:lnTo>
                        <a:lnTo>
                          <a:pt x="26" y="33"/>
                        </a:lnTo>
                        <a:lnTo>
                          <a:pt x="29" y="47"/>
                        </a:lnTo>
                        <a:lnTo>
                          <a:pt x="33" y="63"/>
                        </a:lnTo>
                        <a:lnTo>
                          <a:pt x="36" y="78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3891240" y="1239840"/>
                    <a:ext cx="37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12" y="5"/>
                        </a:lnTo>
                        <a:lnTo>
                          <a:pt x="17" y="11"/>
                        </a:lnTo>
                        <a:lnTo>
                          <a:pt x="20" y="16"/>
                        </a:lnTo>
                        <a:lnTo>
                          <a:pt x="23" y="24"/>
                        </a:lnTo>
                        <a:lnTo>
                          <a:pt x="26" y="33"/>
                        </a:lnTo>
                        <a:lnTo>
                          <a:pt x="29" y="47"/>
                        </a:lnTo>
                        <a:lnTo>
                          <a:pt x="33" y="63"/>
                        </a:lnTo>
                        <a:lnTo>
                          <a:pt x="36" y="78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3891240" y="1125000"/>
                    <a:ext cx="37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9">
                        <a:moveTo>
                          <a:pt x="0" y="0"/>
                        </a:moveTo>
                        <a:lnTo>
                          <a:pt x="7" y="3"/>
                        </a:lnTo>
                        <a:lnTo>
                          <a:pt x="12" y="5"/>
                        </a:lnTo>
                        <a:lnTo>
                          <a:pt x="17" y="10"/>
                        </a:lnTo>
                        <a:lnTo>
                          <a:pt x="20" y="17"/>
                        </a:lnTo>
                        <a:lnTo>
                          <a:pt x="23" y="24"/>
                        </a:lnTo>
                        <a:lnTo>
                          <a:pt x="26" y="32"/>
                        </a:lnTo>
                        <a:lnTo>
                          <a:pt x="29" y="48"/>
                        </a:lnTo>
                        <a:lnTo>
                          <a:pt x="33" y="63"/>
                        </a:lnTo>
                        <a:lnTo>
                          <a:pt x="36" y="79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720" y="1380960"/>
                    <a:ext cx="99000" cy="6300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3951720" y="1350360"/>
                    <a:ext cx="99000" cy="6588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951720" y="1158120"/>
                    <a:ext cx="99000" cy="60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720" y="1125000"/>
                    <a:ext cx="99000" cy="651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951720" y="1270440"/>
                    <a:ext cx="99000" cy="59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951720" y="1238040"/>
                    <a:ext cx="99000" cy="651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957480" y="1352880"/>
                    <a:ext cx="8892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3959640" y="1355040"/>
                    <a:ext cx="85320" cy="84600"/>
                  </a:xfrm>
                  <a:prstGeom prst="ellipse">
                    <a:avLst/>
                  </a:prstGeom>
                  <a:solidFill>
                    <a:srgbClr val="09f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3957480" y="1127160"/>
                    <a:ext cx="88920" cy="89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3959640" y="1129680"/>
                    <a:ext cx="85320" cy="84600"/>
                  </a:xfrm>
                  <a:prstGeom prst="ellipse">
                    <a:avLst/>
                  </a:prstGeom>
                  <a:solidFill>
                    <a:srgbClr val="fa00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57480" y="1239840"/>
                    <a:ext cx="88920" cy="89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59640" y="1242000"/>
                    <a:ext cx="85320" cy="84600"/>
                  </a:xfrm>
                  <a:prstGeom prst="ellipse">
                    <a:avLst/>
                  </a:prstGeom>
                  <a:solidFill>
                    <a:srgbClr val="fa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71880" y="1090080"/>
                    <a:ext cx="60480" cy="1800"/>
                  </a:xfrm>
                  <a:prstGeom prst="line">
                    <a:avLst/>
                  </a:prstGeom>
                  <a:ln w="1908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3990240" y="1075680"/>
                    <a:ext cx="21960" cy="25920"/>
                  </a:xfrm>
                  <a:prstGeom prst="ellipse">
                    <a:avLst/>
                  </a:pr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016520" y="114372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9" y="0"/>
                        </a:move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3" y="10"/>
                        </a:lnTo>
                        <a:lnTo>
                          <a:pt x="12" y="13"/>
                        </a:lnTo>
                        <a:lnTo>
                          <a:pt x="10" y="16"/>
                        </a:lnTo>
                        <a:lnTo>
                          <a:pt x="10" y="16"/>
                        </a:lnTo>
                        <a:lnTo>
                          <a:pt x="9" y="13"/>
                        </a:lnTo>
                        <a:lnTo>
                          <a:pt x="7" y="12"/>
                        </a:lnTo>
                        <a:lnTo>
                          <a:pt x="3" y="12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1" y="6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a85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4006440" y="113472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7" y="0"/>
                        </a:moveTo>
                        <a:lnTo>
                          <a:pt x="10" y="1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6" y="6"/>
                        </a:lnTo>
                        <a:lnTo>
                          <a:pt x="13" y="10"/>
                        </a:lnTo>
                        <a:lnTo>
                          <a:pt x="10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3"/>
                        </a:lnTo>
                        <a:lnTo>
                          <a:pt x="5" y="12"/>
                        </a:lnTo>
                        <a:lnTo>
                          <a:pt x="3" y="12"/>
                        </a:lnTo>
                        <a:lnTo>
                          <a:pt x="0" y="10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3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a85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018320" y="125856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7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5" y="8"/>
                        </a:lnTo>
                        <a:lnTo>
                          <a:pt x="12" y="11"/>
                        </a:lnTo>
                        <a:lnTo>
                          <a:pt x="11" y="14"/>
                        </a:lnTo>
                        <a:lnTo>
                          <a:pt x="9" y="17"/>
                        </a:lnTo>
                        <a:lnTo>
                          <a:pt x="9" y="17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3" y="12"/>
                        </a:lnTo>
                        <a:lnTo>
                          <a:pt x="0" y="11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7fa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006440" y="124956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6" y="6"/>
                        </a:lnTo>
                        <a:lnTo>
                          <a:pt x="13" y="10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8" y="16"/>
                        </a:lnTo>
                        <a:lnTo>
                          <a:pt x="8" y="13"/>
                        </a:lnTo>
                        <a:lnTo>
                          <a:pt x="5" y="12"/>
                        </a:lnTo>
                        <a:lnTo>
                          <a:pt x="3" y="12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3" y="3"/>
                        </a:lnTo>
                        <a:lnTo>
                          <a:pt x="4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7fa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016520" y="1369440"/>
                    <a:ext cx="158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6" y="5"/>
                        </a:lnTo>
                        <a:lnTo>
                          <a:pt x="13" y="10"/>
                        </a:lnTo>
                        <a:lnTo>
                          <a:pt x="12" y="13"/>
                        </a:lnTo>
                        <a:lnTo>
                          <a:pt x="10" y="16"/>
                        </a:lnTo>
                        <a:lnTo>
                          <a:pt x="10" y="16"/>
                        </a:lnTo>
                        <a:lnTo>
                          <a:pt x="9" y="13"/>
                        </a:lnTo>
                        <a:lnTo>
                          <a:pt x="7" y="11"/>
                        </a:lnTo>
                        <a:lnTo>
                          <a:pt x="3" y="11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5"/>
                        </a:lnTo>
                        <a:lnTo>
                          <a:pt x="3" y="3"/>
                        </a:lnTo>
                        <a:lnTo>
                          <a:pt x="4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2fa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4006440" y="136188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7" y="0"/>
                        </a:moveTo>
                        <a:lnTo>
                          <a:pt x="10" y="2"/>
                        </a:lnTo>
                        <a:lnTo>
                          <a:pt x="14" y="3"/>
                        </a:lnTo>
                        <a:lnTo>
                          <a:pt x="16" y="5"/>
                        </a:lnTo>
                        <a:lnTo>
                          <a:pt x="16" y="6"/>
                        </a:lnTo>
                        <a:lnTo>
                          <a:pt x="13" y="11"/>
                        </a:lnTo>
                        <a:lnTo>
                          <a:pt x="10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7" y="13"/>
                        </a:lnTo>
                        <a:lnTo>
                          <a:pt x="5" y="12"/>
                        </a:lnTo>
                        <a:lnTo>
                          <a:pt x="3" y="11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2fa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2" name=""/>
                <p:cNvSpPr/>
                <p:nvPr/>
              </p:nvSpPr>
              <p:spPr>
                <a:xfrm>
                  <a:off x="4004280" y="1446120"/>
                  <a:ext cx="0" cy="22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3" name=""/>
            <p:cNvGrpSpPr/>
            <p:nvPr/>
          </p:nvGrpSpPr>
          <p:grpSpPr>
            <a:xfrm>
              <a:off x="838080" y="1057320"/>
              <a:ext cx="1524240" cy="1000080"/>
              <a:chOff x="838080" y="1057320"/>
              <a:chExt cx="1524240" cy="1000080"/>
            </a:xfrm>
          </p:grpSpPr>
          <p:grpSp>
            <p:nvGrpSpPr>
              <p:cNvPr id="1504" name=""/>
              <p:cNvGrpSpPr/>
              <p:nvPr/>
            </p:nvGrpSpPr>
            <p:grpSpPr>
              <a:xfrm>
                <a:off x="1371600" y="1057320"/>
                <a:ext cx="990720" cy="914400"/>
                <a:chOff x="1371600" y="1057320"/>
                <a:chExt cx="990720" cy="914400"/>
              </a:xfrm>
            </p:grpSpPr>
            <p:sp>
              <p:nvSpPr>
                <p:cNvPr id="1505" name=""/>
                <p:cNvSpPr/>
                <p:nvPr/>
              </p:nvSpPr>
              <p:spPr>
                <a:xfrm>
                  <a:off x="1371600" y="1057320"/>
                  <a:ext cx="990720" cy="620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1474920" y="1101600"/>
                  <a:ext cx="380880" cy="185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600" spc="-1" strike="noStrike">
                      <a:solidFill>
                        <a:srgbClr val="ffffff"/>
                      </a:solidFill>
                      <a:latin typeface="全真中圓體"/>
                      <a:ea typeface="全真中圓體"/>
                    </a:rPr>
                    <a:t>2 8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1969920" y="1285920"/>
                  <a:ext cx="316080" cy="276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600" spc="-1" strike="noStrike">
                      <a:solidFill>
                        <a:srgbClr val="ffffff"/>
                      </a:solidFill>
                      <a:latin typeface="全真中圓體"/>
                      <a:ea typeface="全真中圓體"/>
                    </a:rPr>
                    <a:t>5 9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676520" y="1285920"/>
                  <a:ext cx="1440" cy="342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806480" y="1400040"/>
                  <a:ext cx="174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806480" y="1400040"/>
                  <a:ext cx="0" cy="23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1798560" y="1057320"/>
                  <a:ext cx="3747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600" spc="-1" strike="noStrike">
                      <a:solidFill>
                        <a:srgbClr val="000000"/>
                      </a:solidFill>
                      <a:latin typeface="全真中圓體"/>
                      <a:ea typeface="全真中圓體"/>
                    </a:rPr>
                    <a:t>南門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971720" y="1438200"/>
                  <a:ext cx="3906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600" spc="-1" strike="noStrike">
                      <a:solidFill>
                        <a:srgbClr val="000000"/>
                      </a:solidFill>
                      <a:latin typeface="全真中圓體"/>
                      <a:ea typeface="全真中圓體"/>
                    </a:rPr>
                    <a:t>洛陽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1849320" y="1677960"/>
                  <a:ext cx="34920" cy="2937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38080" y="1859040"/>
                <a:ext cx="762120" cy="19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1600200" y="6019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五  構建與環境調和之運輸系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609480" y="457200"/>
            <a:ext cx="7925040" cy="5366520"/>
            <a:chOff x="609480" y="457200"/>
            <a:chExt cx="7925040" cy="5366520"/>
          </a:xfrm>
        </p:grpSpPr>
        <p:grpSp>
          <p:nvGrpSpPr>
            <p:cNvPr id="1517" name=""/>
            <p:cNvGrpSpPr/>
            <p:nvPr/>
          </p:nvGrpSpPr>
          <p:grpSpPr>
            <a:xfrm>
              <a:off x="609480" y="457200"/>
              <a:ext cx="7925040" cy="5334120"/>
              <a:chOff x="609480" y="457200"/>
              <a:chExt cx="7925040" cy="5334120"/>
            </a:xfrm>
          </p:grpSpPr>
          <p:sp>
            <p:nvSpPr>
              <p:cNvPr id="1518" name=""/>
              <p:cNvSpPr/>
              <p:nvPr/>
            </p:nvSpPr>
            <p:spPr>
              <a:xfrm>
                <a:off x="609480" y="457200"/>
                <a:ext cx="7925040" cy="533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99eab"/>
                  </a:gs>
                  <a:gs pos="50000">
                    <a:srgbClr val="ccecff"/>
                  </a:gs>
                  <a:gs pos="100000">
                    <a:srgbClr val="899ea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0920" y="457200"/>
                <a:ext cx="3521160" cy="34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0" y="2971800"/>
                <a:ext cx="1409760" cy="11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53080" y="1031760"/>
                <a:ext cx="2481120" cy="17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32320" y="3903840"/>
                <a:ext cx="2962440" cy="12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3" name=""/>
              <p:cNvSpPr/>
              <p:nvPr/>
            </p:nvSpPr>
            <p:spPr>
              <a:xfrm>
                <a:off x="5492880" y="2819520"/>
                <a:ext cx="28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降低基地開發交通衝擊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89040" y="866880"/>
                <a:ext cx="376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規劃發展具地區特性之運輸系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49240" y="4903920"/>
                <a:ext cx="1920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引進替代能源公車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492880" y="5067360"/>
                <a:ext cx="240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引進輕軌運輸系統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11400" y="4121280"/>
                <a:ext cx="240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規劃自行車專用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8" name=""/>
              <p:cNvGrpSpPr/>
              <p:nvPr/>
            </p:nvGrpSpPr>
            <p:grpSpPr>
              <a:xfrm>
                <a:off x="849240" y="4067280"/>
                <a:ext cx="1920960" cy="726840"/>
                <a:chOff x="849240" y="4067280"/>
                <a:chExt cx="1920960" cy="726840"/>
              </a:xfrm>
            </p:grpSpPr>
            <p:pic>
              <p:nvPicPr>
                <p:cNvPr id="1529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849240" y="4067280"/>
                  <a:ext cx="1920960" cy="72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1487520" y="4495680"/>
                  <a:ext cx="88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000" spc="-1" strike="noStrike">
                      <a:solidFill>
                        <a:srgbClr val="3333cc"/>
                      </a:solidFill>
                      <a:latin typeface="Times New Roman"/>
                      <a:ea typeface="全真中圓體"/>
                    </a:rPr>
                    <a:t>電 動 公 車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3048120" y="4487760"/>
              <a:ext cx="2400120" cy="1335960"/>
              <a:chOff x="3048120" y="4487760"/>
              <a:chExt cx="2400120" cy="1335960"/>
            </a:xfrm>
          </p:grpSpPr>
          <p:pic>
            <p:nvPicPr>
              <p:cNvPr id="153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581280" y="4487760"/>
                <a:ext cx="1447920" cy="99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3048120" y="5486400"/>
                <a:ext cx="240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600" spc="-1" strike="noStrike">
                    <a:solidFill>
                      <a:srgbClr val="000000"/>
                    </a:solidFill>
                    <a:latin typeface="Times New Roman"/>
                    <a:ea typeface="全真中圓體"/>
                  </a:rPr>
                  <a:t>推廣使用電動機車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1676520" y="6095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全真中圓體"/>
                <a:ea typeface="全真中圓體"/>
              </a:rPr>
              <a:t>目標六  建立智慧化之交通運輸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52280" y="228600"/>
            <a:ext cx="8839440" cy="5791320"/>
            <a:chOff x="152280" y="228600"/>
            <a:chExt cx="8839440" cy="5791320"/>
          </a:xfrm>
        </p:grpSpPr>
        <p:grpSp>
          <p:nvGrpSpPr>
            <p:cNvPr id="1536" name=""/>
            <p:cNvGrpSpPr/>
            <p:nvPr/>
          </p:nvGrpSpPr>
          <p:grpSpPr>
            <a:xfrm>
              <a:off x="152280" y="228600"/>
              <a:ext cx="8839440" cy="5791320"/>
              <a:chOff x="152280" y="228600"/>
              <a:chExt cx="8839440" cy="5791320"/>
            </a:xfrm>
          </p:grpSpPr>
          <p:sp>
            <p:nvSpPr>
              <p:cNvPr id="1537" name=""/>
              <p:cNvSpPr/>
              <p:nvPr/>
            </p:nvSpPr>
            <p:spPr>
              <a:xfrm>
                <a:off x="152280" y="228600"/>
                <a:ext cx="8839440" cy="57913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8" name=""/>
              <p:cNvGrpSpPr/>
              <p:nvPr/>
            </p:nvGrpSpPr>
            <p:grpSpPr>
              <a:xfrm>
                <a:off x="304920" y="380880"/>
                <a:ext cx="8522280" cy="5465160"/>
                <a:chOff x="304920" y="380880"/>
                <a:chExt cx="8522280" cy="5465160"/>
              </a:xfrm>
            </p:grpSpPr>
            <p:graphicFrame>
              <p:nvGraphicFramePr>
                <p:cNvPr id="1539" name=""/>
                <p:cNvGraphicFramePr/>
                <p:nvPr/>
              </p:nvGraphicFramePr>
              <p:xfrm>
                <a:off x="3084120" y="1274760"/>
                <a:ext cx="2895480" cy="2168280"/>
              </p:xfrm>
              <a:graphic>
                <a:graphicData uri="http://schemas.openxmlformats.org/presentationml/2006/ole">
                  <p:oleObj progId="PowerPoint.Show.12" r:id="rId2" spid="">
                    <p:embed/>
                    <p:pic>
                      <p:nvPicPr>
                        <p:cNvPr id="154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084120" y="1274760"/>
                          <a:ext cx="2895480" cy="216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541" name=""/>
                <p:cNvGrpSpPr/>
                <p:nvPr/>
              </p:nvGrpSpPr>
              <p:grpSpPr>
                <a:xfrm>
                  <a:off x="304920" y="436320"/>
                  <a:ext cx="2855160" cy="2376000"/>
                  <a:chOff x="304920" y="436320"/>
                  <a:chExt cx="2855160" cy="2376000"/>
                </a:xfrm>
              </p:grpSpPr>
              <p:grpSp>
                <p:nvGrpSpPr>
                  <p:cNvPr id="1542" name=""/>
                  <p:cNvGrpSpPr/>
                  <p:nvPr/>
                </p:nvGrpSpPr>
                <p:grpSpPr>
                  <a:xfrm>
                    <a:off x="304920" y="512640"/>
                    <a:ext cx="2855160" cy="2299680"/>
                    <a:chOff x="304920" y="512640"/>
                    <a:chExt cx="2855160" cy="2299680"/>
                  </a:xfrm>
                </p:grpSpPr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364680" y="549000"/>
                      <a:ext cx="2795400" cy="226332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304920" y="512640"/>
                      <a:ext cx="2782440" cy="2252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5" name=""/>
                  <p:cNvGrpSpPr/>
                  <p:nvPr/>
                </p:nvGrpSpPr>
                <p:grpSpPr>
                  <a:xfrm>
                    <a:off x="609120" y="436320"/>
                    <a:ext cx="2230560" cy="2146680"/>
                    <a:chOff x="609120" y="436320"/>
                    <a:chExt cx="2230560" cy="2146680"/>
                  </a:xfrm>
                </p:grpSpPr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2387160" y="1391760"/>
                      <a:ext cx="42732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高乘載車輛專用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677160" y="2090520"/>
                      <a:ext cx="36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140">
                          <a:moveTo>
                            <a:pt x="92" y="0"/>
                          </a:moveTo>
                          <a:lnTo>
                            <a:pt x="335" y="0"/>
                          </a:lnTo>
                          <a:lnTo>
                            <a:pt x="437" y="140"/>
                          </a:lnTo>
                          <a:lnTo>
                            <a:pt x="0" y="140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48" name=""/>
                    <p:cNvGrpSpPr/>
                    <p:nvPr/>
                  </p:nvGrpSpPr>
                  <p:grpSpPr>
                    <a:xfrm>
                      <a:off x="1185120" y="436320"/>
                      <a:ext cx="1124640" cy="253440"/>
                      <a:chOff x="1185120" y="436320"/>
                      <a:chExt cx="1124640" cy="253440"/>
                    </a:xfrm>
                  </p:grpSpPr>
                  <p:sp>
                    <p:nvSpPr>
                      <p:cNvPr id="1549" name=""/>
                      <p:cNvSpPr/>
                      <p:nvPr/>
                    </p:nvSpPr>
                    <p:spPr>
                      <a:xfrm>
                        <a:off x="1209600" y="460440"/>
                        <a:ext cx="1100160" cy="229320"/>
                      </a:xfrm>
                      <a:prstGeom prst="rect">
                        <a:avLst/>
                      </a:prstGeom>
                      <a:solidFill>
                        <a:srgbClr val="91919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0" name=""/>
                      <p:cNvSpPr/>
                      <p:nvPr/>
                    </p:nvSpPr>
                    <p:spPr>
                      <a:xfrm>
                        <a:off x="1185120" y="436320"/>
                        <a:ext cx="108972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1" name=""/>
                      <p:cNvSpPr/>
                      <p:nvPr/>
                    </p:nvSpPr>
                    <p:spPr>
                      <a:xfrm>
                        <a:off x="1440360" y="484560"/>
                        <a:ext cx="54936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TW" sz="900" spc="-1" strike="noStrike">
                            <a:solidFill>
                              <a:srgbClr val="000000"/>
                            </a:solidFill>
                            <a:latin typeface="全真楷書"/>
                            <a:ea typeface="全真楷書"/>
                          </a:rPr>
                          <a:t>先進大眾運輸系統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2326320" y="1188720"/>
                      <a:ext cx="513360" cy="170640"/>
                      <a:chOff x="2326320" y="1188720"/>
                      <a:chExt cx="513360" cy="170640"/>
                    </a:xfrm>
                  </p:grpSpPr>
                  <p:grpSp>
                    <p:nvGrpSpPr>
                      <p:cNvPr id="1553" name=""/>
                      <p:cNvGrpSpPr/>
                      <p:nvPr/>
                    </p:nvGrpSpPr>
                    <p:grpSpPr>
                      <a:xfrm>
                        <a:off x="2326320" y="1188720"/>
                        <a:ext cx="513360" cy="170640"/>
                        <a:chOff x="2326320" y="1188720"/>
                        <a:chExt cx="513360" cy="170640"/>
                      </a:xfrm>
                    </p:grpSpPr>
                    <p:sp>
                      <p:nvSpPr>
                        <p:cNvPr id="1554" name=""/>
                        <p:cNvSpPr/>
                        <p:nvPr/>
                      </p:nvSpPr>
                      <p:spPr>
                        <a:xfrm>
                          <a:off x="2707200" y="1283760"/>
                          <a:ext cx="82800" cy="756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5" name=""/>
                        <p:cNvSpPr/>
                        <p:nvPr/>
                      </p:nvSpPr>
                      <p:spPr>
                        <a:xfrm>
                          <a:off x="2332800" y="1188720"/>
                          <a:ext cx="475200" cy="10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4" h="126">
                              <a:moveTo>
                                <a:pt x="384" y="0"/>
                              </a:moveTo>
                              <a:lnTo>
                                <a:pt x="384" y="1"/>
                              </a:lnTo>
                              <a:lnTo>
                                <a:pt x="346" y="1"/>
                              </a:lnTo>
                              <a:lnTo>
                                <a:pt x="346" y="1"/>
                              </a:lnTo>
                              <a:lnTo>
                                <a:pt x="312" y="1"/>
                              </a:lnTo>
                              <a:lnTo>
                                <a:pt x="312" y="3"/>
                              </a:lnTo>
                              <a:lnTo>
                                <a:pt x="290" y="3"/>
                              </a:lnTo>
                              <a:lnTo>
                                <a:pt x="290" y="4"/>
                              </a:lnTo>
                              <a:lnTo>
                                <a:pt x="268" y="4"/>
                              </a:lnTo>
                              <a:lnTo>
                                <a:pt x="268" y="6"/>
                              </a:lnTo>
                              <a:lnTo>
                                <a:pt x="243" y="6"/>
                              </a:lnTo>
                              <a:lnTo>
                                <a:pt x="243" y="7"/>
                              </a:lnTo>
                              <a:lnTo>
                                <a:pt x="228" y="7"/>
                              </a:lnTo>
                              <a:lnTo>
                                <a:pt x="228" y="9"/>
                              </a:lnTo>
                              <a:lnTo>
                                <a:pt x="209" y="9"/>
                              </a:lnTo>
                              <a:lnTo>
                                <a:pt x="209" y="9"/>
                              </a:lnTo>
                              <a:lnTo>
                                <a:pt x="206" y="9"/>
                              </a:lnTo>
                              <a:lnTo>
                                <a:pt x="206" y="10"/>
                              </a:lnTo>
                              <a:lnTo>
                                <a:pt x="204" y="10"/>
                              </a:lnTo>
                              <a:lnTo>
                                <a:pt x="204" y="12"/>
                              </a:lnTo>
                              <a:lnTo>
                                <a:pt x="202" y="13"/>
                              </a:lnTo>
                              <a:lnTo>
                                <a:pt x="202" y="14"/>
                              </a:lnTo>
                              <a:lnTo>
                                <a:pt x="199" y="16"/>
                              </a:lnTo>
                              <a:lnTo>
                                <a:pt x="199" y="16"/>
                              </a:lnTo>
                              <a:lnTo>
                                <a:pt x="196" y="17"/>
                              </a:lnTo>
                              <a:lnTo>
                                <a:pt x="196" y="20"/>
                              </a:lnTo>
                              <a:lnTo>
                                <a:pt x="195" y="20"/>
                              </a:lnTo>
                              <a:lnTo>
                                <a:pt x="195" y="23"/>
                              </a:lnTo>
                              <a:lnTo>
                                <a:pt x="193" y="23"/>
                              </a:lnTo>
                              <a:lnTo>
                                <a:pt x="193" y="26"/>
                              </a:lnTo>
                              <a:lnTo>
                                <a:pt x="192" y="26"/>
                              </a:lnTo>
                              <a:lnTo>
                                <a:pt x="192" y="31"/>
                              </a:lnTo>
                              <a:lnTo>
                                <a:pt x="192" y="31"/>
                              </a:lnTo>
                              <a:lnTo>
                                <a:pt x="192" y="34"/>
                              </a:lnTo>
                              <a:lnTo>
                                <a:pt x="190" y="34"/>
                              </a:lnTo>
                              <a:lnTo>
                                <a:pt x="190" y="38"/>
                              </a:lnTo>
                              <a:lnTo>
                                <a:pt x="189" y="38"/>
                              </a:lnTo>
                              <a:lnTo>
                                <a:pt x="189" y="41"/>
                              </a:lnTo>
                              <a:lnTo>
                                <a:pt x="187" y="41"/>
                              </a:lnTo>
                              <a:lnTo>
                                <a:pt x="187" y="45"/>
                              </a:lnTo>
                              <a:lnTo>
                                <a:pt x="186" y="45"/>
                              </a:lnTo>
                              <a:lnTo>
                                <a:pt x="186" y="48"/>
                              </a:lnTo>
                              <a:lnTo>
                                <a:pt x="185" y="48"/>
                              </a:lnTo>
                              <a:lnTo>
                                <a:pt x="185" y="53"/>
                              </a:lnTo>
                              <a:lnTo>
                                <a:pt x="183" y="53"/>
                              </a:lnTo>
                              <a:lnTo>
                                <a:pt x="183" y="55"/>
                              </a:lnTo>
                              <a:lnTo>
                                <a:pt x="182" y="55"/>
                              </a:lnTo>
                              <a:lnTo>
                                <a:pt x="182" y="60"/>
                              </a:lnTo>
                              <a:lnTo>
                                <a:pt x="182" y="60"/>
                              </a:lnTo>
                              <a:lnTo>
                                <a:pt x="182" y="63"/>
                              </a:lnTo>
                              <a:lnTo>
                                <a:pt x="180" y="63"/>
                              </a:lnTo>
                              <a:lnTo>
                                <a:pt x="180" y="67"/>
                              </a:lnTo>
                              <a:lnTo>
                                <a:pt x="179" y="67"/>
                              </a:lnTo>
                              <a:lnTo>
                                <a:pt x="179" y="70"/>
                              </a:lnTo>
                              <a:lnTo>
                                <a:pt x="177" y="70"/>
                              </a:lnTo>
                              <a:lnTo>
                                <a:pt x="177" y="72"/>
                              </a:lnTo>
                              <a:lnTo>
                                <a:pt x="57" y="72"/>
                              </a:lnTo>
                              <a:lnTo>
                                <a:pt x="57" y="75"/>
                              </a:lnTo>
                              <a:lnTo>
                                <a:pt x="56" y="75"/>
                              </a:lnTo>
                              <a:lnTo>
                                <a:pt x="56" y="76"/>
                              </a:lnTo>
                              <a:lnTo>
                                <a:pt x="54" y="76"/>
                              </a:lnTo>
                              <a:lnTo>
                                <a:pt x="54" y="79"/>
                              </a:lnTo>
                              <a:lnTo>
                                <a:pt x="53" y="79"/>
                              </a:lnTo>
                              <a:lnTo>
                                <a:pt x="53" y="82"/>
                              </a:lnTo>
                              <a:lnTo>
                                <a:pt x="51" y="82"/>
                              </a:lnTo>
                              <a:lnTo>
                                <a:pt x="51" y="83"/>
                              </a:lnTo>
                              <a:lnTo>
                                <a:pt x="48" y="85"/>
                              </a:lnTo>
                              <a:lnTo>
                                <a:pt x="44" y="85"/>
                              </a:lnTo>
                              <a:lnTo>
                                <a:pt x="44" y="83"/>
                              </a:lnTo>
                              <a:lnTo>
                                <a:pt x="38" y="83"/>
                              </a:lnTo>
                              <a:lnTo>
                                <a:pt x="38" y="82"/>
                              </a:lnTo>
                              <a:lnTo>
                                <a:pt x="31" y="82"/>
                              </a:lnTo>
                              <a:lnTo>
                                <a:pt x="31" y="98"/>
                              </a:lnTo>
                              <a:lnTo>
                                <a:pt x="28" y="99"/>
                              </a:lnTo>
                              <a:lnTo>
                                <a:pt x="26" y="101"/>
                              </a:lnTo>
                              <a:lnTo>
                                <a:pt x="23" y="102"/>
                              </a:lnTo>
                              <a:lnTo>
                                <a:pt x="20" y="104"/>
                              </a:lnTo>
                              <a:lnTo>
                                <a:pt x="20" y="104"/>
                              </a:lnTo>
                              <a:lnTo>
                                <a:pt x="18" y="104"/>
                              </a:lnTo>
                              <a:lnTo>
                                <a:pt x="18" y="105"/>
                              </a:lnTo>
                              <a:lnTo>
                                <a:pt x="16" y="105"/>
                              </a:lnTo>
                              <a:lnTo>
                                <a:pt x="16" y="107"/>
                              </a:lnTo>
                              <a:lnTo>
                                <a:pt x="13" y="108"/>
                              </a:lnTo>
                              <a:lnTo>
                                <a:pt x="13" y="110"/>
                              </a:lnTo>
                              <a:lnTo>
                                <a:pt x="10" y="110"/>
                              </a:lnTo>
                              <a:lnTo>
                                <a:pt x="10" y="110"/>
                              </a:lnTo>
                              <a:lnTo>
                                <a:pt x="7" y="111"/>
                              </a:lnTo>
                              <a:lnTo>
                                <a:pt x="7" y="113"/>
                              </a:lnTo>
                              <a:lnTo>
                                <a:pt x="6" y="114"/>
                              </a:lnTo>
                              <a:lnTo>
                                <a:pt x="6" y="116"/>
                              </a:lnTo>
                              <a:lnTo>
                                <a:pt x="3" y="117"/>
                              </a:lnTo>
                              <a:lnTo>
                                <a:pt x="3" y="117"/>
                              </a:lnTo>
                              <a:lnTo>
                                <a:pt x="1" y="117"/>
                              </a:lnTo>
                              <a:lnTo>
                                <a:pt x="1" y="121"/>
                              </a:lnTo>
                              <a:lnTo>
                                <a:pt x="0" y="121"/>
                              </a:lnTo>
                              <a:lnTo>
                                <a:pt x="0" y="124"/>
                              </a:lnTo>
                              <a:lnTo>
                                <a:pt x="1" y="124"/>
                              </a:lnTo>
                              <a:lnTo>
                                <a:pt x="1" y="126"/>
                              </a:lnTo>
                              <a:lnTo>
                                <a:pt x="7" y="126"/>
                              </a:lnTo>
                              <a:lnTo>
                                <a:pt x="7" y="124"/>
                              </a:lnTo>
                              <a:lnTo>
                                <a:pt x="10" y="124"/>
                              </a:lnTo>
                              <a:lnTo>
                                <a:pt x="13" y="123"/>
                              </a:lnTo>
                              <a:lnTo>
                                <a:pt x="13" y="121"/>
                              </a:lnTo>
                              <a:lnTo>
                                <a:pt x="18" y="121"/>
                              </a:lnTo>
                              <a:lnTo>
                                <a:pt x="18" y="120"/>
                              </a:lnTo>
                              <a:lnTo>
                                <a:pt x="19" y="120"/>
                              </a:lnTo>
                              <a:lnTo>
                                <a:pt x="19" y="118"/>
                              </a:lnTo>
                              <a:lnTo>
                                <a:pt x="22" y="118"/>
                              </a:lnTo>
                              <a:lnTo>
                                <a:pt x="22" y="117"/>
                              </a:lnTo>
                              <a:lnTo>
                                <a:pt x="26" y="117"/>
                              </a:lnTo>
                              <a:lnTo>
                                <a:pt x="26" y="117"/>
                              </a:lnTo>
                              <a:lnTo>
                                <a:pt x="31" y="117"/>
                              </a:lnTo>
                              <a:lnTo>
                                <a:pt x="31" y="116"/>
                              </a:lnTo>
                              <a:lnTo>
                                <a:pt x="37" y="116"/>
                              </a:lnTo>
                              <a:lnTo>
                                <a:pt x="37" y="114"/>
                              </a:lnTo>
                              <a:lnTo>
                                <a:pt x="573" y="114"/>
                              </a:lnTo>
                              <a:lnTo>
                                <a:pt x="573" y="108"/>
                              </a:lnTo>
                              <a:lnTo>
                                <a:pt x="574" y="108"/>
                              </a:lnTo>
                              <a:lnTo>
                                <a:pt x="574" y="64"/>
                              </a:lnTo>
                              <a:lnTo>
                                <a:pt x="573" y="64"/>
                              </a:lnTo>
                              <a:lnTo>
                                <a:pt x="573" y="51"/>
                              </a:lnTo>
                              <a:lnTo>
                                <a:pt x="571" y="51"/>
                              </a:lnTo>
                              <a:lnTo>
                                <a:pt x="571" y="42"/>
                              </a:lnTo>
                              <a:lnTo>
                                <a:pt x="573" y="42"/>
                              </a:lnTo>
                              <a:lnTo>
                                <a:pt x="573" y="31"/>
                              </a:lnTo>
                              <a:lnTo>
                                <a:pt x="571" y="31"/>
                              </a:lnTo>
                              <a:lnTo>
                                <a:pt x="571" y="26"/>
                              </a:lnTo>
                              <a:lnTo>
                                <a:pt x="571" y="26"/>
                              </a:lnTo>
                              <a:lnTo>
                                <a:pt x="571" y="23"/>
                              </a:lnTo>
                              <a:lnTo>
                                <a:pt x="570" y="23"/>
                              </a:lnTo>
                              <a:lnTo>
                                <a:pt x="570" y="22"/>
                              </a:lnTo>
                              <a:lnTo>
                                <a:pt x="568" y="22"/>
                              </a:lnTo>
                              <a:lnTo>
                                <a:pt x="567" y="19"/>
                              </a:lnTo>
                              <a:lnTo>
                                <a:pt x="565" y="19"/>
                              </a:lnTo>
                              <a:lnTo>
                                <a:pt x="564" y="16"/>
                              </a:lnTo>
                              <a:lnTo>
                                <a:pt x="562" y="16"/>
                              </a:lnTo>
                              <a:lnTo>
                                <a:pt x="562" y="16"/>
                              </a:lnTo>
                              <a:lnTo>
                                <a:pt x="561" y="16"/>
                              </a:lnTo>
                              <a:lnTo>
                                <a:pt x="560" y="13"/>
                              </a:lnTo>
                              <a:lnTo>
                                <a:pt x="557" y="13"/>
                              </a:lnTo>
                              <a:lnTo>
                                <a:pt x="557" y="12"/>
                              </a:lnTo>
                              <a:lnTo>
                                <a:pt x="552" y="12"/>
                              </a:lnTo>
                              <a:lnTo>
                                <a:pt x="552" y="10"/>
                              </a:lnTo>
                              <a:lnTo>
                                <a:pt x="548" y="10"/>
                              </a:lnTo>
                              <a:lnTo>
                                <a:pt x="548" y="9"/>
                              </a:lnTo>
                              <a:lnTo>
                                <a:pt x="542" y="9"/>
                              </a:lnTo>
                              <a:lnTo>
                                <a:pt x="542" y="9"/>
                              </a:lnTo>
                              <a:lnTo>
                                <a:pt x="533" y="9"/>
                              </a:lnTo>
                              <a:lnTo>
                                <a:pt x="533" y="7"/>
                              </a:lnTo>
                              <a:lnTo>
                                <a:pt x="530" y="7"/>
                              </a:lnTo>
                              <a:lnTo>
                                <a:pt x="530" y="6"/>
                              </a:lnTo>
                              <a:lnTo>
                                <a:pt x="521" y="6"/>
                              </a:lnTo>
                              <a:lnTo>
                                <a:pt x="521" y="4"/>
                              </a:lnTo>
                              <a:lnTo>
                                <a:pt x="514" y="4"/>
                              </a:lnTo>
                              <a:lnTo>
                                <a:pt x="514" y="3"/>
                              </a:lnTo>
                              <a:lnTo>
                                <a:pt x="505" y="3"/>
                              </a:lnTo>
                              <a:lnTo>
                                <a:pt x="505" y="1"/>
                              </a:lnTo>
                              <a:lnTo>
                                <a:pt x="489" y="1"/>
                              </a:lnTo>
                              <a:lnTo>
                                <a:pt x="489" y="1"/>
                              </a:lnTo>
                              <a:lnTo>
                                <a:pt x="464" y="1"/>
                              </a:lnTo>
                              <a:lnTo>
                                <a:pt x="464" y="0"/>
                              </a:lnTo>
                              <a:lnTo>
                                <a:pt x="38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6" name=""/>
                        <p:cNvSpPr/>
                        <p:nvPr/>
                      </p:nvSpPr>
                      <p:spPr>
                        <a:xfrm>
                          <a:off x="2381040" y="1281960"/>
                          <a:ext cx="35280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6" h="51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4" y="2"/>
                              </a:lnTo>
                              <a:lnTo>
                                <a:pt x="5" y="3"/>
                              </a:lnTo>
                              <a:lnTo>
                                <a:pt x="10" y="3"/>
                              </a:lnTo>
                              <a:lnTo>
                                <a:pt x="10" y="4"/>
                              </a:lnTo>
                              <a:lnTo>
                                <a:pt x="11" y="4"/>
                              </a:lnTo>
                              <a:lnTo>
                                <a:pt x="11" y="6"/>
                              </a:lnTo>
                              <a:lnTo>
                                <a:pt x="14" y="6"/>
                              </a:lnTo>
                              <a:lnTo>
                                <a:pt x="16" y="9"/>
                              </a:lnTo>
                              <a:lnTo>
                                <a:pt x="17" y="9"/>
                              </a:lnTo>
                              <a:lnTo>
                                <a:pt x="17" y="10"/>
                              </a:lnTo>
                              <a:lnTo>
                                <a:pt x="20" y="10"/>
                              </a:lnTo>
                              <a:lnTo>
                                <a:pt x="20" y="12"/>
                              </a:lnTo>
                              <a:lnTo>
                                <a:pt x="22" y="12"/>
                              </a:lnTo>
                              <a:lnTo>
                                <a:pt x="23" y="15"/>
                              </a:lnTo>
                              <a:lnTo>
                                <a:pt x="24" y="15"/>
                              </a:lnTo>
                              <a:lnTo>
                                <a:pt x="24" y="16"/>
                              </a:lnTo>
                              <a:lnTo>
                                <a:pt x="27" y="16"/>
                              </a:lnTo>
                              <a:lnTo>
                                <a:pt x="27" y="18"/>
                              </a:lnTo>
                              <a:lnTo>
                                <a:pt x="29" y="18"/>
                              </a:lnTo>
                              <a:lnTo>
                                <a:pt x="30" y="21"/>
                              </a:lnTo>
                              <a:lnTo>
                                <a:pt x="30" y="21"/>
                              </a:lnTo>
                              <a:lnTo>
                                <a:pt x="30" y="24"/>
                              </a:lnTo>
                              <a:lnTo>
                                <a:pt x="32" y="24"/>
                              </a:lnTo>
                              <a:lnTo>
                                <a:pt x="33" y="25"/>
                              </a:lnTo>
                              <a:lnTo>
                                <a:pt x="35" y="25"/>
                              </a:lnTo>
                              <a:lnTo>
                                <a:pt x="36" y="28"/>
                              </a:lnTo>
                              <a:lnTo>
                                <a:pt x="36" y="29"/>
                              </a:lnTo>
                              <a:lnTo>
                                <a:pt x="39" y="29"/>
                              </a:lnTo>
                              <a:lnTo>
                                <a:pt x="39" y="32"/>
                              </a:lnTo>
                              <a:lnTo>
                                <a:pt x="41" y="32"/>
                              </a:lnTo>
                              <a:lnTo>
                                <a:pt x="41" y="32"/>
                              </a:lnTo>
                              <a:lnTo>
                                <a:pt x="42" y="32"/>
                              </a:lnTo>
                              <a:lnTo>
                                <a:pt x="42" y="35"/>
                              </a:lnTo>
                              <a:lnTo>
                                <a:pt x="45" y="35"/>
                              </a:lnTo>
                              <a:lnTo>
                                <a:pt x="46" y="38"/>
                              </a:lnTo>
                              <a:lnTo>
                                <a:pt x="48" y="38"/>
                              </a:lnTo>
                              <a:lnTo>
                                <a:pt x="48" y="40"/>
                              </a:lnTo>
                              <a:lnTo>
                                <a:pt x="51" y="40"/>
                              </a:lnTo>
                              <a:lnTo>
                                <a:pt x="51" y="41"/>
                              </a:lnTo>
                              <a:lnTo>
                                <a:pt x="54" y="41"/>
                              </a:lnTo>
                              <a:lnTo>
                                <a:pt x="55" y="44"/>
                              </a:lnTo>
                              <a:lnTo>
                                <a:pt x="60" y="44"/>
                              </a:lnTo>
                              <a:lnTo>
                                <a:pt x="61" y="47"/>
                              </a:lnTo>
                              <a:lnTo>
                                <a:pt x="63" y="47"/>
                              </a:lnTo>
                              <a:lnTo>
                                <a:pt x="63" y="47"/>
                              </a:lnTo>
                              <a:lnTo>
                                <a:pt x="68" y="47"/>
                              </a:lnTo>
                              <a:lnTo>
                                <a:pt x="68" y="48"/>
                              </a:lnTo>
                              <a:lnTo>
                                <a:pt x="71" y="48"/>
                              </a:lnTo>
                              <a:lnTo>
                                <a:pt x="71" y="50"/>
                              </a:lnTo>
                              <a:lnTo>
                                <a:pt x="76" y="50"/>
                              </a:lnTo>
                              <a:lnTo>
                                <a:pt x="76" y="51"/>
                              </a:lnTo>
                              <a:lnTo>
                                <a:pt x="383" y="51"/>
                              </a:lnTo>
                              <a:lnTo>
                                <a:pt x="383" y="47"/>
                              </a:lnTo>
                              <a:lnTo>
                                <a:pt x="385" y="47"/>
                              </a:lnTo>
                              <a:lnTo>
                                <a:pt x="385" y="44"/>
                              </a:lnTo>
                              <a:lnTo>
                                <a:pt x="386" y="44"/>
                              </a:lnTo>
                              <a:lnTo>
                                <a:pt x="386" y="40"/>
                              </a:lnTo>
                              <a:lnTo>
                                <a:pt x="388" y="40"/>
                              </a:lnTo>
                              <a:lnTo>
                                <a:pt x="388" y="37"/>
                              </a:lnTo>
                              <a:lnTo>
                                <a:pt x="389" y="37"/>
                              </a:lnTo>
                              <a:lnTo>
                                <a:pt x="389" y="32"/>
                              </a:lnTo>
                              <a:lnTo>
                                <a:pt x="389" y="32"/>
                              </a:lnTo>
                              <a:lnTo>
                                <a:pt x="389" y="31"/>
                              </a:lnTo>
                              <a:lnTo>
                                <a:pt x="391" y="31"/>
                              </a:lnTo>
                              <a:lnTo>
                                <a:pt x="391" y="26"/>
                              </a:lnTo>
                              <a:lnTo>
                                <a:pt x="394" y="25"/>
                              </a:lnTo>
                              <a:lnTo>
                                <a:pt x="394" y="24"/>
                              </a:lnTo>
                              <a:lnTo>
                                <a:pt x="395" y="24"/>
                              </a:lnTo>
                              <a:lnTo>
                                <a:pt x="395" y="21"/>
                              </a:lnTo>
                              <a:lnTo>
                                <a:pt x="398" y="19"/>
                              </a:lnTo>
                              <a:lnTo>
                                <a:pt x="398" y="18"/>
                              </a:lnTo>
                              <a:lnTo>
                                <a:pt x="399" y="16"/>
                              </a:lnTo>
                              <a:lnTo>
                                <a:pt x="399" y="15"/>
                              </a:lnTo>
                              <a:lnTo>
                                <a:pt x="402" y="13"/>
                              </a:lnTo>
                              <a:lnTo>
                                <a:pt x="402" y="12"/>
                              </a:lnTo>
                              <a:lnTo>
                                <a:pt x="405" y="10"/>
                              </a:lnTo>
                              <a:lnTo>
                                <a:pt x="405" y="10"/>
                              </a:lnTo>
                              <a:lnTo>
                                <a:pt x="408" y="10"/>
                              </a:lnTo>
                              <a:lnTo>
                                <a:pt x="408" y="9"/>
                              </a:lnTo>
                              <a:lnTo>
                                <a:pt x="410" y="7"/>
                              </a:lnTo>
                              <a:lnTo>
                                <a:pt x="410" y="6"/>
                              </a:lnTo>
                              <a:lnTo>
                                <a:pt x="413" y="6"/>
                              </a:lnTo>
                              <a:lnTo>
                                <a:pt x="413" y="4"/>
                              </a:lnTo>
                              <a:lnTo>
                                <a:pt x="416" y="4"/>
                              </a:lnTo>
                              <a:lnTo>
                                <a:pt x="416" y="3"/>
                              </a:lnTo>
                              <a:lnTo>
                                <a:pt x="420" y="3"/>
                              </a:lnTo>
                              <a:lnTo>
                                <a:pt x="420" y="3"/>
                              </a:lnTo>
                              <a:lnTo>
                                <a:pt x="421" y="3"/>
                              </a:lnTo>
                              <a:lnTo>
                                <a:pt x="421" y="2"/>
                              </a:lnTo>
                              <a:lnTo>
                                <a:pt x="426" y="2"/>
                              </a:lnTo>
                              <a:lnTo>
                                <a:pt x="426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7" name=""/>
                        <p:cNvSpPr/>
                        <p:nvPr/>
                      </p:nvSpPr>
                      <p:spPr>
                        <a:xfrm>
                          <a:off x="2760120" y="1281960"/>
                          <a:ext cx="4644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32">
                              <a:moveTo>
                                <a:pt x="0" y="0"/>
                              </a:moveTo>
                              <a:lnTo>
                                <a:pt x="0" y="2"/>
                              </a:lnTo>
                              <a:lnTo>
                                <a:pt x="5" y="2"/>
                              </a:lnTo>
                              <a:lnTo>
                                <a:pt x="5" y="3"/>
                              </a:lnTo>
                              <a:lnTo>
                                <a:pt x="11" y="3"/>
                              </a:lnTo>
                              <a:lnTo>
                                <a:pt x="11" y="3"/>
                              </a:lnTo>
                              <a:lnTo>
                                <a:pt x="14" y="3"/>
                              </a:lnTo>
                              <a:lnTo>
                                <a:pt x="14" y="4"/>
                              </a:lnTo>
                              <a:lnTo>
                                <a:pt x="16" y="4"/>
                              </a:lnTo>
                              <a:lnTo>
                                <a:pt x="16" y="6"/>
                              </a:lnTo>
                              <a:lnTo>
                                <a:pt x="20" y="6"/>
                              </a:lnTo>
                              <a:lnTo>
                                <a:pt x="22" y="9"/>
                              </a:lnTo>
                              <a:lnTo>
                                <a:pt x="24" y="9"/>
                              </a:lnTo>
                              <a:lnTo>
                                <a:pt x="24" y="10"/>
                              </a:lnTo>
                              <a:lnTo>
                                <a:pt x="27" y="10"/>
                              </a:lnTo>
                              <a:lnTo>
                                <a:pt x="27" y="13"/>
                              </a:lnTo>
                              <a:lnTo>
                                <a:pt x="30" y="13"/>
                              </a:lnTo>
                              <a:lnTo>
                                <a:pt x="30" y="16"/>
                              </a:lnTo>
                              <a:lnTo>
                                <a:pt x="33" y="16"/>
                              </a:lnTo>
                              <a:lnTo>
                                <a:pt x="33" y="18"/>
                              </a:lnTo>
                              <a:lnTo>
                                <a:pt x="35" y="18"/>
                              </a:lnTo>
                              <a:lnTo>
                                <a:pt x="35" y="21"/>
                              </a:lnTo>
                              <a:lnTo>
                                <a:pt x="36" y="21"/>
                              </a:lnTo>
                              <a:lnTo>
                                <a:pt x="38" y="24"/>
                              </a:lnTo>
                              <a:lnTo>
                                <a:pt x="39" y="25"/>
                              </a:lnTo>
                              <a:lnTo>
                                <a:pt x="41" y="28"/>
                              </a:lnTo>
                              <a:lnTo>
                                <a:pt x="42" y="28"/>
                              </a:lnTo>
                              <a:lnTo>
                                <a:pt x="42" y="31"/>
                              </a:lnTo>
                              <a:lnTo>
                                <a:pt x="44" y="31"/>
                              </a:lnTo>
                              <a:lnTo>
                                <a:pt x="44" y="32"/>
                              </a:lnTo>
                              <a:lnTo>
                                <a:pt x="45" y="32"/>
                              </a:lnTo>
                              <a:lnTo>
                                <a:pt x="45" y="31"/>
                              </a:lnTo>
                              <a:lnTo>
                                <a:pt x="48" y="29"/>
                              </a:lnTo>
                              <a:lnTo>
                                <a:pt x="51" y="28"/>
                              </a:lnTo>
                              <a:lnTo>
                                <a:pt x="51" y="26"/>
                              </a:lnTo>
                              <a:lnTo>
                                <a:pt x="54" y="26"/>
                              </a:lnTo>
                              <a:lnTo>
                                <a:pt x="52" y="25"/>
                              </a:lnTo>
                              <a:lnTo>
                                <a:pt x="51" y="22"/>
                              </a:lnTo>
                              <a:lnTo>
                                <a:pt x="49" y="19"/>
                              </a:lnTo>
                              <a:lnTo>
                                <a:pt x="48" y="18"/>
                              </a:lnTo>
                              <a:lnTo>
                                <a:pt x="48" y="16"/>
                              </a:lnTo>
                              <a:lnTo>
                                <a:pt x="51" y="15"/>
                              </a:lnTo>
                              <a:lnTo>
                                <a:pt x="51" y="13"/>
                              </a:lnTo>
                              <a:lnTo>
                                <a:pt x="52" y="13"/>
                              </a:lnTo>
                              <a:lnTo>
                                <a:pt x="52" y="10"/>
                              </a:lnTo>
                              <a:lnTo>
                                <a:pt x="54" y="10"/>
                              </a:lnTo>
                              <a:lnTo>
                                <a:pt x="54" y="9"/>
                              </a:lnTo>
                              <a:lnTo>
                                <a:pt x="55" y="9"/>
                              </a:lnTo>
                              <a:lnTo>
                                <a:pt x="55" y="4"/>
                              </a:lnTo>
                              <a:lnTo>
                                <a:pt x="55" y="4"/>
                              </a:lnTo>
                              <a:lnTo>
                                <a:pt x="55" y="2"/>
                              </a:lnTo>
                              <a:lnTo>
                                <a:pt x="57" y="2"/>
                              </a:lnTo>
                              <a:lnTo>
                                <a:pt x="57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8" name=""/>
                        <p:cNvSpPr/>
                        <p:nvPr/>
                      </p:nvSpPr>
                      <p:spPr>
                        <a:xfrm>
                          <a:off x="2332800" y="1188720"/>
                          <a:ext cx="475200" cy="13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4" h="165">
                              <a:moveTo>
                                <a:pt x="564" y="130"/>
                              </a:moveTo>
                              <a:lnTo>
                                <a:pt x="570" y="139"/>
                              </a:lnTo>
                              <a:lnTo>
                                <a:pt x="560" y="146"/>
                              </a:lnTo>
                              <a:lnTo>
                                <a:pt x="560" y="145"/>
                              </a:lnTo>
                              <a:lnTo>
                                <a:pt x="558" y="143"/>
                              </a:lnTo>
                              <a:lnTo>
                                <a:pt x="558" y="142"/>
                              </a:lnTo>
                              <a:lnTo>
                                <a:pt x="557" y="140"/>
                              </a:lnTo>
                              <a:lnTo>
                                <a:pt x="557" y="139"/>
                              </a:lnTo>
                              <a:lnTo>
                                <a:pt x="555" y="139"/>
                              </a:lnTo>
                              <a:lnTo>
                                <a:pt x="555" y="139"/>
                              </a:lnTo>
                              <a:lnTo>
                                <a:pt x="554" y="138"/>
                              </a:lnTo>
                              <a:lnTo>
                                <a:pt x="554" y="136"/>
                              </a:lnTo>
                              <a:lnTo>
                                <a:pt x="551" y="133"/>
                              </a:lnTo>
                              <a:lnTo>
                                <a:pt x="551" y="132"/>
                              </a:lnTo>
                              <a:lnTo>
                                <a:pt x="551" y="132"/>
                              </a:lnTo>
                              <a:lnTo>
                                <a:pt x="549" y="132"/>
                              </a:lnTo>
                              <a:lnTo>
                                <a:pt x="549" y="130"/>
                              </a:lnTo>
                              <a:lnTo>
                                <a:pt x="548" y="129"/>
                              </a:lnTo>
                              <a:lnTo>
                                <a:pt x="546" y="129"/>
                              </a:lnTo>
                              <a:lnTo>
                                <a:pt x="546" y="127"/>
                              </a:lnTo>
                              <a:lnTo>
                                <a:pt x="545" y="126"/>
                              </a:lnTo>
                              <a:lnTo>
                                <a:pt x="543" y="126"/>
                              </a:lnTo>
                              <a:lnTo>
                                <a:pt x="543" y="124"/>
                              </a:lnTo>
                              <a:lnTo>
                                <a:pt x="542" y="124"/>
                              </a:lnTo>
                              <a:lnTo>
                                <a:pt x="540" y="124"/>
                              </a:lnTo>
                              <a:lnTo>
                                <a:pt x="540" y="123"/>
                              </a:lnTo>
                              <a:lnTo>
                                <a:pt x="540" y="123"/>
                              </a:lnTo>
                              <a:lnTo>
                                <a:pt x="539" y="121"/>
                              </a:lnTo>
                              <a:lnTo>
                                <a:pt x="538" y="121"/>
                              </a:lnTo>
                              <a:lnTo>
                                <a:pt x="535" y="118"/>
                              </a:lnTo>
                              <a:lnTo>
                                <a:pt x="532" y="118"/>
                              </a:lnTo>
                              <a:lnTo>
                                <a:pt x="530" y="117"/>
                              </a:lnTo>
                              <a:lnTo>
                                <a:pt x="530" y="117"/>
                              </a:lnTo>
                              <a:lnTo>
                                <a:pt x="530" y="117"/>
                              </a:lnTo>
                              <a:lnTo>
                                <a:pt x="527" y="117"/>
                              </a:lnTo>
                              <a:lnTo>
                                <a:pt x="526" y="116"/>
                              </a:lnTo>
                              <a:lnTo>
                                <a:pt x="521" y="116"/>
                              </a:lnTo>
                              <a:lnTo>
                                <a:pt x="520" y="114"/>
                              </a:lnTo>
                              <a:lnTo>
                                <a:pt x="516" y="114"/>
                              </a:lnTo>
                              <a:lnTo>
                                <a:pt x="514" y="113"/>
                              </a:lnTo>
                              <a:lnTo>
                                <a:pt x="489" y="113"/>
                              </a:lnTo>
                              <a:lnTo>
                                <a:pt x="486" y="113"/>
                              </a:lnTo>
                              <a:lnTo>
                                <a:pt x="485" y="114"/>
                              </a:lnTo>
                              <a:lnTo>
                                <a:pt x="482" y="114"/>
                              </a:lnTo>
                              <a:lnTo>
                                <a:pt x="480" y="116"/>
                              </a:lnTo>
                              <a:lnTo>
                                <a:pt x="479" y="116"/>
                              </a:lnTo>
                              <a:lnTo>
                                <a:pt x="479" y="117"/>
                              </a:lnTo>
                              <a:lnTo>
                                <a:pt x="476" y="117"/>
                              </a:lnTo>
                              <a:lnTo>
                                <a:pt x="475" y="117"/>
                              </a:lnTo>
                              <a:lnTo>
                                <a:pt x="473" y="117"/>
                              </a:lnTo>
                              <a:lnTo>
                                <a:pt x="472" y="118"/>
                              </a:lnTo>
                              <a:lnTo>
                                <a:pt x="470" y="118"/>
                              </a:lnTo>
                              <a:lnTo>
                                <a:pt x="469" y="121"/>
                              </a:lnTo>
                              <a:lnTo>
                                <a:pt x="467" y="121"/>
                              </a:lnTo>
                              <a:lnTo>
                                <a:pt x="467" y="123"/>
                              </a:lnTo>
                              <a:lnTo>
                                <a:pt x="466" y="123"/>
                              </a:lnTo>
                              <a:lnTo>
                                <a:pt x="463" y="124"/>
                              </a:lnTo>
                              <a:lnTo>
                                <a:pt x="461" y="124"/>
                              </a:lnTo>
                              <a:lnTo>
                                <a:pt x="461" y="126"/>
                              </a:lnTo>
                              <a:lnTo>
                                <a:pt x="457" y="132"/>
                              </a:lnTo>
                              <a:lnTo>
                                <a:pt x="457" y="132"/>
                              </a:lnTo>
                              <a:lnTo>
                                <a:pt x="454" y="135"/>
                              </a:lnTo>
                              <a:lnTo>
                                <a:pt x="454" y="136"/>
                              </a:lnTo>
                              <a:lnTo>
                                <a:pt x="453" y="138"/>
                              </a:lnTo>
                              <a:lnTo>
                                <a:pt x="453" y="139"/>
                              </a:lnTo>
                              <a:lnTo>
                                <a:pt x="451" y="139"/>
                              </a:lnTo>
                              <a:lnTo>
                                <a:pt x="451" y="139"/>
                              </a:lnTo>
                              <a:lnTo>
                                <a:pt x="450" y="140"/>
                              </a:lnTo>
                              <a:lnTo>
                                <a:pt x="450" y="143"/>
                              </a:lnTo>
                              <a:lnTo>
                                <a:pt x="448" y="145"/>
                              </a:lnTo>
                              <a:lnTo>
                                <a:pt x="448" y="146"/>
                              </a:lnTo>
                              <a:lnTo>
                                <a:pt x="448" y="146"/>
                              </a:lnTo>
                              <a:lnTo>
                                <a:pt x="448" y="149"/>
                              </a:lnTo>
                              <a:lnTo>
                                <a:pt x="447" y="151"/>
                              </a:lnTo>
                              <a:lnTo>
                                <a:pt x="447" y="154"/>
                              </a:lnTo>
                              <a:lnTo>
                                <a:pt x="445" y="154"/>
                              </a:lnTo>
                              <a:lnTo>
                                <a:pt x="445" y="157"/>
                              </a:lnTo>
                              <a:lnTo>
                                <a:pt x="444" y="158"/>
                              </a:lnTo>
                              <a:lnTo>
                                <a:pt x="444" y="161"/>
                              </a:lnTo>
                              <a:lnTo>
                                <a:pt x="442" y="162"/>
                              </a:lnTo>
                              <a:lnTo>
                                <a:pt x="442" y="165"/>
                              </a:lnTo>
                              <a:lnTo>
                                <a:pt x="151" y="165"/>
                              </a:lnTo>
                              <a:lnTo>
                                <a:pt x="142" y="165"/>
                              </a:lnTo>
                              <a:lnTo>
                                <a:pt x="142" y="164"/>
                              </a:lnTo>
                              <a:lnTo>
                                <a:pt x="135" y="164"/>
                              </a:lnTo>
                              <a:lnTo>
                                <a:pt x="133" y="162"/>
                              </a:lnTo>
                              <a:lnTo>
                                <a:pt x="130" y="162"/>
                              </a:lnTo>
                              <a:lnTo>
                                <a:pt x="129" y="161"/>
                              </a:lnTo>
                              <a:lnTo>
                                <a:pt x="127" y="161"/>
                              </a:lnTo>
                              <a:lnTo>
                                <a:pt x="126" y="161"/>
                              </a:lnTo>
                              <a:lnTo>
                                <a:pt x="122" y="161"/>
                              </a:lnTo>
                              <a:lnTo>
                                <a:pt x="122" y="160"/>
                              </a:lnTo>
                              <a:lnTo>
                                <a:pt x="120" y="160"/>
                              </a:lnTo>
                              <a:lnTo>
                                <a:pt x="117" y="157"/>
                              </a:lnTo>
                              <a:lnTo>
                                <a:pt x="114" y="157"/>
                              </a:lnTo>
                              <a:lnTo>
                                <a:pt x="114" y="155"/>
                              </a:lnTo>
                              <a:lnTo>
                                <a:pt x="113" y="155"/>
                              </a:lnTo>
                              <a:lnTo>
                                <a:pt x="111" y="154"/>
                              </a:lnTo>
                              <a:lnTo>
                                <a:pt x="110" y="154"/>
                              </a:lnTo>
                              <a:lnTo>
                                <a:pt x="110" y="154"/>
                              </a:lnTo>
                              <a:lnTo>
                                <a:pt x="110" y="154"/>
                              </a:lnTo>
                              <a:lnTo>
                                <a:pt x="108" y="152"/>
                              </a:lnTo>
                              <a:lnTo>
                                <a:pt x="107" y="152"/>
                              </a:lnTo>
                              <a:lnTo>
                                <a:pt x="107" y="151"/>
                              </a:lnTo>
                              <a:lnTo>
                                <a:pt x="105" y="151"/>
                              </a:lnTo>
                              <a:lnTo>
                                <a:pt x="102" y="148"/>
                              </a:lnTo>
                              <a:lnTo>
                                <a:pt x="101" y="148"/>
                              </a:lnTo>
                              <a:lnTo>
                                <a:pt x="101" y="146"/>
                              </a:lnTo>
                              <a:lnTo>
                                <a:pt x="100" y="146"/>
                              </a:lnTo>
                              <a:lnTo>
                                <a:pt x="100" y="146"/>
                              </a:lnTo>
                              <a:lnTo>
                                <a:pt x="100" y="145"/>
                              </a:lnTo>
                              <a:lnTo>
                                <a:pt x="98" y="145"/>
                              </a:lnTo>
                              <a:lnTo>
                                <a:pt x="98" y="143"/>
                              </a:lnTo>
                              <a:lnTo>
                                <a:pt x="97" y="142"/>
                              </a:lnTo>
                              <a:lnTo>
                                <a:pt x="95" y="142"/>
                              </a:lnTo>
                              <a:lnTo>
                                <a:pt x="95" y="140"/>
                              </a:lnTo>
                              <a:lnTo>
                                <a:pt x="91" y="138"/>
                              </a:lnTo>
                              <a:lnTo>
                                <a:pt x="91" y="136"/>
                              </a:lnTo>
                              <a:lnTo>
                                <a:pt x="89" y="136"/>
                              </a:lnTo>
                              <a:lnTo>
                                <a:pt x="89" y="135"/>
                              </a:lnTo>
                              <a:lnTo>
                                <a:pt x="89" y="133"/>
                              </a:lnTo>
                              <a:lnTo>
                                <a:pt x="86" y="132"/>
                              </a:lnTo>
                              <a:lnTo>
                                <a:pt x="86" y="130"/>
                              </a:lnTo>
                              <a:lnTo>
                                <a:pt x="85" y="129"/>
                              </a:lnTo>
                              <a:lnTo>
                                <a:pt x="83" y="129"/>
                              </a:lnTo>
                              <a:lnTo>
                                <a:pt x="81" y="126"/>
                              </a:lnTo>
                              <a:lnTo>
                                <a:pt x="81" y="124"/>
                              </a:lnTo>
                              <a:lnTo>
                                <a:pt x="79" y="124"/>
                              </a:lnTo>
                              <a:lnTo>
                                <a:pt x="78" y="123"/>
                              </a:lnTo>
                              <a:lnTo>
                                <a:pt x="76" y="123"/>
                              </a:lnTo>
                              <a:lnTo>
                                <a:pt x="72" y="118"/>
                              </a:lnTo>
                              <a:lnTo>
                                <a:pt x="70" y="118"/>
                              </a:lnTo>
                              <a:lnTo>
                                <a:pt x="69" y="117"/>
                              </a:lnTo>
                              <a:lnTo>
                                <a:pt x="69" y="117"/>
                              </a:lnTo>
                              <a:lnTo>
                                <a:pt x="67" y="117"/>
                              </a:lnTo>
                              <a:lnTo>
                                <a:pt x="64" y="117"/>
                              </a:lnTo>
                              <a:lnTo>
                                <a:pt x="61" y="114"/>
                              </a:lnTo>
                              <a:lnTo>
                                <a:pt x="59" y="114"/>
                              </a:lnTo>
                              <a:lnTo>
                                <a:pt x="57" y="113"/>
                              </a:lnTo>
                              <a:lnTo>
                                <a:pt x="38" y="113"/>
                              </a:lnTo>
                              <a:lnTo>
                                <a:pt x="37" y="114"/>
                              </a:lnTo>
                              <a:lnTo>
                                <a:pt x="32" y="114"/>
                              </a:lnTo>
                              <a:lnTo>
                                <a:pt x="31" y="116"/>
                              </a:lnTo>
                              <a:lnTo>
                                <a:pt x="28" y="116"/>
                              </a:lnTo>
                              <a:lnTo>
                                <a:pt x="26" y="117"/>
                              </a:lnTo>
                              <a:lnTo>
                                <a:pt x="23" y="117"/>
                              </a:lnTo>
                              <a:lnTo>
                                <a:pt x="22" y="117"/>
                              </a:lnTo>
                              <a:lnTo>
                                <a:pt x="20" y="117"/>
                              </a:lnTo>
                              <a:lnTo>
                                <a:pt x="19" y="118"/>
                              </a:lnTo>
                              <a:lnTo>
                                <a:pt x="18" y="118"/>
                              </a:lnTo>
                              <a:lnTo>
                                <a:pt x="18" y="120"/>
                              </a:lnTo>
                              <a:lnTo>
                                <a:pt x="16" y="120"/>
                              </a:lnTo>
                              <a:lnTo>
                                <a:pt x="13" y="121"/>
                              </a:lnTo>
                              <a:lnTo>
                                <a:pt x="12" y="123"/>
                              </a:lnTo>
                              <a:lnTo>
                                <a:pt x="10" y="123"/>
                              </a:lnTo>
                              <a:lnTo>
                                <a:pt x="9" y="124"/>
                              </a:lnTo>
                              <a:lnTo>
                                <a:pt x="7" y="124"/>
                              </a:lnTo>
                              <a:lnTo>
                                <a:pt x="7" y="124"/>
                              </a:lnTo>
                              <a:lnTo>
                                <a:pt x="1" y="124"/>
                              </a:lnTo>
                              <a:lnTo>
                                <a:pt x="0" y="124"/>
                              </a:lnTo>
                              <a:lnTo>
                                <a:pt x="0" y="121"/>
                              </a:lnTo>
                              <a:lnTo>
                                <a:pt x="1" y="120"/>
                              </a:lnTo>
                              <a:lnTo>
                                <a:pt x="1" y="118"/>
                              </a:lnTo>
                              <a:lnTo>
                                <a:pt x="1" y="117"/>
                              </a:lnTo>
                              <a:lnTo>
                                <a:pt x="3" y="117"/>
                              </a:lnTo>
                              <a:lnTo>
                                <a:pt x="3" y="117"/>
                              </a:lnTo>
                              <a:lnTo>
                                <a:pt x="4" y="117"/>
                              </a:lnTo>
                              <a:lnTo>
                                <a:pt x="4" y="116"/>
                              </a:lnTo>
                              <a:lnTo>
                                <a:pt x="6" y="116"/>
                              </a:lnTo>
                              <a:lnTo>
                                <a:pt x="6" y="114"/>
                              </a:lnTo>
                              <a:lnTo>
                                <a:pt x="7" y="114"/>
                              </a:lnTo>
                              <a:lnTo>
                                <a:pt x="7" y="113"/>
                              </a:lnTo>
                              <a:lnTo>
                                <a:pt x="7" y="113"/>
                              </a:lnTo>
                              <a:lnTo>
                                <a:pt x="7" y="111"/>
                              </a:lnTo>
                              <a:lnTo>
                                <a:pt x="9" y="111"/>
                              </a:lnTo>
                              <a:lnTo>
                                <a:pt x="9" y="110"/>
                              </a:lnTo>
                              <a:lnTo>
                                <a:pt x="10" y="110"/>
                              </a:lnTo>
                              <a:lnTo>
                                <a:pt x="10" y="110"/>
                              </a:lnTo>
                              <a:lnTo>
                                <a:pt x="12" y="110"/>
                              </a:lnTo>
                              <a:lnTo>
                                <a:pt x="15" y="107"/>
                              </a:lnTo>
                              <a:lnTo>
                                <a:pt x="16" y="107"/>
                              </a:lnTo>
                              <a:lnTo>
                                <a:pt x="16" y="105"/>
                              </a:lnTo>
                              <a:lnTo>
                                <a:pt x="18" y="105"/>
                              </a:lnTo>
                              <a:lnTo>
                                <a:pt x="18" y="104"/>
                              </a:lnTo>
                              <a:lnTo>
                                <a:pt x="19" y="104"/>
                              </a:lnTo>
                              <a:lnTo>
                                <a:pt x="20" y="104"/>
                              </a:lnTo>
                              <a:lnTo>
                                <a:pt x="22" y="104"/>
                              </a:lnTo>
                              <a:lnTo>
                                <a:pt x="22" y="102"/>
                              </a:lnTo>
                              <a:lnTo>
                                <a:pt x="25" y="102"/>
                              </a:lnTo>
                              <a:lnTo>
                                <a:pt x="25" y="101"/>
                              </a:lnTo>
                              <a:lnTo>
                                <a:pt x="28" y="101"/>
                              </a:lnTo>
                              <a:lnTo>
                                <a:pt x="28" y="99"/>
                              </a:lnTo>
                              <a:lnTo>
                                <a:pt x="28" y="99"/>
                              </a:lnTo>
                              <a:lnTo>
                                <a:pt x="29" y="98"/>
                              </a:lnTo>
                              <a:lnTo>
                                <a:pt x="31" y="98"/>
                              </a:lnTo>
                              <a:lnTo>
                                <a:pt x="31" y="82"/>
                              </a:lnTo>
                              <a:lnTo>
                                <a:pt x="50" y="85"/>
                              </a:lnTo>
                              <a:lnTo>
                                <a:pt x="57" y="72"/>
                              </a:lnTo>
                              <a:lnTo>
                                <a:pt x="177" y="72"/>
                              </a:lnTo>
                              <a:lnTo>
                                <a:pt x="192" y="28"/>
                              </a:lnTo>
                              <a:lnTo>
                                <a:pt x="192" y="26"/>
                              </a:lnTo>
                              <a:lnTo>
                                <a:pt x="193" y="25"/>
                              </a:lnTo>
                              <a:lnTo>
                                <a:pt x="193" y="23"/>
                              </a:lnTo>
                              <a:lnTo>
                                <a:pt x="195" y="23"/>
                              </a:lnTo>
                              <a:lnTo>
                                <a:pt x="195" y="20"/>
                              </a:lnTo>
                              <a:lnTo>
                                <a:pt x="196" y="20"/>
                              </a:lnTo>
                              <a:lnTo>
                                <a:pt x="196" y="17"/>
                              </a:lnTo>
                              <a:lnTo>
                                <a:pt x="198" y="17"/>
                              </a:lnTo>
                              <a:lnTo>
                                <a:pt x="198" y="16"/>
                              </a:lnTo>
                              <a:lnTo>
                                <a:pt x="199" y="16"/>
                              </a:lnTo>
                              <a:lnTo>
                                <a:pt x="199" y="16"/>
                              </a:lnTo>
                              <a:lnTo>
                                <a:pt x="201" y="16"/>
                              </a:lnTo>
                              <a:lnTo>
                                <a:pt x="201" y="14"/>
                              </a:lnTo>
                              <a:lnTo>
                                <a:pt x="202" y="12"/>
                              </a:lnTo>
                              <a:lnTo>
                                <a:pt x="204" y="12"/>
                              </a:lnTo>
                              <a:lnTo>
                                <a:pt x="204" y="10"/>
                              </a:lnTo>
                              <a:lnTo>
                                <a:pt x="205" y="10"/>
                              </a:lnTo>
                              <a:lnTo>
                                <a:pt x="206" y="9"/>
                              </a:lnTo>
                              <a:lnTo>
                                <a:pt x="209" y="9"/>
                              </a:lnTo>
                              <a:lnTo>
                                <a:pt x="209" y="9"/>
                              </a:lnTo>
                              <a:lnTo>
                                <a:pt x="212" y="9"/>
                              </a:lnTo>
                              <a:lnTo>
                                <a:pt x="220" y="9"/>
                              </a:lnTo>
                              <a:lnTo>
                                <a:pt x="228" y="7"/>
                              </a:lnTo>
                              <a:lnTo>
                                <a:pt x="236" y="7"/>
                              </a:lnTo>
                              <a:lnTo>
                                <a:pt x="243" y="6"/>
                              </a:lnTo>
                              <a:lnTo>
                                <a:pt x="261" y="6"/>
                              </a:lnTo>
                              <a:lnTo>
                                <a:pt x="268" y="4"/>
                              </a:lnTo>
                              <a:lnTo>
                                <a:pt x="284" y="4"/>
                              </a:lnTo>
                              <a:lnTo>
                                <a:pt x="290" y="3"/>
                              </a:lnTo>
                              <a:lnTo>
                                <a:pt x="305" y="3"/>
                              </a:lnTo>
                              <a:lnTo>
                                <a:pt x="312" y="1"/>
                              </a:lnTo>
                              <a:lnTo>
                                <a:pt x="338" y="1"/>
                              </a:lnTo>
                              <a:lnTo>
                                <a:pt x="346" y="1"/>
                              </a:lnTo>
                              <a:lnTo>
                                <a:pt x="376" y="1"/>
                              </a:lnTo>
                              <a:lnTo>
                                <a:pt x="384" y="0"/>
                              </a:lnTo>
                              <a:lnTo>
                                <a:pt x="464" y="0"/>
                              </a:lnTo>
                              <a:lnTo>
                                <a:pt x="469" y="1"/>
                              </a:lnTo>
                              <a:lnTo>
                                <a:pt x="489" y="1"/>
                              </a:lnTo>
                              <a:lnTo>
                                <a:pt x="492" y="1"/>
                              </a:lnTo>
                              <a:lnTo>
                                <a:pt x="505" y="1"/>
                              </a:lnTo>
                              <a:lnTo>
                                <a:pt x="508" y="3"/>
                              </a:lnTo>
                              <a:lnTo>
                                <a:pt x="514" y="3"/>
                              </a:lnTo>
                              <a:lnTo>
                                <a:pt x="517" y="4"/>
                              </a:lnTo>
                              <a:lnTo>
                                <a:pt x="521" y="4"/>
                              </a:lnTo>
                              <a:lnTo>
                                <a:pt x="524" y="6"/>
                              </a:lnTo>
                              <a:lnTo>
                                <a:pt x="530" y="6"/>
                              </a:lnTo>
                              <a:lnTo>
                                <a:pt x="530" y="7"/>
                              </a:lnTo>
                              <a:lnTo>
                                <a:pt x="533" y="7"/>
                              </a:lnTo>
                              <a:lnTo>
                                <a:pt x="536" y="9"/>
                              </a:lnTo>
                              <a:lnTo>
                                <a:pt x="538" y="9"/>
                              </a:lnTo>
                              <a:lnTo>
                                <a:pt x="542" y="9"/>
                              </a:lnTo>
                              <a:lnTo>
                                <a:pt x="543" y="9"/>
                              </a:lnTo>
                              <a:lnTo>
                                <a:pt x="548" y="9"/>
                              </a:lnTo>
                              <a:lnTo>
                                <a:pt x="549" y="10"/>
                              </a:lnTo>
                              <a:lnTo>
                                <a:pt x="552" y="10"/>
                              </a:lnTo>
                              <a:lnTo>
                                <a:pt x="554" y="12"/>
                              </a:lnTo>
                              <a:lnTo>
                                <a:pt x="557" y="12"/>
                              </a:lnTo>
                              <a:lnTo>
                                <a:pt x="557" y="13"/>
                              </a:lnTo>
                              <a:lnTo>
                                <a:pt x="560" y="13"/>
                              </a:lnTo>
                              <a:lnTo>
                                <a:pt x="560" y="14"/>
                              </a:lnTo>
                              <a:lnTo>
                                <a:pt x="561" y="14"/>
                              </a:lnTo>
                              <a:lnTo>
                                <a:pt x="561" y="16"/>
                              </a:lnTo>
                              <a:lnTo>
                                <a:pt x="562" y="16"/>
                              </a:lnTo>
                              <a:lnTo>
                                <a:pt x="570" y="22"/>
                              </a:lnTo>
                              <a:lnTo>
                                <a:pt x="570" y="23"/>
                              </a:lnTo>
                              <a:lnTo>
                                <a:pt x="571" y="23"/>
                              </a:lnTo>
                              <a:lnTo>
                                <a:pt x="571" y="25"/>
                              </a:lnTo>
                              <a:lnTo>
                                <a:pt x="571" y="26"/>
                              </a:lnTo>
                              <a:lnTo>
                                <a:pt x="571" y="31"/>
                              </a:lnTo>
                              <a:lnTo>
                                <a:pt x="573" y="31"/>
                              </a:lnTo>
                              <a:lnTo>
                                <a:pt x="573" y="41"/>
                              </a:lnTo>
                              <a:lnTo>
                                <a:pt x="571" y="42"/>
                              </a:lnTo>
                              <a:lnTo>
                                <a:pt x="571" y="45"/>
                              </a:lnTo>
                              <a:lnTo>
                                <a:pt x="571" y="50"/>
                              </a:lnTo>
                              <a:lnTo>
                                <a:pt x="573" y="51"/>
                              </a:lnTo>
                              <a:lnTo>
                                <a:pt x="573" y="61"/>
                              </a:lnTo>
                              <a:lnTo>
                                <a:pt x="574" y="64"/>
                              </a:lnTo>
                              <a:lnTo>
                                <a:pt x="574" y="107"/>
                              </a:lnTo>
                              <a:lnTo>
                                <a:pt x="573" y="108"/>
                              </a:lnTo>
                              <a:lnTo>
                                <a:pt x="573" y="114"/>
                              </a:lnTo>
                              <a:lnTo>
                                <a:pt x="571" y="116"/>
                              </a:lnTo>
                              <a:lnTo>
                                <a:pt x="571" y="117"/>
                              </a:lnTo>
                              <a:lnTo>
                                <a:pt x="571" y="118"/>
                              </a:lnTo>
                              <a:lnTo>
                                <a:pt x="571" y="121"/>
                              </a:lnTo>
                              <a:lnTo>
                                <a:pt x="570" y="123"/>
                              </a:lnTo>
                              <a:lnTo>
                                <a:pt x="570" y="124"/>
                              </a:lnTo>
                              <a:lnTo>
                                <a:pt x="568" y="124"/>
                              </a:lnTo>
                              <a:lnTo>
                                <a:pt x="568" y="126"/>
                              </a:lnTo>
                              <a:lnTo>
                                <a:pt x="564" y="130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9" name=""/>
                        <p:cNvSpPr/>
                        <p:nvPr/>
                      </p:nvSpPr>
                      <p:spPr>
                        <a:xfrm>
                          <a:off x="2815200" y="1249560"/>
                          <a:ext cx="1296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95">
                              <a:moveTo>
                                <a:pt x="6" y="0"/>
                              </a:moveTo>
                              <a:lnTo>
                                <a:pt x="6" y="1"/>
                              </a:lnTo>
                              <a:lnTo>
                                <a:pt x="3" y="2"/>
                              </a:lnTo>
                              <a:lnTo>
                                <a:pt x="2" y="2"/>
                              </a:lnTo>
                              <a:lnTo>
                                <a:pt x="2" y="7"/>
                              </a:lnTo>
                              <a:lnTo>
                                <a:pt x="0" y="7"/>
                              </a:lnTo>
                              <a:lnTo>
                                <a:pt x="0" y="90"/>
                              </a:lnTo>
                              <a:lnTo>
                                <a:pt x="2" y="90"/>
                              </a:lnTo>
                              <a:lnTo>
                                <a:pt x="2" y="93"/>
                              </a:lnTo>
                              <a:lnTo>
                                <a:pt x="5" y="93"/>
                              </a:lnTo>
                              <a:lnTo>
                                <a:pt x="5" y="95"/>
                              </a:lnTo>
                              <a:lnTo>
                                <a:pt x="12" y="95"/>
                              </a:lnTo>
                              <a:lnTo>
                                <a:pt x="12" y="93"/>
                              </a:lnTo>
                              <a:lnTo>
                                <a:pt x="15" y="93"/>
                              </a:lnTo>
                              <a:lnTo>
                                <a:pt x="15" y="92"/>
                              </a:lnTo>
                              <a:lnTo>
                                <a:pt x="17" y="92"/>
                              </a:lnTo>
                              <a:lnTo>
                                <a:pt x="17" y="5"/>
                              </a:lnTo>
                              <a:lnTo>
                                <a:pt x="15" y="5"/>
                              </a:lnTo>
                              <a:lnTo>
                                <a:pt x="15" y="2"/>
                              </a:lnTo>
                              <a:lnTo>
                                <a:pt x="12" y="2"/>
                              </a:lnTo>
                              <a:lnTo>
                                <a:pt x="11" y="0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0" name=""/>
                        <p:cNvSpPr/>
                        <p:nvPr/>
                      </p:nvSpPr>
                      <p:spPr>
                        <a:xfrm>
                          <a:off x="2815200" y="1249560"/>
                          <a:ext cx="1296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95">
                              <a:moveTo>
                                <a:pt x="17" y="86"/>
                              </a:moveTo>
                              <a:lnTo>
                                <a:pt x="17" y="89"/>
                              </a:lnTo>
                              <a:lnTo>
                                <a:pt x="17" y="89"/>
                              </a:lnTo>
                              <a:lnTo>
                                <a:pt x="17" y="90"/>
                              </a:lnTo>
                              <a:lnTo>
                                <a:pt x="15" y="90"/>
                              </a:lnTo>
                              <a:lnTo>
                                <a:pt x="15" y="92"/>
                              </a:lnTo>
                              <a:lnTo>
                                <a:pt x="15" y="92"/>
                              </a:lnTo>
                              <a:lnTo>
                                <a:pt x="15" y="93"/>
                              </a:lnTo>
                              <a:lnTo>
                                <a:pt x="14" y="93"/>
                              </a:lnTo>
                              <a:lnTo>
                                <a:pt x="14" y="93"/>
                              </a:lnTo>
                              <a:lnTo>
                                <a:pt x="12" y="93"/>
                              </a:lnTo>
                              <a:lnTo>
                                <a:pt x="12" y="93"/>
                              </a:lnTo>
                              <a:lnTo>
                                <a:pt x="12" y="93"/>
                              </a:lnTo>
                              <a:lnTo>
                                <a:pt x="11" y="93"/>
                              </a:lnTo>
                              <a:lnTo>
                                <a:pt x="11" y="95"/>
                              </a:lnTo>
                              <a:lnTo>
                                <a:pt x="9" y="95"/>
                              </a:lnTo>
                              <a:lnTo>
                                <a:pt x="6" y="95"/>
                              </a:lnTo>
                              <a:lnTo>
                                <a:pt x="6" y="93"/>
                              </a:lnTo>
                              <a:lnTo>
                                <a:pt x="5" y="93"/>
                              </a:lnTo>
                              <a:lnTo>
                                <a:pt x="5" y="93"/>
                              </a:lnTo>
                              <a:lnTo>
                                <a:pt x="5" y="93"/>
                              </a:lnTo>
                              <a:lnTo>
                                <a:pt x="3" y="93"/>
                              </a:lnTo>
                              <a:lnTo>
                                <a:pt x="3" y="93"/>
                              </a:lnTo>
                              <a:lnTo>
                                <a:pt x="2" y="93"/>
                              </a:lnTo>
                              <a:lnTo>
                                <a:pt x="2" y="92"/>
                              </a:lnTo>
                              <a:lnTo>
                                <a:pt x="2" y="92"/>
                              </a:lnTo>
                              <a:lnTo>
                                <a:pt x="2" y="90"/>
                              </a:lnTo>
                              <a:lnTo>
                                <a:pt x="2" y="90"/>
                              </a:lnTo>
                              <a:lnTo>
                                <a:pt x="2" y="89"/>
                              </a:lnTo>
                              <a:lnTo>
                                <a:pt x="0" y="89"/>
                              </a:lnTo>
                              <a:lnTo>
                                <a:pt x="0" y="86"/>
                              </a:lnTo>
                              <a:lnTo>
                                <a:pt x="0" y="8"/>
                              </a:lnTo>
                              <a:lnTo>
                                <a:pt x="0" y="7"/>
                              </a:lnTo>
                              <a:lnTo>
                                <a:pt x="2" y="7"/>
                              </a:lnTo>
                              <a:lnTo>
                                <a:pt x="2" y="5"/>
                              </a:lnTo>
                              <a:lnTo>
                                <a:pt x="2" y="5"/>
                              </a:lnTo>
                              <a:lnTo>
                                <a:pt x="2" y="4"/>
                              </a:lnTo>
                              <a:lnTo>
                                <a:pt x="2" y="4"/>
                              </a:lnTo>
                              <a:lnTo>
                                <a:pt x="2" y="2"/>
                              </a:lnTo>
                              <a:lnTo>
                                <a:pt x="3" y="2"/>
                              </a:lnTo>
                              <a:lnTo>
                                <a:pt x="3" y="2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6" y="0"/>
                              </a:lnTo>
                              <a:lnTo>
                                <a:pt x="9" y="0"/>
                              </a:lnTo>
                              <a:lnTo>
                                <a:pt x="11" y="0"/>
                              </a:lnTo>
                              <a:lnTo>
                                <a:pt x="11" y="1"/>
                              </a:lnTo>
                              <a:lnTo>
                                <a:pt x="12" y="1"/>
                              </a:lnTo>
                              <a:lnTo>
                                <a:pt x="12" y="1"/>
                              </a:lnTo>
                              <a:lnTo>
                                <a:pt x="12" y="1"/>
                              </a:lnTo>
                              <a:lnTo>
                                <a:pt x="14" y="2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5" y="4"/>
                              </a:lnTo>
                              <a:lnTo>
                                <a:pt x="15" y="4"/>
                              </a:lnTo>
                              <a:lnTo>
                                <a:pt x="15" y="5"/>
                              </a:lnTo>
                              <a:lnTo>
                                <a:pt x="17" y="5"/>
                              </a:lnTo>
                              <a:lnTo>
                                <a:pt x="17" y="7"/>
                              </a:lnTo>
                              <a:lnTo>
                                <a:pt x="17" y="7"/>
                              </a:lnTo>
                              <a:lnTo>
                                <a:pt x="17" y="8"/>
                              </a:lnTo>
                              <a:lnTo>
                                <a:pt x="17" y="86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2826720" y="1249560"/>
                          <a:ext cx="1296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95">
                              <a:moveTo>
                                <a:pt x="6" y="0"/>
                              </a:moveTo>
                              <a:lnTo>
                                <a:pt x="6" y="1"/>
                              </a:lnTo>
                              <a:lnTo>
                                <a:pt x="3" y="2"/>
                              </a:lnTo>
                              <a:lnTo>
                                <a:pt x="2" y="2"/>
                              </a:lnTo>
                              <a:lnTo>
                                <a:pt x="2" y="7"/>
                              </a:lnTo>
                              <a:lnTo>
                                <a:pt x="0" y="7"/>
                              </a:lnTo>
                              <a:lnTo>
                                <a:pt x="0" y="90"/>
                              </a:lnTo>
                              <a:lnTo>
                                <a:pt x="2" y="90"/>
                              </a:lnTo>
                              <a:lnTo>
                                <a:pt x="2" y="93"/>
                              </a:lnTo>
                              <a:lnTo>
                                <a:pt x="5" y="93"/>
                              </a:lnTo>
                              <a:lnTo>
                                <a:pt x="5" y="95"/>
                              </a:lnTo>
                              <a:lnTo>
                                <a:pt x="12" y="95"/>
                              </a:lnTo>
                              <a:lnTo>
                                <a:pt x="12" y="93"/>
                              </a:lnTo>
                              <a:lnTo>
                                <a:pt x="15" y="93"/>
                              </a:lnTo>
                              <a:lnTo>
                                <a:pt x="15" y="92"/>
                              </a:lnTo>
                              <a:lnTo>
                                <a:pt x="16" y="92"/>
                              </a:lnTo>
                              <a:lnTo>
                                <a:pt x="16" y="5"/>
                              </a:lnTo>
                              <a:lnTo>
                                <a:pt x="15" y="5"/>
                              </a:lnTo>
                              <a:lnTo>
                                <a:pt x="15" y="2"/>
                              </a:lnTo>
                              <a:lnTo>
                                <a:pt x="12" y="2"/>
                              </a:lnTo>
                              <a:lnTo>
                                <a:pt x="10" y="0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2" name=""/>
                        <p:cNvSpPr/>
                        <p:nvPr/>
                      </p:nvSpPr>
                      <p:spPr>
                        <a:xfrm>
                          <a:off x="2826720" y="1249560"/>
                          <a:ext cx="1296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95">
                              <a:moveTo>
                                <a:pt x="16" y="86"/>
                              </a:moveTo>
                              <a:lnTo>
                                <a:pt x="16" y="89"/>
                              </a:lnTo>
                              <a:lnTo>
                                <a:pt x="16" y="89"/>
                              </a:lnTo>
                              <a:lnTo>
                                <a:pt x="16" y="90"/>
                              </a:lnTo>
                              <a:lnTo>
                                <a:pt x="15" y="90"/>
                              </a:lnTo>
                              <a:lnTo>
                                <a:pt x="15" y="92"/>
                              </a:lnTo>
                              <a:lnTo>
                                <a:pt x="15" y="92"/>
                              </a:lnTo>
                              <a:lnTo>
                                <a:pt x="15" y="93"/>
                              </a:lnTo>
                              <a:lnTo>
                                <a:pt x="13" y="93"/>
                              </a:lnTo>
                              <a:lnTo>
                                <a:pt x="13" y="93"/>
                              </a:lnTo>
                              <a:lnTo>
                                <a:pt x="12" y="93"/>
                              </a:lnTo>
                              <a:lnTo>
                                <a:pt x="12" y="93"/>
                              </a:lnTo>
                              <a:lnTo>
                                <a:pt x="12" y="93"/>
                              </a:lnTo>
                              <a:lnTo>
                                <a:pt x="10" y="93"/>
                              </a:lnTo>
                              <a:lnTo>
                                <a:pt x="10" y="95"/>
                              </a:lnTo>
                              <a:lnTo>
                                <a:pt x="7" y="95"/>
                              </a:lnTo>
                              <a:lnTo>
                                <a:pt x="6" y="95"/>
                              </a:lnTo>
                              <a:lnTo>
                                <a:pt x="6" y="93"/>
                              </a:lnTo>
                              <a:lnTo>
                                <a:pt x="5" y="93"/>
                              </a:lnTo>
                              <a:lnTo>
                                <a:pt x="5" y="93"/>
                              </a:lnTo>
                              <a:lnTo>
                                <a:pt x="5" y="93"/>
                              </a:lnTo>
                              <a:lnTo>
                                <a:pt x="3" y="93"/>
                              </a:lnTo>
                              <a:lnTo>
                                <a:pt x="3" y="93"/>
                              </a:lnTo>
                              <a:lnTo>
                                <a:pt x="2" y="93"/>
                              </a:lnTo>
                              <a:lnTo>
                                <a:pt x="2" y="92"/>
                              </a:lnTo>
                              <a:lnTo>
                                <a:pt x="2" y="92"/>
                              </a:lnTo>
                              <a:lnTo>
                                <a:pt x="2" y="90"/>
                              </a:lnTo>
                              <a:lnTo>
                                <a:pt x="2" y="90"/>
                              </a:lnTo>
                              <a:lnTo>
                                <a:pt x="2" y="89"/>
                              </a:lnTo>
                              <a:lnTo>
                                <a:pt x="0" y="89"/>
                              </a:lnTo>
                              <a:lnTo>
                                <a:pt x="0" y="86"/>
                              </a:lnTo>
                              <a:lnTo>
                                <a:pt x="0" y="8"/>
                              </a:lnTo>
                              <a:lnTo>
                                <a:pt x="0" y="7"/>
                              </a:lnTo>
                              <a:lnTo>
                                <a:pt x="2" y="7"/>
                              </a:lnTo>
                              <a:lnTo>
                                <a:pt x="2" y="5"/>
                              </a:lnTo>
                              <a:lnTo>
                                <a:pt x="2" y="5"/>
                              </a:lnTo>
                              <a:lnTo>
                                <a:pt x="2" y="4"/>
                              </a:lnTo>
                              <a:lnTo>
                                <a:pt x="2" y="4"/>
                              </a:lnTo>
                              <a:lnTo>
                                <a:pt x="2" y="2"/>
                              </a:lnTo>
                              <a:lnTo>
                                <a:pt x="3" y="2"/>
                              </a:lnTo>
                              <a:lnTo>
                                <a:pt x="3" y="2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5" y="1"/>
                              </a:lnTo>
                              <a:lnTo>
                                <a:pt x="6" y="1"/>
                              </a:lnTo>
                              <a:lnTo>
                                <a:pt x="6" y="0"/>
                              </a:lnTo>
                              <a:lnTo>
                                <a:pt x="7" y="0"/>
                              </a:lnTo>
                              <a:lnTo>
                                <a:pt x="10" y="0"/>
                              </a:lnTo>
                              <a:lnTo>
                                <a:pt x="10" y="1"/>
                              </a:lnTo>
                              <a:lnTo>
                                <a:pt x="12" y="1"/>
                              </a:lnTo>
                              <a:lnTo>
                                <a:pt x="12" y="1"/>
                              </a:lnTo>
                              <a:lnTo>
                                <a:pt x="12" y="1"/>
                              </a:lnTo>
                              <a:lnTo>
                                <a:pt x="13" y="2"/>
                              </a:lnTo>
                              <a:lnTo>
                                <a:pt x="13" y="2"/>
                              </a:lnTo>
                              <a:lnTo>
                                <a:pt x="15" y="2"/>
                              </a:lnTo>
                              <a:lnTo>
                                <a:pt x="15" y="4"/>
                              </a:lnTo>
                              <a:lnTo>
                                <a:pt x="15" y="4"/>
                              </a:lnTo>
                              <a:lnTo>
                                <a:pt x="15" y="5"/>
                              </a:lnTo>
                              <a:lnTo>
                                <a:pt x="16" y="5"/>
                              </a:lnTo>
                              <a:lnTo>
                                <a:pt x="16" y="7"/>
                              </a:lnTo>
                              <a:lnTo>
                                <a:pt x="16" y="7"/>
                              </a:lnTo>
                              <a:lnTo>
                                <a:pt x="16" y="8"/>
                              </a:lnTo>
                              <a:lnTo>
                                <a:pt x="16" y="86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3" name=""/>
                        <p:cNvSpPr/>
                        <p:nvPr/>
                      </p:nvSpPr>
                      <p:spPr>
                        <a:xfrm>
                          <a:off x="2720880" y="1294920"/>
                          <a:ext cx="57600" cy="52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4" name=""/>
                        <p:cNvSpPr/>
                        <p:nvPr/>
                      </p:nvSpPr>
                      <p:spPr>
                        <a:xfrm>
                          <a:off x="2326320" y="1283760"/>
                          <a:ext cx="86040" cy="756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5" name=""/>
                        <p:cNvSpPr/>
                        <p:nvPr/>
                      </p:nvSpPr>
                      <p:spPr>
                        <a:xfrm>
                          <a:off x="2339280" y="1294920"/>
                          <a:ext cx="59400" cy="52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6" name=""/>
                        <p:cNvSpPr/>
                        <p:nvPr/>
                      </p:nvSpPr>
                      <p:spPr>
                        <a:xfrm>
                          <a:off x="2679120" y="1211040"/>
                          <a:ext cx="759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46">
                              <a:moveTo>
                                <a:pt x="0" y="0"/>
                              </a:moveTo>
                              <a:lnTo>
                                <a:pt x="0" y="31"/>
                              </a:lnTo>
                              <a:lnTo>
                                <a:pt x="1" y="31"/>
                              </a:lnTo>
                              <a:lnTo>
                                <a:pt x="1" y="34"/>
                              </a:lnTo>
                              <a:lnTo>
                                <a:pt x="3" y="34"/>
                              </a:lnTo>
                              <a:lnTo>
                                <a:pt x="4" y="37"/>
                              </a:lnTo>
                              <a:lnTo>
                                <a:pt x="6" y="37"/>
                              </a:lnTo>
                              <a:lnTo>
                                <a:pt x="7" y="40"/>
                              </a:lnTo>
                              <a:lnTo>
                                <a:pt x="9" y="40"/>
                              </a:lnTo>
                              <a:lnTo>
                                <a:pt x="9" y="41"/>
                              </a:lnTo>
                              <a:lnTo>
                                <a:pt x="12" y="41"/>
                              </a:lnTo>
                              <a:lnTo>
                                <a:pt x="12" y="43"/>
                              </a:lnTo>
                              <a:lnTo>
                                <a:pt x="16" y="43"/>
                              </a:lnTo>
                              <a:lnTo>
                                <a:pt x="16" y="44"/>
                              </a:lnTo>
                              <a:lnTo>
                                <a:pt x="19" y="44"/>
                              </a:lnTo>
                              <a:lnTo>
                                <a:pt x="19" y="46"/>
                              </a:lnTo>
                              <a:lnTo>
                                <a:pt x="72" y="46"/>
                              </a:lnTo>
                              <a:lnTo>
                                <a:pt x="72" y="44"/>
                              </a:lnTo>
                              <a:lnTo>
                                <a:pt x="75" y="44"/>
                              </a:lnTo>
                              <a:lnTo>
                                <a:pt x="75" y="43"/>
                              </a:lnTo>
                              <a:lnTo>
                                <a:pt x="79" y="43"/>
                              </a:lnTo>
                              <a:lnTo>
                                <a:pt x="79" y="41"/>
                              </a:lnTo>
                              <a:lnTo>
                                <a:pt x="80" y="41"/>
                              </a:lnTo>
                              <a:lnTo>
                                <a:pt x="80" y="41"/>
                              </a:lnTo>
                              <a:lnTo>
                                <a:pt x="83" y="40"/>
                              </a:lnTo>
                              <a:lnTo>
                                <a:pt x="83" y="38"/>
                              </a:lnTo>
                              <a:lnTo>
                                <a:pt x="86" y="37"/>
                              </a:lnTo>
                              <a:lnTo>
                                <a:pt x="86" y="35"/>
                              </a:lnTo>
                              <a:lnTo>
                                <a:pt x="89" y="34"/>
                              </a:lnTo>
                              <a:lnTo>
                                <a:pt x="89" y="31"/>
                              </a:lnTo>
                              <a:lnTo>
                                <a:pt x="91" y="31"/>
                              </a:lnTo>
                              <a:lnTo>
                                <a:pt x="91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7" name=""/>
                        <p:cNvSpPr/>
                        <p:nvPr/>
                      </p:nvSpPr>
                      <p:spPr>
                        <a:xfrm>
                          <a:off x="2679120" y="1211040"/>
                          <a:ext cx="759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46">
                              <a:moveTo>
                                <a:pt x="64" y="46"/>
                              </a:moveTo>
                              <a:lnTo>
                                <a:pt x="67" y="46"/>
                              </a:lnTo>
                              <a:lnTo>
                                <a:pt x="69" y="44"/>
                              </a:lnTo>
                              <a:lnTo>
                                <a:pt x="72" y="44"/>
                              </a:lnTo>
                              <a:lnTo>
                                <a:pt x="72" y="43"/>
                              </a:lnTo>
                              <a:lnTo>
                                <a:pt x="75" y="43"/>
                              </a:lnTo>
                              <a:lnTo>
                                <a:pt x="76" y="41"/>
                              </a:lnTo>
                              <a:lnTo>
                                <a:pt x="79" y="41"/>
                              </a:lnTo>
                              <a:lnTo>
                                <a:pt x="79" y="41"/>
                              </a:lnTo>
                              <a:lnTo>
                                <a:pt x="80" y="41"/>
                              </a:lnTo>
                              <a:lnTo>
                                <a:pt x="80" y="40"/>
                              </a:lnTo>
                              <a:lnTo>
                                <a:pt x="82" y="40"/>
                              </a:lnTo>
                              <a:lnTo>
                                <a:pt x="82" y="38"/>
                              </a:lnTo>
                              <a:lnTo>
                                <a:pt x="83" y="38"/>
                              </a:lnTo>
                              <a:lnTo>
                                <a:pt x="86" y="35"/>
                              </a:lnTo>
                              <a:lnTo>
                                <a:pt x="86" y="34"/>
                              </a:lnTo>
                              <a:lnTo>
                                <a:pt x="88" y="34"/>
                              </a:lnTo>
                              <a:lnTo>
                                <a:pt x="88" y="34"/>
                              </a:lnTo>
                              <a:lnTo>
                                <a:pt x="89" y="34"/>
                              </a:lnTo>
                              <a:lnTo>
                                <a:pt x="89" y="31"/>
                              </a:lnTo>
                              <a:lnTo>
                                <a:pt x="91" y="29"/>
                              </a:lnTo>
                              <a:lnTo>
                                <a:pt x="91" y="21"/>
                              </a:lnTo>
                              <a:lnTo>
                                <a:pt x="91" y="0"/>
                              </a:lnTo>
                              <a:lnTo>
                                <a:pt x="0" y="0"/>
                              </a:lnTo>
                              <a:lnTo>
                                <a:pt x="0" y="21"/>
                              </a:lnTo>
                              <a:lnTo>
                                <a:pt x="0" y="29"/>
                              </a:lnTo>
                              <a:lnTo>
                                <a:pt x="1" y="29"/>
                              </a:lnTo>
                              <a:lnTo>
                                <a:pt x="1" y="34"/>
                              </a:lnTo>
                              <a:lnTo>
                                <a:pt x="3" y="34"/>
                              </a:lnTo>
                              <a:lnTo>
                                <a:pt x="3" y="34"/>
                              </a:lnTo>
                              <a:lnTo>
                                <a:pt x="4" y="34"/>
                              </a:lnTo>
                              <a:lnTo>
                                <a:pt x="4" y="35"/>
                              </a:lnTo>
                              <a:lnTo>
                                <a:pt x="7" y="38"/>
                              </a:lnTo>
                              <a:lnTo>
                                <a:pt x="9" y="38"/>
                              </a:lnTo>
                              <a:lnTo>
                                <a:pt x="9" y="40"/>
                              </a:lnTo>
                              <a:lnTo>
                                <a:pt x="9" y="40"/>
                              </a:lnTo>
                              <a:lnTo>
                                <a:pt x="9" y="41"/>
                              </a:lnTo>
                              <a:lnTo>
                                <a:pt x="12" y="41"/>
                              </a:lnTo>
                              <a:lnTo>
                                <a:pt x="12" y="41"/>
                              </a:lnTo>
                              <a:lnTo>
                                <a:pt x="15" y="41"/>
                              </a:lnTo>
                              <a:lnTo>
                                <a:pt x="16" y="43"/>
                              </a:lnTo>
                              <a:lnTo>
                                <a:pt x="19" y="43"/>
                              </a:lnTo>
                              <a:lnTo>
                                <a:pt x="19" y="44"/>
                              </a:lnTo>
                              <a:lnTo>
                                <a:pt x="22" y="44"/>
                              </a:lnTo>
                              <a:lnTo>
                                <a:pt x="23" y="46"/>
                              </a:lnTo>
                              <a:lnTo>
                                <a:pt x="26" y="46"/>
                              </a:lnTo>
                              <a:lnTo>
                                <a:pt x="64" y="46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8" name=""/>
                        <p:cNvSpPr/>
                        <p:nvPr/>
                      </p:nvSpPr>
                      <p:spPr>
                        <a:xfrm>
                          <a:off x="2589480" y="1211040"/>
                          <a:ext cx="6948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46">
                              <a:moveTo>
                                <a:pt x="0" y="0"/>
                              </a:moveTo>
                              <a:lnTo>
                                <a:pt x="0" y="32"/>
                              </a:lnTo>
                              <a:lnTo>
                                <a:pt x="1" y="32"/>
                              </a:lnTo>
                              <a:lnTo>
                                <a:pt x="1" y="34"/>
                              </a:lnTo>
                              <a:lnTo>
                                <a:pt x="3" y="34"/>
                              </a:lnTo>
                              <a:lnTo>
                                <a:pt x="3" y="37"/>
                              </a:lnTo>
                              <a:lnTo>
                                <a:pt x="4" y="37"/>
                              </a:lnTo>
                              <a:lnTo>
                                <a:pt x="6" y="40"/>
                              </a:lnTo>
                              <a:lnTo>
                                <a:pt x="6" y="40"/>
                              </a:lnTo>
                              <a:lnTo>
                                <a:pt x="7" y="41"/>
                              </a:lnTo>
                              <a:lnTo>
                                <a:pt x="10" y="41"/>
                              </a:lnTo>
                              <a:lnTo>
                                <a:pt x="10" y="43"/>
                              </a:lnTo>
                              <a:lnTo>
                                <a:pt x="13" y="43"/>
                              </a:lnTo>
                              <a:lnTo>
                                <a:pt x="13" y="44"/>
                              </a:lnTo>
                              <a:lnTo>
                                <a:pt x="16" y="44"/>
                              </a:lnTo>
                              <a:lnTo>
                                <a:pt x="16" y="46"/>
                              </a:lnTo>
                              <a:lnTo>
                                <a:pt x="69" y="46"/>
                              </a:lnTo>
                              <a:lnTo>
                                <a:pt x="69" y="44"/>
                              </a:lnTo>
                              <a:lnTo>
                                <a:pt x="73" y="44"/>
                              </a:lnTo>
                              <a:lnTo>
                                <a:pt x="73" y="43"/>
                              </a:lnTo>
                              <a:lnTo>
                                <a:pt x="76" y="41"/>
                              </a:lnTo>
                              <a:lnTo>
                                <a:pt x="78" y="41"/>
                              </a:lnTo>
                              <a:lnTo>
                                <a:pt x="78" y="40"/>
                              </a:lnTo>
                              <a:lnTo>
                                <a:pt x="81" y="38"/>
                              </a:lnTo>
                              <a:lnTo>
                                <a:pt x="81" y="37"/>
                              </a:lnTo>
                              <a:lnTo>
                                <a:pt x="82" y="37"/>
                              </a:lnTo>
                              <a:lnTo>
                                <a:pt x="82" y="34"/>
                              </a:lnTo>
                              <a:lnTo>
                                <a:pt x="84" y="34"/>
                              </a:lnTo>
                              <a:lnTo>
                                <a:pt x="84" y="31"/>
                              </a:lnTo>
                              <a:lnTo>
                                <a:pt x="85" y="31"/>
                              </a:lnTo>
                              <a:lnTo>
                                <a:pt x="85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69" name=""/>
                        <p:cNvSpPr/>
                        <p:nvPr/>
                      </p:nvSpPr>
                      <p:spPr>
                        <a:xfrm>
                          <a:off x="2589480" y="1211040"/>
                          <a:ext cx="6948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46">
                              <a:moveTo>
                                <a:pt x="0" y="21"/>
                              </a:moveTo>
                              <a:lnTo>
                                <a:pt x="0" y="31"/>
                              </a:lnTo>
                              <a:lnTo>
                                <a:pt x="1" y="31"/>
                              </a:lnTo>
                              <a:lnTo>
                                <a:pt x="1" y="34"/>
                              </a:lnTo>
                              <a:lnTo>
                                <a:pt x="3" y="34"/>
                              </a:lnTo>
                              <a:lnTo>
                                <a:pt x="3" y="35"/>
                              </a:lnTo>
                              <a:lnTo>
                                <a:pt x="4" y="35"/>
                              </a:lnTo>
                              <a:lnTo>
                                <a:pt x="4" y="37"/>
                              </a:lnTo>
                              <a:lnTo>
                                <a:pt x="6" y="40"/>
                              </a:lnTo>
                              <a:lnTo>
                                <a:pt x="7" y="40"/>
                              </a:lnTo>
                              <a:lnTo>
                                <a:pt x="7" y="41"/>
                              </a:lnTo>
                              <a:lnTo>
                                <a:pt x="9" y="41"/>
                              </a:lnTo>
                              <a:lnTo>
                                <a:pt x="10" y="41"/>
                              </a:lnTo>
                              <a:lnTo>
                                <a:pt x="12" y="41"/>
                              </a:lnTo>
                              <a:lnTo>
                                <a:pt x="13" y="43"/>
                              </a:lnTo>
                              <a:lnTo>
                                <a:pt x="16" y="43"/>
                              </a:lnTo>
                              <a:lnTo>
                                <a:pt x="16" y="44"/>
                              </a:lnTo>
                              <a:lnTo>
                                <a:pt x="21" y="44"/>
                              </a:lnTo>
                              <a:lnTo>
                                <a:pt x="22" y="46"/>
                              </a:lnTo>
                              <a:lnTo>
                                <a:pt x="26" y="46"/>
                              </a:lnTo>
                              <a:lnTo>
                                <a:pt x="60" y="46"/>
                              </a:lnTo>
                              <a:lnTo>
                                <a:pt x="64" y="46"/>
                              </a:lnTo>
                              <a:lnTo>
                                <a:pt x="66" y="44"/>
                              </a:lnTo>
                              <a:lnTo>
                                <a:pt x="69" y="44"/>
                              </a:lnTo>
                              <a:lnTo>
                                <a:pt x="70" y="43"/>
                              </a:lnTo>
                              <a:lnTo>
                                <a:pt x="73" y="43"/>
                              </a:lnTo>
                              <a:lnTo>
                                <a:pt x="73" y="41"/>
                              </a:lnTo>
                              <a:lnTo>
                                <a:pt x="75" y="41"/>
                              </a:lnTo>
                              <a:lnTo>
                                <a:pt x="76" y="41"/>
                              </a:lnTo>
                              <a:lnTo>
                                <a:pt x="78" y="41"/>
                              </a:lnTo>
                              <a:lnTo>
                                <a:pt x="78" y="40"/>
                              </a:lnTo>
                              <a:lnTo>
                                <a:pt x="78" y="40"/>
                              </a:lnTo>
                              <a:lnTo>
                                <a:pt x="81" y="37"/>
                              </a:lnTo>
                              <a:lnTo>
                                <a:pt x="81" y="35"/>
                              </a:lnTo>
                              <a:lnTo>
                                <a:pt x="82" y="35"/>
                              </a:lnTo>
                              <a:lnTo>
                                <a:pt x="82" y="34"/>
                              </a:lnTo>
                              <a:lnTo>
                                <a:pt x="84" y="34"/>
                              </a:lnTo>
                              <a:lnTo>
                                <a:pt x="84" y="31"/>
                              </a:lnTo>
                              <a:lnTo>
                                <a:pt x="85" y="29"/>
                              </a:lnTo>
                              <a:lnTo>
                                <a:pt x="85" y="21"/>
                              </a:lnTo>
                              <a:lnTo>
                                <a:pt x="85" y="0"/>
                              </a:lnTo>
                              <a:lnTo>
                                <a:pt x="0" y="0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0" name=""/>
                        <p:cNvSpPr/>
                        <p:nvPr/>
                      </p:nvSpPr>
                      <p:spPr>
                        <a:xfrm>
                          <a:off x="2491920" y="1211040"/>
                          <a:ext cx="777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46">
                              <a:moveTo>
                                <a:pt x="16" y="0"/>
                              </a:moveTo>
                              <a:lnTo>
                                <a:pt x="16" y="3"/>
                              </a:lnTo>
                              <a:lnTo>
                                <a:pt x="14" y="3"/>
                              </a:lnTo>
                              <a:lnTo>
                                <a:pt x="14" y="6"/>
                              </a:lnTo>
                              <a:lnTo>
                                <a:pt x="13" y="6"/>
                              </a:lnTo>
                              <a:lnTo>
                                <a:pt x="13" y="9"/>
                              </a:lnTo>
                              <a:lnTo>
                                <a:pt x="12" y="9"/>
                              </a:lnTo>
                              <a:lnTo>
                                <a:pt x="12" y="12"/>
                              </a:lnTo>
                              <a:lnTo>
                                <a:pt x="10" y="12"/>
                              </a:lnTo>
                              <a:lnTo>
                                <a:pt x="10" y="16"/>
                              </a:lnTo>
                              <a:lnTo>
                                <a:pt x="10" y="16"/>
                              </a:lnTo>
                              <a:lnTo>
                                <a:pt x="10" y="19"/>
                              </a:lnTo>
                              <a:lnTo>
                                <a:pt x="9" y="19"/>
                              </a:lnTo>
                              <a:lnTo>
                                <a:pt x="9" y="22"/>
                              </a:lnTo>
                              <a:lnTo>
                                <a:pt x="7" y="22"/>
                              </a:lnTo>
                              <a:lnTo>
                                <a:pt x="7" y="27"/>
                              </a:lnTo>
                              <a:lnTo>
                                <a:pt x="6" y="27"/>
                              </a:lnTo>
                              <a:lnTo>
                                <a:pt x="6" y="28"/>
                              </a:lnTo>
                              <a:lnTo>
                                <a:pt x="4" y="28"/>
                              </a:lnTo>
                              <a:lnTo>
                                <a:pt x="4" y="32"/>
                              </a:lnTo>
                              <a:lnTo>
                                <a:pt x="3" y="32"/>
                              </a:lnTo>
                              <a:lnTo>
                                <a:pt x="3" y="35"/>
                              </a:lnTo>
                              <a:lnTo>
                                <a:pt x="1" y="35"/>
                              </a:lnTo>
                              <a:lnTo>
                                <a:pt x="1" y="38"/>
                              </a:lnTo>
                              <a:lnTo>
                                <a:pt x="0" y="38"/>
                              </a:lnTo>
                              <a:lnTo>
                                <a:pt x="0" y="41"/>
                              </a:lnTo>
                              <a:lnTo>
                                <a:pt x="0" y="41"/>
                              </a:lnTo>
                              <a:lnTo>
                                <a:pt x="0" y="44"/>
                              </a:lnTo>
                              <a:lnTo>
                                <a:pt x="0" y="44"/>
                              </a:lnTo>
                              <a:lnTo>
                                <a:pt x="0" y="46"/>
                              </a:lnTo>
                              <a:lnTo>
                                <a:pt x="89" y="46"/>
                              </a:lnTo>
                              <a:lnTo>
                                <a:pt x="89" y="44"/>
                              </a:lnTo>
                              <a:lnTo>
                                <a:pt x="92" y="43"/>
                              </a:lnTo>
                              <a:lnTo>
                                <a:pt x="92" y="41"/>
                              </a:lnTo>
                              <a:lnTo>
                                <a:pt x="92" y="41"/>
                              </a:lnTo>
                              <a:lnTo>
                                <a:pt x="92" y="38"/>
                              </a:lnTo>
                              <a:lnTo>
                                <a:pt x="94" y="38"/>
                              </a:lnTo>
                              <a:lnTo>
                                <a:pt x="94" y="0"/>
                              </a:lnTo>
                              <a:lnTo>
                                <a:pt x="1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71" name=""/>
                        <p:cNvSpPr/>
                        <p:nvPr/>
                      </p:nvSpPr>
                      <p:spPr>
                        <a:xfrm>
                          <a:off x="2491920" y="1211040"/>
                          <a:ext cx="77760" cy="3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46">
                              <a:moveTo>
                                <a:pt x="0" y="40"/>
                              </a:moveTo>
                              <a:lnTo>
                                <a:pt x="16" y="0"/>
                              </a:lnTo>
                              <a:lnTo>
                                <a:pt x="94" y="0"/>
                              </a:lnTo>
                              <a:lnTo>
                                <a:pt x="94" y="31"/>
                              </a:lnTo>
                              <a:lnTo>
                                <a:pt x="94" y="37"/>
                              </a:lnTo>
                              <a:lnTo>
                                <a:pt x="92" y="37"/>
                              </a:lnTo>
                              <a:lnTo>
                                <a:pt x="92" y="41"/>
                              </a:lnTo>
                              <a:lnTo>
                                <a:pt x="92" y="41"/>
                              </a:lnTo>
                              <a:lnTo>
                                <a:pt x="92" y="41"/>
                              </a:lnTo>
                              <a:lnTo>
                                <a:pt x="89" y="44"/>
                              </a:lnTo>
                              <a:lnTo>
                                <a:pt x="88" y="44"/>
                              </a:lnTo>
                              <a:lnTo>
                                <a:pt x="88" y="46"/>
                              </a:lnTo>
                              <a:lnTo>
                                <a:pt x="79" y="46"/>
                              </a:lnTo>
                              <a:lnTo>
                                <a:pt x="19" y="46"/>
                              </a:lnTo>
                              <a:lnTo>
                                <a:pt x="6" y="46"/>
                              </a:lnTo>
                              <a:lnTo>
                                <a:pt x="4" y="44"/>
                              </a:lnTo>
                              <a:lnTo>
                                <a:pt x="0" y="44"/>
                              </a:lnTo>
                              <a:lnTo>
                                <a:pt x="0" y="43"/>
                              </a:lnTo>
                              <a:lnTo>
                                <a:pt x="0" y="43"/>
                              </a:lnTo>
                              <a:lnTo>
                                <a:pt x="0" y="41"/>
                              </a:lnTo>
                              <a:lnTo>
                                <a:pt x="0" y="41"/>
                              </a:lnTo>
                              <a:lnTo>
                                <a:pt x="0" y="40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2611440" y="1224000"/>
                        <a:ext cx="26280" cy="241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3" name=""/>
                      <p:cNvSpPr/>
                      <p:nvPr/>
                    </p:nvSpPr>
                    <p:spPr>
                      <a:xfrm>
                        <a:off x="2707560" y="1222200"/>
                        <a:ext cx="2448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4" name=""/>
                      <p:cNvSpPr/>
                      <p:nvPr/>
                    </p:nvSpPr>
                    <p:spPr>
                      <a:xfrm>
                        <a:off x="2521800" y="1222200"/>
                        <a:ext cx="23040" cy="27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5" name=""/>
                    <p:cNvGrpSpPr/>
                    <p:nvPr/>
                  </p:nvGrpSpPr>
                  <p:grpSpPr>
                    <a:xfrm>
                      <a:off x="1618200" y="891360"/>
                      <a:ext cx="367920" cy="189000"/>
                      <a:chOff x="1618200" y="891360"/>
                      <a:chExt cx="367920" cy="189000"/>
                    </a:xfrm>
                  </p:grpSpPr>
                  <p:sp>
                    <p:nvSpPr>
                      <p:cNvPr id="1576" name=""/>
                      <p:cNvSpPr/>
                      <p:nvPr/>
                    </p:nvSpPr>
                    <p:spPr>
                      <a:xfrm>
                        <a:off x="1618560" y="891720"/>
                        <a:ext cx="367560" cy="18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" h="233">
                            <a:moveTo>
                              <a:pt x="0" y="233"/>
                            </a:moveTo>
                            <a:lnTo>
                              <a:pt x="411" y="233"/>
                            </a:lnTo>
                            <a:lnTo>
                              <a:pt x="446" y="198"/>
                            </a:lnTo>
                            <a:lnTo>
                              <a:pt x="446" y="0"/>
                            </a:lnTo>
                            <a:lnTo>
                              <a:pt x="35" y="0"/>
                            </a:lnTo>
                            <a:lnTo>
                              <a:pt x="0" y="35"/>
                            </a:lnTo>
                            <a:lnTo>
                              <a:pt x="0" y="23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7" name=""/>
                      <p:cNvSpPr/>
                      <p:nvPr/>
                    </p:nvSpPr>
                    <p:spPr>
                      <a:xfrm flipV="1">
                        <a:off x="1646280" y="891360"/>
                        <a:ext cx="1440" cy="159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8" name=""/>
                      <p:cNvSpPr/>
                      <p:nvPr/>
                    </p:nvSpPr>
                    <p:spPr>
                      <a:xfrm flipH="1">
                        <a:off x="1618200" y="1051200"/>
                        <a:ext cx="27720" cy="29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9" name=""/>
                      <p:cNvSpPr/>
                      <p:nvPr/>
                    </p:nvSpPr>
                    <p:spPr>
                      <a:xfrm>
                        <a:off x="1646280" y="1051200"/>
                        <a:ext cx="33948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80" name=""/>
                    <p:cNvSpPr/>
                    <p:nvPr/>
                  </p:nvSpPr>
                  <p:spPr>
                    <a:xfrm>
                      <a:off x="1666080" y="906120"/>
                      <a:ext cx="101160" cy="131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1783440" y="906120"/>
                      <a:ext cx="183960" cy="125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82" name=""/>
                    <p:cNvGrpSpPr/>
                    <p:nvPr/>
                  </p:nvGrpSpPr>
                  <p:grpSpPr>
                    <a:xfrm>
                      <a:off x="1779840" y="920520"/>
                      <a:ext cx="153000" cy="117360"/>
                      <a:chOff x="1779840" y="920520"/>
                      <a:chExt cx="153000" cy="117360"/>
                    </a:xfrm>
                  </p:grpSpPr>
                  <p:sp>
                    <p:nvSpPr>
                      <p:cNvPr id="1583" name=""/>
                      <p:cNvSpPr/>
                      <p:nvPr/>
                    </p:nvSpPr>
                    <p:spPr>
                      <a:xfrm>
                        <a:off x="1779840" y="920520"/>
                        <a:ext cx="153000" cy="61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400" spc="-1" strike="noStrike">
                            <a:solidFill>
                              <a:srgbClr val="000000"/>
                            </a:solidFill>
                            <a:latin typeface="全真楷書"/>
                            <a:ea typeface="全真楷書"/>
                          </a:rPr>
                          <a:t>HOV-3</a:t>
                        </a:r>
                        <a:endParaRPr b="0" lang="en-US" sz="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4" name=""/>
                      <p:cNvSpPr/>
                      <p:nvPr/>
                    </p:nvSpPr>
                    <p:spPr>
                      <a:xfrm>
                        <a:off x="1782360" y="976680"/>
                        <a:ext cx="122760" cy="61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400" spc="-1" strike="noStrike">
                            <a:solidFill>
                              <a:srgbClr val="000000"/>
                            </a:solidFill>
                            <a:latin typeface="全真楷書"/>
                            <a:ea typeface="全真楷書"/>
                          </a:rPr>
                          <a:t>ONLY</a:t>
                        </a:r>
                        <a:endParaRPr b="0" lang="en-US" sz="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1696320" y="921960"/>
                      <a:ext cx="55080" cy="3636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1696320" y="980640"/>
                      <a:ext cx="55080" cy="38160"/>
                    </a:xfrm>
                    <a:prstGeom prst="ellipse">
                      <a:avLst/>
                    </a:prstGeom>
                    <a:solidFill>
                      <a:srgbClr val="00ae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7" name=""/>
                    <p:cNvSpPr/>
                    <p:nvPr/>
                  </p:nvSpPr>
                  <p:spPr>
                    <a:xfrm>
                      <a:off x="1981800" y="912600"/>
                      <a:ext cx="123480" cy="2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8" name=""/>
                    <p:cNvSpPr/>
                    <p:nvPr/>
                  </p:nvSpPr>
                  <p:spPr>
                    <a:xfrm flipV="1">
                      <a:off x="2094840" y="918720"/>
                      <a:ext cx="29520" cy="15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9" name=""/>
                    <p:cNvSpPr/>
                    <p:nvPr/>
                  </p:nvSpPr>
                  <p:spPr>
                    <a:xfrm flipH="1" flipV="1">
                      <a:off x="2002320" y="906120"/>
                      <a:ext cx="132840" cy="14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 flipH="1">
                      <a:off x="1981440" y="902880"/>
                      <a:ext cx="2196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2086920" y="934560"/>
                      <a:ext cx="1080" cy="77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 flipH="1" flipV="1">
                      <a:off x="1981440" y="977040"/>
                      <a:ext cx="112680" cy="27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2126520" y="918720"/>
                      <a:ext cx="1080" cy="74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4" name=""/>
                    <p:cNvSpPr/>
                    <p:nvPr/>
                  </p:nvSpPr>
                  <p:spPr>
                    <a:xfrm flipV="1">
                      <a:off x="2086920" y="979200"/>
                      <a:ext cx="48600" cy="23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5" name=""/>
                    <p:cNvSpPr/>
                    <p:nvPr/>
                  </p:nvSpPr>
                  <p:spPr>
                    <a:xfrm>
                      <a:off x="2100960" y="941040"/>
                      <a:ext cx="20520" cy="38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2153520" y="947520"/>
                      <a:ext cx="28080" cy="37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"/>
                    <p:cNvSpPr/>
                    <p:nvPr/>
                  </p:nvSpPr>
                  <p:spPr>
                    <a:xfrm>
                      <a:off x="2110680" y="934560"/>
                      <a:ext cx="61560" cy="7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8" name=""/>
                    <p:cNvSpPr/>
                    <p:nvPr/>
                  </p:nvSpPr>
                  <p:spPr>
                    <a:xfrm flipH="1" flipV="1">
                      <a:off x="2107440" y="972360"/>
                      <a:ext cx="6480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2118600" y="945720"/>
                      <a:ext cx="16920" cy="28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2115360" y="941040"/>
                      <a:ext cx="4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2126520" y="941040"/>
                      <a:ext cx="1080" cy="41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1985040" y="985320"/>
                      <a:ext cx="2664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5">
                          <a:moveTo>
                            <a:pt x="26" y="0"/>
                          </a:moveTo>
                          <a:lnTo>
                            <a:pt x="24" y="2"/>
                          </a:lnTo>
                          <a:lnTo>
                            <a:pt x="24" y="5"/>
                          </a:lnTo>
                          <a:lnTo>
                            <a:pt x="23" y="8"/>
                          </a:lnTo>
                          <a:lnTo>
                            <a:pt x="22" y="9"/>
                          </a:lnTo>
                          <a:lnTo>
                            <a:pt x="20" y="12"/>
                          </a:lnTo>
                          <a:lnTo>
                            <a:pt x="20" y="15"/>
                          </a:lnTo>
                          <a:lnTo>
                            <a:pt x="20" y="18"/>
                          </a:lnTo>
                          <a:lnTo>
                            <a:pt x="20" y="19"/>
                          </a:lnTo>
                          <a:lnTo>
                            <a:pt x="20" y="22"/>
                          </a:lnTo>
                          <a:lnTo>
                            <a:pt x="20" y="25"/>
                          </a:lnTo>
                          <a:lnTo>
                            <a:pt x="22" y="27"/>
                          </a:lnTo>
                          <a:lnTo>
                            <a:pt x="23" y="30"/>
                          </a:lnTo>
                          <a:lnTo>
                            <a:pt x="26" y="31"/>
                          </a:lnTo>
                          <a:lnTo>
                            <a:pt x="26" y="34"/>
                          </a:lnTo>
                          <a:lnTo>
                            <a:pt x="27" y="35"/>
                          </a:lnTo>
                          <a:lnTo>
                            <a:pt x="29" y="38"/>
                          </a:lnTo>
                          <a:lnTo>
                            <a:pt x="30" y="41"/>
                          </a:lnTo>
                          <a:lnTo>
                            <a:pt x="32" y="43"/>
                          </a:lnTo>
                          <a:lnTo>
                            <a:pt x="32" y="46"/>
                          </a:lnTo>
                          <a:lnTo>
                            <a:pt x="32" y="49"/>
                          </a:lnTo>
                          <a:lnTo>
                            <a:pt x="32" y="50"/>
                          </a:lnTo>
                          <a:lnTo>
                            <a:pt x="30" y="53"/>
                          </a:lnTo>
                          <a:lnTo>
                            <a:pt x="27" y="55"/>
                          </a:lnTo>
                          <a:lnTo>
                            <a:pt x="24" y="55"/>
                          </a:lnTo>
                          <a:lnTo>
                            <a:pt x="22" y="55"/>
                          </a:lnTo>
                          <a:lnTo>
                            <a:pt x="19" y="53"/>
                          </a:lnTo>
                          <a:lnTo>
                            <a:pt x="16" y="52"/>
                          </a:lnTo>
                          <a:lnTo>
                            <a:pt x="16" y="49"/>
                          </a:lnTo>
                          <a:lnTo>
                            <a:pt x="13" y="46"/>
                          </a:lnTo>
                          <a:lnTo>
                            <a:pt x="13" y="44"/>
                          </a:lnTo>
                          <a:lnTo>
                            <a:pt x="11" y="41"/>
                          </a:lnTo>
                          <a:lnTo>
                            <a:pt x="8" y="40"/>
                          </a:lnTo>
                          <a:lnTo>
                            <a:pt x="5" y="38"/>
                          </a:lnTo>
                          <a:lnTo>
                            <a:pt x="2" y="38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1535760" y="839520"/>
                      <a:ext cx="50400" cy="279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4" name=""/>
                    <p:cNvSpPr/>
                    <p:nvPr/>
                  </p:nvSpPr>
                  <p:spPr>
                    <a:xfrm>
                      <a:off x="1586520" y="839520"/>
                      <a:ext cx="409320" cy="23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1707480" y="858600"/>
                      <a:ext cx="1080" cy="36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1863000" y="858600"/>
                      <a:ext cx="1080" cy="36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2191680" y="964800"/>
                      <a:ext cx="334440" cy="79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 flipH="1" flipV="1">
                      <a:off x="2153520" y="998280"/>
                      <a:ext cx="151920" cy="171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09" name=""/>
                    <p:cNvGrpSpPr/>
                    <p:nvPr/>
                  </p:nvGrpSpPr>
                  <p:grpSpPr>
                    <a:xfrm>
                      <a:off x="2648880" y="1697760"/>
                      <a:ext cx="180000" cy="271440"/>
                      <a:chOff x="2648880" y="1697760"/>
                      <a:chExt cx="180000" cy="271440"/>
                    </a:xfrm>
                  </p:grpSpPr>
                  <p:sp>
                    <p:nvSpPr>
                      <p:cNvPr id="1610" name=""/>
                      <p:cNvSpPr/>
                      <p:nvPr/>
                    </p:nvSpPr>
                    <p:spPr>
                      <a:xfrm>
                        <a:off x="2703960" y="1761120"/>
                        <a:ext cx="6480" cy="1404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1" name=""/>
                      <p:cNvSpPr/>
                      <p:nvPr/>
                    </p:nvSpPr>
                    <p:spPr>
                      <a:xfrm>
                        <a:off x="2712600" y="1761120"/>
                        <a:ext cx="6120" cy="14040"/>
                      </a:xfrm>
                      <a:prstGeom prst="rect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2" name=""/>
                      <p:cNvSpPr/>
                      <p:nvPr/>
                    </p:nvSpPr>
                    <p:spPr>
                      <a:xfrm>
                        <a:off x="2720880" y="1761120"/>
                        <a:ext cx="6120" cy="14040"/>
                      </a:xfrm>
                      <a:prstGeom prst="rect">
                        <a:avLst/>
                      </a:prstGeom>
                      <a:solidFill>
                        <a:srgbClr val="fa00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3" name=""/>
                      <p:cNvSpPr/>
                      <p:nvPr/>
                    </p:nvSpPr>
                    <p:spPr>
                      <a:xfrm>
                        <a:off x="2729160" y="1761120"/>
                        <a:ext cx="4680" cy="14040"/>
                      </a:xfrm>
                      <a:prstGeom prst="rect">
                        <a:avLst/>
                      </a:prstGeom>
                      <a:solidFill>
                        <a:srgbClr val="fa858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4" name=""/>
                      <p:cNvSpPr/>
                      <p:nvPr/>
                    </p:nvSpPr>
                    <p:spPr>
                      <a:xfrm>
                        <a:off x="2738520" y="1761120"/>
                        <a:ext cx="4680" cy="14040"/>
                      </a:xfrm>
                      <a:prstGeom prst="rect">
                        <a:avLst/>
                      </a:prstGeom>
                      <a:solidFill>
                        <a:srgbClr val="fac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5" name=""/>
                      <p:cNvSpPr/>
                      <p:nvPr/>
                    </p:nvSpPr>
                    <p:spPr>
                      <a:xfrm>
                        <a:off x="2746800" y="1761120"/>
                        <a:ext cx="4680" cy="14040"/>
                      </a:xfrm>
                      <a:prstGeom prst="rect">
                        <a:avLst/>
                      </a:prstGeom>
                      <a:solidFill>
                        <a:srgbClr val="f7fa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6" name=""/>
                      <p:cNvSpPr/>
                      <p:nvPr/>
                    </p:nvSpPr>
                    <p:spPr>
                      <a:xfrm>
                        <a:off x="2753640" y="1761120"/>
                        <a:ext cx="6120" cy="14040"/>
                      </a:xfrm>
                      <a:prstGeom prst="rect">
                        <a:avLst/>
                      </a:prstGeom>
                      <a:solidFill>
                        <a:srgbClr val="09fa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7" name=""/>
                      <p:cNvSpPr/>
                      <p:nvPr/>
                    </p:nvSpPr>
                    <p:spPr>
                      <a:xfrm>
                        <a:off x="2761920" y="1761120"/>
                        <a:ext cx="6120" cy="14040"/>
                      </a:xfrm>
                      <a:prstGeom prst="rect">
                        <a:avLst/>
                      </a:prstGeom>
                      <a:solidFill>
                        <a:srgbClr val="a2fa9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8" name=""/>
                      <p:cNvSpPr/>
                      <p:nvPr/>
                    </p:nvSpPr>
                    <p:spPr>
                      <a:xfrm>
                        <a:off x="2763360" y="1738080"/>
                        <a:ext cx="55440" cy="64440"/>
                      </a:xfrm>
                      <a:prstGeom prst="ellipse">
                        <a:avLst/>
                      </a:prstGeom>
                      <a:solidFill>
                        <a:srgbClr val="fa00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" name=""/>
                      <p:cNvSpPr/>
                      <p:nvPr/>
                    </p:nvSpPr>
                    <p:spPr>
                      <a:xfrm>
                        <a:off x="2656800" y="1893240"/>
                        <a:ext cx="57240" cy="63000"/>
                      </a:xfrm>
                      <a:prstGeom prst="ellipse">
                        <a:avLst/>
                      </a:prstGeom>
                      <a:solidFill>
                        <a:srgbClr val="09fa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0" name=""/>
                      <p:cNvSpPr/>
                      <p:nvPr/>
                    </p:nvSpPr>
                    <p:spPr>
                      <a:xfrm flipV="1">
                        <a:off x="2738520" y="1697760"/>
                        <a:ext cx="1800" cy="30600"/>
                      </a:xfrm>
                      <a:prstGeom prst="line">
                        <a:avLst/>
                      </a:prstGeom>
                      <a:ln w="2376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1" name=""/>
                      <p:cNvSpPr/>
                      <p:nvPr/>
                    </p:nvSpPr>
                    <p:spPr>
                      <a:xfrm>
                        <a:off x="2763360" y="1893240"/>
                        <a:ext cx="55440" cy="63000"/>
                      </a:xfrm>
                      <a:prstGeom prst="ellipse">
                        <a:avLst/>
                      </a:prstGeom>
                      <a:solidFill>
                        <a:srgbClr val="09fa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2" name=""/>
                      <p:cNvSpPr/>
                      <p:nvPr/>
                    </p:nvSpPr>
                    <p:spPr>
                      <a:xfrm>
                        <a:off x="2763360" y="1817280"/>
                        <a:ext cx="55440" cy="61200"/>
                      </a:xfrm>
                      <a:prstGeom prst="ellipse">
                        <a:avLst/>
                      </a:prstGeom>
                      <a:solidFill>
                        <a:srgbClr val="fac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3" name=""/>
                      <p:cNvSpPr/>
                      <p:nvPr/>
                    </p:nvSpPr>
                    <p:spPr>
                      <a:xfrm>
                        <a:off x="2656800" y="1738080"/>
                        <a:ext cx="57240" cy="64440"/>
                      </a:xfrm>
                      <a:prstGeom prst="ellipse">
                        <a:avLst/>
                      </a:prstGeom>
                      <a:solidFill>
                        <a:srgbClr val="fa00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4" name=""/>
                      <p:cNvSpPr/>
                      <p:nvPr/>
                    </p:nvSpPr>
                    <p:spPr>
                      <a:xfrm>
                        <a:off x="2656800" y="1817280"/>
                        <a:ext cx="57240" cy="61200"/>
                      </a:xfrm>
                      <a:prstGeom prst="ellipse">
                        <a:avLst/>
                      </a:prstGeom>
                      <a:solidFill>
                        <a:srgbClr val="fac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5" name=""/>
                      <p:cNvSpPr/>
                      <p:nvPr/>
                    </p:nvSpPr>
                    <p:spPr>
                      <a:xfrm>
                        <a:off x="2679480" y="1728720"/>
                        <a:ext cx="118080" cy="240480"/>
                      </a:xfrm>
                      <a:prstGeom prst="rect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6" name=""/>
                      <p:cNvSpPr/>
                      <p:nvPr/>
                    </p:nvSpPr>
                    <p:spPr>
                      <a:xfrm>
                        <a:off x="2797920" y="1893240"/>
                        <a:ext cx="3096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8">
                            <a:moveTo>
                              <a:pt x="37" y="0"/>
                            </a:moveTo>
                            <a:lnTo>
                              <a:pt x="30" y="2"/>
                            </a:lnTo>
                            <a:lnTo>
                              <a:pt x="25" y="5"/>
                            </a:lnTo>
                            <a:lnTo>
                              <a:pt x="19" y="11"/>
                            </a:lnTo>
                            <a:lnTo>
                              <a:pt x="17" y="17"/>
                            </a:lnTo>
                            <a:lnTo>
                              <a:pt x="12" y="25"/>
                            </a:lnTo>
                            <a:lnTo>
                              <a:pt x="11" y="33"/>
                            </a:lnTo>
                            <a:lnTo>
                              <a:pt x="8" y="47"/>
                            </a:lnTo>
                            <a:lnTo>
                              <a:pt x="3" y="63"/>
                            </a:lnTo>
                            <a:lnTo>
                              <a:pt x="0" y="78"/>
                            </a:lnTo>
                            <a:lnTo>
                              <a:pt x="0" y="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7" name=""/>
                      <p:cNvSpPr/>
                      <p:nvPr/>
                    </p:nvSpPr>
                    <p:spPr>
                      <a:xfrm>
                        <a:off x="2797920" y="1817280"/>
                        <a:ext cx="30960" cy="6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8">
                            <a:moveTo>
                              <a:pt x="37" y="0"/>
                            </a:moveTo>
                            <a:lnTo>
                              <a:pt x="30" y="2"/>
                            </a:lnTo>
                            <a:lnTo>
                              <a:pt x="25" y="5"/>
                            </a:lnTo>
                            <a:lnTo>
                              <a:pt x="19" y="11"/>
                            </a:lnTo>
                            <a:lnTo>
                              <a:pt x="17" y="16"/>
                            </a:lnTo>
                            <a:lnTo>
                              <a:pt x="12" y="24"/>
                            </a:lnTo>
                            <a:lnTo>
                              <a:pt x="11" y="33"/>
                            </a:lnTo>
                            <a:lnTo>
                              <a:pt x="8" y="47"/>
                            </a:lnTo>
                            <a:lnTo>
                              <a:pt x="3" y="63"/>
                            </a:lnTo>
                            <a:lnTo>
                              <a:pt x="0" y="78"/>
                            </a:lnTo>
                            <a:lnTo>
                              <a:pt x="0" y="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8" name=""/>
                      <p:cNvSpPr/>
                      <p:nvPr/>
                    </p:nvSpPr>
                    <p:spPr>
                      <a:xfrm>
                        <a:off x="2797920" y="1738080"/>
                        <a:ext cx="30960" cy="6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9">
                            <a:moveTo>
                              <a:pt x="37" y="0"/>
                            </a:moveTo>
                            <a:lnTo>
                              <a:pt x="30" y="3"/>
                            </a:lnTo>
                            <a:lnTo>
                              <a:pt x="25" y="5"/>
                            </a:lnTo>
                            <a:lnTo>
                              <a:pt x="19" y="10"/>
                            </a:lnTo>
                            <a:lnTo>
                              <a:pt x="17" y="17"/>
                            </a:lnTo>
                            <a:lnTo>
                              <a:pt x="12" y="24"/>
                            </a:lnTo>
                            <a:lnTo>
                              <a:pt x="11" y="32"/>
                            </a:lnTo>
                            <a:lnTo>
                              <a:pt x="8" y="48"/>
                            </a:lnTo>
                            <a:lnTo>
                              <a:pt x="3" y="63"/>
                            </a:lnTo>
                            <a:lnTo>
                              <a:pt x="0" y="79"/>
                            </a:lnTo>
                            <a:lnTo>
                              <a:pt x="0" y="0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9" name=""/>
                      <p:cNvSpPr/>
                      <p:nvPr/>
                    </p:nvSpPr>
                    <p:spPr>
                      <a:xfrm>
                        <a:off x="2648880" y="1893240"/>
                        <a:ext cx="306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78">
                            <a:moveTo>
                              <a:pt x="0" y="0"/>
                            </a:moveTo>
                            <a:lnTo>
                              <a:pt x="7" y="2"/>
                            </a:lnTo>
                            <a:lnTo>
                              <a:pt x="12" y="5"/>
                            </a:lnTo>
                            <a:lnTo>
                              <a:pt x="17" y="11"/>
                            </a:lnTo>
                            <a:lnTo>
                              <a:pt x="20" y="17"/>
                            </a:lnTo>
                            <a:lnTo>
                              <a:pt x="23" y="25"/>
                            </a:lnTo>
                            <a:lnTo>
                              <a:pt x="26" y="33"/>
                            </a:lnTo>
                            <a:lnTo>
                              <a:pt x="29" y="47"/>
                            </a:lnTo>
                            <a:lnTo>
                              <a:pt x="33" y="63"/>
                            </a:lnTo>
                            <a:lnTo>
                              <a:pt x="36" y="78"/>
                            </a:lnTo>
                            <a:lnTo>
                              <a:pt x="3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0" name=""/>
                      <p:cNvSpPr/>
                      <p:nvPr/>
                    </p:nvSpPr>
                    <p:spPr>
                      <a:xfrm>
                        <a:off x="2648880" y="1817280"/>
                        <a:ext cx="30600" cy="6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78">
                            <a:moveTo>
                              <a:pt x="0" y="0"/>
                            </a:moveTo>
                            <a:lnTo>
                              <a:pt x="7" y="2"/>
                            </a:lnTo>
                            <a:lnTo>
                              <a:pt x="12" y="5"/>
                            </a:lnTo>
                            <a:lnTo>
                              <a:pt x="17" y="11"/>
                            </a:lnTo>
                            <a:lnTo>
                              <a:pt x="20" y="16"/>
                            </a:lnTo>
                            <a:lnTo>
                              <a:pt x="23" y="24"/>
                            </a:lnTo>
                            <a:lnTo>
                              <a:pt x="26" y="33"/>
                            </a:lnTo>
                            <a:lnTo>
                              <a:pt x="29" y="47"/>
                            </a:lnTo>
                            <a:lnTo>
                              <a:pt x="33" y="63"/>
                            </a:lnTo>
                            <a:lnTo>
                              <a:pt x="36" y="78"/>
                            </a:lnTo>
                            <a:lnTo>
                              <a:pt x="3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1" name=""/>
                      <p:cNvSpPr/>
                      <p:nvPr/>
                    </p:nvSpPr>
                    <p:spPr>
                      <a:xfrm>
                        <a:off x="2648880" y="1738080"/>
                        <a:ext cx="30600" cy="6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79">
                            <a:moveTo>
                              <a:pt x="0" y="0"/>
                            </a:moveTo>
                            <a:lnTo>
                              <a:pt x="7" y="3"/>
                            </a:lnTo>
                            <a:lnTo>
                              <a:pt x="12" y="5"/>
                            </a:lnTo>
                            <a:lnTo>
                              <a:pt x="17" y="10"/>
                            </a:lnTo>
                            <a:lnTo>
                              <a:pt x="20" y="17"/>
                            </a:lnTo>
                            <a:lnTo>
                              <a:pt x="23" y="24"/>
                            </a:lnTo>
                            <a:lnTo>
                              <a:pt x="26" y="32"/>
                            </a:lnTo>
                            <a:lnTo>
                              <a:pt x="29" y="48"/>
                            </a:lnTo>
                            <a:lnTo>
                              <a:pt x="33" y="63"/>
                            </a:lnTo>
                            <a:lnTo>
                              <a:pt x="36" y="79"/>
                            </a:lnTo>
                            <a:lnTo>
                              <a:pt x="3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" name=""/>
                      <p:cNvSpPr/>
                      <p:nvPr/>
                    </p:nvSpPr>
                    <p:spPr>
                      <a:xfrm>
                        <a:off x="2697840" y="1914480"/>
                        <a:ext cx="80280" cy="4356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3" name=""/>
                      <p:cNvSpPr/>
                      <p:nvPr/>
                    </p:nvSpPr>
                    <p:spPr>
                      <a:xfrm>
                        <a:off x="2697840" y="1893240"/>
                        <a:ext cx="80280" cy="4536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4" name=""/>
                      <p:cNvSpPr/>
                      <p:nvPr/>
                    </p:nvSpPr>
                    <p:spPr>
                      <a:xfrm>
                        <a:off x="2697840" y="1761120"/>
                        <a:ext cx="80280" cy="4140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5" name=""/>
                      <p:cNvSpPr/>
                      <p:nvPr/>
                    </p:nvSpPr>
                    <p:spPr>
                      <a:xfrm>
                        <a:off x="2697840" y="1738080"/>
                        <a:ext cx="80280" cy="4500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6" name=""/>
                      <p:cNvSpPr/>
                      <p:nvPr/>
                    </p:nvSpPr>
                    <p:spPr>
                      <a:xfrm>
                        <a:off x="2697840" y="1838160"/>
                        <a:ext cx="80280" cy="4032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7" name=""/>
                      <p:cNvSpPr/>
                      <p:nvPr/>
                    </p:nvSpPr>
                    <p:spPr>
                      <a:xfrm>
                        <a:off x="2697840" y="1815840"/>
                        <a:ext cx="80280" cy="4500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8" name=""/>
                      <p:cNvSpPr/>
                      <p:nvPr/>
                    </p:nvSpPr>
                    <p:spPr>
                      <a:xfrm>
                        <a:off x="2702520" y="1895040"/>
                        <a:ext cx="72000" cy="608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9" name=""/>
                      <p:cNvSpPr/>
                      <p:nvPr/>
                    </p:nvSpPr>
                    <p:spPr>
                      <a:xfrm>
                        <a:off x="2703960" y="1896480"/>
                        <a:ext cx="69120" cy="57960"/>
                      </a:xfrm>
                      <a:prstGeom prst="ellipse">
                        <a:avLst/>
                      </a:prstGeom>
                      <a:solidFill>
                        <a:srgbClr val="09fa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0" name=""/>
                      <p:cNvSpPr/>
                      <p:nvPr/>
                    </p:nvSpPr>
                    <p:spPr>
                      <a:xfrm>
                        <a:off x="2702520" y="1739520"/>
                        <a:ext cx="72000" cy="612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2703960" y="1741680"/>
                        <a:ext cx="69120" cy="57960"/>
                      </a:xfrm>
                      <a:prstGeom prst="ellipse">
                        <a:avLst/>
                      </a:prstGeom>
                      <a:solidFill>
                        <a:srgbClr val="fa002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2" name=""/>
                      <p:cNvSpPr/>
                      <p:nvPr/>
                    </p:nvSpPr>
                    <p:spPr>
                      <a:xfrm>
                        <a:off x="2702520" y="1817280"/>
                        <a:ext cx="72000" cy="612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3" name=""/>
                      <p:cNvSpPr/>
                      <p:nvPr/>
                    </p:nvSpPr>
                    <p:spPr>
                      <a:xfrm>
                        <a:off x="2703960" y="1818720"/>
                        <a:ext cx="69120" cy="57960"/>
                      </a:xfrm>
                      <a:prstGeom prst="ellipse">
                        <a:avLst/>
                      </a:prstGeom>
                      <a:solidFill>
                        <a:srgbClr val="fac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4" name=""/>
                      <p:cNvSpPr/>
                      <p:nvPr/>
                    </p:nvSpPr>
                    <p:spPr>
                      <a:xfrm>
                        <a:off x="2714040" y="1713960"/>
                        <a:ext cx="4896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" name=""/>
                      <p:cNvSpPr/>
                      <p:nvPr/>
                    </p:nvSpPr>
                    <p:spPr>
                      <a:xfrm>
                        <a:off x="2729160" y="1704240"/>
                        <a:ext cx="17640" cy="176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>
                        <a:off x="2750040" y="1751040"/>
                        <a:ext cx="1296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6">
                            <a:moveTo>
                              <a:pt x="9" y="0"/>
                            </a:moveTo>
                            <a:lnTo>
                              <a:pt x="12" y="2"/>
                            </a:lnTo>
                            <a:lnTo>
                              <a:pt x="14" y="3"/>
                            </a:lnTo>
                            <a:lnTo>
                              <a:pt x="16" y="5"/>
                            </a:lnTo>
                            <a:lnTo>
                              <a:pt x="16" y="6"/>
                            </a:lnTo>
                            <a:lnTo>
                              <a:pt x="13" y="10"/>
                            </a:lnTo>
                            <a:lnTo>
                              <a:pt x="12" y="13"/>
                            </a:lnTo>
                            <a:lnTo>
                              <a:pt x="10" y="16"/>
                            </a:lnTo>
                            <a:lnTo>
                              <a:pt x="10" y="16"/>
                            </a:lnTo>
                            <a:lnTo>
                              <a:pt x="9" y="13"/>
                            </a:lnTo>
                            <a:lnTo>
                              <a:pt x="7" y="12"/>
                            </a:lnTo>
                            <a:lnTo>
                              <a:pt x="3" y="12"/>
                            </a:lnTo>
                            <a:lnTo>
                              <a:pt x="1" y="10"/>
                            </a:lnTo>
                            <a:lnTo>
                              <a:pt x="0" y="8"/>
                            </a:lnTo>
                            <a:lnTo>
                              <a:pt x="1" y="6"/>
                            </a:lnTo>
                            <a:lnTo>
                              <a:pt x="3" y="3"/>
                            </a:ln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a858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742120" y="1744920"/>
                        <a:ext cx="129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6">
                            <a:moveTo>
                              <a:pt x="7" y="0"/>
                            </a:moveTo>
                            <a:lnTo>
                              <a:pt x="10" y="1"/>
                            </a:lnTo>
                            <a:lnTo>
                              <a:pt x="14" y="3"/>
                            </a:lnTo>
                            <a:lnTo>
                              <a:pt x="16" y="4"/>
                            </a:lnTo>
                            <a:lnTo>
                              <a:pt x="16" y="6"/>
                            </a:lnTo>
                            <a:lnTo>
                              <a:pt x="13" y="10"/>
                            </a:lnTo>
                            <a:lnTo>
                              <a:pt x="10" y="13"/>
                            </a:lnTo>
                            <a:lnTo>
                              <a:pt x="8" y="15"/>
                            </a:lnTo>
                            <a:lnTo>
                              <a:pt x="8" y="16"/>
                            </a:lnTo>
                            <a:lnTo>
                              <a:pt x="7" y="13"/>
                            </a:lnTo>
                            <a:lnTo>
                              <a:pt x="5" y="12"/>
                            </a:lnTo>
                            <a:lnTo>
                              <a:pt x="3" y="12"/>
                            </a:lnTo>
                            <a:lnTo>
                              <a:pt x="0" y="10"/>
                            </a:lnTo>
                            <a:lnTo>
                              <a:pt x="0" y="7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  <a:lnTo>
                              <a:pt x="3" y="1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a858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2751840" y="1830240"/>
                        <a:ext cx="115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7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5" y="3"/>
                            </a:lnTo>
                            <a:lnTo>
                              <a:pt x="15" y="5"/>
                            </a:lnTo>
                            <a:lnTo>
                              <a:pt x="15" y="8"/>
                            </a:lnTo>
                            <a:lnTo>
                              <a:pt x="12" y="11"/>
                            </a:lnTo>
                            <a:lnTo>
                              <a:pt x="11" y="14"/>
                            </a:lnTo>
                            <a:lnTo>
                              <a:pt x="9" y="17"/>
                            </a:lnTo>
                            <a:lnTo>
                              <a:pt x="9" y="17"/>
                            </a:lnTo>
                            <a:lnTo>
                              <a:pt x="8" y="14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0" y="11"/>
                            </a:lnTo>
                            <a:lnTo>
                              <a:pt x="0" y="9"/>
                            </a:lnTo>
                            <a:lnTo>
                              <a:pt x="0" y="6"/>
                            </a:lnTo>
                            <a:lnTo>
                              <a:pt x="2" y="3"/>
                            </a:lnTo>
                            <a:lnTo>
                              <a:pt x="3" y="2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7fa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9" name=""/>
                      <p:cNvSpPr/>
                      <p:nvPr/>
                    </p:nvSpPr>
                    <p:spPr>
                      <a:xfrm>
                        <a:off x="2742120" y="1824120"/>
                        <a:ext cx="129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6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4" y="3"/>
                            </a:lnTo>
                            <a:lnTo>
                              <a:pt x="16" y="4"/>
                            </a:lnTo>
                            <a:lnTo>
                              <a:pt x="16" y="6"/>
                            </a:lnTo>
                            <a:lnTo>
                              <a:pt x="13" y="10"/>
                            </a:lnTo>
                            <a:lnTo>
                              <a:pt x="10" y="13"/>
                            </a:lnTo>
                            <a:lnTo>
                              <a:pt x="10" y="16"/>
                            </a:lnTo>
                            <a:lnTo>
                              <a:pt x="8" y="16"/>
                            </a:lnTo>
                            <a:lnTo>
                              <a:pt x="8" y="13"/>
                            </a:lnTo>
                            <a:lnTo>
                              <a:pt x="5" y="12"/>
                            </a:lnTo>
                            <a:lnTo>
                              <a:pt x="3" y="12"/>
                            </a:lnTo>
                            <a:lnTo>
                              <a:pt x="1" y="10"/>
                            </a:lnTo>
                            <a:lnTo>
                              <a:pt x="0" y="7"/>
                            </a:lnTo>
                            <a:lnTo>
                              <a:pt x="1" y="6"/>
                            </a:lnTo>
                            <a:lnTo>
                              <a:pt x="3" y="3"/>
                            </a:ln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7fa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0" name=""/>
                      <p:cNvSpPr/>
                      <p:nvPr/>
                    </p:nvSpPr>
                    <p:spPr>
                      <a:xfrm>
                        <a:off x="2750040" y="1906200"/>
                        <a:ext cx="129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6">
                            <a:moveTo>
                              <a:pt x="9" y="0"/>
                            </a:moveTo>
                            <a:lnTo>
                              <a:pt x="12" y="1"/>
                            </a:lnTo>
                            <a:lnTo>
                              <a:pt x="14" y="3"/>
                            </a:lnTo>
                            <a:lnTo>
                              <a:pt x="16" y="4"/>
                            </a:lnTo>
                            <a:lnTo>
                              <a:pt x="16" y="5"/>
                            </a:lnTo>
                            <a:lnTo>
                              <a:pt x="13" y="10"/>
                            </a:lnTo>
                            <a:lnTo>
                              <a:pt x="12" y="13"/>
                            </a:lnTo>
                            <a:lnTo>
                              <a:pt x="10" y="16"/>
                            </a:lnTo>
                            <a:lnTo>
                              <a:pt x="10" y="16"/>
                            </a:lnTo>
                            <a:lnTo>
                              <a:pt x="9" y="13"/>
                            </a:lnTo>
                            <a:lnTo>
                              <a:pt x="7" y="11"/>
                            </a:lnTo>
                            <a:lnTo>
                              <a:pt x="3" y="11"/>
                            </a:lnTo>
                            <a:lnTo>
                              <a:pt x="1" y="10"/>
                            </a:lnTo>
                            <a:lnTo>
                              <a:pt x="0" y="7"/>
                            </a:lnTo>
                            <a:lnTo>
                              <a:pt x="1" y="5"/>
                            </a:lnTo>
                            <a:lnTo>
                              <a:pt x="3" y="3"/>
                            </a:lnTo>
                            <a:lnTo>
                              <a:pt x="4" y="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a2fa9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1" name=""/>
                      <p:cNvSpPr/>
                      <p:nvPr/>
                    </p:nvSpPr>
                    <p:spPr>
                      <a:xfrm>
                        <a:off x="2742120" y="1901160"/>
                        <a:ext cx="1296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6">
                            <a:moveTo>
                              <a:pt x="7" y="0"/>
                            </a:moveTo>
                            <a:lnTo>
                              <a:pt x="10" y="2"/>
                            </a:lnTo>
                            <a:lnTo>
                              <a:pt x="14" y="3"/>
                            </a:lnTo>
                            <a:lnTo>
                              <a:pt x="16" y="5"/>
                            </a:lnTo>
                            <a:lnTo>
                              <a:pt x="16" y="6"/>
                            </a:lnTo>
                            <a:lnTo>
                              <a:pt x="13" y="11"/>
                            </a:lnTo>
                            <a:lnTo>
                              <a:pt x="10" y="13"/>
                            </a:lnTo>
                            <a:lnTo>
                              <a:pt x="8" y="15"/>
                            </a:lnTo>
                            <a:lnTo>
                              <a:pt x="8" y="16"/>
                            </a:lnTo>
                            <a:lnTo>
                              <a:pt x="7" y="13"/>
                            </a:lnTo>
                            <a:lnTo>
                              <a:pt x="5" y="12"/>
                            </a:lnTo>
                            <a:lnTo>
                              <a:pt x="3" y="11"/>
                            </a:lnTo>
                            <a:lnTo>
                              <a:pt x="0" y="11"/>
                            </a:lnTo>
                            <a:lnTo>
                              <a:pt x="0" y="8"/>
                            </a:lnTo>
                            <a:lnTo>
                              <a:pt x="0" y="6"/>
                            </a:lnTo>
                            <a:lnTo>
                              <a:pt x="1" y="3"/>
                            </a:lnTo>
                            <a:lnTo>
                              <a:pt x="3" y="2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a2fa9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52" name=""/>
                    <p:cNvGrpSpPr/>
                    <p:nvPr/>
                  </p:nvGrpSpPr>
                  <p:grpSpPr>
                    <a:xfrm>
                      <a:off x="1605600" y="2204640"/>
                      <a:ext cx="758160" cy="225000"/>
                      <a:chOff x="1605600" y="2204640"/>
                      <a:chExt cx="758160" cy="225000"/>
                    </a:xfrm>
                  </p:grpSpPr>
                  <p:sp>
                    <p:nvSpPr>
                      <p:cNvPr id="1653" name=""/>
                      <p:cNvSpPr/>
                      <p:nvPr/>
                    </p:nvSpPr>
                    <p:spPr>
                      <a:xfrm>
                        <a:off x="1605600" y="2204640"/>
                        <a:ext cx="756720" cy="19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6" h="246">
                            <a:moveTo>
                              <a:pt x="62" y="0"/>
                            </a:moveTo>
                            <a:lnTo>
                              <a:pt x="62" y="0"/>
                            </a:lnTo>
                            <a:lnTo>
                              <a:pt x="59" y="0"/>
                            </a:lnTo>
                            <a:lnTo>
                              <a:pt x="59" y="2"/>
                            </a:lnTo>
                            <a:lnTo>
                              <a:pt x="56" y="2"/>
                            </a:lnTo>
                            <a:lnTo>
                              <a:pt x="56" y="3"/>
                            </a:lnTo>
                            <a:lnTo>
                              <a:pt x="53" y="3"/>
                            </a:lnTo>
                            <a:lnTo>
                              <a:pt x="51" y="3"/>
                            </a:lnTo>
                            <a:lnTo>
                              <a:pt x="51" y="5"/>
                            </a:lnTo>
                            <a:lnTo>
                              <a:pt x="48" y="5"/>
                            </a:lnTo>
                            <a:lnTo>
                              <a:pt x="48" y="6"/>
                            </a:lnTo>
                            <a:lnTo>
                              <a:pt x="47" y="6"/>
                            </a:lnTo>
                            <a:lnTo>
                              <a:pt x="47" y="8"/>
                            </a:lnTo>
                            <a:lnTo>
                              <a:pt x="45" y="8"/>
                            </a:lnTo>
                            <a:lnTo>
                              <a:pt x="45" y="9"/>
                            </a:lnTo>
                            <a:lnTo>
                              <a:pt x="43" y="11"/>
                            </a:lnTo>
                            <a:lnTo>
                              <a:pt x="41" y="11"/>
                            </a:lnTo>
                            <a:lnTo>
                              <a:pt x="41" y="12"/>
                            </a:lnTo>
                            <a:lnTo>
                              <a:pt x="40" y="14"/>
                            </a:lnTo>
                            <a:lnTo>
                              <a:pt x="40" y="14"/>
                            </a:lnTo>
                            <a:lnTo>
                              <a:pt x="38" y="14"/>
                            </a:lnTo>
                            <a:lnTo>
                              <a:pt x="38" y="16"/>
                            </a:lnTo>
                            <a:lnTo>
                              <a:pt x="35" y="18"/>
                            </a:lnTo>
                            <a:lnTo>
                              <a:pt x="35" y="18"/>
                            </a:lnTo>
                            <a:lnTo>
                              <a:pt x="34" y="19"/>
                            </a:lnTo>
                            <a:lnTo>
                              <a:pt x="34" y="21"/>
                            </a:lnTo>
                            <a:lnTo>
                              <a:pt x="32" y="21"/>
                            </a:lnTo>
                            <a:lnTo>
                              <a:pt x="32" y="24"/>
                            </a:lnTo>
                            <a:lnTo>
                              <a:pt x="32" y="24"/>
                            </a:lnTo>
                            <a:lnTo>
                              <a:pt x="32" y="25"/>
                            </a:lnTo>
                            <a:lnTo>
                              <a:pt x="29" y="27"/>
                            </a:lnTo>
                            <a:lnTo>
                              <a:pt x="29" y="28"/>
                            </a:lnTo>
                            <a:lnTo>
                              <a:pt x="29" y="28"/>
                            </a:lnTo>
                            <a:lnTo>
                              <a:pt x="29" y="31"/>
                            </a:lnTo>
                            <a:lnTo>
                              <a:pt x="28" y="31"/>
                            </a:lnTo>
                            <a:lnTo>
                              <a:pt x="28" y="34"/>
                            </a:lnTo>
                            <a:lnTo>
                              <a:pt x="26" y="34"/>
                            </a:lnTo>
                            <a:lnTo>
                              <a:pt x="26" y="37"/>
                            </a:lnTo>
                            <a:lnTo>
                              <a:pt x="26" y="37"/>
                            </a:lnTo>
                            <a:lnTo>
                              <a:pt x="26" y="38"/>
                            </a:lnTo>
                            <a:lnTo>
                              <a:pt x="25" y="38"/>
                            </a:lnTo>
                            <a:lnTo>
                              <a:pt x="25" y="41"/>
                            </a:lnTo>
                            <a:lnTo>
                              <a:pt x="24" y="41"/>
                            </a:lnTo>
                            <a:lnTo>
                              <a:pt x="24" y="44"/>
                            </a:lnTo>
                            <a:lnTo>
                              <a:pt x="24" y="44"/>
                            </a:lnTo>
                            <a:lnTo>
                              <a:pt x="24" y="47"/>
                            </a:lnTo>
                            <a:lnTo>
                              <a:pt x="22" y="47"/>
                            </a:lnTo>
                            <a:lnTo>
                              <a:pt x="22" y="50"/>
                            </a:lnTo>
                            <a:lnTo>
                              <a:pt x="21" y="50"/>
                            </a:lnTo>
                            <a:lnTo>
                              <a:pt x="21" y="52"/>
                            </a:lnTo>
                            <a:lnTo>
                              <a:pt x="19" y="52"/>
                            </a:lnTo>
                            <a:lnTo>
                              <a:pt x="19" y="55"/>
                            </a:lnTo>
                            <a:lnTo>
                              <a:pt x="19" y="55"/>
                            </a:lnTo>
                            <a:lnTo>
                              <a:pt x="19" y="59"/>
                            </a:lnTo>
                            <a:lnTo>
                              <a:pt x="18" y="59"/>
                            </a:lnTo>
                            <a:lnTo>
                              <a:pt x="18" y="62"/>
                            </a:lnTo>
                            <a:lnTo>
                              <a:pt x="16" y="62"/>
                            </a:lnTo>
                            <a:lnTo>
                              <a:pt x="16" y="66"/>
                            </a:lnTo>
                            <a:lnTo>
                              <a:pt x="16" y="66"/>
                            </a:lnTo>
                            <a:lnTo>
                              <a:pt x="16" y="69"/>
                            </a:lnTo>
                            <a:lnTo>
                              <a:pt x="15" y="69"/>
                            </a:lnTo>
                            <a:lnTo>
                              <a:pt x="15" y="72"/>
                            </a:lnTo>
                            <a:lnTo>
                              <a:pt x="13" y="72"/>
                            </a:lnTo>
                            <a:lnTo>
                              <a:pt x="13" y="77"/>
                            </a:lnTo>
                            <a:lnTo>
                              <a:pt x="13" y="77"/>
                            </a:lnTo>
                            <a:lnTo>
                              <a:pt x="13" y="79"/>
                            </a:lnTo>
                            <a:lnTo>
                              <a:pt x="12" y="79"/>
                            </a:lnTo>
                            <a:lnTo>
                              <a:pt x="12" y="82"/>
                            </a:lnTo>
                            <a:lnTo>
                              <a:pt x="10" y="82"/>
                            </a:lnTo>
                            <a:lnTo>
                              <a:pt x="10" y="87"/>
                            </a:lnTo>
                            <a:lnTo>
                              <a:pt x="10" y="87"/>
                            </a:lnTo>
                            <a:lnTo>
                              <a:pt x="10" y="91"/>
                            </a:lnTo>
                            <a:lnTo>
                              <a:pt x="9" y="91"/>
                            </a:lnTo>
                            <a:lnTo>
                              <a:pt x="9" y="96"/>
                            </a:lnTo>
                            <a:lnTo>
                              <a:pt x="7" y="96"/>
                            </a:lnTo>
                            <a:lnTo>
                              <a:pt x="7" y="222"/>
                            </a:lnTo>
                            <a:lnTo>
                              <a:pt x="6" y="222"/>
                            </a:lnTo>
                            <a:lnTo>
                              <a:pt x="6" y="223"/>
                            </a:lnTo>
                            <a:lnTo>
                              <a:pt x="3" y="224"/>
                            </a:lnTo>
                            <a:lnTo>
                              <a:pt x="3" y="224"/>
                            </a:lnTo>
                            <a:lnTo>
                              <a:pt x="2" y="226"/>
                            </a:lnTo>
                            <a:lnTo>
                              <a:pt x="2" y="227"/>
                            </a:lnTo>
                            <a:lnTo>
                              <a:pt x="0" y="227"/>
                            </a:lnTo>
                            <a:lnTo>
                              <a:pt x="0" y="230"/>
                            </a:lnTo>
                            <a:lnTo>
                              <a:pt x="0" y="230"/>
                            </a:lnTo>
                            <a:lnTo>
                              <a:pt x="0" y="242"/>
                            </a:lnTo>
                            <a:lnTo>
                              <a:pt x="0" y="242"/>
                            </a:lnTo>
                            <a:lnTo>
                              <a:pt x="0" y="245"/>
                            </a:lnTo>
                            <a:lnTo>
                              <a:pt x="2" y="245"/>
                            </a:lnTo>
                            <a:lnTo>
                              <a:pt x="2" y="246"/>
                            </a:lnTo>
                            <a:lnTo>
                              <a:pt x="108" y="245"/>
                            </a:lnTo>
                            <a:lnTo>
                              <a:pt x="108" y="242"/>
                            </a:lnTo>
                            <a:lnTo>
                              <a:pt x="107" y="242"/>
                            </a:lnTo>
                            <a:lnTo>
                              <a:pt x="107" y="239"/>
                            </a:lnTo>
                            <a:lnTo>
                              <a:pt x="107" y="239"/>
                            </a:lnTo>
                            <a:lnTo>
                              <a:pt x="107" y="223"/>
                            </a:lnTo>
                            <a:lnTo>
                              <a:pt x="107" y="223"/>
                            </a:lnTo>
                            <a:lnTo>
                              <a:pt x="107" y="219"/>
                            </a:lnTo>
                            <a:lnTo>
                              <a:pt x="108" y="219"/>
                            </a:lnTo>
                            <a:lnTo>
                              <a:pt x="108" y="216"/>
                            </a:lnTo>
                            <a:lnTo>
                              <a:pt x="110" y="216"/>
                            </a:lnTo>
                            <a:lnTo>
                              <a:pt x="110" y="211"/>
                            </a:lnTo>
                            <a:lnTo>
                              <a:pt x="110" y="211"/>
                            </a:lnTo>
                            <a:lnTo>
                              <a:pt x="110" y="208"/>
                            </a:lnTo>
                            <a:lnTo>
                              <a:pt x="111" y="208"/>
                            </a:lnTo>
                            <a:lnTo>
                              <a:pt x="111" y="207"/>
                            </a:lnTo>
                            <a:lnTo>
                              <a:pt x="113" y="205"/>
                            </a:lnTo>
                            <a:lnTo>
                              <a:pt x="113" y="204"/>
                            </a:lnTo>
                            <a:lnTo>
                              <a:pt x="114" y="204"/>
                            </a:lnTo>
                            <a:lnTo>
                              <a:pt x="114" y="201"/>
                            </a:lnTo>
                            <a:lnTo>
                              <a:pt x="117" y="201"/>
                            </a:lnTo>
                            <a:lnTo>
                              <a:pt x="117" y="198"/>
                            </a:lnTo>
                            <a:lnTo>
                              <a:pt x="119" y="198"/>
                            </a:lnTo>
                            <a:lnTo>
                              <a:pt x="119" y="197"/>
                            </a:lnTo>
                            <a:lnTo>
                              <a:pt x="120" y="195"/>
                            </a:lnTo>
                            <a:lnTo>
                              <a:pt x="120" y="194"/>
                            </a:lnTo>
                            <a:lnTo>
                              <a:pt x="123" y="194"/>
                            </a:lnTo>
                            <a:lnTo>
                              <a:pt x="123" y="192"/>
                            </a:lnTo>
                            <a:lnTo>
                              <a:pt x="125" y="191"/>
                            </a:lnTo>
                            <a:lnTo>
                              <a:pt x="125" y="191"/>
                            </a:lnTo>
                            <a:lnTo>
                              <a:pt x="126" y="189"/>
                            </a:lnTo>
                            <a:lnTo>
                              <a:pt x="126" y="188"/>
                            </a:lnTo>
                            <a:lnTo>
                              <a:pt x="129" y="188"/>
                            </a:lnTo>
                            <a:lnTo>
                              <a:pt x="129" y="188"/>
                            </a:lnTo>
                            <a:lnTo>
                              <a:pt x="130" y="186"/>
                            </a:lnTo>
                            <a:lnTo>
                              <a:pt x="133" y="185"/>
                            </a:lnTo>
                            <a:lnTo>
                              <a:pt x="133" y="185"/>
                            </a:lnTo>
                            <a:lnTo>
                              <a:pt x="135" y="185"/>
                            </a:lnTo>
                            <a:lnTo>
                              <a:pt x="135" y="183"/>
                            </a:lnTo>
                            <a:lnTo>
                              <a:pt x="136" y="183"/>
                            </a:lnTo>
                            <a:lnTo>
                              <a:pt x="136" y="182"/>
                            </a:lnTo>
                            <a:lnTo>
                              <a:pt x="139" y="182"/>
                            </a:lnTo>
                            <a:lnTo>
                              <a:pt x="139" y="181"/>
                            </a:lnTo>
                            <a:lnTo>
                              <a:pt x="141" y="181"/>
                            </a:lnTo>
                            <a:lnTo>
                              <a:pt x="142" y="179"/>
                            </a:lnTo>
                            <a:lnTo>
                              <a:pt x="145" y="178"/>
                            </a:lnTo>
                            <a:lnTo>
                              <a:pt x="147" y="178"/>
                            </a:lnTo>
                            <a:lnTo>
                              <a:pt x="147" y="178"/>
                            </a:lnTo>
                            <a:lnTo>
                              <a:pt x="151" y="178"/>
                            </a:lnTo>
                            <a:lnTo>
                              <a:pt x="151" y="176"/>
                            </a:lnTo>
                            <a:lnTo>
                              <a:pt x="154" y="176"/>
                            </a:lnTo>
                            <a:lnTo>
                              <a:pt x="154" y="175"/>
                            </a:lnTo>
                            <a:lnTo>
                              <a:pt x="262" y="175"/>
                            </a:lnTo>
                            <a:lnTo>
                              <a:pt x="262" y="175"/>
                            </a:lnTo>
                            <a:lnTo>
                              <a:pt x="268" y="175"/>
                            </a:lnTo>
                            <a:lnTo>
                              <a:pt x="268" y="173"/>
                            </a:lnTo>
                            <a:lnTo>
                              <a:pt x="916" y="173"/>
                            </a:lnTo>
                            <a:lnTo>
                              <a:pt x="916" y="128"/>
                            </a:lnTo>
                            <a:lnTo>
                              <a:pt x="916" y="128"/>
                            </a:lnTo>
                            <a:lnTo>
                              <a:pt x="916" y="101"/>
                            </a:lnTo>
                            <a:lnTo>
                              <a:pt x="914" y="101"/>
                            </a:lnTo>
                            <a:lnTo>
                              <a:pt x="914" y="81"/>
                            </a:lnTo>
                            <a:lnTo>
                              <a:pt x="913" y="81"/>
                            </a:lnTo>
                            <a:lnTo>
                              <a:pt x="913" y="72"/>
                            </a:lnTo>
                            <a:lnTo>
                              <a:pt x="911" y="72"/>
                            </a:lnTo>
                            <a:lnTo>
                              <a:pt x="911" y="72"/>
                            </a:lnTo>
                            <a:lnTo>
                              <a:pt x="910" y="72"/>
                            </a:lnTo>
                            <a:lnTo>
                              <a:pt x="908" y="69"/>
                            </a:lnTo>
                            <a:lnTo>
                              <a:pt x="907" y="69"/>
                            </a:lnTo>
                            <a:lnTo>
                              <a:pt x="907" y="69"/>
                            </a:lnTo>
                            <a:lnTo>
                              <a:pt x="904" y="69"/>
                            </a:lnTo>
                            <a:lnTo>
                              <a:pt x="902" y="66"/>
                            </a:lnTo>
                            <a:lnTo>
                              <a:pt x="901" y="66"/>
                            </a:lnTo>
                            <a:lnTo>
                              <a:pt x="901" y="65"/>
                            </a:lnTo>
                            <a:lnTo>
                              <a:pt x="898" y="65"/>
                            </a:lnTo>
                            <a:lnTo>
                              <a:pt x="897" y="63"/>
                            </a:lnTo>
                            <a:lnTo>
                              <a:pt x="895" y="63"/>
                            </a:lnTo>
                            <a:lnTo>
                              <a:pt x="895" y="62"/>
                            </a:lnTo>
                            <a:lnTo>
                              <a:pt x="892" y="62"/>
                            </a:lnTo>
                            <a:lnTo>
                              <a:pt x="892" y="62"/>
                            </a:lnTo>
                            <a:lnTo>
                              <a:pt x="889" y="62"/>
                            </a:lnTo>
                            <a:lnTo>
                              <a:pt x="889" y="60"/>
                            </a:lnTo>
                            <a:lnTo>
                              <a:pt x="886" y="60"/>
                            </a:lnTo>
                            <a:lnTo>
                              <a:pt x="886" y="59"/>
                            </a:lnTo>
                            <a:lnTo>
                              <a:pt x="885" y="59"/>
                            </a:lnTo>
                            <a:lnTo>
                              <a:pt x="885" y="59"/>
                            </a:lnTo>
                            <a:lnTo>
                              <a:pt x="882" y="59"/>
                            </a:lnTo>
                            <a:lnTo>
                              <a:pt x="882" y="57"/>
                            </a:lnTo>
                            <a:lnTo>
                              <a:pt x="876" y="57"/>
                            </a:lnTo>
                            <a:lnTo>
                              <a:pt x="876" y="56"/>
                            </a:lnTo>
                            <a:lnTo>
                              <a:pt x="873" y="56"/>
                            </a:lnTo>
                            <a:lnTo>
                              <a:pt x="873" y="55"/>
                            </a:lnTo>
                            <a:lnTo>
                              <a:pt x="867" y="55"/>
                            </a:lnTo>
                            <a:lnTo>
                              <a:pt x="867" y="55"/>
                            </a:lnTo>
                            <a:lnTo>
                              <a:pt x="863" y="55"/>
                            </a:lnTo>
                            <a:lnTo>
                              <a:pt x="863" y="53"/>
                            </a:lnTo>
                            <a:lnTo>
                              <a:pt x="851" y="53"/>
                            </a:lnTo>
                            <a:lnTo>
                              <a:pt x="850" y="52"/>
                            </a:lnTo>
                            <a:lnTo>
                              <a:pt x="848" y="52"/>
                            </a:lnTo>
                            <a:lnTo>
                              <a:pt x="847" y="49"/>
                            </a:lnTo>
                            <a:lnTo>
                              <a:pt x="847" y="49"/>
                            </a:lnTo>
                            <a:lnTo>
                              <a:pt x="847" y="47"/>
                            </a:lnTo>
                            <a:lnTo>
                              <a:pt x="845" y="47"/>
                            </a:lnTo>
                            <a:lnTo>
                              <a:pt x="844" y="44"/>
                            </a:lnTo>
                            <a:lnTo>
                              <a:pt x="844" y="44"/>
                            </a:lnTo>
                            <a:lnTo>
                              <a:pt x="842" y="43"/>
                            </a:lnTo>
                            <a:lnTo>
                              <a:pt x="841" y="43"/>
                            </a:lnTo>
                            <a:lnTo>
                              <a:pt x="841" y="41"/>
                            </a:lnTo>
                            <a:lnTo>
                              <a:pt x="839" y="41"/>
                            </a:lnTo>
                            <a:lnTo>
                              <a:pt x="838" y="38"/>
                            </a:lnTo>
                            <a:lnTo>
                              <a:pt x="838" y="38"/>
                            </a:lnTo>
                            <a:lnTo>
                              <a:pt x="838" y="37"/>
                            </a:lnTo>
                            <a:lnTo>
                              <a:pt x="836" y="37"/>
                            </a:lnTo>
                            <a:lnTo>
                              <a:pt x="835" y="34"/>
                            </a:lnTo>
                            <a:lnTo>
                              <a:pt x="835" y="34"/>
                            </a:lnTo>
                            <a:lnTo>
                              <a:pt x="834" y="33"/>
                            </a:lnTo>
                            <a:lnTo>
                              <a:pt x="832" y="33"/>
                            </a:lnTo>
                            <a:lnTo>
                              <a:pt x="831" y="31"/>
                            </a:lnTo>
                            <a:lnTo>
                              <a:pt x="831" y="31"/>
                            </a:lnTo>
                            <a:lnTo>
                              <a:pt x="829" y="28"/>
                            </a:lnTo>
                            <a:lnTo>
                              <a:pt x="828" y="28"/>
                            </a:lnTo>
                            <a:lnTo>
                              <a:pt x="828" y="27"/>
                            </a:lnTo>
                            <a:lnTo>
                              <a:pt x="828" y="27"/>
                            </a:lnTo>
                            <a:lnTo>
                              <a:pt x="826" y="24"/>
                            </a:lnTo>
                            <a:lnTo>
                              <a:pt x="825" y="24"/>
                            </a:lnTo>
                            <a:lnTo>
                              <a:pt x="825" y="22"/>
                            </a:lnTo>
                            <a:lnTo>
                              <a:pt x="823" y="22"/>
                            </a:lnTo>
                            <a:lnTo>
                              <a:pt x="822" y="21"/>
                            </a:lnTo>
                            <a:lnTo>
                              <a:pt x="822" y="21"/>
                            </a:lnTo>
                            <a:lnTo>
                              <a:pt x="820" y="18"/>
                            </a:lnTo>
                            <a:lnTo>
                              <a:pt x="819" y="18"/>
                            </a:lnTo>
                            <a:lnTo>
                              <a:pt x="817" y="16"/>
                            </a:lnTo>
                            <a:lnTo>
                              <a:pt x="817" y="14"/>
                            </a:lnTo>
                            <a:lnTo>
                              <a:pt x="816" y="14"/>
                            </a:lnTo>
                            <a:lnTo>
                              <a:pt x="815" y="12"/>
                            </a:lnTo>
                            <a:lnTo>
                              <a:pt x="815" y="12"/>
                            </a:lnTo>
                            <a:lnTo>
                              <a:pt x="813" y="11"/>
                            </a:lnTo>
                            <a:lnTo>
                              <a:pt x="812" y="11"/>
                            </a:lnTo>
                            <a:lnTo>
                              <a:pt x="812" y="8"/>
                            </a:lnTo>
                            <a:lnTo>
                              <a:pt x="810" y="8"/>
                            </a:lnTo>
                            <a:lnTo>
                              <a:pt x="809" y="6"/>
                            </a:lnTo>
                            <a:lnTo>
                              <a:pt x="809" y="3"/>
                            </a:lnTo>
                            <a:lnTo>
                              <a:pt x="807" y="3"/>
                            </a:lnTo>
                            <a:lnTo>
                              <a:pt x="806" y="2"/>
                            </a:lnTo>
                            <a:lnTo>
                              <a:pt x="806" y="2"/>
                            </a:lnTo>
                            <a:lnTo>
                              <a:pt x="804" y="0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4" name=""/>
                      <p:cNvSpPr/>
                      <p:nvPr/>
                    </p:nvSpPr>
                    <p:spPr>
                      <a:xfrm>
                        <a:off x="1843920" y="2344680"/>
                        <a:ext cx="51840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7" h="72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5" y="2"/>
                            </a:lnTo>
                            <a:lnTo>
                              <a:pt x="5" y="3"/>
                            </a:lnTo>
                            <a:lnTo>
                              <a:pt x="10" y="3"/>
                            </a:lnTo>
                            <a:lnTo>
                              <a:pt x="11" y="5"/>
                            </a:lnTo>
                            <a:lnTo>
                              <a:pt x="13" y="5"/>
                            </a:lnTo>
                            <a:lnTo>
                              <a:pt x="13" y="6"/>
                            </a:lnTo>
                            <a:lnTo>
                              <a:pt x="16" y="6"/>
                            </a:lnTo>
                            <a:lnTo>
                              <a:pt x="16" y="8"/>
                            </a:lnTo>
                            <a:lnTo>
                              <a:pt x="17" y="8"/>
                            </a:lnTo>
                            <a:lnTo>
                              <a:pt x="19" y="9"/>
                            </a:lnTo>
                            <a:lnTo>
                              <a:pt x="19" y="9"/>
                            </a:lnTo>
                            <a:lnTo>
                              <a:pt x="20" y="12"/>
                            </a:lnTo>
                            <a:lnTo>
                              <a:pt x="22" y="12"/>
                            </a:lnTo>
                            <a:lnTo>
                              <a:pt x="22" y="12"/>
                            </a:lnTo>
                            <a:lnTo>
                              <a:pt x="23" y="12"/>
                            </a:lnTo>
                            <a:lnTo>
                              <a:pt x="25" y="15"/>
                            </a:lnTo>
                            <a:lnTo>
                              <a:pt x="25" y="15"/>
                            </a:lnTo>
                            <a:lnTo>
                              <a:pt x="26" y="16"/>
                            </a:lnTo>
                            <a:lnTo>
                              <a:pt x="27" y="16"/>
                            </a:lnTo>
                            <a:lnTo>
                              <a:pt x="27" y="18"/>
                            </a:lnTo>
                            <a:lnTo>
                              <a:pt x="29" y="18"/>
                            </a:lnTo>
                            <a:lnTo>
                              <a:pt x="29" y="21"/>
                            </a:lnTo>
                            <a:lnTo>
                              <a:pt x="30" y="21"/>
                            </a:lnTo>
                            <a:lnTo>
                              <a:pt x="32" y="22"/>
                            </a:lnTo>
                            <a:lnTo>
                              <a:pt x="32" y="22"/>
                            </a:lnTo>
                            <a:lnTo>
                              <a:pt x="33" y="25"/>
                            </a:lnTo>
                            <a:lnTo>
                              <a:pt x="35" y="27"/>
                            </a:lnTo>
                            <a:lnTo>
                              <a:pt x="35" y="27"/>
                            </a:lnTo>
                            <a:lnTo>
                              <a:pt x="35" y="28"/>
                            </a:lnTo>
                            <a:lnTo>
                              <a:pt x="36" y="28"/>
                            </a:lnTo>
                            <a:lnTo>
                              <a:pt x="36" y="31"/>
                            </a:lnTo>
                            <a:lnTo>
                              <a:pt x="38" y="31"/>
                            </a:lnTo>
                            <a:lnTo>
                              <a:pt x="38" y="32"/>
                            </a:lnTo>
                            <a:lnTo>
                              <a:pt x="39" y="35"/>
                            </a:lnTo>
                            <a:lnTo>
                              <a:pt x="41" y="37"/>
                            </a:lnTo>
                            <a:lnTo>
                              <a:pt x="41" y="38"/>
                            </a:lnTo>
                            <a:lnTo>
                              <a:pt x="41" y="38"/>
                            </a:lnTo>
                            <a:lnTo>
                              <a:pt x="41" y="44"/>
                            </a:lnTo>
                            <a:lnTo>
                              <a:pt x="42" y="44"/>
                            </a:lnTo>
                            <a:lnTo>
                              <a:pt x="42" y="47"/>
                            </a:lnTo>
                            <a:lnTo>
                              <a:pt x="44" y="47"/>
                            </a:lnTo>
                            <a:lnTo>
                              <a:pt x="44" y="54"/>
                            </a:lnTo>
                            <a:lnTo>
                              <a:pt x="44" y="54"/>
                            </a:lnTo>
                            <a:lnTo>
                              <a:pt x="44" y="69"/>
                            </a:lnTo>
                            <a:lnTo>
                              <a:pt x="44" y="69"/>
                            </a:lnTo>
                            <a:lnTo>
                              <a:pt x="44" y="72"/>
                            </a:lnTo>
                            <a:lnTo>
                              <a:pt x="405" y="72"/>
                            </a:lnTo>
                            <a:lnTo>
                              <a:pt x="405" y="51"/>
                            </a:lnTo>
                            <a:lnTo>
                              <a:pt x="407" y="51"/>
                            </a:lnTo>
                            <a:lnTo>
                              <a:pt x="407" y="46"/>
                            </a:lnTo>
                            <a:lnTo>
                              <a:pt x="407" y="46"/>
                            </a:lnTo>
                            <a:lnTo>
                              <a:pt x="407" y="43"/>
                            </a:lnTo>
                            <a:lnTo>
                              <a:pt x="408" y="43"/>
                            </a:lnTo>
                            <a:lnTo>
                              <a:pt x="408" y="40"/>
                            </a:lnTo>
                            <a:lnTo>
                              <a:pt x="410" y="40"/>
                            </a:lnTo>
                            <a:lnTo>
                              <a:pt x="410" y="37"/>
                            </a:lnTo>
                            <a:lnTo>
                              <a:pt x="410" y="37"/>
                            </a:lnTo>
                            <a:lnTo>
                              <a:pt x="410" y="34"/>
                            </a:lnTo>
                            <a:lnTo>
                              <a:pt x="411" y="34"/>
                            </a:lnTo>
                            <a:lnTo>
                              <a:pt x="411" y="31"/>
                            </a:lnTo>
                            <a:lnTo>
                              <a:pt x="413" y="31"/>
                            </a:lnTo>
                            <a:lnTo>
                              <a:pt x="413" y="29"/>
                            </a:lnTo>
                            <a:lnTo>
                              <a:pt x="413" y="29"/>
                            </a:lnTo>
                            <a:lnTo>
                              <a:pt x="413" y="28"/>
                            </a:lnTo>
                            <a:lnTo>
                              <a:pt x="414" y="28"/>
                            </a:lnTo>
                            <a:lnTo>
                              <a:pt x="414" y="25"/>
                            </a:lnTo>
                            <a:lnTo>
                              <a:pt x="416" y="25"/>
                            </a:lnTo>
                            <a:lnTo>
                              <a:pt x="416" y="24"/>
                            </a:lnTo>
                            <a:lnTo>
                              <a:pt x="419" y="22"/>
                            </a:lnTo>
                            <a:lnTo>
                              <a:pt x="419" y="21"/>
                            </a:lnTo>
                            <a:lnTo>
                              <a:pt x="420" y="21"/>
                            </a:lnTo>
                            <a:lnTo>
                              <a:pt x="420" y="19"/>
                            </a:lnTo>
                            <a:lnTo>
                              <a:pt x="423" y="18"/>
                            </a:lnTo>
                            <a:lnTo>
                              <a:pt x="423" y="18"/>
                            </a:lnTo>
                            <a:lnTo>
                              <a:pt x="424" y="16"/>
                            </a:lnTo>
                            <a:lnTo>
                              <a:pt x="424" y="15"/>
                            </a:lnTo>
                            <a:lnTo>
                              <a:pt x="426" y="15"/>
                            </a:lnTo>
                            <a:lnTo>
                              <a:pt x="426" y="13"/>
                            </a:lnTo>
                            <a:lnTo>
                              <a:pt x="429" y="13"/>
                            </a:lnTo>
                            <a:lnTo>
                              <a:pt x="429" y="12"/>
                            </a:lnTo>
                            <a:lnTo>
                              <a:pt x="430" y="12"/>
                            </a:lnTo>
                            <a:lnTo>
                              <a:pt x="430" y="12"/>
                            </a:lnTo>
                            <a:lnTo>
                              <a:pt x="432" y="12"/>
                            </a:lnTo>
                            <a:lnTo>
                              <a:pt x="432" y="10"/>
                            </a:lnTo>
                            <a:lnTo>
                              <a:pt x="435" y="9"/>
                            </a:lnTo>
                            <a:lnTo>
                              <a:pt x="436" y="9"/>
                            </a:lnTo>
                            <a:lnTo>
                              <a:pt x="436" y="8"/>
                            </a:lnTo>
                            <a:lnTo>
                              <a:pt x="439" y="8"/>
                            </a:lnTo>
                            <a:lnTo>
                              <a:pt x="439" y="8"/>
                            </a:lnTo>
                            <a:lnTo>
                              <a:pt x="442" y="8"/>
                            </a:lnTo>
                            <a:lnTo>
                              <a:pt x="442" y="6"/>
                            </a:lnTo>
                            <a:lnTo>
                              <a:pt x="448" y="6"/>
                            </a:lnTo>
                            <a:lnTo>
                              <a:pt x="448" y="5"/>
                            </a:lnTo>
                            <a:lnTo>
                              <a:pt x="454" y="5"/>
                            </a:lnTo>
                            <a:lnTo>
                              <a:pt x="454" y="5"/>
                            </a:lnTo>
                            <a:lnTo>
                              <a:pt x="627" y="5"/>
                            </a:lnTo>
                            <a:lnTo>
                              <a:pt x="627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5" name=""/>
                      <p:cNvSpPr/>
                      <p:nvPr/>
                    </p:nvSpPr>
                    <p:spPr>
                      <a:xfrm>
                        <a:off x="1747800" y="2344680"/>
                        <a:ext cx="712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7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4" y="1"/>
                            </a:lnTo>
                            <a:lnTo>
                              <a:pt x="4" y="3"/>
                            </a:lnTo>
                            <a:lnTo>
                              <a:pt x="9" y="3"/>
                            </a:lnTo>
                            <a:lnTo>
                              <a:pt x="9" y="3"/>
                            </a:lnTo>
                            <a:lnTo>
                              <a:pt x="12" y="3"/>
                            </a:lnTo>
                            <a:lnTo>
                              <a:pt x="12" y="4"/>
                            </a:lnTo>
                            <a:lnTo>
                              <a:pt x="13" y="4"/>
                            </a:lnTo>
                            <a:lnTo>
                              <a:pt x="13" y="6"/>
                            </a:lnTo>
                            <a:lnTo>
                              <a:pt x="15" y="6"/>
                            </a:lnTo>
                            <a:lnTo>
                              <a:pt x="15" y="6"/>
                            </a:lnTo>
                            <a:lnTo>
                              <a:pt x="17" y="6"/>
                            </a:lnTo>
                            <a:lnTo>
                              <a:pt x="17" y="7"/>
                            </a:lnTo>
                            <a:lnTo>
                              <a:pt x="20" y="7"/>
                            </a:lnTo>
                            <a:lnTo>
                              <a:pt x="22" y="10"/>
                            </a:lnTo>
                            <a:lnTo>
                              <a:pt x="23" y="10"/>
                            </a:lnTo>
                            <a:lnTo>
                              <a:pt x="23" y="10"/>
                            </a:lnTo>
                            <a:lnTo>
                              <a:pt x="25" y="10"/>
                            </a:lnTo>
                            <a:lnTo>
                              <a:pt x="26" y="13"/>
                            </a:lnTo>
                            <a:lnTo>
                              <a:pt x="28" y="13"/>
                            </a:lnTo>
                            <a:lnTo>
                              <a:pt x="29" y="14"/>
                            </a:lnTo>
                            <a:lnTo>
                              <a:pt x="31" y="14"/>
                            </a:lnTo>
                            <a:lnTo>
                              <a:pt x="31" y="16"/>
                            </a:lnTo>
                            <a:lnTo>
                              <a:pt x="32" y="16"/>
                            </a:lnTo>
                            <a:lnTo>
                              <a:pt x="32" y="17"/>
                            </a:lnTo>
                            <a:lnTo>
                              <a:pt x="61" y="17"/>
                            </a:lnTo>
                            <a:lnTo>
                              <a:pt x="61" y="16"/>
                            </a:lnTo>
                            <a:lnTo>
                              <a:pt x="63" y="16"/>
                            </a:lnTo>
                            <a:lnTo>
                              <a:pt x="63" y="14"/>
                            </a:lnTo>
                            <a:lnTo>
                              <a:pt x="66" y="13"/>
                            </a:lnTo>
                            <a:lnTo>
                              <a:pt x="66" y="13"/>
                            </a:lnTo>
                            <a:lnTo>
                              <a:pt x="67" y="11"/>
                            </a:lnTo>
                            <a:lnTo>
                              <a:pt x="70" y="10"/>
                            </a:lnTo>
                            <a:lnTo>
                              <a:pt x="70" y="10"/>
                            </a:lnTo>
                            <a:lnTo>
                              <a:pt x="72" y="10"/>
                            </a:lnTo>
                            <a:lnTo>
                              <a:pt x="72" y="8"/>
                            </a:lnTo>
                            <a:lnTo>
                              <a:pt x="73" y="8"/>
                            </a:lnTo>
                            <a:lnTo>
                              <a:pt x="73" y="7"/>
                            </a:lnTo>
                            <a:lnTo>
                              <a:pt x="76" y="6"/>
                            </a:lnTo>
                            <a:lnTo>
                              <a:pt x="76" y="6"/>
                            </a:lnTo>
                            <a:lnTo>
                              <a:pt x="78" y="6"/>
                            </a:lnTo>
                            <a:lnTo>
                              <a:pt x="78" y="4"/>
                            </a:lnTo>
                            <a:lnTo>
                              <a:pt x="79" y="4"/>
                            </a:lnTo>
                            <a:lnTo>
                              <a:pt x="79" y="3"/>
                            </a:lnTo>
                            <a:lnTo>
                              <a:pt x="82" y="3"/>
                            </a:lnTo>
                            <a:lnTo>
                              <a:pt x="82" y="3"/>
                            </a:lnTo>
                            <a:lnTo>
                              <a:pt x="83" y="3"/>
                            </a:lnTo>
                            <a:lnTo>
                              <a:pt x="83" y="1"/>
                            </a:lnTo>
                            <a:lnTo>
                              <a:pt x="86" y="1"/>
                            </a:lnTo>
                            <a:lnTo>
                              <a:pt x="8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6" name=""/>
                      <p:cNvSpPr/>
                      <p:nvPr/>
                    </p:nvSpPr>
                    <p:spPr>
                      <a:xfrm>
                        <a:off x="2238120" y="2347560"/>
                        <a:ext cx="12420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67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8" y="1"/>
                            </a:lnTo>
                            <a:lnTo>
                              <a:pt x="8" y="3"/>
                            </a:lnTo>
                            <a:lnTo>
                              <a:pt x="11" y="3"/>
                            </a:lnTo>
                            <a:lnTo>
                              <a:pt x="11" y="3"/>
                            </a:lnTo>
                            <a:lnTo>
                              <a:pt x="14" y="3"/>
                            </a:lnTo>
                            <a:lnTo>
                              <a:pt x="14" y="4"/>
                            </a:lnTo>
                            <a:lnTo>
                              <a:pt x="16" y="4"/>
                            </a:lnTo>
                            <a:lnTo>
                              <a:pt x="17" y="7"/>
                            </a:lnTo>
                            <a:lnTo>
                              <a:pt x="19" y="7"/>
                            </a:lnTo>
                            <a:lnTo>
                              <a:pt x="20" y="8"/>
                            </a:lnTo>
                            <a:lnTo>
                              <a:pt x="22" y="8"/>
                            </a:lnTo>
                            <a:lnTo>
                              <a:pt x="23" y="10"/>
                            </a:lnTo>
                            <a:lnTo>
                              <a:pt x="25" y="10"/>
                            </a:lnTo>
                            <a:lnTo>
                              <a:pt x="25" y="13"/>
                            </a:lnTo>
                            <a:lnTo>
                              <a:pt x="26" y="13"/>
                            </a:lnTo>
                            <a:lnTo>
                              <a:pt x="26" y="14"/>
                            </a:lnTo>
                            <a:lnTo>
                              <a:pt x="28" y="14"/>
                            </a:lnTo>
                            <a:lnTo>
                              <a:pt x="28" y="16"/>
                            </a:lnTo>
                            <a:lnTo>
                              <a:pt x="30" y="16"/>
                            </a:lnTo>
                            <a:lnTo>
                              <a:pt x="30" y="19"/>
                            </a:lnTo>
                            <a:lnTo>
                              <a:pt x="32" y="20"/>
                            </a:lnTo>
                            <a:lnTo>
                              <a:pt x="33" y="20"/>
                            </a:lnTo>
                            <a:lnTo>
                              <a:pt x="33" y="23"/>
                            </a:lnTo>
                            <a:lnTo>
                              <a:pt x="33" y="23"/>
                            </a:lnTo>
                            <a:lnTo>
                              <a:pt x="33" y="24"/>
                            </a:lnTo>
                            <a:lnTo>
                              <a:pt x="35" y="24"/>
                            </a:lnTo>
                            <a:lnTo>
                              <a:pt x="35" y="26"/>
                            </a:lnTo>
                            <a:lnTo>
                              <a:pt x="36" y="26"/>
                            </a:lnTo>
                            <a:lnTo>
                              <a:pt x="36" y="29"/>
                            </a:lnTo>
                            <a:lnTo>
                              <a:pt x="36" y="29"/>
                            </a:lnTo>
                            <a:lnTo>
                              <a:pt x="36" y="32"/>
                            </a:lnTo>
                            <a:lnTo>
                              <a:pt x="38" y="32"/>
                            </a:lnTo>
                            <a:lnTo>
                              <a:pt x="38" y="35"/>
                            </a:lnTo>
                            <a:lnTo>
                              <a:pt x="39" y="35"/>
                            </a:lnTo>
                            <a:lnTo>
                              <a:pt x="39" y="38"/>
                            </a:lnTo>
                            <a:lnTo>
                              <a:pt x="41" y="38"/>
                            </a:lnTo>
                            <a:lnTo>
                              <a:pt x="41" y="41"/>
                            </a:lnTo>
                            <a:lnTo>
                              <a:pt x="41" y="41"/>
                            </a:lnTo>
                            <a:lnTo>
                              <a:pt x="41" y="44"/>
                            </a:lnTo>
                            <a:lnTo>
                              <a:pt x="42" y="44"/>
                            </a:lnTo>
                            <a:lnTo>
                              <a:pt x="42" y="51"/>
                            </a:lnTo>
                            <a:lnTo>
                              <a:pt x="44" y="51"/>
                            </a:lnTo>
                            <a:lnTo>
                              <a:pt x="44" y="58"/>
                            </a:lnTo>
                            <a:lnTo>
                              <a:pt x="44" y="58"/>
                            </a:lnTo>
                            <a:lnTo>
                              <a:pt x="44" y="67"/>
                            </a:lnTo>
                            <a:lnTo>
                              <a:pt x="151" y="67"/>
                            </a:lnTo>
                            <a:lnTo>
                              <a:pt x="151" y="54"/>
                            </a:lnTo>
                            <a:lnTo>
                              <a:pt x="151" y="54"/>
                            </a:lnTo>
                            <a:lnTo>
                              <a:pt x="149" y="51"/>
                            </a:lnTo>
                            <a:lnTo>
                              <a:pt x="148" y="49"/>
                            </a:lnTo>
                            <a:lnTo>
                              <a:pt x="146" y="49"/>
                            </a:lnTo>
                            <a:lnTo>
                              <a:pt x="146" y="46"/>
                            </a:lnTo>
                            <a:lnTo>
                              <a:pt x="146" y="32"/>
                            </a:lnTo>
                            <a:lnTo>
                              <a:pt x="146" y="32"/>
                            </a:lnTo>
                            <a:lnTo>
                              <a:pt x="146" y="27"/>
                            </a:lnTo>
                            <a:lnTo>
                              <a:pt x="148" y="27"/>
                            </a:lnTo>
                            <a:lnTo>
                              <a:pt x="148" y="23"/>
                            </a:lnTo>
                            <a:lnTo>
                              <a:pt x="149" y="23"/>
                            </a:lnTo>
                            <a:lnTo>
                              <a:pt x="149" y="17"/>
                            </a:lnTo>
                            <a:lnTo>
                              <a:pt x="151" y="17"/>
                            </a:lnTo>
                            <a:lnTo>
                              <a:pt x="151" y="13"/>
                            </a:lnTo>
                            <a:lnTo>
                              <a:pt x="151" y="13"/>
                            </a:lnTo>
                            <a:lnTo>
                              <a:pt x="15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7" name=""/>
                      <p:cNvSpPr/>
                      <p:nvPr/>
                    </p:nvSpPr>
                    <p:spPr>
                      <a:xfrm>
                        <a:off x="1605600" y="2204640"/>
                        <a:ext cx="756720" cy="19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6" h="246">
                            <a:moveTo>
                              <a:pt x="333" y="245"/>
                            </a:moveTo>
                            <a:lnTo>
                              <a:pt x="694" y="245"/>
                            </a:lnTo>
                            <a:lnTo>
                              <a:pt x="694" y="226"/>
                            </a:lnTo>
                            <a:lnTo>
                              <a:pt x="696" y="223"/>
                            </a:lnTo>
                            <a:lnTo>
                              <a:pt x="696" y="220"/>
                            </a:lnTo>
                            <a:lnTo>
                              <a:pt x="696" y="217"/>
                            </a:lnTo>
                            <a:lnTo>
                              <a:pt x="697" y="214"/>
                            </a:lnTo>
                            <a:lnTo>
                              <a:pt x="699" y="211"/>
                            </a:lnTo>
                            <a:lnTo>
                              <a:pt x="699" y="207"/>
                            </a:lnTo>
                            <a:lnTo>
                              <a:pt x="702" y="204"/>
                            </a:lnTo>
                            <a:lnTo>
                              <a:pt x="702" y="201"/>
                            </a:lnTo>
                            <a:lnTo>
                              <a:pt x="705" y="198"/>
                            </a:lnTo>
                            <a:lnTo>
                              <a:pt x="715" y="186"/>
                            </a:lnTo>
                            <a:lnTo>
                              <a:pt x="719" y="185"/>
                            </a:lnTo>
                            <a:lnTo>
                              <a:pt x="722" y="182"/>
                            </a:lnTo>
                            <a:lnTo>
                              <a:pt x="728" y="181"/>
                            </a:lnTo>
                            <a:lnTo>
                              <a:pt x="731" y="179"/>
                            </a:lnTo>
                            <a:lnTo>
                              <a:pt x="737" y="178"/>
                            </a:lnTo>
                            <a:lnTo>
                              <a:pt x="743" y="178"/>
                            </a:lnTo>
                            <a:lnTo>
                              <a:pt x="749" y="176"/>
                            </a:lnTo>
                            <a:lnTo>
                              <a:pt x="760" y="176"/>
                            </a:lnTo>
                            <a:lnTo>
                              <a:pt x="765" y="178"/>
                            </a:lnTo>
                            <a:lnTo>
                              <a:pt x="769" y="178"/>
                            </a:lnTo>
                            <a:lnTo>
                              <a:pt x="773" y="179"/>
                            </a:lnTo>
                            <a:lnTo>
                              <a:pt x="776" y="181"/>
                            </a:lnTo>
                            <a:lnTo>
                              <a:pt x="781" y="182"/>
                            </a:lnTo>
                            <a:lnTo>
                              <a:pt x="784" y="185"/>
                            </a:lnTo>
                            <a:lnTo>
                              <a:pt x="787" y="186"/>
                            </a:lnTo>
                            <a:lnTo>
                              <a:pt x="790" y="189"/>
                            </a:lnTo>
                            <a:lnTo>
                              <a:pt x="793" y="192"/>
                            </a:lnTo>
                            <a:lnTo>
                              <a:pt x="795" y="194"/>
                            </a:lnTo>
                            <a:lnTo>
                              <a:pt x="797" y="198"/>
                            </a:lnTo>
                            <a:lnTo>
                              <a:pt x="798" y="201"/>
                            </a:lnTo>
                            <a:lnTo>
                              <a:pt x="800" y="204"/>
                            </a:lnTo>
                            <a:lnTo>
                              <a:pt x="801" y="207"/>
                            </a:lnTo>
                            <a:lnTo>
                              <a:pt x="803" y="211"/>
                            </a:lnTo>
                            <a:lnTo>
                              <a:pt x="804" y="214"/>
                            </a:lnTo>
                            <a:lnTo>
                              <a:pt x="806" y="217"/>
                            </a:lnTo>
                            <a:lnTo>
                              <a:pt x="806" y="220"/>
                            </a:lnTo>
                            <a:lnTo>
                              <a:pt x="807" y="223"/>
                            </a:lnTo>
                            <a:lnTo>
                              <a:pt x="807" y="226"/>
                            </a:lnTo>
                            <a:lnTo>
                              <a:pt x="809" y="229"/>
                            </a:lnTo>
                            <a:lnTo>
                              <a:pt x="809" y="235"/>
                            </a:lnTo>
                            <a:lnTo>
                              <a:pt x="809" y="236"/>
                            </a:lnTo>
                            <a:lnTo>
                              <a:pt x="809" y="245"/>
                            </a:lnTo>
                            <a:lnTo>
                              <a:pt x="916" y="245"/>
                            </a:lnTo>
                            <a:lnTo>
                              <a:pt x="916" y="232"/>
                            </a:lnTo>
                            <a:lnTo>
                              <a:pt x="911" y="224"/>
                            </a:lnTo>
                            <a:lnTo>
                              <a:pt x="911" y="211"/>
                            </a:lnTo>
                            <a:lnTo>
                              <a:pt x="916" y="188"/>
                            </a:lnTo>
                            <a:lnTo>
                              <a:pt x="916" y="140"/>
                            </a:lnTo>
                            <a:lnTo>
                              <a:pt x="914" y="88"/>
                            </a:lnTo>
                            <a:lnTo>
                              <a:pt x="913" y="72"/>
                            </a:lnTo>
                            <a:lnTo>
                              <a:pt x="910" y="71"/>
                            </a:lnTo>
                            <a:lnTo>
                              <a:pt x="907" y="69"/>
                            </a:lnTo>
                            <a:lnTo>
                              <a:pt x="904" y="68"/>
                            </a:lnTo>
                            <a:lnTo>
                              <a:pt x="901" y="65"/>
                            </a:lnTo>
                            <a:lnTo>
                              <a:pt x="898" y="65"/>
                            </a:lnTo>
                            <a:lnTo>
                              <a:pt x="895" y="62"/>
                            </a:lnTo>
                            <a:lnTo>
                              <a:pt x="892" y="62"/>
                            </a:lnTo>
                            <a:lnTo>
                              <a:pt x="889" y="60"/>
                            </a:lnTo>
                            <a:lnTo>
                              <a:pt x="886" y="59"/>
                            </a:lnTo>
                            <a:lnTo>
                              <a:pt x="885" y="59"/>
                            </a:lnTo>
                            <a:lnTo>
                              <a:pt x="882" y="57"/>
                            </a:lnTo>
                            <a:lnTo>
                              <a:pt x="879" y="57"/>
                            </a:lnTo>
                            <a:lnTo>
                              <a:pt x="876" y="56"/>
                            </a:lnTo>
                            <a:lnTo>
                              <a:pt x="875" y="56"/>
                            </a:lnTo>
                            <a:lnTo>
                              <a:pt x="873" y="55"/>
                            </a:lnTo>
                            <a:lnTo>
                              <a:pt x="870" y="55"/>
                            </a:lnTo>
                            <a:lnTo>
                              <a:pt x="867" y="55"/>
                            </a:lnTo>
                            <a:lnTo>
                              <a:pt x="864" y="55"/>
                            </a:lnTo>
                            <a:lnTo>
                              <a:pt x="863" y="53"/>
                            </a:lnTo>
                            <a:lnTo>
                              <a:pt x="851" y="53"/>
                            </a:lnTo>
                            <a:lnTo>
                              <a:pt x="804" y="0"/>
                            </a:lnTo>
                            <a:lnTo>
                              <a:pt x="69" y="0"/>
                            </a:lnTo>
                            <a:lnTo>
                              <a:pt x="62" y="0"/>
                            </a:lnTo>
                            <a:lnTo>
                              <a:pt x="62" y="0"/>
                            </a:lnTo>
                            <a:lnTo>
                              <a:pt x="59" y="0"/>
                            </a:lnTo>
                            <a:lnTo>
                              <a:pt x="57" y="2"/>
                            </a:lnTo>
                            <a:lnTo>
                              <a:pt x="56" y="2"/>
                            </a:lnTo>
                            <a:lnTo>
                              <a:pt x="54" y="3"/>
                            </a:lnTo>
                            <a:lnTo>
                              <a:pt x="51" y="3"/>
                            </a:lnTo>
                            <a:lnTo>
                              <a:pt x="51" y="3"/>
                            </a:lnTo>
                            <a:lnTo>
                              <a:pt x="48" y="5"/>
                            </a:lnTo>
                            <a:lnTo>
                              <a:pt x="47" y="6"/>
                            </a:lnTo>
                            <a:lnTo>
                              <a:pt x="44" y="9"/>
                            </a:lnTo>
                            <a:lnTo>
                              <a:pt x="43" y="11"/>
                            </a:lnTo>
                            <a:lnTo>
                              <a:pt x="40" y="14"/>
                            </a:lnTo>
                            <a:lnTo>
                              <a:pt x="38" y="15"/>
                            </a:lnTo>
                            <a:lnTo>
                              <a:pt x="34" y="19"/>
                            </a:lnTo>
                            <a:lnTo>
                              <a:pt x="32" y="21"/>
                            </a:lnTo>
                            <a:lnTo>
                              <a:pt x="32" y="24"/>
                            </a:lnTo>
                            <a:lnTo>
                              <a:pt x="29" y="27"/>
                            </a:lnTo>
                            <a:lnTo>
                              <a:pt x="29" y="30"/>
                            </a:lnTo>
                            <a:lnTo>
                              <a:pt x="28" y="33"/>
                            </a:lnTo>
                            <a:lnTo>
                              <a:pt x="26" y="35"/>
                            </a:lnTo>
                            <a:lnTo>
                              <a:pt x="25" y="38"/>
                            </a:lnTo>
                            <a:lnTo>
                              <a:pt x="24" y="41"/>
                            </a:lnTo>
                            <a:lnTo>
                              <a:pt x="24" y="44"/>
                            </a:lnTo>
                            <a:lnTo>
                              <a:pt x="22" y="49"/>
                            </a:lnTo>
                            <a:lnTo>
                              <a:pt x="21" y="52"/>
                            </a:lnTo>
                            <a:lnTo>
                              <a:pt x="19" y="53"/>
                            </a:lnTo>
                            <a:lnTo>
                              <a:pt x="19" y="56"/>
                            </a:lnTo>
                            <a:lnTo>
                              <a:pt x="18" y="59"/>
                            </a:lnTo>
                            <a:lnTo>
                              <a:pt x="16" y="62"/>
                            </a:lnTo>
                            <a:lnTo>
                              <a:pt x="16" y="65"/>
                            </a:lnTo>
                            <a:lnTo>
                              <a:pt x="16" y="68"/>
                            </a:lnTo>
                            <a:lnTo>
                              <a:pt x="15" y="71"/>
                            </a:lnTo>
                            <a:lnTo>
                              <a:pt x="13" y="72"/>
                            </a:lnTo>
                            <a:lnTo>
                              <a:pt x="13" y="75"/>
                            </a:lnTo>
                            <a:lnTo>
                              <a:pt x="13" y="78"/>
                            </a:lnTo>
                            <a:lnTo>
                              <a:pt x="12" y="79"/>
                            </a:lnTo>
                            <a:lnTo>
                              <a:pt x="12" y="82"/>
                            </a:lnTo>
                            <a:lnTo>
                              <a:pt x="10" y="84"/>
                            </a:lnTo>
                            <a:lnTo>
                              <a:pt x="10" y="85"/>
                            </a:lnTo>
                            <a:lnTo>
                              <a:pt x="10" y="88"/>
                            </a:lnTo>
                            <a:lnTo>
                              <a:pt x="10" y="90"/>
                            </a:lnTo>
                            <a:lnTo>
                              <a:pt x="9" y="91"/>
                            </a:lnTo>
                            <a:lnTo>
                              <a:pt x="9" y="96"/>
                            </a:lnTo>
                            <a:lnTo>
                              <a:pt x="7" y="96"/>
                            </a:lnTo>
                            <a:lnTo>
                              <a:pt x="7" y="222"/>
                            </a:lnTo>
                            <a:lnTo>
                              <a:pt x="7" y="222"/>
                            </a:lnTo>
                            <a:lnTo>
                              <a:pt x="7" y="222"/>
                            </a:lnTo>
                            <a:lnTo>
                              <a:pt x="6" y="222"/>
                            </a:lnTo>
                            <a:lnTo>
                              <a:pt x="3" y="224"/>
                            </a:lnTo>
                            <a:lnTo>
                              <a:pt x="3" y="226"/>
                            </a:lnTo>
                            <a:lnTo>
                              <a:pt x="2" y="226"/>
                            </a:lnTo>
                            <a:lnTo>
                              <a:pt x="0" y="227"/>
                            </a:lnTo>
                            <a:lnTo>
                              <a:pt x="0" y="229"/>
                            </a:lnTo>
                            <a:lnTo>
                              <a:pt x="0" y="230"/>
                            </a:lnTo>
                            <a:lnTo>
                              <a:pt x="0" y="241"/>
                            </a:lnTo>
                            <a:lnTo>
                              <a:pt x="0" y="242"/>
                            </a:lnTo>
                            <a:lnTo>
                              <a:pt x="0" y="245"/>
                            </a:lnTo>
                            <a:lnTo>
                              <a:pt x="2" y="245"/>
                            </a:lnTo>
                            <a:lnTo>
                              <a:pt x="2" y="246"/>
                            </a:lnTo>
                            <a:lnTo>
                              <a:pt x="108" y="245"/>
                            </a:lnTo>
                            <a:lnTo>
                              <a:pt x="108" y="242"/>
                            </a:lnTo>
                            <a:lnTo>
                              <a:pt x="107" y="242"/>
                            </a:lnTo>
                            <a:lnTo>
                              <a:pt x="107" y="239"/>
                            </a:lnTo>
                            <a:lnTo>
                              <a:pt x="107" y="238"/>
                            </a:lnTo>
                            <a:lnTo>
                              <a:pt x="107" y="223"/>
                            </a:lnTo>
                            <a:lnTo>
                              <a:pt x="107" y="222"/>
                            </a:lnTo>
                            <a:lnTo>
                              <a:pt x="107" y="219"/>
                            </a:lnTo>
                            <a:lnTo>
                              <a:pt x="108" y="216"/>
                            </a:lnTo>
                            <a:lnTo>
                              <a:pt x="110" y="214"/>
                            </a:lnTo>
                            <a:lnTo>
                              <a:pt x="110" y="211"/>
                            </a:lnTo>
                            <a:lnTo>
                              <a:pt x="110" y="208"/>
                            </a:lnTo>
                            <a:lnTo>
                              <a:pt x="113" y="205"/>
                            </a:lnTo>
                            <a:lnTo>
                              <a:pt x="113" y="204"/>
                            </a:lnTo>
                            <a:lnTo>
                              <a:pt x="116" y="201"/>
                            </a:lnTo>
                            <a:lnTo>
                              <a:pt x="117" y="198"/>
                            </a:lnTo>
                            <a:lnTo>
                              <a:pt x="126" y="188"/>
                            </a:lnTo>
                            <a:lnTo>
                              <a:pt x="129" y="186"/>
                            </a:lnTo>
                            <a:lnTo>
                              <a:pt x="133" y="185"/>
                            </a:lnTo>
                            <a:lnTo>
                              <a:pt x="136" y="182"/>
                            </a:lnTo>
                            <a:lnTo>
                              <a:pt x="139" y="181"/>
                            </a:lnTo>
                            <a:lnTo>
                              <a:pt x="144" y="178"/>
                            </a:lnTo>
                            <a:lnTo>
                              <a:pt x="147" y="178"/>
                            </a:lnTo>
                            <a:lnTo>
                              <a:pt x="151" y="176"/>
                            </a:lnTo>
                            <a:lnTo>
                              <a:pt x="154" y="175"/>
                            </a:lnTo>
                            <a:lnTo>
                              <a:pt x="157" y="175"/>
                            </a:lnTo>
                            <a:lnTo>
                              <a:pt x="170" y="175"/>
                            </a:lnTo>
                            <a:lnTo>
                              <a:pt x="173" y="175"/>
                            </a:lnTo>
                            <a:lnTo>
                              <a:pt x="176" y="175"/>
                            </a:lnTo>
                            <a:lnTo>
                              <a:pt x="177" y="176"/>
                            </a:lnTo>
                            <a:lnTo>
                              <a:pt x="182" y="178"/>
                            </a:lnTo>
                            <a:lnTo>
                              <a:pt x="185" y="178"/>
                            </a:lnTo>
                            <a:lnTo>
                              <a:pt x="186" y="179"/>
                            </a:lnTo>
                            <a:lnTo>
                              <a:pt x="188" y="181"/>
                            </a:lnTo>
                            <a:lnTo>
                              <a:pt x="190" y="181"/>
                            </a:lnTo>
                            <a:lnTo>
                              <a:pt x="193" y="182"/>
                            </a:lnTo>
                            <a:lnTo>
                              <a:pt x="195" y="183"/>
                            </a:lnTo>
                            <a:lnTo>
                              <a:pt x="196" y="185"/>
                            </a:lnTo>
                            <a:lnTo>
                              <a:pt x="198" y="185"/>
                            </a:lnTo>
                            <a:lnTo>
                              <a:pt x="199" y="186"/>
                            </a:lnTo>
                            <a:lnTo>
                              <a:pt x="201" y="188"/>
                            </a:lnTo>
                            <a:lnTo>
                              <a:pt x="205" y="191"/>
                            </a:lnTo>
                            <a:lnTo>
                              <a:pt x="234" y="191"/>
                            </a:lnTo>
                            <a:lnTo>
                              <a:pt x="239" y="186"/>
                            </a:lnTo>
                            <a:lnTo>
                              <a:pt x="242" y="185"/>
                            </a:lnTo>
                            <a:lnTo>
                              <a:pt x="243" y="185"/>
                            </a:lnTo>
                            <a:lnTo>
                              <a:pt x="245" y="183"/>
                            </a:lnTo>
                            <a:lnTo>
                              <a:pt x="246" y="182"/>
                            </a:lnTo>
                            <a:lnTo>
                              <a:pt x="249" y="181"/>
                            </a:lnTo>
                            <a:lnTo>
                              <a:pt x="251" y="179"/>
                            </a:lnTo>
                            <a:lnTo>
                              <a:pt x="252" y="178"/>
                            </a:lnTo>
                            <a:lnTo>
                              <a:pt x="255" y="178"/>
                            </a:lnTo>
                            <a:lnTo>
                              <a:pt x="256" y="176"/>
                            </a:lnTo>
                            <a:lnTo>
                              <a:pt x="259" y="175"/>
                            </a:lnTo>
                            <a:lnTo>
                              <a:pt x="262" y="175"/>
                            </a:lnTo>
                            <a:lnTo>
                              <a:pt x="265" y="173"/>
                            </a:lnTo>
                            <a:lnTo>
                              <a:pt x="268" y="173"/>
                            </a:lnTo>
                            <a:lnTo>
                              <a:pt x="271" y="172"/>
                            </a:lnTo>
                            <a:lnTo>
                              <a:pt x="286" y="172"/>
                            </a:lnTo>
                            <a:lnTo>
                              <a:pt x="289" y="173"/>
                            </a:lnTo>
                            <a:lnTo>
                              <a:pt x="292" y="175"/>
                            </a:lnTo>
                            <a:lnTo>
                              <a:pt x="294" y="175"/>
                            </a:lnTo>
                            <a:lnTo>
                              <a:pt x="299" y="176"/>
                            </a:lnTo>
                            <a:lnTo>
                              <a:pt x="302" y="178"/>
                            </a:lnTo>
                            <a:lnTo>
                              <a:pt x="306" y="181"/>
                            </a:lnTo>
                            <a:lnTo>
                              <a:pt x="309" y="183"/>
                            </a:lnTo>
                            <a:lnTo>
                              <a:pt x="312" y="185"/>
                            </a:lnTo>
                            <a:lnTo>
                              <a:pt x="316" y="191"/>
                            </a:lnTo>
                            <a:lnTo>
                              <a:pt x="319" y="194"/>
                            </a:lnTo>
                            <a:lnTo>
                              <a:pt x="321" y="195"/>
                            </a:lnTo>
                            <a:lnTo>
                              <a:pt x="324" y="198"/>
                            </a:lnTo>
                            <a:lnTo>
                              <a:pt x="325" y="201"/>
                            </a:lnTo>
                            <a:lnTo>
                              <a:pt x="327" y="204"/>
                            </a:lnTo>
                            <a:lnTo>
                              <a:pt x="328" y="207"/>
                            </a:lnTo>
                            <a:lnTo>
                              <a:pt x="330" y="210"/>
                            </a:lnTo>
                            <a:lnTo>
                              <a:pt x="330" y="211"/>
                            </a:lnTo>
                            <a:lnTo>
                              <a:pt x="330" y="214"/>
                            </a:lnTo>
                            <a:lnTo>
                              <a:pt x="331" y="219"/>
                            </a:lnTo>
                            <a:lnTo>
                              <a:pt x="333" y="220"/>
                            </a:lnTo>
                            <a:lnTo>
                              <a:pt x="333" y="224"/>
                            </a:lnTo>
                            <a:lnTo>
                              <a:pt x="333" y="227"/>
                            </a:lnTo>
                            <a:lnTo>
                              <a:pt x="333" y="241"/>
                            </a:lnTo>
                            <a:lnTo>
                              <a:pt x="333" y="242"/>
                            </a:lnTo>
                            <a:lnTo>
                              <a:pt x="333" y="245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8" name=""/>
                      <p:cNvSpPr/>
                      <p:nvPr/>
                    </p:nvSpPr>
                    <p:spPr>
                      <a:xfrm>
                        <a:off x="1885320" y="2350800"/>
                        <a:ext cx="64440" cy="49680"/>
                      </a:xfrm>
                      <a:prstGeom prst="rect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9" name=""/>
                      <p:cNvSpPr/>
                      <p:nvPr/>
                    </p:nvSpPr>
                    <p:spPr>
                      <a:xfrm>
                        <a:off x="1958040" y="2350800"/>
                        <a:ext cx="85680" cy="49680"/>
                      </a:xfrm>
                      <a:prstGeom prst="rect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0" name=""/>
                      <p:cNvSpPr/>
                      <p:nvPr/>
                    </p:nvSpPr>
                    <p:spPr>
                      <a:xfrm>
                        <a:off x="2050920" y="2350800"/>
                        <a:ext cx="85680" cy="49680"/>
                      </a:xfrm>
                      <a:prstGeom prst="rect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1" name=""/>
                      <p:cNvSpPr/>
                      <p:nvPr/>
                    </p:nvSpPr>
                    <p:spPr>
                      <a:xfrm>
                        <a:off x="1789200" y="2347560"/>
                        <a:ext cx="87840" cy="82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1810800" y="2367000"/>
                        <a:ext cx="44640" cy="43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1698120" y="2347560"/>
                        <a:ext cx="85680" cy="82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1719720" y="2367000"/>
                        <a:ext cx="43200" cy="43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2183760" y="2347560"/>
                        <a:ext cx="85680" cy="82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6" name=""/>
                      <p:cNvSpPr/>
                      <p:nvPr/>
                    </p:nvSpPr>
                    <p:spPr>
                      <a:xfrm>
                        <a:off x="2203560" y="2367000"/>
                        <a:ext cx="46080" cy="432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2289600" y="2276640"/>
                        <a:ext cx="1440" cy="123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2345760" y="2275200"/>
                        <a:ext cx="1440" cy="1256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 flipH="1">
                        <a:off x="2345760" y="2385000"/>
                        <a:ext cx="1296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 flipV="1">
                        <a:off x="2349360" y="2275200"/>
                        <a:ext cx="1440" cy="417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1626840" y="2317320"/>
                        <a:ext cx="735480" cy="172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2" name=""/>
                      <p:cNvSpPr/>
                      <p:nvPr/>
                    </p:nvSpPr>
                    <p:spPr>
                      <a:xfrm flipH="1">
                        <a:off x="2297880" y="2342880"/>
                        <a:ext cx="410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2297880" y="234936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 flipH="1">
                        <a:off x="2297880" y="2355840"/>
                        <a:ext cx="410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 flipH="1">
                        <a:off x="2297880" y="236880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2297880" y="2374920"/>
                        <a:ext cx="410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 flipH="1">
                        <a:off x="2297880" y="238032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2297880" y="238824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 flipH="1">
                        <a:off x="2297880" y="239292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 flipH="1">
                        <a:off x="2297880" y="2362320"/>
                        <a:ext cx="410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1" name=""/>
                      <p:cNvSpPr/>
                      <p:nvPr/>
                    </p:nvSpPr>
                    <p:spPr>
                      <a:xfrm flipH="1">
                        <a:off x="1626480" y="2342880"/>
                        <a:ext cx="6526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 flipH="1">
                        <a:off x="2253240" y="2349360"/>
                        <a:ext cx="266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 flipH="1">
                        <a:off x="1860480" y="2349360"/>
                        <a:ext cx="34632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 flipH="1">
                        <a:off x="1767600" y="2349360"/>
                        <a:ext cx="41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 flipH="1">
                        <a:off x="1626840" y="2349360"/>
                        <a:ext cx="878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6" name=""/>
                      <p:cNvSpPr/>
                      <p:nvPr/>
                    </p:nvSpPr>
                    <p:spPr>
                      <a:xfrm>
                        <a:off x="1626840" y="2355840"/>
                        <a:ext cx="810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1867320" y="2355840"/>
                        <a:ext cx="325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2259720" y="2355840"/>
                        <a:ext cx="19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 flipH="1">
                        <a:off x="2265840" y="2362320"/>
                        <a:ext cx="133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 flipH="1">
                        <a:off x="1873440" y="2362320"/>
                        <a:ext cx="3114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1" name=""/>
                      <p:cNvSpPr/>
                      <p:nvPr/>
                    </p:nvSpPr>
                    <p:spPr>
                      <a:xfrm flipH="1">
                        <a:off x="1626480" y="2362320"/>
                        <a:ext cx="745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1626840" y="2368800"/>
                        <a:ext cx="7272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1880280" y="2368800"/>
                        <a:ext cx="30312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2273040" y="2368800"/>
                        <a:ext cx="64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 flipH="1">
                        <a:off x="2273040" y="2374920"/>
                        <a:ext cx="64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6" name=""/>
                      <p:cNvSpPr/>
                      <p:nvPr/>
                    </p:nvSpPr>
                    <p:spPr>
                      <a:xfrm flipH="1">
                        <a:off x="2274480" y="238032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7" name=""/>
                      <p:cNvSpPr/>
                      <p:nvPr/>
                    </p:nvSpPr>
                    <p:spPr>
                      <a:xfrm flipH="1">
                        <a:off x="2274480" y="238824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 flipH="1">
                        <a:off x="2274480" y="239292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 flipH="1">
                        <a:off x="1879920" y="2392920"/>
                        <a:ext cx="2912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1880280" y="2374920"/>
                        <a:ext cx="30096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1" name=""/>
                      <p:cNvSpPr/>
                      <p:nvPr/>
                    </p:nvSpPr>
                    <p:spPr>
                      <a:xfrm flipH="1">
                        <a:off x="1886400" y="2380320"/>
                        <a:ext cx="29340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1880280" y="2388240"/>
                        <a:ext cx="2912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 flipH="1">
                        <a:off x="1712880" y="234936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 flipH="1">
                        <a:off x="1706040" y="2355840"/>
                        <a:ext cx="32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5" name=""/>
                      <p:cNvSpPr/>
                      <p:nvPr/>
                    </p:nvSpPr>
                    <p:spPr>
                      <a:xfrm flipH="1">
                        <a:off x="1762920" y="2349360"/>
                        <a:ext cx="460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6" name=""/>
                      <p:cNvSpPr/>
                      <p:nvPr/>
                    </p:nvSpPr>
                    <p:spPr>
                      <a:xfrm flipH="1">
                        <a:off x="1878480" y="2380320"/>
                        <a:ext cx="100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7" name=""/>
                      <p:cNvSpPr/>
                      <p:nvPr/>
                    </p:nvSpPr>
                    <p:spPr>
                      <a:xfrm flipH="1">
                        <a:off x="1701720" y="2362320"/>
                        <a:ext cx="28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 flipH="1">
                        <a:off x="1697760" y="2362320"/>
                        <a:ext cx="32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1618560" y="2233440"/>
                        <a:ext cx="2664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69">
                            <a:moveTo>
                              <a:pt x="18" y="0"/>
                            </a:moveTo>
                            <a:lnTo>
                              <a:pt x="32" y="24"/>
                            </a:lnTo>
                            <a:lnTo>
                              <a:pt x="3" y="69"/>
                            </a:lnTo>
                            <a:lnTo>
                              <a:pt x="0" y="63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2259720" y="2211120"/>
                        <a:ext cx="345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47">
                            <a:moveTo>
                              <a:pt x="43" y="38"/>
                            </a:moveTo>
                            <a:lnTo>
                              <a:pt x="7" y="47"/>
                            </a:lnTo>
                            <a:lnTo>
                              <a:pt x="0" y="47"/>
                            </a:lnTo>
                            <a:lnTo>
                              <a:pt x="0" y="20"/>
                            </a:lnTo>
                            <a:lnTo>
                              <a:pt x="9" y="0"/>
                            </a:lnTo>
                            <a:lnTo>
                              <a:pt x="43" y="38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1" name=""/>
                      <p:cNvSpPr/>
                      <p:nvPr/>
                    </p:nvSpPr>
                    <p:spPr>
                      <a:xfrm flipH="1">
                        <a:off x="2171880" y="2388240"/>
                        <a:ext cx="64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2171880" y="2392920"/>
                        <a:ext cx="64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 flipV="1">
                        <a:off x="2362320" y="2265840"/>
                        <a:ext cx="144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 flipH="1">
                        <a:off x="2247840" y="2349360"/>
                        <a:ext cx="46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2257920" y="2355840"/>
                        <a:ext cx="1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6" name=""/>
                      <p:cNvSpPr/>
                      <p:nvPr/>
                    </p:nvSpPr>
                    <p:spPr>
                      <a:xfrm>
                        <a:off x="2264760" y="2362320"/>
                        <a:ext cx="14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7" name=""/>
                      <p:cNvSpPr/>
                      <p:nvPr/>
                    </p:nvSpPr>
                    <p:spPr>
                      <a:xfrm>
                        <a:off x="2268000" y="2368800"/>
                        <a:ext cx="46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8" name=""/>
                      <p:cNvSpPr/>
                      <p:nvPr/>
                    </p:nvSpPr>
                    <p:spPr>
                      <a:xfrm flipH="1">
                        <a:off x="2271600" y="2374920"/>
                        <a:ext cx="28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 flipH="1">
                        <a:off x="2189880" y="2355840"/>
                        <a:ext cx="648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 flipH="1">
                        <a:off x="2184840" y="2362320"/>
                        <a:ext cx="32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 flipH="1">
                        <a:off x="1876680" y="2374920"/>
                        <a:ext cx="32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2" name=""/>
                      <p:cNvSpPr/>
                      <p:nvPr/>
                    </p:nvSpPr>
                    <p:spPr>
                      <a:xfrm>
                        <a:off x="1873800" y="2368800"/>
                        <a:ext cx="64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3" name=""/>
                      <p:cNvSpPr/>
                      <p:nvPr/>
                    </p:nvSpPr>
                    <p:spPr>
                      <a:xfrm flipH="1">
                        <a:off x="1869840" y="2362320"/>
                        <a:ext cx="1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 flipH="1">
                        <a:off x="1863360" y="2355840"/>
                        <a:ext cx="32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 flipH="1">
                        <a:off x="1856880" y="2349360"/>
                        <a:ext cx="32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1636920" y="2252520"/>
                        <a:ext cx="3924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44">
                            <a:moveTo>
                              <a:pt x="48" y="0"/>
                            </a:moveTo>
                            <a:lnTo>
                              <a:pt x="27" y="0"/>
                            </a:lnTo>
                            <a:lnTo>
                              <a:pt x="0" y="44"/>
                            </a:lnTo>
                            <a:lnTo>
                              <a:pt x="2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1668240" y="2252520"/>
                        <a:ext cx="1108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44">
                            <a:moveTo>
                              <a:pt x="31" y="0"/>
                            </a:moveTo>
                            <a:lnTo>
                              <a:pt x="0" y="44"/>
                            </a:lnTo>
                            <a:lnTo>
                              <a:pt x="107" y="44"/>
                            </a:lnTo>
                            <a:lnTo>
                              <a:pt x="135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1767600" y="2252520"/>
                        <a:ext cx="1105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44">
                            <a:moveTo>
                              <a:pt x="29" y="0"/>
                            </a:moveTo>
                            <a:lnTo>
                              <a:pt x="0" y="44"/>
                            </a:lnTo>
                            <a:lnTo>
                              <a:pt x="107" y="44"/>
                            </a:lnTo>
                            <a:lnTo>
                              <a:pt x="13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1868760" y="2252520"/>
                        <a:ext cx="1105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44">
                            <a:moveTo>
                              <a:pt x="30" y="0"/>
                            </a:moveTo>
                            <a:lnTo>
                              <a:pt x="0" y="44"/>
                            </a:lnTo>
                            <a:lnTo>
                              <a:pt x="107" y="44"/>
                            </a:lnTo>
                            <a:lnTo>
                              <a:pt x="13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1968480" y="2252520"/>
                        <a:ext cx="1105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44">
                            <a:moveTo>
                              <a:pt x="29" y="0"/>
                            </a:moveTo>
                            <a:lnTo>
                              <a:pt x="0" y="44"/>
                            </a:lnTo>
                            <a:lnTo>
                              <a:pt x="106" y="44"/>
                            </a:lnTo>
                            <a:lnTo>
                              <a:pt x="13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2067480" y="2252520"/>
                        <a:ext cx="1126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44">
                            <a:moveTo>
                              <a:pt x="30" y="0"/>
                            </a:moveTo>
                            <a:lnTo>
                              <a:pt x="0" y="44"/>
                            </a:lnTo>
                            <a:lnTo>
                              <a:pt x="108" y="44"/>
                            </a:lnTo>
                            <a:lnTo>
                              <a:pt x="13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2170440" y="2252520"/>
                        <a:ext cx="1105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44">
                            <a:moveTo>
                              <a:pt x="29" y="0"/>
                            </a:moveTo>
                            <a:lnTo>
                              <a:pt x="0" y="44"/>
                            </a:lnTo>
                            <a:lnTo>
                              <a:pt x="108" y="44"/>
                            </a:lnTo>
                            <a:lnTo>
                              <a:pt x="134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2292840" y="2273760"/>
                        <a:ext cx="52920" cy="432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4" name=""/>
                    <p:cNvGrpSpPr/>
                    <p:nvPr/>
                  </p:nvGrpSpPr>
                  <p:grpSpPr>
                    <a:xfrm>
                      <a:off x="2375280" y="1956600"/>
                      <a:ext cx="218880" cy="196560"/>
                      <a:chOff x="2375280" y="1956600"/>
                      <a:chExt cx="218880" cy="196560"/>
                    </a:xfrm>
                  </p:grpSpPr>
                  <p:sp>
                    <p:nvSpPr>
                      <p:cNvPr id="1735" name=""/>
                      <p:cNvSpPr/>
                      <p:nvPr/>
                    </p:nvSpPr>
                    <p:spPr>
                      <a:xfrm flipH="1">
                        <a:off x="2512080" y="1956960"/>
                        <a:ext cx="82080" cy="4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>
                        <a:off x="2513520" y="2008440"/>
                        <a:ext cx="29520" cy="24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7" name=""/>
                      <p:cNvSpPr/>
                      <p:nvPr/>
                    </p:nvSpPr>
                    <p:spPr>
                      <a:xfrm flipH="1">
                        <a:off x="2444040" y="2026440"/>
                        <a:ext cx="95400" cy="56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2444400" y="2081160"/>
                        <a:ext cx="26280" cy="27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 flipH="1">
                        <a:off x="2375280" y="2098800"/>
                        <a:ext cx="85320" cy="51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 flipV="1">
                        <a:off x="2375640" y="2113200"/>
                        <a:ext cx="137880" cy="39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1" name=""/>
                      <p:cNvSpPr/>
                      <p:nvPr/>
                    </p:nvSpPr>
                    <p:spPr>
                      <a:xfrm flipH="1" flipV="1">
                        <a:off x="2477520" y="2095560"/>
                        <a:ext cx="36000" cy="25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2" name=""/>
                      <p:cNvSpPr/>
                      <p:nvPr/>
                    </p:nvSpPr>
                    <p:spPr>
                      <a:xfrm flipV="1">
                        <a:off x="2477520" y="2026440"/>
                        <a:ext cx="98640" cy="67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3" name=""/>
                      <p:cNvSpPr/>
                      <p:nvPr/>
                    </p:nvSpPr>
                    <p:spPr>
                      <a:xfrm flipH="1" flipV="1">
                        <a:off x="2549880" y="2014920"/>
                        <a:ext cx="3456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4" name=""/>
                      <p:cNvSpPr/>
                      <p:nvPr/>
                    </p:nvSpPr>
                    <p:spPr>
                      <a:xfrm flipV="1">
                        <a:off x="2549880" y="1956600"/>
                        <a:ext cx="44280" cy="56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5" name=""/>
                    <p:cNvGrpSpPr/>
                    <p:nvPr/>
                  </p:nvGrpSpPr>
                  <p:grpSpPr>
                    <a:xfrm>
                      <a:off x="741960" y="844200"/>
                      <a:ext cx="383760" cy="269640"/>
                      <a:chOff x="741960" y="844200"/>
                      <a:chExt cx="383760" cy="269640"/>
                    </a:xfrm>
                  </p:grpSpPr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741960" y="844200"/>
                        <a:ext cx="383760" cy="255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751680" y="857160"/>
                        <a:ext cx="364320" cy="229320"/>
                      </a:xfrm>
                      <a:prstGeom prst="rect">
                        <a:avLst/>
                      </a:prstGeom>
                      <a:solidFill>
                        <a:srgbClr val="9b38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1058040" y="863280"/>
                        <a:ext cx="49680" cy="214920"/>
                      </a:xfrm>
                      <a:prstGeom prst="rect">
                        <a:avLst/>
                      </a:prstGeom>
                      <a:solidFill>
                        <a:srgbClr val="faa97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9" name=""/>
                      <p:cNvSpPr/>
                      <p:nvPr/>
                    </p:nvSpPr>
                    <p:spPr>
                      <a:xfrm>
                        <a:off x="1069560" y="928440"/>
                        <a:ext cx="26640" cy="28800"/>
                      </a:xfrm>
                      <a:prstGeom prst="ellipse">
                        <a:avLst/>
                      </a:prstGeom>
                      <a:solidFill>
                        <a:srgbClr val="5d22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1069560" y="882720"/>
                        <a:ext cx="26640" cy="27360"/>
                      </a:xfrm>
                      <a:prstGeom prst="ellipse">
                        <a:avLst/>
                      </a:prstGeom>
                      <a:solidFill>
                        <a:srgbClr val="5d22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8040" y="1096200"/>
                        <a:ext cx="16560" cy="17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1066320" y="968400"/>
                        <a:ext cx="31320" cy="102960"/>
                      </a:xfrm>
                      <a:prstGeom prst="rect">
                        <a:avLst/>
                      </a:prstGeom>
                      <a:solidFill>
                        <a:srgbClr val="5d22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763200" y="879480"/>
                        <a:ext cx="21600" cy="180720"/>
                      </a:xfrm>
                      <a:prstGeom prst="ellipse">
                        <a:avLst/>
                      </a:prstGeom>
                      <a:solidFill>
                        <a:srgbClr val="faa97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4" name=""/>
                      <p:cNvSpPr/>
                      <p:nvPr/>
                    </p:nvSpPr>
                    <p:spPr>
                      <a:xfrm>
                        <a:off x="771480" y="866880"/>
                        <a:ext cx="264960" cy="30600"/>
                      </a:xfrm>
                      <a:prstGeom prst="ellipse">
                        <a:avLst/>
                      </a:prstGeom>
                      <a:solidFill>
                        <a:srgbClr val="faa97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71480" y="1042920"/>
                        <a:ext cx="264960" cy="32040"/>
                      </a:xfrm>
                      <a:prstGeom prst="ellipse">
                        <a:avLst/>
                      </a:prstGeom>
                      <a:solidFill>
                        <a:srgbClr val="faa97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1024920" y="879480"/>
                        <a:ext cx="21240" cy="180720"/>
                      </a:xfrm>
                      <a:prstGeom prst="ellipse">
                        <a:avLst/>
                      </a:prstGeom>
                      <a:solidFill>
                        <a:srgbClr val="faa97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70040" y="884520"/>
                        <a:ext cx="21240" cy="17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778320" y="871560"/>
                        <a:ext cx="251280" cy="29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9" name=""/>
                      <p:cNvSpPr/>
                      <p:nvPr/>
                    </p:nvSpPr>
                    <p:spPr>
                      <a:xfrm>
                        <a:off x="778320" y="1039680"/>
                        <a:ext cx="251280" cy="28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1018080" y="884520"/>
                        <a:ext cx="21600" cy="171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81560" y="887760"/>
                        <a:ext cx="248040" cy="1666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1046160" y="1096200"/>
                        <a:ext cx="16200" cy="17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851040" y="1020240"/>
                        <a:ext cx="14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4b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64" name=""/>
                    <p:cNvSpPr/>
                    <p:nvPr/>
                  </p:nvSpPr>
                  <p:spPr>
                    <a:xfrm flipV="1">
                      <a:off x="794520" y="885240"/>
                      <a:ext cx="209160" cy="60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 flipV="1">
                      <a:off x="799200" y="1007640"/>
                      <a:ext cx="204480" cy="31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908640" y="875880"/>
                      <a:ext cx="28440" cy="187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824760" y="891720"/>
                      <a:ext cx="18720" cy="14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768960" y="1212480"/>
                      <a:ext cx="32076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電腦資訊查詢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609120" y="1488600"/>
                      <a:ext cx="518760" cy="306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930960" y="1518840"/>
                      <a:ext cx="163080" cy="243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642240" y="1520640"/>
                      <a:ext cx="264600" cy="242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729360" y="1794960"/>
                      <a:ext cx="274320" cy="60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3" name=""/>
                    <p:cNvSpPr/>
                    <p:nvPr/>
                  </p:nvSpPr>
                  <p:spPr>
                    <a:xfrm>
                      <a:off x="826200" y="1855440"/>
                      <a:ext cx="71280" cy="239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634320" y="1968120"/>
                      <a:ext cx="123120" cy="271080"/>
                      <a:chOff x="634320" y="1968120"/>
                      <a:chExt cx="123120" cy="27108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634320" y="2019600"/>
                        <a:ext cx="123120" cy="21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272">
                            <a:moveTo>
                              <a:pt x="35" y="0"/>
                            </a:moveTo>
                            <a:lnTo>
                              <a:pt x="114" y="0"/>
                            </a:lnTo>
                            <a:lnTo>
                              <a:pt x="117" y="0"/>
                            </a:lnTo>
                            <a:lnTo>
                              <a:pt x="118" y="0"/>
                            </a:lnTo>
                            <a:lnTo>
                              <a:pt x="120" y="0"/>
                            </a:lnTo>
                            <a:lnTo>
                              <a:pt x="123" y="1"/>
                            </a:lnTo>
                            <a:lnTo>
                              <a:pt x="124" y="1"/>
                            </a:lnTo>
                            <a:lnTo>
                              <a:pt x="126" y="1"/>
                            </a:lnTo>
                            <a:lnTo>
                              <a:pt x="129" y="3"/>
                            </a:lnTo>
                            <a:lnTo>
                              <a:pt x="130" y="3"/>
                            </a:lnTo>
                            <a:lnTo>
                              <a:pt x="132" y="4"/>
                            </a:lnTo>
                            <a:lnTo>
                              <a:pt x="133" y="4"/>
                            </a:lnTo>
                            <a:lnTo>
                              <a:pt x="136" y="6"/>
                            </a:lnTo>
                            <a:lnTo>
                              <a:pt x="137" y="7"/>
                            </a:lnTo>
                            <a:lnTo>
                              <a:pt x="140" y="9"/>
                            </a:lnTo>
                            <a:lnTo>
                              <a:pt x="142" y="10"/>
                            </a:lnTo>
                            <a:lnTo>
                              <a:pt x="143" y="12"/>
                            </a:lnTo>
                            <a:lnTo>
                              <a:pt x="145" y="13"/>
                            </a:lnTo>
                            <a:lnTo>
                              <a:pt x="148" y="14"/>
                            </a:lnTo>
                            <a:lnTo>
                              <a:pt x="148" y="16"/>
                            </a:lnTo>
                            <a:lnTo>
                              <a:pt x="149" y="19"/>
                            </a:lnTo>
                            <a:lnTo>
                              <a:pt x="149" y="20"/>
                            </a:lnTo>
                            <a:lnTo>
                              <a:pt x="149" y="23"/>
                            </a:lnTo>
                            <a:lnTo>
                              <a:pt x="149" y="124"/>
                            </a:lnTo>
                            <a:lnTo>
                              <a:pt x="149" y="126"/>
                            </a:lnTo>
                            <a:lnTo>
                              <a:pt x="148" y="126"/>
                            </a:lnTo>
                            <a:lnTo>
                              <a:pt x="148" y="127"/>
                            </a:lnTo>
                            <a:lnTo>
                              <a:pt x="148" y="129"/>
                            </a:lnTo>
                            <a:lnTo>
                              <a:pt x="146" y="130"/>
                            </a:lnTo>
                            <a:lnTo>
                              <a:pt x="145" y="132"/>
                            </a:lnTo>
                            <a:lnTo>
                              <a:pt x="143" y="132"/>
                            </a:lnTo>
                            <a:lnTo>
                              <a:pt x="140" y="133"/>
                            </a:lnTo>
                            <a:lnTo>
                              <a:pt x="139" y="133"/>
                            </a:lnTo>
                            <a:lnTo>
                              <a:pt x="137" y="133"/>
                            </a:lnTo>
                            <a:lnTo>
                              <a:pt x="136" y="133"/>
                            </a:lnTo>
                            <a:lnTo>
                              <a:pt x="133" y="133"/>
                            </a:lnTo>
                            <a:lnTo>
                              <a:pt x="132" y="133"/>
                            </a:lnTo>
                            <a:lnTo>
                              <a:pt x="130" y="133"/>
                            </a:lnTo>
                            <a:lnTo>
                              <a:pt x="129" y="133"/>
                            </a:lnTo>
                            <a:lnTo>
                              <a:pt x="127" y="132"/>
                            </a:lnTo>
                            <a:lnTo>
                              <a:pt x="126" y="130"/>
                            </a:lnTo>
                            <a:lnTo>
                              <a:pt x="126" y="130"/>
                            </a:lnTo>
                            <a:lnTo>
                              <a:pt x="124" y="129"/>
                            </a:lnTo>
                            <a:lnTo>
                              <a:pt x="123" y="127"/>
                            </a:lnTo>
                            <a:lnTo>
                              <a:pt x="123" y="127"/>
                            </a:lnTo>
                            <a:lnTo>
                              <a:pt x="123" y="126"/>
                            </a:lnTo>
                            <a:lnTo>
                              <a:pt x="123" y="124"/>
                            </a:lnTo>
                            <a:lnTo>
                              <a:pt x="123" y="123"/>
                            </a:lnTo>
                            <a:lnTo>
                              <a:pt x="123" y="47"/>
                            </a:lnTo>
                            <a:lnTo>
                              <a:pt x="114" y="47"/>
                            </a:lnTo>
                            <a:lnTo>
                              <a:pt x="114" y="258"/>
                            </a:lnTo>
                            <a:lnTo>
                              <a:pt x="114" y="259"/>
                            </a:lnTo>
                            <a:lnTo>
                              <a:pt x="114" y="262"/>
                            </a:lnTo>
                            <a:lnTo>
                              <a:pt x="113" y="263"/>
                            </a:lnTo>
                            <a:lnTo>
                              <a:pt x="111" y="266"/>
                            </a:lnTo>
                            <a:lnTo>
                              <a:pt x="110" y="268"/>
                            </a:lnTo>
                            <a:lnTo>
                              <a:pt x="108" y="269"/>
                            </a:lnTo>
                            <a:lnTo>
                              <a:pt x="107" y="269"/>
                            </a:lnTo>
                            <a:lnTo>
                              <a:pt x="104" y="271"/>
                            </a:lnTo>
                            <a:lnTo>
                              <a:pt x="102" y="271"/>
                            </a:lnTo>
                            <a:lnTo>
                              <a:pt x="101" y="272"/>
                            </a:lnTo>
                            <a:lnTo>
                              <a:pt x="98" y="272"/>
                            </a:lnTo>
                            <a:lnTo>
                              <a:pt x="96" y="272"/>
                            </a:lnTo>
                            <a:lnTo>
                              <a:pt x="95" y="272"/>
                            </a:lnTo>
                            <a:lnTo>
                              <a:pt x="92" y="272"/>
                            </a:lnTo>
                            <a:lnTo>
                              <a:pt x="91" y="271"/>
                            </a:lnTo>
                            <a:lnTo>
                              <a:pt x="88" y="271"/>
                            </a:lnTo>
                            <a:lnTo>
                              <a:pt x="86" y="269"/>
                            </a:lnTo>
                            <a:lnTo>
                              <a:pt x="85" y="268"/>
                            </a:lnTo>
                            <a:lnTo>
                              <a:pt x="83" y="268"/>
                            </a:lnTo>
                            <a:lnTo>
                              <a:pt x="82" y="266"/>
                            </a:lnTo>
                            <a:lnTo>
                              <a:pt x="80" y="265"/>
                            </a:lnTo>
                            <a:lnTo>
                              <a:pt x="80" y="263"/>
                            </a:lnTo>
                            <a:lnTo>
                              <a:pt x="79" y="262"/>
                            </a:lnTo>
                            <a:lnTo>
                              <a:pt x="79" y="261"/>
                            </a:lnTo>
                            <a:lnTo>
                              <a:pt x="79" y="259"/>
                            </a:lnTo>
                            <a:lnTo>
                              <a:pt x="79" y="130"/>
                            </a:lnTo>
                            <a:lnTo>
                              <a:pt x="70" y="130"/>
                            </a:lnTo>
                            <a:lnTo>
                              <a:pt x="70" y="258"/>
                            </a:lnTo>
                            <a:lnTo>
                              <a:pt x="70" y="261"/>
                            </a:lnTo>
                            <a:lnTo>
                              <a:pt x="69" y="262"/>
                            </a:lnTo>
                            <a:lnTo>
                              <a:pt x="67" y="263"/>
                            </a:lnTo>
                            <a:lnTo>
                              <a:pt x="67" y="265"/>
                            </a:lnTo>
                            <a:lnTo>
                              <a:pt x="66" y="268"/>
                            </a:lnTo>
                            <a:lnTo>
                              <a:pt x="63" y="269"/>
                            </a:lnTo>
                            <a:lnTo>
                              <a:pt x="61" y="271"/>
                            </a:lnTo>
                            <a:lnTo>
                              <a:pt x="58" y="271"/>
                            </a:lnTo>
                            <a:lnTo>
                              <a:pt x="55" y="272"/>
                            </a:lnTo>
                            <a:lnTo>
                              <a:pt x="54" y="272"/>
                            </a:lnTo>
                            <a:lnTo>
                              <a:pt x="51" y="272"/>
                            </a:lnTo>
                            <a:lnTo>
                              <a:pt x="48" y="272"/>
                            </a:lnTo>
                            <a:lnTo>
                              <a:pt x="47" y="272"/>
                            </a:lnTo>
                            <a:lnTo>
                              <a:pt x="45" y="271"/>
                            </a:lnTo>
                            <a:lnTo>
                              <a:pt x="44" y="271"/>
                            </a:lnTo>
                            <a:lnTo>
                              <a:pt x="41" y="269"/>
                            </a:lnTo>
                            <a:lnTo>
                              <a:pt x="39" y="268"/>
                            </a:lnTo>
                            <a:lnTo>
                              <a:pt x="38" y="266"/>
                            </a:lnTo>
                            <a:lnTo>
                              <a:pt x="36" y="265"/>
                            </a:lnTo>
                            <a:lnTo>
                              <a:pt x="36" y="263"/>
                            </a:lnTo>
                            <a:lnTo>
                              <a:pt x="35" y="262"/>
                            </a:lnTo>
                            <a:lnTo>
                              <a:pt x="35" y="261"/>
                            </a:lnTo>
                            <a:lnTo>
                              <a:pt x="35" y="258"/>
                            </a:lnTo>
                            <a:lnTo>
                              <a:pt x="35" y="47"/>
                            </a:lnTo>
                            <a:lnTo>
                              <a:pt x="26" y="47"/>
                            </a:lnTo>
                            <a:lnTo>
                              <a:pt x="26" y="123"/>
                            </a:lnTo>
                            <a:lnTo>
                              <a:pt x="26" y="124"/>
                            </a:lnTo>
                            <a:lnTo>
                              <a:pt x="25" y="127"/>
                            </a:lnTo>
                            <a:lnTo>
                              <a:pt x="25" y="127"/>
                            </a:lnTo>
                            <a:lnTo>
                              <a:pt x="23" y="129"/>
                            </a:lnTo>
                            <a:lnTo>
                              <a:pt x="23" y="130"/>
                            </a:lnTo>
                            <a:lnTo>
                              <a:pt x="22" y="130"/>
                            </a:lnTo>
                            <a:lnTo>
                              <a:pt x="22" y="132"/>
                            </a:lnTo>
                            <a:lnTo>
                              <a:pt x="20" y="132"/>
                            </a:lnTo>
                            <a:lnTo>
                              <a:pt x="19" y="133"/>
                            </a:lnTo>
                            <a:lnTo>
                              <a:pt x="19" y="133"/>
                            </a:lnTo>
                            <a:lnTo>
                              <a:pt x="17" y="133"/>
                            </a:lnTo>
                            <a:lnTo>
                              <a:pt x="16" y="133"/>
                            </a:lnTo>
                            <a:lnTo>
                              <a:pt x="14" y="133"/>
                            </a:lnTo>
                            <a:lnTo>
                              <a:pt x="14" y="133"/>
                            </a:lnTo>
                            <a:lnTo>
                              <a:pt x="11" y="133"/>
                            </a:lnTo>
                            <a:lnTo>
                              <a:pt x="10" y="133"/>
                            </a:lnTo>
                            <a:lnTo>
                              <a:pt x="9" y="133"/>
                            </a:lnTo>
                            <a:lnTo>
                              <a:pt x="7" y="133"/>
                            </a:lnTo>
                            <a:lnTo>
                              <a:pt x="7" y="133"/>
                            </a:lnTo>
                            <a:lnTo>
                              <a:pt x="6" y="132"/>
                            </a:lnTo>
                            <a:lnTo>
                              <a:pt x="4" y="132"/>
                            </a:lnTo>
                            <a:lnTo>
                              <a:pt x="4" y="130"/>
                            </a:lnTo>
                            <a:lnTo>
                              <a:pt x="3" y="130"/>
                            </a:lnTo>
                            <a:lnTo>
                              <a:pt x="1" y="129"/>
                            </a:lnTo>
                            <a:lnTo>
                              <a:pt x="1" y="129"/>
                            </a:lnTo>
                            <a:lnTo>
                              <a:pt x="1" y="127"/>
                            </a:lnTo>
                            <a:lnTo>
                              <a:pt x="0" y="126"/>
                            </a:lnTo>
                            <a:lnTo>
                              <a:pt x="0" y="126"/>
                            </a:lnTo>
                            <a:lnTo>
                              <a:pt x="0" y="124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1" y="16"/>
                            </a:lnTo>
                            <a:lnTo>
                              <a:pt x="3" y="13"/>
                            </a:lnTo>
                            <a:lnTo>
                              <a:pt x="4" y="12"/>
                            </a:lnTo>
                            <a:lnTo>
                              <a:pt x="7" y="10"/>
                            </a:lnTo>
                            <a:lnTo>
                              <a:pt x="9" y="9"/>
                            </a:lnTo>
                            <a:lnTo>
                              <a:pt x="11" y="6"/>
                            </a:lnTo>
                            <a:lnTo>
                              <a:pt x="16" y="4"/>
                            </a:lnTo>
                            <a:lnTo>
                              <a:pt x="19" y="3"/>
                            </a:lnTo>
                            <a:lnTo>
                              <a:pt x="20" y="3"/>
                            </a:lnTo>
                            <a:lnTo>
                              <a:pt x="25" y="1"/>
                            </a:lnTo>
                            <a:lnTo>
                              <a:pt x="28" y="1"/>
                            </a:lnTo>
                            <a:lnTo>
                              <a:pt x="32" y="0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618ff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663840" y="1968120"/>
                        <a:ext cx="58680" cy="51480"/>
                      </a:xfrm>
                      <a:prstGeom prst="ellipse">
                        <a:avLst/>
                      </a:prstGeom>
                      <a:solidFill>
                        <a:srgbClr val="618ff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7" name=""/>
                    <p:cNvGrpSpPr/>
                    <p:nvPr/>
                  </p:nvGrpSpPr>
                  <p:grpSpPr>
                    <a:xfrm>
                      <a:off x="926280" y="1964880"/>
                      <a:ext cx="148680" cy="282240"/>
                      <a:chOff x="926280" y="1964880"/>
                      <a:chExt cx="148680" cy="282240"/>
                    </a:xfrm>
                  </p:grpSpPr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926280" y="2018160"/>
                        <a:ext cx="148680" cy="22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285">
                            <a:moveTo>
                              <a:pt x="48" y="0"/>
                            </a:moveTo>
                            <a:lnTo>
                              <a:pt x="132" y="0"/>
                            </a:lnTo>
                            <a:lnTo>
                              <a:pt x="133" y="0"/>
                            </a:lnTo>
                            <a:lnTo>
                              <a:pt x="136" y="0"/>
                            </a:lnTo>
                            <a:lnTo>
                              <a:pt x="137" y="2"/>
                            </a:lnTo>
                            <a:lnTo>
                              <a:pt x="139" y="2"/>
                            </a:lnTo>
                            <a:lnTo>
                              <a:pt x="142" y="3"/>
                            </a:lnTo>
                            <a:lnTo>
                              <a:pt x="143" y="5"/>
                            </a:lnTo>
                            <a:lnTo>
                              <a:pt x="145" y="5"/>
                            </a:lnTo>
                            <a:lnTo>
                              <a:pt x="146" y="6"/>
                            </a:lnTo>
                            <a:lnTo>
                              <a:pt x="148" y="8"/>
                            </a:lnTo>
                            <a:lnTo>
                              <a:pt x="149" y="9"/>
                            </a:lnTo>
                            <a:lnTo>
                              <a:pt x="151" y="11"/>
                            </a:lnTo>
                            <a:lnTo>
                              <a:pt x="151" y="12"/>
                            </a:lnTo>
                            <a:lnTo>
                              <a:pt x="152" y="15"/>
                            </a:lnTo>
                            <a:lnTo>
                              <a:pt x="154" y="15"/>
                            </a:lnTo>
                            <a:lnTo>
                              <a:pt x="154" y="18"/>
                            </a:lnTo>
                            <a:lnTo>
                              <a:pt x="155" y="21"/>
                            </a:lnTo>
                            <a:lnTo>
                              <a:pt x="155" y="22"/>
                            </a:lnTo>
                            <a:lnTo>
                              <a:pt x="155" y="25"/>
                            </a:lnTo>
                            <a:lnTo>
                              <a:pt x="180" y="107"/>
                            </a:lnTo>
                            <a:lnTo>
                              <a:pt x="180" y="109"/>
                            </a:lnTo>
                            <a:lnTo>
                              <a:pt x="180" y="112"/>
                            </a:lnTo>
                            <a:lnTo>
                              <a:pt x="180" y="113"/>
                            </a:lnTo>
                            <a:lnTo>
                              <a:pt x="180" y="115"/>
                            </a:lnTo>
                            <a:lnTo>
                              <a:pt x="178" y="116"/>
                            </a:lnTo>
                            <a:lnTo>
                              <a:pt x="177" y="118"/>
                            </a:lnTo>
                            <a:lnTo>
                              <a:pt x="176" y="119"/>
                            </a:lnTo>
                            <a:lnTo>
                              <a:pt x="174" y="120"/>
                            </a:lnTo>
                            <a:lnTo>
                              <a:pt x="173" y="120"/>
                            </a:lnTo>
                            <a:lnTo>
                              <a:pt x="170" y="122"/>
                            </a:lnTo>
                            <a:lnTo>
                              <a:pt x="168" y="122"/>
                            </a:lnTo>
                            <a:lnTo>
                              <a:pt x="167" y="122"/>
                            </a:lnTo>
                            <a:lnTo>
                              <a:pt x="164" y="122"/>
                            </a:lnTo>
                            <a:lnTo>
                              <a:pt x="162" y="122"/>
                            </a:lnTo>
                            <a:lnTo>
                              <a:pt x="161" y="120"/>
                            </a:lnTo>
                            <a:lnTo>
                              <a:pt x="159" y="120"/>
                            </a:lnTo>
                            <a:lnTo>
                              <a:pt x="158" y="119"/>
                            </a:lnTo>
                            <a:lnTo>
                              <a:pt x="157" y="118"/>
                            </a:lnTo>
                            <a:lnTo>
                              <a:pt x="155" y="116"/>
                            </a:lnTo>
                            <a:lnTo>
                              <a:pt x="155" y="115"/>
                            </a:lnTo>
                            <a:lnTo>
                              <a:pt x="154" y="113"/>
                            </a:lnTo>
                            <a:lnTo>
                              <a:pt x="130" y="40"/>
                            </a:lnTo>
                            <a:lnTo>
                              <a:pt x="123" y="40"/>
                            </a:lnTo>
                            <a:lnTo>
                              <a:pt x="162" y="176"/>
                            </a:lnTo>
                            <a:lnTo>
                              <a:pt x="130" y="176"/>
                            </a:lnTo>
                            <a:lnTo>
                              <a:pt x="130" y="271"/>
                            </a:lnTo>
                            <a:lnTo>
                              <a:pt x="130" y="274"/>
                            </a:lnTo>
                            <a:lnTo>
                              <a:pt x="130" y="276"/>
                            </a:lnTo>
                            <a:lnTo>
                              <a:pt x="129" y="277"/>
                            </a:lnTo>
                            <a:lnTo>
                              <a:pt x="127" y="279"/>
                            </a:lnTo>
                            <a:lnTo>
                              <a:pt x="126" y="280"/>
                            </a:lnTo>
                            <a:lnTo>
                              <a:pt x="126" y="282"/>
                            </a:lnTo>
                            <a:lnTo>
                              <a:pt x="123" y="283"/>
                            </a:lnTo>
                            <a:lnTo>
                              <a:pt x="121" y="283"/>
                            </a:lnTo>
                            <a:lnTo>
                              <a:pt x="120" y="285"/>
                            </a:lnTo>
                            <a:lnTo>
                              <a:pt x="118" y="285"/>
                            </a:lnTo>
                            <a:lnTo>
                              <a:pt x="116" y="285"/>
                            </a:lnTo>
                            <a:lnTo>
                              <a:pt x="114" y="285"/>
                            </a:lnTo>
                            <a:lnTo>
                              <a:pt x="113" y="285"/>
                            </a:lnTo>
                            <a:lnTo>
                              <a:pt x="110" y="285"/>
                            </a:lnTo>
                            <a:lnTo>
                              <a:pt x="108" y="283"/>
                            </a:lnTo>
                            <a:lnTo>
                              <a:pt x="107" y="283"/>
                            </a:lnTo>
                            <a:lnTo>
                              <a:pt x="105" y="282"/>
                            </a:lnTo>
                            <a:lnTo>
                              <a:pt x="104" y="280"/>
                            </a:lnTo>
                            <a:lnTo>
                              <a:pt x="102" y="280"/>
                            </a:lnTo>
                            <a:lnTo>
                              <a:pt x="101" y="279"/>
                            </a:lnTo>
                            <a:lnTo>
                              <a:pt x="99" y="277"/>
                            </a:lnTo>
                            <a:lnTo>
                              <a:pt x="99" y="276"/>
                            </a:lnTo>
                            <a:lnTo>
                              <a:pt x="99" y="274"/>
                            </a:lnTo>
                            <a:lnTo>
                              <a:pt x="98" y="273"/>
                            </a:lnTo>
                            <a:lnTo>
                              <a:pt x="98" y="271"/>
                            </a:lnTo>
                            <a:lnTo>
                              <a:pt x="98" y="176"/>
                            </a:lnTo>
                            <a:lnTo>
                              <a:pt x="82" y="176"/>
                            </a:lnTo>
                            <a:lnTo>
                              <a:pt x="82" y="271"/>
                            </a:lnTo>
                            <a:lnTo>
                              <a:pt x="82" y="273"/>
                            </a:lnTo>
                            <a:lnTo>
                              <a:pt x="82" y="274"/>
                            </a:lnTo>
                            <a:lnTo>
                              <a:pt x="80" y="276"/>
                            </a:lnTo>
                            <a:lnTo>
                              <a:pt x="80" y="277"/>
                            </a:lnTo>
                            <a:lnTo>
                              <a:pt x="79" y="279"/>
                            </a:lnTo>
                            <a:lnTo>
                              <a:pt x="77" y="280"/>
                            </a:lnTo>
                            <a:lnTo>
                              <a:pt x="76" y="282"/>
                            </a:lnTo>
                            <a:lnTo>
                              <a:pt x="74" y="282"/>
                            </a:lnTo>
                            <a:lnTo>
                              <a:pt x="73" y="283"/>
                            </a:lnTo>
                            <a:lnTo>
                              <a:pt x="72" y="285"/>
                            </a:lnTo>
                            <a:lnTo>
                              <a:pt x="69" y="285"/>
                            </a:lnTo>
                            <a:lnTo>
                              <a:pt x="67" y="285"/>
                            </a:lnTo>
                            <a:lnTo>
                              <a:pt x="66" y="285"/>
                            </a:lnTo>
                            <a:lnTo>
                              <a:pt x="64" y="285"/>
                            </a:lnTo>
                            <a:lnTo>
                              <a:pt x="61" y="285"/>
                            </a:lnTo>
                            <a:lnTo>
                              <a:pt x="60" y="283"/>
                            </a:lnTo>
                            <a:lnTo>
                              <a:pt x="58" y="283"/>
                            </a:lnTo>
                            <a:lnTo>
                              <a:pt x="57" y="282"/>
                            </a:lnTo>
                            <a:lnTo>
                              <a:pt x="55" y="282"/>
                            </a:lnTo>
                            <a:lnTo>
                              <a:pt x="54" y="280"/>
                            </a:lnTo>
                            <a:lnTo>
                              <a:pt x="53" y="279"/>
                            </a:lnTo>
                            <a:lnTo>
                              <a:pt x="53" y="277"/>
                            </a:lnTo>
                            <a:lnTo>
                              <a:pt x="51" y="276"/>
                            </a:lnTo>
                            <a:lnTo>
                              <a:pt x="50" y="274"/>
                            </a:lnTo>
                            <a:lnTo>
                              <a:pt x="50" y="273"/>
                            </a:lnTo>
                            <a:lnTo>
                              <a:pt x="50" y="271"/>
                            </a:lnTo>
                            <a:lnTo>
                              <a:pt x="50" y="176"/>
                            </a:lnTo>
                            <a:lnTo>
                              <a:pt x="17" y="176"/>
                            </a:lnTo>
                            <a:lnTo>
                              <a:pt x="58" y="40"/>
                            </a:lnTo>
                            <a:lnTo>
                              <a:pt x="50" y="40"/>
                            </a:lnTo>
                            <a:lnTo>
                              <a:pt x="26" y="115"/>
                            </a:lnTo>
                            <a:lnTo>
                              <a:pt x="25" y="116"/>
                            </a:lnTo>
                            <a:lnTo>
                              <a:pt x="25" y="119"/>
                            </a:lnTo>
                            <a:lnTo>
                              <a:pt x="23" y="120"/>
                            </a:lnTo>
                            <a:lnTo>
                              <a:pt x="22" y="122"/>
                            </a:lnTo>
                            <a:lnTo>
                              <a:pt x="20" y="122"/>
                            </a:lnTo>
                            <a:lnTo>
                              <a:pt x="19" y="123"/>
                            </a:lnTo>
                            <a:lnTo>
                              <a:pt x="16" y="123"/>
                            </a:lnTo>
                            <a:lnTo>
                              <a:pt x="14" y="125"/>
                            </a:lnTo>
                            <a:lnTo>
                              <a:pt x="12" y="123"/>
                            </a:lnTo>
                            <a:lnTo>
                              <a:pt x="10" y="123"/>
                            </a:lnTo>
                            <a:lnTo>
                              <a:pt x="9" y="123"/>
                            </a:lnTo>
                            <a:lnTo>
                              <a:pt x="7" y="123"/>
                            </a:lnTo>
                            <a:lnTo>
                              <a:pt x="6" y="122"/>
                            </a:lnTo>
                            <a:lnTo>
                              <a:pt x="3" y="120"/>
                            </a:lnTo>
                            <a:lnTo>
                              <a:pt x="3" y="119"/>
                            </a:lnTo>
                            <a:lnTo>
                              <a:pt x="1" y="118"/>
                            </a:lnTo>
                            <a:lnTo>
                              <a:pt x="0" y="116"/>
                            </a:lnTo>
                            <a:lnTo>
                              <a:pt x="0" y="115"/>
                            </a:lnTo>
                            <a:lnTo>
                              <a:pt x="0" y="113"/>
                            </a:lnTo>
                            <a:lnTo>
                              <a:pt x="0" y="112"/>
                            </a:lnTo>
                            <a:lnTo>
                              <a:pt x="0" y="110"/>
                            </a:lnTo>
                            <a:lnTo>
                              <a:pt x="0" y="110"/>
                            </a:lnTo>
                            <a:lnTo>
                              <a:pt x="25" y="24"/>
                            </a:lnTo>
                            <a:lnTo>
                              <a:pt x="26" y="22"/>
                            </a:lnTo>
                            <a:lnTo>
                              <a:pt x="26" y="19"/>
                            </a:lnTo>
                            <a:lnTo>
                              <a:pt x="26" y="18"/>
                            </a:lnTo>
                            <a:lnTo>
                              <a:pt x="28" y="16"/>
                            </a:lnTo>
                            <a:lnTo>
                              <a:pt x="28" y="15"/>
                            </a:lnTo>
                            <a:lnTo>
                              <a:pt x="28" y="14"/>
                            </a:lnTo>
                            <a:lnTo>
                              <a:pt x="29" y="11"/>
                            </a:lnTo>
                            <a:lnTo>
                              <a:pt x="31" y="9"/>
                            </a:lnTo>
                            <a:lnTo>
                              <a:pt x="32" y="8"/>
                            </a:lnTo>
                            <a:lnTo>
                              <a:pt x="33" y="6"/>
                            </a:lnTo>
                            <a:lnTo>
                              <a:pt x="35" y="5"/>
                            </a:lnTo>
                            <a:lnTo>
                              <a:pt x="36" y="5"/>
                            </a:lnTo>
                            <a:lnTo>
                              <a:pt x="38" y="3"/>
                            </a:lnTo>
                            <a:lnTo>
                              <a:pt x="41" y="2"/>
                            </a:lnTo>
                            <a:lnTo>
                              <a:pt x="44" y="2"/>
                            </a:lnTo>
                            <a:lnTo>
                              <a:pt x="45" y="0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fc012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971280" y="1964880"/>
                        <a:ext cx="59040" cy="53280"/>
                      </a:xfrm>
                      <a:prstGeom prst="ellipse">
                        <a:avLst/>
                      </a:prstGeom>
                      <a:solidFill>
                        <a:srgbClr val="fc012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0" name=""/>
                    <p:cNvGrpSpPr/>
                    <p:nvPr/>
                  </p:nvGrpSpPr>
                  <p:grpSpPr>
                    <a:xfrm>
                      <a:off x="1043640" y="1963440"/>
                      <a:ext cx="144000" cy="290160"/>
                      <a:chOff x="1043640" y="1963440"/>
                      <a:chExt cx="144000" cy="290160"/>
                    </a:xfrm>
                  </p:grpSpPr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1043640" y="2016360"/>
                        <a:ext cx="144000" cy="23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295">
                            <a:moveTo>
                              <a:pt x="47" y="0"/>
                            </a:moveTo>
                            <a:lnTo>
                              <a:pt x="127" y="0"/>
                            </a:lnTo>
                            <a:lnTo>
                              <a:pt x="129" y="0"/>
                            </a:lnTo>
                            <a:lnTo>
                              <a:pt x="130" y="0"/>
                            </a:lnTo>
                            <a:lnTo>
                              <a:pt x="132" y="2"/>
                            </a:lnTo>
                            <a:lnTo>
                              <a:pt x="135" y="2"/>
                            </a:lnTo>
                            <a:lnTo>
                              <a:pt x="136" y="3"/>
                            </a:lnTo>
                            <a:lnTo>
                              <a:pt x="138" y="5"/>
                            </a:lnTo>
                            <a:lnTo>
                              <a:pt x="139" y="5"/>
                            </a:lnTo>
                            <a:lnTo>
                              <a:pt x="140" y="8"/>
                            </a:lnTo>
                            <a:lnTo>
                              <a:pt x="142" y="8"/>
                            </a:lnTo>
                            <a:lnTo>
                              <a:pt x="143" y="9"/>
                            </a:lnTo>
                            <a:lnTo>
                              <a:pt x="145" y="11"/>
                            </a:lnTo>
                            <a:lnTo>
                              <a:pt x="145" y="14"/>
                            </a:lnTo>
                            <a:lnTo>
                              <a:pt x="146" y="15"/>
                            </a:lnTo>
                            <a:lnTo>
                              <a:pt x="146" y="17"/>
                            </a:lnTo>
                            <a:lnTo>
                              <a:pt x="148" y="18"/>
                            </a:lnTo>
                            <a:lnTo>
                              <a:pt x="148" y="21"/>
                            </a:lnTo>
                            <a:lnTo>
                              <a:pt x="148" y="24"/>
                            </a:lnTo>
                            <a:lnTo>
                              <a:pt x="149" y="27"/>
                            </a:lnTo>
                            <a:lnTo>
                              <a:pt x="173" y="112"/>
                            </a:lnTo>
                            <a:lnTo>
                              <a:pt x="173" y="113"/>
                            </a:lnTo>
                            <a:lnTo>
                              <a:pt x="173" y="115"/>
                            </a:lnTo>
                            <a:lnTo>
                              <a:pt x="173" y="118"/>
                            </a:lnTo>
                            <a:lnTo>
                              <a:pt x="173" y="119"/>
                            </a:lnTo>
                            <a:lnTo>
                              <a:pt x="171" y="121"/>
                            </a:lnTo>
                            <a:lnTo>
                              <a:pt x="170" y="122"/>
                            </a:lnTo>
                            <a:lnTo>
                              <a:pt x="168" y="123"/>
                            </a:lnTo>
                            <a:lnTo>
                              <a:pt x="167" y="125"/>
                            </a:lnTo>
                            <a:lnTo>
                              <a:pt x="165" y="125"/>
                            </a:lnTo>
                            <a:lnTo>
                              <a:pt x="162" y="126"/>
                            </a:lnTo>
                            <a:lnTo>
                              <a:pt x="161" y="126"/>
                            </a:lnTo>
                            <a:lnTo>
                              <a:pt x="160" y="126"/>
                            </a:lnTo>
                            <a:lnTo>
                              <a:pt x="158" y="126"/>
                            </a:lnTo>
                            <a:lnTo>
                              <a:pt x="157" y="126"/>
                            </a:lnTo>
                            <a:lnTo>
                              <a:pt x="155" y="125"/>
                            </a:lnTo>
                            <a:lnTo>
                              <a:pt x="154" y="125"/>
                            </a:lnTo>
                            <a:lnTo>
                              <a:pt x="151" y="123"/>
                            </a:lnTo>
                            <a:lnTo>
                              <a:pt x="151" y="122"/>
                            </a:lnTo>
                            <a:lnTo>
                              <a:pt x="149" y="121"/>
                            </a:lnTo>
                            <a:lnTo>
                              <a:pt x="148" y="119"/>
                            </a:lnTo>
                            <a:lnTo>
                              <a:pt x="148" y="118"/>
                            </a:lnTo>
                            <a:lnTo>
                              <a:pt x="126" y="41"/>
                            </a:lnTo>
                            <a:lnTo>
                              <a:pt x="117" y="41"/>
                            </a:lnTo>
                            <a:lnTo>
                              <a:pt x="155" y="182"/>
                            </a:lnTo>
                            <a:lnTo>
                              <a:pt x="124" y="182"/>
                            </a:lnTo>
                            <a:lnTo>
                              <a:pt x="126" y="282"/>
                            </a:lnTo>
                            <a:lnTo>
                              <a:pt x="124" y="283"/>
                            </a:lnTo>
                            <a:lnTo>
                              <a:pt x="124" y="285"/>
                            </a:lnTo>
                            <a:lnTo>
                              <a:pt x="123" y="288"/>
                            </a:lnTo>
                            <a:lnTo>
                              <a:pt x="123" y="289"/>
                            </a:lnTo>
                            <a:lnTo>
                              <a:pt x="121" y="290"/>
                            </a:lnTo>
                            <a:lnTo>
                              <a:pt x="120" y="292"/>
                            </a:lnTo>
                            <a:lnTo>
                              <a:pt x="119" y="293"/>
                            </a:lnTo>
                            <a:lnTo>
                              <a:pt x="117" y="293"/>
                            </a:lnTo>
                            <a:lnTo>
                              <a:pt x="114" y="295"/>
                            </a:lnTo>
                            <a:lnTo>
                              <a:pt x="113" y="295"/>
                            </a:lnTo>
                            <a:lnTo>
                              <a:pt x="111" y="295"/>
                            </a:lnTo>
                            <a:lnTo>
                              <a:pt x="110" y="295"/>
                            </a:lnTo>
                            <a:lnTo>
                              <a:pt x="107" y="295"/>
                            </a:lnTo>
                            <a:lnTo>
                              <a:pt x="105" y="295"/>
                            </a:lnTo>
                            <a:lnTo>
                              <a:pt x="104" y="293"/>
                            </a:lnTo>
                            <a:lnTo>
                              <a:pt x="102" y="293"/>
                            </a:lnTo>
                            <a:lnTo>
                              <a:pt x="101" y="292"/>
                            </a:lnTo>
                            <a:lnTo>
                              <a:pt x="99" y="290"/>
                            </a:lnTo>
                            <a:lnTo>
                              <a:pt x="98" y="289"/>
                            </a:lnTo>
                            <a:lnTo>
                              <a:pt x="97" y="289"/>
                            </a:lnTo>
                            <a:lnTo>
                              <a:pt x="97" y="288"/>
                            </a:lnTo>
                            <a:lnTo>
                              <a:pt x="95" y="286"/>
                            </a:lnTo>
                            <a:lnTo>
                              <a:pt x="95" y="285"/>
                            </a:lnTo>
                            <a:lnTo>
                              <a:pt x="95" y="283"/>
                            </a:lnTo>
                            <a:lnTo>
                              <a:pt x="94" y="282"/>
                            </a:lnTo>
                            <a:lnTo>
                              <a:pt x="95" y="184"/>
                            </a:lnTo>
                            <a:lnTo>
                              <a:pt x="79" y="184"/>
                            </a:lnTo>
                            <a:lnTo>
                              <a:pt x="79" y="282"/>
                            </a:lnTo>
                            <a:lnTo>
                              <a:pt x="79" y="283"/>
                            </a:lnTo>
                            <a:lnTo>
                              <a:pt x="79" y="285"/>
                            </a:lnTo>
                            <a:lnTo>
                              <a:pt x="78" y="286"/>
                            </a:lnTo>
                            <a:lnTo>
                              <a:pt x="78" y="288"/>
                            </a:lnTo>
                            <a:lnTo>
                              <a:pt x="76" y="289"/>
                            </a:lnTo>
                            <a:lnTo>
                              <a:pt x="75" y="290"/>
                            </a:lnTo>
                            <a:lnTo>
                              <a:pt x="73" y="292"/>
                            </a:lnTo>
                            <a:lnTo>
                              <a:pt x="72" y="292"/>
                            </a:lnTo>
                            <a:lnTo>
                              <a:pt x="70" y="293"/>
                            </a:lnTo>
                            <a:lnTo>
                              <a:pt x="69" y="295"/>
                            </a:lnTo>
                            <a:lnTo>
                              <a:pt x="67" y="295"/>
                            </a:lnTo>
                            <a:lnTo>
                              <a:pt x="64" y="295"/>
                            </a:lnTo>
                            <a:lnTo>
                              <a:pt x="63" y="295"/>
                            </a:lnTo>
                            <a:lnTo>
                              <a:pt x="61" y="295"/>
                            </a:lnTo>
                            <a:lnTo>
                              <a:pt x="60" y="295"/>
                            </a:lnTo>
                            <a:lnTo>
                              <a:pt x="57" y="293"/>
                            </a:lnTo>
                            <a:lnTo>
                              <a:pt x="56" y="293"/>
                            </a:lnTo>
                            <a:lnTo>
                              <a:pt x="54" y="292"/>
                            </a:lnTo>
                            <a:lnTo>
                              <a:pt x="53" y="292"/>
                            </a:lnTo>
                            <a:lnTo>
                              <a:pt x="51" y="290"/>
                            </a:lnTo>
                            <a:lnTo>
                              <a:pt x="51" y="289"/>
                            </a:lnTo>
                            <a:lnTo>
                              <a:pt x="50" y="288"/>
                            </a:lnTo>
                            <a:lnTo>
                              <a:pt x="50" y="286"/>
                            </a:lnTo>
                            <a:lnTo>
                              <a:pt x="48" y="285"/>
                            </a:lnTo>
                            <a:lnTo>
                              <a:pt x="48" y="283"/>
                            </a:lnTo>
                            <a:lnTo>
                              <a:pt x="48" y="282"/>
                            </a:lnTo>
                            <a:lnTo>
                              <a:pt x="48" y="184"/>
                            </a:lnTo>
                            <a:lnTo>
                              <a:pt x="17" y="184"/>
                            </a:lnTo>
                            <a:lnTo>
                              <a:pt x="56" y="41"/>
                            </a:lnTo>
                            <a:lnTo>
                              <a:pt x="48" y="41"/>
                            </a:lnTo>
                            <a:lnTo>
                              <a:pt x="25" y="119"/>
                            </a:lnTo>
                            <a:lnTo>
                              <a:pt x="25" y="121"/>
                            </a:lnTo>
                            <a:lnTo>
                              <a:pt x="23" y="122"/>
                            </a:lnTo>
                            <a:lnTo>
                              <a:pt x="22" y="125"/>
                            </a:lnTo>
                            <a:lnTo>
                              <a:pt x="22" y="126"/>
                            </a:lnTo>
                            <a:lnTo>
                              <a:pt x="19" y="126"/>
                            </a:lnTo>
                            <a:lnTo>
                              <a:pt x="19" y="128"/>
                            </a:lnTo>
                            <a:lnTo>
                              <a:pt x="16" y="128"/>
                            </a:lnTo>
                            <a:lnTo>
                              <a:pt x="15" y="129"/>
                            </a:lnTo>
                            <a:lnTo>
                              <a:pt x="12" y="128"/>
                            </a:lnTo>
                            <a:lnTo>
                              <a:pt x="10" y="128"/>
                            </a:lnTo>
                            <a:lnTo>
                              <a:pt x="9" y="128"/>
                            </a:lnTo>
                            <a:lnTo>
                              <a:pt x="6" y="128"/>
                            </a:lnTo>
                            <a:lnTo>
                              <a:pt x="4" y="126"/>
                            </a:lnTo>
                            <a:lnTo>
                              <a:pt x="3" y="125"/>
                            </a:lnTo>
                            <a:lnTo>
                              <a:pt x="3" y="123"/>
                            </a:lnTo>
                            <a:lnTo>
                              <a:pt x="1" y="122"/>
                            </a:lnTo>
                            <a:lnTo>
                              <a:pt x="0" y="121"/>
                            </a:lnTo>
                            <a:lnTo>
                              <a:pt x="0" y="119"/>
                            </a:lnTo>
                            <a:lnTo>
                              <a:pt x="0" y="118"/>
                            </a:lnTo>
                            <a:lnTo>
                              <a:pt x="0" y="116"/>
                            </a:lnTo>
                            <a:lnTo>
                              <a:pt x="0" y="115"/>
                            </a:lnTo>
                            <a:lnTo>
                              <a:pt x="0" y="113"/>
                            </a:lnTo>
                            <a:lnTo>
                              <a:pt x="25" y="25"/>
                            </a:lnTo>
                            <a:lnTo>
                              <a:pt x="25" y="22"/>
                            </a:lnTo>
                            <a:lnTo>
                              <a:pt x="25" y="21"/>
                            </a:lnTo>
                            <a:lnTo>
                              <a:pt x="25" y="19"/>
                            </a:lnTo>
                            <a:lnTo>
                              <a:pt x="26" y="18"/>
                            </a:lnTo>
                            <a:lnTo>
                              <a:pt x="26" y="15"/>
                            </a:lnTo>
                            <a:lnTo>
                              <a:pt x="28" y="14"/>
                            </a:lnTo>
                            <a:lnTo>
                              <a:pt x="29" y="12"/>
                            </a:lnTo>
                            <a:lnTo>
                              <a:pt x="29" y="11"/>
                            </a:lnTo>
                            <a:lnTo>
                              <a:pt x="31" y="9"/>
                            </a:lnTo>
                            <a:lnTo>
                              <a:pt x="32" y="8"/>
                            </a:lnTo>
                            <a:lnTo>
                              <a:pt x="34" y="5"/>
                            </a:lnTo>
                            <a:lnTo>
                              <a:pt x="35" y="5"/>
                            </a:lnTo>
                            <a:lnTo>
                              <a:pt x="36" y="3"/>
                            </a:lnTo>
                            <a:lnTo>
                              <a:pt x="39" y="2"/>
                            </a:lnTo>
                            <a:lnTo>
                              <a:pt x="41" y="2"/>
                            </a:lnTo>
                            <a:lnTo>
                              <a:pt x="44" y="0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00ae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1088280" y="1963440"/>
                        <a:ext cx="54360" cy="52920"/>
                      </a:xfrm>
                      <a:prstGeom prst="ellipse">
                        <a:avLst/>
                      </a:prstGeom>
                      <a:solidFill>
                        <a:srgbClr val="00ae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3" name=""/>
                    <p:cNvSpPr/>
                    <p:nvPr/>
                  </p:nvSpPr>
                  <p:spPr>
                    <a:xfrm>
                      <a:off x="672120" y="1520640"/>
                      <a:ext cx="92160" cy="9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" spc="-1" strike="noStrike">
                          <a:solidFill>
                            <a:srgbClr val="ffffff"/>
                          </a:solidFill>
                          <a:latin typeface="全真楷書"/>
                          <a:ea typeface="全真楷書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>
                      <a:off x="645120" y="1601280"/>
                      <a:ext cx="142560" cy="1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5" name=""/>
                    <p:cNvSpPr/>
                    <p:nvPr/>
                  </p:nvSpPr>
                  <p:spPr>
                    <a:xfrm>
                      <a:off x="818280" y="1601280"/>
                      <a:ext cx="26640" cy="1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853200" y="1601280"/>
                      <a:ext cx="31320" cy="1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656280" y="1506600"/>
                      <a:ext cx="2624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4668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46682"/>
                        </a:path>
                      </a:pathLst>
                    </a:custGeom>
                    <a:noFill/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8" name=""/>
                    <p:cNvSpPr/>
                    <p:nvPr/>
                  </p:nvSpPr>
                  <p:spPr>
                    <a:xfrm>
                      <a:off x="821520" y="1725120"/>
                      <a:ext cx="28080" cy="1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9" name=""/>
                    <p:cNvSpPr/>
                    <p:nvPr/>
                  </p:nvSpPr>
                  <p:spPr>
                    <a:xfrm>
                      <a:off x="857880" y="1725120"/>
                      <a:ext cx="29880" cy="180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>
                      <a:off x="786600" y="1641240"/>
                      <a:ext cx="92160" cy="9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" spc="-1" strike="noStrike">
                          <a:solidFill>
                            <a:srgbClr val="ffffff"/>
                          </a:solidFill>
                          <a:latin typeface="全真楷書"/>
                          <a:ea typeface="全真楷書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91" name=""/>
                    <p:cNvGrpSpPr/>
                    <p:nvPr/>
                  </p:nvGrpSpPr>
                  <p:grpSpPr>
                    <a:xfrm>
                      <a:off x="919440" y="1537920"/>
                      <a:ext cx="153000" cy="195120"/>
                      <a:chOff x="919440" y="1537920"/>
                      <a:chExt cx="153000" cy="195120"/>
                    </a:xfrm>
                  </p:grpSpPr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919440" y="1537920"/>
                        <a:ext cx="153000" cy="61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TW" sz="400" spc="-1" strike="noStrike">
                            <a:solidFill>
                              <a:srgbClr val="ffffff"/>
                            </a:solidFill>
                            <a:latin typeface="全真楷書"/>
                            <a:ea typeface="全真楷書"/>
                          </a:rPr>
                          <a:t>12:45</a:t>
                        </a:r>
                        <a:endParaRPr b="0" lang="en-US" sz="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919440" y="1671840"/>
                        <a:ext cx="153000" cy="61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TW" sz="400" spc="-1" strike="noStrike">
                            <a:solidFill>
                              <a:srgbClr val="ffffff"/>
                            </a:solidFill>
                            <a:latin typeface="全真楷書"/>
                            <a:ea typeface="全真楷書"/>
                          </a:rPr>
                          <a:t>12:53</a:t>
                        </a:r>
                        <a:endParaRPr b="0" lang="en-US" sz="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833760" y="2304720"/>
                      <a:ext cx="32076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車站資訊看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1846800" y="2476080"/>
                      <a:ext cx="32076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公車優先通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7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36040" y="1409400"/>
                      <a:ext cx="68544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797" name=""/>
                    <p:cNvGrpSpPr/>
                    <p:nvPr/>
                  </p:nvGrpSpPr>
                  <p:grpSpPr>
                    <a:xfrm>
                      <a:off x="1042200" y="1007640"/>
                      <a:ext cx="261360" cy="145800"/>
                      <a:chOff x="1042200" y="1007640"/>
                      <a:chExt cx="261360" cy="145800"/>
                    </a:xfrm>
                  </p:grpSpPr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1141560" y="1070280"/>
                        <a:ext cx="7920" cy="7920"/>
                      </a:xfrm>
                      <a:prstGeom prst="rect">
                        <a:avLst/>
                      </a:pr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1151280" y="1070280"/>
                        <a:ext cx="10080" cy="7920"/>
                      </a:xfrm>
                      <a:prstGeom prst="rect">
                        <a:avLst/>
                      </a:prstGeom>
                      <a:solidFill>
                        <a:srgbClr val="4a4a4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0" name=""/>
                      <p:cNvSpPr/>
                      <p:nvPr/>
                    </p:nvSpPr>
                    <p:spPr>
                      <a:xfrm>
                        <a:off x="1161360" y="1070280"/>
                        <a:ext cx="972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1171080" y="1070280"/>
                        <a:ext cx="10080" cy="7920"/>
                      </a:xfrm>
                      <a:prstGeom prst="rect">
                        <a:avLst/>
                      </a:pr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1182960" y="1070280"/>
                        <a:ext cx="7920" cy="7920"/>
                      </a:xfrm>
                      <a:prstGeom prst="rect">
                        <a:avLst/>
                      </a:prstGeom>
                      <a:solidFill>
                        <a:srgbClr val="a59b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1192680" y="1070280"/>
                        <a:ext cx="7920" cy="7920"/>
                      </a:xfrm>
                      <a:prstGeom prst="rect">
                        <a:avLst/>
                      </a:prstGeom>
                      <a:solidFill>
                        <a:srgbClr val="655e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1042200" y="1007640"/>
                        <a:ext cx="26136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72">
                            <a:moveTo>
                              <a:pt x="22" y="12"/>
                            </a:moveTo>
                            <a:lnTo>
                              <a:pt x="66" y="6"/>
                            </a:lnTo>
                            <a:lnTo>
                              <a:pt x="110" y="2"/>
                            </a:lnTo>
                            <a:lnTo>
                              <a:pt x="152" y="0"/>
                            </a:lnTo>
                            <a:lnTo>
                              <a:pt x="196" y="2"/>
                            </a:lnTo>
                            <a:lnTo>
                              <a:pt x="240" y="5"/>
                            </a:lnTo>
                            <a:lnTo>
                              <a:pt x="283" y="10"/>
                            </a:lnTo>
                            <a:lnTo>
                              <a:pt x="296" y="15"/>
                            </a:lnTo>
                            <a:lnTo>
                              <a:pt x="312" y="34"/>
                            </a:lnTo>
                            <a:lnTo>
                              <a:pt x="316" y="56"/>
                            </a:lnTo>
                            <a:lnTo>
                              <a:pt x="309" y="72"/>
                            </a:lnTo>
                            <a:lnTo>
                              <a:pt x="231" y="63"/>
                            </a:lnTo>
                            <a:lnTo>
                              <a:pt x="234" y="46"/>
                            </a:lnTo>
                            <a:lnTo>
                              <a:pt x="239" y="37"/>
                            </a:lnTo>
                            <a:lnTo>
                              <a:pt x="242" y="32"/>
                            </a:lnTo>
                            <a:lnTo>
                              <a:pt x="205" y="30"/>
                            </a:lnTo>
                            <a:lnTo>
                              <a:pt x="170" y="28"/>
                            </a:lnTo>
                            <a:lnTo>
                              <a:pt x="139" y="28"/>
                            </a:lnTo>
                            <a:lnTo>
                              <a:pt x="104" y="30"/>
                            </a:lnTo>
                            <a:lnTo>
                              <a:pt x="75" y="34"/>
                            </a:lnTo>
                            <a:lnTo>
                              <a:pt x="72" y="37"/>
                            </a:lnTo>
                            <a:lnTo>
                              <a:pt x="83" y="44"/>
                            </a:lnTo>
                            <a:lnTo>
                              <a:pt x="83" y="59"/>
                            </a:lnTo>
                            <a:lnTo>
                              <a:pt x="7" y="71"/>
                            </a:lnTo>
                            <a:lnTo>
                              <a:pt x="0" y="53"/>
                            </a:lnTo>
                            <a:lnTo>
                              <a:pt x="4" y="30"/>
                            </a:lnTo>
                            <a:lnTo>
                              <a:pt x="22" y="12"/>
                            </a:lnTo>
                            <a:close/>
                          </a:path>
                        </a:pathLst>
                      </a:cu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5" name=""/>
                      <p:cNvSpPr/>
                      <p:nvPr/>
                    </p:nvSpPr>
                    <p:spPr>
                      <a:xfrm flipH="1" flipV="1">
                        <a:off x="1236960" y="1041120"/>
                        <a:ext cx="6444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6" name=""/>
                      <p:cNvSpPr/>
                      <p:nvPr/>
                    </p:nvSpPr>
                    <p:spPr>
                      <a:xfrm flipV="1">
                        <a:off x="1042200" y="1041120"/>
                        <a:ext cx="5616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1042200" y="1007640"/>
                        <a:ext cx="26136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72">
                            <a:moveTo>
                              <a:pt x="22" y="12"/>
                            </a:moveTo>
                            <a:lnTo>
                              <a:pt x="66" y="6"/>
                            </a:lnTo>
                            <a:lnTo>
                              <a:pt x="110" y="2"/>
                            </a:lnTo>
                            <a:lnTo>
                              <a:pt x="152" y="0"/>
                            </a:lnTo>
                            <a:lnTo>
                              <a:pt x="196" y="2"/>
                            </a:lnTo>
                            <a:lnTo>
                              <a:pt x="240" y="5"/>
                            </a:lnTo>
                            <a:lnTo>
                              <a:pt x="283" y="10"/>
                            </a:lnTo>
                            <a:lnTo>
                              <a:pt x="296" y="15"/>
                            </a:lnTo>
                            <a:lnTo>
                              <a:pt x="312" y="34"/>
                            </a:lnTo>
                            <a:lnTo>
                              <a:pt x="316" y="56"/>
                            </a:lnTo>
                            <a:lnTo>
                              <a:pt x="309" y="72"/>
                            </a:lnTo>
                            <a:lnTo>
                              <a:pt x="231" y="63"/>
                            </a:lnTo>
                            <a:lnTo>
                              <a:pt x="234" y="46"/>
                            </a:lnTo>
                            <a:lnTo>
                              <a:pt x="239" y="37"/>
                            </a:lnTo>
                            <a:lnTo>
                              <a:pt x="242" y="32"/>
                            </a:lnTo>
                            <a:lnTo>
                              <a:pt x="205" y="30"/>
                            </a:lnTo>
                            <a:lnTo>
                              <a:pt x="170" y="28"/>
                            </a:lnTo>
                            <a:lnTo>
                              <a:pt x="139" y="28"/>
                            </a:lnTo>
                            <a:lnTo>
                              <a:pt x="104" y="30"/>
                            </a:lnTo>
                            <a:lnTo>
                              <a:pt x="75" y="34"/>
                            </a:lnTo>
                            <a:lnTo>
                              <a:pt x="72" y="37"/>
                            </a:lnTo>
                            <a:lnTo>
                              <a:pt x="83" y="44"/>
                            </a:lnTo>
                            <a:lnTo>
                              <a:pt x="83" y="59"/>
                            </a:lnTo>
                            <a:lnTo>
                              <a:pt x="7" y="71"/>
                            </a:lnTo>
                            <a:lnTo>
                              <a:pt x="0" y="53"/>
                            </a:lnTo>
                            <a:lnTo>
                              <a:pt x="4" y="30"/>
                            </a:lnTo>
                            <a:lnTo>
                              <a:pt x="22" y="1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1091520" y="1036080"/>
                        <a:ext cx="150840" cy="6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86">
                            <a:moveTo>
                              <a:pt x="10" y="0"/>
                            </a:moveTo>
                            <a:lnTo>
                              <a:pt x="174" y="0"/>
                            </a:lnTo>
                            <a:lnTo>
                              <a:pt x="182" y="86"/>
                            </a:lnTo>
                            <a:lnTo>
                              <a:pt x="0" y="86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320" bIns="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1103400" y="1041120"/>
                        <a:ext cx="1306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74">
                            <a:moveTo>
                              <a:pt x="8" y="0"/>
                            </a:moveTo>
                            <a:lnTo>
                              <a:pt x="0" y="74"/>
                            </a:lnTo>
                            <a:lnTo>
                              <a:pt x="158" y="74"/>
                            </a:lnTo>
                            <a:lnTo>
                              <a:pt x="154" y="0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4a4a4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1091520" y="1036080"/>
                        <a:ext cx="150840" cy="6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86">
                            <a:moveTo>
                              <a:pt x="10" y="0"/>
                            </a:moveTo>
                            <a:lnTo>
                              <a:pt x="174" y="0"/>
                            </a:lnTo>
                            <a:lnTo>
                              <a:pt x="182" y="86"/>
                            </a:lnTo>
                            <a:lnTo>
                              <a:pt x="0" y="86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320" bIns="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1088640" y="1105560"/>
                        <a:ext cx="162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56">
                            <a:moveTo>
                              <a:pt x="184" y="0"/>
                            </a:moveTo>
                            <a:lnTo>
                              <a:pt x="196" y="56"/>
                            </a:lnTo>
                            <a:lnTo>
                              <a:pt x="0" y="56"/>
                            </a:lnTo>
                            <a:lnTo>
                              <a:pt x="4" y="0"/>
                            </a:lnTo>
                            <a:lnTo>
                              <a:pt x="184" y="0"/>
                            </a:lnTo>
                            <a:close/>
                          </a:path>
                        </a:pathLst>
                      </a:custGeom>
                      <a:solidFill>
                        <a:srgbClr val="a59b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1088640" y="1105560"/>
                        <a:ext cx="162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56">
                            <a:moveTo>
                              <a:pt x="184" y="0"/>
                            </a:moveTo>
                            <a:lnTo>
                              <a:pt x="196" y="56"/>
                            </a:lnTo>
                            <a:lnTo>
                              <a:pt x="0" y="56"/>
                            </a:lnTo>
                            <a:lnTo>
                              <a:pt x="4" y="0"/>
                            </a:lnTo>
                            <a:lnTo>
                              <a:pt x="18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1235880" y="1036080"/>
                        <a:ext cx="14760" cy="11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8">
                            <a:moveTo>
                              <a:pt x="0" y="0"/>
                            </a:moveTo>
                            <a:lnTo>
                              <a:pt x="6" y="88"/>
                            </a:lnTo>
                            <a:lnTo>
                              <a:pt x="18" y="138"/>
                            </a:lnTo>
                            <a:lnTo>
                              <a:pt x="13" y="3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55e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1235880" y="1036080"/>
                        <a:ext cx="14760" cy="11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8">
                            <a:moveTo>
                              <a:pt x="0" y="0"/>
                            </a:moveTo>
                            <a:lnTo>
                              <a:pt x="6" y="88"/>
                            </a:lnTo>
                            <a:lnTo>
                              <a:pt x="18" y="138"/>
                            </a:lnTo>
                            <a:lnTo>
                              <a:pt x="13" y="3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1141560" y="1046160"/>
                        <a:ext cx="54360" cy="43200"/>
                      </a:xfrm>
                      <a:prstGeom prst="rect">
                        <a:avLst/>
                      </a:prstGeom>
                      <a:solidFill>
                        <a:srgbClr val="b3b3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1179360" y="1044360"/>
                        <a:ext cx="1800" cy="48240"/>
                      </a:xfrm>
                      <a:prstGeom prst="line">
                        <a:avLst/>
                      </a:prstGeom>
                      <a:ln w="3240">
                        <a:solidFill>
                          <a:srgbClr val="4a4a4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1199520" y="1015560"/>
                        <a:ext cx="162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5">
                            <a:moveTo>
                              <a:pt x="0" y="25"/>
                            </a:moveTo>
                            <a:lnTo>
                              <a:pt x="2" y="0"/>
                            </a:lnTo>
                            <a:lnTo>
                              <a:pt x="18" y="0"/>
                            </a:lnTo>
                            <a:lnTo>
                              <a:pt x="21" y="25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1199520" y="1029960"/>
                        <a:ext cx="16200" cy="4680"/>
                      </a:xfrm>
                      <a:prstGeom prst="rect">
                        <a:avLst/>
                      </a:prstGeom>
                      <a:solidFill>
                        <a:srgbClr val="655e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1199520" y="1015560"/>
                        <a:ext cx="16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7">
                            <a:moveTo>
                              <a:pt x="0" y="25"/>
                            </a:moveTo>
                            <a:lnTo>
                              <a:pt x="2" y="0"/>
                            </a:lnTo>
                            <a:lnTo>
                              <a:pt x="18" y="0"/>
                            </a:lnTo>
                            <a:lnTo>
                              <a:pt x="21" y="27"/>
                            </a:ln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0" name=""/>
                      <p:cNvSpPr/>
                      <p:nvPr/>
                    </p:nvSpPr>
                    <p:spPr>
                      <a:xfrm flipH="1">
                        <a:off x="1141560" y="1068480"/>
                        <a:ext cx="6120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4a4a4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1" name=""/>
                      <p:cNvSpPr/>
                      <p:nvPr/>
                    </p:nvSpPr>
                    <p:spPr>
                      <a:xfrm flipH="1">
                        <a:off x="1139400" y="1079640"/>
                        <a:ext cx="6300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4a4a4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 flipH="1">
                        <a:off x="1141560" y="1055520"/>
                        <a:ext cx="62640" cy="1440"/>
                      </a:xfrm>
                      <a:prstGeom prst="line">
                        <a:avLst/>
                      </a:prstGeom>
                      <a:ln w="3240">
                        <a:solidFill>
                          <a:srgbClr val="4a4a4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1095120" y="1152000"/>
                        <a:ext cx="2448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 flipH="1">
                        <a:off x="1215720" y="1152000"/>
                        <a:ext cx="2448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5" name=""/>
                      <p:cNvSpPr/>
                      <p:nvPr/>
                    </p:nvSpPr>
                    <p:spPr>
                      <a:xfrm>
                        <a:off x="1159560" y="1044360"/>
                        <a:ext cx="1800" cy="48240"/>
                      </a:xfrm>
                      <a:prstGeom prst="line">
                        <a:avLst/>
                      </a:prstGeom>
                      <a:ln w="3240">
                        <a:solidFill>
                          <a:srgbClr val="4a4a4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6" name=""/>
                      <p:cNvSpPr/>
                      <p:nvPr/>
                    </p:nvSpPr>
                    <p:spPr>
                      <a:xfrm>
                        <a:off x="1121760" y="101556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25">
                            <a:moveTo>
                              <a:pt x="0" y="25"/>
                            </a:moveTo>
                            <a:lnTo>
                              <a:pt x="2" y="0"/>
                            </a:lnTo>
                            <a:lnTo>
                              <a:pt x="18" y="0"/>
                            </a:lnTo>
                            <a:lnTo>
                              <a:pt x="19" y="25"/>
                            </a:lnTo>
                            <a:lnTo>
                              <a:pt x="0" y="25"/>
                            </a:lnTo>
                            <a:close/>
                          </a:path>
                        </a:pathLst>
                      </a:custGeom>
                      <a:solidFill>
                        <a:srgbClr val="c5a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7" name=""/>
                      <p:cNvSpPr/>
                      <p:nvPr/>
                    </p:nvSpPr>
                    <p:spPr>
                      <a:xfrm>
                        <a:off x="1121760" y="1029960"/>
                        <a:ext cx="14400" cy="4680"/>
                      </a:xfrm>
                      <a:prstGeom prst="rect">
                        <a:avLst/>
                      </a:prstGeom>
                      <a:solidFill>
                        <a:srgbClr val="655e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8" name=""/>
                      <p:cNvSpPr/>
                      <p:nvPr/>
                    </p:nvSpPr>
                    <p:spPr>
                      <a:xfrm>
                        <a:off x="1121760" y="1015560"/>
                        <a:ext cx="144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27">
                            <a:moveTo>
                              <a:pt x="0" y="25"/>
                            </a:moveTo>
                            <a:lnTo>
                              <a:pt x="2" y="0"/>
                            </a:lnTo>
                            <a:lnTo>
                              <a:pt x="18" y="0"/>
                            </a:lnTo>
                            <a:lnTo>
                              <a:pt x="19" y="27"/>
                            </a:lnTo>
                            <a:lnTo>
                              <a:pt x="0" y="2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1277280" y="1149120"/>
                      <a:ext cx="145440" cy="39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483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31" y="4"/>
                          </a:lnTo>
                          <a:lnTo>
                            <a:pt x="44" y="18"/>
                          </a:lnTo>
                          <a:lnTo>
                            <a:pt x="57" y="31"/>
                          </a:lnTo>
                          <a:lnTo>
                            <a:pt x="70" y="44"/>
                          </a:lnTo>
                          <a:lnTo>
                            <a:pt x="84" y="57"/>
                          </a:lnTo>
                          <a:lnTo>
                            <a:pt x="92" y="70"/>
                          </a:lnTo>
                          <a:lnTo>
                            <a:pt x="101" y="84"/>
                          </a:lnTo>
                          <a:lnTo>
                            <a:pt x="106" y="97"/>
                          </a:lnTo>
                          <a:lnTo>
                            <a:pt x="106" y="110"/>
                          </a:lnTo>
                          <a:lnTo>
                            <a:pt x="110" y="123"/>
                          </a:lnTo>
                          <a:lnTo>
                            <a:pt x="110" y="136"/>
                          </a:lnTo>
                          <a:lnTo>
                            <a:pt x="110" y="149"/>
                          </a:lnTo>
                          <a:lnTo>
                            <a:pt x="110" y="163"/>
                          </a:lnTo>
                          <a:lnTo>
                            <a:pt x="110" y="176"/>
                          </a:lnTo>
                          <a:lnTo>
                            <a:pt x="106" y="189"/>
                          </a:lnTo>
                          <a:lnTo>
                            <a:pt x="101" y="202"/>
                          </a:lnTo>
                          <a:lnTo>
                            <a:pt x="97" y="215"/>
                          </a:lnTo>
                          <a:lnTo>
                            <a:pt x="92" y="229"/>
                          </a:lnTo>
                          <a:lnTo>
                            <a:pt x="84" y="242"/>
                          </a:lnTo>
                          <a:lnTo>
                            <a:pt x="84" y="255"/>
                          </a:lnTo>
                          <a:lnTo>
                            <a:pt x="79" y="268"/>
                          </a:lnTo>
                          <a:lnTo>
                            <a:pt x="79" y="281"/>
                          </a:lnTo>
                          <a:lnTo>
                            <a:pt x="79" y="294"/>
                          </a:lnTo>
                          <a:lnTo>
                            <a:pt x="79" y="308"/>
                          </a:lnTo>
                          <a:lnTo>
                            <a:pt x="79" y="321"/>
                          </a:lnTo>
                          <a:lnTo>
                            <a:pt x="79" y="334"/>
                          </a:lnTo>
                          <a:lnTo>
                            <a:pt x="79" y="347"/>
                          </a:lnTo>
                          <a:lnTo>
                            <a:pt x="79" y="360"/>
                          </a:lnTo>
                          <a:lnTo>
                            <a:pt x="79" y="374"/>
                          </a:lnTo>
                          <a:lnTo>
                            <a:pt x="84" y="387"/>
                          </a:lnTo>
                          <a:lnTo>
                            <a:pt x="92" y="400"/>
                          </a:lnTo>
                          <a:lnTo>
                            <a:pt x="106" y="409"/>
                          </a:lnTo>
                          <a:lnTo>
                            <a:pt x="110" y="422"/>
                          </a:lnTo>
                          <a:lnTo>
                            <a:pt x="123" y="435"/>
                          </a:lnTo>
                          <a:lnTo>
                            <a:pt x="132" y="448"/>
                          </a:lnTo>
                          <a:lnTo>
                            <a:pt x="141" y="461"/>
                          </a:lnTo>
                          <a:lnTo>
                            <a:pt x="154" y="466"/>
                          </a:lnTo>
                          <a:lnTo>
                            <a:pt x="163" y="479"/>
                          </a:lnTo>
                          <a:lnTo>
                            <a:pt x="176" y="48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1629720" y="1109160"/>
                      <a:ext cx="20268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6" h="373">
                          <a:moveTo>
                            <a:pt x="0" y="4"/>
                          </a:moveTo>
                          <a:lnTo>
                            <a:pt x="18" y="0"/>
                          </a:lnTo>
                          <a:lnTo>
                            <a:pt x="31" y="0"/>
                          </a:lnTo>
                          <a:lnTo>
                            <a:pt x="44" y="0"/>
                          </a:lnTo>
                          <a:lnTo>
                            <a:pt x="57" y="0"/>
                          </a:lnTo>
                          <a:lnTo>
                            <a:pt x="75" y="0"/>
                          </a:lnTo>
                          <a:lnTo>
                            <a:pt x="88" y="0"/>
                          </a:lnTo>
                          <a:lnTo>
                            <a:pt x="101" y="4"/>
                          </a:lnTo>
                          <a:lnTo>
                            <a:pt x="119" y="13"/>
                          </a:lnTo>
                          <a:lnTo>
                            <a:pt x="132" y="22"/>
                          </a:lnTo>
                          <a:lnTo>
                            <a:pt x="145" y="26"/>
                          </a:lnTo>
                          <a:lnTo>
                            <a:pt x="159" y="30"/>
                          </a:lnTo>
                          <a:lnTo>
                            <a:pt x="172" y="35"/>
                          </a:lnTo>
                          <a:lnTo>
                            <a:pt x="185" y="44"/>
                          </a:lnTo>
                          <a:lnTo>
                            <a:pt x="198" y="48"/>
                          </a:lnTo>
                          <a:lnTo>
                            <a:pt x="211" y="61"/>
                          </a:lnTo>
                          <a:lnTo>
                            <a:pt x="220" y="74"/>
                          </a:lnTo>
                          <a:lnTo>
                            <a:pt x="229" y="88"/>
                          </a:lnTo>
                          <a:lnTo>
                            <a:pt x="233" y="101"/>
                          </a:lnTo>
                          <a:lnTo>
                            <a:pt x="238" y="114"/>
                          </a:lnTo>
                          <a:lnTo>
                            <a:pt x="242" y="127"/>
                          </a:lnTo>
                          <a:lnTo>
                            <a:pt x="246" y="140"/>
                          </a:lnTo>
                          <a:lnTo>
                            <a:pt x="246" y="153"/>
                          </a:lnTo>
                          <a:lnTo>
                            <a:pt x="246" y="167"/>
                          </a:lnTo>
                          <a:lnTo>
                            <a:pt x="238" y="180"/>
                          </a:lnTo>
                          <a:lnTo>
                            <a:pt x="224" y="189"/>
                          </a:lnTo>
                          <a:lnTo>
                            <a:pt x="211" y="202"/>
                          </a:lnTo>
                          <a:lnTo>
                            <a:pt x="198" y="211"/>
                          </a:lnTo>
                          <a:lnTo>
                            <a:pt x="185" y="219"/>
                          </a:lnTo>
                          <a:lnTo>
                            <a:pt x="172" y="224"/>
                          </a:lnTo>
                          <a:lnTo>
                            <a:pt x="159" y="233"/>
                          </a:lnTo>
                          <a:lnTo>
                            <a:pt x="145" y="233"/>
                          </a:lnTo>
                          <a:lnTo>
                            <a:pt x="132" y="237"/>
                          </a:lnTo>
                          <a:lnTo>
                            <a:pt x="119" y="241"/>
                          </a:lnTo>
                          <a:lnTo>
                            <a:pt x="106" y="246"/>
                          </a:lnTo>
                          <a:lnTo>
                            <a:pt x="88" y="250"/>
                          </a:lnTo>
                          <a:lnTo>
                            <a:pt x="71" y="255"/>
                          </a:lnTo>
                          <a:lnTo>
                            <a:pt x="57" y="259"/>
                          </a:lnTo>
                          <a:lnTo>
                            <a:pt x="44" y="263"/>
                          </a:lnTo>
                          <a:lnTo>
                            <a:pt x="31" y="272"/>
                          </a:lnTo>
                          <a:lnTo>
                            <a:pt x="18" y="281"/>
                          </a:lnTo>
                          <a:lnTo>
                            <a:pt x="14" y="294"/>
                          </a:lnTo>
                          <a:lnTo>
                            <a:pt x="9" y="307"/>
                          </a:lnTo>
                          <a:lnTo>
                            <a:pt x="5" y="321"/>
                          </a:lnTo>
                          <a:lnTo>
                            <a:pt x="0" y="334"/>
                          </a:lnTo>
                          <a:lnTo>
                            <a:pt x="0" y="347"/>
                          </a:lnTo>
                          <a:lnTo>
                            <a:pt x="0" y="360"/>
                          </a:lnTo>
                          <a:lnTo>
                            <a:pt x="0" y="37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1546560" y="1833120"/>
                      <a:ext cx="549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大眾運輸控制中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1181880" y="1731600"/>
                      <a:ext cx="244080" cy="44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554">
                          <a:moveTo>
                            <a:pt x="294" y="0"/>
                          </a:moveTo>
                          <a:lnTo>
                            <a:pt x="281" y="0"/>
                          </a:lnTo>
                          <a:lnTo>
                            <a:pt x="268" y="4"/>
                          </a:lnTo>
                          <a:lnTo>
                            <a:pt x="255" y="13"/>
                          </a:lnTo>
                          <a:lnTo>
                            <a:pt x="242" y="22"/>
                          </a:lnTo>
                          <a:lnTo>
                            <a:pt x="233" y="35"/>
                          </a:lnTo>
                          <a:lnTo>
                            <a:pt x="220" y="48"/>
                          </a:lnTo>
                          <a:lnTo>
                            <a:pt x="206" y="57"/>
                          </a:lnTo>
                          <a:lnTo>
                            <a:pt x="198" y="70"/>
                          </a:lnTo>
                          <a:lnTo>
                            <a:pt x="184" y="79"/>
                          </a:lnTo>
                          <a:lnTo>
                            <a:pt x="171" y="88"/>
                          </a:lnTo>
                          <a:lnTo>
                            <a:pt x="158" y="101"/>
                          </a:lnTo>
                          <a:lnTo>
                            <a:pt x="145" y="114"/>
                          </a:lnTo>
                          <a:lnTo>
                            <a:pt x="132" y="127"/>
                          </a:lnTo>
                          <a:lnTo>
                            <a:pt x="127" y="140"/>
                          </a:lnTo>
                          <a:lnTo>
                            <a:pt x="114" y="158"/>
                          </a:lnTo>
                          <a:lnTo>
                            <a:pt x="110" y="171"/>
                          </a:lnTo>
                          <a:lnTo>
                            <a:pt x="110" y="184"/>
                          </a:lnTo>
                          <a:lnTo>
                            <a:pt x="105" y="198"/>
                          </a:lnTo>
                          <a:lnTo>
                            <a:pt x="105" y="211"/>
                          </a:lnTo>
                          <a:lnTo>
                            <a:pt x="105" y="224"/>
                          </a:lnTo>
                          <a:lnTo>
                            <a:pt x="105" y="237"/>
                          </a:lnTo>
                          <a:lnTo>
                            <a:pt x="105" y="250"/>
                          </a:lnTo>
                          <a:lnTo>
                            <a:pt x="105" y="263"/>
                          </a:lnTo>
                          <a:lnTo>
                            <a:pt x="110" y="277"/>
                          </a:lnTo>
                          <a:lnTo>
                            <a:pt x="123" y="294"/>
                          </a:lnTo>
                          <a:lnTo>
                            <a:pt x="136" y="303"/>
                          </a:lnTo>
                          <a:lnTo>
                            <a:pt x="149" y="312"/>
                          </a:lnTo>
                          <a:lnTo>
                            <a:pt x="162" y="321"/>
                          </a:lnTo>
                          <a:lnTo>
                            <a:pt x="176" y="325"/>
                          </a:lnTo>
                          <a:lnTo>
                            <a:pt x="193" y="334"/>
                          </a:lnTo>
                          <a:lnTo>
                            <a:pt x="206" y="334"/>
                          </a:lnTo>
                          <a:lnTo>
                            <a:pt x="220" y="338"/>
                          </a:lnTo>
                          <a:lnTo>
                            <a:pt x="237" y="347"/>
                          </a:lnTo>
                          <a:lnTo>
                            <a:pt x="250" y="356"/>
                          </a:lnTo>
                          <a:lnTo>
                            <a:pt x="264" y="365"/>
                          </a:lnTo>
                          <a:lnTo>
                            <a:pt x="272" y="378"/>
                          </a:lnTo>
                          <a:lnTo>
                            <a:pt x="272" y="391"/>
                          </a:lnTo>
                          <a:lnTo>
                            <a:pt x="277" y="404"/>
                          </a:lnTo>
                          <a:lnTo>
                            <a:pt x="277" y="417"/>
                          </a:lnTo>
                          <a:lnTo>
                            <a:pt x="277" y="431"/>
                          </a:lnTo>
                          <a:lnTo>
                            <a:pt x="277" y="444"/>
                          </a:lnTo>
                          <a:lnTo>
                            <a:pt x="277" y="457"/>
                          </a:lnTo>
                          <a:lnTo>
                            <a:pt x="264" y="474"/>
                          </a:lnTo>
                          <a:lnTo>
                            <a:pt x="250" y="483"/>
                          </a:lnTo>
                          <a:lnTo>
                            <a:pt x="237" y="496"/>
                          </a:lnTo>
                          <a:lnTo>
                            <a:pt x="224" y="505"/>
                          </a:lnTo>
                          <a:lnTo>
                            <a:pt x="211" y="514"/>
                          </a:lnTo>
                          <a:lnTo>
                            <a:pt x="198" y="518"/>
                          </a:lnTo>
                          <a:lnTo>
                            <a:pt x="184" y="527"/>
                          </a:lnTo>
                          <a:lnTo>
                            <a:pt x="171" y="532"/>
                          </a:lnTo>
                          <a:lnTo>
                            <a:pt x="158" y="536"/>
                          </a:lnTo>
                          <a:lnTo>
                            <a:pt x="145" y="540"/>
                          </a:lnTo>
                          <a:lnTo>
                            <a:pt x="132" y="540"/>
                          </a:lnTo>
                          <a:lnTo>
                            <a:pt x="119" y="545"/>
                          </a:lnTo>
                          <a:lnTo>
                            <a:pt x="105" y="545"/>
                          </a:lnTo>
                          <a:lnTo>
                            <a:pt x="92" y="545"/>
                          </a:lnTo>
                          <a:lnTo>
                            <a:pt x="79" y="545"/>
                          </a:lnTo>
                          <a:lnTo>
                            <a:pt x="66" y="545"/>
                          </a:lnTo>
                          <a:lnTo>
                            <a:pt x="53" y="545"/>
                          </a:lnTo>
                          <a:lnTo>
                            <a:pt x="39" y="549"/>
                          </a:lnTo>
                          <a:lnTo>
                            <a:pt x="26" y="549"/>
                          </a:lnTo>
                          <a:lnTo>
                            <a:pt x="13" y="549"/>
                          </a:lnTo>
                          <a:lnTo>
                            <a:pt x="0" y="554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2121840" y="1642680"/>
                      <a:ext cx="504360" cy="22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0" h="272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26" y="0"/>
                          </a:lnTo>
                          <a:lnTo>
                            <a:pt x="39" y="0"/>
                          </a:lnTo>
                          <a:lnTo>
                            <a:pt x="52" y="0"/>
                          </a:lnTo>
                          <a:lnTo>
                            <a:pt x="66" y="4"/>
                          </a:lnTo>
                          <a:lnTo>
                            <a:pt x="79" y="4"/>
                          </a:lnTo>
                          <a:lnTo>
                            <a:pt x="92" y="4"/>
                          </a:lnTo>
                          <a:lnTo>
                            <a:pt x="109" y="9"/>
                          </a:lnTo>
                          <a:lnTo>
                            <a:pt x="123" y="9"/>
                          </a:lnTo>
                          <a:lnTo>
                            <a:pt x="136" y="13"/>
                          </a:lnTo>
                          <a:lnTo>
                            <a:pt x="149" y="17"/>
                          </a:lnTo>
                          <a:lnTo>
                            <a:pt x="162" y="22"/>
                          </a:lnTo>
                          <a:lnTo>
                            <a:pt x="175" y="22"/>
                          </a:lnTo>
                          <a:lnTo>
                            <a:pt x="193" y="31"/>
                          </a:lnTo>
                          <a:lnTo>
                            <a:pt x="206" y="35"/>
                          </a:lnTo>
                          <a:lnTo>
                            <a:pt x="219" y="44"/>
                          </a:lnTo>
                          <a:lnTo>
                            <a:pt x="228" y="57"/>
                          </a:lnTo>
                          <a:lnTo>
                            <a:pt x="237" y="70"/>
                          </a:lnTo>
                          <a:lnTo>
                            <a:pt x="237" y="83"/>
                          </a:lnTo>
                          <a:lnTo>
                            <a:pt x="237" y="97"/>
                          </a:lnTo>
                          <a:lnTo>
                            <a:pt x="237" y="110"/>
                          </a:lnTo>
                          <a:lnTo>
                            <a:pt x="237" y="123"/>
                          </a:lnTo>
                          <a:lnTo>
                            <a:pt x="237" y="136"/>
                          </a:lnTo>
                          <a:lnTo>
                            <a:pt x="237" y="149"/>
                          </a:lnTo>
                          <a:lnTo>
                            <a:pt x="241" y="163"/>
                          </a:lnTo>
                          <a:lnTo>
                            <a:pt x="250" y="176"/>
                          </a:lnTo>
                          <a:lnTo>
                            <a:pt x="263" y="189"/>
                          </a:lnTo>
                          <a:lnTo>
                            <a:pt x="276" y="193"/>
                          </a:lnTo>
                          <a:lnTo>
                            <a:pt x="294" y="202"/>
                          </a:lnTo>
                          <a:lnTo>
                            <a:pt x="307" y="211"/>
                          </a:lnTo>
                          <a:lnTo>
                            <a:pt x="320" y="211"/>
                          </a:lnTo>
                          <a:lnTo>
                            <a:pt x="338" y="215"/>
                          </a:lnTo>
                          <a:lnTo>
                            <a:pt x="351" y="220"/>
                          </a:lnTo>
                          <a:lnTo>
                            <a:pt x="364" y="224"/>
                          </a:lnTo>
                          <a:lnTo>
                            <a:pt x="378" y="228"/>
                          </a:lnTo>
                          <a:lnTo>
                            <a:pt x="391" y="233"/>
                          </a:lnTo>
                          <a:lnTo>
                            <a:pt x="408" y="237"/>
                          </a:lnTo>
                          <a:lnTo>
                            <a:pt x="421" y="237"/>
                          </a:lnTo>
                          <a:lnTo>
                            <a:pt x="435" y="242"/>
                          </a:lnTo>
                          <a:lnTo>
                            <a:pt x="448" y="246"/>
                          </a:lnTo>
                          <a:lnTo>
                            <a:pt x="465" y="246"/>
                          </a:lnTo>
                          <a:lnTo>
                            <a:pt x="483" y="250"/>
                          </a:lnTo>
                          <a:lnTo>
                            <a:pt x="501" y="250"/>
                          </a:lnTo>
                          <a:lnTo>
                            <a:pt x="518" y="255"/>
                          </a:lnTo>
                          <a:lnTo>
                            <a:pt x="531" y="255"/>
                          </a:lnTo>
                          <a:lnTo>
                            <a:pt x="545" y="259"/>
                          </a:lnTo>
                          <a:lnTo>
                            <a:pt x="558" y="264"/>
                          </a:lnTo>
                          <a:lnTo>
                            <a:pt x="571" y="268"/>
                          </a:lnTo>
                          <a:lnTo>
                            <a:pt x="584" y="268"/>
                          </a:lnTo>
                          <a:lnTo>
                            <a:pt x="597" y="268"/>
                          </a:lnTo>
                          <a:lnTo>
                            <a:pt x="610" y="27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4" name=""/>
                <p:cNvGrpSpPr/>
                <p:nvPr/>
              </p:nvGrpSpPr>
              <p:grpSpPr>
                <a:xfrm>
                  <a:off x="2931840" y="3458880"/>
                  <a:ext cx="3164760" cy="2387160"/>
                  <a:chOff x="2931840" y="3458880"/>
                  <a:chExt cx="3164760" cy="2387160"/>
                </a:xfrm>
              </p:grpSpPr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2931840" y="3509640"/>
                    <a:ext cx="3164760" cy="2336400"/>
                    <a:chOff x="2931840" y="3509640"/>
                    <a:chExt cx="3164760" cy="233640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2984760" y="3561120"/>
                      <a:ext cx="3111840" cy="228492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2931840" y="3509640"/>
                      <a:ext cx="3101760" cy="2273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8" name=""/>
                  <p:cNvGrpSpPr/>
                  <p:nvPr/>
                </p:nvGrpSpPr>
                <p:grpSpPr>
                  <a:xfrm>
                    <a:off x="4392000" y="3814560"/>
                    <a:ext cx="96120" cy="340920"/>
                    <a:chOff x="4392000" y="3814560"/>
                    <a:chExt cx="96120" cy="340920"/>
                  </a:xfrm>
                </p:grpSpPr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4419720" y="3867480"/>
                      <a:ext cx="2880" cy="4680"/>
                    </a:xfrm>
                    <a:prstGeom prst="rect">
                      <a:avLst/>
                    </a:prstGeom>
                    <a:solidFill>
                      <a:srgbClr val="f0602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4424400" y="3867480"/>
                      <a:ext cx="1440" cy="4680"/>
                    </a:xfrm>
                    <a:prstGeom prst="rect">
                      <a:avLst/>
                    </a:prstGeom>
                    <a:solidFill>
                      <a:srgbClr val="c0401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4429440" y="3867480"/>
                      <a:ext cx="1800" cy="4680"/>
                    </a:xfrm>
                    <a:prstGeom prst="rect">
                      <a:avLst/>
                    </a:prstGeom>
                    <a:solidFill>
                      <a:srgbClr val="80301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4431240" y="3867480"/>
                      <a:ext cx="2880" cy="4680"/>
                    </a:xfrm>
                    <a:prstGeom prst="rect">
                      <a:avLst/>
                    </a:prstGeom>
                    <a:solidFill>
                      <a:srgbClr val="805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4434120" y="3867480"/>
                      <a:ext cx="3240" cy="4680"/>
                    </a:xfrm>
                    <a:prstGeom prst="rect">
                      <a:avLst/>
                    </a:prstGeom>
                    <a:solidFill>
                      <a:srgbClr val="c08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4437360" y="3867480"/>
                      <a:ext cx="3240" cy="4680"/>
                    </a:xfrm>
                    <a:prstGeom prst="rect">
                      <a:avLst/>
                    </a:prstGeom>
                    <a:solidFill>
                      <a:srgbClr val="5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4440960" y="3867480"/>
                      <a:ext cx="3240" cy="4680"/>
                    </a:xfrm>
                    <a:prstGeom prst="rect">
                      <a:avLst/>
                    </a:prstGeom>
                    <a:solidFill>
                      <a:srgbClr val="00c0a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4417920" y="3925800"/>
                      <a:ext cx="4248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2">
                          <a:moveTo>
                            <a:pt x="0" y="9"/>
                          </a:moveTo>
                          <a:lnTo>
                            <a:pt x="31" y="22"/>
                          </a:lnTo>
                          <a:lnTo>
                            <a:pt x="52" y="12"/>
                          </a:lnTo>
                          <a:lnTo>
                            <a:pt x="25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80301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4431240" y="3822480"/>
                      <a:ext cx="29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3">
                          <a:moveTo>
                            <a:pt x="19" y="0"/>
                          </a:moveTo>
                          <a:lnTo>
                            <a:pt x="0" y="223"/>
                          </a:lnTo>
                          <a:lnTo>
                            <a:pt x="9" y="200"/>
                          </a:lnTo>
                          <a:lnTo>
                            <a:pt x="36" y="97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805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4406400" y="3814560"/>
                      <a:ext cx="39240" cy="18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1">
                          <a:moveTo>
                            <a:pt x="30" y="231"/>
                          </a:moveTo>
                          <a:lnTo>
                            <a:pt x="0" y="0"/>
                          </a:lnTo>
                          <a:lnTo>
                            <a:pt x="48" y="10"/>
                          </a:lnTo>
                          <a:lnTo>
                            <a:pt x="30" y="231"/>
                          </a:lnTo>
                          <a:close/>
                        </a:path>
                      </a:pathLst>
                    </a:custGeom>
                    <a:solidFill>
                      <a:srgbClr val="c08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4392000" y="3932280"/>
                      <a:ext cx="4896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75">
                          <a:moveTo>
                            <a:pt x="0" y="246"/>
                          </a:moveTo>
                          <a:lnTo>
                            <a:pt x="31" y="0"/>
                          </a:lnTo>
                          <a:lnTo>
                            <a:pt x="60" y="14"/>
                          </a:lnTo>
                          <a:lnTo>
                            <a:pt x="60" y="275"/>
                          </a:lnTo>
                          <a:lnTo>
                            <a:pt x="54" y="272"/>
                          </a:lnTo>
                          <a:lnTo>
                            <a:pt x="56" y="29"/>
                          </a:lnTo>
                          <a:lnTo>
                            <a:pt x="35" y="17"/>
                          </a:lnTo>
                          <a:lnTo>
                            <a:pt x="4" y="249"/>
                          </a:lnTo>
                          <a:lnTo>
                            <a:pt x="0" y="246"/>
                          </a:lnTo>
                          <a:close/>
                        </a:path>
                      </a:pathLst>
                    </a:custGeom>
                    <a:solidFill>
                      <a:srgbClr val="f0602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4442400" y="3934080"/>
                      <a:ext cx="4572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272">
                          <a:moveTo>
                            <a:pt x="0" y="11"/>
                          </a:moveTo>
                          <a:lnTo>
                            <a:pt x="21" y="0"/>
                          </a:lnTo>
                          <a:lnTo>
                            <a:pt x="54" y="246"/>
                          </a:lnTo>
                          <a:lnTo>
                            <a:pt x="48" y="249"/>
                          </a:lnTo>
                          <a:lnTo>
                            <a:pt x="18" y="17"/>
                          </a:lnTo>
                          <a:lnTo>
                            <a:pt x="6" y="27"/>
                          </a:lnTo>
                          <a:lnTo>
                            <a:pt x="4" y="269"/>
                          </a:lnTo>
                          <a:lnTo>
                            <a:pt x="0" y="272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0401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4444200" y="3959640"/>
                      <a:ext cx="35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10">
                          <a:moveTo>
                            <a:pt x="0" y="0"/>
                          </a:moveTo>
                          <a:lnTo>
                            <a:pt x="24" y="30"/>
                          </a:lnTo>
                          <a:lnTo>
                            <a:pt x="0" y="84"/>
                          </a:lnTo>
                          <a:lnTo>
                            <a:pt x="34" y="107"/>
                          </a:lnTo>
                          <a:lnTo>
                            <a:pt x="0" y="167"/>
                          </a:lnTo>
                          <a:lnTo>
                            <a:pt x="44" y="185"/>
                          </a:lnTo>
                          <a:lnTo>
                            <a:pt x="0" y="21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4444200" y="3950280"/>
                      <a:ext cx="324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21">
                          <a:moveTo>
                            <a:pt x="20" y="0"/>
                          </a:moveTo>
                          <a:lnTo>
                            <a:pt x="0" y="52"/>
                          </a:lnTo>
                          <a:lnTo>
                            <a:pt x="30" y="79"/>
                          </a:lnTo>
                          <a:lnTo>
                            <a:pt x="0" y="136"/>
                          </a:lnTo>
                          <a:lnTo>
                            <a:pt x="40" y="156"/>
                          </a:lnTo>
                          <a:lnTo>
                            <a:pt x="0" y="22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4398120" y="3950280"/>
                      <a:ext cx="4104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22">
                          <a:moveTo>
                            <a:pt x="24" y="0"/>
                          </a:moveTo>
                          <a:lnTo>
                            <a:pt x="52" y="55"/>
                          </a:lnTo>
                          <a:lnTo>
                            <a:pt x="15" y="79"/>
                          </a:lnTo>
                          <a:lnTo>
                            <a:pt x="52" y="139"/>
                          </a:lnTo>
                          <a:lnTo>
                            <a:pt x="5" y="158"/>
                          </a:lnTo>
                          <a:lnTo>
                            <a:pt x="52" y="222"/>
                          </a:lnTo>
                          <a:lnTo>
                            <a:pt x="0" y="197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4398120" y="3959640"/>
                      <a:ext cx="4104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83">
                          <a:moveTo>
                            <a:pt x="52" y="0"/>
                          </a:moveTo>
                          <a:lnTo>
                            <a:pt x="19" y="26"/>
                          </a:lnTo>
                          <a:lnTo>
                            <a:pt x="52" y="83"/>
                          </a:lnTo>
                          <a:lnTo>
                            <a:pt x="11" y="104"/>
                          </a:lnTo>
                          <a:lnTo>
                            <a:pt x="52" y="165"/>
                          </a:lnTo>
                          <a:lnTo>
                            <a:pt x="0" y="18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4411440" y="3823920"/>
                      <a:ext cx="2772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29">
                          <a:moveTo>
                            <a:pt x="0" y="0"/>
                          </a:moveTo>
                          <a:lnTo>
                            <a:pt x="15" y="123"/>
                          </a:lnTo>
                          <a:lnTo>
                            <a:pt x="23" y="129"/>
                          </a:lnTo>
                          <a:lnTo>
                            <a:pt x="34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c0a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4412880" y="3828600"/>
                      <a:ext cx="2772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25">
                          <a:moveTo>
                            <a:pt x="0" y="0"/>
                          </a:moveTo>
                          <a:lnTo>
                            <a:pt x="15" y="120"/>
                          </a:lnTo>
                          <a:lnTo>
                            <a:pt x="24" y="125"/>
                          </a:lnTo>
                          <a:lnTo>
                            <a:pt x="34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7" name=""/>
                  <p:cNvSpPr/>
                  <p:nvPr/>
                </p:nvSpPr>
                <p:spPr>
                  <a:xfrm>
                    <a:off x="4269960" y="4733640"/>
                    <a:ext cx="2750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9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交控中心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58" name=""/>
                  <p:cNvGrpSpPr/>
                  <p:nvPr/>
                </p:nvGrpSpPr>
                <p:grpSpPr>
                  <a:xfrm>
                    <a:off x="3393360" y="4528440"/>
                    <a:ext cx="327960" cy="317520"/>
                    <a:chOff x="3393360" y="4528440"/>
                    <a:chExt cx="327960" cy="317520"/>
                  </a:xfrm>
                </p:grpSpPr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3533040" y="4533480"/>
                      <a:ext cx="170280" cy="93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 flipH="1">
                      <a:off x="3659040" y="4623480"/>
                      <a:ext cx="36000" cy="67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3660480" y="4689720"/>
                      <a:ext cx="60840" cy="45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 flipH="1">
                      <a:off x="3697920" y="4728600"/>
                      <a:ext cx="14760" cy="5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 flipH="1" flipV="1">
                      <a:off x="3635280" y="4736160"/>
                      <a:ext cx="72360" cy="4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flipH="1">
                      <a:off x="3580920" y="4735080"/>
                      <a:ext cx="55800" cy="109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 flipH="1" flipV="1">
                      <a:off x="3393360" y="4755960"/>
                      <a:ext cx="19800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 flipV="1">
                      <a:off x="3393360" y="4528440"/>
                      <a:ext cx="139680" cy="22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7" name=""/>
                  <p:cNvGrpSpPr/>
                  <p:nvPr/>
                </p:nvGrpSpPr>
                <p:grpSpPr>
                  <a:xfrm>
                    <a:off x="4365000" y="5155920"/>
                    <a:ext cx="146880" cy="237600"/>
                    <a:chOff x="4365000" y="5155920"/>
                    <a:chExt cx="146880" cy="237600"/>
                  </a:xfrm>
                </p:grpSpPr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441144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441612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442440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4431240" y="5211000"/>
                      <a:ext cx="2880" cy="12600"/>
                    </a:xfrm>
                    <a:prstGeom prst="rect">
                      <a:avLst/>
                    </a:pr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443736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444420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4450680" y="5211000"/>
                      <a:ext cx="5040" cy="12600"/>
                    </a:xfrm>
                    <a:prstGeom prst="rect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5" name=""/>
                    <p:cNvSpPr/>
                    <p:nvPr/>
                  </p:nvSpPr>
                  <p:spPr>
                    <a:xfrm>
                      <a:off x="4457520" y="5211000"/>
                      <a:ext cx="4680" cy="12600"/>
                    </a:xfrm>
                    <a:prstGeom prst="rect">
                      <a:avLst/>
                    </a:pr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4457520" y="5191200"/>
                      <a:ext cx="47880" cy="550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4371480" y="5327640"/>
                      <a:ext cx="4572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 flipV="1">
                      <a:off x="4439520" y="5155920"/>
                      <a:ext cx="1440" cy="27360"/>
                    </a:xfrm>
                    <a:prstGeom prst="line">
                      <a:avLst/>
                    </a:prstGeom>
                    <a:ln w="1908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4457520" y="5327640"/>
                      <a:ext cx="4788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4457520" y="5259240"/>
                      <a:ext cx="47880" cy="550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4371480" y="5191200"/>
                      <a:ext cx="45720" cy="568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4371480" y="5259240"/>
                      <a:ext cx="45720" cy="550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4389480" y="5183280"/>
                      <a:ext cx="97200" cy="2102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4487040" y="5327640"/>
                      <a:ext cx="248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7">
                          <a:moveTo>
                            <a:pt x="29" y="0"/>
                          </a:moveTo>
                          <a:lnTo>
                            <a:pt x="25" y="1"/>
                          </a:lnTo>
                          <a:lnTo>
                            <a:pt x="20" y="4"/>
                          </a:lnTo>
                          <a:lnTo>
                            <a:pt x="16" y="9"/>
                          </a:lnTo>
                          <a:lnTo>
                            <a:pt x="13" y="15"/>
                          </a:lnTo>
                          <a:lnTo>
                            <a:pt x="10" y="20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7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4487040" y="5259240"/>
                      <a:ext cx="248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8">
                          <a:moveTo>
                            <a:pt x="29" y="0"/>
                          </a:moveTo>
                          <a:lnTo>
                            <a:pt x="25" y="2"/>
                          </a:lnTo>
                          <a:lnTo>
                            <a:pt x="20" y="5"/>
                          </a:lnTo>
                          <a:lnTo>
                            <a:pt x="16" y="9"/>
                          </a:lnTo>
                          <a:lnTo>
                            <a:pt x="13" y="15"/>
                          </a:lnTo>
                          <a:lnTo>
                            <a:pt x="10" y="21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5"/>
                          </a:lnTo>
                          <a:lnTo>
                            <a:pt x="0" y="68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4487040" y="5191200"/>
                      <a:ext cx="248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7">
                          <a:moveTo>
                            <a:pt x="29" y="0"/>
                          </a:moveTo>
                          <a:lnTo>
                            <a:pt x="25" y="1"/>
                          </a:lnTo>
                          <a:lnTo>
                            <a:pt x="20" y="4"/>
                          </a:lnTo>
                          <a:lnTo>
                            <a:pt x="16" y="9"/>
                          </a:lnTo>
                          <a:lnTo>
                            <a:pt x="13" y="15"/>
                          </a:lnTo>
                          <a:lnTo>
                            <a:pt x="10" y="20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7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4365000" y="532764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7">
                          <a:moveTo>
                            <a:pt x="0" y="0"/>
                          </a:moveTo>
                          <a:lnTo>
                            <a:pt x="6" y="1"/>
                          </a:lnTo>
                          <a:lnTo>
                            <a:pt x="10" y="4"/>
                          </a:lnTo>
                          <a:lnTo>
                            <a:pt x="14" y="9"/>
                          </a:lnTo>
                          <a:lnTo>
                            <a:pt x="17" y="15"/>
                          </a:lnTo>
                          <a:lnTo>
                            <a:pt x="20" y="20"/>
                          </a:lnTo>
                          <a:lnTo>
                            <a:pt x="22" y="28"/>
                          </a:lnTo>
                          <a:lnTo>
                            <a:pt x="25" y="41"/>
                          </a:lnTo>
                          <a:lnTo>
                            <a:pt x="28" y="54"/>
                          </a:lnTo>
                          <a:lnTo>
                            <a:pt x="31" y="67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4365000" y="525924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8">
                          <a:moveTo>
                            <a:pt x="0" y="0"/>
                          </a:moveTo>
                          <a:lnTo>
                            <a:pt x="6" y="2"/>
                          </a:lnTo>
                          <a:lnTo>
                            <a:pt x="10" y="5"/>
                          </a:lnTo>
                          <a:lnTo>
                            <a:pt x="14" y="9"/>
                          </a:lnTo>
                          <a:lnTo>
                            <a:pt x="17" y="15"/>
                          </a:lnTo>
                          <a:lnTo>
                            <a:pt x="20" y="21"/>
                          </a:lnTo>
                          <a:lnTo>
                            <a:pt x="22" y="28"/>
                          </a:lnTo>
                          <a:lnTo>
                            <a:pt x="25" y="41"/>
                          </a:lnTo>
                          <a:lnTo>
                            <a:pt x="28" y="55"/>
                          </a:lnTo>
                          <a:lnTo>
                            <a:pt x="31" y="68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4365000" y="519120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7">
                          <a:moveTo>
                            <a:pt x="0" y="0"/>
                          </a:moveTo>
                          <a:lnTo>
                            <a:pt x="6" y="1"/>
                          </a:lnTo>
                          <a:lnTo>
                            <a:pt x="10" y="4"/>
                          </a:lnTo>
                          <a:lnTo>
                            <a:pt x="14" y="9"/>
                          </a:lnTo>
                          <a:lnTo>
                            <a:pt x="17" y="15"/>
                          </a:lnTo>
                          <a:lnTo>
                            <a:pt x="20" y="20"/>
                          </a:lnTo>
                          <a:lnTo>
                            <a:pt x="22" y="28"/>
                          </a:lnTo>
                          <a:lnTo>
                            <a:pt x="25" y="41"/>
                          </a:lnTo>
                          <a:lnTo>
                            <a:pt x="28" y="54"/>
                          </a:lnTo>
                          <a:lnTo>
                            <a:pt x="31" y="67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4404600" y="5347080"/>
                      <a:ext cx="65880" cy="35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4404600" y="532584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4404600" y="5211000"/>
                      <a:ext cx="65880" cy="35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4404600" y="519120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4404600" y="5278680"/>
                      <a:ext cx="65880" cy="374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4404600" y="525780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4409280" y="5327640"/>
                      <a:ext cx="57960" cy="55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4411440" y="5329080"/>
                      <a:ext cx="54000" cy="5004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4409280" y="5193360"/>
                      <a:ext cx="57960" cy="52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4411440" y="5194800"/>
                      <a:ext cx="54000" cy="5004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4409280" y="5261040"/>
                      <a:ext cx="57960" cy="52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4411440" y="5262480"/>
                      <a:ext cx="54000" cy="4860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4417560" y="5170320"/>
                      <a:ext cx="39600" cy="1440"/>
                    </a:xfrm>
                    <a:prstGeom prst="line">
                      <a:avLst/>
                    </a:prstGeom>
                    <a:ln w="158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4429080" y="5160600"/>
                      <a:ext cx="16200" cy="16200"/>
                    </a:xfrm>
                    <a:prstGeom prst="ellipse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4447440" y="5201280"/>
                      <a:ext cx="11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9" y="1"/>
                          </a:lnTo>
                          <a:lnTo>
                            <a:pt x="12" y="3"/>
                          </a:lnTo>
                          <a:lnTo>
                            <a:pt x="13" y="4"/>
                          </a:lnTo>
                          <a:lnTo>
                            <a:pt x="13" y="6"/>
                          </a:lnTo>
                          <a:lnTo>
                            <a:pt x="10" y="8"/>
                          </a:lnTo>
                          <a:lnTo>
                            <a:pt x="9" y="11"/>
                          </a:lnTo>
                          <a:lnTo>
                            <a:pt x="9" y="13"/>
                          </a:lnTo>
                          <a:lnTo>
                            <a:pt x="7" y="13"/>
                          </a:lnTo>
                          <a:lnTo>
                            <a:pt x="7" y="11"/>
                          </a:lnTo>
                          <a:lnTo>
                            <a:pt x="6" y="10"/>
                          </a:lnTo>
                          <a:lnTo>
                            <a:pt x="3" y="10"/>
                          </a:lnTo>
                          <a:lnTo>
                            <a:pt x="1" y="10"/>
                          </a:lnTo>
                          <a:lnTo>
                            <a:pt x="0" y="7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4440960" y="519624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6" y="0"/>
                          </a:moveTo>
                          <a:lnTo>
                            <a:pt x="9" y="1"/>
                          </a:lnTo>
                          <a:lnTo>
                            <a:pt x="12" y="1"/>
                          </a:lnTo>
                          <a:lnTo>
                            <a:pt x="13" y="3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9" y="10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2"/>
                          </a:lnTo>
                          <a:lnTo>
                            <a:pt x="4" y="10"/>
                          </a:lnTo>
                          <a:lnTo>
                            <a:pt x="2" y="9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0" y="4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4447440" y="5272560"/>
                      <a:ext cx="111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0" y="2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9" y="10"/>
                          </a:lnTo>
                          <a:lnTo>
                            <a:pt x="9" y="13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6" y="10"/>
                          </a:lnTo>
                          <a:lnTo>
                            <a:pt x="3" y="9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4440960" y="5267880"/>
                      <a:ext cx="115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9" y="0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0" y="8"/>
                          </a:lnTo>
                          <a:lnTo>
                            <a:pt x="9" y="10"/>
                          </a:lnTo>
                          <a:lnTo>
                            <a:pt x="7" y="12"/>
                          </a:lnTo>
                          <a:lnTo>
                            <a:pt x="7" y="13"/>
                          </a:lnTo>
                          <a:lnTo>
                            <a:pt x="7" y="10"/>
                          </a:lnTo>
                          <a:lnTo>
                            <a:pt x="6" y="9"/>
                          </a:lnTo>
                          <a:lnTo>
                            <a:pt x="3" y="9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2" y="2"/>
                          </a:lnTo>
                          <a:lnTo>
                            <a:pt x="3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4447440" y="5338800"/>
                      <a:ext cx="111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3" y="3"/>
                          </a:lnTo>
                          <a:lnTo>
                            <a:pt x="13" y="4"/>
                          </a:lnTo>
                          <a:lnTo>
                            <a:pt x="10" y="7"/>
                          </a:lnTo>
                          <a:lnTo>
                            <a:pt x="9" y="10"/>
                          </a:lnTo>
                          <a:lnTo>
                            <a:pt x="9" y="13"/>
                          </a:lnTo>
                          <a:lnTo>
                            <a:pt x="7" y="13"/>
                          </a:lnTo>
                          <a:lnTo>
                            <a:pt x="7" y="10"/>
                          </a:lnTo>
                          <a:lnTo>
                            <a:pt x="6" y="8"/>
                          </a:lnTo>
                          <a:lnTo>
                            <a:pt x="3" y="8"/>
                          </a:lnTo>
                          <a:lnTo>
                            <a:pt x="1" y="8"/>
                          </a:lnTo>
                          <a:lnTo>
                            <a:pt x="0" y="5"/>
                          </a:lnTo>
                          <a:lnTo>
                            <a:pt x="1" y="4"/>
                          </a:lnTo>
                          <a:lnTo>
                            <a:pt x="1" y="1"/>
                          </a:lnTo>
                          <a:lnTo>
                            <a:pt x="3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4440960" y="5333760"/>
                      <a:ext cx="1152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6" y="0"/>
                          </a:moveTo>
                          <a:lnTo>
                            <a:pt x="9" y="2"/>
                          </a:lnTo>
                          <a:lnTo>
                            <a:pt x="12" y="3"/>
                          </a:lnTo>
                          <a:lnTo>
                            <a:pt x="13" y="5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9" y="12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2"/>
                          </a:lnTo>
                          <a:lnTo>
                            <a:pt x="4" y="11"/>
                          </a:lnTo>
                          <a:lnTo>
                            <a:pt x="2" y="9"/>
                          </a:lnTo>
                          <a:lnTo>
                            <a:pt x="0" y="9"/>
                          </a:lnTo>
                          <a:lnTo>
                            <a:pt x="0" y="8"/>
                          </a:lnTo>
                          <a:lnTo>
                            <a:pt x="0" y="5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5123880" y="4082760"/>
                    <a:ext cx="145080" cy="237600"/>
                    <a:chOff x="5123880" y="4082760"/>
                    <a:chExt cx="145080" cy="23760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5168160" y="4137840"/>
                      <a:ext cx="4680" cy="1260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>
                      <a:off x="5174640" y="4137840"/>
                      <a:ext cx="5040" cy="126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3" name=""/>
                    <p:cNvSpPr/>
                    <p:nvPr/>
                  </p:nvSpPr>
                  <p:spPr>
                    <a:xfrm>
                      <a:off x="5183280" y="4137840"/>
                      <a:ext cx="2880" cy="12600"/>
                    </a:xfrm>
                    <a:prstGeom prst="rect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>
                      <a:off x="5188320" y="4137840"/>
                      <a:ext cx="4680" cy="12600"/>
                    </a:xfrm>
                    <a:prstGeom prst="rect">
                      <a:avLst/>
                    </a:pr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>
                      <a:off x="5196240" y="4137840"/>
                      <a:ext cx="4680" cy="12600"/>
                    </a:xfrm>
                    <a:prstGeom prst="rect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6" name=""/>
                    <p:cNvSpPr/>
                    <p:nvPr/>
                  </p:nvSpPr>
                  <p:spPr>
                    <a:xfrm>
                      <a:off x="5201280" y="4137840"/>
                      <a:ext cx="4680" cy="12600"/>
                    </a:xfrm>
                    <a:prstGeom prst="rect">
                      <a:avLst/>
                    </a:pr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7" name=""/>
                    <p:cNvSpPr/>
                    <p:nvPr/>
                  </p:nvSpPr>
                  <p:spPr>
                    <a:xfrm>
                      <a:off x="5209560" y="4137840"/>
                      <a:ext cx="4680" cy="12600"/>
                    </a:xfrm>
                    <a:prstGeom prst="rect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>
                      <a:off x="5216400" y="4137840"/>
                      <a:ext cx="3240" cy="12600"/>
                    </a:xfrm>
                    <a:prstGeom prst="rect">
                      <a:avLst/>
                    </a:pr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5216400" y="4119840"/>
                      <a:ext cx="46080" cy="532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5128560" y="4254120"/>
                      <a:ext cx="4788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 flipV="1">
                      <a:off x="5196240" y="4082760"/>
                      <a:ext cx="1440" cy="27360"/>
                    </a:xfrm>
                    <a:prstGeom prst="line">
                      <a:avLst/>
                    </a:prstGeom>
                    <a:ln w="1908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216400" y="4254120"/>
                      <a:ext cx="4608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216400" y="4186080"/>
                      <a:ext cx="46080" cy="550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>
                      <a:off x="5128560" y="4119840"/>
                      <a:ext cx="47880" cy="550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5128560" y="4186080"/>
                      <a:ext cx="47880" cy="550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6" name=""/>
                    <p:cNvSpPr/>
                    <p:nvPr/>
                  </p:nvSpPr>
                  <p:spPr>
                    <a:xfrm>
                      <a:off x="5148360" y="4110120"/>
                      <a:ext cx="95760" cy="2102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>
                      <a:off x="5244480" y="425412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8">
                          <a:moveTo>
                            <a:pt x="29" y="0"/>
                          </a:moveTo>
                          <a:lnTo>
                            <a:pt x="25" y="2"/>
                          </a:lnTo>
                          <a:lnTo>
                            <a:pt x="20" y="5"/>
                          </a:lnTo>
                          <a:lnTo>
                            <a:pt x="16" y="9"/>
                          </a:lnTo>
                          <a:lnTo>
                            <a:pt x="13" y="15"/>
                          </a:lnTo>
                          <a:lnTo>
                            <a:pt x="10" y="21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8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8" name=""/>
                    <p:cNvSpPr/>
                    <p:nvPr/>
                  </p:nvSpPr>
                  <p:spPr>
                    <a:xfrm>
                      <a:off x="5244480" y="418608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7">
                          <a:moveTo>
                            <a:pt x="29" y="0"/>
                          </a:moveTo>
                          <a:lnTo>
                            <a:pt x="25" y="1"/>
                          </a:lnTo>
                          <a:lnTo>
                            <a:pt x="20" y="4"/>
                          </a:lnTo>
                          <a:lnTo>
                            <a:pt x="16" y="8"/>
                          </a:lnTo>
                          <a:lnTo>
                            <a:pt x="13" y="14"/>
                          </a:lnTo>
                          <a:lnTo>
                            <a:pt x="10" y="20"/>
                          </a:lnTo>
                          <a:lnTo>
                            <a:pt x="9" y="27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7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9" name=""/>
                    <p:cNvSpPr/>
                    <p:nvPr/>
                  </p:nvSpPr>
                  <p:spPr>
                    <a:xfrm>
                      <a:off x="5244480" y="4119840"/>
                      <a:ext cx="244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67">
                          <a:moveTo>
                            <a:pt x="29" y="0"/>
                          </a:moveTo>
                          <a:lnTo>
                            <a:pt x="25" y="2"/>
                          </a:lnTo>
                          <a:lnTo>
                            <a:pt x="20" y="5"/>
                          </a:lnTo>
                          <a:lnTo>
                            <a:pt x="16" y="9"/>
                          </a:lnTo>
                          <a:lnTo>
                            <a:pt x="13" y="15"/>
                          </a:lnTo>
                          <a:lnTo>
                            <a:pt x="10" y="21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7"/>
                          </a:lnTo>
                          <a:lnTo>
                            <a:pt x="0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5123880" y="425412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8">
                          <a:moveTo>
                            <a:pt x="0" y="0"/>
                          </a:moveTo>
                          <a:lnTo>
                            <a:pt x="6" y="2"/>
                          </a:lnTo>
                          <a:lnTo>
                            <a:pt x="11" y="5"/>
                          </a:lnTo>
                          <a:lnTo>
                            <a:pt x="15" y="9"/>
                          </a:lnTo>
                          <a:lnTo>
                            <a:pt x="18" y="15"/>
                          </a:lnTo>
                          <a:lnTo>
                            <a:pt x="19" y="21"/>
                          </a:lnTo>
                          <a:lnTo>
                            <a:pt x="21" y="28"/>
                          </a:lnTo>
                          <a:lnTo>
                            <a:pt x="25" y="41"/>
                          </a:lnTo>
                          <a:lnTo>
                            <a:pt x="28" y="54"/>
                          </a:lnTo>
                          <a:lnTo>
                            <a:pt x="31" y="68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1" name=""/>
                    <p:cNvSpPr/>
                    <p:nvPr/>
                  </p:nvSpPr>
                  <p:spPr>
                    <a:xfrm>
                      <a:off x="5123880" y="418608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7">
                          <a:moveTo>
                            <a:pt x="0" y="0"/>
                          </a:moveTo>
                          <a:lnTo>
                            <a:pt x="6" y="1"/>
                          </a:lnTo>
                          <a:lnTo>
                            <a:pt x="11" y="4"/>
                          </a:lnTo>
                          <a:lnTo>
                            <a:pt x="15" y="8"/>
                          </a:lnTo>
                          <a:lnTo>
                            <a:pt x="18" y="14"/>
                          </a:lnTo>
                          <a:lnTo>
                            <a:pt x="19" y="20"/>
                          </a:lnTo>
                          <a:lnTo>
                            <a:pt x="21" y="27"/>
                          </a:lnTo>
                          <a:lnTo>
                            <a:pt x="25" y="41"/>
                          </a:lnTo>
                          <a:lnTo>
                            <a:pt x="28" y="54"/>
                          </a:lnTo>
                          <a:lnTo>
                            <a:pt x="31" y="67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>
                      <a:off x="5123880" y="4119840"/>
                      <a:ext cx="244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67">
                          <a:moveTo>
                            <a:pt x="0" y="0"/>
                          </a:moveTo>
                          <a:lnTo>
                            <a:pt x="6" y="2"/>
                          </a:lnTo>
                          <a:lnTo>
                            <a:pt x="11" y="5"/>
                          </a:lnTo>
                          <a:lnTo>
                            <a:pt x="15" y="9"/>
                          </a:lnTo>
                          <a:lnTo>
                            <a:pt x="18" y="15"/>
                          </a:lnTo>
                          <a:lnTo>
                            <a:pt x="19" y="21"/>
                          </a:lnTo>
                          <a:lnTo>
                            <a:pt x="21" y="28"/>
                          </a:lnTo>
                          <a:lnTo>
                            <a:pt x="25" y="41"/>
                          </a:lnTo>
                          <a:lnTo>
                            <a:pt x="28" y="54"/>
                          </a:lnTo>
                          <a:lnTo>
                            <a:pt x="31" y="67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3" name=""/>
                    <p:cNvSpPr/>
                    <p:nvPr/>
                  </p:nvSpPr>
                  <p:spPr>
                    <a:xfrm>
                      <a:off x="5163480" y="4273560"/>
                      <a:ext cx="65880" cy="35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4" name=""/>
                    <p:cNvSpPr/>
                    <p:nvPr/>
                  </p:nvSpPr>
                  <p:spPr>
                    <a:xfrm>
                      <a:off x="5163480" y="425268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5163480" y="4137840"/>
                      <a:ext cx="65880" cy="35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>
                      <a:off x="5163480" y="411804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7" name=""/>
                    <p:cNvSpPr/>
                    <p:nvPr/>
                  </p:nvSpPr>
                  <p:spPr>
                    <a:xfrm>
                      <a:off x="5163480" y="4205520"/>
                      <a:ext cx="65880" cy="370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>
                      <a:off x="5163480" y="4186080"/>
                      <a:ext cx="65880" cy="388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9" name=""/>
                    <p:cNvSpPr/>
                    <p:nvPr/>
                  </p:nvSpPr>
                  <p:spPr>
                    <a:xfrm>
                      <a:off x="5166360" y="4254120"/>
                      <a:ext cx="57960" cy="55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5168160" y="4257360"/>
                      <a:ext cx="54000" cy="4824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5166360" y="4119840"/>
                      <a:ext cx="57960" cy="53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>
                      <a:off x="5168160" y="4121280"/>
                      <a:ext cx="54000" cy="5004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3" name=""/>
                    <p:cNvSpPr/>
                    <p:nvPr/>
                  </p:nvSpPr>
                  <p:spPr>
                    <a:xfrm>
                      <a:off x="5166360" y="4187520"/>
                      <a:ext cx="57960" cy="53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4" name=""/>
                    <p:cNvSpPr/>
                    <p:nvPr/>
                  </p:nvSpPr>
                  <p:spPr>
                    <a:xfrm>
                      <a:off x="5168160" y="4189320"/>
                      <a:ext cx="54000" cy="496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>
                      <a:off x="5176440" y="4096800"/>
                      <a:ext cx="39600" cy="1800"/>
                    </a:xfrm>
                    <a:prstGeom prst="line">
                      <a:avLst/>
                    </a:prstGeom>
                    <a:ln w="158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6" name=""/>
                    <p:cNvSpPr/>
                    <p:nvPr/>
                  </p:nvSpPr>
                  <p:spPr>
                    <a:xfrm>
                      <a:off x="5188320" y="4088880"/>
                      <a:ext cx="16200" cy="14400"/>
                    </a:xfrm>
                    <a:prstGeom prst="ellipse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7" name=""/>
                    <p:cNvSpPr/>
                    <p:nvPr/>
                  </p:nvSpPr>
                  <p:spPr>
                    <a:xfrm>
                      <a:off x="5204520" y="412776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0" y="1"/>
                          </a:lnTo>
                          <a:lnTo>
                            <a:pt x="12" y="3"/>
                          </a:lnTo>
                          <a:lnTo>
                            <a:pt x="13" y="4"/>
                          </a:lnTo>
                          <a:lnTo>
                            <a:pt x="13" y="6"/>
                          </a:lnTo>
                          <a:lnTo>
                            <a:pt x="12" y="9"/>
                          </a:lnTo>
                          <a:lnTo>
                            <a:pt x="10" y="12"/>
                          </a:lnTo>
                          <a:lnTo>
                            <a:pt x="9" y="13"/>
                          </a:lnTo>
                          <a:lnTo>
                            <a:pt x="9" y="13"/>
                          </a:lnTo>
                          <a:lnTo>
                            <a:pt x="7" y="12"/>
                          </a:lnTo>
                          <a:lnTo>
                            <a:pt x="6" y="10"/>
                          </a:lnTo>
                          <a:lnTo>
                            <a:pt x="3" y="10"/>
                          </a:lnTo>
                          <a:lnTo>
                            <a:pt x="1" y="10"/>
                          </a:lnTo>
                          <a:lnTo>
                            <a:pt x="0" y="7"/>
                          </a:lnTo>
                          <a:lnTo>
                            <a:pt x="1" y="4"/>
                          </a:lnTo>
                          <a:lnTo>
                            <a:pt x="3" y="3"/>
                          </a:lnTo>
                          <a:lnTo>
                            <a:pt x="4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5198040" y="412308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0" y="1"/>
                          </a:lnTo>
                          <a:lnTo>
                            <a:pt x="12" y="1"/>
                          </a:lnTo>
                          <a:lnTo>
                            <a:pt x="13" y="3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9" y="10"/>
                          </a:lnTo>
                          <a:lnTo>
                            <a:pt x="9" y="13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6" y="10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0" y="6"/>
                          </a:lnTo>
                          <a:lnTo>
                            <a:pt x="2" y="4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206320" y="4199040"/>
                      <a:ext cx="1008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6" y="0"/>
                          </a:moveTo>
                          <a:lnTo>
                            <a:pt x="9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2" y="6"/>
                          </a:lnTo>
                          <a:lnTo>
                            <a:pt x="11" y="9"/>
                          </a:lnTo>
                          <a:lnTo>
                            <a:pt x="9" y="11"/>
                          </a:lnTo>
                          <a:lnTo>
                            <a:pt x="8" y="13"/>
                          </a:lnTo>
                          <a:lnTo>
                            <a:pt x="8" y="13"/>
                          </a:lnTo>
                          <a:lnTo>
                            <a:pt x="6" y="12"/>
                          </a:lnTo>
                          <a:lnTo>
                            <a:pt x="5" y="11"/>
                          </a:lnTo>
                          <a:lnTo>
                            <a:pt x="2" y="9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5198040" y="4194360"/>
                      <a:ext cx="115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4">
                          <a:moveTo>
                            <a:pt x="7" y="0"/>
                          </a:moveTo>
                          <a:lnTo>
                            <a:pt x="10" y="0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2" y="8"/>
                          </a:lnTo>
                          <a:lnTo>
                            <a:pt x="9" y="11"/>
                          </a:lnTo>
                          <a:lnTo>
                            <a:pt x="9" y="12"/>
                          </a:lnTo>
                          <a:lnTo>
                            <a:pt x="9" y="14"/>
                          </a:lnTo>
                          <a:lnTo>
                            <a:pt x="7" y="11"/>
                          </a:lnTo>
                          <a:lnTo>
                            <a:pt x="6" y="9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0" y="6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4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5204520" y="426528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0" y="0"/>
                          </a:lnTo>
                          <a:lnTo>
                            <a:pt x="12" y="1"/>
                          </a:lnTo>
                          <a:lnTo>
                            <a:pt x="13" y="3"/>
                          </a:lnTo>
                          <a:lnTo>
                            <a:pt x="13" y="4"/>
                          </a:lnTo>
                          <a:lnTo>
                            <a:pt x="12" y="7"/>
                          </a:lnTo>
                          <a:lnTo>
                            <a:pt x="10" y="10"/>
                          </a:lnTo>
                          <a:lnTo>
                            <a:pt x="9" y="13"/>
                          </a:lnTo>
                          <a:lnTo>
                            <a:pt x="9" y="13"/>
                          </a:lnTo>
                          <a:lnTo>
                            <a:pt x="7" y="10"/>
                          </a:lnTo>
                          <a:lnTo>
                            <a:pt x="6" y="9"/>
                          </a:lnTo>
                          <a:lnTo>
                            <a:pt x="3" y="9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>
                      <a:off x="5198040" y="4260600"/>
                      <a:ext cx="115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4">
                          <a:moveTo>
                            <a:pt x="7" y="0"/>
                          </a:moveTo>
                          <a:lnTo>
                            <a:pt x="10" y="2"/>
                          </a:lnTo>
                          <a:lnTo>
                            <a:pt x="12" y="3"/>
                          </a:lnTo>
                          <a:lnTo>
                            <a:pt x="13" y="5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9" y="12"/>
                          </a:lnTo>
                          <a:lnTo>
                            <a:pt x="9" y="14"/>
                          </a:lnTo>
                          <a:lnTo>
                            <a:pt x="7" y="14"/>
                          </a:lnTo>
                          <a:lnTo>
                            <a:pt x="7" y="12"/>
                          </a:lnTo>
                          <a:lnTo>
                            <a:pt x="6" y="11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0" y="8"/>
                          </a:lnTo>
                          <a:lnTo>
                            <a:pt x="2" y="5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3" name=""/>
                  <p:cNvGrpSpPr/>
                  <p:nvPr/>
                </p:nvGrpSpPr>
                <p:grpSpPr>
                  <a:xfrm>
                    <a:off x="5217480" y="4414320"/>
                    <a:ext cx="145440" cy="236520"/>
                    <a:chOff x="5217480" y="4414320"/>
                    <a:chExt cx="145440" cy="236520"/>
                  </a:xfrm>
                </p:grpSpPr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526392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>
                      <a:off x="526860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>
                      <a:off x="527688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>
                      <a:off x="5283720" y="4469760"/>
                      <a:ext cx="2880" cy="12600"/>
                    </a:xfrm>
                    <a:prstGeom prst="rect">
                      <a:avLst/>
                    </a:pr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8" name=""/>
                    <p:cNvSpPr/>
                    <p:nvPr/>
                  </p:nvSpPr>
                  <p:spPr>
                    <a:xfrm>
                      <a:off x="529020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9" name=""/>
                    <p:cNvSpPr/>
                    <p:nvPr/>
                  </p:nvSpPr>
                  <p:spPr>
                    <a:xfrm>
                      <a:off x="529704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>
                      <a:off x="5303520" y="4469760"/>
                      <a:ext cx="5040" cy="12600"/>
                    </a:xfrm>
                    <a:prstGeom prst="rect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1" name=""/>
                    <p:cNvSpPr/>
                    <p:nvPr/>
                  </p:nvSpPr>
                  <p:spPr>
                    <a:xfrm>
                      <a:off x="5310000" y="4469760"/>
                      <a:ext cx="4680" cy="12600"/>
                    </a:xfrm>
                    <a:prstGeom prst="rect">
                      <a:avLst/>
                    </a:pr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2" name=""/>
                    <p:cNvSpPr/>
                    <p:nvPr/>
                  </p:nvSpPr>
                  <p:spPr>
                    <a:xfrm>
                      <a:off x="5310000" y="4450320"/>
                      <a:ext cx="47880" cy="550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>
                      <a:off x="5222160" y="4584960"/>
                      <a:ext cx="4788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4" name=""/>
                    <p:cNvSpPr/>
                    <p:nvPr/>
                  </p:nvSpPr>
                  <p:spPr>
                    <a:xfrm flipV="1">
                      <a:off x="5290200" y="4414320"/>
                      <a:ext cx="1800" cy="25560"/>
                    </a:xfrm>
                    <a:prstGeom prst="line">
                      <a:avLst/>
                    </a:prstGeom>
                    <a:ln w="1908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5" name=""/>
                    <p:cNvSpPr/>
                    <p:nvPr/>
                  </p:nvSpPr>
                  <p:spPr>
                    <a:xfrm>
                      <a:off x="5310000" y="4584960"/>
                      <a:ext cx="47880" cy="5508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>
                      <a:off x="5310000" y="4518360"/>
                      <a:ext cx="47880" cy="532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7" name=""/>
                    <p:cNvSpPr/>
                    <p:nvPr/>
                  </p:nvSpPr>
                  <p:spPr>
                    <a:xfrm>
                      <a:off x="5222160" y="4450320"/>
                      <a:ext cx="47880" cy="5508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8" name=""/>
                    <p:cNvSpPr/>
                    <p:nvPr/>
                  </p:nvSpPr>
                  <p:spPr>
                    <a:xfrm>
                      <a:off x="5222160" y="4518360"/>
                      <a:ext cx="47880" cy="5328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9" name=""/>
                    <p:cNvSpPr/>
                    <p:nvPr/>
                  </p:nvSpPr>
                  <p:spPr>
                    <a:xfrm>
                      <a:off x="5241960" y="4440240"/>
                      <a:ext cx="97560" cy="21060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0" name=""/>
                    <p:cNvSpPr/>
                    <p:nvPr/>
                  </p:nvSpPr>
                  <p:spPr>
                    <a:xfrm>
                      <a:off x="5339880" y="4584960"/>
                      <a:ext cx="230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9">
                          <a:moveTo>
                            <a:pt x="30" y="0"/>
                          </a:moveTo>
                          <a:lnTo>
                            <a:pt x="25" y="3"/>
                          </a:lnTo>
                          <a:lnTo>
                            <a:pt x="21" y="5"/>
                          </a:lnTo>
                          <a:lnTo>
                            <a:pt x="17" y="9"/>
                          </a:lnTo>
                          <a:lnTo>
                            <a:pt x="14" y="15"/>
                          </a:lnTo>
                          <a:lnTo>
                            <a:pt x="11" y="22"/>
                          </a:lnTo>
                          <a:lnTo>
                            <a:pt x="9" y="30"/>
                          </a:lnTo>
                          <a:lnTo>
                            <a:pt x="6" y="43"/>
                          </a:lnTo>
                          <a:lnTo>
                            <a:pt x="3" y="56"/>
                          </a:lnTo>
                          <a:lnTo>
                            <a:pt x="0" y="69"/>
                          </a:lnTo>
                          <a:lnTo>
                            <a:pt x="0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1" name=""/>
                    <p:cNvSpPr/>
                    <p:nvPr/>
                  </p:nvSpPr>
                  <p:spPr>
                    <a:xfrm>
                      <a:off x="5339880" y="4518360"/>
                      <a:ext cx="2304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8">
                          <a:moveTo>
                            <a:pt x="30" y="0"/>
                          </a:moveTo>
                          <a:lnTo>
                            <a:pt x="25" y="2"/>
                          </a:lnTo>
                          <a:lnTo>
                            <a:pt x="21" y="5"/>
                          </a:lnTo>
                          <a:lnTo>
                            <a:pt x="17" y="9"/>
                          </a:lnTo>
                          <a:lnTo>
                            <a:pt x="14" y="15"/>
                          </a:lnTo>
                          <a:lnTo>
                            <a:pt x="11" y="21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5"/>
                          </a:lnTo>
                          <a:lnTo>
                            <a:pt x="0" y="68"/>
                          </a:lnTo>
                          <a:lnTo>
                            <a:pt x="0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2" name=""/>
                    <p:cNvSpPr/>
                    <p:nvPr/>
                  </p:nvSpPr>
                  <p:spPr>
                    <a:xfrm>
                      <a:off x="5339880" y="4450320"/>
                      <a:ext cx="230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7">
                          <a:moveTo>
                            <a:pt x="30" y="0"/>
                          </a:moveTo>
                          <a:lnTo>
                            <a:pt x="25" y="1"/>
                          </a:lnTo>
                          <a:lnTo>
                            <a:pt x="21" y="4"/>
                          </a:lnTo>
                          <a:lnTo>
                            <a:pt x="17" y="9"/>
                          </a:lnTo>
                          <a:lnTo>
                            <a:pt x="14" y="14"/>
                          </a:lnTo>
                          <a:lnTo>
                            <a:pt x="11" y="22"/>
                          </a:lnTo>
                          <a:lnTo>
                            <a:pt x="9" y="28"/>
                          </a:lnTo>
                          <a:lnTo>
                            <a:pt x="6" y="41"/>
                          </a:lnTo>
                          <a:lnTo>
                            <a:pt x="3" y="54"/>
                          </a:lnTo>
                          <a:lnTo>
                            <a:pt x="0" y="67"/>
                          </a:lnTo>
                          <a:lnTo>
                            <a:pt x="0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3" name=""/>
                    <p:cNvSpPr/>
                    <p:nvPr/>
                  </p:nvSpPr>
                  <p:spPr>
                    <a:xfrm>
                      <a:off x="5217480" y="458496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9">
                          <a:moveTo>
                            <a:pt x="0" y="0"/>
                          </a:moveTo>
                          <a:lnTo>
                            <a:pt x="5" y="3"/>
                          </a:lnTo>
                          <a:lnTo>
                            <a:pt x="10" y="5"/>
                          </a:lnTo>
                          <a:lnTo>
                            <a:pt x="14" y="9"/>
                          </a:lnTo>
                          <a:lnTo>
                            <a:pt x="17" y="15"/>
                          </a:lnTo>
                          <a:lnTo>
                            <a:pt x="20" y="22"/>
                          </a:lnTo>
                          <a:lnTo>
                            <a:pt x="22" y="30"/>
                          </a:lnTo>
                          <a:lnTo>
                            <a:pt x="24" y="43"/>
                          </a:lnTo>
                          <a:lnTo>
                            <a:pt x="27" y="56"/>
                          </a:lnTo>
                          <a:lnTo>
                            <a:pt x="30" y="69"/>
                          </a:lnTo>
                          <a:lnTo>
                            <a:pt x="3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5217480" y="4518360"/>
                      <a:ext cx="244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8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10" y="5"/>
                          </a:lnTo>
                          <a:lnTo>
                            <a:pt x="14" y="9"/>
                          </a:lnTo>
                          <a:lnTo>
                            <a:pt x="17" y="15"/>
                          </a:lnTo>
                          <a:lnTo>
                            <a:pt x="20" y="21"/>
                          </a:lnTo>
                          <a:lnTo>
                            <a:pt x="22" y="28"/>
                          </a:lnTo>
                          <a:lnTo>
                            <a:pt x="24" y="41"/>
                          </a:lnTo>
                          <a:lnTo>
                            <a:pt x="27" y="55"/>
                          </a:lnTo>
                          <a:lnTo>
                            <a:pt x="30" y="68"/>
                          </a:lnTo>
                          <a:lnTo>
                            <a:pt x="3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5" name=""/>
                    <p:cNvSpPr/>
                    <p:nvPr/>
                  </p:nvSpPr>
                  <p:spPr>
                    <a:xfrm>
                      <a:off x="5217480" y="4450320"/>
                      <a:ext cx="244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67">
                          <a:moveTo>
                            <a:pt x="0" y="0"/>
                          </a:moveTo>
                          <a:lnTo>
                            <a:pt x="5" y="1"/>
                          </a:lnTo>
                          <a:lnTo>
                            <a:pt x="10" y="4"/>
                          </a:lnTo>
                          <a:lnTo>
                            <a:pt x="14" y="9"/>
                          </a:lnTo>
                          <a:lnTo>
                            <a:pt x="17" y="14"/>
                          </a:lnTo>
                          <a:lnTo>
                            <a:pt x="20" y="22"/>
                          </a:lnTo>
                          <a:lnTo>
                            <a:pt x="22" y="28"/>
                          </a:lnTo>
                          <a:lnTo>
                            <a:pt x="24" y="41"/>
                          </a:lnTo>
                          <a:lnTo>
                            <a:pt x="27" y="54"/>
                          </a:lnTo>
                          <a:lnTo>
                            <a:pt x="30" y="67"/>
                          </a:lnTo>
                          <a:lnTo>
                            <a:pt x="3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5257080" y="4602600"/>
                      <a:ext cx="65880" cy="374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>
                      <a:off x="5257080" y="4584960"/>
                      <a:ext cx="65880" cy="385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8" name=""/>
                    <p:cNvSpPr/>
                    <p:nvPr/>
                  </p:nvSpPr>
                  <p:spPr>
                    <a:xfrm>
                      <a:off x="5257080" y="4469760"/>
                      <a:ext cx="65880" cy="35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5257080" y="4448520"/>
                      <a:ext cx="65880" cy="4032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5257080" y="4536000"/>
                      <a:ext cx="65880" cy="35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5257080" y="4516560"/>
                      <a:ext cx="65880" cy="406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2" name=""/>
                    <p:cNvSpPr/>
                    <p:nvPr/>
                  </p:nvSpPr>
                  <p:spPr>
                    <a:xfrm>
                      <a:off x="5262120" y="4584960"/>
                      <a:ext cx="57960" cy="53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5263920" y="4586400"/>
                      <a:ext cx="54360" cy="51840"/>
                    </a:xfrm>
                    <a:prstGeom prst="ellipse">
                      <a:avLst/>
                    </a:prstGeom>
                    <a:solidFill>
                      <a:srgbClr val="09fa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5262120" y="4451760"/>
                      <a:ext cx="57960" cy="53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5263920" y="4451760"/>
                      <a:ext cx="54360" cy="51840"/>
                    </a:xfrm>
                    <a:prstGeom prst="ellipse">
                      <a:avLst/>
                    </a:prstGeom>
                    <a:solidFill>
                      <a:srgbClr val="fa00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5262120" y="4518360"/>
                      <a:ext cx="57960" cy="53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5263920" y="4519800"/>
                      <a:ext cx="54360" cy="50040"/>
                    </a:xfrm>
                    <a:prstGeom prst="ellipse">
                      <a:avLst/>
                    </a:prstGeom>
                    <a:solidFill>
                      <a:srgbClr val="fac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>
                      <a:off x="5270400" y="4427280"/>
                      <a:ext cx="39600" cy="1440"/>
                    </a:xfrm>
                    <a:prstGeom prst="line">
                      <a:avLst/>
                    </a:prstGeom>
                    <a:ln w="158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>
                      <a:off x="5281920" y="4420800"/>
                      <a:ext cx="16200" cy="12600"/>
                    </a:xfrm>
                    <a:prstGeom prst="ellipse">
                      <a:avLst/>
                    </a:pr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>
                      <a:off x="5300280" y="4461120"/>
                      <a:ext cx="1116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8" y="0"/>
                          </a:lnTo>
                          <a:lnTo>
                            <a:pt x="11" y="1"/>
                          </a:lnTo>
                          <a:lnTo>
                            <a:pt x="13" y="3"/>
                          </a:lnTo>
                          <a:lnTo>
                            <a:pt x="13" y="4"/>
                          </a:lnTo>
                          <a:lnTo>
                            <a:pt x="10" y="7"/>
                          </a:lnTo>
                          <a:lnTo>
                            <a:pt x="8" y="10"/>
                          </a:lnTo>
                          <a:lnTo>
                            <a:pt x="8" y="13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5" y="10"/>
                          </a:lnTo>
                          <a:lnTo>
                            <a:pt x="3" y="9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1" y="1"/>
                          </a:lnTo>
                          <a:lnTo>
                            <a:pt x="3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>
                      <a:off x="5293440" y="4455000"/>
                      <a:ext cx="115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6" y="0"/>
                          </a:moveTo>
                          <a:lnTo>
                            <a:pt x="9" y="1"/>
                          </a:lnTo>
                          <a:lnTo>
                            <a:pt x="12" y="3"/>
                          </a:lnTo>
                          <a:lnTo>
                            <a:pt x="13" y="4"/>
                          </a:lnTo>
                          <a:lnTo>
                            <a:pt x="13" y="6"/>
                          </a:lnTo>
                          <a:lnTo>
                            <a:pt x="10" y="8"/>
                          </a:lnTo>
                          <a:lnTo>
                            <a:pt x="9" y="11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1"/>
                          </a:lnTo>
                          <a:lnTo>
                            <a:pt x="4" y="10"/>
                          </a:lnTo>
                          <a:lnTo>
                            <a:pt x="1" y="10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3" y="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fa858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>
                      <a:off x="5300280" y="4529520"/>
                      <a:ext cx="11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3" y="3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8" y="10"/>
                          </a:lnTo>
                          <a:lnTo>
                            <a:pt x="8" y="13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5" y="10"/>
                          </a:lnTo>
                          <a:lnTo>
                            <a:pt x="3" y="9"/>
                          </a:lnTo>
                          <a:lnTo>
                            <a:pt x="1" y="9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>
                      <a:off x="5293440" y="452448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9" y="0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0" y="7"/>
                          </a:lnTo>
                          <a:lnTo>
                            <a:pt x="9" y="10"/>
                          </a:lnTo>
                          <a:lnTo>
                            <a:pt x="7" y="12"/>
                          </a:lnTo>
                          <a:lnTo>
                            <a:pt x="7" y="13"/>
                          </a:lnTo>
                          <a:lnTo>
                            <a:pt x="7" y="10"/>
                          </a:lnTo>
                          <a:lnTo>
                            <a:pt x="6" y="9"/>
                          </a:lnTo>
                          <a:lnTo>
                            <a:pt x="3" y="9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1" y="2"/>
                          </a:lnTo>
                          <a:lnTo>
                            <a:pt x="3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7fa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5300280" y="4595760"/>
                      <a:ext cx="11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7" y="0"/>
                          </a:moveTo>
                          <a:lnTo>
                            <a:pt x="8" y="2"/>
                          </a:lnTo>
                          <a:lnTo>
                            <a:pt x="11" y="3"/>
                          </a:lnTo>
                          <a:lnTo>
                            <a:pt x="13" y="4"/>
                          </a:lnTo>
                          <a:lnTo>
                            <a:pt x="13" y="6"/>
                          </a:lnTo>
                          <a:lnTo>
                            <a:pt x="10" y="9"/>
                          </a:lnTo>
                          <a:lnTo>
                            <a:pt x="8" y="12"/>
                          </a:lnTo>
                          <a:lnTo>
                            <a:pt x="8" y="13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5" y="10"/>
                          </a:lnTo>
                          <a:lnTo>
                            <a:pt x="3" y="10"/>
                          </a:lnTo>
                          <a:lnTo>
                            <a:pt x="1" y="9"/>
                          </a:lnTo>
                          <a:lnTo>
                            <a:pt x="0" y="7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3" y="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5293440" y="4591080"/>
                      <a:ext cx="115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6" y="0"/>
                          </a:moveTo>
                          <a:lnTo>
                            <a:pt x="9" y="0"/>
                          </a:lnTo>
                          <a:lnTo>
                            <a:pt x="12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0" y="8"/>
                          </a:lnTo>
                          <a:lnTo>
                            <a:pt x="9" y="10"/>
                          </a:lnTo>
                          <a:lnTo>
                            <a:pt x="7" y="13"/>
                          </a:lnTo>
                          <a:lnTo>
                            <a:pt x="7" y="13"/>
                          </a:lnTo>
                          <a:lnTo>
                            <a:pt x="6" y="12"/>
                          </a:lnTo>
                          <a:lnTo>
                            <a:pt x="4" y="10"/>
                          </a:lnTo>
                          <a:lnTo>
                            <a:pt x="1" y="9"/>
                          </a:lnTo>
                          <a:lnTo>
                            <a:pt x="0" y="9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a2fa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4982400" y="5022720"/>
                    <a:ext cx="644040" cy="185040"/>
                    <a:chOff x="4982400" y="5022720"/>
                    <a:chExt cx="644040" cy="18504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5167800" y="5144400"/>
                      <a:ext cx="254880" cy="18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>
                      <a:off x="5172840" y="5150880"/>
                      <a:ext cx="24516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>
                      <a:off x="5250600" y="5173920"/>
                      <a:ext cx="180720" cy="46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>
                      <a:off x="4990320" y="5081040"/>
                      <a:ext cx="3841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4" h="17">
                          <a:moveTo>
                            <a:pt x="464" y="1"/>
                          </a:moveTo>
                          <a:lnTo>
                            <a:pt x="449" y="0"/>
                          </a:lnTo>
                          <a:lnTo>
                            <a:pt x="156" y="1"/>
                          </a:lnTo>
                          <a:lnTo>
                            <a:pt x="42" y="6"/>
                          </a:lnTo>
                          <a:lnTo>
                            <a:pt x="30" y="6"/>
                          </a:lnTo>
                          <a:lnTo>
                            <a:pt x="19" y="1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>
                      <a:off x="5164560" y="5146200"/>
                      <a:ext cx="258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0" h="6">
                          <a:moveTo>
                            <a:pt x="0" y="0"/>
                          </a:moveTo>
                          <a:lnTo>
                            <a:pt x="310" y="0"/>
                          </a:lnTo>
                          <a:lnTo>
                            <a:pt x="306" y="6"/>
                          </a:lnTo>
                          <a:lnTo>
                            <a:pt x="5" y="6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>
                      <a:off x="5547240" y="5105520"/>
                      <a:ext cx="7920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6">
                          <a:moveTo>
                            <a:pt x="0" y="45"/>
                          </a:moveTo>
                          <a:lnTo>
                            <a:pt x="15" y="45"/>
                          </a:lnTo>
                          <a:lnTo>
                            <a:pt x="19" y="28"/>
                          </a:lnTo>
                          <a:lnTo>
                            <a:pt x="37" y="28"/>
                          </a:lnTo>
                          <a:lnTo>
                            <a:pt x="64" y="18"/>
                          </a:lnTo>
                          <a:lnTo>
                            <a:pt x="83" y="9"/>
                          </a:lnTo>
                          <a:lnTo>
                            <a:pt x="88" y="0"/>
                          </a:lnTo>
                          <a:lnTo>
                            <a:pt x="92" y="3"/>
                          </a:lnTo>
                          <a:lnTo>
                            <a:pt x="95" y="13"/>
                          </a:lnTo>
                          <a:lnTo>
                            <a:pt x="95" y="19"/>
                          </a:lnTo>
                          <a:lnTo>
                            <a:pt x="88" y="20"/>
                          </a:lnTo>
                          <a:lnTo>
                            <a:pt x="76" y="37"/>
                          </a:lnTo>
                          <a:lnTo>
                            <a:pt x="70" y="41"/>
                          </a:lnTo>
                          <a:lnTo>
                            <a:pt x="42" y="59"/>
                          </a:lnTo>
                          <a:lnTo>
                            <a:pt x="32" y="63"/>
                          </a:lnTo>
                          <a:lnTo>
                            <a:pt x="18" y="63"/>
                          </a:lnTo>
                          <a:lnTo>
                            <a:pt x="15" y="69"/>
                          </a:lnTo>
                          <a:lnTo>
                            <a:pt x="3" y="76"/>
                          </a:lnTo>
                          <a:lnTo>
                            <a:pt x="1" y="47"/>
                          </a:lnTo>
                          <a:lnTo>
                            <a:pt x="0" y="4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>
                      <a:off x="5426280" y="5116680"/>
                      <a:ext cx="87480" cy="9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>
                      <a:off x="5088240" y="5116680"/>
                      <a:ext cx="87840" cy="89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>
                      <a:off x="5169240" y="5149440"/>
                      <a:ext cx="2484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31">
                          <a:moveTo>
                            <a:pt x="0" y="3"/>
                          </a:moveTo>
                          <a:lnTo>
                            <a:pt x="15" y="31"/>
                          </a:lnTo>
                          <a:lnTo>
                            <a:pt x="286" y="31"/>
                          </a:lnTo>
                          <a:lnTo>
                            <a:pt x="293" y="13"/>
                          </a:lnTo>
                          <a:lnTo>
                            <a:pt x="299" y="0"/>
                          </a:lnTo>
                          <a:lnTo>
                            <a:pt x="260" y="0"/>
                          </a:lnTo>
                          <a:lnTo>
                            <a:pt x="257" y="9"/>
                          </a:lnTo>
                          <a:lnTo>
                            <a:pt x="252" y="18"/>
                          </a:lnTo>
                          <a:lnTo>
                            <a:pt x="248" y="19"/>
                          </a:lnTo>
                          <a:lnTo>
                            <a:pt x="87" y="19"/>
                          </a:lnTo>
                          <a:lnTo>
                            <a:pt x="78" y="12"/>
                          </a:lnTo>
                          <a:lnTo>
                            <a:pt x="72" y="3"/>
                          </a:lnTo>
                          <a:lnTo>
                            <a:pt x="72" y="0"/>
                          </a:lnTo>
                          <a:lnTo>
                            <a:pt x="0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6" name=""/>
                    <p:cNvSpPr/>
                    <p:nvPr/>
                  </p:nvSpPr>
                  <p:spPr>
                    <a:xfrm>
                      <a:off x="5572080" y="5088960"/>
                      <a:ext cx="4932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47">
                          <a:moveTo>
                            <a:pt x="5" y="45"/>
                          </a:moveTo>
                          <a:lnTo>
                            <a:pt x="8" y="32"/>
                          </a:lnTo>
                          <a:lnTo>
                            <a:pt x="6" y="31"/>
                          </a:lnTo>
                          <a:lnTo>
                            <a:pt x="0" y="19"/>
                          </a:lnTo>
                          <a:lnTo>
                            <a:pt x="13" y="19"/>
                          </a:lnTo>
                          <a:lnTo>
                            <a:pt x="34" y="13"/>
                          </a:lnTo>
                          <a:lnTo>
                            <a:pt x="44" y="1"/>
                          </a:lnTo>
                          <a:lnTo>
                            <a:pt x="49" y="0"/>
                          </a:lnTo>
                          <a:lnTo>
                            <a:pt x="56" y="0"/>
                          </a:lnTo>
                          <a:lnTo>
                            <a:pt x="57" y="1"/>
                          </a:lnTo>
                          <a:lnTo>
                            <a:pt x="60" y="7"/>
                          </a:lnTo>
                          <a:lnTo>
                            <a:pt x="57" y="20"/>
                          </a:lnTo>
                          <a:lnTo>
                            <a:pt x="54" y="28"/>
                          </a:lnTo>
                          <a:lnTo>
                            <a:pt x="8" y="47"/>
                          </a:lnTo>
                          <a:lnTo>
                            <a:pt x="5" y="47"/>
                          </a:lnTo>
                          <a:lnTo>
                            <a:pt x="5" y="4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4982400" y="5022720"/>
                      <a:ext cx="6411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3" h="186">
                          <a:moveTo>
                            <a:pt x="709" y="103"/>
                          </a:moveTo>
                          <a:lnTo>
                            <a:pt x="723" y="103"/>
                          </a:lnTo>
                          <a:lnTo>
                            <a:pt x="740" y="97"/>
                          </a:lnTo>
                          <a:lnTo>
                            <a:pt x="745" y="96"/>
                          </a:lnTo>
                          <a:lnTo>
                            <a:pt x="754" y="85"/>
                          </a:lnTo>
                          <a:lnTo>
                            <a:pt x="756" y="85"/>
                          </a:lnTo>
                          <a:lnTo>
                            <a:pt x="759" y="84"/>
                          </a:lnTo>
                          <a:lnTo>
                            <a:pt x="766" y="84"/>
                          </a:lnTo>
                          <a:lnTo>
                            <a:pt x="770" y="91"/>
                          </a:lnTo>
                          <a:lnTo>
                            <a:pt x="773" y="87"/>
                          </a:lnTo>
                          <a:lnTo>
                            <a:pt x="760" y="74"/>
                          </a:lnTo>
                          <a:lnTo>
                            <a:pt x="754" y="68"/>
                          </a:lnTo>
                          <a:lnTo>
                            <a:pt x="744" y="65"/>
                          </a:lnTo>
                          <a:lnTo>
                            <a:pt x="732" y="63"/>
                          </a:lnTo>
                          <a:lnTo>
                            <a:pt x="565" y="60"/>
                          </a:lnTo>
                          <a:lnTo>
                            <a:pt x="558" y="59"/>
                          </a:lnTo>
                          <a:lnTo>
                            <a:pt x="493" y="3"/>
                          </a:lnTo>
                          <a:lnTo>
                            <a:pt x="485" y="0"/>
                          </a:lnTo>
                          <a:lnTo>
                            <a:pt x="325" y="0"/>
                          </a:lnTo>
                          <a:lnTo>
                            <a:pt x="266" y="12"/>
                          </a:lnTo>
                          <a:lnTo>
                            <a:pt x="239" y="18"/>
                          </a:lnTo>
                          <a:lnTo>
                            <a:pt x="177" y="68"/>
                          </a:lnTo>
                          <a:lnTo>
                            <a:pt x="120" y="68"/>
                          </a:lnTo>
                          <a:lnTo>
                            <a:pt x="88" y="71"/>
                          </a:lnTo>
                          <a:lnTo>
                            <a:pt x="36" y="80"/>
                          </a:lnTo>
                          <a:lnTo>
                            <a:pt x="14" y="90"/>
                          </a:lnTo>
                          <a:lnTo>
                            <a:pt x="9" y="93"/>
                          </a:lnTo>
                          <a:lnTo>
                            <a:pt x="3" y="100"/>
                          </a:lnTo>
                          <a:lnTo>
                            <a:pt x="0" y="128"/>
                          </a:lnTo>
                          <a:lnTo>
                            <a:pt x="23" y="128"/>
                          </a:lnTo>
                          <a:lnTo>
                            <a:pt x="26" y="128"/>
                          </a:lnTo>
                          <a:lnTo>
                            <a:pt x="26" y="143"/>
                          </a:lnTo>
                          <a:lnTo>
                            <a:pt x="41" y="167"/>
                          </a:lnTo>
                          <a:lnTo>
                            <a:pt x="105" y="167"/>
                          </a:lnTo>
                          <a:lnTo>
                            <a:pt x="110" y="166"/>
                          </a:lnTo>
                          <a:lnTo>
                            <a:pt x="116" y="157"/>
                          </a:lnTo>
                          <a:lnTo>
                            <a:pt x="127" y="143"/>
                          </a:lnTo>
                          <a:lnTo>
                            <a:pt x="133" y="135"/>
                          </a:lnTo>
                          <a:lnTo>
                            <a:pt x="142" y="129"/>
                          </a:lnTo>
                          <a:lnTo>
                            <a:pt x="148" y="128"/>
                          </a:lnTo>
                          <a:lnTo>
                            <a:pt x="198" y="128"/>
                          </a:lnTo>
                          <a:lnTo>
                            <a:pt x="208" y="129"/>
                          </a:lnTo>
                          <a:lnTo>
                            <a:pt x="221" y="154"/>
                          </a:lnTo>
                          <a:lnTo>
                            <a:pt x="240" y="186"/>
                          </a:lnTo>
                          <a:lnTo>
                            <a:pt x="510" y="186"/>
                          </a:lnTo>
                          <a:lnTo>
                            <a:pt x="523" y="162"/>
                          </a:lnTo>
                          <a:lnTo>
                            <a:pt x="536" y="144"/>
                          </a:lnTo>
                          <a:lnTo>
                            <a:pt x="546" y="134"/>
                          </a:lnTo>
                          <a:lnTo>
                            <a:pt x="558" y="126"/>
                          </a:lnTo>
                          <a:lnTo>
                            <a:pt x="606" y="126"/>
                          </a:lnTo>
                          <a:lnTo>
                            <a:pt x="618" y="129"/>
                          </a:lnTo>
                          <a:lnTo>
                            <a:pt x="628" y="132"/>
                          </a:lnTo>
                          <a:lnTo>
                            <a:pt x="636" y="143"/>
                          </a:lnTo>
                          <a:lnTo>
                            <a:pt x="643" y="156"/>
                          </a:lnTo>
                          <a:lnTo>
                            <a:pt x="650" y="178"/>
                          </a:lnTo>
                          <a:lnTo>
                            <a:pt x="684" y="178"/>
                          </a:lnTo>
                          <a:lnTo>
                            <a:pt x="682" y="148"/>
                          </a:lnTo>
                          <a:lnTo>
                            <a:pt x="696" y="148"/>
                          </a:lnTo>
                          <a:lnTo>
                            <a:pt x="700" y="132"/>
                          </a:lnTo>
                          <a:lnTo>
                            <a:pt x="715" y="132"/>
                          </a:lnTo>
                          <a:lnTo>
                            <a:pt x="709" y="10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5384880" y="5086080"/>
                      <a:ext cx="18216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2">
                          <a:moveTo>
                            <a:pt x="0" y="0"/>
                          </a:moveTo>
                          <a:lnTo>
                            <a:pt x="80" y="2"/>
                          </a:lnTo>
                          <a:lnTo>
                            <a:pt x="192" y="9"/>
                          </a:lnTo>
                          <a:lnTo>
                            <a:pt x="200" y="9"/>
                          </a:lnTo>
                          <a:lnTo>
                            <a:pt x="209" y="12"/>
                          </a:lnTo>
                          <a:lnTo>
                            <a:pt x="221" y="2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>
                      <a:off x="5177520" y="5033880"/>
                      <a:ext cx="1558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3">
                          <a:moveTo>
                            <a:pt x="0" y="3"/>
                          </a:moveTo>
                          <a:lnTo>
                            <a:pt x="38" y="0"/>
                          </a:lnTo>
                          <a:lnTo>
                            <a:pt x="18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5345280" y="5030640"/>
                      <a:ext cx="925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57">
                          <a:moveTo>
                            <a:pt x="111" y="45"/>
                          </a:moveTo>
                          <a:lnTo>
                            <a:pt x="39" y="57"/>
                          </a:lnTo>
                          <a:lnTo>
                            <a:pt x="0" y="7"/>
                          </a:lnTo>
                          <a:lnTo>
                            <a:pt x="54" y="0"/>
                          </a:lnTo>
                          <a:lnTo>
                            <a:pt x="108" y="4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>
                      <a:off x="5181120" y="5037120"/>
                      <a:ext cx="1886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8" h="55">
                          <a:moveTo>
                            <a:pt x="0" y="55"/>
                          </a:moveTo>
                          <a:lnTo>
                            <a:pt x="39" y="3"/>
                          </a:lnTo>
                          <a:lnTo>
                            <a:pt x="44" y="0"/>
                          </a:lnTo>
                          <a:lnTo>
                            <a:pt x="187" y="0"/>
                          </a:lnTo>
                          <a:lnTo>
                            <a:pt x="194" y="5"/>
                          </a:lnTo>
                          <a:lnTo>
                            <a:pt x="219" y="40"/>
                          </a:lnTo>
                          <a:lnTo>
                            <a:pt x="228" y="5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2" name=""/>
                    <p:cNvSpPr/>
                    <p:nvPr/>
                  </p:nvSpPr>
                  <p:spPr>
                    <a:xfrm>
                      <a:off x="5333400" y="5037120"/>
                      <a:ext cx="3240" cy="43920"/>
                    </a:xfrm>
                    <a:prstGeom prst="rect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3" name=""/>
                    <p:cNvSpPr/>
                    <p:nvPr/>
                  </p:nvSpPr>
                  <p:spPr>
                    <a:xfrm>
                      <a:off x="5182920" y="5022720"/>
                      <a:ext cx="2001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7">
                          <a:moveTo>
                            <a:pt x="0" y="17"/>
                          </a:moveTo>
                          <a:lnTo>
                            <a:pt x="86" y="0"/>
                          </a:lnTo>
                          <a:lnTo>
                            <a:pt x="24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4" name=""/>
                    <p:cNvSpPr/>
                    <p:nvPr/>
                  </p:nvSpPr>
                  <p:spPr>
                    <a:xfrm>
                      <a:off x="5349960" y="5068080"/>
                      <a:ext cx="82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410" y="16135"/>
                          </a:moveTo>
                          <a:arcTo wR="10800" hR="10800" stAng="9023733" swAng="105190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0" y="16135"/>
                          </a:moveTo>
                          <a:arcTo wR="10800" hR="10800" stAng="9023733" swAng="10519054"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5" name=""/>
                    <p:cNvSpPr/>
                    <p:nvPr/>
                  </p:nvSpPr>
                  <p:spPr>
                    <a:xfrm>
                      <a:off x="5353560" y="5069880"/>
                      <a:ext cx="4680" cy="14400"/>
                    </a:xfrm>
                    <a:prstGeom prst="ellipse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5349960" y="5081040"/>
                      <a:ext cx="4680" cy="3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5348160" y="5030640"/>
                      <a:ext cx="878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58">
                          <a:moveTo>
                            <a:pt x="0" y="8"/>
                          </a:moveTo>
                          <a:lnTo>
                            <a:pt x="35" y="58"/>
                          </a:lnTo>
                          <a:lnTo>
                            <a:pt x="107" y="47"/>
                          </a:lnTo>
                          <a:lnTo>
                            <a:pt x="51" y="0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>
                      <a:off x="5242320" y="5040360"/>
                      <a:ext cx="9108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2">
                          <a:moveTo>
                            <a:pt x="5" y="0"/>
                          </a:moveTo>
                          <a:lnTo>
                            <a:pt x="110" y="0"/>
                          </a:lnTo>
                          <a:lnTo>
                            <a:pt x="110" y="0"/>
                          </a:lnTo>
                          <a:lnTo>
                            <a:pt x="110" y="52"/>
                          </a:lnTo>
                          <a:lnTo>
                            <a:pt x="0" y="52"/>
                          </a:lnTo>
                          <a:lnTo>
                            <a:pt x="0" y="18"/>
                          </a:lnTo>
                          <a:lnTo>
                            <a:pt x="5" y="3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9" name=""/>
                    <p:cNvSpPr/>
                    <p:nvPr/>
                  </p:nvSpPr>
                  <p:spPr>
                    <a:xfrm>
                      <a:off x="5337000" y="5040360"/>
                      <a:ext cx="3096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2">
                          <a:moveTo>
                            <a:pt x="0" y="3"/>
                          </a:moveTo>
                          <a:lnTo>
                            <a:pt x="0" y="52"/>
                          </a:lnTo>
                          <a:lnTo>
                            <a:pt x="18" y="52"/>
                          </a:lnTo>
                          <a:lnTo>
                            <a:pt x="18" y="40"/>
                          </a:lnTo>
                          <a:lnTo>
                            <a:pt x="22" y="36"/>
                          </a:lnTo>
                          <a:lnTo>
                            <a:pt x="26" y="37"/>
                          </a:lnTo>
                          <a:lnTo>
                            <a:pt x="28" y="44"/>
                          </a:lnTo>
                          <a:lnTo>
                            <a:pt x="28" y="52"/>
                          </a:lnTo>
                          <a:lnTo>
                            <a:pt x="40" y="52"/>
                          </a:lnTo>
                          <a:lnTo>
                            <a:pt x="38" y="47"/>
                          </a:lnTo>
                          <a:lnTo>
                            <a:pt x="7" y="3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5244120" y="5037120"/>
                      <a:ext cx="8928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55">
                          <a:moveTo>
                            <a:pt x="4" y="0"/>
                          </a:moveTo>
                          <a:lnTo>
                            <a:pt x="0" y="21"/>
                          </a:lnTo>
                          <a:lnTo>
                            <a:pt x="0" y="55"/>
                          </a:lnTo>
                          <a:lnTo>
                            <a:pt x="108" y="55"/>
                          </a:lnTo>
                          <a:lnTo>
                            <a:pt x="108" y="2"/>
                          </a:lnTo>
                          <a:lnTo>
                            <a:pt x="4" y="2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1" name=""/>
                    <p:cNvSpPr/>
                    <p:nvPr/>
                  </p:nvSpPr>
                  <p:spPr>
                    <a:xfrm>
                      <a:off x="5337000" y="5037120"/>
                      <a:ext cx="3096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5">
                          <a:moveTo>
                            <a:pt x="0" y="0"/>
                          </a:moveTo>
                          <a:lnTo>
                            <a:pt x="0" y="55"/>
                          </a:lnTo>
                          <a:lnTo>
                            <a:pt x="18" y="55"/>
                          </a:lnTo>
                          <a:lnTo>
                            <a:pt x="18" y="43"/>
                          </a:lnTo>
                          <a:lnTo>
                            <a:pt x="22" y="39"/>
                          </a:lnTo>
                          <a:lnTo>
                            <a:pt x="25" y="39"/>
                          </a:lnTo>
                          <a:lnTo>
                            <a:pt x="26" y="47"/>
                          </a:lnTo>
                          <a:lnTo>
                            <a:pt x="26" y="55"/>
                          </a:lnTo>
                          <a:lnTo>
                            <a:pt x="40" y="55"/>
                          </a:lnTo>
                          <a:lnTo>
                            <a:pt x="38" y="50"/>
                          </a:lnTo>
                          <a:lnTo>
                            <a:pt x="4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2" name=""/>
                    <p:cNvSpPr/>
                    <p:nvPr/>
                  </p:nvSpPr>
                  <p:spPr>
                    <a:xfrm>
                      <a:off x="5345280" y="5030640"/>
                      <a:ext cx="9072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8">
                          <a:moveTo>
                            <a:pt x="3" y="6"/>
                          </a:moveTo>
                          <a:lnTo>
                            <a:pt x="55" y="0"/>
                          </a:lnTo>
                          <a:lnTo>
                            <a:pt x="110" y="47"/>
                          </a:lnTo>
                          <a:lnTo>
                            <a:pt x="39" y="58"/>
                          </a:lnTo>
                          <a:lnTo>
                            <a:pt x="0" y="7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3" name=""/>
                    <p:cNvSpPr/>
                    <p:nvPr/>
                  </p:nvSpPr>
                  <p:spPr>
                    <a:xfrm>
                      <a:off x="5358240" y="5077800"/>
                      <a:ext cx="468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4" name=""/>
                    <p:cNvSpPr/>
                    <p:nvPr/>
                  </p:nvSpPr>
                  <p:spPr>
                    <a:xfrm>
                      <a:off x="5444280" y="5138280"/>
                      <a:ext cx="49680" cy="50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5" name=""/>
                    <p:cNvSpPr/>
                    <p:nvPr/>
                  </p:nvSpPr>
                  <p:spPr>
                    <a:xfrm>
                      <a:off x="5404680" y="5124960"/>
                      <a:ext cx="14400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61">
                          <a:moveTo>
                            <a:pt x="172" y="50"/>
                          </a:moveTo>
                          <a:lnTo>
                            <a:pt x="140" y="50"/>
                          </a:lnTo>
                          <a:lnTo>
                            <a:pt x="134" y="31"/>
                          </a:lnTo>
                          <a:lnTo>
                            <a:pt x="126" y="13"/>
                          </a:lnTo>
                          <a:lnTo>
                            <a:pt x="115" y="4"/>
                          </a:lnTo>
                          <a:lnTo>
                            <a:pt x="104" y="1"/>
                          </a:lnTo>
                          <a:lnTo>
                            <a:pt x="96" y="0"/>
                          </a:lnTo>
                          <a:lnTo>
                            <a:pt x="46" y="0"/>
                          </a:lnTo>
                          <a:lnTo>
                            <a:pt x="33" y="7"/>
                          </a:lnTo>
                          <a:lnTo>
                            <a:pt x="13" y="32"/>
                          </a:lnTo>
                          <a:lnTo>
                            <a:pt x="4" y="53"/>
                          </a:lnTo>
                          <a:lnTo>
                            <a:pt x="0" y="6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6" name=""/>
                    <p:cNvSpPr/>
                    <p:nvPr/>
                  </p:nvSpPr>
                  <p:spPr>
                    <a:xfrm>
                      <a:off x="5449320" y="5141520"/>
                      <a:ext cx="43200" cy="45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7" name=""/>
                    <p:cNvSpPr/>
                    <p:nvPr/>
                  </p:nvSpPr>
                  <p:spPr>
                    <a:xfrm>
                      <a:off x="5462280" y="5157720"/>
                      <a:ext cx="1224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140" y="5970"/>
                          </a:moveTo>
                          <a:arcTo wR="10800" hR="10800" stAng="-9206097" swAng="761219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140" y="5970"/>
                          </a:moveTo>
                          <a:arcTo wR="10800" hR="10800" stAng="-9206097" swAng="7612194"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8" name=""/>
                    <p:cNvSpPr/>
                    <p:nvPr/>
                  </p:nvSpPr>
                  <p:spPr>
                    <a:xfrm>
                      <a:off x="5475960" y="5160600"/>
                      <a:ext cx="46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4">
                          <a:moveTo>
                            <a:pt x="0" y="0"/>
                          </a:moveTo>
                          <a:lnTo>
                            <a:pt x="7" y="1"/>
                          </a:lnTo>
                          <a:lnTo>
                            <a:pt x="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9" name=""/>
                    <p:cNvSpPr/>
                    <p:nvPr/>
                  </p:nvSpPr>
                  <p:spPr>
                    <a:xfrm>
                      <a:off x="5464080" y="5155920"/>
                      <a:ext cx="140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213" y="16095"/>
                          </a:moveTo>
                          <a:arcTo wR="10800" hR="10800" stAng="1761465" swAng="75848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213" y="16095"/>
                          </a:moveTo>
                          <a:arcTo wR="10800" hR="10800" stAng="1761465" swAng="7584869"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0" name=""/>
                    <p:cNvSpPr/>
                    <p:nvPr/>
                  </p:nvSpPr>
                  <p:spPr>
                    <a:xfrm>
                      <a:off x="5457960" y="5160600"/>
                      <a:ext cx="61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4">
                          <a:moveTo>
                            <a:pt x="8" y="4"/>
                          </a:moveTo>
                          <a:lnTo>
                            <a:pt x="0" y="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5381640" y="5092200"/>
                      <a:ext cx="19512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64">
                          <a:moveTo>
                            <a:pt x="1" y="1"/>
                          </a:moveTo>
                          <a:lnTo>
                            <a:pt x="0" y="13"/>
                          </a:lnTo>
                          <a:lnTo>
                            <a:pt x="3" y="56"/>
                          </a:lnTo>
                          <a:lnTo>
                            <a:pt x="3" y="64"/>
                          </a:lnTo>
                          <a:lnTo>
                            <a:pt x="48" y="64"/>
                          </a:lnTo>
                          <a:lnTo>
                            <a:pt x="55" y="56"/>
                          </a:lnTo>
                          <a:lnTo>
                            <a:pt x="64" y="47"/>
                          </a:lnTo>
                          <a:lnTo>
                            <a:pt x="74" y="39"/>
                          </a:lnTo>
                          <a:lnTo>
                            <a:pt x="124" y="39"/>
                          </a:lnTo>
                          <a:lnTo>
                            <a:pt x="139" y="42"/>
                          </a:lnTo>
                          <a:lnTo>
                            <a:pt x="148" y="48"/>
                          </a:lnTo>
                          <a:lnTo>
                            <a:pt x="154" y="54"/>
                          </a:lnTo>
                          <a:lnTo>
                            <a:pt x="159" y="64"/>
                          </a:lnTo>
                          <a:lnTo>
                            <a:pt x="200" y="64"/>
                          </a:lnTo>
                          <a:lnTo>
                            <a:pt x="200" y="63"/>
                          </a:lnTo>
                          <a:lnTo>
                            <a:pt x="214" y="63"/>
                          </a:lnTo>
                          <a:lnTo>
                            <a:pt x="218" y="44"/>
                          </a:lnTo>
                          <a:lnTo>
                            <a:pt x="233" y="44"/>
                          </a:lnTo>
                          <a:lnTo>
                            <a:pt x="233" y="42"/>
                          </a:lnTo>
                          <a:lnTo>
                            <a:pt x="236" y="29"/>
                          </a:lnTo>
                          <a:lnTo>
                            <a:pt x="231" y="20"/>
                          </a:lnTo>
                          <a:lnTo>
                            <a:pt x="227" y="16"/>
                          </a:lnTo>
                          <a:lnTo>
                            <a:pt x="222" y="12"/>
                          </a:lnTo>
                          <a:lnTo>
                            <a:pt x="215" y="10"/>
                          </a:lnTo>
                          <a:lnTo>
                            <a:pt x="60" y="3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2" name=""/>
                    <p:cNvSpPr/>
                    <p:nvPr/>
                  </p:nvSpPr>
                  <p:spPr>
                    <a:xfrm>
                      <a:off x="5577120" y="5105520"/>
                      <a:ext cx="3240" cy="2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3" name=""/>
                    <p:cNvSpPr/>
                    <p:nvPr/>
                  </p:nvSpPr>
                  <p:spPr>
                    <a:xfrm>
                      <a:off x="5570280" y="5106960"/>
                      <a:ext cx="6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1" y="0"/>
                          </a:moveTo>
                          <a:lnTo>
                            <a:pt x="6" y="9"/>
                          </a:lnTo>
                          <a:lnTo>
                            <a:pt x="7" y="12"/>
                          </a:lnTo>
                          <a:lnTo>
                            <a:pt x="7" y="22"/>
                          </a:lnTo>
                          <a:lnTo>
                            <a:pt x="6" y="28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4" name=""/>
                    <p:cNvSpPr/>
                    <p:nvPr/>
                  </p:nvSpPr>
                  <p:spPr>
                    <a:xfrm>
                      <a:off x="5513760" y="5142960"/>
                      <a:ext cx="3492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5517360" y="5150880"/>
                      <a:ext cx="298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>
                      <a:off x="5513760" y="5146200"/>
                      <a:ext cx="34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6">
                          <a:moveTo>
                            <a:pt x="0" y="0"/>
                          </a:moveTo>
                          <a:lnTo>
                            <a:pt x="43" y="0"/>
                          </a:lnTo>
                          <a:lnTo>
                            <a:pt x="41" y="6"/>
                          </a:lnTo>
                          <a:lnTo>
                            <a:pt x="5" y="6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7" name=""/>
                    <p:cNvSpPr/>
                    <p:nvPr/>
                  </p:nvSpPr>
                  <p:spPr>
                    <a:xfrm>
                      <a:off x="5230440" y="5079240"/>
                      <a:ext cx="15408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05">
                          <a:moveTo>
                            <a:pt x="16" y="4"/>
                          </a:moveTo>
                          <a:lnTo>
                            <a:pt x="4" y="17"/>
                          </a:lnTo>
                          <a:lnTo>
                            <a:pt x="1" y="32"/>
                          </a:lnTo>
                          <a:lnTo>
                            <a:pt x="0" y="80"/>
                          </a:lnTo>
                          <a:lnTo>
                            <a:pt x="0" y="89"/>
                          </a:lnTo>
                          <a:lnTo>
                            <a:pt x="6" y="101"/>
                          </a:lnTo>
                          <a:lnTo>
                            <a:pt x="13" y="105"/>
                          </a:lnTo>
                          <a:lnTo>
                            <a:pt x="170" y="105"/>
                          </a:lnTo>
                          <a:lnTo>
                            <a:pt x="178" y="104"/>
                          </a:lnTo>
                          <a:lnTo>
                            <a:pt x="184" y="95"/>
                          </a:lnTo>
                          <a:lnTo>
                            <a:pt x="186" y="72"/>
                          </a:lnTo>
                          <a:lnTo>
                            <a:pt x="183" y="29"/>
                          </a:lnTo>
                          <a:lnTo>
                            <a:pt x="184" y="16"/>
                          </a:lnTo>
                          <a:lnTo>
                            <a:pt x="186" y="6"/>
                          </a:lnTo>
                          <a:lnTo>
                            <a:pt x="16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8" name=""/>
                    <p:cNvSpPr/>
                    <p:nvPr/>
                  </p:nvSpPr>
                  <p:spPr>
                    <a:xfrm>
                      <a:off x="5096520" y="5090760"/>
                      <a:ext cx="2782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" h="2">
                          <a:moveTo>
                            <a:pt x="335" y="2"/>
                          </a:moveTo>
                          <a:lnTo>
                            <a:pt x="177" y="2"/>
                          </a:lnTo>
                          <a:lnTo>
                            <a:pt x="5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9" name=""/>
                    <p:cNvSpPr/>
                    <p:nvPr/>
                  </p:nvSpPr>
                  <p:spPr>
                    <a:xfrm flipH="1">
                      <a:off x="5370120" y="5092200"/>
                      <a:ext cx="12960" cy="18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0" name=""/>
                    <p:cNvSpPr/>
                    <p:nvPr/>
                  </p:nvSpPr>
                  <p:spPr>
                    <a:xfrm>
                      <a:off x="5449320" y="5071320"/>
                      <a:ext cx="1742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9" h="43">
                          <a:moveTo>
                            <a:pt x="146" y="43"/>
                          </a:moveTo>
                          <a:lnTo>
                            <a:pt x="159" y="43"/>
                          </a:lnTo>
                          <a:lnTo>
                            <a:pt x="173" y="39"/>
                          </a:lnTo>
                          <a:lnTo>
                            <a:pt x="180" y="34"/>
                          </a:lnTo>
                          <a:lnTo>
                            <a:pt x="192" y="22"/>
                          </a:lnTo>
                          <a:lnTo>
                            <a:pt x="203" y="22"/>
                          </a:lnTo>
                          <a:lnTo>
                            <a:pt x="206" y="30"/>
                          </a:lnTo>
                          <a:lnTo>
                            <a:pt x="209" y="27"/>
                          </a:lnTo>
                          <a:lnTo>
                            <a:pt x="200" y="17"/>
                          </a:lnTo>
                          <a:lnTo>
                            <a:pt x="190" y="8"/>
                          </a:lnTo>
                          <a:lnTo>
                            <a:pt x="17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5620320" y="5097240"/>
                      <a:ext cx="1440" cy="82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>
                      <a:off x="5613480" y="5088960"/>
                      <a:ext cx="3240" cy="22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3" name=""/>
                    <p:cNvSpPr/>
                    <p:nvPr/>
                  </p:nvSpPr>
                  <p:spPr>
                    <a:xfrm flipV="1">
                      <a:off x="5613480" y="5094000"/>
                      <a:ext cx="1440" cy="12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5606640" y="5092200"/>
                      <a:ext cx="5040" cy="22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5108040" y="5134680"/>
                      <a:ext cx="49320" cy="53280"/>
                    </a:xfrm>
                    <a:prstGeom prst="ellipse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5111640" y="5138280"/>
                      <a:ext cx="43200" cy="47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5242320" y="5043600"/>
                      <a:ext cx="180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48">
                          <a:moveTo>
                            <a:pt x="2" y="0"/>
                          </a:moveTo>
                          <a:lnTo>
                            <a:pt x="0" y="12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5240880" y="5037120"/>
                      <a:ext cx="468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6">
                          <a:moveTo>
                            <a:pt x="6" y="3"/>
                          </a:moveTo>
                          <a:lnTo>
                            <a:pt x="3" y="18"/>
                          </a:lnTo>
                          <a:lnTo>
                            <a:pt x="3" y="53"/>
                          </a:lnTo>
                          <a:lnTo>
                            <a:pt x="5" y="53"/>
                          </a:lnTo>
                          <a:lnTo>
                            <a:pt x="2" y="56"/>
                          </a:lnTo>
                          <a:lnTo>
                            <a:pt x="0" y="56"/>
                          </a:lnTo>
                          <a:lnTo>
                            <a:pt x="0" y="28"/>
                          </a:lnTo>
                          <a:lnTo>
                            <a:pt x="2" y="15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 flipH="1">
                      <a:off x="5123160" y="5037120"/>
                      <a:ext cx="57600" cy="45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0" name=""/>
                    <p:cNvSpPr/>
                    <p:nvPr/>
                  </p:nvSpPr>
                  <p:spPr>
                    <a:xfrm>
                      <a:off x="5177520" y="5040360"/>
                      <a:ext cx="662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55">
                          <a:moveTo>
                            <a:pt x="79" y="3"/>
                          </a:moveTo>
                          <a:lnTo>
                            <a:pt x="74" y="18"/>
                          </a:lnTo>
                          <a:lnTo>
                            <a:pt x="74" y="55"/>
                          </a:lnTo>
                          <a:lnTo>
                            <a:pt x="0" y="55"/>
                          </a:lnTo>
                          <a:lnTo>
                            <a:pt x="41" y="0"/>
                          </a:lnTo>
                          <a:lnTo>
                            <a:pt x="76" y="0"/>
                          </a:lnTo>
                          <a:lnTo>
                            <a:pt x="79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1" name=""/>
                    <p:cNvSpPr/>
                    <p:nvPr/>
                  </p:nvSpPr>
                  <p:spPr>
                    <a:xfrm>
                      <a:off x="5177520" y="5037120"/>
                      <a:ext cx="662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58">
                          <a:moveTo>
                            <a:pt x="79" y="3"/>
                          </a:moveTo>
                          <a:lnTo>
                            <a:pt x="74" y="17"/>
                          </a:lnTo>
                          <a:lnTo>
                            <a:pt x="73" y="22"/>
                          </a:lnTo>
                          <a:lnTo>
                            <a:pt x="73" y="53"/>
                          </a:lnTo>
                          <a:lnTo>
                            <a:pt x="74" y="58"/>
                          </a:lnTo>
                          <a:lnTo>
                            <a:pt x="0" y="58"/>
                          </a:lnTo>
                          <a:lnTo>
                            <a:pt x="42" y="0"/>
                          </a:lnTo>
                          <a:lnTo>
                            <a:pt x="76" y="0"/>
                          </a:lnTo>
                          <a:lnTo>
                            <a:pt x="79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2" name=""/>
                    <p:cNvSpPr/>
                    <p:nvPr/>
                  </p:nvSpPr>
                  <p:spPr>
                    <a:xfrm>
                      <a:off x="4985640" y="5124960"/>
                      <a:ext cx="180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5">
                          <a:moveTo>
                            <a:pt x="22" y="15"/>
                          </a:moveTo>
                          <a:lnTo>
                            <a:pt x="2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3" name=""/>
                    <p:cNvSpPr/>
                    <p:nvPr/>
                  </p:nvSpPr>
                  <p:spPr>
                    <a:xfrm>
                      <a:off x="4982400" y="5124960"/>
                      <a:ext cx="8928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38">
                          <a:moveTo>
                            <a:pt x="107" y="38"/>
                          </a:moveTo>
                          <a:lnTo>
                            <a:pt x="41" y="38"/>
                          </a:lnTo>
                          <a:lnTo>
                            <a:pt x="23" y="15"/>
                          </a:lnTo>
                          <a:lnTo>
                            <a:pt x="23" y="0"/>
                          </a:lnTo>
                          <a:lnTo>
                            <a:pt x="0" y="0"/>
                          </a:lnTo>
                          <a:lnTo>
                            <a:pt x="0" y="13"/>
                          </a:lnTo>
                          <a:lnTo>
                            <a:pt x="6" y="23"/>
                          </a:lnTo>
                          <a:lnTo>
                            <a:pt x="17" y="37"/>
                          </a:lnTo>
                          <a:lnTo>
                            <a:pt x="45" y="3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4" name=""/>
                    <p:cNvSpPr/>
                    <p:nvPr/>
                  </p:nvSpPr>
                  <p:spPr>
                    <a:xfrm>
                      <a:off x="5071680" y="5124960"/>
                      <a:ext cx="925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38">
                          <a:moveTo>
                            <a:pt x="111" y="16"/>
                          </a:moveTo>
                          <a:lnTo>
                            <a:pt x="101" y="3"/>
                          </a:lnTo>
                          <a:lnTo>
                            <a:pt x="94" y="0"/>
                          </a:lnTo>
                          <a:lnTo>
                            <a:pt x="39" y="0"/>
                          </a:lnTo>
                          <a:lnTo>
                            <a:pt x="32" y="1"/>
                          </a:lnTo>
                          <a:lnTo>
                            <a:pt x="25" y="7"/>
                          </a:lnTo>
                          <a:lnTo>
                            <a:pt x="10" y="28"/>
                          </a:lnTo>
                          <a:lnTo>
                            <a:pt x="4" y="35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5" name=""/>
                    <p:cNvSpPr/>
                    <p:nvPr/>
                  </p:nvSpPr>
                  <p:spPr>
                    <a:xfrm>
                      <a:off x="4982400" y="5092200"/>
                      <a:ext cx="1141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42">
                          <a:moveTo>
                            <a:pt x="138" y="0"/>
                          </a:moveTo>
                          <a:lnTo>
                            <a:pt x="63" y="3"/>
                          </a:lnTo>
                          <a:lnTo>
                            <a:pt x="22" y="3"/>
                          </a:lnTo>
                          <a:lnTo>
                            <a:pt x="9" y="7"/>
                          </a:lnTo>
                          <a:lnTo>
                            <a:pt x="4" y="12"/>
                          </a:lnTo>
                          <a:lnTo>
                            <a:pt x="3" y="20"/>
                          </a:lnTo>
                          <a:lnTo>
                            <a:pt x="1" y="32"/>
                          </a:lnTo>
                          <a:lnTo>
                            <a:pt x="0" y="4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5003640" y="5138280"/>
                      <a:ext cx="8280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5010480" y="5147640"/>
                      <a:ext cx="69480" cy="18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"/>
                    <p:cNvSpPr/>
                    <p:nvPr/>
                  </p:nvSpPr>
                  <p:spPr>
                    <a:xfrm>
                      <a:off x="5008680" y="5155920"/>
                      <a:ext cx="795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6">
                          <a:moveTo>
                            <a:pt x="96" y="16"/>
                          </a:moveTo>
                          <a:lnTo>
                            <a:pt x="19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5160960" y="5138280"/>
                      <a:ext cx="7920" cy="12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>
                      <a:off x="5003640" y="5138280"/>
                      <a:ext cx="842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1">
                          <a:moveTo>
                            <a:pt x="1" y="0"/>
                          </a:moveTo>
                          <a:lnTo>
                            <a:pt x="102" y="0"/>
                          </a:lnTo>
                          <a:lnTo>
                            <a:pt x="93" y="11"/>
                          </a:lnTo>
                          <a:lnTo>
                            <a:pt x="9" y="11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1" name=""/>
                    <p:cNvSpPr/>
                    <p:nvPr/>
                  </p:nvSpPr>
                  <p:spPr>
                    <a:xfrm>
                      <a:off x="4982400" y="5124960"/>
                      <a:ext cx="349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8">
                          <a:moveTo>
                            <a:pt x="1" y="0"/>
                          </a:moveTo>
                          <a:lnTo>
                            <a:pt x="25" y="0"/>
                          </a:lnTo>
                          <a:lnTo>
                            <a:pt x="25" y="15"/>
                          </a:lnTo>
                          <a:lnTo>
                            <a:pt x="41" y="38"/>
                          </a:lnTo>
                          <a:lnTo>
                            <a:pt x="32" y="38"/>
                          </a:lnTo>
                          <a:lnTo>
                            <a:pt x="32" y="37"/>
                          </a:lnTo>
                          <a:lnTo>
                            <a:pt x="17" y="37"/>
                          </a:lnTo>
                          <a:lnTo>
                            <a:pt x="6" y="25"/>
                          </a:lnTo>
                          <a:lnTo>
                            <a:pt x="0" y="12"/>
                          </a:lnTo>
                          <a:lnTo>
                            <a:pt x="0" y="1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2" name=""/>
                    <p:cNvSpPr/>
                    <p:nvPr/>
                  </p:nvSpPr>
                  <p:spPr>
                    <a:xfrm>
                      <a:off x="5003640" y="5138280"/>
                      <a:ext cx="828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11">
                          <a:moveTo>
                            <a:pt x="0" y="0"/>
                          </a:moveTo>
                          <a:lnTo>
                            <a:pt x="101" y="0"/>
                          </a:lnTo>
                          <a:lnTo>
                            <a:pt x="93" y="11"/>
                          </a:lnTo>
                          <a:lnTo>
                            <a:pt x="7" y="11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"/>
                    <p:cNvSpPr/>
                    <p:nvPr/>
                  </p:nvSpPr>
                  <p:spPr>
                    <a:xfrm>
                      <a:off x="4982400" y="5124960"/>
                      <a:ext cx="349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8">
                          <a:moveTo>
                            <a:pt x="2" y="0"/>
                          </a:moveTo>
                          <a:lnTo>
                            <a:pt x="27" y="0"/>
                          </a:lnTo>
                          <a:lnTo>
                            <a:pt x="28" y="1"/>
                          </a:lnTo>
                          <a:lnTo>
                            <a:pt x="28" y="15"/>
                          </a:lnTo>
                          <a:lnTo>
                            <a:pt x="43" y="38"/>
                          </a:lnTo>
                          <a:lnTo>
                            <a:pt x="22" y="37"/>
                          </a:lnTo>
                          <a:lnTo>
                            <a:pt x="8" y="25"/>
                          </a:lnTo>
                          <a:lnTo>
                            <a:pt x="0" y="13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"/>
                    <p:cNvSpPr/>
                    <p:nvPr/>
                  </p:nvSpPr>
                  <p:spPr>
                    <a:xfrm>
                      <a:off x="4982400" y="5090760"/>
                      <a:ext cx="2534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68">
                          <a:moveTo>
                            <a:pt x="221" y="66"/>
                          </a:moveTo>
                          <a:lnTo>
                            <a:pt x="299" y="66"/>
                          </a:lnTo>
                          <a:lnTo>
                            <a:pt x="300" y="18"/>
                          </a:lnTo>
                          <a:lnTo>
                            <a:pt x="303" y="5"/>
                          </a:lnTo>
                          <a:lnTo>
                            <a:pt x="305" y="0"/>
                          </a:lnTo>
                          <a:lnTo>
                            <a:pt x="202" y="0"/>
                          </a:lnTo>
                          <a:lnTo>
                            <a:pt x="102" y="3"/>
                          </a:lnTo>
                          <a:lnTo>
                            <a:pt x="19" y="5"/>
                          </a:lnTo>
                          <a:lnTo>
                            <a:pt x="9" y="9"/>
                          </a:lnTo>
                          <a:lnTo>
                            <a:pt x="4" y="14"/>
                          </a:lnTo>
                          <a:lnTo>
                            <a:pt x="3" y="19"/>
                          </a:lnTo>
                          <a:lnTo>
                            <a:pt x="0" y="43"/>
                          </a:lnTo>
                          <a:lnTo>
                            <a:pt x="25" y="43"/>
                          </a:lnTo>
                          <a:lnTo>
                            <a:pt x="26" y="44"/>
                          </a:lnTo>
                          <a:lnTo>
                            <a:pt x="26" y="58"/>
                          </a:lnTo>
                          <a:lnTo>
                            <a:pt x="126" y="58"/>
                          </a:lnTo>
                          <a:lnTo>
                            <a:pt x="132" y="50"/>
                          </a:lnTo>
                          <a:lnTo>
                            <a:pt x="136" y="47"/>
                          </a:lnTo>
                          <a:lnTo>
                            <a:pt x="145" y="43"/>
                          </a:lnTo>
                          <a:lnTo>
                            <a:pt x="201" y="43"/>
                          </a:lnTo>
                          <a:lnTo>
                            <a:pt x="208" y="46"/>
                          </a:lnTo>
                          <a:lnTo>
                            <a:pt x="221" y="68"/>
                          </a:lnTo>
                          <a:lnTo>
                            <a:pt x="221" y="66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"/>
                    <p:cNvSpPr/>
                    <p:nvPr/>
                  </p:nvSpPr>
                  <p:spPr>
                    <a:xfrm>
                      <a:off x="5124960" y="5155920"/>
                      <a:ext cx="122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600" y="3771"/>
                          </a:moveTo>
                          <a:arcTo wR="10800" hR="10800" stAng="-8363923" swAng="592784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600" y="3771"/>
                          </a:moveTo>
                          <a:arcTo wR="10800" hR="10800" stAng="-8363923" swAng="5927845"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"/>
                    <p:cNvSpPr/>
                    <p:nvPr/>
                  </p:nvSpPr>
                  <p:spPr>
                    <a:xfrm>
                      <a:off x="5137920" y="5157720"/>
                      <a:ext cx="6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0"/>
                          </a:moveTo>
                          <a:lnTo>
                            <a:pt x="8" y="3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"/>
                    <p:cNvSpPr/>
                    <p:nvPr/>
                  </p:nvSpPr>
                  <p:spPr>
                    <a:xfrm>
                      <a:off x="5127480" y="5152680"/>
                      <a:ext cx="104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129" y="16242"/>
                          </a:moveTo>
                          <a:arcTo wR="10800" hR="10800" stAng="1815386" swAng="756685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129" y="16242"/>
                          </a:moveTo>
                          <a:arcTo wR="10800" hR="10800" stAng="1815386" swAng="7566851"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5121360" y="5157720"/>
                      <a:ext cx="50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6" y="5"/>
                          </a:moveTo>
                          <a:lnTo>
                            <a:pt x="0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5171040" y="5128200"/>
                      <a:ext cx="410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6">
                          <a:moveTo>
                            <a:pt x="0" y="0"/>
                          </a:moveTo>
                          <a:lnTo>
                            <a:pt x="6" y="16"/>
                          </a:lnTo>
                          <a:lnTo>
                            <a:pt x="50" y="16"/>
                          </a:lnTo>
                          <a:lnTo>
                            <a:pt x="5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"/>
                    <p:cNvSpPr/>
                    <p:nvPr/>
                  </p:nvSpPr>
                  <p:spPr>
                    <a:xfrm>
                      <a:off x="5240880" y="5094360"/>
                      <a:ext cx="180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6">
                          <a:moveTo>
                            <a:pt x="2" y="1"/>
                          </a:move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3"/>
                          </a:lnTo>
                          <a:lnTo>
                            <a:pt x="21" y="3"/>
                          </a:lnTo>
                          <a:lnTo>
                            <a:pt x="24" y="4"/>
                          </a:lnTo>
                          <a:lnTo>
                            <a:pt x="8" y="4"/>
                          </a:lnTo>
                          <a:lnTo>
                            <a:pt x="5" y="6"/>
                          </a:lnTo>
                          <a:lnTo>
                            <a:pt x="2" y="4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"/>
                    <p:cNvSpPr/>
                    <p:nvPr/>
                  </p:nvSpPr>
                  <p:spPr>
                    <a:xfrm>
                      <a:off x="5028480" y="5076000"/>
                      <a:ext cx="1008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2">
                          <a:moveTo>
                            <a:pt x="0" y="12"/>
                          </a:moveTo>
                          <a:lnTo>
                            <a:pt x="35" y="3"/>
                          </a:lnTo>
                          <a:lnTo>
                            <a:pt x="69" y="0"/>
                          </a:lnTo>
                          <a:lnTo>
                            <a:pt x="12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2" name=""/>
                    <p:cNvSpPr/>
                    <p:nvPr/>
                  </p:nvSpPr>
                  <p:spPr>
                    <a:xfrm flipH="1">
                      <a:off x="4988880" y="5095800"/>
                      <a:ext cx="1440" cy="46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5167800" y="5142960"/>
                      <a:ext cx="2383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40">
                          <a:moveTo>
                            <a:pt x="0" y="0"/>
                          </a:moveTo>
                          <a:lnTo>
                            <a:pt x="14" y="31"/>
                          </a:lnTo>
                          <a:lnTo>
                            <a:pt x="21" y="40"/>
                          </a:lnTo>
                          <a:lnTo>
                            <a:pt x="289" y="4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5166000" y="5144400"/>
                      <a:ext cx="25668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8">
                          <a:moveTo>
                            <a:pt x="1" y="2"/>
                          </a:moveTo>
                          <a:lnTo>
                            <a:pt x="309" y="0"/>
                          </a:lnTo>
                          <a:lnTo>
                            <a:pt x="303" y="8"/>
                          </a:lnTo>
                          <a:lnTo>
                            <a:pt x="4" y="8"/>
                          </a:lnTo>
                          <a:lnTo>
                            <a:pt x="0" y="0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5381640" y="5022720"/>
                      <a:ext cx="6732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59">
                          <a:moveTo>
                            <a:pt x="0" y="0"/>
                          </a:moveTo>
                          <a:lnTo>
                            <a:pt x="11" y="0"/>
                          </a:lnTo>
                          <a:lnTo>
                            <a:pt x="37" y="25"/>
                          </a:lnTo>
                          <a:lnTo>
                            <a:pt x="79" y="59"/>
                          </a:lnTo>
                          <a:lnTo>
                            <a:pt x="84" y="5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76" name=""/>
                  <p:cNvSpPr/>
                  <p:nvPr/>
                </p:nvSpPr>
                <p:spPr>
                  <a:xfrm flipV="1">
                    <a:off x="5083920" y="4990320"/>
                    <a:ext cx="1440" cy="9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77" name=""/>
                  <p:cNvGrpSpPr/>
                  <p:nvPr/>
                </p:nvGrpSpPr>
                <p:grpSpPr>
                  <a:xfrm>
                    <a:off x="4390200" y="4868640"/>
                    <a:ext cx="83520" cy="221400"/>
                    <a:chOff x="4390200" y="4868640"/>
                    <a:chExt cx="83520" cy="221400"/>
                  </a:xfrm>
                </p:grpSpPr>
                <p:sp>
                  <p:nvSpPr>
                    <p:cNvPr id="2078" name=""/>
                    <p:cNvSpPr/>
                    <p:nvPr/>
                  </p:nvSpPr>
                  <p:spPr>
                    <a:xfrm flipV="1">
                      <a:off x="4431240" y="4940640"/>
                      <a:ext cx="1440" cy="149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/>
                    <p:nvPr/>
                  </p:nvSpPr>
                  <p:spPr>
                    <a:xfrm>
                      <a:off x="4390200" y="4868640"/>
                      <a:ext cx="835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76">
                          <a:moveTo>
                            <a:pt x="51" y="0"/>
                          </a:moveTo>
                          <a:lnTo>
                            <a:pt x="0" y="176"/>
                          </a:lnTo>
                          <a:lnTo>
                            <a:pt x="103" y="176"/>
                          </a:lnTo>
                          <a:lnTo>
                            <a:pt x="5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0" name=""/>
                  <p:cNvGrpSpPr/>
                  <p:nvPr/>
                </p:nvGrpSpPr>
                <p:grpSpPr>
                  <a:xfrm>
                    <a:off x="4629960" y="4240080"/>
                    <a:ext cx="408960" cy="145440"/>
                    <a:chOff x="4629960" y="4240080"/>
                    <a:chExt cx="408960" cy="145440"/>
                  </a:xfrm>
                </p:grpSpPr>
                <p:sp>
                  <p:nvSpPr>
                    <p:cNvPr id="2081" name=""/>
                    <p:cNvSpPr/>
                    <p:nvPr/>
                  </p:nvSpPr>
                  <p:spPr>
                    <a:xfrm flipV="1">
                      <a:off x="4629960" y="4266000"/>
                      <a:ext cx="336240" cy="119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>
                      <a:off x="4888440" y="4240080"/>
                      <a:ext cx="15048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08">
                          <a:moveTo>
                            <a:pt x="181" y="0"/>
                          </a:moveTo>
                          <a:lnTo>
                            <a:pt x="0" y="12"/>
                          </a:lnTo>
                          <a:lnTo>
                            <a:pt x="35" y="108"/>
                          </a:lnTo>
                          <a:lnTo>
                            <a:pt x="18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3982320" y="4219200"/>
                    <a:ext cx="202680" cy="173880"/>
                    <a:chOff x="3982320" y="4219200"/>
                    <a:chExt cx="202680" cy="173880"/>
                  </a:xfrm>
                </p:grpSpPr>
                <p:sp>
                  <p:nvSpPr>
                    <p:cNvPr id="2084" name=""/>
                    <p:cNvSpPr/>
                    <p:nvPr/>
                  </p:nvSpPr>
                  <p:spPr>
                    <a:xfrm flipH="1" flipV="1">
                      <a:off x="4053240" y="4281840"/>
                      <a:ext cx="131760" cy="111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>
                      <a:off x="3982320" y="4219200"/>
                      <a:ext cx="136800" cy="12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54">
                          <a:moveTo>
                            <a:pt x="0" y="0"/>
                          </a:moveTo>
                          <a:lnTo>
                            <a:pt x="99" y="154"/>
                          </a:lnTo>
                          <a:lnTo>
                            <a:pt x="166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3772800" y="4619160"/>
                    <a:ext cx="210600" cy="82440"/>
                    <a:chOff x="3772800" y="4619160"/>
                    <a:chExt cx="210600" cy="82440"/>
                  </a:xfrm>
                </p:grpSpPr>
                <p:sp>
                  <p:nvSpPr>
                    <p:cNvPr id="2087" name=""/>
                    <p:cNvSpPr/>
                    <p:nvPr/>
                  </p:nvSpPr>
                  <p:spPr>
                    <a:xfrm flipV="1">
                      <a:off x="3772800" y="4642920"/>
                      <a:ext cx="138240" cy="43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>
                      <a:off x="3831840" y="4619160"/>
                      <a:ext cx="15156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102">
                          <a:moveTo>
                            <a:pt x="183" y="0"/>
                          </a:moveTo>
                          <a:lnTo>
                            <a:pt x="0" y="6"/>
                          </a:lnTo>
                          <a:lnTo>
                            <a:pt x="32" y="102"/>
                          </a:lnTo>
                          <a:lnTo>
                            <a:pt x="18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4006080" y="4854240"/>
                    <a:ext cx="164520" cy="232920"/>
                    <a:chOff x="4006080" y="4854240"/>
                    <a:chExt cx="164520" cy="232920"/>
                  </a:xfrm>
                </p:grpSpPr>
                <p:sp>
                  <p:nvSpPr>
                    <p:cNvPr id="2090" name=""/>
                    <p:cNvSpPr/>
                    <p:nvPr/>
                  </p:nvSpPr>
                  <p:spPr>
                    <a:xfrm flipV="1">
                      <a:off x="4006080" y="4928760"/>
                      <a:ext cx="115200" cy="158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"/>
                    <p:cNvSpPr/>
                    <p:nvPr/>
                  </p:nvSpPr>
                  <p:spPr>
                    <a:xfrm>
                      <a:off x="4053600" y="4854240"/>
                      <a:ext cx="11700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3">
                          <a:moveTo>
                            <a:pt x="144" y="0"/>
                          </a:moveTo>
                          <a:lnTo>
                            <a:pt x="0" y="114"/>
                          </a:lnTo>
                          <a:lnTo>
                            <a:pt x="85" y="173"/>
                          </a:lnTo>
                          <a:lnTo>
                            <a:pt x="14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2" name=""/>
                  <p:cNvGrpSpPr/>
                  <p:nvPr/>
                </p:nvGrpSpPr>
                <p:grpSpPr>
                  <a:xfrm>
                    <a:off x="3945960" y="3458880"/>
                    <a:ext cx="1121400" cy="253800"/>
                    <a:chOff x="3945960" y="3458880"/>
                    <a:chExt cx="1121400" cy="253800"/>
                  </a:xfrm>
                </p:grpSpPr>
                <p:sp>
                  <p:nvSpPr>
                    <p:cNvPr id="2093" name=""/>
                    <p:cNvSpPr/>
                    <p:nvPr/>
                  </p:nvSpPr>
                  <p:spPr>
                    <a:xfrm>
                      <a:off x="3969000" y="3481560"/>
                      <a:ext cx="1098360" cy="23112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"/>
                    <p:cNvSpPr/>
                    <p:nvPr/>
                  </p:nvSpPr>
                  <p:spPr>
                    <a:xfrm>
                      <a:off x="3945960" y="3458880"/>
                      <a:ext cx="1087200" cy="218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5" name=""/>
                    <p:cNvSpPr/>
                    <p:nvPr/>
                  </p:nvSpPr>
                  <p:spPr>
                    <a:xfrm>
                      <a:off x="4199760" y="3507480"/>
                      <a:ext cx="549360" cy="137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9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先進交通管理系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6" name=""/>
                  <p:cNvGrpSpPr/>
                  <p:nvPr/>
                </p:nvGrpSpPr>
                <p:grpSpPr>
                  <a:xfrm>
                    <a:off x="3451680" y="4233600"/>
                    <a:ext cx="268920" cy="223560"/>
                    <a:chOff x="3451680" y="4233600"/>
                    <a:chExt cx="268920" cy="223560"/>
                  </a:xfrm>
                </p:grpSpPr>
                <p:sp>
                  <p:nvSpPr>
                    <p:cNvPr id="2097" name=""/>
                    <p:cNvSpPr/>
                    <p:nvPr/>
                  </p:nvSpPr>
                  <p:spPr>
                    <a:xfrm>
                      <a:off x="3506400" y="4233600"/>
                      <a:ext cx="2142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可變訊息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>
                      <a:off x="3451680" y="4350240"/>
                      <a:ext cx="23508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  </a:t>
                      </a: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標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99" name=""/>
                  <p:cNvSpPr/>
                  <p:nvPr/>
                </p:nvSpPr>
                <p:spPr>
                  <a:xfrm>
                    <a:off x="4853520" y="3970080"/>
                    <a:ext cx="32076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對車通訊系統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5390280" y="4219200"/>
                    <a:ext cx="32076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匝道儀控號誌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5318640" y="4705200"/>
                    <a:ext cx="32076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幹道交通號誌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3481200" y="4885920"/>
                    <a:ext cx="2142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感應線圈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3507120" y="5344920"/>
                    <a:ext cx="26748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監看攝影機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4247280" y="5438520"/>
                    <a:ext cx="32076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電腦號誌狀態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5182920" y="5283000"/>
                    <a:ext cx="39564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IVHS</a:t>
                    </a: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探測車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6" name=""/>
                  <p:cNvGrpSpPr/>
                  <p:nvPr/>
                </p:nvGrpSpPr>
                <p:grpSpPr>
                  <a:xfrm>
                    <a:off x="3755520" y="5154480"/>
                    <a:ext cx="270000" cy="232200"/>
                    <a:chOff x="3755520" y="5154480"/>
                    <a:chExt cx="270000" cy="232200"/>
                  </a:xfrm>
                </p:grpSpPr>
                <p:grpSp>
                  <p:nvGrpSpPr>
                    <p:cNvPr id="2107" name=""/>
                    <p:cNvGrpSpPr/>
                    <p:nvPr/>
                  </p:nvGrpSpPr>
                  <p:grpSpPr>
                    <a:xfrm>
                      <a:off x="3885840" y="5186520"/>
                      <a:ext cx="105480" cy="36360"/>
                      <a:chOff x="3885840" y="5186520"/>
                      <a:chExt cx="105480" cy="36360"/>
                    </a:xfrm>
                  </p:grpSpPr>
                  <p:sp>
                    <p:nvSpPr>
                      <p:cNvPr id="2108" name=""/>
                      <p:cNvSpPr/>
                      <p:nvPr/>
                    </p:nvSpPr>
                    <p:spPr>
                      <a:xfrm>
                        <a:off x="3885840" y="5186520"/>
                        <a:ext cx="5724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27">
                            <a:moveTo>
                              <a:pt x="67" y="1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70" y="27"/>
                            </a:lnTo>
                            <a:lnTo>
                              <a:pt x="67" y="1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09" name=""/>
                      <p:cNvGrpSpPr/>
                      <p:nvPr/>
                    </p:nvGrpSpPr>
                    <p:grpSpPr>
                      <a:xfrm>
                        <a:off x="3933360" y="5189760"/>
                        <a:ext cx="57960" cy="33120"/>
                        <a:chOff x="3933360" y="5189760"/>
                        <a:chExt cx="57960" cy="33120"/>
                      </a:xfrm>
                    </p:grpSpPr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>
                          <a:off x="3933360" y="5191200"/>
                          <a:ext cx="1440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29">
                              <a:moveTo>
                                <a:pt x="17" y="0"/>
                              </a:moveTo>
                              <a:lnTo>
                                <a:pt x="10" y="1"/>
                              </a:lnTo>
                              <a:lnTo>
                                <a:pt x="6" y="3"/>
                              </a:lnTo>
                              <a:lnTo>
                                <a:pt x="3" y="6"/>
                              </a:lnTo>
                              <a:lnTo>
                                <a:pt x="1" y="10"/>
                              </a:lnTo>
                              <a:lnTo>
                                <a:pt x="0" y="15"/>
                              </a:lnTo>
                              <a:lnTo>
                                <a:pt x="0" y="19"/>
                              </a:lnTo>
                              <a:lnTo>
                                <a:pt x="1" y="22"/>
                              </a:lnTo>
                              <a:lnTo>
                                <a:pt x="4" y="26"/>
                              </a:lnTo>
                              <a:lnTo>
                                <a:pt x="12" y="29"/>
                              </a:lnTo>
                              <a:lnTo>
                                <a:pt x="1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11" name=""/>
                        <p:cNvGrpSpPr/>
                        <p:nvPr/>
                      </p:nvGrpSpPr>
                      <p:grpSpPr>
                        <a:xfrm>
                          <a:off x="3934800" y="5189760"/>
                          <a:ext cx="56520" cy="33120"/>
                          <a:chOff x="3934800" y="5189760"/>
                          <a:chExt cx="56520" cy="33120"/>
                        </a:xfrm>
                      </p:grpSpPr>
                      <p:sp>
                        <p:nvSpPr>
                          <p:cNvPr id="2112" name=""/>
                          <p:cNvSpPr/>
                          <p:nvPr/>
                        </p:nvSpPr>
                        <p:spPr>
                          <a:xfrm>
                            <a:off x="3934800" y="5191200"/>
                            <a:ext cx="55440" cy="31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41">
                                <a:moveTo>
                                  <a:pt x="66" y="14"/>
                                </a:moveTo>
                                <a:lnTo>
                                  <a:pt x="63" y="11"/>
                                </a:lnTo>
                                <a:lnTo>
                                  <a:pt x="58" y="8"/>
                                </a:lnTo>
                                <a:lnTo>
                                  <a:pt x="51" y="5"/>
                                </a:lnTo>
                                <a:lnTo>
                                  <a:pt x="42" y="3"/>
                                </a:lnTo>
                                <a:lnTo>
                                  <a:pt x="33" y="2"/>
                                </a:lnTo>
                                <a:lnTo>
                                  <a:pt x="26" y="2"/>
                                </a:lnTo>
                                <a:lnTo>
                                  <a:pt x="17" y="0"/>
                                </a:lnTo>
                                <a:lnTo>
                                  <a:pt x="11" y="2"/>
                                </a:lnTo>
                                <a:lnTo>
                                  <a:pt x="6" y="3"/>
                                </a:lnTo>
                                <a:lnTo>
                                  <a:pt x="3" y="8"/>
                                </a:lnTo>
                                <a:lnTo>
                                  <a:pt x="0" y="14"/>
                                </a:lnTo>
                                <a:lnTo>
                                  <a:pt x="0" y="20"/>
                                </a:lnTo>
                                <a:lnTo>
                                  <a:pt x="0" y="24"/>
                                </a:lnTo>
                                <a:lnTo>
                                  <a:pt x="3" y="30"/>
                                </a:lnTo>
                                <a:lnTo>
                                  <a:pt x="6" y="34"/>
                                </a:lnTo>
                                <a:lnTo>
                                  <a:pt x="10" y="36"/>
                                </a:lnTo>
                                <a:lnTo>
                                  <a:pt x="17" y="37"/>
                                </a:lnTo>
                                <a:lnTo>
                                  <a:pt x="26" y="39"/>
                                </a:lnTo>
                                <a:lnTo>
                                  <a:pt x="33" y="40"/>
                                </a:lnTo>
                                <a:lnTo>
                                  <a:pt x="42" y="40"/>
                                </a:lnTo>
                                <a:lnTo>
                                  <a:pt x="50" y="41"/>
                                </a:lnTo>
                                <a:lnTo>
                                  <a:pt x="55" y="40"/>
                                </a:lnTo>
                                <a:lnTo>
                                  <a:pt x="61" y="37"/>
                                </a:lnTo>
                                <a:lnTo>
                                  <a:pt x="64" y="31"/>
                                </a:lnTo>
                                <a:lnTo>
                                  <a:pt x="67" y="27"/>
                                </a:lnTo>
                                <a:lnTo>
                                  <a:pt x="67" y="20"/>
                                </a:lnTo>
                                <a:lnTo>
                                  <a:pt x="66" y="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a0a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120" bIns="-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113" name=""/>
                          <p:cNvGrpSpPr/>
                          <p:nvPr/>
                        </p:nvGrpSpPr>
                        <p:grpSpPr>
                          <a:xfrm>
                            <a:off x="3946320" y="5189760"/>
                            <a:ext cx="45000" cy="33120"/>
                            <a:chOff x="3946320" y="5189760"/>
                            <a:chExt cx="45000" cy="33120"/>
                          </a:xfrm>
                        </p:grpSpPr>
                        <p:sp>
                          <p:nvSpPr>
                            <p:cNvPr id="2114" name=""/>
                            <p:cNvSpPr/>
                            <p:nvPr/>
                          </p:nvSpPr>
                          <p:spPr>
                            <a:xfrm>
                              <a:off x="3977280" y="5194440"/>
                              <a:ext cx="111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5" name=""/>
                            <p:cNvSpPr/>
                            <p:nvPr/>
                          </p:nvSpPr>
                          <p:spPr>
                            <a:xfrm>
                              <a:off x="3977280" y="5200920"/>
                              <a:ext cx="111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6" name=""/>
                            <p:cNvSpPr/>
                            <p:nvPr/>
                          </p:nvSpPr>
                          <p:spPr>
                            <a:xfrm>
                              <a:off x="3970440" y="5195880"/>
                              <a:ext cx="11160" cy="144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7" name=""/>
                            <p:cNvSpPr/>
                            <p:nvPr/>
                          </p:nvSpPr>
                          <p:spPr>
                            <a:xfrm>
                              <a:off x="3980160" y="5204160"/>
                              <a:ext cx="11160" cy="108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8" name=""/>
                            <p:cNvSpPr/>
                            <p:nvPr/>
                          </p:nvSpPr>
                          <p:spPr>
                            <a:xfrm>
                              <a:off x="3973680" y="5202360"/>
                              <a:ext cx="93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19" name=""/>
                            <p:cNvSpPr/>
                            <p:nvPr/>
                          </p:nvSpPr>
                          <p:spPr>
                            <a:xfrm>
                              <a:off x="3977280" y="5207040"/>
                              <a:ext cx="11160" cy="129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0" name=""/>
                            <p:cNvSpPr/>
                            <p:nvPr/>
                          </p:nvSpPr>
                          <p:spPr>
                            <a:xfrm>
                              <a:off x="3967200" y="5205600"/>
                              <a:ext cx="11160" cy="126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800" bIns="-37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1" name=""/>
                            <p:cNvSpPr/>
                            <p:nvPr/>
                          </p:nvSpPr>
                          <p:spPr>
                            <a:xfrm>
                              <a:off x="3970440" y="5208840"/>
                              <a:ext cx="11160" cy="1404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360" bIns="-36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2" name=""/>
                            <p:cNvSpPr/>
                            <p:nvPr/>
                          </p:nvSpPr>
                          <p:spPr>
                            <a:xfrm>
                              <a:off x="3965760" y="5200920"/>
                              <a:ext cx="12600" cy="126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800" bIns="-37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3" name=""/>
                            <p:cNvSpPr/>
                            <p:nvPr/>
                          </p:nvSpPr>
                          <p:spPr>
                            <a:xfrm>
                              <a:off x="3963960" y="5195880"/>
                              <a:ext cx="111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4" name=""/>
                            <p:cNvSpPr/>
                            <p:nvPr/>
                          </p:nvSpPr>
                          <p:spPr>
                            <a:xfrm>
                              <a:off x="3969000" y="5193000"/>
                              <a:ext cx="10800" cy="126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800" bIns="-37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5" name=""/>
                            <p:cNvSpPr/>
                            <p:nvPr/>
                          </p:nvSpPr>
                          <p:spPr>
                            <a:xfrm>
                              <a:off x="3960720" y="5191200"/>
                              <a:ext cx="10800" cy="129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6" name=""/>
                            <p:cNvSpPr/>
                            <p:nvPr/>
                          </p:nvSpPr>
                          <p:spPr>
                            <a:xfrm>
                              <a:off x="3958920" y="5200920"/>
                              <a:ext cx="111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7" name=""/>
                            <p:cNvSpPr/>
                            <p:nvPr/>
                          </p:nvSpPr>
                          <p:spPr>
                            <a:xfrm>
                              <a:off x="3957480" y="5194440"/>
                              <a:ext cx="93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8" name=""/>
                            <p:cNvSpPr/>
                            <p:nvPr/>
                          </p:nvSpPr>
                          <p:spPr>
                            <a:xfrm>
                              <a:off x="3954240" y="5191200"/>
                              <a:ext cx="11160" cy="111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520" bIns="-38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29" name=""/>
                            <p:cNvSpPr/>
                            <p:nvPr/>
                          </p:nvSpPr>
                          <p:spPr>
                            <a:xfrm>
                              <a:off x="3949560" y="5191200"/>
                              <a:ext cx="11160" cy="144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6720" bIns="-36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30" name=""/>
                            <p:cNvSpPr/>
                            <p:nvPr/>
                          </p:nvSpPr>
                          <p:spPr>
                            <a:xfrm>
                              <a:off x="3946320" y="5189760"/>
                              <a:ext cx="11160" cy="126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800" bIns="-37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3862800" y="5183280"/>
                      <a:ext cx="36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07">
                          <a:moveTo>
                            <a:pt x="42" y="30"/>
                          </a:moveTo>
                          <a:lnTo>
                            <a:pt x="34" y="5"/>
                          </a:lnTo>
                          <a:lnTo>
                            <a:pt x="34" y="0"/>
                          </a:lnTo>
                          <a:lnTo>
                            <a:pt x="0" y="2"/>
                          </a:lnTo>
                          <a:lnTo>
                            <a:pt x="0" y="91"/>
                          </a:lnTo>
                          <a:lnTo>
                            <a:pt x="1" y="107"/>
                          </a:lnTo>
                          <a:lnTo>
                            <a:pt x="20" y="95"/>
                          </a:lnTo>
                          <a:lnTo>
                            <a:pt x="42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2" name=""/>
                    <p:cNvSpPr/>
                    <p:nvPr/>
                  </p:nvSpPr>
                  <p:spPr>
                    <a:xfrm flipH="1">
                      <a:off x="3847680" y="5204520"/>
                      <a:ext cx="23040" cy="9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3" name=""/>
                    <p:cNvGrpSpPr/>
                    <p:nvPr/>
                  </p:nvGrpSpPr>
                  <p:grpSpPr>
                    <a:xfrm>
                      <a:off x="3755520" y="5191560"/>
                      <a:ext cx="106920" cy="77400"/>
                      <a:chOff x="3755520" y="5191560"/>
                      <a:chExt cx="106920" cy="77400"/>
                    </a:xfrm>
                  </p:grpSpPr>
                  <p:sp>
                    <p:nvSpPr>
                      <p:cNvPr id="2134" name=""/>
                      <p:cNvSpPr/>
                      <p:nvPr/>
                    </p:nvSpPr>
                    <p:spPr>
                      <a:xfrm>
                        <a:off x="3763440" y="5191560"/>
                        <a:ext cx="9900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95">
                            <a:moveTo>
                              <a:pt x="122" y="95"/>
                            </a:moveTo>
                            <a:lnTo>
                              <a:pt x="71" y="86"/>
                            </a:lnTo>
                            <a:lnTo>
                              <a:pt x="68" y="86"/>
                            </a:lnTo>
                            <a:lnTo>
                              <a:pt x="65" y="75"/>
                            </a:lnTo>
                            <a:lnTo>
                              <a:pt x="3" y="64"/>
                            </a:lnTo>
                            <a:lnTo>
                              <a:pt x="0" y="60"/>
                            </a:lnTo>
                            <a:lnTo>
                              <a:pt x="0" y="4"/>
                            </a:lnTo>
                            <a:lnTo>
                              <a:pt x="38" y="0"/>
                            </a:lnTo>
                            <a:lnTo>
                              <a:pt x="122" y="10"/>
                            </a:lnTo>
                            <a:lnTo>
                              <a:pt x="122" y="9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5" name=""/>
                      <p:cNvSpPr/>
                      <p:nvPr/>
                    </p:nvSpPr>
                    <p:spPr>
                      <a:xfrm>
                        <a:off x="3755520" y="5196240"/>
                        <a:ext cx="106920" cy="5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74">
                            <a:moveTo>
                              <a:pt x="129" y="16"/>
                            </a:moveTo>
                            <a:lnTo>
                              <a:pt x="129" y="74"/>
                            </a:lnTo>
                            <a:lnTo>
                              <a:pt x="6" y="55"/>
                            </a:lnTo>
                            <a:lnTo>
                              <a:pt x="0" y="50"/>
                            </a:lnTo>
                            <a:lnTo>
                              <a:pt x="0" y="8"/>
                            </a:lnTo>
                            <a:lnTo>
                              <a:pt x="9" y="0"/>
                            </a:lnTo>
                            <a:lnTo>
                              <a:pt x="129" y="16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6" name=""/>
                      <p:cNvSpPr/>
                      <p:nvPr/>
                    </p:nvSpPr>
                    <p:spPr>
                      <a:xfrm>
                        <a:off x="3755520" y="5201280"/>
                        <a:ext cx="97200" cy="48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60">
                            <a:moveTo>
                              <a:pt x="0" y="0"/>
                            </a:moveTo>
                            <a:lnTo>
                              <a:pt x="113" y="16"/>
                            </a:lnTo>
                            <a:lnTo>
                              <a:pt x="112" y="19"/>
                            </a:lnTo>
                            <a:lnTo>
                              <a:pt x="112" y="23"/>
                            </a:lnTo>
                            <a:lnTo>
                              <a:pt x="112" y="29"/>
                            </a:lnTo>
                            <a:lnTo>
                              <a:pt x="110" y="36"/>
                            </a:lnTo>
                            <a:lnTo>
                              <a:pt x="110" y="44"/>
                            </a:lnTo>
                            <a:lnTo>
                              <a:pt x="112" y="49"/>
                            </a:lnTo>
                            <a:lnTo>
                              <a:pt x="113" y="55"/>
                            </a:lnTo>
                            <a:lnTo>
                              <a:pt x="115" y="57"/>
                            </a:lnTo>
                            <a:lnTo>
                              <a:pt x="118" y="60"/>
                            </a:lnTo>
                            <a:lnTo>
                              <a:pt x="0" y="4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7" name=""/>
                      <p:cNvSpPr/>
                      <p:nvPr/>
                    </p:nvSpPr>
                    <p:spPr>
                      <a:xfrm>
                        <a:off x="3813120" y="5214240"/>
                        <a:ext cx="3276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41">
                            <a:moveTo>
                              <a:pt x="41" y="6"/>
                            </a:moveTo>
                            <a:lnTo>
                              <a:pt x="0" y="0"/>
                            </a:lnTo>
                            <a:lnTo>
                              <a:pt x="0" y="35"/>
                            </a:lnTo>
                            <a:lnTo>
                              <a:pt x="41" y="41"/>
                            </a:lnTo>
                            <a:lnTo>
                              <a:pt x="41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8" name=""/>
                      <p:cNvSpPr/>
                      <p:nvPr/>
                    </p:nvSpPr>
                    <p:spPr>
                      <a:xfrm>
                        <a:off x="3763440" y="5196240"/>
                        <a:ext cx="36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2">
                            <a:moveTo>
                              <a:pt x="46" y="7"/>
                            </a:moveTo>
                            <a:lnTo>
                              <a:pt x="5" y="0"/>
                            </a:lnTo>
                            <a:lnTo>
                              <a:pt x="0" y="4"/>
                            </a:lnTo>
                            <a:lnTo>
                              <a:pt x="40" y="12"/>
                            </a:lnTo>
                            <a:lnTo>
                              <a:pt x="46" y="7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39" name=""/>
                      <p:cNvGrpSpPr/>
                      <p:nvPr/>
                    </p:nvGrpSpPr>
                    <p:grpSpPr>
                      <a:xfrm>
                        <a:off x="3836160" y="5259240"/>
                        <a:ext cx="17640" cy="8280"/>
                        <a:chOff x="3836160" y="5259240"/>
                        <a:chExt cx="17640" cy="8280"/>
                      </a:xfrm>
                    </p:grpSpPr>
                    <p:sp>
                      <p:nvSpPr>
                        <p:cNvPr id="2140" name=""/>
                        <p:cNvSpPr/>
                        <p:nvPr/>
                      </p:nvSpPr>
                      <p:spPr>
                        <a:xfrm>
                          <a:off x="3850560" y="5261040"/>
                          <a:ext cx="3240" cy="648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41" name=""/>
                        <p:cNvSpPr/>
                        <p:nvPr/>
                      </p:nvSpPr>
                      <p:spPr>
                        <a:xfrm>
                          <a:off x="3836160" y="5259240"/>
                          <a:ext cx="3240" cy="50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42" name=""/>
                    <p:cNvGrpSpPr/>
                    <p:nvPr/>
                  </p:nvGrpSpPr>
                  <p:grpSpPr>
                    <a:xfrm>
                      <a:off x="3777120" y="5173920"/>
                      <a:ext cx="85320" cy="21960"/>
                      <a:chOff x="3777120" y="5173920"/>
                      <a:chExt cx="85320" cy="21960"/>
                    </a:xfrm>
                  </p:grpSpPr>
                  <p:sp>
                    <p:nvSpPr>
                      <p:cNvPr id="2143" name=""/>
                      <p:cNvSpPr/>
                      <p:nvPr/>
                    </p:nvSpPr>
                    <p:spPr>
                      <a:xfrm>
                        <a:off x="3783240" y="5177160"/>
                        <a:ext cx="230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3">
                            <a:moveTo>
                              <a:pt x="28" y="0"/>
                            </a:moveTo>
                            <a:lnTo>
                              <a:pt x="21" y="19"/>
                            </a:lnTo>
                            <a:lnTo>
                              <a:pt x="0" y="23"/>
                            </a:lnTo>
                            <a:lnTo>
                              <a:pt x="7" y="3"/>
                            </a:lnTo>
                            <a:lnTo>
                              <a:pt x="2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4" name=""/>
                      <p:cNvSpPr/>
                      <p:nvPr/>
                    </p:nvSpPr>
                    <p:spPr>
                      <a:xfrm>
                        <a:off x="3777120" y="5173920"/>
                        <a:ext cx="853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26">
                            <a:moveTo>
                              <a:pt x="104" y="19"/>
                            </a:moveTo>
                            <a:lnTo>
                              <a:pt x="16" y="10"/>
                            </a:lnTo>
                            <a:lnTo>
                              <a:pt x="9" y="26"/>
                            </a:lnTo>
                            <a:lnTo>
                              <a:pt x="0" y="25"/>
                            </a:lnTo>
                            <a:lnTo>
                              <a:pt x="9" y="0"/>
                            </a:lnTo>
                            <a:lnTo>
                              <a:pt x="19" y="1"/>
                            </a:lnTo>
                            <a:lnTo>
                              <a:pt x="104" y="13"/>
                            </a:lnTo>
                            <a:lnTo>
                              <a:pt x="104" y="19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5" name=""/>
                      <p:cNvSpPr/>
                      <p:nvPr/>
                    </p:nvSpPr>
                    <p:spPr>
                      <a:xfrm>
                        <a:off x="3780000" y="5178600"/>
                        <a:ext cx="147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1">
                            <a:moveTo>
                              <a:pt x="17" y="2"/>
                            </a:moveTo>
                            <a:lnTo>
                              <a:pt x="9" y="0"/>
                            </a:lnTo>
                            <a:lnTo>
                              <a:pt x="0" y="2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6" name=""/>
                    <p:cNvGrpSpPr/>
                    <p:nvPr/>
                  </p:nvGrpSpPr>
                  <p:grpSpPr>
                    <a:xfrm>
                      <a:off x="3790080" y="5154480"/>
                      <a:ext cx="35640" cy="31680"/>
                      <a:chOff x="3790080" y="5154480"/>
                      <a:chExt cx="35640" cy="31680"/>
                    </a:xfrm>
                  </p:grpSpPr>
                  <p:sp>
                    <p:nvSpPr>
                      <p:cNvPr id="2147" name=""/>
                      <p:cNvSpPr/>
                      <p:nvPr/>
                    </p:nvSpPr>
                    <p:spPr>
                      <a:xfrm>
                        <a:off x="3790080" y="5154480"/>
                        <a:ext cx="2088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40">
                            <a:moveTo>
                              <a:pt x="25" y="4"/>
                            </a:moveTo>
                            <a:lnTo>
                              <a:pt x="20" y="0"/>
                            </a:lnTo>
                            <a:lnTo>
                              <a:pt x="16" y="0"/>
                            </a:lnTo>
                            <a:lnTo>
                              <a:pt x="13" y="3"/>
                            </a:lnTo>
                            <a:lnTo>
                              <a:pt x="9" y="4"/>
                            </a:lnTo>
                            <a:lnTo>
                              <a:pt x="6" y="7"/>
                            </a:lnTo>
                            <a:lnTo>
                              <a:pt x="3" y="10"/>
                            </a:lnTo>
                            <a:lnTo>
                              <a:pt x="0" y="13"/>
                            </a:lnTo>
                            <a:lnTo>
                              <a:pt x="0" y="19"/>
                            </a:lnTo>
                            <a:lnTo>
                              <a:pt x="0" y="22"/>
                            </a:lnTo>
                            <a:lnTo>
                              <a:pt x="0" y="26"/>
                            </a:lnTo>
                            <a:lnTo>
                              <a:pt x="1" y="29"/>
                            </a:lnTo>
                            <a:lnTo>
                              <a:pt x="4" y="32"/>
                            </a:lnTo>
                            <a:lnTo>
                              <a:pt x="6" y="35"/>
                            </a:lnTo>
                            <a:lnTo>
                              <a:pt x="10" y="38"/>
                            </a:lnTo>
                            <a:lnTo>
                              <a:pt x="15" y="40"/>
                            </a:lnTo>
                            <a:lnTo>
                              <a:pt x="20" y="38"/>
                            </a:lnTo>
                            <a:lnTo>
                              <a:pt x="25" y="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8" name=""/>
                      <p:cNvSpPr/>
                      <p:nvPr/>
                    </p:nvSpPr>
                    <p:spPr>
                      <a:xfrm>
                        <a:off x="3804840" y="5163840"/>
                        <a:ext cx="16200" cy="2232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9" name=""/>
                      <p:cNvSpPr/>
                      <p:nvPr/>
                    </p:nvSpPr>
                    <p:spPr>
                      <a:xfrm>
                        <a:off x="3810960" y="5165640"/>
                        <a:ext cx="14760" cy="172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0" name=""/>
                      <p:cNvSpPr/>
                      <p:nvPr/>
                    </p:nvSpPr>
                    <p:spPr>
                      <a:xfrm>
                        <a:off x="3816000" y="5168880"/>
                        <a:ext cx="9720" cy="12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51" name=""/>
                    <p:cNvGrpSpPr/>
                    <p:nvPr/>
                  </p:nvGrpSpPr>
                  <p:grpSpPr>
                    <a:xfrm>
                      <a:off x="3816360" y="5154480"/>
                      <a:ext cx="143280" cy="31680"/>
                      <a:chOff x="3816360" y="5154480"/>
                      <a:chExt cx="143280" cy="31680"/>
                    </a:xfrm>
                  </p:grpSpPr>
                  <p:sp>
                    <p:nvSpPr>
                      <p:cNvPr id="2152" name=""/>
                      <p:cNvSpPr/>
                      <p:nvPr/>
                    </p:nvSpPr>
                    <p:spPr>
                      <a:xfrm>
                        <a:off x="3818160" y="5154480"/>
                        <a:ext cx="121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10">
                            <a:moveTo>
                              <a:pt x="28" y="10"/>
                            </a:moveTo>
                            <a:lnTo>
                              <a:pt x="148" y="2"/>
                            </a:lnTo>
                            <a:lnTo>
                              <a:pt x="129" y="0"/>
                            </a:lnTo>
                            <a:lnTo>
                              <a:pt x="97" y="2"/>
                            </a:lnTo>
                            <a:lnTo>
                              <a:pt x="0" y="9"/>
                            </a:lnTo>
                            <a:lnTo>
                              <a:pt x="28" y="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3" name=""/>
                      <p:cNvSpPr/>
                      <p:nvPr/>
                    </p:nvSpPr>
                    <p:spPr>
                      <a:xfrm>
                        <a:off x="3834360" y="5155920"/>
                        <a:ext cx="1155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37">
                            <a:moveTo>
                              <a:pt x="126" y="0"/>
                            </a:moveTo>
                            <a:lnTo>
                              <a:pt x="140" y="7"/>
                            </a:lnTo>
                            <a:lnTo>
                              <a:pt x="140" y="23"/>
                            </a:lnTo>
                            <a:lnTo>
                              <a:pt x="130" y="31"/>
                            </a:lnTo>
                            <a:lnTo>
                              <a:pt x="13" y="37"/>
                            </a:lnTo>
                            <a:lnTo>
                              <a:pt x="13" y="13"/>
                            </a:lnTo>
                            <a:lnTo>
                              <a:pt x="0" y="7"/>
                            </a:lnTo>
                            <a:lnTo>
                              <a:pt x="126" y="0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4" name=""/>
                      <p:cNvSpPr/>
                      <p:nvPr/>
                    </p:nvSpPr>
                    <p:spPr>
                      <a:xfrm>
                        <a:off x="3816360" y="5160600"/>
                        <a:ext cx="34560" cy="2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1">
                            <a:moveTo>
                              <a:pt x="29" y="1"/>
                            </a:moveTo>
                            <a:lnTo>
                              <a:pt x="0" y="0"/>
                            </a:lnTo>
                            <a:lnTo>
                              <a:pt x="0" y="26"/>
                            </a:lnTo>
                            <a:lnTo>
                              <a:pt x="38" y="31"/>
                            </a:lnTo>
                            <a:lnTo>
                              <a:pt x="42" y="26"/>
                            </a:lnTo>
                            <a:lnTo>
                              <a:pt x="42" y="9"/>
                            </a:lnTo>
                            <a:lnTo>
                              <a:pt x="29" y="1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5" name=""/>
                      <p:cNvSpPr/>
                      <p:nvPr/>
                    </p:nvSpPr>
                    <p:spPr>
                      <a:xfrm>
                        <a:off x="3826440" y="5167080"/>
                        <a:ext cx="123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10">
                            <a:moveTo>
                              <a:pt x="151" y="0"/>
                            </a:moveTo>
                            <a:lnTo>
                              <a:pt x="34" y="6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34" y="10"/>
                            </a:lnTo>
                            <a:lnTo>
                              <a:pt x="151" y="5"/>
                            </a:lnTo>
                            <a:lnTo>
                              <a:pt x="15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6" name=""/>
                      <p:cNvSpPr/>
                      <p:nvPr/>
                    </p:nvSpPr>
                    <p:spPr>
                      <a:xfrm flipH="1">
                        <a:off x="3850920" y="5160600"/>
                        <a:ext cx="108720" cy="6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7" name=""/>
                      <p:cNvSpPr/>
                      <p:nvPr/>
                    </p:nvSpPr>
                    <p:spPr>
                      <a:xfrm>
                        <a:off x="3852720" y="5170320"/>
                        <a:ext cx="986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10">
                            <a:moveTo>
                              <a:pt x="120" y="5"/>
                            </a:move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8" name=""/>
                      <p:cNvSpPr/>
                      <p:nvPr/>
                    </p:nvSpPr>
                    <p:spPr>
                      <a:xfrm>
                        <a:off x="3867480" y="5159160"/>
                        <a:ext cx="14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4">
                            <a:moveTo>
                              <a:pt x="0" y="0"/>
                            </a:moveTo>
                            <a:lnTo>
                              <a:pt x="6" y="3"/>
                            </a:lnTo>
                            <a:lnTo>
                              <a:pt x="17" y="10"/>
                            </a:lnTo>
                            <a:lnTo>
                              <a:pt x="17" y="25"/>
                            </a:lnTo>
                            <a:lnTo>
                              <a:pt x="6" y="34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59" name=""/>
                    <p:cNvGrpSpPr/>
                    <p:nvPr/>
                  </p:nvGrpSpPr>
                  <p:grpSpPr>
                    <a:xfrm>
                      <a:off x="3934080" y="5257800"/>
                      <a:ext cx="27720" cy="36720"/>
                      <a:chOff x="3934080" y="5257800"/>
                      <a:chExt cx="27720" cy="36720"/>
                    </a:xfrm>
                  </p:grpSpPr>
                  <p:sp>
                    <p:nvSpPr>
                      <p:cNvPr id="2160" name=""/>
                      <p:cNvSpPr/>
                      <p:nvPr/>
                    </p:nvSpPr>
                    <p:spPr>
                      <a:xfrm>
                        <a:off x="3934080" y="5257800"/>
                        <a:ext cx="2772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9">
                            <a:moveTo>
                              <a:pt x="28" y="0"/>
                            </a:moveTo>
                            <a:lnTo>
                              <a:pt x="28" y="16"/>
                            </a:lnTo>
                            <a:lnTo>
                              <a:pt x="29" y="19"/>
                            </a:lnTo>
                            <a:lnTo>
                              <a:pt x="32" y="20"/>
                            </a:lnTo>
                            <a:lnTo>
                              <a:pt x="33" y="23"/>
                            </a:lnTo>
                            <a:lnTo>
                              <a:pt x="35" y="24"/>
                            </a:lnTo>
                            <a:lnTo>
                              <a:pt x="35" y="27"/>
                            </a:lnTo>
                            <a:lnTo>
                              <a:pt x="35" y="29"/>
                            </a:lnTo>
                            <a:lnTo>
                              <a:pt x="35" y="30"/>
                            </a:lnTo>
                            <a:lnTo>
                              <a:pt x="0" y="39"/>
                            </a:lnTo>
                            <a:lnTo>
                              <a:pt x="0" y="0"/>
                            </a:lnTo>
                            <a:lnTo>
                              <a:pt x="28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1" name=""/>
                      <p:cNvSpPr/>
                      <p:nvPr/>
                    </p:nvSpPr>
                    <p:spPr>
                      <a:xfrm>
                        <a:off x="3943800" y="5277240"/>
                        <a:ext cx="18000" cy="15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2" name=""/>
                      <p:cNvSpPr/>
                      <p:nvPr/>
                    </p:nvSpPr>
                    <p:spPr>
                      <a:xfrm>
                        <a:off x="3935520" y="5278680"/>
                        <a:ext cx="18000" cy="15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3" name=""/>
                    <p:cNvGrpSpPr/>
                    <p:nvPr/>
                  </p:nvGrpSpPr>
                  <p:grpSpPr>
                    <a:xfrm>
                      <a:off x="3862800" y="5201280"/>
                      <a:ext cx="52200" cy="43200"/>
                      <a:chOff x="3862800" y="5201280"/>
                      <a:chExt cx="52200" cy="43200"/>
                    </a:xfrm>
                  </p:grpSpPr>
                  <p:sp>
                    <p:nvSpPr>
                      <p:cNvPr id="2164" name=""/>
                      <p:cNvSpPr/>
                      <p:nvPr/>
                    </p:nvSpPr>
                    <p:spPr>
                      <a:xfrm>
                        <a:off x="3864240" y="5207400"/>
                        <a:ext cx="2484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5">
                            <a:moveTo>
                              <a:pt x="30" y="4"/>
                            </a:move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0" y="23"/>
                            </a:lnTo>
                            <a:lnTo>
                              <a:pt x="30" y="25"/>
                            </a:lnTo>
                            <a:lnTo>
                              <a:pt x="30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5" name=""/>
                      <p:cNvSpPr/>
                      <p:nvPr/>
                    </p:nvSpPr>
                    <p:spPr>
                      <a:xfrm>
                        <a:off x="3870720" y="5201280"/>
                        <a:ext cx="442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5">
                            <a:moveTo>
                              <a:pt x="22" y="15"/>
                            </a:moveTo>
                            <a:lnTo>
                              <a:pt x="0" y="12"/>
                            </a:lnTo>
                            <a:lnTo>
                              <a:pt x="30" y="0"/>
                            </a:lnTo>
                            <a:lnTo>
                              <a:pt x="54" y="5"/>
                            </a:lnTo>
                            <a:lnTo>
                              <a:pt x="22" y="15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6" name=""/>
                      <p:cNvSpPr/>
                      <p:nvPr/>
                    </p:nvSpPr>
                    <p:spPr>
                      <a:xfrm>
                        <a:off x="3875760" y="5204520"/>
                        <a:ext cx="378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51">
                            <a:moveTo>
                              <a:pt x="45" y="0"/>
                            </a:moveTo>
                            <a:lnTo>
                              <a:pt x="15" y="8"/>
                            </a:lnTo>
                            <a:lnTo>
                              <a:pt x="15" y="20"/>
                            </a:lnTo>
                            <a:lnTo>
                              <a:pt x="12" y="10"/>
                            </a:lnTo>
                            <a:lnTo>
                              <a:pt x="1" y="17"/>
                            </a:lnTo>
                            <a:lnTo>
                              <a:pt x="3" y="27"/>
                            </a:lnTo>
                            <a:lnTo>
                              <a:pt x="0" y="46"/>
                            </a:lnTo>
                            <a:lnTo>
                              <a:pt x="10" y="51"/>
                            </a:lnTo>
                            <a:lnTo>
                              <a:pt x="22" y="44"/>
                            </a:lnTo>
                            <a:lnTo>
                              <a:pt x="45" y="26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7" name=""/>
                      <p:cNvSpPr/>
                      <p:nvPr/>
                    </p:nvSpPr>
                    <p:spPr>
                      <a:xfrm>
                        <a:off x="3862800" y="5209200"/>
                        <a:ext cx="212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0">
                            <a:moveTo>
                              <a:pt x="25" y="4"/>
                            </a:moveTo>
                            <a:lnTo>
                              <a:pt x="17" y="10"/>
                            </a:lnTo>
                            <a:lnTo>
                              <a:pt x="0" y="7"/>
                            </a:lnTo>
                            <a:lnTo>
                              <a:pt x="6" y="0"/>
                            </a:lnTo>
                            <a:lnTo>
                              <a:pt x="25" y="4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8" name=""/>
                      <p:cNvSpPr/>
                      <p:nvPr/>
                    </p:nvSpPr>
                    <p:spPr>
                      <a:xfrm>
                        <a:off x="3862800" y="5215320"/>
                        <a:ext cx="147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2">
                            <a:moveTo>
                              <a:pt x="17" y="3"/>
                            </a:moveTo>
                            <a:lnTo>
                              <a:pt x="0" y="0"/>
                            </a:lnTo>
                            <a:lnTo>
                              <a:pt x="1" y="15"/>
                            </a:lnTo>
                            <a:lnTo>
                              <a:pt x="0" y="31"/>
                            </a:lnTo>
                            <a:lnTo>
                              <a:pt x="16" y="32"/>
                            </a:lnTo>
                            <a:lnTo>
                              <a:pt x="17" y="15"/>
                            </a:lnTo>
                            <a:lnTo>
                              <a:pt x="17" y="3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9" name=""/>
                      <p:cNvSpPr/>
                      <p:nvPr/>
                    </p:nvSpPr>
                    <p:spPr>
                      <a:xfrm>
                        <a:off x="3862800" y="5239800"/>
                        <a:ext cx="176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">
                            <a:moveTo>
                              <a:pt x="22" y="4"/>
                            </a:moveTo>
                            <a:lnTo>
                              <a:pt x="14" y="1"/>
                            </a:lnTo>
                            <a:lnTo>
                              <a:pt x="0" y="0"/>
                            </a:lnTo>
                            <a:lnTo>
                              <a:pt x="6" y="3"/>
                            </a:lnTo>
                            <a:lnTo>
                              <a:pt x="22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0" name=""/>
                    <p:cNvGrpSpPr/>
                    <p:nvPr/>
                  </p:nvGrpSpPr>
                  <p:grpSpPr>
                    <a:xfrm>
                      <a:off x="3894120" y="5220720"/>
                      <a:ext cx="57240" cy="41400"/>
                      <a:chOff x="3894120" y="5220720"/>
                      <a:chExt cx="57240" cy="41400"/>
                    </a:xfrm>
                  </p:grpSpPr>
                  <p:sp>
                    <p:nvSpPr>
                      <p:cNvPr id="2171" name=""/>
                      <p:cNvSpPr/>
                      <p:nvPr/>
                    </p:nvSpPr>
                    <p:spPr>
                      <a:xfrm>
                        <a:off x="3894120" y="5220720"/>
                        <a:ext cx="27720" cy="414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2" name=""/>
                      <p:cNvSpPr/>
                      <p:nvPr/>
                    </p:nvSpPr>
                    <p:spPr>
                      <a:xfrm>
                        <a:off x="3902040" y="5226840"/>
                        <a:ext cx="27720" cy="306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3" name=""/>
                      <p:cNvSpPr/>
                      <p:nvPr/>
                    </p:nvSpPr>
                    <p:spPr>
                      <a:xfrm>
                        <a:off x="3916800" y="5223600"/>
                        <a:ext cx="34560" cy="385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4" name=""/>
                    <p:cNvGrpSpPr/>
                    <p:nvPr/>
                  </p:nvGrpSpPr>
                  <p:grpSpPr>
                    <a:xfrm>
                      <a:off x="3934080" y="5280840"/>
                      <a:ext cx="91440" cy="105840"/>
                      <a:chOff x="3934080" y="5280840"/>
                      <a:chExt cx="91440" cy="105840"/>
                    </a:xfrm>
                  </p:grpSpPr>
                  <p:sp>
                    <p:nvSpPr>
                      <p:cNvPr id="2175" name=""/>
                      <p:cNvSpPr/>
                      <p:nvPr/>
                    </p:nvSpPr>
                    <p:spPr>
                      <a:xfrm>
                        <a:off x="3938760" y="5311440"/>
                        <a:ext cx="5040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1593" y="10405"/>
                            </a:moveTo>
                            <a:arcTo wR="10800" hR="10800" stAng="-125913" swAng="1613307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1593" y="10405"/>
                            </a:moveTo>
                            <a:arcTo wR="10800" hR="10800" stAng="-125913" swAng="16133077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76" name=""/>
                      <p:cNvGrpSpPr/>
                      <p:nvPr/>
                    </p:nvGrpSpPr>
                    <p:grpSpPr>
                      <a:xfrm>
                        <a:off x="3934080" y="5280840"/>
                        <a:ext cx="91440" cy="99360"/>
                        <a:chOff x="3934080" y="5280840"/>
                        <a:chExt cx="91440" cy="99360"/>
                      </a:xfrm>
                    </p:grpSpPr>
                    <p:sp>
                      <p:nvSpPr>
                        <p:cNvPr id="2177" name=""/>
                        <p:cNvSpPr/>
                        <p:nvPr/>
                      </p:nvSpPr>
                      <p:spPr>
                        <a:xfrm>
                          <a:off x="3948480" y="5311440"/>
                          <a:ext cx="46080" cy="6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79">
                              <a:moveTo>
                                <a:pt x="9" y="0"/>
                              </a:moveTo>
                              <a:lnTo>
                                <a:pt x="0" y="0"/>
                              </a:lnTo>
                              <a:lnTo>
                                <a:pt x="47" y="79"/>
                              </a:lnTo>
                              <a:lnTo>
                                <a:pt x="54" y="73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78" name=""/>
                        <p:cNvSpPr/>
                        <p:nvPr/>
                      </p:nvSpPr>
                      <p:spPr>
                        <a:xfrm>
                          <a:off x="3984480" y="5356440"/>
                          <a:ext cx="4104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31">
                              <a:moveTo>
                                <a:pt x="50" y="13"/>
                              </a:moveTo>
                              <a:lnTo>
                                <a:pt x="16" y="0"/>
                              </a:lnTo>
                              <a:lnTo>
                                <a:pt x="0" y="31"/>
                              </a:lnTo>
                              <a:lnTo>
                                <a:pt x="15" y="28"/>
                              </a:lnTo>
                              <a:lnTo>
                                <a:pt x="40" y="19"/>
                              </a:lnTo>
                              <a:lnTo>
                                <a:pt x="5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79" name=""/>
                        <p:cNvSpPr/>
                        <p:nvPr/>
                      </p:nvSpPr>
                      <p:spPr>
                        <a:xfrm>
                          <a:off x="3934080" y="5280840"/>
                          <a:ext cx="81720" cy="9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115">
                              <a:moveTo>
                                <a:pt x="44" y="0"/>
                              </a:moveTo>
                              <a:lnTo>
                                <a:pt x="7" y="9"/>
                              </a:lnTo>
                              <a:lnTo>
                                <a:pt x="4" y="19"/>
                              </a:lnTo>
                              <a:lnTo>
                                <a:pt x="0" y="22"/>
                              </a:lnTo>
                              <a:lnTo>
                                <a:pt x="10" y="38"/>
                              </a:lnTo>
                              <a:lnTo>
                                <a:pt x="23" y="41"/>
                              </a:lnTo>
                              <a:lnTo>
                                <a:pt x="60" y="106"/>
                              </a:lnTo>
                              <a:lnTo>
                                <a:pt x="55" y="109"/>
                              </a:lnTo>
                              <a:lnTo>
                                <a:pt x="60" y="115"/>
                              </a:lnTo>
                              <a:lnTo>
                                <a:pt x="69" y="109"/>
                              </a:lnTo>
                              <a:lnTo>
                                <a:pt x="89" y="103"/>
                              </a:lnTo>
                              <a:lnTo>
                                <a:pt x="99" y="103"/>
                              </a:lnTo>
                              <a:lnTo>
                                <a:pt x="63" y="40"/>
                              </a:lnTo>
                              <a:lnTo>
                                <a:pt x="67" y="34"/>
                              </a:lnTo>
                              <a:lnTo>
                                <a:pt x="4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0" name=""/>
                        <p:cNvSpPr/>
                        <p:nvPr/>
                      </p:nvSpPr>
                      <p:spPr>
                        <a:xfrm>
                          <a:off x="3944880" y="5309640"/>
                          <a:ext cx="11520" cy="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12">
                              <a:moveTo>
                                <a:pt x="14" y="12"/>
                              </a:moveTo>
                              <a:lnTo>
                                <a:pt x="9" y="0"/>
                              </a:lnTo>
                              <a:lnTo>
                                <a:pt x="0" y="7"/>
                              </a:lnTo>
                              <a:lnTo>
                                <a:pt x="1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1" name=""/>
                        <p:cNvSpPr/>
                        <p:nvPr/>
                      </p:nvSpPr>
                      <p:spPr>
                        <a:xfrm>
                          <a:off x="3961800" y="5282280"/>
                          <a:ext cx="43920" cy="82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103">
                              <a:moveTo>
                                <a:pt x="0" y="0"/>
                              </a:moveTo>
                              <a:lnTo>
                                <a:pt x="22" y="34"/>
                              </a:lnTo>
                              <a:lnTo>
                                <a:pt x="18" y="40"/>
                              </a:lnTo>
                              <a:lnTo>
                                <a:pt x="53" y="10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2" name=""/>
                        <p:cNvSpPr/>
                        <p:nvPr/>
                      </p:nvSpPr>
                      <p:spPr>
                        <a:xfrm>
                          <a:off x="3964680" y="5312880"/>
                          <a:ext cx="5760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69">
                              <a:moveTo>
                                <a:pt x="32" y="0"/>
                              </a:moveTo>
                              <a:lnTo>
                                <a:pt x="0" y="9"/>
                              </a:lnTo>
                              <a:lnTo>
                                <a:pt x="35" y="69"/>
                              </a:lnTo>
                              <a:lnTo>
                                <a:pt x="58" y="63"/>
                              </a:lnTo>
                              <a:lnTo>
                                <a:pt x="70" y="63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3" name=""/>
                        <p:cNvSpPr/>
                        <p:nvPr/>
                      </p:nvSpPr>
                      <p:spPr>
                        <a:xfrm flipH="1" flipV="1">
                          <a:off x="3944520" y="5285520"/>
                          <a:ext cx="49320" cy="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4" name=""/>
                        <p:cNvSpPr/>
                        <p:nvPr/>
                      </p:nvSpPr>
                      <p:spPr>
                        <a:xfrm>
                          <a:off x="3961800" y="5308200"/>
                          <a:ext cx="244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13">
                              <a:moveTo>
                                <a:pt x="29" y="0"/>
                              </a:moveTo>
                              <a:lnTo>
                                <a:pt x="7" y="6"/>
                              </a:lnTo>
                              <a:lnTo>
                                <a:pt x="6" y="7"/>
                              </a:lnTo>
                              <a:lnTo>
                                <a:pt x="4" y="7"/>
                              </a:lnTo>
                              <a:lnTo>
                                <a:pt x="3" y="9"/>
                              </a:lnTo>
                              <a:lnTo>
                                <a:pt x="1" y="10"/>
                              </a:lnTo>
                              <a:lnTo>
                                <a:pt x="0" y="12"/>
                              </a:lnTo>
                              <a:lnTo>
                                <a:pt x="0" y="1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85" name=""/>
                    <p:cNvGrpSpPr/>
                    <p:nvPr/>
                  </p:nvGrpSpPr>
                  <p:grpSpPr>
                    <a:xfrm>
                      <a:off x="3867840" y="5243040"/>
                      <a:ext cx="82080" cy="33480"/>
                      <a:chOff x="3867840" y="5243040"/>
                      <a:chExt cx="82080" cy="33480"/>
                    </a:xfrm>
                  </p:grpSpPr>
                  <p:sp>
                    <p:nvSpPr>
                      <p:cNvPr id="2186" name=""/>
                      <p:cNvSpPr/>
                      <p:nvPr/>
                    </p:nvSpPr>
                    <p:spPr>
                      <a:xfrm>
                        <a:off x="3867840" y="5265360"/>
                        <a:ext cx="60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4">
                            <a:moveTo>
                              <a:pt x="73" y="14"/>
                            </a:moveTo>
                            <a:lnTo>
                              <a:pt x="64" y="9"/>
                            </a:lnTo>
                            <a:lnTo>
                              <a:pt x="0" y="0"/>
                            </a:lnTo>
                            <a:lnTo>
                              <a:pt x="6" y="6"/>
                            </a:lnTo>
                            <a:lnTo>
                              <a:pt x="73" y="1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7" name=""/>
                      <p:cNvSpPr/>
                      <p:nvPr/>
                    </p:nvSpPr>
                    <p:spPr>
                      <a:xfrm>
                        <a:off x="3867840" y="5243040"/>
                        <a:ext cx="525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7">
                            <a:moveTo>
                              <a:pt x="0" y="0"/>
                            </a:moveTo>
                            <a:lnTo>
                              <a:pt x="63" y="9"/>
                            </a:lnTo>
                            <a:lnTo>
                              <a:pt x="63" y="37"/>
                            </a:lnTo>
                            <a:lnTo>
                              <a:pt x="0" y="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8" name=""/>
                      <p:cNvSpPr/>
                      <p:nvPr/>
                    </p:nvSpPr>
                    <p:spPr>
                      <a:xfrm>
                        <a:off x="3889440" y="5249520"/>
                        <a:ext cx="273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5">
                            <a:moveTo>
                              <a:pt x="35" y="6"/>
                            </a:moveTo>
                            <a:lnTo>
                              <a:pt x="35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lnTo>
                              <a:pt x="35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9" name=""/>
                      <p:cNvSpPr/>
                      <p:nvPr/>
                    </p:nvSpPr>
                    <p:spPr>
                      <a:xfrm>
                        <a:off x="3926880" y="5254200"/>
                        <a:ext cx="230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9">
                            <a:moveTo>
                              <a:pt x="28" y="0"/>
                            </a:moveTo>
                            <a:lnTo>
                              <a:pt x="28" y="24"/>
                            </a:lnTo>
                            <a:lnTo>
                              <a:pt x="0" y="29"/>
                            </a:lnTo>
                            <a:lnTo>
                              <a:pt x="0" y="6"/>
                            </a:lnTo>
                            <a:lnTo>
                              <a:pt x="28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0" name=""/>
                      <p:cNvSpPr/>
                      <p:nvPr/>
                    </p:nvSpPr>
                    <p:spPr>
                      <a:xfrm>
                        <a:off x="3920400" y="5249520"/>
                        <a:ext cx="64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35">
                            <a:moveTo>
                              <a:pt x="8" y="6"/>
                            </a:moveTo>
                            <a:lnTo>
                              <a:pt x="8" y="35"/>
                            </a:lnTo>
                            <a:lnTo>
                              <a:pt x="0" y="30"/>
                            </a:lnTo>
                            <a:lnTo>
                              <a:pt x="0" y="0"/>
                            </a:lnTo>
                            <a:lnTo>
                              <a:pt x="8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1" name=""/>
                      <p:cNvSpPr/>
                      <p:nvPr/>
                    </p:nvSpPr>
                    <p:spPr>
                      <a:xfrm>
                        <a:off x="3930480" y="5262120"/>
                        <a:ext cx="162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6">
                            <a:moveTo>
                              <a:pt x="19" y="0"/>
                            </a:moveTo>
                            <a:lnTo>
                              <a:pt x="0" y="5"/>
                            </a:lnTo>
                            <a:lnTo>
                              <a:pt x="0" y="16"/>
                            </a:lnTo>
                            <a:lnTo>
                              <a:pt x="19" y="12"/>
                            </a:lnTo>
                            <a:lnTo>
                              <a:pt x="1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92" name=""/>
                    <p:cNvSpPr/>
                    <p:nvPr/>
                  </p:nvSpPr>
                  <p:spPr>
                    <a:xfrm>
                      <a:off x="3930480" y="5282280"/>
                      <a:ext cx="198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93" name=""/>
                    <p:cNvGrpSpPr/>
                    <p:nvPr/>
                  </p:nvGrpSpPr>
                  <p:grpSpPr>
                    <a:xfrm>
                      <a:off x="3903840" y="5196240"/>
                      <a:ext cx="42480" cy="27000"/>
                      <a:chOff x="3903840" y="5196240"/>
                      <a:chExt cx="42480" cy="27000"/>
                    </a:xfrm>
                  </p:grpSpPr>
                  <p:grpSp>
                    <p:nvGrpSpPr>
                      <p:cNvPr id="2194" name=""/>
                      <p:cNvGrpSpPr/>
                      <p:nvPr/>
                    </p:nvGrpSpPr>
                    <p:grpSpPr>
                      <a:xfrm>
                        <a:off x="3903840" y="5196240"/>
                        <a:ext cx="42120" cy="27000"/>
                        <a:chOff x="3903840" y="5196240"/>
                        <a:chExt cx="42120" cy="27000"/>
                      </a:xfrm>
                    </p:grpSpPr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>
                          <a:off x="3913560" y="5196240"/>
                          <a:ext cx="3240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13">
                              <a:moveTo>
                                <a:pt x="40" y="4"/>
                              </a:moveTo>
                              <a:lnTo>
                                <a:pt x="12" y="13"/>
                              </a:lnTo>
                              <a:lnTo>
                                <a:pt x="0" y="9"/>
                              </a:lnTo>
                              <a:lnTo>
                                <a:pt x="27" y="0"/>
                              </a:lnTo>
                              <a:lnTo>
                                <a:pt x="4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>
                          <a:off x="3903840" y="5204520"/>
                          <a:ext cx="212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23">
                              <a:moveTo>
                                <a:pt x="28" y="4"/>
                              </a:moveTo>
                              <a:lnTo>
                                <a:pt x="13" y="0"/>
                              </a:lnTo>
                              <a:lnTo>
                                <a:pt x="0" y="8"/>
                              </a:lnTo>
                              <a:lnTo>
                                <a:pt x="0" y="20"/>
                              </a:lnTo>
                              <a:lnTo>
                                <a:pt x="18" y="23"/>
                              </a:lnTo>
                              <a:lnTo>
                                <a:pt x="24" y="19"/>
                              </a:lnTo>
                              <a:lnTo>
                                <a:pt x="28" y="22"/>
                              </a:lnTo>
                              <a:lnTo>
                                <a:pt x="28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7" name=""/>
                        <p:cNvSpPr/>
                        <p:nvPr/>
                      </p:nvSpPr>
                      <p:spPr>
                        <a:xfrm>
                          <a:off x="3925080" y="5201280"/>
                          <a:ext cx="2088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" h="25">
                              <a:moveTo>
                                <a:pt x="25" y="0"/>
                              </a:moveTo>
                              <a:lnTo>
                                <a:pt x="0" y="6"/>
                              </a:lnTo>
                              <a:lnTo>
                                <a:pt x="0" y="25"/>
                              </a:lnTo>
                              <a:lnTo>
                                <a:pt x="25" y="17"/>
                              </a:lnTo>
                              <a:lnTo>
                                <a:pt x="2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8" name=""/>
                      <p:cNvSpPr/>
                      <p:nvPr/>
                    </p:nvSpPr>
                    <p:spPr>
                      <a:xfrm>
                        <a:off x="3926880" y="5204520"/>
                        <a:ext cx="19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24" y="0"/>
                            </a:moveTo>
                            <a:lnTo>
                              <a:pt x="0" y="5"/>
                            </a:lnTo>
                            <a:lnTo>
                              <a:pt x="0" y="19"/>
                            </a:lnTo>
                            <a:lnTo>
                              <a:pt x="24" y="13"/>
                            </a:lnTo>
                            <a:lnTo>
                              <a:pt x="24" y="0"/>
                            </a:lnTo>
                            <a:close/>
                          </a:path>
                        </a:pathLst>
                      </a:custGeom>
                      <a:solidFill>
                        <a:srgbClr val="ffc02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99" name=""/>
                    <p:cNvSpPr/>
                    <p:nvPr/>
                  </p:nvSpPr>
                  <p:spPr>
                    <a:xfrm>
                      <a:off x="3821760" y="5186520"/>
                      <a:ext cx="42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6">
                          <a:moveTo>
                            <a:pt x="49" y="5"/>
                          </a:moveTo>
                          <a:lnTo>
                            <a:pt x="52" y="16"/>
                          </a:lnTo>
                          <a:lnTo>
                            <a:pt x="52" y="26"/>
                          </a:lnTo>
                          <a:lnTo>
                            <a:pt x="0" y="19"/>
                          </a:lnTo>
                          <a:lnTo>
                            <a:pt x="0" y="13"/>
                          </a:lnTo>
                          <a:lnTo>
                            <a:pt x="2" y="0"/>
                          </a:lnTo>
                          <a:lnTo>
                            <a:pt x="49" y="5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00" name=""/>
                    <p:cNvGrpSpPr/>
                    <p:nvPr/>
                  </p:nvGrpSpPr>
                  <p:grpSpPr>
                    <a:xfrm>
                      <a:off x="3917160" y="5218920"/>
                      <a:ext cx="60480" cy="49320"/>
                      <a:chOff x="3917160" y="5218920"/>
                      <a:chExt cx="60480" cy="49320"/>
                    </a:xfrm>
                  </p:grpSpPr>
                  <p:grpSp>
                    <p:nvGrpSpPr>
                      <p:cNvPr id="2201" name=""/>
                      <p:cNvGrpSpPr/>
                      <p:nvPr/>
                    </p:nvGrpSpPr>
                    <p:grpSpPr>
                      <a:xfrm>
                        <a:off x="3922200" y="5218920"/>
                        <a:ext cx="45360" cy="49320"/>
                        <a:chOff x="3922200" y="5218920"/>
                        <a:chExt cx="45360" cy="49320"/>
                      </a:xfrm>
                    </p:grpSpPr>
                    <p:sp>
                      <p:nvSpPr>
                        <p:cNvPr id="2202" name=""/>
                        <p:cNvSpPr/>
                        <p:nvPr/>
                      </p:nvSpPr>
                      <p:spPr>
                        <a:xfrm>
                          <a:off x="3922200" y="5218920"/>
                          <a:ext cx="45360" cy="4932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3" name=""/>
                        <p:cNvSpPr/>
                        <p:nvPr/>
                      </p:nvSpPr>
                      <p:spPr>
                        <a:xfrm>
                          <a:off x="3939840" y="5218920"/>
                          <a:ext cx="19440" cy="47880"/>
                        </a:xfrm>
                        <a:prstGeom prst="rect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04" name=""/>
                      <p:cNvGrpSpPr/>
                      <p:nvPr/>
                    </p:nvGrpSpPr>
                    <p:grpSpPr>
                      <a:xfrm>
                        <a:off x="3938760" y="5225400"/>
                        <a:ext cx="38880" cy="38160"/>
                        <a:chOff x="3938760" y="5225400"/>
                        <a:chExt cx="38880" cy="38160"/>
                      </a:xfrm>
                    </p:grpSpPr>
                    <p:sp>
                      <p:nvSpPr>
                        <p:cNvPr id="2205" name=""/>
                        <p:cNvSpPr/>
                        <p:nvPr/>
                      </p:nvSpPr>
                      <p:spPr>
                        <a:xfrm>
                          <a:off x="3938760" y="5225400"/>
                          <a:ext cx="33840" cy="381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6" name=""/>
                        <p:cNvSpPr/>
                        <p:nvPr/>
                      </p:nvSpPr>
                      <p:spPr>
                        <a:xfrm>
                          <a:off x="3943440" y="5226840"/>
                          <a:ext cx="34200" cy="3672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7" name=""/>
                        <p:cNvSpPr/>
                        <p:nvPr/>
                      </p:nvSpPr>
                      <p:spPr>
                        <a:xfrm>
                          <a:off x="3943440" y="5231520"/>
                          <a:ext cx="27720" cy="288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8" name=""/>
                        <p:cNvSpPr/>
                        <p:nvPr/>
                      </p:nvSpPr>
                      <p:spPr>
                        <a:xfrm>
                          <a:off x="3940200" y="5228640"/>
                          <a:ext cx="180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37">
                              <a:moveTo>
                                <a:pt x="9" y="0"/>
                              </a:moveTo>
                              <a:lnTo>
                                <a:pt x="12" y="2"/>
                              </a:lnTo>
                              <a:lnTo>
                                <a:pt x="15" y="5"/>
                              </a:lnTo>
                              <a:lnTo>
                                <a:pt x="18" y="6"/>
                              </a:lnTo>
                              <a:lnTo>
                                <a:pt x="21" y="9"/>
                              </a:lnTo>
                              <a:lnTo>
                                <a:pt x="22" y="12"/>
                              </a:lnTo>
                              <a:lnTo>
                                <a:pt x="22" y="15"/>
                              </a:lnTo>
                              <a:lnTo>
                                <a:pt x="24" y="19"/>
                              </a:lnTo>
                              <a:lnTo>
                                <a:pt x="22" y="22"/>
                              </a:lnTo>
                              <a:lnTo>
                                <a:pt x="22" y="25"/>
                              </a:lnTo>
                              <a:lnTo>
                                <a:pt x="19" y="28"/>
                              </a:lnTo>
                              <a:lnTo>
                                <a:pt x="16" y="31"/>
                              </a:lnTo>
                              <a:lnTo>
                                <a:pt x="13" y="33"/>
                              </a:lnTo>
                              <a:lnTo>
                                <a:pt x="9" y="36"/>
                              </a:lnTo>
                              <a:lnTo>
                                <a:pt x="5" y="37"/>
                              </a:lnTo>
                              <a:lnTo>
                                <a:pt x="3" y="33"/>
                              </a:lnTo>
                              <a:lnTo>
                                <a:pt x="2" y="28"/>
                              </a:lnTo>
                              <a:lnTo>
                                <a:pt x="0" y="24"/>
                              </a:lnTo>
                              <a:lnTo>
                                <a:pt x="0" y="18"/>
                              </a:lnTo>
                              <a:lnTo>
                                <a:pt x="2" y="12"/>
                              </a:lnTo>
                              <a:lnTo>
                                <a:pt x="3" y="8"/>
                              </a:lnTo>
                              <a:lnTo>
                                <a:pt x="5" y="5"/>
                              </a:lnTo>
                              <a:lnTo>
                                <a:pt x="6" y="3"/>
                              </a:lnTo>
                              <a:lnTo>
                                <a:pt x="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09" name=""/>
                      <p:cNvSpPr/>
                      <p:nvPr/>
                    </p:nvSpPr>
                    <p:spPr>
                      <a:xfrm flipH="1">
                        <a:off x="3926520" y="5223600"/>
                        <a:ext cx="212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0" name=""/>
                      <p:cNvSpPr/>
                      <p:nvPr/>
                    </p:nvSpPr>
                    <p:spPr>
                      <a:xfrm flipH="1">
                        <a:off x="3925080" y="5226840"/>
                        <a:ext cx="212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1" name=""/>
                      <p:cNvSpPr/>
                      <p:nvPr/>
                    </p:nvSpPr>
                    <p:spPr>
                      <a:xfrm flipH="1">
                        <a:off x="3921840" y="5228640"/>
                        <a:ext cx="2268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2" name=""/>
                      <p:cNvSpPr/>
                      <p:nvPr/>
                    </p:nvSpPr>
                    <p:spPr>
                      <a:xfrm flipH="1">
                        <a:off x="3920400" y="5230080"/>
                        <a:ext cx="230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3" name=""/>
                      <p:cNvSpPr/>
                      <p:nvPr/>
                    </p:nvSpPr>
                    <p:spPr>
                      <a:xfrm flipH="1">
                        <a:off x="3918600" y="5231520"/>
                        <a:ext cx="212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4" name=""/>
                      <p:cNvSpPr/>
                      <p:nvPr/>
                    </p:nvSpPr>
                    <p:spPr>
                      <a:xfrm flipH="1">
                        <a:off x="3918600" y="5233320"/>
                        <a:ext cx="212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5" name=""/>
                      <p:cNvSpPr/>
                      <p:nvPr/>
                    </p:nvSpPr>
                    <p:spPr>
                      <a:xfrm flipH="1">
                        <a:off x="3917160" y="5236560"/>
                        <a:ext cx="230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6" name=""/>
                      <p:cNvSpPr/>
                      <p:nvPr/>
                    </p:nvSpPr>
                    <p:spPr>
                      <a:xfrm flipH="1">
                        <a:off x="3918600" y="5239800"/>
                        <a:ext cx="212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 flipH="1">
                        <a:off x="3921840" y="5250960"/>
                        <a:ext cx="212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8" name=""/>
                      <p:cNvSpPr/>
                      <p:nvPr/>
                    </p:nvSpPr>
                    <p:spPr>
                      <a:xfrm flipH="1">
                        <a:off x="3920400" y="5249520"/>
                        <a:ext cx="230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9" name=""/>
                      <p:cNvSpPr/>
                      <p:nvPr/>
                    </p:nvSpPr>
                    <p:spPr>
                      <a:xfrm flipH="1">
                        <a:off x="3920400" y="5246280"/>
                        <a:ext cx="194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0" name=""/>
                      <p:cNvSpPr/>
                      <p:nvPr/>
                    </p:nvSpPr>
                    <p:spPr>
                      <a:xfrm flipH="1">
                        <a:off x="3920400" y="5244840"/>
                        <a:ext cx="194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1" name=""/>
                      <p:cNvSpPr/>
                      <p:nvPr/>
                    </p:nvSpPr>
                    <p:spPr>
                      <a:xfrm flipH="1">
                        <a:off x="3918600" y="5242680"/>
                        <a:ext cx="212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2" name=""/>
                      <p:cNvSpPr/>
                      <p:nvPr/>
                    </p:nvSpPr>
                    <p:spPr>
                      <a:xfrm flipH="1">
                        <a:off x="3918600" y="5241240"/>
                        <a:ext cx="212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3" name=""/>
                      <p:cNvSpPr/>
                      <p:nvPr/>
                    </p:nvSpPr>
                    <p:spPr>
                      <a:xfrm flipH="1">
                        <a:off x="3920400" y="5249520"/>
                        <a:ext cx="1944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0720" y="4398840"/>
                    <a:ext cx="685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225" name=""/>
                  <p:cNvGrpSpPr/>
                  <p:nvPr/>
                </p:nvGrpSpPr>
                <p:grpSpPr>
                  <a:xfrm>
                    <a:off x="4401360" y="4159080"/>
                    <a:ext cx="83520" cy="221760"/>
                    <a:chOff x="4401360" y="4159080"/>
                    <a:chExt cx="83520" cy="221760"/>
                  </a:xfrm>
                </p:grpSpPr>
                <p:sp>
                  <p:nvSpPr>
                    <p:cNvPr id="2226" name=""/>
                    <p:cNvSpPr/>
                    <p:nvPr/>
                  </p:nvSpPr>
                  <p:spPr>
                    <a:xfrm flipV="1">
                      <a:off x="4442040" y="4230360"/>
                      <a:ext cx="1800" cy="150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>
                      <a:off x="4401360" y="4159080"/>
                      <a:ext cx="835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6">
                          <a:moveTo>
                            <a:pt x="51" y="0"/>
                          </a:moveTo>
                          <a:lnTo>
                            <a:pt x="0" y="176"/>
                          </a:lnTo>
                          <a:lnTo>
                            <a:pt x="102" y="176"/>
                          </a:lnTo>
                          <a:lnTo>
                            <a:pt x="5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28" name=""/>
                  <p:cNvSpPr/>
                  <p:nvPr/>
                </p:nvSpPr>
                <p:spPr>
                  <a:xfrm>
                    <a:off x="4488840" y="3819240"/>
                    <a:ext cx="218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8">
                        <a:moveTo>
                          <a:pt x="0" y="61"/>
                        </a:moveTo>
                        <a:lnTo>
                          <a:pt x="123" y="8"/>
                        </a:lnTo>
                        <a:lnTo>
                          <a:pt x="85" y="68"/>
                        </a:lnTo>
                        <a:lnTo>
                          <a:pt x="26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4504680" y="3924000"/>
                    <a:ext cx="2026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76">
                        <a:moveTo>
                          <a:pt x="0" y="0"/>
                        </a:moveTo>
                        <a:lnTo>
                          <a:pt x="161" y="7"/>
                        </a:lnTo>
                        <a:lnTo>
                          <a:pt x="47" y="35"/>
                        </a:lnTo>
                        <a:lnTo>
                          <a:pt x="246" y="7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4082400" y="3819240"/>
                    <a:ext cx="2790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68">
                        <a:moveTo>
                          <a:pt x="340" y="61"/>
                        </a:moveTo>
                        <a:lnTo>
                          <a:pt x="189" y="8"/>
                        </a:lnTo>
                        <a:lnTo>
                          <a:pt x="255" y="6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31" name=""/>
                  <p:cNvGrpSpPr/>
                  <p:nvPr/>
                </p:nvGrpSpPr>
                <p:grpSpPr>
                  <a:xfrm>
                    <a:off x="4683960" y="4833720"/>
                    <a:ext cx="358200" cy="139320"/>
                    <a:chOff x="4683960" y="4833720"/>
                    <a:chExt cx="358200" cy="139320"/>
                  </a:xfrm>
                </p:grpSpPr>
                <p:sp>
                  <p:nvSpPr>
                    <p:cNvPr id="2232" name=""/>
                    <p:cNvSpPr/>
                    <p:nvPr/>
                  </p:nvSpPr>
                  <p:spPr>
                    <a:xfrm>
                      <a:off x="4796640" y="4872600"/>
                      <a:ext cx="245520" cy="10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123">
                          <a:moveTo>
                            <a:pt x="298" y="123"/>
                          </a:moveTo>
                          <a:lnTo>
                            <a:pt x="98" y="0"/>
                          </a:lnTo>
                          <a:lnTo>
                            <a:pt x="85" y="95"/>
                          </a:lnTo>
                          <a:lnTo>
                            <a:pt x="0" y="3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3" name=""/>
                    <p:cNvSpPr/>
                    <p:nvPr/>
                  </p:nvSpPr>
                  <p:spPr>
                    <a:xfrm>
                      <a:off x="4683960" y="4833720"/>
                      <a:ext cx="1425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39">
                          <a:moveTo>
                            <a:pt x="0" y="0"/>
                          </a:moveTo>
                          <a:lnTo>
                            <a:pt x="117" y="139"/>
                          </a:lnTo>
                          <a:lnTo>
                            <a:pt x="173" y="5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4" name=""/>
                  <p:cNvGrpSpPr/>
                  <p:nvPr/>
                </p:nvGrpSpPr>
                <p:grpSpPr>
                  <a:xfrm>
                    <a:off x="4807800" y="4500360"/>
                    <a:ext cx="353520" cy="82080"/>
                    <a:chOff x="4807800" y="4500360"/>
                    <a:chExt cx="353520" cy="82080"/>
                  </a:xfrm>
                </p:grpSpPr>
                <p:sp>
                  <p:nvSpPr>
                    <p:cNvPr id="2235" name=""/>
                    <p:cNvSpPr/>
                    <p:nvPr/>
                  </p:nvSpPr>
                  <p:spPr>
                    <a:xfrm flipV="1">
                      <a:off x="4807800" y="4538520"/>
                      <a:ext cx="280800" cy="11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6" name=""/>
                    <p:cNvSpPr/>
                    <p:nvPr/>
                  </p:nvSpPr>
                  <p:spPr>
                    <a:xfrm>
                      <a:off x="5014440" y="4500360"/>
                      <a:ext cx="14688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103">
                          <a:moveTo>
                            <a:pt x="179" y="43"/>
                          </a:moveTo>
                          <a:lnTo>
                            <a:pt x="0" y="0"/>
                          </a:lnTo>
                          <a:lnTo>
                            <a:pt x="6" y="103"/>
                          </a:lnTo>
                          <a:lnTo>
                            <a:pt x="179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37" name=""/>
                  <p:cNvSpPr/>
                  <p:nvPr/>
                </p:nvSpPr>
                <p:spPr>
                  <a:xfrm>
                    <a:off x="4198320" y="3924000"/>
                    <a:ext cx="1630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05">
                        <a:moveTo>
                          <a:pt x="199" y="0"/>
                        </a:moveTo>
                        <a:lnTo>
                          <a:pt x="47" y="28"/>
                        </a:lnTo>
                        <a:lnTo>
                          <a:pt x="180" y="42"/>
                        </a:lnTo>
                        <a:lnTo>
                          <a:pt x="0" y="105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3541320" y="4025520"/>
                    <a:ext cx="16092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TW" sz="700" spc="-1" strike="noStrike">
                        <a:solidFill>
                          <a:srgbClr val="000000"/>
                        </a:solidFill>
                        <a:latin typeface="全真楷書"/>
                        <a:ea typeface="全真楷書"/>
                      </a:rPr>
                      <a:t>請改道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3398040" y="3990600"/>
                    <a:ext cx="456840" cy="150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0" name=""/>
                <p:cNvGrpSpPr/>
                <p:nvPr/>
              </p:nvGrpSpPr>
              <p:grpSpPr>
                <a:xfrm>
                  <a:off x="5979960" y="380880"/>
                  <a:ext cx="2847240" cy="2341080"/>
                  <a:chOff x="5979960" y="380880"/>
                  <a:chExt cx="2847240" cy="2341080"/>
                </a:xfrm>
              </p:grpSpPr>
              <p:grpSp>
                <p:nvGrpSpPr>
                  <p:cNvPr id="2241" name=""/>
                  <p:cNvGrpSpPr/>
                  <p:nvPr/>
                </p:nvGrpSpPr>
                <p:grpSpPr>
                  <a:xfrm>
                    <a:off x="5979960" y="406440"/>
                    <a:ext cx="2847240" cy="2315520"/>
                    <a:chOff x="5979960" y="406440"/>
                    <a:chExt cx="2847240" cy="2315520"/>
                  </a:xfrm>
                </p:grpSpPr>
                <p:sp>
                  <p:nvSpPr>
                    <p:cNvPr id="2242" name=""/>
                    <p:cNvSpPr/>
                    <p:nvPr/>
                  </p:nvSpPr>
                  <p:spPr>
                    <a:xfrm>
                      <a:off x="6034680" y="457920"/>
                      <a:ext cx="2792520" cy="226404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3" name=""/>
                    <p:cNvSpPr/>
                    <p:nvPr/>
                  </p:nvSpPr>
                  <p:spPr>
                    <a:xfrm>
                      <a:off x="5979960" y="406440"/>
                      <a:ext cx="2782800" cy="2252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4" name=""/>
                  <p:cNvGrpSpPr/>
                  <p:nvPr/>
                </p:nvGrpSpPr>
                <p:grpSpPr>
                  <a:xfrm>
                    <a:off x="6208200" y="380880"/>
                    <a:ext cx="2407680" cy="2083320"/>
                    <a:chOff x="6208200" y="380880"/>
                    <a:chExt cx="2407680" cy="2083320"/>
                  </a:xfrm>
                </p:grpSpPr>
                <p:sp>
                  <p:nvSpPr>
                    <p:cNvPr id="2245" name=""/>
                    <p:cNvSpPr/>
                    <p:nvPr/>
                  </p:nvSpPr>
                  <p:spPr>
                    <a:xfrm>
                      <a:off x="7345080" y="1550880"/>
                      <a:ext cx="2142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通訊設備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46" name=""/>
                    <p:cNvGrpSpPr/>
                    <p:nvPr/>
                  </p:nvGrpSpPr>
                  <p:grpSpPr>
                    <a:xfrm>
                      <a:off x="7663680" y="1964880"/>
                      <a:ext cx="445320" cy="271440"/>
                      <a:chOff x="7663680" y="1964880"/>
                      <a:chExt cx="445320" cy="271440"/>
                    </a:xfrm>
                  </p:grpSpPr>
                  <p:sp>
                    <p:nvSpPr>
                      <p:cNvPr id="2247" name=""/>
                      <p:cNvSpPr/>
                      <p:nvPr/>
                    </p:nvSpPr>
                    <p:spPr>
                      <a:xfrm>
                        <a:off x="7847280" y="1964880"/>
                        <a:ext cx="22392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2">
                            <a:moveTo>
                              <a:pt x="261" y="0"/>
                            </a:moveTo>
                            <a:lnTo>
                              <a:pt x="271" y="91"/>
                            </a:lnTo>
                            <a:lnTo>
                              <a:pt x="261" y="182"/>
                            </a:lnTo>
                            <a:lnTo>
                              <a:pt x="10" y="182"/>
                            </a:lnTo>
                            <a:lnTo>
                              <a:pt x="0" y="91"/>
                            </a:lnTo>
                            <a:lnTo>
                              <a:pt x="10" y="0"/>
                            </a:lnTo>
                            <a:lnTo>
                              <a:pt x="26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8" name=""/>
                      <p:cNvSpPr/>
                      <p:nvPr/>
                    </p:nvSpPr>
                    <p:spPr>
                      <a:xfrm>
                        <a:off x="7850520" y="1968120"/>
                        <a:ext cx="217080" cy="14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177">
                            <a:moveTo>
                              <a:pt x="251" y="0"/>
                            </a:moveTo>
                            <a:lnTo>
                              <a:pt x="261" y="89"/>
                            </a:lnTo>
                            <a:lnTo>
                              <a:pt x="251" y="177"/>
                            </a:lnTo>
                            <a:lnTo>
                              <a:pt x="11" y="177"/>
                            </a:lnTo>
                            <a:lnTo>
                              <a:pt x="0" y="89"/>
                            </a:lnTo>
                            <a:lnTo>
                              <a:pt x="11" y="0"/>
                            </a:lnTo>
                            <a:lnTo>
                              <a:pt x="25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9" name=""/>
                      <p:cNvSpPr/>
                      <p:nvPr/>
                    </p:nvSpPr>
                    <p:spPr>
                      <a:xfrm>
                        <a:off x="7873920" y="1982520"/>
                        <a:ext cx="172440" cy="1000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0" name=""/>
                      <p:cNvSpPr/>
                      <p:nvPr/>
                    </p:nvSpPr>
                    <p:spPr>
                      <a:xfrm>
                        <a:off x="7862400" y="2092680"/>
                        <a:ext cx="193680" cy="46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1" name=""/>
                      <p:cNvSpPr/>
                      <p:nvPr/>
                    </p:nvSpPr>
                    <p:spPr>
                      <a:xfrm>
                        <a:off x="7865640" y="2103840"/>
                        <a:ext cx="18684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2" name=""/>
                      <p:cNvSpPr/>
                      <p:nvPr/>
                    </p:nvSpPr>
                    <p:spPr>
                      <a:xfrm>
                        <a:off x="7931880" y="2115000"/>
                        <a:ext cx="52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4">
                            <a:moveTo>
                              <a:pt x="63" y="14"/>
                            </a:moveTo>
                            <a:lnTo>
                              <a:pt x="0" y="14"/>
                            </a:lnTo>
                            <a:lnTo>
                              <a:pt x="2" y="0"/>
                            </a:lnTo>
                            <a:lnTo>
                              <a:pt x="62" y="0"/>
                            </a:lnTo>
                            <a:lnTo>
                              <a:pt x="63" y="1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7931880" y="2126520"/>
                        <a:ext cx="52920" cy="64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4" name=""/>
                      <p:cNvSpPr/>
                      <p:nvPr/>
                    </p:nvSpPr>
                    <p:spPr>
                      <a:xfrm>
                        <a:off x="787248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5" name=""/>
                      <p:cNvSpPr/>
                      <p:nvPr/>
                    </p:nvSpPr>
                    <p:spPr>
                      <a:xfrm>
                        <a:off x="788904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6" name=""/>
                      <p:cNvSpPr/>
                      <p:nvPr/>
                    </p:nvSpPr>
                    <p:spPr>
                      <a:xfrm>
                        <a:off x="790344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7" name=""/>
                      <p:cNvSpPr/>
                      <p:nvPr/>
                    </p:nvSpPr>
                    <p:spPr>
                      <a:xfrm>
                        <a:off x="792216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8" name=""/>
                      <p:cNvSpPr/>
                      <p:nvPr/>
                    </p:nvSpPr>
                    <p:spPr>
                      <a:xfrm>
                        <a:off x="793872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9" name=""/>
                      <p:cNvSpPr/>
                      <p:nvPr/>
                    </p:nvSpPr>
                    <p:spPr>
                      <a:xfrm>
                        <a:off x="795348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0" name=""/>
                      <p:cNvSpPr/>
                      <p:nvPr/>
                    </p:nvSpPr>
                    <p:spPr>
                      <a:xfrm>
                        <a:off x="797148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1" name=""/>
                      <p:cNvSpPr/>
                      <p:nvPr/>
                    </p:nvSpPr>
                    <p:spPr>
                      <a:xfrm>
                        <a:off x="798804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800460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>
                        <a:off x="802116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"/>
                      <p:cNvSpPr/>
                      <p:nvPr/>
                    </p:nvSpPr>
                    <p:spPr>
                      <a:xfrm>
                        <a:off x="803808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5" name=""/>
                      <p:cNvSpPr/>
                      <p:nvPr/>
                    </p:nvSpPr>
                    <p:spPr>
                      <a:xfrm>
                        <a:off x="787896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>
                        <a:off x="789552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7" name=""/>
                      <p:cNvSpPr/>
                      <p:nvPr/>
                    </p:nvSpPr>
                    <p:spPr>
                      <a:xfrm>
                        <a:off x="791388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8" name=""/>
                      <p:cNvSpPr/>
                      <p:nvPr/>
                    </p:nvSpPr>
                    <p:spPr>
                      <a:xfrm>
                        <a:off x="793044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794700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0" name=""/>
                      <p:cNvSpPr/>
                      <p:nvPr/>
                    </p:nvSpPr>
                    <p:spPr>
                      <a:xfrm>
                        <a:off x="796320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1" name=""/>
                      <p:cNvSpPr/>
                      <p:nvPr/>
                    </p:nvSpPr>
                    <p:spPr>
                      <a:xfrm>
                        <a:off x="797832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2" name=""/>
                      <p:cNvSpPr/>
                      <p:nvPr/>
                    </p:nvSpPr>
                    <p:spPr>
                      <a:xfrm>
                        <a:off x="799488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8012880" y="2103840"/>
                        <a:ext cx="180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4" name=""/>
                      <p:cNvSpPr/>
                      <p:nvPr/>
                    </p:nvSpPr>
                    <p:spPr>
                      <a:xfrm>
                        <a:off x="803124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5" name=""/>
                      <p:cNvSpPr/>
                      <p:nvPr/>
                    </p:nvSpPr>
                    <p:spPr>
                      <a:xfrm>
                        <a:off x="8046360" y="2103840"/>
                        <a:ext cx="144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6" name=""/>
                      <p:cNvSpPr/>
                      <p:nvPr/>
                    </p:nvSpPr>
                    <p:spPr>
                      <a:xfrm>
                        <a:off x="7941960" y="2111760"/>
                        <a:ext cx="37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0">
                            <a:moveTo>
                              <a:pt x="0" y="0"/>
                            </a:move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3" y="7"/>
                            </a:lnTo>
                            <a:lnTo>
                              <a:pt x="5" y="9"/>
                            </a:lnTo>
                            <a:lnTo>
                              <a:pt x="10" y="9"/>
                            </a:lnTo>
                            <a:lnTo>
                              <a:pt x="10" y="10"/>
                            </a:lnTo>
                            <a:lnTo>
                              <a:pt x="28" y="10"/>
                            </a:lnTo>
                            <a:lnTo>
                              <a:pt x="28" y="9"/>
                            </a:lnTo>
                            <a:lnTo>
                              <a:pt x="37" y="9"/>
                            </a:lnTo>
                            <a:lnTo>
                              <a:pt x="37" y="7"/>
                            </a:lnTo>
                            <a:lnTo>
                              <a:pt x="44" y="7"/>
                            </a:lnTo>
                            <a:lnTo>
                              <a:pt x="44" y="7"/>
                            </a:lnTo>
                            <a:lnTo>
                              <a:pt x="46" y="7"/>
                            </a:lnTo>
                            <a:lnTo>
                              <a:pt x="4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7" name=""/>
                      <p:cNvSpPr/>
                      <p:nvPr/>
                    </p:nvSpPr>
                    <p:spPr>
                      <a:xfrm>
                        <a:off x="7690320" y="2153880"/>
                        <a:ext cx="10404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6" h="33">
                            <a:moveTo>
                              <a:pt x="25" y="2"/>
                            </a:moveTo>
                            <a:lnTo>
                              <a:pt x="0" y="33"/>
                            </a:lnTo>
                            <a:lnTo>
                              <a:pt x="113" y="33"/>
                            </a:lnTo>
                            <a:lnTo>
                              <a:pt x="126" y="2"/>
                            </a:lnTo>
                            <a:lnTo>
                              <a:pt x="25" y="2"/>
                            </a:lnTo>
                            <a:lnTo>
                              <a:pt x="25" y="0"/>
                            </a:lnTo>
                            <a:lnTo>
                              <a:pt x="25" y="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8" name=""/>
                      <p:cNvSpPr/>
                      <p:nvPr/>
                    </p:nvSpPr>
                    <p:spPr>
                      <a:xfrm>
                        <a:off x="7733160" y="2136240"/>
                        <a:ext cx="9108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9" name=""/>
                      <p:cNvSpPr/>
                      <p:nvPr/>
                    </p:nvSpPr>
                    <p:spPr>
                      <a:xfrm>
                        <a:off x="7768080" y="2155320"/>
                        <a:ext cx="21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24">
                            <a:moveTo>
                              <a:pt x="11" y="0"/>
                            </a:moveTo>
                            <a:lnTo>
                              <a:pt x="25" y="0"/>
                            </a:lnTo>
                            <a:lnTo>
                              <a:pt x="16" y="24"/>
                            </a:lnTo>
                            <a:lnTo>
                              <a:pt x="0" y="24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0" name=""/>
                      <p:cNvSpPr/>
                      <p:nvPr/>
                    </p:nvSpPr>
                    <p:spPr>
                      <a:xfrm>
                        <a:off x="7704720" y="2155320"/>
                        <a:ext cx="644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27">
                            <a:moveTo>
                              <a:pt x="69" y="27"/>
                            </a:moveTo>
                            <a:lnTo>
                              <a:pt x="0" y="27"/>
                            </a:lnTo>
                            <a:lnTo>
                              <a:pt x="18" y="0"/>
                            </a:lnTo>
                            <a:lnTo>
                              <a:pt x="79" y="0"/>
                            </a:lnTo>
                            <a:lnTo>
                              <a:pt x="69" y="27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1" name=""/>
                      <p:cNvSpPr/>
                      <p:nvPr/>
                    </p:nvSpPr>
                    <p:spPr>
                      <a:xfrm>
                        <a:off x="7711560" y="2136240"/>
                        <a:ext cx="1008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22">
                            <a:moveTo>
                              <a:pt x="0" y="22"/>
                            </a:moveTo>
                            <a:lnTo>
                              <a:pt x="25" y="0"/>
                            </a:lnTo>
                            <a:lnTo>
                              <a:pt x="121" y="0"/>
                            </a:lnTo>
                            <a:lnTo>
                              <a:pt x="99" y="22"/>
                            </a:lnTo>
                            <a:lnTo>
                              <a:pt x="0" y="22"/>
                            </a:lnTo>
                            <a:close/>
                          </a:path>
                        </a:pathLst>
                      </a:custGeom>
                      <a:solidFill>
                        <a:srgbClr val="f0f0f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2" name=""/>
                      <p:cNvSpPr/>
                      <p:nvPr/>
                    </p:nvSpPr>
                    <p:spPr>
                      <a:xfrm>
                        <a:off x="7695000" y="2184840"/>
                        <a:ext cx="84240" cy="93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3" name=""/>
                      <p:cNvSpPr/>
                      <p:nvPr/>
                    </p:nvSpPr>
                    <p:spPr>
                      <a:xfrm>
                        <a:off x="7784640" y="2136240"/>
                        <a:ext cx="280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78">
                            <a:moveTo>
                              <a:pt x="0" y="78"/>
                            </a:moveTo>
                            <a:lnTo>
                              <a:pt x="33" y="33"/>
                            </a:lnTo>
                            <a:lnTo>
                              <a:pt x="33" y="0"/>
                            </a:lnTo>
                            <a:lnTo>
                              <a:pt x="13" y="19"/>
                            </a:lnTo>
                            <a:lnTo>
                              <a:pt x="0" y="53"/>
                            </a:lnTo>
                            <a:lnTo>
                              <a:pt x="0" y="78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4" name=""/>
                      <p:cNvSpPr/>
                      <p:nvPr/>
                    </p:nvSpPr>
                    <p:spPr>
                      <a:xfrm>
                        <a:off x="7665120" y="2199600"/>
                        <a:ext cx="12924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41">
                            <a:moveTo>
                              <a:pt x="22" y="0"/>
                            </a:moveTo>
                            <a:lnTo>
                              <a:pt x="0" y="41"/>
                            </a:lnTo>
                            <a:lnTo>
                              <a:pt x="142" y="41"/>
                            </a:lnTo>
                            <a:lnTo>
                              <a:pt x="157" y="0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5" name=""/>
                      <p:cNvSpPr/>
                      <p:nvPr/>
                    </p:nvSpPr>
                    <p:spPr>
                      <a:xfrm>
                        <a:off x="7663680" y="2233080"/>
                        <a:ext cx="1209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5" h="4">
                            <a:moveTo>
                              <a:pt x="0" y="0"/>
                            </a:moveTo>
                            <a:lnTo>
                              <a:pt x="0" y="4"/>
                            </a:lnTo>
                            <a:lnTo>
                              <a:pt x="145" y="4"/>
                            </a:lnTo>
                            <a:lnTo>
                              <a:pt x="14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6" name=""/>
                      <p:cNvSpPr/>
                      <p:nvPr/>
                    </p:nvSpPr>
                    <p:spPr>
                      <a:xfrm>
                        <a:off x="7675200" y="2202480"/>
                        <a:ext cx="1159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32">
                            <a:moveTo>
                              <a:pt x="126" y="32"/>
                            </a:moveTo>
                            <a:lnTo>
                              <a:pt x="0" y="32"/>
                            </a:lnTo>
                            <a:lnTo>
                              <a:pt x="16" y="0"/>
                            </a:lnTo>
                            <a:lnTo>
                              <a:pt x="139" y="0"/>
                            </a:lnTo>
                            <a:lnTo>
                              <a:pt x="126" y="3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7" name=""/>
                      <p:cNvSpPr/>
                      <p:nvPr/>
                    </p:nvSpPr>
                    <p:spPr>
                      <a:xfrm>
                        <a:off x="7759800" y="2207520"/>
                        <a:ext cx="24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19">
                            <a:moveTo>
                              <a:pt x="11" y="0"/>
                            </a:moveTo>
                            <a:lnTo>
                              <a:pt x="30" y="0"/>
                            </a:lnTo>
                            <a:lnTo>
                              <a:pt x="19" y="19"/>
                            </a:lnTo>
                            <a:lnTo>
                              <a:pt x="0" y="19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8" name=""/>
                      <p:cNvSpPr/>
                      <p:nvPr/>
                    </p:nvSpPr>
                    <p:spPr>
                      <a:xfrm>
                        <a:off x="7684920" y="2205720"/>
                        <a:ext cx="7812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25">
                            <a:moveTo>
                              <a:pt x="0" y="20"/>
                            </a:moveTo>
                            <a:lnTo>
                              <a:pt x="13" y="20"/>
                            </a:lnTo>
                            <a:lnTo>
                              <a:pt x="11" y="25"/>
                            </a:lnTo>
                            <a:lnTo>
                              <a:pt x="57" y="25"/>
                            </a:lnTo>
                            <a:lnTo>
                              <a:pt x="60" y="20"/>
                            </a:lnTo>
                            <a:lnTo>
                              <a:pt x="74" y="20"/>
                            </a:lnTo>
                            <a:lnTo>
                              <a:pt x="76" y="14"/>
                            </a:lnTo>
                            <a:lnTo>
                              <a:pt x="85" y="14"/>
                            </a:lnTo>
                            <a:lnTo>
                              <a:pt x="93" y="0"/>
                            </a:lnTo>
                            <a:lnTo>
                              <a:pt x="10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9" name=""/>
                      <p:cNvSpPr/>
                      <p:nvPr/>
                    </p:nvSpPr>
                    <p:spPr>
                      <a:xfrm>
                        <a:off x="7784640" y="2199600"/>
                        <a:ext cx="97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45">
                            <a:moveTo>
                              <a:pt x="3" y="45"/>
                            </a:moveTo>
                            <a:lnTo>
                              <a:pt x="0" y="39"/>
                            </a:lnTo>
                            <a:lnTo>
                              <a:pt x="13" y="0"/>
                            </a:lnTo>
                            <a:lnTo>
                              <a:pt x="13" y="10"/>
                            </a:lnTo>
                            <a:lnTo>
                              <a:pt x="3" y="45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0" name=""/>
                      <p:cNvSpPr/>
                      <p:nvPr/>
                    </p:nvSpPr>
                    <p:spPr>
                      <a:xfrm>
                        <a:off x="8031240" y="2123280"/>
                        <a:ext cx="727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19">
                            <a:moveTo>
                              <a:pt x="68" y="0"/>
                            </a:moveTo>
                            <a:lnTo>
                              <a:pt x="68" y="3"/>
                            </a:lnTo>
                            <a:lnTo>
                              <a:pt x="60" y="3"/>
                            </a:lnTo>
                            <a:lnTo>
                              <a:pt x="60" y="4"/>
                            </a:lnTo>
                            <a:lnTo>
                              <a:pt x="52" y="4"/>
                            </a:lnTo>
                            <a:lnTo>
                              <a:pt x="52" y="6"/>
                            </a:lnTo>
                            <a:lnTo>
                              <a:pt x="48" y="6"/>
                            </a:lnTo>
                            <a:lnTo>
                              <a:pt x="48" y="9"/>
                            </a:lnTo>
                            <a:lnTo>
                              <a:pt x="41" y="9"/>
                            </a:lnTo>
                            <a:lnTo>
                              <a:pt x="41" y="11"/>
                            </a:lnTo>
                            <a:lnTo>
                              <a:pt x="26" y="11"/>
                            </a:lnTo>
                            <a:lnTo>
                              <a:pt x="26" y="14"/>
                            </a:lnTo>
                            <a:lnTo>
                              <a:pt x="20" y="14"/>
                            </a:lnTo>
                            <a:lnTo>
                              <a:pt x="20" y="11"/>
                            </a:lnTo>
                            <a:lnTo>
                              <a:pt x="7" y="11"/>
                            </a:lnTo>
                            <a:lnTo>
                              <a:pt x="7" y="9"/>
                            </a:lnTo>
                            <a:lnTo>
                              <a:pt x="0" y="9"/>
                            </a:lnTo>
                            <a:lnTo>
                              <a:pt x="0" y="11"/>
                            </a:lnTo>
                            <a:lnTo>
                              <a:pt x="5" y="11"/>
                            </a:lnTo>
                            <a:lnTo>
                              <a:pt x="5" y="14"/>
                            </a:lnTo>
                            <a:lnTo>
                              <a:pt x="8" y="14"/>
                            </a:lnTo>
                            <a:lnTo>
                              <a:pt x="8" y="16"/>
                            </a:lnTo>
                            <a:lnTo>
                              <a:pt x="19" y="16"/>
                            </a:lnTo>
                            <a:lnTo>
                              <a:pt x="19" y="19"/>
                            </a:lnTo>
                            <a:lnTo>
                              <a:pt x="27" y="19"/>
                            </a:lnTo>
                            <a:lnTo>
                              <a:pt x="27" y="16"/>
                            </a:lnTo>
                            <a:lnTo>
                              <a:pt x="38" y="16"/>
                            </a:lnTo>
                            <a:lnTo>
                              <a:pt x="38" y="14"/>
                            </a:lnTo>
                            <a:lnTo>
                              <a:pt x="45" y="14"/>
                            </a:lnTo>
                            <a:lnTo>
                              <a:pt x="45" y="11"/>
                            </a:lnTo>
                            <a:lnTo>
                              <a:pt x="51" y="11"/>
                            </a:lnTo>
                            <a:lnTo>
                              <a:pt x="51" y="9"/>
                            </a:lnTo>
                            <a:lnTo>
                              <a:pt x="58" y="9"/>
                            </a:lnTo>
                            <a:lnTo>
                              <a:pt x="58" y="6"/>
                            </a:lnTo>
                            <a:lnTo>
                              <a:pt x="68" y="6"/>
                            </a:lnTo>
                            <a:lnTo>
                              <a:pt x="68" y="4"/>
                            </a:lnTo>
                            <a:lnTo>
                              <a:pt x="87" y="4"/>
                            </a:lnTo>
                            <a:lnTo>
                              <a:pt x="87" y="3"/>
                            </a:lnTo>
                            <a:lnTo>
                              <a:pt x="83" y="3"/>
                            </a:lnTo>
                            <a:lnTo>
                              <a:pt x="83" y="0"/>
                            </a:lnTo>
                            <a:lnTo>
                              <a:pt x="6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1" name=""/>
                      <p:cNvSpPr/>
                      <p:nvPr/>
                    </p:nvSpPr>
                    <p:spPr>
                      <a:xfrm>
                        <a:off x="8099280" y="2142720"/>
                        <a:ext cx="3240" cy="6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2" name=""/>
                      <p:cNvSpPr/>
                      <p:nvPr/>
                    </p:nvSpPr>
                    <p:spPr>
                      <a:xfrm>
                        <a:off x="8099280" y="2142720"/>
                        <a:ext cx="4680" cy="46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3" name=""/>
                      <p:cNvSpPr/>
                      <p:nvPr/>
                    </p:nvSpPr>
                    <p:spPr>
                      <a:xfrm>
                        <a:off x="8099280" y="2139120"/>
                        <a:ext cx="468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4" name=""/>
                      <p:cNvSpPr/>
                      <p:nvPr/>
                    </p:nvSpPr>
                    <p:spPr>
                      <a:xfrm>
                        <a:off x="8004600" y="2128320"/>
                        <a:ext cx="363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11">
                            <a:moveTo>
                              <a:pt x="15" y="0"/>
                            </a:moveTo>
                            <a:lnTo>
                              <a:pt x="15" y="1"/>
                            </a:lnTo>
                            <a:lnTo>
                              <a:pt x="9" y="1"/>
                            </a:lnTo>
                            <a:lnTo>
                              <a:pt x="9" y="4"/>
                            </a:lnTo>
                            <a:lnTo>
                              <a:pt x="3" y="4"/>
                            </a:lnTo>
                            <a:lnTo>
                              <a:pt x="3" y="8"/>
                            </a:lnTo>
                            <a:lnTo>
                              <a:pt x="0" y="8"/>
                            </a:lnTo>
                            <a:lnTo>
                              <a:pt x="0" y="11"/>
                            </a:lnTo>
                            <a:lnTo>
                              <a:pt x="6" y="11"/>
                            </a:lnTo>
                            <a:lnTo>
                              <a:pt x="6" y="8"/>
                            </a:lnTo>
                            <a:lnTo>
                              <a:pt x="11" y="8"/>
                            </a:lnTo>
                            <a:lnTo>
                              <a:pt x="11" y="4"/>
                            </a:lnTo>
                            <a:lnTo>
                              <a:pt x="44" y="4"/>
                            </a:lnTo>
                            <a:lnTo>
                              <a:pt x="44" y="1"/>
                            </a:lnTo>
                            <a:lnTo>
                              <a:pt x="38" y="1"/>
                            </a:lnTo>
                            <a:lnTo>
                              <a:pt x="38" y="0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5" name=""/>
                      <p:cNvSpPr/>
                      <p:nvPr/>
                    </p:nvSpPr>
                    <p:spPr>
                      <a:xfrm>
                        <a:off x="8094600" y="2128320"/>
                        <a:ext cx="144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20">
                            <a:moveTo>
                              <a:pt x="0" y="0"/>
                            </a:moveTo>
                            <a:lnTo>
                              <a:pt x="0" y="1"/>
                            </a:lnTo>
                            <a:lnTo>
                              <a:pt x="9" y="1"/>
                            </a:lnTo>
                            <a:lnTo>
                              <a:pt x="9" y="3"/>
                            </a:lnTo>
                            <a:lnTo>
                              <a:pt x="13" y="3"/>
                            </a:lnTo>
                            <a:lnTo>
                              <a:pt x="15" y="5"/>
                            </a:lnTo>
                            <a:lnTo>
                              <a:pt x="16" y="10"/>
                            </a:lnTo>
                            <a:lnTo>
                              <a:pt x="15" y="10"/>
                            </a:lnTo>
                            <a:lnTo>
                              <a:pt x="15" y="17"/>
                            </a:lnTo>
                            <a:lnTo>
                              <a:pt x="13" y="17"/>
                            </a:lnTo>
                            <a:lnTo>
                              <a:pt x="13" y="20"/>
                            </a:lnTo>
                            <a:lnTo>
                              <a:pt x="15" y="20"/>
                            </a:lnTo>
                            <a:lnTo>
                              <a:pt x="15" y="17"/>
                            </a:lnTo>
                            <a:lnTo>
                              <a:pt x="16" y="17"/>
                            </a:lnTo>
                            <a:lnTo>
                              <a:pt x="16" y="11"/>
                            </a:lnTo>
                            <a:lnTo>
                              <a:pt x="19" y="11"/>
                            </a:lnTo>
                            <a:lnTo>
                              <a:pt x="19" y="4"/>
                            </a:lnTo>
                            <a:lnTo>
                              <a:pt x="16" y="4"/>
                            </a:lnTo>
                            <a:lnTo>
                              <a:pt x="15" y="1"/>
                            </a:lnTo>
                            <a:lnTo>
                              <a:pt x="13" y="1"/>
                            </a:lnTo>
                            <a:lnTo>
                              <a:pt x="13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6" name=""/>
                      <p:cNvSpPr/>
                      <p:nvPr/>
                    </p:nvSpPr>
                    <p:spPr>
                      <a:xfrm>
                        <a:off x="8092800" y="2145960"/>
                        <a:ext cx="648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7" name=""/>
                      <p:cNvSpPr/>
                      <p:nvPr/>
                    </p:nvSpPr>
                    <p:spPr>
                      <a:xfrm>
                        <a:off x="7993440" y="2129760"/>
                        <a:ext cx="144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8">
                            <a:moveTo>
                              <a:pt x="14" y="0"/>
                            </a:moveTo>
                            <a:lnTo>
                              <a:pt x="14" y="3"/>
                            </a:lnTo>
                            <a:lnTo>
                              <a:pt x="11" y="3"/>
                            </a:lnTo>
                            <a:lnTo>
                              <a:pt x="11" y="4"/>
                            </a:lnTo>
                            <a:lnTo>
                              <a:pt x="8" y="4"/>
                            </a:lnTo>
                            <a:lnTo>
                              <a:pt x="8" y="7"/>
                            </a:lnTo>
                            <a:lnTo>
                              <a:pt x="6" y="7"/>
                            </a:lnTo>
                            <a:lnTo>
                              <a:pt x="6" y="10"/>
                            </a:lnTo>
                            <a:lnTo>
                              <a:pt x="3" y="10"/>
                            </a:lnTo>
                            <a:lnTo>
                              <a:pt x="3" y="13"/>
                            </a:lnTo>
                            <a:lnTo>
                              <a:pt x="0" y="15"/>
                            </a:lnTo>
                            <a:lnTo>
                              <a:pt x="0" y="18"/>
                            </a:lnTo>
                            <a:lnTo>
                              <a:pt x="3" y="15"/>
                            </a:lnTo>
                            <a:lnTo>
                              <a:pt x="3" y="13"/>
                            </a:lnTo>
                            <a:lnTo>
                              <a:pt x="6" y="13"/>
                            </a:lnTo>
                            <a:lnTo>
                              <a:pt x="6" y="10"/>
                            </a:lnTo>
                            <a:lnTo>
                              <a:pt x="8" y="10"/>
                            </a:lnTo>
                            <a:lnTo>
                              <a:pt x="8" y="7"/>
                            </a:lnTo>
                            <a:lnTo>
                              <a:pt x="11" y="7"/>
                            </a:lnTo>
                            <a:lnTo>
                              <a:pt x="11" y="4"/>
                            </a:lnTo>
                            <a:lnTo>
                              <a:pt x="16" y="4"/>
                            </a:lnTo>
                            <a:lnTo>
                              <a:pt x="16" y="3"/>
                            </a:lnTo>
                            <a:lnTo>
                              <a:pt x="17" y="3"/>
                            </a:lnTo>
                            <a:lnTo>
                              <a:pt x="17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8094600" y="2145960"/>
                        <a:ext cx="4680" cy="6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8094600" y="2145960"/>
                        <a:ext cx="7920" cy="6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0" name=""/>
                      <p:cNvSpPr/>
                      <p:nvPr/>
                    </p:nvSpPr>
                    <p:spPr>
                      <a:xfrm>
                        <a:off x="8094600" y="2144520"/>
                        <a:ext cx="7920" cy="79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1" name=""/>
                      <p:cNvSpPr/>
                      <p:nvPr/>
                    </p:nvSpPr>
                    <p:spPr>
                      <a:xfrm>
                        <a:off x="7993440" y="2123280"/>
                        <a:ext cx="1105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28">
                            <a:moveTo>
                              <a:pt x="123" y="26"/>
                            </a:moveTo>
                            <a:lnTo>
                              <a:pt x="130" y="19"/>
                            </a:lnTo>
                            <a:lnTo>
                              <a:pt x="130" y="17"/>
                            </a:lnTo>
                            <a:lnTo>
                              <a:pt x="131" y="16"/>
                            </a:lnTo>
                            <a:lnTo>
                              <a:pt x="133" y="16"/>
                            </a:lnTo>
                            <a:lnTo>
                              <a:pt x="133" y="14"/>
                            </a:lnTo>
                            <a:lnTo>
                              <a:pt x="133" y="14"/>
                            </a:lnTo>
                            <a:lnTo>
                              <a:pt x="133" y="11"/>
                            </a:lnTo>
                            <a:lnTo>
                              <a:pt x="134" y="10"/>
                            </a:lnTo>
                            <a:lnTo>
                              <a:pt x="134" y="6"/>
                            </a:lnTo>
                            <a:lnTo>
                              <a:pt x="131" y="3"/>
                            </a:lnTo>
                            <a:lnTo>
                              <a:pt x="130" y="3"/>
                            </a:lnTo>
                            <a:lnTo>
                              <a:pt x="129" y="1"/>
                            </a:lnTo>
                            <a:lnTo>
                              <a:pt x="127" y="1"/>
                            </a:lnTo>
                            <a:lnTo>
                              <a:pt x="124" y="0"/>
                            </a:lnTo>
                            <a:lnTo>
                              <a:pt x="111" y="0"/>
                            </a:lnTo>
                            <a:lnTo>
                              <a:pt x="108" y="1"/>
                            </a:lnTo>
                            <a:lnTo>
                              <a:pt x="104" y="1"/>
                            </a:lnTo>
                            <a:lnTo>
                              <a:pt x="102" y="3"/>
                            </a:lnTo>
                            <a:lnTo>
                              <a:pt x="98" y="3"/>
                            </a:lnTo>
                            <a:lnTo>
                              <a:pt x="95" y="3"/>
                            </a:lnTo>
                            <a:lnTo>
                              <a:pt x="93" y="3"/>
                            </a:lnTo>
                            <a:lnTo>
                              <a:pt x="90" y="4"/>
                            </a:lnTo>
                            <a:lnTo>
                              <a:pt x="86" y="4"/>
                            </a:lnTo>
                            <a:lnTo>
                              <a:pt x="83" y="6"/>
                            </a:lnTo>
                            <a:lnTo>
                              <a:pt x="73" y="6"/>
                            </a:lnTo>
                            <a:lnTo>
                              <a:pt x="71" y="7"/>
                            </a:lnTo>
                            <a:lnTo>
                              <a:pt x="67" y="6"/>
                            </a:lnTo>
                            <a:lnTo>
                              <a:pt x="58" y="6"/>
                            </a:lnTo>
                            <a:lnTo>
                              <a:pt x="55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7" y="3"/>
                            </a:lnTo>
                            <a:lnTo>
                              <a:pt x="26" y="3"/>
                            </a:lnTo>
                            <a:lnTo>
                              <a:pt x="25" y="3"/>
                            </a:lnTo>
                            <a:lnTo>
                              <a:pt x="22" y="3"/>
                            </a:lnTo>
                            <a:lnTo>
                              <a:pt x="20" y="4"/>
                            </a:lnTo>
                            <a:lnTo>
                              <a:pt x="16" y="4"/>
                            </a:lnTo>
                            <a:lnTo>
                              <a:pt x="14" y="6"/>
                            </a:lnTo>
                            <a:lnTo>
                              <a:pt x="13" y="7"/>
                            </a:lnTo>
                            <a:lnTo>
                              <a:pt x="11" y="7"/>
                            </a:lnTo>
                            <a:lnTo>
                              <a:pt x="10" y="9"/>
                            </a:lnTo>
                            <a:lnTo>
                              <a:pt x="8" y="9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6" y="11"/>
                            </a:lnTo>
                            <a:lnTo>
                              <a:pt x="4" y="11"/>
                            </a:lnTo>
                            <a:lnTo>
                              <a:pt x="3" y="13"/>
                            </a:lnTo>
                            <a:lnTo>
                              <a:pt x="3" y="13"/>
                            </a:lnTo>
                            <a:lnTo>
                              <a:pt x="3" y="14"/>
                            </a:lnTo>
                            <a:lnTo>
                              <a:pt x="1" y="14"/>
                            </a:lnTo>
                            <a:lnTo>
                              <a:pt x="0" y="14"/>
                            </a:lnTo>
                            <a:lnTo>
                              <a:pt x="1" y="14"/>
                            </a:lnTo>
                            <a:lnTo>
                              <a:pt x="1" y="14"/>
                            </a:lnTo>
                            <a:lnTo>
                              <a:pt x="3" y="14"/>
                            </a:lnTo>
                            <a:lnTo>
                              <a:pt x="3" y="13"/>
                            </a:lnTo>
                            <a:lnTo>
                              <a:pt x="4" y="13"/>
                            </a:lnTo>
                            <a:lnTo>
                              <a:pt x="6" y="11"/>
                            </a:lnTo>
                            <a:lnTo>
                              <a:pt x="7" y="11"/>
                            </a:lnTo>
                            <a:lnTo>
                              <a:pt x="7" y="10"/>
                            </a:lnTo>
                            <a:lnTo>
                              <a:pt x="8" y="10"/>
                            </a:lnTo>
                            <a:lnTo>
                              <a:pt x="10" y="9"/>
                            </a:lnTo>
                            <a:lnTo>
                              <a:pt x="13" y="9"/>
                            </a:lnTo>
                            <a:lnTo>
                              <a:pt x="13" y="7"/>
                            </a:lnTo>
                            <a:lnTo>
                              <a:pt x="16" y="6"/>
                            </a:lnTo>
                            <a:lnTo>
                              <a:pt x="19" y="6"/>
                            </a:lnTo>
                            <a:lnTo>
                              <a:pt x="20" y="4"/>
                            </a:lnTo>
                            <a:lnTo>
                              <a:pt x="23" y="4"/>
                            </a:lnTo>
                            <a:lnTo>
                              <a:pt x="26" y="3"/>
                            </a:lnTo>
                            <a:lnTo>
                              <a:pt x="45" y="3"/>
                            </a:lnTo>
                            <a:lnTo>
                              <a:pt x="48" y="4"/>
                            </a:lnTo>
                            <a:lnTo>
                              <a:pt x="51" y="4"/>
                            </a:lnTo>
                            <a:lnTo>
                              <a:pt x="54" y="6"/>
                            </a:lnTo>
                            <a:lnTo>
                              <a:pt x="57" y="7"/>
                            </a:lnTo>
                            <a:lnTo>
                              <a:pt x="64" y="7"/>
                            </a:lnTo>
                            <a:lnTo>
                              <a:pt x="67" y="9"/>
                            </a:lnTo>
                            <a:lnTo>
                              <a:pt x="74" y="9"/>
                            </a:lnTo>
                            <a:lnTo>
                              <a:pt x="76" y="7"/>
                            </a:lnTo>
                            <a:lnTo>
                              <a:pt x="83" y="7"/>
                            </a:lnTo>
                            <a:lnTo>
                              <a:pt x="88" y="6"/>
                            </a:lnTo>
                            <a:lnTo>
                              <a:pt x="90" y="6"/>
                            </a:lnTo>
                            <a:lnTo>
                              <a:pt x="93" y="4"/>
                            </a:lnTo>
                            <a:lnTo>
                              <a:pt x="95" y="4"/>
                            </a:lnTo>
                            <a:lnTo>
                              <a:pt x="98" y="3"/>
                            </a:lnTo>
                            <a:lnTo>
                              <a:pt x="102" y="3"/>
                            </a:lnTo>
                            <a:lnTo>
                              <a:pt x="104" y="3"/>
                            </a:lnTo>
                            <a:lnTo>
                              <a:pt x="111" y="3"/>
                            </a:lnTo>
                            <a:lnTo>
                              <a:pt x="114" y="1"/>
                            </a:lnTo>
                            <a:lnTo>
                              <a:pt x="123" y="1"/>
                            </a:lnTo>
                            <a:lnTo>
                              <a:pt x="124" y="3"/>
                            </a:lnTo>
                            <a:lnTo>
                              <a:pt x="127" y="3"/>
                            </a:lnTo>
                            <a:lnTo>
                              <a:pt x="129" y="3"/>
                            </a:lnTo>
                            <a:lnTo>
                              <a:pt x="130" y="3"/>
                            </a:lnTo>
                            <a:lnTo>
                              <a:pt x="133" y="6"/>
                            </a:lnTo>
                            <a:lnTo>
                              <a:pt x="133" y="7"/>
                            </a:lnTo>
                            <a:lnTo>
                              <a:pt x="133" y="9"/>
                            </a:lnTo>
                            <a:lnTo>
                              <a:pt x="133" y="10"/>
                            </a:lnTo>
                            <a:lnTo>
                              <a:pt x="133" y="10"/>
                            </a:lnTo>
                            <a:lnTo>
                              <a:pt x="133" y="14"/>
                            </a:lnTo>
                            <a:lnTo>
                              <a:pt x="131" y="14"/>
                            </a:lnTo>
                            <a:lnTo>
                              <a:pt x="131" y="16"/>
                            </a:lnTo>
                            <a:lnTo>
                              <a:pt x="127" y="20"/>
                            </a:lnTo>
                            <a:lnTo>
                              <a:pt x="127" y="22"/>
                            </a:lnTo>
                            <a:lnTo>
                              <a:pt x="127" y="22"/>
                            </a:lnTo>
                            <a:lnTo>
                              <a:pt x="126" y="23"/>
                            </a:lnTo>
                            <a:lnTo>
                              <a:pt x="126" y="25"/>
                            </a:lnTo>
                            <a:lnTo>
                              <a:pt x="124" y="25"/>
                            </a:lnTo>
                            <a:lnTo>
                              <a:pt x="121" y="28"/>
                            </a:lnTo>
                            <a:lnTo>
                              <a:pt x="123" y="26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2" name=""/>
                      <p:cNvSpPr/>
                      <p:nvPr/>
                    </p:nvSpPr>
                    <p:spPr>
                      <a:xfrm>
                        <a:off x="7801200" y="2225160"/>
                        <a:ext cx="298080" cy="79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7801200" y="2131200"/>
                        <a:ext cx="298080" cy="9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1" h="121">
                            <a:moveTo>
                              <a:pt x="0" y="121"/>
                            </a:moveTo>
                            <a:lnTo>
                              <a:pt x="51" y="0"/>
                            </a:lnTo>
                            <a:lnTo>
                              <a:pt x="344" y="0"/>
                            </a:lnTo>
                            <a:lnTo>
                              <a:pt x="361" y="121"/>
                            </a:lnTo>
                            <a:lnTo>
                              <a:pt x="0" y="121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7819200" y="2142720"/>
                        <a:ext cx="27000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7" h="98">
                            <a:moveTo>
                              <a:pt x="258" y="97"/>
                            </a:moveTo>
                            <a:lnTo>
                              <a:pt x="254" y="35"/>
                            </a:lnTo>
                            <a:lnTo>
                              <a:pt x="92" y="35"/>
                            </a:lnTo>
                            <a:lnTo>
                              <a:pt x="72" y="98"/>
                            </a:lnTo>
                            <a:lnTo>
                              <a:pt x="0" y="98"/>
                            </a:lnTo>
                            <a:lnTo>
                              <a:pt x="38" y="0"/>
                            </a:lnTo>
                            <a:lnTo>
                              <a:pt x="312" y="0"/>
                            </a:lnTo>
                            <a:lnTo>
                              <a:pt x="327" y="98"/>
                            </a:lnTo>
                            <a:lnTo>
                              <a:pt x="258" y="98"/>
                            </a:lnTo>
                            <a:lnTo>
                              <a:pt x="258" y="97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8067960" y="2145960"/>
                        <a:ext cx="2664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44">
                            <a:moveTo>
                              <a:pt x="31" y="0"/>
                            </a:moveTo>
                            <a:lnTo>
                              <a:pt x="34" y="2"/>
                            </a:lnTo>
                            <a:lnTo>
                              <a:pt x="9" y="37"/>
                            </a:lnTo>
                            <a:lnTo>
                              <a:pt x="0" y="44"/>
                            </a:lnTo>
                            <a:lnTo>
                              <a:pt x="6" y="34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6" name=""/>
                    <p:cNvGrpSpPr/>
                    <p:nvPr/>
                  </p:nvGrpSpPr>
                  <p:grpSpPr>
                    <a:xfrm>
                      <a:off x="7682760" y="846000"/>
                      <a:ext cx="142200" cy="688320"/>
                      <a:chOff x="7682760" y="846000"/>
                      <a:chExt cx="142200" cy="688320"/>
                    </a:xfrm>
                  </p:grpSpPr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7727040" y="955440"/>
                        <a:ext cx="4680" cy="8280"/>
                      </a:xfrm>
                      <a:prstGeom prst="rect">
                        <a:avLst/>
                      </a:prstGeom>
                      <a:solidFill>
                        <a:srgbClr val="f0602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8" name=""/>
                      <p:cNvSpPr/>
                      <p:nvPr/>
                    </p:nvSpPr>
                    <p:spPr>
                      <a:xfrm>
                        <a:off x="7732080" y="955440"/>
                        <a:ext cx="3240" cy="8280"/>
                      </a:xfrm>
                      <a:prstGeom prst="rect">
                        <a:avLst/>
                      </a:prstGeom>
                      <a:solidFill>
                        <a:srgbClr val="c0401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9" name=""/>
                      <p:cNvSpPr/>
                      <p:nvPr/>
                    </p:nvSpPr>
                    <p:spPr>
                      <a:xfrm>
                        <a:off x="7736760" y="955440"/>
                        <a:ext cx="4680" cy="8280"/>
                      </a:xfrm>
                      <a:prstGeom prst="rect">
                        <a:avLst/>
                      </a:prstGeom>
                      <a:solidFill>
                        <a:srgbClr val="80301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0" name=""/>
                      <p:cNvSpPr/>
                      <p:nvPr/>
                    </p:nvSpPr>
                    <p:spPr>
                      <a:xfrm>
                        <a:off x="7743600" y="955440"/>
                        <a:ext cx="4680" cy="8280"/>
                      </a:xfrm>
                      <a:prstGeom prst="rect">
                        <a:avLst/>
                      </a:prstGeom>
                      <a:solidFill>
                        <a:srgbClr val="805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1" name=""/>
                      <p:cNvSpPr/>
                      <p:nvPr/>
                    </p:nvSpPr>
                    <p:spPr>
                      <a:xfrm>
                        <a:off x="7748280" y="955440"/>
                        <a:ext cx="3240" cy="8280"/>
                      </a:xfrm>
                      <a:prstGeom prst="rect">
                        <a:avLst/>
                      </a:prstGeom>
                      <a:solidFill>
                        <a:srgbClr val="c08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2" name=""/>
                      <p:cNvSpPr/>
                      <p:nvPr/>
                    </p:nvSpPr>
                    <p:spPr>
                      <a:xfrm>
                        <a:off x="7752960" y="955440"/>
                        <a:ext cx="4680" cy="8280"/>
                      </a:xfrm>
                      <a:prstGeom prst="rect">
                        <a:avLst/>
                      </a:prstGeom>
                      <a:solidFill>
                        <a:srgbClr val="50808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3" name=""/>
                      <p:cNvSpPr/>
                      <p:nvPr/>
                    </p:nvSpPr>
                    <p:spPr>
                      <a:xfrm>
                        <a:off x="7759800" y="955440"/>
                        <a:ext cx="3240" cy="8280"/>
                      </a:xfrm>
                      <a:prstGeom prst="rect">
                        <a:avLst/>
                      </a:prstGeom>
                      <a:solidFill>
                        <a:srgbClr val="00c0a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4" name=""/>
                      <p:cNvSpPr/>
                      <p:nvPr/>
                    </p:nvSpPr>
                    <p:spPr>
                      <a:xfrm>
                        <a:off x="7723800" y="1068840"/>
                        <a:ext cx="6372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50">
                            <a:moveTo>
                              <a:pt x="0" y="19"/>
                            </a:moveTo>
                            <a:lnTo>
                              <a:pt x="46" y="50"/>
                            </a:lnTo>
                            <a:lnTo>
                              <a:pt x="78" y="27"/>
                            </a:lnTo>
                            <a:lnTo>
                              <a:pt x="37" y="0"/>
                            </a:lnTo>
                            <a:lnTo>
                              <a:pt x="0" y="19"/>
                            </a:lnTo>
                            <a:close/>
                          </a:path>
                        </a:pathLst>
                      </a:custGeom>
                      <a:solidFill>
                        <a:srgbClr val="80301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5" name=""/>
                      <p:cNvSpPr/>
                      <p:nvPr/>
                    </p:nvSpPr>
                    <p:spPr>
                      <a:xfrm>
                        <a:off x="7743600" y="861840"/>
                        <a:ext cx="43920" cy="37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457">
                            <a:moveTo>
                              <a:pt x="29" y="0"/>
                            </a:moveTo>
                            <a:lnTo>
                              <a:pt x="0" y="457"/>
                            </a:lnTo>
                            <a:lnTo>
                              <a:pt x="13" y="408"/>
                            </a:lnTo>
                            <a:lnTo>
                              <a:pt x="54" y="199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805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6" name=""/>
                      <p:cNvSpPr/>
                      <p:nvPr/>
                    </p:nvSpPr>
                    <p:spPr>
                      <a:xfrm>
                        <a:off x="7704000" y="846000"/>
                        <a:ext cx="61920" cy="38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478">
                            <a:moveTo>
                              <a:pt x="46" y="478"/>
                            </a:moveTo>
                            <a:lnTo>
                              <a:pt x="0" y="0"/>
                            </a:lnTo>
                            <a:lnTo>
                              <a:pt x="76" y="21"/>
                            </a:lnTo>
                            <a:lnTo>
                              <a:pt x="46" y="478"/>
                            </a:lnTo>
                            <a:close/>
                          </a:path>
                        </a:pathLst>
                      </a:custGeom>
                      <a:solidFill>
                        <a:srgbClr val="c08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7" name=""/>
                      <p:cNvSpPr/>
                      <p:nvPr/>
                    </p:nvSpPr>
                    <p:spPr>
                      <a:xfrm>
                        <a:off x="7682760" y="1083600"/>
                        <a:ext cx="77040" cy="45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57">
                            <a:moveTo>
                              <a:pt x="0" y="497"/>
                            </a:moveTo>
                            <a:lnTo>
                              <a:pt x="50" y="0"/>
                            </a:lnTo>
                            <a:lnTo>
                              <a:pt x="95" y="31"/>
                            </a:lnTo>
                            <a:lnTo>
                              <a:pt x="95" y="557"/>
                            </a:lnTo>
                            <a:lnTo>
                              <a:pt x="87" y="551"/>
                            </a:lnTo>
                            <a:lnTo>
                              <a:pt x="88" y="61"/>
                            </a:lnTo>
                            <a:lnTo>
                              <a:pt x="56" y="36"/>
                            </a:lnTo>
                            <a:lnTo>
                              <a:pt x="8" y="504"/>
                            </a:lnTo>
                            <a:lnTo>
                              <a:pt x="0" y="497"/>
                            </a:lnTo>
                            <a:close/>
                          </a:path>
                        </a:pathLst>
                      </a:custGeom>
                      <a:solidFill>
                        <a:srgbClr val="f0602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8" name=""/>
                      <p:cNvSpPr/>
                      <p:nvPr/>
                    </p:nvSpPr>
                    <p:spPr>
                      <a:xfrm>
                        <a:off x="7761240" y="1088280"/>
                        <a:ext cx="63720" cy="44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551">
                            <a:moveTo>
                              <a:pt x="0" y="24"/>
                            </a:moveTo>
                            <a:lnTo>
                              <a:pt x="31" y="0"/>
                            </a:lnTo>
                            <a:lnTo>
                              <a:pt x="79" y="497"/>
                            </a:lnTo>
                            <a:lnTo>
                              <a:pt x="70" y="504"/>
                            </a:lnTo>
                            <a:lnTo>
                              <a:pt x="26" y="37"/>
                            </a:lnTo>
                            <a:lnTo>
                              <a:pt x="9" y="56"/>
                            </a:lnTo>
                            <a:lnTo>
                              <a:pt x="7" y="545"/>
                            </a:lnTo>
                            <a:lnTo>
                              <a:pt x="0" y="551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c0401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9" name=""/>
                      <p:cNvSpPr/>
                      <p:nvPr/>
                    </p:nvSpPr>
                    <p:spPr>
                      <a:xfrm>
                        <a:off x="7763040" y="1138320"/>
                        <a:ext cx="56880" cy="34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423">
                            <a:moveTo>
                              <a:pt x="0" y="0"/>
                            </a:moveTo>
                            <a:lnTo>
                              <a:pt x="36" y="58"/>
                            </a:lnTo>
                            <a:lnTo>
                              <a:pt x="0" y="170"/>
                            </a:lnTo>
                            <a:lnTo>
                              <a:pt x="53" y="215"/>
                            </a:lnTo>
                            <a:lnTo>
                              <a:pt x="0" y="338"/>
                            </a:lnTo>
                            <a:lnTo>
                              <a:pt x="69" y="372"/>
                            </a:lnTo>
                            <a:lnTo>
                              <a:pt x="0" y="42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0" name=""/>
                      <p:cNvSpPr/>
                      <p:nvPr/>
                    </p:nvSpPr>
                    <p:spPr>
                      <a:xfrm>
                        <a:off x="7763040" y="1122480"/>
                        <a:ext cx="48960" cy="35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444">
                            <a:moveTo>
                              <a:pt x="28" y="0"/>
                            </a:moveTo>
                            <a:lnTo>
                              <a:pt x="0" y="106"/>
                            </a:lnTo>
                            <a:lnTo>
                              <a:pt x="42" y="157"/>
                            </a:lnTo>
                            <a:lnTo>
                              <a:pt x="0" y="274"/>
                            </a:lnTo>
                            <a:lnTo>
                              <a:pt x="58" y="315"/>
                            </a:lnTo>
                            <a:lnTo>
                              <a:pt x="0" y="444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1" name=""/>
                      <p:cNvSpPr/>
                      <p:nvPr/>
                    </p:nvSpPr>
                    <p:spPr>
                      <a:xfrm>
                        <a:off x="7691040" y="1122480"/>
                        <a:ext cx="66600" cy="36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452">
                            <a:moveTo>
                              <a:pt x="38" y="0"/>
                            </a:moveTo>
                            <a:lnTo>
                              <a:pt x="80" y="112"/>
                            </a:lnTo>
                            <a:lnTo>
                              <a:pt x="22" y="160"/>
                            </a:lnTo>
                            <a:lnTo>
                              <a:pt x="80" y="282"/>
                            </a:lnTo>
                            <a:lnTo>
                              <a:pt x="7" y="320"/>
                            </a:lnTo>
                            <a:lnTo>
                              <a:pt x="80" y="452"/>
                            </a:lnTo>
                            <a:lnTo>
                              <a:pt x="0" y="40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>
                        <a:off x="7691040" y="1144800"/>
                        <a:ext cx="66600" cy="29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371">
                            <a:moveTo>
                              <a:pt x="80" y="0"/>
                            </a:moveTo>
                            <a:lnTo>
                              <a:pt x="31" y="53"/>
                            </a:lnTo>
                            <a:lnTo>
                              <a:pt x="80" y="169"/>
                            </a:lnTo>
                            <a:lnTo>
                              <a:pt x="15" y="211"/>
                            </a:lnTo>
                            <a:lnTo>
                              <a:pt x="80" y="337"/>
                            </a:lnTo>
                            <a:lnTo>
                              <a:pt x="0" y="371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3" name=""/>
                      <p:cNvSpPr/>
                      <p:nvPr/>
                    </p:nvSpPr>
                    <p:spPr>
                      <a:xfrm>
                        <a:off x="7713720" y="866880"/>
                        <a:ext cx="43920" cy="20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60">
                            <a:moveTo>
                              <a:pt x="0" y="0"/>
                            </a:moveTo>
                            <a:lnTo>
                              <a:pt x="23" y="249"/>
                            </a:lnTo>
                            <a:lnTo>
                              <a:pt x="36" y="260"/>
                            </a:lnTo>
                            <a:lnTo>
                              <a:pt x="52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c0a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4" name=""/>
                      <p:cNvSpPr/>
                      <p:nvPr/>
                    </p:nvSpPr>
                    <p:spPr>
                      <a:xfrm>
                        <a:off x="7713720" y="870120"/>
                        <a:ext cx="43920" cy="20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6">
                            <a:moveTo>
                              <a:pt x="0" y="0"/>
                            </a:moveTo>
                            <a:lnTo>
                              <a:pt x="23" y="246"/>
                            </a:lnTo>
                            <a:lnTo>
                              <a:pt x="38" y="256"/>
                            </a:lnTo>
                            <a:lnTo>
                              <a:pt x="5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0808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25" name=""/>
                    <p:cNvSpPr/>
                    <p:nvPr/>
                  </p:nvSpPr>
                  <p:spPr>
                    <a:xfrm>
                      <a:off x="6864120" y="2357280"/>
                      <a:ext cx="2142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電子地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6" name=""/>
                    <p:cNvGrpSpPr/>
                    <p:nvPr/>
                  </p:nvGrpSpPr>
                  <p:grpSpPr>
                    <a:xfrm>
                      <a:off x="6509520" y="1501560"/>
                      <a:ext cx="469080" cy="309240"/>
                      <a:chOff x="6509520" y="1501560"/>
                      <a:chExt cx="469080" cy="309240"/>
                    </a:xfrm>
                  </p:grpSpPr>
                  <p:sp>
                    <p:nvSpPr>
                      <p:cNvPr id="2327" name=""/>
                      <p:cNvSpPr/>
                      <p:nvPr/>
                    </p:nvSpPr>
                    <p:spPr>
                      <a:xfrm>
                        <a:off x="6527520" y="1519200"/>
                        <a:ext cx="432360" cy="290160"/>
                      </a:xfrm>
                      <a:prstGeom prst="roundRect">
                        <a:avLst>
                          <a:gd name="adj" fmla="val 12042"/>
                        </a:avLst>
                      </a:prstGeom>
                      <a:solidFill>
                        <a:srgbClr val="ffffff"/>
                      </a:solidFill>
                      <a:ln w="36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8" name=""/>
                      <p:cNvSpPr/>
                      <p:nvPr/>
                    </p:nvSpPr>
                    <p:spPr>
                      <a:xfrm flipV="1">
                        <a:off x="6512760" y="1520640"/>
                        <a:ext cx="46260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9" name=""/>
                      <p:cNvSpPr/>
                      <p:nvPr/>
                    </p:nvSpPr>
                    <p:spPr>
                      <a:xfrm>
                        <a:off x="6861600" y="1503000"/>
                        <a:ext cx="65880" cy="296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0" name=""/>
                      <p:cNvSpPr/>
                      <p:nvPr/>
                    </p:nvSpPr>
                    <p:spPr>
                      <a:xfrm>
                        <a:off x="6806880" y="1501560"/>
                        <a:ext cx="18000" cy="29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1" name=""/>
                      <p:cNvSpPr/>
                      <p:nvPr/>
                    </p:nvSpPr>
                    <p:spPr>
                      <a:xfrm>
                        <a:off x="6609960" y="1503000"/>
                        <a:ext cx="52920" cy="303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2" name=""/>
                      <p:cNvSpPr/>
                      <p:nvPr/>
                    </p:nvSpPr>
                    <p:spPr>
                      <a:xfrm>
                        <a:off x="6570720" y="1503000"/>
                        <a:ext cx="1440" cy="307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3" name=""/>
                      <p:cNvSpPr/>
                      <p:nvPr/>
                    </p:nvSpPr>
                    <p:spPr>
                      <a:xfrm flipV="1">
                        <a:off x="6509520" y="1648440"/>
                        <a:ext cx="59400" cy="30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4" name=""/>
                      <p:cNvSpPr/>
                      <p:nvPr/>
                    </p:nvSpPr>
                    <p:spPr>
                      <a:xfrm flipV="1">
                        <a:off x="6570720" y="1639440"/>
                        <a:ext cx="7560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5" name=""/>
                      <p:cNvSpPr/>
                      <p:nvPr/>
                    </p:nvSpPr>
                    <p:spPr>
                      <a:xfrm>
                        <a:off x="6636600" y="1639440"/>
                        <a:ext cx="18828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6" name=""/>
                      <p:cNvSpPr/>
                      <p:nvPr/>
                    </p:nvSpPr>
                    <p:spPr>
                      <a:xfrm flipV="1">
                        <a:off x="6815160" y="1613160"/>
                        <a:ext cx="80640" cy="25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7" name=""/>
                      <p:cNvSpPr/>
                      <p:nvPr/>
                    </p:nvSpPr>
                    <p:spPr>
                      <a:xfrm flipV="1">
                        <a:off x="6887880" y="1546560"/>
                        <a:ext cx="82440" cy="69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8" name=""/>
                      <p:cNvSpPr/>
                      <p:nvPr/>
                    </p:nvSpPr>
                    <p:spPr>
                      <a:xfrm flipV="1">
                        <a:off x="6712920" y="1596960"/>
                        <a:ext cx="3240" cy="160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9" name=""/>
                      <p:cNvSpPr/>
                      <p:nvPr/>
                    </p:nvSpPr>
                    <p:spPr>
                      <a:xfrm flipV="1">
                        <a:off x="6719040" y="1528920"/>
                        <a:ext cx="259560" cy="67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0" name=""/>
                      <p:cNvSpPr/>
                      <p:nvPr/>
                    </p:nvSpPr>
                    <p:spPr>
                      <a:xfrm>
                        <a:off x="6710760" y="1592280"/>
                        <a:ext cx="21600" cy="20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1" name=""/>
                      <p:cNvSpPr/>
                      <p:nvPr/>
                    </p:nvSpPr>
                    <p:spPr>
                      <a:xfrm>
                        <a:off x="6811560" y="1631160"/>
                        <a:ext cx="19800" cy="22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2" name=""/>
                      <p:cNvSpPr/>
                      <p:nvPr/>
                    </p:nvSpPr>
                    <p:spPr>
                      <a:xfrm>
                        <a:off x="6630120" y="1635840"/>
                        <a:ext cx="19800" cy="20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3" name=""/>
                      <p:cNvSpPr/>
                      <p:nvPr/>
                    </p:nvSpPr>
                    <p:spPr>
                      <a:xfrm>
                        <a:off x="6563880" y="1644120"/>
                        <a:ext cx="19800" cy="20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44" name=""/>
                      <p:cNvGrpSpPr/>
                      <p:nvPr/>
                    </p:nvGrpSpPr>
                    <p:grpSpPr>
                      <a:xfrm>
                        <a:off x="6671520" y="1640880"/>
                        <a:ext cx="85320" cy="158400"/>
                        <a:chOff x="6671520" y="1640880"/>
                        <a:chExt cx="85320" cy="158400"/>
                      </a:xfrm>
                    </p:grpSpPr>
                    <p:sp>
                      <p:nvSpPr>
                        <p:cNvPr id="2345" name=""/>
                        <p:cNvSpPr/>
                        <p:nvPr/>
                      </p:nvSpPr>
                      <p:spPr>
                        <a:xfrm flipV="1">
                          <a:off x="6714000" y="1712160"/>
                          <a:ext cx="180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6" name=""/>
                        <p:cNvSpPr/>
                        <p:nvPr/>
                      </p:nvSpPr>
                      <p:spPr>
                        <a:xfrm>
                          <a:off x="6671520" y="1640880"/>
                          <a:ext cx="85320" cy="14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3" h="176">
                              <a:moveTo>
                                <a:pt x="52" y="0"/>
                              </a:moveTo>
                              <a:lnTo>
                                <a:pt x="0" y="176"/>
                              </a:lnTo>
                              <a:lnTo>
                                <a:pt x="103" y="176"/>
                              </a:lnTo>
                              <a:lnTo>
                                <a:pt x="5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6635520" y="1390320"/>
                      <a:ext cx="2142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路況訊息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8" name=""/>
                    <p:cNvSpPr/>
                    <p:nvPr/>
                  </p:nvSpPr>
                  <p:spPr>
                    <a:xfrm>
                      <a:off x="7706160" y="2303280"/>
                      <a:ext cx="32076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交通資訊中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49" name=""/>
                    <p:cNvGrpSpPr/>
                    <p:nvPr/>
                  </p:nvGrpSpPr>
                  <p:grpSpPr>
                    <a:xfrm>
                      <a:off x="6744600" y="380880"/>
                      <a:ext cx="1239120" cy="253440"/>
                      <a:chOff x="6744600" y="380880"/>
                      <a:chExt cx="1239120" cy="253440"/>
                    </a:xfrm>
                  </p:grpSpPr>
                  <p:sp>
                    <p:nvSpPr>
                      <p:cNvPr id="2350" name=""/>
                      <p:cNvSpPr/>
                      <p:nvPr/>
                    </p:nvSpPr>
                    <p:spPr>
                      <a:xfrm>
                        <a:off x="6767280" y="405000"/>
                        <a:ext cx="1216440" cy="229320"/>
                      </a:xfrm>
                      <a:prstGeom prst="rect">
                        <a:avLst/>
                      </a:prstGeom>
                      <a:solidFill>
                        <a:srgbClr val="91919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1" name=""/>
                      <p:cNvSpPr/>
                      <p:nvPr/>
                    </p:nvSpPr>
                    <p:spPr>
                      <a:xfrm>
                        <a:off x="6744600" y="380880"/>
                        <a:ext cx="1202760" cy="2181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2" name=""/>
                      <p:cNvSpPr/>
                      <p:nvPr/>
                    </p:nvSpPr>
                    <p:spPr>
                      <a:xfrm>
                        <a:off x="7021080" y="429120"/>
                        <a:ext cx="61812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TW" sz="900" spc="-1" strike="noStrike">
                            <a:solidFill>
                              <a:srgbClr val="000000"/>
                            </a:solidFill>
                            <a:latin typeface="全真楷書"/>
                            <a:ea typeface="全真楷書"/>
                          </a:rPr>
                          <a:t>先進旅行者資訊系統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23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41600" y="1471320"/>
                      <a:ext cx="6742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2354" name=""/>
                    <p:cNvGrpSpPr/>
                    <p:nvPr/>
                  </p:nvGrpSpPr>
                  <p:grpSpPr>
                    <a:xfrm>
                      <a:off x="6620760" y="2072880"/>
                      <a:ext cx="695880" cy="262800"/>
                      <a:chOff x="6620760" y="2072880"/>
                      <a:chExt cx="695880" cy="262800"/>
                    </a:xfrm>
                  </p:grpSpPr>
                  <p:grpSp>
                    <p:nvGrpSpPr>
                      <p:cNvPr id="2355" name=""/>
                      <p:cNvGrpSpPr/>
                      <p:nvPr/>
                    </p:nvGrpSpPr>
                    <p:grpSpPr>
                      <a:xfrm>
                        <a:off x="6620760" y="2072880"/>
                        <a:ext cx="695880" cy="262800"/>
                        <a:chOff x="6620760" y="2072880"/>
                        <a:chExt cx="695880" cy="262800"/>
                      </a:xfrm>
                    </p:grpSpPr>
                    <p:sp>
                      <p:nvSpPr>
                        <p:cNvPr id="2356" name=""/>
                        <p:cNvSpPr/>
                        <p:nvPr/>
                      </p:nvSpPr>
                      <p:spPr>
                        <a:xfrm>
                          <a:off x="6699960" y="2240640"/>
                          <a:ext cx="110520" cy="85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7" name=""/>
                        <p:cNvSpPr/>
                        <p:nvPr/>
                      </p:nvSpPr>
                      <p:spPr>
                        <a:xfrm>
                          <a:off x="6620760" y="2072880"/>
                          <a:ext cx="695880" cy="20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2" h="259">
                              <a:moveTo>
                                <a:pt x="194" y="95"/>
                              </a:moveTo>
                              <a:lnTo>
                                <a:pt x="213" y="95"/>
                              </a:lnTo>
                              <a:lnTo>
                                <a:pt x="262" y="17"/>
                              </a:lnTo>
                              <a:lnTo>
                                <a:pt x="273" y="16"/>
                              </a:lnTo>
                              <a:lnTo>
                                <a:pt x="284" y="13"/>
                              </a:lnTo>
                              <a:lnTo>
                                <a:pt x="295" y="11"/>
                              </a:lnTo>
                              <a:lnTo>
                                <a:pt x="306" y="10"/>
                              </a:lnTo>
                              <a:lnTo>
                                <a:pt x="316" y="9"/>
                              </a:lnTo>
                              <a:lnTo>
                                <a:pt x="326" y="7"/>
                              </a:lnTo>
                              <a:lnTo>
                                <a:pt x="338" y="6"/>
                              </a:lnTo>
                              <a:lnTo>
                                <a:pt x="350" y="4"/>
                              </a:lnTo>
                              <a:lnTo>
                                <a:pt x="360" y="3"/>
                              </a:lnTo>
                              <a:lnTo>
                                <a:pt x="370" y="3"/>
                              </a:lnTo>
                              <a:lnTo>
                                <a:pt x="379" y="1"/>
                              </a:lnTo>
                              <a:lnTo>
                                <a:pt x="389" y="1"/>
                              </a:lnTo>
                              <a:lnTo>
                                <a:pt x="399" y="0"/>
                              </a:lnTo>
                              <a:lnTo>
                                <a:pt x="471" y="0"/>
                              </a:lnTo>
                              <a:lnTo>
                                <a:pt x="480" y="1"/>
                              </a:lnTo>
                              <a:lnTo>
                                <a:pt x="489" y="1"/>
                              </a:lnTo>
                              <a:lnTo>
                                <a:pt x="498" y="3"/>
                              </a:lnTo>
                              <a:lnTo>
                                <a:pt x="503" y="3"/>
                              </a:lnTo>
                              <a:lnTo>
                                <a:pt x="512" y="4"/>
                              </a:lnTo>
                              <a:lnTo>
                                <a:pt x="521" y="6"/>
                              </a:lnTo>
                              <a:lnTo>
                                <a:pt x="528" y="7"/>
                              </a:lnTo>
                              <a:lnTo>
                                <a:pt x="536" y="9"/>
                              </a:lnTo>
                              <a:lnTo>
                                <a:pt x="544" y="10"/>
                              </a:lnTo>
                              <a:lnTo>
                                <a:pt x="550" y="11"/>
                              </a:lnTo>
                              <a:lnTo>
                                <a:pt x="558" y="13"/>
                              </a:lnTo>
                              <a:lnTo>
                                <a:pt x="563" y="14"/>
                              </a:lnTo>
                              <a:lnTo>
                                <a:pt x="571" y="17"/>
                              </a:lnTo>
                              <a:lnTo>
                                <a:pt x="578" y="19"/>
                              </a:lnTo>
                              <a:lnTo>
                                <a:pt x="585" y="20"/>
                              </a:lnTo>
                              <a:lnTo>
                                <a:pt x="590" y="22"/>
                              </a:lnTo>
                              <a:lnTo>
                                <a:pt x="597" y="25"/>
                              </a:lnTo>
                              <a:lnTo>
                                <a:pt x="604" y="28"/>
                              </a:lnTo>
                              <a:lnTo>
                                <a:pt x="609" y="31"/>
                              </a:lnTo>
                              <a:lnTo>
                                <a:pt x="616" y="33"/>
                              </a:lnTo>
                              <a:lnTo>
                                <a:pt x="621" y="36"/>
                              </a:lnTo>
                              <a:lnTo>
                                <a:pt x="626" y="39"/>
                              </a:lnTo>
                              <a:lnTo>
                                <a:pt x="631" y="42"/>
                              </a:lnTo>
                              <a:lnTo>
                                <a:pt x="637" y="45"/>
                              </a:lnTo>
                              <a:lnTo>
                                <a:pt x="643" y="50"/>
                              </a:lnTo>
                              <a:lnTo>
                                <a:pt x="647" y="52"/>
                              </a:lnTo>
                              <a:lnTo>
                                <a:pt x="653" y="55"/>
                              </a:lnTo>
                              <a:lnTo>
                                <a:pt x="657" y="58"/>
                              </a:lnTo>
                              <a:lnTo>
                                <a:pt x="663" y="63"/>
                              </a:lnTo>
                              <a:lnTo>
                                <a:pt x="666" y="67"/>
                              </a:lnTo>
                              <a:lnTo>
                                <a:pt x="672" y="72"/>
                              </a:lnTo>
                              <a:lnTo>
                                <a:pt x="675" y="76"/>
                              </a:lnTo>
                              <a:lnTo>
                                <a:pt x="681" y="80"/>
                              </a:lnTo>
                              <a:lnTo>
                                <a:pt x="684" y="85"/>
                              </a:lnTo>
                              <a:lnTo>
                                <a:pt x="687" y="88"/>
                              </a:lnTo>
                              <a:lnTo>
                                <a:pt x="691" y="92"/>
                              </a:lnTo>
                              <a:lnTo>
                                <a:pt x="694" y="98"/>
                              </a:lnTo>
                              <a:lnTo>
                                <a:pt x="697" y="102"/>
                              </a:lnTo>
                              <a:lnTo>
                                <a:pt x="700" y="108"/>
                              </a:lnTo>
                              <a:lnTo>
                                <a:pt x="704" y="114"/>
                              </a:lnTo>
                              <a:lnTo>
                                <a:pt x="707" y="117"/>
                              </a:lnTo>
                              <a:lnTo>
                                <a:pt x="708" y="123"/>
                              </a:lnTo>
                              <a:lnTo>
                                <a:pt x="713" y="129"/>
                              </a:lnTo>
                              <a:lnTo>
                                <a:pt x="716" y="129"/>
                              </a:lnTo>
                              <a:lnTo>
                                <a:pt x="719" y="130"/>
                              </a:lnTo>
                              <a:lnTo>
                                <a:pt x="728" y="130"/>
                              </a:lnTo>
                              <a:lnTo>
                                <a:pt x="732" y="132"/>
                              </a:lnTo>
                              <a:lnTo>
                                <a:pt x="735" y="132"/>
                              </a:lnTo>
                              <a:lnTo>
                                <a:pt x="738" y="133"/>
                              </a:lnTo>
                              <a:lnTo>
                                <a:pt x="742" y="135"/>
                              </a:lnTo>
                              <a:lnTo>
                                <a:pt x="745" y="135"/>
                              </a:lnTo>
                              <a:lnTo>
                                <a:pt x="748" y="136"/>
                              </a:lnTo>
                              <a:lnTo>
                                <a:pt x="752" y="136"/>
                              </a:lnTo>
                              <a:lnTo>
                                <a:pt x="755" y="137"/>
                              </a:lnTo>
                              <a:lnTo>
                                <a:pt x="760" y="139"/>
                              </a:lnTo>
                              <a:lnTo>
                                <a:pt x="761" y="140"/>
                              </a:lnTo>
                              <a:lnTo>
                                <a:pt x="764" y="142"/>
                              </a:lnTo>
                              <a:lnTo>
                                <a:pt x="767" y="142"/>
                              </a:lnTo>
                              <a:lnTo>
                                <a:pt x="771" y="143"/>
                              </a:lnTo>
                              <a:lnTo>
                                <a:pt x="773" y="145"/>
                              </a:lnTo>
                              <a:lnTo>
                                <a:pt x="776" y="146"/>
                              </a:lnTo>
                              <a:lnTo>
                                <a:pt x="777" y="148"/>
                              </a:lnTo>
                              <a:lnTo>
                                <a:pt x="782" y="148"/>
                              </a:lnTo>
                              <a:lnTo>
                                <a:pt x="785" y="149"/>
                              </a:lnTo>
                              <a:lnTo>
                                <a:pt x="793" y="157"/>
                              </a:lnTo>
                              <a:lnTo>
                                <a:pt x="796" y="158"/>
                              </a:lnTo>
                              <a:lnTo>
                                <a:pt x="799" y="159"/>
                              </a:lnTo>
                              <a:lnTo>
                                <a:pt x="801" y="162"/>
                              </a:lnTo>
                              <a:lnTo>
                                <a:pt x="804" y="164"/>
                              </a:lnTo>
                              <a:lnTo>
                                <a:pt x="805" y="167"/>
                              </a:lnTo>
                              <a:lnTo>
                                <a:pt x="808" y="170"/>
                              </a:lnTo>
                              <a:lnTo>
                                <a:pt x="811" y="173"/>
                              </a:lnTo>
                              <a:lnTo>
                                <a:pt x="812" y="176"/>
                              </a:lnTo>
                              <a:lnTo>
                                <a:pt x="814" y="177"/>
                              </a:lnTo>
                              <a:lnTo>
                                <a:pt x="815" y="178"/>
                              </a:lnTo>
                              <a:lnTo>
                                <a:pt x="817" y="180"/>
                              </a:lnTo>
                              <a:lnTo>
                                <a:pt x="820" y="183"/>
                              </a:lnTo>
                              <a:lnTo>
                                <a:pt x="821" y="186"/>
                              </a:lnTo>
                              <a:lnTo>
                                <a:pt x="823" y="189"/>
                              </a:lnTo>
                              <a:lnTo>
                                <a:pt x="824" y="190"/>
                              </a:lnTo>
                              <a:lnTo>
                                <a:pt x="826" y="193"/>
                              </a:lnTo>
                              <a:lnTo>
                                <a:pt x="827" y="196"/>
                              </a:lnTo>
                              <a:lnTo>
                                <a:pt x="827" y="199"/>
                              </a:lnTo>
                              <a:lnTo>
                                <a:pt x="830" y="202"/>
                              </a:lnTo>
                              <a:lnTo>
                                <a:pt x="832" y="205"/>
                              </a:lnTo>
                              <a:lnTo>
                                <a:pt x="832" y="208"/>
                              </a:lnTo>
                              <a:lnTo>
                                <a:pt x="833" y="211"/>
                              </a:lnTo>
                              <a:lnTo>
                                <a:pt x="834" y="212"/>
                              </a:lnTo>
                              <a:lnTo>
                                <a:pt x="834" y="215"/>
                              </a:lnTo>
                              <a:lnTo>
                                <a:pt x="836" y="218"/>
                              </a:lnTo>
                              <a:lnTo>
                                <a:pt x="836" y="221"/>
                              </a:lnTo>
                              <a:lnTo>
                                <a:pt x="837" y="225"/>
                              </a:lnTo>
                              <a:lnTo>
                                <a:pt x="837" y="231"/>
                              </a:lnTo>
                              <a:lnTo>
                                <a:pt x="840" y="236"/>
                              </a:lnTo>
                              <a:lnTo>
                                <a:pt x="840" y="244"/>
                              </a:lnTo>
                              <a:lnTo>
                                <a:pt x="842" y="247"/>
                              </a:lnTo>
                              <a:lnTo>
                                <a:pt x="842" y="259"/>
                              </a:lnTo>
                              <a:lnTo>
                                <a:pt x="760" y="258"/>
                              </a:lnTo>
                              <a:lnTo>
                                <a:pt x="760" y="247"/>
                              </a:lnTo>
                              <a:lnTo>
                                <a:pt x="757" y="246"/>
                              </a:lnTo>
                              <a:lnTo>
                                <a:pt x="757" y="241"/>
                              </a:lnTo>
                              <a:lnTo>
                                <a:pt x="755" y="240"/>
                              </a:lnTo>
                              <a:lnTo>
                                <a:pt x="755" y="237"/>
                              </a:lnTo>
                              <a:lnTo>
                                <a:pt x="754" y="236"/>
                              </a:lnTo>
                              <a:lnTo>
                                <a:pt x="754" y="231"/>
                              </a:lnTo>
                              <a:lnTo>
                                <a:pt x="752" y="231"/>
                              </a:lnTo>
                              <a:lnTo>
                                <a:pt x="752" y="230"/>
                              </a:lnTo>
                              <a:lnTo>
                                <a:pt x="751" y="228"/>
                              </a:lnTo>
                              <a:lnTo>
                                <a:pt x="751" y="227"/>
                              </a:lnTo>
                              <a:lnTo>
                                <a:pt x="748" y="225"/>
                              </a:lnTo>
                              <a:lnTo>
                                <a:pt x="748" y="222"/>
                              </a:lnTo>
                              <a:lnTo>
                                <a:pt x="747" y="222"/>
                              </a:lnTo>
                              <a:lnTo>
                                <a:pt x="747" y="221"/>
                              </a:lnTo>
                              <a:lnTo>
                                <a:pt x="744" y="218"/>
                              </a:lnTo>
                              <a:lnTo>
                                <a:pt x="744" y="217"/>
                              </a:lnTo>
                              <a:lnTo>
                                <a:pt x="741" y="214"/>
                              </a:lnTo>
                              <a:lnTo>
                                <a:pt x="741" y="212"/>
                              </a:lnTo>
                              <a:lnTo>
                                <a:pt x="738" y="212"/>
                              </a:lnTo>
                              <a:lnTo>
                                <a:pt x="735" y="211"/>
                              </a:lnTo>
                              <a:lnTo>
                                <a:pt x="735" y="209"/>
                              </a:lnTo>
                              <a:lnTo>
                                <a:pt x="733" y="209"/>
                              </a:lnTo>
                              <a:lnTo>
                                <a:pt x="729" y="206"/>
                              </a:lnTo>
                              <a:lnTo>
                                <a:pt x="728" y="206"/>
                              </a:lnTo>
                              <a:lnTo>
                                <a:pt x="728" y="205"/>
                              </a:lnTo>
                              <a:lnTo>
                                <a:pt x="726" y="203"/>
                              </a:lnTo>
                              <a:lnTo>
                                <a:pt x="725" y="203"/>
                              </a:lnTo>
                              <a:lnTo>
                                <a:pt x="725" y="202"/>
                              </a:lnTo>
                              <a:lnTo>
                                <a:pt x="723" y="202"/>
                              </a:lnTo>
                              <a:lnTo>
                                <a:pt x="722" y="200"/>
                              </a:lnTo>
                              <a:lnTo>
                                <a:pt x="719" y="200"/>
                              </a:lnTo>
                              <a:lnTo>
                                <a:pt x="717" y="199"/>
                              </a:lnTo>
                              <a:lnTo>
                                <a:pt x="716" y="199"/>
                              </a:lnTo>
                              <a:lnTo>
                                <a:pt x="716" y="198"/>
                              </a:lnTo>
                              <a:lnTo>
                                <a:pt x="714" y="198"/>
                              </a:lnTo>
                              <a:lnTo>
                                <a:pt x="713" y="196"/>
                              </a:lnTo>
                              <a:lnTo>
                                <a:pt x="710" y="196"/>
                              </a:lnTo>
                              <a:lnTo>
                                <a:pt x="708" y="195"/>
                              </a:lnTo>
                              <a:lnTo>
                                <a:pt x="706" y="195"/>
                              </a:lnTo>
                              <a:lnTo>
                                <a:pt x="704" y="193"/>
                              </a:lnTo>
                              <a:lnTo>
                                <a:pt x="703" y="193"/>
                              </a:lnTo>
                              <a:lnTo>
                                <a:pt x="700" y="192"/>
                              </a:lnTo>
                              <a:lnTo>
                                <a:pt x="695" y="192"/>
                              </a:lnTo>
                              <a:lnTo>
                                <a:pt x="694" y="190"/>
                              </a:lnTo>
                              <a:lnTo>
                                <a:pt x="685" y="190"/>
                              </a:lnTo>
                              <a:lnTo>
                                <a:pt x="685" y="189"/>
                              </a:lnTo>
                              <a:lnTo>
                                <a:pt x="659" y="189"/>
                              </a:lnTo>
                              <a:lnTo>
                                <a:pt x="659" y="190"/>
                              </a:lnTo>
                              <a:lnTo>
                                <a:pt x="650" y="190"/>
                              </a:lnTo>
                              <a:lnTo>
                                <a:pt x="648" y="192"/>
                              </a:lnTo>
                              <a:lnTo>
                                <a:pt x="644" y="192"/>
                              </a:lnTo>
                              <a:lnTo>
                                <a:pt x="643" y="193"/>
                              </a:lnTo>
                              <a:lnTo>
                                <a:pt x="640" y="193"/>
                              </a:lnTo>
                              <a:lnTo>
                                <a:pt x="638" y="195"/>
                              </a:lnTo>
                              <a:lnTo>
                                <a:pt x="635" y="195"/>
                              </a:lnTo>
                              <a:lnTo>
                                <a:pt x="634" y="196"/>
                              </a:lnTo>
                              <a:lnTo>
                                <a:pt x="631" y="196"/>
                              </a:lnTo>
                              <a:lnTo>
                                <a:pt x="629" y="198"/>
                              </a:lnTo>
                              <a:lnTo>
                                <a:pt x="628" y="198"/>
                              </a:lnTo>
                              <a:lnTo>
                                <a:pt x="628" y="199"/>
                              </a:lnTo>
                              <a:lnTo>
                                <a:pt x="626" y="199"/>
                              </a:lnTo>
                              <a:lnTo>
                                <a:pt x="625" y="200"/>
                              </a:lnTo>
                              <a:lnTo>
                                <a:pt x="624" y="200"/>
                              </a:lnTo>
                              <a:lnTo>
                                <a:pt x="621" y="202"/>
                              </a:lnTo>
                              <a:lnTo>
                                <a:pt x="619" y="202"/>
                              </a:lnTo>
                              <a:lnTo>
                                <a:pt x="619" y="203"/>
                              </a:lnTo>
                              <a:lnTo>
                                <a:pt x="618" y="203"/>
                              </a:lnTo>
                              <a:lnTo>
                                <a:pt x="616" y="205"/>
                              </a:lnTo>
                              <a:lnTo>
                                <a:pt x="616" y="206"/>
                              </a:lnTo>
                              <a:lnTo>
                                <a:pt x="615" y="206"/>
                              </a:lnTo>
                              <a:lnTo>
                                <a:pt x="610" y="209"/>
                              </a:lnTo>
                              <a:lnTo>
                                <a:pt x="609" y="209"/>
                              </a:lnTo>
                              <a:lnTo>
                                <a:pt x="609" y="211"/>
                              </a:lnTo>
                              <a:lnTo>
                                <a:pt x="606" y="212"/>
                              </a:lnTo>
                              <a:lnTo>
                                <a:pt x="604" y="212"/>
                              </a:lnTo>
                              <a:lnTo>
                                <a:pt x="604" y="214"/>
                              </a:lnTo>
                              <a:lnTo>
                                <a:pt x="600" y="217"/>
                              </a:lnTo>
                              <a:lnTo>
                                <a:pt x="600" y="218"/>
                              </a:lnTo>
                              <a:lnTo>
                                <a:pt x="597" y="221"/>
                              </a:lnTo>
                              <a:lnTo>
                                <a:pt x="597" y="222"/>
                              </a:lnTo>
                              <a:lnTo>
                                <a:pt x="596" y="222"/>
                              </a:lnTo>
                              <a:lnTo>
                                <a:pt x="596" y="225"/>
                              </a:lnTo>
                              <a:lnTo>
                                <a:pt x="594" y="227"/>
                              </a:lnTo>
                              <a:lnTo>
                                <a:pt x="594" y="228"/>
                              </a:lnTo>
                              <a:lnTo>
                                <a:pt x="591" y="230"/>
                              </a:lnTo>
                              <a:lnTo>
                                <a:pt x="591" y="231"/>
                              </a:lnTo>
                              <a:lnTo>
                                <a:pt x="590" y="231"/>
                              </a:lnTo>
                              <a:lnTo>
                                <a:pt x="590" y="236"/>
                              </a:lnTo>
                              <a:lnTo>
                                <a:pt x="588" y="237"/>
                              </a:lnTo>
                              <a:lnTo>
                                <a:pt x="588" y="240"/>
                              </a:lnTo>
                              <a:lnTo>
                                <a:pt x="587" y="241"/>
                              </a:lnTo>
                              <a:lnTo>
                                <a:pt x="587" y="246"/>
                              </a:lnTo>
                              <a:lnTo>
                                <a:pt x="585" y="247"/>
                              </a:lnTo>
                              <a:lnTo>
                                <a:pt x="585" y="258"/>
                              </a:lnTo>
                              <a:lnTo>
                                <a:pt x="246" y="258"/>
                              </a:lnTo>
                              <a:lnTo>
                                <a:pt x="246" y="247"/>
                              </a:lnTo>
                              <a:lnTo>
                                <a:pt x="244" y="246"/>
                              </a:lnTo>
                              <a:lnTo>
                                <a:pt x="244" y="241"/>
                              </a:lnTo>
                              <a:lnTo>
                                <a:pt x="243" y="240"/>
                              </a:lnTo>
                              <a:lnTo>
                                <a:pt x="243" y="237"/>
                              </a:lnTo>
                              <a:lnTo>
                                <a:pt x="240" y="236"/>
                              </a:lnTo>
                              <a:lnTo>
                                <a:pt x="240" y="233"/>
                              </a:lnTo>
                              <a:lnTo>
                                <a:pt x="238" y="231"/>
                              </a:lnTo>
                              <a:lnTo>
                                <a:pt x="238" y="230"/>
                              </a:lnTo>
                              <a:lnTo>
                                <a:pt x="237" y="228"/>
                              </a:lnTo>
                              <a:lnTo>
                                <a:pt x="237" y="227"/>
                              </a:lnTo>
                              <a:lnTo>
                                <a:pt x="235" y="225"/>
                              </a:lnTo>
                              <a:lnTo>
                                <a:pt x="235" y="224"/>
                              </a:lnTo>
                              <a:lnTo>
                                <a:pt x="232" y="221"/>
                              </a:lnTo>
                              <a:lnTo>
                                <a:pt x="232" y="220"/>
                              </a:lnTo>
                              <a:lnTo>
                                <a:pt x="229" y="218"/>
                              </a:lnTo>
                              <a:lnTo>
                                <a:pt x="229" y="217"/>
                              </a:lnTo>
                              <a:lnTo>
                                <a:pt x="229" y="215"/>
                              </a:lnTo>
                              <a:lnTo>
                                <a:pt x="227" y="215"/>
                              </a:lnTo>
                              <a:lnTo>
                                <a:pt x="227" y="214"/>
                              </a:lnTo>
                              <a:lnTo>
                                <a:pt x="218" y="208"/>
                              </a:lnTo>
                              <a:lnTo>
                                <a:pt x="216" y="208"/>
                              </a:lnTo>
                              <a:lnTo>
                                <a:pt x="216" y="206"/>
                              </a:lnTo>
                              <a:lnTo>
                                <a:pt x="215" y="206"/>
                              </a:lnTo>
                              <a:lnTo>
                                <a:pt x="213" y="205"/>
                              </a:lnTo>
                              <a:lnTo>
                                <a:pt x="213" y="203"/>
                              </a:lnTo>
                              <a:lnTo>
                                <a:pt x="210" y="203"/>
                              </a:lnTo>
                              <a:lnTo>
                                <a:pt x="208" y="200"/>
                              </a:lnTo>
                              <a:lnTo>
                                <a:pt x="205" y="200"/>
                              </a:lnTo>
                              <a:lnTo>
                                <a:pt x="205" y="199"/>
                              </a:lnTo>
                              <a:lnTo>
                                <a:pt x="203" y="199"/>
                              </a:lnTo>
                              <a:lnTo>
                                <a:pt x="202" y="198"/>
                              </a:lnTo>
                              <a:lnTo>
                                <a:pt x="199" y="198"/>
                              </a:lnTo>
                              <a:lnTo>
                                <a:pt x="199" y="196"/>
                              </a:lnTo>
                              <a:lnTo>
                                <a:pt x="196" y="196"/>
                              </a:lnTo>
                              <a:lnTo>
                                <a:pt x="194" y="195"/>
                              </a:lnTo>
                              <a:lnTo>
                                <a:pt x="191" y="195"/>
                              </a:lnTo>
                              <a:lnTo>
                                <a:pt x="191" y="193"/>
                              </a:lnTo>
                              <a:lnTo>
                                <a:pt x="187" y="193"/>
                              </a:lnTo>
                              <a:lnTo>
                                <a:pt x="186" y="192"/>
                              </a:lnTo>
                              <a:lnTo>
                                <a:pt x="180" y="192"/>
                              </a:lnTo>
                              <a:lnTo>
                                <a:pt x="178" y="190"/>
                              </a:lnTo>
                              <a:lnTo>
                                <a:pt x="172" y="190"/>
                              </a:lnTo>
                              <a:lnTo>
                                <a:pt x="169" y="189"/>
                              </a:lnTo>
                              <a:lnTo>
                                <a:pt x="146" y="189"/>
                              </a:lnTo>
                              <a:lnTo>
                                <a:pt x="145" y="190"/>
                              </a:lnTo>
                              <a:lnTo>
                                <a:pt x="137" y="190"/>
                              </a:lnTo>
                              <a:lnTo>
                                <a:pt x="136" y="192"/>
                              </a:lnTo>
                              <a:lnTo>
                                <a:pt x="130" y="192"/>
                              </a:lnTo>
                              <a:lnTo>
                                <a:pt x="128" y="193"/>
                              </a:lnTo>
                              <a:lnTo>
                                <a:pt x="125" y="193"/>
                              </a:lnTo>
                              <a:lnTo>
                                <a:pt x="124" y="195"/>
                              </a:lnTo>
                              <a:lnTo>
                                <a:pt x="121" y="195"/>
                              </a:lnTo>
                              <a:lnTo>
                                <a:pt x="120" y="196"/>
                              </a:lnTo>
                              <a:lnTo>
                                <a:pt x="117" y="196"/>
                              </a:lnTo>
                              <a:lnTo>
                                <a:pt x="117" y="198"/>
                              </a:lnTo>
                              <a:lnTo>
                                <a:pt x="115" y="198"/>
                              </a:lnTo>
                              <a:lnTo>
                                <a:pt x="112" y="199"/>
                              </a:lnTo>
                              <a:lnTo>
                                <a:pt x="111" y="199"/>
                              </a:lnTo>
                              <a:lnTo>
                                <a:pt x="111" y="200"/>
                              </a:lnTo>
                              <a:lnTo>
                                <a:pt x="108" y="200"/>
                              </a:lnTo>
                              <a:lnTo>
                                <a:pt x="105" y="203"/>
                              </a:lnTo>
                              <a:lnTo>
                                <a:pt x="102" y="203"/>
                              </a:lnTo>
                              <a:lnTo>
                                <a:pt x="102" y="205"/>
                              </a:lnTo>
                              <a:lnTo>
                                <a:pt x="101" y="206"/>
                              </a:lnTo>
                              <a:lnTo>
                                <a:pt x="99" y="206"/>
                              </a:lnTo>
                              <a:lnTo>
                                <a:pt x="99" y="208"/>
                              </a:lnTo>
                              <a:lnTo>
                                <a:pt x="98" y="208"/>
                              </a:lnTo>
                              <a:lnTo>
                                <a:pt x="89" y="214"/>
                              </a:lnTo>
                              <a:lnTo>
                                <a:pt x="89" y="215"/>
                              </a:lnTo>
                              <a:lnTo>
                                <a:pt x="87" y="215"/>
                              </a:lnTo>
                              <a:lnTo>
                                <a:pt x="86" y="217"/>
                              </a:lnTo>
                              <a:lnTo>
                                <a:pt x="86" y="218"/>
                              </a:lnTo>
                              <a:lnTo>
                                <a:pt x="83" y="220"/>
                              </a:lnTo>
                              <a:lnTo>
                                <a:pt x="83" y="221"/>
                              </a:lnTo>
                              <a:lnTo>
                                <a:pt x="80" y="224"/>
                              </a:lnTo>
                              <a:lnTo>
                                <a:pt x="80" y="225"/>
                              </a:lnTo>
                              <a:lnTo>
                                <a:pt x="79" y="227"/>
                              </a:lnTo>
                              <a:lnTo>
                                <a:pt x="79" y="228"/>
                              </a:lnTo>
                              <a:lnTo>
                                <a:pt x="77" y="230"/>
                              </a:lnTo>
                              <a:lnTo>
                                <a:pt x="77" y="231"/>
                              </a:lnTo>
                              <a:lnTo>
                                <a:pt x="74" y="233"/>
                              </a:lnTo>
                              <a:lnTo>
                                <a:pt x="74" y="236"/>
                              </a:lnTo>
                              <a:lnTo>
                                <a:pt x="74" y="237"/>
                              </a:lnTo>
                              <a:lnTo>
                                <a:pt x="74" y="240"/>
                              </a:lnTo>
                              <a:lnTo>
                                <a:pt x="71" y="241"/>
                              </a:lnTo>
                              <a:lnTo>
                                <a:pt x="71" y="246"/>
                              </a:lnTo>
                              <a:lnTo>
                                <a:pt x="70" y="247"/>
                              </a:lnTo>
                              <a:lnTo>
                                <a:pt x="70" y="258"/>
                              </a:lnTo>
                              <a:lnTo>
                                <a:pt x="0" y="259"/>
                              </a:lnTo>
                              <a:lnTo>
                                <a:pt x="0" y="231"/>
                              </a:lnTo>
                              <a:lnTo>
                                <a:pt x="1" y="227"/>
                              </a:lnTo>
                              <a:lnTo>
                                <a:pt x="1" y="222"/>
                              </a:lnTo>
                              <a:lnTo>
                                <a:pt x="2" y="218"/>
                              </a:lnTo>
                              <a:lnTo>
                                <a:pt x="2" y="215"/>
                              </a:lnTo>
                              <a:lnTo>
                                <a:pt x="4" y="211"/>
                              </a:lnTo>
                              <a:lnTo>
                                <a:pt x="4" y="209"/>
                              </a:lnTo>
                              <a:lnTo>
                                <a:pt x="7" y="205"/>
                              </a:lnTo>
                              <a:lnTo>
                                <a:pt x="8" y="202"/>
                              </a:lnTo>
                              <a:lnTo>
                                <a:pt x="8" y="198"/>
                              </a:lnTo>
                              <a:lnTo>
                                <a:pt x="10" y="195"/>
                              </a:lnTo>
                              <a:lnTo>
                                <a:pt x="11" y="190"/>
                              </a:lnTo>
                              <a:lnTo>
                                <a:pt x="13" y="187"/>
                              </a:lnTo>
                              <a:lnTo>
                                <a:pt x="14" y="184"/>
                              </a:lnTo>
                              <a:lnTo>
                                <a:pt x="17" y="180"/>
                              </a:lnTo>
                              <a:lnTo>
                                <a:pt x="19" y="178"/>
                              </a:lnTo>
                              <a:lnTo>
                                <a:pt x="21" y="176"/>
                              </a:lnTo>
                              <a:lnTo>
                                <a:pt x="23" y="173"/>
                              </a:lnTo>
                              <a:lnTo>
                                <a:pt x="26" y="170"/>
                              </a:lnTo>
                              <a:lnTo>
                                <a:pt x="27" y="167"/>
                              </a:lnTo>
                              <a:lnTo>
                                <a:pt x="30" y="164"/>
                              </a:lnTo>
                              <a:lnTo>
                                <a:pt x="32" y="161"/>
                              </a:lnTo>
                              <a:lnTo>
                                <a:pt x="39" y="155"/>
                              </a:lnTo>
                              <a:lnTo>
                                <a:pt x="41" y="152"/>
                              </a:lnTo>
                              <a:lnTo>
                                <a:pt x="51" y="145"/>
                              </a:lnTo>
                              <a:lnTo>
                                <a:pt x="55" y="143"/>
                              </a:lnTo>
                              <a:lnTo>
                                <a:pt x="61" y="137"/>
                              </a:lnTo>
                              <a:lnTo>
                                <a:pt x="65" y="136"/>
                              </a:lnTo>
                              <a:lnTo>
                                <a:pt x="68" y="133"/>
                              </a:lnTo>
                              <a:lnTo>
                                <a:pt x="71" y="132"/>
                              </a:lnTo>
                              <a:lnTo>
                                <a:pt x="74" y="129"/>
                              </a:lnTo>
                              <a:lnTo>
                                <a:pt x="80" y="127"/>
                              </a:lnTo>
                              <a:lnTo>
                                <a:pt x="83" y="124"/>
                              </a:lnTo>
                              <a:lnTo>
                                <a:pt x="87" y="123"/>
                              </a:lnTo>
                              <a:lnTo>
                                <a:pt x="93" y="120"/>
                              </a:lnTo>
                              <a:lnTo>
                                <a:pt x="98" y="118"/>
                              </a:lnTo>
                              <a:lnTo>
                                <a:pt x="101" y="117"/>
                              </a:lnTo>
                              <a:lnTo>
                                <a:pt x="106" y="115"/>
                              </a:lnTo>
                              <a:lnTo>
                                <a:pt x="111" y="114"/>
                              </a:lnTo>
                              <a:lnTo>
                                <a:pt x="115" y="113"/>
                              </a:lnTo>
                              <a:lnTo>
                                <a:pt x="120" y="111"/>
                              </a:lnTo>
                              <a:lnTo>
                                <a:pt x="125" y="110"/>
                              </a:lnTo>
                              <a:lnTo>
                                <a:pt x="130" y="108"/>
                              </a:lnTo>
                              <a:lnTo>
                                <a:pt x="136" y="107"/>
                              </a:lnTo>
                              <a:lnTo>
                                <a:pt x="140" y="105"/>
                              </a:lnTo>
                              <a:lnTo>
                                <a:pt x="147" y="104"/>
                              </a:lnTo>
                              <a:lnTo>
                                <a:pt x="153" y="102"/>
                              </a:lnTo>
                              <a:lnTo>
                                <a:pt x="158" y="101"/>
                              </a:lnTo>
                              <a:lnTo>
                                <a:pt x="164" y="101"/>
                              </a:lnTo>
                              <a:lnTo>
                                <a:pt x="169" y="99"/>
                              </a:lnTo>
                              <a:lnTo>
                                <a:pt x="175" y="98"/>
                              </a:lnTo>
                              <a:lnTo>
                                <a:pt x="183" y="96"/>
                              </a:lnTo>
                              <a:lnTo>
                                <a:pt x="187" y="96"/>
                              </a:lnTo>
                              <a:lnTo>
                                <a:pt x="194" y="95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8" name=""/>
                        <p:cNvSpPr/>
                        <p:nvPr/>
                      </p:nvSpPr>
                      <p:spPr>
                        <a:xfrm>
                          <a:off x="6900120" y="2100240"/>
                          <a:ext cx="99360" cy="43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9" name=""/>
                        <p:cNvSpPr/>
                        <p:nvPr/>
                      </p:nvSpPr>
                      <p:spPr>
                        <a:xfrm>
                          <a:off x="7034040" y="2097000"/>
                          <a:ext cx="120600" cy="4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63">
                              <a:moveTo>
                                <a:pt x="0" y="0"/>
                              </a:moveTo>
                              <a:lnTo>
                                <a:pt x="0" y="63"/>
                              </a:lnTo>
                              <a:lnTo>
                                <a:pt x="145" y="63"/>
                              </a:lnTo>
                              <a:lnTo>
                                <a:pt x="145" y="60"/>
                              </a:lnTo>
                              <a:lnTo>
                                <a:pt x="144" y="60"/>
                              </a:lnTo>
                              <a:lnTo>
                                <a:pt x="144" y="57"/>
                              </a:lnTo>
                              <a:lnTo>
                                <a:pt x="143" y="57"/>
                              </a:lnTo>
                              <a:lnTo>
                                <a:pt x="141" y="54"/>
                              </a:lnTo>
                              <a:lnTo>
                                <a:pt x="140" y="53"/>
                              </a:lnTo>
                              <a:lnTo>
                                <a:pt x="137" y="53"/>
                              </a:lnTo>
                              <a:lnTo>
                                <a:pt x="137" y="50"/>
                              </a:lnTo>
                              <a:lnTo>
                                <a:pt x="135" y="50"/>
                              </a:lnTo>
                              <a:lnTo>
                                <a:pt x="134" y="47"/>
                              </a:lnTo>
                              <a:lnTo>
                                <a:pt x="132" y="47"/>
                              </a:lnTo>
                              <a:lnTo>
                                <a:pt x="131" y="44"/>
                              </a:lnTo>
                              <a:lnTo>
                                <a:pt x="129" y="44"/>
                              </a:lnTo>
                              <a:lnTo>
                                <a:pt x="128" y="41"/>
                              </a:lnTo>
                              <a:lnTo>
                                <a:pt x="125" y="41"/>
                              </a:lnTo>
                              <a:lnTo>
                                <a:pt x="125" y="38"/>
                              </a:lnTo>
                              <a:lnTo>
                                <a:pt x="122" y="38"/>
                              </a:lnTo>
                              <a:lnTo>
                                <a:pt x="122" y="38"/>
                              </a:lnTo>
                              <a:lnTo>
                                <a:pt x="119" y="38"/>
                              </a:lnTo>
                              <a:lnTo>
                                <a:pt x="119" y="35"/>
                              </a:lnTo>
                              <a:lnTo>
                                <a:pt x="118" y="35"/>
                              </a:lnTo>
                              <a:lnTo>
                                <a:pt x="116" y="32"/>
                              </a:lnTo>
                              <a:lnTo>
                                <a:pt x="110" y="32"/>
                              </a:lnTo>
                              <a:lnTo>
                                <a:pt x="109" y="29"/>
                              </a:lnTo>
                              <a:lnTo>
                                <a:pt x="107" y="29"/>
                              </a:lnTo>
                              <a:lnTo>
                                <a:pt x="106" y="26"/>
                              </a:lnTo>
                              <a:lnTo>
                                <a:pt x="103" y="26"/>
                              </a:lnTo>
                              <a:lnTo>
                                <a:pt x="102" y="23"/>
                              </a:lnTo>
                              <a:lnTo>
                                <a:pt x="96" y="23"/>
                              </a:lnTo>
                              <a:lnTo>
                                <a:pt x="94" y="22"/>
                              </a:lnTo>
                              <a:lnTo>
                                <a:pt x="93" y="22"/>
                              </a:lnTo>
                              <a:lnTo>
                                <a:pt x="93" y="21"/>
                              </a:lnTo>
                              <a:lnTo>
                                <a:pt x="90" y="21"/>
                              </a:lnTo>
                              <a:lnTo>
                                <a:pt x="90" y="19"/>
                              </a:lnTo>
                              <a:lnTo>
                                <a:pt x="87" y="19"/>
                              </a:lnTo>
                              <a:lnTo>
                                <a:pt x="87" y="18"/>
                              </a:lnTo>
                              <a:lnTo>
                                <a:pt x="82" y="18"/>
                              </a:lnTo>
                              <a:lnTo>
                                <a:pt x="82" y="16"/>
                              </a:lnTo>
                              <a:lnTo>
                                <a:pt x="80" y="16"/>
                              </a:lnTo>
                              <a:lnTo>
                                <a:pt x="80" y="15"/>
                              </a:lnTo>
                              <a:lnTo>
                                <a:pt x="77" y="15"/>
                              </a:lnTo>
                              <a:lnTo>
                                <a:pt x="77" y="13"/>
                              </a:lnTo>
                              <a:lnTo>
                                <a:pt x="71" y="13"/>
                              </a:lnTo>
                              <a:lnTo>
                                <a:pt x="71" y="12"/>
                              </a:lnTo>
                              <a:lnTo>
                                <a:pt x="68" y="12"/>
                              </a:lnTo>
                              <a:lnTo>
                                <a:pt x="68" y="10"/>
                              </a:lnTo>
                              <a:lnTo>
                                <a:pt x="63" y="10"/>
                              </a:lnTo>
                              <a:lnTo>
                                <a:pt x="63" y="9"/>
                              </a:lnTo>
                              <a:lnTo>
                                <a:pt x="58" y="9"/>
                              </a:lnTo>
                              <a:lnTo>
                                <a:pt x="58" y="7"/>
                              </a:lnTo>
                              <a:lnTo>
                                <a:pt x="53" y="7"/>
                              </a:lnTo>
                              <a:lnTo>
                                <a:pt x="52" y="6"/>
                              </a:lnTo>
                              <a:lnTo>
                                <a:pt x="46" y="6"/>
                              </a:lnTo>
                              <a:lnTo>
                                <a:pt x="46" y="4"/>
                              </a:lnTo>
                              <a:lnTo>
                                <a:pt x="40" y="4"/>
                              </a:lnTo>
                              <a:lnTo>
                                <a:pt x="40" y="3"/>
                              </a:lnTo>
                              <a:lnTo>
                                <a:pt x="36" y="3"/>
                              </a:lnTo>
                              <a:lnTo>
                                <a:pt x="36" y="2"/>
                              </a:lnTo>
                              <a:lnTo>
                                <a:pt x="30" y="2"/>
                              </a:lnTo>
                              <a:lnTo>
                                <a:pt x="3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0" name=""/>
                        <p:cNvSpPr/>
                        <p:nvPr/>
                      </p:nvSpPr>
                      <p:spPr>
                        <a:xfrm>
                          <a:off x="7034040" y="2097000"/>
                          <a:ext cx="123840" cy="5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0" h="66">
                              <a:moveTo>
                                <a:pt x="0" y="0"/>
                              </a:moveTo>
                              <a:lnTo>
                                <a:pt x="27" y="0"/>
                              </a:lnTo>
                              <a:lnTo>
                                <a:pt x="30" y="0"/>
                              </a:lnTo>
                              <a:lnTo>
                                <a:pt x="33" y="2"/>
                              </a:lnTo>
                              <a:lnTo>
                                <a:pt x="36" y="2"/>
                              </a:lnTo>
                              <a:lnTo>
                                <a:pt x="39" y="3"/>
                              </a:lnTo>
                              <a:lnTo>
                                <a:pt x="40" y="3"/>
                              </a:lnTo>
                              <a:lnTo>
                                <a:pt x="44" y="4"/>
                              </a:lnTo>
                              <a:lnTo>
                                <a:pt x="47" y="4"/>
                              </a:lnTo>
                              <a:lnTo>
                                <a:pt x="49" y="6"/>
                              </a:lnTo>
                              <a:lnTo>
                                <a:pt x="52" y="6"/>
                              </a:lnTo>
                              <a:lnTo>
                                <a:pt x="55" y="7"/>
                              </a:lnTo>
                              <a:lnTo>
                                <a:pt x="58" y="9"/>
                              </a:lnTo>
                              <a:lnTo>
                                <a:pt x="59" y="9"/>
                              </a:lnTo>
                              <a:lnTo>
                                <a:pt x="62" y="10"/>
                              </a:lnTo>
                              <a:lnTo>
                                <a:pt x="65" y="10"/>
                              </a:lnTo>
                              <a:lnTo>
                                <a:pt x="68" y="12"/>
                              </a:lnTo>
                              <a:lnTo>
                                <a:pt x="69" y="12"/>
                              </a:lnTo>
                              <a:lnTo>
                                <a:pt x="72" y="13"/>
                              </a:lnTo>
                              <a:lnTo>
                                <a:pt x="74" y="15"/>
                              </a:lnTo>
                              <a:lnTo>
                                <a:pt x="78" y="15"/>
                              </a:lnTo>
                              <a:lnTo>
                                <a:pt x="80" y="16"/>
                              </a:lnTo>
                              <a:lnTo>
                                <a:pt x="81" y="16"/>
                              </a:lnTo>
                              <a:lnTo>
                                <a:pt x="84" y="16"/>
                              </a:lnTo>
                              <a:lnTo>
                                <a:pt x="85" y="18"/>
                              </a:lnTo>
                              <a:lnTo>
                                <a:pt x="88" y="18"/>
                              </a:lnTo>
                              <a:lnTo>
                                <a:pt x="91" y="19"/>
                              </a:lnTo>
                              <a:lnTo>
                                <a:pt x="93" y="21"/>
                              </a:lnTo>
                              <a:lnTo>
                                <a:pt x="94" y="21"/>
                              </a:lnTo>
                              <a:lnTo>
                                <a:pt x="99" y="23"/>
                              </a:lnTo>
                              <a:lnTo>
                                <a:pt x="102" y="25"/>
                              </a:lnTo>
                              <a:lnTo>
                                <a:pt x="103" y="25"/>
                              </a:lnTo>
                              <a:lnTo>
                                <a:pt x="106" y="28"/>
                              </a:lnTo>
                              <a:lnTo>
                                <a:pt x="107" y="28"/>
                              </a:lnTo>
                              <a:lnTo>
                                <a:pt x="113" y="32"/>
                              </a:lnTo>
                              <a:lnTo>
                                <a:pt x="116" y="34"/>
                              </a:lnTo>
                              <a:lnTo>
                                <a:pt x="118" y="34"/>
                              </a:lnTo>
                              <a:lnTo>
                                <a:pt x="121" y="37"/>
                              </a:lnTo>
                              <a:lnTo>
                                <a:pt x="121" y="38"/>
                              </a:lnTo>
                              <a:lnTo>
                                <a:pt x="124" y="40"/>
                              </a:lnTo>
                              <a:lnTo>
                                <a:pt x="125" y="40"/>
                              </a:lnTo>
                              <a:lnTo>
                                <a:pt x="135" y="48"/>
                              </a:lnTo>
                              <a:lnTo>
                                <a:pt x="135" y="50"/>
                              </a:lnTo>
                              <a:lnTo>
                                <a:pt x="137" y="50"/>
                              </a:lnTo>
                              <a:lnTo>
                                <a:pt x="140" y="51"/>
                              </a:lnTo>
                              <a:lnTo>
                                <a:pt x="140" y="53"/>
                              </a:lnTo>
                              <a:lnTo>
                                <a:pt x="144" y="56"/>
                              </a:lnTo>
                              <a:lnTo>
                                <a:pt x="144" y="57"/>
                              </a:lnTo>
                              <a:lnTo>
                                <a:pt x="147" y="60"/>
                              </a:lnTo>
                              <a:lnTo>
                                <a:pt x="147" y="62"/>
                              </a:lnTo>
                              <a:lnTo>
                                <a:pt x="148" y="63"/>
                              </a:lnTo>
                              <a:lnTo>
                                <a:pt x="148" y="65"/>
                              </a:lnTo>
                              <a:lnTo>
                                <a:pt x="150" y="66"/>
                              </a:lnTo>
                              <a:lnTo>
                                <a:pt x="0" y="66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1" name=""/>
                        <p:cNvSpPr/>
                        <p:nvPr/>
                      </p:nvSpPr>
                      <p:spPr>
                        <a:xfrm>
                          <a:off x="6817680" y="2095200"/>
                          <a:ext cx="6912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76">
                              <a:moveTo>
                                <a:pt x="60" y="0"/>
                              </a:moveTo>
                              <a:lnTo>
                                <a:pt x="60" y="1"/>
                              </a:lnTo>
                              <a:lnTo>
                                <a:pt x="53" y="1"/>
                              </a:lnTo>
                              <a:lnTo>
                                <a:pt x="53" y="3"/>
                              </a:lnTo>
                              <a:lnTo>
                                <a:pt x="47" y="3"/>
                              </a:lnTo>
                              <a:lnTo>
                                <a:pt x="47" y="4"/>
                              </a:lnTo>
                              <a:lnTo>
                                <a:pt x="43" y="4"/>
                              </a:lnTo>
                              <a:lnTo>
                                <a:pt x="43" y="5"/>
                              </a:lnTo>
                              <a:lnTo>
                                <a:pt x="40" y="8"/>
                              </a:lnTo>
                              <a:lnTo>
                                <a:pt x="40" y="10"/>
                              </a:lnTo>
                              <a:lnTo>
                                <a:pt x="35" y="10"/>
                              </a:lnTo>
                              <a:lnTo>
                                <a:pt x="35" y="13"/>
                              </a:lnTo>
                              <a:lnTo>
                                <a:pt x="34" y="13"/>
                              </a:lnTo>
                              <a:lnTo>
                                <a:pt x="34" y="16"/>
                              </a:lnTo>
                              <a:lnTo>
                                <a:pt x="31" y="16"/>
                              </a:lnTo>
                              <a:lnTo>
                                <a:pt x="31" y="20"/>
                              </a:lnTo>
                              <a:lnTo>
                                <a:pt x="30" y="20"/>
                              </a:lnTo>
                              <a:lnTo>
                                <a:pt x="30" y="23"/>
                              </a:lnTo>
                              <a:lnTo>
                                <a:pt x="28" y="23"/>
                              </a:lnTo>
                              <a:lnTo>
                                <a:pt x="28" y="27"/>
                              </a:lnTo>
                              <a:lnTo>
                                <a:pt x="25" y="27"/>
                              </a:lnTo>
                              <a:lnTo>
                                <a:pt x="25" y="32"/>
                              </a:lnTo>
                              <a:lnTo>
                                <a:pt x="24" y="32"/>
                              </a:lnTo>
                              <a:lnTo>
                                <a:pt x="24" y="35"/>
                              </a:lnTo>
                              <a:lnTo>
                                <a:pt x="22" y="35"/>
                              </a:lnTo>
                              <a:lnTo>
                                <a:pt x="22" y="38"/>
                              </a:lnTo>
                              <a:lnTo>
                                <a:pt x="19" y="38"/>
                              </a:lnTo>
                              <a:lnTo>
                                <a:pt x="19" y="42"/>
                              </a:lnTo>
                              <a:lnTo>
                                <a:pt x="18" y="42"/>
                              </a:lnTo>
                              <a:lnTo>
                                <a:pt x="18" y="46"/>
                              </a:lnTo>
                              <a:lnTo>
                                <a:pt x="16" y="46"/>
                              </a:lnTo>
                              <a:lnTo>
                                <a:pt x="16" y="48"/>
                              </a:lnTo>
                              <a:lnTo>
                                <a:pt x="13" y="48"/>
                              </a:lnTo>
                              <a:lnTo>
                                <a:pt x="13" y="52"/>
                              </a:lnTo>
                              <a:lnTo>
                                <a:pt x="12" y="52"/>
                              </a:lnTo>
                              <a:lnTo>
                                <a:pt x="12" y="57"/>
                              </a:lnTo>
                              <a:lnTo>
                                <a:pt x="11" y="57"/>
                              </a:lnTo>
                              <a:lnTo>
                                <a:pt x="11" y="60"/>
                              </a:lnTo>
                              <a:lnTo>
                                <a:pt x="9" y="60"/>
                              </a:lnTo>
                              <a:lnTo>
                                <a:pt x="9" y="63"/>
                              </a:lnTo>
                              <a:lnTo>
                                <a:pt x="6" y="63"/>
                              </a:lnTo>
                              <a:lnTo>
                                <a:pt x="6" y="67"/>
                              </a:lnTo>
                              <a:lnTo>
                                <a:pt x="5" y="67"/>
                              </a:lnTo>
                              <a:lnTo>
                                <a:pt x="5" y="71"/>
                              </a:lnTo>
                              <a:lnTo>
                                <a:pt x="2" y="71"/>
                              </a:lnTo>
                              <a:lnTo>
                                <a:pt x="2" y="74"/>
                              </a:lnTo>
                              <a:lnTo>
                                <a:pt x="0" y="74"/>
                              </a:lnTo>
                              <a:lnTo>
                                <a:pt x="0" y="76"/>
                              </a:lnTo>
                              <a:lnTo>
                                <a:pt x="84" y="76"/>
                              </a:lnTo>
                              <a:lnTo>
                                <a:pt x="84" y="0"/>
                              </a:lnTo>
                              <a:lnTo>
                                <a:pt x="6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2" name=""/>
                        <p:cNvSpPr/>
                        <p:nvPr/>
                      </p:nvSpPr>
                      <p:spPr>
                        <a:xfrm>
                          <a:off x="6817680" y="2095200"/>
                          <a:ext cx="60840" cy="5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67">
                              <a:moveTo>
                                <a:pt x="75" y="0"/>
                              </a:moveTo>
                              <a:lnTo>
                                <a:pt x="54" y="0"/>
                              </a:lnTo>
                              <a:lnTo>
                                <a:pt x="53" y="1"/>
                              </a:lnTo>
                              <a:lnTo>
                                <a:pt x="47" y="1"/>
                              </a:lnTo>
                              <a:lnTo>
                                <a:pt x="46" y="3"/>
                              </a:lnTo>
                              <a:lnTo>
                                <a:pt x="43" y="3"/>
                              </a:lnTo>
                              <a:lnTo>
                                <a:pt x="43" y="4"/>
                              </a:lnTo>
                              <a:lnTo>
                                <a:pt x="38" y="4"/>
                              </a:lnTo>
                              <a:lnTo>
                                <a:pt x="38" y="5"/>
                              </a:lnTo>
                              <a:lnTo>
                                <a:pt x="37" y="5"/>
                              </a:lnTo>
                              <a:lnTo>
                                <a:pt x="37" y="7"/>
                              </a:lnTo>
                              <a:lnTo>
                                <a:pt x="35" y="7"/>
                              </a:lnTo>
                              <a:lnTo>
                                <a:pt x="31" y="10"/>
                              </a:lnTo>
                              <a:lnTo>
                                <a:pt x="31" y="11"/>
                              </a:lnTo>
                              <a:lnTo>
                                <a:pt x="30" y="11"/>
                              </a:lnTo>
                              <a:lnTo>
                                <a:pt x="30" y="13"/>
                              </a:lnTo>
                              <a:lnTo>
                                <a:pt x="28" y="14"/>
                              </a:lnTo>
                              <a:lnTo>
                                <a:pt x="28" y="16"/>
                              </a:lnTo>
                              <a:lnTo>
                                <a:pt x="0" y="67"/>
                              </a:lnTo>
                              <a:lnTo>
                                <a:pt x="75" y="67"/>
                              </a:lnTo>
                              <a:lnTo>
                                <a:pt x="75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3" name=""/>
                        <p:cNvSpPr/>
                        <p:nvPr/>
                      </p:nvSpPr>
                      <p:spPr>
                        <a:xfrm>
                          <a:off x="6860160" y="2260080"/>
                          <a:ext cx="236520" cy="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4" name=""/>
                        <p:cNvSpPr/>
                        <p:nvPr/>
                      </p:nvSpPr>
                      <p:spPr>
                        <a:xfrm>
                          <a:off x="6675120" y="2185560"/>
                          <a:ext cx="185040" cy="72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90">
                              <a:moveTo>
                                <a:pt x="0" y="18"/>
                              </a:moveTo>
                              <a:lnTo>
                                <a:pt x="4" y="17"/>
                              </a:lnTo>
                              <a:lnTo>
                                <a:pt x="10" y="15"/>
                              </a:lnTo>
                              <a:lnTo>
                                <a:pt x="13" y="14"/>
                              </a:lnTo>
                              <a:lnTo>
                                <a:pt x="19" y="12"/>
                              </a:lnTo>
                              <a:lnTo>
                                <a:pt x="23" y="11"/>
                              </a:lnTo>
                              <a:lnTo>
                                <a:pt x="29" y="9"/>
                              </a:lnTo>
                              <a:lnTo>
                                <a:pt x="32" y="8"/>
                              </a:lnTo>
                              <a:lnTo>
                                <a:pt x="38" y="6"/>
                              </a:lnTo>
                              <a:lnTo>
                                <a:pt x="42" y="5"/>
                              </a:lnTo>
                              <a:lnTo>
                                <a:pt x="45" y="5"/>
                              </a:lnTo>
                              <a:lnTo>
                                <a:pt x="51" y="3"/>
                              </a:lnTo>
                              <a:lnTo>
                                <a:pt x="54" y="3"/>
                              </a:lnTo>
                              <a:lnTo>
                                <a:pt x="60" y="2"/>
                              </a:lnTo>
                              <a:lnTo>
                                <a:pt x="69" y="2"/>
                              </a:lnTo>
                              <a:lnTo>
                                <a:pt x="73" y="0"/>
                              </a:lnTo>
                              <a:lnTo>
                                <a:pt x="101" y="0"/>
                              </a:lnTo>
                              <a:lnTo>
                                <a:pt x="105" y="2"/>
                              </a:lnTo>
                              <a:lnTo>
                                <a:pt x="111" y="2"/>
                              </a:lnTo>
                              <a:lnTo>
                                <a:pt x="117" y="3"/>
                              </a:lnTo>
                              <a:lnTo>
                                <a:pt x="120" y="3"/>
                              </a:lnTo>
                              <a:lnTo>
                                <a:pt x="124" y="5"/>
                              </a:lnTo>
                              <a:lnTo>
                                <a:pt x="127" y="6"/>
                              </a:lnTo>
                              <a:lnTo>
                                <a:pt x="130" y="6"/>
                              </a:lnTo>
                              <a:lnTo>
                                <a:pt x="135" y="8"/>
                              </a:lnTo>
                              <a:lnTo>
                                <a:pt x="138" y="9"/>
                              </a:lnTo>
                              <a:lnTo>
                                <a:pt x="142" y="11"/>
                              </a:lnTo>
                              <a:lnTo>
                                <a:pt x="145" y="12"/>
                              </a:lnTo>
                              <a:lnTo>
                                <a:pt x="148" y="14"/>
                              </a:lnTo>
                              <a:lnTo>
                                <a:pt x="152" y="15"/>
                              </a:lnTo>
                              <a:lnTo>
                                <a:pt x="155" y="17"/>
                              </a:lnTo>
                              <a:lnTo>
                                <a:pt x="157" y="18"/>
                              </a:lnTo>
                              <a:lnTo>
                                <a:pt x="161" y="19"/>
                              </a:lnTo>
                              <a:lnTo>
                                <a:pt x="164" y="22"/>
                              </a:lnTo>
                              <a:lnTo>
                                <a:pt x="167" y="24"/>
                              </a:lnTo>
                              <a:lnTo>
                                <a:pt x="176" y="30"/>
                              </a:lnTo>
                              <a:lnTo>
                                <a:pt x="180" y="31"/>
                              </a:lnTo>
                              <a:lnTo>
                                <a:pt x="182" y="34"/>
                              </a:lnTo>
                              <a:lnTo>
                                <a:pt x="184" y="37"/>
                              </a:lnTo>
                              <a:lnTo>
                                <a:pt x="186" y="40"/>
                              </a:lnTo>
                              <a:lnTo>
                                <a:pt x="193" y="46"/>
                              </a:lnTo>
                              <a:lnTo>
                                <a:pt x="195" y="49"/>
                              </a:lnTo>
                              <a:lnTo>
                                <a:pt x="199" y="52"/>
                              </a:lnTo>
                              <a:lnTo>
                                <a:pt x="201" y="55"/>
                              </a:lnTo>
                              <a:lnTo>
                                <a:pt x="202" y="58"/>
                              </a:lnTo>
                              <a:lnTo>
                                <a:pt x="205" y="60"/>
                              </a:lnTo>
                              <a:lnTo>
                                <a:pt x="208" y="65"/>
                              </a:lnTo>
                              <a:lnTo>
                                <a:pt x="209" y="68"/>
                              </a:lnTo>
                              <a:lnTo>
                                <a:pt x="212" y="72"/>
                              </a:lnTo>
                              <a:lnTo>
                                <a:pt x="214" y="74"/>
                              </a:lnTo>
                              <a:lnTo>
                                <a:pt x="215" y="78"/>
                              </a:lnTo>
                              <a:lnTo>
                                <a:pt x="218" y="81"/>
                              </a:lnTo>
                              <a:lnTo>
                                <a:pt x="221" y="85"/>
                              </a:lnTo>
                              <a:lnTo>
                                <a:pt x="223" y="9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5" name=""/>
                        <p:cNvSpPr/>
                        <p:nvPr/>
                      </p:nvSpPr>
                      <p:spPr>
                        <a:xfrm>
                          <a:off x="7086960" y="2176200"/>
                          <a:ext cx="128880" cy="8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07">
                              <a:moveTo>
                                <a:pt x="0" y="107"/>
                              </a:moveTo>
                              <a:lnTo>
                                <a:pt x="0" y="103"/>
                              </a:lnTo>
                              <a:lnTo>
                                <a:pt x="1" y="100"/>
                              </a:lnTo>
                              <a:lnTo>
                                <a:pt x="1" y="93"/>
                              </a:lnTo>
                              <a:lnTo>
                                <a:pt x="4" y="90"/>
                              </a:lnTo>
                              <a:lnTo>
                                <a:pt x="4" y="84"/>
                              </a:lnTo>
                              <a:lnTo>
                                <a:pt x="6" y="81"/>
                              </a:lnTo>
                              <a:lnTo>
                                <a:pt x="6" y="78"/>
                              </a:lnTo>
                              <a:lnTo>
                                <a:pt x="7" y="73"/>
                              </a:lnTo>
                              <a:lnTo>
                                <a:pt x="9" y="71"/>
                              </a:lnTo>
                              <a:lnTo>
                                <a:pt x="9" y="68"/>
                              </a:lnTo>
                              <a:lnTo>
                                <a:pt x="10" y="65"/>
                              </a:lnTo>
                              <a:lnTo>
                                <a:pt x="12" y="62"/>
                              </a:lnTo>
                              <a:lnTo>
                                <a:pt x="12" y="59"/>
                              </a:lnTo>
                              <a:lnTo>
                                <a:pt x="15" y="56"/>
                              </a:lnTo>
                              <a:lnTo>
                                <a:pt x="16" y="54"/>
                              </a:lnTo>
                              <a:lnTo>
                                <a:pt x="17" y="51"/>
                              </a:lnTo>
                              <a:lnTo>
                                <a:pt x="19" y="50"/>
                              </a:lnTo>
                              <a:lnTo>
                                <a:pt x="20" y="47"/>
                              </a:lnTo>
                              <a:lnTo>
                                <a:pt x="23" y="46"/>
                              </a:lnTo>
                              <a:lnTo>
                                <a:pt x="25" y="43"/>
                              </a:lnTo>
                              <a:lnTo>
                                <a:pt x="26" y="40"/>
                              </a:lnTo>
                              <a:lnTo>
                                <a:pt x="28" y="38"/>
                              </a:lnTo>
                              <a:lnTo>
                                <a:pt x="29" y="35"/>
                              </a:lnTo>
                              <a:lnTo>
                                <a:pt x="31" y="34"/>
                              </a:lnTo>
                              <a:lnTo>
                                <a:pt x="34" y="31"/>
                              </a:lnTo>
                              <a:lnTo>
                                <a:pt x="37" y="30"/>
                              </a:lnTo>
                              <a:lnTo>
                                <a:pt x="38" y="28"/>
                              </a:lnTo>
                              <a:lnTo>
                                <a:pt x="39" y="25"/>
                              </a:lnTo>
                              <a:lnTo>
                                <a:pt x="44" y="24"/>
                              </a:lnTo>
                              <a:lnTo>
                                <a:pt x="47" y="21"/>
                              </a:lnTo>
                              <a:lnTo>
                                <a:pt x="50" y="21"/>
                              </a:lnTo>
                              <a:lnTo>
                                <a:pt x="53" y="19"/>
                              </a:lnTo>
                              <a:lnTo>
                                <a:pt x="56" y="18"/>
                              </a:lnTo>
                              <a:lnTo>
                                <a:pt x="57" y="16"/>
                              </a:lnTo>
                              <a:lnTo>
                                <a:pt x="60" y="15"/>
                              </a:lnTo>
                              <a:lnTo>
                                <a:pt x="64" y="13"/>
                              </a:lnTo>
                              <a:lnTo>
                                <a:pt x="66" y="12"/>
                              </a:lnTo>
                              <a:lnTo>
                                <a:pt x="69" y="10"/>
                              </a:lnTo>
                              <a:lnTo>
                                <a:pt x="72" y="9"/>
                              </a:lnTo>
                              <a:lnTo>
                                <a:pt x="76" y="9"/>
                              </a:lnTo>
                              <a:lnTo>
                                <a:pt x="79" y="8"/>
                              </a:lnTo>
                              <a:lnTo>
                                <a:pt x="80" y="6"/>
                              </a:lnTo>
                              <a:lnTo>
                                <a:pt x="85" y="6"/>
                              </a:lnTo>
                              <a:lnTo>
                                <a:pt x="88" y="5"/>
                              </a:lnTo>
                              <a:lnTo>
                                <a:pt x="91" y="5"/>
                              </a:lnTo>
                              <a:lnTo>
                                <a:pt x="95" y="3"/>
                              </a:lnTo>
                              <a:lnTo>
                                <a:pt x="102" y="3"/>
                              </a:lnTo>
                              <a:lnTo>
                                <a:pt x="107" y="2"/>
                              </a:lnTo>
                              <a:lnTo>
                                <a:pt x="122" y="2"/>
                              </a:lnTo>
                              <a:lnTo>
                                <a:pt x="126" y="0"/>
                              </a:lnTo>
                              <a:lnTo>
                                <a:pt x="142" y="0"/>
                              </a:lnTo>
                              <a:lnTo>
                                <a:pt x="146" y="2"/>
                              </a:lnTo>
                              <a:lnTo>
                                <a:pt x="155" y="2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6" name=""/>
                        <p:cNvSpPr/>
                        <p:nvPr/>
                      </p:nvSpPr>
                      <p:spPr>
                        <a:xfrm>
                          <a:off x="6661800" y="2206800"/>
                          <a:ext cx="7920" cy="36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7" name=""/>
                        <p:cNvSpPr/>
                        <p:nvPr/>
                      </p:nvSpPr>
                      <p:spPr>
                        <a:xfrm>
                          <a:off x="6688440" y="2230920"/>
                          <a:ext cx="133560" cy="104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8" name=""/>
                        <p:cNvSpPr/>
                        <p:nvPr/>
                      </p:nvSpPr>
                      <p:spPr>
                        <a:xfrm>
                          <a:off x="7110000" y="2230920"/>
                          <a:ext cx="138960" cy="1047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9" name=""/>
                        <p:cNvSpPr/>
                        <p:nvPr/>
                      </p:nvSpPr>
                      <p:spPr>
                        <a:xfrm>
                          <a:off x="6819120" y="2148480"/>
                          <a:ext cx="1440" cy="6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0" name=""/>
                        <p:cNvSpPr/>
                        <p:nvPr/>
                      </p:nvSpPr>
                      <p:spPr>
                        <a:xfrm>
                          <a:off x="7019280" y="2086920"/>
                          <a:ext cx="1440" cy="18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1" name=""/>
                        <p:cNvSpPr/>
                        <p:nvPr/>
                      </p:nvSpPr>
                      <p:spPr>
                        <a:xfrm>
                          <a:off x="7151400" y="2260080"/>
                          <a:ext cx="57960" cy="4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2" name=""/>
                        <p:cNvSpPr/>
                        <p:nvPr/>
                      </p:nvSpPr>
                      <p:spPr>
                        <a:xfrm>
                          <a:off x="6726240" y="2260080"/>
                          <a:ext cx="57600" cy="4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73" name=""/>
                      <p:cNvSpPr/>
                      <p:nvPr/>
                    </p:nvSpPr>
                    <p:spPr>
                      <a:xfrm>
                        <a:off x="6877080" y="2198880"/>
                        <a:ext cx="61200" cy="45000"/>
                      </a:xfrm>
                      <a:prstGeom prst="roundRect">
                        <a:avLst>
                          <a:gd name="adj" fmla="val 9782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4" name=""/>
                      <p:cNvSpPr/>
                      <p:nvPr/>
                    </p:nvSpPr>
                    <p:spPr>
                      <a:xfrm flipV="1">
                        <a:off x="6933240" y="2209680"/>
                        <a:ext cx="30960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5" name=""/>
                      <p:cNvSpPr/>
                      <p:nvPr/>
                    </p:nvSpPr>
                    <p:spPr>
                      <a:xfrm>
                        <a:off x="7237800" y="2200320"/>
                        <a:ext cx="25920" cy="15840"/>
                      </a:xfrm>
                      <a:prstGeom prst="roundRect">
                        <a:avLst>
                          <a:gd name="adj" fmla="val 6819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6" name=""/>
                      <p:cNvSpPr/>
                      <p:nvPr/>
                    </p:nvSpPr>
                    <p:spPr>
                      <a:xfrm flipV="1">
                        <a:off x="7249680" y="2094840"/>
                        <a:ext cx="1440" cy="109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7" name=""/>
                      <p:cNvSpPr/>
                      <p:nvPr/>
                    </p:nvSpPr>
                    <p:spPr>
                      <a:xfrm flipV="1">
                        <a:off x="7251120" y="2103120"/>
                        <a:ext cx="19800" cy="32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8" name=""/>
                      <p:cNvSpPr/>
                      <p:nvPr/>
                    </p:nvSpPr>
                    <p:spPr>
                      <a:xfrm flipH="1" flipV="1">
                        <a:off x="7226280" y="2101320"/>
                        <a:ext cx="2952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79" name=""/>
                    <p:cNvSpPr/>
                    <p:nvPr/>
                  </p:nvSpPr>
                  <p:spPr>
                    <a:xfrm flipH="1" flipV="1">
                      <a:off x="6512760" y="1801080"/>
                      <a:ext cx="375840" cy="414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 flipV="1">
                      <a:off x="6933240" y="1790280"/>
                      <a:ext cx="29880" cy="41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1" name=""/>
                    <p:cNvGrpSpPr/>
                    <p:nvPr/>
                  </p:nvGrpSpPr>
                  <p:grpSpPr>
                    <a:xfrm>
                      <a:off x="6208200" y="982440"/>
                      <a:ext cx="226440" cy="253440"/>
                      <a:chOff x="6208200" y="982440"/>
                      <a:chExt cx="226440" cy="253440"/>
                    </a:xfrm>
                  </p:grpSpPr>
                  <p:sp>
                    <p:nvSpPr>
                      <p:cNvPr id="2382" name=""/>
                      <p:cNvSpPr/>
                      <p:nvPr/>
                    </p:nvSpPr>
                    <p:spPr>
                      <a:xfrm>
                        <a:off x="6335280" y="1100160"/>
                        <a:ext cx="529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68">
                            <a:moveTo>
                              <a:pt x="19" y="0"/>
                            </a:moveTo>
                            <a:lnTo>
                              <a:pt x="18" y="2"/>
                            </a:lnTo>
                            <a:lnTo>
                              <a:pt x="15" y="2"/>
                            </a:lnTo>
                            <a:lnTo>
                              <a:pt x="13" y="3"/>
                            </a:lnTo>
                            <a:lnTo>
                              <a:pt x="12" y="5"/>
                            </a:lnTo>
                            <a:lnTo>
                              <a:pt x="9" y="5"/>
                            </a:lnTo>
                            <a:lnTo>
                              <a:pt x="8" y="6"/>
                            </a:lnTo>
                            <a:lnTo>
                              <a:pt x="6" y="8"/>
                            </a:lnTo>
                            <a:lnTo>
                              <a:pt x="5" y="9"/>
                            </a:lnTo>
                            <a:lnTo>
                              <a:pt x="3" y="12"/>
                            </a:lnTo>
                            <a:lnTo>
                              <a:pt x="3" y="14"/>
                            </a:lnTo>
                            <a:lnTo>
                              <a:pt x="2" y="17"/>
                            </a:lnTo>
                            <a:lnTo>
                              <a:pt x="2" y="20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" y="34"/>
                            </a:lnTo>
                            <a:lnTo>
                              <a:pt x="3" y="36"/>
                            </a:lnTo>
                            <a:lnTo>
                              <a:pt x="3" y="39"/>
                            </a:lnTo>
                            <a:lnTo>
                              <a:pt x="5" y="41"/>
                            </a:lnTo>
                            <a:lnTo>
                              <a:pt x="6" y="44"/>
                            </a:lnTo>
                            <a:lnTo>
                              <a:pt x="8" y="46"/>
                            </a:lnTo>
                            <a:lnTo>
                              <a:pt x="9" y="49"/>
                            </a:lnTo>
                            <a:lnTo>
                              <a:pt x="12" y="52"/>
                            </a:lnTo>
                            <a:lnTo>
                              <a:pt x="13" y="53"/>
                            </a:lnTo>
                            <a:lnTo>
                              <a:pt x="15" y="56"/>
                            </a:lnTo>
                            <a:lnTo>
                              <a:pt x="16" y="58"/>
                            </a:lnTo>
                            <a:lnTo>
                              <a:pt x="19" y="59"/>
                            </a:lnTo>
                            <a:lnTo>
                              <a:pt x="22" y="61"/>
                            </a:lnTo>
                            <a:lnTo>
                              <a:pt x="24" y="62"/>
                            </a:lnTo>
                            <a:lnTo>
                              <a:pt x="27" y="63"/>
                            </a:lnTo>
                            <a:lnTo>
                              <a:pt x="30" y="65"/>
                            </a:lnTo>
                            <a:lnTo>
                              <a:pt x="31" y="66"/>
                            </a:lnTo>
                            <a:lnTo>
                              <a:pt x="34" y="66"/>
                            </a:lnTo>
                            <a:lnTo>
                              <a:pt x="37" y="66"/>
                            </a:lnTo>
                            <a:lnTo>
                              <a:pt x="40" y="68"/>
                            </a:lnTo>
                            <a:lnTo>
                              <a:pt x="44" y="68"/>
                            </a:lnTo>
                            <a:lnTo>
                              <a:pt x="47" y="66"/>
                            </a:lnTo>
                            <a:lnTo>
                              <a:pt x="49" y="66"/>
                            </a:lnTo>
                            <a:lnTo>
                              <a:pt x="52" y="66"/>
                            </a:lnTo>
                            <a:lnTo>
                              <a:pt x="53" y="65"/>
                            </a:lnTo>
                            <a:lnTo>
                              <a:pt x="56" y="63"/>
                            </a:lnTo>
                            <a:lnTo>
                              <a:pt x="59" y="61"/>
                            </a:lnTo>
                            <a:lnTo>
                              <a:pt x="60" y="59"/>
                            </a:lnTo>
                            <a:lnTo>
                              <a:pt x="60" y="58"/>
                            </a:lnTo>
                            <a:lnTo>
                              <a:pt x="62" y="56"/>
                            </a:lnTo>
                            <a:lnTo>
                              <a:pt x="63" y="53"/>
                            </a:lnTo>
                            <a:lnTo>
                              <a:pt x="65" y="52"/>
                            </a:lnTo>
                            <a:lnTo>
                              <a:pt x="65" y="49"/>
                            </a:lnTo>
                            <a:lnTo>
                              <a:pt x="65" y="37"/>
                            </a:lnTo>
                            <a:lnTo>
                              <a:pt x="65" y="34"/>
                            </a:lnTo>
                            <a:lnTo>
                              <a:pt x="63" y="31"/>
                            </a:lnTo>
                            <a:lnTo>
                              <a:pt x="62" y="28"/>
                            </a:lnTo>
                            <a:lnTo>
                              <a:pt x="60" y="27"/>
                            </a:lnTo>
                            <a:lnTo>
                              <a:pt x="60" y="24"/>
                            </a:lnTo>
                            <a:lnTo>
                              <a:pt x="59" y="21"/>
                            </a:lnTo>
                            <a:lnTo>
                              <a:pt x="57" y="20"/>
                            </a:lnTo>
                            <a:lnTo>
                              <a:pt x="56" y="17"/>
                            </a:lnTo>
                            <a:lnTo>
                              <a:pt x="44" y="6"/>
                            </a:lnTo>
                            <a:lnTo>
                              <a:pt x="41" y="5"/>
                            </a:lnTo>
                            <a:lnTo>
                              <a:pt x="40" y="5"/>
                            </a:lnTo>
                            <a:lnTo>
                              <a:pt x="37" y="3"/>
                            </a:lnTo>
                            <a:lnTo>
                              <a:pt x="34" y="2"/>
                            </a:lnTo>
                            <a:lnTo>
                              <a:pt x="33" y="2"/>
                            </a:lnTo>
                            <a:lnTo>
                              <a:pt x="30" y="0"/>
                            </a:lnTo>
                            <a:lnTo>
                              <a:pt x="19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3" name=""/>
                      <p:cNvSpPr/>
                      <p:nvPr/>
                    </p:nvSpPr>
                    <p:spPr>
                      <a:xfrm>
                        <a:off x="6353640" y="1098720"/>
                        <a:ext cx="2628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53">
                            <a:moveTo>
                              <a:pt x="16" y="53"/>
                            </a:moveTo>
                            <a:lnTo>
                              <a:pt x="19" y="51"/>
                            </a:lnTo>
                            <a:lnTo>
                              <a:pt x="26" y="45"/>
                            </a:lnTo>
                            <a:lnTo>
                              <a:pt x="28" y="42"/>
                            </a:lnTo>
                            <a:lnTo>
                              <a:pt x="28" y="41"/>
                            </a:lnTo>
                            <a:lnTo>
                              <a:pt x="29" y="40"/>
                            </a:lnTo>
                            <a:lnTo>
                              <a:pt x="29" y="37"/>
                            </a:lnTo>
                            <a:lnTo>
                              <a:pt x="30" y="35"/>
                            </a:lnTo>
                            <a:lnTo>
                              <a:pt x="30" y="29"/>
                            </a:lnTo>
                            <a:lnTo>
                              <a:pt x="29" y="26"/>
                            </a:lnTo>
                            <a:lnTo>
                              <a:pt x="29" y="23"/>
                            </a:lnTo>
                            <a:lnTo>
                              <a:pt x="29" y="22"/>
                            </a:lnTo>
                            <a:lnTo>
                              <a:pt x="28" y="21"/>
                            </a:lnTo>
                            <a:lnTo>
                              <a:pt x="28" y="19"/>
                            </a:lnTo>
                            <a:lnTo>
                              <a:pt x="26" y="16"/>
                            </a:lnTo>
                            <a:lnTo>
                              <a:pt x="25" y="15"/>
                            </a:lnTo>
                            <a:lnTo>
                              <a:pt x="23" y="12"/>
                            </a:lnTo>
                            <a:lnTo>
                              <a:pt x="16" y="6"/>
                            </a:lnTo>
                            <a:lnTo>
                              <a:pt x="14" y="4"/>
                            </a:lnTo>
                            <a:lnTo>
                              <a:pt x="11" y="4"/>
                            </a:lnTo>
                            <a:lnTo>
                              <a:pt x="10" y="3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4" name=""/>
                      <p:cNvSpPr/>
                      <p:nvPr/>
                    </p:nvSpPr>
                    <p:spPr>
                      <a:xfrm>
                        <a:off x="6340680" y="1103400"/>
                        <a:ext cx="3420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47">
                            <a:moveTo>
                              <a:pt x="23" y="47"/>
                            </a:moveTo>
                            <a:lnTo>
                              <a:pt x="25" y="47"/>
                            </a:lnTo>
                            <a:lnTo>
                              <a:pt x="27" y="45"/>
                            </a:lnTo>
                            <a:lnTo>
                              <a:pt x="30" y="44"/>
                            </a:lnTo>
                            <a:lnTo>
                              <a:pt x="35" y="39"/>
                            </a:lnTo>
                            <a:lnTo>
                              <a:pt x="36" y="38"/>
                            </a:lnTo>
                            <a:lnTo>
                              <a:pt x="38" y="36"/>
                            </a:lnTo>
                            <a:lnTo>
                              <a:pt x="39" y="34"/>
                            </a:lnTo>
                            <a:lnTo>
                              <a:pt x="39" y="32"/>
                            </a:lnTo>
                            <a:lnTo>
                              <a:pt x="41" y="31"/>
                            </a:lnTo>
                            <a:lnTo>
                              <a:pt x="41" y="28"/>
                            </a:lnTo>
                            <a:lnTo>
                              <a:pt x="41" y="26"/>
                            </a:lnTo>
                            <a:lnTo>
                              <a:pt x="41" y="25"/>
                            </a:lnTo>
                            <a:lnTo>
                              <a:pt x="41" y="22"/>
                            </a:lnTo>
                            <a:lnTo>
                              <a:pt x="41" y="20"/>
                            </a:lnTo>
                            <a:lnTo>
                              <a:pt x="39" y="17"/>
                            </a:lnTo>
                            <a:lnTo>
                              <a:pt x="39" y="16"/>
                            </a:lnTo>
                            <a:lnTo>
                              <a:pt x="36" y="15"/>
                            </a:lnTo>
                            <a:lnTo>
                              <a:pt x="36" y="13"/>
                            </a:lnTo>
                            <a:lnTo>
                              <a:pt x="29" y="6"/>
                            </a:lnTo>
                            <a:lnTo>
                              <a:pt x="26" y="4"/>
                            </a:lnTo>
                            <a:lnTo>
                              <a:pt x="25" y="4"/>
                            </a:lnTo>
                            <a:lnTo>
                              <a:pt x="22" y="3"/>
                            </a:lnTo>
                            <a:lnTo>
                              <a:pt x="19" y="1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"/>
                      <p:cNvSpPr/>
                      <p:nvPr/>
                    </p:nvSpPr>
                    <p:spPr>
                      <a:xfrm>
                        <a:off x="6340680" y="1118160"/>
                        <a:ext cx="212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10" y="0"/>
                            </a:moveTo>
                            <a:lnTo>
                              <a:pt x="9" y="2"/>
                            </a:lnTo>
                            <a:lnTo>
                              <a:pt x="7" y="2"/>
                            </a:lnTo>
                            <a:lnTo>
                              <a:pt x="7" y="2"/>
                            </a:lnTo>
                            <a:lnTo>
                              <a:pt x="6" y="2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3" y="5"/>
                            </a:lnTo>
                            <a:lnTo>
                              <a:pt x="3" y="5"/>
                            </a:lnTo>
                            <a:lnTo>
                              <a:pt x="2" y="6"/>
                            </a:lnTo>
                            <a:lnTo>
                              <a:pt x="2" y="8"/>
                            </a:lnTo>
                            <a:lnTo>
                              <a:pt x="2" y="8"/>
                            </a:lnTo>
                            <a:lnTo>
                              <a:pt x="2" y="9"/>
                            </a:lnTo>
                            <a:lnTo>
                              <a:pt x="0" y="11"/>
                            </a:lnTo>
                            <a:lnTo>
                              <a:pt x="0" y="14"/>
                            </a:lnTo>
                            <a:lnTo>
                              <a:pt x="2" y="14"/>
                            </a:lnTo>
                            <a:lnTo>
                              <a:pt x="2" y="18"/>
                            </a:lnTo>
                            <a:lnTo>
                              <a:pt x="3" y="19"/>
                            </a:lnTo>
                            <a:lnTo>
                              <a:pt x="3" y="19"/>
                            </a:lnTo>
                            <a:lnTo>
                              <a:pt x="3" y="21"/>
                            </a:lnTo>
                            <a:lnTo>
                              <a:pt x="7" y="24"/>
                            </a:lnTo>
                            <a:lnTo>
                              <a:pt x="7" y="24"/>
                            </a:lnTo>
                            <a:lnTo>
                              <a:pt x="9" y="24"/>
                            </a:lnTo>
                            <a:lnTo>
                              <a:pt x="10" y="25"/>
                            </a:lnTo>
                            <a:lnTo>
                              <a:pt x="10" y="25"/>
                            </a:lnTo>
                            <a:lnTo>
                              <a:pt x="12" y="25"/>
                            </a:lnTo>
                            <a:lnTo>
                              <a:pt x="12" y="25"/>
                            </a:lnTo>
                            <a:lnTo>
                              <a:pt x="15" y="27"/>
                            </a:lnTo>
                            <a:lnTo>
                              <a:pt x="16" y="27"/>
                            </a:lnTo>
                            <a:lnTo>
                              <a:pt x="18" y="25"/>
                            </a:lnTo>
                            <a:lnTo>
                              <a:pt x="19" y="25"/>
                            </a:lnTo>
                            <a:lnTo>
                              <a:pt x="19" y="25"/>
                            </a:lnTo>
                            <a:lnTo>
                              <a:pt x="21" y="25"/>
                            </a:lnTo>
                            <a:lnTo>
                              <a:pt x="21" y="24"/>
                            </a:lnTo>
                            <a:lnTo>
                              <a:pt x="22" y="24"/>
                            </a:lnTo>
                            <a:lnTo>
                              <a:pt x="24" y="24"/>
                            </a:lnTo>
                            <a:lnTo>
                              <a:pt x="24" y="24"/>
                            </a:lnTo>
                            <a:lnTo>
                              <a:pt x="25" y="21"/>
                            </a:lnTo>
                            <a:lnTo>
                              <a:pt x="25" y="19"/>
                            </a:lnTo>
                            <a:lnTo>
                              <a:pt x="27" y="18"/>
                            </a:lnTo>
                            <a:lnTo>
                              <a:pt x="27" y="12"/>
                            </a:lnTo>
                            <a:lnTo>
                              <a:pt x="25" y="11"/>
                            </a:lnTo>
                            <a:lnTo>
                              <a:pt x="25" y="11"/>
                            </a:lnTo>
                            <a:lnTo>
                              <a:pt x="25" y="9"/>
                            </a:lnTo>
                            <a:lnTo>
                              <a:pt x="25" y="9"/>
                            </a:lnTo>
                            <a:lnTo>
                              <a:pt x="24" y="8"/>
                            </a:lnTo>
                            <a:lnTo>
                              <a:pt x="22" y="6"/>
                            </a:lnTo>
                            <a:lnTo>
                              <a:pt x="21" y="6"/>
                            </a:lnTo>
                            <a:lnTo>
                              <a:pt x="21" y="5"/>
                            </a:lnTo>
                            <a:lnTo>
                              <a:pt x="19" y="5"/>
                            </a:lnTo>
                            <a:lnTo>
                              <a:pt x="18" y="2"/>
                            </a:lnTo>
                            <a:lnTo>
                              <a:pt x="16" y="2"/>
                            </a:lnTo>
                            <a:lnTo>
                              <a:pt x="15" y="2"/>
                            </a:lnTo>
                            <a:lnTo>
                              <a:pt x="15" y="2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6" name=""/>
                      <p:cNvSpPr/>
                      <p:nvPr/>
                    </p:nvSpPr>
                    <p:spPr>
                      <a:xfrm>
                        <a:off x="6340680" y="1105200"/>
                        <a:ext cx="129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4">
                            <a:moveTo>
                              <a:pt x="3" y="2"/>
                            </a:move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3"/>
                            </a:lnTo>
                            <a:lnTo>
                              <a:pt x="0" y="8"/>
                            </a:lnTo>
                            <a:lnTo>
                              <a:pt x="1" y="8"/>
                            </a:lnTo>
                            <a:lnTo>
                              <a:pt x="1" y="11"/>
                            </a:lnTo>
                            <a:lnTo>
                              <a:pt x="1" y="11"/>
                            </a:lnTo>
                            <a:lnTo>
                              <a:pt x="4" y="12"/>
                            </a:lnTo>
                            <a:lnTo>
                              <a:pt x="5" y="12"/>
                            </a:lnTo>
                            <a:lnTo>
                              <a:pt x="5" y="14"/>
                            </a:lnTo>
                            <a:lnTo>
                              <a:pt x="7" y="14"/>
                            </a:lnTo>
                            <a:lnTo>
                              <a:pt x="7" y="14"/>
                            </a:lnTo>
                            <a:lnTo>
                              <a:pt x="11" y="14"/>
                            </a:lnTo>
                            <a:lnTo>
                              <a:pt x="11" y="14"/>
                            </a:lnTo>
                            <a:lnTo>
                              <a:pt x="13" y="14"/>
                            </a:lnTo>
                            <a:lnTo>
                              <a:pt x="13" y="12"/>
                            </a:lnTo>
                            <a:lnTo>
                              <a:pt x="13" y="12"/>
                            </a:lnTo>
                            <a:lnTo>
                              <a:pt x="13" y="12"/>
                            </a:lnTo>
                            <a:lnTo>
                              <a:pt x="14" y="11"/>
                            </a:lnTo>
                            <a:lnTo>
                              <a:pt x="14" y="8"/>
                            </a:lnTo>
                            <a:lnTo>
                              <a:pt x="13" y="8"/>
                            </a:lnTo>
                            <a:lnTo>
                              <a:pt x="13" y="6"/>
                            </a:lnTo>
                            <a:lnTo>
                              <a:pt x="13" y="6"/>
                            </a:lnTo>
                            <a:lnTo>
                              <a:pt x="13" y="5"/>
                            </a:lnTo>
                            <a:lnTo>
                              <a:pt x="11" y="5"/>
                            </a:lnTo>
                            <a:lnTo>
                              <a:pt x="11" y="5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8" y="2"/>
                            </a:lnTo>
                            <a:lnTo>
                              <a:pt x="8" y="2"/>
                            </a:lnTo>
                            <a:lnTo>
                              <a:pt x="7" y="2"/>
                            </a:lnTo>
                            <a:lnTo>
                              <a:pt x="5" y="2"/>
                            </a:lnTo>
                            <a:lnTo>
                              <a:pt x="5" y="0"/>
                            </a:lnTo>
                            <a:lnTo>
                              <a:pt x="4" y="0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7" name=""/>
                      <p:cNvSpPr/>
                      <p:nvPr/>
                    </p:nvSpPr>
                    <p:spPr>
                      <a:xfrm>
                        <a:off x="6360480" y="1134360"/>
                        <a:ext cx="111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0" y="1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2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7" y="12"/>
                            </a:lnTo>
                            <a:lnTo>
                              <a:pt x="12" y="12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13" y="10"/>
                            </a:lnTo>
                            <a:lnTo>
                              <a:pt x="13" y="9"/>
                            </a:lnTo>
                            <a:lnTo>
                              <a:pt x="13" y="9"/>
                            </a:lnTo>
                            <a:lnTo>
                              <a:pt x="13" y="6"/>
                            </a:lnTo>
                            <a:lnTo>
                              <a:pt x="13" y="6"/>
                            </a:lnTo>
                            <a:lnTo>
                              <a:pt x="13" y="4"/>
                            </a:lnTo>
                            <a:lnTo>
                              <a:pt x="12" y="4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8" name=""/>
                      <p:cNvSpPr/>
                      <p:nvPr/>
                    </p:nvSpPr>
                    <p:spPr>
                      <a:xfrm>
                        <a:off x="6348960" y="1142280"/>
                        <a:ext cx="129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4" y="0"/>
                            </a:moveTo>
                            <a:lnTo>
                              <a:pt x="3" y="0"/>
                            </a:lnTo>
                            <a:lnTo>
                              <a:pt x="3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1" y="7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11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12" y="11"/>
                            </a:lnTo>
                            <a:lnTo>
                              <a:pt x="12" y="11"/>
                            </a:lnTo>
                            <a:lnTo>
                              <a:pt x="13" y="11"/>
                            </a:lnTo>
                            <a:lnTo>
                              <a:pt x="13" y="10"/>
                            </a:lnTo>
                            <a:lnTo>
                              <a:pt x="13" y="10"/>
                            </a:lnTo>
                            <a:lnTo>
                              <a:pt x="15" y="9"/>
                            </a:lnTo>
                            <a:lnTo>
                              <a:pt x="15" y="7"/>
                            </a:lnTo>
                            <a:lnTo>
                              <a:pt x="13" y="6"/>
                            </a:lnTo>
                            <a:lnTo>
                              <a:pt x="13" y="4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9" name=""/>
                      <p:cNvSpPr/>
                      <p:nvPr/>
                    </p:nvSpPr>
                    <p:spPr>
                      <a:xfrm>
                        <a:off x="6360480" y="1121400"/>
                        <a:ext cx="129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4">
                            <a:moveTo>
                              <a:pt x="16" y="9"/>
                            </a:move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7" y="14"/>
                            </a:lnTo>
                            <a:lnTo>
                              <a:pt x="1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0" name=""/>
                      <p:cNvSpPr/>
                      <p:nvPr/>
                    </p:nvSpPr>
                    <p:spPr>
                      <a:xfrm>
                        <a:off x="6333840" y="1116360"/>
                        <a:ext cx="468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1" y="12"/>
                            </a:lnTo>
                            <a:lnTo>
                              <a:pt x="1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9"/>
                            </a:lnTo>
                            <a:lnTo>
                              <a:pt x="6" y="9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4"/>
                            </a:lnTo>
                            <a:lnTo>
                              <a:pt x="4" y="4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1" name=""/>
                      <p:cNvSpPr/>
                      <p:nvPr/>
                    </p:nvSpPr>
                    <p:spPr>
                      <a:xfrm>
                        <a:off x="6348960" y="1083960"/>
                        <a:ext cx="4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6">
                            <a:moveTo>
                              <a:pt x="2" y="1"/>
                            </a:move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0" y="1"/>
                            </a:lnTo>
                            <a:lnTo>
                              <a:pt x="0" y="4"/>
                            </a:lnTo>
                            <a:lnTo>
                              <a:pt x="2" y="4"/>
                            </a:lnTo>
                            <a:lnTo>
                              <a:pt x="2" y="6"/>
                            </a:lnTo>
                            <a:lnTo>
                              <a:pt x="6" y="6"/>
                            </a:lnTo>
                            <a:lnTo>
                              <a:pt x="6" y="4"/>
                            </a:lnTo>
                            <a:lnTo>
                              <a:pt x="8" y="4"/>
                            </a:lnTo>
                            <a:lnTo>
                              <a:pt x="8" y="3"/>
                            </a:lnTo>
                            <a:lnTo>
                              <a:pt x="6" y="3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5" y="1"/>
                            </a:lnTo>
                            <a:lnTo>
                              <a:pt x="5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2" name=""/>
                      <p:cNvSpPr/>
                      <p:nvPr/>
                    </p:nvSpPr>
                    <p:spPr>
                      <a:xfrm>
                        <a:off x="6375240" y="1134360"/>
                        <a:ext cx="4104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30">
                            <a:moveTo>
                              <a:pt x="49" y="2"/>
                            </a:moveTo>
                            <a:lnTo>
                              <a:pt x="46" y="0"/>
                            </a:lnTo>
                            <a:lnTo>
                              <a:pt x="45" y="0"/>
                            </a:lnTo>
                            <a:lnTo>
                              <a:pt x="45" y="0"/>
                            </a:lnTo>
                            <a:lnTo>
                              <a:pt x="36" y="0"/>
                            </a:lnTo>
                            <a:lnTo>
                              <a:pt x="35" y="0"/>
                            </a:lnTo>
                            <a:lnTo>
                              <a:pt x="33" y="0"/>
                            </a:lnTo>
                            <a:lnTo>
                              <a:pt x="32" y="2"/>
                            </a:lnTo>
                            <a:lnTo>
                              <a:pt x="29" y="2"/>
                            </a:lnTo>
                            <a:lnTo>
                              <a:pt x="27" y="2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2" y="5"/>
                            </a:lnTo>
                            <a:lnTo>
                              <a:pt x="19" y="5"/>
                            </a:lnTo>
                            <a:lnTo>
                              <a:pt x="17" y="6"/>
                            </a:lnTo>
                            <a:lnTo>
                              <a:pt x="16" y="8"/>
                            </a:lnTo>
                            <a:lnTo>
                              <a:pt x="13" y="8"/>
                            </a:lnTo>
                            <a:lnTo>
                              <a:pt x="11" y="9"/>
                            </a:lnTo>
                            <a:lnTo>
                              <a:pt x="10" y="11"/>
                            </a:lnTo>
                            <a:lnTo>
                              <a:pt x="8" y="12"/>
                            </a:lnTo>
                            <a:lnTo>
                              <a:pt x="7" y="12"/>
                            </a:lnTo>
                            <a:lnTo>
                              <a:pt x="4" y="15"/>
                            </a:lnTo>
                            <a:lnTo>
                              <a:pt x="3" y="17"/>
                            </a:lnTo>
                            <a:lnTo>
                              <a:pt x="3" y="18"/>
                            </a:lnTo>
                            <a:lnTo>
                              <a:pt x="0" y="20"/>
                            </a:lnTo>
                            <a:lnTo>
                              <a:pt x="0" y="21"/>
                            </a:lnTo>
                            <a:lnTo>
                              <a:pt x="0" y="21"/>
                            </a:lnTo>
                            <a:lnTo>
                              <a:pt x="0" y="27"/>
                            </a:lnTo>
                            <a:lnTo>
                              <a:pt x="0" y="27"/>
                            </a:lnTo>
                            <a:lnTo>
                              <a:pt x="0" y="28"/>
                            </a:lnTo>
                            <a:lnTo>
                              <a:pt x="1" y="28"/>
                            </a:lnTo>
                            <a:lnTo>
                              <a:pt x="3" y="28"/>
                            </a:lnTo>
                            <a:lnTo>
                              <a:pt x="3" y="28"/>
                            </a:lnTo>
                            <a:lnTo>
                              <a:pt x="4" y="30"/>
                            </a:lnTo>
                            <a:lnTo>
                              <a:pt x="11" y="30"/>
                            </a:lnTo>
                            <a:lnTo>
                              <a:pt x="13" y="28"/>
                            </a:lnTo>
                            <a:lnTo>
                              <a:pt x="16" y="28"/>
                            </a:lnTo>
                            <a:lnTo>
                              <a:pt x="17" y="28"/>
                            </a:lnTo>
                            <a:lnTo>
                              <a:pt x="19" y="28"/>
                            </a:lnTo>
                            <a:lnTo>
                              <a:pt x="22" y="27"/>
                            </a:lnTo>
                            <a:lnTo>
                              <a:pt x="23" y="27"/>
                            </a:lnTo>
                            <a:lnTo>
                              <a:pt x="26" y="25"/>
                            </a:lnTo>
                            <a:lnTo>
                              <a:pt x="27" y="25"/>
                            </a:lnTo>
                            <a:lnTo>
                              <a:pt x="29" y="24"/>
                            </a:lnTo>
                            <a:lnTo>
                              <a:pt x="32" y="22"/>
                            </a:lnTo>
                            <a:lnTo>
                              <a:pt x="33" y="21"/>
                            </a:lnTo>
                            <a:lnTo>
                              <a:pt x="35" y="21"/>
                            </a:lnTo>
                            <a:lnTo>
                              <a:pt x="36" y="20"/>
                            </a:lnTo>
                            <a:lnTo>
                              <a:pt x="38" y="20"/>
                            </a:lnTo>
                            <a:lnTo>
                              <a:pt x="42" y="17"/>
                            </a:lnTo>
                            <a:lnTo>
                              <a:pt x="45" y="14"/>
                            </a:lnTo>
                            <a:lnTo>
                              <a:pt x="45" y="12"/>
                            </a:lnTo>
                            <a:lnTo>
                              <a:pt x="46" y="12"/>
                            </a:lnTo>
                            <a:lnTo>
                              <a:pt x="48" y="11"/>
                            </a:lnTo>
                            <a:lnTo>
                              <a:pt x="49" y="9"/>
                            </a:lnTo>
                            <a:lnTo>
                              <a:pt x="49" y="8"/>
                            </a:lnTo>
                            <a:lnTo>
                              <a:pt x="49" y="8"/>
                            </a:lnTo>
                            <a:lnTo>
                              <a:pt x="49" y="6"/>
                            </a:lnTo>
                            <a:lnTo>
                              <a:pt x="51" y="5"/>
                            </a:lnTo>
                            <a:lnTo>
                              <a:pt x="51" y="5"/>
                            </a:lnTo>
                            <a:lnTo>
                              <a:pt x="49" y="3"/>
                            </a:lnTo>
                            <a:lnTo>
                              <a:pt x="49" y="3"/>
                            </a:lnTo>
                            <a:lnTo>
                              <a:pt x="49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3" name=""/>
                      <p:cNvSpPr/>
                      <p:nvPr/>
                    </p:nvSpPr>
                    <p:spPr>
                      <a:xfrm>
                        <a:off x="6424920" y="1129320"/>
                        <a:ext cx="28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3">
                            <a:moveTo>
                              <a:pt x="1" y="3"/>
                            </a:move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3" y="3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4" name=""/>
                      <p:cNvSpPr/>
                      <p:nvPr/>
                    </p:nvSpPr>
                    <p:spPr>
                      <a:xfrm>
                        <a:off x="6398280" y="1132920"/>
                        <a:ext cx="266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4">
                            <a:moveTo>
                              <a:pt x="0" y="34"/>
                            </a:moveTo>
                            <a:lnTo>
                              <a:pt x="0" y="34"/>
                            </a:lnTo>
                            <a:lnTo>
                              <a:pt x="1" y="34"/>
                            </a:lnTo>
                            <a:lnTo>
                              <a:pt x="3" y="32"/>
                            </a:lnTo>
                            <a:lnTo>
                              <a:pt x="4" y="32"/>
                            </a:lnTo>
                            <a:lnTo>
                              <a:pt x="4" y="32"/>
                            </a:lnTo>
                            <a:lnTo>
                              <a:pt x="6" y="32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9" y="29"/>
                            </a:lnTo>
                            <a:lnTo>
                              <a:pt x="10" y="29"/>
                            </a:lnTo>
                            <a:lnTo>
                              <a:pt x="12" y="28"/>
                            </a:lnTo>
                            <a:lnTo>
                              <a:pt x="13" y="28"/>
                            </a:lnTo>
                            <a:lnTo>
                              <a:pt x="15" y="26"/>
                            </a:lnTo>
                            <a:lnTo>
                              <a:pt x="16" y="25"/>
                            </a:lnTo>
                            <a:lnTo>
                              <a:pt x="16" y="25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2" y="19"/>
                            </a:lnTo>
                            <a:lnTo>
                              <a:pt x="22" y="18"/>
                            </a:lnTo>
                            <a:lnTo>
                              <a:pt x="23" y="18"/>
                            </a:lnTo>
                            <a:lnTo>
                              <a:pt x="23" y="18"/>
                            </a:lnTo>
                            <a:lnTo>
                              <a:pt x="23" y="16"/>
                            </a:lnTo>
                            <a:lnTo>
                              <a:pt x="25" y="15"/>
                            </a:lnTo>
                            <a:lnTo>
                              <a:pt x="25" y="15"/>
                            </a:lnTo>
                            <a:lnTo>
                              <a:pt x="25" y="13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  <a:lnTo>
                              <a:pt x="28" y="10"/>
                            </a:lnTo>
                            <a:lnTo>
                              <a:pt x="28" y="9"/>
                            </a:lnTo>
                            <a:lnTo>
                              <a:pt x="29" y="7"/>
                            </a:lnTo>
                            <a:lnTo>
                              <a:pt x="29" y="6"/>
                            </a:lnTo>
                            <a:lnTo>
                              <a:pt x="29" y="6"/>
                            </a:lnTo>
                            <a:lnTo>
                              <a:pt x="29" y="4"/>
                            </a:lnTo>
                            <a:lnTo>
                              <a:pt x="31" y="3"/>
                            </a:lnTo>
                            <a:lnTo>
                              <a:pt x="31" y="1"/>
                            </a:lnTo>
                            <a:lnTo>
                              <a:pt x="31" y="1"/>
                            </a:lnTo>
                            <a:lnTo>
                              <a:pt x="3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5" name=""/>
                      <p:cNvSpPr/>
                      <p:nvPr/>
                    </p:nvSpPr>
                    <p:spPr>
                      <a:xfrm>
                        <a:off x="6421680" y="1131120"/>
                        <a:ext cx="12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0">
                            <a:moveTo>
                              <a:pt x="3" y="2"/>
                            </a:moveTo>
                            <a:lnTo>
                              <a:pt x="14" y="0"/>
                            </a:lnTo>
                            <a:lnTo>
                              <a:pt x="7" y="8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6" name=""/>
                      <p:cNvSpPr/>
                      <p:nvPr/>
                    </p:nvSpPr>
                    <p:spPr>
                      <a:xfrm>
                        <a:off x="6410160" y="1148760"/>
                        <a:ext cx="115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0">
                            <a:moveTo>
                              <a:pt x="9" y="0"/>
                            </a:moveTo>
                            <a:lnTo>
                              <a:pt x="13" y="0"/>
                            </a:lnTo>
                            <a:lnTo>
                              <a:pt x="3" y="10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7" name=""/>
                      <p:cNvSpPr/>
                      <p:nvPr/>
                    </p:nvSpPr>
                    <p:spPr>
                      <a:xfrm>
                        <a:off x="6312240" y="1077840"/>
                        <a:ext cx="90720" cy="9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14">
                            <a:moveTo>
                              <a:pt x="105" y="68"/>
                            </a:moveTo>
                            <a:lnTo>
                              <a:pt x="108" y="44"/>
                            </a:lnTo>
                            <a:lnTo>
                              <a:pt x="79" y="5"/>
                            </a:lnTo>
                            <a:lnTo>
                              <a:pt x="39" y="0"/>
                            </a:lnTo>
                            <a:lnTo>
                              <a:pt x="0" y="27"/>
                            </a:lnTo>
                            <a:lnTo>
                              <a:pt x="0" y="76"/>
                            </a:lnTo>
                            <a:lnTo>
                              <a:pt x="29" y="111"/>
                            </a:lnTo>
                            <a:lnTo>
                              <a:pt x="73" y="114"/>
                            </a:lnTo>
                            <a:lnTo>
                              <a:pt x="79" y="10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8" name=""/>
                      <p:cNvSpPr/>
                      <p:nvPr/>
                    </p:nvSpPr>
                    <p:spPr>
                      <a:xfrm>
                        <a:off x="6371640" y="1169640"/>
                        <a:ext cx="414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3" y="0"/>
                            </a:moveTo>
                            <a:lnTo>
                              <a:pt x="50" y="6"/>
                            </a:lnTo>
                            <a:lnTo>
                              <a:pt x="50" y="1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9" name=""/>
                      <p:cNvSpPr/>
                      <p:nvPr/>
                    </p:nvSpPr>
                    <p:spPr>
                      <a:xfrm flipH="1" flipV="1">
                        <a:off x="6395040" y="1164960"/>
                        <a:ext cx="1296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0" name=""/>
                      <p:cNvSpPr/>
                      <p:nvPr/>
                    </p:nvSpPr>
                    <p:spPr>
                      <a:xfrm>
                        <a:off x="6399720" y="1160280"/>
                        <a:ext cx="216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20">
                            <a:moveTo>
                              <a:pt x="0" y="0"/>
                            </a:moveTo>
                            <a:lnTo>
                              <a:pt x="25" y="11"/>
                            </a:lnTo>
                            <a:lnTo>
                              <a:pt x="15" y="2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1" name=""/>
                      <p:cNvSpPr/>
                      <p:nvPr/>
                    </p:nvSpPr>
                    <p:spPr>
                      <a:xfrm>
                        <a:off x="6296040" y="1171080"/>
                        <a:ext cx="77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">
                            <a:moveTo>
                              <a:pt x="94" y="0"/>
                            </a:moveTo>
                            <a:lnTo>
                              <a:pt x="38" y="6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2" name=""/>
                      <p:cNvSpPr/>
                      <p:nvPr/>
                    </p:nvSpPr>
                    <p:spPr>
                      <a:xfrm flipH="1">
                        <a:off x="6296040" y="1168200"/>
                        <a:ext cx="41040" cy="28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3" name=""/>
                      <p:cNvSpPr/>
                      <p:nvPr/>
                    </p:nvSpPr>
                    <p:spPr>
                      <a:xfrm flipH="1">
                        <a:off x="6272640" y="1100160"/>
                        <a:ext cx="39600" cy="15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4" name=""/>
                      <p:cNvSpPr/>
                      <p:nvPr/>
                    </p:nvSpPr>
                    <p:spPr>
                      <a:xfrm flipH="1">
                        <a:off x="6295680" y="1139040"/>
                        <a:ext cx="1620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5" name=""/>
                      <p:cNvSpPr/>
                      <p:nvPr/>
                    </p:nvSpPr>
                    <p:spPr>
                      <a:xfrm flipH="1">
                        <a:off x="6270840" y="114876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6" name=""/>
                      <p:cNvSpPr/>
                      <p:nvPr/>
                    </p:nvSpPr>
                    <p:spPr>
                      <a:xfrm>
                        <a:off x="6284160" y="1092240"/>
                        <a:ext cx="2448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62">
                            <a:moveTo>
                              <a:pt x="31" y="0"/>
                            </a:moveTo>
                            <a:lnTo>
                              <a:pt x="6" y="22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7" name=""/>
                      <p:cNvSpPr/>
                      <p:nvPr/>
                    </p:nvSpPr>
                    <p:spPr>
                      <a:xfrm>
                        <a:off x="6298920" y="1095480"/>
                        <a:ext cx="14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19" y="0"/>
                            </a:moveTo>
                            <a:lnTo>
                              <a:pt x="5" y="13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8" name=""/>
                      <p:cNvSpPr/>
                      <p:nvPr/>
                    </p:nvSpPr>
                    <p:spPr>
                      <a:xfrm>
                        <a:off x="6296040" y="1143720"/>
                        <a:ext cx="493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5">
                            <a:moveTo>
                              <a:pt x="60" y="35"/>
                            </a:moveTo>
                            <a:lnTo>
                              <a:pt x="27" y="3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9" name=""/>
                      <p:cNvSpPr/>
                      <p:nvPr/>
                    </p:nvSpPr>
                    <p:spPr>
                      <a:xfrm>
                        <a:off x="6290640" y="1160280"/>
                        <a:ext cx="38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0">
                            <a:moveTo>
                              <a:pt x="45" y="20"/>
                            </a:moveTo>
                            <a:lnTo>
                              <a:pt x="1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0" name=""/>
                      <p:cNvSpPr/>
                      <p:nvPr/>
                    </p:nvSpPr>
                    <p:spPr>
                      <a:xfrm>
                        <a:off x="6296040" y="112284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2">
                            <a:moveTo>
                              <a:pt x="18" y="0"/>
                            </a:moveTo>
                            <a:lnTo>
                              <a:pt x="18" y="2"/>
                            </a:lnTo>
                            <a:lnTo>
                              <a:pt x="17" y="2"/>
                            </a:lnTo>
                            <a:lnTo>
                              <a:pt x="15" y="2"/>
                            </a:lnTo>
                            <a:lnTo>
                              <a:pt x="14" y="2"/>
                            </a:lnTo>
                            <a:lnTo>
                              <a:pt x="14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1" y="3"/>
                            </a:lnTo>
                            <a:lnTo>
                              <a:pt x="11" y="5"/>
                            </a:lnTo>
                            <a:lnTo>
                              <a:pt x="11" y="5"/>
                            </a:lnTo>
                            <a:lnTo>
                              <a:pt x="9" y="5"/>
                            </a:lnTo>
                            <a:lnTo>
                              <a:pt x="9" y="5"/>
                            </a:lnTo>
                            <a:lnTo>
                              <a:pt x="9" y="5"/>
                            </a:lnTo>
                            <a:lnTo>
                              <a:pt x="8" y="5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6" y="6"/>
                            </a:lnTo>
                            <a:lnTo>
                              <a:pt x="6" y="8"/>
                            </a:lnTo>
                            <a:lnTo>
                              <a:pt x="5" y="8"/>
                            </a:lnTo>
                            <a:lnTo>
                              <a:pt x="5" y="8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11"/>
                            </a:lnTo>
                            <a:lnTo>
                              <a:pt x="2" y="11"/>
                            </a:lnTo>
                            <a:lnTo>
                              <a:pt x="2" y="11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1" name=""/>
                      <p:cNvSpPr/>
                      <p:nvPr/>
                    </p:nvSpPr>
                    <p:spPr>
                      <a:xfrm>
                        <a:off x="6297480" y="1126080"/>
                        <a:ext cx="14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17" y="0"/>
                            </a:moveTo>
                            <a:lnTo>
                              <a:pt x="17" y="2"/>
                            </a:lnTo>
                            <a:lnTo>
                              <a:pt x="16" y="2"/>
                            </a:lnTo>
                            <a:lnTo>
                              <a:pt x="15" y="2"/>
                            </a:lnTo>
                            <a:lnTo>
                              <a:pt x="13" y="2"/>
                            </a:lnTo>
                            <a:lnTo>
                              <a:pt x="13" y="2"/>
                            </a:lnTo>
                            <a:lnTo>
                              <a:pt x="12" y="2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9" y="5"/>
                            </a:lnTo>
                            <a:lnTo>
                              <a:pt x="9" y="5"/>
                            </a:lnTo>
                            <a:lnTo>
                              <a:pt x="7" y="5"/>
                            </a:lnTo>
                            <a:lnTo>
                              <a:pt x="7" y="6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8"/>
                            </a:lnTo>
                            <a:lnTo>
                              <a:pt x="4" y="8"/>
                            </a:lnTo>
                            <a:lnTo>
                              <a:pt x="4" y="8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2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2" name=""/>
                      <p:cNvSpPr/>
                      <p:nvPr/>
                    </p:nvSpPr>
                    <p:spPr>
                      <a:xfrm>
                        <a:off x="6224400" y="1131120"/>
                        <a:ext cx="7272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130">
                            <a:moveTo>
                              <a:pt x="88" y="0"/>
                            </a:moveTo>
                            <a:lnTo>
                              <a:pt x="0" y="82"/>
                            </a:lnTo>
                            <a:lnTo>
                              <a:pt x="13" y="130"/>
                            </a:lnTo>
                            <a:lnTo>
                              <a:pt x="16" y="130"/>
                            </a:lnTo>
                            <a:lnTo>
                              <a:pt x="3" y="82"/>
                            </a:lnTo>
                            <a:lnTo>
                              <a:pt x="86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3" name=""/>
                      <p:cNvSpPr/>
                      <p:nvPr/>
                    </p:nvSpPr>
                    <p:spPr>
                      <a:xfrm>
                        <a:off x="6282360" y="1132920"/>
                        <a:ext cx="1476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1">
                            <a:moveTo>
                              <a:pt x="18" y="0"/>
                            </a:moveTo>
                            <a:lnTo>
                              <a:pt x="16" y="29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4" name=""/>
                      <p:cNvSpPr/>
                      <p:nvPr/>
                    </p:nvSpPr>
                    <p:spPr>
                      <a:xfrm>
                        <a:off x="6242400" y="1182600"/>
                        <a:ext cx="10080" cy="399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5" name=""/>
                      <p:cNvSpPr/>
                      <p:nvPr/>
                    </p:nvSpPr>
                    <p:spPr>
                      <a:xfrm flipH="1">
                        <a:off x="6283800" y="1171080"/>
                        <a:ext cx="9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6" name=""/>
                      <p:cNvSpPr/>
                      <p:nvPr/>
                    </p:nvSpPr>
                    <p:spPr>
                      <a:xfrm>
                        <a:off x="6239520" y="1169640"/>
                        <a:ext cx="5436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82">
                            <a:moveTo>
                              <a:pt x="0" y="82"/>
                            </a:moveTo>
                            <a:lnTo>
                              <a:pt x="65" y="22"/>
                            </a:lnTo>
                            <a:lnTo>
                              <a:pt x="67" y="2"/>
                            </a:lnTo>
                            <a:lnTo>
                              <a:pt x="63" y="0"/>
                            </a:lnTo>
                            <a:lnTo>
                              <a:pt x="54" y="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7" name=""/>
                      <p:cNvSpPr/>
                      <p:nvPr/>
                    </p:nvSpPr>
                    <p:spPr>
                      <a:xfrm flipH="1" flipV="1">
                        <a:off x="6244200" y="1180800"/>
                        <a:ext cx="9720" cy="414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8" name=""/>
                      <p:cNvSpPr/>
                      <p:nvPr/>
                    </p:nvSpPr>
                    <p:spPr>
                      <a:xfrm flipV="1">
                        <a:off x="6232680" y="120492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9" name=""/>
                      <p:cNvSpPr/>
                      <p:nvPr/>
                    </p:nvSpPr>
                    <p:spPr>
                      <a:xfrm flipV="1">
                        <a:off x="6232680" y="120348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0" name=""/>
                      <p:cNvSpPr/>
                      <p:nvPr/>
                    </p:nvSpPr>
                    <p:spPr>
                      <a:xfrm flipH="1" flipV="1">
                        <a:off x="6262560" y="1161360"/>
                        <a:ext cx="7920" cy="45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1" name=""/>
                      <p:cNvSpPr/>
                      <p:nvPr/>
                    </p:nvSpPr>
                    <p:spPr>
                      <a:xfrm flipH="1" flipV="1">
                        <a:off x="6262560" y="1163160"/>
                        <a:ext cx="6480" cy="453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2" name=""/>
                      <p:cNvSpPr/>
                      <p:nvPr/>
                    </p:nvSpPr>
                    <p:spPr>
                      <a:xfrm flipV="1">
                        <a:off x="6249240" y="1186920"/>
                        <a:ext cx="18360" cy="162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3" name=""/>
                      <p:cNvSpPr/>
                      <p:nvPr/>
                    </p:nvSpPr>
                    <p:spPr>
                      <a:xfrm flipV="1">
                        <a:off x="6249240" y="1187280"/>
                        <a:ext cx="18360" cy="144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4" name=""/>
                      <p:cNvSpPr/>
                      <p:nvPr/>
                    </p:nvSpPr>
                    <p:spPr>
                      <a:xfrm flipH="1">
                        <a:off x="6267600" y="1174680"/>
                        <a:ext cx="1440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5" name=""/>
                      <p:cNvSpPr/>
                      <p:nvPr/>
                    </p:nvSpPr>
                    <p:spPr>
                      <a:xfrm flipH="1">
                        <a:off x="6267600" y="1173240"/>
                        <a:ext cx="1440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6" name=""/>
                      <p:cNvSpPr/>
                      <p:nvPr/>
                    </p:nvSpPr>
                    <p:spPr>
                      <a:xfrm flipH="1" flipV="1">
                        <a:off x="6280560" y="1148760"/>
                        <a:ext cx="3240" cy="46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7" name=""/>
                      <p:cNvSpPr/>
                      <p:nvPr/>
                    </p:nvSpPr>
                    <p:spPr>
                      <a:xfrm flipH="1" flipV="1">
                        <a:off x="6280560" y="1146960"/>
                        <a:ext cx="4680" cy="46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8" name=""/>
                      <p:cNvSpPr/>
                      <p:nvPr/>
                    </p:nvSpPr>
                    <p:spPr>
                      <a:xfrm>
                        <a:off x="6293880" y="1171080"/>
                        <a:ext cx="1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9" name=""/>
                      <p:cNvSpPr/>
                      <p:nvPr/>
                    </p:nvSpPr>
                    <p:spPr>
                      <a:xfrm>
                        <a:off x="6293880" y="1174680"/>
                        <a:ext cx="180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0" name=""/>
                      <p:cNvSpPr/>
                      <p:nvPr/>
                    </p:nvSpPr>
                    <p:spPr>
                      <a:xfrm>
                        <a:off x="6270840" y="1090800"/>
                        <a:ext cx="4140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78">
                            <a:moveTo>
                              <a:pt x="1" y="78"/>
                            </a:moveTo>
                            <a:lnTo>
                              <a:pt x="0" y="74"/>
                            </a:lnTo>
                            <a:lnTo>
                              <a:pt x="3" y="33"/>
                            </a:lnTo>
                            <a:lnTo>
                              <a:pt x="35" y="6"/>
                            </a:lnTo>
                            <a:lnTo>
                              <a:pt x="5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1" name=""/>
                      <p:cNvSpPr/>
                      <p:nvPr/>
                    </p:nvSpPr>
                    <p:spPr>
                      <a:xfrm>
                        <a:off x="6270840" y="1131120"/>
                        <a:ext cx="64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2">
                            <a:moveTo>
                              <a:pt x="4" y="0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3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1" y="7"/>
                            </a:lnTo>
                            <a:lnTo>
                              <a:pt x="1" y="9"/>
                            </a:lnTo>
                            <a:lnTo>
                              <a:pt x="3" y="9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12"/>
                            </a:lnTo>
                            <a:lnTo>
                              <a:pt x="6" y="12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9"/>
                            </a:lnTo>
                            <a:lnTo>
                              <a:pt x="8" y="9"/>
                            </a:lnTo>
                            <a:lnTo>
                              <a:pt x="8" y="3"/>
                            </a:lnTo>
                            <a:lnTo>
                              <a:pt x="7" y="2"/>
                            </a:lnTo>
                            <a:lnTo>
                              <a:pt x="7" y="2"/>
                            </a:lnTo>
                            <a:lnTo>
                              <a:pt x="7" y="2"/>
                            </a:lnTo>
                            <a:lnTo>
                              <a:pt x="7" y="0"/>
                            </a:lnTo>
                            <a:lnTo>
                              <a:pt x="6" y="0"/>
                            </a:lnTo>
                            <a:lnTo>
                              <a:pt x="6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2" name=""/>
                      <p:cNvSpPr/>
                      <p:nvPr/>
                    </p:nvSpPr>
                    <p:spPr>
                      <a:xfrm>
                        <a:off x="6262560" y="1134360"/>
                        <a:ext cx="133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13" y="0"/>
                            </a:moveTo>
                            <a:lnTo>
                              <a:pt x="0" y="2"/>
                            </a:lnTo>
                            <a:lnTo>
                              <a:pt x="3" y="12"/>
                            </a:lnTo>
                            <a:lnTo>
                              <a:pt x="15" y="5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3" name=""/>
                      <p:cNvSpPr/>
                      <p:nvPr/>
                    </p:nvSpPr>
                    <p:spPr>
                      <a:xfrm>
                        <a:off x="6272640" y="113112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8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1" y="7"/>
                            </a:lnTo>
                            <a:lnTo>
                              <a:pt x="1" y="8"/>
                            </a:lnTo>
                            <a:lnTo>
                              <a:pt x="3" y="8"/>
                            </a:lnTo>
                            <a:lnTo>
                              <a:pt x="4" y="7"/>
                            </a:lnTo>
                            <a:lnTo>
                              <a:pt x="4" y="7"/>
                            </a:lnTo>
                            <a:lnTo>
                              <a:pt x="4" y="5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4" y="1"/>
                            </a:lnTo>
                            <a:lnTo>
                              <a:pt x="3" y="0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4" name=""/>
                      <p:cNvSpPr/>
                      <p:nvPr/>
                    </p:nvSpPr>
                    <p:spPr>
                      <a:xfrm>
                        <a:off x="6262560" y="1134360"/>
                        <a:ext cx="50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6"/>
                            </a:lnTo>
                            <a:lnTo>
                              <a:pt x="2" y="6"/>
                            </a:lnTo>
                            <a:lnTo>
                              <a:pt x="2" y="8"/>
                            </a:lnTo>
                            <a:lnTo>
                              <a:pt x="2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5" y="9"/>
                            </a:lnTo>
                            <a:lnTo>
                              <a:pt x="5" y="9"/>
                            </a:lnTo>
                            <a:lnTo>
                              <a:pt x="5" y="9"/>
                            </a:lnTo>
                            <a:lnTo>
                              <a:pt x="6" y="8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lnTo>
                              <a:pt x="3" y="2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5" name=""/>
                      <p:cNvSpPr/>
                      <p:nvPr/>
                    </p:nvSpPr>
                    <p:spPr>
                      <a:xfrm>
                        <a:off x="6297480" y="1131120"/>
                        <a:ext cx="14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6" name=""/>
                      <p:cNvSpPr/>
                      <p:nvPr/>
                    </p:nvSpPr>
                    <p:spPr>
                      <a:xfrm>
                        <a:off x="6307200" y="1122840"/>
                        <a:ext cx="5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5">
                            <a:moveTo>
                              <a:pt x="5" y="5"/>
                            </a:moveTo>
                            <a:lnTo>
                              <a:pt x="3" y="5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5" y="3"/>
                            </a:lnTo>
                            <a:lnTo>
                              <a:pt x="5" y="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7" name=""/>
                      <p:cNvSpPr/>
                      <p:nvPr/>
                    </p:nvSpPr>
                    <p:spPr>
                      <a:xfrm flipH="1">
                        <a:off x="6424920" y="113292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8" name=""/>
                      <p:cNvSpPr/>
                      <p:nvPr/>
                    </p:nvSpPr>
                    <p:spPr>
                      <a:xfrm>
                        <a:off x="6406560" y="1137600"/>
                        <a:ext cx="6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7">
                            <a:moveTo>
                              <a:pt x="8" y="0"/>
                            </a:moveTo>
                            <a:lnTo>
                              <a:pt x="8" y="0"/>
                            </a:lnTo>
                            <a:lnTo>
                              <a:pt x="8" y="1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8" y="9"/>
                            </a:lnTo>
                            <a:lnTo>
                              <a:pt x="7" y="9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12"/>
                            </a:lnTo>
                            <a:lnTo>
                              <a:pt x="6" y="12"/>
                            </a:lnTo>
                            <a:lnTo>
                              <a:pt x="6" y="12"/>
                            </a:lnTo>
                            <a:lnTo>
                              <a:pt x="6" y="13"/>
                            </a:lnTo>
                            <a:lnTo>
                              <a:pt x="6" y="13"/>
                            </a:lnTo>
                            <a:lnTo>
                              <a:pt x="4" y="13"/>
                            </a:lnTo>
                            <a:lnTo>
                              <a:pt x="4" y="15"/>
                            </a:lnTo>
                            <a:lnTo>
                              <a:pt x="4" y="15"/>
                            </a:lnTo>
                            <a:lnTo>
                              <a:pt x="4" y="15"/>
                            </a:lnTo>
                            <a:lnTo>
                              <a:pt x="3" y="15"/>
                            </a:lnTo>
                            <a:lnTo>
                              <a:pt x="3" y="15"/>
                            </a:lnTo>
                            <a:lnTo>
                              <a:pt x="3" y="16"/>
                            </a:lnTo>
                            <a:lnTo>
                              <a:pt x="1" y="16"/>
                            </a:lnTo>
                            <a:lnTo>
                              <a:pt x="0" y="17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9" name=""/>
                      <p:cNvSpPr/>
                      <p:nvPr/>
                    </p:nvSpPr>
                    <p:spPr>
                      <a:xfrm>
                        <a:off x="6381720" y="1152000"/>
                        <a:ext cx="2448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14">
                            <a:moveTo>
                              <a:pt x="30" y="0"/>
                            </a:moveTo>
                            <a:lnTo>
                              <a:pt x="30" y="0"/>
                            </a:lnTo>
                            <a:lnTo>
                              <a:pt x="28" y="0"/>
                            </a:lnTo>
                            <a:lnTo>
                              <a:pt x="28" y="2"/>
                            </a:lnTo>
                            <a:lnTo>
                              <a:pt x="28" y="2"/>
                            </a:lnTo>
                            <a:lnTo>
                              <a:pt x="27" y="3"/>
                            </a:lnTo>
                            <a:lnTo>
                              <a:pt x="25" y="3"/>
                            </a:lnTo>
                            <a:lnTo>
                              <a:pt x="25" y="3"/>
                            </a:lnTo>
                            <a:lnTo>
                              <a:pt x="25" y="5"/>
                            </a:lnTo>
                            <a:lnTo>
                              <a:pt x="24" y="5"/>
                            </a:lnTo>
                            <a:lnTo>
                              <a:pt x="22" y="6"/>
                            </a:lnTo>
                            <a:lnTo>
                              <a:pt x="21" y="6"/>
                            </a:lnTo>
                            <a:lnTo>
                              <a:pt x="19" y="8"/>
                            </a:lnTo>
                            <a:lnTo>
                              <a:pt x="19" y="8"/>
                            </a:lnTo>
                            <a:lnTo>
                              <a:pt x="18" y="9"/>
                            </a:lnTo>
                            <a:lnTo>
                              <a:pt x="17" y="9"/>
                            </a:lnTo>
                            <a:lnTo>
                              <a:pt x="14" y="11"/>
                            </a:lnTo>
                            <a:lnTo>
                              <a:pt x="14" y="11"/>
                            </a:lnTo>
                            <a:lnTo>
                              <a:pt x="14" y="11"/>
                            </a:lnTo>
                            <a:lnTo>
                              <a:pt x="12" y="11"/>
                            </a:lnTo>
                            <a:lnTo>
                              <a:pt x="11" y="11"/>
                            </a:lnTo>
                            <a:lnTo>
                              <a:pt x="9" y="11"/>
                            </a:lnTo>
                            <a:lnTo>
                              <a:pt x="9" y="12"/>
                            </a:lnTo>
                            <a:lnTo>
                              <a:pt x="6" y="12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2" y="14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0" name=""/>
                      <p:cNvSpPr/>
                      <p:nvPr/>
                    </p:nvSpPr>
                    <p:spPr>
                      <a:xfrm flipV="1">
                        <a:off x="6381720" y="1137240"/>
                        <a:ext cx="31320" cy="24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6357240" y="1129320"/>
                        <a:ext cx="67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46">
                            <a:moveTo>
                              <a:pt x="51" y="38"/>
                            </a:moveTo>
                            <a:lnTo>
                              <a:pt x="41" y="46"/>
                            </a:lnTo>
                            <a:lnTo>
                              <a:pt x="0" y="46"/>
                            </a:lnTo>
                            <a:lnTo>
                              <a:pt x="42" y="8"/>
                            </a:lnTo>
                            <a:lnTo>
                              <a:pt x="82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2" name=""/>
                      <p:cNvSpPr/>
                      <p:nvPr/>
                    </p:nvSpPr>
                    <p:spPr>
                      <a:xfrm flipH="1" flipV="1">
                        <a:off x="6222960" y="992160"/>
                        <a:ext cx="122400" cy="85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3" name=""/>
                      <p:cNvSpPr/>
                      <p:nvPr/>
                    </p:nvSpPr>
                    <p:spPr>
                      <a:xfrm flipH="1" flipV="1">
                        <a:off x="6217560" y="993600"/>
                        <a:ext cx="122760" cy="87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4" name=""/>
                      <p:cNvSpPr/>
                      <p:nvPr/>
                    </p:nvSpPr>
                    <p:spPr>
                      <a:xfrm>
                        <a:off x="6208200" y="982440"/>
                        <a:ext cx="1980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9">
                            <a:moveTo>
                              <a:pt x="23" y="12"/>
                            </a:moveTo>
                            <a:lnTo>
                              <a:pt x="9" y="0"/>
                            </a:lnTo>
                            <a:lnTo>
                              <a:pt x="0" y="9"/>
                            </a:lnTo>
                            <a:lnTo>
                              <a:pt x="15" y="19"/>
                            </a:lnTo>
                            <a:lnTo>
                              <a:pt x="23" y="1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5" name=""/>
                      <p:cNvSpPr/>
                      <p:nvPr/>
                    </p:nvSpPr>
                    <p:spPr>
                      <a:xfrm flipH="1">
                        <a:off x="6330240" y="1077840"/>
                        <a:ext cx="1476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6" name=""/>
                      <p:cNvSpPr/>
                      <p:nvPr/>
                    </p:nvSpPr>
                    <p:spPr>
                      <a:xfrm>
                        <a:off x="6309000" y="1058400"/>
                        <a:ext cx="792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48">
                            <a:moveTo>
                              <a:pt x="2" y="0"/>
                            </a:moveTo>
                            <a:lnTo>
                              <a:pt x="0" y="1"/>
                            </a:lnTo>
                            <a:lnTo>
                              <a:pt x="7" y="48"/>
                            </a:lnTo>
                            <a:lnTo>
                              <a:pt x="10" y="47"/>
                            </a:lnTo>
                            <a:lnTo>
                              <a:pt x="7" y="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7" name=""/>
                      <p:cNvSpPr/>
                      <p:nvPr/>
                    </p:nvSpPr>
                    <p:spPr>
                      <a:xfrm>
                        <a:off x="6320520" y="1064520"/>
                        <a:ext cx="9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3">
                            <a:moveTo>
                              <a:pt x="7" y="7"/>
                            </a:moveTo>
                            <a:lnTo>
                              <a:pt x="13" y="21"/>
                            </a:lnTo>
                            <a:lnTo>
                              <a:pt x="11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8" name=""/>
                      <p:cNvSpPr/>
                      <p:nvPr/>
                    </p:nvSpPr>
                    <p:spPr>
                      <a:xfrm flipH="1">
                        <a:off x="6317280" y="1083960"/>
                        <a:ext cx="115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9" name=""/>
                      <p:cNvSpPr/>
                      <p:nvPr/>
                    </p:nvSpPr>
                    <p:spPr>
                      <a:xfrm>
                        <a:off x="6312240" y="1051920"/>
                        <a:ext cx="115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4">
                            <a:moveTo>
                              <a:pt x="13" y="14"/>
                            </a:moveTo>
                            <a:lnTo>
                              <a:pt x="10" y="3"/>
                            </a:lnTo>
                            <a:lnTo>
                              <a:pt x="6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0" name=""/>
                      <p:cNvSpPr/>
                      <p:nvPr/>
                    </p:nvSpPr>
                    <p:spPr>
                      <a:xfrm flipH="1">
                        <a:off x="6342120" y="1083960"/>
                        <a:ext cx="648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1" name=""/>
                      <p:cNvSpPr/>
                      <p:nvPr/>
                    </p:nvSpPr>
                    <p:spPr>
                      <a:xfrm flipH="1">
                        <a:off x="6345360" y="1090800"/>
                        <a:ext cx="792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2" name=""/>
                      <p:cNvSpPr/>
                      <p:nvPr/>
                    </p:nvSpPr>
                    <p:spPr>
                      <a:xfrm flipH="1">
                        <a:off x="6348600" y="1100160"/>
                        <a:ext cx="6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3" name=""/>
                      <p:cNvSpPr/>
                      <p:nvPr/>
                    </p:nvSpPr>
                    <p:spPr>
                      <a:xfrm>
                        <a:off x="6371640" y="1011600"/>
                        <a:ext cx="59400" cy="7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88">
                            <a:moveTo>
                              <a:pt x="0" y="88"/>
                            </a:moveTo>
                            <a:lnTo>
                              <a:pt x="6" y="57"/>
                            </a:lnTo>
                            <a:lnTo>
                              <a:pt x="69" y="0"/>
                            </a:lnTo>
                            <a:lnTo>
                              <a:pt x="72" y="2"/>
                            </a:lnTo>
                            <a:lnTo>
                              <a:pt x="9" y="60"/>
                            </a:lnTo>
                            <a:lnTo>
                              <a:pt x="3" y="8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4" name=""/>
                      <p:cNvSpPr/>
                      <p:nvPr/>
                    </p:nvSpPr>
                    <p:spPr>
                      <a:xfrm>
                        <a:off x="6385320" y="1011600"/>
                        <a:ext cx="4608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99">
                            <a:moveTo>
                              <a:pt x="56" y="0"/>
                            </a:moveTo>
                            <a:lnTo>
                              <a:pt x="30" y="76"/>
                            </a:lnTo>
                            <a:lnTo>
                              <a:pt x="0" y="9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5" name=""/>
                      <p:cNvSpPr/>
                      <p:nvPr/>
                    </p:nvSpPr>
                    <p:spPr>
                      <a:xfrm flipH="1">
                        <a:off x="6394680" y="1024200"/>
                        <a:ext cx="21240" cy="579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6" name=""/>
                      <p:cNvSpPr/>
                      <p:nvPr/>
                    </p:nvSpPr>
                    <p:spPr>
                      <a:xfrm flipH="1">
                        <a:off x="6394680" y="1026360"/>
                        <a:ext cx="18360" cy="57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7" name=""/>
                      <p:cNvSpPr/>
                      <p:nvPr/>
                    </p:nvSpPr>
                    <p:spPr>
                      <a:xfrm flipH="1">
                        <a:off x="6384960" y="1037160"/>
                        <a:ext cx="16200" cy="532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8" name=""/>
                      <p:cNvSpPr/>
                      <p:nvPr/>
                    </p:nvSpPr>
                    <p:spPr>
                      <a:xfrm flipH="1">
                        <a:off x="6385320" y="1040400"/>
                        <a:ext cx="12960" cy="500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9" name=""/>
                      <p:cNvSpPr/>
                      <p:nvPr/>
                    </p:nvSpPr>
                    <p:spPr>
                      <a:xfrm flipH="1">
                        <a:off x="6378480" y="1048680"/>
                        <a:ext cx="11520" cy="352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0" name=""/>
                      <p:cNvSpPr/>
                      <p:nvPr/>
                    </p:nvSpPr>
                    <p:spPr>
                      <a:xfrm flipH="1">
                        <a:off x="6378480" y="1050480"/>
                        <a:ext cx="7920" cy="320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1" name=""/>
                      <p:cNvSpPr/>
                      <p:nvPr/>
                    </p:nvSpPr>
                    <p:spPr>
                      <a:xfrm flipH="1">
                        <a:off x="6403320" y="1050480"/>
                        <a:ext cx="12960" cy="111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2" name=""/>
                      <p:cNvSpPr/>
                      <p:nvPr/>
                    </p:nvSpPr>
                    <p:spPr>
                      <a:xfrm flipH="1">
                        <a:off x="6391800" y="1064520"/>
                        <a:ext cx="1008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3" name=""/>
                      <p:cNvSpPr/>
                      <p:nvPr/>
                    </p:nvSpPr>
                    <p:spPr>
                      <a:xfrm flipH="1">
                        <a:off x="6379920" y="1072800"/>
                        <a:ext cx="1008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4" name=""/>
                      <p:cNvSpPr/>
                      <p:nvPr/>
                    </p:nvSpPr>
                    <p:spPr>
                      <a:xfrm flipH="1">
                        <a:off x="6403320" y="1048680"/>
                        <a:ext cx="12960" cy="111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5" name=""/>
                      <p:cNvSpPr/>
                      <p:nvPr/>
                    </p:nvSpPr>
                    <p:spPr>
                      <a:xfrm flipH="1">
                        <a:off x="6391800" y="1061640"/>
                        <a:ext cx="11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6" name=""/>
                      <p:cNvSpPr/>
                      <p:nvPr/>
                    </p:nvSpPr>
                    <p:spPr>
                      <a:xfrm flipH="1">
                        <a:off x="6379920" y="1072800"/>
                        <a:ext cx="1008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7" name=""/>
                      <p:cNvSpPr/>
                      <p:nvPr/>
                    </p:nvSpPr>
                    <p:spPr>
                      <a:xfrm flipH="1">
                        <a:off x="6377040" y="108252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8" name=""/>
                      <p:cNvSpPr/>
                      <p:nvPr/>
                    </p:nvSpPr>
                    <p:spPr>
                      <a:xfrm>
                        <a:off x="6361920" y="1068120"/>
                        <a:ext cx="115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7">
                            <a:moveTo>
                              <a:pt x="13" y="0"/>
                            </a:moveTo>
                            <a:lnTo>
                              <a:pt x="13" y="0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10" y="2"/>
                            </a:lnTo>
                            <a:lnTo>
                              <a:pt x="10" y="2"/>
                            </a:lnTo>
                            <a:lnTo>
                              <a:pt x="9" y="2"/>
                            </a:lnTo>
                            <a:lnTo>
                              <a:pt x="7" y="3"/>
                            </a:lnTo>
                            <a:lnTo>
                              <a:pt x="7" y="3"/>
                            </a:lnTo>
                            <a:lnTo>
                              <a:pt x="6" y="5"/>
                            </a:lnTo>
                            <a:lnTo>
                              <a:pt x="4" y="6"/>
                            </a:lnTo>
                            <a:lnTo>
                              <a:pt x="4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1" y="9"/>
                            </a:lnTo>
                            <a:lnTo>
                              <a:pt x="1" y="11"/>
                            </a:lnTo>
                            <a:lnTo>
                              <a:pt x="1" y="11"/>
                            </a:lnTo>
                            <a:lnTo>
                              <a:pt x="1" y="12"/>
                            </a:lnTo>
                            <a:lnTo>
                              <a:pt x="0" y="14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9" name=""/>
                      <p:cNvSpPr/>
                      <p:nvPr/>
                    </p:nvSpPr>
                    <p:spPr>
                      <a:xfrm>
                        <a:off x="6363360" y="1068120"/>
                        <a:ext cx="100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6">
                            <a:moveTo>
                              <a:pt x="12" y="0"/>
                            </a:moveTo>
                            <a:lnTo>
                              <a:pt x="11" y="0"/>
                            </a:lnTo>
                            <a:lnTo>
                              <a:pt x="9" y="1"/>
                            </a:lnTo>
                            <a:lnTo>
                              <a:pt x="8" y="1"/>
                            </a:lnTo>
                            <a:lnTo>
                              <a:pt x="8" y="3"/>
                            </a:lnTo>
                            <a:lnTo>
                              <a:pt x="8" y="3"/>
                            </a:lnTo>
                            <a:lnTo>
                              <a:pt x="5" y="4"/>
                            </a:lnTo>
                            <a:lnTo>
                              <a:pt x="5" y="4"/>
                            </a:lnTo>
                            <a:lnTo>
                              <a:pt x="3" y="6"/>
                            </a:lnTo>
                            <a:lnTo>
                              <a:pt x="3" y="7"/>
                            </a:lnTo>
                            <a:lnTo>
                              <a:pt x="3" y="7"/>
                            </a:lnTo>
                            <a:lnTo>
                              <a:pt x="3" y="9"/>
                            </a:lnTo>
                            <a:lnTo>
                              <a:pt x="2" y="9"/>
                            </a:lnTo>
                            <a:lnTo>
                              <a:pt x="2" y="10"/>
                            </a:lnTo>
                            <a:lnTo>
                              <a:pt x="0" y="1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0" name=""/>
                    <p:cNvGrpSpPr/>
                    <p:nvPr/>
                  </p:nvGrpSpPr>
                  <p:grpSpPr>
                    <a:xfrm>
                      <a:off x="6514200" y="747360"/>
                      <a:ext cx="224640" cy="253800"/>
                      <a:chOff x="6514200" y="747360"/>
                      <a:chExt cx="224640" cy="253800"/>
                    </a:xfrm>
                  </p:grpSpPr>
                  <p:sp>
                    <p:nvSpPr>
                      <p:cNvPr id="2471" name=""/>
                      <p:cNvSpPr/>
                      <p:nvPr/>
                    </p:nvSpPr>
                    <p:spPr>
                      <a:xfrm>
                        <a:off x="6639840" y="865440"/>
                        <a:ext cx="5292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68">
                            <a:moveTo>
                              <a:pt x="19" y="0"/>
                            </a:moveTo>
                            <a:lnTo>
                              <a:pt x="18" y="2"/>
                            </a:lnTo>
                            <a:lnTo>
                              <a:pt x="15" y="2"/>
                            </a:lnTo>
                            <a:lnTo>
                              <a:pt x="14" y="3"/>
                            </a:lnTo>
                            <a:lnTo>
                              <a:pt x="12" y="5"/>
                            </a:lnTo>
                            <a:lnTo>
                              <a:pt x="9" y="5"/>
                            </a:lnTo>
                            <a:lnTo>
                              <a:pt x="8" y="6"/>
                            </a:lnTo>
                            <a:lnTo>
                              <a:pt x="6" y="8"/>
                            </a:lnTo>
                            <a:lnTo>
                              <a:pt x="5" y="9"/>
                            </a:lnTo>
                            <a:lnTo>
                              <a:pt x="3" y="12"/>
                            </a:lnTo>
                            <a:lnTo>
                              <a:pt x="3" y="14"/>
                            </a:lnTo>
                            <a:lnTo>
                              <a:pt x="2" y="17"/>
                            </a:lnTo>
                            <a:lnTo>
                              <a:pt x="2" y="19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" y="34"/>
                            </a:lnTo>
                            <a:lnTo>
                              <a:pt x="3" y="36"/>
                            </a:lnTo>
                            <a:lnTo>
                              <a:pt x="3" y="38"/>
                            </a:lnTo>
                            <a:lnTo>
                              <a:pt x="5" y="41"/>
                            </a:lnTo>
                            <a:lnTo>
                              <a:pt x="6" y="44"/>
                            </a:lnTo>
                            <a:lnTo>
                              <a:pt x="8" y="46"/>
                            </a:lnTo>
                            <a:lnTo>
                              <a:pt x="9" y="49"/>
                            </a:lnTo>
                            <a:lnTo>
                              <a:pt x="12" y="52"/>
                            </a:lnTo>
                            <a:lnTo>
                              <a:pt x="14" y="53"/>
                            </a:lnTo>
                            <a:lnTo>
                              <a:pt x="15" y="56"/>
                            </a:lnTo>
                            <a:lnTo>
                              <a:pt x="17" y="58"/>
                            </a:lnTo>
                            <a:lnTo>
                              <a:pt x="19" y="59"/>
                            </a:lnTo>
                            <a:lnTo>
                              <a:pt x="22" y="60"/>
                            </a:lnTo>
                            <a:lnTo>
                              <a:pt x="24" y="62"/>
                            </a:lnTo>
                            <a:lnTo>
                              <a:pt x="27" y="63"/>
                            </a:lnTo>
                            <a:lnTo>
                              <a:pt x="30" y="65"/>
                            </a:lnTo>
                            <a:lnTo>
                              <a:pt x="31" y="66"/>
                            </a:lnTo>
                            <a:lnTo>
                              <a:pt x="34" y="66"/>
                            </a:lnTo>
                            <a:lnTo>
                              <a:pt x="37" y="66"/>
                            </a:lnTo>
                            <a:lnTo>
                              <a:pt x="40" y="68"/>
                            </a:lnTo>
                            <a:lnTo>
                              <a:pt x="44" y="68"/>
                            </a:lnTo>
                            <a:lnTo>
                              <a:pt x="47" y="66"/>
                            </a:lnTo>
                            <a:lnTo>
                              <a:pt x="49" y="66"/>
                            </a:lnTo>
                            <a:lnTo>
                              <a:pt x="52" y="66"/>
                            </a:lnTo>
                            <a:lnTo>
                              <a:pt x="53" y="65"/>
                            </a:lnTo>
                            <a:lnTo>
                              <a:pt x="56" y="63"/>
                            </a:lnTo>
                            <a:lnTo>
                              <a:pt x="59" y="60"/>
                            </a:lnTo>
                            <a:lnTo>
                              <a:pt x="60" y="59"/>
                            </a:lnTo>
                            <a:lnTo>
                              <a:pt x="60" y="58"/>
                            </a:lnTo>
                            <a:lnTo>
                              <a:pt x="62" y="56"/>
                            </a:lnTo>
                            <a:lnTo>
                              <a:pt x="63" y="53"/>
                            </a:lnTo>
                            <a:lnTo>
                              <a:pt x="65" y="52"/>
                            </a:lnTo>
                            <a:lnTo>
                              <a:pt x="65" y="49"/>
                            </a:lnTo>
                            <a:lnTo>
                              <a:pt x="65" y="37"/>
                            </a:lnTo>
                            <a:lnTo>
                              <a:pt x="65" y="34"/>
                            </a:lnTo>
                            <a:lnTo>
                              <a:pt x="63" y="31"/>
                            </a:lnTo>
                            <a:lnTo>
                              <a:pt x="62" y="28"/>
                            </a:lnTo>
                            <a:lnTo>
                              <a:pt x="60" y="27"/>
                            </a:lnTo>
                            <a:lnTo>
                              <a:pt x="60" y="24"/>
                            </a:lnTo>
                            <a:lnTo>
                              <a:pt x="59" y="21"/>
                            </a:lnTo>
                            <a:lnTo>
                              <a:pt x="58" y="19"/>
                            </a:lnTo>
                            <a:lnTo>
                              <a:pt x="56" y="17"/>
                            </a:lnTo>
                            <a:lnTo>
                              <a:pt x="44" y="6"/>
                            </a:lnTo>
                            <a:lnTo>
                              <a:pt x="41" y="5"/>
                            </a:lnTo>
                            <a:lnTo>
                              <a:pt x="40" y="5"/>
                            </a:lnTo>
                            <a:lnTo>
                              <a:pt x="37" y="3"/>
                            </a:lnTo>
                            <a:lnTo>
                              <a:pt x="34" y="2"/>
                            </a:lnTo>
                            <a:lnTo>
                              <a:pt x="33" y="2"/>
                            </a:lnTo>
                            <a:lnTo>
                              <a:pt x="30" y="0"/>
                            </a:lnTo>
                            <a:lnTo>
                              <a:pt x="19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2" name=""/>
                      <p:cNvSpPr/>
                      <p:nvPr/>
                    </p:nvSpPr>
                    <p:spPr>
                      <a:xfrm>
                        <a:off x="6659640" y="864000"/>
                        <a:ext cx="2448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53">
                            <a:moveTo>
                              <a:pt x="16" y="53"/>
                            </a:moveTo>
                            <a:lnTo>
                              <a:pt x="19" y="51"/>
                            </a:lnTo>
                            <a:lnTo>
                              <a:pt x="26" y="45"/>
                            </a:lnTo>
                            <a:lnTo>
                              <a:pt x="28" y="42"/>
                            </a:lnTo>
                            <a:lnTo>
                              <a:pt x="28" y="41"/>
                            </a:lnTo>
                            <a:lnTo>
                              <a:pt x="29" y="39"/>
                            </a:lnTo>
                            <a:lnTo>
                              <a:pt x="29" y="37"/>
                            </a:lnTo>
                            <a:lnTo>
                              <a:pt x="31" y="35"/>
                            </a:lnTo>
                            <a:lnTo>
                              <a:pt x="31" y="29"/>
                            </a:lnTo>
                            <a:lnTo>
                              <a:pt x="29" y="26"/>
                            </a:lnTo>
                            <a:lnTo>
                              <a:pt x="29" y="23"/>
                            </a:lnTo>
                            <a:lnTo>
                              <a:pt x="29" y="22"/>
                            </a:lnTo>
                            <a:lnTo>
                              <a:pt x="28" y="20"/>
                            </a:lnTo>
                            <a:lnTo>
                              <a:pt x="28" y="19"/>
                            </a:lnTo>
                            <a:lnTo>
                              <a:pt x="26" y="16"/>
                            </a:lnTo>
                            <a:lnTo>
                              <a:pt x="25" y="15"/>
                            </a:lnTo>
                            <a:lnTo>
                              <a:pt x="23" y="12"/>
                            </a:lnTo>
                            <a:lnTo>
                              <a:pt x="16" y="6"/>
                            </a:lnTo>
                            <a:lnTo>
                              <a:pt x="14" y="4"/>
                            </a:lnTo>
                            <a:lnTo>
                              <a:pt x="12" y="4"/>
                            </a:lnTo>
                            <a:lnTo>
                              <a:pt x="10" y="3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3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3" name=""/>
                      <p:cNvSpPr/>
                      <p:nvPr/>
                    </p:nvSpPr>
                    <p:spPr>
                      <a:xfrm>
                        <a:off x="6646320" y="868680"/>
                        <a:ext cx="33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47">
                            <a:moveTo>
                              <a:pt x="23" y="47"/>
                            </a:moveTo>
                            <a:lnTo>
                              <a:pt x="25" y="47"/>
                            </a:lnTo>
                            <a:lnTo>
                              <a:pt x="28" y="45"/>
                            </a:lnTo>
                            <a:lnTo>
                              <a:pt x="30" y="44"/>
                            </a:lnTo>
                            <a:lnTo>
                              <a:pt x="35" y="39"/>
                            </a:lnTo>
                            <a:lnTo>
                              <a:pt x="36" y="38"/>
                            </a:lnTo>
                            <a:lnTo>
                              <a:pt x="38" y="36"/>
                            </a:lnTo>
                            <a:lnTo>
                              <a:pt x="39" y="33"/>
                            </a:lnTo>
                            <a:lnTo>
                              <a:pt x="39" y="32"/>
                            </a:lnTo>
                            <a:lnTo>
                              <a:pt x="41" y="31"/>
                            </a:lnTo>
                            <a:lnTo>
                              <a:pt x="41" y="28"/>
                            </a:lnTo>
                            <a:lnTo>
                              <a:pt x="41" y="26"/>
                            </a:lnTo>
                            <a:lnTo>
                              <a:pt x="41" y="25"/>
                            </a:lnTo>
                            <a:lnTo>
                              <a:pt x="41" y="22"/>
                            </a:lnTo>
                            <a:lnTo>
                              <a:pt x="41" y="20"/>
                            </a:lnTo>
                            <a:lnTo>
                              <a:pt x="39" y="17"/>
                            </a:lnTo>
                            <a:lnTo>
                              <a:pt x="39" y="16"/>
                            </a:lnTo>
                            <a:lnTo>
                              <a:pt x="36" y="14"/>
                            </a:lnTo>
                            <a:lnTo>
                              <a:pt x="36" y="13"/>
                            </a:lnTo>
                            <a:lnTo>
                              <a:pt x="29" y="6"/>
                            </a:lnTo>
                            <a:lnTo>
                              <a:pt x="26" y="4"/>
                            </a:lnTo>
                            <a:lnTo>
                              <a:pt x="25" y="4"/>
                            </a:lnTo>
                            <a:lnTo>
                              <a:pt x="22" y="3"/>
                            </a:lnTo>
                            <a:lnTo>
                              <a:pt x="19" y="1"/>
                            </a:lnTo>
                            <a:lnTo>
                              <a:pt x="17" y="1"/>
                            </a:lnTo>
                            <a:lnTo>
                              <a:pt x="14" y="0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4" name=""/>
                      <p:cNvSpPr/>
                      <p:nvPr/>
                    </p:nvSpPr>
                    <p:spPr>
                      <a:xfrm>
                        <a:off x="6644880" y="883080"/>
                        <a:ext cx="212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7">
                            <a:moveTo>
                              <a:pt x="11" y="0"/>
                            </a:moveTo>
                            <a:lnTo>
                              <a:pt x="9" y="2"/>
                            </a:lnTo>
                            <a:lnTo>
                              <a:pt x="8" y="2"/>
                            </a:lnTo>
                            <a:lnTo>
                              <a:pt x="8" y="2"/>
                            </a:lnTo>
                            <a:lnTo>
                              <a:pt x="6" y="2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3" y="5"/>
                            </a:lnTo>
                            <a:lnTo>
                              <a:pt x="3" y="5"/>
                            </a:lnTo>
                            <a:lnTo>
                              <a:pt x="2" y="6"/>
                            </a:lnTo>
                            <a:lnTo>
                              <a:pt x="2" y="8"/>
                            </a:lnTo>
                            <a:lnTo>
                              <a:pt x="2" y="8"/>
                            </a:lnTo>
                            <a:lnTo>
                              <a:pt x="2" y="9"/>
                            </a:lnTo>
                            <a:lnTo>
                              <a:pt x="0" y="11"/>
                            </a:lnTo>
                            <a:lnTo>
                              <a:pt x="0" y="14"/>
                            </a:lnTo>
                            <a:lnTo>
                              <a:pt x="2" y="14"/>
                            </a:lnTo>
                            <a:lnTo>
                              <a:pt x="2" y="18"/>
                            </a:lnTo>
                            <a:lnTo>
                              <a:pt x="3" y="19"/>
                            </a:lnTo>
                            <a:lnTo>
                              <a:pt x="3" y="19"/>
                            </a:lnTo>
                            <a:lnTo>
                              <a:pt x="3" y="21"/>
                            </a:lnTo>
                            <a:lnTo>
                              <a:pt x="8" y="24"/>
                            </a:lnTo>
                            <a:lnTo>
                              <a:pt x="8" y="24"/>
                            </a:lnTo>
                            <a:lnTo>
                              <a:pt x="9" y="24"/>
                            </a:lnTo>
                            <a:lnTo>
                              <a:pt x="11" y="25"/>
                            </a:lnTo>
                            <a:lnTo>
                              <a:pt x="11" y="25"/>
                            </a:lnTo>
                            <a:lnTo>
                              <a:pt x="12" y="25"/>
                            </a:lnTo>
                            <a:lnTo>
                              <a:pt x="12" y="25"/>
                            </a:lnTo>
                            <a:lnTo>
                              <a:pt x="15" y="27"/>
                            </a:lnTo>
                            <a:lnTo>
                              <a:pt x="16" y="27"/>
                            </a:lnTo>
                            <a:lnTo>
                              <a:pt x="18" y="25"/>
                            </a:lnTo>
                            <a:lnTo>
                              <a:pt x="19" y="25"/>
                            </a:lnTo>
                            <a:lnTo>
                              <a:pt x="19" y="25"/>
                            </a:lnTo>
                            <a:lnTo>
                              <a:pt x="21" y="25"/>
                            </a:lnTo>
                            <a:lnTo>
                              <a:pt x="21" y="24"/>
                            </a:lnTo>
                            <a:lnTo>
                              <a:pt x="22" y="24"/>
                            </a:lnTo>
                            <a:lnTo>
                              <a:pt x="24" y="24"/>
                            </a:lnTo>
                            <a:lnTo>
                              <a:pt x="24" y="24"/>
                            </a:lnTo>
                            <a:lnTo>
                              <a:pt x="25" y="21"/>
                            </a:lnTo>
                            <a:lnTo>
                              <a:pt x="25" y="19"/>
                            </a:lnTo>
                            <a:lnTo>
                              <a:pt x="27" y="18"/>
                            </a:lnTo>
                            <a:lnTo>
                              <a:pt x="27" y="12"/>
                            </a:lnTo>
                            <a:lnTo>
                              <a:pt x="25" y="11"/>
                            </a:lnTo>
                            <a:lnTo>
                              <a:pt x="25" y="11"/>
                            </a:lnTo>
                            <a:lnTo>
                              <a:pt x="25" y="9"/>
                            </a:lnTo>
                            <a:lnTo>
                              <a:pt x="25" y="9"/>
                            </a:lnTo>
                            <a:lnTo>
                              <a:pt x="24" y="8"/>
                            </a:lnTo>
                            <a:lnTo>
                              <a:pt x="22" y="6"/>
                            </a:lnTo>
                            <a:lnTo>
                              <a:pt x="21" y="6"/>
                            </a:lnTo>
                            <a:lnTo>
                              <a:pt x="21" y="5"/>
                            </a:lnTo>
                            <a:lnTo>
                              <a:pt x="19" y="5"/>
                            </a:lnTo>
                            <a:lnTo>
                              <a:pt x="18" y="2"/>
                            </a:lnTo>
                            <a:lnTo>
                              <a:pt x="16" y="2"/>
                            </a:lnTo>
                            <a:lnTo>
                              <a:pt x="15" y="2"/>
                            </a:lnTo>
                            <a:lnTo>
                              <a:pt x="15" y="2"/>
                            </a:lnTo>
                            <a:lnTo>
                              <a:pt x="13" y="0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5" name=""/>
                      <p:cNvSpPr/>
                      <p:nvPr/>
                    </p:nvSpPr>
                    <p:spPr>
                      <a:xfrm>
                        <a:off x="6646320" y="870120"/>
                        <a:ext cx="115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3">
                            <a:moveTo>
                              <a:pt x="3" y="2"/>
                            </a:move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3"/>
                            </a:lnTo>
                            <a:lnTo>
                              <a:pt x="0" y="8"/>
                            </a:lnTo>
                            <a:lnTo>
                              <a:pt x="1" y="8"/>
                            </a:lnTo>
                            <a:lnTo>
                              <a:pt x="1" y="11"/>
                            </a:lnTo>
                            <a:lnTo>
                              <a:pt x="1" y="11"/>
                            </a:lnTo>
                            <a:lnTo>
                              <a:pt x="4" y="12"/>
                            </a:lnTo>
                            <a:lnTo>
                              <a:pt x="6" y="12"/>
                            </a:lnTo>
                            <a:lnTo>
                              <a:pt x="6" y="13"/>
                            </a:lnTo>
                            <a:lnTo>
                              <a:pt x="7" y="13"/>
                            </a:lnTo>
                            <a:lnTo>
                              <a:pt x="7" y="13"/>
                            </a:lnTo>
                            <a:lnTo>
                              <a:pt x="11" y="13"/>
                            </a:lnTo>
                            <a:lnTo>
                              <a:pt x="11" y="13"/>
                            </a:lnTo>
                            <a:lnTo>
                              <a:pt x="13" y="13"/>
                            </a:lnTo>
                            <a:lnTo>
                              <a:pt x="13" y="12"/>
                            </a:lnTo>
                            <a:lnTo>
                              <a:pt x="13" y="12"/>
                            </a:lnTo>
                            <a:lnTo>
                              <a:pt x="13" y="12"/>
                            </a:lnTo>
                            <a:lnTo>
                              <a:pt x="14" y="11"/>
                            </a:lnTo>
                            <a:lnTo>
                              <a:pt x="14" y="8"/>
                            </a:lnTo>
                            <a:lnTo>
                              <a:pt x="13" y="8"/>
                            </a:lnTo>
                            <a:lnTo>
                              <a:pt x="13" y="6"/>
                            </a:lnTo>
                            <a:lnTo>
                              <a:pt x="13" y="6"/>
                            </a:lnTo>
                            <a:lnTo>
                              <a:pt x="13" y="5"/>
                            </a:lnTo>
                            <a:lnTo>
                              <a:pt x="11" y="5"/>
                            </a:lnTo>
                            <a:lnTo>
                              <a:pt x="11" y="5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9" y="2"/>
                            </a:lnTo>
                            <a:lnTo>
                              <a:pt x="9" y="2"/>
                            </a:lnTo>
                            <a:lnTo>
                              <a:pt x="7" y="2"/>
                            </a:lnTo>
                            <a:lnTo>
                              <a:pt x="6" y="2"/>
                            </a:lnTo>
                            <a:lnTo>
                              <a:pt x="6" y="0"/>
                            </a:lnTo>
                            <a:lnTo>
                              <a:pt x="4" y="0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6" name=""/>
                      <p:cNvSpPr/>
                      <p:nvPr/>
                    </p:nvSpPr>
                    <p:spPr>
                      <a:xfrm>
                        <a:off x="6666120" y="899640"/>
                        <a:ext cx="100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3" y="0"/>
                            </a:move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0" y="1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2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5" y="10"/>
                            </a:lnTo>
                            <a:lnTo>
                              <a:pt x="5" y="10"/>
                            </a:lnTo>
                            <a:lnTo>
                              <a:pt x="6" y="10"/>
                            </a:lnTo>
                            <a:lnTo>
                              <a:pt x="7" y="12"/>
                            </a:lnTo>
                            <a:lnTo>
                              <a:pt x="12" y="12"/>
                            </a:lnTo>
                            <a:lnTo>
                              <a:pt x="12" y="10"/>
                            </a:lnTo>
                            <a:lnTo>
                              <a:pt x="12" y="10"/>
                            </a:lnTo>
                            <a:lnTo>
                              <a:pt x="13" y="10"/>
                            </a:lnTo>
                            <a:lnTo>
                              <a:pt x="13" y="9"/>
                            </a:lnTo>
                            <a:lnTo>
                              <a:pt x="13" y="9"/>
                            </a:lnTo>
                            <a:lnTo>
                              <a:pt x="13" y="6"/>
                            </a:lnTo>
                            <a:lnTo>
                              <a:pt x="13" y="6"/>
                            </a:lnTo>
                            <a:lnTo>
                              <a:pt x="13" y="4"/>
                            </a:lnTo>
                            <a:lnTo>
                              <a:pt x="12" y="4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9" y="1"/>
                            </a:lnTo>
                            <a:lnTo>
                              <a:pt x="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7" name=""/>
                      <p:cNvSpPr/>
                      <p:nvPr/>
                    </p:nvSpPr>
                    <p:spPr>
                      <a:xfrm>
                        <a:off x="6654600" y="90756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4" y="0"/>
                            </a:moveTo>
                            <a:lnTo>
                              <a:pt x="3" y="0"/>
                            </a:lnTo>
                            <a:lnTo>
                              <a:pt x="3" y="1"/>
                            </a:ln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1" y="7"/>
                            </a:lnTo>
                            <a:lnTo>
                              <a:pt x="3" y="8"/>
                            </a:lnTo>
                            <a:lnTo>
                              <a:pt x="3" y="8"/>
                            </a:lnTo>
                            <a:lnTo>
                              <a:pt x="3" y="8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11"/>
                            </a:lnTo>
                            <a:lnTo>
                              <a:pt x="7" y="11"/>
                            </a:lnTo>
                            <a:lnTo>
                              <a:pt x="7" y="11"/>
                            </a:lnTo>
                            <a:lnTo>
                              <a:pt x="12" y="11"/>
                            </a:lnTo>
                            <a:lnTo>
                              <a:pt x="12" y="11"/>
                            </a:lnTo>
                            <a:lnTo>
                              <a:pt x="13" y="11"/>
                            </a:lnTo>
                            <a:lnTo>
                              <a:pt x="13" y="10"/>
                            </a:lnTo>
                            <a:lnTo>
                              <a:pt x="13" y="10"/>
                            </a:lnTo>
                            <a:lnTo>
                              <a:pt x="15" y="8"/>
                            </a:lnTo>
                            <a:lnTo>
                              <a:pt x="15" y="7"/>
                            </a:lnTo>
                            <a:lnTo>
                              <a:pt x="13" y="6"/>
                            </a:lnTo>
                            <a:lnTo>
                              <a:pt x="13" y="4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8" name=""/>
                      <p:cNvSpPr/>
                      <p:nvPr/>
                    </p:nvSpPr>
                    <p:spPr>
                      <a:xfrm>
                        <a:off x="6666120" y="886320"/>
                        <a:ext cx="133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">
                            <a:moveTo>
                              <a:pt x="16" y="9"/>
                            </a:move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7" y="13"/>
                            </a:lnTo>
                            <a:lnTo>
                              <a:pt x="1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9" name=""/>
                      <p:cNvSpPr/>
                      <p:nvPr/>
                    </p:nvSpPr>
                    <p:spPr>
                      <a:xfrm>
                        <a:off x="6638040" y="881640"/>
                        <a:ext cx="5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1" y="12"/>
                            </a:lnTo>
                            <a:lnTo>
                              <a:pt x="1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9"/>
                            </a:lnTo>
                            <a:lnTo>
                              <a:pt x="6" y="9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4"/>
                            </a:lnTo>
                            <a:lnTo>
                              <a:pt x="4" y="4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1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1" y="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0" name=""/>
                      <p:cNvSpPr/>
                      <p:nvPr/>
                    </p:nvSpPr>
                    <p:spPr>
                      <a:xfrm>
                        <a:off x="6653160" y="849240"/>
                        <a:ext cx="64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6">
                            <a:moveTo>
                              <a:pt x="1" y="1"/>
                            </a:moveTo>
                            <a:lnTo>
                              <a:pt x="1" y="1"/>
                            </a:ln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0" y="4"/>
                            </a:lnTo>
                            <a:lnTo>
                              <a:pt x="1" y="4"/>
                            </a:lnTo>
                            <a:lnTo>
                              <a:pt x="1" y="6"/>
                            </a:lnTo>
                            <a:lnTo>
                              <a:pt x="5" y="6"/>
                            </a:lnTo>
                            <a:lnTo>
                              <a:pt x="5" y="4"/>
                            </a:lnTo>
                            <a:lnTo>
                              <a:pt x="7" y="4"/>
                            </a:lnTo>
                            <a:lnTo>
                              <a:pt x="7" y="3"/>
                            </a:lnTo>
                            <a:lnTo>
                              <a:pt x="5" y="3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1" y="0"/>
                            </a:lnTo>
                            <a:lnTo>
                              <a:pt x="1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1" name=""/>
                      <p:cNvSpPr/>
                      <p:nvPr/>
                    </p:nvSpPr>
                    <p:spPr>
                      <a:xfrm>
                        <a:off x="6679800" y="899640"/>
                        <a:ext cx="42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30">
                            <a:moveTo>
                              <a:pt x="50" y="2"/>
                            </a:moveTo>
                            <a:lnTo>
                              <a:pt x="47" y="0"/>
                            </a:lnTo>
                            <a:lnTo>
                              <a:pt x="45" y="0"/>
                            </a:lnTo>
                            <a:lnTo>
                              <a:pt x="45" y="0"/>
                            </a:lnTo>
                            <a:lnTo>
                              <a:pt x="36" y="0"/>
                            </a:lnTo>
                            <a:lnTo>
                              <a:pt x="35" y="0"/>
                            </a:lnTo>
                            <a:lnTo>
                              <a:pt x="33" y="0"/>
                            </a:lnTo>
                            <a:lnTo>
                              <a:pt x="32" y="2"/>
                            </a:lnTo>
                            <a:lnTo>
                              <a:pt x="29" y="2"/>
                            </a:lnTo>
                            <a:lnTo>
                              <a:pt x="28" y="2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2" y="5"/>
                            </a:lnTo>
                            <a:lnTo>
                              <a:pt x="19" y="5"/>
                            </a:lnTo>
                            <a:lnTo>
                              <a:pt x="17" y="6"/>
                            </a:lnTo>
                            <a:lnTo>
                              <a:pt x="16" y="8"/>
                            </a:lnTo>
                            <a:lnTo>
                              <a:pt x="13" y="8"/>
                            </a:lnTo>
                            <a:lnTo>
                              <a:pt x="11" y="9"/>
                            </a:lnTo>
                            <a:lnTo>
                              <a:pt x="10" y="11"/>
                            </a:lnTo>
                            <a:lnTo>
                              <a:pt x="9" y="12"/>
                            </a:lnTo>
                            <a:lnTo>
                              <a:pt x="7" y="12"/>
                            </a:lnTo>
                            <a:lnTo>
                              <a:pt x="4" y="15"/>
                            </a:lnTo>
                            <a:lnTo>
                              <a:pt x="3" y="17"/>
                            </a:lnTo>
                            <a:lnTo>
                              <a:pt x="3" y="18"/>
                            </a:lnTo>
                            <a:lnTo>
                              <a:pt x="0" y="19"/>
                            </a:lnTo>
                            <a:lnTo>
                              <a:pt x="0" y="21"/>
                            </a:lnTo>
                            <a:lnTo>
                              <a:pt x="0" y="21"/>
                            </a:lnTo>
                            <a:lnTo>
                              <a:pt x="0" y="27"/>
                            </a:lnTo>
                            <a:lnTo>
                              <a:pt x="0" y="27"/>
                            </a:lnTo>
                            <a:lnTo>
                              <a:pt x="0" y="28"/>
                            </a:lnTo>
                            <a:lnTo>
                              <a:pt x="1" y="28"/>
                            </a:lnTo>
                            <a:lnTo>
                              <a:pt x="3" y="28"/>
                            </a:lnTo>
                            <a:lnTo>
                              <a:pt x="3" y="28"/>
                            </a:lnTo>
                            <a:lnTo>
                              <a:pt x="4" y="30"/>
                            </a:lnTo>
                            <a:lnTo>
                              <a:pt x="11" y="30"/>
                            </a:lnTo>
                            <a:lnTo>
                              <a:pt x="13" y="28"/>
                            </a:lnTo>
                            <a:lnTo>
                              <a:pt x="16" y="28"/>
                            </a:lnTo>
                            <a:lnTo>
                              <a:pt x="17" y="28"/>
                            </a:lnTo>
                            <a:lnTo>
                              <a:pt x="19" y="28"/>
                            </a:lnTo>
                            <a:lnTo>
                              <a:pt x="22" y="27"/>
                            </a:lnTo>
                            <a:lnTo>
                              <a:pt x="23" y="27"/>
                            </a:lnTo>
                            <a:lnTo>
                              <a:pt x="26" y="25"/>
                            </a:lnTo>
                            <a:lnTo>
                              <a:pt x="28" y="25"/>
                            </a:lnTo>
                            <a:lnTo>
                              <a:pt x="29" y="24"/>
                            </a:lnTo>
                            <a:lnTo>
                              <a:pt x="32" y="22"/>
                            </a:lnTo>
                            <a:lnTo>
                              <a:pt x="33" y="21"/>
                            </a:lnTo>
                            <a:lnTo>
                              <a:pt x="35" y="21"/>
                            </a:lnTo>
                            <a:lnTo>
                              <a:pt x="36" y="19"/>
                            </a:lnTo>
                            <a:lnTo>
                              <a:pt x="38" y="19"/>
                            </a:lnTo>
                            <a:lnTo>
                              <a:pt x="42" y="17"/>
                            </a:lnTo>
                            <a:lnTo>
                              <a:pt x="45" y="14"/>
                            </a:lnTo>
                            <a:lnTo>
                              <a:pt x="45" y="12"/>
                            </a:lnTo>
                            <a:lnTo>
                              <a:pt x="47" y="12"/>
                            </a:lnTo>
                            <a:lnTo>
                              <a:pt x="48" y="11"/>
                            </a:lnTo>
                            <a:lnTo>
                              <a:pt x="50" y="9"/>
                            </a:lnTo>
                            <a:lnTo>
                              <a:pt x="50" y="8"/>
                            </a:lnTo>
                            <a:lnTo>
                              <a:pt x="50" y="8"/>
                            </a:lnTo>
                            <a:lnTo>
                              <a:pt x="50" y="6"/>
                            </a:lnTo>
                            <a:lnTo>
                              <a:pt x="51" y="5"/>
                            </a:lnTo>
                            <a:lnTo>
                              <a:pt x="51" y="5"/>
                            </a:lnTo>
                            <a:lnTo>
                              <a:pt x="50" y="3"/>
                            </a:lnTo>
                            <a:lnTo>
                              <a:pt x="50" y="3"/>
                            </a:lnTo>
                            <a:lnTo>
                              <a:pt x="50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2" name=""/>
                      <p:cNvSpPr/>
                      <p:nvPr/>
                    </p:nvSpPr>
                    <p:spPr>
                      <a:xfrm>
                        <a:off x="6729120" y="894600"/>
                        <a:ext cx="4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2">
                            <a:moveTo>
                              <a:pt x="1" y="2"/>
                            </a:move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3" name=""/>
                      <p:cNvSpPr/>
                      <p:nvPr/>
                    </p:nvSpPr>
                    <p:spPr>
                      <a:xfrm>
                        <a:off x="6704280" y="897840"/>
                        <a:ext cx="2448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4">
                            <a:moveTo>
                              <a:pt x="0" y="34"/>
                            </a:moveTo>
                            <a:lnTo>
                              <a:pt x="0" y="34"/>
                            </a:lnTo>
                            <a:lnTo>
                              <a:pt x="2" y="34"/>
                            </a:lnTo>
                            <a:lnTo>
                              <a:pt x="3" y="32"/>
                            </a:lnTo>
                            <a:lnTo>
                              <a:pt x="4" y="32"/>
                            </a:lnTo>
                            <a:lnTo>
                              <a:pt x="4" y="32"/>
                            </a:lnTo>
                            <a:lnTo>
                              <a:pt x="6" y="32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9" y="29"/>
                            </a:lnTo>
                            <a:lnTo>
                              <a:pt x="10" y="29"/>
                            </a:lnTo>
                            <a:lnTo>
                              <a:pt x="12" y="28"/>
                            </a:lnTo>
                            <a:lnTo>
                              <a:pt x="13" y="28"/>
                            </a:lnTo>
                            <a:lnTo>
                              <a:pt x="15" y="26"/>
                            </a:lnTo>
                            <a:lnTo>
                              <a:pt x="16" y="25"/>
                            </a:lnTo>
                            <a:lnTo>
                              <a:pt x="16" y="25"/>
                            </a:lnTo>
                            <a:lnTo>
                              <a:pt x="21" y="20"/>
                            </a:lnTo>
                            <a:lnTo>
                              <a:pt x="21" y="20"/>
                            </a:lnTo>
                            <a:lnTo>
                              <a:pt x="21" y="20"/>
                            </a:lnTo>
                            <a:lnTo>
                              <a:pt x="21" y="20"/>
                            </a:lnTo>
                            <a:lnTo>
                              <a:pt x="22" y="19"/>
                            </a:lnTo>
                            <a:lnTo>
                              <a:pt x="22" y="18"/>
                            </a:lnTo>
                            <a:lnTo>
                              <a:pt x="23" y="18"/>
                            </a:lnTo>
                            <a:lnTo>
                              <a:pt x="23" y="18"/>
                            </a:lnTo>
                            <a:lnTo>
                              <a:pt x="23" y="16"/>
                            </a:lnTo>
                            <a:lnTo>
                              <a:pt x="25" y="15"/>
                            </a:lnTo>
                            <a:lnTo>
                              <a:pt x="25" y="15"/>
                            </a:lnTo>
                            <a:lnTo>
                              <a:pt x="25" y="13"/>
                            </a:lnTo>
                            <a:lnTo>
                              <a:pt x="26" y="12"/>
                            </a:lnTo>
                            <a:lnTo>
                              <a:pt x="26" y="10"/>
                            </a:lnTo>
                            <a:lnTo>
                              <a:pt x="28" y="10"/>
                            </a:lnTo>
                            <a:lnTo>
                              <a:pt x="28" y="9"/>
                            </a:lnTo>
                            <a:lnTo>
                              <a:pt x="29" y="7"/>
                            </a:lnTo>
                            <a:lnTo>
                              <a:pt x="29" y="6"/>
                            </a:lnTo>
                            <a:lnTo>
                              <a:pt x="29" y="6"/>
                            </a:lnTo>
                            <a:lnTo>
                              <a:pt x="29" y="4"/>
                            </a:lnTo>
                            <a:lnTo>
                              <a:pt x="31" y="3"/>
                            </a:lnTo>
                            <a:lnTo>
                              <a:pt x="31" y="1"/>
                            </a:lnTo>
                            <a:lnTo>
                              <a:pt x="31" y="1"/>
                            </a:lnTo>
                            <a:lnTo>
                              <a:pt x="3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4" name=""/>
                      <p:cNvSpPr/>
                      <p:nvPr/>
                    </p:nvSpPr>
                    <p:spPr>
                      <a:xfrm>
                        <a:off x="6727320" y="896400"/>
                        <a:ext cx="115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1">
                            <a:moveTo>
                              <a:pt x="3" y="3"/>
                            </a:moveTo>
                            <a:lnTo>
                              <a:pt x="15" y="0"/>
                            </a:lnTo>
                            <a:lnTo>
                              <a:pt x="7" y="9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5" name=""/>
                      <p:cNvSpPr/>
                      <p:nvPr/>
                    </p:nvSpPr>
                    <p:spPr>
                      <a:xfrm>
                        <a:off x="6716160" y="912600"/>
                        <a:ext cx="97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0">
                            <a:moveTo>
                              <a:pt x="9" y="0"/>
                            </a:moveTo>
                            <a:lnTo>
                              <a:pt x="13" y="0"/>
                            </a:lnTo>
                            <a:lnTo>
                              <a:pt x="3" y="10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6" name=""/>
                      <p:cNvSpPr/>
                      <p:nvPr/>
                    </p:nvSpPr>
                    <p:spPr>
                      <a:xfrm>
                        <a:off x="6618240" y="842760"/>
                        <a:ext cx="89640" cy="9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14">
                            <a:moveTo>
                              <a:pt x="106" y="68"/>
                            </a:moveTo>
                            <a:lnTo>
                              <a:pt x="108" y="44"/>
                            </a:lnTo>
                            <a:lnTo>
                              <a:pt x="79" y="5"/>
                            </a:lnTo>
                            <a:lnTo>
                              <a:pt x="40" y="0"/>
                            </a:lnTo>
                            <a:lnTo>
                              <a:pt x="0" y="27"/>
                            </a:lnTo>
                            <a:lnTo>
                              <a:pt x="0" y="76"/>
                            </a:lnTo>
                            <a:lnTo>
                              <a:pt x="29" y="111"/>
                            </a:lnTo>
                            <a:lnTo>
                              <a:pt x="73" y="114"/>
                            </a:lnTo>
                            <a:lnTo>
                              <a:pt x="79" y="10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7" name=""/>
                      <p:cNvSpPr/>
                      <p:nvPr/>
                    </p:nvSpPr>
                    <p:spPr>
                      <a:xfrm>
                        <a:off x="6676200" y="935280"/>
                        <a:ext cx="41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3" y="0"/>
                            </a:moveTo>
                            <a:lnTo>
                              <a:pt x="50" y="6"/>
                            </a:lnTo>
                            <a:lnTo>
                              <a:pt x="50" y="1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8" name=""/>
                      <p:cNvSpPr/>
                      <p:nvPr/>
                    </p:nvSpPr>
                    <p:spPr>
                      <a:xfrm flipH="1" flipV="1">
                        <a:off x="6699600" y="929880"/>
                        <a:ext cx="14400" cy="97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9" name=""/>
                      <p:cNvSpPr/>
                      <p:nvPr/>
                    </p:nvSpPr>
                    <p:spPr>
                      <a:xfrm>
                        <a:off x="6706080" y="925200"/>
                        <a:ext cx="19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20">
                            <a:moveTo>
                              <a:pt x="0" y="0"/>
                            </a:moveTo>
                            <a:lnTo>
                              <a:pt x="24" y="11"/>
                            </a:lnTo>
                            <a:lnTo>
                              <a:pt x="14" y="2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0" name=""/>
                      <p:cNvSpPr/>
                      <p:nvPr/>
                    </p:nvSpPr>
                    <p:spPr>
                      <a:xfrm>
                        <a:off x="6601680" y="936720"/>
                        <a:ext cx="78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6">
                            <a:moveTo>
                              <a:pt x="93" y="0"/>
                            </a:moveTo>
                            <a:lnTo>
                              <a:pt x="38" y="6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1" name=""/>
                      <p:cNvSpPr/>
                      <p:nvPr/>
                    </p:nvSpPr>
                    <p:spPr>
                      <a:xfrm flipH="1">
                        <a:off x="6601320" y="933480"/>
                        <a:ext cx="4140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2" name=""/>
                      <p:cNvSpPr/>
                      <p:nvPr/>
                    </p:nvSpPr>
                    <p:spPr>
                      <a:xfrm flipH="1">
                        <a:off x="6578280" y="865440"/>
                        <a:ext cx="39240" cy="15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3" name=""/>
                      <p:cNvSpPr/>
                      <p:nvPr/>
                    </p:nvSpPr>
                    <p:spPr>
                      <a:xfrm flipH="1">
                        <a:off x="6601320" y="904320"/>
                        <a:ext cx="1620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4" name=""/>
                      <p:cNvSpPr/>
                      <p:nvPr/>
                    </p:nvSpPr>
                    <p:spPr>
                      <a:xfrm flipH="1">
                        <a:off x="6575040" y="914040"/>
                        <a:ext cx="612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5" name=""/>
                      <p:cNvSpPr/>
                      <p:nvPr/>
                    </p:nvSpPr>
                    <p:spPr>
                      <a:xfrm>
                        <a:off x="6588360" y="857520"/>
                        <a:ext cx="2664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62">
                            <a:moveTo>
                              <a:pt x="31" y="0"/>
                            </a:moveTo>
                            <a:lnTo>
                              <a:pt x="6" y="22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6" name=""/>
                      <p:cNvSpPr/>
                      <p:nvPr/>
                    </p:nvSpPr>
                    <p:spPr>
                      <a:xfrm>
                        <a:off x="6603480" y="860760"/>
                        <a:ext cx="1620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4">
                            <a:moveTo>
                              <a:pt x="20" y="0"/>
                            </a:moveTo>
                            <a:lnTo>
                              <a:pt x="5" y="13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7" name=""/>
                      <p:cNvSpPr/>
                      <p:nvPr/>
                    </p:nvSpPr>
                    <p:spPr>
                      <a:xfrm>
                        <a:off x="6601680" y="909000"/>
                        <a:ext cx="49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5">
                            <a:moveTo>
                              <a:pt x="60" y="35"/>
                            </a:moveTo>
                            <a:lnTo>
                              <a:pt x="26" y="3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8" name=""/>
                      <p:cNvSpPr/>
                      <p:nvPr/>
                    </p:nvSpPr>
                    <p:spPr>
                      <a:xfrm>
                        <a:off x="6596640" y="925200"/>
                        <a:ext cx="38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0">
                            <a:moveTo>
                              <a:pt x="45" y="20"/>
                            </a:moveTo>
                            <a:lnTo>
                              <a:pt x="1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9" name=""/>
                      <p:cNvSpPr/>
                      <p:nvPr/>
                    </p:nvSpPr>
                    <p:spPr>
                      <a:xfrm>
                        <a:off x="6601680" y="888120"/>
                        <a:ext cx="14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">
                            <a:moveTo>
                              <a:pt x="17" y="0"/>
                            </a:moveTo>
                            <a:lnTo>
                              <a:pt x="17" y="2"/>
                            </a:lnTo>
                            <a:lnTo>
                              <a:pt x="16" y="2"/>
                            </a:lnTo>
                            <a:lnTo>
                              <a:pt x="14" y="2"/>
                            </a:lnTo>
                            <a:lnTo>
                              <a:pt x="13" y="2"/>
                            </a:lnTo>
                            <a:lnTo>
                              <a:pt x="13" y="3"/>
                            </a:lnTo>
                            <a:lnTo>
                              <a:pt x="11" y="3"/>
                            </a:lnTo>
                            <a:lnTo>
                              <a:pt x="11" y="3"/>
                            </a:lnTo>
                            <a:lnTo>
                              <a:pt x="10" y="3"/>
                            </a:lnTo>
                            <a:lnTo>
                              <a:pt x="10" y="5"/>
                            </a:lnTo>
                            <a:lnTo>
                              <a:pt x="10" y="5"/>
                            </a:lnTo>
                            <a:lnTo>
                              <a:pt x="8" y="5"/>
                            </a:lnTo>
                            <a:lnTo>
                              <a:pt x="8" y="5"/>
                            </a:lnTo>
                            <a:lnTo>
                              <a:pt x="8" y="5"/>
                            </a:lnTo>
                            <a:lnTo>
                              <a:pt x="7" y="5"/>
                            </a:lnTo>
                            <a:lnTo>
                              <a:pt x="7" y="6"/>
                            </a:lnTo>
                            <a:lnTo>
                              <a:pt x="7" y="6"/>
                            </a:lnTo>
                            <a:lnTo>
                              <a:pt x="7" y="6"/>
                            </a:lnTo>
                            <a:lnTo>
                              <a:pt x="5" y="6"/>
                            </a:lnTo>
                            <a:lnTo>
                              <a:pt x="5" y="8"/>
                            </a:lnTo>
                            <a:lnTo>
                              <a:pt x="4" y="8"/>
                            </a:lnTo>
                            <a:lnTo>
                              <a:pt x="4" y="8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2" y="9"/>
                            </a:lnTo>
                            <a:lnTo>
                              <a:pt x="2" y="10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0" name=""/>
                      <p:cNvSpPr/>
                      <p:nvPr/>
                    </p:nvSpPr>
                    <p:spPr>
                      <a:xfrm>
                        <a:off x="6603480" y="891000"/>
                        <a:ext cx="129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2">
                            <a:moveTo>
                              <a:pt x="18" y="0"/>
                            </a:moveTo>
                            <a:lnTo>
                              <a:pt x="18" y="2"/>
                            </a:lnTo>
                            <a:lnTo>
                              <a:pt x="16" y="2"/>
                            </a:lnTo>
                            <a:lnTo>
                              <a:pt x="15" y="2"/>
                            </a:lnTo>
                            <a:lnTo>
                              <a:pt x="13" y="2"/>
                            </a:lnTo>
                            <a:lnTo>
                              <a:pt x="13" y="2"/>
                            </a:lnTo>
                            <a:lnTo>
                              <a:pt x="12" y="2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9" y="5"/>
                            </a:lnTo>
                            <a:lnTo>
                              <a:pt x="9" y="5"/>
                            </a:lnTo>
                            <a:lnTo>
                              <a:pt x="7" y="5"/>
                            </a:lnTo>
                            <a:lnTo>
                              <a:pt x="7" y="6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7"/>
                            </a:lnTo>
                            <a:lnTo>
                              <a:pt x="4" y="7"/>
                            </a:lnTo>
                            <a:lnTo>
                              <a:pt x="4" y="7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2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1" name=""/>
                      <p:cNvSpPr/>
                      <p:nvPr/>
                    </p:nvSpPr>
                    <p:spPr>
                      <a:xfrm>
                        <a:off x="6530400" y="896400"/>
                        <a:ext cx="7272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130">
                            <a:moveTo>
                              <a:pt x="88" y="0"/>
                            </a:moveTo>
                            <a:lnTo>
                              <a:pt x="0" y="82"/>
                            </a:lnTo>
                            <a:lnTo>
                              <a:pt x="13" y="130"/>
                            </a:lnTo>
                            <a:lnTo>
                              <a:pt x="16" y="130"/>
                            </a:lnTo>
                            <a:lnTo>
                              <a:pt x="3" y="82"/>
                            </a:lnTo>
                            <a:lnTo>
                              <a:pt x="87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2" name=""/>
                      <p:cNvSpPr/>
                      <p:nvPr/>
                    </p:nvSpPr>
                    <p:spPr>
                      <a:xfrm>
                        <a:off x="6588360" y="897840"/>
                        <a:ext cx="1476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1">
                            <a:moveTo>
                              <a:pt x="18" y="0"/>
                            </a:moveTo>
                            <a:lnTo>
                              <a:pt x="17" y="29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3" name=""/>
                      <p:cNvSpPr/>
                      <p:nvPr/>
                    </p:nvSpPr>
                    <p:spPr>
                      <a:xfrm>
                        <a:off x="6548400" y="948240"/>
                        <a:ext cx="7920" cy="403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4" name=""/>
                      <p:cNvSpPr/>
                      <p:nvPr/>
                    </p:nvSpPr>
                    <p:spPr>
                      <a:xfrm flipH="1">
                        <a:off x="6588360" y="936720"/>
                        <a:ext cx="11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5" name=""/>
                      <p:cNvSpPr/>
                      <p:nvPr/>
                    </p:nvSpPr>
                    <p:spPr>
                      <a:xfrm>
                        <a:off x="6543720" y="935280"/>
                        <a:ext cx="56160" cy="6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82">
                            <a:moveTo>
                              <a:pt x="0" y="82"/>
                            </a:moveTo>
                            <a:lnTo>
                              <a:pt x="66" y="22"/>
                            </a:lnTo>
                            <a:lnTo>
                              <a:pt x="67" y="2"/>
                            </a:lnTo>
                            <a:lnTo>
                              <a:pt x="63" y="0"/>
                            </a:lnTo>
                            <a:lnTo>
                              <a:pt x="54" y="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6" name=""/>
                      <p:cNvSpPr/>
                      <p:nvPr/>
                    </p:nvSpPr>
                    <p:spPr>
                      <a:xfrm flipH="1" flipV="1">
                        <a:off x="6548400" y="945720"/>
                        <a:ext cx="10080" cy="42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7" name=""/>
                      <p:cNvSpPr/>
                      <p:nvPr/>
                    </p:nvSpPr>
                    <p:spPr>
                      <a:xfrm flipV="1">
                        <a:off x="6538680" y="970560"/>
                        <a:ext cx="129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8" name=""/>
                      <p:cNvSpPr/>
                      <p:nvPr/>
                    </p:nvSpPr>
                    <p:spPr>
                      <a:xfrm flipV="1">
                        <a:off x="6538680" y="968760"/>
                        <a:ext cx="129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9" name=""/>
                      <p:cNvSpPr/>
                      <p:nvPr/>
                    </p:nvSpPr>
                    <p:spPr>
                      <a:xfrm flipH="1" flipV="1">
                        <a:off x="6568560" y="926640"/>
                        <a:ext cx="6480" cy="45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0" name=""/>
                      <p:cNvSpPr/>
                      <p:nvPr/>
                    </p:nvSpPr>
                    <p:spPr>
                      <a:xfrm flipH="1" flipV="1">
                        <a:off x="6567120" y="928080"/>
                        <a:ext cx="7920" cy="45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1" name=""/>
                      <p:cNvSpPr/>
                      <p:nvPr/>
                    </p:nvSpPr>
                    <p:spPr>
                      <a:xfrm flipV="1">
                        <a:off x="6555240" y="952920"/>
                        <a:ext cx="16200" cy="15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2" name=""/>
                      <p:cNvSpPr/>
                      <p:nvPr/>
                    </p:nvSpPr>
                    <p:spPr>
                      <a:xfrm flipV="1">
                        <a:off x="6553440" y="952920"/>
                        <a:ext cx="18360" cy="144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3" name=""/>
                      <p:cNvSpPr/>
                      <p:nvPr/>
                    </p:nvSpPr>
                    <p:spPr>
                      <a:xfrm flipH="1">
                        <a:off x="6572880" y="93996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4" name=""/>
                      <p:cNvSpPr/>
                      <p:nvPr/>
                    </p:nvSpPr>
                    <p:spPr>
                      <a:xfrm flipH="1">
                        <a:off x="6572880" y="938160"/>
                        <a:ext cx="14760" cy="129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5" name=""/>
                      <p:cNvSpPr/>
                      <p:nvPr/>
                    </p:nvSpPr>
                    <p:spPr>
                      <a:xfrm flipH="1" flipV="1">
                        <a:off x="6584760" y="912600"/>
                        <a:ext cx="3240" cy="48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6" name=""/>
                      <p:cNvSpPr/>
                      <p:nvPr/>
                    </p:nvSpPr>
                    <p:spPr>
                      <a:xfrm flipH="1" flipV="1">
                        <a:off x="6586920" y="912600"/>
                        <a:ext cx="2880" cy="46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7" name=""/>
                      <p:cNvSpPr/>
                      <p:nvPr/>
                    </p:nvSpPr>
                    <p:spPr>
                      <a:xfrm>
                        <a:off x="6599880" y="93672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8" name=""/>
                      <p:cNvSpPr/>
                      <p:nvPr/>
                    </p:nvSpPr>
                    <p:spPr>
                      <a:xfrm>
                        <a:off x="6599880" y="93996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9" name=""/>
                      <p:cNvSpPr/>
                      <p:nvPr/>
                    </p:nvSpPr>
                    <p:spPr>
                      <a:xfrm>
                        <a:off x="6575400" y="855360"/>
                        <a:ext cx="4248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78">
                            <a:moveTo>
                              <a:pt x="1" y="78"/>
                            </a:moveTo>
                            <a:lnTo>
                              <a:pt x="0" y="73"/>
                            </a:lnTo>
                            <a:lnTo>
                              <a:pt x="3" y="32"/>
                            </a:lnTo>
                            <a:lnTo>
                              <a:pt x="35" y="6"/>
                            </a:lnTo>
                            <a:lnTo>
                              <a:pt x="5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0" name=""/>
                      <p:cNvSpPr/>
                      <p:nvPr/>
                    </p:nvSpPr>
                    <p:spPr>
                      <a:xfrm>
                        <a:off x="6575400" y="896400"/>
                        <a:ext cx="7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4" y="0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1"/>
                            </a:lnTo>
                            <a:lnTo>
                              <a:pt x="3" y="1"/>
                            </a:lnTo>
                            <a:lnTo>
                              <a:pt x="3" y="3"/>
                            </a:lnTo>
                            <a:lnTo>
                              <a:pt x="1" y="3"/>
                            </a:lnTo>
                            <a:lnTo>
                              <a:pt x="1" y="4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1" y="7"/>
                            </a:lnTo>
                            <a:lnTo>
                              <a:pt x="1" y="9"/>
                            </a:lnTo>
                            <a:lnTo>
                              <a:pt x="3" y="9"/>
                            </a:lnTo>
                            <a:lnTo>
                              <a:pt x="3" y="10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12"/>
                            </a:lnTo>
                            <a:lnTo>
                              <a:pt x="6" y="12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9"/>
                            </a:lnTo>
                            <a:lnTo>
                              <a:pt x="9" y="9"/>
                            </a:lnTo>
                            <a:lnTo>
                              <a:pt x="9" y="3"/>
                            </a:lnTo>
                            <a:lnTo>
                              <a:pt x="7" y="1"/>
                            </a:lnTo>
                            <a:lnTo>
                              <a:pt x="7" y="1"/>
                            </a:lnTo>
                            <a:lnTo>
                              <a:pt x="7" y="1"/>
                            </a:lnTo>
                            <a:lnTo>
                              <a:pt x="7" y="0"/>
                            </a:lnTo>
                            <a:lnTo>
                              <a:pt x="6" y="0"/>
                            </a:lnTo>
                            <a:lnTo>
                              <a:pt x="6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1" name=""/>
                      <p:cNvSpPr/>
                      <p:nvPr/>
                    </p:nvSpPr>
                    <p:spPr>
                      <a:xfrm>
                        <a:off x="6568560" y="899640"/>
                        <a:ext cx="115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13" y="0"/>
                            </a:moveTo>
                            <a:lnTo>
                              <a:pt x="0" y="2"/>
                            </a:lnTo>
                            <a:lnTo>
                              <a:pt x="3" y="12"/>
                            </a:lnTo>
                            <a:lnTo>
                              <a:pt x="15" y="5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2" name=""/>
                      <p:cNvSpPr/>
                      <p:nvPr/>
                    </p:nvSpPr>
                    <p:spPr>
                      <a:xfrm>
                        <a:off x="6578640" y="896400"/>
                        <a:ext cx="28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9">
                            <a:moveTo>
                              <a:pt x="1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1" y="8"/>
                            </a:lnTo>
                            <a:lnTo>
                              <a:pt x="1" y="9"/>
                            </a:lnTo>
                            <a:lnTo>
                              <a:pt x="3" y="9"/>
                            </a:lnTo>
                            <a:lnTo>
                              <a:pt x="4" y="8"/>
                            </a:lnTo>
                            <a:lnTo>
                              <a:pt x="4" y="8"/>
                            </a:lnTo>
                            <a:lnTo>
                              <a:pt x="4" y="6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0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3" name=""/>
                      <p:cNvSpPr/>
                      <p:nvPr/>
                    </p:nvSpPr>
                    <p:spPr>
                      <a:xfrm>
                        <a:off x="6567120" y="8996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9">
                            <a:moveTo>
                              <a:pt x="1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0" y="2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2" y="8"/>
                            </a:lnTo>
                            <a:lnTo>
                              <a:pt x="2" y="9"/>
                            </a:lnTo>
                            <a:lnTo>
                              <a:pt x="4" y="9"/>
                            </a:lnTo>
                            <a:lnTo>
                              <a:pt x="4" y="9"/>
                            </a:lnTo>
                            <a:lnTo>
                              <a:pt x="4" y="9"/>
                            </a:lnTo>
                            <a:lnTo>
                              <a:pt x="5" y="8"/>
                            </a:lnTo>
                            <a:lnTo>
                              <a:pt x="5" y="5"/>
                            </a:lnTo>
                            <a:lnTo>
                              <a:pt x="5" y="5"/>
                            </a:lnTo>
                            <a:lnTo>
                              <a:pt x="5" y="3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4" y="2"/>
                            </a:lnTo>
                            <a:lnTo>
                              <a:pt x="2" y="2"/>
                            </a:lnTo>
                            <a:lnTo>
                              <a:pt x="2" y="0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4" name=""/>
                      <p:cNvSpPr/>
                      <p:nvPr/>
                    </p:nvSpPr>
                    <p:spPr>
                      <a:xfrm>
                        <a:off x="6603480" y="89640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5" name=""/>
                      <p:cNvSpPr/>
                      <p:nvPr/>
                    </p:nvSpPr>
                    <p:spPr>
                      <a:xfrm>
                        <a:off x="6611760" y="88812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5">
                            <a:moveTo>
                              <a:pt x="6" y="5"/>
                            </a:moveTo>
                            <a:lnTo>
                              <a:pt x="3" y="5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6" y="3"/>
                            </a:lnTo>
                            <a:lnTo>
                              <a:pt x="6" y="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6" name=""/>
                      <p:cNvSpPr/>
                      <p:nvPr/>
                    </p:nvSpPr>
                    <p:spPr>
                      <a:xfrm flipH="1">
                        <a:off x="6729120" y="897840"/>
                        <a:ext cx="14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7" name=""/>
                      <p:cNvSpPr/>
                      <p:nvPr/>
                    </p:nvSpPr>
                    <p:spPr>
                      <a:xfrm>
                        <a:off x="6710760" y="902520"/>
                        <a:ext cx="79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9" y="0"/>
                            </a:moveTo>
                            <a:lnTo>
                              <a:pt x="9" y="0"/>
                            </a:lnTo>
                            <a:lnTo>
                              <a:pt x="9" y="1"/>
                            </a:lnTo>
                            <a:lnTo>
                              <a:pt x="9" y="6"/>
                            </a:lnTo>
                            <a:lnTo>
                              <a:pt x="9" y="6"/>
                            </a:lnTo>
                            <a:lnTo>
                              <a:pt x="9" y="9"/>
                            </a:lnTo>
                            <a:lnTo>
                              <a:pt x="7" y="9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12"/>
                            </a:lnTo>
                            <a:lnTo>
                              <a:pt x="6" y="12"/>
                            </a:lnTo>
                            <a:lnTo>
                              <a:pt x="6" y="12"/>
                            </a:lnTo>
                            <a:lnTo>
                              <a:pt x="6" y="13"/>
                            </a:lnTo>
                            <a:lnTo>
                              <a:pt x="6" y="13"/>
                            </a:lnTo>
                            <a:lnTo>
                              <a:pt x="4" y="13"/>
                            </a:lnTo>
                            <a:lnTo>
                              <a:pt x="4" y="14"/>
                            </a:lnTo>
                            <a:lnTo>
                              <a:pt x="4" y="14"/>
                            </a:lnTo>
                            <a:lnTo>
                              <a:pt x="4" y="14"/>
                            </a:lnTo>
                            <a:lnTo>
                              <a:pt x="3" y="14"/>
                            </a:lnTo>
                            <a:lnTo>
                              <a:pt x="3" y="14"/>
                            </a:lnTo>
                            <a:lnTo>
                              <a:pt x="3" y="16"/>
                            </a:lnTo>
                            <a:lnTo>
                              <a:pt x="1" y="16"/>
                            </a:lnTo>
                            <a:lnTo>
                              <a:pt x="0" y="17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8" name=""/>
                      <p:cNvSpPr/>
                      <p:nvPr/>
                    </p:nvSpPr>
                    <p:spPr>
                      <a:xfrm>
                        <a:off x="6688080" y="917280"/>
                        <a:ext cx="2268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14">
                            <a:moveTo>
                              <a:pt x="29" y="0"/>
                            </a:moveTo>
                            <a:lnTo>
                              <a:pt x="29" y="0"/>
                            </a:lnTo>
                            <a:lnTo>
                              <a:pt x="27" y="0"/>
                            </a:lnTo>
                            <a:lnTo>
                              <a:pt x="27" y="2"/>
                            </a:lnTo>
                            <a:lnTo>
                              <a:pt x="27" y="2"/>
                            </a:lnTo>
                            <a:lnTo>
                              <a:pt x="26" y="3"/>
                            </a:lnTo>
                            <a:lnTo>
                              <a:pt x="24" y="3"/>
                            </a:lnTo>
                            <a:lnTo>
                              <a:pt x="24" y="3"/>
                            </a:lnTo>
                            <a:lnTo>
                              <a:pt x="24" y="5"/>
                            </a:lnTo>
                            <a:lnTo>
                              <a:pt x="23" y="5"/>
                            </a:lnTo>
                            <a:lnTo>
                              <a:pt x="22" y="6"/>
                            </a:lnTo>
                            <a:lnTo>
                              <a:pt x="20" y="6"/>
                            </a:lnTo>
                            <a:lnTo>
                              <a:pt x="19" y="8"/>
                            </a:lnTo>
                            <a:lnTo>
                              <a:pt x="19" y="8"/>
                            </a:lnTo>
                            <a:lnTo>
                              <a:pt x="17" y="9"/>
                            </a:lnTo>
                            <a:lnTo>
                              <a:pt x="16" y="9"/>
                            </a:lnTo>
                            <a:lnTo>
                              <a:pt x="13" y="11"/>
                            </a:lnTo>
                            <a:lnTo>
                              <a:pt x="13" y="11"/>
                            </a:lnTo>
                            <a:lnTo>
                              <a:pt x="13" y="11"/>
                            </a:lnTo>
                            <a:lnTo>
                              <a:pt x="11" y="11"/>
                            </a:lnTo>
                            <a:lnTo>
                              <a:pt x="10" y="11"/>
                            </a:lnTo>
                            <a:lnTo>
                              <a:pt x="8" y="11"/>
                            </a:lnTo>
                            <a:lnTo>
                              <a:pt x="8" y="12"/>
                            </a:lnTo>
                            <a:lnTo>
                              <a:pt x="5" y="12"/>
                            </a:lnTo>
                            <a:lnTo>
                              <a:pt x="5" y="12"/>
                            </a:lnTo>
                            <a:lnTo>
                              <a:pt x="2" y="12"/>
                            </a:lnTo>
                            <a:lnTo>
                              <a:pt x="1" y="14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9" name=""/>
                      <p:cNvSpPr/>
                      <p:nvPr/>
                    </p:nvSpPr>
                    <p:spPr>
                      <a:xfrm flipV="1">
                        <a:off x="6688080" y="902520"/>
                        <a:ext cx="29520" cy="244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0" name=""/>
                      <p:cNvSpPr/>
                      <p:nvPr/>
                    </p:nvSpPr>
                    <p:spPr>
                      <a:xfrm>
                        <a:off x="6661080" y="894600"/>
                        <a:ext cx="6768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46">
                            <a:moveTo>
                              <a:pt x="51" y="38"/>
                            </a:moveTo>
                            <a:lnTo>
                              <a:pt x="41" y="46"/>
                            </a:lnTo>
                            <a:lnTo>
                              <a:pt x="0" y="46"/>
                            </a:lnTo>
                            <a:lnTo>
                              <a:pt x="42" y="8"/>
                            </a:lnTo>
                            <a:lnTo>
                              <a:pt x="82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1" name=""/>
                      <p:cNvSpPr/>
                      <p:nvPr/>
                    </p:nvSpPr>
                    <p:spPr>
                      <a:xfrm flipH="1" flipV="1">
                        <a:off x="6528240" y="756720"/>
                        <a:ext cx="122760" cy="85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2" name=""/>
                      <p:cNvSpPr/>
                      <p:nvPr/>
                    </p:nvSpPr>
                    <p:spPr>
                      <a:xfrm flipH="1" flipV="1">
                        <a:off x="6522120" y="758520"/>
                        <a:ext cx="122400" cy="87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3" name=""/>
                      <p:cNvSpPr/>
                      <p:nvPr/>
                    </p:nvSpPr>
                    <p:spPr>
                      <a:xfrm>
                        <a:off x="6514200" y="747360"/>
                        <a:ext cx="198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24" y="12"/>
                            </a:moveTo>
                            <a:lnTo>
                              <a:pt x="9" y="0"/>
                            </a:lnTo>
                            <a:lnTo>
                              <a:pt x="0" y="9"/>
                            </a:lnTo>
                            <a:lnTo>
                              <a:pt x="15" y="19"/>
                            </a:lnTo>
                            <a:lnTo>
                              <a:pt x="24" y="1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4" name=""/>
                      <p:cNvSpPr/>
                      <p:nvPr/>
                    </p:nvSpPr>
                    <p:spPr>
                      <a:xfrm flipH="1">
                        <a:off x="6636240" y="842760"/>
                        <a:ext cx="1476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5" name=""/>
                      <p:cNvSpPr/>
                      <p:nvPr/>
                    </p:nvSpPr>
                    <p:spPr>
                      <a:xfrm>
                        <a:off x="6613200" y="823320"/>
                        <a:ext cx="79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48">
                            <a:moveTo>
                              <a:pt x="2" y="0"/>
                            </a:moveTo>
                            <a:lnTo>
                              <a:pt x="0" y="1"/>
                            </a:lnTo>
                            <a:lnTo>
                              <a:pt x="8" y="48"/>
                            </a:lnTo>
                            <a:lnTo>
                              <a:pt x="10" y="47"/>
                            </a:lnTo>
                            <a:lnTo>
                              <a:pt x="8" y="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6" name=""/>
                      <p:cNvSpPr/>
                      <p:nvPr/>
                    </p:nvSpPr>
                    <p:spPr>
                      <a:xfrm>
                        <a:off x="6624720" y="829800"/>
                        <a:ext cx="1152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4">
                            <a:moveTo>
                              <a:pt x="7" y="8"/>
                            </a:moveTo>
                            <a:lnTo>
                              <a:pt x="13" y="22"/>
                            </a:lnTo>
                            <a:lnTo>
                              <a:pt x="12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7" name=""/>
                      <p:cNvSpPr/>
                      <p:nvPr/>
                    </p:nvSpPr>
                    <p:spPr>
                      <a:xfrm flipH="1">
                        <a:off x="6621120" y="849240"/>
                        <a:ext cx="133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8" name=""/>
                      <p:cNvSpPr/>
                      <p:nvPr/>
                    </p:nvSpPr>
                    <p:spPr>
                      <a:xfrm>
                        <a:off x="6618240" y="816840"/>
                        <a:ext cx="115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4">
                            <a:moveTo>
                              <a:pt x="13" y="14"/>
                            </a:moveTo>
                            <a:lnTo>
                              <a:pt x="10" y="3"/>
                            </a:lnTo>
                            <a:lnTo>
                              <a:pt x="6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9" name=""/>
                      <p:cNvSpPr/>
                      <p:nvPr/>
                    </p:nvSpPr>
                    <p:spPr>
                      <a:xfrm flipH="1">
                        <a:off x="6647760" y="849240"/>
                        <a:ext cx="61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0" name=""/>
                      <p:cNvSpPr/>
                      <p:nvPr/>
                    </p:nvSpPr>
                    <p:spPr>
                      <a:xfrm flipH="1">
                        <a:off x="6649560" y="855360"/>
                        <a:ext cx="792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1" name=""/>
                      <p:cNvSpPr/>
                      <p:nvPr/>
                    </p:nvSpPr>
                    <p:spPr>
                      <a:xfrm flipH="1">
                        <a:off x="6654600" y="865440"/>
                        <a:ext cx="648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2" name=""/>
                      <p:cNvSpPr/>
                      <p:nvPr/>
                    </p:nvSpPr>
                    <p:spPr>
                      <a:xfrm>
                        <a:off x="6676200" y="776160"/>
                        <a:ext cx="59400" cy="6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88">
                            <a:moveTo>
                              <a:pt x="0" y="88"/>
                            </a:moveTo>
                            <a:lnTo>
                              <a:pt x="6" y="57"/>
                            </a:lnTo>
                            <a:lnTo>
                              <a:pt x="69" y="0"/>
                            </a:lnTo>
                            <a:lnTo>
                              <a:pt x="72" y="2"/>
                            </a:lnTo>
                            <a:lnTo>
                              <a:pt x="9" y="60"/>
                            </a:lnTo>
                            <a:lnTo>
                              <a:pt x="3" y="8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680" bIns="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3" name=""/>
                      <p:cNvSpPr/>
                      <p:nvPr/>
                    </p:nvSpPr>
                    <p:spPr>
                      <a:xfrm>
                        <a:off x="6689520" y="776160"/>
                        <a:ext cx="464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99">
                            <a:moveTo>
                              <a:pt x="56" y="0"/>
                            </a:moveTo>
                            <a:lnTo>
                              <a:pt x="30" y="76"/>
                            </a:lnTo>
                            <a:lnTo>
                              <a:pt x="0" y="9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4" name=""/>
                      <p:cNvSpPr/>
                      <p:nvPr/>
                    </p:nvSpPr>
                    <p:spPr>
                      <a:xfrm flipH="1">
                        <a:off x="6700680" y="789480"/>
                        <a:ext cx="21240" cy="579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5" name=""/>
                      <p:cNvSpPr/>
                      <p:nvPr/>
                    </p:nvSpPr>
                    <p:spPr>
                      <a:xfrm flipH="1">
                        <a:off x="6699600" y="790920"/>
                        <a:ext cx="19440" cy="583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6" name=""/>
                      <p:cNvSpPr/>
                      <p:nvPr/>
                    </p:nvSpPr>
                    <p:spPr>
                      <a:xfrm flipH="1">
                        <a:off x="6690600" y="802440"/>
                        <a:ext cx="14760" cy="52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7" name=""/>
                      <p:cNvSpPr/>
                      <p:nvPr/>
                    </p:nvSpPr>
                    <p:spPr>
                      <a:xfrm flipH="1">
                        <a:off x="6689520" y="805680"/>
                        <a:ext cx="12960" cy="49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8" name=""/>
                      <p:cNvSpPr/>
                      <p:nvPr/>
                    </p:nvSpPr>
                    <p:spPr>
                      <a:xfrm flipH="1">
                        <a:off x="6684120" y="813600"/>
                        <a:ext cx="9720" cy="352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 flipH="1">
                        <a:off x="6684480" y="815040"/>
                        <a:ext cx="7920" cy="320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 flipH="1">
                        <a:off x="6709320" y="815040"/>
                        <a:ext cx="12960" cy="111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 flipH="1">
                        <a:off x="6697800" y="828360"/>
                        <a:ext cx="79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2" name=""/>
                      <p:cNvSpPr/>
                      <p:nvPr/>
                    </p:nvSpPr>
                    <p:spPr>
                      <a:xfrm flipH="1">
                        <a:off x="6685920" y="837720"/>
                        <a:ext cx="79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3" name=""/>
                      <p:cNvSpPr/>
                      <p:nvPr/>
                    </p:nvSpPr>
                    <p:spPr>
                      <a:xfrm flipH="1">
                        <a:off x="6709320" y="813600"/>
                        <a:ext cx="12960" cy="111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4" name=""/>
                      <p:cNvSpPr/>
                      <p:nvPr/>
                    </p:nvSpPr>
                    <p:spPr>
                      <a:xfrm flipH="1">
                        <a:off x="6697800" y="826560"/>
                        <a:ext cx="1008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5" name=""/>
                      <p:cNvSpPr/>
                      <p:nvPr/>
                    </p:nvSpPr>
                    <p:spPr>
                      <a:xfrm flipH="1">
                        <a:off x="6685920" y="837720"/>
                        <a:ext cx="7920" cy="64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6" name=""/>
                      <p:cNvSpPr/>
                      <p:nvPr/>
                    </p:nvSpPr>
                    <p:spPr>
                      <a:xfrm flipH="1">
                        <a:off x="6682320" y="846000"/>
                        <a:ext cx="180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7" name=""/>
                      <p:cNvSpPr/>
                      <p:nvPr/>
                    </p:nvSpPr>
                    <p:spPr>
                      <a:xfrm>
                        <a:off x="6667920" y="833040"/>
                        <a:ext cx="115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6">
                            <a:moveTo>
                              <a:pt x="13" y="0"/>
                            </a:moveTo>
                            <a:lnTo>
                              <a:pt x="13" y="0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10" y="2"/>
                            </a:lnTo>
                            <a:lnTo>
                              <a:pt x="10" y="2"/>
                            </a:lnTo>
                            <a:lnTo>
                              <a:pt x="9" y="2"/>
                            </a:lnTo>
                            <a:lnTo>
                              <a:pt x="7" y="3"/>
                            </a:lnTo>
                            <a:lnTo>
                              <a:pt x="7" y="3"/>
                            </a:lnTo>
                            <a:lnTo>
                              <a:pt x="6" y="5"/>
                            </a:lnTo>
                            <a:lnTo>
                              <a:pt x="4" y="6"/>
                            </a:lnTo>
                            <a:lnTo>
                              <a:pt x="4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2" y="9"/>
                            </a:lnTo>
                            <a:lnTo>
                              <a:pt x="2" y="11"/>
                            </a:lnTo>
                            <a:lnTo>
                              <a:pt x="2" y="11"/>
                            </a:lnTo>
                            <a:lnTo>
                              <a:pt x="2" y="12"/>
                            </a:lnTo>
                            <a:lnTo>
                              <a:pt x="0" y="14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8" name=""/>
                      <p:cNvSpPr/>
                      <p:nvPr/>
                    </p:nvSpPr>
                    <p:spPr>
                      <a:xfrm>
                        <a:off x="6669360" y="833040"/>
                        <a:ext cx="100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11" y="0"/>
                            </a:moveTo>
                            <a:lnTo>
                              <a:pt x="10" y="0"/>
                            </a:lnTo>
                            <a:lnTo>
                              <a:pt x="8" y="1"/>
                            </a:lnTo>
                            <a:lnTo>
                              <a:pt x="7" y="1"/>
                            </a:lnTo>
                            <a:lnTo>
                              <a:pt x="7" y="3"/>
                            </a:lnTo>
                            <a:lnTo>
                              <a:pt x="7" y="3"/>
                            </a:lnTo>
                            <a:lnTo>
                              <a:pt x="4" y="4"/>
                            </a:lnTo>
                            <a:lnTo>
                              <a:pt x="4" y="4"/>
                            </a:lnTo>
                            <a:lnTo>
                              <a:pt x="2" y="6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2" y="9"/>
                            </a:lnTo>
                            <a:lnTo>
                              <a:pt x="1" y="9"/>
                            </a:lnTo>
                            <a:lnTo>
                              <a:pt x="1" y="10"/>
                            </a:lnTo>
                            <a:lnTo>
                              <a:pt x="0" y="10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59" name=""/>
                    <p:cNvGrpSpPr/>
                    <p:nvPr/>
                  </p:nvGrpSpPr>
                  <p:grpSpPr>
                    <a:xfrm>
                      <a:off x="6833520" y="869760"/>
                      <a:ext cx="226080" cy="252000"/>
                      <a:chOff x="6833520" y="869760"/>
                      <a:chExt cx="226080" cy="252000"/>
                    </a:xfrm>
                  </p:grpSpPr>
                  <p:sp>
                    <p:nvSpPr>
                      <p:cNvPr id="2560" name=""/>
                      <p:cNvSpPr/>
                      <p:nvPr/>
                    </p:nvSpPr>
                    <p:spPr>
                      <a:xfrm>
                        <a:off x="6960600" y="987840"/>
                        <a:ext cx="5256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67">
                            <a:moveTo>
                              <a:pt x="19" y="0"/>
                            </a:moveTo>
                            <a:lnTo>
                              <a:pt x="18" y="1"/>
                            </a:lnTo>
                            <a:lnTo>
                              <a:pt x="15" y="1"/>
                            </a:lnTo>
                            <a:lnTo>
                              <a:pt x="13" y="3"/>
                            </a:lnTo>
                            <a:lnTo>
                              <a:pt x="12" y="4"/>
                            </a:lnTo>
                            <a:lnTo>
                              <a:pt x="9" y="4"/>
                            </a:lnTo>
                            <a:lnTo>
                              <a:pt x="7" y="6"/>
                            </a:lnTo>
                            <a:lnTo>
                              <a:pt x="6" y="7"/>
                            </a:lnTo>
                            <a:lnTo>
                              <a:pt x="5" y="9"/>
                            </a:lnTo>
                            <a:lnTo>
                              <a:pt x="3" y="12"/>
                            </a:lnTo>
                            <a:lnTo>
                              <a:pt x="3" y="13"/>
                            </a:lnTo>
                            <a:lnTo>
                              <a:pt x="2" y="16"/>
                            </a:lnTo>
                            <a:lnTo>
                              <a:pt x="2" y="19"/>
                            </a:lnTo>
                            <a:lnTo>
                              <a:pt x="0" y="20"/>
                            </a:lnTo>
                            <a:lnTo>
                              <a:pt x="0" y="31"/>
                            </a:lnTo>
                            <a:lnTo>
                              <a:pt x="2" y="34"/>
                            </a:lnTo>
                            <a:lnTo>
                              <a:pt x="3" y="35"/>
                            </a:lnTo>
                            <a:lnTo>
                              <a:pt x="3" y="38"/>
                            </a:lnTo>
                            <a:lnTo>
                              <a:pt x="5" y="41"/>
                            </a:lnTo>
                            <a:lnTo>
                              <a:pt x="6" y="44"/>
                            </a:lnTo>
                            <a:lnTo>
                              <a:pt x="7" y="45"/>
                            </a:lnTo>
                            <a:lnTo>
                              <a:pt x="9" y="48"/>
                            </a:lnTo>
                            <a:lnTo>
                              <a:pt x="12" y="51"/>
                            </a:lnTo>
                            <a:lnTo>
                              <a:pt x="13" y="53"/>
                            </a:lnTo>
                            <a:lnTo>
                              <a:pt x="15" y="55"/>
                            </a:lnTo>
                            <a:lnTo>
                              <a:pt x="16" y="57"/>
                            </a:lnTo>
                            <a:lnTo>
                              <a:pt x="19" y="58"/>
                            </a:lnTo>
                            <a:lnTo>
                              <a:pt x="22" y="60"/>
                            </a:lnTo>
                            <a:lnTo>
                              <a:pt x="24" y="61"/>
                            </a:lnTo>
                            <a:lnTo>
                              <a:pt x="26" y="63"/>
                            </a:lnTo>
                            <a:lnTo>
                              <a:pt x="29" y="64"/>
                            </a:lnTo>
                            <a:lnTo>
                              <a:pt x="31" y="66"/>
                            </a:lnTo>
                            <a:lnTo>
                              <a:pt x="34" y="66"/>
                            </a:lnTo>
                            <a:lnTo>
                              <a:pt x="37" y="66"/>
                            </a:lnTo>
                            <a:lnTo>
                              <a:pt x="40" y="67"/>
                            </a:lnTo>
                            <a:lnTo>
                              <a:pt x="44" y="67"/>
                            </a:lnTo>
                            <a:lnTo>
                              <a:pt x="47" y="66"/>
                            </a:lnTo>
                            <a:lnTo>
                              <a:pt x="48" y="66"/>
                            </a:lnTo>
                            <a:lnTo>
                              <a:pt x="51" y="66"/>
                            </a:lnTo>
                            <a:lnTo>
                              <a:pt x="53" y="64"/>
                            </a:lnTo>
                            <a:lnTo>
                              <a:pt x="56" y="63"/>
                            </a:lnTo>
                            <a:lnTo>
                              <a:pt x="59" y="60"/>
                            </a:lnTo>
                            <a:lnTo>
                              <a:pt x="60" y="58"/>
                            </a:lnTo>
                            <a:lnTo>
                              <a:pt x="60" y="57"/>
                            </a:lnTo>
                            <a:lnTo>
                              <a:pt x="62" y="55"/>
                            </a:lnTo>
                            <a:lnTo>
                              <a:pt x="63" y="53"/>
                            </a:lnTo>
                            <a:lnTo>
                              <a:pt x="65" y="51"/>
                            </a:lnTo>
                            <a:lnTo>
                              <a:pt x="65" y="48"/>
                            </a:lnTo>
                            <a:lnTo>
                              <a:pt x="65" y="36"/>
                            </a:lnTo>
                            <a:lnTo>
                              <a:pt x="65" y="34"/>
                            </a:lnTo>
                            <a:lnTo>
                              <a:pt x="63" y="31"/>
                            </a:lnTo>
                            <a:lnTo>
                              <a:pt x="62" y="28"/>
                            </a:lnTo>
                            <a:lnTo>
                              <a:pt x="60" y="26"/>
                            </a:lnTo>
                            <a:lnTo>
                              <a:pt x="60" y="23"/>
                            </a:lnTo>
                            <a:lnTo>
                              <a:pt x="59" y="20"/>
                            </a:lnTo>
                            <a:lnTo>
                              <a:pt x="57" y="19"/>
                            </a:lnTo>
                            <a:lnTo>
                              <a:pt x="56" y="16"/>
                            </a:lnTo>
                            <a:lnTo>
                              <a:pt x="44" y="6"/>
                            </a:lnTo>
                            <a:lnTo>
                              <a:pt x="41" y="4"/>
                            </a:lnTo>
                            <a:lnTo>
                              <a:pt x="40" y="4"/>
                            </a:lnTo>
                            <a:lnTo>
                              <a:pt x="37" y="3"/>
                            </a:lnTo>
                            <a:lnTo>
                              <a:pt x="34" y="1"/>
                            </a:lnTo>
                            <a:lnTo>
                              <a:pt x="32" y="1"/>
                            </a:lnTo>
                            <a:lnTo>
                              <a:pt x="29" y="0"/>
                            </a:lnTo>
                            <a:lnTo>
                              <a:pt x="19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1" name=""/>
                      <p:cNvSpPr/>
                      <p:nvPr/>
                    </p:nvSpPr>
                    <p:spPr>
                      <a:xfrm>
                        <a:off x="6978960" y="985680"/>
                        <a:ext cx="2592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53">
                            <a:moveTo>
                              <a:pt x="16" y="53"/>
                            </a:moveTo>
                            <a:lnTo>
                              <a:pt x="19" y="52"/>
                            </a:lnTo>
                            <a:lnTo>
                              <a:pt x="26" y="46"/>
                            </a:lnTo>
                            <a:lnTo>
                              <a:pt x="27" y="43"/>
                            </a:lnTo>
                            <a:lnTo>
                              <a:pt x="27" y="41"/>
                            </a:lnTo>
                            <a:lnTo>
                              <a:pt x="29" y="40"/>
                            </a:lnTo>
                            <a:lnTo>
                              <a:pt x="29" y="37"/>
                            </a:lnTo>
                            <a:lnTo>
                              <a:pt x="30" y="36"/>
                            </a:lnTo>
                            <a:lnTo>
                              <a:pt x="30" y="30"/>
                            </a:lnTo>
                            <a:lnTo>
                              <a:pt x="29" y="27"/>
                            </a:lnTo>
                            <a:lnTo>
                              <a:pt x="29" y="24"/>
                            </a:lnTo>
                            <a:lnTo>
                              <a:pt x="29" y="22"/>
                            </a:lnTo>
                            <a:lnTo>
                              <a:pt x="27" y="21"/>
                            </a:lnTo>
                            <a:lnTo>
                              <a:pt x="27" y="19"/>
                            </a:lnTo>
                            <a:lnTo>
                              <a:pt x="26" y="16"/>
                            </a:lnTo>
                            <a:lnTo>
                              <a:pt x="24" y="15"/>
                            </a:lnTo>
                            <a:lnTo>
                              <a:pt x="23" y="12"/>
                            </a:lnTo>
                            <a:lnTo>
                              <a:pt x="16" y="6"/>
                            </a:lnTo>
                            <a:lnTo>
                              <a:pt x="14" y="5"/>
                            </a:lnTo>
                            <a:lnTo>
                              <a:pt x="11" y="5"/>
                            </a:lnTo>
                            <a:lnTo>
                              <a:pt x="10" y="3"/>
                            </a:lnTo>
                            <a:lnTo>
                              <a:pt x="7" y="2"/>
                            </a:lnTo>
                            <a:lnTo>
                              <a:pt x="5" y="2"/>
                            </a:ln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2" name=""/>
                      <p:cNvSpPr/>
                      <p:nvPr/>
                    </p:nvSpPr>
                    <p:spPr>
                      <a:xfrm>
                        <a:off x="6965280" y="990720"/>
                        <a:ext cx="3456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47">
                            <a:moveTo>
                              <a:pt x="24" y="47"/>
                            </a:moveTo>
                            <a:lnTo>
                              <a:pt x="25" y="47"/>
                            </a:lnTo>
                            <a:lnTo>
                              <a:pt x="28" y="46"/>
                            </a:lnTo>
                            <a:lnTo>
                              <a:pt x="31" y="44"/>
                            </a:lnTo>
                            <a:lnTo>
                              <a:pt x="36" y="40"/>
                            </a:lnTo>
                            <a:lnTo>
                              <a:pt x="37" y="38"/>
                            </a:lnTo>
                            <a:lnTo>
                              <a:pt x="39" y="37"/>
                            </a:lnTo>
                            <a:lnTo>
                              <a:pt x="40" y="34"/>
                            </a:lnTo>
                            <a:lnTo>
                              <a:pt x="40" y="32"/>
                            </a:lnTo>
                            <a:lnTo>
                              <a:pt x="41" y="31"/>
                            </a:lnTo>
                            <a:lnTo>
                              <a:pt x="41" y="28"/>
                            </a:lnTo>
                            <a:lnTo>
                              <a:pt x="41" y="27"/>
                            </a:lnTo>
                            <a:lnTo>
                              <a:pt x="41" y="25"/>
                            </a:lnTo>
                            <a:lnTo>
                              <a:pt x="41" y="22"/>
                            </a:lnTo>
                            <a:lnTo>
                              <a:pt x="41" y="21"/>
                            </a:lnTo>
                            <a:lnTo>
                              <a:pt x="40" y="18"/>
                            </a:lnTo>
                            <a:lnTo>
                              <a:pt x="40" y="16"/>
                            </a:lnTo>
                            <a:lnTo>
                              <a:pt x="37" y="15"/>
                            </a:lnTo>
                            <a:lnTo>
                              <a:pt x="37" y="13"/>
                            </a:lnTo>
                            <a:lnTo>
                              <a:pt x="30" y="6"/>
                            </a:lnTo>
                            <a:lnTo>
                              <a:pt x="27" y="5"/>
                            </a:lnTo>
                            <a:lnTo>
                              <a:pt x="25" y="5"/>
                            </a:lnTo>
                            <a:lnTo>
                              <a:pt x="22" y="3"/>
                            </a:lnTo>
                            <a:lnTo>
                              <a:pt x="19" y="2"/>
                            </a:lnTo>
                            <a:lnTo>
                              <a:pt x="18" y="2"/>
                            </a:lnTo>
                            <a:lnTo>
                              <a:pt x="15" y="0"/>
                            </a:lnTo>
                            <a:lnTo>
                              <a:pt x="1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3" name=""/>
                      <p:cNvSpPr/>
                      <p:nvPr/>
                    </p:nvSpPr>
                    <p:spPr>
                      <a:xfrm>
                        <a:off x="6963840" y="1005120"/>
                        <a:ext cx="23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26">
                            <a:moveTo>
                              <a:pt x="10" y="0"/>
                            </a:moveTo>
                            <a:lnTo>
                              <a:pt x="9" y="1"/>
                            </a:lnTo>
                            <a:lnTo>
                              <a:pt x="7" y="1"/>
                            </a:lnTo>
                            <a:lnTo>
                              <a:pt x="7" y="1"/>
                            </a:lnTo>
                            <a:lnTo>
                              <a:pt x="6" y="1"/>
                            </a:lnTo>
                            <a:lnTo>
                              <a:pt x="6" y="3"/>
                            </a:lnTo>
                            <a:lnTo>
                              <a:pt x="4" y="3"/>
                            </a:lnTo>
                            <a:lnTo>
                              <a:pt x="3" y="4"/>
                            </a:lnTo>
                            <a:lnTo>
                              <a:pt x="3" y="4"/>
                            </a:lnTo>
                            <a:lnTo>
                              <a:pt x="1" y="6"/>
                            </a:lnTo>
                            <a:lnTo>
                              <a:pt x="1" y="7"/>
                            </a:lnTo>
                            <a:lnTo>
                              <a:pt x="1" y="7"/>
                            </a:lnTo>
                            <a:lnTo>
                              <a:pt x="1" y="9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1" y="13"/>
                            </a:lnTo>
                            <a:lnTo>
                              <a:pt x="1" y="17"/>
                            </a:lnTo>
                            <a:lnTo>
                              <a:pt x="3" y="19"/>
                            </a:lnTo>
                            <a:lnTo>
                              <a:pt x="3" y="19"/>
                            </a:lnTo>
                            <a:lnTo>
                              <a:pt x="3" y="20"/>
                            </a:lnTo>
                            <a:lnTo>
                              <a:pt x="7" y="23"/>
                            </a:lnTo>
                            <a:lnTo>
                              <a:pt x="7" y="23"/>
                            </a:lnTo>
                            <a:lnTo>
                              <a:pt x="9" y="23"/>
                            </a:lnTo>
                            <a:lnTo>
                              <a:pt x="10" y="25"/>
                            </a:lnTo>
                            <a:lnTo>
                              <a:pt x="10" y="25"/>
                            </a:lnTo>
                            <a:lnTo>
                              <a:pt x="12" y="25"/>
                            </a:lnTo>
                            <a:lnTo>
                              <a:pt x="12" y="25"/>
                            </a:lnTo>
                            <a:lnTo>
                              <a:pt x="15" y="26"/>
                            </a:lnTo>
                            <a:lnTo>
                              <a:pt x="16" y="26"/>
                            </a:lnTo>
                            <a:lnTo>
                              <a:pt x="18" y="25"/>
                            </a:lnTo>
                            <a:lnTo>
                              <a:pt x="19" y="25"/>
                            </a:lnTo>
                            <a:lnTo>
                              <a:pt x="19" y="25"/>
                            </a:lnTo>
                            <a:lnTo>
                              <a:pt x="20" y="25"/>
                            </a:lnTo>
                            <a:lnTo>
                              <a:pt x="20" y="23"/>
                            </a:lnTo>
                            <a:lnTo>
                              <a:pt x="22" y="23"/>
                            </a:lnTo>
                            <a:lnTo>
                              <a:pt x="23" y="23"/>
                            </a:lnTo>
                            <a:lnTo>
                              <a:pt x="23" y="23"/>
                            </a:lnTo>
                            <a:lnTo>
                              <a:pt x="25" y="20"/>
                            </a:lnTo>
                            <a:lnTo>
                              <a:pt x="25" y="19"/>
                            </a:lnTo>
                            <a:lnTo>
                              <a:pt x="26" y="17"/>
                            </a:lnTo>
                            <a:lnTo>
                              <a:pt x="26" y="12"/>
                            </a:lnTo>
                            <a:lnTo>
                              <a:pt x="25" y="10"/>
                            </a:lnTo>
                            <a:lnTo>
                              <a:pt x="25" y="10"/>
                            </a:lnTo>
                            <a:lnTo>
                              <a:pt x="25" y="9"/>
                            </a:lnTo>
                            <a:lnTo>
                              <a:pt x="25" y="9"/>
                            </a:lnTo>
                            <a:lnTo>
                              <a:pt x="23" y="7"/>
                            </a:lnTo>
                            <a:lnTo>
                              <a:pt x="22" y="6"/>
                            </a:lnTo>
                            <a:lnTo>
                              <a:pt x="20" y="6"/>
                            </a:lnTo>
                            <a:lnTo>
                              <a:pt x="20" y="4"/>
                            </a:lnTo>
                            <a:lnTo>
                              <a:pt x="19" y="4"/>
                            </a:lnTo>
                            <a:lnTo>
                              <a:pt x="18" y="1"/>
                            </a:lnTo>
                            <a:lnTo>
                              <a:pt x="16" y="1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4" name=""/>
                      <p:cNvSpPr/>
                      <p:nvPr/>
                    </p:nvSpPr>
                    <p:spPr>
                      <a:xfrm>
                        <a:off x="6965280" y="992520"/>
                        <a:ext cx="133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3">
                            <a:moveTo>
                              <a:pt x="3" y="1"/>
                            </a:move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1"/>
                            </a:lnTo>
                            <a:lnTo>
                              <a:pt x="2" y="3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2" y="7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5" y="11"/>
                            </a:lnTo>
                            <a:lnTo>
                              <a:pt x="6" y="11"/>
                            </a:lnTo>
                            <a:lnTo>
                              <a:pt x="6" y="13"/>
                            </a:lnTo>
                            <a:lnTo>
                              <a:pt x="8" y="13"/>
                            </a:lnTo>
                            <a:lnTo>
                              <a:pt x="8" y="13"/>
                            </a:lnTo>
                            <a:lnTo>
                              <a:pt x="12" y="13"/>
                            </a:lnTo>
                            <a:lnTo>
                              <a:pt x="12" y="13"/>
                            </a:lnTo>
                            <a:lnTo>
                              <a:pt x="14" y="13"/>
                            </a:lnTo>
                            <a:lnTo>
                              <a:pt x="14" y="11"/>
                            </a:lnTo>
                            <a:lnTo>
                              <a:pt x="14" y="11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4" y="6"/>
                            </a:lnTo>
                            <a:lnTo>
                              <a:pt x="14" y="6"/>
                            </a:lnTo>
                            <a:lnTo>
                              <a:pt x="14" y="4"/>
                            </a:ln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1" y="3"/>
                            </a:lnTo>
                            <a:lnTo>
                              <a:pt x="11" y="3"/>
                            </a:lnTo>
                            <a:lnTo>
                              <a:pt x="11" y="3"/>
                            </a:lnTo>
                            <a:lnTo>
                              <a:pt x="9" y="1"/>
                            </a:lnTo>
                            <a:lnTo>
                              <a:pt x="9" y="1"/>
                            </a:lnTo>
                            <a:lnTo>
                              <a:pt x="8" y="1"/>
                            </a:lnTo>
                            <a:lnTo>
                              <a:pt x="6" y="1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lnTo>
                              <a:pt x="5" y="1"/>
                            </a:lnTo>
                            <a:lnTo>
                              <a:pt x="3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5" name=""/>
                      <p:cNvSpPr/>
                      <p:nvPr/>
                    </p:nvSpPr>
                    <p:spPr>
                      <a:xfrm>
                        <a:off x="6985080" y="1021320"/>
                        <a:ext cx="115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3" y="0"/>
                            </a:move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5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1" y="8"/>
                            </a:lnTo>
                            <a:lnTo>
                              <a:pt x="1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4" y="11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7" y="12"/>
                            </a:lnTo>
                            <a:lnTo>
                              <a:pt x="12" y="12"/>
                            </a:lnTo>
                            <a:lnTo>
                              <a:pt x="12" y="11"/>
                            </a:lnTo>
                            <a:lnTo>
                              <a:pt x="12" y="11"/>
                            </a:lnTo>
                            <a:lnTo>
                              <a:pt x="13" y="11"/>
                            </a:lnTo>
                            <a:lnTo>
                              <a:pt x="13" y="9"/>
                            </a:lnTo>
                            <a:lnTo>
                              <a:pt x="13" y="9"/>
                            </a:lnTo>
                            <a:lnTo>
                              <a:pt x="13" y="6"/>
                            </a:lnTo>
                            <a:lnTo>
                              <a:pt x="13" y="6"/>
                            </a:lnTo>
                            <a:lnTo>
                              <a:pt x="13" y="5"/>
                            </a:lnTo>
                            <a:lnTo>
                              <a:pt x="12" y="5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9" y="2"/>
                            </a:lnTo>
                            <a:lnTo>
                              <a:pt x="9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6" name=""/>
                      <p:cNvSpPr/>
                      <p:nvPr/>
                    </p:nvSpPr>
                    <p:spPr>
                      <a:xfrm>
                        <a:off x="6973920" y="1029600"/>
                        <a:ext cx="12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2">
                            <a:moveTo>
                              <a:pt x="4" y="0"/>
                            </a:moveTo>
                            <a:lnTo>
                              <a:pt x="3" y="0"/>
                            </a:lnTo>
                            <a:lnTo>
                              <a:pt x="3" y="2"/>
                            </a:lnTo>
                            <a:lnTo>
                              <a:pt x="1" y="2"/>
                            </a:lnTo>
                            <a:lnTo>
                              <a:pt x="1" y="2"/>
                            </a:lnTo>
                            <a:lnTo>
                              <a:pt x="0" y="2"/>
                            </a:lnTo>
                            <a:lnTo>
                              <a:pt x="0" y="6"/>
                            </a:lnTo>
                            <a:lnTo>
                              <a:pt x="1" y="6"/>
                            </a:lnTo>
                            <a:lnTo>
                              <a:pt x="1" y="7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3" y="9"/>
                            </a:lnTo>
                            <a:lnTo>
                              <a:pt x="4" y="10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12"/>
                            </a:lnTo>
                            <a:lnTo>
                              <a:pt x="7" y="12"/>
                            </a:lnTo>
                            <a:lnTo>
                              <a:pt x="7" y="12"/>
                            </a:lnTo>
                            <a:lnTo>
                              <a:pt x="11" y="12"/>
                            </a:lnTo>
                            <a:lnTo>
                              <a:pt x="11" y="12"/>
                            </a:lnTo>
                            <a:lnTo>
                              <a:pt x="13" y="12"/>
                            </a:lnTo>
                            <a:lnTo>
                              <a:pt x="13" y="10"/>
                            </a:lnTo>
                            <a:lnTo>
                              <a:pt x="13" y="10"/>
                            </a:lnTo>
                            <a:lnTo>
                              <a:pt x="14" y="9"/>
                            </a:lnTo>
                            <a:lnTo>
                              <a:pt x="14" y="7"/>
                            </a:lnTo>
                            <a:lnTo>
                              <a:pt x="13" y="6"/>
                            </a:lnTo>
                            <a:lnTo>
                              <a:pt x="13" y="4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1" y="3"/>
                            </a:lnTo>
                            <a:lnTo>
                              <a:pt x="11" y="3"/>
                            </a:lnTo>
                            <a:lnTo>
                              <a:pt x="11" y="2"/>
                            </a:lnTo>
                            <a:lnTo>
                              <a:pt x="10" y="2"/>
                            </a:lnTo>
                            <a:lnTo>
                              <a:pt x="8" y="0"/>
                            </a:lnTo>
                            <a:lnTo>
                              <a:pt x="7" y="0"/>
                            </a:lnTo>
                            <a:lnTo>
                              <a:pt x="7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7" name=""/>
                      <p:cNvSpPr/>
                      <p:nvPr/>
                    </p:nvSpPr>
                    <p:spPr>
                      <a:xfrm>
                        <a:off x="6985080" y="1007280"/>
                        <a:ext cx="133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">
                            <a:moveTo>
                              <a:pt x="16" y="9"/>
                            </a:move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7" y="13"/>
                            </a:lnTo>
                            <a:lnTo>
                              <a:pt x="1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8" name=""/>
                      <p:cNvSpPr/>
                      <p:nvPr/>
                    </p:nvSpPr>
                    <p:spPr>
                      <a:xfrm>
                        <a:off x="6958800" y="1003680"/>
                        <a:ext cx="46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1" y="12"/>
                            </a:lnTo>
                            <a:lnTo>
                              <a:pt x="1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2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6" y="9"/>
                            </a:lnTo>
                            <a:lnTo>
                              <a:pt x="6" y="9"/>
                            </a:lnTo>
                            <a:lnTo>
                              <a:pt x="6" y="6"/>
                            </a:lnTo>
                            <a:lnTo>
                              <a:pt x="6" y="6"/>
                            </a:lnTo>
                            <a:lnTo>
                              <a:pt x="6" y="5"/>
                            </a:lnTo>
                            <a:lnTo>
                              <a:pt x="4" y="5"/>
                            </a:lnTo>
                            <a:lnTo>
                              <a:pt x="4" y="3"/>
                            </a:lnTo>
                            <a:lnTo>
                              <a:pt x="4" y="3"/>
                            </a:lnTo>
                            <a:lnTo>
                              <a:pt x="4" y="2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1" y="2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9" name=""/>
                      <p:cNvSpPr/>
                      <p:nvPr/>
                    </p:nvSpPr>
                    <p:spPr>
                      <a:xfrm>
                        <a:off x="6973920" y="971640"/>
                        <a:ext cx="4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6">
                            <a:moveTo>
                              <a:pt x="2" y="2"/>
                            </a:moveTo>
                            <a:lnTo>
                              <a:pt x="2" y="2"/>
                            </a:lnTo>
                            <a:lnTo>
                              <a:pt x="2" y="2"/>
                            </a:lnTo>
                            <a:lnTo>
                              <a:pt x="0" y="2"/>
                            </a:lnTo>
                            <a:lnTo>
                              <a:pt x="0" y="5"/>
                            </a:lnTo>
                            <a:lnTo>
                              <a:pt x="2" y="5"/>
                            </a:lnTo>
                            <a:lnTo>
                              <a:pt x="2" y="6"/>
                            </a:lnTo>
                            <a:lnTo>
                              <a:pt x="6" y="6"/>
                            </a:lnTo>
                            <a:lnTo>
                              <a:pt x="6" y="5"/>
                            </a:lnTo>
                            <a:lnTo>
                              <a:pt x="8" y="5"/>
                            </a:lnTo>
                            <a:lnTo>
                              <a:pt x="8" y="3"/>
                            </a:lnTo>
                            <a:lnTo>
                              <a:pt x="6" y="3"/>
                            </a:lnTo>
                            <a:lnTo>
                              <a:pt x="6" y="2"/>
                            </a:lnTo>
                            <a:lnTo>
                              <a:pt x="6" y="2"/>
                            </a:lnTo>
                            <a:lnTo>
                              <a:pt x="6" y="2"/>
                            </a:lnTo>
                            <a:lnTo>
                              <a:pt x="5" y="2"/>
                            </a:lnTo>
                            <a:lnTo>
                              <a:pt x="5" y="0"/>
                            </a:lnTo>
                            <a:lnTo>
                              <a:pt x="2" y="0"/>
                            </a:lnTo>
                            <a:lnTo>
                              <a:pt x="2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0" name=""/>
                      <p:cNvSpPr/>
                      <p:nvPr/>
                    </p:nvSpPr>
                    <p:spPr>
                      <a:xfrm>
                        <a:off x="7000200" y="1019880"/>
                        <a:ext cx="4104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9">
                            <a:moveTo>
                              <a:pt x="50" y="1"/>
                            </a:moveTo>
                            <a:lnTo>
                              <a:pt x="47" y="0"/>
                            </a:lnTo>
                            <a:lnTo>
                              <a:pt x="46" y="0"/>
                            </a:lnTo>
                            <a:lnTo>
                              <a:pt x="46" y="0"/>
                            </a:lnTo>
                            <a:lnTo>
                              <a:pt x="37" y="0"/>
                            </a:lnTo>
                            <a:lnTo>
                              <a:pt x="36" y="0"/>
                            </a:lnTo>
                            <a:lnTo>
                              <a:pt x="34" y="0"/>
                            </a:lnTo>
                            <a:lnTo>
                              <a:pt x="33" y="1"/>
                            </a:lnTo>
                            <a:lnTo>
                              <a:pt x="30" y="1"/>
                            </a:lnTo>
                            <a:lnTo>
                              <a:pt x="28" y="1"/>
                            </a:lnTo>
                            <a:lnTo>
                              <a:pt x="27" y="3"/>
                            </a:lnTo>
                            <a:lnTo>
                              <a:pt x="24" y="3"/>
                            </a:lnTo>
                            <a:lnTo>
                              <a:pt x="22" y="4"/>
                            </a:lnTo>
                            <a:lnTo>
                              <a:pt x="19" y="4"/>
                            </a:lnTo>
                            <a:lnTo>
                              <a:pt x="18" y="6"/>
                            </a:lnTo>
                            <a:lnTo>
                              <a:pt x="17" y="7"/>
                            </a:lnTo>
                            <a:lnTo>
                              <a:pt x="14" y="7"/>
                            </a:lnTo>
                            <a:lnTo>
                              <a:pt x="12" y="9"/>
                            </a:lnTo>
                            <a:lnTo>
                              <a:pt x="11" y="10"/>
                            </a:lnTo>
                            <a:lnTo>
                              <a:pt x="9" y="12"/>
                            </a:lnTo>
                            <a:lnTo>
                              <a:pt x="8" y="12"/>
                            </a:lnTo>
                            <a:lnTo>
                              <a:pt x="5" y="14"/>
                            </a:lnTo>
                            <a:lnTo>
                              <a:pt x="3" y="16"/>
                            </a:lnTo>
                            <a:lnTo>
                              <a:pt x="3" y="17"/>
                            </a:lnTo>
                            <a:lnTo>
                              <a:pt x="0" y="19"/>
                            </a:lnTo>
                            <a:lnTo>
                              <a:pt x="0" y="20"/>
                            </a:lnTo>
                            <a:lnTo>
                              <a:pt x="0" y="20"/>
                            </a:lnTo>
                            <a:lnTo>
                              <a:pt x="0" y="26"/>
                            </a:lnTo>
                            <a:lnTo>
                              <a:pt x="0" y="26"/>
                            </a:lnTo>
                            <a:lnTo>
                              <a:pt x="0" y="28"/>
                            </a:lnTo>
                            <a:lnTo>
                              <a:pt x="2" y="28"/>
                            </a:lnTo>
                            <a:lnTo>
                              <a:pt x="3" y="28"/>
                            </a:lnTo>
                            <a:lnTo>
                              <a:pt x="3" y="28"/>
                            </a:lnTo>
                            <a:lnTo>
                              <a:pt x="5" y="29"/>
                            </a:lnTo>
                            <a:lnTo>
                              <a:pt x="12" y="29"/>
                            </a:lnTo>
                            <a:lnTo>
                              <a:pt x="14" y="28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9" y="28"/>
                            </a:lnTo>
                            <a:lnTo>
                              <a:pt x="22" y="26"/>
                            </a:lnTo>
                            <a:lnTo>
                              <a:pt x="24" y="26"/>
                            </a:lnTo>
                            <a:lnTo>
                              <a:pt x="27" y="25"/>
                            </a:lnTo>
                            <a:lnTo>
                              <a:pt x="28" y="25"/>
                            </a:lnTo>
                            <a:lnTo>
                              <a:pt x="30" y="23"/>
                            </a:lnTo>
                            <a:lnTo>
                              <a:pt x="33" y="22"/>
                            </a:lnTo>
                            <a:lnTo>
                              <a:pt x="34" y="20"/>
                            </a:lnTo>
                            <a:lnTo>
                              <a:pt x="36" y="20"/>
                            </a:lnTo>
                            <a:lnTo>
                              <a:pt x="37" y="19"/>
                            </a:lnTo>
                            <a:lnTo>
                              <a:pt x="39" y="19"/>
                            </a:lnTo>
                            <a:lnTo>
                              <a:pt x="43" y="16"/>
                            </a:lnTo>
                            <a:lnTo>
                              <a:pt x="46" y="13"/>
                            </a:lnTo>
                            <a:lnTo>
                              <a:pt x="46" y="12"/>
                            </a:lnTo>
                            <a:lnTo>
                              <a:pt x="47" y="12"/>
                            </a:lnTo>
                            <a:lnTo>
                              <a:pt x="49" y="10"/>
                            </a:lnTo>
                            <a:lnTo>
                              <a:pt x="50" y="9"/>
                            </a:lnTo>
                            <a:lnTo>
                              <a:pt x="50" y="7"/>
                            </a:lnTo>
                            <a:lnTo>
                              <a:pt x="50" y="7"/>
                            </a:lnTo>
                            <a:lnTo>
                              <a:pt x="50" y="6"/>
                            </a:lnTo>
                            <a:lnTo>
                              <a:pt x="52" y="4"/>
                            </a:lnTo>
                            <a:lnTo>
                              <a:pt x="52" y="4"/>
                            </a:lnTo>
                            <a:lnTo>
                              <a:pt x="50" y="3"/>
                            </a:lnTo>
                            <a:lnTo>
                              <a:pt x="50" y="3"/>
                            </a:lnTo>
                            <a:lnTo>
                              <a:pt x="50" y="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1" name=""/>
                      <p:cNvSpPr/>
                      <p:nvPr/>
                    </p:nvSpPr>
                    <p:spPr>
                      <a:xfrm>
                        <a:off x="7049520" y="1015200"/>
                        <a:ext cx="32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3">
                            <a:moveTo>
                              <a:pt x="1" y="3"/>
                            </a:move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4" y="1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2" name=""/>
                      <p:cNvSpPr/>
                      <p:nvPr/>
                    </p:nvSpPr>
                    <p:spPr>
                      <a:xfrm>
                        <a:off x="7023240" y="1019880"/>
                        <a:ext cx="259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4">
                            <a:moveTo>
                              <a:pt x="0" y="34"/>
                            </a:moveTo>
                            <a:lnTo>
                              <a:pt x="0" y="34"/>
                            </a:lnTo>
                            <a:lnTo>
                              <a:pt x="1" y="34"/>
                            </a:lnTo>
                            <a:lnTo>
                              <a:pt x="3" y="33"/>
                            </a:lnTo>
                            <a:lnTo>
                              <a:pt x="4" y="33"/>
                            </a:lnTo>
                            <a:lnTo>
                              <a:pt x="4" y="33"/>
                            </a:lnTo>
                            <a:lnTo>
                              <a:pt x="6" y="33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7" y="31"/>
                            </a:lnTo>
                            <a:lnTo>
                              <a:pt x="9" y="30"/>
                            </a:lnTo>
                            <a:lnTo>
                              <a:pt x="10" y="30"/>
                            </a:lnTo>
                            <a:lnTo>
                              <a:pt x="11" y="28"/>
                            </a:lnTo>
                            <a:lnTo>
                              <a:pt x="13" y="28"/>
                            </a:lnTo>
                            <a:lnTo>
                              <a:pt x="14" y="27"/>
                            </a:lnTo>
                            <a:lnTo>
                              <a:pt x="16" y="25"/>
                            </a:lnTo>
                            <a:lnTo>
                              <a:pt x="16" y="25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0" y="21"/>
                            </a:lnTo>
                            <a:lnTo>
                              <a:pt x="22" y="19"/>
                            </a:lnTo>
                            <a:lnTo>
                              <a:pt x="22" y="18"/>
                            </a:lnTo>
                            <a:lnTo>
                              <a:pt x="23" y="18"/>
                            </a:lnTo>
                            <a:lnTo>
                              <a:pt x="23" y="18"/>
                            </a:lnTo>
                            <a:lnTo>
                              <a:pt x="23" y="16"/>
                            </a:lnTo>
                            <a:lnTo>
                              <a:pt x="25" y="15"/>
                            </a:lnTo>
                            <a:lnTo>
                              <a:pt x="25" y="15"/>
                            </a:lnTo>
                            <a:lnTo>
                              <a:pt x="25" y="14"/>
                            </a:lnTo>
                            <a:lnTo>
                              <a:pt x="26" y="12"/>
                            </a:lnTo>
                            <a:lnTo>
                              <a:pt x="26" y="11"/>
                            </a:lnTo>
                            <a:lnTo>
                              <a:pt x="28" y="11"/>
                            </a:lnTo>
                            <a:lnTo>
                              <a:pt x="28" y="9"/>
                            </a:lnTo>
                            <a:lnTo>
                              <a:pt x="29" y="8"/>
                            </a:lnTo>
                            <a:lnTo>
                              <a:pt x="29" y="6"/>
                            </a:lnTo>
                            <a:lnTo>
                              <a:pt x="29" y="6"/>
                            </a:lnTo>
                            <a:lnTo>
                              <a:pt x="29" y="5"/>
                            </a:lnTo>
                            <a:lnTo>
                              <a:pt x="31" y="3"/>
                            </a:lnTo>
                            <a:lnTo>
                              <a:pt x="31" y="2"/>
                            </a:lnTo>
                            <a:lnTo>
                              <a:pt x="31" y="2"/>
                            </a:lnTo>
                            <a:lnTo>
                              <a:pt x="31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3" name=""/>
                      <p:cNvSpPr/>
                      <p:nvPr/>
                    </p:nvSpPr>
                    <p:spPr>
                      <a:xfrm>
                        <a:off x="7046640" y="1018080"/>
                        <a:ext cx="129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0">
                            <a:moveTo>
                              <a:pt x="3" y="3"/>
                            </a:moveTo>
                            <a:lnTo>
                              <a:pt x="14" y="0"/>
                            </a:lnTo>
                            <a:lnTo>
                              <a:pt x="7" y="9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4" name=""/>
                      <p:cNvSpPr/>
                      <p:nvPr/>
                    </p:nvSpPr>
                    <p:spPr>
                      <a:xfrm>
                        <a:off x="7035120" y="1034640"/>
                        <a:ext cx="115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9" y="0"/>
                            </a:moveTo>
                            <a:lnTo>
                              <a:pt x="13" y="0"/>
                            </a:lnTo>
                            <a:lnTo>
                              <a:pt x="3" y="11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5" name=""/>
                      <p:cNvSpPr/>
                      <p:nvPr/>
                    </p:nvSpPr>
                    <p:spPr>
                      <a:xfrm>
                        <a:off x="6937560" y="964800"/>
                        <a:ext cx="90720" cy="9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14">
                            <a:moveTo>
                              <a:pt x="105" y="69"/>
                            </a:moveTo>
                            <a:lnTo>
                              <a:pt x="108" y="44"/>
                            </a:lnTo>
                            <a:lnTo>
                              <a:pt x="79" y="6"/>
                            </a:lnTo>
                            <a:lnTo>
                              <a:pt x="39" y="0"/>
                            </a:lnTo>
                            <a:lnTo>
                              <a:pt x="0" y="28"/>
                            </a:lnTo>
                            <a:lnTo>
                              <a:pt x="0" y="76"/>
                            </a:lnTo>
                            <a:lnTo>
                              <a:pt x="29" y="111"/>
                            </a:lnTo>
                            <a:lnTo>
                              <a:pt x="73" y="114"/>
                            </a:lnTo>
                            <a:lnTo>
                              <a:pt x="79" y="11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6" name=""/>
                      <p:cNvSpPr/>
                      <p:nvPr/>
                    </p:nvSpPr>
                    <p:spPr>
                      <a:xfrm>
                        <a:off x="6996960" y="1056960"/>
                        <a:ext cx="39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1">
                            <a:moveTo>
                              <a:pt x="3" y="0"/>
                            </a:moveTo>
                            <a:lnTo>
                              <a:pt x="50" y="6"/>
                            </a:lnTo>
                            <a:lnTo>
                              <a:pt x="50" y="11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7" name=""/>
                      <p:cNvSpPr/>
                      <p:nvPr/>
                    </p:nvSpPr>
                    <p:spPr>
                      <a:xfrm flipH="1" flipV="1">
                        <a:off x="7018560" y="1050840"/>
                        <a:ext cx="14400" cy="93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8" name=""/>
                      <p:cNvSpPr/>
                      <p:nvPr/>
                    </p:nvSpPr>
                    <p:spPr>
                      <a:xfrm>
                        <a:off x="7025040" y="1047600"/>
                        <a:ext cx="216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21">
                            <a:moveTo>
                              <a:pt x="0" y="0"/>
                            </a:moveTo>
                            <a:lnTo>
                              <a:pt x="25" y="12"/>
                            </a:lnTo>
                            <a:lnTo>
                              <a:pt x="15" y="2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9" name=""/>
                      <p:cNvSpPr/>
                      <p:nvPr/>
                    </p:nvSpPr>
                    <p:spPr>
                      <a:xfrm>
                        <a:off x="6920640" y="1058760"/>
                        <a:ext cx="777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6">
                            <a:moveTo>
                              <a:pt x="94" y="0"/>
                            </a:moveTo>
                            <a:lnTo>
                              <a:pt x="38" y="6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0" name=""/>
                      <p:cNvSpPr/>
                      <p:nvPr/>
                    </p:nvSpPr>
                    <p:spPr>
                      <a:xfrm flipH="1">
                        <a:off x="6920280" y="1055520"/>
                        <a:ext cx="41400" cy="3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1" name=""/>
                      <p:cNvSpPr/>
                      <p:nvPr/>
                    </p:nvSpPr>
                    <p:spPr>
                      <a:xfrm flipH="1">
                        <a:off x="6897960" y="987840"/>
                        <a:ext cx="39600" cy="140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2" name=""/>
                      <p:cNvSpPr/>
                      <p:nvPr/>
                    </p:nvSpPr>
                    <p:spPr>
                      <a:xfrm flipH="1">
                        <a:off x="6920640" y="1026720"/>
                        <a:ext cx="1656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3" name=""/>
                      <p:cNvSpPr/>
                      <p:nvPr/>
                    </p:nvSpPr>
                    <p:spPr>
                      <a:xfrm flipH="1">
                        <a:off x="6895800" y="1036080"/>
                        <a:ext cx="50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4" name=""/>
                      <p:cNvSpPr/>
                      <p:nvPr/>
                    </p:nvSpPr>
                    <p:spPr>
                      <a:xfrm>
                        <a:off x="6909480" y="979560"/>
                        <a:ext cx="24480" cy="4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61">
                            <a:moveTo>
                              <a:pt x="30" y="0"/>
                            </a:moveTo>
                            <a:lnTo>
                              <a:pt x="5" y="22"/>
                            </a:lnTo>
                            <a:lnTo>
                              <a:pt x="0" y="6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5" name=""/>
                      <p:cNvSpPr/>
                      <p:nvPr/>
                    </p:nvSpPr>
                    <p:spPr>
                      <a:xfrm>
                        <a:off x="6924240" y="981000"/>
                        <a:ext cx="14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19" y="0"/>
                            </a:moveTo>
                            <a:lnTo>
                              <a:pt x="5" y="14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6" name=""/>
                      <p:cNvSpPr/>
                      <p:nvPr/>
                    </p:nvSpPr>
                    <p:spPr>
                      <a:xfrm>
                        <a:off x="6920640" y="1031400"/>
                        <a:ext cx="4968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35">
                            <a:moveTo>
                              <a:pt x="60" y="35"/>
                            </a:moveTo>
                            <a:lnTo>
                              <a:pt x="27" y="3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7" name=""/>
                      <p:cNvSpPr/>
                      <p:nvPr/>
                    </p:nvSpPr>
                    <p:spPr>
                      <a:xfrm>
                        <a:off x="6915960" y="1047600"/>
                        <a:ext cx="381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21">
                            <a:moveTo>
                              <a:pt x="46" y="21"/>
                            </a:moveTo>
                            <a:lnTo>
                              <a:pt x="11" y="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8" name=""/>
                      <p:cNvSpPr/>
                      <p:nvPr/>
                    </p:nvSpPr>
                    <p:spPr>
                      <a:xfrm>
                        <a:off x="6920640" y="1010160"/>
                        <a:ext cx="147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1">
                            <a:moveTo>
                              <a:pt x="18" y="0"/>
                            </a:moveTo>
                            <a:lnTo>
                              <a:pt x="18" y="1"/>
                            </a:lnTo>
                            <a:lnTo>
                              <a:pt x="16" y="1"/>
                            </a:lnTo>
                            <a:lnTo>
                              <a:pt x="15" y="1"/>
                            </a:lnTo>
                            <a:lnTo>
                              <a:pt x="13" y="1"/>
                            </a:lnTo>
                            <a:lnTo>
                              <a:pt x="13" y="3"/>
                            </a:lnTo>
                            <a:lnTo>
                              <a:pt x="12" y="3"/>
                            </a:lnTo>
                            <a:lnTo>
                              <a:pt x="12" y="3"/>
                            </a:lnTo>
                            <a:lnTo>
                              <a:pt x="10" y="3"/>
                            </a:lnTo>
                            <a:lnTo>
                              <a:pt x="10" y="4"/>
                            </a:lnTo>
                            <a:lnTo>
                              <a:pt x="10" y="4"/>
                            </a:lnTo>
                            <a:lnTo>
                              <a:pt x="9" y="4"/>
                            </a:lnTo>
                            <a:lnTo>
                              <a:pt x="9" y="4"/>
                            </a:lnTo>
                            <a:lnTo>
                              <a:pt x="9" y="4"/>
                            </a:lnTo>
                            <a:lnTo>
                              <a:pt x="8" y="4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6" y="6"/>
                            </a:lnTo>
                            <a:lnTo>
                              <a:pt x="6" y="7"/>
                            </a:lnTo>
                            <a:lnTo>
                              <a:pt x="5" y="7"/>
                            </a:lnTo>
                            <a:lnTo>
                              <a:pt x="5" y="7"/>
                            </a:lnTo>
                            <a:lnTo>
                              <a:pt x="3" y="8"/>
                            </a:lnTo>
                            <a:lnTo>
                              <a:pt x="3" y="8"/>
                            </a:lnTo>
                            <a:lnTo>
                              <a:pt x="3" y="8"/>
                            </a:lnTo>
                            <a:lnTo>
                              <a:pt x="3" y="10"/>
                            </a:lnTo>
                            <a:lnTo>
                              <a:pt x="2" y="10"/>
                            </a:lnTo>
                            <a:lnTo>
                              <a:pt x="2" y="10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9" name=""/>
                      <p:cNvSpPr/>
                      <p:nvPr/>
                    </p:nvSpPr>
                    <p:spPr>
                      <a:xfrm>
                        <a:off x="6922440" y="1011960"/>
                        <a:ext cx="14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17" y="0"/>
                            </a:moveTo>
                            <a:lnTo>
                              <a:pt x="17" y="1"/>
                            </a:lnTo>
                            <a:lnTo>
                              <a:pt x="16" y="1"/>
                            </a:lnTo>
                            <a:lnTo>
                              <a:pt x="14" y="1"/>
                            </a:lnTo>
                            <a:lnTo>
                              <a:pt x="13" y="1"/>
                            </a:lnTo>
                            <a:lnTo>
                              <a:pt x="13" y="1"/>
                            </a:lnTo>
                            <a:lnTo>
                              <a:pt x="11" y="1"/>
                            </a:lnTo>
                            <a:lnTo>
                              <a:pt x="11" y="3"/>
                            </a:lnTo>
                            <a:lnTo>
                              <a:pt x="10" y="3"/>
                            </a:lnTo>
                            <a:lnTo>
                              <a:pt x="10" y="3"/>
                            </a:lnTo>
                            <a:lnTo>
                              <a:pt x="8" y="4"/>
                            </a:lnTo>
                            <a:lnTo>
                              <a:pt x="8" y="4"/>
                            </a:lnTo>
                            <a:lnTo>
                              <a:pt x="7" y="4"/>
                            </a:lnTo>
                            <a:lnTo>
                              <a:pt x="7" y="5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6" y="5"/>
                            </a:lnTo>
                            <a:lnTo>
                              <a:pt x="6" y="7"/>
                            </a:lnTo>
                            <a:lnTo>
                              <a:pt x="4" y="7"/>
                            </a:lnTo>
                            <a:lnTo>
                              <a:pt x="4" y="7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1"/>
                            </a:lnTo>
                            <a:lnTo>
                              <a:pt x="0" y="11"/>
                            </a:lnTo>
                            <a:lnTo>
                              <a:pt x="0" y="11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0" name=""/>
                      <p:cNvSpPr/>
                      <p:nvPr/>
                    </p:nvSpPr>
                    <p:spPr>
                      <a:xfrm>
                        <a:off x="6849720" y="1016640"/>
                        <a:ext cx="72720" cy="10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131">
                            <a:moveTo>
                              <a:pt x="88" y="0"/>
                            </a:moveTo>
                            <a:lnTo>
                              <a:pt x="0" y="82"/>
                            </a:lnTo>
                            <a:lnTo>
                              <a:pt x="13" y="131"/>
                            </a:lnTo>
                            <a:lnTo>
                              <a:pt x="16" y="131"/>
                            </a:lnTo>
                            <a:lnTo>
                              <a:pt x="3" y="82"/>
                            </a:lnTo>
                            <a:lnTo>
                              <a:pt x="86" y="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1" name=""/>
                      <p:cNvSpPr/>
                      <p:nvPr/>
                    </p:nvSpPr>
                    <p:spPr>
                      <a:xfrm>
                        <a:off x="6907680" y="1019880"/>
                        <a:ext cx="1476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1">
                            <a:moveTo>
                              <a:pt x="18" y="0"/>
                            </a:moveTo>
                            <a:lnTo>
                              <a:pt x="16" y="30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2" name=""/>
                      <p:cNvSpPr/>
                      <p:nvPr/>
                    </p:nvSpPr>
                    <p:spPr>
                      <a:xfrm>
                        <a:off x="6867720" y="1068480"/>
                        <a:ext cx="10080" cy="42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3" name=""/>
                      <p:cNvSpPr/>
                      <p:nvPr/>
                    </p:nvSpPr>
                    <p:spPr>
                      <a:xfrm flipH="1">
                        <a:off x="6909120" y="1058760"/>
                        <a:ext cx="97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4" name=""/>
                      <p:cNvSpPr/>
                      <p:nvPr/>
                    </p:nvSpPr>
                    <p:spPr>
                      <a:xfrm>
                        <a:off x="6864480" y="1055520"/>
                        <a:ext cx="5472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82">
                            <a:moveTo>
                              <a:pt x="0" y="82"/>
                            </a:moveTo>
                            <a:lnTo>
                              <a:pt x="66" y="22"/>
                            </a:lnTo>
                            <a:lnTo>
                              <a:pt x="68" y="1"/>
                            </a:lnTo>
                            <a:lnTo>
                              <a:pt x="63" y="0"/>
                            </a:lnTo>
                            <a:lnTo>
                              <a:pt x="55" y="7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5" name=""/>
                      <p:cNvSpPr/>
                      <p:nvPr/>
                    </p:nvSpPr>
                    <p:spPr>
                      <a:xfrm flipH="1" flipV="1">
                        <a:off x="6869880" y="1068480"/>
                        <a:ext cx="7920" cy="403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6" name=""/>
                      <p:cNvSpPr/>
                      <p:nvPr/>
                    </p:nvSpPr>
                    <p:spPr>
                      <a:xfrm flipV="1">
                        <a:off x="6858000" y="109080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7" name=""/>
                      <p:cNvSpPr/>
                      <p:nvPr/>
                    </p:nvSpPr>
                    <p:spPr>
                      <a:xfrm flipV="1">
                        <a:off x="6858000" y="109080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8" name=""/>
                      <p:cNvSpPr/>
                      <p:nvPr/>
                    </p:nvSpPr>
                    <p:spPr>
                      <a:xfrm flipH="1" flipV="1">
                        <a:off x="6887520" y="1049040"/>
                        <a:ext cx="7920" cy="453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9" name=""/>
                      <p:cNvSpPr/>
                      <p:nvPr/>
                    </p:nvSpPr>
                    <p:spPr>
                      <a:xfrm flipH="1" flipV="1">
                        <a:off x="6887520" y="1050480"/>
                        <a:ext cx="6480" cy="450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0" name=""/>
                      <p:cNvSpPr/>
                      <p:nvPr/>
                    </p:nvSpPr>
                    <p:spPr>
                      <a:xfrm flipV="1">
                        <a:off x="6874560" y="1074960"/>
                        <a:ext cx="17640" cy="15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1" name=""/>
                      <p:cNvSpPr/>
                      <p:nvPr/>
                    </p:nvSpPr>
                    <p:spPr>
                      <a:xfrm flipV="1">
                        <a:off x="6874560" y="1073160"/>
                        <a:ext cx="17640" cy="158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2" name=""/>
                      <p:cNvSpPr/>
                      <p:nvPr/>
                    </p:nvSpPr>
                    <p:spPr>
                      <a:xfrm flipH="1">
                        <a:off x="6892200" y="106020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3" name=""/>
                      <p:cNvSpPr/>
                      <p:nvPr/>
                    </p:nvSpPr>
                    <p:spPr>
                      <a:xfrm flipH="1">
                        <a:off x="6892200" y="1060200"/>
                        <a:ext cx="147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4" name=""/>
                      <p:cNvSpPr/>
                      <p:nvPr/>
                    </p:nvSpPr>
                    <p:spPr>
                      <a:xfrm flipH="1" flipV="1">
                        <a:off x="6905880" y="1034640"/>
                        <a:ext cx="3240" cy="48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5" name=""/>
                      <p:cNvSpPr/>
                      <p:nvPr/>
                    </p:nvSpPr>
                    <p:spPr>
                      <a:xfrm flipH="1" flipV="1">
                        <a:off x="6905880" y="1032840"/>
                        <a:ext cx="4680" cy="482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6" name=""/>
                      <p:cNvSpPr/>
                      <p:nvPr/>
                    </p:nvSpPr>
                    <p:spPr>
                      <a:xfrm>
                        <a:off x="6919200" y="105876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7" name=""/>
                      <p:cNvSpPr/>
                      <p:nvPr/>
                    </p:nvSpPr>
                    <p:spPr>
                      <a:xfrm>
                        <a:off x="6919200" y="1060200"/>
                        <a:ext cx="1440" cy="1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8" name=""/>
                      <p:cNvSpPr/>
                      <p:nvPr/>
                    </p:nvSpPr>
                    <p:spPr>
                      <a:xfrm>
                        <a:off x="6895800" y="976320"/>
                        <a:ext cx="414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77">
                            <a:moveTo>
                              <a:pt x="2" y="77"/>
                            </a:moveTo>
                            <a:lnTo>
                              <a:pt x="0" y="73"/>
                            </a:lnTo>
                            <a:lnTo>
                              <a:pt x="3" y="32"/>
                            </a:lnTo>
                            <a:lnTo>
                              <a:pt x="36" y="5"/>
                            </a:lnTo>
                            <a:lnTo>
                              <a:pt x="52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9" name=""/>
                      <p:cNvSpPr/>
                      <p:nvPr/>
                    </p:nvSpPr>
                    <p:spPr>
                      <a:xfrm>
                        <a:off x="6895800" y="1016640"/>
                        <a:ext cx="648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5" y="0"/>
                            </a:moveTo>
                            <a:lnTo>
                              <a:pt x="5" y="0"/>
                            </a:lnTo>
                            <a:lnTo>
                              <a:pt x="3" y="0"/>
                            </a:lnTo>
                            <a:lnTo>
                              <a:pt x="3" y="2"/>
                            </a:lnTo>
                            <a:lnTo>
                              <a:pt x="3" y="2"/>
                            </a:lnTo>
                            <a:lnTo>
                              <a:pt x="3" y="3"/>
                            </a:lnTo>
                            <a:lnTo>
                              <a:pt x="2" y="3"/>
                            </a:lnTo>
                            <a:lnTo>
                              <a:pt x="2" y="5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2" y="8"/>
                            </a:lnTo>
                            <a:lnTo>
                              <a:pt x="2" y="9"/>
                            </a:lnTo>
                            <a:lnTo>
                              <a:pt x="3" y="9"/>
                            </a:lnTo>
                            <a:lnTo>
                              <a:pt x="3" y="11"/>
                            </a:lnTo>
                            <a:lnTo>
                              <a:pt x="3" y="11"/>
                            </a:lnTo>
                            <a:lnTo>
                              <a:pt x="5" y="11"/>
                            </a:lnTo>
                            <a:lnTo>
                              <a:pt x="5" y="12"/>
                            </a:lnTo>
                            <a:lnTo>
                              <a:pt x="6" y="12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8" y="11"/>
                            </a:lnTo>
                            <a:lnTo>
                              <a:pt x="8" y="9"/>
                            </a:lnTo>
                            <a:lnTo>
                              <a:pt x="9" y="9"/>
                            </a:lnTo>
                            <a:lnTo>
                              <a:pt x="9" y="3"/>
                            </a:lnTo>
                            <a:lnTo>
                              <a:pt x="8" y="2"/>
                            </a:lnTo>
                            <a:lnTo>
                              <a:pt x="8" y="2"/>
                            </a:lnTo>
                            <a:lnTo>
                              <a:pt x="8" y="2"/>
                            </a:lnTo>
                            <a:lnTo>
                              <a:pt x="8" y="0"/>
                            </a:lnTo>
                            <a:lnTo>
                              <a:pt x="6" y="0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0" name=""/>
                      <p:cNvSpPr/>
                      <p:nvPr/>
                    </p:nvSpPr>
                    <p:spPr>
                      <a:xfrm>
                        <a:off x="6887520" y="1019880"/>
                        <a:ext cx="133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2">
                            <a:moveTo>
                              <a:pt x="13" y="0"/>
                            </a:moveTo>
                            <a:lnTo>
                              <a:pt x="0" y="1"/>
                            </a:lnTo>
                            <a:lnTo>
                              <a:pt x="3" y="12"/>
                            </a:lnTo>
                            <a:lnTo>
                              <a:pt x="14" y="4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1" name=""/>
                      <p:cNvSpPr/>
                      <p:nvPr/>
                    </p:nvSpPr>
                    <p:spPr>
                      <a:xfrm>
                        <a:off x="6897960" y="1018080"/>
                        <a:ext cx="3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9">
                            <a:moveTo>
                              <a:pt x="2" y="0"/>
                            </a:move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1"/>
                            </a:lnTo>
                            <a:lnTo>
                              <a:pt x="0" y="1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2" y="7"/>
                            </a:lnTo>
                            <a:lnTo>
                              <a:pt x="2" y="9"/>
                            </a:lnTo>
                            <a:lnTo>
                              <a:pt x="3" y="9"/>
                            </a:lnTo>
                            <a:lnTo>
                              <a:pt x="5" y="7"/>
                            </a:lnTo>
                            <a:lnTo>
                              <a:pt x="5" y="7"/>
                            </a:lnTo>
                            <a:lnTo>
                              <a:pt x="5" y="6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5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2" name=""/>
                      <p:cNvSpPr/>
                      <p:nvPr/>
                    </p:nvSpPr>
                    <p:spPr>
                      <a:xfrm>
                        <a:off x="6887520" y="1019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2" y="6"/>
                            </a:lnTo>
                            <a:lnTo>
                              <a:pt x="2" y="7"/>
                            </a:lnTo>
                            <a:lnTo>
                              <a:pt x="2" y="7"/>
                            </a:lnTo>
                            <a:lnTo>
                              <a:pt x="3" y="7"/>
                            </a:lnTo>
                            <a:lnTo>
                              <a:pt x="3" y="9"/>
                            </a:lnTo>
                            <a:lnTo>
                              <a:pt x="5" y="9"/>
                            </a:lnTo>
                            <a:lnTo>
                              <a:pt x="5" y="9"/>
                            </a:lnTo>
                            <a:lnTo>
                              <a:pt x="5" y="9"/>
                            </a:lnTo>
                            <a:lnTo>
                              <a:pt x="6" y="7"/>
                            </a:lnTo>
                            <a:lnTo>
                              <a:pt x="6" y="4"/>
                            </a:lnTo>
                            <a:lnTo>
                              <a:pt x="6" y="4"/>
                            </a:lnTo>
                            <a:lnTo>
                              <a:pt x="6" y="3"/>
                            </a:lnTo>
                            <a:lnTo>
                              <a:pt x="5" y="3"/>
                            </a:lnTo>
                            <a:lnTo>
                              <a:pt x="5" y="3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3" name=""/>
                      <p:cNvSpPr/>
                      <p:nvPr/>
                    </p:nvSpPr>
                    <p:spPr>
                      <a:xfrm>
                        <a:off x="6922440" y="1016640"/>
                        <a:ext cx="144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4" name=""/>
                      <p:cNvSpPr/>
                      <p:nvPr/>
                    </p:nvSpPr>
                    <p:spPr>
                      <a:xfrm>
                        <a:off x="6932160" y="1010160"/>
                        <a:ext cx="5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6" y="4"/>
                            </a:moveTo>
                            <a:lnTo>
                              <a:pt x="3" y="4"/>
                            </a:lnTo>
                            <a:lnTo>
                              <a:pt x="0" y="1"/>
                            </a:lnTo>
                            <a:lnTo>
                              <a:pt x="5" y="0"/>
                            </a:lnTo>
                            <a:lnTo>
                              <a:pt x="6" y="3"/>
                            </a:lnTo>
                            <a:lnTo>
                              <a:pt x="6" y="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5" name=""/>
                      <p:cNvSpPr/>
                      <p:nvPr/>
                    </p:nvSpPr>
                    <p:spPr>
                      <a:xfrm flipH="1">
                        <a:off x="7049160" y="1019880"/>
                        <a:ext cx="180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6" name=""/>
                      <p:cNvSpPr/>
                      <p:nvPr/>
                    </p:nvSpPr>
                    <p:spPr>
                      <a:xfrm>
                        <a:off x="7031520" y="102456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8" y="0"/>
                            </a:moveTo>
                            <a:lnTo>
                              <a:pt x="8" y="0"/>
                            </a:lnTo>
                            <a:lnTo>
                              <a:pt x="8" y="2"/>
                            </a:lnTo>
                            <a:lnTo>
                              <a:pt x="8" y="6"/>
                            </a:lnTo>
                            <a:lnTo>
                              <a:pt x="8" y="6"/>
                            </a:lnTo>
                            <a:lnTo>
                              <a:pt x="8" y="9"/>
                            </a:lnTo>
                            <a:lnTo>
                              <a:pt x="7" y="9"/>
                            </a:lnTo>
                            <a:lnTo>
                              <a:pt x="7" y="10"/>
                            </a:lnTo>
                            <a:lnTo>
                              <a:pt x="7" y="10"/>
                            </a:lnTo>
                            <a:lnTo>
                              <a:pt x="7" y="12"/>
                            </a:lnTo>
                            <a:lnTo>
                              <a:pt x="5" y="12"/>
                            </a:lnTo>
                            <a:lnTo>
                              <a:pt x="5" y="12"/>
                            </a:lnTo>
                            <a:lnTo>
                              <a:pt x="5" y="13"/>
                            </a:lnTo>
                            <a:lnTo>
                              <a:pt x="5" y="13"/>
                            </a:lnTo>
                            <a:lnTo>
                              <a:pt x="4" y="13"/>
                            </a:lnTo>
                            <a:lnTo>
                              <a:pt x="4" y="15"/>
                            </a:lnTo>
                            <a:lnTo>
                              <a:pt x="4" y="15"/>
                            </a:lnTo>
                            <a:lnTo>
                              <a:pt x="4" y="15"/>
                            </a:lnTo>
                            <a:lnTo>
                              <a:pt x="2" y="15"/>
                            </a:lnTo>
                            <a:lnTo>
                              <a:pt x="2" y="15"/>
                            </a:lnTo>
                            <a:lnTo>
                              <a:pt x="2" y="16"/>
                            </a:lnTo>
                            <a:lnTo>
                              <a:pt x="1" y="16"/>
                            </a:lnTo>
                            <a:lnTo>
                              <a:pt x="0" y="18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7" name=""/>
                      <p:cNvSpPr/>
                      <p:nvPr/>
                    </p:nvSpPr>
                    <p:spPr>
                      <a:xfrm>
                        <a:off x="7007040" y="1037520"/>
                        <a:ext cx="2448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13">
                            <a:moveTo>
                              <a:pt x="30" y="0"/>
                            </a:moveTo>
                            <a:lnTo>
                              <a:pt x="30" y="0"/>
                            </a:lnTo>
                            <a:lnTo>
                              <a:pt x="28" y="0"/>
                            </a:lnTo>
                            <a:lnTo>
                              <a:pt x="28" y="1"/>
                            </a:lnTo>
                            <a:lnTo>
                              <a:pt x="28" y="1"/>
                            </a:lnTo>
                            <a:lnTo>
                              <a:pt x="27" y="3"/>
                            </a:lnTo>
                            <a:lnTo>
                              <a:pt x="25" y="3"/>
                            </a:lnTo>
                            <a:lnTo>
                              <a:pt x="25" y="3"/>
                            </a:lnTo>
                            <a:lnTo>
                              <a:pt x="25" y="4"/>
                            </a:lnTo>
                            <a:lnTo>
                              <a:pt x="24" y="4"/>
                            </a:lnTo>
                            <a:lnTo>
                              <a:pt x="22" y="6"/>
                            </a:lnTo>
                            <a:lnTo>
                              <a:pt x="21" y="6"/>
                            </a:lnTo>
                            <a:lnTo>
                              <a:pt x="19" y="7"/>
                            </a:lnTo>
                            <a:lnTo>
                              <a:pt x="19" y="7"/>
                            </a:lnTo>
                            <a:lnTo>
                              <a:pt x="18" y="9"/>
                            </a:lnTo>
                            <a:lnTo>
                              <a:pt x="16" y="9"/>
                            </a:lnTo>
                            <a:lnTo>
                              <a:pt x="13" y="10"/>
                            </a:lnTo>
                            <a:lnTo>
                              <a:pt x="13" y="10"/>
                            </a:lnTo>
                            <a:lnTo>
                              <a:pt x="13" y="10"/>
                            </a:lnTo>
                            <a:lnTo>
                              <a:pt x="12" y="10"/>
                            </a:lnTo>
                            <a:lnTo>
                              <a:pt x="10" y="10"/>
                            </a:lnTo>
                            <a:lnTo>
                              <a:pt x="9" y="10"/>
                            </a:lnTo>
                            <a:lnTo>
                              <a:pt x="9" y="12"/>
                            </a:lnTo>
                            <a:lnTo>
                              <a:pt x="6" y="12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2" y="13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8" name=""/>
                      <p:cNvSpPr/>
                      <p:nvPr/>
                    </p:nvSpPr>
                    <p:spPr>
                      <a:xfrm flipV="1">
                        <a:off x="7007040" y="1024200"/>
                        <a:ext cx="29520" cy="24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9" name=""/>
                      <p:cNvSpPr/>
                      <p:nvPr/>
                    </p:nvSpPr>
                    <p:spPr>
                      <a:xfrm>
                        <a:off x="6982200" y="1015200"/>
                        <a:ext cx="673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47">
                            <a:moveTo>
                              <a:pt x="52" y="38"/>
                            </a:moveTo>
                            <a:lnTo>
                              <a:pt x="41" y="47"/>
                            </a:lnTo>
                            <a:lnTo>
                              <a:pt x="0" y="47"/>
                            </a:lnTo>
                            <a:lnTo>
                              <a:pt x="43" y="9"/>
                            </a:lnTo>
                            <a:lnTo>
                              <a:pt x="83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0" name=""/>
                      <p:cNvSpPr/>
                      <p:nvPr/>
                    </p:nvSpPr>
                    <p:spPr>
                      <a:xfrm flipH="1" flipV="1">
                        <a:off x="6847920" y="879120"/>
                        <a:ext cx="122400" cy="85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1" name=""/>
                      <p:cNvSpPr/>
                      <p:nvPr/>
                    </p:nvSpPr>
                    <p:spPr>
                      <a:xfrm flipH="1" flipV="1">
                        <a:off x="6842880" y="879120"/>
                        <a:ext cx="120600" cy="871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2" name=""/>
                      <p:cNvSpPr/>
                      <p:nvPr/>
                    </p:nvSpPr>
                    <p:spPr>
                      <a:xfrm>
                        <a:off x="6833520" y="869760"/>
                        <a:ext cx="19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9">
                            <a:moveTo>
                              <a:pt x="23" y="12"/>
                            </a:moveTo>
                            <a:lnTo>
                              <a:pt x="9" y="0"/>
                            </a:lnTo>
                            <a:lnTo>
                              <a:pt x="0" y="9"/>
                            </a:lnTo>
                            <a:lnTo>
                              <a:pt x="14" y="19"/>
                            </a:lnTo>
                            <a:lnTo>
                              <a:pt x="23" y="1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3" name=""/>
                      <p:cNvSpPr/>
                      <p:nvPr/>
                    </p:nvSpPr>
                    <p:spPr>
                      <a:xfrm flipH="1">
                        <a:off x="6955200" y="964800"/>
                        <a:ext cx="1476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4" name=""/>
                      <p:cNvSpPr/>
                      <p:nvPr/>
                    </p:nvSpPr>
                    <p:spPr>
                      <a:xfrm>
                        <a:off x="6932160" y="945360"/>
                        <a:ext cx="1008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48">
                            <a:moveTo>
                              <a:pt x="1" y="0"/>
                            </a:moveTo>
                            <a:lnTo>
                              <a:pt x="0" y="2"/>
                            </a:lnTo>
                            <a:lnTo>
                              <a:pt x="7" y="48"/>
                            </a:lnTo>
                            <a:lnTo>
                              <a:pt x="10" y="47"/>
                            </a:lnTo>
                            <a:lnTo>
                              <a:pt x="7" y="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5" name=""/>
                      <p:cNvSpPr/>
                      <p:nvPr/>
                    </p:nvSpPr>
                    <p:spPr>
                      <a:xfrm>
                        <a:off x="6945840" y="952200"/>
                        <a:ext cx="972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23">
                            <a:moveTo>
                              <a:pt x="7" y="7"/>
                            </a:moveTo>
                            <a:lnTo>
                              <a:pt x="13" y="22"/>
                            </a:lnTo>
                            <a:lnTo>
                              <a:pt x="11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6" name=""/>
                      <p:cNvSpPr/>
                      <p:nvPr/>
                    </p:nvSpPr>
                    <p:spPr>
                      <a:xfrm flipH="1">
                        <a:off x="6942600" y="971640"/>
                        <a:ext cx="1152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7" name=""/>
                      <p:cNvSpPr/>
                      <p:nvPr/>
                    </p:nvSpPr>
                    <p:spPr>
                      <a:xfrm>
                        <a:off x="6937560" y="938880"/>
                        <a:ext cx="111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3">
                            <a:moveTo>
                              <a:pt x="13" y="13"/>
                            </a:moveTo>
                            <a:lnTo>
                              <a:pt x="10" y="3"/>
                            </a:lnTo>
                            <a:lnTo>
                              <a:pt x="6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8" name=""/>
                      <p:cNvSpPr/>
                      <p:nvPr/>
                    </p:nvSpPr>
                    <p:spPr>
                      <a:xfrm flipH="1">
                        <a:off x="6967080" y="971640"/>
                        <a:ext cx="648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9" name=""/>
                      <p:cNvSpPr/>
                      <p:nvPr/>
                    </p:nvSpPr>
                    <p:spPr>
                      <a:xfrm flipH="1">
                        <a:off x="6968520" y="976320"/>
                        <a:ext cx="10080" cy="4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0" name=""/>
                      <p:cNvSpPr/>
                      <p:nvPr/>
                    </p:nvSpPr>
                    <p:spPr>
                      <a:xfrm flipH="1">
                        <a:off x="6973560" y="987840"/>
                        <a:ext cx="612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1" name=""/>
                      <p:cNvSpPr/>
                      <p:nvPr/>
                    </p:nvSpPr>
                    <p:spPr>
                      <a:xfrm>
                        <a:off x="6996960" y="897120"/>
                        <a:ext cx="57960" cy="7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88">
                            <a:moveTo>
                              <a:pt x="0" y="88"/>
                            </a:moveTo>
                            <a:lnTo>
                              <a:pt x="6" y="58"/>
                            </a:lnTo>
                            <a:lnTo>
                              <a:pt x="69" y="0"/>
                            </a:lnTo>
                            <a:lnTo>
                              <a:pt x="72" y="2"/>
                            </a:lnTo>
                            <a:lnTo>
                              <a:pt x="9" y="61"/>
                            </a:lnTo>
                            <a:lnTo>
                              <a:pt x="3" y="88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2" name=""/>
                      <p:cNvSpPr/>
                      <p:nvPr/>
                    </p:nvSpPr>
                    <p:spPr>
                      <a:xfrm>
                        <a:off x="7010280" y="898560"/>
                        <a:ext cx="442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100">
                            <a:moveTo>
                              <a:pt x="56" y="0"/>
                            </a:moveTo>
                            <a:lnTo>
                              <a:pt x="29" y="76"/>
                            </a:lnTo>
                            <a:lnTo>
                              <a:pt x="0" y="100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3" name=""/>
                      <p:cNvSpPr/>
                      <p:nvPr/>
                    </p:nvSpPr>
                    <p:spPr>
                      <a:xfrm flipH="1">
                        <a:off x="7019640" y="910080"/>
                        <a:ext cx="21240" cy="5976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4" name=""/>
                      <p:cNvSpPr/>
                      <p:nvPr/>
                    </p:nvSpPr>
                    <p:spPr>
                      <a:xfrm flipH="1">
                        <a:off x="7018200" y="913320"/>
                        <a:ext cx="19800" cy="583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5" name=""/>
                      <p:cNvSpPr/>
                      <p:nvPr/>
                    </p:nvSpPr>
                    <p:spPr>
                      <a:xfrm flipH="1">
                        <a:off x="7009920" y="924480"/>
                        <a:ext cx="16200" cy="514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6" name=""/>
                      <p:cNvSpPr/>
                      <p:nvPr/>
                    </p:nvSpPr>
                    <p:spPr>
                      <a:xfrm flipH="1">
                        <a:off x="7010280" y="928080"/>
                        <a:ext cx="12960" cy="496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7" name=""/>
                      <p:cNvSpPr/>
                      <p:nvPr/>
                    </p:nvSpPr>
                    <p:spPr>
                      <a:xfrm flipH="1">
                        <a:off x="7003440" y="936000"/>
                        <a:ext cx="11520" cy="3528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8" name=""/>
                      <p:cNvSpPr/>
                      <p:nvPr/>
                    </p:nvSpPr>
                    <p:spPr>
                      <a:xfrm flipH="1">
                        <a:off x="7003440" y="937440"/>
                        <a:ext cx="7920" cy="320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9" name=""/>
                      <p:cNvSpPr/>
                      <p:nvPr/>
                    </p:nvSpPr>
                    <p:spPr>
                      <a:xfrm flipH="1">
                        <a:off x="7028280" y="936000"/>
                        <a:ext cx="12960" cy="126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0" name=""/>
                      <p:cNvSpPr/>
                      <p:nvPr/>
                    </p:nvSpPr>
                    <p:spPr>
                      <a:xfrm flipH="1">
                        <a:off x="7016760" y="950400"/>
                        <a:ext cx="1008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1" name=""/>
                      <p:cNvSpPr/>
                      <p:nvPr/>
                    </p:nvSpPr>
                    <p:spPr>
                      <a:xfrm flipH="1">
                        <a:off x="7004880" y="960120"/>
                        <a:ext cx="1008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2" name=""/>
                      <p:cNvSpPr/>
                      <p:nvPr/>
                    </p:nvSpPr>
                    <p:spPr>
                      <a:xfrm flipH="1">
                        <a:off x="7028280" y="936000"/>
                        <a:ext cx="12960" cy="108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3" name=""/>
                      <p:cNvSpPr/>
                      <p:nvPr/>
                    </p:nvSpPr>
                    <p:spPr>
                      <a:xfrm flipH="1">
                        <a:off x="7016760" y="948960"/>
                        <a:ext cx="1152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4" name=""/>
                      <p:cNvSpPr/>
                      <p:nvPr/>
                    </p:nvSpPr>
                    <p:spPr>
                      <a:xfrm flipH="1">
                        <a:off x="7004880" y="958320"/>
                        <a:ext cx="10080" cy="792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5" name=""/>
                      <p:cNvSpPr/>
                      <p:nvPr/>
                    </p:nvSpPr>
                    <p:spPr>
                      <a:xfrm flipH="1">
                        <a:off x="7001280" y="968400"/>
                        <a:ext cx="1800" cy="144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6" name=""/>
                      <p:cNvSpPr/>
                      <p:nvPr/>
                    </p:nvSpPr>
                    <p:spPr>
                      <a:xfrm>
                        <a:off x="6986880" y="953640"/>
                        <a:ext cx="115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6">
                            <a:moveTo>
                              <a:pt x="13" y="0"/>
                            </a:moveTo>
                            <a:lnTo>
                              <a:pt x="13" y="0"/>
                            </a:lnTo>
                            <a:lnTo>
                              <a:pt x="12" y="0"/>
                            </a:lnTo>
                            <a:lnTo>
                              <a:pt x="10" y="1"/>
                            </a:lnTo>
                            <a:lnTo>
                              <a:pt x="10" y="1"/>
                            </a:lnTo>
                            <a:lnTo>
                              <a:pt x="10" y="1"/>
                            </a:lnTo>
                            <a:lnTo>
                              <a:pt x="9" y="1"/>
                            </a:lnTo>
                            <a:lnTo>
                              <a:pt x="7" y="3"/>
                            </a:lnTo>
                            <a:lnTo>
                              <a:pt x="7" y="3"/>
                            </a:lnTo>
                            <a:lnTo>
                              <a:pt x="6" y="4"/>
                            </a:lnTo>
                            <a:lnTo>
                              <a:pt x="4" y="6"/>
                            </a:lnTo>
                            <a:lnTo>
                              <a:pt x="4" y="7"/>
                            </a:lnTo>
                            <a:lnTo>
                              <a:pt x="3" y="7"/>
                            </a:lnTo>
                            <a:lnTo>
                              <a:pt x="3" y="9"/>
                            </a:lnTo>
                            <a:lnTo>
                              <a:pt x="1" y="9"/>
                            </a:lnTo>
                            <a:lnTo>
                              <a:pt x="1" y="10"/>
                            </a:lnTo>
                            <a:lnTo>
                              <a:pt x="1" y="10"/>
                            </a:lnTo>
                            <a:lnTo>
                              <a:pt x="1" y="12"/>
                            </a:lnTo>
                            <a:lnTo>
                              <a:pt x="0" y="13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7" name=""/>
                      <p:cNvSpPr/>
                      <p:nvPr/>
                    </p:nvSpPr>
                    <p:spPr>
                      <a:xfrm>
                        <a:off x="6988680" y="955080"/>
                        <a:ext cx="100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6">
                            <a:moveTo>
                              <a:pt x="12" y="0"/>
                            </a:moveTo>
                            <a:lnTo>
                              <a:pt x="11" y="0"/>
                            </a:lnTo>
                            <a:lnTo>
                              <a:pt x="9" y="2"/>
                            </a:lnTo>
                            <a:lnTo>
                              <a:pt x="8" y="2"/>
                            </a:lnTo>
                            <a:lnTo>
                              <a:pt x="8" y="3"/>
                            </a:lnTo>
                            <a:lnTo>
                              <a:pt x="8" y="3"/>
                            </a:lnTo>
                            <a:lnTo>
                              <a:pt x="5" y="5"/>
                            </a:lnTo>
                            <a:lnTo>
                              <a:pt x="5" y="5"/>
                            </a:lnTo>
                            <a:lnTo>
                              <a:pt x="3" y="6"/>
                            </a:lnTo>
                            <a:lnTo>
                              <a:pt x="3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2" y="9"/>
                            </a:lnTo>
                            <a:lnTo>
                              <a:pt x="2" y="11"/>
                            </a:lnTo>
                            <a:lnTo>
                              <a:pt x="0" y="11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48" name=""/>
                    <p:cNvSpPr/>
                    <p:nvPr/>
                  </p:nvSpPr>
                  <p:spPr>
                    <a:xfrm>
                      <a:off x="6568920" y="1164960"/>
                      <a:ext cx="2142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700" spc="-1" strike="noStrike">
                          <a:solidFill>
                            <a:srgbClr val="000000"/>
                          </a:solidFill>
                          <a:latin typeface="全真楷書"/>
                          <a:ea typeface="全真楷書"/>
                        </a:rPr>
                        <a:t>衛星定位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>
                      <a:off x="7595280" y="1015560"/>
                      <a:ext cx="95040" cy="28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51">
                          <a:moveTo>
                            <a:pt x="114" y="0"/>
                          </a:moveTo>
                          <a:lnTo>
                            <a:pt x="0" y="246"/>
                          </a:lnTo>
                          <a:lnTo>
                            <a:pt x="96" y="175"/>
                          </a:lnTo>
                          <a:lnTo>
                            <a:pt x="8" y="351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>
                      <a:off x="7822440" y="985680"/>
                      <a:ext cx="18072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220">
                          <a:moveTo>
                            <a:pt x="0" y="0"/>
                          </a:moveTo>
                          <a:lnTo>
                            <a:pt x="88" y="194"/>
                          </a:lnTo>
                          <a:lnTo>
                            <a:pt x="114" y="88"/>
                          </a:lnTo>
                          <a:lnTo>
                            <a:pt x="220" y="22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7814520" y="801360"/>
                      <a:ext cx="1458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105">
                          <a:moveTo>
                            <a:pt x="0" y="97"/>
                          </a:moveTo>
                          <a:lnTo>
                            <a:pt x="71" y="26"/>
                          </a:lnTo>
                          <a:lnTo>
                            <a:pt x="79" y="105"/>
                          </a:lnTo>
                          <a:lnTo>
                            <a:pt x="176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7414560" y="844200"/>
                      <a:ext cx="23904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114">
                          <a:moveTo>
                            <a:pt x="290" y="61"/>
                          </a:moveTo>
                          <a:lnTo>
                            <a:pt x="176" y="0"/>
                          </a:lnTo>
                          <a:lnTo>
                            <a:pt x="202" y="1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>
                      <a:off x="7290720" y="1774440"/>
                      <a:ext cx="15984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3" h="334">
                          <a:moveTo>
                            <a:pt x="0" y="334"/>
                          </a:moveTo>
                          <a:lnTo>
                            <a:pt x="70" y="167"/>
                          </a:lnTo>
                          <a:lnTo>
                            <a:pt x="105" y="246"/>
                          </a:lnTo>
                          <a:lnTo>
                            <a:pt x="193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8163720" y="1893600"/>
                      <a:ext cx="279000" cy="3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409">
                          <a:moveTo>
                            <a:pt x="295" y="0"/>
                          </a:moveTo>
                          <a:lnTo>
                            <a:pt x="281" y="0"/>
                          </a:lnTo>
                          <a:lnTo>
                            <a:pt x="264" y="4"/>
                          </a:lnTo>
                          <a:lnTo>
                            <a:pt x="255" y="18"/>
                          </a:lnTo>
                          <a:lnTo>
                            <a:pt x="242" y="26"/>
                          </a:lnTo>
                          <a:lnTo>
                            <a:pt x="233" y="40"/>
                          </a:lnTo>
                          <a:lnTo>
                            <a:pt x="220" y="57"/>
                          </a:lnTo>
                          <a:lnTo>
                            <a:pt x="216" y="70"/>
                          </a:lnTo>
                          <a:lnTo>
                            <a:pt x="207" y="84"/>
                          </a:lnTo>
                          <a:lnTo>
                            <a:pt x="202" y="97"/>
                          </a:lnTo>
                          <a:lnTo>
                            <a:pt x="202" y="110"/>
                          </a:lnTo>
                          <a:lnTo>
                            <a:pt x="202" y="123"/>
                          </a:lnTo>
                          <a:lnTo>
                            <a:pt x="202" y="136"/>
                          </a:lnTo>
                          <a:lnTo>
                            <a:pt x="211" y="150"/>
                          </a:lnTo>
                          <a:lnTo>
                            <a:pt x="224" y="163"/>
                          </a:lnTo>
                          <a:lnTo>
                            <a:pt x="242" y="171"/>
                          </a:lnTo>
                          <a:lnTo>
                            <a:pt x="255" y="176"/>
                          </a:lnTo>
                          <a:lnTo>
                            <a:pt x="277" y="180"/>
                          </a:lnTo>
                          <a:lnTo>
                            <a:pt x="290" y="189"/>
                          </a:lnTo>
                          <a:lnTo>
                            <a:pt x="303" y="193"/>
                          </a:lnTo>
                          <a:lnTo>
                            <a:pt x="317" y="198"/>
                          </a:lnTo>
                          <a:lnTo>
                            <a:pt x="330" y="211"/>
                          </a:lnTo>
                          <a:lnTo>
                            <a:pt x="334" y="229"/>
                          </a:lnTo>
                          <a:lnTo>
                            <a:pt x="334" y="246"/>
                          </a:lnTo>
                          <a:lnTo>
                            <a:pt x="339" y="259"/>
                          </a:lnTo>
                          <a:lnTo>
                            <a:pt x="339" y="277"/>
                          </a:lnTo>
                          <a:lnTo>
                            <a:pt x="334" y="295"/>
                          </a:lnTo>
                          <a:lnTo>
                            <a:pt x="321" y="308"/>
                          </a:lnTo>
                          <a:lnTo>
                            <a:pt x="308" y="317"/>
                          </a:lnTo>
                          <a:lnTo>
                            <a:pt x="290" y="325"/>
                          </a:lnTo>
                          <a:lnTo>
                            <a:pt x="273" y="338"/>
                          </a:lnTo>
                          <a:lnTo>
                            <a:pt x="259" y="343"/>
                          </a:lnTo>
                          <a:lnTo>
                            <a:pt x="246" y="347"/>
                          </a:lnTo>
                          <a:lnTo>
                            <a:pt x="229" y="352"/>
                          </a:lnTo>
                          <a:lnTo>
                            <a:pt x="216" y="356"/>
                          </a:lnTo>
                          <a:lnTo>
                            <a:pt x="198" y="360"/>
                          </a:lnTo>
                          <a:lnTo>
                            <a:pt x="185" y="365"/>
                          </a:lnTo>
                          <a:lnTo>
                            <a:pt x="172" y="369"/>
                          </a:lnTo>
                          <a:lnTo>
                            <a:pt x="154" y="374"/>
                          </a:lnTo>
                          <a:lnTo>
                            <a:pt x="136" y="378"/>
                          </a:lnTo>
                          <a:lnTo>
                            <a:pt x="123" y="378"/>
                          </a:lnTo>
                          <a:lnTo>
                            <a:pt x="110" y="382"/>
                          </a:lnTo>
                          <a:lnTo>
                            <a:pt x="97" y="382"/>
                          </a:lnTo>
                          <a:lnTo>
                            <a:pt x="84" y="387"/>
                          </a:lnTo>
                          <a:lnTo>
                            <a:pt x="71" y="391"/>
                          </a:lnTo>
                          <a:lnTo>
                            <a:pt x="57" y="391"/>
                          </a:lnTo>
                          <a:lnTo>
                            <a:pt x="44" y="396"/>
                          </a:lnTo>
                          <a:lnTo>
                            <a:pt x="31" y="396"/>
                          </a:lnTo>
                          <a:lnTo>
                            <a:pt x="13" y="404"/>
                          </a:lnTo>
                          <a:lnTo>
                            <a:pt x="0" y="40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55" name=""/>
                <p:cNvSpPr/>
                <p:nvPr/>
              </p:nvSpPr>
              <p:spPr>
                <a:xfrm>
                  <a:off x="3236760" y="1046160"/>
                  <a:ext cx="2590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400" spc="-1" strike="noStrike">
                      <a:solidFill>
                        <a:srgbClr val="000000"/>
                      </a:solidFill>
                      <a:latin typeface="Times New Roman"/>
                      <a:ea typeface="全真中圓體"/>
                    </a:rPr>
                    <a:t>智慧型運輸系統執行專案架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6" name=""/>
            <p:cNvSpPr/>
            <p:nvPr/>
          </p:nvSpPr>
          <p:spPr>
            <a:xfrm>
              <a:off x="685800" y="3200400"/>
              <a:ext cx="19810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14400" y="35812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c0c0c0"/>
                  </a:solidFill>
                  <a:latin typeface="全真楷書"/>
                  <a:ea typeface="全真楷書"/>
                </a:rPr>
                <a:t>商用車輛系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c0c0c0"/>
                  </a:solidFill>
                  <a:latin typeface="Times New Roman"/>
                  <a:ea typeface="全真楷書"/>
                </a:rPr>
                <a:t>(</a:t>
              </a:r>
              <a:r>
                <a:rPr b="1" lang="en-US" sz="1800" spc="-1" strike="noStrike">
                  <a:solidFill>
                    <a:srgbClr val="c0c0c0"/>
                  </a:solidFill>
                  <a:latin typeface="Times New Roman"/>
                  <a:ea typeface="全真楷書"/>
                </a:rPr>
                <a:t>CV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324480" y="3200400"/>
              <a:ext cx="198144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553080" y="350352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c0c0c0"/>
                  </a:solidFill>
                  <a:latin typeface="全真楷書"/>
                  <a:ea typeface="全真楷書"/>
                </a:rPr>
                <a:t>先進車輛安全及控制系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c0c0c0"/>
                  </a:solidFill>
                  <a:latin typeface="全真楷書"/>
                  <a:ea typeface="全真楷書"/>
                </a:rPr>
                <a:t>  </a:t>
              </a:r>
              <a:r>
                <a:rPr b="1" lang="zh-TW" sz="1800" spc="-1" strike="noStrike">
                  <a:solidFill>
                    <a:srgbClr val="c0c0c0"/>
                  </a:solidFill>
                  <a:latin typeface="Times New Roman"/>
                  <a:ea typeface="全真楷書"/>
                </a:rPr>
                <a:t>(</a:t>
              </a:r>
              <a:r>
                <a:rPr b="1" lang="en-US" sz="1800" spc="-1" strike="noStrike">
                  <a:solidFill>
                    <a:srgbClr val="c0c0c0"/>
                  </a:solidFill>
                  <a:latin typeface="Times New Roman"/>
                  <a:ea typeface="全真楷書"/>
                </a:rPr>
                <a:t>AVSC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1T09:51:13Z</dcterms:created>
  <dc:creator>YYW</dc:creator>
  <dc:description/>
  <dc:language>en-US</dc:language>
  <cp:lastModifiedBy>交通部運輸研究所</cp:lastModifiedBy>
  <cp:lastPrinted>1999-05-29T02:35:01Z</cp:lastPrinted>
  <dcterms:modified xsi:type="dcterms:W3CDTF">1999-10-19T07:32:04Z</dcterms:modified>
  <cp:revision>23</cp:revision>
  <dc:subject/>
  <dc:title>無投影片標題</dc:title>
</cp:coreProperties>
</file>