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3C8F-A968-4A70-84BD-85B5A557E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5FCB-EC4A-4415-A7FF-5F1637C33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E557-9CD6-4F9A-A966-50F189AF4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36F7-5FA5-4A86-B2AE-42497E08E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E4D0-735C-4EC8-8C2D-C96261396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6587-5F99-48D0-83FB-C3036381F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F109-11A8-48AF-B04F-B605D3E23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F3A5-CE87-4731-9156-DAC967B5D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FFF3-D76A-48AC-A198-687D092E1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DD32-4ABF-456D-B715-21971744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E464-FC03-4143-94DB-C584639BC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47C5-7EC6-4884-A83F-7CFCEDAE7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B2809-8173-4FBF-93BC-FF6326E0F454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19000" y="304920"/>
          <a:ext cx="5334120" cy="818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9000" y="304920"/>
                    <a:ext cx="5334120" cy="818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4267080" y="380880"/>
            <a:ext cx="439920" cy="4096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105520" y="336600"/>
            <a:ext cx="198360" cy="19692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d07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90920" y="2057400"/>
            <a:ext cx="291960" cy="2728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05120" y="3689280"/>
            <a:ext cx="291960" cy="27324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752480" y="4299120"/>
            <a:ext cx="292320" cy="27288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3880" y="7162920"/>
            <a:ext cx="439920" cy="40932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05520" y="3382920"/>
            <a:ext cx="198360" cy="19836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d07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754520" y="6477120"/>
            <a:ext cx="198360" cy="19836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d07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62520" y="15228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華康粗圓體"/>
              </a:rPr>
              <a:t>台北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00400" y="60948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華康粗圓體"/>
              </a:rPr>
              <a:t>青埔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57800" y="12060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華康粗圓體"/>
              </a:rPr>
              <a:t>基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352680" y="141588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華康粗圓體"/>
              </a:rPr>
              <a:t>六家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752480" y="27115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華康粗圓體"/>
              </a:rPr>
              <a:t>烏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09680" y="36259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華康粗圓體"/>
              </a:rPr>
              <a:t>社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143000" y="426708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華康粗圓體"/>
              </a:rPr>
              <a:t>虎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495288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華康粗圓體"/>
              </a:rPr>
              <a:t>太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28800" y="63691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華康粗圓體"/>
              </a:rPr>
              <a:t>沙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7400" y="20257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華康粗圓體"/>
              </a:rPr>
              <a:t>豐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73915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華康粗圓體"/>
              </a:rPr>
              <a:t>左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76520" y="7620120"/>
            <a:ext cx="198360" cy="19836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d07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66680" y="769608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華康粗圓體"/>
              </a:rPr>
              <a:t>高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257800" y="332100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華康粗圓體"/>
              </a:rPr>
              <a:t>花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91120" y="63691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華康粗圓體"/>
              </a:rPr>
              <a:t>台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81480" y="693432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華康粗圓體"/>
              </a:rPr>
              <a:t>圖      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29200" y="7238880"/>
            <a:ext cx="76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華康粗圓體"/>
              </a:rPr>
              <a:t>  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華康粗圓體"/>
              </a:rPr>
              <a:t>高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華康粗圓體"/>
              </a:rPr>
              <a:t>  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華康粗圓體"/>
              </a:rPr>
              <a:t>台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華康粗圓體"/>
              </a:rPr>
              <a:t>捷運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華康粗圓體"/>
              </a:rPr>
              <a:t>/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華康粗圓體"/>
              </a:rPr>
              <a:t>輕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7467480"/>
            <a:ext cx="27000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0600" y="7924680"/>
            <a:ext cx="270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35600" y="7885080"/>
            <a:ext cx="108000" cy="10800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d07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811840" y="7647120"/>
            <a:ext cx="144360" cy="14436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91320" y="7350120"/>
            <a:ext cx="193680" cy="19368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19920" y="7238880"/>
            <a:ext cx="761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華康粗圓體"/>
              </a:rPr>
              <a:t>高鐵終站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華康粗圓體"/>
              </a:rPr>
              <a:t>高鐵車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華康粗圓體"/>
              </a:rPr>
              <a:t>台鐵車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24280" y="6934320"/>
            <a:ext cx="19814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24280" y="727236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715000" y="7273800"/>
            <a:ext cx="0" cy="80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853452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全真楷書"/>
                <a:ea typeface="全真楷書"/>
              </a:rPr>
              <a:t>圖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7</a:t>
            </a:r>
            <a:r>
              <a:rPr b="0" lang="zh-TW" sz="1600" spc="-1" strike="noStrike">
                <a:solidFill>
                  <a:srgbClr val="000000"/>
                </a:solidFill>
                <a:latin typeface="全真楷書"/>
                <a:ea typeface="全真楷書"/>
              </a:rPr>
              <a:t>  </a:t>
            </a:r>
            <a:r>
              <a:rPr b="0" lang="zh-TW" sz="1600" spc="-1" strike="noStrike">
                <a:solidFill>
                  <a:srgbClr val="000000"/>
                </a:solidFill>
                <a:latin typeface="全真楷書"/>
                <a:ea typeface="全真楷書"/>
              </a:rPr>
              <a:t>軌道運輸系統整合圖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562720" y="2286000"/>
            <a:ext cx="761760" cy="380880"/>
          </a:xfrm>
          <a:prstGeom prst="wedgeRoundRectCallout">
            <a:avLst>
              <a:gd name="adj1" fmla="val -87083"/>
              <a:gd name="adj2" fmla="val 9500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626080" y="2330280"/>
            <a:ext cx="62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台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86200" y="890640"/>
            <a:ext cx="304920" cy="1760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24080" y="3048120"/>
            <a:ext cx="838440" cy="457200"/>
          </a:xfrm>
          <a:prstGeom prst="wedgeRoundRectCallout">
            <a:avLst>
              <a:gd name="adj1" fmla="val -156060"/>
              <a:gd name="adj2" fmla="val 44444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3092400"/>
            <a:ext cx="80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高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733920" y="762120"/>
            <a:ext cx="291960" cy="27288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145040" y="990720"/>
            <a:ext cx="198360" cy="19836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d07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286000" y="2819520"/>
            <a:ext cx="533520" cy="3808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46320" y="3003480"/>
            <a:ext cx="291960" cy="2732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66880" y="2697120"/>
            <a:ext cx="198720" cy="19836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d07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52480" y="5181480"/>
            <a:ext cx="381240" cy="152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00200" y="4952880"/>
            <a:ext cx="291960" cy="2732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81080" y="5211720"/>
            <a:ext cx="198720" cy="19836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d07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71600" y="6324480"/>
            <a:ext cx="38088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00200" y="6432480"/>
            <a:ext cx="291960" cy="2732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6202440"/>
            <a:ext cx="198720" cy="19836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d07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267080" y="91440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華康粗圓體"/>
              </a:rPr>
              <a:t>桃園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057400" y="129528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華康粗圓體"/>
              </a:rPr>
              <a:t>新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9520" y="27115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華康粗圓體"/>
              </a:rPr>
              <a:t>台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133720" y="52261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華康粗圓體"/>
              </a:rPr>
              <a:t>嘉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606420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華康粗圓體"/>
              </a:rPr>
              <a:t>台南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1676520"/>
            <a:ext cx="990360" cy="304560"/>
          </a:xfrm>
          <a:prstGeom prst="wedgeRoundRectCallout">
            <a:avLst>
              <a:gd name="adj1" fmla="val -62180"/>
              <a:gd name="adj2" fmla="val -26354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90920" y="4586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輕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14600" y="4572000"/>
            <a:ext cx="914400" cy="380880"/>
          </a:xfrm>
          <a:prstGeom prst="wedgeRoundRectCallout">
            <a:avLst>
              <a:gd name="adj1" fmla="val -116495"/>
              <a:gd name="adj2" fmla="val 11583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2743200" y="1401480"/>
            <a:ext cx="457200" cy="759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1401840"/>
            <a:ext cx="198360" cy="19836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d07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1249200"/>
            <a:ext cx="291960" cy="2732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91120" y="167652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捷運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/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輕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00600" y="769608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3657600" y="533520"/>
            <a:ext cx="76320" cy="3045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95480" y="228600"/>
            <a:ext cx="914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華康粗圓體"/>
              </a:rPr>
              <a:t>中正機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1828800" y="7543440"/>
            <a:ext cx="0" cy="152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8T09:47:12Z</dcterms:created>
  <dc:creator>YYW</dc:creator>
  <dc:description/>
  <dc:language>en-US</dc:language>
  <cp:lastModifiedBy>交通部運輸研究所</cp:lastModifiedBy>
  <cp:lastPrinted>1999-09-30T09:38:04Z</cp:lastPrinted>
  <dcterms:modified xsi:type="dcterms:W3CDTF">1999-10-19T07:32:58Z</dcterms:modified>
  <cp:revision>26</cp:revision>
  <dc:subject/>
  <dc:title>無投影片標題</dc:title>
</cp:coreProperties>
</file>