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5.jpeg" ContentType="image/jpeg"/>
  <Override PartName="/ppt/media/image11.wmf" ContentType="image/x-wmf"/>
  <Override PartName="/ppt/media/image33.wmf" ContentType="image/x-wmf"/>
  <Override PartName="/ppt/media/image12.wmf" ContentType="image/x-wmf"/>
  <Override PartName="/ppt/media/image35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png" ContentType="image/png"/>
  <Override PartName="/ppt/media/image27.png" ContentType="image/png"/>
  <Override PartName="/ppt/media/image30.wmf" ContentType="image/x-wmf"/>
  <Override PartName="/ppt/media/image34.wmf" ContentType="image/x-wmf"/>
  <Override PartName="/ppt/media/image46.wmf" ContentType="image/x-wmf"/>
  <Override PartName="/ppt/media/image47.wmf" ContentType="image/x-wmf"/>
  <Override PartName="/ppt/media/image10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13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7278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858000" y="6324480"/>
            <a:ext cx="2133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粗圓體"/>
              </a:rPr>
              <a:t>跨世紀運輸政策與建設方案</a:t>
            </a:r>
            <a:endParaRPr b="1" lang="en-US" sz="2400" spc="1" strike="noStrike">
              <a:ln w="1260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華康粗圓體"/>
              <a:ea typeface="華康粗圓體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fld id="{6D26DF66-764A-4EAD-AC19-5EDBD26ABD74}" type="slidenum"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11.wmf"/><Relationship Id="rId6" Type="http://schemas.openxmlformats.org/officeDocument/2006/relationships/image" Target="../media/image27.png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4.wmf"/><Relationship Id="rId4" Type="http://schemas.openxmlformats.org/officeDocument/2006/relationships/image" Target="../media/image27.png"/><Relationship Id="rId5" Type="http://schemas.openxmlformats.org/officeDocument/2006/relationships/image" Target="../media/image45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438280" y="411480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全真顏體"/>
              </a:rPr>
              <a:t>交通部運輸研究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666880" y="557676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8080"/>
                </a:solidFill>
                <a:latin typeface="全真顏體"/>
                <a:ea typeface="全真顏體"/>
              </a:rPr>
              <a:t>中華民國</a:t>
            </a:r>
            <a:r>
              <a:rPr b="0" lang="zh-TW" sz="3000" spc="-1" strike="noStrike">
                <a:solidFill>
                  <a:srgbClr val="808080"/>
                </a:solidFill>
                <a:latin typeface="全真顏體"/>
                <a:ea typeface="全真顏體"/>
              </a:rPr>
              <a:t>88</a:t>
            </a:r>
            <a:r>
              <a:rPr b="0" lang="zh-TW" sz="3000" spc="-1" strike="noStrike">
                <a:solidFill>
                  <a:srgbClr val="808080"/>
                </a:solidFill>
                <a:latin typeface="全真顏體"/>
                <a:ea typeface="全真顏體"/>
              </a:rPr>
              <a:t>年</a:t>
            </a:r>
            <a:r>
              <a:rPr b="0" lang="zh-TW" sz="3000" spc="-1" strike="noStrike">
                <a:solidFill>
                  <a:srgbClr val="808080"/>
                </a:solidFill>
                <a:latin typeface="全真顏體"/>
                <a:ea typeface="全真顏體"/>
              </a:rPr>
              <a:t>8</a:t>
            </a:r>
            <a:r>
              <a:rPr b="0" lang="zh-TW" sz="3000" spc="-1" strike="noStrike">
                <a:solidFill>
                  <a:srgbClr val="808080"/>
                </a:solidFill>
                <a:latin typeface="全真顏體"/>
                <a:ea typeface="全真顏體"/>
              </a:rPr>
              <a:t>月</a:t>
            </a:r>
            <a:r>
              <a:rPr b="0" lang="zh-TW" sz="3000" spc="-1" strike="noStrike">
                <a:solidFill>
                  <a:srgbClr val="808080"/>
                </a:solidFill>
                <a:latin typeface="全真顏體"/>
                <a:ea typeface="全真顏體"/>
              </a:rPr>
              <a:t>4</a:t>
            </a:r>
            <a:r>
              <a:rPr b="0" lang="zh-TW" sz="3000" spc="-1" strike="noStrike">
                <a:solidFill>
                  <a:srgbClr val="808080"/>
                </a:solidFill>
                <a:latin typeface="全真顏體"/>
                <a:ea typeface="全真顏體"/>
              </a:rPr>
              <a:t>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640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1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1523880"/>
            <a:ext cx="6629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08080">
                      <a:alpha val="50000"/>
                    </a:srgbClr>
                  </a:outerShdw>
                </a:effectLst>
                <a:latin typeface="華康粗圓體"/>
              </a:rPr>
              <a:t>跨世紀運輸政策與建設方案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53966" dir="2700000" blurRad="0" rotWithShape="0">
                  <a:srgbClr val="808080">
                    <a:alpha val="50000"/>
                  </a:srgbClr>
                </a:outerShdw>
              </a:effectLst>
              <a:latin typeface="華康粗圓體"/>
              <a:ea typeface="華康粗圓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81080" y="2043000"/>
            <a:ext cx="533412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一、運輸政策基本目標仍將維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二、面臨之挑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三、跨世紀運輸政策目標之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四、具體構想與配合策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五、跨世紀之發展願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六、結    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七、各機關</a:t>
            </a: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單位</a:t>
            </a: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施政計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609480"/>
            <a:ext cx="70102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「跨世紀運輸政策與建設方案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本 文 內 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跨世紀運輸政策與建設方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10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6094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一、運輸政策基本目標仍將維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469880"/>
          <a:ext cx="7010640" cy="40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69880"/>
                    <a:ext cx="7010640" cy="40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66880" y="5791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總體運輸政策之目標體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跨世紀運輸政策與建設方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11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12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639720"/>
            <a:ext cx="3429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二、面臨之挑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57200" y="1695600"/>
            <a:ext cx="65912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我們近年面臨了國內外社會、經濟、科技、財政等外在環境之變遷、激盪之下，相關優、劣勢、機會與威脅，亦因之變化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因此，我國運輸政策長期發展目標雖不變，</a:t>
            </a:r>
            <a:r>
              <a:rPr b="0" lang="zh-TW" sz="3000" spc="-1" strike="noStrike">
                <a:solidFill>
                  <a:srgbClr val="cc3300"/>
                </a:solidFill>
                <a:latin typeface="Times New Roman"/>
                <a:ea typeface="華康粗圓體"/>
              </a:rPr>
              <a:t>但階段性作法與措施卻需與時俱移，因地制宜</a:t>
            </a: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跨世紀運輸政策與建設方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19520" y="4572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二、面臨之挑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9480" y="1295280"/>
          <a:ext cx="8077320" cy="46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07732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13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跨世紀運輸政策與建設方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57200" y="1339920"/>
          <a:ext cx="8307360" cy="49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39920"/>
                    <a:ext cx="830736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048120" y="5335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二、面臨之挑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14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跨世紀運輸政策與建設方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19320" y="2479680"/>
            <a:ext cx="6858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運輸系統之基本要求，在滿足民眾「行」的需求。運輸基礎建設關係國家經濟發展，短期內除應構建完整的陸、海、空運輸網路外，亦需針對既有運輸設施持續維護，提供迅速、便捷、高品質之運輸設施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15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6397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三、跨世紀運輸政策目標之形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676520"/>
            <a:ext cx="678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目標一：</a:t>
            </a:r>
            <a:r>
              <a:rPr b="0" lang="zh-TW" sz="3000" spc="-1" strike="noStrike">
                <a:solidFill>
                  <a:srgbClr val="cc3300"/>
                </a:solidFill>
                <a:latin typeface="全真楷書"/>
                <a:ea typeface="華康勘亭流"/>
              </a:rPr>
              <a:t>創造迅速便捷舒適的運輸環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跨世紀運輸政策與建設方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19320" y="2232000"/>
            <a:ext cx="678168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為遵循「政府再造」行動方案，因應政府組織調整，以及適時反映民眾需求，交通部將秉持科學化、系統化之精神與理念，建立合理規劃機制，強化工程建設品質與管考，充分善用國家資源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16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249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目標二：</a:t>
            </a:r>
            <a:r>
              <a:rPr b="0" lang="zh-TW" sz="3000" spc="-1" strike="noStrike">
                <a:solidFill>
                  <a:srgbClr val="cc3300"/>
                </a:solidFill>
                <a:latin typeface="Times New Roman"/>
                <a:ea typeface="華康勘亭流"/>
              </a:rPr>
              <a:t>提升運輸建設計畫之施行績效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跨世紀運輸政策與建設方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1851120"/>
            <a:ext cx="63244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配合經濟發展之需要，順應自由化、民營化之世界潮流，當前施政重點在於如何導引民間資源注入國家建設。因此交通部將建立合理運輸財政架構，透過檢討修訂現行法規，放寬交通事業的經營管制，並健全運輸經營管理環境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17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0666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目標三：</a:t>
            </a:r>
            <a:r>
              <a:rPr b="0" lang="zh-TW" sz="3000" spc="-1" strike="noStrike">
                <a:solidFill>
                  <a:srgbClr val="cc3300"/>
                </a:solidFill>
                <a:latin typeface="Times New Roman"/>
                <a:ea typeface="華康勘亭流"/>
              </a:rPr>
              <a:t>提振運輸產業經營效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跨世紀運輸政策與建設方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76520" y="1676520"/>
            <a:ext cx="64008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就運輸管理層面而言，除提升經營管理效率之外，對於各類運輸安全尤應加以重視。交通部時時不忘秉持「生命無價」之理念，積極辦理相關法令之檢討、事故資料庫之建立、以及安全監督管理機制之整合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18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990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目標四：</a:t>
            </a:r>
            <a:r>
              <a:rPr b="0" lang="zh-TW" sz="3000" spc="-1" strike="noStrike">
                <a:solidFill>
                  <a:srgbClr val="cc3300"/>
                </a:solidFill>
                <a:latin typeface="Times New Roman"/>
                <a:ea typeface="華康勘亭流"/>
              </a:rPr>
              <a:t>強化交通運輸安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跨世紀運輸政策與建設方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2060640"/>
            <a:ext cx="66294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在重視環保的現今社會，如何在運輸建設與環境保育兩者間取得平衡，乃各國面臨之重要課題。今後交通部將本著「以人為本」之規劃理念，以整合生態、生活與生產之永續發展精神，規劃塑造與環境共榮共存的運輸系統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19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2193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目標五：</a:t>
            </a:r>
            <a:r>
              <a:rPr b="0" lang="zh-TW" sz="3000" spc="-1" strike="noStrike">
                <a:solidFill>
                  <a:srgbClr val="cc3300"/>
                </a:solidFill>
                <a:latin typeface="Times New Roman"/>
                <a:ea typeface="華康勘亭流"/>
              </a:rPr>
              <a:t>構建與環境調和之運輸系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跨世紀運輸政策與建設方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66880" y="685800"/>
            <a:ext cx="3886200" cy="106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6969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全真顏體"/>
                <a:ea typeface="全真顏體"/>
              </a:rPr>
              <a:t>簡</a:t>
            </a:r>
            <a:r>
              <a:rPr b="0" lang="zh-TW" sz="4400" spc="-1" strike="noStrike">
                <a:solidFill>
                  <a:srgbClr val="000099"/>
                </a:solidFill>
                <a:latin typeface="全真顏體"/>
                <a:ea typeface="全真顏體"/>
              </a:rPr>
              <a:t> </a:t>
            </a:r>
            <a:r>
              <a:rPr b="0" lang="zh-TW" sz="4400" spc="-1" strike="noStrike">
                <a:solidFill>
                  <a:srgbClr val="ffffff"/>
                </a:solidFill>
                <a:latin typeface="全真顏體"/>
                <a:ea typeface="全真顏體"/>
              </a:rPr>
              <a:t>報</a:t>
            </a:r>
            <a:r>
              <a:rPr b="0" lang="zh-TW" sz="4400" spc="-1" strike="noStrike">
                <a:solidFill>
                  <a:srgbClr val="000099"/>
                </a:solidFill>
                <a:latin typeface="全真顏體"/>
                <a:ea typeface="全真顏體"/>
              </a:rPr>
              <a:t> </a:t>
            </a:r>
            <a:r>
              <a:rPr b="0" lang="zh-TW" sz="4400" spc="-1" strike="noStrike">
                <a:solidFill>
                  <a:srgbClr val="ffffff"/>
                </a:solidFill>
                <a:latin typeface="全真顏體"/>
                <a:ea typeface="全真顏體"/>
              </a:rPr>
              <a:t>內</a:t>
            </a:r>
            <a:r>
              <a:rPr b="0" lang="zh-TW" sz="4400" spc="-1" strike="noStrike">
                <a:solidFill>
                  <a:srgbClr val="000099"/>
                </a:solidFill>
                <a:latin typeface="全真顏體"/>
                <a:ea typeface="全真顏體"/>
              </a:rPr>
              <a:t> </a:t>
            </a:r>
            <a:r>
              <a:rPr b="0" lang="zh-TW" sz="4400" spc="-1" strike="noStrike">
                <a:solidFill>
                  <a:srgbClr val="ffffff"/>
                </a:solidFill>
                <a:latin typeface="全真顏體"/>
                <a:ea typeface="全真顏體"/>
              </a:rPr>
              <a:t>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362320"/>
            <a:ext cx="5943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50960" indent="-750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壹、緣  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0960" indent="-750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貳、辦理方式與進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0960" indent="-750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參、跨世紀運輸政策與建設方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0960" indent="-750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肆、推動方式研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0960" indent="-750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伍、恭請  裁示事項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76520" y="2133720"/>
            <a:ext cx="59436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隨著科技文明的進步，人們處處講求效率，交通部將積極引進與研發新的科技，應用並強化既有之運輸系統，以提供高效率的運輸服務品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0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13255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目標六：</a:t>
            </a:r>
            <a:r>
              <a:rPr b="0" lang="zh-TW" sz="3200" spc="-1" strike="noStrike">
                <a:solidFill>
                  <a:srgbClr val="cc3300"/>
                </a:solidFill>
                <a:latin typeface="Times New Roman"/>
                <a:ea typeface="華康勘亭流"/>
              </a:rPr>
              <a:t>建立智慧化的交通運輸環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跨世紀運輸政策與建設方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0" y="15840"/>
            <a:ext cx="4572000" cy="6765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52280" y="914400"/>
            <a:ext cx="8763120" cy="4800600"/>
            <a:chOff x="152280" y="914400"/>
            <a:chExt cx="8763120" cy="4800600"/>
          </a:xfrm>
        </p:grpSpPr>
        <p:grpSp>
          <p:nvGrpSpPr>
            <p:cNvPr id="131" name=""/>
            <p:cNvGrpSpPr/>
            <p:nvPr/>
          </p:nvGrpSpPr>
          <p:grpSpPr>
            <a:xfrm>
              <a:off x="5619600" y="914400"/>
              <a:ext cx="1764000" cy="465120"/>
              <a:chOff x="5619600" y="914400"/>
              <a:chExt cx="1764000" cy="465120"/>
            </a:xfrm>
          </p:grpSpPr>
          <p:sp>
            <p:nvSpPr>
              <p:cNvPr id="132" name=""/>
              <p:cNvSpPr/>
              <p:nvPr/>
            </p:nvSpPr>
            <p:spPr>
              <a:xfrm>
                <a:off x="5619600" y="914400"/>
                <a:ext cx="1764000" cy="465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14640" y="964080"/>
                <a:ext cx="1546560" cy="34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4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Times New Roman"/>
                    <a:ea typeface="全真中圓體"/>
                  </a:rPr>
                  <a:t>提供便捷的交通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632560" y="1635120"/>
              <a:ext cx="1763640" cy="465120"/>
              <a:chOff x="5632560" y="1635120"/>
              <a:chExt cx="1763640" cy="465120"/>
            </a:xfrm>
          </p:grpSpPr>
          <p:sp>
            <p:nvSpPr>
              <p:cNvPr id="135" name=""/>
              <p:cNvSpPr/>
              <p:nvPr/>
            </p:nvSpPr>
            <p:spPr>
              <a:xfrm>
                <a:off x="5632560" y="1635120"/>
                <a:ext cx="1763640" cy="465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727600" y="1684800"/>
                <a:ext cx="1546560" cy="34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4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Times New Roman"/>
                    <a:ea typeface="全真中圓體"/>
                  </a:rPr>
                  <a:t>確保安全的交通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5646600" y="2341440"/>
              <a:ext cx="1765440" cy="465120"/>
              <a:chOff x="5646600" y="2341440"/>
              <a:chExt cx="1765440" cy="465120"/>
            </a:xfrm>
          </p:grpSpPr>
          <p:sp>
            <p:nvSpPr>
              <p:cNvPr id="138" name=""/>
              <p:cNvSpPr/>
              <p:nvPr/>
            </p:nvSpPr>
            <p:spPr>
              <a:xfrm>
                <a:off x="5646600" y="2341440"/>
                <a:ext cx="1765440" cy="465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41640" y="2391120"/>
                <a:ext cx="1548000" cy="34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4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Times New Roman"/>
                    <a:ea typeface="全真中圓體"/>
                  </a:rPr>
                  <a:t>創造舒適的交通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5665680" y="3095640"/>
              <a:ext cx="1764000" cy="465120"/>
              <a:chOff x="5665680" y="3095640"/>
              <a:chExt cx="1764000" cy="465120"/>
            </a:xfrm>
          </p:grpSpPr>
          <p:sp>
            <p:nvSpPr>
              <p:cNvPr id="141" name=""/>
              <p:cNvSpPr/>
              <p:nvPr/>
            </p:nvSpPr>
            <p:spPr>
              <a:xfrm>
                <a:off x="5665680" y="3095640"/>
                <a:ext cx="1764000" cy="465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60720" y="3145320"/>
                <a:ext cx="1546560" cy="34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4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Times New Roman"/>
                    <a:ea typeface="全真中圓體"/>
                  </a:rPr>
                  <a:t>降低物流的成本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5676840" y="3817800"/>
              <a:ext cx="1763640" cy="463680"/>
              <a:chOff x="5676840" y="3817800"/>
              <a:chExt cx="1763640" cy="463680"/>
            </a:xfrm>
          </p:grpSpPr>
          <p:sp>
            <p:nvSpPr>
              <p:cNvPr id="144" name=""/>
              <p:cNvSpPr/>
              <p:nvPr/>
            </p:nvSpPr>
            <p:spPr>
              <a:xfrm>
                <a:off x="5676840" y="3817800"/>
                <a:ext cx="1763640" cy="4636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71880" y="3867480"/>
                <a:ext cx="1546560" cy="34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4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Times New Roman"/>
                    <a:ea typeface="全真中圓體"/>
                  </a:rPr>
                  <a:t>增強國際的競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692680" y="4524120"/>
              <a:ext cx="1763640" cy="463680"/>
              <a:chOff x="5692680" y="4524120"/>
              <a:chExt cx="1763640" cy="463680"/>
            </a:xfrm>
          </p:grpSpPr>
          <p:sp>
            <p:nvSpPr>
              <p:cNvPr id="147" name=""/>
              <p:cNvSpPr/>
              <p:nvPr/>
            </p:nvSpPr>
            <p:spPr>
              <a:xfrm>
                <a:off x="5692680" y="4524120"/>
                <a:ext cx="1763640" cy="4636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87720" y="4573800"/>
                <a:ext cx="1546560" cy="34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4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Times New Roman"/>
                    <a:ea typeface="全真中圓體"/>
                  </a:rPr>
                  <a:t>減少環境的污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715000" y="5249880"/>
              <a:ext cx="1763640" cy="465120"/>
              <a:chOff x="5715000" y="5249880"/>
              <a:chExt cx="1763640" cy="465120"/>
            </a:xfrm>
          </p:grpSpPr>
          <p:sp>
            <p:nvSpPr>
              <p:cNvPr id="150" name=""/>
              <p:cNvSpPr/>
              <p:nvPr/>
            </p:nvSpPr>
            <p:spPr>
              <a:xfrm>
                <a:off x="5715000" y="5249880"/>
                <a:ext cx="1763640" cy="465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10040" y="5299560"/>
                <a:ext cx="1546560" cy="34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4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Times New Roman"/>
                    <a:ea typeface="全真中圓體"/>
                  </a:rPr>
                  <a:t>配合都市的發展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555920" y="1217520"/>
              <a:ext cx="2463480" cy="52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6520" y="1353960"/>
              <a:ext cx="21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創造迅速便捷舒適的運輸環境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55920" y="1954080"/>
              <a:ext cx="2463480" cy="52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6520" y="2093760"/>
              <a:ext cx="21952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提升運輸建設計畫之施行績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55920" y="2690640"/>
              <a:ext cx="2463480" cy="52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79480" y="2830320"/>
              <a:ext cx="1974960" cy="26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提振運輸產業經營效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55920" y="3427200"/>
              <a:ext cx="2463480" cy="52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79480" y="3566880"/>
              <a:ext cx="1974960" cy="26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強化交通運輸安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55920" y="4165560"/>
              <a:ext cx="2463480" cy="52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79480" y="4303440"/>
              <a:ext cx="2092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構建與環境調和之運輸系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55920" y="4902120"/>
              <a:ext cx="2463480" cy="52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79480" y="5040360"/>
              <a:ext cx="209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建立智慧化之交通運輸環境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8600" y="2057400"/>
              <a:ext cx="449280" cy="2633400"/>
            </a:xfrm>
            <a:custGeom>
              <a:avLst/>
              <a:gdLst>
                <a:gd name="textAreaLeft" fmla="*/ 21600 w 449280"/>
                <a:gd name="textAreaRight" fmla="*/ 427680 w 449280"/>
                <a:gd name="textAreaTop" fmla="*/ 21600 h 2633400"/>
                <a:gd name="textAreaBottom" fmla="*/ 2611800 h 2633400"/>
              </a:gdLst>
              <a:ahLst/>
              <a:rect l="textAreaLeft" t="textAreaTop" r="textAreaRight" b="textAreaBottom"/>
              <a:pathLst>
                <a:path w="21600" h="126522">
                  <a:moveTo>
                    <a:pt x="3600" y="0"/>
                  </a:moveTo>
                  <a:arcTo wR="3600" hR="3600" stAng="16200000" swAng="-5400000"/>
                  <a:lnTo>
                    <a:pt x="0" y="122922"/>
                  </a:lnTo>
                  <a:arcTo wR="3600" hR="3600" stAng="10800000" swAng="-5400000"/>
                  <a:lnTo>
                    <a:pt x="18000" y="1265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2280" y="2082600"/>
              <a:ext cx="524160" cy="25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華康粗圓體"/>
                </a:rPr>
                <a:t>跨世紀運輸政策與建設方案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725400" y="1530000"/>
              <a:ext cx="838440" cy="3651120"/>
              <a:chOff x="725400" y="1530000"/>
              <a:chExt cx="838440" cy="365112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725400" y="1530000"/>
                <a:ext cx="838440" cy="172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725400" y="2260440"/>
                <a:ext cx="838440" cy="99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725400" y="2976480"/>
                <a:ext cx="838440" cy="28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25400" y="3258720"/>
                <a:ext cx="838440" cy="44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5400" y="3258720"/>
                <a:ext cx="838440" cy="11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25400" y="3258720"/>
                <a:ext cx="838440" cy="19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 flipV="1">
              <a:off x="4019400" y="1152000"/>
              <a:ext cx="160020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19400" y="1488960"/>
              <a:ext cx="1613160" cy="10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9400" y="2997000"/>
              <a:ext cx="164484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19400" y="2992320"/>
              <a:ext cx="164484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019400" y="1858680"/>
              <a:ext cx="1613160" cy="18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19400" y="4456080"/>
              <a:ext cx="167328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9400" y="4456080"/>
              <a:ext cx="1695600" cy="10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019400" y="4802040"/>
              <a:ext cx="169560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038480" y="1834560"/>
              <a:ext cx="158112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038480" y="1899720"/>
              <a:ext cx="1602000" cy="324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038480" y="2584440"/>
              <a:ext cx="158112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38480" y="1488960"/>
              <a:ext cx="159408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8480" y="1488960"/>
              <a:ext cx="160812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19400" y="1488960"/>
              <a:ext cx="1673280" cy="25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024440" y="1217520"/>
              <a:ext cx="158112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38480" y="2219040"/>
              <a:ext cx="15670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8480" y="2219040"/>
              <a:ext cx="1567080" cy="110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038480" y="1217520"/>
              <a:ext cx="1581120" cy="17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38480" y="3665520"/>
              <a:ext cx="1654200" cy="17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038480" y="3426840"/>
              <a:ext cx="1608120" cy="176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4038480" y="4109400"/>
              <a:ext cx="1654200" cy="10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9400" y="5195880"/>
              <a:ext cx="170820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038480" y="1312920"/>
              <a:ext cx="1602000" cy="38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05920" y="1752480"/>
              <a:ext cx="609480" cy="3235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81880" y="1909800"/>
              <a:ext cx="462240" cy="30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  <a:ea typeface="華康粗圓體"/>
                </a:rPr>
                <a:t>塑造健康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華康粗圓體"/>
                </a:rPr>
                <a:t>、有活力、永續的社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6200" y="1152360"/>
              <a:ext cx="866880" cy="19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12040" y="1900080"/>
              <a:ext cx="851040" cy="13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29680" y="2584440"/>
              <a:ext cx="833400" cy="73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29680" y="335736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56320" y="3386160"/>
              <a:ext cx="806760" cy="66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456320" y="3493800"/>
              <a:ext cx="80352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7478640" y="3566520"/>
              <a:ext cx="784440" cy="193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600200" y="4413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跨世紀目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425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總體政策目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1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跨世紀運輸政策與建設方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608004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跨世紀運輸政策與運輸政策白皮書之總體政策目標關聯示意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21000" y="54403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6.</a:t>
            </a:r>
            <a:r>
              <a:rPr b="1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建立智慧化之交通運輸環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1000" y="185904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創造迅速便捷舒適之運輸環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1000" y="254484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提升運輸建設計畫之施行績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1000" y="323064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提振運輸產業經營效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1000" y="3946680"/>
            <a:ext cx="65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4.</a:t>
            </a:r>
            <a:r>
              <a:rPr b="1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強化交通運輸安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1000" y="467820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5.</a:t>
            </a:r>
            <a:r>
              <a:rPr b="1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建與環境調和之運輸系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52480" y="8064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四、具體構想與配合策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跨世紀運輸政策與建設方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380880" y="152280"/>
            <a:ext cx="8382240" cy="6555960"/>
            <a:chOff x="380880" y="152280"/>
            <a:chExt cx="8382240" cy="6555960"/>
          </a:xfrm>
        </p:grpSpPr>
        <p:sp>
          <p:nvSpPr>
            <p:cNvPr id="220" name=""/>
            <p:cNvSpPr/>
            <p:nvPr/>
          </p:nvSpPr>
          <p:spPr>
            <a:xfrm>
              <a:off x="380880" y="152280"/>
              <a:ext cx="8382240" cy="601992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2320" y="3922560"/>
              <a:ext cx="3200400" cy="1640160"/>
            </a:xfrm>
            <a:prstGeom prst="ellipse">
              <a:avLst/>
            </a:prstGeom>
            <a:gradFill rotWithShape="0">
              <a:gsLst>
                <a:gs pos="0">
                  <a:srgbClr val="697da4"/>
                </a:gs>
                <a:gs pos="100000">
                  <a:srgbClr val="a2c1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281240" y="3797280"/>
              <a:ext cx="2671200" cy="1612080"/>
              <a:chOff x="1281240" y="3797280"/>
              <a:chExt cx="2671200" cy="161208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1814040" y="3797280"/>
                <a:ext cx="414000" cy="1047960"/>
                <a:chOff x="1814040" y="3797280"/>
                <a:chExt cx="414000" cy="10479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829520" y="4053240"/>
                  <a:ext cx="379440" cy="59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814040" y="4086720"/>
                  <a:ext cx="414000" cy="105120"/>
                </a:xfrm>
                <a:custGeom>
                  <a:avLst/>
                  <a:gdLst/>
                  <a:ahLst/>
                  <a:rect l="l" t="t" r="r" b="b"/>
                  <a:pathLst>
                    <a:path w="108" h="35">
                      <a:moveTo>
                        <a:pt x="107" y="1"/>
                      </a:moveTo>
                      <a:lnTo>
                        <a:pt x="105" y="23"/>
                      </a:lnTo>
                      <a:lnTo>
                        <a:pt x="99" y="27"/>
                      </a:lnTo>
                      <a:lnTo>
                        <a:pt x="89" y="31"/>
                      </a:lnTo>
                      <a:lnTo>
                        <a:pt x="75" y="33"/>
                      </a:lnTo>
                      <a:lnTo>
                        <a:pt x="66" y="34"/>
                      </a:lnTo>
                      <a:lnTo>
                        <a:pt x="58" y="34"/>
                      </a:lnTo>
                      <a:lnTo>
                        <a:pt x="38" y="34"/>
                      </a:lnTo>
                      <a:lnTo>
                        <a:pt x="29" y="33"/>
                      </a:lnTo>
                      <a:lnTo>
                        <a:pt x="20" y="32"/>
                      </a:lnTo>
                      <a:lnTo>
                        <a:pt x="14" y="30"/>
                      </a:lnTo>
                      <a:lnTo>
                        <a:pt x="7" y="25"/>
                      </a:lnTo>
                      <a:lnTo>
                        <a:pt x="1" y="21"/>
                      </a:lnTo>
                      <a:lnTo>
                        <a:pt x="0" y="0"/>
                      </a:lnTo>
                      <a:lnTo>
                        <a:pt x="6" y="5"/>
                      </a:lnTo>
                      <a:lnTo>
                        <a:pt x="13" y="8"/>
                      </a:lnTo>
                      <a:lnTo>
                        <a:pt x="22" y="10"/>
                      </a:lnTo>
                      <a:lnTo>
                        <a:pt x="30" y="11"/>
                      </a:lnTo>
                      <a:lnTo>
                        <a:pt x="42" y="12"/>
                      </a:lnTo>
                      <a:lnTo>
                        <a:pt x="56" y="12"/>
                      </a:lnTo>
                      <a:lnTo>
                        <a:pt x="64" y="12"/>
                      </a:lnTo>
                      <a:lnTo>
                        <a:pt x="75" y="11"/>
                      </a:lnTo>
                      <a:lnTo>
                        <a:pt x="89" y="9"/>
                      </a:lnTo>
                      <a:lnTo>
                        <a:pt x="98" y="6"/>
                      </a:lnTo>
                      <a:lnTo>
                        <a:pt x="107" y="1"/>
                      </a:lnTo>
                    </a:path>
                  </a:pathLst>
                </a:custGeom>
                <a:gradFill rotWithShape="0">
                  <a:gsLst>
                    <a:gs pos="0">
                      <a:srgbClr val="919191"/>
                    </a:gs>
                    <a:gs pos="50000">
                      <a:srgbClr val="dcdcdc"/>
                    </a:gs>
                    <a:gs pos="100000">
                      <a:srgbClr val="919191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821600" y="4152960"/>
                  <a:ext cx="99720" cy="117360"/>
                </a:xfrm>
                <a:custGeom>
                  <a:avLst/>
                  <a:gdLst/>
                  <a:ahLst/>
                  <a:rect l="l" t="t" r="r" b="b"/>
                  <a:pathLst>
                    <a:path w="26" h="39">
                      <a:moveTo>
                        <a:pt x="0" y="0"/>
                      </a:moveTo>
                      <a:lnTo>
                        <a:pt x="8" y="29"/>
                      </a:lnTo>
                      <a:lnTo>
                        <a:pt x="13" y="34"/>
                      </a:lnTo>
                      <a:lnTo>
                        <a:pt x="20" y="38"/>
                      </a:lnTo>
                      <a:lnTo>
                        <a:pt x="25" y="38"/>
                      </a:lnTo>
                      <a:lnTo>
                        <a:pt x="20" y="10"/>
                      </a:lnTo>
                      <a:lnTo>
                        <a:pt x="13" y="9"/>
                      </a:lnTo>
                      <a:lnTo>
                        <a:pt x="7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27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894680" y="4188960"/>
                  <a:ext cx="76320" cy="8640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6" y="26"/>
                      </a:moveTo>
                      <a:lnTo>
                        <a:pt x="10" y="28"/>
                      </a:lnTo>
                      <a:lnTo>
                        <a:pt x="15" y="28"/>
                      </a:lnTo>
                      <a:lnTo>
                        <a:pt x="19" y="28"/>
                      </a:lnTo>
                      <a:lnTo>
                        <a:pt x="18" y="1"/>
                      </a:lnTo>
                      <a:lnTo>
                        <a:pt x="13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6" y="26"/>
                      </a:lnTo>
                    </a:path>
                  </a:pathLst>
                </a:custGeom>
                <a:solidFill>
                  <a:srgbClr val="063de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963080" y="4188960"/>
                  <a:ext cx="80640" cy="9000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1" y="28"/>
                      </a:moveTo>
                      <a:lnTo>
                        <a:pt x="10" y="29"/>
                      </a:lnTo>
                      <a:lnTo>
                        <a:pt x="20" y="29"/>
                      </a:lnTo>
                      <a:lnTo>
                        <a:pt x="19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28"/>
                      </a:lnTo>
                    </a:path>
                  </a:pathLst>
                </a:custGeom>
                <a:solidFill>
                  <a:srgbClr val="00cc9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032560" y="4188960"/>
                  <a:ext cx="72720" cy="90000"/>
                </a:xfrm>
                <a:custGeom>
                  <a:avLst/>
                  <a:gdLst/>
                  <a:ahLst/>
                  <a:rect l="l" t="t" r="r" b="b"/>
                  <a:pathLst>
                    <a:path w="19" h="30">
                      <a:moveTo>
                        <a:pt x="1" y="28"/>
                      </a:moveTo>
                      <a:lnTo>
                        <a:pt x="9" y="29"/>
                      </a:lnTo>
                      <a:lnTo>
                        <a:pt x="15" y="27"/>
                      </a:lnTo>
                      <a:lnTo>
                        <a:pt x="18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0" y="1"/>
                      </a:lnTo>
                      <a:lnTo>
                        <a:pt x="1" y="28"/>
                      </a:lnTo>
                    </a:path>
                  </a:pathLst>
                </a:custGeom>
                <a:solidFill>
                  <a:srgbClr val="a2c1f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093400" y="4179600"/>
                  <a:ext cx="72720" cy="96120"/>
                </a:xfrm>
                <a:custGeom>
                  <a:avLst/>
                  <a:gdLst/>
                  <a:ahLst/>
                  <a:rect l="l" t="t" r="r" b="b"/>
                  <a:pathLst>
                    <a:path w="19" h="32">
                      <a:moveTo>
                        <a:pt x="0" y="31"/>
                      </a:moveTo>
                      <a:lnTo>
                        <a:pt x="7" y="30"/>
                      </a:lnTo>
                      <a:lnTo>
                        <a:pt x="14" y="28"/>
                      </a:lnTo>
                      <a:lnTo>
                        <a:pt x="18" y="0"/>
                      </a:lnTo>
                      <a:lnTo>
                        <a:pt x="10" y="2"/>
                      </a:lnTo>
                      <a:lnTo>
                        <a:pt x="3" y="3"/>
                      </a:lnTo>
                      <a:lnTo>
                        <a:pt x="0" y="31"/>
                      </a:lnTo>
                    </a:path>
                  </a:pathLst>
                </a:custGeom>
                <a:solidFill>
                  <a:srgbClr val="00cc9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143800" y="4159080"/>
                  <a:ext cx="79560" cy="111240"/>
                </a:xfrm>
                <a:custGeom>
                  <a:avLst/>
                  <a:gdLst/>
                  <a:ahLst/>
                  <a:rect l="l" t="t" r="r" b="b"/>
                  <a:pathLst>
                    <a:path w="21" h="37">
                      <a:moveTo>
                        <a:pt x="0" y="36"/>
                      </a:moveTo>
                      <a:lnTo>
                        <a:pt x="8" y="31"/>
                      </a:lnTo>
                      <a:lnTo>
                        <a:pt x="13" y="27"/>
                      </a:lnTo>
                      <a:lnTo>
                        <a:pt x="20" y="0"/>
                      </a:lnTo>
                      <a:lnTo>
                        <a:pt x="11" y="5"/>
                      </a:lnTo>
                      <a:lnTo>
                        <a:pt x="5" y="7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63de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825920" y="4230720"/>
                  <a:ext cx="401760" cy="78480"/>
                </a:xfrm>
                <a:custGeom>
                  <a:avLst/>
                  <a:gdLst/>
                  <a:ahLst/>
                  <a:rect l="l" t="t" r="r" b="b"/>
                  <a:pathLst>
                    <a:path w="105" h="26">
                      <a:moveTo>
                        <a:pt x="6" y="4"/>
                      </a:moveTo>
                      <a:lnTo>
                        <a:pt x="3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4" y="17"/>
                      </a:lnTo>
                      <a:lnTo>
                        <a:pt x="10" y="21"/>
                      </a:lnTo>
                      <a:lnTo>
                        <a:pt x="17" y="23"/>
                      </a:lnTo>
                      <a:lnTo>
                        <a:pt x="37" y="25"/>
                      </a:lnTo>
                      <a:lnTo>
                        <a:pt x="57" y="25"/>
                      </a:lnTo>
                      <a:lnTo>
                        <a:pt x="75" y="25"/>
                      </a:lnTo>
                      <a:lnTo>
                        <a:pt x="83" y="23"/>
                      </a:lnTo>
                      <a:lnTo>
                        <a:pt x="90" y="21"/>
                      </a:lnTo>
                      <a:lnTo>
                        <a:pt x="95" y="17"/>
                      </a:lnTo>
                      <a:lnTo>
                        <a:pt x="101" y="13"/>
                      </a:lnTo>
                      <a:lnTo>
                        <a:pt x="104" y="6"/>
                      </a:lnTo>
                      <a:lnTo>
                        <a:pt x="101" y="2"/>
                      </a:lnTo>
                      <a:lnTo>
                        <a:pt x="97" y="0"/>
                      </a:lnTo>
                      <a:lnTo>
                        <a:pt x="93" y="6"/>
                      </a:lnTo>
                      <a:lnTo>
                        <a:pt x="89" y="9"/>
                      </a:lnTo>
                      <a:lnTo>
                        <a:pt x="84" y="12"/>
                      </a:lnTo>
                      <a:lnTo>
                        <a:pt x="76" y="13"/>
                      </a:lnTo>
                      <a:lnTo>
                        <a:pt x="69" y="14"/>
                      </a:lnTo>
                      <a:lnTo>
                        <a:pt x="62" y="15"/>
                      </a:lnTo>
                      <a:lnTo>
                        <a:pt x="55" y="15"/>
                      </a:lnTo>
                      <a:lnTo>
                        <a:pt x="46" y="15"/>
                      </a:lnTo>
                      <a:lnTo>
                        <a:pt x="36" y="14"/>
                      </a:lnTo>
                      <a:lnTo>
                        <a:pt x="30" y="14"/>
                      </a:lnTo>
                      <a:lnTo>
                        <a:pt x="24" y="13"/>
                      </a:lnTo>
                      <a:lnTo>
                        <a:pt x="16" y="11"/>
                      </a:lnTo>
                      <a:lnTo>
                        <a:pt x="11" y="8"/>
                      </a:lnTo>
                      <a:lnTo>
                        <a:pt x="6" y="4"/>
                      </a:lnTo>
                    </a:path>
                  </a:pathLst>
                </a:custGeom>
                <a:gradFill rotWithShape="0">
                  <a:gsLst>
                    <a:gs pos="0">
                      <a:srgbClr val="474747"/>
                    </a:gs>
                    <a:gs pos="50000">
                      <a:srgbClr val="ebebeb"/>
                    </a:gs>
                    <a:gs pos="100000">
                      <a:srgbClr val="474747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825920" y="4264200"/>
                  <a:ext cx="68400" cy="553680"/>
                </a:xfrm>
                <a:custGeom>
                  <a:avLst/>
                  <a:gdLst/>
                  <a:ahLst/>
                  <a:rect l="l" t="t" r="r" b="b"/>
                  <a:pathLst>
                    <a:path w="18" h="184">
                      <a:moveTo>
                        <a:pt x="17" y="183"/>
                      </a:moveTo>
                      <a:lnTo>
                        <a:pt x="17" y="12"/>
                      </a:lnTo>
                      <a:lnTo>
                        <a:pt x="11" y="11"/>
                      </a:lnTo>
                      <a:lnTo>
                        <a:pt x="7" y="8"/>
                      </a:lnTo>
                      <a:lnTo>
                        <a:pt x="3" y="5"/>
                      </a:lnTo>
                      <a:lnTo>
                        <a:pt x="0" y="0"/>
                      </a:lnTo>
                      <a:lnTo>
                        <a:pt x="0" y="166"/>
                      </a:lnTo>
                      <a:lnTo>
                        <a:pt x="17" y="183"/>
                      </a:lnTo>
                    </a:path>
                  </a:pathLst>
                </a:custGeom>
                <a:solidFill>
                  <a:srgbClr val="47474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891080" y="4303080"/>
                  <a:ext cx="79560" cy="542160"/>
                </a:xfrm>
                <a:custGeom>
                  <a:avLst/>
                  <a:gdLst/>
                  <a:ahLst/>
                  <a:rect l="l" t="t" r="r" b="b"/>
                  <a:pathLst>
                    <a:path w="21" h="180">
                      <a:moveTo>
                        <a:pt x="0" y="171"/>
                      </a:moveTo>
                      <a:lnTo>
                        <a:pt x="20" y="179"/>
                      </a:lnTo>
                      <a:lnTo>
                        <a:pt x="20" y="1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0" y="0"/>
                      </a:lnTo>
                      <a:lnTo>
                        <a:pt x="0" y="171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967400" y="4309200"/>
                  <a:ext cx="160560" cy="533160"/>
                </a:xfrm>
                <a:custGeom>
                  <a:avLst/>
                  <a:gdLst/>
                  <a:ahLst/>
                  <a:rect l="l" t="t" r="r" b="b"/>
                  <a:pathLst>
                    <a:path w="42" h="177">
                      <a:moveTo>
                        <a:pt x="0" y="176"/>
                      </a:moveTo>
                      <a:lnTo>
                        <a:pt x="41" y="176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0" y="17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124720" y="4285440"/>
                  <a:ext cx="68400" cy="557280"/>
                </a:xfrm>
                <a:custGeom>
                  <a:avLst/>
                  <a:gdLst/>
                  <a:ahLst/>
                  <a:rect l="l" t="t" r="r" b="b"/>
                  <a:pathLst>
                    <a:path w="18" h="185">
                      <a:moveTo>
                        <a:pt x="0" y="184"/>
                      </a:moveTo>
                      <a:lnTo>
                        <a:pt x="17" y="174"/>
                      </a:lnTo>
                      <a:lnTo>
                        <a:pt x="17" y="0"/>
                      </a:lnTo>
                      <a:lnTo>
                        <a:pt x="12" y="3"/>
                      </a:lnTo>
                      <a:lnTo>
                        <a:pt x="7" y="5"/>
                      </a:lnTo>
                      <a:lnTo>
                        <a:pt x="0" y="7"/>
                      </a:lnTo>
                      <a:lnTo>
                        <a:pt x="0" y="184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189880" y="4245840"/>
                  <a:ext cx="38160" cy="565920"/>
                </a:xfrm>
                <a:custGeom>
                  <a:avLst/>
                  <a:gdLst/>
                  <a:ahLst/>
                  <a:rect l="l" t="t" r="r" b="b"/>
                  <a:pathLst>
                    <a:path w="10" h="188">
                      <a:moveTo>
                        <a:pt x="0" y="187"/>
                      </a:moveTo>
                      <a:lnTo>
                        <a:pt x="9" y="171"/>
                      </a:lnTo>
                      <a:lnTo>
                        <a:pt x="9" y="0"/>
                      </a:lnTo>
                      <a:lnTo>
                        <a:pt x="7" y="7"/>
                      </a:lnTo>
                      <a:lnTo>
                        <a:pt x="4" y="10"/>
                      </a:lnTo>
                      <a:lnTo>
                        <a:pt x="0" y="13"/>
                      </a:lnTo>
                      <a:lnTo>
                        <a:pt x="0" y="187"/>
                      </a:lnTo>
                    </a:path>
                  </a:pathLst>
                </a:custGeom>
                <a:solidFill>
                  <a:srgbClr val="47474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2055240" y="3962880"/>
                  <a:ext cx="0" cy="10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166480" y="3797280"/>
                  <a:ext cx="23400" cy="274320"/>
                </a:xfrm>
                <a:custGeom>
                  <a:avLst/>
                  <a:gdLst/>
                  <a:ahLst/>
                  <a:rect l="l" t="t" r="r" b="b"/>
                  <a:pathLst>
                    <a:path w="6" h="91">
                      <a:moveTo>
                        <a:pt x="0" y="90"/>
                      </a:moveTo>
                      <a:lnTo>
                        <a:pt x="0" y="51"/>
                      </a:lnTo>
                      <a:lnTo>
                        <a:pt x="5" y="51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143800" y="3851640"/>
                  <a:ext cx="26640" cy="102240"/>
                </a:xfrm>
                <a:custGeom>
                  <a:avLst/>
                  <a:gdLst/>
                  <a:ahLst/>
                  <a:rect l="l" t="t" r="r" b="b"/>
                  <a:pathLst>
                    <a:path w="7" h="34">
                      <a:moveTo>
                        <a:pt x="6" y="33"/>
                      </a:moveTo>
                      <a:lnTo>
                        <a:pt x="0" y="2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1281240" y="4909320"/>
                <a:ext cx="2488320" cy="500040"/>
              </a:xfrm>
              <a:custGeom>
                <a:avLst/>
                <a:gdLst/>
                <a:ahLst/>
                <a:rect l="l" t="t" r="r" b="b"/>
                <a:pathLst>
                  <a:path w="649" h="166">
                    <a:moveTo>
                      <a:pt x="85" y="113"/>
                    </a:moveTo>
                    <a:lnTo>
                      <a:pt x="207" y="99"/>
                    </a:lnTo>
                    <a:lnTo>
                      <a:pt x="0" y="8"/>
                    </a:lnTo>
                    <a:lnTo>
                      <a:pt x="54" y="0"/>
                    </a:lnTo>
                    <a:lnTo>
                      <a:pt x="268" y="91"/>
                    </a:lnTo>
                    <a:lnTo>
                      <a:pt x="598" y="49"/>
                    </a:lnTo>
                    <a:lnTo>
                      <a:pt x="648" y="66"/>
                    </a:lnTo>
                    <a:lnTo>
                      <a:pt x="315" y="113"/>
                    </a:lnTo>
                    <a:lnTo>
                      <a:pt x="404" y="151"/>
                    </a:lnTo>
                    <a:lnTo>
                      <a:pt x="352" y="165"/>
                    </a:lnTo>
                    <a:lnTo>
                      <a:pt x="255" y="123"/>
                    </a:lnTo>
                    <a:lnTo>
                      <a:pt x="141" y="137"/>
                    </a:lnTo>
                    <a:lnTo>
                      <a:pt x="85" y="11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1473120" y="4562280"/>
                <a:ext cx="2479320" cy="556920"/>
                <a:chOff x="1473120" y="4562280"/>
                <a:chExt cx="2479320" cy="556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473120" y="4562280"/>
                  <a:ext cx="2476080" cy="442800"/>
                </a:xfrm>
                <a:custGeom>
                  <a:avLst/>
                  <a:gdLst/>
                  <a:ahLst/>
                  <a:rect l="l" t="t" r="r" b="b"/>
                  <a:pathLst>
                    <a:path w="646" h="147">
                      <a:moveTo>
                        <a:pt x="226" y="146"/>
                      </a:moveTo>
                      <a:lnTo>
                        <a:pt x="0" y="44"/>
                      </a:lnTo>
                      <a:lnTo>
                        <a:pt x="45" y="38"/>
                      </a:lnTo>
                      <a:lnTo>
                        <a:pt x="147" y="78"/>
                      </a:lnTo>
                      <a:lnTo>
                        <a:pt x="277" y="59"/>
                      </a:lnTo>
                      <a:lnTo>
                        <a:pt x="169" y="25"/>
                      </a:lnTo>
                      <a:lnTo>
                        <a:pt x="215" y="17"/>
                      </a:lnTo>
                      <a:lnTo>
                        <a:pt x="328" y="52"/>
                      </a:lnTo>
                      <a:lnTo>
                        <a:pt x="436" y="36"/>
                      </a:lnTo>
                      <a:lnTo>
                        <a:pt x="322" y="6"/>
                      </a:lnTo>
                      <a:lnTo>
                        <a:pt x="376" y="0"/>
                      </a:lnTo>
                      <a:lnTo>
                        <a:pt x="645" y="69"/>
                      </a:lnTo>
                      <a:lnTo>
                        <a:pt x="593" y="78"/>
                      </a:lnTo>
                      <a:lnTo>
                        <a:pt x="483" y="48"/>
                      </a:lnTo>
                      <a:lnTo>
                        <a:pt x="366" y="65"/>
                      </a:lnTo>
                      <a:lnTo>
                        <a:pt x="476" y="98"/>
                      </a:lnTo>
                      <a:lnTo>
                        <a:pt x="420" y="109"/>
                      </a:lnTo>
                      <a:lnTo>
                        <a:pt x="312" y="71"/>
                      </a:lnTo>
                      <a:lnTo>
                        <a:pt x="174" y="92"/>
                      </a:lnTo>
                      <a:lnTo>
                        <a:pt x="276" y="137"/>
                      </a:lnTo>
                      <a:lnTo>
                        <a:pt x="226" y="1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339640" y="4971600"/>
                  <a:ext cx="202320" cy="126000"/>
                </a:xfrm>
                <a:custGeom>
                  <a:avLst/>
                  <a:gdLst/>
                  <a:ahLst/>
                  <a:rect l="l" t="t" r="r" b="b"/>
                  <a:pathLst>
                    <a:path w="53" h="42">
                      <a:moveTo>
                        <a:pt x="51" y="0"/>
                      </a:moveTo>
                      <a:lnTo>
                        <a:pt x="52" y="32"/>
                      </a:lnTo>
                      <a:lnTo>
                        <a:pt x="1" y="41"/>
                      </a:lnTo>
                      <a:lnTo>
                        <a:pt x="0" y="9"/>
                      </a:lnTo>
                      <a:lnTo>
                        <a:pt x="51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473120" y="4694400"/>
                  <a:ext cx="873360" cy="403200"/>
                </a:xfrm>
                <a:custGeom>
                  <a:avLst/>
                  <a:gdLst/>
                  <a:ahLst/>
                  <a:rect l="l" t="t" r="r" b="b"/>
                  <a:pathLst>
                    <a:path w="228" h="134">
                      <a:moveTo>
                        <a:pt x="226" y="102"/>
                      </a:moveTo>
                      <a:lnTo>
                        <a:pt x="227" y="133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226" y="102"/>
                      </a:lnTo>
                    </a:path>
                  </a:pathLst>
                </a:custGeom>
                <a:solidFill>
                  <a:srgbClr val="47474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39480" y="4776480"/>
                  <a:ext cx="543960" cy="126000"/>
                </a:xfrm>
                <a:custGeom>
                  <a:avLst/>
                  <a:gdLst/>
                  <a:ahLst/>
                  <a:rect l="l" t="t" r="r" b="b"/>
                  <a:pathLst>
                    <a:path w="142" h="42">
                      <a:moveTo>
                        <a:pt x="46" y="41"/>
                      </a:moveTo>
                      <a:lnTo>
                        <a:pt x="141" y="27"/>
                      </a:lnTo>
                      <a:lnTo>
                        <a:pt x="140" y="0"/>
                      </a:lnTo>
                      <a:lnTo>
                        <a:pt x="0" y="21"/>
                      </a:lnTo>
                      <a:lnTo>
                        <a:pt x="46" y="41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676960" y="4779000"/>
                  <a:ext cx="413640" cy="210600"/>
                </a:xfrm>
                <a:custGeom>
                  <a:avLst/>
                  <a:gdLst/>
                  <a:ahLst/>
                  <a:rect l="l" t="t" r="r" b="b"/>
                  <a:pathLst>
                    <a:path w="108" h="70">
                      <a:moveTo>
                        <a:pt x="0" y="0"/>
                      </a:moveTo>
                      <a:lnTo>
                        <a:pt x="106" y="37"/>
                      </a:lnTo>
                      <a:lnTo>
                        <a:pt x="107" y="69"/>
                      </a:lnTo>
                      <a:lnTo>
                        <a:pt x="1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120400" y="4637880"/>
                  <a:ext cx="421560" cy="122760"/>
                </a:xfrm>
                <a:custGeom>
                  <a:avLst/>
                  <a:gdLst/>
                  <a:ahLst/>
                  <a:rect l="l" t="t" r="r" b="b"/>
                  <a:pathLst>
                    <a:path w="110" h="41">
                      <a:moveTo>
                        <a:pt x="0" y="0"/>
                      </a:moveTo>
                      <a:lnTo>
                        <a:pt x="1" y="19"/>
                      </a:lnTo>
                      <a:lnTo>
                        <a:pt x="65" y="40"/>
                      </a:lnTo>
                      <a:lnTo>
                        <a:pt x="109" y="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707200" y="4580640"/>
                  <a:ext cx="440640" cy="119880"/>
                </a:xfrm>
                <a:custGeom>
                  <a:avLst/>
                  <a:gdLst/>
                  <a:ahLst/>
                  <a:rect l="l" t="t" r="r" b="b"/>
                  <a:pathLst>
                    <a:path w="115" h="40">
                      <a:moveTo>
                        <a:pt x="0" y="0"/>
                      </a:moveTo>
                      <a:lnTo>
                        <a:pt x="1" y="23"/>
                      </a:lnTo>
                      <a:lnTo>
                        <a:pt x="53" y="39"/>
                      </a:lnTo>
                      <a:lnTo>
                        <a:pt x="114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79280" y="4706640"/>
                  <a:ext cx="452520" cy="108360"/>
                </a:xfrm>
                <a:custGeom>
                  <a:avLst/>
                  <a:gdLst/>
                  <a:ahLst/>
                  <a:rect l="l" t="t" r="r" b="b"/>
                  <a:pathLst>
                    <a:path w="118" h="36">
                      <a:moveTo>
                        <a:pt x="116" y="0"/>
                      </a:moveTo>
                      <a:lnTo>
                        <a:pt x="117" y="26"/>
                      </a:lnTo>
                      <a:lnTo>
                        <a:pt x="60" y="35"/>
                      </a:lnTo>
                      <a:lnTo>
                        <a:pt x="0" y="17"/>
                      </a:lnTo>
                      <a:lnTo>
                        <a:pt x="116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324240" y="4706640"/>
                  <a:ext cx="429120" cy="171000"/>
                </a:xfrm>
                <a:custGeom>
                  <a:avLst/>
                  <a:gdLst/>
                  <a:ahLst/>
                  <a:rect l="l" t="t" r="r" b="b"/>
                  <a:pathLst>
                    <a:path w="112" h="57">
                      <a:moveTo>
                        <a:pt x="110" y="30"/>
                      </a:moveTo>
                      <a:lnTo>
                        <a:pt x="111" y="56"/>
                      </a:lnTo>
                      <a:lnTo>
                        <a:pt x="1" y="26"/>
                      </a:lnTo>
                      <a:lnTo>
                        <a:pt x="0" y="0"/>
                      </a:lnTo>
                      <a:lnTo>
                        <a:pt x="110" y="30"/>
                      </a:lnTo>
                    </a:path>
                  </a:pathLst>
                </a:custGeom>
                <a:solidFill>
                  <a:srgbClr val="474747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086280" y="4857480"/>
                  <a:ext cx="218880" cy="128880"/>
                </a:xfrm>
                <a:custGeom>
                  <a:avLst/>
                  <a:gdLst/>
                  <a:ahLst/>
                  <a:rect l="l" t="t" r="r" b="b"/>
                  <a:pathLst>
                    <a:path w="57" h="43">
                      <a:moveTo>
                        <a:pt x="1" y="42"/>
                      </a:moveTo>
                      <a:lnTo>
                        <a:pt x="0" y="11"/>
                      </a:lnTo>
                      <a:lnTo>
                        <a:pt x="55" y="0"/>
                      </a:lnTo>
                      <a:lnTo>
                        <a:pt x="56" y="30"/>
                      </a:lnTo>
                      <a:lnTo>
                        <a:pt x="1" y="42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745800" y="4770360"/>
                  <a:ext cx="206640" cy="107640"/>
                </a:xfrm>
                <a:custGeom>
                  <a:avLst/>
                  <a:gdLst/>
                  <a:ahLst/>
                  <a:rect l="l" t="t" r="r" b="b"/>
                  <a:pathLst>
                    <a:path w="54" h="36">
                      <a:moveTo>
                        <a:pt x="1" y="35"/>
                      </a:moveTo>
                      <a:lnTo>
                        <a:pt x="0" y="9"/>
                      </a:lnTo>
                      <a:lnTo>
                        <a:pt x="52" y="0"/>
                      </a:lnTo>
                      <a:lnTo>
                        <a:pt x="53" y="25"/>
                      </a:lnTo>
                      <a:lnTo>
                        <a:pt x="1" y="35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320560" y="5071320"/>
                  <a:ext cx="202320" cy="47520"/>
                </a:xfrm>
                <a:custGeom>
                  <a:avLst/>
                  <a:gdLst/>
                  <a:ahLst/>
                  <a:rect l="l" t="t" r="r" b="b"/>
                  <a:pathLst>
                    <a:path w="53" h="16">
                      <a:moveTo>
                        <a:pt x="52" y="0"/>
                      </a:moveTo>
                      <a:lnTo>
                        <a:pt x="49" y="7"/>
                      </a:lnTo>
                      <a:lnTo>
                        <a:pt x="1" y="15"/>
                      </a:lnTo>
                      <a:lnTo>
                        <a:pt x="0" y="6"/>
                      </a:lnTo>
                      <a:lnTo>
                        <a:pt x="6" y="8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495440" y="4791600"/>
                  <a:ext cx="835920" cy="327600"/>
                </a:xfrm>
                <a:custGeom>
                  <a:avLst/>
                  <a:gdLst/>
                  <a:ahLst/>
                  <a:rect l="l" t="t" r="r" b="b"/>
                  <a:pathLst>
                    <a:path w="218" h="109">
                      <a:moveTo>
                        <a:pt x="217" y="108"/>
                      </a:moveTo>
                      <a:lnTo>
                        <a:pt x="215" y="98"/>
                      </a:lnTo>
                      <a:lnTo>
                        <a:pt x="0" y="0"/>
                      </a:lnTo>
                      <a:lnTo>
                        <a:pt x="2" y="8"/>
                      </a:lnTo>
                      <a:lnTo>
                        <a:pt x="217" y="10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063600" y="4950360"/>
                  <a:ext cx="222480" cy="51120"/>
                </a:xfrm>
                <a:custGeom>
                  <a:avLst/>
                  <a:gdLst/>
                  <a:ahLst/>
                  <a:rect l="l" t="t" r="r" b="b"/>
                  <a:pathLst>
                    <a:path w="58" h="17">
                      <a:moveTo>
                        <a:pt x="57" y="0"/>
                      </a:moveTo>
                      <a:lnTo>
                        <a:pt x="53" y="4"/>
                      </a:lnTo>
                      <a:lnTo>
                        <a:pt x="0" y="16"/>
                      </a:lnTo>
                      <a:lnTo>
                        <a:pt x="0" y="9"/>
                      </a:lnTo>
                      <a:lnTo>
                        <a:pt x="6" y="11"/>
                      </a:lnTo>
                      <a:lnTo>
                        <a:pt x="57" y="0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691720" y="4863240"/>
                  <a:ext cx="379800" cy="138240"/>
                </a:xfrm>
                <a:custGeom>
                  <a:avLst/>
                  <a:gdLst/>
                  <a:ahLst/>
                  <a:rect l="l" t="t" r="r" b="b"/>
                  <a:pathLst>
                    <a:path w="99" h="46">
                      <a:moveTo>
                        <a:pt x="98" y="38"/>
                      </a:moveTo>
                      <a:lnTo>
                        <a:pt x="98" y="45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98" y="3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312640" y="4857480"/>
                  <a:ext cx="383040" cy="68760"/>
                </a:xfrm>
                <a:custGeom>
                  <a:avLst/>
                  <a:gdLst/>
                  <a:ahLst/>
                  <a:rect l="l" t="t" r="r" b="b"/>
                  <a:pathLst>
                    <a:path w="100" h="23">
                      <a:moveTo>
                        <a:pt x="99" y="9"/>
                      </a:moveTo>
                      <a:lnTo>
                        <a:pt x="99" y="2"/>
                      </a:lnTo>
                      <a:lnTo>
                        <a:pt x="96" y="0"/>
                      </a:lnTo>
                      <a:lnTo>
                        <a:pt x="0" y="15"/>
                      </a:lnTo>
                      <a:lnTo>
                        <a:pt x="16" y="22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730320" y="4851360"/>
                  <a:ext cx="199800" cy="45000"/>
                </a:xfrm>
                <a:custGeom>
                  <a:avLst/>
                  <a:gdLst/>
                  <a:ahLst/>
                  <a:rect l="l" t="t" r="r" b="b"/>
                  <a:pathLst>
                    <a:path w="52" h="15">
                      <a:moveTo>
                        <a:pt x="51" y="0"/>
                      </a:moveTo>
                      <a:lnTo>
                        <a:pt x="48" y="6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4" y="8"/>
                      </a:lnTo>
                      <a:lnTo>
                        <a:pt x="51" y="0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346920" y="4788000"/>
                  <a:ext cx="390960" cy="108360"/>
                </a:xfrm>
                <a:custGeom>
                  <a:avLst/>
                  <a:gdLst/>
                  <a:ahLst/>
                  <a:rect l="l" t="t" r="r" b="b"/>
                  <a:pathLst>
                    <a:path w="102" h="36">
                      <a:moveTo>
                        <a:pt x="101" y="28"/>
                      </a:moveTo>
                      <a:lnTo>
                        <a:pt x="101" y="35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101" y="2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109680" y="4781880"/>
                  <a:ext cx="241560" cy="54360"/>
                </a:xfrm>
                <a:custGeom>
                  <a:avLst/>
                  <a:gdLst/>
                  <a:ahLst/>
                  <a:rect l="l" t="t" r="r" b="b"/>
                  <a:pathLst>
                    <a:path w="63" h="18">
                      <a:moveTo>
                        <a:pt x="62" y="9"/>
                      </a:moveTo>
                      <a:lnTo>
                        <a:pt x="62" y="2"/>
                      </a:lnTo>
                      <a:lnTo>
                        <a:pt x="56" y="0"/>
                      </a:lnTo>
                      <a:lnTo>
                        <a:pt x="0" y="10"/>
                      </a:lnTo>
                      <a:lnTo>
                        <a:pt x="21" y="17"/>
                      </a:lnTo>
                      <a:lnTo>
                        <a:pt x="62" y="9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147400" y="4700520"/>
                  <a:ext cx="225720" cy="72000"/>
                </a:xfrm>
                <a:custGeom>
                  <a:avLst/>
                  <a:gdLst/>
                  <a:ahLst/>
                  <a:rect l="l" t="t" r="r" b="b"/>
                  <a:pathLst>
                    <a:path w="59" h="24">
                      <a:moveTo>
                        <a:pt x="0" y="0"/>
                      </a:moveTo>
                      <a:lnTo>
                        <a:pt x="3" y="10"/>
                      </a:lnTo>
                      <a:lnTo>
                        <a:pt x="36" y="23"/>
                      </a:lnTo>
                      <a:lnTo>
                        <a:pt x="58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734200" y="4655520"/>
                  <a:ext cx="187560" cy="53640"/>
                </a:xfrm>
                <a:custGeom>
                  <a:avLst/>
                  <a:gdLst/>
                  <a:ahLst/>
                  <a:rect l="l" t="t" r="r" b="b"/>
                  <a:pathLst>
                    <a:path w="49" h="18">
                      <a:moveTo>
                        <a:pt x="0" y="0"/>
                      </a:moveTo>
                      <a:lnTo>
                        <a:pt x="2" y="9"/>
                      </a:lnTo>
                      <a:lnTo>
                        <a:pt x="29" y="17"/>
                      </a:lnTo>
                      <a:lnTo>
                        <a:pt x="48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>
              <a:off x="2709720" y="3733920"/>
              <a:ext cx="1177920" cy="45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5" name=""/>
            <p:cNvGrpSpPr/>
            <p:nvPr/>
          </p:nvGrpSpPr>
          <p:grpSpPr>
            <a:xfrm>
              <a:off x="2630520" y="946080"/>
              <a:ext cx="1328400" cy="910440"/>
              <a:chOff x="2630520" y="946080"/>
              <a:chExt cx="1328400" cy="910440"/>
            </a:xfrm>
          </p:grpSpPr>
          <p:sp>
            <p:nvSpPr>
              <p:cNvPr id="266" name=""/>
              <p:cNvSpPr/>
              <p:nvPr/>
            </p:nvSpPr>
            <p:spPr>
              <a:xfrm>
                <a:off x="3061800" y="1042200"/>
                <a:ext cx="515520" cy="131400"/>
              </a:xfrm>
              <a:custGeom>
                <a:avLst/>
                <a:gdLst/>
                <a:ahLst/>
                <a:rect l="l" t="t" r="r" b="b"/>
                <a:pathLst>
                  <a:path w="120" h="43">
                    <a:moveTo>
                      <a:pt x="22" y="43"/>
                    </a:moveTo>
                    <a:lnTo>
                      <a:pt x="69" y="43"/>
                    </a:lnTo>
                    <a:lnTo>
                      <a:pt x="91" y="16"/>
                    </a:lnTo>
                    <a:lnTo>
                      <a:pt x="106" y="16"/>
                    </a:lnTo>
                    <a:lnTo>
                      <a:pt x="120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8" y="3"/>
                    </a:lnTo>
                    <a:lnTo>
                      <a:pt x="46" y="17"/>
                    </a:lnTo>
                    <a:lnTo>
                      <a:pt x="46" y="19"/>
                    </a:lnTo>
                    <a:lnTo>
                      <a:pt x="45" y="19"/>
                    </a:lnTo>
                    <a:lnTo>
                      <a:pt x="0" y="19"/>
                    </a:lnTo>
                    <a:lnTo>
                      <a:pt x="10" y="28"/>
                    </a:lnTo>
                    <a:lnTo>
                      <a:pt x="45" y="28"/>
                    </a:lnTo>
                    <a:lnTo>
                      <a:pt x="46" y="28"/>
                    </a:lnTo>
                    <a:lnTo>
                      <a:pt x="46" y="29"/>
                    </a:lnTo>
                    <a:lnTo>
                      <a:pt x="59" y="16"/>
                    </a:lnTo>
                    <a:lnTo>
                      <a:pt x="75" y="16"/>
                    </a:lnTo>
                    <a:lnTo>
                      <a:pt x="58" y="36"/>
                    </a:lnTo>
                    <a:lnTo>
                      <a:pt x="18" y="36"/>
                    </a:lnTo>
                    <a:lnTo>
                      <a:pt x="22" y="43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20600" y="946080"/>
                <a:ext cx="514440" cy="134280"/>
              </a:xfrm>
              <a:custGeom>
                <a:avLst/>
                <a:gdLst/>
                <a:ahLst/>
                <a:rect l="l" t="t" r="r" b="b"/>
                <a:pathLst>
                  <a:path w="120" h="45">
                    <a:moveTo>
                      <a:pt x="97" y="0"/>
                    </a:moveTo>
                    <a:lnTo>
                      <a:pt x="49" y="0"/>
                    </a:lnTo>
                    <a:lnTo>
                      <a:pt x="28" y="27"/>
                    </a:lnTo>
                    <a:lnTo>
                      <a:pt x="12" y="27"/>
                    </a:lnTo>
                    <a:lnTo>
                      <a:pt x="0" y="45"/>
                    </a:lnTo>
                    <a:lnTo>
                      <a:pt x="52" y="45"/>
                    </a:lnTo>
                    <a:lnTo>
                      <a:pt x="57" y="43"/>
                    </a:lnTo>
                    <a:lnTo>
                      <a:pt x="60" y="39"/>
                    </a:lnTo>
                    <a:lnTo>
                      <a:pt x="73" y="26"/>
                    </a:lnTo>
                    <a:lnTo>
                      <a:pt x="73" y="24"/>
                    </a:lnTo>
                    <a:lnTo>
                      <a:pt x="75" y="24"/>
                    </a:lnTo>
                    <a:lnTo>
                      <a:pt x="120" y="24"/>
                    </a:lnTo>
                    <a:lnTo>
                      <a:pt x="110" y="15"/>
                    </a:lnTo>
                    <a:lnTo>
                      <a:pt x="75" y="15"/>
                    </a:lnTo>
                    <a:lnTo>
                      <a:pt x="73" y="15"/>
                    </a:lnTo>
                    <a:lnTo>
                      <a:pt x="73" y="13"/>
                    </a:lnTo>
                    <a:lnTo>
                      <a:pt x="59" y="27"/>
                    </a:lnTo>
                    <a:lnTo>
                      <a:pt x="43" y="27"/>
                    </a:lnTo>
                    <a:lnTo>
                      <a:pt x="60" y="7"/>
                    </a:lnTo>
                    <a:lnTo>
                      <a:pt x="102" y="7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81d5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99120" y="1363320"/>
                <a:ext cx="503640" cy="242280"/>
              </a:xfrm>
              <a:custGeom>
                <a:avLst/>
                <a:gdLst/>
                <a:ahLst/>
                <a:rect l="l" t="t" r="r" b="b"/>
                <a:pathLst>
                  <a:path w="117" h="80">
                    <a:moveTo>
                      <a:pt x="117" y="80"/>
                    </a:moveTo>
                    <a:lnTo>
                      <a:pt x="102" y="74"/>
                    </a:lnTo>
                    <a:lnTo>
                      <a:pt x="93" y="52"/>
                    </a:lnTo>
                    <a:lnTo>
                      <a:pt x="96" y="35"/>
                    </a:lnTo>
                    <a:lnTo>
                      <a:pt x="93" y="19"/>
                    </a:lnTo>
                    <a:lnTo>
                      <a:pt x="77" y="7"/>
                    </a:lnTo>
                    <a:lnTo>
                      <a:pt x="46" y="2"/>
                    </a:lnTo>
                    <a:lnTo>
                      <a:pt x="3" y="0"/>
                    </a:lnTo>
                    <a:lnTo>
                      <a:pt x="3" y="12"/>
                    </a:lnTo>
                    <a:lnTo>
                      <a:pt x="1" y="29"/>
                    </a:lnTo>
                    <a:lnTo>
                      <a:pt x="0" y="43"/>
                    </a:lnTo>
                    <a:lnTo>
                      <a:pt x="1" y="76"/>
                    </a:lnTo>
                    <a:lnTo>
                      <a:pt x="5" y="78"/>
                    </a:lnTo>
                    <a:lnTo>
                      <a:pt x="14" y="76"/>
                    </a:lnTo>
                    <a:lnTo>
                      <a:pt x="112" y="7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2639880" y="1312560"/>
                <a:ext cx="1147320" cy="124920"/>
                <a:chOff x="2639880" y="1312560"/>
                <a:chExt cx="1147320" cy="1249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639880" y="1312560"/>
                  <a:ext cx="1147320" cy="124920"/>
                </a:xfrm>
                <a:custGeom>
                  <a:avLst/>
                  <a:gdLst/>
                  <a:ahLst/>
                  <a:rect l="l" t="t" r="r" b="b"/>
                  <a:pathLst>
                    <a:path w="267" h="41">
                      <a:moveTo>
                        <a:pt x="0" y="34"/>
                      </a:moveTo>
                      <a:lnTo>
                        <a:pt x="14" y="29"/>
                      </a:lnTo>
                      <a:lnTo>
                        <a:pt x="37" y="24"/>
                      </a:lnTo>
                      <a:lnTo>
                        <a:pt x="139" y="1"/>
                      </a:lnTo>
                      <a:lnTo>
                        <a:pt x="144" y="1"/>
                      </a:lnTo>
                      <a:lnTo>
                        <a:pt x="152" y="0"/>
                      </a:lnTo>
                      <a:lnTo>
                        <a:pt x="178" y="0"/>
                      </a:lnTo>
                      <a:lnTo>
                        <a:pt x="203" y="1"/>
                      </a:lnTo>
                      <a:lnTo>
                        <a:pt x="227" y="3"/>
                      </a:lnTo>
                      <a:lnTo>
                        <a:pt x="253" y="7"/>
                      </a:lnTo>
                      <a:lnTo>
                        <a:pt x="258" y="7"/>
                      </a:lnTo>
                      <a:lnTo>
                        <a:pt x="261" y="8"/>
                      </a:lnTo>
                      <a:lnTo>
                        <a:pt x="267" y="14"/>
                      </a:lnTo>
                      <a:lnTo>
                        <a:pt x="250" y="12"/>
                      </a:lnTo>
                      <a:lnTo>
                        <a:pt x="221" y="8"/>
                      </a:lnTo>
                      <a:lnTo>
                        <a:pt x="194" y="8"/>
                      </a:lnTo>
                      <a:lnTo>
                        <a:pt x="166" y="7"/>
                      </a:lnTo>
                      <a:lnTo>
                        <a:pt x="154" y="8"/>
                      </a:lnTo>
                      <a:lnTo>
                        <a:pt x="141" y="10"/>
                      </a:lnTo>
                      <a:lnTo>
                        <a:pt x="99" y="19"/>
                      </a:lnTo>
                      <a:lnTo>
                        <a:pt x="48" y="31"/>
                      </a:lnTo>
                      <a:lnTo>
                        <a:pt x="0" y="4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639880" y="1312560"/>
                  <a:ext cx="1147320" cy="124920"/>
                </a:xfrm>
                <a:custGeom>
                  <a:avLst/>
                  <a:gdLst/>
                  <a:ahLst/>
                  <a:rect l="l" t="t" r="r" b="b"/>
                  <a:pathLst>
                    <a:path w="267" h="41">
                      <a:moveTo>
                        <a:pt x="0" y="34"/>
                      </a:moveTo>
                      <a:lnTo>
                        <a:pt x="14" y="29"/>
                      </a:lnTo>
                      <a:lnTo>
                        <a:pt x="37" y="24"/>
                      </a:lnTo>
                      <a:lnTo>
                        <a:pt x="139" y="1"/>
                      </a:lnTo>
                      <a:lnTo>
                        <a:pt x="144" y="1"/>
                      </a:lnTo>
                      <a:lnTo>
                        <a:pt x="152" y="0"/>
                      </a:lnTo>
                      <a:lnTo>
                        <a:pt x="178" y="0"/>
                      </a:lnTo>
                      <a:lnTo>
                        <a:pt x="203" y="1"/>
                      </a:lnTo>
                      <a:lnTo>
                        <a:pt x="227" y="3"/>
                      </a:lnTo>
                      <a:lnTo>
                        <a:pt x="253" y="7"/>
                      </a:lnTo>
                      <a:lnTo>
                        <a:pt x="258" y="7"/>
                      </a:lnTo>
                      <a:lnTo>
                        <a:pt x="261" y="8"/>
                      </a:lnTo>
                      <a:lnTo>
                        <a:pt x="267" y="14"/>
                      </a:lnTo>
                      <a:lnTo>
                        <a:pt x="250" y="12"/>
                      </a:lnTo>
                      <a:lnTo>
                        <a:pt x="221" y="8"/>
                      </a:lnTo>
                      <a:lnTo>
                        <a:pt x="194" y="8"/>
                      </a:lnTo>
                      <a:lnTo>
                        <a:pt x="166" y="7"/>
                      </a:lnTo>
                      <a:lnTo>
                        <a:pt x="154" y="8"/>
                      </a:lnTo>
                      <a:lnTo>
                        <a:pt x="141" y="10"/>
                      </a:lnTo>
                      <a:lnTo>
                        <a:pt x="99" y="19"/>
                      </a:lnTo>
                      <a:lnTo>
                        <a:pt x="48" y="31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3371400" y="1359000"/>
                <a:ext cx="551520" cy="246600"/>
              </a:xfrm>
              <a:custGeom>
                <a:avLst/>
                <a:gdLst/>
                <a:ahLst/>
                <a:rect l="l" t="t" r="r" b="b"/>
                <a:pathLst>
                  <a:path w="129" h="82">
                    <a:moveTo>
                      <a:pt x="3" y="0"/>
                    </a:moveTo>
                    <a:lnTo>
                      <a:pt x="0" y="21"/>
                    </a:lnTo>
                    <a:lnTo>
                      <a:pt x="0" y="38"/>
                    </a:lnTo>
                    <a:lnTo>
                      <a:pt x="0" y="64"/>
                    </a:lnTo>
                    <a:lnTo>
                      <a:pt x="0" y="78"/>
                    </a:lnTo>
                    <a:lnTo>
                      <a:pt x="1" y="80"/>
                    </a:lnTo>
                    <a:lnTo>
                      <a:pt x="16" y="80"/>
                    </a:lnTo>
                    <a:lnTo>
                      <a:pt x="75" y="80"/>
                    </a:lnTo>
                    <a:lnTo>
                      <a:pt x="124" y="82"/>
                    </a:lnTo>
                    <a:lnTo>
                      <a:pt x="128" y="82"/>
                    </a:lnTo>
                    <a:lnTo>
                      <a:pt x="129" y="80"/>
                    </a:lnTo>
                    <a:lnTo>
                      <a:pt x="124" y="40"/>
                    </a:lnTo>
                    <a:lnTo>
                      <a:pt x="120" y="12"/>
                    </a:lnTo>
                    <a:lnTo>
                      <a:pt x="118" y="9"/>
                    </a:lnTo>
                    <a:lnTo>
                      <a:pt x="115" y="7"/>
                    </a:lnTo>
                    <a:lnTo>
                      <a:pt x="100" y="5"/>
                    </a:lnTo>
                    <a:lnTo>
                      <a:pt x="81" y="4"/>
                    </a:lnTo>
                    <a:lnTo>
                      <a:pt x="43" y="2"/>
                    </a:lnTo>
                    <a:lnTo>
                      <a:pt x="14" y="0"/>
                    </a:lnTo>
                    <a:lnTo>
                      <a:pt x="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639880" y="1359000"/>
                <a:ext cx="1319040" cy="364680"/>
              </a:xfrm>
              <a:custGeom>
                <a:avLst/>
                <a:gdLst/>
                <a:ahLst/>
                <a:rect l="l" t="t" r="r" b="b"/>
                <a:pathLst>
                  <a:path w="307" h="121">
                    <a:moveTo>
                      <a:pt x="267" y="0"/>
                    </a:moveTo>
                    <a:lnTo>
                      <a:pt x="291" y="5"/>
                    </a:lnTo>
                    <a:lnTo>
                      <a:pt x="294" y="9"/>
                    </a:lnTo>
                    <a:lnTo>
                      <a:pt x="301" y="47"/>
                    </a:lnTo>
                    <a:lnTo>
                      <a:pt x="307" y="94"/>
                    </a:lnTo>
                    <a:lnTo>
                      <a:pt x="307" y="113"/>
                    </a:lnTo>
                    <a:lnTo>
                      <a:pt x="306" y="120"/>
                    </a:lnTo>
                    <a:lnTo>
                      <a:pt x="253" y="118"/>
                    </a:lnTo>
                    <a:lnTo>
                      <a:pt x="206" y="120"/>
                    </a:lnTo>
                    <a:lnTo>
                      <a:pt x="160" y="121"/>
                    </a:lnTo>
                    <a:lnTo>
                      <a:pt x="130" y="121"/>
                    </a:lnTo>
                    <a:lnTo>
                      <a:pt x="88" y="120"/>
                    </a:lnTo>
                    <a:lnTo>
                      <a:pt x="45" y="118"/>
                    </a:lnTo>
                    <a:lnTo>
                      <a:pt x="0" y="116"/>
                    </a:lnTo>
                    <a:lnTo>
                      <a:pt x="1" y="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071160" y="1392480"/>
                <a:ext cx="203400" cy="424800"/>
              </a:xfrm>
              <a:custGeom>
                <a:avLst/>
                <a:gdLst/>
                <a:ahLst/>
                <a:rect l="l" t="t" r="r" b="b"/>
                <a:pathLst>
                  <a:path w="48" h="141">
                    <a:moveTo>
                      <a:pt x="10" y="7"/>
                    </a:moveTo>
                    <a:lnTo>
                      <a:pt x="5" y="43"/>
                    </a:lnTo>
                    <a:lnTo>
                      <a:pt x="0" y="69"/>
                    </a:lnTo>
                    <a:lnTo>
                      <a:pt x="0" y="88"/>
                    </a:lnTo>
                    <a:lnTo>
                      <a:pt x="0" y="107"/>
                    </a:lnTo>
                    <a:lnTo>
                      <a:pt x="0" y="116"/>
                    </a:lnTo>
                    <a:lnTo>
                      <a:pt x="2" y="138"/>
                    </a:lnTo>
                    <a:lnTo>
                      <a:pt x="40" y="141"/>
                    </a:lnTo>
                    <a:lnTo>
                      <a:pt x="38" y="109"/>
                    </a:lnTo>
                    <a:lnTo>
                      <a:pt x="38" y="86"/>
                    </a:lnTo>
                    <a:lnTo>
                      <a:pt x="43" y="39"/>
                    </a:lnTo>
                    <a:lnTo>
                      <a:pt x="48" y="0"/>
                    </a:lnTo>
                    <a:lnTo>
                      <a:pt x="10" y="7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81080" y="1420200"/>
                <a:ext cx="222120" cy="389880"/>
              </a:xfrm>
              <a:custGeom>
                <a:avLst/>
                <a:gdLst/>
                <a:ahLst/>
                <a:rect l="l" t="t" r="r" b="b"/>
                <a:pathLst>
                  <a:path w="51" h="128">
                    <a:moveTo>
                      <a:pt x="51" y="0"/>
                    </a:moveTo>
                    <a:lnTo>
                      <a:pt x="6" y="9"/>
                    </a:lnTo>
                    <a:lnTo>
                      <a:pt x="3" y="36"/>
                    </a:lnTo>
                    <a:lnTo>
                      <a:pt x="0" y="71"/>
                    </a:lnTo>
                    <a:lnTo>
                      <a:pt x="0" y="76"/>
                    </a:lnTo>
                    <a:lnTo>
                      <a:pt x="1" y="97"/>
                    </a:lnTo>
                    <a:lnTo>
                      <a:pt x="1" y="121"/>
                    </a:lnTo>
                    <a:lnTo>
                      <a:pt x="45" y="1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36680" y="1440720"/>
                <a:ext cx="72000" cy="179280"/>
              </a:xfrm>
              <a:custGeom>
                <a:avLst/>
                <a:gdLst/>
                <a:ahLst/>
                <a:rect l="l" t="t" r="r" b="b"/>
                <a:pathLst>
                  <a:path w="17" h="59">
                    <a:moveTo>
                      <a:pt x="3" y="2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7" y="17"/>
                    </a:lnTo>
                    <a:lnTo>
                      <a:pt x="16" y="38"/>
                    </a:lnTo>
                    <a:lnTo>
                      <a:pt x="16" y="55"/>
                    </a:lnTo>
                    <a:lnTo>
                      <a:pt x="14" y="59"/>
                    </a:lnTo>
                    <a:lnTo>
                      <a:pt x="6" y="59"/>
                    </a:lnTo>
                    <a:lnTo>
                      <a:pt x="0" y="59"/>
                    </a:lnTo>
                    <a:lnTo>
                      <a:pt x="1" y="21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962800" y="1464120"/>
                <a:ext cx="86760" cy="160560"/>
              </a:xfrm>
              <a:custGeom>
                <a:avLst/>
                <a:gdLst/>
                <a:ahLst/>
                <a:rect l="l" t="t" r="r" b="b"/>
                <a:pathLst>
                  <a:path w="23" h="53">
                    <a:moveTo>
                      <a:pt x="3" y="3"/>
                    </a:moveTo>
                    <a:lnTo>
                      <a:pt x="11" y="2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1" y="19"/>
                    </a:lnTo>
                    <a:lnTo>
                      <a:pt x="19" y="50"/>
                    </a:lnTo>
                    <a:lnTo>
                      <a:pt x="18" y="52"/>
                    </a:lnTo>
                    <a:lnTo>
                      <a:pt x="2" y="53"/>
                    </a:lnTo>
                    <a:lnTo>
                      <a:pt x="0" y="5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45360" y="1484640"/>
                <a:ext cx="87120" cy="151920"/>
              </a:xfrm>
              <a:custGeom>
                <a:avLst/>
                <a:gdLst/>
                <a:ahLst/>
                <a:rect l="l" t="t" r="r" b="b"/>
                <a:pathLst>
                  <a:path w="21" h="50">
                    <a:moveTo>
                      <a:pt x="2" y="3"/>
                    </a:moveTo>
                    <a:lnTo>
                      <a:pt x="18" y="0"/>
                    </a:lnTo>
                    <a:lnTo>
                      <a:pt x="21" y="0"/>
                    </a:lnTo>
                    <a:lnTo>
                      <a:pt x="20" y="17"/>
                    </a:lnTo>
                    <a:lnTo>
                      <a:pt x="18" y="43"/>
                    </a:lnTo>
                    <a:lnTo>
                      <a:pt x="15" y="50"/>
                    </a:lnTo>
                    <a:lnTo>
                      <a:pt x="2" y="48"/>
                    </a:lnTo>
                    <a:lnTo>
                      <a:pt x="0" y="46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2661120" y="1497960"/>
                <a:ext cx="19440" cy="138240"/>
                <a:chOff x="2661120" y="1497960"/>
                <a:chExt cx="19440" cy="1382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2661120" y="1497960"/>
                  <a:ext cx="19440" cy="138240"/>
                </a:xfrm>
                <a:custGeom>
                  <a:avLst/>
                  <a:gdLst/>
                  <a:ahLst/>
                  <a:rect l="l" t="t" r="r" b="b"/>
                  <a:pathLst>
                    <a:path w="5" h="4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2"/>
                      </a:lnTo>
                      <a:lnTo>
                        <a:pt x="5" y="19"/>
                      </a:lnTo>
                      <a:lnTo>
                        <a:pt x="3" y="29"/>
                      </a:lnTo>
                      <a:lnTo>
                        <a:pt x="1" y="45"/>
                      </a:lnTo>
                      <a:lnTo>
                        <a:pt x="0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661120" y="1497960"/>
                  <a:ext cx="19440" cy="138240"/>
                </a:xfrm>
                <a:custGeom>
                  <a:avLst/>
                  <a:gdLst/>
                  <a:ahLst/>
                  <a:rect l="l" t="t" r="r" b="b"/>
                  <a:pathLst>
                    <a:path w="5" h="4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2"/>
                      </a:lnTo>
                      <a:lnTo>
                        <a:pt x="5" y="19"/>
                      </a:lnTo>
                      <a:lnTo>
                        <a:pt x="3" y="29"/>
                      </a:lnTo>
                      <a:lnTo>
                        <a:pt x="1" y="45"/>
                      </a:lnTo>
                      <a:lnTo>
                        <a:pt x="0" y="4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3760920" y="1810440"/>
                <a:ext cx="101520" cy="2592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0"/>
                    </a:moveTo>
                    <a:lnTo>
                      <a:pt x="0" y="7"/>
                    </a:lnTo>
                    <a:lnTo>
                      <a:pt x="5" y="9"/>
                    </a:lnTo>
                    <a:lnTo>
                      <a:pt x="22" y="7"/>
                    </a:lnTo>
                    <a:lnTo>
                      <a:pt x="22" y="3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2630520" y="1706400"/>
                <a:ext cx="1117800" cy="150120"/>
                <a:chOff x="2630520" y="1706400"/>
                <a:chExt cx="1117800" cy="1501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2630520" y="1706400"/>
                  <a:ext cx="1117800" cy="150120"/>
                </a:xfrm>
                <a:custGeom>
                  <a:avLst/>
                  <a:gdLst/>
                  <a:ahLst/>
                  <a:rect l="l" t="t" r="r" b="b"/>
                  <a:pathLst>
                    <a:path w="260" h="49">
                      <a:moveTo>
                        <a:pt x="2" y="0"/>
                      </a:moveTo>
                      <a:lnTo>
                        <a:pt x="0" y="40"/>
                      </a:lnTo>
                      <a:lnTo>
                        <a:pt x="5" y="40"/>
                      </a:lnTo>
                      <a:lnTo>
                        <a:pt x="10" y="43"/>
                      </a:lnTo>
                      <a:lnTo>
                        <a:pt x="15" y="45"/>
                      </a:lnTo>
                      <a:lnTo>
                        <a:pt x="19" y="42"/>
                      </a:lnTo>
                      <a:lnTo>
                        <a:pt x="28" y="42"/>
                      </a:lnTo>
                      <a:lnTo>
                        <a:pt x="31" y="45"/>
                      </a:lnTo>
                      <a:lnTo>
                        <a:pt x="36" y="45"/>
                      </a:lnTo>
                      <a:lnTo>
                        <a:pt x="36" y="42"/>
                      </a:lnTo>
                      <a:lnTo>
                        <a:pt x="42" y="42"/>
                      </a:lnTo>
                      <a:lnTo>
                        <a:pt x="58" y="47"/>
                      </a:lnTo>
                      <a:lnTo>
                        <a:pt x="189" y="47"/>
                      </a:lnTo>
                      <a:lnTo>
                        <a:pt x="186" y="42"/>
                      </a:lnTo>
                      <a:lnTo>
                        <a:pt x="192" y="47"/>
                      </a:lnTo>
                      <a:lnTo>
                        <a:pt x="200" y="49"/>
                      </a:lnTo>
                      <a:lnTo>
                        <a:pt x="199" y="43"/>
                      </a:lnTo>
                      <a:lnTo>
                        <a:pt x="202" y="43"/>
                      </a:lnTo>
                      <a:lnTo>
                        <a:pt x="204" y="47"/>
                      </a:lnTo>
                      <a:lnTo>
                        <a:pt x="213" y="47"/>
                      </a:lnTo>
                      <a:lnTo>
                        <a:pt x="215" y="36"/>
                      </a:lnTo>
                      <a:lnTo>
                        <a:pt x="213" y="35"/>
                      </a:lnTo>
                      <a:lnTo>
                        <a:pt x="218" y="30"/>
                      </a:lnTo>
                      <a:lnTo>
                        <a:pt x="220" y="35"/>
                      </a:lnTo>
                      <a:lnTo>
                        <a:pt x="215" y="35"/>
                      </a:lnTo>
                      <a:lnTo>
                        <a:pt x="218" y="38"/>
                      </a:lnTo>
                      <a:lnTo>
                        <a:pt x="216" y="47"/>
                      </a:lnTo>
                      <a:lnTo>
                        <a:pt x="234" y="47"/>
                      </a:lnTo>
                      <a:lnTo>
                        <a:pt x="234" y="33"/>
                      </a:lnTo>
                      <a:lnTo>
                        <a:pt x="231" y="31"/>
                      </a:lnTo>
                      <a:lnTo>
                        <a:pt x="231" y="26"/>
                      </a:lnTo>
                      <a:lnTo>
                        <a:pt x="237" y="26"/>
                      </a:lnTo>
                      <a:lnTo>
                        <a:pt x="242" y="28"/>
                      </a:lnTo>
                      <a:lnTo>
                        <a:pt x="252" y="28"/>
                      </a:lnTo>
                      <a:lnTo>
                        <a:pt x="253" y="31"/>
                      </a:lnTo>
                      <a:lnTo>
                        <a:pt x="236" y="30"/>
                      </a:lnTo>
                      <a:lnTo>
                        <a:pt x="237" y="33"/>
                      </a:lnTo>
                      <a:lnTo>
                        <a:pt x="245" y="35"/>
                      </a:lnTo>
                      <a:lnTo>
                        <a:pt x="248" y="33"/>
                      </a:lnTo>
                      <a:lnTo>
                        <a:pt x="260" y="33"/>
                      </a:lnTo>
                      <a:lnTo>
                        <a:pt x="256" y="1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630520" y="1706400"/>
                  <a:ext cx="1117800" cy="150120"/>
                </a:xfrm>
                <a:custGeom>
                  <a:avLst/>
                  <a:gdLst/>
                  <a:ahLst/>
                  <a:rect l="l" t="t" r="r" b="b"/>
                  <a:pathLst>
                    <a:path w="260" h="49">
                      <a:moveTo>
                        <a:pt x="2" y="0"/>
                      </a:moveTo>
                      <a:lnTo>
                        <a:pt x="0" y="40"/>
                      </a:lnTo>
                      <a:lnTo>
                        <a:pt x="5" y="40"/>
                      </a:lnTo>
                      <a:lnTo>
                        <a:pt x="10" y="43"/>
                      </a:lnTo>
                      <a:lnTo>
                        <a:pt x="15" y="45"/>
                      </a:lnTo>
                      <a:lnTo>
                        <a:pt x="19" y="42"/>
                      </a:lnTo>
                      <a:lnTo>
                        <a:pt x="28" y="42"/>
                      </a:lnTo>
                      <a:lnTo>
                        <a:pt x="31" y="45"/>
                      </a:lnTo>
                      <a:lnTo>
                        <a:pt x="36" y="45"/>
                      </a:lnTo>
                      <a:lnTo>
                        <a:pt x="36" y="42"/>
                      </a:lnTo>
                      <a:lnTo>
                        <a:pt x="42" y="42"/>
                      </a:lnTo>
                      <a:lnTo>
                        <a:pt x="58" y="47"/>
                      </a:lnTo>
                      <a:lnTo>
                        <a:pt x="189" y="47"/>
                      </a:lnTo>
                      <a:lnTo>
                        <a:pt x="186" y="42"/>
                      </a:lnTo>
                      <a:lnTo>
                        <a:pt x="192" y="47"/>
                      </a:lnTo>
                      <a:lnTo>
                        <a:pt x="200" y="49"/>
                      </a:lnTo>
                      <a:lnTo>
                        <a:pt x="199" y="43"/>
                      </a:lnTo>
                      <a:lnTo>
                        <a:pt x="202" y="43"/>
                      </a:lnTo>
                      <a:lnTo>
                        <a:pt x="204" y="47"/>
                      </a:lnTo>
                      <a:lnTo>
                        <a:pt x="213" y="47"/>
                      </a:lnTo>
                      <a:lnTo>
                        <a:pt x="215" y="36"/>
                      </a:lnTo>
                      <a:lnTo>
                        <a:pt x="213" y="35"/>
                      </a:lnTo>
                      <a:lnTo>
                        <a:pt x="218" y="30"/>
                      </a:lnTo>
                      <a:lnTo>
                        <a:pt x="220" y="35"/>
                      </a:lnTo>
                      <a:lnTo>
                        <a:pt x="215" y="35"/>
                      </a:lnTo>
                      <a:lnTo>
                        <a:pt x="218" y="38"/>
                      </a:lnTo>
                      <a:lnTo>
                        <a:pt x="216" y="47"/>
                      </a:lnTo>
                      <a:lnTo>
                        <a:pt x="234" y="47"/>
                      </a:lnTo>
                      <a:lnTo>
                        <a:pt x="234" y="33"/>
                      </a:lnTo>
                      <a:lnTo>
                        <a:pt x="231" y="31"/>
                      </a:lnTo>
                      <a:lnTo>
                        <a:pt x="231" y="26"/>
                      </a:lnTo>
                      <a:lnTo>
                        <a:pt x="237" y="26"/>
                      </a:lnTo>
                      <a:lnTo>
                        <a:pt x="242" y="28"/>
                      </a:lnTo>
                      <a:lnTo>
                        <a:pt x="252" y="28"/>
                      </a:lnTo>
                      <a:lnTo>
                        <a:pt x="253" y="31"/>
                      </a:lnTo>
                      <a:lnTo>
                        <a:pt x="236" y="30"/>
                      </a:lnTo>
                      <a:lnTo>
                        <a:pt x="237" y="33"/>
                      </a:lnTo>
                      <a:lnTo>
                        <a:pt x="245" y="35"/>
                      </a:lnTo>
                      <a:lnTo>
                        <a:pt x="248" y="33"/>
                      </a:lnTo>
                      <a:lnTo>
                        <a:pt x="260" y="33"/>
                      </a:lnTo>
                      <a:lnTo>
                        <a:pt x="256" y="1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643200" y="1464120"/>
                <a:ext cx="153000" cy="122400"/>
                <a:chOff x="3643200" y="1464120"/>
                <a:chExt cx="153000" cy="12240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643200" y="1464120"/>
                  <a:ext cx="153000" cy="122400"/>
                </a:xfrm>
                <a:custGeom>
                  <a:avLst/>
                  <a:gdLst/>
                  <a:ahLst/>
                  <a:rect l="l" t="t" r="r" b="b"/>
                  <a:pathLst>
                    <a:path w="36" h="41">
                      <a:moveTo>
                        <a:pt x="33" y="0"/>
                      </a:moveTo>
                      <a:lnTo>
                        <a:pt x="0" y="5"/>
                      </a:lnTo>
                      <a:lnTo>
                        <a:pt x="0" y="12"/>
                      </a:lnTo>
                      <a:lnTo>
                        <a:pt x="0" y="41"/>
                      </a:lnTo>
                      <a:lnTo>
                        <a:pt x="36" y="41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643200" y="1464120"/>
                  <a:ext cx="153000" cy="122400"/>
                </a:xfrm>
                <a:custGeom>
                  <a:avLst/>
                  <a:gdLst/>
                  <a:ahLst/>
                  <a:rect l="l" t="t" r="r" b="b"/>
                  <a:pathLst>
                    <a:path w="36" h="41">
                      <a:moveTo>
                        <a:pt x="33" y="0"/>
                      </a:moveTo>
                      <a:lnTo>
                        <a:pt x="0" y="5"/>
                      </a:lnTo>
                      <a:lnTo>
                        <a:pt x="0" y="12"/>
                      </a:lnTo>
                      <a:lnTo>
                        <a:pt x="0" y="41"/>
                      </a:lnTo>
                      <a:lnTo>
                        <a:pt x="36" y="4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630520" y="1703880"/>
                <a:ext cx="1325520" cy="126360"/>
                <a:chOff x="2630520" y="1703880"/>
                <a:chExt cx="1325520" cy="1263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2630520" y="1703880"/>
                  <a:ext cx="1325520" cy="126360"/>
                </a:xfrm>
                <a:custGeom>
                  <a:avLst/>
                  <a:gdLst/>
                  <a:ahLst/>
                  <a:rect l="l" t="t" r="r" b="b"/>
                  <a:pathLst>
                    <a:path w="308" h="42">
                      <a:moveTo>
                        <a:pt x="308" y="2"/>
                      </a:moveTo>
                      <a:lnTo>
                        <a:pt x="303" y="19"/>
                      </a:lnTo>
                      <a:lnTo>
                        <a:pt x="288" y="35"/>
                      </a:lnTo>
                      <a:lnTo>
                        <a:pt x="261" y="37"/>
                      </a:lnTo>
                      <a:lnTo>
                        <a:pt x="258" y="18"/>
                      </a:lnTo>
                      <a:lnTo>
                        <a:pt x="253" y="16"/>
                      </a:lnTo>
                      <a:lnTo>
                        <a:pt x="213" y="14"/>
                      </a:lnTo>
                      <a:lnTo>
                        <a:pt x="184" y="37"/>
                      </a:lnTo>
                      <a:lnTo>
                        <a:pt x="162" y="26"/>
                      </a:lnTo>
                      <a:lnTo>
                        <a:pt x="144" y="42"/>
                      </a:lnTo>
                      <a:lnTo>
                        <a:pt x="141" y="37"/>
                      </a:lnTo>
                      <a:lnTo>
                        <a:pt x="130" y="38"/>
                      </a:lnTo>
                      <a:lnTo>
                        <a:pt x="98" y="35"/>
                      </a:lnTo>
                      <a:lnTo>
                        <a:pt x="56" y="30"/>
                      </a:lnTo>
                      <a:lnTo>
                        <a:pt x="0" y="2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308" y="2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630520" y="1703880"/>
                  <a:ext cx="1325520" cy="126360"/>
                </a:xfrm>
                <a:custGeom>
                  <a:avLst/>
                  <a:gdLst/>
                  <a:ahLst/>
                  <a:rect l="l" t="t" r="r" b="b"/>
                  <a:pathLst>
                    <a:path w="308" h="42">
                      <a:moveTo>
                        <a:pt x="308" y="2"/>
                      </a:moveTo>
                      <a:lnTo>
                        <a:pt x="303" y="19"/>
                      </a:lnTo>
                      <a:lnTo>
                        <a:pt x="288" y="35"/>
                      </a:lnTo>
                      <a:lnTo>
                        <a:pt x="261" y="37"/>
                      </a:lnTo>
                      <a:lnTo>
                        <a:pt x="258" y="18"/>
                      </a:lnTo>
                      <a:lnTo>
                        <a:pt x="253" y="16"/>
                      </a:lnTo>
                      <a:lnTo>
                        <a:pt x="213" y="14"/>
                      </a:lnTo>
                      <a:lnTo>
                        <a:pt x="184" y="37"/>
                      </a:lnTo>
                      <a:lnTo>
                        <a:pt x="162" y="26"/>
                      </a:lnTo>
                      <a:lnTo>
                        <a:pt x="144" y="42"/>
                      </a:lnTo>
                      <a:lnTo>
                        <a:pt x="141" y="37"/>
                      </a:lnTo>
                      <a:lnTo>
                        <a:pt x="130" y="38"/>
                      </a:lnTo>
                      <a:lnTo>
                        <a:pt x="98" y="35"/>
                      </a:lnTo>
                      <a:lnTo>
                        <a:pt x="56" y="30"/>
                      </a:lnTo>
                      <a:lnTo>
                        <a:pt x="0" y="25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3402000" y="1484640"/>
                <a:ext cx="141840" cy="9468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0" y="5"/>
                    </a:moveTo>
                    <a:lnTo>
                      <a:pt x="0" y="17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24" y="31"/>
                    </a:lnTo>
                    <a:lnTo>
                      <a:pt x="33" y="31"/>
                    </a:lnTo>
                    <a:lnTo>
                      <a:pt x="33" y="26"/>
                    </a:lnTo>
                    <a:lnTo>
                      <a:pt x="33" y="12"/>
                    </a:lnTo>
                    <a:lnTo>
                      <a:pt x="33" y="1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96840" y="1620360"/>
                <a:ext cx="120600" cy="3780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23" y="0"/>
                    </a:moveTo>
                    <a:lnTo>
                      <a:pt x="12" y="0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6" y="5"/>
                    </a:lnTo>
                    <a:lnTo>
                      <a:pt x="28" y="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718080" y="1658520"/>
                <a:ext cx="124200" cy="3492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5" y="12"/>
                    </a:moveTo>
                    <a:lnTo>
                      <a:pt x="16" y="1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16" y="0"/>
                    </a:lnTo>
                    <a:lnTo>
                      <a:pt x="11" y="5"/>
                    </a:lnTo>
                    <a:lnTo>
                      <a:pt x="0" y="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95" name="" descr=""/>
            <p:cNvPicPr/>
            <p:nvPr/>
          </p:nvPicPr>
          <p:blipFill>
            <a:blip r:embed="rId3"/>
            <a:stretch/>
          </p:blipFill>
          <p:spPr>
            <a:xfrm>
              <a:off x="1281240" y="2181240"/>
              <a:ext cx="220968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4"/>
            <a:stretch/>
          </p:blipFill>
          <p:spPr>
            <a:xfrm>
              <a:off x="652320" y="1521000"/>
              <a:ext cx="1954440" cy="752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"/>
            <p:cNvGrpSpPr/>
            <p:nvPr/>
          </p:nvGrpSpPr>
          <p:grpSpPr>
            <a:xfrm>
              <a:off x="5770440" y="465120"/>
              <a:ext cx="2362320" cy="2666880"/>
              <a:chOff x="5770440" y="465120"/>
              <a:chExt cx="2362320" cy="2666880"/>
            </a:xfrm>
          </p:grpSpPr>
          <p:sp>
            <p:nvSpPr>
              <p:cNvPr id="298" name=""/>
              <p:cNvSpPr/>
              <p:nvPr/>
            </p:nvSpPr>
            <p:spPr>
              <a:xfrm>
                <a:off x="6402600" y="465120"/>
                <a:ext cx="1697040" cy="2666880"/>
              </a:xfrm>
              <a:custGeom>
                <a:avLst/>
                <a:gdLst/>
                <a:ahLst/>
                <a:rect l="l" t="t" r="r" b="b"/>
                <a:pathLst>
                  <a:path w="2067" h="3622">
                    <a:moveTo>
                      <a:pt x="1978" y="168"/>
                    </a:moveTo>
                    <a:lnTo>
                      <a:pt x="1801" y="142"/>
                    </a:lnTo>
                    <a:lnTo>
                      <a:pt x="1757" y="136"/>
                    </a:lnTo>
                    <a:lnTo>
                      <a:pt x="1742" y="116"/>
                    </a:lnTo>
                    <a:lnTo>
                      <a:pt x="1713" y="91"/>
                    </a:lnTo>
                    <a:lnTo>
                      <a:pt x="1684" y="78"/>
                    </a:lnTo>
                    <a:lnTo>
                      <a:pt x="1684" y="52"/>
                    </a:lnTo>
                    <a:lnTo>
                      <a:pt x="1654" y="19"/>
                    </a:lnTo>
                    <a:lnTo>
                      <a:pt x="1618" y="6"/>
                    </a:lnTo>
                    <a:lnTo>
                      <a:pt x="1588" y="0"/>
                    </a:lnTo>
                    <a:lnTo>
                      <a:pt x="1566" y="0"/>
                    </a:lnTo>
                    <a:lnTo>
                      <a:pt x="1515" y="19"/>
                    </a:lnTo>
                    <a:lnTo>
                      <a:pt x="1478" y="58"/>
                    </a:lnTo>
                    <a:lnTo>
                      <a:pt x="1470" y="84"/>
                    </a:lnTo>
                    <a:lnTo>
                      <a:pt x="1441" y="103"/>
                    </a:lnTo>
                    <a:lnTo>
                      <a:pt x="1434" y="129"/>
                    </a:lnTo>
                    <a:lnTo>
                      <a:pt x="1419" y="155"/>
                    </a:lnTo>
                    <a:lnTo>
                      <a:pt x="1397" y="168"/>
                    </a:lnTo>
                    <a:lnTo>
                      <a:pt x="1360" y="181"/>
                    </a:lnTo>
                    <a:lnTo>
                      <a:pt x="1316" y="194"/>
                    </a:lnTo>
                    <a:lnTo>
                      <a:pt x="1272" y="188"/>
                    </a:lnTo>
                    <a:lnTo>
                      <a:pt x="1243" y="188"/>
                    </a:lnTo>
                    <a:lnTo>
                      <a:pt x="1198" y="200"/>
                    </a:lnTo>
                    <a:lnTo>
                      <a:pt x="1162" y="220"/>
                    </a:lnTo>
                    <a:lnTo>
                      <a:pt x="1140" y="220"/>
                    </a:lnTo>
                    <a:lnTo>
                      <a:pt x="1110" y="233"/>
                    </a:lnTo>
                    <a:lnTo>
                      <a:pt x="1073" y="259"/>
                    </a:lnTo>
                    <a:lnTo>
                      <a:pt x="1037" y="304"/>
                    </a:lnTo>
                    <a:lnTo>
                      <a:pt x="1022" y="343"/>
                    </a:lnTo>
                    <a:lnTo>
                      <a:pt x="1007" y="375"/>
                    </a:lnTo>
                    <a:lnTo>
                      <a:pt x="978" y="401"/>
                    </a:lnTo>
                    <a:lnTo>
                      <a:pt x="971" y="420"/>
                    </a:lnTo>
                    <a:lnTo>
                      <a:pt x="956" y="440"/>
                    </a:lnTo>
                    <a:lnTo>
                      <a:pt x="934" y="466"/>
                    </a:lnTo>
                    <a:lnTo>
                      <a:pt x="904" y="491"/>
                    </a:lnTo>
                    <a:lnTo>
                      <a:pt x="904" y="511"/>
                    </a:lnTo>
                    <a:lnTo>
                      <a:pt x="919" y="537"/>
                    </a:lnTo>
                    <a:lnTo>
                      <a:pt x="897" y="556"/>
                    </a:lnTo>
                    <a:lnTo>
                      <a:pt x="897" y="595"/>
                    </a:lnTo>
                    <a:lnTo>
                      <a:pt x="875" y="601"/>
                    </a:lnTo>
                    <a:lnTo>
                      <a:pt x="860" y="647"/>
                    </a:lnTo>
                    <a:lnTo>
                      <a:pt x="831" y="666"/>
                    </a:lnTo>
                    <a:lnTo>
                      <a:pt x="787" y="679"/>
                    </a:lnTo>
                    <a:lnTo>
                      <a:pt x="757" y="692"/>
                    </a:lnTo>
                    <a:lnTo>
                      <a:pt x="735" y="731"/>
                    </a:lnTo>
                    <a:lnTo>
                      <a:pt x="698" y="757"/>
                    </a:lnTo>
                    <a:lnTo>
                      <a:pt x="684" y="808"/>
                    </a:lnTo>
                    <a:lnTo>
                      <a:pt x="662" y="834"/>
                    </a:lnTo>
                    <a:lnTo>
                      <a:pt x="632" y="886"/>
                    </a:lnTo>
                    <a:lnTo>
                      <a:pt x="588" y="931"/>
                    </a:lnTo>
                    <a:lnTo>
                      <a:pt x="573" y="970"/>
                    </a:lnTo>
                    <a:lnTo>
                      <a:pt x="566" y="996"/>
                    </a:lnTo>
                    <a:lnTo>
                      <a:pt x="544" y="1009"/>
                    </a:lnTo>
                    <a:lnTo>
                      <a:pt x="529" y="1022"/>
                    </a:lnTo>
                    <a:lnTo>
                      <a:pt x="529" y="1048"/>
                    </a:lnTo>
                    <a:lnTo>
                      <a:pt x="500" y="1067"/>
                    </a:lnTo>
                    <a:lnTo>
                      <a:pt x="478" y="1099"/>
                    </a:lnTo>
                    <a:lnTo>
                      <a:pt x="478" y="1138"/>
                    </a:lnTo>
                    <a:lnTo>
                      <a:pt x="478" y="1164"/>
                    </a:lnTo>
                    <a:lnTo>
                      <a:pt x="471" y="1183"/>
                    </a:lnTo>
                    <a:lnTo>
                      <a:pt x="463" y="1190"/>
                    </a:lnTo>
                    <a:lnTo>
                      <a:pt x="448" y="1203"/>
                    </a:lnTo>
                    <a:lnTo>
                      <a:pt x="419" y="1209"/>
                    </a:lnTo>
                    <a:lnTo>
                      <a:pt x="412" y="1209"/>
                    </a:lnTo>
                    <a:lnTo>
                      <a:pt x="382" y="1248"/>
                    </a:lnTo>
                    <a:lnTo>
                      <a:pt x="434" y="1267"/>
                    </a:lnTo>
                    <a:lnTo>
                      <a:pt x="404" y="1326"/>
                    </a:lnTo>
                    <a:lnTo>
                      <a:pt x="346" y="1345"/>
                    </a:lnTo>
                    <a:lnTo>
                      <a:pt x="353" y="1371"/>
                    </a:lnTo>
                    <a:lnTo>
                      <a:pt x="331" y="1397"/>
                    </a:lnTo>
                    <a:lnTo>
                      <a:pt x="301" y="1403"/>
                    </a:lnTo>
                    <a:lnTo>
                      <a:pt x="301" y="1429"/>
                    </a:lnTo>
                    <a:lnTo>
                      <a:pt x="265" y="1487"/>
                    </a:lnTo>
                    <a:lnTo>
                      <a:pt x="250" y="1526"/>
                    </a:lnTo>
                    <a:lnTo>
                      <a:pt x="243" y="1584"/>
                    </a:lnTo>
                    <a:lnTo>
                      <a:pt x="206" y="1591"/>
                    </a:lnTo>
                    <a:lnTo>
                      <a:pt x="184" y="1591"/>
                    </a:lnTo>
                    <a:lnTo>
                      <a:pt x="169" y="1617"/>
                    </a:lnTo>
                    <a:lnTo>
                      <a:pt x="132" y="1649"/>
                    </a:lnTo>
                    <a:lnTo>
                      <a:pt x="125" y="1733"/>
                    </a:lnTo>
                    <a:lnTo>
                      <a:pt x="96" y="1778"/>
                    </a:lnTo>
                    <a:lnTo>
                      <a:pt x="88" y="1817"/>
                    </a:lnTo>
                    <a:lnTo>
                      <a:pt x="103" y="1843"/>
                    </a:lnTo>
                    <a:lnTo>
                      <a:pt x="103" y="1882"/>
                    </a:lnTo>
                    <a:lnTo>
                      <a:pt x="81" y="1895"/>
                    </a:lnTo>
                    <a:lnTo>
                      <a:pt x="66" y="1901"/>
                    </a:lnTo>
                    <a:lnTo>
                      <a:pt x="66" y="1920"/>
                    </a:lnTo>
                    <a:lnTo>
                      <a:pt x="74" y="1933"/>
                    </a:lnTo>
                    <a:lnTo>
                      <a:pt x="96" y="1940"/>
                    </a:lnTo>
                    <a:lnTo>
                      <a:pt x="118" y="1920"/>
                    </a:lnTo>
                    <a:lnTo>
                      <a:pt x="110" y="1966"/>
                    </a:lnTo>
                    <a:lnTo>
                      <a:pt x="125" y="2011"/>
                    </a:lnTo>
                    <a:lnTo>
                      <a:pt x="125" y="2037"/>
                    </a:lnTo>
                    <a:lnTo>
                      <a:pt x="110" y="2050"/>
                    </a:lnTo>
                    <a:lnTo>
                      <a:pt x="88" y="2063"/>
                    </a:lnTo>
                    <a:lnTo>
                      <a:pt x="66" y="2082"/>
                    </a:lnTo>
                    <a:lnTo>
                      <a:pt x="66" y="2101"/>
                    </a:lnTo>
                    <a:lnTo>
                      <a:pt x="59" y="2160"/>
                    </a:lnTo>
                    <a:lnTo>
                      <a:pt x="59" y="2173"/>
                    </a:lnTo>
                    <a:lnTo>
                      <a:pt x="37" y="2218"/>
                    </a:lnTo>
                    <a:lnTo>
                      <a:pt x="22" y="2263"/>
                    </a:lnTo>
                    <a:lnTo>
                      <a:pt x="44" y="2315"/>
                    </a:lnTo>
                    <a:lnTo>
                      <a:pt x="0" y="2341"/>
                    </a:lnTo>
                    <a:lnTo>
                      <a:pt x="0" y="2367"/>
                    </a:lnTo>
                    <a:lnTo>
                      <a:pt x="22" y="2399"/>
                    </a:lnTo>
                    <a:lnTo>
                      <a:pt x="29" y="2425"/>
                    </a:lnTo>
                    <a:lnTo>
                      <a:pt x="51" y="2438"/>
                    </a:lnTo>
                    <a:lnTo>
                      <a:pt x="74" y="2444"/>
                    </a:lnTo>
                    <a:lnTo>
                      <a:pt x="110" y="2464"/>
                    </a:lnTo>
                    <a:lnTo>
                      <a:pt x="132" y="2483"/>
                    </a:lnTo>
                    <a:lnTo>
                      <a:pt x="147" y="2515"/>
                    </a:lnTo>
                    <a:lnTo>
                      <a:pt x="154" y="2561"/>
                    </a:lnTo>
                    <a:lnTo>
                      <a:pt x="206" y="2690"/>
                    </a:lnTo>
                    <a:lnTo>
                      <a:pt x="228" y="2722"/>
                    </a:lnTo>
                    <a:lnTo>
                      <a:pt x="250" y="2761"/>
                    </a:lnTo>
                    <a:lnTo>
                      <a:pt x="228" y="2813"/>
                    </a:lnTo>
                    <a:lnTo>
                      <a:pt x="257" y="2877"/>
                    </a:lnTo>
                    <a:lnTo>
                      <a:pt x="279" y="2916"/>
                    </a:lnTo>
                    <a:lnTo>
                      <a:pt x="338" y="2968"/>
                    </a:lnTo>
                    <a:lnTo>
                      <a:pt x="426" y="3000"/>
                    </a:lnTo>
                    <a:lnTo>
                      <a:pt x="500" y="3058"/>
                    </a:lnTo>
                    <a:lnTo>
                      <a:pt x="573" y="3104"/>
                    </a:lnTo>
                    <a:lnTo>
                      <a:pt x="669" y="3214"/>
                    </a:lnTo>
                    <a:lnTo>
                      <a:pt x="728" y="3362"/>
                    </a:lnTo>
                    <a:lnTo>
                      <a:pt x="757" y="3401"/>
                    </a:lnTo>
                    <a:lnTo>
                      <a:pt x="743" y="3427"/>
                    </a:lnTo>
                    <a:lnTo>
                      <a:pt x="706" y="3440"/>
                    </a:lnTo>
                    <a:lnTo>
                      <a:pt x="713" y="3453"/>
                    </a:lnTo>
                    <a:lnTo>
                      <a:pt x="728" y="3498"/>
                    </a:lnTo>
                    <a:lnTo>
                      <a:pt x="721" y="3563"/>
                    </a:lnTo>
                    <a:lnTo>
                      <a:pt x="750" y="3602"/>
                    </a:lnTo>
                    <a:lnTo>
                      <a:pt x="772" y="3608"/>
                    </a:lnTo>
                    <a:lnTo>
                      <a:pt x="779" y="3589"/>
                    </a:lnTo>
                    <a:lnTo>
                      <a:pt x="787" y="3563"/>
                    </a:lnTo>
                    <a:lnTo>
                      <a:pt x="794" y="3550"/>
                    </a:lnTo>
                    <a:lnTo>
                      <a:pt x="816" y="3550"/>
                    </a:lnTo>
                    <a:lnTo>
                      <a:pt x="846" y="3569"/>
                    </a:lnTo>
                    <a:lnTo>
                      <a:pt x="868" y="3589"/>
                    </a:lnTo>
                    <a:lnTo>
                      <a:pt x="912" y="3621"/>
                    </a:lnTo>
                    <a:lnTo>
                      <a:pt x="912" y="3576"/>
                    </a:lnTo>
                    <a:lnTo>
                      <a:pt x="890" y="3550"/>
                    </a:lnTo>
                    <a:lnTo>
                      <a:pt x="890" y="3530"/>
                    </a:lnTo>
                    <a:lnTo>
                      <a:pt x="904" y="3492"/>
                    </a:lnTo>
                    <a:lnTo>
                      <a:pt x="948" y="3427"/>
                    </a:lnTo>
                    <a:lnTo>
                      <a:pt x="941" y="3408"/>
                    </a:lnTo>
                    <a:lnTo>
                      <a:pt x="948" y="3375"/>
                    </a:lnTo>
                    <a:lnTo>
                      <a:pt x="912" y="3324"/>
                    </a:lnTo>
                    <a:lnTo>
                      <a:pt x="919" y="3259"/>
                    </a:lnTo>
                    <a:lnTo>
                      <a:pt x="934" y="3162"/>
                    </a:lnTo>
                    <a:lnTo>
                      <a:pt x="948" y="3097"/>
                    </a:lnTo>
                    <a:lnTo>
                      <a:pt x="978" y="3039"/>
                    </a:lnTo>
                    <a:lnTo>
                      <a:pt x="985" y="2949"/>
                    </a:lnTo>
                    <a:lnTo>
                      <a:pt x="1022" y="2884"/>
                    </a:lnTo>
                    <a:lnTo>
                      <a:pt x="1051" y="2845"/>
                    </a:lnTo>
                    <a:lnTo>
                      <a:pt x="1066" y="2813"/>
                    </a:lnTo>
                    <a:lnTo>
                      <a:pt x="1125" y="2748"/>
                    </a:lnTo>
                    <a:lnTo>
                      <a:pt x="1169" y="2729"/>
                    </a:lnTo>
                    <a:lnTo>
                      <a:pt x="1206" y="2703"/>
                    </a:lnTo>
                    <a:lnTo>
                      <a:pt x="1243" y="2683"/>
                    </a:lnTo>
                    <a:lnTo>
                      <a:pt x="1235" y="2645"/>
                    </a:lnTo>
                    <a:lnTo>
                      <a:pt x="1250" y="2619"/>
                    </a:lnTo>
                    <a:lnTo>
                      <a:pt x="1250" y="2593"/>
                    </a:lnTo>
                    <a:lnTo>
                      <a:pt x="1257" y="2573"/>
                    </a:lnTo>
                    <a:lnTo>
                      <a:pt x="1272" y="2561"/>
                    </a:lnTo>
                    <a:lnTo>
                      <a:pt x="1301" y="2548"/>
                    </a:lnTo>
                    <a:lnTo>
                      <a:pt x="1338" y="2509"/>
                    </a:lnTo>
                    <a:lnTo>
                      <a:pt x="1368" y="2457"/>
                    </a:lnTo>
                    <a:lnTo>
                      <a:pt x="1382" y="2425"/>
                    </a:lnTo>
                    <a:lnTo>
                      <a:pt x="1397" y="2399"/>
                    </a:lnTo>
                    <a:lnTo>
                      <a:pt x="1478" y="2283"/>
                    </a:lnTo>
                    <a:lnTo>
                      <a:pt x="1500" y="2270"/>
                    </a:lnTo>
                    <a:lnTo>
                      <a:pt x="1470" y="2231"/>
                    </a:lnTo>
                    <a:lnTo>
                      <a:pt x="1456" y="2192"/>
                    </a:lnTo>
                    <a:lnTo>
                      <a:pt x="1485" y="2140"/>
                    </a:lnTo>
                    <a:lnTo>
                      <a:pt x="1507" y="2101"/>
                    </a:lnTo>
                    <a:lnTo>
                      <a:pt x="1544" y="2056"/>
                    </a:lnTo>
                    <a:lnTo>
                      <a:pt x="1559" y="1998"/>
                    </a:lnTo>
                    <a:lnTo>
                      <a:pt x="1588" y="1927"/>
                    </a:lnTo>
                    <a:lnTo>
                      <a:pt x="1588" y="1895"/>
                    </a:lnTo>
                    <a:lnTo>
                      <a:pt x="1581" y="1875"/>
                    </a:lnTo>
                    <a:lnTo>
                      <a:pt x="1588" y="1830"/>
                    </a:lnTo>
                    <a:lnTo>
                      <a:pt x="1595" y="1785"/>
                    </a:lnTo>
                    <a:lnTo>
                      <a:pt x="1610" y="1701"/>
                    </a:lnTo>
                    <a:lnTo>
                      <a:pt x="1610" y="1681"/>
                    </a:lnTo>
                    <a:lnTo>
                      <a:pt x="1618" y="1655"/>
                    </a:lnTo>
                    <a:lnTo>
                      <a:pt x="1632" y="1623"/>
                    </a:lnTo>
                    <a:lnTo>
                      <a:pt x="1640" y="1597"/>
                    </a:lnTo>
                    <a:lnTo>
                      <a:pt x="1640" y="1578"/>
                    </a:lnTo>
                    <a:lnTo>
                      <a:pt x="1647" y="1558"/>
                    </a:lnTo>
                    <a:lnTo>
                      <a:pt x="1669" y="1507"/>
                    </a:lnTo>
                    <a:lnTo>
                      <a:pt x="1676" y="1461"/>
                    </a:lnTo>
                    <a:lnTo>
                      <a:pt x="1669" y="1448"/>
                    </a:lnTo>
                    <a:lnTo>
                      <a:pt x="1676" y="1423"/>
                    </a:lnTo>
                    <a:lnTo>
                      <a:pt x="1676" y="1416"/>
                    </a:lnTo>
                    <a:lnTo>
                      <a:pt x="1698" y="1384"/>
                    </a:lnTo>
                    <a:lnTo>
                      <a:pt x="1720" y="1345"/>
                    </a:lnTo>
                    <a:lnTo>
                      <a:pt x="1728" y="1332"/>
                    </a:lnTo>
                    <a:lnTo>
                      <a:pt x="1698" y="1267"/>
                    </a:lnTo>
                    <a:lnTo>
                      <a:pt x="1720" y="1235"/>
                    </a:lnTo>
                    <a:lnTo>
                      <a:pt x="1728" y="1209"/>
                    </a:lnTo>
                    <a:lnTo>
                      <a:pt x="1735" y="1170"/>
                    </a:lnTo>
                    <a:lnTo>
                      <a:pt x="1757" y="1138"/>
                    </a:lnTo>
                    <a:lnTo>
                      <a:pt x="1787" y="1112"/>
                    </a:lnTo>
                    <a:lnTo>
                      <a:pt x="1831" y="1086"/>
                    </a:lnTo>
                    <a:lnTo>
                      <a:pt x="1853" y="1054"/>
                    </a:lnTo>
                    <a:lnTo>
                      <a:pt x="1853" y="1022"/>
                    </a:lnTo>
                    <a:lnTo>
                      <a:pt x="1853" y="1002"/>
                    </a:lnTo>
                    <a:lnTo>
                      <a:pt x="1860" y="951"/>
                    </a:lnTo>
                    <a:lnTo>
                      <a:pt x="1867" y="944"/>
                    </a:lnTo>
                    <a:lnTo>
                      <a:pt x="1875" y="925"/>
                    </a:lnTo>
                    <a:lnTo>
                      <a:pt x="1890" y="892"/>
                    </a:lnTo>
                    <a:lnTo>
                      <a:pt x="1897" y="886"/>
                    </a:lnTo>
                    <a:lnTo>
                      <a:pt x="1912" y="873"/>
                    </a:lnTo>
                    <a:lnTo>
                      <a:pt x="1963" y="847"/>
                    </a:lnTo>
                    <a:lnTo>
                      <a:pt x="1941" y="828"/>
                    </a:lnTo>
                    <a:lnTo>
                      <a:pt x="1934" y="821"/>
                    </a:lnTo>
                    <a:lnTo>
                      <a:pt x="1934" y="815"/>
                    </a:lnTo>
                    <a:lnTo>
                      <a:pt x="1963" y="795"/>
                    </a:lnTo>
                    <a:lnTo>
                      <a:pt x="1948" y="744"/>
                    </a:lnTo>
                    <a:lnTo>
                      <a:pt x="1963" y="724"/>
                    </a:lnTo>
                    <a:lnTo>
                      <a:pt x="1970" y="711"/>
                    </a:lnTo>
                    <a:lnTo>
                      <a:pt x="1934" y="698"/>
                    </a:lnTo>
                    <a:lnTo>
                      <a:pt x="1912" y="653"/>
                    </a:lnTo>
                    <a:lnTo>
                      <a:pt x="1904" y="614"/>
                    </a:lnTo>
                    <a:lnTo>
                      <a:pt x="1904" y="575"/>
                    </a:lnTo>
                    <a:lnTo>
                      <a:pt x="1897" y="530"/>
                    </a:lnTo>
                    <a:lnTo>
                      <a:pt x="1890" y="491"/>
                    </a:lnTo>
                    <a:lnTo>
                      <a:pt x="1890" y="466"/>
                    </a:lnTo>
                    <a:lnTo>
                      <a:pt x="1919" y="407"/>
                    </a:lnTo>
                    <a:lnTo>
                      <a:pt x="1926" y="381"/>
                    </a:lnTo>
                    <a:lnTo>
                      <a:pt x="1970" y="349"/>
                    </a:lnTo>
                    <a:lnTo>
                      <a:pt x="1992" y="323"/>
                    </a:lnTo>
                    <a:lnTo>
                      <a:pt x="2015" y="304"/>
                    </a:lnTo>
                    <a:lnTo>
                      <a:pt x="2066" y="291"/>
                    </a:lnTo>
                    <a:lnTo>
                      <a:pt x="2066" y="285"/>
                    </a:lnTo>
                    <a:lnTo>
                      <a:pt x="2000" y="272"/>
                    </a:lnTo>
                    <a:lnTo>
                      <a:pt x="1992" y="259"/>
                    </a:lnTo>
                    <a:lnTo>
                      <a:pt x="2000" y="239"/>
                    </a:lnTo>
                    <a:lnTo>
                      <a:pt x="1992" y="233"/>
                    </a:lnTo>
                    <a:lnTo>
                      <a:pt x="1970" y="200"/>
                    </a:lnTo>
                    <a:lnTo>
                      <a:pt x="1978" y="168"/>
                    </a:lnTo>
                  </a:path>
                </a:pathLst>
              </a:custGeom>
              <a:gradFill rotWithShape="0">
                <a:gsLst>
                  <a:gs pos="0">
                    <a:srgbClr val="a2ffa3"/>
                  </a:gs>
                  <a:gs pos="100000">
                    <a:srgbClr val="e2fee2"/>
                  </a:gs>
                </a:gsLst>
                <a:lin ang="8100000"/>
              </a:gradFill>
              <a:ln cap="rnd" w="12600">
                <a:solidFill>
                  <a:srgbClr val="a2c1fe"/>
                </a:solidFill>
                <a:round/>
              </a:ln>
              <a:effectLst>
                <a:outerShdw dist="114480" dir="0" blurRad="0" rotWithShape="0">
                  <a:srgbClr val="a2c1f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770440" y="465120"/>
                <a:ext cx="2362320" cy="2666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0" name=""/>
            <p:cNvSpPr/>
            <p:nvPr/>
          </p:nvSpPr>
          <p:spPr>
            <a:xfrm>
              <a:off x="1523880" y="1397160"/>
              <a:ext cx="6096240" cy="40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00200" y="624852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全真中圓體"/>
                  <a:ea typeface="全真中圓體"/>
                </a:rPr>
                <a:t>目標一  創造迅速便捷舒適之運輸環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800600" y="3576600"/>
              <a:ext cx="3504960" cy="1979640"/>
              <a:chOff x="4800600" y="3576600"/>
              <a:chExt cx="3504960" cy="1979640"/>
            </a:xfrm>
          </p:grpSpPr>
          <p:pic>
            <p:nvPicPr>
              <p:cNvPr id="30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800600" y="4083120"/>
                <a:ext cx="1038960" cy="115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5675400" y="3576600"/>
                <a:ext cx="2628720" cy="1275480"/>
              </a:xfrm>
              <a:prstGeom prst="rect">
                <a:avLst/>
              </a:prstGeom>
              <a:solidFill>
                <a:srgbClr val="c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5813640" y="3709080"/>
                <a:ext cx="2302560" cy="1169640"/>
                <a:chOff x="5813640" y="3709080"/>
                <a:chExt cx="2302560" cy="116964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6406920" y="3981960"/>
                  <a:ext cx="242640" cy="896040"/>
                  <a:chOff x="6406920" y="3981960"/>
                  <a:chExt cx="242640" cy="89604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6444720" y="4046400"/>
                    <a:ext cx="204840" cy="83160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6406920" y="4040640"/>
                    <a:ext cx="75600" cy="835920"/>
                  </a:xfrm>
                  <a:prstGeom prst="rect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6417360" y="3981960"/>
                    <a:ext cx="590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211">
                        <a:moveTo>
                          <a:pt x="118" y="211"/>
                        </a:moveTo>
                        <a:lnTo>
                          <a:pt x="118" y="21"/>
                        </a:lnTo>
                        <a:lnTo>
                          <a:pt x="0" y="0"/>
                        </a:lnTo>
                        <a:lnTo>
                          <a:pt x="4" y="211"/>
                        </a:lnTo>
                        <a:lnTo>
                          <a:pt x="118" y="21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6474960" y="3981960"/>
                    <a:ext cx="17460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341">
                        <a:moveTo>
                          <a:pt x="0" y="0"/>
                        </a:moveTo>
                        <a:lnTo>
                          <a:pt x="343" y="177"/>
                        </a:lnTo>
                        <a:lnTo>
                          <a:pt x="343" y="341"/>
                        </a:lnTo>
                        <a:lnTo>
                          <a:pt x="0" y="1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5813640" y="3709080"/>
                  <a:ext cx="620280" cy="1167840"/>
                  <a:chOff x="5813640" y="3709080"/>
                  <a:chExt cx="620280" cy="116784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6062760" y="3709080"/>
                    <a:ext cx="165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20">
                        <a:moveTo>
                          <a:pt x="0" y="220"/>
                        </a:moveTo>
                        <a:lnTo>
                          <a:pt x="0" y="0"/>
                        </a:lnTo>
                        <a:lnTo>
                          <a:pt x="33" y="8"/>
                        </a:lnTo>
                        <a:lnTo>
                          <a:pt x="33" y="205"/>
                        </a:lnTo>
                        <a:lnTo>
                          <a:pt x="0" y="2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6021720" y="3780000"/>
                    <a:ext cx="9720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119">
                        <a:moveTo>
                          <a:pt x="0" y="119"/>
                        </a:moveTo>
                        <a:lnTo>
                          <a:pt x="0" y="29"/>
                        </a:lnTo>
                        <a:lnTo>
                          <a:pt x="194" y="0"/>
                        </a:lnTo>
                        <a:lnTo>
                          <a:pt x="194" y="89"/>
                        </a:lnTo>
                        <a:lnTo>
                          <a:pt x="0" y="11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16040" y="3780000"/>
                    <a:ext cx="4248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78">
                        <a:moveTo>
                          <a:pt x="0" y="67"/>
                        </a:moveTo>
                        <a:lnTo>
                          <a:pt x="0" y="0"/>
                        </a:lnTo>
                        <a:lnTo>
                          <a:pt x="83" y="29"/>
                        </a:lnTo>
                        <a:lnTo>
                          <a:pt x="72" y="78"/>
                        </a:ln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6257880" y="3810240"/>
                    <a:ext cx="954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242">
                        <a:moveTo>
                          <a:pt x="160" y="0"/>
                        </a:moveTo>
                        <a:lnTo>
                          <a:pt x="0" y="43"/>
                        </a:lnTo>
                        <a:lnTo>
                          <a:pt x="48" y="242"/>
                        </a:lnTo>
                        <a:lnTo>
                          <a:pt x="189" y="195"/>
                        </a:lnTo>
                        <a:lnTo>
                          <a:pt x="160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6206040" y="3785760"/>
                    <a:ext cx="227880" cy="10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50" h="2895">
                        <a:moveTo>
                          <a:pt x="0" y="2314"/>
                        </a:moveTo>
                        <a:lnTo>
                          <a:pt x="0" y="1797"/>
                        </a:lnTo>
                        <a:lnTo>
                          <a:pt x="66" y="1609"/>
                        </a:lnTo>
                        <a:lnTo>
                          <a:pt x="66" y="0"/>
                        </a:lnTo>
                        <a:lnTo>
                          <a:pt x="262" y="139"/>
                        </a:lnTo>
                        <a:lnTo>
                          <a:pt x="262" y="60"/>
                        </a:lnTo>
                        <a:lnTo>
                          <a:pt x="425" y="179"/>
                        </a:lnTo>
                        <a:lnTo>
                          <a:pt x="425" y="257"/>
                        </a:lnTo>
                        <a:lnTo>
                          <a:pt x="450" y="296"/>
                        </a:lnTo>
                        <a:lnTo>
                          <a:pt x="450" y="2895"/>
                        </a:lnTo>
                        <a:lnTo>
                          <a:pt x="65" y="2895"/>
                        </a:lnTo>
                        <a:lnTo>
                          <a:pt x="0" y="2892"/>
                        </a:lnTo>
                        <a:lnTo>
                          <a:pt x="0" y="2314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814720" y="3785760"/>
                    <a:ext cx="427320" cy="10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41" h="2895">
                        <a:moveTo>
                          <a:pt x="0" y="2895"/>
                        </a:moveTo>
                        <a:lnTo>
                          <a:pt x="0" y="1799"/>
                        </a:lnTo>
                        <a:lnTo>
                          <a:pt x="70" y="1616"/>
                        </a:lnTo>
                        <a:lnTo>
                          <a:pt x="70" y="196"/>
                        </a:lnTo>
                        <a:lnTo>
                          <a:pt x="108" y="114"/>
                        </a:lnTo>
                        <a:lnTo>
                          <a:pt x="841" y="0"/>
                        </a:lnTo>
                        <a:lnTo>
                          <a:pt x="841" y="1620"/>
                        </a:lnTo>
                        <a:lnTo>
                          <a:pt x="778" y="1808"/>
                        </a:lnTo>
                        <a:lnTo>
                          <a:pt x="778" y="2895"/>
                        </a:lnTo>
                        <a:lnTo>
                          <a:pt x="0" y="289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5827320" y="4548600"/>
                    <a:ext cx="371160" cy="77760"/>
                    <a:chOff x="5827320" y="4548600"/>
                    <a:chExt cx="371160" cy="7776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5828400" y="4548600"/>
                      <a:ext cx="369720" cy="108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5827320" y="4574160"/>
                      <a:ext cx="371160" cy="108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5827320" y="4625280"/>
                      <a:ext cx="371160" cy="108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5827320" y="4600800"/>
                      <a:ext cx="371160" cy="108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3" name=""/>
                  <p:cNvSpPr/>
                  <p:nvPr/>
                </p:nvSpPr>
                <p:spPr>
                  <a:xfrm>
                    <a:off x="6397560" y="3894480"/>
                    <a:ext cx="16560" cy="5889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6298920" y="3849480"/>
                    <a:ext cx="16560" cy="5889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6362640" y="3876480"/>
                    <a:ext cx="16560" cy="5889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6333840" y="3861360"/>
                    <a:ext cx="16560" cy="58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6266880" y="3831120"/>
                    <a:ext cx="16560" cy="58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5850000" y="3785760"/>
                    <a:ext cx="39204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775" h="207">
                        <a:moveTo>
                          <a:pt x="0" y="207"/>
                        </a:moveTo>
                        <a:lnTo>
                          <a:pt x="42" y="118"/>
                        </a:lnTo>
                        <a:lnTo>
                          <a:pt x="775" y="0"/>
                        </a:lnTo>
                        <a:lnTo>
                          <a:pt x="775" y="114"/>
                        </a:lnTo>
                        <a:lnTo>
                          <a:pt x="0" y="207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813640" y="4396320"/>
                    <a:ext cx="4287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845" h="190">
                        <a:moveTo>
                          <a:pt x="75" y="0"/>
                        </a:moveTo>
                        <a:lnTo>
                          <a:pt x="845" y="0"/>
                        </a:lnTo>
                        <a:lnTo>
                          <a:pt x="782" y="190"/>
                        </a:lnTo>
                        <a:lnTo>
                          <a:pt x="0" y="19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6122160" y="3832560"/>
                    <a:ext cx="56160" cy="63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691">
                        <a:moveTo>
                          <a:pt x="111" y="0"/>
                        </a:moveTo>
                        <a:lnTo>
                          <a:pt x="111" y="1500"/>
                        </a:lnTo>
                        <a:lnTo>
                          <a:pt x="42" y="1691"/>
                        </a:lnTo>
                        <a:lnTo>
                          <a:pt x="0" y="1691"/>
                        </a:lnTo>
                        <a:lnTo>
                          <a:pt x="71" y="1501"/>
                        </a:lnTo>
                        <a:lnTo>
                          <a:pt x="71" y="4"/>
                        </a:lnTo>
                        <a:lnTo>
                          <a:pt x="111" y="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6061680" y="3838680"/>
                    <a:ext cx="51480" cy="63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1674">
                        <a:moveTo>
                          <a:pt x="0" y="1672"/>
                        </a:moveTo>
                        <a:lnTo>
                          <a:pt x="65" y="1483"/>
                        </a:lnTo>
                        <a:lnTo>
                          <a:pt x="65" y="3"/>
                        </a:lnTo>
                        <a:lnTo>
                          <a:pt x="101" y="0"/>
                        </a:lnTo>
                        <a:lnTo>
                          <a:pt x="101" y="1487"/>
                        </a:lnTo>
                        <a:lnTo>
                          <a:pt x="39" y="1674"/>
                        </a:lnTo>
                        <a:lnTo>
                          <a:pt x="0" y="1672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992920" y="3844440"/>
                    <a:ext cx="54720" cy="62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656">
                        <a:moveTo>
                          <a:pt x="67" y="6"/>
                        </a:moveTo>
                        <a:lnTo>
                          <a:pt x="106" y="0"/>
                        </a:lnTo>
                        <a:lnTo>
                          <a:pt x="106" y="1477"/>
                        </a:lnTo>
                        <a:lnTo>
                          <a:pt x="44" y="1656"/>
                        </a:lnTo>
                        <a:lnTo>
                          <a:pt x="0" y="1656"/>
                        </a:lnTo>
                        <a:lnTo>
                          <a:pt x="67" y="1471"/>
                        </a:lnTo>
                        <a:lnTo>
                          <a:pt x="67" y="6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925960" y="3850920"/>
                    <a:ext cx="5616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642">
                        <a:moveTo>
                          <a:pt x="72" y="3"/>
                        </a:moveTo>
                        <a:lnTo>
                          <a:pt x="111" y="0"/>
                        </a:lnTo>
                        <a:lnTo>
                          <a:pt x="111" y="1457"/>
                        </a:lnTo>
                        <a:lnTo>
                          <a:pt x="46" y="1642"/>
                        </a:lnTo>
                        <a:lnTo>
                          <a:pt x="0" y="1642"/>
                        </a:lnTo>
                        <a:lnTo>
                          <a:pt x="72" y="1455"/>
                        </a:lnTo>
                        <a:lnTo>
                          <a:pt x="72" y="3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865120" y="3857040"/>
                    <a:ext cx="54720" cy="61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622">
                        <a:moveTo>
                          <a:pt x="66" y="4"/>
                        </a:moveTo>
                        <a:lnTo>
                          <a:pt x="107" y="0"/>
                        </a:lnTo>
                        <a:lnTo>
                          <a:pt x="107" y="1437"/>
                        </a:lnTo>
                        <a:lnTo>
                          <a:pt x="37" y="1622"/>
                        </a:lnTo>
                        <a:lnTo>
                          <a:pt x="0" y="1622"/>
                        </a:lnTo>
                        <a:lnTo>
                          <a:pt x="66" y="1438"/>
                        </a:lnTo>
                        <a:lnTo>
                          <a:pt x="66" y="4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6496560" y="4520160"/>
                  <a:ext cx="95760" cy="358200"/>
                  <a:chOff x="6496560" y="4520160"/>
                  <a:chExt cx="95760" cy="3582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6496560" y="4520160"/>
                    <a:ext cx="95760" cy="3582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6519240" y="4539600"/>
                    <a:ext cx="19440" cy="127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549480" y="4539600"/>
                    <a:ext cx="18000" cy="1278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507000" y="4563720"/>
                    <a:ext cx="74160" cy="1080"/>
                  </a:xfrm>
                  <a:prstGeom prst="line">
                    <a:avLst/>
                  </a:prstGeom>
                  <a:ln w="46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511680" y="4590720"/>
                    <a:ext cx="74160" cy="1440"/>
                  </a:xfrm>
                  <a:prstGeom prst="line">
                    <a:avLst/>
                  </a:prstGeom>
                  <a:ln w="46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6507000" y="4613040"/>
                    <a:ext cx="75600" cy="1440"/>
                  </a:xfrm>
                  <a:prstGeom prst="line">
                    <a:avLst/>
                  </a:prstGeom>
                  <a:ln w="46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511680" y="4638960"/>
                    <a:ext cx="74160" cy="1440"/>
                  </a:xfrm>
                  <a:prstGeom prst="line">
                    <a:avLst/>
                  </a:prstGeom>
                  <a:ln w="46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6895080" y="4339080"/>
                  <a:ext cx="289800" cy="537840"/>
                  <a:chOff x="6895080" y="4339080"/>
                  <a:chExt cx="289800" cy="53784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7072560" y="4385520"/>
                    <a:ext cx="112320" cy="49104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6895080" y="4339080"/>
                    <a:ext cx="223200" cy="53784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1427">
                        <a:moveTo>
                          <a:pt x="0" y="34"/>
                        </a:moveTo>
                        <a:lnTo>
                          <a:pt x="0" y="1427"/>
                        </a:lnTo>
                        <a:lnTo>
                          <a:pt x="441" y="1427"/>
                        </a:lnTo>
                        <a:lnTo>
                          <a:pt x="441" y="0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7112520" y="4339080"/>
                    <a:ext cx="72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245">
                        <a:moveTo>
                          <a:pt x="0" y="0"/>
                        </a:moveTo>
                        <a:lnTo>
                          <a:pt x="143" y="126"/>
                        </a:lnTo>
                        <a:lnTo>
                          <a:pt x="143" y="245"/>
                        </a:lnTo>
                        <a:lnTo>
                          <a:pt x="0" y="15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916320" y="4405320"/>
                    <a:ext cx="22680" cy="227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057440" y="4408200"/>
                    <a:ext cx="21240" cy="2286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6902640" y="4444200"/>
                    <a:ext cx="203400" cy="1440"/>
                  </a:xfrm>
                  <a:prstGeom prst="line">
                    <a:avLst/>
                  </a:prstGeom>
                  <a:ln w="468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906960" y="4487760"/>
                    <a:ext cx="191520" cy="1440"/>
                  </a:xfrm>
                  <a:prstGeom prst="line">
                    <a:avLst/>
                  </a:prstGeom>
                  <a:ln w="468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6904080" y="4539240"/>
                    <a:ext cx="194040" cy="1440"/>
                  </a:xfrm>
                  <a:prstGeom prst="line">
                    <a:avLst/>
                  </a:prstGeom>
                  <a:ln w="468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911640" y="4582800"/>
                    <a:ext cx="186480" cy="1080"/>
                  </a:xfrm>
                  <a:prstGeom prst="line">
                    <a:avLst/>
                  </a:prstGeom>
                  <a:ln w="468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7882560" y="4265280"/>
                  <a:ext cx="233640" cy="611280"/>
                  <a:chOff x="7882560" y="4265280"/>
                  <a:chExt cx="233640" cy="61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7990200" y="4265280"/>
                    <a:ext cx="759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77">
                        <a:moveTo>
                          <a:pt x="15" y="0"/>
                        </a:moveTo>
                        <a:lnTo>
                          <a:pt x="151" y="59"/>
                        </a:lnTo>
                        <a:lnTo>
                          <a:pt x="144" y="177"/>
                        </a:lnTo>
                        <a:lnTo>
                          <a:pt x="0" y="128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7961400" y="4265280"/>
                    <a:ext cx="40680" cy="70560"/>
                  </a:xfrm>
                  <a:prstGeom prst="rect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7882560" y="4313160"/>
                    <a:ext cx="142920" cy="563400"/>
                  </a:xfrm>
                  <a:prstGeom prst="rect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020440" y="4313160"/>
                    <a:ext cx="95760" cy="56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496">
                        <a:moveTo>
                          <a:pt x="0" y="0"/>
                        </a:moveTo>
                        <a:lnTo>
                          <a:pt x="189" y="61"/>
                        </a:lnTo>
                        <a:lnTo>
                          <a:pt x="189" y="1496"/>
                        </a:lnTo>
                        <a:lnTo>
                          <a:pt x="0" y="149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7908120" y="4344840"/>
                    <a:ext cx="21240" cy="2754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7938720" y="4344840"/>
                    <a:ext cx="22680" cy="2754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7975080" y="4344840"/>
                    <a:ext cx="21240" cy="2754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7885440" y="4392720"/>
                    <a:ext cx="129240" cy="1440"/>
                  </a:xfrm>
                  <a:prstGeom prst="line">
                    <a:avLst/>
                  </a:prstGeom>
                  <a:ln w="468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7890120" y="4444200"/>
                    <a:ext cx="129240" cy="1440"/>
                  </a:xfrm>
                  <a:prstGeom prst="line">
                    <a:avLst/>
                  </a:prstGeom>
                  <a:ln w="468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7886880" y="4506120"/>
                    <a:ext cx="132120" cy="1440"/>
                  </a:xfrm>
                  <a:prstGeom prst="line">
                    <a:avLst/>
                  </a:prstGeom>
                  <a:ln w="468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7894440" y="4559040"/>
                    <a:ext cx="118440" cy="1080"/>
                  </a:xfrm>
                  <a:prstGeom prst="line">
                    <a:avLst/>
                  </a:prstGeom>
                  <a:ln w="468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7683120" y="4459680"/>
                  <a:ext cx="223560" cy="419040"/>
                  <a:chOff x="7683120" y="4459680"/>
                  <a:chExt cx="223560" cy="41904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7683120" y="4459680"/>
                    <a:ext cx="133560" cy="419040"/>
                  </a:xfrm>
                  <a:prstGeom prst="rect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7810920" y="4459680"/>
                    <a:ext cx="95760" cy="4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108">
                        <a:moveTo>
                          <a:pt x="0" y="0"/>
                        </a:moveTo>
                        <a:lnTo>
                          <a:pt x="190" y="87"/>
                        </a:lnTo>
                        <a:lnTo>
                          <a:pt x="190" y="1108"/>
                        </a:lnTo>
                        <a:lnTo>
                          <a:pt x="0" y="110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7258680" y="3938400"/>
                  <a:ext cx="436320" cy="939960"/>
                  <a:chOff x="7258680" y="3938400"/>
                  <a:chExt cx="436320" cy="93996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7610040" y="3939480"/>
                    <a:ext cx="84960" cy="9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493">
                        <a:moveTo>
                          <a:pt x="14" y="0"/>
                        </a:moveTo>
                        <a:lnTo>
                          <a:pt x="167" y="195"/>
                        </a:lnTo>
                        <a:lnTo>
                          <a:pt x="167" y="2490"/>
                        </a:lnTo>
                        <a:lnTo>
                          <a:pt x="0" y="249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7258680" y="3938400"/>
                    <a:ext cx="364680" cy="9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719" h="2495">
                        <a:moveTo>
                          <a:pt x="0" y="75"/>
                        </a:moveTo>
                        <a:lnTo>
                          <a:pt x="719" y="0"/>
                        </a:lnTo>
                        <a:lnTo>
                          <a:pt x="719" y="2495"/>
                        </a:lnTo>
                        <a:lnTo>
                          <a:pt x="0" y="2492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7541280" y="3942720"/>
                    <a:ext cx="25560" cy="9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485">
                        <a:moveTo>
                          <a:pt x="51" y="0"/>
                        </a:moveTo>
                        <a:lnTo>
                          <a:pt x="0" y="3"/>
                        </a:lnTo>
                        <a:lnTo>
                          <a:pt x="0" y="2485"/>
                        </a:lnTo>
                        <a:lnTo>
                          <a:pt x="51" y="2485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7477560" y="3947040"/>
                    <a:ext cx="22680" cy="9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466">
                        <a:moveTo>
                          <a:pt x="47" y="0"/>
                        </a:moveTo>
                        <a:lnTo>
                          <a:pt x="1" y="8"/>
                        </a:lnTo>
                        <a:lnTo>
                          <a:pt x="0" y="2466"/>
                        </a:lnTo>
                        <a:lnTo>
                          <a:pt x="46" y="2466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7412040" y="3953160"/>
                    <a:ext cx="23040" cy="9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450">
                        <a:moveTo>
                          <a:pt x="47" y="0"/>
                        </a:moveTo>
                        <a:lnTo>
                          <a:pt x="2" y="3"/>
                        </a:lnTo>
                        <a:lnTo>
                          <a:pt x="0" y="2450"/>
                        </a:lnTo>
                        <a:lnTo>
                          <a:pt x="46" y="2450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7348320" y="3957840"/>
                    <a:ext cx="2448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438">
                        <a:moveTo>
                          <a:pt x="48" y="0"/>
                        </a:moveTo>
                        <a:lnTo>
                          <a:pt x="1" y="3"/>
                        </a:lnTo>
                        <a:lnTo>
                          <a:pt x="0" y="2438"/>
                        </a:lnTo>
                        <a:lnTo>
                          <a:pt x="47" y="2438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7284240" y="3963960"/>
                    <a:ext cx="24480" cy="9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425">
                        <a:moveTo>
                          <a:pt x="48" y="0"/>
                        </a:moveTo>
                        <a:lnTo>
                          <a:pt x="2" y="2"/>
                        </a:lnTo>
                        <a:lnTo>
                          <a:pt x="0" y="2425"/>
                        </a:lnTo>
                        <a:lnTo>
                          <a:pt x="47" y="2425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6604560" y="4488120"/>
                  <a:ext cx="291960" cy="388800"/>
                  <a:chOff x="6604560" y="4488120"/>
                  <a:chExt cx="291960" cy="38880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6604560" y="4488120"/>
                    <a:ext cx="174600" cy="38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1030">
                        <a:moveTo>
                          <a:pt x="0" y="0"/>
                        </a:moveTo>
                        <a:lnTo>
                          <a:pt x="346" y="12"/>
                        </a:lnTo>
                        <a:lnTo>
                          <a:pt x="346" y="1030"/>
                        </a:lnTo>
                        <a:lnTo>
                          <a:pt x="0" y="10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6697080" y="4536000"/>
                    <a:ext cx="18000" cy="126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6733800" y="4536000"/>
                    <a:ext cx="18000" cy="126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6774840" y="4492440"/>
                    <a:ext cx="12168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020">
                        <a:moveTo>
                          <a:pt x="0" y="0"/>
                        </a:moveTo>
                        <a:lnTo>
                          <a:pt x="0" y="1020"/>
                        </a:lnTo>
                        <a:lnTo>
                          <a:pt x="240" y="1017"/>
                        </a:lnTo>
                        <a:lnTo>
                          <a:pt x="240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6625800" y="4536000"/>
                    <a:ext cx="18000" cy="126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6662160" y="4536000"/>
                    <a:ext cx="17640" cy="126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6604560" y="4559040"/>
                    <a:ext cx="163800" cy="1080"/>
                  </a:xfrm>
                  <a:prstGeom prst="line">
                    <a:avLst/>
                  </a:prstGeom>
                  <a:ln w="468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6612120" y="4584240"/>
                    <a:ext cx="141120" cy="1440"/>
                  </a:xfrm>
                  <a:prstGeom prst="line">
                    <a:avLst/>
                  </a:prstGeom>
                  <a:ln w="468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6608880" y="4609800"/>
                    <a:ext cx="165600" cy="1440"/>
                  </a:xfrm>
                  <a:prstGeom prst="line">
                    <a:avLst/>
                  </a:prstGeom>
                  <a:ln w="468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6619680" y="4634280"/>
                    <a:ext cx="141120" cy="1080"/>
                  </a:xfrm>
                  <a:prstGeom prst="line">
                    <a:avLst/>
                  </a:prstGeom>
                  <a:ln w="468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7" name=""/>
              <p:cNvGrpSpPr/>
              <p:nvPr/>
            </p:nvGrpSpPr>
            <p:grpSpPr>
              <a:xfrm>
                <a:off x="5676840" y="4734360"/>
                <a:ext cx="2628720" cy="434160"/>
                <a:chOff x="5676840" y="4734360"/>
                <a:chExt cx="2628720" cy="43416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5676840" y="4906800"/>
                  <a:ext cx="2628720" cy="261720"/>
                </a:xfrm>
                <a:prstGeom prst="rect">
                  <a:avLst/>
                </a:prstGeom>
                <a:solidFill>
                  <a:srgbClr val="c0c0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5679360" y="4842720"/>
                  <a:ext cx="2618640" cy="224640"/>
                </a:xfrm>
                <a:custGeom>
                  <a:avLst/>
                  <a:gdLst/>
                  <a:ahLst/>
                  <a:rect l="l" t="t" r="r" b="b"/>
                  <a:pathLst>
                    <a:path w="5621" h="582">
                      <a:moveTo>
                        <a:pt x="0" y="43"/>
                      </a:moveTo>
                      <a:lnTo>
                        <a:pt x="0" y="455"/>
                      </a:lnTo>
                      <a:lnTo>
                        <a:pt x="159" y="440"/>
                      </a:lnTo>
                      <a:lnTo>
                        <a:pt x="285" y="369"/>
                      </a:lnTo>
                      <a:lnTo>
                        <a:pt x="308" y="354"/>
                      </a:lnTo>
                      <a:lnTo>
                        <a:pt x="410" y="342"/>
                      </a:lnTo>
                      <a:lnTo>
                        <a:pt x="500" y="354"/>
                      </a:lnTo>
                      <a:lnTo>
                        <a:pt x="580" y="369"/>
                      </a:lnTo>
                      <a:lnTo>
                        <a:pt x="694" y="426"/>
                      </a:lnTo>
                      <a:lnTo>
                        <a:pt x="741" y="455"/>
                      </a:lnTo>
                      <a:lnTo>
                        <a:pt x="877" y="511"/>
                      </a:lnTo>
                      <a:lnTo>
                        <a:pt x="956" y="511"/>
                      </a:lnTo>
                      <a:lnTo>
                        <a:pt x="1083" y="511"/>
                      </a:lnTo>
                      <a:lnTo>
                        <a:pt x="1105" y="511"/>
                      </a:lnTo>
                      <a:lnTo>
                        <a:pt x="1174" y="496"/>
                      </a:lnTo>
                      <a:lnTo>
                        <a:pt x="1205" y="480"/>
                      </a:lnTo>
                      <a:lnTo>
                        <a:pt x="1275" y="481"/>
                      </a:lnTo>
                      <a:lnTo>
                        <a:pt x="1299" y="481"/>
                      </a:lnTo>
                      <a:lnTo>
                        <a:pt x="1413" y="539"/>
                      </a:lnTo>
                      <a:lnTo>
                        <a:pt x="1458" y="554"/>
                      </a:lnTo>
                      <a:lnTo>
                        <a:pt x="1481" y="554"/>
                      </a:lnTo>
                      <a:lnTo>
                        <a:pt x="1550" y="567"/>
                      </a:lnTo>
                      <a:lnTo>
                        <a:pt x="1606" y="567"/>
                      </a:lnTo>
                      <a:lnTo>
                        <a:pt x="1630" y="567"/>
                      </a:lnTo>
                      <a:lnTo>
                        <a:pt x="1710" y="567"/>
                      </a:lnTo>
                      <a:lnTo>
                        <a:pt x="1858" y="567"/>
                      </a:lnTo>
                      <a:lnTo>
                        <a:pt x="2029" y="567"/>
                      </a:lnTo>
                      <a:lnTo>
                        <a:pt x="2154" y="582"/>
                      </a:lnTo>
                      <a:lnTo>
                        <a:pt x="2451" y="567"/>
                      </a:lnTo>
                      <a:lnTo>
                        <a:pt x="2576" y="539"/>
                      </a:lnTo>
                      <a:lnTo>
                        <a:pt x="2622" y="524"/>
                      </a:lnTo>
                      <a:lnTo>
                        <a:pt x="2747" y="481"/>
                      </a:lnTo>
                      <a:lnTo>
                        <a:pt x="2850" y="426"/>
                      </a:lnTo>
                      <a:lnTo>
                        <a:pt x="2986" y="382"/>
                      </a:lnTo>
                      <a:lnTo>
                        <a:pt x="3078" y="382"/>
                      </a:lnTo>
                      <a:lnTo>
                        <a:pt x="3192" y="412"/>
                      </a:lnTo>
                      <a:lnTo>
                        <a:pt x="3249" y="426"/>
                      </a:lnTo>
                      <a:lnTo>
                        <a:pt x="3386" y="440"/>
                      </a:lnTo>
                      <a:lnTo>
                        <a:pt x="3442" y="440"/>
                      </a:lnTo>
                      <a:lnTo>
                        <a:pt x="3500" y="455"/>
                      </a:lnTo>
                      <a:lnTo>
                        <a:pt x="3636" y="469"/>
                      </a:lnTo>
                      <a:lnTo>
                        <a:pt x="3717" y="469"/>
                      </a:lnTo>
                      <a:lnTo>
                        <a:pt x="3795" y="469"/>
                      </a:lnTo>
                      <a:lnTo>
                        <a:pt x="3865" y="469"/>
                      </a:lnTo>
                      <a:lnTo>
                        <a:pt x="3956" y="511"/>
                      </a:lnTo>
                      <a:lnTo>
                        <a:pt x="4024" y="524"/>
                      </a:lnTo>
                      <a:lnTo>
                        <a:pt x="4173" y="539"/>
                      </a:lnTo>
                      <a:lnTo>
                        <a:pt x="4264" y="539"/>
                      </a:lnTo>
                      <a:lnTo>
                        <a:pt x="4355" y="539"/>
                      </a:lnTo>
                      <a:lnTo>
                        <a:pt x="4481" y="524"/>
                      </a:lnTo>
                      <a:lnTo>
                        <a:pt x="4595" y="524"/>
                      </a:lnTo>
                      <a:lnTo>
                        <a:pt x="4674" y="524"/>
                      </a:lnTo>
                      <a:lnTo>
                        <a:pt x="4742" y="524"/>
                      </a:lnTo>
                      <a:lnTo>
                        <a:pt x="4925" y="524"/>
                      </a:lnTo>
                      <a:lnTo>
                        <a:pt x="4959" y="524"/>
                      </a:lnTo>
                      <a:lnTo>
                        <a:pt x="5073" y="511"/>
                      </a:lnTo>
                      <a:lnTo>
                        <a:pt x="5143" y="481"/>
                      </a:lnTo>
                      <a:lnTo>
                        <a:pt x="5198" y="469"/>
                      </a:lnTo>
                      <a:lnTo>
                        <a:pt x="5302" y="455"/>
                      </a:lnTo>
                      <a:lnTo>
                        <a:pt x="5357" y="440"/>
                      </a:lnTo>
                      <a:lnTo>
                        <a:pt x="5427" y="455"/>
                      </a:lnTo>
                      <a:lnTo>
                        <a:pt x="5471" y="455"/>
                      </a:lnTo>
                      <a:lnTo>
                        <a:pt x="5598" y="412"/>
                      </a:lnTo>
                      <a:lnTo>
                        <a:pt x="5621" y="397"/>
                      </a:lnTo>
                      <a:lnTo>
                        <a:pt x="5621" y="142"/>
                      </a:lnTo>
                      <a:lnTo>
                        <a:pt x="5050" y="58"/>
                      </a:lnTo>
                      <a:lnTo>
                        <a:pt x="3409" y="0"/>
                      </a:lnTo>
                      <a:lnTo>
                        <a:pt x="2256" y="86"/>
                      </a:lnTo>
                      <a:lnTo>
                        <a:pt x="1275" y="200"/>
                      </a:lnTo>
                      <a:lnTo>
                        <a:pt x="991" y="86"/>
                      </a:lnTo>
                      <a:lnTo>
                        <a:pt x="180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679360" y="4734360"/>
                  <a:ext cx="2620440" cy="236160"/>
                </a:xfrm>
                <a:custGeom>
                  <a:avLst/>
                  <a:gdLst/>
                  <a:ahLst/>
                  <a:rect l="l" t="t" r="r" b="b"/>
                  <a:pathLst>
                    <a:path w="5625" h="610">
                      <a:moveTo>
                        <a:pt x="0" y="25"/>
                      </a:moveTo>
                      <a:lnTo>
                        <a:pt x="55" y="0"/>
                      </a:lnTo>
                      <a:lnTo>
                        <a:pt x="79" y="0"/>
                      </a:lnTo>
                      <a:lnTo>
                        <a:pt x="180" y="0"/>
                      </a:lnTo>
                      <a:lnTo>
                        <a:pt x="216" y="0"/>
                      </a:lnTo>
                      <a:lnTo>
                        <a:pt x="261" y="28"/>
                      </a:lnTo>
                      <a:lnTo>
                        <a:pt x="296" y="28"/>
                      </a:lnTo>
                      <a:lnTo>
                        <a:pt x="329" y="41"/>
                      </a:lnTo>
                      <a:lnTo>
                        <a:pt x="352" y="70"/>
                      </a:lnTo>
                      <a:lnTo>
                        <a:pt x="352" y="99"/>
                      </a:lnTo>
                      <a:lnTo>
                        <a:pt x="375" y="99"/>
                      </a:lnTo>
                      <a:lnTo>
                        <a:pt x="410" y="127"/>
                      </a:lnTo>
                      <a:lnTo>
                        <a:pt x="421" y="154"/>
                      </a:lnTo>
                      <a:lnTo>
                        <a:pt x="467" y="169"/>
                      </a:lnTo>
                      <a:lnTo>
                        <a:pt x="524" y="169"/>
                      </a:lnTo>
                      <a:lnTo>
                        <a:pt x="546" y="169"/>
                      </a:lnTo>
                      <a:lnTo>
                        <a:pt x="592" y="184"/>
                      </a:lnTo>
                      <a:lnTo>
                        <a:pt x="660" y="184"/>
                      </a:lnTo>
                      <a:lnTo>
                        <a:pt x="705" y="198"/>
                      </a:lnTo>
                      <a:lnTo>
                        <a:pt x="752" y="227"/>
                      </a:lnTo>
                      <a:lnTo>
                        <a:pt x="775" y="241"/>
                      </a:lnTo>
                      <a:lnTo>
                        <a:pt x="808" y="270"/>
                      </a:lnTo>
                      <a:lnTo>
                        <a:pt x="842" y="283"/>
                      </a:lnTo>
                      <a:lnTo>
                        <a:pt x="866" y="283"/>
                      </a:lnTo>
                      <a:lnTo>
                        <a:pt x="900" y="283"/>
                      </a:lnTo>
                      <a:lnTo>
                        <a:pt x="934" y="296"/>
                      </a:lnTo>
                      <a:lnTo>
                        <a:pt x="956" y="296"/>
                      </a:lnTo>
                      <a:lnTo>
                        <a:pt x="979" y="296"/>
                      </a:lnTo>
                      <a:lnTo>
                        <a:pt x="1002" y="283"/>
                      </a:lnTo>
                      <a:lnTo>
                        <a:pt x="1025" y="283"/>
                      </a:lnTo>
                      <a:lnTo>
                        <a:pt x="1048" y="283"/>
                      </a:lnTo>
                      <a:lnTo>
                        <a:pt x="1072" y="296"/>
                      </a:lnTo>
                      <a:lnTo>
                        <a:pt x="1116" y="311"/>
                      </a:lnTo>
                      <a:lnTo>
                        <a:pt x="1161" y="326"/>
                      </a:lnTo>
                      <a:lnTo>
                        <a:pt x="1219" y="326"/>
                      </a:lnTo>
                      <a:lnTo>
                        <a:pt x="1275" y="340"/>
                      </a:lnTo>
                      <a:lnTo>
                        <a:pt x="1298" y="354"/>
                      </a:lnTo>
                      <a:lnTo>
                        <a:pt x="1322" y="354"/>
                      </a:lnTo>
                      <a:lnTo>
                        <a:pt x="1390" y="383"/>
                      </a:lnTo>
                      <a:lnTo>
                        <a:pt x="1411" y="383"/>
                      </a:lnTo>
                      <a:lnTo>
                        <a:pt x="1435" y="395"/>
                      </a:lnTo>
                      <a:lnTo>
                        <a:pt x="1481" y="369"/>
                      </a:lnTo>
                      <a:lnTo>
                        <a:pt x="1527" y="369"/>
                      </a:lnTo>
                      <a:lnTo>
                        <a:pt x="1572" y="340"/>
                      </a:lnTo>
                      <a:lnTo>
                        <a:pt x="1617" y="340"/>
                      </a:lnTo>
                      <a:lnTo>
                        <a:pt x="1652" y="340"/>
                      </a:lnTo>
                      <a:lnTo>
                        <a:pt x="1709" y="311"/>
                      </a:lnTo>
                      <a:lnTo>
                        <a:pt x="1731" y="311"/>
                      </a:lnTo>
                      <a:lnTo>
                        <a:pt x="1754" y="311"/>
                      </a:lnTo>
                      <a:lnTo>
                        <a:pt x="1778" y="311"/>
                      </a:lnTo>
                      <a:lnTo>
                        <a:pt x="1812" y="283"/>
                      </a:lnTo>
                      <a:lnTo>
                        <a:pt x="1834" y="270"/>
                      </a:lnTo>
                      <a:lnTo>
                        <a:pt x="1858" y="241"/>
                      </a:lnTo>
                      <a:lnTo>
                        <a:pt x="1880" y="198"/>
                      </a:lnTo>
                      <a:lnTo>
                        <a:pt x="1959" y="184"/>
                      </a:lnTo>
                      <a:lnTo>
                        <a:pt x="2006" y="184"/>
                      </a:lnTo>
                      <a:lnTo>
                        <a:pt x="2029" y="198"/>
                      </a:lnTo>
                      <a:lnTo>
                        <a:pt x="2084" y="198"/>
                      </a:lnTo>
                      <a:lnTo>
                        <a:pt x="2142" y="198"/>
                      </a:lnTo>
                      <a:lnTo>
                        <a:pt x="2165" y="184"/>
                      </a:lnTo>
                      <a:lnTo>
                        <a:pt x="2233" y="169"/>
                      </a:lnTo>
                      <a:lnTo>
                        <a:pt x="2256" y="169"/>
                      </a:lnTo>
                      <a:lnTo>
                        <a:pt x="2303" y="169"/>
                      </a:lnTo>
                      <a:lnTo>
                        <a:pt x="2325" y="184"/>
                      </a:lnTo>
                      <a:lnTo>
                        <a:pt x="2347" y="212"/>
                      </a:lnTo>
                      <a:lnTo>
                        <a:pt x="2370" y="212"/>
                      </a:lnTo>
                      <a:lnTo>
                        <a:pt x="2393" y="212"/>
                      </a:lnTo>
                      <a:lnTo>
                        <a:pt x="2428" y="212"/>
                      </a:lnTo>
                      <a:lnTo>
                        <a:pt x="2473" y="212"/>
                      </a:lnTo>
                      <a:lnTo>
                        <a:pt x="2496" y="198"/>
                      </a:lnTo>
                      <a:lnTo>
                        <a:pt x="2541" y="198"/>
                      </a:lnTo>
                      <a:lnTo>
                        <a:pt x="2598" y="198"/>
                      </a:lnTo>
                      <a:lnTo>
                        <a:pt x="2621" y="184"/>
                      </a:lnTo>
                      <a:lnTo>
                        <a:pt x="2645" y="169"/>
                      </a:lnTo>
                      <a:lnTo>
                        <a:pt x="2712" y="154"/>
                      </a:lnTo>
                      <a:lnTo>
                        <a:pt x="2815" y="142"/>
                      </a:lnTo>
                      <a:lnTo>
                        <a:pt x="2872" y="154"/>
                      </a:lnTo>
                      <a:lnTo>
                        <a:pt x="2895" y="169"/>
                      </a:lnTo>
                      <a:lnTo>
                        <a:pt x="2918" y="169"/>
                      </a:lnTo>
                      <a:lnTo>
                        <a:pt x="2940" y="169"/>
                      </a:lnTo>
                      <a:lnTo>
                        <a:pt x="2963" y="169"/>
                      </a:lnTo>
                      <a:lnTo>
                        <a:pt x="2985" y="184"/>
                      </a:lnTo>
                      <a:lnTo>
                        <a:pt x="3009" y="198"/>
                      </a:lnTo>
                      <a:lnTo>
                        <a:pt x="3054" y="198"/>
                      </a:lnTo>
                      <a:lnTo>
                        <a:pt x="3077" y="212"/>
                      </a:lnTo>
                      <a:lnTo>
                        <a:pt x="3112" y="212"/>
                      </a:lnTo>
                      <a:lnTo>
                        <a:pt x="3134" y="212"/>
                      </a:lnTo>
                      <a:lnTo>
                        <a:pt x="3168" y="212"/>
                      </a:lnTo>
                      <a:lnTo>
                        <a:pt x="3191" y="212"/>
                      </a:lnTo>
                      <a:lnTo>
                        <a:pt x="3214" y="212"/>
                      </a:lnTo>
                      <a:lnTo>
                        <a:pt x="3249" y="212"/>
                      </a:lnTo>
                      <a:lnTo>
                        <a:pt x="3283" y="212"/>
                      </a:lnTo>
                      <a:lnTo>
                        <a:pt x="3316" y="212"/>
                      </a:lnTo>
                      <a:lnTo>
                        <a:pt x="3351" y="212"/>
                      </a:lnTo>
                      <a:lnTo>
                        <a:pt x="3374" y="212"/>
                      </a:lnTo>
                      <a:lnTo>
                        <a:pt x="3408" y="227"/>
                      </a:lnTo>
                      <a:lnTo>
                        <a:pt x="3442" y="227"/>
                      </a:lnTo>
                      <a:lnTo>
                        <a:pt x="3476" y="227"/>
                      </a:lnTo>
                      <a:lnTo>
                        <a:pt x="3499" y="227"/>
                      </a:lnTo>
                      <a:lnTo>
                        <a:pt x="3521" y="227"/>
                      </a:lnTo>
                      <a:lnTo>
                        <a:pt x="3545" y="227"/>
                      </a:lnTo>
                      <a:lnTo>
                        <a:pt x="3568" y="227"/>
                      </a:lnTo>
                      <a:lnTo>
                        <a:pt x="3591" y="212"/>
                      </a:lnTo>
                      <a:lnTo>
                        <a:pt x="3612" y="198"/>
                      </a:lnTo>
                      <a:lnTo>
                        <a:pt x="3635" y="198"/>
                      </a:lnTo>
                      <a:lnTo>
                        <a:pt x="3659" y="198"/>
                      </a:lnTo>
                      <a:lnTo>
                        <a:pt x="3682" y="198"/>
                      </a:lnTo>
                      <a:lnTo>
                        <a:pt x="3727" y="198"/>
                      </a:lnTo>
                      <a:lnTo>
                        <a:pt x="3751" y="212"/>
                      </a:lnTo>
                      <a:lnTo>
                        <a:pt x="3818" y="241"/>
                      </a:lnTo>
                      <a:lnTo>
                        <a:pt x="3852" y="241"/>
                      </a:lnTo>
                      <a:lnTo>
                        <a:pt x="3899" y="256"/>
                      </a:lnTo>
                      <a:lnTo>
                        <a:pt x="3920" y="256"/>
                      </a:lnTo>
                      <a:lnTo>
                        <a:pt x="4001" y="241"/>
                      </a:lnTo>
                      <a:lnTo>
                        <a:pt x="4024" y="227"/>
                      </a:lnTo>
                      <a:lnTo>
                        <a:pt x="4068" y="212"/>
                      </a:lnTo>
                      <a:lnTo>
                        <a:pt x="4149" y="212"/>
                      </a:lnTo>
                      <a:lnTo>
                        <a:pt x="4183" y="212"/>
                      </a:lnTo>
                      <a:lnTo>
                        <a:pt x="4229" y="227"/>
                      </a:lnTo>
                      <a:lnTo>
                        <a:pt x="4251" y="227"/>
                      </a:lnTo>
                      <a:lnTo>
                        <a:pt x="4274" y="241"/>
                      </a:lnTo>
                      <a:lnTo>
                        <a:pt x="4332" y="256"/>
                      </a:lnTo>
                      <a:lnTo>
                        <a:pt x="4376" y="256"/>
                      </a:lnTo>
                      <a:lnTo>
                        <a:pt x="4422" y="270"/>
                      </a:lnTo>
                      <a:lnTo>
                        <a:pt x="4446" y="270"/>
                      </a:lnTo>
                      <a:lnTo>
                        <a:pt x="4514" y="270"/>
                      </a:lnTo>
                      <a:lnTo>
                        <a:pt x="4593" y="270"/>
                      </a:lnTo>
                      <a:lnTo>
                        <a:pt x="4616" y="270"/>
                      </a:lnTo>
                      <a:lnTo>
                        <a:pt x="4707" y="241"/>
                      </a:lnTo>
                      <a:lnTo>
                        <a:pt x="4844" y="198"/>
                      </a:lnTo>
                      <a:lnTo>
                        <a:pt x="4866" y="184"/>
                      </a:lnTo>
                      <a:lnTo>
                        <a:pt x="4936" y="184"/>
                      </a:lnTo>
                      <a:lnTo>
                        <a:pt x="4958" y="198"/>
                      </a:lnTo>
                      <a:lnTo>
                        <a:pt x="4981" y="212"/>
                      </a:lnTo>
                      <a:lnTo>
                        <a:pt x="5003" y="212"/>
                      </a:lnTo>
                      <a:lnTo>
                        <a:pt x="5027" y="227"/>
                      </a:lnTo>
                      <a:lnTo>
                        <a:pt x="5061" y="241"/>
                      </a:lnTo>
                      <a:lnTo>
                        <a:pt x="5107" y="270"/>
                      </a:lnTo>
                      <a:lnTo>
                        <a:pt x="5153" y="270"/>
                      </a:lnTo>
                      <a:lnTo>
                        <a:pt x="5220" y="283"/>
                      </a:lnTo>
                      <a:lnTo>
                        <a:pt x="5244" y="296"/>
                      </a:lnTo>
                      <a:lnTo>
                        <a:pt x="5301" y="296"/>
                      </a:lnTo>
                      <a:lnTo>
                        <a:pt x="5322" y="311"/>
                      </a:lnTo>
                      <a:lnTo>
                        <a:pt x="5380" y="326"/>
                      </a:lnTo>
                      <a:lnTo>
                        <a:pt x="5438" y="326"/>
                      </a:lnTo>
                      <a:lnTo>
                        <a:pt x="5505" y="354"/>
                      </a:lnTo>
                      <a:lnTo>
                        <a:pt x="5551" y="369"/>
                      </a:lnTo>
                      <a:lnTo>
                        <a:pt x="5575" y="369"/>
                      </a:lnTo>
                      <a:lnTo>
                        <a:pt x="5625" y="373"/>
                      </a:lnTo>
                      <a:lnTo>
                        <a:pt x="5625" y="493"/>
                      </a:lnTo>
                      <a:lnTo>
                        <a:pt x="5380" y="483"/>
                      </a:lnTo>
                      <a:lnTo>
                        <a:pt x="5322" y="483"/>
                      </a:lnTo>
                      <a:lnTo>
                        <a:pt x="5232" y="410"/>
                      </a:lnTo>
                      <a:lnTo>
                        <a:pt x="5208" y="410"/>
                      </a:lnTo>
                      <a:lnTo>
                        <a:pt x="5107" y="425"/>
                      </a:lnTo>
                      <a:lnTo>
                        <a:pt x="5061" y="453"/>
                      </a:lnTo>
                      <a:lnTo>
                        <a:pt x="5038" y="453"/>
                      </a:lnTo>
                      <a:lnTo>
                        <a:pt x="4970" y="483"/>
                      </a:lnTo>
                      <a:lnTo>
                        <a:pt x="4947" y="496"/>
                      </a:lnTo>
                      <a:lnTo>
                        <a:pt x="4902" y="511"/>
                      </a:lnTo>
                      <a:lnTo>
                        <a:pt x="4855" y="511"/>
                      </a:lnTo>
                      <a:lnTo>
                        <a:pt x="4753" y="511"/>
                      </a:lnTo>
                      <a:lnTo>
                        <a:pt x="4686" y="524"/>
                      </a:lnTo>
                      <a:lnTo>
                        <a:pt x="4639" y="524"/>
                      </a:lnTo>
                      <a:lnTo>
                        <a:pt x="4616" y="511"/>
                      </a:lnTo>
                      <a:lnTo>
                        <a:pt x="4525" y="511"/>
                      </a:lnTo>
                      <a:lnTo>
                        <a:pt x="4502" y="511"/>
                      </a:lnTo>
                      <a:lnTo>
                        <a:pt x="4457" y="511"/>
                      </a:lnTo>
                      <a:lnTo>
                        <a:pt x="4410" y="524"/>
                      </a:lnTo>
                      <a:lnTo>
                        <a:pt x="4366" y="524"/>
                      </a:lnTo>
                      <a:lnTo>
                        <a:pt x="4343" y="511"/>
                      </a:lnTo>
                      <a:lnTo>
                        <a:pt x="4274" y="496"/>
                      </a:lnTo>
                      <a:lnTo>
                        <a:pt x="4207" y="496"/>
                      </a:lnTo>
                      <a:lnTo>
                        <a:pt x="4138" y="496"/>
                      </a:lnTo>
                      <a:lnTo>
                        <a:pt x="4115" y="511"/>
                      </a:lnTo>
                      <a:lnTo>
                        <a:pt x="4047" y="511"/>
                      </a:lnTo>
                      <a:lnTo>
                        <a:pt x="4013" y="511"/>
                      </a:lnTo>
                      <a:lnTo>
                        <a:pt x="3955" y="496"/>
                      </a:lnTo>
                      <a:lnTo>
                        <a:pt x="3932" y="496"/>
                      </a:lnTo>
                      <a:lnTo>
                        <a:pt x="3807" y="538"/>
                      </a:lnTo>
                      <a:lnTo>
                        <a:pt x="3739" y="538"/>
                      </a:lnTo>
                      <a:lnTo>
                        <a:pt x="3670" y="483"/>
                      </a:lnTo>
                      <a:lnTo>
                        <a:pt x="3646" y="483"/>
                      </a:lnTo>
                      <a:lnTo>
                        <a:pt x="3601" y="468"/>
                      </a:lnTo>
                      <a:lnTo>
                        <a:pt x="3557" y="453"/>
                      </a:lnTo>
                      <a:lnTo>
                        <a:pt x="3487" y="440"/>
                      </a:lnTo>
                      <a:lnTo>
                        <a:pt x="3432" y="425"/>
                      </a:lnTo>
                      <a:lnTo>
                        <a:pt x="3385" y="425"/>
                      </a:lnTo>
                      <a:lnTo>
                        <a:pt x="3293" y="395"/>
                      </a:lnTo>
                      <a:lnTo>
                        <a:pt x="3260" y="395"/>
                      </a:lnTo>
                      <a:lnTo>
                        <a:pt x="3237" y="383"/>
                      </a:lnTo>
                      <a:lnTo>
                        <a:pt x="3214" y="383"/>
                      </a:lnTo>
                      <a:lnTo>
                        <a:pt x="3191" y="383"/>
                      </a:lnTo>
                      <a:lnTo>
                        <a:pt x="3156" y="383"/>
                      </a:lnTo>
                      <a:lnTo>
                        <a:pt x="3134" y="383"/>
                      </a:lnTo>
                      <a:lnTo>
                        <a:pt x="3112" y="395"/>
                      </a:lnTo>
                      <a:lnTo>
                        <a:pt x="3089" y="425"/>
                      </a:lnTo>
                      <a:lnTo>
                        <a:pt x="3066" y="440"/>
                      </a:lnTo>
                      <a:lnTo>
                        <a:pt x="3031" y="453"/>
                      </a:lnTo>
                      <a:lnTo>
                        <a:pt x="3009" y="468"/>
                      </a:lnTo>
                      <a:lnTo>
                        <a:pt x="2985" y="483"/>
                      </a:lnTo>
                      <a:lnTo>
                        <a:pt x="2963" y="496"/>
                      </a:lnTo>
                      <a:lnTo>
                        <a:pt x="2940" y="496"/>
                      </a:lnTo>
                      <a:lnTo>
                        <a:pt x="2918" y="496"/>
                      </a:lnTo>
                      <a:lnTo>
                        <a:pt x="2895" y="511"/>
                      </a:lnTo>
                      <a:lnTo>
                        <a:pt x="2872" y="511"/>
                      </a:lnTo>
                      <a:lnTo>
                        <a:pt x="2848" y="511"/>
                      </a:lnTo>
                      <a:lnTo>
                        <a:pt x="2826" y="511"/>
                      </a:lnTo>
                      <a:lnTo>
                        <a:pt x="2804" y="496"/>
                      </a:lnTo>
                      <a:lnTo>
                        <a:pt x="2759" y="496"/>
                      </a:lnTo>
                      <a:lnTo>
                        <a:pt x="2735" y="496"/>
                      </a:lnTo>
                      <a:lnTo>
                        <a:pt x="2689" y="496"/>
                      </a:lnTo>
                      <a:lnTo>
                        <a:pt x="2667" y="496"/>
                      </a:lnTo>
                      <a:lnTo>
                        <a:pt x="2645" y="468"/>
                      </a:lnTo>
                      <a:lnTo>
                        <a:pt x="2621" y="453"/>
                      </a:lnTo>
                      <a:lnTo>
                        <a:pt x="2598" y="440"/>
                      </a:lnTo>
                      <a:lnTo>
                        <a:pt x="2541" y="440"/>
                      </a:lnTo>
                      <a:lnTo>
                        <a:pt x="2496" y="440"/>
                      </a:lnTo>
                      <a:lnTo>
                        <a:pt x="2451" y="440"/>
                      </a:lnTo>
                      <a:lnTo>
                        <a:pt x="2393" y="453"/>
                      </a:lnTo>
                      <a:lnTo>
                        <a:pt x="2358" y="453"/>
                      </a:lnTo>
                      <a:lnTo>
                        <a:pt x="2314" y="496"/>
                      </a:lnTo>
                      <a:lnTo>
                        <a:pt x="2290" y="511"/>
                      </a:lnTo>
                      <a:lnTo>
                        <a:pt x="2267" y="538"/>
                      </a:lnTo>
                      <a:lnTo>
                        <a:pt x="2256" y="567"/>
                      </a:lnTo>
                      <a:lnTo>
                        <a:pt x="2233" y="567"/>
                      </a:lnTo>
                      <a:lnTo>
                        <a:pt x="2211" y="595"/>
                      </a:lnTo>
                      <a:lnTo>
                        <a:pt x="2189" y="595"/>
                      </a:lnTo>
                      <a:lnTo>
                        <a:pt x="2165" y="595"/>
                      </a:lnTo>
                      <a:lnTo>
                        <a:pt x="2097" y="610"/>
                      </a:lnTo>
                      <a:lnTo>
                        <a:pt x="2073" y="610"/>
                      </a:lnTo>
                      <a:lnTo>
                        <a:pt x="1972" y="610"/>
                      </a:lnTo>
                      <a:lnTo>
                        <a:pt x="1914" y="610"/>
                      </a:lnTo>
                      <a:lnTo>
                        <a:pt x="1870" y="595"/>
                      </a:lnTo>
                      <a:lnTo>
                        <a:pt x="1834" y="595"/>
                      </a:lnTo>
                      <a:lnTo>
                        <a:pt x="1800" y="581"/>
                      </a:lnTo>
                      <a:lnTo>
                        <a:pt x="1778" y="581"/>
                      </a:lnTo>
                      <a:lnTo>
                        <a:pt x="1754" y="567"/>
                      </a:lnTo>
                      <a:lnTo>
                        <a:pt x="1731" y="567"/>
                      </a:lnTo>
                      <a:lnTo>
                        <a:pt x="1652" y="567"/>
                      </a:lnTo>
                      <a:lnTo>
                        <a:pt x="1594" y="567"/>
                      </a:lnTo>
                      <a:lnTo>
                        <a:pt x="1458" y="567"/>
                      </a:lnTo>
                      <a:lnTo>
                        <a:pt x="1367" y="552"/>
                      </a:lnTo>
                      <a:lnTo>
                        <a:pt x="1322" y="538"/>
                      </a:lnTo>
                      <a:lnTo>
                        <a:pt x="1286" y="538"/>
                      </a:lnTo>
                      <a:lnTo>
                        <a:pt x="1242" y="538"/>
                      </a:lnTo>
                      <a:lnTo>
                        <a:pt x="1197" y="496"/>
                      </a:lnTo>
                      <a:lnTo>
                        <a:pt x="1173" y="483"/>
                      </a:lnTo>
                      <a:lnTo>
                        <a:pt x="1150" y="468"/>
                      </a:lnTo>
                      <a:lnTo>
                        <a:pt x="1127" y="440"/>
                      </a:lnTo>
                      <a:lnTo>
                        <a:pt x="1105" y="440"/>
                      </a:lnTo>
                      <a:lnTo>
                        <a:pt x="1083" y="425"/>
                      </a:lnTo>
                      <a:lnTo>
                        <a:pt x="1048" y="425"/>
                      </a:lnTo>
                      <a:lnTo>
                        <a:pt x="1014" y="425"/>
                      </a:lnTo>
                      <a:lnTo>
                        <a:pt x="979" y="425"/>
                      </a:lnTo>
                      <a:lnTo>
                        <a:pt x="956" y="425"/>
                      </a:lnTo>
                      <a:lnTo>
                        <a:pt x="923" y="440"/>
                      </a:lnTo>
                      <a:lnTo>
                        <a:pt x="889" y="453"/>
                      </a:lnTo>
                      <a:lnTo>
                        <a:pt x="842" y="453"/>
                      </a:lnTo>
                      <a:lnTo>
                        <a:pt x="796" y="468"/>
                      </a:lnTo>
                      <a:lnTo>
                        <a:pt x="763" y="483"/>
                      </a:lnTo>
                      <a:lnTo>
                        <a:pt x="717" y="483"/>
                      </a:lnTo>
                      <a:lnTo>
                        <a:pt x="636" y="483"/>
                      </a:lnTo>
                      <a:lnTo>
                        <a:pt x="558" y="483"/>
                      </a:lnTo>
                      <a:lnTo>
                        <a:pt x="524" y="468"/>
                      </a:lnTo>
                      <a:lnTo>
                        <a:pt x="500" y="468"/>
                      </a:lnTo>
                      <a:lnTo>
                        <a:pt x="444" y="453"/>
                      </a:lnTo>
                      <a:lnTo>
                        <a:pt x="421" y="453"/>
                      </a:lnTo>
                      <a:lnTo>
                        <a:pt x="397" y="468"/>
                      </a:lnTo>
                      <a:lnTo>
                        <a:pt x="319" y="524"/>
                      </a:lnTo>
                      <a:lnTo>
                        <a:pt x="296" y="538"/>
                      </a:lnTo>
                      <a:lnTo>
                        <a:pt x="238" y="538"/>
                      </a:lnTo>
                      <a:lnTo>
                        <a:pt x="216" y="538"/>
                      </a:lnTo>
                      <a:lnTo>
                        <a:pt x="193" y="552"/>
                      </a:lnTo>
                      <a:lnTo>
                        <a:pt x="147" y="524"/>
                      </a:lnTo>
                      <a:lnTo>
                        <a:pt x="102" y="511"/>
                      </a:lnTo>
                      <a:lnTo>
                        <a:pt x="79" y="496"/>
                      </a:lnTo>
                      <a:lnTo>
                        <a:pt x="44" y="468"/>
                      </a:lnTo>
                      <a:lnTo>
                        <a:pt x="21" y="453"/>
                      </a:lnTo>
                      <a:lnTo>
                        <a:pt x="0" y="4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00a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5749920" y="4589640"/>
                <a:ext cx="2116440" cy="966600"/>
                <a:chOff x="5749920" y="4589640"/>
                <a:chExt cx="2116440" cy="96660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7238520" y="4811040"/>
                  <a:ext cx="627840" cy="352080"/>
                </a:xfrm>
                <a:custGeom>
                  <a:avLst/>
                  <a:gdLst/>
                  <a:ahLst/>
                  <a:rect l="l" t="t" r="r" b="b"/>
                  <a:pathLst>
                    <a:path w="126" h="154">
                      <a:moveTo>
                        <a:pt x="0" y="0"/>
                      </a:moveTo>
                      <a:lnTo>
                        <a:pt x="73" y="150"/>
                      </a:lnTo>
                      <a:lnTo>
                        <a:pt x="113" y="153"/>
                      </a:lnTo>
                      <a:lnTo>
                        <a:pt x="125" y="104"/>
                      </a:lnTo>
                      <a:lnTo>
                        <a:pt x="52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cf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138360" y="4589640"/>
                  <a:ext cx="188280" cy="241920"/>
                </a:xfrm>
                <a:custGeom>
                  <a:avLst/>
                  <a:gdLst/>
                  <a:ahLst/>
                  <a:rect l="l" t="t" r="r" b="b"/>
                  <a:pathLst>
                    <a:path w="38" h="106">
                      <a:moveTo>
                        <a:pt x="17" y="0"/>
                      </a:moveTo>
                      <a:lnTo>
                        <a:pt x="0" y="50"/>
                      </a:lnTo>
                      <a:lnTo>
                        <a:pt x="15" y="105"/>
                      </a:lnTo>
                      <a:lnTo>
                        <a:pt x="37" y="61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fcf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4" name=""/>
                <p:cNvGrpSpPr/>
                <p:nvPr/>
              </p:nvGrpSpPr>
              <p:grpSpPr>
                <a:xfrm>
                  <a:off x="5749920" y="4620960"/>
                  <a:ext cx="2020680" cy="935280"/>
                  <a:chOff x="5749920" y="4620960"/>
                  <a:chExt cx="2020680" cy="93528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6939720" y="4920480"/>
                    <a:ext cx="9360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2">
                        <a:moveTo>
                          <a:pt x="0" y="31"/>
                        </a:moveTo>
                        <a:lnTo>
                          <a:pt x="10" y="17"/>
                        </a:lnTo>
                        <a:lnTo>
                          <a:pt x="1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7033320" y="4920480"/>
                    <a:ext cx="1047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0">
                        <a:moveTo>
                          <a:pt x="0" y="0"/>
                        </a:moveTo>
                        <a:lnTo>
                          <a:pt x="8" y="7"/>
                        </a:lnTo>
                        <a:lnTo>
                          <a:pt x="20" y="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6192360" y="4920480"/>
                    <a:ext cx="99000" cy="2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1">
                        <a:moveTo>
                          <a:pt x="0" y="95"/>
                        </a:move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9" y="100"/>
                        </a:lnTo>
                        <a:lnTo>
                          <a:pt x="16" y="99"/>
                        </a:lnTo>
                        <a:lnTo>
                          <a:pt x="7" y="8"/>
                        </a:lnTo>
                        <a:lnTo>
                          <a:pt x="3" y="96"/>
                        </a:lnTo>
                        <a:lnTo>
                          <a:pt x="0" y="95"/>
                        </a:lnTo>
                      </a:path>
                    </a:pathLst>
                  </a:custGeom>
                  <a:solidFill>
                    <a:srgbClr val="c0c27c"/>
                  </a:solidFill>
                  <a:ln cap="rnd" w="12600">
                    <a:solidFill>
                      <a:srgbClr val="c0c27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7337160" y="5108400"/>
                    <a:ext cx="30240" cy="31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6287040" y="4653000"/>
                    <a:ext cx="3924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3">
                        <a:moveTo>
                          <a:pt x="0" y="42"/>
                        </a:moveTo>
                        <a:lnTo>
                          <a:pt x="2" y="1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7" y="41"/>
                        </a:lnTo>
                        <a:lnTo>
                          <a:pt x="5" y="41"/>
                        </a:lnTo>
                        <a:lnTo>
                          <a:pt x="3" y="41"/>
                        </a:lnTo>
                        <a:lnTo>
                          <a:pt x="2" y="42"/>
                        </a:lnTo>
                        <a:lnTo>
                          <a:pt x="0" y="42"/>
                        </a:lnTo>
                      </a:path>
                    </a:pathLst>
                  </a:custGeom>
                  <a:solidFill>
                    <a:srgbClr val="d2b06a"/>
                  </a:solidFill>
                  <a:ln cap="rnd" w="12600">
                    <a:solidFill>
                      <a:srgbClr val="d2b0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6287040" y="4620960"/>
                    <a:ext cx="392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7">
                        <a:moveTo>
                          <a:pt x="2" y="16"/>
                        </a:moveTo>
                        <a:lnTo>
                          <a:pt x="0" y="12"/>
                        </a:lnTo>
                        <a:lnTo>
                          <a:pt x="3" y="8"/>
                        </a:lnTo>
                        <a:lnTo>
                          <a:pt x="4" y="0"/>
                        </a:lnTo>
                        <a:lnTo>
                          <a:pt x="5" y="8"/>
                        </a:lnTo>
                        <a:lnTo>
                          <a:pt x="7" y="12"/>
                        </a:lnTo>
                        <a:lnTo>
                          <a:pt x="5" y="16"/>
                        </a:lnTo>
                        <a:lnTo>
                          <a:pt x="2" y="1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6595560" y="4653000"/>
                    <a:ext cx="169200" cy="45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01">
                        <a:moveTo>
                          <a:pt x="0" y="200"/>
                        </a:moveTo>
                        <a:lnTo>
                          <a:pt x="31" y="0"/>
                        </a:lnTo>
                        <a:lnTo>
                          <a:pt x="33" y="1"/>
                        </a:lnTo>
                        <a:lnTo>
                          <a:pt x="4" y="200"/>
                        </a:lnTo>
                        <a:lnTo>
                          <a:pt x="0" y="200"/>
                        </a:lnTo>
                      </a:path>
                    </a:pathLst>
                  </a:custGeom>
                  <a:solidFill>
                    <a:srgbClr val="d2b06a"/>
                  </a:solidFill>
                  <a:ln cap="rnd" w="12600">
                    <a:solidFill>
                      <a:srgbClr val="d2b0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6754680" y="4620960"/>
                    <a:ext cx="1548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7">
                        <a:moveTo>
                          <a:pt x="0" y="15"/>
                        </a:moveTo>
                        <a:lnTo>
                          <a:pt x="0" y="11"/>
                        </a:lnTo>
                        <a:lnTo>
                          <a:pt x="1" y="8"/>
                        </a:lnTo>
                        <a:lnTo>
                          <a:pt x="2" y="0"/>
                        </a:lnTo>
                        <a:lnTo>
                          <a:pt x="1" y="8"/>
                        </a:lnTo>
                        <a:lnTo>
                          <a:pt x="2" y="12"/>
                        </a:lnTo>
                        <a:lnTo>
                          <a:pt x="1" y="16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6983640" y="4932000"/>
                    <a:ext cx="550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48">
                        <a:moveTo>
                          <a:pt x="0" y="47"/>
                        </a:move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4" y="47"/>
                        </a:lnTo>
                        <a:lnTo>
                          <a:pt x="0" y="47"/>
                        </a:lnTo>
                      </a:path>
                    </a:pathLst>
                  </a:custGeom>
                  <a:solidFill>
                    <a:srgbClr val="d2b06a"/>
                  </a:solidFill>
                  <a:ln cap="rnd" w="12600">
                    <a:solidFill>
                      <a:srgbClr val="d2b0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7018920" y="4902480"/>
                    <a:ext cx="349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4">
                        <a:moveTo>
                          <a:pt x="1" y="13"/>
                        </a:moveTo>
                        <a:lnTo>
                          <a:pt x="0" y="9"/>
                        </a:lnTo>
                        <a:lnTo>
                          <a:pt x="3" y="7"/>
                        </a:lnTo>
                        <a:lnTo>
                          <a:pt x="5" y="0"/>
                        </a:lnTo>
                        <a:lnTo>
                          <a:pt x="4" y="7"/>
                        </a:lnTo>
                        <a:lnTo>
                          <a:pt x="6" y="10"/>
                        </a:lnTo>
                        <a:lnTo>
                          <a:pt x="3" y="13"/>
                        </a:lnTo>
                        <a:lnTo>
                          <a:pt x="1" y="1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7173360" y="4858920"/>
                    <a:ext cx="69840" cy="20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88">
                        <a:moveTo>
                          <a:pt x="0" y="78"/>
                        </a:move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2" y="87"/>
                        </a:lnTo>
                        <a:lnTo>
                          <a:pt x="1" y="87"/>
                        </a:lnTo>
                        <a:lnTo>
                          <a:pt x="2" y="78"/>
                        </a:lnTo>
                        <a:lnTo>
                          <a:pt x="0" y="78"/>
                        </a:lnTo>
                      </a:path>
                    </a:pathLst>
                  </a:custGeom>
                  <a:solidFill>
                    <a:srgbClr val="d2b06a"/>
                  </a:solidFill>
                  <a:ln cap="rnd" w="12600">
                    <a:solidFill>
                      <a:srgbClr val="d2b0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7227720" y="4829400"/>
                    <a:ext cx="244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4">
                        <a:moveTo>
                          <a:pt x="1" y="13"/>
                        </a:moveTo>
                        <a:lnTo>
                          <a:pt x="0" y="9"/>
                        </a:lnTo>
                        <a:lnTo>
                          <a:pt x="2" y="7"/>
                        </a:lnTo>
                        <a:lnTo>
                          <a:pt x="3" y="0"/>
                        </a:lnTo>
                        <a:lnTo>
                          <a:pt x="3" y="7"/>
                        </a:lnTo>
                        <a:lnTo>
                          <a:pt x="4" y="10"/>
                        </a:lnTo>
                        <a:lnTo>
                          <a:pt x="2" y="13"/>
                        </a:lnTo>
                        <a:lnTo>
                          <a:pt x="1" y="1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377840" y="4858920"/>
                    <a:ext cx="64080" cy="30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3">
                        <a:moveTo>
                          <a:pt x="0" y="131"/>
                        </a:moveTo>
                        <a:lnTo>
                          <a:pt x="11" y="0"/>
                        </a:lnTo>
                        <a:lnTo>
                          <a:pt x="12" y="1"/>
                        </a:lnTo>
                        <a:lnTo>
                          <a:pt x="3" y="132"/>
                        </a:lnTo>
                        <a:lnTo>
                          <a:pt x="0" y="131"/>
                        </a:lnTo>
                      </a:path>
                    </a:pathLst>
                  </a:custGeom>
                  <a:solidFill>
                    <a:srgbClr val="d2b06a"/>
                  </a:solidFill>
                  <a:ln cap="rnd" w="12600">
                    <a:solidFill>
                      <a:srgbClr val="d2b0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7437600" y="4829400"/>
                    <a:ext cx="244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4">
                        <a:moveTo>
                          <a:pt x="1" y="12"/>
                        </a:moveTo>
                        <a:lnTo>
                          <a:pt x="0" y="9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lnTo>
                          <a:pt x="3" y="7"/>
                        </a:lnTo>
                        <a:lnTo>
                          <a:pt x="4" y="10"/>
                        </a:lnTo>
                        <a:lnTo>
                          <a:pt x="2" y="13"/>
                        </a:lnTo>
                        <a:lnTo>
                          <a:pt x="1" y="12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6326640" y="4767120"/>
                    <a:ext cx="28440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5">
                        <a:moveTo>
                          <a:pt x="0" y="0"/>
                        </a:moveTo>
                        <a:lnTo>
                          <a:pt x="0" y="14"/>
                        </a:lnTo>
                        <a:lnTo>
                          <a:pt x="56" y="14"/>
                        </a:lnTo>
                        <a:lnTo>
                          <a:pt x="5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0000"/>
                  </a:solidFill>
                  <a:ln cap="rnd" w="12600">
                    <a:solidFill>
                      <a:srgbClr val="a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640560" y="4829400"/>
                    <a:ext cx="2638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">
                        <a:moveTo>
                          <a:pt x="0" y="0"/>
                        </a:moveTo>
                        <a:lnTo>
                          <a:pt x="0" y="13"/>
                        </a:lnTo>
                        <a:lnTo>
                          <a:pt x="52" y="13"/>
                        </a:lnTo>
                        <a:lnTo>
                          <a:pt x="52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0000"/>
                  </a:solidFill>
                  <a:ln cap="rnd" w="12600">
                    <a:solidFill>
                      <a:srgbClr val="a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7167960" y="4941360"/>
                    <a:ext cx="1998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7">
                        <a:moveTo>
                          <a:pt x="0" y="16"/>
                        </a:moveTo>
                        <a:lnTo>
                          <a:pt x="0" y="5"/>
                        </a:lnTo>
                        <a:lnTo>
                          <a:pt x="39" y="0"/>
                        </a:lnTo>
                        <a:lnTo>
                          <a:pt x="39" y="13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810000"/>
                  </a:solidFill>
                  <a:ln cap="rnd" w="12600">
                    <a:solidFill>
                      <a:srgbClr val="81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6287040" y="4742280"/>
                    <a:ext cx="64080" cy="42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85">
                        <a:moveTo>
                          <a:pt x="9" y="7"/>
                        </a:moveTo>
                        <a:lnTo>
                          <a:pt x="10" y="4"/>
                        </a:lnTo>
                        <a:lnTo>
                          <a:pt x="9" y="2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1" y="9"/>
                        </a:lnTo>
                        <a:lnTo>
                          <a:pt x="0" y="181"/>
                        </a:lnTo>
                        <a:lnTo>
                          <a:pt x="12" y="184"/>
                        </a:lnTo>
                        <a:lnTo>
                          <a:pt x="9" y="9"/>
                        </a:lnTo>
                        <a:lnTo>
                          <a:pt x="9" y="7"/>
                        </a:lnTo>
                      </a:path>
                    </a:pathLst>
                  </a:custGeom>
                  <a:solidFill>
                    <a:srgbClr val="81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6287040" y="4762800"/>
                    <a:ext cx="45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8" y="1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2" y="1"/>
                        </a:lnTo>
                        <a:lnTo>
                          <a:pt x="4" y="1"/>
                        </a:lnTo>
                        <a:lnTo>
                          <a:pt x="8" y="2"/>
                        </a:lnTo>
                        <a:lnTo>
                          <a:pt x="8" y="1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6595560" y="4732920"/>
                    <a:ext cx="5976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77">
                        <a:moveTo>
                          <a:pt x="9" y="7"/>
                        </a:moveTo>
                        <a:lnTo>
                          <a:pt x="9" y="4"/>
                        </a:lnTo>
                        <a:lnTo>
                          <a:pt x="9" y="2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2" y="7"/>
                        </a:lnTo>
                        <a:lnTo>
                          <a:pt x="2" y="9"/>
                        </a:lnTo>
                        <a:lnTo>
                          <a:pt x="0" y="176"/>
                        </a:lnTo>
                        <a:lnTo>
                          <a:pt x="11" y="176"/>
                        </a:lnTo>
                        <a:lnTo>
                          <a:pt x="9" y="9"/>
                        </a:lnTo>
                        <a:lnTo>
                          <a:pt x="9" y="7"/>
                        </a:lnTo>
                      </a:path>
                    </a:pathLst>
                  </a:custGeom>
                  <a:solidFill>
                    <a:srgbClr val="81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605640" y="4748760"/>
                    <a:ext cx="39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7" y="2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2" y="4"/>
                        </a:lnTo>
                        <a:lnTo>
                          <a:pt x="4" y="4"/>
                        </a:lnTo>
                        <a:lnTo>
                          <a:pt x="7" y="6"/>
                        </a:lnTo>
                        <a:lnTo>
                          <a:pt x="7" y="2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6879960" y="4810680"/>
                    <a:ext cx="68760" cy="35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5">
                        <a:moveTo>
                          <a:pt x="10" y="7"/>
                        </a:move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1" y="8"/>
                        </a:lnTo>
                        <a:lnTo>
                          <a:pt x="0" y="154"/>
                        </a:lnTo>
                        <a:lnTo>
                          <a:pt x="13" y="154"/>
                        </a:lnTo>
                        <a:lnTo>
                          <a:pt x="10" y="9"/>
                        </a:lnTo>
                        <a:lnTo>
                          <a:pt x="10" y="7"/>
                        </a:lnTo>
                      </a:path>
                    </a:pathLst>
                  </a:custGeom>
                  <a:solidFill>
                    <a:srgbClr val="81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6899040" y="4826520"/>
                    <a:ext cx="349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">
                        <a:moveTo>
                          <a:pt x="6" y="0"/>
                        </a:move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3" y="1"/>
                        </a:lnTo>
                        <a:lnTo>
                          <a:pt x="6" y="1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7134120" y="4934160"/>
                    <a:ext cx="3924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7">
                        <a:moveTo>
                          <a:pt x="7" y="6"/>
                        </a:move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0" y="46"/>
                        </a:lnTo>
                        <a:lnTo>
                          <a:pt x="7" y="46"/>
                        </a:lnTo>
                        <a:lnTo>
                          <a:pt x="7" y="8"/>
                        </a:lnTo>
                        <a:lnTo>
                          <a:pt x="7" y="6"/>
                        </a:lnTo>
                      </a:path>
                    </a:pathLst>
                  </a:custGeom>
                  <a:solidFill>
                    <a:srgbClr val="81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7143120" y="4941360"/>
                    <a:ext cx="30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5" y="1"/>
                        </a:moveTo>
                        <a:lnTo>
                          <a:pt x="3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3" y="2"/>
                        </a:lnTo>
                        <a:lnTo>
                          <a:pt x="5" y="4"/>
                        </a:lnTo>
                        <a:lnTo>
                          <a:pt x="5" y="1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7297560" y="4980240"/>
                    <a:ext cx="4932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8">
                        <a:moveTo>
                          <a:pt x="8" y="6"/>
                        </a:moveTo>
                        <a:lnTo>
                          <a:pt x="9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1" y="37"/>
                        </a:lnTo>
                        <a:lnTo>
                          <a:pt x="9" y="37"/>
                        </a:lnTo>
                        <a:lnTo>
                          <a:pt x="8" y="7"/>
                        </a:lnTo>
                        <a:lnTo>
                          <a:pt x="8" y="6"/>
                        </a:lnTo>
                      </a:path>
                    </a:pathLst>
                  </a:custGeom>
                  <a:solidFill>
                    <a:srgbClr val="81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7322400" y="4993560"/>
                    <a:ext cx="244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4" y="1"/>
                        </a:move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4" y="4"/>
                        </a:lnTo>
                        <a:lnTo>
                          <a:pt x="4" y="1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7362000" y="4932000"/>
                    <a:ext cx="2448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5">
                        <a:moveTo>
                          <a:pt x="4" y="6"/>
                        </a:moveTo>
                        <a:lnTo>
                          <a:pt x="4" y="2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63"/>
                        </a:lnTo>
                        <a:lnTo>
                          <a:pt x="4" y="64"/>
                        </a:lnTo>
                        <a:lnTo>
                          <a:pt x="4" y="8"/>
                        </a:lnTo>
                        <a:lnTo>
                          <a:pt x="4" y="6"/>
                        </a:lnTo>
                      </a:path>
                    </a:pathLst>
                  </a:custGeom>
                  <a:solidFill>
                    <a:srgbClr val="81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7362000" y="4941360"/>
                    <a:ext cx="20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">
                        <a:moveTo>
                          <a:pt x="3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7456680" y="5112360"/>
                    <a:ext cx="10944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3">
                        <a:moveTo>
                          <a:pt x="1" y="0"/>
                        </a:moveTo>
                        <a:lnTo>
                          <a:pt x="0" y="32"/>
                        </a:lnTo>
                        <a:lnTo>
                          <a:pt x="21" y="32"/>
                        </a:lnTo>
                        <a:lnTo>
                          <a:pt x="18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a1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7456680" y="5099040"/>
                    <a:ext cx="109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7">
                        <a:moveTo>
                          <a:pt x="21" y="6"/>
                        </a:moveTo>
                        <a:lnTo>
                          <a:pt x="16" y="2"/>
                        </a:lnTo>
                        <a:lnTo>
                          <a:pt x="11" y="0"/>
                        </a:lnTo>
                        <a:lnTo>
                          <a:pt x="8" y="0"/>
                        </a:lnTo>
                        <a:lnTo>
                          <a:pt x="5" y="1"/>
                        </a:lnTo>
                        <a:lnTo>
                          <a:pt x="0" y="6"/>
                        </a:lnTo>
                        <a:lnTo>
                          <a:pt x="21" y="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7467120" y="5133240"/>
                    <a:ext cx="889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">
                        <a:moveTo>
                          <a:pt x="0" y="1"/>
                        </a:moveTo>
                        <a:lnTo>
                          <a:pt x="9" y="1"/>
                        </a:lnTo>
                        <a:lnTo>
                          <a:pt x="17" y="1"/>
                        </a:lnTo>
                        <a:lnTo>
                          <a:pt x="17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7456680" y="5135040"/>
                    <a:ext cx="1047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">
                        <a:moveTo>
                          <a:pt x="0" y="3"/>
                        </a:moveTo>
                        <a:lnTo>
                          <a:pt x="10" y="4"/>
                        </a:lnTo>
                        <a:lnTo>
                          <a:pt x="20" y="3"/>
                        </a:lnTo>
                        <a:lnTo>
                          <a:pt x="20" y="0"/>
                        </a:lnTo>
                        <a:lnTo>
                          <a:pt x="10" y="1"/>
                        </a:lnTo>
                        <a:lnTo>
                          <a:pt x="5" y="1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7456680" y="5144400"/>
                    <a:ext cx="1047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0" y="2"/>
                        </a:moveTo>
                        <a:lnTo>
                          <a:pt x="10" y="2"/>
                        </a:lnTo>
                        <a:lnTo>
                          <a:pt x="20" y="2"/>
                        </a:lnTo>
                        <a:lnTo>
                          <a:pt x="20" y="0"/>
                        </a:lnTo>
                        <a:lnTo>
                          <a:pt x="10" y="1"/>
                        </a:lnTo>
                        <a:lnTo>
                          <a:pt x="5" y="1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7456680" y="5149080"/>
                    <a:ext cx="104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7">
                        <a:moveTo>
                          <a:pt x="0" y="4"/>
                        </a:moveTo>
                        <a:lnTo>
                          <a:pt x="10" y="6"/>
                        </a:lnTo>
                        <a:lnTo>
                          <a:pt x="15" y="6"/>
                        </a:lnTo>
                        <a:lnTo>
                          <a:pt x="20" y="4"/>
                        </a:lnTo>
                        <a:lnTo>
                          <a:pt x="20" y="0"/>
                        </a:lnTo>
                        <a:lnTo>
                          <a:pt x="10" y="1"/>
                        </a:lnTo>
                        <a:lnTo>
                          <a:pt x="5" y="1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7561800" y="5078160"/>
                    <a:ext cx="5400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51">
                        <a:moveTo>
                          <a:pt x="9" y="4"/>
                        </a:moveTo>
                        <a:lnTo>
                          <a:pt x="10" y="1"/>
                        </a:lnTo>
                        <a:lnTo>
                          <a:pt x="5" y="0"/>
                        </a:lnTo>
                        <a:lnTo>
                          <a:pt x="0" y="1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50"/>
                        </a:lnTo>
                        <a:lnTo>
                          <a:pt x="10" y="49"/>
                        </a:lnTo>
                        <a:lnTo>
                          <a:pt x="9" y="6"/>
                        </a:lnTo>
                        <a:lnTo>
                          <a:pt x="9" y="4"/>
                        </a:lnTo>
                      </a:path>
                    </a:pathLst>
                  </a:custGeom>
                  <a:solidFill>
                    <a:srgbClr val="81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7561800" y="5080680"/>
                    <a:ext cx="54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3">
                        <a:moveTo>
                          <a:pt x="10" y="1"/>
                        </a:moveTo>
                        <a:lnTo>
                          <a:pt x="5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5" y="1"/>
                        </a:lnTo>
                        <a:lnTo>
                          <a:pt x="10" y="2"/>
                        </a:lnTo>
                        <a:lnTo>
                          <a:pt x="10" y="1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7522200" y="4964040"/>
                    <a:ext cx="9360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6">
                        <a:moveTo>
                          <a:pt x="18" y="125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14" y="125"/>
                        </a:lnTo>
                        <a:lnTo>
                          <a:pt x="18" y="125"/>
                        </a:lnTo>
                      </a:path>
                    </a:pathLst>
                  </a:custGeom>
                  <a:solidFill>
                    <a:srgbClr val="d2b06a"/>
                  </a:solidFill>
                  <a:ln cap="rnd" w="12600">
                    <a:solidFill>
                      <a:srgbClr val="d2b06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7512120" y="4932000"/>
                    <a:ext cx="349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5">
                        <a:moveTo>
                          <a:pt x="5" y="14"/>
                        </a:moveTo>
                        <a:lnTo>
                          <a:pt x="6" y="10"/>
                        </a:lnTo>
                        <a:lnTo>
                          <a:pt x="3" y="7"/>
                        </a:lnTo>
                        <a:lnTo>
                          <a:pt x="1" y="0"/>
                        </a:lnTo>
                        <a:lnTo>
                          <a:pt x="2" y="7"/>
                        </a:lnTo>
                        <a:lnTo>
                          <a:pt x="0" y="11"/>
                        </a:lnTo>
                        <a:lnTo>
                          <a:pt x="3" y="14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7427520" y="5144400"/>
                    <a:ext cx="2088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9">
                        <a:moveTo>
                          <a:pt x="1" y="18"/>
                        </a:moveTo>
                        <a:lnTo>
                          <a:pt x="6" y="18"/>
                        </a:lnTo>
                        <a:lnTo>
                          <a:pt x="6" y="15"/>
                        </a:lnTo>
                        <a:lnTo>
                          <a:pt x="9" y="15"/>
                        </a:lnTo>
                        <a:lnTo>
                          <a:pt x="10" y="18"/>
                        </a:lnTo>
                        <a:lnTo>
                          <a:pt x="12" y="18"/>
                        </a:lnTo>
                        <a:lnTo>
                          <a:pt x="12" y="8"/>
                        </a:lnTo>
                        <a:lnTo>
                          <a:pt x="16" y="5"/>
                        </a:lnTo>
                        <a:lnTo>
                          <a:pt x="15" y="18"/>
                        </a:lnTo>
                        <a:lnTo>
                          <a:pt x="19" y="18"/>
                        </a:lnTo>
                        <a:lnTo>
                          <a:pt x="19" y="12"/>
                        </a:lnTo>
                        <a:lnTo>
                          <a:pt x="21" y="14"/>
                        </a:lnTo>
                        <a:lnTo>
                          <a:pt x="21" y="18"/>
                        </a:lnTo>
                        <a:lnTo>
                          <a:pt x="24" y="18"/>
                        </a:lnTo>
                        <a:lnTo>
                          <a:pt x="24" y="16"/>
                        </a:lnTo>
                        <a:lnTo>
                          <a:pt x="29" y="16"/>
                        </a:lnTo>
                        <a:lnTo>
                          <a:pt x="29" y="19"/>
                        </a:lnTo>
                        <a:lnTo>
                          <a:pt x="32" y="19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  <a:lnTo>
                          <a:pt x="35" y="21"/>
                        </a:lnTo>
                        <a:lnTo>
                          <a:pt x="35" y="28"/>
                        </a:lnTo>
                        <a:lnTo>
                          <a:pt x="0" y="28"/>
                        </a:lnTo>
                        <a:lnTo>
                          <a:pt x="1" y="18"/>
                        </a:lnTo>
                      </a:path>
                    </a:pathLst>
                  </a:custGeom>
                  <a:solidFill>
                    <a:srgbClr val="104160"/>
                  </a:solidFill>
                  <a:ln cap="rnd" w="12600">
                    <a:solidFill>
                      <a:srgbClr val="10416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7437600" y="5208840"/>
                    <a:ext cx="33300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4">
                        <a:moveTo>
                          <a:pt x="34" y="0"/>
                        </a:moveTo>
                        <a:lnTo>
                          <a:pt x="36" y="0"/>
                        </a:lnTo>
                        <a:lnTo>
                          <a:pt x="49" y="0"/>
                        </a:lnTo>
                        <a:lnTo>
                          <a:pt x="50" y="12"/>
                        </a:lnTo>
                        <a:lnTo>
                          <a:pt x="61" y="12"/>
                        </a:lnTo>
                        <a:lnTo>
                          <a:pt x="66" y="33"/>
                        </a:lnTo>
                        <a:lnTo>
                          <a:pt x="56" y="33"/>
                        </a:lnTo>
                        <a:lnTo>
                          <a:pt x="46" y="33"/>
                        </a:lnTo>
                        <a:lnTo>
                          <a:pt x="37" y="32"/>
                        </a:lnTo>
                        <a:lnTo>
                          <a:pt x="0" y="30"/>
                        </a:lnTo>
                        <a:lnTo>
                          <a:pt x="0" y="0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058160" y="4856040"/>
                    <a:ext cx="3024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1">
                        <a:moveTo>
                          <a:pt x="0" y="80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80"/>
                        </a:lnTo>
                        <a:lnTo>
                          <a:pt x="0" y="80"/>
                        </a:lnTo>
                      </a:path>
                    </a:pathLst>
                  </a:custGeom>
                  <a:solidFill>
                    <a:srgbClr val="104160"/>
                  </a:solidFill>
                  <a:ln cap="rnd" w="12600">
                    <a:solidFill>
                      <a:srgbClr val="10416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7014240" y="4856040"/>
                    <a:ext cx="109440" cy="2520"/>
                  </a:xfrm>
                  <a:prstGeom prst="rect">
                    <a:avLst/>
                  </a:prstGeom>
                  <a:solidFill>
                    <a:srgbClr val="a2a2a2"/>
                  </a:solidFill>
                  <a:ln w="12600">
                    <a:solidFill>
                      <a:srgbClr val="a2a2a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7058160" y="4835880"/>
                    <a:ext cx="24480" cy="11160"/>
                  </a:xfrm>
                  <a:prstGeom prst="rect">
                    <a:avLst/>
                  </a:prstGeom>
                  <a:solidFill>
                    <a:srgbClr val="71b2cf"/>
                  </a:solidFill>
                  <a:ln w="12600">
                    <a:solidFill>
                      <a:srgbClr val="71b2c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7049160" y="4847400"/>
                    <a:ext cx="43920" cy="1800"/>
                  </a:xfrm>
                  <a:prstGeom prst="rect">
                    <a:avLst/>
                  </a:prstGeom>
                  <a:solidFill>
                    <a:srgbClr val="004080"/>
                  </a:solidFill>
                  <a:ln w="12600">
                    <a:solidFill>
                      <a:srgbClr val="004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049160" y="4829400"/>
                    <a:ext cx="43920" cy="1800"/>
                  </a:xfrm>
                  <a:prstGeom prst="rect">
                    <a:avLst/>
                  </a:prstGeom>
                  <a:solidFill>
                    <a:srgbClr val="004080"/>
                  </a:solidFill>
                  <a:ln w="12600">
                    <a:solidFill>
                      <a:srgbClr val="004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053840" y="4810680"/>
                    <a:ext cx="29160" cy="15840"/>
                  </a:xfrm>
                  <a:prstGeom prst="rect">
                    <a:avLst/>
                  </a:prstGeom>
                  <a:solidFill>
                    <a:srgbClr val="004080"/>
                  </a:solidFill>
                  <a:ln w="12600">
                    <a:solidFill>
                      <a:srgbClr val="004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7437600" y="5208840"/>
                    <a:ext cx="338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3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6" y="32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f4f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437600" y="5185440"/>
                    <a:ext cx="3384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6" y="3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4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6799680" y="5030280"/>
                    <a:ext cx="64224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11">
                        <a:moveTo>
                          <a:pt x="0" y="85"/>
                        </a:moveTo>
                        <a:lnTo>
                          <a:pt x="0" y="1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33" y="0"/>
                        </a:lnTo>
                        <a:lnTo>
                          <a:pt x="36" y="0"/>
                        </a:lnTo>
                        <a:lnTo>
                          <a:pt x="38" y="0"/>
                        </a:lnTo>
                        <a:lnTo>
                          <a:pt x="76" y="4"/>
                        </a:lnTo>
                        <a:lnTo>
                          <a:pt x="76" y="12"/>
                        </a:lnTo>
                        <a:lnTo>
                          <a:pt x="123" y="18"/>
                        </a:lnTo>
                        <a:lnTo>
                          <a:pt x="123" y="31"/>
                        </a:lnTo>
                        <a:lnTo>
                          <a:pt x="108" y="29"/>
                        </a:lnTo>
                        <a:lnTo>
                          <a:pt x="108" y="54"/>
                        </a:lnTo>
                        <a:lnTo>
                          <a:pt x="128" y="58"/>
                        </a:lnTo>
                        <a:lnTo>
                          <a:pt x="128" y="110"/>
                        </a:lnTo>
                        <a:lnTo>
                          <a:pt x="98" y="106"/>
                        </a:lnTo>
                        <a:lnTo>
                          <a:pt x="68" y="101"/>
                        </a:lnTo>
                        <a:lnTo>
                          <a:pt x="0" y="85"/>
                        </a:lnTo>
                      </a:path>
                    </a:pathLst>
                  </a:custGeom>
                  <a:solidFill>
                    <a:srgbClr val="8f8f8f"/>
                  </a:solidFill>
                  <a:ln cap="rnd" w="12600">
                    <a:solidFill>
                      <a:srgbClr val="8f8f8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705000" y="5085000"/>
                    <a:ext cx="597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3">
                        <a:moveTo>
                          <a:pt x="0" y="21"/>
                        </a:moveTo>
                        <a:lnTo>
                          <a:pt x="0" y="12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2" y="3"/>
                        </a:lnTo>
                        <a:lnTo>
                          <a:pt x="5" y="1"/>
                        </a:lnTo>
                        <a:lnTo>
                          <a:pt x="8" y="0"/>
                        </a:lnTo>
                        <a:lnTo>
                          <a:pt x="11" y="1"/>
                        </a:lnTo>
                        <a:lnTo>
                          <a:pt x="11" y="11"/>
                        </a:lnTo>
                        <a:lnTo>
                          <a:pt x="8" y="13"/>
                        </a:lnTo>
                        <a:lnTo>
                          <a:pt x="8" y="15"/>
                        </a:lnTo>
                        <a:lnTo>
                          <a:pt x="8" y="22"/>
                        </a:lnTo>
                        <a:lnTo>
                          <a:pt x="0" y="21"/>
                        </a:lnTo>
                      </a:path>
                    </a:pathLst>
                  </a:custGeom>
                  <a:solidFill>
                    <a:srgbClr val="c0c27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6475680" y="5053320"/>
                    <a:ext cx="8460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59">
                        <a:moveTo>
                          <a:pt x="0" y="56"/>
                        </a:moveTo>
                        <a:lnTo>
                          <a:pt x="0" y="12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2" y="3"/>
                        </a:lnTo>
                        <a:lnTo>
                          <a:pt x="8" y="0"/>
                        </a:lnTo>
                        <a:lnTo>
                          <a:pt x="12" y="0"/>
                        </a:lnTo>
                        <a:lnTo>
                          <a:pt x="16" y="1"/>
                        </a:lnTo>
                        <a:lnTo>
                          <a:pt x="16" y="11"/>
                        </a:lnTo>
                        <a:lnTo>
                          <a:pt x="14" y="11"/>
                        </a:lnTo>
                        <a:lnTo>
                          <a:pt x="12" y="12"/>
                        </a:lnTo>
                        <a:lnTo>
                          <a:pt x="11" y="15"/>
                        </a:lnTo>
                        <a:lnTo>
                          <a:pt x="11" y="58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e0a1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6417000" y="5058000"/>
                    <a:ext cx="64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51">
                        <a:moveTo>
                          <a:pt x="0" y="47"/>
                        </a:moveTo>
                        <a:lnTo>
                          <a:pt x="0" y="12"/>
                        </a:lnTo>
                        <a:lnTo>
                          <a:pt x="1" y="4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2" y="1"/>
                        </a:lnTo>
                        <a:lnTo>
                          <a:pt x="12" y="11"/>
                        </a:lnTo>
                        <a:lnTo>
                          <a:pt x="9" y="12"/>
                        </a:lnTo>
                        <a:lnTo>
                          <a:pt x="8" y="14"/>
                        </a:lnTo>
                        <a:lnTo>
                          <a:pt x="8" y="50"/>
                        </a:lnTo>
                        <a:lnTo>
                          <a:pt x="0" y="47"/>
                        </a:lnTo>
                      </a:path>
                    </a:pathLst>
                  </a:custGeom>
                  <a:solidFill>
                    <a:srgbClr val="b1b1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272640" y="4920480"/>
                    <a:ext cx="190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6088320" y="4911120"/>
                    <a:ext cx="203040" cy="20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88">
                        <a:moveTo>
                          <a:pt x="0" y="0"/>
                        </a:moveTo>
                        <a:lnTo>
                          <a:pt x="27" y="33"/>
                        </a:lnTo>
                        <a:lnTo>
                          <a:pt x="24" y="87"/>
                        </a:lnTo>
                        <a:lnTo>
                          <a:pt x="40" y="66"/>
                        </a:lnTo>
                        <a:lnTo>
                          <a:pt x="10" y="38"/>
                        </a:lnTo>
                        <a:lnTo>
                          <a:pt x="1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6088320" y="4881600"/>
                    <a:ext cx="203040" cy="2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01">
                        <a:moveTo>
                          <a:pt x="23" y="100"/>
                        </a:moveTo>
                        <a:lnTo>
                          <a:pt x="0" y="13"/>
                        </a:lnTo>
                        <a:lnTo>
                          <a:pt x="2" y="0"/>
                        </a:lnTo>
                        <a:lnTo>
                          <a:pt x="14" y="13"/>
                        </a:lnTo>
                        <a:lnTo>
                          <a:pt x="40" y="8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6132600" y="4941360"/>
                    <a:ext cx="39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V="1">
                    <a:off x="6152760" y="4970520"/>
                    <a:ext cx="5400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>
                    <a:off x="6146640" y="5027760"/>
                    <a:ext cx="114840" cy="6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6167520" y="4920480"/>
                    <a:ext cx="99000" cy="182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6117840" y="4920480"/>
                    <a:ext cx="94680" cy="182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V="1">
                    <a:off x="6152760" y="4970520"/>
                    <a:ext cx="5400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6088320" y="4657680"/>
                    <a:ext cx="20880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94">
                        <a:moveTo>
                          <a:pt x="0" y="193"/>
                        </a:moveTo>
                        <a:lnTo>
                          <a:pt x="24" y="98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326640" y="4799160"/>
                    <a:ext cx="318240" cy="3132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7">
                        <a:moveTo>
                          <a:pt x="0" y="0"/>
                        </a:moveTo>
                        <a:lnTo>
                          <a:pt x="28" y="70"/>
                        </a:lnTo>
                        <a:lnTo>
                          <a:pt x="45" y="104"/>
                        </a:lnTo>
                        <a:lnTo>
                          <a:pt x="63" y="1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6307560" y="4629960"/>
                    <a:ext cx="45720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22">
                        <a:moveTo>
                          <a:pt x="0" y="0"/>
                        </a:moveTo>
                        <a:lnTo>
                          <a:pt x="19" y="12"/>
                        </a:lnTo>
                        <a:lnTo>
                          <a:pt x="48" y="20"/>
                        </a:lnTo>
                        <a:lnTo>
                          <a:pt x="55" y="21"/>
                        </a:lnTo>
                        <a:lnTo>
                          <a:pt x="58" y="21"/>
                        </a:lnTo>
                        <a:lnTo>
                          <a:pt x="62" y="21"/>
                        </a:lnTo>
                        <a:lnTo>
                          <a:pt x="75" y="18"/>
                        </a:lnTo>
                        <a:lnTo>
                          <a:pt x="85" y="12"/>
                        </a:lnTo>
                        <a:lnTo>
                          <a:pt x="9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6760080" y="4657680"/>
                    <a:ext cx="88920" cy="37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4">
                        <a:moveTo>
                          <a:pt x="1" y="0"/>
                        </a:moveTo>
                        <a:lnTo>
                          <a:pt x="0" y="21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3" y="82"/>
                        </a:lnTo>
                        <a:lnTo>
                          <a:pt x="8" y="123"/>
                        </a:lnTo>
                        <a:lnTo>
                          <a:pt x="17" y="16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6760080" y="4657680"/>
                    <a:ext cx="123840" cy="34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52">
                        <a:moveTo>
                          <a:pt x="0" y="0"/>
                        </a:moveTo>
                        <a:lnTo>
                          <a:pt x="9" y="76"/>
                        </a:lnTo>
                        <a:lnTo>
                          <a:pt x="24" y="15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6929640" y="4829400"/>
                    <a:ext cx="94680" cy="20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9">
                        <a:moveTo>
                          <a:pt x="0" y="0"/>
                        </a:moveTo>
                        <a:lnTo>
                          <a:pt x="7" y="45"/>
                        </a:lnTo>
                        <a:lnTo>
                          <a:pt x="18" y="8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237800" y="4849560"/>
                    <a:ext cx="204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">
                        <a:moveTo>
                          <a:pt x="0" y="1"/>
                        </a:moveTo>
                        <a:lnTo>
                          <a:pt x="20" y="4"/>
                        </a:lnTo>
                        <a:lnTo>
                          <a:pt x="27" y="4"/>
                        </a:lnTo>
                        <a:lnTo>
                          <a:pt x="29" y="4"/>
                        </a:lnTo>
                        <a:lnTo>
                          <a:pt x="31" y="4"/>
                        </a:lnTo>
                        <a:lnTo>
                          <a:pt x="37" y="3"/>
                        </a:lnTo>
                        <a:lnTo>
                          <a:pt x="4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237800" y="4858920"/>
                    <a:ext cx="2041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0">
                        <a:moveTo>
                          <a:pt x="0" y="2"/>
                        </a:moveTo>
                        <a:lnTo>
                          <a:pt x="14" y="7"/>
                        </a:lnTo>
                        <a:lnTo>
                          <a:pt x="20" y="9"/>
                        </a:lnTo>
                        <a:lnTo>
                          <a:pt x="22" y="9"/>
                        </a:lnTo>
                        <a:lnTo>
                          <a:pt x="25" y="9"/>
                        </a:lnTo>
                        <a:lnTo>
                          <a:pt x="33" y="7"/>
                        </a:lnTo>
                        <a:lnTo>
                          <a:pt x="4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6088320" y="4911120"/>
                    <a:ext cx="4392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99">
                        <a:moveTo>
                          <a:pt x="8" y="98"/>
                        </a:moveTo>
                        <a:lnTo>
                          <a:pt x="8" y="74"/>
                        </a:lnTo>
                        <a:lnTo>
                          <a:pt x="8" y="68"/>
                        </a:lnTo>
                        <a:lnTo>
                          <a:pt x="8" y="65"/>
                        </a:lnTo>
                        <a:lnTo>
                          <a:pt x="8" y="61"/>
                        </a:lnTo>
                        <a:lnTo>
                          <a:pt x="7" y="48"/>
                        </a:lnTo>
                        <a:lnTo>
                          <a:pt x="5" y="2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7456680" y="4849560"/>
                    <a:ext cx="99000" cy="26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15">
                        <a:moveTo>
                          <a:pt x="0" y="0"/>
                        </a:moveTo>
                        <a:lnTo>
                          <a:pt x="7" y="68"/>
                        </a:lnTo>
                        <a:lnTo>
                          <a:pt x="12" y="98"/>
                        </a:lnTo>
                        <a:lnTo>
                          <a:pt x="15" y="108"/>
                        </a:lnTo>
                        <a:lnTo>
                          <a:pt x="19" y="1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7437600" y="4858920"/>
                    <a:ext cx="3924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6">
                        <a:moveTo>
                          <a:pt x="0" y="0"/>
                        </a:moveTo>
                        <a:lnTo>
                          <a:pt x="0" y="13"/>
                        </a:lnTo>
                        <a:lnTo>
                          <a:pt x="0" y="26"/>
                        </a:lnTo>
                        <a:lnTo>
                          <a:pt x="1" y="53"/>
                        </a:lnTo>
                        <a:lnTo>
                          <a:pt x="7" y="10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7143120" y="4881600"/>
                    <a:ext cx="3492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3">
                        <a:moveTo>
                          <a:pt x="6" y="0"/>
                        </a:moveTo>
                        <a:lnTo>
                          <a:pt x="2" y="9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0" y="31"/>
                        </a:lnTo>
                        <a:lnTo>
                          <a:pt x="2" y="4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7551720" y="5085000"/>
                    <a:ext cx="164520" cy="20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88">
                        <a:moveTo>
                          <a:pt x="0" y="0"/>
                        </a:move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13"/>
                        </a:lnTo>
                        <a:lnTo>
                          <a:pt x="1" y="25"/>
                        </a:lnTo>
                        <a:lnTo>
                          <a:pt x="7" y="48"/>
                        </a:lnTo>
                        <a:lnTo>
                          <a:pt x="18" y="69"/>
                        </a:lnTo>
                        <a:lnTo>
                          <a:pt x="32" y="8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7083000" y="4856040"/>
                    <a:ext cx="24480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65">
                        <a:moveTo>
                          <a:pt x="0" y="0"/>
                        </a:moveTo>
                        <a:lnTo>
                          <a:pt x="9" y="23"/>
                        </a:lnTo>
                        <a:lnTo>
                          <a:pt x="22" y="47"/>
                        </a:lnTo>
                        <a:lnTo>
                          <a:pt x="29" y="55"/>
                        </a:lnTo>
                        <a:lnTo>
                          <a:pt x="36" y="62"/>
                        </a:lnTo>
                        <a:lnTo>
                          <a:pt x="42" y="64"/>
                        </a:lnTo>
                        <a:lnTo>
                          <a:pt x="45" y="63"/>
                        </a:lnTo>
                        <a:lnTo>
                          <a:pt x="48" y="6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5963040" y="5058000"/>
                    <a:ext cx="154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5">
                        <a:moveTo>
                          <a:pt x="0" y="34"/>
                        </a:moveTo>
                        <a:lnTo>
                          <a:pt x="1" y="29"/>
                        </a:lnTo>
                        <a:lnTo>
                          <a:pt x="2" y="18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5948280" y="5053320"/>
                    <a:ext cx="30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7">
                        <a:moveTo>
                          <a:pt x="5" y="4"/>
                        </a:moveTo>
                        <a:lnTo>
                          <a:pt x="4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6"/>
                        </a:lnTo>
                        <a:lnTo>
                          <a:pt x="1" y="36"/>
                        </a:lnTo>
                        <a:lnTo>
                          <a:pt x="1" y="4"/>
                        </a:lnTo>
                        <a:lnTo>
                          <a:pt x="3" y="2"/>
                        </a:lnTo>
                        <a:lnTo>
                          <a:pt x="4" y="4"/>
                        </a:lnTo>
                        <a:lnTo>
                          <a:pt x="5" y="4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8f8f8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7467120" y="5220360"/>
                    <a:ext cx="24480" cy="6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7611480" y="5220360"/>
                    <a:ext cx="2016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661160" y="5220360"/>
                    <a:ext cx="432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H="1" flipV="1">
                    <a:off x="7317720" y="5123520"/>
                    <a:ext cx="138600" cy="29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362000" y="5133240"/>
                    <a:ext cx="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7367760" y="5133240"/>
                    <a:ext cx="0" cy="1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7377840" y="5135040"/>
                    <a:ext cx="0" cy="13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7402680" y="5144400"/>
                    <a:ext cx="0" cy="6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7417440" y="5144400"/>
                    <a:ext cx="0" cy="6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437600" y="5153760"/>
                    <a:ext cx="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018920" y="5030280"/>
                    <a:ext cx="25380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02">
                        <a:moveTo>
                          <a:pt x="0" y="0"/>
                        </a:moveTo>
                        <a:lnTo>
                          <a:pt x="22" y="53"/>
                        </a:lnTo>
                        <a:lnTo>
                          <a:pt x="35" y="78"/>
                        </a:lnTo>
                        <a:lnTo>
                          <a:pt x="50" y="10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983640" y="5039280"/>
                    <a:ext cx="1940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8">
                        <a:moveTo>
                          <a:pt x="38" y="0"/>
                        </a:moveTo>
                        <a:lnTo>
                          <a:pt x="17" y="26"/>
                        </a:lnTo>
                        <a:lnTo>
                          <a:pt x="0" y="5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6535440" y="5135040"/>
                    <a:ext cx="2696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9">
                        <a:moveTo>
                          <a:pt x="52" y="5"/>
                        </a:move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3" y="0"/>
                        </a:lnTo>
                        <a:lnTo>
                          <a:pt x="0" y="3"/>
                        </a:lnTo>
                        <a:lnTo>
                          <a:pt x="0" y="25"/>
                        </a:lnTo>
                        <a:lnTo>
                          <a:pt x="53" y="38"/>
                        </a:lnTo>
                        <a:lnTo>
                          <a:pt x="53" y="5"/>
                        </a:lnTo>
                        <a:lnTo>
                          <a:pt x="52" y="5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6685560" y="5135040"/>
                    <a:ext cx="1908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3">
                        <a:moveTo>
                          <a:pt x="0" y="0"/>
                        </a:moveTo>
                        <a:lnTo>
                          <a:pt x="0" y="31"/>
                        </a:lnTo>
                        <a:lnTo>
                          <a:pt x="3" y="32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6605640" y="5135040"/>
                    <a:ext cx="1440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6">
                        <a:moveTo>
                          <a:pt x="0" y="0"/>
                        </a:moveTo>
                        <a:lnTo>
                          <a:pt x="0" y="25"/>
                        </a:lnTo>
                        <a:lnTo>
                          <a:pt x="2" y="25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760080" y="5144400"/>
                    <a:ext cx="43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5">
                        <a:moveTo>
                          <a:pt x="0" y="0"/>
                        </a:moveTo>
                        <a:lnTo>
                          <a:pt x="0" y="33"/>
                        </a:lnTo>
                        <a:lnTo>
                          <a:pt x="0" y="3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6535440" y="5110200"/>
                    <a:ext cx="2696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">
                        <a:moveTo>
                          <a:pt x="53" y="4"/>
                        </a:moveTo>
                        <a:lnTo>
                          <a:pt x="27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3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6611040" y="5119560"/>
                    <a:ext cx="0" cy="6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6700320" y="5119560"/>
                    <a:ext cx="0" cy="6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6555960" y="5121720"/>
                    <a:ext cx="0" cy="4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6799680" y="5128560"/>
                    <a:ext cx="0" cy="6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6820200" y="5099040"/>
                    <a:ext cx="597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32">
                        <a:moveTo>
                          <a:pt x="0" y="31"/>
                        </a:moveTo>
                        <a:lnTo>
                          <a:pt x="0" y="12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1" y="4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1" y="1"/>
                        </a:lnTo>
                        <a:lnTo>
                          <a:pt x="11" y="11"/>
                        </a:lnTo>
                        <a:lnTo>
                          <a:pt x="8" y="12"/>
                        </a:lnTo>
                        <a:lnTo>
                          <a:pt x="8" y="15"/>
                        </a:lnTo>
                        <a:lnTo>
                          <a:pt x="8" y="31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7272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6795360" y="5085000"/>
                    <a:ext cx="640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5">
                        <a:moveTo>
                          <a:pt x="0" y="34"/>
                        </a:moveTo>
                        <a:lnTo>
                          <a:pt x="0" y="13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1" y="4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2" y="1"/>
                        </a:lnTo>
                        <a:lnTo>
                          <a:pt x="12" y="13"/>
                        </a:lnTo>
                        <a:lnTo>
                          <a:pt x="10" y="13"/>
                        </a:lnTo>
                        <a:lnTo>
                          <a:pt x="9" y="13"/>
                        </a:lnTo>
                        <a:lnTo>
                          <a:pt x="8" y="16"/>
                        </a:lnTo>
                        <a:lnTo>
                          <a:pt x="8" y="34"/>
                        </a:lnTo>
                        <a:lnTo>
                          <a:pt x="0" y="34"/>
                        </a:lnTo>
                      </a:path>
                    </a:pathLst>
                  </a:custGeom>
                  <a:solidFill>
                    <a:srgbClr val="60216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362000" y="5211000"/>
                    <a:ext cx="2016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2">
                        <a:moveTo>
                          <a:pt x="0" y="0"/>
                        </a:moveTo>
                        <a:lnTo>
                          <a:pt x="3" y="1"/>
                        </a:lnTo>
                        <a:lnTo>
                          <a:pt x="3" y="31"/>
                        </a:lnTo>
                        <a:lnTo>
                          <a:pt x="0" y="3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f4f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7058160" y="5192640"/>
                    <a:ext cx="31356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40">
                        <a:moveTo>
                          <a:pt x="62" y="39"/>
                        </a:moveTo>
                        <a:lnTo>
                          <a:pt x="62" y="9"/>
                        </a:lnTo>
                        <a:lnTo>
                          <a:pt x="31" y="2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0" y="28"/>
                        </a:lnTo>
                        <a:lnTo>
                          <a:pt x="29" y="34"/>
                        </a:lnTo>
                        <a:lnTo>
                          <a:pt x="62" y="39"/>
                        </a:lnTo>
                      </a:path>
                    </a:pathLst>
                  </a:custGeom>
                  <a:solidFill>
                    <a:srgbClr val="e0a175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7237800" y="5208840"/>
                    <a:ext cx="10476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4">
                        <a:moveTo>
                          <a:pt x="0" y="20"/>
                        </a:moveTo>
                        <a:lnTo>
                          <a:pt x="0" y="0"/>
                        </a:lnTo>
                        <a:lnTo>
                          <a:pt x="20" y="4"/>
                        </a:lnTo>
                        <a:lnTo>
                          <a:pt x="20" y="23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058160" y="5192640"/>
                    <a:ext cx="5976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6">
                        <a:moveTo>
                          <a:pt x="0" y="24"/>
                        </a:moveTo>
                        <a:lnTo>
                          <a:pt x="8" y="25"/>
                        </a:lnTo>
                        <a:lnTo>
                          <a:pt x="8" y="5"/>
                        </a:lnTo>
                        <a:lnTo>
                          <a:pt x="11" y="6"/>
                        </a:lnTo>
                        <a:lnTo>
                          <a:pt x="11" y="0"/>
                        </a:ln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a1625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6795360" y="5172120"/>
                    <a:ext cx="17352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9">
                        <a:moveTo>
                          <a:pt x="0" y="1"/>
                        </a:moveTo>
                        <a:lnTo>
                          <a:pt x="34" y="0"/>
                        </a:lnTo>
                        <a:lnTo>
                          <a:pt x="34" y="28"/>
                        </a:lnTo>
                        <a:lnTo>
                          <a:pt x="0" y="19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6964560" y="5172120"/>
                    <a:ext cx="1238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5">
                        <a:moveTo>
                          <a:pt x="0" y="29"/>
                        </a:moveTo>
                        <a:lnTo>
                          <a:pt x="0" y="0"/>
                        </a:lnTo>
                        <a:lnTo>
                          <a:pt x="24" y="7"/>
                        </a:lnTo>
                        <a:lnTo>
                          <a:pt x="24" y="34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a2a2a2"/>
                  </a:solidFill>
                  <a:ln cap="rnd" w="12600">
                    <a:solidFill>
                      <a:srgbClr val="a2a2a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6784920" y="5162760"/>
                    <a:ext cx="30816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4">
                        <a:moveTo>
                          <a:pt x="0" y="1"/>
                        </a:moveTo>
                        <a:lnTo>
                          <a:pt x="38" y="0"/>
                        </a:lnTo>
                        <a:lnTo>
                          <a:pt x="61" y="6"/>
                        </a:lnTo>
                        <a:lnTo>
                          <a:pt x="61" y="13"/>
                        </a:lnTo>
                        <a:lnTo>
                          <a:pt x="38" y="7"/>
                        </a:lnTo>
                        <a:lnTo>
                          <a:pt x="0" y="8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e1e1e1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7531200" y="5112360"/>
                    <a:ext cx="1548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0">
                        <a:moveTo>
                          <a:pt x="1" y="9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2" y="9"/>
                        </a:lnTo>
                        <a:lnTo>
                          <a:pt x="1" y="9"/>
                        </a:lnTo>
                      </a:path>
                    </a:pathLst>
                  </a:custGeom>
                  <a:solidFill>
                    <a:srgbClr val="e1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7551720" y="5160600"/>
                    <a:ext cx="1008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6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5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e1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7541640" y="5135040"/>
                    <a:ext cx="144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4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e1e1e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541640" y="5149080"/>
                    <a:ext cx="144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6">
                        <a:moveTo>
                          <a:pt x="0" y="5"/>
                        </a:move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2" y="4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e1e1e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6954480" y="5043960"/>
                    <a:ext cx="24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6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6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6994080" y="5043960"/>
                    <a:ext cx="450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8"/>
                        </a:moveTo>
                        <a:lnTo>
                          <a:pt x="0" y="0"/>
                        </a:lnTo>
                        <a:lnTo>
                          <a:pt x="8" y="1"/>
                        </a:lnTo>
                        <a:lnTo>
                          <a:pt x="8" y="9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7058160" y="5043960"/>
                    <a:ext cx="507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9"/>
                        </a:moveTo>
                        <a:lnTo>
                          <a:pt x="0" y="0"/>
                        </a:lnTo>
                        <a:lnTo>
                          <a:pt x="9" y="1"/>
                        </a:lnTo>
                        <a:lnTo>
                          <a:pt x="9" y="9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128360" y="5053320"/>
                    <a:ext cx="201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3" y="1"/>
                        </a:lnTo>
                        <a:lnTo>
                          <a:pt x="3" y="5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6845040" y="504396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6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6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7337160" y="5160600"/>
                    <a:ext cx="349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5">
                        <a:moveTo>
                          <a:pt x="0" y="0"/>
                        </a:moveTo>
                        <a:lnTo>
                          <a:pt x="0" y="12"/>
                        </a:lnTo>
                        <a:lnTo>
                          <a:pt x="6" y="14"/>
                        </a:lnTo>
                        <a:lnTo>
                          <a:pt x="6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7377840" y="5162760"/>
                    <a:ext cx="2916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0" y="12"/>
                        </a:lnTo>
                        <a:lnTo>
                          <a:pt x="5" y="13"/>
                        </a:lnTo>
                        <a:lnTo>
                          <a:pt x="5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7287480" y="5149080"/>
                    <a:ext cx="403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7">
                        <a:moveTo>
                          <a:pt x="0" y="0"/>
                        </a:moveTo>
                        <a:lnTo>
                          <a:pt x="0" y="15"/>
                        </a:lnTo>
                        <a:lnTo>
                          <a:pt x="7" y="1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6958800" y="5099040"/>
                    <a:ext cx="20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6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6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7033320" y="5099040"/>
                    <a:ext cx="30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0" y="6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6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7134120" y="5099040"/>
                    <a:ext cx="29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0" y="6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6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5749920" y="5110200"/>
                    <a:ext cx="15336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4">
                        <a:moveTo>
                          <a:pt x="13" y="0"/>
                        </a:moveTo>
                        <a:lnTo>
                          <a:pt x="8" y="3"/>
                        </a:lnTo>
                        <a:lnTo>
                          <a:pt x="5" y="5"/>
                        </a:lnTo>
                        <a:lnTo>
                          <a:pt x="3" y="8"/>
                        </a:lnTo>
                        <a:lnTo>
                          <a:pt x="1" y="10"/>
                        </a:lnTo>
                        <a:lnTo>
                          <a:pt x="0" y="11"/>
                        </a:lnTo>
                        <a:lnTo>
                          <a:pt x="0" y="14"/>
                        </a:lnTo>
                        <a:lnTo>
                          <a:pt x="1" y="16"/>
                        </a:lnTo>
                        <a:lnTo>
                          <a:pt x="2" y="19"/>
                        </a:lnTo>
                        <a:lnTo>
                          <a:pt x="3" y="23"/>
                        </a:lnTo>
                        <a:lnTo>
                          <a:pt x="11" y="19"/>
                        </a:lnTo>
                        <a:lnTo>
                          <a:pt x="17" y="17"/>
                        </a:lnTo>
                        <a:lnTo>
                          <a:pt x="24" y="15"/>
                        </a:lnTo>
                        <a:lnTo>
                          <a:pt x="30" y="13"/>
                        </a:lnTo>
                        <a:lnTo>
                          <a:pt x="26" y="8"/>
                        </a:lnTo>
                        <a:lnTo>
                          <a:pt x="23" y="8"/>
                        </a:lnTo>
                        <a:lnTo>
                          <a:pt x="20" y="9"/>
                        </a:lnTo>
                        <a:lnTo>
                          <a:pt x="13" y="0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1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5769000" y="5135040"/>
                    <a:ext cx="26856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84">
                        <a:moveTo>
                          <a:pt x="21" y="2"/>
                        </a:moveTo>
                        <a:lnTo>
                          <a:pt x="14" y="3"/>
                        </a:lnTo>
                        <a:lnTo>
                          <a:pt x="8" y="6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2" y="20"/>
                        </a:lnTo>
                        <a:lnTo>
                          <a:pt x="5" y="29"/>
                        </a:lnTo>
                        <a:lnTo>
                          <a:pt x="10" y="39"/>
                        </a:lnTo>
                        <a:lnTo>
                          <a:pt x="16" y="51"/>
                        </a:lnTo>
                        <a:lnTo>
                          <a:pt x="27" y="77"/>
                        </a:lnTo>
                        <a:lnTo>
                          <a:pt x="37" y="105"/>
                        </a:lnTo>
                        <a:lnTo>
                          <a:pt x="44" y="134"/>
                        </a:lnTo>
                        <a:lnTo>
                          <a:pt x="47" y="164"/>
                        </a:lnTo>
                        <a:lnTo>
                          <a:pt x="47" y="166"/>
                        </a:lnTo>
                        <a:lnTo>
                          <a:pt x="47" y="171"/>
                        </a:lnTo>
                        <a:lnTo>
                          <a:pt x="47" y="174"/>
                        </a:lnTo>
                        <a:lnTo>
                          <a:pt x="47" y="176"/>
                        </a:lnTo>
                        <a:lnTo>
                          <a:pt x="49" y="180"/>
                        </a:lnTo>
                        <a:lnTo>
                          <a:pt x="51" y="183"/>
                        </a:lnTo>
                        <a:lnTo>
                          <a:pt x="51" y="183"/>
                        </a:lnTo>
                        <a:lnTo>
                          <a:pt x="52" y="167"/>
                        </a:lnTo>
                        <a:lnTo>
                          <a:pt x="53" y="145"/>
                        </a:lnTo>
                        <a:lnTo>
                          <a:pt x="53" y="134"/>
                        </a:lnTo>
                        <a:lnTo>
                          <a:pt x="53" y="129"/>
                        </a:lnTo>
                        <a:lnTo>
                          <a:pt x="53" y="123"/>
                        </a:lnTo>
                        <a:lnTo>
                          <a:pt x="49" y="81"/>
                        </a:lnTo>
                        <a:lnTo>
                          <a:pt x="41" y="40"/>
                        </a:lnTo>
                        <a:lnTo>
                          <a:pt x="27" y="0"/>
                        </a:lnTo>
                        <a:lnTo>
                          <a:pt x="21" y="2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5803920" y="5092200"/>
                    <a:ext cx="61740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35">
                        <a:moveTo>
                          <a:pt x="12" y="1"/>
                        </a:move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7" y="0"/>
                        </a:lnTo>
                        <a:lnTo>
                          <a:pt x="29" y="0"/>
                        </a:lnTo>
                        <a:lnTo>
                          <a:pt x="52" y="2"/>
                        </a:lnTo>
                        <a:lnTo>
                          <a:pt x="98" y="12"/>
                        </a:lnTo>
                        <a:lnTo>
                          <a:pt x="117" y="18"/>
                        </a:lnTo>
                        <a:lnTo>
                          <a:pt x="117" y="22"/>
                        </a:lnTo>
                        <a:lnTo>
                          <a:pt x="118" y="27"/>
                        </a:lnTo>
                        <a:lnTo>
                          <a:pt x="123" y="34"/>
                        </a:lnTo>
                        <a:lnTo>
                          <a:pt x="123" y="34"/>
                        </a:lnTo>
                        <a:lnTo>
                          <a:pt x="102" y="28"/>
                        </a:lnTo>
                        <a:lnTo>
                          <a:pt x="101" y="22"/>
                        </a:lnTo>
                        <a:lnTo>
                          <a:pt x="98" y="19"/>
                        </a:lnTo>
                        <a:lnTo>
                          <a:pt x="96" y="18"/>
                        </a:lnTo>
                        <a:lnTo>
                          <a:pt x="94" y="19"/>
                        </a:lnTo>
                        <a:lnTo>
                          <a:pt x="92" y="25"/>
                        </a:lnTo>
                        <a:lnTo>
                          <a:pt x="69" y="21"/>
                        </a:lnTo>
                        <a:lnTo>
                          <a:pt x="64" y="15"/>
                        </a:lnTo>
                        <a:lnTo>
                          <a:pt x="62" y="14"/>
                        </a:lnTo>
                        <a:lnTo>
                          <a:pt x="58" y="14"/>
                        </a:lnTo>
                        <a:lnTo>
                          <a:pt x="51" y="18"/>
                        </a:lnTo>
                        <a:lnTo>
                          <a:pt x="34" y="17"/>
                        </a:lnTo>
                        <a:lnTo>
                          <a:pt x="34" y="13"/>
                        </a:lnTo>
                        <a:lnTo>
                          <a:pt x="32" y="11"/>
                        </a:lnTo>
                        <a:lnTo>
                          <a:pt x="29" y="10"/>
                        </a:lnTo>
                        <a:lnTo>
                          <a:pt x="27" y="10"/>
                        </a:lnTo>
                        <a:lnTo>
                          <a:pt x="26" y="12"/>
                        </a:lnTo>
                        <a:lnTo>
                          <a:pt x="25" y="14"/>
                        </a:lnTo>
                        <a:lnTo>
                          <a:pt x="26" y="17"/>
                        </a:lnTo>
                        <a:lnTo>
                          <a:pt x="17" y="19"/>
                        </a:lnTo>
                        <a:lnTo>
                          <a:pt x="13" y="14"/>
                        </a:lnTo>
                        <a:lnTo>
                          <a:pt x="10" y="14"/>
                        </a:lnTo>
                        <a:lnTo>
                          <a:pt x="7" y="15"/>
                        </a:lnTo>
                        <a:lnTo>
                          <a:pt x="0" y="6"/>
                        </a:lnTo>
                        <a:lnTo>
                          <a:pt x="12" y="1"/>
                        </a:lnTo>
                      </a:path>
                    </a:pathLst>
                  </a:custGeom>
                  <a:solidFill>
                    <a:srgbClr val="81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6392160" y="5135040"/>
                    <a:ext cx="137844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7" h="51">
                        <a:moveTo>
                          <a:pt x="0" y="0"/>
                        </a:moveTo>
                        <a:lnTo>
                          <a:pt x="121" y="31"/>
                        </a:lnTo>
                        <a:lnTo>
                          <a:pt x="180" y="42"/>
                        </a:lnTo>
                        <a:lnTo>
                          <a:pt x="229" y="48"/>
                        </a:lnTo>
                        <a:lnTo>
                          <a:pt x="261" y="50"/>
                        </a:lnTo>
                        <a:lnTo>
                          <a:pt x="276" y="5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6417000" y="5144400"/>
                    <a:ext cx="0" cy="18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6446520" y="5153760"/>
                    <a:ext cx="0" cy="8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6481440" y="5153760"/>
                    <a:ext cx="0" cy="22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6531120" y="5158440"/>
                    <a:ext cx="0" cy="18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6560280" y="5158440"/>
                    <a:ext cx="0" cy="24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6590880" y="517212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6615720" y="517212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6655320" y="517212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6700320" y="5178600"/>
                    <a:ext cx="0" cy="205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6729840" y="5181480"/>
                    <a:ext cx="0" cy="18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6760080" y="5181480"/>
                    <a:ext cx="0" cy="20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6789600" y="5194800"/>
                    <a:ext cx="0" cy="6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6809760" y="5194800"/>
                    <a:ext cx="0" cy="18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6849360" y="5201640"/>
                    <a:ext cx="0" cy="205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6879960" y="5201640"/>
                    <a:ext cx="0" cy="205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6909120" y="5201640"/>
                    <a:ext cx="0" cy="25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6944400" y="5201640"/>
                    <a:ext cx="0" cy="25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6973560" y="5217480"/>
                    <a:ext cx="0" cy="13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6994080" y="5217480"/>
                    <a:ext cx="0" cy="13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7033320" y="5220360"/>
                    <a:ext cx="0" cy="15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7083000" y="5220360"/>
                    <a:ext cx="0" cy="15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113600" y="5231520"/>
                    <a:ext cx="0" cy="3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7143120" y="5240520"/>
                    <a:ext cx="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173360" y="5240520"/>
                    <a:ext cx="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7202880" y="5240520"/>
                    <a:ext cx="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7227720" y="524052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7277400" y="5245200"/>
                    <a:ext cx="0" cy="6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7297560" y="5245200"/>
                    <a:ext cx="0" cy="9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328160" y="5249880"/>
                    <a:ext cx="0" cy="4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362000" y="5249880"/>
                    <a:ext cx="0" cy="4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7382160" y="5249880"/>
                    <a:ext cx="0" cy="4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7427520" y="5249880"/>
                    <a:ext cx="0" cy="22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7467120" y="5254560"/>
                    <a:ext cx="0" cy="18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7491960" y="5254560"/>
                    <a:ext cx="0" cy="18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7522200" y="5254560"/>
                    <a:ext cx="0" cy="18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7551720" y="5254560"/>
                    <a:ext cx="0" cy="20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7566480" y="5254560"/>
                    <a:ext cx="0" cy="20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611480" y="5259240"/>
                    <a:ext cx="0" cy="15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V="1">
                    <a:off x="7651080" y="5240520"/>
                    <a:ext cx="0" cy="52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V="1">
                    <a:off x="7661160" y="5240520"/>
                    <a:ext cx="0" cy="52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V="1">
                    <a:off x="7710840" y="5240520"/>
                    <a:ext cx="0" cy="52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V="1">
                    <a:off x="7741440" y="5240520"/>
                    <a:ext cx="0" cy="52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V="1">
                    <a:off x="7750440" y="5240520"/>
                    <a:ext cx="0" cy="52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V="1">
                    <a:off x="7766280" y="5240520"/>
                    <a:ext cx="0" cy="52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5898600" y="5133240"/>
                    <a:ext cx="1871640" cy="423000"/>
                  </a:xfrm>
                  <a:custGeom>
                    <a:avLst/>
                    <a:gdLst/>
                    <a:ahLst/>
                    <a:rect l="l" t="t" r="r" b="b"/>
                    <a:pathLst>
                      <a:path w="376" h="185">
                        <a:moveTo>
                          <a:pt x="0" y="2"/>
                        </a:moveTo>
                        <a:lnTo>
                          <a:pt x="12" y="41"/>
                        </a:lnTo>
                        <a:lnTo>
                          <a:pt x="20" y="82"/>
                        </a:lnTo>
                        <a:lnTo>
                          <a:pt x="24" y="124"/>
                        </a:lnTo>
                        <a:lnTo>
                          <a:pt x="24" y="146"/>
                        </a:lnTo>
                        <a:lnTo>
                          <a:pt x="24" y="168"/>
                        </a:lnTo>
                        <a:lnTo>
                          <a:pt x="23" y="183"/>
                        </a:lnTo>
                        <a:lnTo>
                          <a:pt x="23" y="184"/>
                        </a:lnTo>
                        <a:lnTo>
                          <a:pt x="31" y="184"/>
                        </a:lnTo>
                        <a:lnTo>
                          <a:pt x="47" y="184"/>
                        </a:lnTo>
                        <a:lnTo>
                          <a:pt x="71" y="183"/>
                        </a:lnTo>
                        <a:lnTo>
                          <a:pt x="112" y="180"/>
                        </a:lnTo>
                        <a:lnTo>
                          <a:pt x="150" y="176"/>
                        </a:lnTo>
                        <a:lnTo>
                          <a:pt x="197" y="171"/>
                        </a:lnTo>
                        <a:lnTo>
                          <a:pt x="242" y="163"/>
                        </a:lnTo>
                        <a:lnTo>
                          <a:pt x="281" y="157"/>
                        </a:lnTo>
                        <a:lnTo>
                          <a:pt x="322" y="147"/>
                        </a:lnTo>
                        <a:lnTo>
                          <a:pt x="361" y="135"/>
                        </a:lnTo>
                        <a:lnTo>
                          <a:pt x="371" y="101"/>
                        </a:lnTo>
                        <a:lnTo>
                          <a:pt x="375" y="65"/>
                        </a:lnTo>
                        <a:lnTo>
                          <a:pt x="360" y="65"/>
                        </a:lnTo>
                        <a:lnTo>
                          <a:pt x="328" y="64"/>
                        </a:lnTo>
                        <a:lnTo>
                          <a:pt x="307" y="62"/>
                        </a:lnTo>
                        <a:lnTo>
                          <a:pt x="279" y="58"/>
                        </a:lnTo>
                        <a:lnTo>
                          <a:pt x="236" y="50"/>
                        </a:lnTo>
                        <a:lnTo>
                          <a:pt x="215" y="45"/>
                        </a:lnTo>
                        <a:lnTo>
                          <a:pt x="181" y="37"/>
                        </a:lnTo>
                        <a:lnTo>
                          <a:pt x="143" y="27"/>
                        </a:lnTo>
                        <a:lnTo>
                          <a:pt x="105" y="17"/>
                        </a:lnTo>
                        <a:lnTo>
                          <a:pt x="74" y="8"/>
                        </a:lnTo>
                        <a:lnTo>
                          <a:pt x="47" y="3"/>
                        </a:lnTo>
                        <a:lnTo>
                          <a:pt x="30" y="1"/>
                        </a:ln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8" y="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6072480" y="5231520"/>
                    <a:ext cx="9900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7">
                        <a:moveTo>
                          <a:pt x="16" y="11"/>
                        </a:moveTo>
                        <a:lnTo>
                          <a:pt x="15" y="15"/>
                        </a:lnTo>
                        <a:lnTo>
                          <a:pt x="14" y="18"/>
                        </a:lnTo>
                        <a:lnTo>
                          <a:pt x="12" y="20"/>
                        </a:lnTo>
                        <a:lnTo>
                          <a:pt x="9" y="21"/>
                        </a:lnTo>
                        <a:lnTo>
                          <a:pt x="7" y="20"/>
                        </a:lnTo>
                        <a:lnTo>
                          <a:pt x="5" y="17"/>
                        </a:lnTo>
                        <a:lnTo>
                          <a:pt x="5" y="12"/>
                        </a:lnTo>
                        <a:lnTo>
                          <a:pt x="7" y="8"/>
                        </a:lnTo>
                        <a:lnTo>
                          <a:pt x="11" y="4"/>
                        </a:lnTo>
                        <a:lnTo>
                          <a:pt x="11" y="4"/>
                        </a:lnTo>
                        <a:lnTo>
                          <a:pt x="10" y="1"/>
                        </a:lnTo>
                        <a:lnTo>
                          <a:pt x="8" y="0"/>
                        </a:lnTo>
                        <a:lnTo>
                          <a:pt x="4" y="4"/>
                        </a:lnTo>
                        <a:lnTo>
                          <a:pt x="1" y="10"/>
                        </a:lnTo>
                        <a:lnTo>
                          <a:pt x="0" y="13"/>
                        </a:lnTo>
                        <a:lnTo>
                          <a:pt x="0" y="17"/>
                        </a:lnTo>
                        <a:lnTo>
                          <a:pt x="2" y="22"/>
                        </a:lnTo>
                        <a:lnTo>
                          <a:pt x="6" y="26"/>
                        </a:lnTo>
                        <a:lnTo>
                          <a:pt x="8" y="26"/>
                        </a:lnTo>
                        <a:lnTo>
                          <a:pt x="11" y="26"/>
                        </a:lnTo>
                        <a:lnTo>
                          <a:pt x="15" y="24"/>
                        </a:lnTo>
                        <a:lnTo>
                          <a:pt x="17" y="21"/>
                        </a:lnTo>
                        <a:lnTo>
                          <a:pt x="18" y="16"/>
                        </a:lnTo>
                        <a:lnTo>
                          <a:pt x="19" y="10"/>
                        </a:lnTo>
                        <a:lnTo>
                          <a:pt x="16" y="11"/>
                        </a:lnTo>
                      </a:path>
                    </a:pathLst>
                  </a:custGeom>
                  <a:solidFill>
                    <a:srgbClr val="60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5993640" y="5405400"/>
                    <a:ext cx="173160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8" h="66">
                        <a:moveTo>
                          <a:pt x="347" y="0"/>
                        </a:moveTo>
                        <a:lnTo>
                          <a:pt x="281" y="20"/>
                        </a:lnTo>
                        <a:lnTo>
                          <a:pt x="228" y="29"/>
                        </a:lnTo>
                        <a:lnTo>
                          <a:pt x="181" y="35"/>
                        </a:lnTo>
                        <a:lnTo>
                          <a:pt x="137" y="41"/>
                        </a:lnTo>
                        <a:lnTo>
                          <a:pt x="98" y="45"/>
                        </a:lnTo>
                        <a:lnTo>
                          <a:pt x="58" y="48"/>
                        </a:lnTo>
                        <a:lnTo>
                          <a:pt x="34" y="50"/>
                        </a:lnTo>
                        <a:lnTo>
                          <a:pt x="28" y="50"/>
                        </a:lnTo>
                        <a:lnTo>
                          <a:pt x="24" y="50"/>
                        </a:lnTo>
                        <a:lnTo>
                          <a:pt x="22" y="50"/>
                        </a:lnTo>
                        <a:lnTo>
                          <a:pt x="19" y="50"/>
                        </a:lnTo>
                        <a:lnTo>
                          <a:pt x="10" y="50"/>
                        </a:lnTo>
                        <a:lnTo>
                          <a:pt x="5" y="49"/>
                        </a:lnTo>
                        <a:lnTo>
                          <a:pt x="0" y="44"/>
                        </a:lnTo>
                        <a:lnTo>
                          <a:pt x="0" y="48"/>
                        </a:lnTo>
                        <a:lnTo>
                          <a:pt x="0" y="51"/>
                        </a:lnTo>
                        <a:lnTo>
                          <a:pt x="0" y="55"/>
                        </a:lnTo>
                        <a:lnTo>
                          <a:pt x="0" y="57"/>
                        </a:lnTo>
                        <a:lnTo>
                          <a:pt x="2" y="63"/>
                        </a:lnTo>
                        <a:lnTo>
                          <a:pt x="4" y="65"/>
                        </a:lnTo>
                        <a:lnTo>
                          <a:pt x="12" y="65"/>
                        </a:lnTo>
                        <a:lnTo>
                          <a:pt x="29" y="65"/>
                        </a:lnTo>
                        <a:lnTo>
                          <a:pt x="53" y="64"/>
                        </a:lnTo>
                        <a:lnTo>
                          <a:pt x="94" y="61"/>
                        </a:lnTo>
                        <a:lnTo>
                          <a:pt x="132" y="57"/>
                        </a:lnTo>
                        <a:lnTo>
                          <a:pt x="178" y="51"/>
                        </a:lnTo>
                        <a:lnTo>
                          <a:pt x="223" y="43"/>
                        </a:lnTo>
                        <a:lnTo>
                          <a:pt x="262" y="37"/>
                        </a:lnTo>
                        <a:lnTo>
                          <a:pt x="303" y="27"/>
                        </a:lnTo>
                        <a:lnTo>
                          <a:pt x="342" y="14"/>
                        </a:lnTo>
                        <a:lnTo>
                          <a:pt x="344" y="8"/>
                        </a:lnTo>
                        <a:lnTo>
                          <a:pt x="347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569" name="" descr=""/>
            <p:cNvPicPr/>
            <p:nvPr/>
          </p:nvPicPr>
          <p:blipFill>
            <a:blip r:embed="rId7"/>
            <a:stretch/>
          </p:blipFill>
          <p:spPr>
            <a:xfrm>
              <a:off x="5334120" y="1857240"/>
              <a:ext cx="76176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652320" y="290520"/>
              <a:ext cx="35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提供高品質的軌道運輸服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8360" y="5686560"/>
              <a:ext cx="373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發展中正機場，強化國內民航發展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57880" y="566244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發展海運轉運中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24280" y="290520"/>
              <a:ext cx="35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強化高快速公路運輸系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4" name="" descr=""/>
            <p:cNvPicPr/>
            <p:nvPr/>
          </p:nvPicPr>
          <p:blipFill>
            <a:blip r:embed="rId8"/>
            <a:stretch/>
          </p:blipFill>
          <p:spPr>
            <a:xfrm>
              <a:off x="7238880" y="2714760"/>
              <a:ext cx="914400" cy="41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3395520" y="2328840"/>
              <a:ext cx="2349720" cy="1515960"/>
            </a:xfrm>
            <a:prstGeom prst="ellipse">
              <a:avLst/>
            </a:prstGeom>
            <a:solidFill>
              <a:srgbClr val="c1ceff"/>
            </a:solidFill>
            <a:ln w="38160">
              <a:solidFill>
                <a:srgbClr val="9234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444840" y="2651040"/>
              <a:ext cx="223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複合運輸系統及節點之整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0880" y="3132000"/>
              <a:ext cx="3021120" cy="0"/>
            </a:xfrm>
            <a:prstGeom prst="line">
              <a:avLst/>
            </a:prstGeom>
            <a:ln w="28440">
              <a:solidFill>
                <a:srgbClr val="9234db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745240" y="3132000"/>
              <a:ext cx="3017880" cy="0"/>
            </a:xfrm>
            <a:prstGeom prst="line">
              <a:avLst/>
            </a:prstGeom>
            <a:ln w="28440">
              <a:solidFill>
                <a:srgbClr val="9234db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552920" y="152280"/>
              <a:ext cx="0" cy="2176560"/>
            </a:xfrm>
            <a:prstGeom prst="line">
              <a:avLst/>
            </a:prstGeom>
            <a:ln w="28440">
              <a:solidFill>
                <a:srgbClr val="9234db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2920" y="3895560"/>
              <a:ext cx="0" cy="2276640"/>
            </a:xfrm>
            <a:prstGeom prst="line">
              <a:avLst/>
            </a:prstGeom>
            <a:ln w="28440">
              <a:solidFill>
                <a:srgbClr val="9234db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7543800" y="640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739800" y="873000"/>
            <a:ext cx="62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想一：</a:t>
            </a:r>
            <a:r>
              <a:rPr b="0" lang="zh-TW" sz="32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強化高快速公路運輸系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19320" y="1681200"/>
            <a:ext cx="69768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9960" indent="-289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賡續辦理第二高速公路後續建設計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完成中山高速公路拓建計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積極辦理北宜高速公路建設計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推動中長程國道公路網拓展計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完成西部濱海快速公路建設計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完成十二條東西向快速公路建設計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補助辦理台北、高雄及台中等三大都會區之快速道路系統建設計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強化並提升省縣道及生活圈道路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0"/>
            <a:ext cx="365760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d3a8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目標一：創造迅速便捷舒適之運輸環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38480" y="6172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b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3733920" y="152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範   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228600" y="685800"/>
          <a:ext cx="8915400" cy="56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91540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9" name=""/>
          <p:cNvSpPr/>
          <p:nvPr/>
        </p:nvSpPr>
        <p:spPr>
          <a:xfrm>
            <a:off x="4038480" y="6172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c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879480" y="944640"/>
            <a:ext cx="64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想二：</a:t>
            </a:r>
            <a:r>
              <a:rPr b="0" lang="zh-TW" sz="32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提供高品質軌道運輸服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08040" y="1795320"/>
            <a:ext cx="61880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9960" indent="-289080" algn="just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積極辦理西部走廊高速鐵路</a:t>
            </a:r>
            <a:r>
              <a:rPr b="0" lang="en-US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BOT</a:t>
            </a: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建設計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台鐵鐵道網路系統改善計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辦理台鐵各項軟硬體設施改善計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辦理各大都會區鐵路立體化工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積極推動各項捷運與輕軌系統之規劃及建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0"/>
            <a:ext cx="365760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d3a8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目標一：創造迅速便捷舒適之運輸環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38480" y="6172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623880" y="50796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想三：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發展中正機場，強化國內民航發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15920" y="1111320"/>
            <a:ext cx="67644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9960" indent="-289080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積極擴建並提升中正國際機場服務品質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整體規劃整建國內各民航場站，提升國內民航服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籌劃南部國際機場新建計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" y="3656160"/>
            <a:ext cx="71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想四：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健全航港體制，發展海運轉運中心</a:t>
            </a: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047600" y="4275000"/>
            <a:ext cx="67644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航港體制改革，採</a:t>
            </a:r>
            <a:r>
              <a:rPr b="0" lang="zh-TW" sz="2600" spc="-1" strike="noStrike">
                <a:solidFill>
                  <a:srgbClr val="cc3300"/>
                </a:solidFill>
                <a:latin typeface="Times New Roman"/>
                <a:ea typeface="華康粗圓體"/>
              </a:rPr>
              <a:t>政商分離原則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，設立航港管理局、各航港管理支局、及港務公司，加強航港發展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辦理各國際港擴建計畫，提升競爭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0"/>
            <a:ext cx="365760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d3a8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目標一：創造迅速便捷舒適之運輸環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038480" y="6172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668160" y="1233360"/>
            <a:ext cx="79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想五：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複合運輸系統及交通節點之整合與規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60640" y="2101680"/>
            <a:ext cx="6764040" cy="20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9960" indent="-289080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國際或長程客運交通節點地區成立節點人流改善推動小組，辦理協調及改善計畫推動工作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>
              <a:lnSpc>
                <a:spcPct val="110000"/>
              </a:lnSpc>
              <a:spcBef>
                <a:spcPts val="1463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積極推動不同運輸系統介面之整合，無礙且順暢地服務人、貨之流動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365760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d3a8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目標一：創造迅速便捷舒適之運輸環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624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f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1752480" y="6324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全真中圓體"/>
                <a:ea typeface="全真中圓體"/>
              </a:rPr>
              <a:t>目標二  提升運輸建設計畫之施行績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457200" y="14400"/>
            <a:ext cx="8305920" cy="6234120"/>
            <a:chOff x="457200" y="14400"/>
            <a:chExt cx="8305920" cy="6234120"/>
          </a:xfrm>
        </p:grpSpPr>
        <p:sp>
          <p:nvSpPr>
            <p:cNvPr id="606" name=""/>
            <p:cNvSpPr/>
            <p:nvPr/>
          </p:nvSpPr>
          <p:spPr>
            <a:xfrm>
              <a:off x="457200" y="76320"/>
              <a:ext cx="8305920" cy="61722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41400" y="533520"/>
              <a:ext cx="7337520" cy="52578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8" name="" descr=""/>
            <p:cNvPicPr/>
            <p:nvPr/>
          </p:nvPicPr>
          <p:blipFill>
            <a:blip r:embed="rId3"/>
            <a:stretch/>
          </p:blipFill>
          <p:spPr>
            <a:xfrm>
              <a:off x="1951200" y="1371600"/>
              <a:ext cx="228888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" descr=""/>
            <p:cNvPicPr/>
            <p:nvPr/>
          </p:nvPicPr>
          <p:blipFill>
            <a:blip r:embed="rId4"/>
            <a:stretch/>
          </p:blipFill>
          <p:spPr>
            <a:xfrm>
              <a:off x="5181480" y="3886200"/>
              <a:ext cx="1540080" cy="150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"/>
            <p:cNvGrpSpPr/>
            <p:nvPr/>
          </p:nvGrpSpPr>
          <p:grpSpPr>
            <a:xfrm>
              <a:off x="2152800" y="3929040"/>
              <a:ext cx="2355480" cy="1250640"/>
              <a:chOff x="2152800" y="3929040"/>
              <a:chExt cx="2355480" cy="1250640"/>
            </a:xfrm>
          </p:grpSpPr>
          <p:pic>
            <p:nvPicPr>
              <p:cNvPr id="61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52800" y="4399920"/>
                <a:ext cx="1531440" cy="77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566160" y="3929040"/>
                <a:ext cx="942120" cy="819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" descr=""/>
            <p:cNvPicPr/>
            <p:nvPr/>
          </p:nvPicPr>
          <p:blipFill>
            <a:blip r:embed="rId7"/>
            <a:stretch/>
          </p:blipFill>
          <p:spPr>
            <a:xfrm>
              <a:off x="6124680" y="2054160"/>
              <a:ext cx="114444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8"/>
            <a:stretch/>
          </p:blipFill>
          <p:spPr>
            <a:xfrm>
              <a:off x="6124680" y="1384200"/>
              <a:ext cx="107640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" descr=""/>
            <p:cNvPicPr/>
            <p:nvPr/>
          </p:nvPicPr>
          <p:blipFill>
            <a:blip r:embed="rId9"/>
            <a:stretch/>
          </p:blipFill>
          <p:spPr>
            <a:xfrm>
              <a:off x="4844880" y="1143000"/>
              <a:ext cx="120204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4610160" y="533520"/>
              <a:ext cx="0" cy="519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41400" y="3271680"/>
              <a:ext cx="733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46840" y="2819520"/>
              <a:ext cx="242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華康粗圓體"/>
                </a:rPr>
                <a:t>研訂工程管理制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14400" y="2819520"/>
              <a:ext cx="24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華康粗圓體"/>
                </a:rPr>
                <a:t>加強公共溝通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71600" y="3403440"/>
              <a:ext cx="286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華康粗圓體"/>
                </a:rPr>
                <a:t>編訂運輸規劃作業手冊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952880" y="3403440"/>
              <a:ext cx="27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試辦運輸系統績效監測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9480" y="2057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57200" y="2438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57200" y="2819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57200" y="3200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09480" y="3581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5800" y="3962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14400" y="42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219320" y="4586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523880" y="4890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905120" y="51195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860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666880" y="5424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48120" y="5562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229600" y="2300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0592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05920" y="30621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229600" y="3443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077320" y="38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848720" y="4191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43800" y="4586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62920" y="4890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81680" y="51195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400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47920" y="10047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752480" y="762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33720" y="533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38280" y="380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19520" y="243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00400" y="152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581280" y="76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962520" y="14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67080" y="14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48320" y="14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29200" y="76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410080" y="152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91320" y="228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172200" y="304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77120" y="457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858000" y="623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62920" y="914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467480" y="1157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7772400" y="640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g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87520" y="2286000"/>
            <a:ext cx="4318200" cy="118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6969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99"/>
                </a:solidFill>
                <a:latin typeface="全真顏體"/>
                <a:ea typeface="全真顏體"/>
              </a:rPr>
              <a:t>壹、緣  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3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739800" y="750960"/>
            <a:ext cx="62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想一：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建立合理之運輸系統規劃機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09520" y="1455840"/>
            <a:ext cx="6921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擬定各層級政府運輸計畫推動辦法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編訂運輸規劃作業手冊推廣使用，辦理縣市交通專責機構人員講習訓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輔導縣市政府設立交通專責機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定期通盤檢討台灣地區整體運輸規劃及各縣市運輸計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配合行政院中長程建設計畫，靈活調整計畫之優先順序及經費之編列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0"/>
            <a:ext cx="365760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d3a8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目標二：提升運輸建設計畫之施行績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038480" y="6172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h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92040" y="647640"/>
            <a:ext cx="84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想二：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研究改善作業制度，防杜失序，建立常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34960" y="4121280"/>
            <a:ext cx="62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想三：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公布運輸系統服務績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90640" y="1349280"/>
            <a:ext cx="657684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9960" indent="-28908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配合「政府採購法」相關規定，研擬配套之工程管理辦法與作業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建立運輸設施基礎資料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研究改善公共溝通策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編擬災害搶修應變計畫及防災演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38160" y="4826160"/>
            <a:ext cx="669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9960" indent="-289080" algn="just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城際公路服務績效之蒐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推動及試辦都市地區運輸系統績效監測制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0"/>
            <a:ext cx="365760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d3a8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目標二：提升運輸建設計畫之施行績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38480" y="624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i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676520" y="6324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全真中圓體"/>
                <a:ea typeface="全真中圓體"/>
              </a:rPr>
              <a:t>目標三  提振運輸產業經營效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330200" y="152280"/>
            <a:ext cx="6483600" cy="5870160"/>
            <a:chOff x="1330200" y="152280"/>
            <a:chExt cx="6483600" cy="5870160"/>
          </a:xfrm>
        </p:grpSpPr>
        <p:sp>
          <p:nvSpPr>
            <p:cNvPr id="676" name=""/>
            <p:cNvSpPr/>
            <p:nvPr/>
          </p:nvSpPr>
          <p:spPr>
            <a:xfrm>
              <a:off x="1371600" y="166680"/>
              <a:ext cx="6442200" cy="58500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52480" y="611280"/>
              <a:ext cx="5570640" cy="49496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3260880" y="890640"/>
              <a:ext cx="1099440" cy="523440"/>
              <a:chOff x="3260880" y="890640"/>
              <a:chExt cx="1099440" cy="523440"/>
            </a:xfrm>
          </p:grpSpPr>
          <p:sp>
            <p:nvSpPr>
              <p:cNvPr id="679" name=""/>
              <p:cNvSpPr/>
              <p:nvPr/>
            </p:nvSpPr>
            <p:spPr>
              <a:xfrm>
                <a:off x="3427920" y="890640"/>
                <a:ext cx="93240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264120" y="1123560"/>
                <a:ext cx="1048680" cy="200880"/>
              </a:xfrm>
              <a:custGeom>
                <a:avLst/>
                <a:gdLst/>
                <a:ahLst/>
                <a:rect l="l" t="t" r="r" b="b"/>
                <a:pathLst>
                  <a:path w="351" h="112">
                    <a:moveTo>
                      <a:pt x="348" y="27"/>
                    </a:moveTo>
                    <a:lnTo>
                      <a:pt x="349" y="22"/>
                    </a:lnTo>
                    <a:lnTo>
                      <a:pt x="351" y="21"/>
                    </a:lnTo>
                    <a:lnTo>
                      <a:pt x="345" y="15"/>
                    </a:lnTo>
                    <a:lnTo>
                      <a:pt x="333" y="10"/>
                    </a:lnTo>
                    <a:lnTo>
                      <a:pt x="313" y="7"/>
                    </a:lnTo>
                    <a:lnTo>
                      <a:pt x="292" y="8"/>
                    </a:lnTo>
                    <a:lnTo>
                      <a:pt x="276" y="12"/>
                    </a:lnTo>
                    <a:lnTo>
                      <a:pt x="122" y="52"/>
                    </a:lnTo>
                    <a:lnTo>
                      <a:pt x="96" y="62"/>
                    </a:lnTo>
                    <a:lnTo>
                      <a:pt x="79" y="71"/>
                    </a:lnTo>
                    <a:lnTo>
                      <a:pt x="95" y="48"/>
                    </a:lnTo>
                    <a:lnTo>
                      <a:pt x="93" y="40"/>
                    </a:lnTo>
                    <a:lnTo>
                      <a:pt x="88" y="36"/>
                    </a:lnTo>
                    <a:lnTo>
                      <a:pt x="69" y="41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29" y="50"/>
                    </a:lnTo>
                    <a:lnTo>
                      <a:pt x="5" y="60"/>
                    </a:lnTo>
                    <a:lnTo>
                      <a:pt x="8" y="74"/>
                    </a:lnTo>
                    <a:lnTo>
                      <a:pt x="28" y="69"/>
                    </a:lnTo>
                    <a:lnTo>
                      <a:pt x="184" y="112"/>
                    </a:lnTo>
                    <a:lnTo>
                      <a:pt x="216" y="107"/>
                    </a:lnTo>
                    <a:lnTo>
                      <a:pt x="216" y="102"/>
                    </a:lnTo>
                    <a:lnTo>
                      <a:pt x="213" y="98"/>
                    </a:lnTo>
                    <a:lnTo>
                      <a:pt x="205" y="98"/>
                    </a:lnTo>
                    <a:lnTo>
                      <a:pt x="189" y="100"/>
                    </a:lnTo>
                    <a:lnTo>
                      <a:pt x="181" y="100"/>
                    </a:lnTo>
                    <a:lnTo>
                      <a:pt x="208" y="81"/>
                    </a:lnTo>
                    <a:lnTo>
                      <a:pt x="348" y="2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539160" y="1150560"/>
                <a:ext cx="773640" cy="136080"/>
              </a:xfrm>
              <a:custGeom>
                <a:avLst/>
                <a:gdLst/>
                <a:ahLst/>
                <a:rect l="l" t="t" r="r" b="b"/>
                <a:pathLst>
                  <a:path w="259" h="76">
                    <a:moveTo>
                      <a:pt x="0" y="63"/>
                    </a:moveTo>
                    <a:lnTo>
                      <a:pt x="16" y="57"/>
                    </a:lnTo>
                    <a:lnTo>
                      <a:pt x="209" y="6"/>
                    </a:lnTo>
                    <a:lnTo>
                      <a:pt x="224" y="2"/>
                    </a:lnTo>
                    <a:lnTo>
                      <a:pt x="237" y="0"/>
                    </a:lnTo>
                    <a:lnTo>
                      <a:pt x="254" y="2"/>
                    </a:lnTo>
                    <a:lnTo>
                      <a:pt x="259" y="6"/>
                    </a:lnTo>
                    <a:lnTo>
                      <a:pt x="259" y="9"/>
                    </a:lnTo>
                    <a:lnTo>
                      <a:pt x="256" y="14"/>
                    </a:lnTo>
                    <a:lnTo>
                      <a:pt x="163" y="31"/>
                    </a:lnTo>
                    <a:lnTo>
                      <a:pt x="160" y="25"/>
                    </a:lnTo>
                    <a:lnTo>
                      <a:pt x="156" y="23"/>
                    </a:lnTo>
                    <a:lnTo>
                      <a:pt x="155" y="21"/>
                    </a:lnTo>
                    <a:lnTo>
                      <a:pt x="132" y="28"/>
                    </a:lnTo>
                    <a:lnTo>
                      <a:pt x="131" y="31"/>
                    </a:lnTo>
                    <a:lnTo>
                      <a:pt x="73" y="57"/>
                    </a:lnTo>
                    <a:lnTo>
                      <a:pt x="6" y="76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260880" y="1116360"/>
                <a:ext cx="1046160" cy="297720"/>
              </a:xfrm>
              <a:custGeom>
                <a:avLst/>
                <a:gdLst/>
                <a:ahLst/>
                <a:rect l="l" t="t" r="r" b="b"/>
                <a:pathLst>
                  <a:path w="350" h="166">
                    <a:moveTo>
                      <a:pt x="81" y="165"/>
                    </a:moveTo>
                    <a:lnTo>
                      <a:pt x="203" y="92"/>
                    </a:lnTo>
                    <a:lnTo>
                      <a:pt x="304" y="66"/>
                    </a:lnTo>
                    <a:lnTo>
                      <a:pt x="323" y="56"/>
                    </a:lnTo>
                    <a:lnTo>
                      <a:pt x="338" y="45"/>
                    </a:lnTo>
                    <a:lnTo>
                      <a:pt x="347" y="37"/>
                    </a:lnTo>
                    <a:lnTo>
                      <a:pt x="350" y="31"/>
                    </a:lnTo>
                    <a:lnTo>
                      <a:pt x="347" y="30"/>
                    </a:lnTo>
                    <a:lnTo>
                      <a:pt x="336" y="30"/>
                    </a:lnTo>
                    <a:lnTo>
                      <a:pt x="299" y="37"/>
                    </a:lnTo>
                    <a:lnTo>
                      <a:pt x="254" y="50"/>
                    </a:lnTo>
                    <a:lnTo>
                      <a:pt x="253" y="45"/>
                    </a:lnTo>
                    <a:lnTo>
                      <a:pt x="254" y="50"/>
                    </a:lnTo>
                    <a:lnTo>
                      <a:pt x="253" y="54"/>
                    </a:lnTo>
                    <a:lnTo>
                      <a:pt x="249" y="57"/>
                    </a:lnTo>
                    <a:lnTo>
                      <a:pt x="227" y="59"/>
                    </a:lnTo>
                    <a:lnTo>
                      <a:pt x="214" y="64"/>
                    </a:lnTo>
                    <a:lnTo>
                      <a:pt x="213" y="61"/>
                    </a:lnTo>
                    <a:lnTo>
                      <a:pt x="225" y="50"/>
                    </a:lnTo>
                    <a:lnTo>
                      <a:pt x="219" y="50"/>
                    </a:lnTo>
                    <a:lnTo>
                      <a:pt x="176" y="0"/>
                    </a:lnTo>
                    <a:lnTo>
                      <a:pt x="157" y="6"/>
                    </a:lnTo>
                    <a:lnTo>
                      <a:pt x="161" y="25"/>
                    </a:lnTo>
                    <a:lnTo>
                      <a:pt x="166" y="25"/>
                    </a:lnTo>
                    <a:lnTo>
                      <a:pt x="161" y="30"/>
                    </a:lnTo>
                    <a:lnTo>
                      <a:pt x="168" y="57"/>
                    </a:lnTo>
                    <a:lnTo>
                      <a:pt x="166" y="66"/>
                    </a:lnTo>
                    <a:lnTo>
                      <a:pt x="173" y="64"/>
                    </a:lnTo>
                    <a:lnTo>
                      <a:pt x="166" y="70"/>
                    </a:lnTo>
                    <a:lnTo>
                      <a:pt x="166" y="75"/>
                    </a:lnTo>
                    <a:lnTo>
                      <a:pt x="110" y="90"/>
                    </a:lnTo>
                    <a:lnTo>
                      <a:pt x="105" y="90"/>
                    </a:lnTo>
                    <a:lnTo>
                      <a:pt x="96" y="82"/>
                    </a:lnTo>
                    <a:lnTo>
                      <a:pt x="86" y="80"/>
                    </a:lnTo>
                    <a:lnTo>
                      <a:pt x="62" y="49"/>
                    </a:lnTo>
                    <a:lnTo>
                      <a:pt x="41" y="52"/>
                    </a:lnTo>
                    <a:lnTo>
                      <a:pt x="45" y="90"/>
                    </a:lnTo>
                    <a:lnTo>
                      <a:pt x="40" y="92"/>
                    </a:lnTo>
                    <a:lnTo>
                      <a:pt x="37" y="95"/>
                    </a:lnTo>
                    <a:lnTo>
                      <a:pt x="37" y="99"/>
                    </a:lnTo>
                    <a:lnTo>
                      <a:pt x="37" y="102"/>
                    </a:lnTo>
                    <a:lnTo>
                      <a:pt x="40" y="104"/>
                    </a:lnTo>
                    <a:lnTo>
                      <a:pt x="0" y="125"/>
                    </a:lnTo>
                    <a:lnTo>
                      <a:pt x="9" y="125"/>
                    </a:lnTo>
                    <a:lnTo>
                      <a:pt x="48" y="111"/>
                    </a:lnTo>
                    <a:lnTo>
                      <a:pt x="78" y="114"/>
                    </a:lnTo>
                    <a:lnTo>
                      <a:pt x="101" y="118"/>
                    </a:lnTo>
                    <a:lnTo>
                      <a:pt x="115" y="114"/>
                    </a:lnTo>
                    <a:lnTo>
                      <a:pt x="144" y="109"/>
                    </a:lnTo>
                    <a:lnTo>
                      <a:pt x="129" y="120"/>
                    </a:lnTo>
                    <a:lnTo>
                      <a:pt x="133" y="120"/>
                    </a:lnTo>
                    <a:lnTo>
                      <a:pt x="59" y="166"/>
                    </a:lnTo>
                    <a:lnTo>
                      <a:pt x="80" y="159"/>
                    </a:lnTo>
                    <a:lnTo>
                      <a:pt x="81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294000" y="1213560"/>
                <a:ext cx="253800" cy="55080"/>
              </a:xfrm>
              <a:custGeom>
                <a:avLst/>
                <a:gdLst/>
                <a:ahLst/>
                <a:rect l="l" t="t" r="r" b="b"/>
                <a:pathLst>
                  <a:path w="85" h="31">
                    <a:moveTo>
                      <a:pt x="16" y="28"/>
                    </a:moveTo>
                    <a:lnTo>
                      <a:pt x="19" y="31"/>
                    </a:lnTo>
                    <a:lnTo>
                      <a:pt x="43" y="28"/>
                    </a:lnTo>
                    <a:lnTo>
                      <a:pt x="70" y="21"/>
                    </a:lnTo>
                    <a:lnTo>
                      <a:pt x="75" y="19"/>
                    </a:lnTo>
                    <a:lnTo>
                      <a:pt x="75" y="16"/>
                    </a:lnTo>
                    <a:lnTo>
                      <a:pt x="83" y="10"/>
                    </a:lnTo>
                    <a:lnTo>
                      <a:pt x="85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34" y="16"/>
                    </a:lnTo>
                    <a:lnTo>
                      <a:pt x="21" y="17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5" y="29"/>
                    </a:lnTo>
                    <a:lnTo>
                      <a:pt x="16" y="2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335760" y="1188360"/>
                <a:ext cx="190800" cy="42840"/>
              </a:xfrm>
              <a:custGeom>
                <a:avLst/>
                <a:gdLst/>
                <a:ahLst/>
                <a:rect l="l" t="t" r="r" b="b"/>
                <a:pathLst>
                  <a:path w="64" h="24">
                    <a:moveTo>
                      <a:pt x="64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56" y="2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747960" y="1306800"/>
                <a:ext cx="90000" cy="3708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10" y="17"/>
                    </a:moveTo>
                    <a:lnTo>
                      <a:pt x="14" y="14"/>
                    </a:lnTo>
                    <a:lnTo>
                      <a:pt x="14" y="8"/>
                    </a:lnTo>
                    <a:lnTo>
                      <a:pt x="0" y="8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6" y="2"/>
                    </a:lnTo>
                    <a:lnTo>
                      <a:pt x="29" y="5"/>
                    </a:lnTo>
                    <a:lnTo>
                      <a:pt x="30" y="14"/>
                    </a:lnTo>
                    <a:lnTo>
                      <a:pt x="29" y="21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16" y="19"/>
                    </a:lnTo>
                    <a:lnTo>
                      <a:pt x="1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828600" y="1303200"/>
                <a:ext cx="80640" cy="41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12"/>
                    </a:moveTo>
                    <a:lnTo>
                      <a:pt x="26" y="5"/>
                    </a:lnTo>
                    <a:lnTo>
                      <a:pt x="26" y="0"/>
                    </a:lnTo>
                    <a:lnTo>
                      <a:pt x="27" y="2"/>
                    </a:lnTo>
                    <a:lnTo>
                      <a:pt x="27" y="10"/>
                    </a:lnTo>
                    <a:lnTo>
                      <a:pt x="27" y="16"/>
                    </a:lnTo>
                    <a:lnTo>
                      <a:pt x="16" y="23"/>
                    </a:lnTo>
                    <a:lnTo>
                      <a:pt x="2" y="2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853080" y="1306800"/>
                <a:ext cx="38520" cy="140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3" y="3"/>
                    </a:lnTo>
                    <a:lnTo>
                      <a:pt x="3" y="8"/>
                    </a:lnTo>
                    <a:lnTo>
                      <a:pt x="13" y="7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930120" y="1206360"/>
                <a:ext cx="14760" cy="162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2"/>
                    </a:moveTo>
                    <a:lnTo>
                      <a:pt x="1" y="4"/>
                    </a:lnTo>
                    <a:lnTo>
                      <a:pt x="1" y="9"/>
                    </a:lnTo>
                    <a:lnTo>
                      <a:pt x="5" y="9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963600" y="1195200"/>
                <a:ext cx="41040" cy="234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"/>
                    </a:moveTo>
                    <a:lnTo>
                      <a:pt x="10" y="0"/>
                    </a:lnTo>
                    <a:lnTo>
                      <a:pt x="13" y="5"/>
                    </a:lnTo>
                    <a:lnTo>
                      <a:pt x="14" y="13"/>
                    </a:lnTo>
                    <a:lnTo>
                      <a:pt x="5" y="13"/>
                    </a:lnTo>
                    <a:lnTo>
                      <a:pt x="2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3692520" y="2498760"/>
              <a:ext cx="4572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537080" y="611280"/>
              <a:ext cx="0" cy="24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2049480" y="3035160"/>
              <a:ext cx="2479680" cy="117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37080" y="3035160"/>
              <a:ext cx="2481120" cy="117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2255760" y="1614600"/>
              <a:ext cx="2170800" cy="634320"/>
              <a:chOff x="2255760" y="1614600"/>
              <a:chExt cx="2170800" cy="634320"/>
            </a:xfrm>
          </p:grpSpPr>
          <p:grpSp>
            <p:nvGrpSpPr>
              <p:cNvPr id="695" name=""/>
              <p:cNvGrpSpPr/>
              <p:nvPr/>
            </p:nvGrpSpPr>
            <p:grpSpPr>
              <a:xfrm>
                <a:off x="2255760" y="1614600"/>
                <a:ext cx="1779120" cy="634320"/>
                <a:chOff x="2255760" y="1614600"/>
                <a:chExt cx="1779120" cy="63432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2281320" y="1675080"/>
                  <a:ext cx="475560" cy="285120"/>
                </a:xfrm>
                <a:custGeom>
                  <a:avLst/>
                  <a:gdLst/>
                  <a:ahLst/>
                  <a:rect l="l" t="t" r="r" b="b"/>
                  <a:pathLst>
                    <a:path w="109" h="80">
                      <a:moveTo>
                        <a:pt x="98" y="76"/>
                      </a:moveTo>
                      <a:lnTo>
                        <a:pt x="4" y="80"/>
                      </a:lnTo>
                      <a:lnTo>
                        <a:pt x="0" y="78"/>
                      </a:lnTo>
                      <a:lnTo>
                        <a:pt x="0" y="73"/>
                      </a:lnTo>
                      <a:lnTo>
                        <a:pt x="0" y="69"/>
                      </a:lnTo>
                      <a:lnTo>
                        <a:pt x="8" y="12"/>
                      </a:lnTo>
                      <a:lnTo>
                        <a:pt x="12" y="9"/>
                      </a:lnTo>
                      <a:lnTo>
                        <a:pt x="15" y="7"/>
                      </a:lnTo>
                      <a:lnTo>
                        <a:pt x="96" y="0"/>
                      </a:lnTo>
                      <a:lnTo>
                        <a:pt x="101" y="2"/>
                      </a:lnTo>
                      <a:lnTo>
                        <a:pt x="106" y="7"/>
                      </a:lnTo>
                      <a:lnTo>
                        <a:pt x="109" y="71"/>
                      </a:lnTo>
                      <a:lnTo>
                        <a:pt x="104" y="74"/>
                      </a:lnTo>
                      <a:lnTo>
                        <a:pt x="98" y="7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442600" y="1614600"/>
                  <a:ext cx="344880" cy="54000"/>
                </a:xfrm>
                <a:custGeom>
                  <a:avLst/>
                  <a:gdLst/>
                  <a:ahLst/>
                  <a:rect l="l" t="t" r="r" b="b"/>
                  <a:pathLst>
                    <a:path w="79" h="15">
                      <a:moveTo>
                        <a:pt x="0" y="15"/>
                      </a:moveTo>
                      <a:lnTo>
                        <a:pt x="15" y="3"/>
                      </a:lnTo>
                      <a:lnTo>
                        <a:pt x="69" y="0"/>
                      </a:lnTo>
                      <a:lnTo>
                        <a:pt x="79" y="1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752200" y="161460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25" h="15">
                      <a:moveTo>
                        <a:pt x="0" y="0"/>
                      </a:moveTo>
                      <a:lnTo>
                        <a:pt x="25" y="15"/>
                      </a:lnTo>
                      <a:lnTo>
                        <a:pt x="8" y="1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255760" y="1643400"/>
                  <a:ext cx="1779120" cy="427320"/>
                </a:xfrm>
                <a:custGeom>
                  <a:avLst/>
                  <a:gdLst/>
                  <a:ahLst/>
                  <a:rect l="l" t="t" r="r" b="b"/>
                  <a:pathLst>
                    <a:path w="408" h="120">
                      <a:moveTo>
                        <a:pt x="402" y="85"/>
                      </a:moveTo>
                      <a:lnTo>
                        <a:pt x="400" y="85"/>
                      </a:lnTo>
                      <a:lnTo>
                        <a:pt x="394" y="85"/>
                      </a:lnTo>
                      <a:lnTo>
                        <a:pt x="389" y="85"/>
                      </a:lnTo>
                      <a:lnTo>
                        <a:pt x="322" y="83"/>
                      </a:lnTo>
                      <a:lnTo>
                        <a:pt x="315" y="80"/>
                      </a:lnTo>
                      <a:lnTo>
                        <a:pt x="258" y="70"/>
                      </a:lnTo>
                      <a:lnTo>
                        <a:pt x="136" y="6"/>
                      </a:lnTo>
                      <a:lnTo>
                        <a:pt x="120" y="0"/>
                      </a:lnTo>
                      <a:lnTo>
                        <a:pt x="43" y="6"/>
                      </a:lnTo>
                      <a:lnTo>
                        <a:pt x="11" y="12"/>
                      </a:lnTo>
                      <a:lnTo>
                        <a:pt x="0" y="120"/>
                      </a:lnTo>
                      <a:lnTo>
                        <a:pt x="5" y="115"/>
                      </a:lnTo>
                      <a:lnTo>
                        <a:pt x="134" y="116"/>
                      </a:lnTo>
                      <a:lnTo>
                        <a:pt x="259" y="111"/>
                      </a:lnTo>
                      <a:lnTo>
                        <a:pt x="327" y="111"/>
                      </a:lnTo>
                      <a:lnTo>
                        <a:pt x="408" y="106"/>
                      </a:lnTo>
                      <a:lnTo>
                        <a:pt x="408" y="95"/>
                      </a:lnTo>
                      <a:lnTo>
                        <a:pt x="402" y="8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2856960" y="1732320"/>
                  <a:ext cx="139320" cy="249480"/>
                </a:xfrm>
                <a:custGeom>
                  <a:avLst/>
                  <a:gdLst/>
                  <a:ahLst/>
                  <a:rect l="l" t="t" r="r" b="b"/>
                  <a:pathLst>
                    <a:path w="32" h="70">
                      <a:moveTo>
                        <a:pt x="25" y="10"/>
                      </a:moveTo>
                      <a:lnTo>
                        <a:pt x="0" y="0"/>
                      </a:lnTo>
                      <a:lnTo>
                        <a:pt x="9" y="67"/>
                      </a:lnTo>
                      <a:lnTo>
                        <a:pt x="32" y="70"/>
                      </a:lnTo>
                      <a:lnTo>
                        <a:pt x="25" y="1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2966760" y="1767960"/>
                  <a:ext cx="125280" cy="214200"/>
                </a:xfrm>
                <a:custGeom>
                  <a:avLst/>
                  <a:gdLst/>
                  <a:ahLst/>
                  <a:rect l="l" t="t" r="r" b="b"/>
                  <a:pathLst>
                    <a:path w="29" h="60">
                      <a:moveTo>
                        <a:pt x="24" y="10"/>
                      </a:moveTo>
                      <a:lnTo>
                        <a:pt x="0" y="0"/>
                      </a:lnTo>
                      <a:lnTo>
                        <a:pt x="7" y="59"/>
                      </a:lnTo>
                      <a:lnTo>
                        <a:pt x="29" y="60"/>
                      </a:lnTo>
                      <a:lnTo>
                        <a:pt x="24" y="1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3079440" y="1810800"/>
                  <a:ext cx="91800" cy="178560"/>
                </a:xfrm>
                <a:custGeom>
                  <a:avLst/>
                  <a:gdLst/>
                  <a:ahLst/>
                  <a:rect l="l" t="t" r="r" b="b"/>
                  <a:pathLst>
                    <a:path w="21" h="50">
                      <a:moveTo>
                        <a:pt x="0" y="0"/>
                      </a:moveTo>
                      <a:lnTo>
                        <a:pt x="14" y="5"/>
                      </a:lnTo>
                      <a:lnTo>
                        <a:pt x="21" y="50"/>
                      </a:lnTo>
                      <a:lnTo>
                        <a:pt x="3" y="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149640" y="1843200"/>
                  <a:ext cx="130320" cy="152640"/>
                </a:xfrm>
                <a:custGeom>
                  <a:avLst/>
                  <a:gdLst/>
                  <a:ahLst/>
                  <a:rect l="l" t="t" r="r" b="b"/>
                  <a:pathLst>
                    <a:path w="30" h="43">
                      <a:moveTo>
                        <a:pt x="0" y="0"/>
                      </a:moveTo>
                      <a:lnTo>
                        <a:pt x="30" y="10"/>
                      </a:lnTo>
                      <a:lnTo>
                        <a:pt x="30" y="43"/>
                      </a:lnTo>
                      <a:lnTo>
                        <a:pt x="3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288960" y="1886040"/>
                  <a:ext cx="61200" cy="11700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0" y="0"/>
                      </a:moveTo>
                      <a:lnTo>
                        <a:pt x="13" y="8"/>
                      </a:lnTo>
                      <a:lnTo>
                        <a:pt x="14" y="33"/>
                      </a:lnTo>
                      <a:lnTo>
                        <a:pt x="2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406680" y="1935360"/>
                  <a:ext cx="43200" cy="8568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4"/>
                      </a:lnTo>
                      <a:lnTo>
                        <a:pt x="2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3524400" y="1953000"/>
                  <a:ext cx="21600" cy="60480"/>
                </a:xfrm>
                <a:custGeom>
                  <a:avLst/>
                  <a:gdLst/>
                  <a:ahLst/>
                  <a:rect l="l" t="t" r="r" b="b"/>
                  <a:pathLst>
                    <a:path w="5" h="17">
                      <a:moveTo>
                        <a:pt x="5" y="2"/>
                      </a:move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5" y="17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3558960" y="1953000"/>
                  <a:ext cx="30600" cy="60480"/>
                </a:xfrm>
                <a:custGeom>
                  <a:avLst/>
                  <a:gdLst/>
                  <a:ahLst/>
                  <a:rect l="l" t="t" r="r" b="b"/>
                  <a:pathLst>
                    <a:path w="7" h="17">
                      <a:moveTo>
                        <a:pt x="5" y="2"/>
                      </a:move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7" y="15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729240" y="1971000"/>
                  <a:ext cx="26640" cy="4284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846960" y="1971000"/>
                  <a:ext cx="35280" cy="4284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8" y="12"/>
                      </a:move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8" y="12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3938760" y="1978200"/>
                  <a:ext cx="21600" cy="35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2883600" y="1775160"/>
                  <a:ext cx="99720" cy="195480"/>
                </a:xfrm>
                <a:custGeom>
                  <a:avLst/>
                  <a:gdLst/>
                  <a:ahLst/>
                  <a:rect l="l" t="t" r="r" b="b"/>
                  <a:pathLst>
                    <a:path w="23" h="55">
                      <a:moveTo>
                        <a:pt x="15" y="7"/>
                      </a:moveTo>
                      <a:lnTo>
                        <a:pt x="0" y="0"/>
                      </a:lnTo>
                      <a:lnTo>
                        <a:pt x="5" y="52"/>
                      </a:lnTo>
                      <a:lnTo>
                        <a:pt x="23" y="55"/>
                      </a:ln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3010320" y="1818000"/>
                  <a:ext cx="82080" cy="15264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13" y="3"/>
                      </a:moveTo>
                      <a:lnTo>
                        <a:pt x="0" y="0"/>
                      </a:lnTo>
                      <a:lnTo>
                        <a:pt x="3" y="43"/>
                      </a:lnTo>
                      <a:lnTo>
                        <a:pt x="19" y="43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3227760" y="1910160"/>
                  <a:ext cx="39240" cy="54000"/>
                </a:xfrm>
                <a:custGeom>
                  <a:avLst/>
                  <a:gdLst/>
                  <a:ahLst/>
                  <a:rect l="l" t="t" r="r" b="b"/>
                  <a:pathLst>
                    <a:path w="9" h="15">
                      <a:moveTo>
                        <a:pt x="8" y="1"/>
                      </a:moveTo>
                      <a:lnTo>
                        <a:pt x="0" y="0"/>
                      </a:lnTo>
                      <a:lnTo>
                        <a:pt x="1" y="15"/>
                      </a:lnTo>
                      <a:lnTo>
                        <a:pt x="9" y="15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3171240" y="1914480"/>
                  <a:ext cx="34560" cy="4572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1" y="11"/>
                      </a:lnTo>
                      <a:lnTo>
                        <a:pt x="8" y="1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2264400" y="2038680"/>
                  <a:ext cx="1770120" cy="125280"/>
                </a:xfrm>
                <a:custGeom>
                  <a:avLst/>
                  <a:gdLst/>
                  <a:ahLst/>
                  <a:rect l="l" t="t" r="r" b="b"/>
                  <a:pathLst>
                    <a:path w="406" h="35">
                      <a:moveTo>
                        <a:pt x="0" y="9"/>
                      </a:moveTo>
                      <a:lnTo>
                        <a:pt x="3" y="5"/>
                      </a:lnTo>
                      <a:lnTo>
                        <a:pt x="140" y="5"/>
                      </a:lnTo>
                      <a:lnTo>
                        <a:pt x="262" y="0"/>
                      </a:lnTo>
                      <a:lnTo>
                        <a:pt x="406" y="0"/>
                      </a:lnTo>
                      <a:lnTo>
                        <a:pt x="406" y="4"/>
                      </a:lnTo>
                      <a:lnTo>
                        <a:pt x="325" y="5"/>
                      </a:lnTo>
                      <a:lnTo>
                        <a:pt x="235" y="9"/>
                      </a:lnTo>
                      <a:lnTo>
                        <a:pt x="129" y="35"/>
                      </a:lnTo>
                      <a:lnTo>
                        <a:pt x="121" y="23"/>
                      </a:lnTo>
                      <a:lnTo>
                        <a:pt x="89" y="23"/>
                      </a:lnTo>
                      <a:lnTo>
                        <a:pt x="86" y="12"/>
                      </a:lnTo>
                      <a:lnTo>
                        <a:pt x="25" y="14"/>
                      </a:lnTo>
                      <a:lnTo>
                        <a:pt x="19" y="9"/>
                      </a:lnTo>
                      <a:lnTo>
                        <a:pt x="4" y="5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268360" y="2053440"/>
                  <a:ext cx="1766160" cy="195480"/>
                </a:xfrm>
                <a:custGeom>
                  <a:avLst/>
                  <a:gdLst/>
                  <a:ahLst/>
                  <a:rect l="l" t="t" r="r" b="b"/>
                  <a:pathLst>
                    <a:path w="405" h="55">
                      <a:moveTo>
                        <a:pt x="0" y="6"/>
                      </a:moveTo>
                      <a:lnTo>
                        <a:pt x="8" y="1"/>
                      </a:lnTo>
                      <a:lnTo>
                        <a:pt x="21" y="5"/>
                      </a:lnTo>
                      <a:lnTo>
                        <a:pt x="23" y="12"/>
                      </a:lnTo>
                      <a:lnTo>
                        <a:pt x="23" y="8"/>
                      </a:lnTo>
                      <a:lnTo>
                        <a:pt x="85" y="10"/>
                      </a:lnTo>
                      <a:lnTo>
                        <a:pt x="90" y="19"/>
                      </a:lnTo>
                      <a:lnTo>
                        <a:pt x="99" y="19"/>
                      </a:lnTo>
                      <a:lnTo>
                        <a:pt x="103" y="15"/>
                      </a:lnTo>
                      <a:lnTo>
                        <a:pt x="104" y="20"/>
                      </a:lnTo>
                      <a:lnTo>
                        <a:pt x="120" y="19"/>
                      </a:lnTo>
                      <a:lnTo>
                        <a:pt x="128" y="32"/>
                      </a:lnTo>
                      <a:lnTo>
                        <a:pt x="234" y="6"/>
                      </a:lnTo>
                      <a:lnTo>
                        <a:pt x="405" y="0"/>
                      </a:lnTo>
                      <a:lnTo>
                        <a:pt x="405" y="5"/>
                      </a:lnTo>
                      <a:lnTo>
                        <a:pt x="234" y="13"/>
                      </a:lnTo>
                      <a:lnTo>
                        <a:pt x="135" y="44"/>
                      </a:lnTo>
                      <a:lnTo>
                        <a:pt x="127" y="50"/>
                      </a:lnTo>
                      <a:lnTo>
                        <a:pt x="104" y="55"/>
                      </a:lnTo>
                      <a:lnTo>
                        <a:pt x="21" y="55"/>
                      </a:lnTo>
                      <a:lnTo>
                        <a:pt x="21" y="43"/>
                      </a:lnTo>
                      <a:lnTo>
                        <a:pt x="13" y="38"/>
                      </a:lnTo>
                      <a:lnTo>
                        <a:pt x="13" y="24"/>
                      </a:lnTo>
                      <a:lnTo>
                        <a:pt x="8" y="25"/>
                      </a:lnTo>
                      <a:lnTo>
                        <a:pt x="2" y="1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648160" y="2056680"/>
                  <a:ext cx="130320" cy="57240"/>
                </a:xfrm>
                <a:custGeom>
                  <a:avLst/>
                  <a:gdLst/>
                  <a:ahLst/>
                  <a:rect l="l" t="t" r="r" b="b"/>
                  <a:pathLst>
                    <a:path w="30" h="16">
                      <a:moveTo>
                        <a:pt x="9" y="12"/>
                      </a:moveTo>
                      <a:lnTo>
                        <a:pt x="6" y="11"/>
                      </a:lnTo>
                      <a:lnTo>
                        <a:pt x="6" y="7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22" y="0"/>
                      </a:lnTo>
                      <a:lnTo>
                        <a:pt x="30" y="7"/>
                      </a:lnTo>
                      <a:lnTo>
                        <a:pt x="24" y="16"/>
                      </a:lnTo>
                      <a:lnTo>
                        <a:pt x="14" y="7"/>
                      </a:lnTo>
                      <a:lnTo>
                        <a:pt x="9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722320" y="2074320"/>
                  <a:ext cx="43200" cy="320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7" y="0"/>
                      </a:move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9"/>
                      </a:lnTo>
                      <a:lnTo>
                        <a:pt x="10" y="6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2268360" y="2074320"/>
                  <a:ext cx="56160" cy="468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7" y="0"/>
                      </a:moveTo>
                      <a:lnTo>
                        <a:pt x="13" y="2"/>
                      </a:lnTo>
                      <a:lnTo>
                        <a:pt x="13" y="9"/>
                      </a:lnTo>
                      <a:lnTo>
                        <a:pt x="7" y="13"/>
                      </a:lnTo>
                      <a:lnTo>
                        <a:pt x="0" y="9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966760" y="1767960"/>
                  <a:ext cx="34560" cy="363600"/>
                </a:xfrm>
                <a:custGeom>
                  <a:avLst/>
                  <a:gdLst/>
                  <a:ahLst/>
                  <a:rect l="l" t="t" r="r" b="b"/>
                  <a:pathLst>
                    <a:path w="8" h="102">
                      <a:moveTo>
                        <a:pt x="0" y="0"/>
                      </a:moveTo>
                      <a:lnTo>
                        <a:pt x="8" y="60"/>
                      </a:lnTo>
                      <a:lnTo>
                        <a:pt x="8" y="1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3070440" y="1803600"/>
                  <a:ext cx="30600" cy="310320"/>
                </a:xfrm>
                <a:custGeom>
                  <a:avLst/>
                  <a:gdLst/>
                  <a:ahLst/>
                  <a:rect l="l" t="t" r="r" b="b"/>
                  <a:pathLst>
                    <a:path w="7" h="87">
                      <a:moveTo>
                        <a:pt x="0" y="0"/>
                      </a:moveTo>
                      <a:lnTo>
                        <a:pt x="7" y="50"/>
                      </a:lnTo>
                      <a:lnTo>
                        <a:pt x="5" y="87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288960" y="1886040"/>
                  <a:ext cx="3600" cy="185040"/>
                </a:xfrm>
                <a:custGeom>
                  <a:avLst/>
                  <a:gdLst/>
                  <a:ahLst/>
                  <a:rect l="l" t="t" r="r" b="b"/>
                  <a:pathLst>
                    <a:path w="0" h="52">
                      <a:moveTo>
                        <a:pt x="0" y="0"/>
                      </a:moveTo>
                      <a:lnTo>
                        <a:pt x="0" y="38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930120" y="1982160"/>
                  <a:ext cx="8640" cy="5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3698640" y="1946520"/>
                  <a:ext cx="4680" cy="10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351520" y="1700280"/>
                  <a:ext cx="86760" cy="252720"/>
                </a:xfrm>
                <a:custGeom>
                  <a:avLst/>
                  <a:gdLst/>
                  <a:ahLst/>
                  <a:rect l="l" t="t" r="r" b="b"/>
                  <a:pathLst>
                    <a:path w="20" h="71">
                      <a:moveTo>
                        <a:pt x="20" y="0"/>
                      </a:moveTo>
                      <a:lnTo>
                        <a:pt x="10" y="10"/>
                      </a:lnTo>
                      <a:lnTo>
                        <a:pt x="4" y="19"/>
                      </a:lnTo>
                      <a:lnTo>
                        <a:pt x="2" y="29"/>
                      </a:lnTo>
                      <a:lnTo>
                        <a:pt x="0" y="7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2360520" y="1682280"/>
                  <a:ext cx="391320" cy="277920"/>
                </a:xfrm>
                <a:custGeom>
                  <a:avLst/>
                  <a:gdLst/>
                  <a:ahLst/>
                  <a:rect l="l" t="t" r="r" b="b"/>
                  <a:pathLst>
                    <a:path w="90" h="78">
                      <a:moveTo>
                        <a:pt x="22" y="5"/>
                      </a:moveTo>
                      <a:lnTo>
                        <a:pt x="75" y="0"/>
                      </a:lnTo>
                      <a:lnTo>
                        <a:pt x="85" y="5"/>
                      </a:lnTo>
                      <a:lnTo>
                        <a:pt x="90" y="67"/>
                      </a:lnTo>
                      <a:lnTo>
                        <a:pt x="80" y="74"/>
                      </a:lnTo>
                      <a:lnTo>
                        <a:pt x="0" y="78"/>
                      </a:lnTo>
                      <a:lnTo>
                        <a:pt x="0" y="57"/>
                      </a:lnTo>
                      <a:lnTo>
                        <a:pt x="0" y="43"/>
                      </a:lnTo>
                      <a:lnTo>
                        <a:pt x="0" y="27"/>
                      </a:lnTo>
                      <a:lnTo>
                        <a:pt x="8" y="12"/>
                      </a:lnTo>
                      <a:lnTo>
                        <a:pt x="2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577960" y="1825560"/>
                  <a:ext cx="117360" cy="138960"/>
                </a:xfrm>
                <a:custGeom>
                  <a:avLst/>
                  <a:gdLst/>
                  <a:ahLst/>
                  <a:rect l="l" t="t" r="r" b="b"/>
                  <a:pathLst>
                    <a:path w="27" h="39">
                      <a:moveTo>
                        <a:pt x="27" y="1"/>
                      </a:moveTo>
                      <a:lnTo>
                        <a:pt x="1" y="0"/>
                      </a:lnTo>
                      <a:lnTo>
                        <a:pt x="0" y="36"/>
                      </a:lnTo>
                      <a:lnTo>
                        <a:pt x="27" y="39"/>
                      </a:lnTo>
                      <a:lnTo>
                        <a:pt x="27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416680" y="1778400"/>
                  <a:ext cx="139320" cy="181800"/>
                </a:xfrm>
                <a:custGeom>
                  <a:avLst/>
                  <a:gdLst/>
                  <a:ahLst/>
                  <a:rect l="l" t="t" r="r" b="b"/>
                  <a:pathLst>
                    <a:path w="32" h="51">
                      <a:moveTo>
                        <a:pt x="27" y="6"/>
                      </a:moveTo>
                      <a:lnTo>
                        <a:pt x="1" y="0"/>
                      </a:lnTo>
                      <a:lnTo>
                        <a:pt x="0" y="47"/>
                      </a:lnTo>
                      <a:lnTo>
                        <a:pt x="32" y="51"/>
                      </a:lnTo>
                      <a:lnTo>
                        <a:pt x="27" y="6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241080" y="1745640"/>
                <a:ext cx="1185480" cy="441720"/>
                <a:chOff x="3241080" y="1745640"/>
                <a:chExt cx="1185480" cy="44172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241080" y="1745640"/>
                  <a:ext cx="1182240" cy="383040"/>
                </a:xfrm>
                <a:custGeom>
                  <a:avLst/>
                  <a:gdLst/>
                  <a:ahLst/>
                  <a:rect l="l" t="t" r="r" b="b"/>
                  <a:pathLst>
                    <a:path w="328" h="111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6" y="4"/>
                      </a:lnTo>
                      <a:lnTo>
                        <a:pt x="16" y="4"/>
                      </a:lnTo>
                      <a:lnTo>
                        <a:pt x="16" y="4"/>
                      </a:lnTo>
                      <a:lnTo>
                        <a:pt x="14" y="4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9"/>
                      </a:lnTo>
                      <a:lnTo>
                        <a:pt x="13" y="9"/>
                      </a:lnTo>
                      <a:lnTo>
                        <a:pt x="11" y="9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9" y="12"/>
                      </a:lnTo>
                      <a:lnTo>
                        <a:pt x="9" y="14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9" y="16"/>
                      </a:lnTo>
                      <a:lnTo>
                        <a:pt x="9" y="16"/>
                      </a:lnTo>
                      <a:lnTo>
                        <a:pt x="9" y="17"/>
                      </a:lnTo>
                      <a:lnTo>
                        <a:pt x="9" y="17"/>
                      </a:lnTo>
                      <a:lnTo>
                        <a:pt x="9" y="17"/>
                      </a:lnTo>
                      <a:lnTo>
                        <a:pt x="8" y="17"/>
                      </a:lnTo>
                      <a:lnTo>
                        <a:pt x="8" y="19"/>
                      </a:lnTo>
                      <a:lnTo>
                        <a:pt x="8" y="19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3"/>
                      </a:lnTo>
                      <a:lnTo>
                        <a:pt x="8" y="23"/>
                      </a:lnTo>
                      <a:lnTo>
                        <a:pt x="8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6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5" y="31"/>
                      </a:lnTo>
                      <a:lnTo>
                        <a:pt x="5" y="31"/>
                      </a:lnTo>
                      <a:lnTo>
                        <a:pt x="5" y="33"/>
                      </a:lnTo>
                      <a:lnTo>
                        <a:pt x="5" y="35"/>
                      </a:lnTo>
                      <a:lnTo>
                        <a:pt x="5" y="35"/>
                      </a:lnTo>
                      <a:lnTo>
                        <a:pt x="3" y="35"/>
                      </a:lnTo>
                      <a:lnTo>
                        <a:pt x="3" y="36"/>
                      </a:lnTo>
                      <a:lnTo>
                        <a:pt x="3" y="36"/>
                      </a:lnTo>
                      <a:lnTo>
                        <a:pt x="3" y="40"/>
                      </a:lnTo>
                      <a:lnTo>
                        <a:pt x="3" y="40"/>
                      </a:lnTo>
                      <a:lnTo>
                        <a:pt x="3" y="40"/>
                      </a:lnTo>
                      <a:lnTo>
                        <a:pt x="3" y="40"/>
                      </a:lnTo>
                      <a:lnTo>
                        <a:pt x="3" y="42"/>
                      </a:lnTo>
                      <a:lnTo>
                        <a:pt x="3" y="43"/>
                      </a:lnTo>
                      <a:lnTo>
                        <a:pt x="1" y="43"/>
                      </a:lnTo>
                      <a:lnTo>
                        <a:pt x="1" y="99"/>
                      </a:lnTo>
                      <a:lnTo>
                        <a:pt x="1" y="100"/>
                      </a:lnTo>
                      <a:lnTo>
                        <a:pt x="1" y="100"/>
                      </a:lnTo>
                      <a:lnTo>
                        <a:pt x="1" y="100"/>
                      </a:lnTo>
                      <a:lnTo>
                        <a:pt x="0" y="100"/>
                      </a:lnTo>
                      <a:lnTo>
                        <a:pt x="0" y="102"/>
                      </a:lnTo>
                      <a:lnTo>
                        <a:pt x="0" y="102"/>
                      </a:lnTo>
                      <a:lnTo>
                        <a:pt x="0" y="102"/>
                      </a:lnTo>
                      <a:lnTo>
                        <a:pt x="0" y="102"/>
                      </a:lnTo>
                      <a:lnTo>
                        <a:pt x="0" y="104"/>
                      </a:lnTo>
                      <a:lnTo>
                        <a:pt x="0" y="104"/>
                      </a:lnTo>
                      <a:lnTo>
                        <a:pt x="0" y="104"/>
                      </a:lnTo>
                      <a:lnTo>
                        <a:pt x="0" y="107"/>
                      </a:lnTo>
                      <a:lnTo>
                        <a:pt x="0" y="107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19" y="111"/>
                      </a:lnTo>
                      <a:lnTo>
                        <a:pt x="38" y="111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7"/>
                      </a:lnTo>
                      <a:lnTo>
                        <a:pt x="38" y="100"/>
                      </a:lnTo>
                      <a:lnTo>
                        <a:pt x="38" y="99"/>
                      </a:lnTo>
                      <a:lnTo>
                        <a:pt x="38" y="97"/>
                      </a:lnTo>
                      <a:lnTo>
                        <a:pt x="38" y="97"/>
                      </a:lnTo>
                      <a:lnTo>
                        <a:pt x="38" y="97"/>
                      </a:lnTo>
                      <a:lnTo>
                        <a:pt x="38" y="95"/>
                      </a:lnTo>
                      <a:lnTo>
                        <a:pt x="38" y="95"/>
                      </a:lnTo>
                      <a:lnTo>
                        <a:pt x="38" y="93"/>
                      </a:lnTo>
                      <a:lnTo>
                        <a:pt x="40" y="93"/>
                      </a:lnTo>
                      <a:lnTo>
                        <a:pt x="40" y="93"/>
                      </a:lnTo>
                      <a:lnTo>
                        <a:pt x="40" y="92"/>
                      </a:lnTo>
                      <a:lnTo>
                        <a:pt x="40" y="92"/>
                      </a:lnTo>
                      <a:lnTo>
                        <a:pt x="40" y="92"/>
                      </a:lnTo>
                      <a:lnTo>
                        <a:pt x="40" y="90"/>
                      </a:lnTo>
                      <a:lnTo>
                        <a:pt x="40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88"/>
                      </a:lnTo>
                      <a:lnTo>
                        <a:pt x="41" y="88"/>
                      </a:lnTo>
                      <a:lnTo>
                        <a:pt x="43" y="88"/>
                      </a:lnTo>
                      <a:lnTo>
                        <a:pt x="43" y="87"/>
                      </a:lnTo>
                      <a:lnTo>
                        <a:pt x="43" y="87"/>
                      </a:lnTo>
                      <a:lnTo>
                        <a:pt x="43" y="87"/>
                      </a:lnTo>
                      <a:lnTo>
                        <a:pt x="45" y="85"/>
                      </a:lnTo>
                      <a:lnTo>
                        <a:pt x="45" y="85"/>
                      </a:lnTo>
                      <a:lnTo>
                        <a:pt x="45" y="85"/>
                      </a:lnTo>
                      <a:lnTo>
                        <a:pt x="45" y="85"/>
                      </a:lnTo>
                      <a:lnTo>
                        <a:pt x="46" y="85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8" y="83"/>
                      </a:lnTo>
                      <a:lnTo>
                        <a:pt x="48" y="81"/>
                      </a:lnTo>
                      <a:lnTo>
                        <a:pt x="48" y="81"/>
                      </a:lnTo>
                      <a:lnTo>
                        <a:pt x="48" y="81"/>
                      </a:lnTo>
                      <a:lnTo>
                        <a:pt x="49" y="81"/>
                      </a:lnTo>
                      <a:lnTo>
                        <a:pt x="49" y="80"/>
                      </a:lnTo>
                      <a:lnTo>
                        <a:pt x="49" y="80"/>
                      </a:lnTo>
                      <a:lnTo>
                        <a:pt x="51" y="80"/>
                      </a:lnTo>
                      <a:lnTo>
                        <a:pt x="51" y="80"/>
                      </a:lnTo>
                      <a:lnTo>
                        <a:pt x="53" y="80"/>
                      </a:lnTo>
                      <a:lnTo>
                        <a:pt x="53" y="80"/>
                      </a:lnTo>
                      <a:lnTo>
                        <a:pt x="53" y="80"/>
                      </a:lnTo>
                      <a:lnTo>
                        <a:pt x="54" y="80"/>
                      </a:lnTo>
                      <a:lnTo>
                        <a:pt x="54" y="78"/>
                      </a:lnTo>
                      <a:lnTo>
                        <a:pt x="54" y="78"/>
                      </a:lnTo>
                      <a:lnTo>
                        <a:pt x="93" y="78"/>
                      </a:lnTo>
                      <a:lnTo>
                        <a:pt x="94" y="78"/>
                      </a:lnTo>
                      <a:lnTo>
                        <a:pt x="94" y="78"/>
                      </a:lnTo>
                      <a:lnTo>
                        <a:pt x="96" y="78"/>
                      </a:lnTo>
                      <a:lnTo>
                        <a:pt x="96" y="78"/>
                      </a:lnTo>
                      <a:lnTo>
                        <a:pt x="328" y="78"/>
                      </a:lnTo>
                      <a:lnTo>
                        <a:pt x="328" y="61"/>
                      </a:lnTo>
                      <a:lnTo>
                        <a:pt x="328" y="48"/>
                      </a:lnTo>
                      <a:lnTo>
                        <a:pt x="328" y="42"/>
                      </a:lnTo>
                      <a:lnTo>
                        <a:pt x="328" y="36"/>
                      </a:lnTo>
                      <a:lnTo>
                        <a:pt x="328" y="33"/>
                      </a:lnTo>
                      <a:lnTo>
                        <a:pt x="326" y="33"/>
                      </a:lnTo>
                      <a:lnTo>
                        <a:pt x="326" y="31"/>
                      </a:lnTo>
                      <a:lnTo>
                        <a:pt x="326" y="31"/>
                      </a:lnTo>
                      <a:lnTo>
                        <a:pt x="326" y="31"/>
                      </a:lnTo>
                      <a:lnTo>
                        <a:pt x="325" y="31"/>
                      </a:lnTo>
                      <a:lnTo>
                        <a:pt x="325" y="31"/>
                      </a:lnTo>
                      <a:lnTo>
                        <a:pt x="325" y="29"/>
                      </a:lnTo>
                      <a:lnTo>
                        <a:pt x="325" y="29"/>
                      </a:lnTo>
                      <a:lnTo>
                        <a:pt x="323" y="29"/>
                      </a:lnTo>
                      <a:lnTo>
                        <a:pt x="323" y="29"/>
                      </a:lnTo>
                      <a:lnTo>
                        <a:pt x="323" y="29"/>
                      </a:lnTo>
                      <a:lnTo>
                        <a:pt x="321" y="29"/>
                      </a:lnTo>
                      <a:lnTo>
                        <a:pt x="321" y="28"/>
                      </a:lnTo>
                      <a:lnTo>
                        <a:pt x="321" y="28"/>
                      </a:lnTo>
                      <a:lnTo>
                        <a:pt x="320" y="28"/>
                      </a:lnTo>
                      <a:lnTo>
                        <a:pt x="320" y="28"/>
                      </a:lnTo>
                      <a:lnTo>
                        <a:pt x="320" y="28"/>
                      </a:lnTo>
                      <a:lnTo>
                        <a:pt x="318" y="28"/>
                      </a:lnTo>
                      <a:lnTo>
                        <a:pt x="318" y="26"/>
                      </a:lnTo>
                      <a:lnTo>
                        <a:pt x="318" y="26"/>
                      </a:lnTo>
                      <a:lnTo>
                        <a:pt x="317" y="26"/>
                      </a:lnTo>
                      <a:lnTo>
                        <a:pt x="317" y="26"/>
                      </a:lnTo>
                      <a:lnTo>
                        <a:pt x="317" y="26"/>
                      </a:lnTo>
                      <a:lnTo>
                        <a:pt x="315" y="26"/>
                      </a:lnTo>
                      <a:lnTo>
                        <a:pt x="313" y="26"/>
                      </a:lnTo>
                      <a:lnTo>
                        <a:pt x="313" y="24"/>
                      </a:lnTo>
                      <a:lnTo>
                        <a:pt x="313" y="24"/>
                      </a:lnTo>
                      <a:lnTo>
                        <a:pt x="313" y="24"/>
                      </a:lnTo>
                      <a:lnTo>
                        <a:pt x="312" y="24"/>
                      </a:lnTo>
                      <a:lnTo>
                        <a:pt x="312" y="24"/>
                      </a:lnTo>
                      <a:lnTo>
                        <a:pt x="312" y="24"/>
                      </a:lnTo>
                      <a:lnTo>
                        <a:pt x="310" y="24"/>
                      </a:lnTo>
                      <a:lnTo>
                        <a:pt x="309" y="24"/>
                      </a:lnTo>
                      <a:lnTo>
                        <a:pt x="309" y="24"/>
                      </a:lnTo>
                      <a:lnTo>
                        <a:pt x="305" y="24"/>
                      </a:lnTo>
                      <a:lnTo>
                        <a:pt x="304" y="24"/>
                      </a:lnTo>
                      <a:lnTo>
                        <a:pt x="304" y="23"/>
                      </a:lnTo>
                      <a:lnTo>
                        <a:pt x="304" y="23"/>
                      </a:lnTo>
                      <a:lnTo>
                        <a:pt x="304" y="23"/>
                      </a:lnTo>
                      <a:lnTo>
                        <a:pt x="304" y="21"/>
                      </a:lnTo>
                      <a:lnTo>
                        <a:pt x="302" y="21"/>
                      </a:lnTo>
                      <a:lnTo>
                        <a:pt x="302" y="21"/>
                      </a:lnTo>
                      <a:lnTo>
                        <a:pt x="302" y="19"/>
                      </a:lnTo>
                      <a:lnTo>
                        <a:pt x="302" y="19"/>
                      </a:lnTo>
                      <a:lnTo>
                        <a:pt x="302" y="19"/>
                      </a:lnTo>
                      <a:lnTo>
                        <a:pt x="302" y="17"/>
                      </a:lnTo>
                      <a:lnTo>
                        <a:pt x="301" y="17"/>
                      </a:lnTo>
                      <a:lnTo>
                        <a:pt x="301" y="17"/>
                      </a:lnTo>
                      <a:lnTo>
                        <a:pt x="301" y="17"/>
                      </a:lnTo>
                      <a:lnTo>
                        <a:pt x="301" y="16"/>
                      </a:lnTo>
                      <a:lnTo>
                        <a:pt x="299" y="16"/>
                      </a:lnTo>
                      <a:lnTo>
                        <a:pt x="299" y="16"/>
                      </a:lnTo>
                      <a:lnTo>
                        <a:pt x="299" y="14"/>
                      </a:lnTo>
                      <a:lnTo>
                        <a:pt x="299" y="14"/>
                      </a:lnTo>
                      <a:lnTo>
                        <a:pt x="299" y="14"/>
                      </a:lnTo>
                      <a:lnTo>
                        <a:pt x="297" y="12"/>
                      </a:lnTo>
                      <a:lnTo>
                        <a:pt x="297" y="12"/>
                      </a:lnTo>
                      <a:lnTo>
                        <a:pt x="297" y="12"/>
                      </a:lnTo>
                      <a:lnTo>
                        <a:pt x="297" y="12"/>
                      </a:lnTo>
                      <a:lnTo>
                        <a:pt x="296" y="12"/>
                      </a:lnTo>
                      <a:lnTo>
                        <a:pt x="296" y="10"/>
                      </a:lnTo>
                      <a:lnTo>
                        <a:pt x="296" y="10"/>
                      </a:lnTo>
                      <a:lnTo>
                        <a:pt x="294" y="9"/>
                      </a:lnTo>
                      <a:lnTo>
                        <a:pt x="294" y="9"/>
                      </a:lnTo>
                      <a:lnTo>
                        <a:pt x="294" y="9"/>
                      </a:lnTo>
                      <a:lnTo>
                        <a:pt x="294" y="7"/>
                      </a:lnTo>
                      <a:lnTo>
                        <a:pt x="294" y="7"/>
                      </a:lnTo>
                      <a:lnTo>
                        <a:pt x="293" y="7"/>
                      </a:lnTo>
                      <a:lnTo>
                        <a:pt x="293" y="7"/>
                      </a:lnTo>
                      <a:lnTo>
                        <a:pt x="293" y="5"/>
                      </a:lnTo>
                      <a:lnTo>
                        <a:pt x="291" y="5"/>
                      </a:lnTo>
                      <a:lnTo>
                        <a:pt x="291" y="5"/>
                      </a:lnTo>
                      <a:lnTo>
                        <a:pt x="291" y="4"/>
                      </a:lnTo>
                      <a:lnTo>
                        <a:pt x="291" y="4"/>
                      </a:lnTo>
                      <a:lnTo>
                        <a:pt x="291" y="4"/>
                      </a:lnTo>
                      <a:lnTo>
                        <a:pt x="289" y="4"/>
                      </a:lnTo>
                      <a:lnTo>
                        <a:pt x="289" y="2"/>
                      </a:lnTo>
                      <a:lnTo>
                        <a:pt x="289" y="2"/>
                      </a:lnTo>
                      <a:lnTo>
                        <a:pt x="289" y="2"/>
                      </a:lnTo>
                      <a:lnTo>
                        <a:pt x="289" y="2"/>
                      </a:lnTo>
                      <a:lnTo>
                        <a:pt x="289" y="0"/>
                      </a:lnTo>
                      <a:lnTo>
                        <a:pt x="288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608640" y="2014920"/>
                  <a:ext cx="814680" cy="113400"/>
                </a:xfrm>
                <a:custGeom>
                  <a:avLst/>
                  <a:gdLst/>
                  <a:ahLst/>
                  <a:rect l="l" t="t" r="r" b="b"/>
                  <a:pathLst>
                    <a:path w="226" h="3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9"/>
                      </a:lnTo>
                      <a:lnTo>
                        <a:pt x="13" y="9"/>
                      </a:lnTo>
                      <a:lnTo>
                        <a:pt x="13" y="9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5" y="12"/>
                      </a:lnTo>
                      <a:lnTo>
                        <a:pt x="15" y="12"/>
                      </a:lnTo>
                      <a:lnTo>
                        <a:pt x="15" y="12"/>
                      </a:lnTo>
                      <a:lnTo>
                        <a:pt x="15" y="12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7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9"/>
                      </a:lnTo>
                      <a:lnTo>
                        <a:pt x="16" y="21"/>
                      </a:lnTo>
                      <a:lnTo>
                        <a:pt x="16" y="21"/>
                      </a:lnTo>
                      <a:lnTo>
                        <a:pt x="16" y="22"/>
                      </a:lnTo>
                      <a:lnTo>
                        <a:pt x="16" y="22"/>
                      </a:lnTo>
                      <a:lnTo>
                        <a:pt x="16" y="26"/>
                      </a:lnTo>
                      <a:lnTo>
                        <a:pt x="16" y="29"/>
                      </a:lnTo>
                      <a:lnTo>
                        <a:pt x="16" y="31"/>
                      </a:lnTo>
                      <a:lnTo>
                        <a:pt x="16" y="33"/>
                      </a:lnTo>
                      <a:lnTo>
                        <a:pt x="147" y="33"/>
                      </a:lnTo>
                      <a:lnTo>
                        <a:pt x="147" y="31"/>
                      </a:lnTo>
                      <a:lnTo>
                        <a:pt x="146" y="31"/>
                      </a:lnTo>
                      <a:lnTo>
                        <a:pt x="146" y="26"/>
                      </a:lnTo>
                      <a:lnTo>
                        <a:pt x="147" y="26"/>
                      </a:lnTo>
                      <a:lnTo>
                        <a:pt x="147" y="22"/>
                      </a:lnTo>
                      <a:lnTo>
                        <a:pt x="147" y="22"/>
                      </a:lnTo>
                      <a:lnTo>
                        <a:pt x="147" y="21"/>
                      </a:lnTo>
                      <a:lnTo>
                        <a:pt x="147" y="19"/>
                      </a:lnTo>
                      <a:lnTo>
                        <a:pt x="147" y="19"/>
                      </a:lnTo>
                      <a:lnTo>
                        <a:pt x="147" y="17"/>
                      </a:lnTo>
                      <a:lnTo>
                        <a:pt x="147" y="17"/>
                      </a:lnTo>
                      <a:lnTo>
                        <a:pt x="147" y="17"/>
                      </a:lnTo>
                      <a:lnTo>
                        <a:pt x="147" y="15"/>
                      </a:lnTo>
                      <a:lnTo>
                        <a:pt x="149" y="15"/>
                      </a:lnTo>
                      <a:lnTo>
                        <a:pt x="149" y="15"/>
                      </a:lnTo>
                      <a:lnTo>
                        <a:pt x="149" y="14"/>
                      </a:lnTo>
                      <a:lnTo>
                        <a:pt x="149" y="14"/>
                      </a:lnTo>
                      <a:lnTo>
                        <a:pt x="149" y="14"/>
                      </a:lnTo>
                      <a:lnTo>
                        <a:pt x="149" y="12"/>
                      </a:lnTo>
                      <a:lnTo>
                        <a:pt x="149" y="12"/>
                      </a:lnTo>
                      <a:lnTo>
                        <a:pt x="151" y="12"/>
                      </a:lnTo>
                      <a:lnTo>
                        <a:pt x="151" y="12"/>
                      </a:lnTo>
                      <a:lnTo>
                        <a:pt x="151" y="10"/>
                      </a:lnTo>
                      <a:lnTo>
                        <a:pt x="151" y="10"/>
                      </a:lnTo>
                      <a:lnTo>
                        <a:pt x="151" y="10"/>
                      </a:lnTo>
                      <a:lnTo>
                        <a:pt x="152" y="10"/>
                      </a:lnTo>
                      <a:lnTo>
                        <a:pt x="152" y="9"/>
                      </a:lnTo>
                      <a:lnTo>
                        <a:pt x="152" y="9"/>
                      </a:lnTo>
                      <a:lnTo>
                        <a:pt x="152" y="7"/>
                      </a:lnTo>
                      <a:lnTo>
                        <a:pt x="154" y="7"/>
                      </a:lnTo>
                      <a:lnTo>
                        <a:pt x="154" y="7"/>
                      </a:lnTo>
                      <a:lnTo>
                        <a:pt x="154" y="7"/>
                      </a:lnTo>
                      <a:lnTo>
                        <a:pt x="154" y="7"/>
                      </a:lnTo>
                      <a:lnTo>
                        <a:pt x="154" y="7"/>
                      </a:lnTo>
                      <a:lnTo>
                        <a:pt x="154" y="5"/>
                      </a:lnTo>
                      <a:lnTo>
                        <a:pt x="155" y="5"/>
                      </a:lnTo>
                      <a:lnTo>
                        <a:pt x="155" y="5"/>
                      </a:lnTo>
                      <a:lnTo>
                        <a:pt x="157" y="5"/>
                      </a:lnTo>
                      <a:lnTo>
                        <a:pt x="157" y="3"/>
                      </a:lnTo>
                      <a:lnTo>
                        <a:pt x="157" y="3"/>
                      </a:lnTo>
                      <a:lnTo>
                        <a:pt x="157" y="3"/>
                      </a:lnTo>
                      <a:lnTo>
                        <a:pt x="159" y="3"/>
                      </a:lnTo>
                      <a:lnTo>
                        <a:pt x="159" y="3"/>
                      </a:lnTo>
                      <a:lnTo>
                        <a:pt x="159" y="2"/>
                      </a:lnTo>
                      <a:lnTo>
                        <a:pt x="160" y="2"/>
                      </a:lnTo>
                      <a:lnTo>
                        <a:pt x="160" y="2"/>
                      </a:lnTo>
                      <a:lnTo>
                        <a:pt x="162" y="2"/>
                      </a:lnTo>
                      <a:lnTo>
                        <a:pt x="162" y="2"/>
                      </a:lnTo>
                      <a:lnTo>
                        <a:pt x="162" y="2"/>
                      </a:lnTo>
                      <a:lnTo>
                        <a:pt x="163" y="2"/>
                      </a:lnTo>
                      <a:lnTo>
                        <a:pt x="165" y="2"/>
                      </a:lnTo>
                      <a:lnTo>
                        <a:pt x="165" y="2"/>
                      </a:lnTo>
                      <a:lnTo>
                        <a:pt x="226" y="2"/>
                      </a:lnTo>
                      <a:lnTo>
                        <a:pt x="2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3460680" y="2014920"/>
                  <a:ext cx="115200" cy="30240"/>
                </a:xfrm>
                <a:custGeom>
                  <a:avLst/>
                  <a:gdLst/>
                  <a:ahLst/>
                  <a:rect l="l" t="t" r="r" b="b"/>
                  <a:pathLst>
                    <a:path w="32" h="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2" y="7"/>
                      </a:lnTo>
                      <a:lnTo>
                        <a:pt x="12" y="9"/>
                      </a:lnTo>
                      <a:lnTo>
                        <a:pt x="22" y="9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4" y="7"/>
                      </a:lnTo>
                      <a:lnTo>
                        <a:pt x="25" y="5"/>
                      </a:lnTo>
                      <a:lnTo>
                        <a:pt x="25" y="5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7" y="3"/>
                      </a:lnTo>
                      <a:lnTo>
                        <a:pt x="27" y="3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32" y="2"/>
                      </a:lnTo>
                      <a:lnTo>
                        <a:pt x="32" y="2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224960" y="2021400"/>
                  <a:ext cx="198360" cy="107280"/>
                </a:xfrm>
                <a:custGeom>
                  <a:avLst/>
                  <a:gdLst/>
                  <a:ahLst/>
                  <a:rect l="l" t="t" r="r" b="b"/>
                  <a:pathLst>
                    <a:path w="55" h="3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2"/>
                      </a:lnTo>
                      <a:lnTo>
                        <a:pt x="15" y="12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5" y="13"/>
                      </a:lnTo>
                      <a:lnTo>
                        <a:pt x="15" y="13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7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9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2"/>
                      </a:lnTo>
                      <a:lnTo>
                        <a:pt x="16" y="24"/>
                      </a:lnTo>
                      <a:lnTo>
                        <a:pt x="16" y="27"/>
                      </a:lnTo>
                      <a:lnTo>
                        <a:pt x="16" y="27"/>
                      </a:lnTo>
                      <a:lnTo>
                        <a:pt x="16" y="31"/>
                      </a:lnTo>
                      <a:lnTo>
                        <a:pt x="55" y="31"/>
                      </a:lnTo>
                      <a:lnTo>
                        <a:pt x="55" y="24"/>
                      </a:lnTo>
                      <a:lnTo>
                        <a:pt x="55" y="22"/>
                      </a:lnTo>
                      <a:lnTo>
                        <a:pt x="55" y="22"/>
                      </a:lnTo>
                      <a:lnTo>
                        <a:pt x="53" y="22"/>
                      </a:lnTo>
                      <a:lnTo>
                        <a:pt x="53" y="22"/>
                      </a:lnTo>
                      <a:lnTo>
                        <a:pt x="53" y="15"/>
                      </a:lnTo>
                      <a:lnTo>
                        <a:pt x="53" y="13"/>
                      </a:lnTo>
                      <a:lnTo>
                        <a:pt x="53" y="12"/>
                      </a:lnTo>
                      <a:lnTo>
                        <a:pt x="55" y="12"/>
                      </a:lnTo>
                      <a:lnTo>
                        <a:pt x="55" y="10"/>
                      </a:lnTo>
                      <a:lnTo>
                        <a:pt x="55" y="8"/>
                      </a:lnTo>
                      <a:lnTo>
                        <a:pt x="55" y="8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5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241080" y="1745640"/>
                  <a:ext cx="1182240" cy="383040"/>
                </a:xfrm>
                <a:custGeom>
                  <a:avLst/>
                  <a:gdLst/>
                  <a:ahLst/>
                  <a:rect l="l" t="t" r="r" b="b"/>
                  <a:pathLst>
                    <a:path w="328" h="111">
                      <a:moveTo>
                        <a:pt x="118" y="109"/>
                      </a:moveTo>
                      <a:lnTo>
                        <a:pt x="249" y="109"/>
                      </a:lnTo>
                      <a:lnTo>
                        <a:pt x="249" y="109"/>
                      </a:lnTo>
                      <a:lnTo>
                        <a:pt x="248" y="109"/>
                      </a:lnTo>
                      <a:lnTo>
                        <a:pt x="248" y="104"/>
                      </a:lnTo>
                      <a:lnTo>
                        <a:pt x="249" y="102"/>
                      </a:lnTo>
                      <a:lnTo>
                        <a:pt x="249" y="102"/>
                      </a:lnTo>
                      <a:lnTo>
                        <a:pt x="249" y="100"/>
                      </a:lnTo>
                      <a:lnTo>
                        <a:pt x="249" y="99"/>
                      </a:lnTo>
                      <a:lnTo>
                        <a:pt x="249" y="97"/>
                      </a:lnTo>
                      <a:lnTo>
                        <a:pt x="249" y="95"/>
                      </a:lnTo>
                      <a:lnTo>
                        <a:pt x="249" y="95"/>
                      </a:lnTo>
                      <a:lnTo>
                        <a:pt x="251" y="93"/>
                      </a:lnTo>
                      <a:lnTo>
                        <a:pt x="251" y="92"/>
                      </a:lnTo>
                      <a:lnTo>
                        <a:pt x="253" y="90"/>
                      </a:lnTo>
                      <a:lnTo>
                        <a:pt x="253" y="88"/>
                      </a:lnTo>
                      <a:lnTo>
                        <a:pt x="254" y="87"/>
                      </a:lnTo>
                      <a:lnTo>
                        <a:pt x="256" y="85"/>
                      </a:lnTo>
                      <a:lnTo>
                        <a:pt x="256" y="83"/>
                      </a:lnTo>
                      <a:lnTo>
                        <a:pt x="257" y="83"/>
                      </a:lnTo>
                      <a:lnTo>
                        <a:pt x="259" y="81"/>
                      </a:lnTo>
                      <a:lnTo>
                        <a:pt x="261" y="81"/>
                      </a:lnTo>
                      <a:lnTo>
                        <a:pt x="262" y="80"/>
                      </a:lnTo>
                      <a:lnTo>
                        <a:pt x="264" y="80"/>
                      </a:lnTo>
                      <a:lnTo>
                        <a:pt x="267" y="80"/>
                      </a:lnTo>
                      <a:lnTo>
                        <a:pt x="269" y="80"/>
                      </a:lnTo>
                      <a:lnTo>
                        <a:pt x="272" y="80"/>
                      </a:lnTo>
                      <a:lnTo>
                        <a:pt x="273" y="80"/>
                      </a:lnTo>
                      <a:lnTo>
                        <a:pt x="277" y="80"/>
                      </a:lnTo>
                      <a:lnTo>
                        <a:pt x="277" y="80"/>
                      </a:lnTo>
                      <a:lnTo>
                        <a:pt x="278" y="81"/>
                      </a:lnTo>
                      <a:lnTo>
                        <a:pt x="280" y="81"/>
                      </a:lnTo>
                      <a:lnTo>
                        <a:pt x="281" y="83"/>
                      </a:lnTo>
                      <a:lnTo>
                        <a:pt x="281" y="83"/>
                      </a:lnTo>
                      <a:lnTo>
                        <a:pt x="283" y="85"/>
                      </a:lnTo>
                      <a:lnTo>
                        <a:pt x="283" y="87"/>
                      </a:lnTo>
                      <a:lnTo>
                        <a:pt x="285" y="87"/>
                      </a:lnTo>
                      <a:lnTo>
                        <a:pt x="286" y="88"/>
                      </a:lnTo>
                      <a:lnTo>
                        <a:pt x="286" y="90"/>
                      </a:lnTo>
                      <a:lnTo>
                        <a:pt x="286" y="92"/>
                      </a:lnTo>
                      <a:lnTo>
                        <a:pt x="288" y="93"/>
                      </a:lnTo>
                      <a:lnTo>
                        <a:pt x="288" y="95"/>
                      </a:lnTo>
                      <a:lnTo>
                        <a:pt x="288" y="95"/>
                      </a:lnTo>
                      <a:lnTo>
                        <a:pt x="289" y="97"/>
                      </a:lnTo>
                      <a:lnTo>
                        <a:pt x="289" y="99"/>
                      </a:lnTo>
                      <a:lnTo>
                        <a:pt x="289" y="100"/>
                      </a:lnTo>
                      <a:lnTo>
                        <a:pt x="289" y="102"/>
                      </a:lnTo>
                      <a:lnTo>
                        <a:pt x="289" y="102"/>
                      </a:lnTo>
                      <a:lnTo>
                        <a:pt x="289" y="104"/>
                      </a:lnTo>
                      <a:lnTo>
                        <a:pt x="289" y="106"/>
                      </a:lnTo>
                      <a:lnTo>
                        <a:pt x="289" y="106"/>
                      </a:lnTo>
                      <a:lnTo>
                        <a:pt x="289" y="107"/>
                      </a:lnTo>
                      <a:lnTo>
                        <a:pt x="289" y="109"/>
                      </a:lnTo>
                      <a:lnTo>
                        <a:pt x="328" y="109"/>
                      </a:lnTo>
                      <a:lnTo>
                        <a:pt x="328" y="104"/>
                      </a:lnTo>
                      <a:lnTo>
                        <a:pt x="326" y="102"/>
                      </a:lnTo>
                      <a:lnTo>
                        <a:pt x="326" y="95"/>
                      </a:lnTo>
                      <a:lnTo>
                        <a:pt x="328" y="85"/>
                      </a:lnTo>
                      <a:lnTo>
                        <a:pt x="328" y="62"/>
                      </a:lnTo>
                      <a:lnTo>
                        <a:pt x="328" y="40"/>
                      </a:lnTo>
                      <a:lnTo>
                        <a:pt x="328" y="33"/>
                      </a:lnTo>
                      <a:lnTo>
                        <a:pt x="326" y="31"/>
                      </a:lnTo>
                      <a:lnTo>
                        <a:pt x="325" y="31"/>
                      </a:lnTo>
                      <a:lnTo>
                        <a:pt x="325" y="29"/>
                      </a:lnTo>
                      <a:lnTo>
                        <a:pt x="323" y="29"/>
                      </a:lnTo>
                      <a:lnTo>
                        <a:pt x="321" y="29"/>
                      </a:lnTo>
                      <a:lnTo>
                        <a:pt x="321" y="28"/>
                      </a:lnTo>
                      <a:lnTo>
                        <a:pt x="320" y="28"/>
                      </a:lnTo>
                      <a:lnTo>
                        <a:pt x="318" y="28"/>
                      </a:lnTo>
                      <a:lnTo>
                        <a:pt x="318" y="26"/>
                      </a:lnTo>
                      <a:lnTo>
                        <a:pt x="317" y="26"/>
                      </a:lnTo>
                      <a:lnTo>
                        <a:pt x="317" y="26"/>
                      </a:lnTo>
                      <a:lnTo>
                        <a:pt x="315" y="26"/>
                      </a:lnTo>
                      <a:lnTo>
                        <a:pt x="313" y="24"/>
                      </a:lnTo>
                      <a:lnTo>
                        <a:pt x="313" y="24"/>
                      </a:lnTo>
                      <a:lnTo>
                        <a:pt x="313" y="24"/>
                      </a:lnTo>
                      <a:lnTo>
                        <a:pt x="312" y="24"/>
                      </a:lnTo>
                      <a:lnTo>
                        <a:pt x="312" y="24"/>
                      </a:lnTo>
                      <a:lnTo>
                        <a:pt x="310" y="24"/>
                      </a:lnTo>
                      <a:lnTo>
                        <a:pt x="310" y="24"/>
                      </a:lnTo>
                      <a:lnTo>
                        <a:pt x="309" y="24"/>
                      </a:lnTo>
                      <a:lnTo>
                        <a:pt x="309" y="24"/>
                      </a:lnTo>
                      <a:lnTo>
                        <a:pt x="305" y="24"/>
                      </a:lnTo>
                      <a:lnTo>
                        <a:pt x="288" y="0"/>
                      </a:lnTo>
                      <a:lnTo>
                        <a:pt x="24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9"/>
                      </a:lnTo>
                      <a:lnTo>
                        <a:pt x="11" y="9"/>
                      </a:lnTo>
                      <a:lnTo>
                        <a:pt x="11" y="10"/>
                      </a:lnTo>
                      <a:lnTo>
                        <a:pt x="11" y="12"/>
                      </a:lnTo>
                      <a:lnTo>
                        <a:pt x="9" y="12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9" y="17"/>
                      </a:lnTo>
                      <a:lnTo>
                        <a:pt x="8" y="19"/>
                      </a:lnTo>
                      <a:lnTo>
                        <a:pt x="8" y="19"/>
                      </a:lnTo>
                      <a:lnTo>
                        <a:pt x="8" y="21"/>
                      </a:lnTo>
                      <a:lnTo>
                        <a:pt x="8" y="23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5" y="33"/>
                      </a:lnTo>
                      <a:lnTo>
                        <a:pt x="5" y="35"/>
                      </a:lnTo>
                      <a:lnTo>
                        <a:pt x="5" y="35"/>
                      </a:lnTo>
                      <a:lnTo>
                        <a:pt x="3" y="35"/>
                      </a:lnTo>
                      <a:lnTo>
                        <a:pt x="3" y="36"/>
                      </a:lnTo>
                      <a:lnTo>
                        <a:pt x="3" y="38"/>
                      </a:lnTo>
                      <a:lnTo>
                        <a:pt x="3" y="38"/>
                      </a:lnTo>
                      <a:lnTo>
                        <a:pt x="3" y="40"/>
                      </a:lnTo>
                      <a:lnTo>
                        <a:pt x="3" y="40"/>
                      </a:lnTo>
                      <a:lnTo>
                        <a:pt x="3" y="40"/>
                      </a:lnTo>
                      <a:lnTo>
                        <a:pt x="3" y="42"/>
                      </a:lnTo>
                      <a:lnTo>
                        <a:pt x="3" y="42"/>
                      </a:lnTo>
                      <a:lnTo>
                        <a:pt x="3" y="43"/>
                      </a:lnTo>
                      <a:lnTo>
                        <a:pt x="1" y="43"/>
                      </a:lnTo>
                      <a:lnTo>
                        <a:pt x="1" y="99"/>
                      </a:lnTo>
                      <a:lnTo>
                        <a:pt x="1" y="100"/>
                      </a:lnTo>
                      <a:lnTo>
                        <a:pt x="1" y="100"/>
                      </a:lnTo>
                      <a:lnTo>
                        <a:pt x="0" y="100"/>
                      </a:lnTo>
                      <a:lnTo>
                        <a:pt x="0" y="102"/>
                      </a:lnTo>
                      <a:lnTo>
                        <a:pt x="0" y="102"/>
                      </a:lnTo>
                      <a:lnTo>
                        <a:pt x="0" y="102"/>
                      </a:lnTo>
                      <a:lnTo>
                        <a:pt x="0" y="102"/>
                      </a:lnTo>
                      <a:lnTo>
                        <a:pt x="0" y="104"/>
                      </a:lnTo>
                      <a:lnTo>
                        <a:pt x="0" y="104"/>
                      </a:lnTo>
                      <a:lnTo>
                        <a:pt x="0" y="104"/>
                      </a:lnTo>
                      <a:lnTo>
                        <a:pt x="0" y="107"/>
                      </a:lnTo>
                      <a:lnTo>
                        <a:pt x="0" y="107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7"/>
                      </a:lnTo>
                      <a:lnTo>
                        <a:pt x="38" y="107"/>
                      </a:lnTo>
                      <a:lnTo>
                        <a:pt x="38" y="107"/>
                      </a:lnTo>
                      <a:lnTo>
                        <a:pt x="38" y="100"/>
                      </a:lnTo>
                      <a:lnTo>
                        <a:pt x="38" y="99"/>
                      </a:lnTo>
                      <a:lnTo>
                        <a:pt x="38" y="99"/>
                      </a:lnTo>
                      <a:lnTo>
                        <a:pt x="38" y="97"/>
                      </a:lnTo>
                      <a:lnTo>
                        <a:pt x="38" y="95"/>
                      </a:lnTo>
                      <a:lnTo>
                        <a:pt x="38" y="95"/>
                      </a:lnTo>
                      <a:lnTo>
                        <a:pt x="40" y="93"/>
                      </a:lnTo>
                      <a:lnTo>
                        <a:pt x="40" y="92"/>
                      </a:lnTo>
                      <a:lnTo>
                        <a:pt x="40" y="90"/>
                      </a:lnTo>
                      <a:lnTo>
                        <a:pt x="41" y="90"/>
                      </a:lnTo>
                      <a:lnTo>
                        <a:pt x="41" y="88"/>
                      </a:lnTo>
                      <a:lnTo>
                        <a:pt x="43" y="88"/>
                      </a:lnTo>
                      <a:lnTo>
                        <a:pt x="43" y="87"/>
                      </a:lnTo>
                      <a:lnTo>
                        <a:pt x="45" y="85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8" y="81"/>
                      </a:lnTo>
                      <a:lnTo>
                        <a:pt x="49" y="80"/>
                      </a:lnTo>
                      <a:lnTo>
                        <a:pt x="51" y="80"/>
                      </a:lnTo>
                      <a:lnTo>
                        <a:pt x="53" y="80"/>
                      </a:lnTo>
                      <a:lnTo>
                        <a:pt x="54" y="80"/>
                      </a:lnTo>
                      <a:lnTo>
                        <a:pt x="54" y="78"/>
                      </a:lnTo>
                      <a:lnTo>
                        <a:pt x="56" y="78"/>
                      </a:lnTo>
                      <a:lnTo>
                        <a:pt x="59" y="78"/>
                      </a:lnTo>
                      <a:lnTo>
                        <a:pt x="61" y="78"/>
                      </a:lnTo>
                      <a:lnTo>
                        <a:pt x="61" y="78"/>
                      </a:lnTo>
                      <a:lnTo>
                        <a:pt x="62" y="78"/>
                      </a:lnTo>
                      <a:lnTo>
                        <a:pt x="64" y="80"/>
                      </a:lnTo>
                      <a:lnTo>
                        <a:pt x="64" y="80"/>
                      </a:lnTo>
                      <a:lnTo>
                        <a:pt x="65" y="80"/>
                      </a:lnTo>
                      <a:lnTo>
                        <a:pt x="67" y="80"/>
                      </a:lnTo>
                      <a:lnTo>
                        <a:pt x="67" y="80"/>
                      </a:lnTo>
                      <a:lnTo>
                        <a:pt x="69" y="81"/>
                      </a:lnTo>
                      <a:lnTo>
                        <a:pt x="69" y="81"/>
                      </a:lnTo>
                      <a:lnTo>
                        <a:pt x="70" y="81"/>
                      </a:lnTo>
                      <a:lnTo>
                        <a:pt x="70" y="83"/>
                      </a:lnTo>
                      <a:lnTo>
                        <a:pt x="70" y="83"/>
                      </a:lnTo>
                      <a:lnTo>
                        <a:pt x="70" y="83"/>
                      </a:lnTo>
                      <a:lnTo>
                        <a:pt x="72" y="85"/>
                      </a:lnTo>
                      <a:lnTo>
                        <a:pt x="72" y="85"/>
                      </a:lnTo>
                      <a:lnTo>
                        <a:pt x="72" y="85"/>
                      </a:lnTo>
                      <a:lnTo>
                        <a:pt x="73" y="85"/>
                      </a:lnTo>
                      <a:lnTo>
                        <a:pt x="83" y="85"/>
                      </a:lnTo>
                      <a:lnTo>
                        <a:pt x="83" y="85"/>
                      </a:lnTo>
                      <a:lnTo>
                        <a:pt x="85" y="85"/>
                      </a:lnTo>
                      <a:lnTo>
                        <a:pt x="85" y="85"/>
                      </a:lnTo>
                      <a:lnTo>
                        <a:pt x="86" y="83"/>
                      </a:lnTo>
                      <a:lnTo>
                        <a:pt x="86" y="83"/>
                      </a:lnTo>
                      <a:lnTo>
                        <a:pt x="88" y="81"/>
                      </a:lnTo>
                      <a:lnTo>
                        <a:pt x="88" y="81"/>
                      </a:lnTo>
                      <a:lnTo>
                        <a:pt x="89" y="80"/>
                      </a:lnTo>
                      <a:lnTo>
                        <a:pt x="91" y="80"/>
                      </a:lnTo>
                      <a:lnTo>
                        <a:pt x="93" y="80"/>
                      </a:lnTo>
                      <a:lnTo>
                        <a:pt x="93" y="78"/>
                      </a:lnTo>
                      <a:lnTo>
                        <a:pt x="93" y="78"/>
                      </a:lnTo>
                      <a:lnTo>
                        <a:pt x="94" y="78"/>
                      </a:lnTo>
                      <a:lnTo>
                        <a:pt x="96" y="78"/>
                      </a:lnTo>
                      <a:lnTo>
                        <a:pt x="96" y="78"/>
                      </a:lnTo>
                      <a:lnTo>
                        <a:pt x="97" y="76"/>
                      </a:lnTo>
                      <a:lnTo>
                        <a:pt x="101" y="76"/>
                      </a:lnTo>
                      <a:lnTo>
                        <a:pt x="102" y="78"/>
                      </a:lnTo>
                      <a:lnTo>
                        <a:pt x="104" y="78"/>
                      </a:lnTo>
                      <a:lnTo>
                        <a:pt x="104" y="78"/>
                      </a:lnTo>
                      <a:lnTo>
                        <a:pt x="105" y="78"/>
                      </a:lnTo>
                      <a:lnTo>
                        <a:pt x="107" y="80"/>
                      </a:lnTo>
                      <a:lnTo>
                        <a:pt x="107" y="80"/>
                      </a:lnTo>
                      <a:lnTo>
                        <a:pt x="109" y="81"/>
                      </a:lnTo>
                      <a:lnTo>
                        <a:pt x="110" y="81"/>
                      </a:lnTo>
                      <a:lnTo>
                        <a:pt x="112" y="83"/>
                      </a:lnTo>
                      <a:lnTo>
                        <a:pt x="112" y="85"/>
                      </a:lnTo>
                      <a:lnTo>
                        <a:pt x="113" y="85"/>
                      </a:lnTo>
                      <a:lnTo>
                        <a:pt x="115" y="87"/>
                      </a:lnTo>
                      <a:lnTo>
                        <a:pt x="115" y="88"/>
                      </a:lnTo>
                      <a:lnTo>
                        <a:pt x="115" y="88"/>
                      </a:lnTo>
                      <a:lnTo>
                        <a:pt x="117" y="90"/>
                      </a:lnTo>
                      <a:lnTo>
                        <a:pt x="117" y="92"/>
                      </a:lnTo>
                      <a:lnTo>
                        <a:pt x="117" y="92"/>
                      </a:lnTo>
                      <a:lnTo>
                        <a:pt x="117" y="93"/>
                      </a:lnTo>
                      <a:lnTo>
                        <a:pt x="118" y="95"/>
                      </a:lnTo>
                      <a:lnTo>
                        <a:pt x="118" y="95"/>
                      </a:lnTo>
                      <a:lnTo>
                        <a:pt x="118" y="97"/>
                      </a:lnTo>
                      <a:lnTo>
                        <a:pt x="118" y="99"/>
                      </a:lnTo>
                      <a:lnTo>
                        <a:pt x="118" y="100"/>
                      </a:lnTo>
                      <a:lnTo>
                        <a:pt x="118" y="102"/>
                      </a:lnTo>
                      <a:lnTo>
                        <a:pt x="118" y="102"/>
                      </a:lnTo>
                      <a:lnTo>
                        <a:pt x="118" y="104"/>
                      </a:lnTo>
                      <a:lnTo>
                        <a:pt x="118" y="106"/>
                      </a:lnTo>
                      <a:lnTo>
                        <a:pt x="118" y="107"/>
                      </a:lnTo>
                      <a:lnTo>
                        <a:pt x="118" y="109"/>
                      </a:lnTo>
                      <a:lnTo>
                        <a:pt x="118" y="109"/>
                      </a:lnTo>
                    </a:path>
                  </a:pathLst>
                </a:custGeom>
                <a:noFill/>
                <a:ln w="3240">
                  <a:solidFill>
                    <a:srgbClr val="bc37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684600" y="2032200"/>
                  <a:ext cx="97200" cy="96120"/>
                </a:xfrm>
                <a:prstGeom prst="rect">
                  <a:avLst/>
                </a:prstGeom>
                <a:noFill/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3792600" y="2032200"/>
                  <a:ext cx="140400" cy="96120"/>
                </a:xfrm>
                <a:prstGeom prst="rect">
                  <a:avLst/>
                </a:prstGeom>
                <a:noFill/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936240" y="2032200"/>
                  <a:ext cx="140400" cy="96120"/>
                </a:xfrm>
                <a:prstGeom prst="rect">
                  <a:avLst/>
                </a:prstGeom>
                <a:noFill/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532680" y="2021400"/>
                  <a:ext cx="133920" cy="165960"/>
                </a:xfrm>
                <a:prstGeom prst="ellipse">
                  <a:avLst/>
                </a:prstGeom>
                <a:solidFill>
                  <a:srgbClr val="bc3700"/>
                </a:solidFill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562200" y="2062800"/>
                  <a:ext cx="74880" cy="828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388680" y="2021400"/>
                  <a:ext cx="133200" cy="165960"/>
                </a:xfrm>
                <a:prstGeom prst="ellipse">
                  <a:avLst/>
                </a:prstGeom>
                <a:solidFill>
                  <a:srgbClr val="bc3700"/>
                </a:solidFill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417480" y="2062800"/>
                  <a:ext cx="75960" cy="828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145400" y="2021400"/>
                  <a:ext cx="137160" cy="165960"/>
                </a:xfrm>
                <a:prstGeom prst="ellipse">
                  <a:avLst/>
                </a:prstGeom>
                <a:solidFill>
                  <a:srgbClr val="bc3700"/>
                </a:solidFill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181400" y="2062800"/>
                  <a:ext cx="68400" cy="828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4311360" y="1890360"/>
                  <a:ext cx="3240" cy="23112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398120" y="1883520"/>
                  <a:ext cx="3240" cy="23796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>
                  <a:off x="4397760" y="2091240"/>
                  <a:ext cx="1764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V="1">
                  <a:off x="4405320" y="1883160"/>
                  <a:ext cx="3240" cy="7596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3281040" y="1966320"/>
                  <a:ext cx="1145520" cy="34200"/>
                </a:xfrm>
                <a:prstGeom prst="rect">
                  <a:avLst/>
                </a:prstGeom>
                <a:solidFill>
                  <a:srgbClr val="bc3700"/>
                </a:solidFill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H="1">
                  <a:off x="4325400" y="2008080"/>
                  <a:ext cx="61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4325400" y="2025360"/>
                  <a:ext cx="61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H="1">
                  <a:off x="4325400" y="2039400"/>
                  <a:ext cx="61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>
                  <a:off x="4325400" y="2062800"/>
                  <a:ext cx="6120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325400" y="2073960"/>
                  <a:ext cx="61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>
                  <a:off x="4325400" y="2087280"/>
                  <a:ext cx="6120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325400" y="2097360"/>
                  <a:ext cx="6120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>
                  <a:off x="4325400" y="2111400"/>
                  <a:ext cx="6120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>
                  <a:off x="4325400" y="2049480"/>
                  <a:ext cx="61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>
                  <a:off x="3273120" y="2008080"/>
                  <a:ext cx="101556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>
                  <a:off x="4250160" y="2025360"/>
                  <a:ext cx="3888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H="1">
                  <a:off x="3636720" y="2025360"/>
                  <a:ext cx="54396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>
                  <a:off x="3493080" y="2025360"/>
                  <a:ext cx="6444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>
                  <a:off x="3273480" y="2025360"/>
                  <a:ext cx="133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273480" y="2039400"/>
                  <a:ext cx="1296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3647880" y="2039400"/>
                  <a:ext cx="50796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268160" y="2039400"/>
                  <a:ext cx="2124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4271040" y="2049480"/>
                  <a:ext cx="1764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>
                  <a:off x="3662280" y="2049480"/>
                  <a:ext cx="48996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H="1">
                  <a:off x="3273480" y="2049480"/>
                  <a:ext cx="115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273480" y="2062800"/>
                  <a:ext cx="11160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673080" y="2062800"/>
                  <a:ext cx="47232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282920" y="2062800"/>
                  <a:ext cx="648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>
                  <a:off x="4282920" y="2073960"/>
                  <a:ext cx="648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>
                  <a:off x="4282920" y="2087280"/>
                  <a:ext cx="648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>
                  <a:off x="4282920" y="2097360"/>
                  <a:ext cx="648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H="1">
                  <a:off x="4282920" y="2111400"/>
                  <a:ext cx="648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>
                  <a:off x="3666240" y="2111400"/>
                  <a:ext cx="45756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673080" y="2073960"/>
                  <a:ext cx="46476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>
                  <a:off x="3677400" y="2087280"/>
                  <a:ext cx="46080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673080" y="2097360"/>
                  <a:ext cx="45108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H="1">
                  <a:off x="3406680" y="2025360"/>
                  <a:ext cx="7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3403440" y="2039400"/>
                  <a:ext cx="324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3489480" y="2025360"/>
                  <a:ext cx="684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>
                  <a:off x="3666240" y="2087280"/>
                  <a:ext cx="1764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>
                  <a:off x="3388680" y="2049480"/>
                  <a:ext cx="7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>
                  <a:off x="3385080" y="2049480"/>
                  <a:ext cx="324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3263040" y="1800360"/>
                  <a:ext cx="38880" cy="107280"/>
                </a:xfrm>
                <a:custGeom>
                  <a:avLst/>
                  <a:gdLst/>
                  <a:ahLst/>
                  <a:rect l="l" t="t" r="r" b="b"/>
                  <a:pathLst>
                    <a:path w="11" h="31">
                      <a:moveTo>
                        <a:pt x="7" y="0"/>
                      </a:moveTo>
                      <a:lnTo>
                        <a:pt x="11" y="10"/>
                      </a:ln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4268160" y="1758960"/>
                  <a:ext cx="50400" cy="69480"/>
                </a:xfrm>
                <a:custGeom>
                  <a:avLst/>
                  <a:gdLst/>
                  <a:ahLst/>
                  <a:rect l="l" t="t" r="r" b="b"/>
                  <a:pathLst>
                    <a:path w="14" h="20">
                      <a:moveTo>
                        <a:pt x="14" y="17"/>
                      </a:moveTo>
                      <a:lnTo>
                        <a:pt x="1" y="20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1" y="0"/>
                      </a:lnTo>
                      <a:lnTo>
                        <a:pt x="14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>
                  <a:off x="4123800" y="2097360"/>
                  <a:ext cx="1044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4127400" y="2111400"/>
                  <a:ext cx="720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V="1">
                  <a:off x="4423320" y="1858680"/>
                  <a:ext cx="3240" cy="2412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>
                  <a:off x="4242600" y="2025360"/>
                  <a:ext cx="7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260600" y="2039400"/>
                  <a:ext cx="396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271400" y="2049480"/>
                  <a:ext cx="396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278600" y="2062800"/>
                  <a:ext cx="396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282920" y="2073960"/>
                  <a:ext cx="324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H="1">
                  <a:off x="4156200" y="2039400"/>
                  <a:ext cx="7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>
                  <a:off x="4145400" y="2049480"/>
                  <a:ext cx="7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H="1">
                  <a:off x="3662280" y="2073960"/>
                  <a:ext cx="396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3662640" y="2062800"/>
                  <a:ext cx="396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H="1">
                  <a:off x="3655080" y="2049480"/>
                  <a:ext cx="7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H="1">
                  <a:off x="3644280" y="2039400"/>
                  <a:ext cx="324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H="1">
                  <a:off x="3633480" y="2025360"/>
                  <a:ext cx="324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3291480" y="1834920"/>
                  <a:ext cx="64440" cy="72720"/>
                </a:xfrm>
                <a:custGeom>
                  <a:avLst/>
                  <a:gdLst/>
                  <a:ahLst/>
                  <a:rect l="l" t="t" r="r" b="b"/>
                  <a:pathLst>
                    <a:path w="18" h="21">
                      <a:moveTo>
                        <a:pt x="18" y="0"/>
                      </a:moveTo>
                      <a:lnTo>
                        <a:pt x="10" y="0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3338280" y="1834920"/>
                  <a:ext cx="173160" cy="7272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11" y="0"/>
                      </a:moveTo>
                      <a:lnTo>
                        <a:pt x="0" y="21"/>
                      </a:lnTo>
                      <a:lnTo>
                        <a:pt x="38" y="21"/>
                      </a:lnTo>
                      <a:lnTo>
                        <a:pt x="48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3493440" y="1834920"/>
                  <a:ext cx="173160" cy="7272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11" y="0"/>
                      </a:moveTo>
                      <a:lnTo>
                        <a:pt x="0" y="21"/>
                      </a:lnTo>
                      <a:lnTo>
                        <a:pt x="39" y="21"/>
                      </a:lnTo>
                      <a:lnTo>
                        <a:pt x="48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3655080" y="1834920"/>
                  <a:ext cx="173160" cy="7272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10" y="0"/>
                      </a:moveTo>
                      <a:lnTo>
                        <a:pt x="0" y="21"/>
                      </a:lnTo>
                      <a:lnTo>
                        <a:pt x="37" y="21"/>
                      </a:lnTo>
                      <a:lnTo>
                        <a:pt x="48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3806280" y="1834920"/>
                  <a:ext cx="177120" cy="72720"/>
                </a:xfrm>
                <a:custGeom>
                  <a:avLst/>
                  <a:gdLst/>
                  <a:ahLst/>
                  <a:rect l="l" t="t" r="r" b="b"/>
                  <a:pathLst>
                    <a:path w="49" h="21">
                      <a:moveTo>
                        <a:pt x="11" y="0"/>
                      </a:moveTo>
                      <a:lnTo>
                        <a:pt x="0" y="21"/>
                      </a:lnTo>
                      <a:lnTo>
                        <a:pt x="40" y="21"/>
                      </a:lnTo>
                      <a:lnTo>
                        <a:pt x="49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965760" y="1834920"/>
                  <a:ext cx="172080" cy="7272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10" y="0"/>
                      </a:moveTo>
                      <a:lnTo>
                        <a:pt x="0" y="21"/>
                      </a:lnTo>
                      <a:lnTo>
                        <a:pt x="39" y="21"/>
                      </a:lnTo>
                      <a:lnTo>
                        <a:pt x="48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124160" y="1834920"/>
                  <a:ext cx="172080" cy="7272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11" y="0"/>
                      </a:moveTo>
                      <a:lnTo>
                        <a:pt x="0" y="21"/>
                      </a:lnTo>
                      <a:lnTo>
                        <a:pt x="38" y="21"/>
                      </a:lnTo>
                      <a:lnTo>
                        <a:pt x="48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4318920" y="1883520"/>
                  <a:ext cx="86400" cy="82800"/>
                </a:xfrm>
                <a:prstGeom prst="rect">
                  <a:avLst/>
                </a:prstGeom>
                <a:solidFill>
                  <a:srgbClr val="000000"/>
                </a:solidFill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1" name=""/>
            <p:cNvGrpSpPr/>
            <p:nvPr/>
          </p:nvGrpSpPr>
          <p:grpSpPr>
            <a:xfrm>
              <a:off x="6095880" y="2773440"/>
              <a:ext cx="1061640" cy="915480"/>
              <a:chOff x="6095880" y="2773440"/>
              <a:chExt cx="1061640" cy="915480"/>
            </a:xfrm>
          </p:grpSpPr>
          <p:pic>
            <p:nvPicPr>
              <p:cNvPr id="8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95880" y="2773440"/>
                <a:ext cx="1061640" cy="53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95880" y="3035160"/>
                <a:ext cx="1022400" cy="653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14" name="" descr=""/>
            <p:cNvPicPr/>
            <p:nvPr/>
          </p:nvPicPr>
          <p:blipFill>
            <a:blip r:embed="rId4"/>
            <a:stretch/>
          </p:blipFill>
          <p:spPr>
            <a:xfrm>
              <a:off x="4745160" y="1481040"/>
              <a:ext cx="1724040" cy="99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" descr=""/>
            <p:cNvPicPr/>
            <p:nvPr/>
          </p:nvPicPr>
          <p:blipFill>
            <a:blip r:embed="rId5"/>
            <a:stretch/>
          </p:blipFill>
          <p:spPr>
            <a:xfrm>
              <a:off x="4648320" y="2306520"/>
              <a:ext cx="18619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4537080" y="1109520"/>
              <a:ext cx="20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交通建設民營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 txBox="1"/>
            <p:nvPr/>
          </p:nvSpPr>
          <p:spPr>
            <a:xfrm>
              <a:off x="6019920" y="2286000"/>
              <a:ext cx="11430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華康勘亭流"/>
                </a:rPr>
                <a:t>BOT</a:t>
              </a:r>
              <a:endPara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華康勘亭流"/>
                <a:ea typeface="華康勘亭流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2651760" y="3581640"/>
              <a:ext cx="1826280" cy="1202760"/>
              <a:chOff x="2651760" y="3581640"/>
              <a:chExt cx="1826280" cy="1202760"/>
            </a:xfrm>
          </p:grpSpPr>
          <p:grpSp>
            <p:nvGrpSpPr>
              <p:cNvPr id="819" name=""/>
              <p:cNvGrpSpPr/>
              <p:nvPr/>
            </p:nvGrpSpPr>
            <p:grpSpPr>
              <a:xfrm>
                <a:off x="2809800" y="4187880"/>
                <a:ext cx="190440" cy="241560"/>
                <a:chOff x="2809800" y="4187880"/>
                <a:chExt cx="190440" cy="241560"/>
              </a:xfrm>
            </p:grpSpPr>
            <p:grpSp>
              <p:nvGrpSpPr>
                <p:cNvPr id="820" name=""/>
                <p:cNvGrpSpPr/>
                <p:nvPr/>
              </p:nvGrpSpPr>
              <p:grpSpPr>
                <a:xfrm>
                  <a:off x="2809800" y="4187880"/>
                  <a:ext cx="190440" cy="241560"/>
                  <a:chOff x="2809800" y="4187880"/>
                  <a:chExt cx="190440" cy="241560"/>
                </a:xfrm>
              </p:grpSpPr>
              <p:sp>
                <p:nvSpPr>
                  <p:cNvPr id="821" name=""/>
                  <p:cNvSpPr/>
                  <p:nvPr/>
                </p:nvSpPr>
                <p:spPr>
                  <a:xfrm>
                    <a:off x="2865960" y="4204440"/>
                    <a:ext cx="12816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5">
                        <a:moveTo>
                          <a:pt x="0" y="0"/>
                        </a:moveTo>
                        <a:lnTo>
                          <a:pt x="9" y="5"/>
                        </a:lnTo>
                        <a:lnTo>
                          <a:pt x="148" y="5"/>
                        </a:lnTo>
                        <a:lnTo>
                          <a:pt x="14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2865240" y="4203720"/>
                    <a:ext cx="32760" cy="225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58">
                        <a:moveTo>
                          <a:pt x="0" y="249"/>
                        </a:moveTo>
                        <a:lnTo>
                          <a:pt x="8" y="258"/>
                        </a:lnTo>
                        <a:lnTo>
                          <a:pt x="38" y="86"/>
                        </a:lnTo>
                        <a:lnTo>
                          <a:pt x="10" y="6"/>
                        </a:lnTo>
                        <a:lnTo>
                          <a:pt x="1" y="0"/>
                        </a:lnTo>
                        <a:lnTo>
                          <a:pt x="0" y="94"/>
                        </a:lnTo>
                        <a:lnTo>
                          <a:pt x="0" y="24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2809800" y="4187880"/>
                    <a:ext cx="56160" cy="23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267">
                        <a:moveTo>
                          <a:pt x="0" y="0"/>
                        </a:moveTo>
                        <a:lnTo>
                          <a:pt x="65" y="18"/>
                        </a:lnTo>
                        <a:lnTo>
                          <a:pt x="65" y="267"/>
                        </a:lnTo>
                        <a:lnTo>
                          <a:pt x="0" y="2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2809800" y="4187880"/>
                    <a:ext cx="1814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19">
                        <a:moveTo>
                          <a:pt x="65" y="19"/>
                        </a:moveTo>
                        <a:lnTo>
                          <a:pt x="210" y="19"/>
                        </a:lnTo>
                        <a:lnTo>
                          <a:pt x="109" y="0"/>
                        </a:lnTo>
                        <a:lnTo>
                          <a:pt x="0" y="0"/>
                        </a:lnTo>
                        <a:lnTo>
                          <a:pt x="65" y="19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2872800" y="4287600"/>
                    <a:ext cx="117720" cy="1407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2873880" y="4208760"/>
                    <a:ext cx="1263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80">
                        <a:moveTo>
                          <a:pt x="0" y="0"/>
                        </a:moveTo>
                        <a:lnTo>
                          <a:pt x="139" y="0"/>
                        </a:lnTo>
                        <a:lnTo>
                          <a:pt x="146" y="80"/>
                        </a:lnTo>
                        <a:lnTo>
                          <a:pt x="7" y="8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2872080" y="4278960"/>
                    <a:ext cx="128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9">
                        <a:moveTo>
                          <a:pt x="0" y="9"/>
                        </a:moveTo>
                        <a:lnTo>
                          <a:pt x="136" y="9"/>
                        </a:lnTo>
                        <a:lnTo>
                          <a:pt x="148" y="0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2873880" y="4204440"/>
                  <a:ext cx="35640" cy="225000"/>
                  <a:chOff x="2873880" y="4204440"/>
                  <a:chExt cx="35640" cy="22500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>
                    <a:off x="2873880" y="4204440"/>
                    <a:ext cx="1008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57">
                        <a:moveTo>
                          <a:pt x="0" y="0"/>
                        </a:moveTo>
                        <a:lnTo>
                          <a:pt x="7" y="3"/>
                        </a:lnTo>
                        <a:lnTo>
                          <a:pt x="12" y="85"/>
                        </a:lnTo>
                        <a:lnTo>
                          <a:pt x="7" y="96"/>
                        </a:lnTo>
                        <a:lnTo>
                          <a:pt x="7" y="257"/>
                        </a:lnTo>
                      </a:path>
                    </a:pathLst>
                  </a:custGeom>
                  <a:noFill/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2877840" y="4204440"/>
                    <a:ext cx="1008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57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12" y="87"/>
                        </a:lnTo>
                        <a:lnTo>
                          <a:pt x="5" y="96"/>
                        </a:lnTo>
                        <a:lnTo>
                          <a:pt x="5" y="257"/>
                        </a:lnTo>
                      </a:path>
                    </a:pathLst>
                  </a:custGeom>
                  <a:noFill/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2880720" y="4204440"/>
                    <a:ext cx="1008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57">
                        <a:moveTo>
                          <a:pt x="0" y="0"/>
                        </a:moveTo>
                        <a:lnTo>
                          <a:pt x="7" y="5"/>
                        </a:lnTo>
                        <a:lnTo>
                          <a:pt x="12" y="85"/>
                        </a:lnTo>
                        <a:lnTo>
                          <a:pt x="7" y="94"/>
                        </a:lnTo>
                        <a:lnTo>
                          <a:pt x="7" y="257"/>
                        </a:lnTo>
                      </a:path>
                    </a:pathLst>
                  </a:custGeom>
                  <a:noFill/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2884680" y="4204440"/>
                    <a:ext cx="1008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57">
                        <a:moveTo>
                          <a:pt x="0" y="0"/>
                        </a:moveTo>
                        <a:lnTo>
                          <a:pt x="5" y="3"/>
                        </a:lnTo>
                        <a:lnTo>
                          <a:pt x="12" y="85"/>
                        </a:lnTo>
                        <a:lnTo>
                          <a:pt x="5" y="94"/>
                        </a:lnTo>
                        <a:lnTo>
                          <a:pt x="5" y="257"/>
                        </a:lnTo>
                      </a:path>
                    </a:pathLst>
                  </a:custGeom>
                  <a:noFill/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2888280" y="4204440"/>
                    <a:ext cx="9360" cy="2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55">
                        <a:moveTo>
                          <a:pt x="0" y="0"/>
                        </a:moveTo>
                        <a:lnTo>
                          <a:pt x="6" y="5"/>
                        </a:lnTo>
                        <a:lnTo>
                          <a:pt x="11" y="85"/>
                        </a:lnTo>
                        <a:lnTo>
                          <a:pt x="6" y="94"/>
                        </a:lnTo>
                        <a:lnTo>
                          <a:pt x="5" y="255"/>
                        </a:lnTo>
                      </a:path>
                    </a:pathLst>
                  </a:custGeom>
                  <a:noFill/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2892600" y="4204440"/>
                    <a:ext cx="936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57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11" y="85"/>
                        </a:lnTo>
                        <a:lnTo>
                          <a:pt x="5" y="94"/>
                        </a:lnTo>
                        <a:lnTo>
                          <a:pt x="5" y="257"/>
                        </a:lnTo>
                      </a:path>
                    </a:pathLst>
                  </a:custGeom>
                  <a:noFill/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2896920" y="4204440"/>
                    <a:ext cx="828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57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10" y="85"/>
                        </a:lnTo>
                        <a:lnTo>
                          <a:pt x="3" y="94"/>
                        </a:lnTo>
                        <a:lnTo>
                          <a:pt x="3" y="257"/>
                        </a:lnTo>
                      </a:path>
                    </a:pathLst>
                  </a:custGeom>
                  <a:noFill/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2899440" y="4204440"/>
                    <a:ext cx="10080" cy="2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55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12" y="85"/>
                        </a:lnTo>
                        <a:lnTo>
                          <a:pt x="5" y="94"/>
                        </a:lnTo>
                        <a:lnTo>
                          <a:pt x="5" y="255"/>
                        </a:lnTo>
                      </a:path>
                    </a:pathLst>
                  </a:custGeom>
                  <a:noFill/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7" name=""/>
                <p:cNvSpPr/>
                <p:nvPr/>
              </p:nvSpPr>
              <p:spPr>
                <a:xfrm>
                  <a:off x="2909160" y="4305960"/>
                  <a:ext cx="74880" cy="11016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2909160" y="4327920"/>
                  <a:ext cx="74880" cy="2160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2909160" y="4350600"/>
                  <a:ext cx="74880" cy="2196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2909160" y="4372560"/>
                  <a:ext cx="74880" cy="2160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2922120" y="4332240"/>
                  <a:ext cx="48960" cy="1224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2922120" y="4354200"/>
                  <a:ext cx="48960" cy="1296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2955960" y="4307760"/>
                  <a:ext cx="3240" cy="14040"/>
                </a:xfrm>
                <a:custGeom>
                  <a:avLst/>
                  <a:gdLst/>
                  <a:ahLst/>
                  <a:rect l="l" t="t" r="r" b="b"/>
                  <a:pathLst>
                    <a:path w="4" h="16">
                      <a:moveTo>
                        <a:pt x="4" y="0"/>
                      </a:moveTo>
                      <a:lnTo>
                        <a:pt x="4" y="16"/>
                      </a:lnTo>
                      <a:lnTo>
                        <a:pt x="0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4" name=""/>
                <p:cNvGrpSpPr/>
                <p:nvPr/>
              </p:nvGrpSpPr>
              <p:grpSpPr>
                <a:xfrm>
                  <a:off x="2909160" y="4305960"/>
                  <a:ext cx="74880" cy="21600"/>
                  <a:chOff x="2909160" y="4305960"/>
                  <a:chExt cx="74880" cy="2160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>
                    <a:off x="2909160" y="4305960"/>
                    <a:ext cx="74880" cy="21600"/>
                  </a:xfrm>
                  <a:prstGeom prst="rect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2914920" y="4309200"/>
                    <a:ext cx="5760" cy="2520"/>
                  </a:xfrm>
                  <a:prstGeom prst="rect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47" name=""/>
                  <p:cNvGrpSpPr/>
                  <p:nvPr/>
                </p:nvGrpSpPr>
                <p:grpSpPr>
                  <a:xfrm>
                    <a:off x="2912400" y="4307400"/>
                    <a:ext cx="68040" cy="16560"/>
                    <a:chOff x="2912400" y="4307400"/>
                    <a:chExt cx="68040" cy="16560"/>
                  </a:xfrm>
                </p:grpSpPr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2942640" y="4307400"/>
                      <a:ext cx="162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7">
                          <a:moveTo>
                            <a:pt x="19" y="0"/>
                          </a:moveTo>
                          <a:lnTo>
                            <a:pt x="2" y="0"/>
                          </a:lnTo>
                          <a:lnTo>
                            <a:pt x="0" y="7"/>
                          </a:lnTo>
                          <a:lnTo>
                            <a:pt x="17" y="7"/>
                          </a:lnTo>
                          <a:lnTo>
                            <a:pt x="19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9" name=""/>
                    <p:cNvSpPr/>
                    <p:nvPr/>
                  </p:nvSpPr>
                  <p:spPr>
                    <a:xfrm>
                      <a:off x="2942640" y="4316040"/>
                      <a:ext cx="3600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8">
                          <a:moveTo>
                            <a:pt x="42" y="8"/>
                          </a:moveTo>
                          <a:lnTo>
                            <a:pt x="2" y="8"/>
                          </a:lnTo>
                          <a:lnTo>
                            <a:pt x="0" y="0"/>
                          </a:lnTo>
                          <a:lnTo>
                            <a:pt x="41" y="0"/>
                          </a:lnTo>
                          <a:lnTo>
                            <a:pt x="42" y="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>
                      <a:off x="2958840" y="4311720"/>
                      <a:ext cx="19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">
                          <a:moveTo>
                            <a:pt x="23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22" y="2"/>
                          </a:lnTo>
                          <a:lnTo>
                            <a:pt x="23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1" name=""/>
                    <p:cNvSpPr/>
                    <p:nvPr/>
                  </p:nvSpPr>
                  <p:spPr>
                    <a:xfrm>
                      <a:off x="2975760" y="4309920"/>
                      <a:ext cx="25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3">
                          <a:moveTo>
                            <a:pt x="3" y="0"/>
                          </a:moveTo>
                          <a:lnTo>
                            <a:pt x="3" y="13"/>
                          </a:lnTo>
                          <a:lnTo>
                            <a:pt x="0" y="4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2959560" y="4317120"/>
                      <a:ext cx="5040" cy="32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2912400" y="4313520"/>
                      <a:ext cx="68040" cy="252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54" name=""/>
                    <p:cNvGrpSpPr/>
                    <p:nvPr/>
                  </p:nvGrpSpPr>
                  <p:grpSpPr>
                    <a:xfrm>
                      <a:off x="2957040" y="4307400"/>
                      <a:ext cx="6840" cy="16560"/>
                      <a:chOff x="2957040" y="4307400"/>
                      <a:chExt cx="6840" cy="16560"/>
                    </a:xfrm>
                  </p:grpSpPr>
                  <p:sp>
                    <p:nvSpPr>
                      <p:cNvPr id="855" name=""/>
                      <p:cNvSpPr/>
                      <p:nvPr/>
                    </p:nvSpPr>
                    <p:spPr>
                      <a:xfrm>
                        <a:off x="2957040" y="4307400"/>
                        <a:ext cx="684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9">
                            <a:moveTo>
                              <a:pt x="7" y="0"/>
                            </a:moveTo>
                            <a:lnTo>
                              <a:pt x="3" y="0"/>
                            </a:lnTo>
                            <a:lnTo>
                              <a:pt x="2" y="0"/>
                            </a:lnTo>
                            <a:lnTo>
                              <a:pt x="2" y="3"/>
                            </a:lnTo>
                            <a:lnTo>
                              <a:pt x="0" y="7"/>
                            </a:lnTo>
                            <a:lnTo>
                              <a:pt x="2" y="19"/>
                            </a:lnTo>
                            <a:lnTo>
                              <a:pt x="3" y="19"/>
                            </a:lnTo>
                            <a:lnTo>
                              <a:pt x="3" y="9"/>
                            </a:lnTo>
                            <a:lnTo>
                              <a:pt x="7" y="5"/>
                            </a:lnTo>
                            <a:lnTo>
                              <a:pt x="8" y="3"/>
                            </a:lnTo>
                            <a:lnTo>
                              <a:pt x="8" y="2"/>
                            </a:lnTo>
                            <a:lnTo>
                              <a:pt x="7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6" name=""/>
                      <p:cNvSpPr/>
                      <p:nvPr/>
                    </p:nvSpPr>
                    <p:spPr>
                      <a:xfrm>
                        <a:off x="2958480" y="4307400"/>
                        <a:ext cx="504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9">
                            <a:moveTo>
                              <a:pt x="5" y="0"/>
                            </a:moveTo>
                            <a:lnTo>
                              <a:pt x="3" y="0"/>
                            </a:lnTo>
                            <a:lnTo>
                              <a:pt x="1" y="0"/>
                            </a:lnTo>
                            <a:lnTo>
                              <a:pt x="0" y="3"/>
                            </a:lnTo>
                            <a:lnTo>
                              <a:pt x="0" y="7"/>
                            </a:lnTo>
                            <a:lnTo>
                              <a:pt x="1" y="19"/>
                            </a:lnTo>
                            <a:lnTo>
                              <a:pt x="3" y="19"/>
                            </a:lnTo>
                            <a:lnTo>
                              <a:pt x="3" y="9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6" y="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857" name=""/>
                <p:cNvSpPr/>
                <p:nvPr/>
              </p:nvSpPr>
              <p:spPr>
                <a:xfrm>
                  <a:off x="2923920" y="4334760"/>
                  <a:ext cx="45000" cy="25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2937960" y="4340160"/>
                  <a:ext cx="19800" cy="2520"/>
                </a:xfrm>
                <a:custGeom>
                  <a:avLst/>
                  <a:gdLst/>
                  <a:ahLst/>
                  <a:rect l="l" t="t" r="r" b="b"/>
                  <a:pathLst>
                    <a:path w="23" h="3">
                      <a:moveTo>
                        <a:pt x="1" y="3"/>
                      </a:moveTo>
                      <a:lnTo>
                        <a:pt x="0" y="0"/>
                      </a:lnTo>
                      <a:lnTo>
                        <a:pt x="23" y="0"/>
                      </a:lnTo>
                      <a:lnTo>
                        <a:pt x="23" y="3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2884320" y="421920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20" y="0"/>
                      </a:moveTo>
                      <a:lnTo>
                        <a:pt x="0" y="0"/>
                      </a:lnTo>
                      <a:lnTo>
                        <a:pt x="1" y="19"/>
                      </a:lnTo>
                      <a:lnTo>
                        <a:pt x="20" y="19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2886840" y="4247280"/>
                  <a:ext cx="16920" cy="1728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2" y="20"/>
                      </a:lnTo>
                      <a:lnTo>
                        <a:pt x="20" y="2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1" name=""/>
                <p:cNvGrpSpPr/>
                <p:nvPr/>
              </p:nvGrpSpPr>
              <p:grpSpPr>
                <a:xfrm>
                  <a:off x="2912040" y="4247280"/>
                  <a:ext cx="76680" cy="16560"/>
                  <a:chOff x="2912040" y="4247280"/>
                  <a:chExt cx="76680" cy="16560"/>
                </a:xfrm>
              </p:grpSpPr>
              <p:sp>
                <p:nvSpPr>
                  <p:cNvPr id="862" name=""/>
                  <p:cNvSpPr/>
                  <p:nvPr/>
                </p:nvSpPr>
                <p:spPr>
                  <a:xfrm>
                    <a:off x="2912040" y="4247280"/>
                    <a:ext cx="76680" cy="16560"/>
                  </a:xfrm>
                  <a:prstGeom prst="rect">
                    <a:avLst/>
                  </a:prstGeom>
                  <a:solidFill>
                    <a:srgbClr val="60606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2927520" y="4248720"/>
                    <a:ext cx="8280" cy="50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2927520" y="4257000"/>
                    <a:ext cx="8280" cy="50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2944440" y="4252320"/>
                    <a:ext cx="10080" cy="50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2917080" y="4252320"/>
                    <a:ext cx="6840" cy="684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3220200" y="4254840"/>
                <a:ext cx="239040" cy="225720"/>
                <a:chOff x="3220200" y="4254840"/>
                <a:chExt cx="239040" cy="22572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280320" y="4471920"/>
                  <a:ext cx="5040" cy="864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437640" y="4448880"/>
                  <a:ext cx="5040" cy="97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220200" y="4259880"/>
                  <a:ext cx="38160" cy="211680"/>
                </a:xfrm>
                <a:custGeom>
                  <a:avLst/>
                  <a:gdLst/>
                  <a:ahLst/>
                  <a:rect l="l" t="t" r="r" b="b"/>
                  <a:pathLst>
                    <a:path w="44" h="241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44" y="241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3271320" y="4254840"/>
                  <a:ext cx="177120" cy="18000"/>
                </a:xfrm>
                <a:custGeom>
                  <a:avLst/>
                  <a:gdLst/>
                  <a:ahLst/>
                  <a:rect l="l" t="t" r="r" b="b"/>
                  <a:pathLst>
                    <a:path w="204" h="21">
                      <a:moveTo>
                        <a:pt x="0" y="5"/>
                      </a:moveTo>
                      <a:lnTo>
                        <a:pt x="0" y="21"/>
                      </a:lnTo>
                      <a:lnTo>
                        <a:pt x="204" y="15"/>
                      </a:lnTo>
                      <a:lnTo>
                        <a:pt x="204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3271320" y="4267800"/>
                  <a:ext cx="177120" cy="178200"/>
                </a:xfrm>
                <a:custGeom>
                  <a:avLst/>
                  <a:gdLst/>
                  <a:ahLst/>
                  <a:rect l="l" t="t" r="r" b="b"/>
                  <a:pathLst>
                    <a:path w="204" h="203">
                      <a:moveTo>
                        <a:pt x="0" y="203"/>
                      </a:moveTo>
                      <a:lnTo>
                        <a:pt x="204" y="176"/>
                      </a:lnTo>
                      <a:lnTo>
                        <a:pt x="204" y="0"/>
                      </a:lnTo>
                      <a:lnTo>
                        <a:pt x="0" y="6"/>
                      </a:lnTo>
                      <a:lnTo>
                        <a:pt x="0" y="20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3274200" y="4282920"/>
                  <a:ext cx="6840" cy="146520"/>
                </a:xfrm>
                <a:custGeom>
                  <a:avLst/>
                  <a:gdLst/>
                  <a:ahLst/>
                  <a:rect l="l" t="t" r="r" b="b"/>
                  <a:pathLst>
                    <a:path w="8" h="167">
                      <a:moveTo>
                        <a:pt x="8" y="0"/>
                      </a:moveTo>
                      <a:lnTo>
                        <a:pt x="0" y="1"/>
                      </a:lnTo>
                      <a:lnTo>
                        <a:pt x="0" y="167"/>
                      </a:lnTo>
                      <a:lnTo>
                        <a:pt x="8" y="16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3288960" y="4282920"/>
                  <a:ext cx="6840" cy="145080"/>
                </a:xfrm>
                <a:custGeom>
                  <a:avLst/>
                  <a:gdLst/>
                  <a:ahLst/>
                  <a:rect l="l" t="t" r="r" b="b"/>
                  <a:pathLst>
                    <a:path w="8" h="165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165"/>
                      </a:lnTo>
                      <a:lnTo>
                        <a:pt x="8" y="16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3301920" y="4281120"/>
                  <a:ext cx="6840" cy="144000"/>
                </a:xfrm>
                <a:custGeom>
                  <a:avLst/>
                  <a:gdLst/>
                  <a:ahLst/>
                  <a:rect l="l" t="t" r="r" b="b"/>
                  <a:pathLst>
                    <a:path w="8" h="164">
                      <a:moveTo>
                        <a:pt x="8" y="0"/>
                      </a:moveTo>
                      <a:lnTo>
                        <a:pt x="0" y="2"/>
                      </a:lnTo>
                      <a:lnTo>
                        <a:pt x="0" y="164"/>
                      </a:lnTo>
                      <a:lnTo>
                        <a:pt x="8" y="16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3316680" y="4281120"/>
                  <a:ext cx="5040" cy="143280"/>
                </a:xfrm>
                <a:custGeom>
                  <a:avLst/>
                  <a:gdLst/>
                  <a:ahLst/>
                  <a:rect l="l" t="t" r="r" b="b"/>
                  <a:pathLst>
                    <a:path w="6" h="163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0" y="163"/>
                      </a:lnTo>
                      <a:lnTo>
                        <a:pt x="6" y="16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3329640" y="4280040"/>
                  <a:ext cx="6840" cy="142200"/>
                </a:xfrm>
                <a:custGeom>
                  <a:avLst/>
                  <a:gdLst/>
                  <a:ahLst/>
                  <a:rect l="l" t="t" r="r" b="b"/>
                  <a:pathLst>
                    <a:path w="8" h="162">
                      <a:moveTo>
                        <a:pt x="8" y="0"/>
                      </a:moveTo>
                      <a:lnTo>
                        <a:pt x="0" y="1"/>
                      </a:lnTo>
                      <a:lnTo>
                        <a:pt x="0" y="162"/>
                      </a:lnTo>
                      <a:lnTo>
                        <a:pt x="8" y="161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3342600" y="4280040"/>
                  <a:ext cx="6840" cy="139680"/>
                </a:xfrm>
                <a:custGeom>
                  <a:avLst/>
                  <a:gdLst/>
                  <a:ahLst/>
                  <a:rect l="l" t="t" r="r" b="b"/>
                  <a:pathLst>
                    <a:path w="8" h="159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159"/>
                      </a:lnTo>
                      <a:lnTo>
                        <a:pt x="8" y="158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3355560" y="4278240"/>
                  <a:ext cx="6840" cy="140400"/>
                </a:xfrm>
                <a:custGeom>
                  <a:avLst/>
                  <a:gdLst/>
                  <a:ahLst/>
                  <a:rect l="l" t="t" r="r" b="b"/>
                  <a:pathLst>
                    <a:path w="8" h="160">
                      <a:moveTo>
                        <a:pt x="8" y="0"/>
                      </a:moveTo>
                      <a:lnTo>
                        <a:pt x="0" y="2"/>
                      </a:lnTo>
                      <a:lnTo>
                        <a:pt x="0" y="160"/>
                      </a:lnTo>
                      <a:lnTo>
                        <a:pt x="8" y="158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3367080" y="4278240"/>
                  <a:ext cx="7560" cy="137880"/>
                </a:xfrm>
                <a:custGeom>
                  <a:avLst/>
                  <a:gdLst/>
                  <a:ahLst/>
                  <a:rect l="l" t="t" r="r" b="b"/>
                  <a:pathLst>
                    <a:path w="9" h="157">
                      <a:moveTo>
                        <a:pt x="9" y="0"/>
                      </a:moveTo>
                      <a:lnTo>
                        <a:pt x="0" y="2"/>
                      </a:lnTo>
                      <a:lnTo>
                        <a:pt x="0" y="157"/>
                      </a:lnTo>
                      <a:lnTo>
                        <a:pt x="9" y="157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380040" y="4279320"/>
                  <a:ext cx="5040" cy="13428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3399120" y="4277520"/>
                  <a:ext cx="7560" cy="134280"/>
                </a:xfrm>
                <a:custGeom>
                  <a:avLst/>
                  <a:gdLst/>
                  <a:ahLst/>
                  <a:rect l="l" t="t" r="r" b="b"/>
                  <a:pathLst>
                    <a:path w="9" h="153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53"/>
                      </a:lnTo>
                      <a:lnTo>
                        <a:pt x="9" y="152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3414240" y="4277520"/>
                  <a:ext cx="6840" cy="133560"/>
                </a:xfrm>
                <a:custGeom>
                  <a:avLst/>
                  <a:gdLst/>
                  <a:ahLst/>
                  <a:rect l="l" t="t" r="r" b="b"/>
                  <a:pathLst>
                    <a:path w="8" h="152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152"/>
                      </a:lnTo>
                      <a:lnTo>
                        <a:pt x="8" y="15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3258360" y="4259160"/>
                  <a:ext cx="12960" cy="221400"/>
                </a:xfrm>
                <a:custGeom>
                  <a:avLst/>
                  <a:gdLst/>
                  <a:ahLst/>
                  <a:rect l="l" t="t" r="r" b="b"/>
                  <a:pathLst>
                    <a:path w="15" h="252">
                      <a:moveTo>
                        <a:pt x="15" y="0"/>
                      </a:moveTo>
                      <a:lnTo>
                        <a:pt x="0" y="0"/>
                      </a:lnTo>
                      <a:lnTo>
                        <a:pt x="0" y="252"/>
                      </a:lnTo>
                      <a:lnTo>
                        <a:pt x="15" y="249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3271320" y="4422600"/>
                  <a:ext cx="177120" cy="55080"/>
                </a:xfrm>
                <a:custGeom>
                  <a:avLst/>
                  <a:gdLst/>
                  <a:ahLst/>
                  <a:rect l="l" t="t" r="r" b="b"/>
                  <a:pathLst>
                    <a:path w="204" h="63">
                      <a:moveTo>
                        <a:pt x="0" y="63"/>
                      </a:moveTo>
                      <a:lnTo>
                        <a:pt x="204" y="35"/>
                      </a:lnTo>
                      <a:lnTo>
                        <a:pt x="204" y="0"/>
                      </a:lnTo>
                      <a:lnTo>
                        <a:pt x="0" y="27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3284640" y="4272840"/>
                  <a:ext cx="720" cy="1724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3298320" y="4272120"/>
                  <a:ext cx="720" cy="1706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3312360" y="4272120"/>
                  <a:ext cx="720" cy="1688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3326040" y="4272120"/>
                  <a:ext cx="720" cy="16776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339360" y="4270320"/>
                  <a:ext cx="720" cy="167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351240" y="4270320"/>
                  <a:ext cx="1440" cy="164160"/>
                </a:xfrm>
                <a:custGeom>
                  <a:avLst/>
                  <a:gdLst/>
                  <a:ahLst/>
                  <a:rect l="l" t="t" r="r" b="b"/>
                  <a:pathLst>
                    <a:path w="2" h="187">
                      <a:moveTo>
                        <a:pt x="2" y="0"/>
                      </a:moveTo>
                      <a:lnTo>
                        <a:pt x="2" y="185"/>
                      </a:lnTo>
                      <a:lnTo>
                        <a:pt x="0" y="187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364200" y="4270320"/>
                  <a:ext cx="720" cy="16416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377520" y="4269600"/>
                  <a:ext cx="720" cy="1634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388680" y="4269600"/>
                  <a:ext cx="720" cy="16056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390480" y="4278240"/>
                  <a:ext cx="6840" cy="146520"/>
                </a:xfrm>
                <a:custGeom>
                  <a:avLst/>
                  <a:gdLst/>
                  <a:ahLst/>
                  <a:rect l="l" t="t" r="r" b="b"/>
                  <a:pathLst>
                    <a:path w="8" h="167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66"/>
                      </a:lnTo>
                      <a:lnTo>
                        <a:pt x="0" y="1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409560" y="4269600"/>
                  <a:ext cx="720" cy="158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425400" y="4267800"/>
                  <a:ext cx="720" cy="15696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429720" y="4395240"/>
                  <a:ext cx="11880" cy="1044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4" y="1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432240" y="4342680"/>
                  <a:ext cx="9360" cy="9360"/>
                </a:xfrm>
                <a:prstGeom prst="ellipse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448800" y="4254840"/>
                  <a:ext cx="10440" cy="198360"/>
                </a:xfrm>
                <a:custGeom>
                  <a:avLst/>
                  <a:gdLst/>
                  <a:ahLst/>
                  <a:rect l="l" t="t" r="r" b="b"/>
                  <a:pathLst>
                    <a:path w="12" h="226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0" y="226"/>
                      </a:lnTo>
                      <a:lnTo>
                        <a:pt x="12" y="2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429720" y="4411800"/>
                  <a:ext cx="17280" cy="2520"/>
                </a:xfrm>
                <a:custGeom>
                  <a:avLst/>
                  <a:gdLst/>
                  <a:ahLst/>
                  <a:rect l="l" t="t" r="r" b="b"/>
                  <a:pathLst>
                    <a:path w="20" h="3">
                      <a:moveTo>
                        <a:pt x="0" y="2"/>
                      </a:moveTo>
                      <a:lnTo>
                        <a:pt x="5" y="3"/>
                      </a:lnTo>
                      <a:lnTo>
                        <a:pt x="20" y="2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429720" y="4334760"/>
                  <a:ext cx="13680" cy="4320"/>
                </a:xfrm>
                <a:prstGeom prst="rect">
                  <a:avLst/>
                </a:prstGeom>
                <a:noFill/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290760" y="4340880"/>
                  <a:ext cx="2520" cy="7524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304440" y="4340160"/>
                  <a:ext cx="2520" cy="7524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316680" y="4339080"/>
                  <a:ext cx="4320" cy="75240"/>
                </a:xfrm>
                <a:custGeom>
                  <a:avLst/>
                  <a:gdLst/>
                  <a:ahLst/>
                  <a:rect l="l" t="t" r="r" b="b"/>
                  <a:pathLst>
                    <a:path w="5" h="8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86"/>
                      </a:lnTo>
                      <a:lnTo>
                        <a:pt x="5" y="8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331440" y="4338360"/>
                  <a:ext cx="2520" cy="7272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343680" y="4336560"/>
                  <a:ext cx="4320" cy="75240"/>
                </a:xfrm>
                <a:custGeom>
                  <a:avLst/>
                  <a:gdLst/>
                  <a:ahLst/>
                  <a:rect l="l" t="t" r="r" b="b"/>
                  <a:pathLst>
                    <a:path w="5" h="8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86"/>
                      </a:lnTo>
                      <a:lnTo>
                        <a:pt x="5" y="8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357360" y="4334760"/>
                  <a:ext cx="4320" cy="76320"/>
                </a:xfrm>
                <a:custGeom>
                  <a:avLst/>
                  <a:gdLst/>
                  <a:ahLst/>
                  <a:rect l="l" t="t" r="r" b="b"/>
                  <a:pathLst>
                    <a:path w="5" h="87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87"/>
                      </a:lnTo>
                      <a:lnTo>
                        <a:pt x="5" y="8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368880" y="4333680"/>
                  <a:ext cx="4320" cy="75240"/>
                </a:xfrm>
                <a:custGeom>
                  <a:avLst/>
                  <a:gdLst/>
                  <a:ahLst/>
                  <a:rect l="l" t="t" r="r" b="b"/>
                  <a:pathLst>
                    <a:path w="5" h="8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86"/>
                      </a:lnTo>
                      <a:lnTo>
                        <a:pt x="5" y="8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380760" y="4334760"/>
                  <a:ext cx="2520" cy="7092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400920" y="4331880"/>
                  <a:ext cx="4320" cy="73440"/>
                </a:xfrm>
                <a:custGeom>
                  <a:avLst/>
                  <a:gdLst/>
                  <a:ahLst/>
                  <a:rect l="l" t="t" r="r" b="b"/>
                  <a:pathLst>
                    <a:path w="5" h="84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84"/>
                      </a:lnTo>
                      <a:lnTo>
                        <a:pt x="5" y="8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416760" y="4331880"/>
                  <a:ext cx="2520" cy="7020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441960" y="4430520"/>
                  <a:ext cx="5040" cy="14760"/>
                </a:xfrm>
                <a:custGeom>
                  <a:avLst/>
                  <a:gdLst/>
                  <a:ahLst/>
                  <a:rect l="l" t="t" r="r" b="b"/>
                  <a:pathLst>
                    <a:path w="6" h="17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6" y="1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4" name=""/>
                <p:cNvGrpSpPr/>
                <p:nvPr/>
              </p:nvGrpSpPr>
              <p:grpSpPr>
                <a:xfrm>
                  <a:off x="3263760" y="4266000"/>
                  <a:ext cx="2520" cy="205200"/>
                  <a:chOff x="3263760" y="4266000"/>
                  <a:chExt cx="2520" cy="20520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>
                    <a:off x="3263760" y="4422240"/>
                    <a:ext cx="252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3263760" y="4452120"/>
                    <a:ext cx="25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3263760" y="4460040"/>
                    <a:ext cx="2520" cy="32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3263760" y="4469760"/>
                    <a:ext cx="252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3263760" y="4311720"/>
                    <a:ext cx="25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3263760" y="4286160"/>
                    <a:ext cx="2520" cy="32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3263760" y="4276440"/>
                    <a:ext cx="25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3263760" y="4266000"/>
                    <a:ext cx="25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3" name=""/>
                <p:cNvGrpSpPr/>
                <p:nvPr/>
              </p:nvGrpSpPr>
              <p:grpSpPr>
                <a:xfrm>
                  <a:off x="3453120" y="4258080"/>
                  <a:ext cx="2520" cy="188280"/>
                  <a:chOff x="3453120" y="4258080"/>
                  <a:chExt cx="2520" cy="188280"/>
                </a:xfrm>
              </p:grpSpPr>
              <p:sp>
                <p:nvSpPr>
                  <p:cNvPr id="924" name=""/>
                  <p:cNvSpPr/>
                  <p:nvPr/>
                </p:nvSpPr>
                <p:spPr>
                  <a:xfrm>
                    <a:off x="3453120" y="4401000"/>
                    <a:ext cx="252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3453120" y="4428000"/>
                    <a:ext cx="25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3453120" y="4436280"/>
                    <a:ext cx="25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3453120" y="4443840"/>
                    <a:ext cx="25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3453120" y="4299840"/>
                    <a:ext cx="252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3453120" y="4276080"/>
                    <a:ext cx="25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3453120" y="4267440"/>
                    <a:ext cx="2520" cy="32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3453120" y="4258080"/>
                    <a:ext cx="25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2" name=""/>
                <p:cNvGrpSpPr/>
                <p:nvPr/>
              </p:nvGrpSpPr>
              <p:grpSpPr>
                <a:xfrm>
                  <a:off x="3274200" y="4302000"/>
                  <a:ext cx="8640" cy="23400"/>
                  <a:chOff x="3274200" y="4302000"/>
                  <a:chExt cx="8640" cy="23400"/>
                </a:xfrm>
              </p:grpSpPr>
              <p:sp>
                <p:nvSpPr>
                  <p:cNvPr id="933" name=""/>
                  <p:cNvSpPr/>
                  <p:nvPr/>
                </p:nvSpPr>
                <p:spPr>
                  <a:xfrm>
                    <a:off x="3274920" y="4308840"/>
                    <a:ext cx="5400" cy="15840"/>
                  </a:xfrm>
                  <a:prstGeom prst="rect">
                    <a:avLst/>
                  </a:prstGeom>
                  <a:solidFill>
                    <a:srgbClr val="60606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3274200" y="4302000"/>
                    <a:ext cx="86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7">
                        <a:moveTo>
                          <a:pt x="2" y="0"/>
                        </a:moveTo>
                        <a:lnTo>
                          <a:pt x="2" y="6"/>
                        </a:lnTo>
                        <a:lnTo>
                          <a:pt x="0" y="6"/>
                        </a:lnTo>
                        <a:lnTo>
                          <a:pt x="0" y="27"/>
                        </a:lnTo>
                        <a:lnTo>
                          <a:pt x="3" y="27"/>
                        </a:lnTo>
                        <a:lnTo>
                          <a:pt x="3" y="7"/>
                        </a:lnTo>
                        <a:lnTo>
                          <a:pt x="7" y="7"/>
                        </a:lnTo>
                        <a:lnTo>
                          <a:pt x="7" y="27"/>
                        </a:lnTo>
                        <a:lnTo>
                          <a:pt x="10" y="27"/>
                        </a:lnTo>
                        <a:lnTo>
                          <a:pt x="10" y="6"/>
                        </a:lnTo>
                        <a:lnTo>
                          <a:pt x="7" y="4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3289680" y="4283640"/>
                  <a:ext cx="4320" cy="52560"/>
                  <a:chOff x="3289680" y="4283640"/>
                  <a:chExt cx="4320" cy="525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289680" y="4283640"/>
                    <a:ext cx="3600" cy="525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289680" y="42850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3289680" y="42886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3289680" y="429336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3289680" y="42969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3289680" y="430020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3289680" y="43045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3289680" y="4309920"/>
                    <a:ext cx="432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3289680" y="43131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3289680" y="4317840"/>
                    <a:ext cx="432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289680" y="432144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3289680" y="4325760"/>
                    <a:ext cx="432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3289680" y="43282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3289680" y="43318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3303720" y="4283640"/>
                  <a:ext cx="5040" cy="52560"/>
                  <a:chOff x="3303720" y="4283640"/>
                  <a:chExt cx="5040" cy="5256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3304440" y="4283640"/>
                    <a:ext cx="3600" cy="525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3303720" y="428508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3303720" y="42886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3303720" y="4293360"/>
                    <a:ext cx="504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3303720" y="429696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3303720" y="430020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3303720" y="43045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3303720" y="430812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303720" y="431244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3303720" y="431604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3303720" y="432036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3303720" y="43239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3303720" y="43282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3303720" y="43318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5" name=""/>
                <p:cNvGrpSpPr/>
                <p:nvPr/>
              </p:nvGrpSpPr>
              <p:grpSpPr>
                <a:xfrm>
                  <a:off x="3316680" y="4282920"/>
                  <a:ext cx="5040" cy="51480"/>
                  <a:chOff x="3316680" y="4282920"/>
                  <a:chExt cx="5040" cy="5148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3317400" y="4282920"/>
                    <a:ext cx="3600" cy="514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3316680" y="428364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316680" y="42879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3316680" y="429156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3316680" y="429516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3316680" y="429948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3316680" y="43027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3316680" y="430704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3316680" y="4312440"/>
                    <a:ext cx="504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3316680" y="431496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3316680" y="431856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3316680" y="43232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3316680" y="43264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3316680" y="43311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0" name=""/>
                <p:cNvGrpSpPr/>
                <p:nvPr/>
              </p:nvGrpSpPr>
              <p:grpSpPr>
                <a:xfrm>
                  <a:off x="3330360" y="4282920"/>
                  <a:ext cx="4320" cy="51480"/>
                  <a:chOff x="3330360" y="4282920"/>
                  <a:chExt cx="4320" cy="51480"/>
                </a:xfrm>
              </p:grpSpPr>
              <p:sp>
                <p:nvSpPr>
                  <p:cNvPr id="981" name=""/>
                  <p:cNvSpPr/>
                  <p:nvPr/>
                </p:nvSpPr>
                <p:spPr>
                  <a:xfrm>
                    <a:off x="3330360" y="4282920"/>
                    <a:ext cx="3240" cy="514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3330360" y="42836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3330360" y="42879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3330360" y="42915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3330360" y="42951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3330360" y="42994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3330360" y="43027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3330360" y="43070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3330360" y="43106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330360" y="43149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3330360" y="43185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3330360" y="43232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3330360" y="43264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3330360" y="43311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5" name=""/>
                <p:cNvGrpSpPr/>
                <p:nvPr/>
              </p:nvGrpSpPr>
              <p:grpSpPr>
                <a:xfrm>
                  <a:off x="3343680" y="4282920"/>
                  <a:ext cx="4320" cy="51480"/>
                  <a:chOff x="3343680" y="4282920"/>
                  <a:chExt cx="4320" cy="51480"/>
                </a:xfrm>
              </p:grpSpPr>
              <p:sp>
                <p:nvSpPr>
                  <p:cNvPr id="996" name=""/>
                  <p:cNvSpPr/>
                  <p:nvPr/>
                </p:nvSpPr>
                <p:spPr>
                  <a:xfrm>
                    <a:off x="3343680" y="4282920"/>
                    <a:ext cx="4320" cy="514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3343680" y="428364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3343680" y="4287960"/>
                    <a:ext cx="432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3343680" y="429156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3343680" y="429516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3343680" y="4299480"/>
                    <a:ext cx="432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3343680" y="430272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343680" y="43070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3343680" y="43106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3343680" y="43149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3343680" y="43185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3343680" y="43232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3343680" y="43264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3343680" y="4331160"/>
                    <a:ext cx="432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0" name=""/>
                <p:cNvGrpSpPr/>
                <p:nvPr/>
              </p:nvGrpSpPr>
              <p:grpSpPr>
                <a:xfrm>
                  <a:off x="3357360" y="4281120"/>
                  <a:ext cx="4320" cy="52560"/>
                  <a:chOff x="3357360" y="4281120"/>
                  <a:chExt cx="4320" cy="52560"/>
                </a:xfrm>
              </p:grpSpPr>
              <p:sp>
                <p:nvSpPr>
                  <p:cNvPr id="1011" name=""/>
                  <p:cNvSpPr/>
                  <p:nvPr/>
                </p:nvSpPr>
                <p:spPr>
                  <a:xfrm>
                    <a:off x="3358080" y="4281120"/>
                    <a:ext cx="1440" cy="525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357360" y="42825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3357360" y="42861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3357360" y="42908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3357360" y="42940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3357360" y="42976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3357360" y="430200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3357360" y="430560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3357360" y="43099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3357360" y="43135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3357360" y="43178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3357360" y="43214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3357360" y="43257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3357360" y="43293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3368880" y="4280040"/>
                  <a:ext cx="4320" cy="51480"/>
                  <a:chOff x="3368880" y="4280040"/>
                  <a:chExt cx="4320" cy="5148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>
                    <a:off x="3370320" y="4280040"/>
                    <a:ext cx="2520" cy="514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3368880" y="42807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3368880" y="42850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3368880" y="42886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3368880" y="429300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368880" y="429660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3368880" y="42998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3368880" y="43041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368880" y="43077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3368880" y="43120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3368880" y="43156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3368880" y="43203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3368880" y="432360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3368880" y="43279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0" name=""/>
                <p:cNvGrpSpPr/>
                <p:nvPr/>
              </p:nvGrpSpPr>
              <p:grpSpPr>
                <a:xfrm>
                  <a:off x="3380040" y="4280040"/>
                  <a:ext cx="4320" cy="50760"/>
                  <a:chOff x="3380040" y="4280040"/>
                  <a:chExt cx="4320" cy="50760"/>
                </a:xfrm>
              </p:grpSpPr>
              <p:sp>
                <p:nvSpPr>
                  <p:cNvPr id="1041" name=""/>
                  <p:cNvSpPr/>
                  <p:nvPr/>
                </p:nvSpPr>
                <p:spPr>
                  <a:xfrm>
                    <a:off x="3381840" y="4280040"/>
                    <a:ext cx="2520" cy="507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3380040" y="42807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3380040" y="42850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380040" y="42886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3380040" y="429300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3380040" y="429660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380040" y="42998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3380040" y="43041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3380040" y="43077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3380040" y="4312440"/>
                    <a:ext cx="432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3380040" y="431604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3380040" y="43185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3380040" y="43228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3380040" y="43261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5" name=""/>
                <p:cNvGrpSpPr/>
                <p:nvPr/>
              </p:nvGrpSpPr>
              <p:grpSpPr>
                <a:xfrm>
                  <a:off x="3400920" y="4280040"/>
                  <a:ext cx="4320" cy="50760"/>
                  <a:chOff x="3400920" y="4280040"/>
                  <a:chExt cx="4320" cy="50760"/>
                </a:xfrm>
              </p:grpSpPr>
              <p:sp>
                <p:nvSpPr>
                  <p:cNvPr id="1056" name=""/>
                  <p:cNvSpPr/>
                  <p:nvPr/>
                </p:nvSpPr>
                <p:spPr>
                  <a:xfrm>
                    <a:off x="3402360" y="4280040"/>
                    <a:ext cx="2520" cy="507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3400920" y="42807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3400920" y="42850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3400920" y="42886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3400920" y="4293000"/>
                    <a:ext cx="432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400920" y="429480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400920" y="42991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3400920" y="43023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400920" y="430776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400920" y="43106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3400920" y="43149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400920" y="43185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400920" y="43228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400920" y="432612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0" name=""/>
                <p:cNvGrpSpPr/>
                <p:nvPr/>
              </p:nvGrpSpPr>
              <p:grpSpPr>
                <a:xfrm>
                  <a:off x="3415680" y="4278240"/>
                  <a:ext cx="4320" cy="50040"/>
                  <a:chOff x="3415680" y="4278240"/>
                  <a:chExt cx="4320" cy="5004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>
                    <a:off x="3416400" y="4278240"/>
                    <a:ext cx="1800" cy="500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415680" y="42800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415680" y="4283280"/>
                    <a:ext cx="432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415680" y="4287600"/>
                    <a:ext cx="432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415680" y="42904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415680" y="42937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415680" y="42973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415680" y="430200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415680" y="430560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415680" y="43099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415680" y="43131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415680" y="43178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415680" y="4321440"/>
                    <a:ext cx="432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415680" y="43239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5" name=""/>
                <p:cNvGrpSpPr/>
                <p:nvPr/>
              </p:nvGrpSpPr>
              <p:grpSpPr>
                <a:xfrm>
                  <a:off x="3431520" y="4355640"/>
                  <a:ext cx="12960" cy="12960"/>
                  <a:chOff x="3431520" y="4355640"/>
                  <a:chExt cx="12960" cy="1296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3431520" y="4355640"/>
                    <a:ext cx="129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5">
                        <a:moveTo>
                          <a:pt x="15" y="0"/>
                        </a:moveTo>
                        <a:lnTo>
                          <a:pt x="0" y="2"/>
                        </a:lnTo>
                        <a:lnTo>
                          <a:pt x="0" y="15"/>
                        </a:lnTo>
                        <a:lnTo>
                          <a:pt x="15" y="14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432960" y="4357080"/>
                    <a:ext cx="8640" cy="864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437640" y="4358160"/>
                    <a:ext cx="720" cy="25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437640" y="4362480"/>
                    <a:ext cx="720" cy="324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0" name=""/>
                <p:cNvGrpSpPr/>
                <p:nvPr/>
              </p:nvGrpSpPr>
              <p:grpSpPr>
                <a:xfrm>
                  <a:off x="3277440" y="4413600"/>
                  <a:ext cx="142200" cy="28440"/>
                  <a:chOff x="3277440" y="4413600"/>
                  <a:chExt cx="142200" cy="28440"/>
                </a:xfrm>
              </p:grpSpPr>
              <p:sp>
                <p:nvSpPr>
                  <p:cNvPr id="1091" name=""/>
                  <p:cNvSpPr/>
                  <p:nvPr/>
                </p:nvSpPr>
                <p:spPr>
                  <a:xfrm>
                    <a:off x="3416400" y="441360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3">
                        <a:moveTo>
                          <a:pt x="4" y="0"/>
                        </a:moveTo>
                        <a:lnTo>
                          <a:pt x="0" y="0"/>
                        </a:lnTo>
                        <a:lnTo>
                          <a:pt x="0" y="13"/>
                        </a:lnTo>
                        <a:lnTo>
                          <a:pt x="4" y="1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402360" y="4414320"/>
                    <a:ext cx="2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4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0" y="14"/>
                        </a:lnTo>
                        <a:lnTo>
                          <a:pt x="3" y="12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381840" y="4416840"/>
                    <a:ext cx="25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4">
                        <a:moveTo>
                          <a:pt x="3" y="0"/>
                        </a:moveTo>
                        <a:lnTo>
                          <a:pt x="0" y="2"/>
                        </a:lnTo>
                        <a:lnTo>
                          <a:pt x="0" y="14"/>
                        </a:lnTo>
                        <a:lnTo>
                          <a:pt x="3" y="12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370320" y="4418640"/>
                    <a:ext cx="2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3">
                        <a:moveTo>
                          <a:pt x="3" y="0"/>
                        </a:moveTo>
                        <a:lnTo>
                          <a:pt x="0" y="1"/>
                        </a:lnTo>
                        <a:lnTo>
                          <a:pt x="0" y="13"/>
                        </a:lnTo>
                        <a:lnTo>
                          <a:pt x="3" y="12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357360" y="4421520"/>
                    <a:ext cx="2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3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0" y="13"/>
                        </a:lnTo>
                        <a:lnTo>
                          <a:pt x="3" y="12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344400" y="4424760"/>
                    <a:ext cx="2520" cy="86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332160" y="4424760"/>
                    <a:ext cx="2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4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0" y="14"/>
                        </a:lnTo>
                        <a:lnTo>
                          <a:pt x="3" y="12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317400" y="442656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3">
                        <a:moveTo>
                          <a:pt x="4" y="0"/>
                        </a:moveTo>
                        <a:lnTo>
                          <a:pt x="0" y="0"/>
                        </a:lnTo>
                        <a:lnTo>
                          <a:pt x="0" y="13"/>
                        </a:lnTo>
                        <a:lnTo>
                          <a:pt x="4" y="1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305160" y="4430160"/>
                    <a:ext cx="1440" cy="86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290400" y="4430880"/>
                    <a:ext cx="2520" cy="86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277440" y="4433400"/>
                    <a:ext cx="1440" cy="86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2" name=""/>
                <p:cNvGrpSpPr/>
                <p:nvPr/>
              </p:nvGrpSpPr>
              <p:grpSpPr>
                <a:xfrm>
                  <a:off x="3278520" y="4426920"/>
                  <a:ext cx="159840" cy="45000"/>
                  <a:chOff x="3278520" y="4426920"/>
                  <a:chExt cx="159840" cy="45000"/>
                </a:xfrm>
              </p:grpSpPr>
              <p:sp>
                <p:nvSpPr>
                  <p:cNvPr id="1103" name=""/>
                  <p:cNvSpPr/>
                  <p:nvPr/>
                </p:nvSpPr>
                <p:spPr>
                  <a:xfrm>
                    <a:off x="3281040" y="4431960"/>
                    <a:ext cx="15732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39">
                        <a:moveTo>
                          <a:pt x="0" y="24"/>
                        </a:moveTo>
                        <a:lnTo>
                          <a:pt x="0" y="39"/>
                        </a:lnTo>
                        <a:lnTo>
                          <a:pt x="181" y="13"/>
                        </a:lnTo>
                        <a:lnTo>
                          <a:pt x="181" y="0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3287160" y="4447800"/>
                    <a:ext cx="144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3291480" y="4447800"/>
                    <a:ext cx="144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3297600" y="4446000"/>
                    <a:ext cx="72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3303720" y="4445280"/>
                    <a:ext cx="72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3308760" y="4445280"/>
                    <a:ext cx="1440" cy="24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3314880" y="4443480"/>
                    <a:ext cx="252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3321000" y="4442760"/>
                    <a:ext cx="2520" cy="24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3326040" y="4440960"/>
                    <a:ext cx="3240" cy="252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3332160" y="4440960"/>
                    <a:ext cx="2520" cy="252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338280" y="4438440"/>
                    <a:ext cx="720" cy="252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3343680" y="4439880"/>
                    <a:ext cx="3240" cy="244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3349800" y="4438440"/>
                    <a:ext cx="1440" cy="252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3355560" y="4438440"/>
                    <a:ext cx="144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3361680" y="4437360"/>
                    <a:ext cx="720" cy="244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3367080" y="4437360"/>
                    <a:ext cx="1440" cy="244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3373200" y="4435560"/>
                    <a:ext cx="144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3379320" y="4435560"/>
                    <a:ext cx="72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3384360" y="4434840"/>
                    <a:ext cx="144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390480" y="4434840"/>
                    <a:ext cx="144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3394800" y="4433040"/>
                    <a:ext cx="2520" cy="252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3400920" y="4431960"/>
                    <a:ext cx="144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407040" y="4431960"/>
                    <a:ext cx="72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3412440" y="4431960"/>
                    <a:ext cx="1440" cy="24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3416760" y="4430160"/>
                    <a:ext cx="324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3422880" y="4429440"/>
                    <a:ext cx="1440" cy="244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427200" y="4426920"/>
                    <a:ext cx="2520" cy="244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3431520" y="4427640"/>
                    <a:ext cx="252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3437640" y="4426920"/>
                    <a:ext cx="72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3278520" y="4448520"/>
                    <a:ext cx="432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3" name=""/>
                <p:cNvSpPr/>
                <p:nvPr/>
              </p:nvSpPr>
              <p:spPr>
                <a:xfrm>
                  <a:off x="3280320" y="4453200"/>
                  <a:ext cx="5040" cy="14040"/>
                </a:xfrm>
                <a:custGeom>
                  <a:avLst/>
                  <a:gdLst/>
                  <a:ahLst/>
                  <a:rect l="l" t="t" r="r" b="b"/>
                  <a:pathLst>
                    <a:path w="6" h="16">
                      <a:moveTo>
                        <a:pt x="1" y="0"/>
                      </a:moveTo>
                      <a:lnTo>
                        <a:pt x="6" y="1"/>
                      </a:lnTo>
                      <a:lnTo>
                        <a:pt x="6" y="16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4" name=""/>
                <p:cNvGrpSpPr/>
                <p:nvPr/>
              </p:nvGrpSpPr>
              <p:grpSpPr>
                <a:xfrm>
                  <a:off x="3274200" y="4278240"/>
                  <a:ext cx="3240" cy="2520"/>
                  <a:chOff x="3274200" y="4278240"/>
                  <a:chExt cx="3240" cy="2520"/>
                </a:xfrm>
              </p:grpSpPr>
              <p:sp>
                <p:nvSpPr>
                  <p:cNvPr id="1135" name=""/>
                  <p:cNvSpPr/>
                  <p:nvPr/>
                </p:nvSpPr>
                <p:spPr>
                  <a:xfrm>
                    <a:off x="3274920" y="4278240"/>
                    <a:ext cx="720" cy="18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3274920" y="4278240"/>
                    <a:ext cx="2520" cy="180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3276720" y="4278240"/>
                    <a:ext cx="720" cy="180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3274200" y="4278240"/>
                    <a:ext cx="180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9" name=""/>
                <p:cNvGrpSpPr/>
                <p:nvPr/>
              </p:nvGrpSpPr>
              <p:grpSpPr>
                <a:xfrm>
                  <a:off x="3288960" y="4277520"/>
                  <a:ext cx="3240" cy="3240"/>
                  <a:chOff x="3288960" y="4277520"/>
                  <a:chExt cx="3240" cy="3240"/>
                </a:xfrm>
              </p:grpSpPr>
              <p:sp>
                <p:nvSpPr>
                  <p:cNvPr id="1140" name=""/>
                  <p:cNvSpPr/>
                  <p:nvPr/>
                </p:nvSpPr>
                <p:spPr>
                  <a:xfrm>
                    <a:off x="3288960" y="4277520"/>
                    <a:ext cx="72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3289680" y="4278240"/>
                    <a:ext cx="2520" cy="180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3290760" y="4278240"/>
                    <a:ext cx="1440" cy="180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3288960" y="4277520"/>
                    <a:ext cx="72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3302640" y="4277520"/>
                  <a:ext cx="3960" cy="3240"/>
                  <a:chOff x="3302640" y="4277520"/>
                  <a:chExt cx="3960" cy="324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3302640" y="4278240"/>
                    <a:ext cx="720" cy="18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3304440" y="4278240"/>
                    <a:ext cx="720" cy="180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3305160" y="4278240"/>
                    <a:ext cx="1440" cy="180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3303360" y="4277520"/>
                    <a:ext cx="72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9" name=""/>
                <p:cNvGrpSpPr/>
                <p:nvPr/>
              </p:nvGrpSpPr>
              <p:grpSpPr>
                <a:xfrm>
                  <a:off x="3316680" y="4275720"/>
                  <a:ext cx="2880" cy="4320"/>
                  <a:chOff x="3316680" y="4275720"/>
                  <a:chExt cx="2880" cy="4320"/>
                </a:xfrm>
              </p:grpSpPr>
              <p:sp>
                <p:nvSpPr>
                  <p:cNvPr id="1150" name=""/>
                  <p:cNvSpPr/>
                  <p:nvPr/>
                </p:nvSpPr>
                <p:spPr>
                  <a:xfrm>
                    <a:off x="3316680" y="4275720"/>
                    <a:ext cx="720" cy="43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3317400" y="4276440"/>
                    <a:ext cx="720" cy="252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3318120" y="4276440"/>
                    <a:ext cx="144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3316680" y="4275720"/>
                    <a:ext cx="720" cy="43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4" name=""/>
                <p:cNvGrpSpPr/>
                <p:nvPr/>
              </p:nvGrpSpPr>
              <p:grpSpPr>
                <a:xfrm>
                  <a:off x="3329640" y="4275720"/>
                  <a:ext cx="4320" cy="3240"/>
                  <a:chOff x="3329640" y="4275720"/>
                  <a:chExt cx="4320" cy="3240"/>
                </a:xfrm>
              </p:grpSpPr>
              <p:sp>
                <p:nvSpPr>
                  <p:cNvPr id="1155" name=""/>
                  <p:cNvSpPr/>
                  <p:nvPr/>
                </p:nvSpPr>
                <p:spPr>
                  <a:xfrm>
                    <a:off x="3330360" y="4275720"/>
                    <a:ext cx="72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3331440" y="4275720"/>
                    <a:ext cx="1800" cy="32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333240" y="4275720"/>
                    <a:ext cx="720" cy="32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3329640" y="4275720"/>
                    <a:ext cx="72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3342600" y="4274640"/>
                  <a:ext cx="3600" cy="3240"/>
                  <a:chOff x="3342600" y="4274640"/>
                  <a:chExt cx="3600" cy="3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3343320" y="4275360"/>
                    <a:ext cx="720" cy="1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3343320" y="4275360"/>
                    <a:ext cx="2160" cy="14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3345840" y="4275360"/>
                    <a:ext cx="36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3342600" y="4274640"/>
                    <a:ext cx="72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4" name=""/>
                <p:cNvGrpSpPr/>
                <p:nvPr/>
              </p:nvGrpSpPr>
              <p:grpSpPr>
                <a:xfrm>
                  <a:off x="3355560" y="4274640"/>
                  <a:ext cx="4680" cy="3240"/>
                  <a:chOff x="3355560" y="4274640"/>
                  <a:chExt cx="4680" cy="324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>
                    <a:off x="3356280" y="4275360"/>
                    <a:ext cx="720" cy="1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358080" y="4275360"/>
                    <a:ext cx="720" cy="14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3358800" y="4275360"/>
                    <a:ext cx="144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3355560" y="4274640"/>
                    <a:ext cx="144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9" name=""/>
                <p:cNvGrpSpPr/>
                <p:nvPr/>
              </p:nvGrpSpPr>
              <p:grpSpPr>
                <a:xfrm>
                  <a:off x="3367080" y="4273920"/>
                  <a:ext cx="5040" cy="3240"/>
                  <a:chOff x="3367080" y="4273920"/>
                  <a:chExt cx="5040" cy="3240"/>
                </a:xfrm>
              </p:grpSpPr>
              <p:sp>
                <p:nvSpPr>
                  <p:cNvPr id="1170" name=""/>
                  <p:cNvSpPr/>
                  <p:nvPr/>
                </p:nvSpPr>
                <p:spPr>
                  <a:xfrm>
                    <a:off x="3367800" y="4273920"/>
                    <a:ext cx="180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3369600" y="4273920"/>
                    <a:ext cx="720" cy="32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3371400" y="4273920"/>
                    <a:ext cx="720" cy="32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3367080" y="4274640"/>
                    <a:ext cx="324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4" name=""/>
                <p:cNvGrpSpPr/>
                <p:nvPr/>
              </p:nvGrpSpPr>
              <p:grpSpPr>
                <a:xfrm>
                  <a:off x="3380040" y="4272840"/>
                  <a:ext cx="3240" cy="4320"/>
                  <a:chOff x="3380040" y="4272840"/>
                  <a:chExt cx="3240" cy="4320"/>
                </a:xfrm>
              </p:grpSpPr>
              <p:sp>
                <p:nvSpPr>
                  <p:cNvPr id="1175" name=""/>
                  <p:cNvSpPr/>
                  <p:nvPr/>
                </p:nvSpPr>
                <p:spPr>
                  <a:xfrm>
                    <a:off x="3380040" y="4273560"/>
                    <a:ext cx="72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3380760" y="4273560"/>
                    <a:ext cx="1800" cy="252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3382560" y="4273560"/>
                    <a:ext cx="7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3380040" y="4272840"/>
                    <a:ext cx="1800" cy="43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9" name=""/>
                <p:cNvGrpSpPr/>
                <p:nvPr/>
              </p:nvGrpSpPr>
              <p:grpSpPr>
                <a:xfrm>
                  <a:off x="3400200" y="4272840"/>
                  <a:ext cx="4320" cy="2520"/>
                  <a:chOff x="3400200" y="4272840"/>
                  <a:chExt cx="4320" cy="2520"/>
                </a:xfrm>
              </p:grpSpPr>
              <p:sp>
                <p:nvSpPr>
                  <p:cNvPr id="1180" name=""/>
                  <p:cNvSpPr/>
                  <p:nvPr/>
                </p:nvSpPr>
                <p:spPr>
                  <a:xfrm>
                    <a:off x="3400200" y="4272840"/>
                    <a:ext cx="1800" cy="1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3402000" y="4272840"/>
                    <a:ext cx="720" cy="14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3403800" y="4272840"/>
                    <a:ext cx="72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3400920" y="4272840"/>
                    <a:ext cx="144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4" name=""/>
                <p:cNvGrpSpPr/>
                <p:nvPr/>
              </p:nvGrpSpPr>
              <p:grpSpPr>
                <a:xfrm>
                  <a:off x="3414240" y="4272120"/>
                  <a:ext cx="5040" cy="3240"/>
                  <a:chOff x="3414240" y="4272120"/>
                  <a:chExt cx="5040" cy="324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3414960" y="4272840"/>
                    <a:ext cx="720" cy="1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3416760" y="4272840"/>
                    <a:ext cx="720" cy="14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417480" y="4272840"/>
                    <a:ext cx="180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3414240" y="4272120"/>
                    <a:ext cx="252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9" name=""/>
                <p:cNvGrpSpPr/>
                <p:nvPr/>
              </p:nvGrpSpPr>
              <p:grpSpPr>
                <a:xfrm>
                  <a:off x="3427200" y="4272120"/>
                  <a:ext cx="5040" cy="3240"/>
                  <a:chOff x="3427200" y="4272120"/>
                  <a:chExt cx="5040" cy="324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>
                    <a:off x="3427920" y="4272840"/>
                    <a:ext cx="720" cy="1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3429720" y="4272840"/>
                    <a:ext cx="720" cy="14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3430800" y="4272840"/>
                    <a:ext cx="144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3427200" y="4272120"/>
                    <a:ext cx="252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4" name=""/>
                <p:cNvGrpSpPr/>
                <p:nvPr/>
              </p:nvGrpSpPr>
              <p:grpSpPr>
                <a:xfrm>
                  <a:off x="3441960" y="4270320"/>
                  <a:ext cx="2880" cy="4320"/>
                  <a:chOff x="3441960" y="4270320"/>
                  <a:chExt cx="2880" cy="4320"/>
                </a:xfrm>
              </p:grpSpPr>
              <p:sp>
                <p:nvSpPr>
                  <p:cNvPr id="1195" name=""/>
                  <p:cNvSpPr/>
                  <p:nvPr/>
                </p:nvSpPr>
                <p:spPr>
                  <a:xfrm>
                    <a:off x="3441960" y="4270320"/>
                    <a:ext cx="720" cy="43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442680" y="4271040"/>
                    <a:ext cx="720" cy="252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443400" y="4271040"/>
                    <a:ext cx="144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441960" y="4272120"/>
                    <a:ext cx="72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9" name=""/>
                <p:cNvSpPr/>
                <p:nvPr/>
              </p:nvSpPr>
              <p:spPr>
                <a:xfrm>
                  <a:off x="3390480" y="426960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9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0" name=""/>
                <p:cNvGrpSpPr/>
                <p:nvPr/>
              </p:nvGrpSpPr>
              <p:grpSpPr>
                <a:xfrm>
                  <a:off x="3273120" y="4440960"/>
                  <a:ext cx="4320" cy="4320"/>
                  <a:chOff x="3273120" y="4440960"/>
                  <a:chExt cx="4320" cy="4320"/>
                </a:xfrm>
              </p:grpSpPr>
              <p:sp>
                <p:nvSpPr>
                  <p:cNvPr id="1201" name=""/>
                  <p:cNvSpPr/>
                  <p:nvPr/>
                </p:nvSpPr>
                <p:spPr>
                  <a:xfrm>
                    <a:off x="3273120" y="4441680"/>
                    <a:ext cx="180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274920" y="4441680"/>
                    <a:ext cx="720" cy="252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276720" y="4441680"/>
                    <a:ext cx="7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273840" y="4440960"/>
                    <a:ext cx="1800" cy="43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5" name=""/>
                <p:cNvGrpSpPr/>
                <p:nvPr/>
              </p:nvGrpSpPr>
              <p:grpSpPr>
                <a:xfrm>
                  <a:off x="3285360" y="4439160"/>
                  <a:ext cx="4680" cy="3240"/>
                  <a:chOff x="3285360" y="4439160"/>
                  <a:chExt cx="4680" cy="3240"/>
                </a:xfrm>
              </p:grpSpPr>
              <p:sp>
                <p:nvSpPr>
                  <p:cNvPr id="1206" name=""/>
                  <p:cNvSpPr/>
                  <p:nvPr/>
                </p:nvSpPr>
                <p:spPr>
                  <a:xfrm>
                    <a:off x="3286080" y="4439160"/>
                    <a:ext cx="1440" cy="21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287520" y="4439160"/>
                    <a:ext cx="720" cy="216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289320" y="4439160"/>
                    <a:ext cx="720" cy="216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285360" y="4439880"/>
                    <a:ext cx="144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0" name=""/>
                <p:cNvGrpSpPr/>
                <p:nvPr/>
              </p:nvGrpSpPr>
              <p:grpSpPr>
                <a:xfrm>
                  <a:off x="3301200" y="4437360"/>
                  <a:ext cx="3960" cy="3240"/>
                  <a:chOff x="3301200" y="4437360"/>
                  <a:chExt cx="3960" cy="3240"/>
                </a:xfrm>
              </p:grpSpPr>
              <p:sp>
                <p:nvSpPr>
                  <p:cNvPr id="1211" name=""/>
                  <p:cNvSpPr/>
                  <p:nvPr/>
                </p:nvSpPr>
                <p:spPr>
                  <a:xfrm>
                    <a:off x="3301200" y="4438080"/>
                    <a:ext cx="1440" cy="1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302640" y="4438080"/>
                    <a:ext cx="720" cy="14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304440" y="4438080"/>
                    <a:ext cx="72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301920" y="4437360"/>
                    <a:ext cx="180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5" name=""/>
                <p:cNvGrpSpPr/>
                <p:nvPr/>
              </p:nvGrpSpPr>
              <p:grpSpPr>
                <a:xfrm>
                  <a:off x="3313080" y="4435560"/>
                  <a:ext cx="4680" cy="2880"/>
                  <a:chOff x="3313080" y="4435560"/>
                  <a:chExt cx="4680" cy="2880"/>
                </a:xfrm>
              </p:grpSpPr>
              <p:sp>
                <p:nvSpPr>
                  <p:cNvPr id="1216" name=""/>
                  <p:cNvSpPr/>
                  <p:nvPr/>
                </p:nvSpPr>
                <p:spPr>
                  <a:xfrm>
                    <a:off x="3313800" y="4436280"/>
                    <a:ext cx="1440" cy="21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315600" y="4436280"/>
                    <a:ext cx="720" cy="216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317040" y="4436280"/>
                    <a:ext cx="720" cy="216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3313080" y="4435560"/>
                    <a:ext cx="324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0" name=""/>
                <p:cNvGrpSpPr/>
                <p:nvPr/>
              </p:nvGrpSpPr>
              <p:grpSpPr>
                <a:xfrm>
                  <a:off x="3327120" y="4433760"/>
                  <a:ext cx="3960" cy="3240"/>
                  <a:chOff x="3327120" y="4433760"/>
                  <a:chExt cx="3960" cy="3240"/>
                </a:xfrm>
              </p:grpSpPr>
              <p:sp>
                <p:nvSpPr>
                  <p:cNvPr id="1221" name=""/>
                  <p:cNvSpPr/>
                  <p:nvPr/>
                </p:nvSpPr>
                <p:spPr>
                  <a:xfrm>
                    <a:off x="3327120" y="4433760"/>
                    <a:ext cx="180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328920" y="4433760"/>
                    <a:ext cx="720" cy="32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330360" y="4433760"/>
                    <a:ext cx="720" cy="32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327840" y="4434480"/>
                    <a:ext cx="1800" cy="21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5" name=""/>
                <p:cNvGrpSpPr/>
                <p:nvPr/>
              </p:nvGrpSpPr>
              <p:grpSpPr>
                <a:xfrm>
                  <a:off x="3340800" y="4432320"/>
                  <a:ext cx="3240" cy="3240"/>
                  <a:chOff x="3340800" y="4432320"/>
                  <a:chExt cx="3240" cy="3240"/>
                </a:xfrm>
              </p:grpSpPr>
              <p:sp>
                <p:nvSpPr>
                  <p:cNvPr id="1226" name=""/>
                  <p:cNvSpPr/>
                  <p:nvPr/>
                </p:nvSpPr>
                <p:spPr>
                  <a:xfrm>
                    <a:off x="3341520" y="4433040"/>
                    <a:ext cx="360" cy="18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341520" y="4433040"/>
                    <a:ext cx="2160" cy="180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343320" y="4433040"/>
                    <a:ext cx="720" cy="180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340800" y="4432320"/>
                    <a:ext cx="144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0" name=""/>
                <p:cNvGrpSpPr/>
                <p:nvPr/>
              </p:nvGrpSpPr>
              <p:grpSpPr>
                <a:xfrm>
                  <a:off x="3354120" y="4430520"/>
                  <a:ext cx="3240" cy="4320"/>
                  <a:chOff x="3354120" y="4430520"/>
                  <a:chExt cx="3240" cy="4320"/>
                </a:xfrm>
              </p:grpSpPr>
              <p:sp>
                <p:nvSpPr>
                  <p:cNvPr id="1231" name=""/>
                  <p:cNvSpPr/>
                  <p:nvPr/>
                </p:nvSpPr>
                <p:spPr>
                  <a:xfrm>
                    <a:off x="3354840" y="4431240"/>
                    <a:ext cx="180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3354840" y="4431240"/>
                    <a:ext cx="2520" cy="252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3356640" y="4431240"/>
                    <a:ext cx="7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3354120" y="4430520"/>
                    <a:ext cx="1440" cy="43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5" name=""/>
                <p:cNvGrpSpPr/>
                <p:nvPr/>
              </p:nvGrpSpPr>
              <p:grpSpPr>
                <a:xfrm>
                  <a:off x="3367080" y="4428720"/>
                  <a:ext cx="3240" cy="3240"/>
                  <a:chOff x="3367080" y="4428720"/>
                  <a:chExt cx="3240" cy="3240"/>
                </a:xfrm>
              </p:grpSpPr>
              <p:sp>
                <p:nvSpPr>
                  <p:cNvPr id="1236" name=""/>
                  <p:cNvSpPr/>
                  <p:nvPr/>
                </p:nvSpPr>
                <p:spPr>
                  <a:xfrm>
                    <a:off x="3367080" y="4428720"/>
                    <a:ext cx="720" cy="21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3367800" y="4428720"/>
                    <a:ext cx="1800" cy="216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3369600" y="4428720"/>
                    <a:ext cx="720" cy="216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3367080" y="4429440"/>
                    <a:ext cx="180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0" name=""/>
                <p:cNvGrpSpPr/>
                <p:nvPr/>
              </p:nvGrpSpPr>
              <p:grpSpPr>
                <a:xfrm>
                  <a:off x="3379320" y="4426920"/>
                  <a:ext cx="3600" cy="3240"/>
                  <a:chOff x="3379320" y="4426920"/>
                  <a:chExt cx="3600" cy="3240"/>
                </a:xfrm>
              </p:grpSpPr>
              <p:sp>
                <p:nvSpPr>
                  <p:cNvPr id="1241" name=""/>
                  <p:cNvSpPr/>
                  <p:nvPr/>
                </p:nvSpPr>
                <p:spPr>
                  <a:xfrm>
                    <a:off x="3380040" y="4427640"/>
                    <a:ext cx="720" cy="1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3380040" y="4427640"/>
                    <a:ext cx="2160" cy="14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3382560" y="4427640"/>
                    <a:ext cx="36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3379320" y="4426920"/>
                    <a:ext cx="72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5" name=""/>
                <p:cNvGrpSpPr/>
                <p:nvPr/>
              </p:nvGrpSpPr>
              <p:grpSpPr>
                <a:xfrm>
                  <a:off x="3399120" y="4424400"/>
                  <a:ext cx="5040" cy="3240"/>
                  <a:chOff x="3399120" y="4424400"/>
                  <a:chExt cx="5040" cy="3240"/>
                </a:xfrm>
              </p:grpSpPr>
              <p:sp>
                <p:nvSpPr>
                  <p:cNvPr id="1246" name=""/>
                  <p:cNvSpPr/>
                  <p:nvPr/>
                </p:nvSpPr>
                <p:spPr>
                  <a:xfrm>
                    <a:off x="3399840" y="4425120"/>
                    <a:ext cx="1800" cy="1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3401640" y="4425120"/>
                    <a:ext cx="720" cy="14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3403440" y="4425120"/>
                    <a:ext cx="72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3399120" y="4424400"/>
                    <a:ext cx="180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0" name=""/>
                <p:cNvGrpSpPr/>
                <p:nvPr/>
              </p:nvGrpSpPr>
              <p:grpSpPr>
                <a:xfrm>
                  <a:off x="3411360" y="4422600"/>
                  <a:ext cx="3240" cy="4320"/>
                  <a:chOff x="3411360" y="4422600"/>
                  <a:chExt cx="3240" cy="4320"/>
                </a:xfrm>
              </p:grpSpPr>
              <p:sp>
                <p:nvSpPr>
                  <p:cNvPr id="1251" name=""/>
                  <p:cNvSpPr/>
                  <p:nvPr/>
                </p:nvSpPr>
                <p:spPr>
                  <a:xfrm>
                    <a:off x="3411360" y="4422600"/>
                    <a:ext cx="720" cy="43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3412080" y="4423320"/>
                    <a:ext cx="2520" cy="252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3412800" y="4423320"/>
                    <a:ext cx="180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3411360" y="4422600"/>
                    <a:ext cx="72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5" name=""/>
                <p:cNvGrpSpPr/>
                <p:nvPr/>
              </p:nvGrpSpPr>
              <p:grpSpPr>
                <a:xfrm>
                  <a:off x="3427200" y="4420080"/>
                  <a:ext cx="5040" cy="4320"/>
                  <a:chOff x="3427200" y="4420080"/>
                  <a:chExt cx="5040" cy="4320"/>
                </a:xfrm>
              </p:grpSpPr>
              <p:sp>
                <p:nvSpPr>
                  <p:cNvPr id="1256" name=""/>
                  <p:cNvSpPr/>
                  <p:nvPr/>
                </p:nvSpPr>
                <p:spPr>
                  <a:xfrm>
                    <a:off x="3427920" y="4420800"/>
                    <a:ext cx="72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3429720" y="4420800"/>
                    <a:ext cx="720" cy="252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3430800" y="4420800"/>
                    <a:ext cx="144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3427200" y="4420080"/>
                    <a:ext cx="1800" cy="43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0" name=""/>
                <p:cNvGrpSpPr/>
                <p:nvPr/>
              </p:nvGrpSpPr>
              <p:grpSpPr>
                <a:xfrm>
                  <a:off x="3441960" y="4418280"/>
                  <a:ext cx="3240" cy="3240"/>
                  <a:chOff x="3441960" y="4418280"/>
                  <a:chExt cx="3240" cy="3240"/>
                </a:xfrm>
              </p:grpSpPr>
              <p:sp>
                <p:nvSpPr>
                  <p:cNvPr id="1261" name=""/>
                  <p:cNvSpPr/>
                  <p:nvPr/>
                </p:nvSpPr>
                <p:spPr>
                  <a:xfrm>
                    <a:off x="3442680" y="4418280"/>
                    <a:ext cx="72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3442680" y="4418280"/>
                    <a:ext cx="2520" cy="32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3443400" y="4418280"/>
                    <a:ext cx="1440" cy="32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3441960" y="4419000"/>
                    <a:ext cx="720" cy="21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5" name=""/>
              <p:cNvGrpSpPr/>
              <p:nvPr/>
            </p:nvGrpSpPr>
            <p:grpSpPr>
              <a:xfrm>
                <a:off x="3549960" y="4062600"/>
                <a:ext cx="217800" cy="91800"/>
                <a:chOff x="3549960" y="4062600"/>
                <a:chExt cx="217800" cy="91800"/>
              </a:xfrm>
            </p:grpSpPr>
            <p:grpSp>
              <p:nvGrpSpPr>
                <p:cNvPr id="1266" name=""/>
                <p:cNvGrpSpPr/>
                <p:nvPr/>
              </p:nvGrpSpPr>
              <p:grpSpPr>
                <a:xfrm>
                  <a:off x="3549960" y="4062600"/>
                  <a:ext cx="217800" cy="91800"/>
                  <a:chOff x="3549960" y="4062600"/>
                  <a:chExt cx="217800" cy="91800"/>
                </a:xfrm>
              </p:grpSpPr>
              <p:sp>
                <p:nvSpPr>
                  <p:cNvPr id="1267" name=""/>
                  <p:cNvSpPr/>
                  <p:nvPr/>
                </p:nvSpPr>
                <p:spPr>
                  <a:xfrm>
                    <a:off x="3563640" y="4097160"/>
                    <a:ext cx="203040" cy="561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3549960" y="4062600"/>
                    <a:ext cx="2178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39">
                        <a:moveTo>
                          <a:pt x="251" y="39"/>
                        </a:moveTo>
                        <a:lnTo>
                          <a:pt x="15" y="39"/>
                        </a:lnTo>
                        <a:lnTo>
                          <a:pt x="0" y="0"/>
                        </a:lnTo>
                        <a:lnTo>
                          <a:pt x="213" y="0"/>
                        </a:lnTo>
                        <a:lnTo>
                          <a:pt x="251" y="39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3549960" y="4062600"/>
                    <a:ext cx="129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06">
                        <a:moveTo>
                          <a:pt x="15" y="39"/>
                        </a:moveTo>
                        <a:lnTo>
                          <a:pt x="15" y="106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lnTo>
                          <a:pt x="15" y="3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0" name=""/>
                <p:cNvSpPr/>
                <p:nvPr/>
              </p:nvSpPr>
              <p:spPr>
                <a:xfrm>
                  <a:off x="3567960" y="4149000"/>
                  <a:ext cx="194400" cy="144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1" name=""/>
                <p:cNvGrpSpPr/>
                <p:nvPr/>
              </p:nvGrpSpPr>
              <p:grpSpPr>
                <a:xfrm>
                  <a:off x="3567960" y="4115160"/>
                  <a:ext cx="194400" cy="23760"/>
                  <a:chOff x="3567960" y="4115160"/>
                  <a:chExt cx="194400" cy="23760"/>
                </a:xfrm>
              </p:grpSpPr>
              <p:sp>
                <p:nvSpPr>
                  <p:cNvPr id="1272" name=""/>
                  <p:cNvSpPr/>
                  <p:nvPr/>
                </p:nvSpPr>
                <p:spPr>
                  <a:xfrm>
                    <a:off x="3567960" y="4118400"/>
                    <a:ext cx="194400" cy="72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3567960" y="4120920"/>
                    <a:ext cx="194400" cy="252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3567960" y="4125240"/>
                    <a:ext cx="194400" cy="144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3567960" y="4128840"/>
                    <a:ext cx="194400" cy="252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3567960" y="4133160"/>
                    <a:ext cx="194400" cy="144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3567960" y="4136400"/>
                    <a:ext cx="194400" cy="252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3567960" y="4115160"/>
                    <a:ext cx="194400" cy="72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9" name=""/>
                <p:cNvSpPr/>
                <p:nvPr/>
              </p:nvSpPr>
              <p:spPr>
                <a:xfrm>
                  <a:off x="3582000" y="4142160"/>
                  <a:ext cx="10080" cy="3240"/>
                </a:xfrm>
                <a:prstGeom prst="rect">
                  <a:avLst/>
                </a:prstGeom>
                <a:solidFill>
                  <a:srgbClr val="ff800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3596760" y="4142160"/>
                  <a:ext cx="10080" cy="3240"/>
                </a:xfrm>
                <a:prstGeom prst="rect">
                  <a:avLst/>
                </a:prstGeom>
                <a:solidFill>
                  <a:srgbClr val="ff800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3611520" y="4142160"/>
                  <a:ext cx="9360" cy="3240"/>
                </a:xfrm>
                <a:prstGeom prst="rect">
                  <a:avLst/>
                </a:prstGeom>
                <a:solidFill>
                  <a:srgbClr val="00ff0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3629880" y="4142880"/>
                  <a:ext cx="2520" cy="2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3641040" y="4142880"/>
                  <a:ext cx="3240" cy="2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3567960" y="4100400"/>
                  <a:ext cx="24120" cy="756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561120" y="4093560"/>
                  <a:ext cx="204120" cy="56880"/>
                </a:xfrm>
                <a:custGeom>
                  <a:avLst/>
                  <a:gdLst/>
                  <a:ahLst/>
                  <a:rect l="l" t="t" r="r" b="b"/>
                  <a:pathLst>
                    <a:path w="235" h="66">
                      <a:moveTo>
                        <a:pt x="0" y="66"/>
                      </a:moveTo>
                      <a:lnTo>
                        <a:pt x="0" y="0"/>
                      </a:lnTo>
                      <a:lnTo>
                        <a:pt x="235" y="0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6" name=""/>
              <p:cNvSpPr/>
              <p:nvPr/>
            </p:nvSpPr>
            <p:spPr>
              <a:xfrm>
                <a:off x="3171600" y="4114800"/>
                <a:ext cx="2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H="1">
                <a:off x="3478320" y="4158720"/>
                <a:ext cx="168840" cy="1641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452040" y="4399560"/>
                <a:ext cx="19548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V="1">
                <a:off x="2994840" y="4320720"/>
                <a:ext cx="218520" cy="6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0" name=""/>
              <p:cNvGrpSpPr/>
              <p:nvPr/>
            </p:nvGrpSpPr>
            <p:grpSpPr>
              <a:xfrm>
                <a:off x="3794400" y="3870000"/>
                <a:ext cx="624960" cy="217080"/>
                <a:chOff x="3794400" y="3870000"/>
                <a:chExt cx="624960" cy="217080"/>
              </a:xfrm>
            </p:grpSpPr>
            <p:grpSp>
              <p:nvGrpSpPr>
                <p:cNvPr id="1291" name=""/>
                <p:cNvGrpSpPr/>
                <p:nvPr/>
              </p:nvGrpSpPr>
              <p:grpSpPr>
                <a:xfrm>
                  <a:off x="4127040" y="3870000"/>
                  <a:ext cx="195480" cy="156240"/>
                  <a:chOff x="4127040" y="3870000"/>
                  <a:chExt cx="195480" cy="156240"/>
                </a:xfrm>
              </p:grpSpPr>
              <p:grpSp>
                <p:nvGrpSpPr>
                  <p:cNvPr id="1292" name=""/>
                  <p:cNvGrpSpPr/>
                  <p:nvPr/>
                </p:nvGrpSpPr>
                <p:grpSpPr>
                  <a:xfrm>
                    <a:off x="4134600" y="3967560"/>
                    <a:ext cx="180000" cy="47880"/>
                    <a:chOff x="4134600" y="3967560"/>
                    <a:chExt cx="180000" cy="47880"/>
                  </a:xfrm>
                </p:grpSpPr>
                <p:sp>
                  <p:nvSpPr>
                    <p:cNvPr id="1293" name=""/>
                    <p:cNvSpPr/>
                    <p:nvPr/>
                  </p:nvSpPr>
                  <p:spPr>
                    <a:xfrm>
                      <a:off x="4134600" y="3967560"/>
                      <a:ext cx="180000" cy="47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4" name=""/>
                    <p:cNvSpPr/>
                    <p:nvPr/>
                  </p:nvSpPr>
                  <p:spPr>
                    <a:xfrm>
                      <a:off x="4233960" y="3975120"/>
                      <a:ext cx="62640" cy="21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5" name=""/>
                  <p:cNvGrpSpPr/>
                  <p:nvPr/>
                </p:nvGrpSpPr>
                <p:grpSpPr>
                  <a:xfrm>
                    <a:off x="4127040" y="3994920"/>
                    <a:ext cx="195480" cy="31320"/>
                    <a:chOff x="4127040" y="3994920"/>
                    <a:chExt cx="195480" cy="31320"/>
                  </a:xfrm>
                </p:grpSpPr>
                <p:sp>
                  <p:nvSpPr>
                    <p:cNvPr id="1296" name=""/>
                    <p:cNvSpPr/>
                    <p:nvPr/>
                  </p:nvSpPr>
                  <p:spPr>
                    <a:xfrm>
                      <a:off x="4127040" y="3994920"/>
                      <a:ext cx="195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" h="36">
                          <a:moveTo>
                            <a:pt x="28" y="0"/>
                          </a:moveTo>
                          <a:lnTo>
                            <a:pt x="198" y="0"/>
                          </a:lnTo>
                          <a:lnTo>
                            <a:pt x="223" y="31"/>
                          </a:lnTo>
                          <a:lnTo>
                            <a:pt x="224" y="33"/>
                          </a:lnTo>
                          <a:lnTo>
                            <a:pt x="223" y="34"/>
                          </a:lnTo>
                          <a:lnTo>
                            <a:pt x="221" y="36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3"/>
                          </a:lnTo>
                          <a:lnTo>
                            <a:pt x="2" y="31"/>
                          </a:lnTo>
                          <a:lnTo>
                            <a:pt x="2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7" name=""/>
                    <p:cNvSpPr/>
                    <p:nvPr/>
                  </p:nvSpPr>
                  <p:spPr>
                    <a:xfrm>
                      <a:off x="4138200" y="4001040"/>
                      <a:ext cx="1288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8" h="23">
                          <a:moveTo>
                            <a:pt x="20" y="0"/>
                          </a:moveTo>
                          <a:lnTo>
                            <a:pt x="141" y="0"/>
                          </a:lnTo>
                          <a:lnTo>
                            <a:pt x="148" y="23"/>
                          </a:lnTo>
                          <a:lnTo>
                            <a:pt x="0" y="23"/>
                          </a:lnTo>
                          <a:lnTo>
                            <a:pt x="2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8" name=""/>
                    <p:cNvSpPr/>
                    <p:nvPr/>
                  </p:nvSpPr>
                  <p:spPr>
                    <a:xfrm>
                      <a:off x="4272120" y="4001040"/>
                      <a:ext cx="392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3">
                          <a:moveTo>
                            <a:pt x="0" y="0"/>
                          </a:moveTo>
                          <a:lnTo>
                            <a:pt x="27" y="0"/>
                          </a:lnTo>
                          <a:lnTo>
                            <a:pt x="45" y="23"/>
                          </a:lnTo>
                          <a:lnTo>
                            <a:pt x="8" y="2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9" name=""/>
                  <p:cNvGrpSpPr/>
                  <p:nvPr/>
                </p:nvGrpSpPr>
                <p:grpSpPr>
                  <a:xfrm>
                    <a:off x="4159800" y="3870000"/>
                    <a:ext cx="129960" cy="95040"/>
                    <a:chOff x="4159800" y="3870000"/>
                    <a:chExt cx="129960" cy="95040"/>
                  </a:xfrm>
                </p:grpSpPr>
                <p:sp>
                  <p:nvSpPr>
                    <p:cNvPr id="1300" name=""/>
                    <p:cNvSpPr/>
                    <p:nvPr/>
                  </p:nvSpPr>
                  <p:spPr>
                    <a:xfrm>
                      <a:off x="4159800" y="3870000"/>
                      <a:ext cx="129960" cy="95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1" name=""/>
                    <p:cNvSpPr/>
                    <p:nvPr/>
                  </p:nvSpPr>
                  <p:spPr>
                    <a:xfrm>
                      <a:off x="4168440" y="3877560"/>
                      <a:ext cx="112680" cy="80280"/>
                    </a:xfrm>
                    <a:prstGeom prst="rect">
                      <a:avLst/>
                    </a:prstGeom>
                    <a:solidFill>
                      <a:srgbClr val="1050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2" name=""/>
                    <p:cNvSpPr/>
                    <p:nvPr/>
                  </p:nvSpPr>
                  <p:spPr>
                    <a:xfrm>
                      <a:off x="4264560" y="3877560"/>
                      <a:ext cx="16560" cy="80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3" name=""/>
                    <p:cNvSpPr/>
                    <p:nvPr/>
                  </p:nvSpPr>
                  <p:spPr>
                    <a:xfrm>
                      <a:off x="4268880" y="3882240"/>
                      <a:ext cx="7920" cy="4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4" name=""/>
                    <p:cNvSpPr/>
                    <p:nvPr/>
                  </p:nvSpPr>
                  <p:spPr>
                    <a:xfrm>
                      <a:off x="4268880" y="3916800"/>
                      <a:ext cx="612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5" name=""/>
                    <p:cNvSpPr/>
                    <p:nvPr/>
                  </p:nvSpPr>
                  <p:spPr>
                    <a:xfrm>
                      <a:off x="4268880" y="3932640"/>
                      <a:ext cx="612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6" name=""/>
                    <p:cNvSpPr/>
                    <p:nvPr/>
                  </p:nvSpPr>
                  <p:spPr>
                    <a:xfrm>
                      <a:off x="4268880" y="3945960"/>
                      <a:ext cx="612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07" name=""/>
                <p:cNvGrpSpPr/>
                <p:nvPr/>
              </p:nvGrpSpPr>
              <p:grpSpPr>
                <a:xfrm>
                  <a:off x="3876480" y="3870000"/>
                  <a:ext cx="196200" cy="156240"/>
                  <a:chOff x="3876480" y="3870000"/>
                  <a:chExt cx="196200" cy="156240"/>
                </a:xfrm>
              </p:grpSpPr>
              <p:grpSp>
                <p:nvGrpSpPr>
                  <p:cNvPr id="1308" name=""/>
                  <p:cNvGrpSpPr/>
                  <p:nvPr/>
                </p:nvGrpSpPr>
                <p:grpSpPr>
                  <a:xfrm>
                    <a:off x="3885120" y="3967560"/>
                    <a:ext cx="178920" cy="47880"/>
                    <a:chOff x="3885120" y="3967560"/>
                    <a:chExt cx="178920" cy="47880"/>
                  </a:xfrm>
                </p:grpSpPr>
                <p:sp>
                  <p:nvSpPr>
                    <p:cNvPr id="1309" name=""/>
                    <p:cNvSpPr/>
                    <p:nvPr/>
                  </p:nvSpPr>
                  <p:spPr>
                    <a:xfrm>
                      <a:off x="3885120" y="3967560"/>
                      <a:ext cx="178920" cy="47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0" name=""/>
                    <p:cNvSpPr/>
                    <p:nvPr/>
                  </p:nvSpPr>
                  <p:spPr>
                    <a:xfrm>
                      <a:off x="3984480" y="3975120"/>
                      <a:ext cx="61920" cy="21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1" name=""/>
                  <p:cNvGrpSpPr/>
                  <p:nvPr/>
                </p:nvGrpSpPr>
                <p:grpSpPr>
                  <a:xfrm>
                    <a:off x="3876480" y="3994920"/>
                    <a:ext cx="196200" cy="31320"/>
                    <a:chOff x="3876480" y="3994920"/>
                    <a:chExt cx="196200" cy="31320"/>
                  </a:xfrm>
                </p:grpSpPr>
                <p:sp>
                  <p:nvSpPr>
                    <p:cNvPr id="1312" name=""/>
                    <p:cNvSpPr/>
                    <p:nvPr/>
                  </p:nvSpPr>
                  <p:spPr>
                    <a:xfrm>
                      <a:off x="3876480" y="3994920"/>
                      <a:ext cx="1962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36">
                          <a:moveTo>
                            <a:pt x="29" y="0"/>
                          </a:moveTo>
                          <a:lnTo>
                            <a:pt x="198" y="0"/>
                          </a:lnTo>
                          <a:lnTo>
                            <a:pt x="223" y="31"/>
                          </a:lnTo>
                          <a:lnTo>
                            <a:pt x="225" y="33"/>
                          </a:lnTo>
                          <a:lnTo>
                            <a:pt x="223" y="34"/>
                          </a:lnTo>
                          <a:lnTo>
                            <a:pt x="221" y="36"/>
                          </a:lnTo>
                          <a:lnTo>
                            <a:pt x="4" y="36"/>
                          </a:lnTo>
                          <a:lnTo>
                            <a:pt x="2" y="34"/>
                          </a:lnTo>
                          <a:lnTo>
                            <a:pt x="0" y="33"/>
                          </a:lnTo>
                          <a:lnTo>
                            <a:pt x="2" y="31"/>
                          </a:lnTo>
                          <a:lnTo>
                            <a:pt x="29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3" name=""/>
                    <p:cNvSpPr/>
                    <p:nvPr/>
                  </p:nvSpPr>
                  <p:spPr>
                    <a:xfrm>
                      <a:off x="3888720" y="4001040"/>
                      <a:ext cx="12816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23">
                          <a:moveTo>
                            <a:pt x="20" y="0"/>
                          </a:moveTo>
                          <a:lnTo>
                            <a:pt x="140" y="0"/>
                          </a:lnTo>
                          <a:lnTo>
                            <a:pt x="147" y="23"/>
                          </a:lnTo>
                          <a:lnTo>
                            <a:pt x="0" y="23"/>
                          </a:lnTo>
                          <a:lnTo>
                            <a:pt x="2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4" name=""/>
                    <p:cNvSpPr/>
                    <p:nvPr/>
                  </p:nvSpPr>
                  <p:spPr>
                    <a:xfrm>
                      <a:off x="4021200" y="4001040"/>
                      <a:ext cx="388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3">
                          <a:moveTo>
                            <a:pt x="0" y="0"/>
                          </a:moveTo>
                          <a:lnTo>
                            <a:pt x="27" y="0"/>
                          </a:lnTo>
                          <a:lnTo>
                            <a:pt x="45" y="23"/>
                          </a:lnTo>
                          <a:lnTo>
                            <a:pt x="9" y="2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5" name=""/>
                  <p:cNvGrpSpPr/>
                  <p:nvPr/>
                </p:nvGrpSpPr>
                <p:grpSpPr>
                  <a:xfrm>
                    <a:off x="3909600" y="3870000"/>
                    <a:ext cx="129960" cy="95040"/>
                    <a:chOff x="3909600" y="3870000"/>
                    <a:chExt cx="129960" cy="95040"/>
                  </a:xfrm>
                </p:grpSpPr>
                <p:sp>
                  <p:nvSpPr>
                    <p:cNvPr id="1316" name=""/>
                    <p:cNvSpPr/>
                    <p:nvPr/>
                  </p:nvSpPr>
                  <p:spPr>
                    <a:xfrm>
                      <a:off x="3909600" y="3870000"/>
                      <a:ext cx="129960" cy="95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7" name=""/>
                    <p:cNvSpPr/>
                    <p:nvPr/>
                  </p:nvSpPr>
                  <p:spPr>
                    <a:xfrm>
                      <a:off x="3918240" y="3877560"/>
                      <a:ext cx="112320" cy="80280"/>
                    </a:xfrm>
                    <a:prstGeom prst="rect">
                      <a:avLst/>
                    </a:prstGeom>
                    <a:solidFill>
                      <a:srgbClr val="1050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8" name=""/>
                    <p:cNvSpPr/>
                    <p:nvPr/>
                  </p:nvSpPr>
                  <p:spPr>
                    <a:xfrm>
                      <a:off x="4015080" y="3877560"/>
                      <a:ext cx="15480" cy="80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9" name=""/>
                    <p:cNvSpPr/>
                    <p:nvPr/>
                  </p:nvSpPr>
                  <p:spPr>
                    <a:xfrm>
                      <a:off x="4019400" y="3882240"/>
                      <a:ext cx="6840" cy="4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0" name=""/>
                    <p:cNvSpPr/>
                    <p:nvPr/>
                  </p:nvSpPr>
                  <p:spPr>
                    <a:xfrm>
                      <a:off x="4019400" y="3916800"/>
                      <a:ext cx="504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1" name=""/>
                    <p:cNvSpPr/>
                    <p:nvPr/>
                  </p:nvSpPr>
                  <p:spPr>
                    <a:xfrm>
                      <a:off x="4019400" y="3932640"/>
                      <a:ext cx="504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2" name=""/>
                    <p:cNvSpPr/>
                    <p:nvPr/>
                  </p:nvSpPr>
                  <p:spPr>
                    <a:xfrm>
                      <a:off x="4019400" y="3945960"/>
                      <a:ext cx="504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323" name=""/>
                <p:cNvSpPr/>
                <p:nvPr/>
              </p:nvSpPr>
              <p:spPr>
                <a:xfrm>
                  <a:off x="3970440" y="4026240"/>
                  <a:ext cx="1080" cy="60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4235040" y="4032360"/>
                  <a:ext cx="720" cy="547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794400" y="4079520"/>
                  <a:ext cx="624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3647520" y="4351320"/>
                <a:ext cx="217440" cy="93240"/>
                <a:chOff x="3647520" y="4351320"/>
                <a:chExt cx="217440" cy="93240"/>
              </a:xfrm>
            </p:grpSpPr>
            <p:grpSp>
              <p:nvGrpSpPr>
                <p:cNvPr id="1327" name=""/>
                <p:cNvGrpSpPr/>
                <p:nvPr/>
              </p:nvGrpSpPr>
              <p:grpSpPr>
                <a:xfrm>
                  <a:off x="3647520" y="4351320"/>
                  <a:ext cx="217440" cy="93240"/>
                  <a:chOff x="3647520" y="4351320"/>
                  <a:chExt cx="217440" cy="9324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3661200" y="4386240"/>
                    <a:ext cx="202680" cy="5724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3647520" y="4351320"/>
                    <a:ext cx="21744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39">
                        <a:moveTo>
                          <a:pt x="251" y="39"/>
                        </a:moveTo>
                        <a:lnTo>
                          <a:pt x="15" y="39"/>
                        </a:lnTo>
                        <a:lnTo>
                          <a:pt x="0" y="0"/>
                        </a:lnTo>
                        <a:lnTo>
                          <a:pt x="213" y="0"/>
                        </a:lnTo>
                        <a:lnTo>
                          <a:pt x="251" y="39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3647520" y="4351320"/>
                    <a:ext cx="1296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06">
                        <a:moveTo>
                          <a:pt x="15" y="39"/>
                        </a:moveTo>
                        <a:lnTo>
                          <a:pt x="15" y="106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lnTo>
                          <a:pt x="15" y="3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1" name=""/>
                <p:cNvSpPr/>
                <p:nvPr/>
              </p:nvSpPr>
              <p:spPr>
                <a:xfrm>
                  <a:off x="3665520" y="4439160"/>
                  <a:ext cx="194040" cy="144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2" name=""/>
                <p:cNvGrpSpPr/>
                <p:nvPr/>
              </p:nvGrpSpPr>
              <p:grpSpPr>
                <a:xfrm>
                  <a:off x="3665520" y="4404960"/>
                  <a:ext cx="194040" cy="24120"/>
                  <a:chOff x="3665520" y="4404960"/>
                  <a:chExt cx="194040" cy="24120"/>
                </a:xfrm>
              </p:grpSpPr>
              <p:sp>
                <p:nvSpPr>
                  <p:cNvPr id="1333" name=""/>
                  <p:cNvSpPr/>
                  <p:nvPr/>
                </p:nvSpPr>
                <p:spPr>
                  <a:xfrm>
                    <a:off x="3665520" y="4408200"/>
                    <a:ext cx="194040" cy="72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3665520" y="4411080"/>
                    <a:ext cx="194040" cy="252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3665520" y="4415400"/>
                    <a:ext cx="194040" cy="144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3665520" y="4419000"/>
                    <a:ext cx="194040" cy="252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3665520" y="4423320"/>
                    <a:ext cx="194040" cy="144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3665520" y="4426560"/>
                    <a:ext cx="194040" cy="252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3665520" y="4404960"/>
                    <a:ext cx="194040" cy="72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0" name=""/>
                <p:cNvSpPr/>
                <p:nvPr/>
              </p:nvSpPr>
              <p:spPr>
                <a:xfrm>
                  <a:off x="3679560" y="4432320"/>
                  <a:ext cx="10080" cy="3240"/>
                </a:xfrm>
                <a:prstGeom prst="rect">
                  <a:avLst/>
                </a:prstGeom>
                <a:solidFill>
                  <a:srgbClr val="ff800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3693960" y="4432320"/>
                  <a:ext cx="10080" cy="3240"/>
                </a:xfrm>
                <a:prstGeom prst="rect">
                  <a:avLst/>
                </a:prstGeom>
                <a:solidFill>
                  <a:srgbClr val="ff800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3708720" y="4432320"/>
                  <a:ext cx="9360" cy="3240"/>
                </a:xfrm>
                <a:prstGeom prst="rect">
                  <a:avLst/>
                </a:prstGeom>
                <a:solidFill>
                  <a:srgbClr val="00ff0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3727080" y="4433040"/>
                  <a:ext cx="2520" cy="2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3738240" y="4433040"/>
                  <a:ext cx="3240" cy="2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3665520" y="4389840"/>
                  <a:ext cx="24120" cy="792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3658680" y="4383000"/>
                  <a:ext cx="203760" cy="57960"/>
                </a:xfrm>
                <a:custGeom>
                  <a:avLst/>
                  <a:gdLst/>
                  <a:ahLst/>
                  <a:rect l="l" t="t" r="r" b="b"/>
                  <a:pathLst>
                    <a:path w="235" h="66">
                      <a:moveTo>
                        <a:pt x="0" y="66"/>
                      </a:moveTo>
                      <a:lnTo>
                        <a:pt x="0" y="0"/>
                      </a:lnTo>
                      <a:lnTo>
                        <a:pt x="235" y="0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7" name=""/>
              <p:cNvGrpSpPr/>
              <p:nvPr/>
            </p:nvGrpSpPr>
            <p:grpSpPr>
              <a:xfrm>
                <a:off x="3875400" y="4206960"/>
                <a:ext cx="602640" cy="218520"/>
                <a:chOff x="3875400" y="4206960"/>
                <a:chExt cx="602640" cy="218520"/>
              </a:xfrm>
            </p:grpSpPr>
            <p:grpSp>
              <p:nvGrpSpPr>
                <p:cNvPr id="1348" name=""/>
                <p:cNvGrpSpPr/>
                <p:nvPr/>
              </p:nvGrpSpPr>
              <p:grpSpPr>
                <a:xfrm>
                  <a:off x="4205160" y="4206960"/>
                  <a:ext cx="193320" cy="157320"/>
                  <a:chOff x="4205160" y="4206960"/>
                  <a:chExt cx="193320" cy="157320"/>
                </a:xfrm>
              </p:grpSpPr>
              <p:grpSp>
                <p:nvGrpSpPr>
                  <p:cNvPr id="1349" name=""/>
                  <p:cNvGrpSpPr/>
                  <p:nvPr/>
                </p:nvGrpSpPr>
                <p:grpSpPr>
                  <a:xfrm>
                    <a:off x="4212720" y="4305240"/>
                    <a:ext cx="177840" cy="48240"/>
                    <a:chOff x="4212720" y="4305240"/>
                    <a:chExt cx="177840" cy="48240"/>
                  </a:xfrm>
                </p:grpSpPr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4212720" y="4305240"/>
                      <a:ext cx="177840" cy="48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1" name=""/>
                    <p:cNvSpPr/>
                    <p:nvPr/>
                  </p:nvSpPr>
                  <p:spPr>
                    <a:xfrm>
                      <a:off x="4311000" y="4313160"/>
                      <a:ext cx="61920" cy="21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2" name=""/>
                  <p:cNvGrpSpPr/>
                  <p:nvPr/>
                </p:nvGrpSpPr>
                <p:grpSpPr>
                  <a:xfrm>
                    <a:off x="4205160" y="4332600"/>
                    <a:ext cx="193320" cy="31680"/>
                    <a:chOff x="4205160" y="4332600"/>
                    <a:chExt cx="193320" cy="31680"/>
                  </a:xfrm>
                </p:grpSpPr>
                <p:sp>
                  <p:nvSpPr>
                    <p:cNvPr id="1353" name=""/>
                    <p:cNvSpPr/>
                    <p:nvPr/>
                  </p:nvSpPr>
                  <p:spPr>
                    <a:xfrm>
                      <a:off x="4205160" y="4332600"/>
                      <a:ext cx="1933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" h="36">
                          <a:moveTo>
                            <a:pt x="28" y="0"/>
                          </a:moveTo>
                          <a:lnTo>
                            <a:pt x="198" y="0"/>
                          </a:lnTo>
                          <a:lnTo>
                            <a:pt x="223" y="31"/>
                          </a:lnTo>
                          <a:lnTo>
                            <a:pt x="224" y="33"/>
                          </a:lnTo>
                          <a:lnTo>
                            <a:pt x="223" y="34"/>
                          </a:lnTo>
                          <a:lnTo>
                            <a:pt x="221" y="36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3"/>
                          </a:lnTo>
                          <a:lnTo>
                            <a:pt x="2" y="31"/>
                          </a:lnTo>
                          <a:lnTo>
                            <a:pt x="2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4" name=""/>
                    <p:cNvSpPr/>
                    <p:nvPr/>
                  </p:nvSpPr>
                  <p:spPr>
                    <a:xfrm>
                      <a:off x="4216320" y="4338720"/>
                      <a:ext cx="12780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8" h="23">
                          <a:moveTo>
                            <a:pt x="20" y="0"/>
                          </a:moveTo>
                          <a:lnTo>
                            <a:pt x="141" y="0"/>
                          </a:lnTo>
                          <a:lnTo>
                            <a:pt x="148" y="23"/>
                          </a:lnTo>
                          <a:lnTo>
                            <a:pt x="0" y="23"/>
                          </a:lnTo>
                          <a:lnTo>
                            <a:pt x="2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5" name=""/>
                    <p:cNvSpPr/>
                    <p:nvPr/>
                  </p:nvSpPr>
                  <p:spPr>
                    <a:xfrm>
                      <a:off x="4348440" y="4338720"/>
                      <a:ext cx="3852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3">
                          <a:moveTo>
                            <a:pt x="0" y="0"/>
                          </a:moveTo>
                          <a:lnTo>
                            <a:pt x="27" y="0"/>
                          </a:lnTo>
                          <a:lnTo>
                            <a:pt x="45" y="23"/>
                          </a:lnTo>
                          <a:lnTo>
                            <a:pt x="8" y="2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6" name=""/>
                  <p:cNvGrpSpPr/>
                  <p:nvPr/>
                </p:nvGrpSpPr>
                <p:grpSpPr>
                  <a:xfrm>
                    <a:off x="4237560" y="4206960"/>
                    <a:ext cx="128520" cy="95760"/>
                    <a:chOff x="4237560" y="4206960"/>
                    <a:chExt cx="128520" cy="95760"/>
                  </a:xfrm>
                </p:grpSpPr>
                <p:sp>
                  <p:nvSpPr>
                    <p:cNvPr id="1357" name=""/>
                    <p:cNvSpPr/>
                    <p:nvPr/>
                  </p:nvSpPr>
                  <p:spPr>
                    <a:xfrm>
                      <a:off x="4237560" y="4206960"/>
                      <a:ext cx="128520" cy="95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8" name=""/>
                    <p:cNvSpPr/>
                    <p:nvPr/>
                  </p:nvSpPr>
                  <p:spPr>
                    <a:xfrm>
                      <a:off x="4245840" y="4214880"/>
                      <a:ext cx="111240" cy="80640"/>
                    </a:xfrm>
                    <a:prstGeom prst="rect">
                      <a:avLst/>
                    </a:prstGeom>
                    <a:solidFill>
                      <a:srgbClr val="1050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9" name=""/>
                    <p:cNvSpPr/>
                    <p:nvPr/>
                  </p:nvSpPr>
                  <p:spPr>
                    <a:xfrm>
                      <a:off x="4340880" y="4214880"/>
                      <a:ext cx="16200" cy="80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0" name=""/>
                    <p:cNvSpPr/>
                    <p:nvPr/>
                  </p:nvSpPr>
                  <p:spPr>
                    <a:xfrm>
                      <a:off x="4345200" y="4219200"/>
                      <a:ext cx="7560" cy="4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1" name=""/>
                    <p:cNvSpPr/>
                    <p:nvPr/>
                  </p:nvSpPr>
                  <p:spPr>
                    <a:xfrm>
                      <a:off x="4345200" y="4254120"/>
                      <a:ext cx="576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2" name=""/>
                    <p:cNvSpPr/>
                    <p:nvPr/>
                  </p:nvSpPr>
                  <p:spPr>
                    <a:xfrm>
                      <a:off x="4345200" y="4270320"/>
                      <a:ext cx="576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3" name=""/>
                    <p:cNvSpPr/>
                    <p:nvPr/>
                  </p:nvSpPr>
                  <p:spPr>
                    <a:xfrm>
                      <a:off x="4345200" y="4283280"/>
                      <a:ext cx="576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64" name=""/>
                <p:cNvGrpSpPr/>
                <p:nvPr/>
              </p:nvGrpSpPr>
              <p:grpSpPr>
                <a:xfrm>
                  <a:off x="3954600" y="4206960"/>
                  <a:ext cx="194400" cy="157320"/>
                  <a:chOff x="3954600" y="4206960"/>
                  <a:chExt cx="194400" cy="157320"/>
                </a:xfrm>
              </p:grpSpPr>
              <p:grpSp>
                <p:nvGrpSpPr>
                  <p:cNvPr id="1365" name=""/>
                  <p:cNvGrpSpPr/>
                  <p:nvPr/>
                </p:nvGrpSpPr>
                <p:grpSpPr>
                  <a:xfrm>
                    <a:off x="3962880" y="4305240"/>
                    <a:ext cx="177120" cy="48240"/>
                    <a:chOff x="3962880" y="4305240"/>
                    <a:chExt cx="177120" cy="48240"/>
                  </a:xfrm>
                </p:grpSpPr>
                <p:sp>
                  <p:nvSpPr>
                    <p:cNvPr id="1366" name=""/>
                    <p:cNvSpPr/>
                    <p:nvPr/>
                  </p:nvSpPr>
                  <p:spPr>
                    <a:xfrm>
                      <a:off x="3962880" y="4305240"/>
                      <a:ext cx="177120" cy="48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7" name=""/>
                    <p:cNvSpPr/>
                    <p:nvPr/>
                  </p:nvSpPr>
                  <p:spPr>
                    <a:xfrm>
                      <a:off x="4061520" y="4313160"/>
                      <a:ext cx="61200" cy="21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68" name=""/>
                  <p:cNvGrpSpPr/>
                  <p:nvPr/>
                </p:nvGrpSpPr>
                <p:grpSpPr>
                  <a:xfrm>
                    <a:off x="3954600" y="4332600"/>
                    <a:ext cx="194400" cy="31680"/>
                    <a:chOff x="3954600" y="4332600"/>
                    <a:chExt cx="194400" cy="31680"/>
                  </a:xfrm>
                </p:grpSpPr>
                <p:sp>
                  <p:nvSpPr>
                    <p:cNvPr id="1369" name=""/>
                    <p:cNvSpPr/>
                    <p:nvPr/>
                  </p:nvSpPr>
                  <p:spPr>
                    <a:xfrm>
                      <a:off x="3954600" y="4332600"/>
                      <a:ext cx="1944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36">
                          <a:moveTo>
                            <a:pt x="29" y="0"/>
                          </a:moveTo>
                          <a:lnTo>
                            <a:pt x="198" y="0"/>
                          </a:lnTo>
                          <a:lnTo>
                            <a:pt x="223" y="31"/>
                          </a:lnTo>
                          <a:lnTo>
                            <a:pt x="225" y="33"/>
                          </a:lnTo>
                          <a:lnTo>
                            <a:pt x="223" y="34"/>
                          </a:lnTo>
                          <a:lnTo>
                            <a:pt x="221" y="36"/>
                          </a:lnTo>
                          <a:lnTo>
                            <a:pt x="4" y="36"/>
                          </a:lnTo>
                          <a:lnTo>
                            <a:pt x="2" y="34"/>
                          </a:lnTo>
                          <a:lnTo>
                            <a:pt x="0" y="33"/>
                          </a:lnTo>
                          <a:lnTo>
                            <a:pt x="2" y="31"/>
                          </a:lnTo>
                          <a:lnTo>
                            <a:pt x="29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0" name=""/>
                    <p:cNvSpPr/>
                    <p:nvPr/>
                  </p:nvSpPr>
                  <p:spPr>
                    <a:xfrm>
                      <a:off x="3966480" y="4338720"/>
                      <a:ext cx="12708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23">
                          <a:moveTo>
                            <a:pt x="20" y="0"/>
                          </a:moveTo>
                          <a:lnTo>
                            <a:pt x="140" y="0"/>
                          </a:lnTo>
                          <a:lnTo>
                            <a:pt x="147" y="23"/>
                          </a:lnTo>
                          <a:lnTo>
                            <a:pt x="0" y="23"/>
                          </a:lnTo>
                          <a:lnTo>
                            <a:pt x="2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1" name=""/>
                    <p:cNvSpPr/>
                    <p:nvPr/>
                  </p:nvSpPr>
                  <p:spPr>
                    <a:xfrm>
                      <a:off x="4097880" y="4338720"/>
                      <a:ext cx="3852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3">
                          <a:moveTo>
                            <a:pt x="0" y="0"/>
                          </a:moveTo>
                          <a:lnTo>
                            <a:pt x="27" y="0"/>
                          </a:lnTo>
                          <a:lnTo>
                            <a:pt x="45" y="23"/>
                          </a:lnTo>
                          <a:lnTo>
                            <a:pt x="9" y="2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2" name=""/>
                  <p:cNvGrpSpPr/>
                  <p:nvPr/>
                </p:nvGrpSpPr>
                <p:grpSpPr>
                  <a:xfrm>
                    <a:off x="3987360" y="4206960"/>
                    <a:ext cx="128520" cy="95760"/>
                    <a:chOff x="3987360" y="4206960"/>
                    <a:chExt cx="128520" cy="95760"/>
                  </a:xfrm>
                </p:grpSpPr>
                <p:sp>
                  <p:nvSpPr>
                    <p:cNvPr id="1373" name=""/>
                    <p:cNvSpPr/>
                    <p:nvPr/>
                  </p:nvSpPr>
                  <p:spPr>
                    <a:xfrm>
                      <a:off x="3987360" y="4206960"/>
                      <a:ext cx="128520" cy="95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4" name=""/>
                    <p:cNvSpPr/>
                    <p:nvPr/>
                  </p:nvSpPr>
                  <p:spPr>
                    <a:xfrm>
                      <a:off x="3995640" y="4214880"/>
                      <a:ext cx="111240" cy="80640"/>
                    </a:xfrm>
                    <a:prstGeom prst="rect">
                      <a:avLst/>
                    </a:prstGeom>
                    <a:solidFill>
                      <a:srgbClr val="1050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5" name=""/>
                    <p:cNvSpPr/>
                    <p:nvPr/>
                  </p:nvSpPr>
                  <p:spPr>
                    <a:xfrm>
                      <a:off x="4091400" y="4214880"/>
                      <a:ext cx="15120" cy="80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6" name=""/>
                    <p:cNvSpPr/>
                    <p:nvPr/>
                  </p:nvSpPr>
                  <p:spPr>
                    <a:xfrm>
                      <a:off x="4095720" y="4219200"/>
                      <a:ext cx="6840" cy="4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7" name=""/>
                    <p:cNvSpPr/>
                    <p:nvPr/>
                  </p:nvSpPr>
                  <p:spPr>
                    <a:xfrm>
                      <a:off x="4095720" y="4254120"/>
                      <a:ext cx="504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8" name=""/>
                    <p:cNvSpPr/>
                    <p:nvPr/>
                  </p:nvSpPr>
                  <p:spPr>
                    <a:xfrm>
                      <a:off x="4095720" y="4270320"/>
                      <a:ext cx="504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9" name=""/>
                    <p:cNvSpPr/>
                    <p:nvPr/>
                  </p:nvSpPr>
                  <p:spPr>
                    <a:xfrm>
                      <a:off x="4095720" y="4283280"/>
                      <a:ext cx="504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380" name=""/>
                <p:cNvSpPr/>
                <p:nvPr/>
              </p:nvSpPr>
              <p:spPr>
                <a:xfrm>
                  <a:off x="4048200" y="4364280"/>
                  <a:ext cx="1080" cy="612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4312080" y="4370400"/>
                  <a:ext cx="1080" cy="547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875400" y="4421520"/>
                  <a:ext cx="60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3002040" y="3908160"/>
                <a:ext cx="498600" cy="288360"/>
                <a:chOff x="3002040" y="3908160"/>
                <a:chExt cx="498600" cy="288360"/>
              </a:xfrm>
            </p:grpSpPr>
            <p:grpSp>
              <p:nvGrpSpPr>
                <p:cNvPr id="1384" name=""/>
                <p:cNvGrpSpPr/>
                <p:nvPr/>
              </p:nvGrpSpPr>
              <p:grpSpPr>
                <a:xfrm>
                  <a:off x="3002040" y="3908160"/>
                  <a:ext cx="498600" cy="154440"/>
                  <a:chOff x="3002040" y="3908160"/>
                  <a:chExt cx="498600" cy="154440"/>
                </a:xfrm>
              </p:grpSpPr>
              <p:sp>
                <p:nvSpPr>
                  <p:cNvPr id="1385" name=""/>
                  <p:cNvSpPr/>
                  <p:nvPr/>
                </p:nvSpPr>
                <p:spPr>
                  <a:xfrm>
                    <a:off x="3158280" y="3912840"/>
                    <a:ext cx="117720" cy="4824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3259440" y="3908160"/>
                    <a:ext cx="95400" cy="3852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3349440" y="3951000"/>
                    <a:ext cx="151200" cy="6372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3057840" y="3980160"/>
                    <a:ext cx="173520" cy="7272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3304080" y="3989880"/>
                    <a:ext cx="129240" cy="5364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3011760" y="3994560"/>
                    <a:ext cx="95760" cy="3816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3002040" y="3961080"/>
                    <a:ext cx="95400" cy="3816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3047040" y="3922200"/>
                    <a:ext cx="151200" cy="6300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3180960" y="3998880"/>
                    <a:ext cx="150840" cy="6372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3371760" y="3926520"/>
                    <a:ext cx="118440" cy="4932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3336840" y="3908160"/>
                    <a:ext cx="107280" cy="4356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3040920" y="3918600"/>
                    <a:ext cx="4341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236">
                        <a:moveTo>
                          <a:pt x="216" y="23"/>
                        </a:moveTo>
                        <a:lnTo>
                          <a:pt x="244" y="6"/>
                        </a:lnTo>
                        <a:lnTo>
                          <a:pt x="375" y="7"/>
                        </a:lnTo>
                        <a:lnTo>
                          <a:pt x="467" y="0"/>
                        </a:lnTo>
                        <a:lnTo>
                          <a:pt x="584" y="28"/>
                        </a:lnTo>
                        <a:lnTo>
                          <a:pt x="643" y="20"/>
                        </a:lnTo>
                        <a:lnTo>
                          <a:pt x="673" y="23"/>
                        </a:lnTo>
                        <a:lnTo>
                          <a:pt x="681" y="93"/>
                        </a:lnTo>
                        <a:lnTo>
                          <a:pt x="699" y="105"/>
                        </a:lnTo>
                        <a:lnTo>
                          <a:pt x="645" y="158"/>
                        </a:lnTo>
                        <a:lnTo>
                          <a:pt x="585" y="121"/>
                        </a:lnTo>
                        <a:lnTo>
                          <a:pt x="570" y="140"/>
                        </a:lnTo>
                        <a:lnTo>
                          <a:pt x="488" y="214"/>
                        </a:lnTo>
                        <a:lnTo>
                          <a:pt x="210" y="235"/>
                        </a:lnTo>
                        <a:lnTo>
                          <a:pt x="67" y="220"/>
                        </a:lnTo>
                        <a:lnTo>
                          <a:pt x="23" y="174"/>
                        </a:lnTo>
                        <a:lnTo>
                          <a:pt x="23" y="126"/>
                        </a:lnTo>
                        <a:lnTo>
                          <a:pt x="0" y="87"/>
                        </a:lnTo>
                        <a:lnTo>
                          <a:pt x="216" y="23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7" name=""/>
                <p:cNvSpPr/>
                <p:nvPr/>
              </p:nvSpPr>
              <p:spPr>
                <a:xfrm>
                  <a:off x="3022560" y="3921120"/>
                  <a:ext cx="457560" cy="27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ff0033"/>
                      </a:solidFill>
                      <a:latin typeface="Arial"/>
                      <a:ea typeface="華康楷書體W5"/>
                    </a:rPr>
                    <a:t>Interne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8" name=""/>
              <p:cNvGrpSpPr/>
              <p:nvPr/>
            </p:nvGrpSpPr>
            <p:grpSpPr>
              <a:xfrm>
                <a:off x="2865600" y="4482720"/>
                <a:ext cx="192960" cy="301680"/>
                <a:chOff x="2865600" y="4482720"/>
                <a:chExt cx="192960" cy="301680"/>
              </a:xfrm>
            </p:grpSpPr>
            <p:grpSp>
              <p:nvGrpSpPr>
                <p:cNvPr id="1399" name=""/>
                <p:cNvGrpSpPr/>
                <p:nvPr/>
              </p:nvGrpSpPr>
              <p:grpSpPr>
                <a:xfrm>
                  <a:off x="2865600" y="4713840"/>
                  <a:ext cx="192960" cy="70560"/>
                  <a:chOff x="2865600" y="4713840"/>
                  <a:chExt cx="192960" cy="70560"/>
                </a:xfrm>
              </p:grpSpPr>
              <p:sp>
                <p:nvSpPr>
                  <p:cNvPr id="1400" name=""/>
                  <p:cNvSpPr/>
                  <p:nvPr/>
                </p:nvSpPr>
                <p:spPr>
                  <a:xfrm>
                    <a:off x="2865600" y="4713840"/>
                    <a:ext cx="16560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81">
                        <a:moveTo>
                          <a:pt x="20" y="42"/>
                        </a:moveTo>
                        <a:lnTo>
                          <a:pt x="17" y="47"/>
                        </a:lnTo>
                        <a:lnTo>
                          <a:pt x="7" y="53"/>
                        </a:lnTo>
                        <a:lnTo>
                          <a:pt x="2" y="56"/>
                        </a:lnTo>
                        <a:lnTo>
                          <a:pt x="0" y="59"/>
                        </a:lnTo>
                        <a:lnTo>
                          <a:pt x="0" y="62"/>
                        </a:lnTo>
                        <a:lnTo>
                          <a:pt x="2" y="63"/>
                        </a:lnTo>
                        <a:lnTo>
                          <a:pt x="5" y="66"/>
                        </a:lnTo>
                        <a:lnTo>
                          <a:pt x="12" y="68"/>
                        </a:lnTo>
                        <a:lnTo>
                          <a:pt x="19" y="68"/>
                        </a:lnTo>
                        <a:lnTo>
                          <a:pt x="121" y="80"/>
                        </a:lnTo>
                        <a:lnTo>
                          <a:pt x="131" y="81"/>
                        </a:lnTo>
                        <a:lnTo>
                          <a:pt x="139" y="81"/>
                        </a:lnTo>
                        <a:lnTo>
                          <a:pt x="145" y="80"/>
                        </a:lnTo>
                        <a:lnTo>
                          <a:pt x="150" y="80"/>
                        </a:lnTo>
                        <a:lnTo>
                          <a:pt x="153" y="77"/>
                        </a:lnTo>
                        <a:lnTo>
                          <a:pt x="156" y="75"/>
                        </a:lnTo>
                        <a:lnTo>
                          <a:pt x="158" y="74"/>
                        </a:lnTo>
                        <a:lnTo>
                          <a:pt x="191" y="0"/>
                        </a:lnTo>
                        <a:lnTo>
                          <a:pt x="20" y="42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2980800" y="4713840"/>
                    <a:ext cx="7776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77">
                        <a:moveTo>
                          <a:pt x="0" y="50"/>
                        </a:moveTo>
                        <a:lnTo>
                          <a:pt x="1" y="56"/>
                        </a:lnTo>
                        <a:lnTo>
                          <a:pt x="1" y="59"/>
                        </a:lnTo>
                        <a:lnTo>
                          <a:pt x="3" y="62"/>
                        </a:lnTo>
                        <a:lnTo>
                          <a:pt x="3" y="65"/>
                        </a:lnTo>
                        <a:lnTo>
                          <a:pt x="6" y="69"/>
                        </a:lnTo>
                        <a:lnTo>
                          <a:pt x="10" y="71"/>
                        </a:lnTo>
                        <a:lnTo>
                          <a:pt x="12" y="74"/>
                        </a:lnTo>
                        <a:lnTo>
                          <a:pt x="15" y="75"/>
                        </a:lnTo>
                        <a:lnTo>
                          <a:pt x="18" y="77"/>
                        </a:lnTo>
                        <a:lnTo>
                          <a:pt x="23" y="77"/>
                        </a:lnTo>
                        <a:lnTo>
                          <a:pt x="27" y="72"/>
                        </a:lnTo>
                        <a:lnTo>
                          <a:pt x="90" y="11"/>
                        </a:lnTo>
                        <a:lnTo>
                          <a:pt x="90" y="9"/>
                        </a:lnTo>
                        <a:lnTo>
                          <a:pt x="90" y="8"/>
                        </a:lnTo>
                        <a:lnTo>
                          <a:pt x="90" y="8"/>
                        </a:lnTo>
                        <a:lnTo>
                          <a:pt x="89" y="6"/>
                        </a:lnTo>
                        <a:lnTo>
                          <a:pt x="87" y="6"/>
                        </a:lnTo>
                        <a:lnTo>
                          <a:pt x="85" y="6"/>
                        </a:lnTo>
                        <a:lnTo>
                          <a:pt x="62" y="0"/>
                        </a:lnTo>
                        <a:lnTo>
                          <a:pt x="0" y="5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2" name=""/>
                <p:cNvSpPr/>
                <p:nvPr/>
              </p:nvSpPr>
              <p:spPr>
                <a:xfrm>
                  <a:off x="2882880" y="4715640"/>
                  <a:ext cx="149760" cy="44280"/>
                </a:xfrm>
                <a:custGeom>
                  <a:avLst/>
                  <a:gdLst/>
                  <a:ahLst/>
                  <a:rect l="l" t="t" r="r" b="b"/>
                  <a:pathLst>
                    <a:path w="173" h="51">
                      <a:moveTo>
                        <a:pt x="173" y="0"/>
                      </a:moveTo>
                      <a:lnTo>
                        <a:pt x="116" y="46"/>
                      </a:lnTo>
                      <a:lnTo>
                        <a:pt x="114" y="48"/>
                      </a:lnTo>
                      <a:lnTo>
                        <a:pt x="111" y="49"/>
                      </a:lnTo>
                      <a:lnTo>
                        <a:pt x="108" y="51"/>
                      </a:lnTo>
                      <a:lnTo>
                        <a:pt x="101" y="49"/>
                      </a:lnTo>
                      <a:lnTo>
                        <a:pt x="0" y="40"/>
                      </a:lnTo>
                      <a:lnTo>
                        <a:pt x="2" y="33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324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3" name=""/>
                <p:cNvGrpSpPr/>
                <p:nvPr/>
              </p:nvGrpSpPr>
              <p:grpSpPr>
                <a:xfrm>
                  <a:off x="2881800" y="4482720"/>
                  <a:ext cx="150480" cy="275760"/>
                  <a:chOff x="2881800" y="4482720"/>
                  <a:chExt cx="150480" cy="275760"/>
                </a:xfrm>
              </p:grpSpPr>
              <p:sp>
                <p:nvSpPr>
                  <p:cNvPr id="1404" name=""/>
                  <p:cNvSpPr/>
                  <p:nvPr/>
                </p:nvSpPr>
                <p:spPr>
                  <a:xfrm>
                    <a:off x="2882520" y="4485240"/>
                    <a:ext cx="149760" cy="27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313">
                        <a:moveTo>
                          <a:pt x="173" y="0"/>
                        </a:moveTo>
                        <a:lnTo>
                          <a:pt x="173" y="262"/>
                        </a:lnTo>
                        <a:lnTo>
                          <a:pt x="114" y="309"/>
                        </a:lnTo>
                        <a:lnTo>
                          <a:pt x="113" y="310"/>
                        </a:lnTo>
                        <a:lnTo>
                          <a:pt x="111" y="312"/>
                        </a:lnTo>
                        <a:lnTo>
                          <a:pt x="108" y="313"/>
                        </a:lnTo>
                        <a:lnTo>
                          <a:pt x="101" y="312"/>
                        </a:lnTo>
                        <a:lnTo>
                          <a:pt x="5" y="303"/>
                        </a:lnTo>
                        <a:lnTo>
                          <a:pt x="2" y="303"/>
                        </a:lnTo>
                        <a:lnTo>
                          <a:pt x="0" y="301"/>
                        </a:lnTo>
                        <a:lnTo>
                          <a:pt x="0" y="298"/>
                        </a:lnTo>
                        <a:lnTo>
                          <a:pt x="0" y="295"/>
                        </a:lnTo>
                        <a:lnTo>
                          <a:pt x="0" y="10"/>
                        </a:lnTo>
                        <a:lnTo>
                          <a:pt x="104" y="0"/>
                        </a:lnTo>
                        <a:lnTo>
                          <a:pt x="17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e0e0e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2881800" y="4482720"/>
                    <a:ext cx="1490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19">
                        <a:moveTo>
                          <a:pt x="1" y="13"/>
                        </a:moveTo>
                        <a:lnTo>
                          <a:pt x="99" y="0"/>
                        </a:lnTo>
                        <a:lnTo>
                          <a:pt x="172" y="3"/>
                        </a:lnTo>
                        <a:lnTo>
                          <a:pt x="105" y="19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0" y="13"/>
                        </a:lnTo>
                        <a:lnTo>
                          <a:pt x="1" y="1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6" name=""/>
                <p:cNvGrpSpPr/>
                <p:nvPr/>
              </p:nvGrpSpPr>
              <p:grpSpPr>
                <a:xfrm>
                  <a:off x="2880000" y="4493160"/>
                  <a:ext cx="103680" cy="256680"/>
                  <a:chOff x="2880000" y="4493160"/>
                  <a:chExt cx="103680" cy="256680"/>
                </a:xfrm>
              </p:grpSpPr>
              <p:sp>
                <p:nvSpPr>
                  <p:cNvPr id="1407" name=""/>
                  <p:cNvSpPr/>
                  <p:nvPr/>
                </p:nvSpPr>
                <p:spPr>
                  <a:xfrm>
                    <a:off x="2880000" y="4493160"/>
                    <a:ext cx="96120" cy="25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92">
                        <a:moveTo>
                          <a:pt x="2" y="282"/>
                        </a:moveTo>
                        <a:lnTo>
                          <a:pt x="3" y="286"/>
                        </a:lnTo>
                        <a:lnTo>
                          <a:pt x="7" y="286"/>
                        </a:lnTo>
                        <a:lnTo>
                          <a:pt x="10" y="286"/>
                        </a:lnTo>
                        <a:lnTo>
                          <a:pt x="14" y="286"/>
                        </a:lnTo>
                        <a:lnTo>
                          <a:pt x="111" y="292"/>
                        </a:lnTo>
                        <a:lnTo>
                          <a:pt x="111" y="12"/>
                        </a:lnTo>
                        <a:lnTo>
                          <a:pt x="111" y="9"/>
                        </a:lnTo>
                        <a:lnTo>
                          <a:pt x="107" y="7"/>
                        </a:lnTo>
                        <a:lnTo>
                          <a:pt x="106" y="6"/>
                        </a:lnTo>
                        <a:lnTo>
                          <a:pt x="102" y="6"/>
                        </a:lnTo>
                        <a:lnTo>
                          <a:pt x="99" y="6"/>
                        </a:lnTo>
                        <a:lnTo>
                          <a:pt x="24" y="1"/>
                        </a:lnTo>
                        <a:lnTo>
                          <a:pt x="14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0" y="6"/>
                        </a:lnTo>
                        <a:lnTo>
                          <a:pt x="0" y="12"/>
                        </a:lnTo>
                        <a:lnTo>
                          <a:pt x="0" y="161"/>
                        </a:lnTo>
                        <a:lnTo>
                          <a:pt x="0" y="162"/>
                        </a:lnTo>
                        <a:lnTo>
                          <a:pt x="2" y="162"/>
                        </a:lnTo>
                        <a:lnTo>
                          <a:pt x="2" y="162"/>
                        </a:lnTo>
                        <a:lnTo>
                          <a:pt x="2" y="282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2982960" y="4498200"/>
                    <a:ext cx="720" cy="2473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2974320" y="4496400"/>
                    <a:ext cx="82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88">
                        <a:moveTo>
                          <a:pt x="0" y="288"/>
                        </a:moveTo>
                        <a:lnTo>
                          <a:pt x="10" y="285"/>
                        </a:lnTo>
                        <a:lnTo>
                          <a:pt x="10" y="0"/>
                        </a:lnTo>
                        <a:lnTo>
                          <a:pt x="0" y="3"/>
                        </a:lnTo>
                        <a:lnTo>
                          <a:pt x="0" y="28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2880000" y="4615200"/>
                    <a:ext cx="96120" cy="5040"/>
                  </a:xfrm>
                  <a:prstGeom prst="line">
                    <a:avLst/>
                  </a:prstGeom>
                  <a:ln w="324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2880000" y="4629960"/>
                    <a:ext cx="96120" cy="6840"/>
                  </a:xfrm>
                  <a:prstGeom prst="line">
                    <a:avLst/>
                  </a:prstGeom>
                  <a:ln w="324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12" name=""/>
                  <p:cNvGrpSpPr/>
                  <p:nvPr/>
                </p:nvGrpSpPr>
                <p:grpSpPr>
                  <a:xfrm>
                    <a:off x="2886840" y="4636440"/>
                    <a:ext cx="88920" cy="113400"/>
                    <a:chOff x="2886840" y="4636440"/>
                    <a:chExt cx="88920" cy="113400"/>
                  </a:xfrm>
                </p:grpSpPr>
                <p:sp>
                  <p:nvSpPr>
                    <p:cNvPr id="1413" name=""/>
                    <p:cNvSpPr/>
                    <p:nvPr/>
                  </p:nvSpPr>
                  <p:spPr>
                    <a:xfrm>
                      <a:off x="2886840" y="4740480"/>
                      <a:ext cx="88920" cy="75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4" name=""/>
                    <p:cNvSpPr/>
                    <p:nvPr/>
                  </p:nvSpPr>
                  <p:spPr>
                    <a:xfrm flipV="1">
                      <a:off x="2965320" y="4642560"/>
                      <a:ext cx="720" cy="1072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5" name=""/>
                    <p:cNvSpPr/>
                    <p:nvPr/>
                  </p:nvSpPr>
                  <p:spPr>
                    <a:xfrm>
                      <a:off x="2888280" y="4636440"/>
                      <a:ext cx="720" cy="1065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6" name=""/>
                    <p:cNvSpPr/>
                    <p:nvPr/>
                  </p:nvSpPr>
                  <p:spPr>
                    <a:xfrm>
                      <a:off x="2891880" y="4636440"/>
                      <a:ext cx="720" cy="1065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7" name=""/>
                    <p:cNvSpPr/>
                    <p:nvPr/>
                  </p:nvSpPr>
                  <p:spPr>
                    <a:xfrm>
                      <a:off x="2894400" y="463716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8" name=""/>
                    <p:cNvSpPr/>
                    <p:nvPr/>
                  </p:nvSpPr>
                  <p:spPr>
                    <a:xfrm>
                      <a:off x="2898720" y="463716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9" name=""/>
                    <p:cNvSpPr/>
                    <p:nvPr/>
                  </p:nvSpPr>
                  <p:spPr>
                    <a:xfrm>
                      <a:off x="2901240" y="463716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0" name=""/>
                    <p:cNvSpPr/>
                    <p:nvPr/>
                  </p:nvSpPr>
                  <p:spPr>
                    <a:xfrm>
                      <a:off x="2913480" y="4637160"/>
                      <a:ext cx="720" cy="1072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1" name=""/>
                    <p:cNvSpPr/>
                    <p:nvPr/>
                  </p:nvSpPr>
                  <p:spPr>
                    <a:xfrm>
                      <a:off x="2904840" y="463716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2" name=""/>
                    <p:cNvSpPr/>
                    <p:nvPr/>
                  </p:nvSpPr>
                  <p:spPr>
                    <a:xfrm>
                      <a:off x="2907360" y="4637160"/>
                      <a:ext cx="720" cy="1072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3" name=""/>
                    <p:cNvSpPr/>
                    <p:nvPr/>
                  </p:nvSpPr>
                  <p:spPr>
                    <a:xfrm>
                      <a:off x="2909880" y="4637160"/>
                      <a:ext cx="720" cy="1072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4" name=""/>
                    <p:cNvSpPr/>
                    <p:nvPr/>
                  </p:nvSpPr>
                  <p:spPr>
                    <a:xfrm>
                      <a:off x="2916000" y="463896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5" name=""/>
                    <p:cNvSpPr/>
                    <p:nvPr/>
                  </p:nvSpPr>
                  <p:spPr>
                    <a:xfrm>
                      <a:off x="2918520" y="4638960"/>
                      <a:ext cx="720" cy="1065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6" name=""/>
                    <p:cNvSpPr/>
                    <p:nvPr/>
                  </p:nvSpPr>
                  <p:spPr>
                    <a:xfrm>
                      <a:off x="2922120" y="4638960"/>
                      <a:ext cx="720" cy="1065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7" name=""/>
                    <p:cNvSpPr/>
                    <p:nvPr/>
                  </p:nvSpPr>
                  <p:spPr>
                    <a:xfrm>
                      <a:off x="2926440" y="463968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8" name=""/>
                    <p:cNvSpPr/>
                    <p:nvPr/>
                  </p:nvSpPr>
                  <p:spPr>
                    <a:xfrm>
                      <a:off x="2928960" y="4638960"/>
                      <a:ext cx="720" cy="1065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9" name=""/>
                    <p:cNvSpPr/>
                    <p:nvPr/>
                  </p:nvSpPr>
                  <p:spPr>
                    <a:xfrm>
                      <a:off x="2933280" y="463968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0" name=""/>
                    <p:cNvSpPr/>
                    <p:nvPr/>
                  </p:nvSpPr>
                  <p:spPr>
                    <a:xfrm>
                      <a:off x="2935800" y="463968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1" name=""/>
                    <p:cNvSpPr/>
                    <p:nvPr/>
                  </p:nvSpPr>
                  <p:spPr>
                    <a:xfrm>
                      <a:off x="2939400" y="4639680"/>
                      <a:ext cx="720" cy="1072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2" name=""/>
                    <p:cNvSpPr/>
                    <p:nvPr/>
                  </p:nvSpPr>
                  <p:spPr>
                    <a:xfrm flipV="1">
                      <a:off x="2941920" y="4639680"/>
                      <a:ext cx="720" cy="1072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3" name=""/>
                    <p:cNvSpPr/>
                    <p:nvPr/>
                  </p:nvSpPr>
                  <p:spPr>
                    <a:xfrm>
                      <a:off x="2945160" y="464148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4" name=""/>
                    <p:cNvSpPr/>
                    <p:nvPr/>
                  </p:nvSpPr>
                  <p:spPr>
                    <a:xfrm>
                      <a:off x="2948040" y="464148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5" name=""/>
                    <p:cNvSpPr/>
                    <p:nvPr/>
                  </p:nvSpPr>
                  <p:spPr>
                    <a:xfrm>
                      <a:off x="2952360" y="4641480"/>
                      <a:ext cx="720" cy="1065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6" name=""/>
                    <p:cNvSpPr/>
                    <p:nvPr/>
                  </p:nvSpPr>
                  <p:spPr>
                    <a:xfrm>
                      <a:off x="2954880" y="4641480"/>
                      <a:ext cx="720" cy="1065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7" name=""/>
                    <p:cNvSpPr/>
                    <p:nvPr/>
                  </p:nvSpPr>
                  <p:spPr>
                    <a:xfrm flipV="1">
                      <a:off x="2958480" y="4641480"/>
                      <a:ext cx="720" cy="1065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8" name=""/>
                    <p:cNvSpPr/>
                    <p:nvPr/>
                  </p:nvSpPr>
                  <p:spPr>
                    <a:xfrm>
                      <a:off x="2961000" y="464256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39" name=""/>
                  <p:cNvSpPr/>
                  <p:nvPr/>
                </p:nvSpPr>
                <p:spPr>
                  <a:xfrm>
                    <a:off x="2880000" y="4517280"/>
                    <a:ext cx="96120" cy="5040"/>
                  </a:xfrm>
                  <a:prstGeom prst="line">
                    <a:avLst/>
                  </a:prstGeom>
                  <a:ln w="324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2880000" y="4634640"/>
                    <a:ext cx="94320" cy="68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41" name=""/>
                  <p:cNvGrpSpPr/>
                  <p:nvPr/>
                </p:nvGrpSpPr>
                <p:grpSpPr>
                  <a:xfrm>
                    <a:off x="2889360" y="4502520"/>
                    <a:ext cx="77400" cy="14400"/>
                    <a:chOff x="2889360" y="4502520"/>
                    <a:chExt cx="77400" cy="14400"/>
                  </a:xfrm>
                </p:grpSpPr>
                <p:sp>
                  <p:nvSpPr>
                    <p:cNvPr id="1442" name=""/>
                    <p:cNvSpPr/>
                    <p:nvPr/>
                  </p:nvSpPr>
                  <p:spPr>
                    <a:xfrm>
                      <a:off x="2889360" y="4502520"/>
                      <a:ext cx="8280" cy="8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3" name=""/>
                    <p:cNvSpPr/>
                    <p:nvPr/>
                  </p:nvSpPr>
                  <p:spPr>
                    <a:xfrm>
                      <a:off x="2906280" y="4502520"/>
                      <a:ext cx="8280" cy="8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4" name=""/>
                    <p:cNvSpPr/>
                    <p:nvPr/>
                  </p:nvSpPr>
                  <p:spPr>
                    <a:xfrm>
                      <a:off x="2925360" y="4503960"/>
                      <a:ext cx="8280" cy="8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5" name=""/>
                    <p:cNvSpPr/>
                    <p:nvPr/>
                  </p:nvSpPr>
                  <p:spPr>
                    <a:xfrm>
                      <a:off x="2958480" y="4503960"/>
                      <a:ext cx="828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15">
                          <a:moveTo>
                            <a:pt x="0" y="0"/>
                          </a:moveTo>
                          <a:lnTo>
                            <a:pt x="10" y="2"/>
                          </a:lnTo>
                          <a:lnTo>
                            <a:pt x="10" y="15"/>
                          </a:lnTo>
                          <a:lnTo>
                            <a:pt x="0" y="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324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46" name=""/>
                  <p:cNvGrpSpPr/>
                  <p:nvPr/>
                </p:nvGrpSpPr>
                <p:grpSpPr>
                  <a:xfrm>
                    <a:off x="2880000" y="4533120"/>
                    <a:ext cx="96120" cy="72360"/>
                    <a:chOff x="2880000" y="4533120"/>
                    <a:chExt cx="96120" cy="72360"/>
                  </a:xfrm>
                </p:grpSpPr>
                <p:sp>
                  <p:nvSpPr>
                    <p:cNvPr id="1447" name=""/>
                    <p:cNvSpPr/>
                    <p:nvPr/>
                  </p:nvSpPr>
                  <p:spPr>
                    <a:xfrm>
                      <a:off x="2880000" y="4533120"/>
                      <a:ext cx="96120" cy="6120"/>
                    </a:xfrm>
                    <a:prstGeom prst="line">
                      <a:avLst/>
                    </a:prstGeom>
                    <a:ln w="32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8" name=""/>
                    <p:cNvSpPr/>
                    <p:nvPr/>
                  </p:nvSpPr>
                  <p:spPr>
                    <a:xfrm>
                      <a:off x="2880000" y="4549680"/>
                      <a:ext cx="96120" cy="5040"/>
                    </a:xfrm>
                    <a:prstGeom prst="line">
                      <a:avLst/>
                    </a:prstGeom>
                    <a:ln w="32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9" name=""/>
                    <p:cNvSpPr/>
                    <p:nvPr/>
                  </p:nvSpPr>
                  <p:spPr>
                    <a:xfrm>
                      <a:off x="2880000" y="4581000"/>
                      <a:ext cx="94320" cy="6120"/>
                    </a:xfrm>
                    <a:prstGeom prst="line">
                      <a:avLst/>
                    </a:prstGeom>
                    <a:ln w="32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0" name=""/>
                    <p:cNvSpPr/>
                    <p:nvPr/>
                  </p:nvSpPr>
                  <p:spPr>
                    <a:xfrm>
                      <a:off x="2880000" y="4598640"/>
                      <a:ext cx="96120" cy="6840"/>
                    </a:xfrm>
                    <a:prstGeom prst="line">
                      <a:avLst/>
                    </a:prstGeom>
                    <a:ln w="32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1" name=""/>
                    <p:cNvSpPr/>
                    <p:nvPr/>
                  </p:nvSpPr>
                  <p:spPr>
                    <a:xfrm>
                      <a:off x="2880000" y="4566240"/>
                      <a:ext cx="96120" cy="6120"/>
                    </a:xfrm>
                    <a:prstGeom prst="line">
                      <a:avLst/>
                    </a:prstGeom>
                    <a:ln w="32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2" name=""/>
                    <p:cNvSpPr/>
                    <p:nvPr/>
                  </p:nvSpPr>
                  <p:spPr>
                    <a:xfrm>
                      <a:off x="2886840" y="4533840"/>
                      <a:ext cx="7848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26">
                          <a:moveTo>
                            <a:pt x="0" y="0"/>
                          </a:moveTo>
                          <a:lnTo>
                            <a:pt x="0" y="20"/>
                          </a:lnTo>
                          <a:lnTo>
                            <a:pt x="91" y="26"/>
                          </a:lnTo>
                          <a:lnTo>
                            <a:pt x="91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324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3" name=""/>
                    <p:cNvSpPr/>
                    <p:nvPr/>
                  </p:nvSpPr>
                  <p:spPr>
                    <a:xfrm>
                      <a:off x="2886840" y="4551480"/>
                      <a:ext cx="7848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24">
                          <a:moveTo>
                            <a:pt x="0" y="0"/>
                          </a:moveTo>
                          <a:lnTo>
                            <a:pt x="0" y="18"/>
                          </a:lnTo>
                          <a:lnTo>
                            <a:pt x="91" y="24"/>
                          </a:lnTo>
                          <a:lnTo>
                            <a:pt x="91" y="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324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4" name=""/>
                    <p:cNvSpPr/>
                    <p:nvPr/>
                  </p:nvSpPr>
                  <p:spPr>
                    <a:xfrm>
                      <a:off x="2886840" y="4566960"/>
                      <a:ext cx="7848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24">
                          <a:moveTo>
                            <a:pt x="0" y="0"/>
                          </a:moveTo>
                          <a:lnTo>
                            <a:pt x="0" y="18"/>
                          </a:lnTo>
                          <a:lnTo>
                            <a:pt x="91" y="24"/>
                          </a:lnTo>
                          <a:lnTo>
                            <a:pt x="91" y="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324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5" name=""/>
                    <p:cNvSpPr/>
                    <p:nvPr/>
                  </p:nvSpPr>
                  <p:spPr>
                    <a:xfrm>
                      <a:off x="2886840" y="4582800"/>
                      <a:ext cx="7848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25">
                          <a:moveTo>
                            <a:pt x="0" y="0"/>
                          </a:moveTo>
                          <a:lnTo>
                            <a:pt x="0" y="19"/>
                          </a:lnTo>
                          <a:lnTo>
                            <a:pt x="91" y="25"/>
                          </a:lnTo>
                          <a:lnTo>
                            <a:pt x="91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324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56" name=""/>
                    <p:cNvGrpSpPr/>
                    <p:nvPr/>
                  </p:nvGrpSpPr>
                  <p:grpSpPr>
                    <a:xfrm>
                      <a:off x="2894400" y="4539240"/>
                      <a:ext cx="62280" cy="28440"/>
                      <a:chOff x="2894400" y="4539240"/>
                      <a:chExt cx="62280" cy="28440"/>
                    </a:xfrm>
                  </p:grpSpPr>
                  <p:sp>
                    <p:nvSpPr>
                      <p:cNvPr id="1457" name=""/>
                      <p:cNvSpPr/>
                      <p:nvPr/>
                    </p:nvSpPr>
                    <p:spPr>
                      <a:xfrm>
                        <a:off x="2944440" y="4541760"/>
                        <a:ext cx="360" cy="7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8" name=""/>
                      <p:cNvSpPr/>
                      <p:nvPr/>
                    </p:nvSpPr>
                    <p:spPr>
                      <a:xfrm>
                        <a:off x="2901240" y="4554000"/>
                        <a:ext cx="4824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12">
                            <a:moveTo>
                              <a:pt x="0" y="12"/>
                            </a:moveTo>
                            <a:lnTo>
                              <a:pt x="0" y="0"/>
                            </a:lnTo>
                            <a:lnTo>
                              <a:pt x="56" y="4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9" name=""/>
                      <p:cNvSpPr/>
                      <p:nvPr/>
                    </p:nvSpPr>
                    <p:spPr>
                      <a:xfrm>
                        <a:off x="2904480" y="4559400"/>
                        <a:ext cx="4320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6">
                            <a:moveTo>
                              <a:pt x="0" y="0"/>
                            </a:moveTo>
                            <a:lnTo>
                              <a:pt x="0" y="1"/>
                            </a:lnTo>
                            <a:lnTo>
                              <a:pt x="50" y="6"/>
                            </a:lnTo>
                            <a:lnTo>
                              <a:pt x="50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3240">
                        <a:solidFill>
                          <a:srgbClr val="a0a0a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0" name=""/>
                      <p:cNvSpPr/>
                      <p:nvPr/>
                    </p:nvSpPr>
                    <p:spPr>
                      <a:xfrm>
                        <a:off x="2933280" y="4564440"/>
                        <a:ext cx="144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4">
                            <a:moveTo>
                              <a:pt x="0" y="0"/>
                            </a:moveTo>
                            <a:lnTo>
                              <a:pt x="17" y="1"/>
                            </a:lnTo>
                            <a:lnTo>
                              <a:pt x="17" y="4"/>
                            </a:ln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1" name=""/>
                      <p:cNvSpPr/>
                      <p:nvPr/>
                    </p:nvSpPr>
                    <p:spPr>
                      <a:xfrm>
                        <a:off x="2905560" y="4539240"/>
                        <a:ext cx="3528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4">
                            <a:moveTo>
                              <a:pt x="0" y="0"/>
                            </a:moveTo>
                            <a:lnTo>
                              <a:pt x="0" y="11"/>
                            </a:lnTo>
                            <a:lnTo>
                              <a:pt x="41" y="14"/>
                            </a:lnTo>
                            <a:lnTo>
                              <a:pt x="41" y="2"/>
                            </a:lnTo>
                            <a:lnTo>
                              <a:pt x="22" y="0"/>
                            </a:lnTo>
                            <a:lnTo>
                              <a:pt x="20" y="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2" name=""/>
                      <p:cNvSpPr/>
                      <p:nvPr/>
                    </p:nvSpPr>
                    <p:spPr>
                      <a:xfrm>
                        <a:off x="2894400" y="4541760"/>
                        <a:ext cx="6228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6">
                            <a:moveTo>
                              <a:pt x="3" y="0"/>
                            </a:move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2" y="2"/>
                            </a:lnTo>
                            <a:lnTo>
                              <a:pt x="3" y="2"/>
                            </a:lnTo>
                            <a:lnTo>
                              <a:pt x="70" y="6"/>
                            </a:lnTo>
                            <a:lnTo>
                              <a:pt x="72" y="6"/>
                            </a:lnTo>
                            <a:lnTo>
                              <a:pt x="72" y="5"/>
                            </a:lnTo>
                            <a:lnTo>
                              <a:pt x="70" y="5"/>
                            </a:lnTo>
                            <a:lnTo>
                              <a:pt x="69" y="5"/>
                            </a:lnTo>
                            <a:lnTo>
                              <a:pt x="3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463" name=""/>
              <p:cNvSpPr/>
              <p:nvPr/>
            </p:nvSpPr>
            <p:spPr>
              <a:xfrm flipV="1">
                <a:off x="3042720" y="4467240"/>
                <a:ext cx="2134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rot="13968600">
                <a:off x="2576520" y="3943080"/>
                <a:ext cx="577440" cy="97560"/>
              </a:xfrm>
              <a:custGeom>
                <a:avLst/>
                <a:gdLst/>
                <a:ahLst/>
                <a:rect l="l" t="t" r="r" b="b"/>
                <a:pathLst>
                  <a:path w="2005" h="82">
                    <a:moveTo>
                      <a:pt x="2004" y="5"/>
                    </a:moveTo>
                    <a:lnTo>
                      <a:pt x="916" y="0"/>
                    </a:lnTo>
                    <a:lnTo>
                      <a:pt x="997" y="63"/>
                    </a:lnTo>
                    <a:lnTo>
                      <a:pt x="0" y="76"/>
                    </a:lnTo>
                    <a:lnTo>
                      <a:pt x="1090" y="81"/>
                    </a:lnTo>
                    <a:lnTo>
                      <a:pt x="1013" y="18"/>
                    </a:lnTo>
                    <a:lnTo>
                      <a:pt x="2004" y="5"/>
                    </a:lnTo>
                  </a:path>
                </a:pathLst>
              </a:custGeom>
              <a:solidFill>
                <a:srgbClr val="ffcc00"/>
              </a:solidFill>
              <a:ln cap="rnd"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rot="17509800">
                <a:off x="3236040" y="3829680"/>
                <a:ext cx="611640" cy="113760"/>
              </a:xfrm>
              <a:custGeom>
                <a:avLst/>
                <a:gdLst/>
                <a:ahLst/>
                <a:rect l="l" t="t" r="r" b="b"/>
                <a:pathLst>
                  <a:path w="2005" h="82">
                    <a:moveTo>
                      <a:pt x="2004" y="5"/>
                    </a:moveTo>
                    <a:lnTo>
                      <a:pt x="916" y="0"/>
                    </a:lnTo>
                    <a:lnTo>
                      <a:pt x="997" y="63"/>
                    </a:lnTo>
                    <a:lnTo>
                      <a:pt x="0" y="76"/>
                    </a:lnTo>
                    <a:lnTo>
                      <a:pt x="1090" y="81"/>
                    </a:lnTo>
                    <a:lnTo>
                      <a:pt x="1013" y="18"/>
                    </a:lnTo>
                    <a:lnTo>
                      <a:pt x="2004" y="5"/>
                    </a:lnTo>
                  </a:path>
                </a:pathLst>
              </a:custGeom>
              <a:solidFill>
                <a:srgbClr val="ffcc00"/>
              </a:solidFill>
              <a:ln cap="rnd"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6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305520" y="4496040"/>
                <a:ext cx="464040" cy="258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67" name="" descr=""/>
            <p:cNvPicPr/>
            <p:nvPr/>
          </p:nvPicPr>
          <p:blipFill>
            <a:blip r:embed="rId7"/>
            <a:stretch/>
          </p:blipFill>
          <p:spPr>
            <a:xfrm flipH="1">
              <a:off x="2117520" y="3086280"/>
              <a:ext cx="898200" cy="53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8" name=""/>
            <p:cNvGrpSpPr/>
            <p:nvPr/>
          </p:nvGrpSpPr>
          <p:grpSpPr>
            <a:xfrm>
              <a:off x="2739960" y="2751120"/>
              <a:ext cx="830160" cy="736200"/>
              <a:chOff x="2739960" y="2751120"/>
              <a:chExt cx="830160" cy="736200"/>
            </a:xfrm>
          </p:grpSpPr>
          <p:grpSp>
            <p:nvGrpSpPr>
              <p:cNvPr id="1469" name=""/>
              <p:cNvGrpSpPr/>
              <p:nvPr/>
            </p:nvGrpSpPr>
            <p:grpSpPr>
              <a:xfrm>
                <a:off x="2779200" y="2751120"/>
                <a:ext cx="419040" cy="337680"/>
                <a:chOff x="2779200" y="2751120"/>
                <a:chExt cx="419040" cy="337680"/>
              </a:xfrm>
            </p:grpSpPr>
            <p:grpSp>
              <p:nvGrpSpPr>
                <p:cNvPr id="1470" name=""/>
                <p:cNvGrpSpPr/>
                <p:nvPr/>
              </p:nvGrpSpPr>
              <p:grpSpPr>
                <a:xfrm>
                  <a:off x="2779200" y="2751120"/>
                  <a:ext cx="395640" cy="337680"/>
                  <a:chOff x="2779200" y="2751120"/>
                  <a:chExt cx="395640" cy="337680"/>
                </a:xfrm>
              </p:grpSpPr>
              <p:sp>
                <p:nvSpPr>
                  <p:cNvPr id="1471" name=""/>
                  <p:cNvSpPr/>
                  <p:nvPr/>
                </p:nvSpPr>
                <p:spPr>
                  <a:xfrm>
                    <a:off x="2887200" y="2751120"/>
                    <a:ext cx="124920" cy="118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2779200" y="2890080"/>
                    <a:ext cx="39564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1" h="589">
                        <a:moveTo>
                          <a:pt x="199" y="589"/>
                        </a:moveTo>
                        <a:lnTo>
                          <a:pt x="742" y="589"/>
                        </a:lnTo>
                        <a:lnTo>
                          <a:pt x="648" y="211"/>
                        </a:lnTo>
                        <a:lnTo>
                          <a:pt x="687" y="211"/>
                        </a:lnTo>
                        <a:lnTo>
                          <a:pt x="744" y="432"/>
                        </a:lnTo>
                        <a:lnTo>
                          <a:pt x="750" y="446"/>
                        </a:lnTo>
                        <a:lnTo>
                          <a:pt x="757" y="457"/>
                        </a:lnTo>
                        <a:lnTo>
                          <a:pt x="766" y="466"/>
                        </a:lnTo>
                        <a:lnTo>
                          <a:pt x="777" y="473"/>
                        </a:lnTo>
                        <a:lnTo>
                          <a:pt x="787" y="478"/>
                        </a:lnTo>
                        <a:lnTo>
                          <a:pt x="800" y="482"/>
                        </a:lnTo>
                        <a:lnTo>
                          <a:pt x="815" y="482"/>
                        </a:lnTo>
                        <a:lnTo>
                          <a:pt x="826" y="481"/>
                        </a:lnTo>
                        <a:lnTo>
                          <a:pt x="836" y="477"/>
                        </a:lnTo>
                        <a:lnTo>
                          <a:pt x="845" y="472"/>
                        </a:lnTo>
                        <a:lnTo>
                          <a:pt x="852" y="463"/>
                        </a:lnTo>
                        <a:lnTo>
                          <a:pt x="862" y="458"/>
                        </a:lnTo>
                        <a:lnTo>
                          <a:pt x="1098" y="197"/>
                        </a:lnTo>
                        <a:lnTo>
                          <a:pt x="1102" y="191"/>
                        </a:lnTo>
                        <a:lnTo>
                          <a:pt x="1107" y="182"/>
                        </a:lnTo>
                        <a:lnTo>
                          <a:pt x="1111" y="166"/>
                        </a:lnTo>
                        <a:lnTo>
                          <a:pt x="1111" y="151"/>
                        </a:lnTo>
                        <a:lnTo>
                          <a:pt x="1111" y="139"/>
                        </a:lnTo>
                        <a:lnTo>
                          <a:pt x="1107" y="128"/>
                        </a:lnTo>
                        <a:lnTo>
                          <a:pt x="1102" y="116"/>
                        </a:lnTo>
                        <a:lnTo>
                          <a:pt x="1095" y="106"/>
                        </a:lnTo>
                        <a:lnTo>
                          <a:pt x="1087" y="96"/>
                        </a:lnTo>
                        <a:lnTo>
                          <a:pt x="1076" y="90"/>
                        </a:lnTo>
                        <a:lnTo>
                          <a:pt x="1064" y="84"/>
                        </a:lnTo>
                        <a:lnTo>
                          <a:pt x="1051" y="80"/>
                        </a:lnTo>
                        <a:lnTo>
                          <a:pt x="1039" y="80"/>
                        </a:lnTo>
                        <a:lnTo>
                          <a:pt x="1027" y="83"/>
                        </a:lnTo>
                        <a:lnTo>
                          <a:pt x="1016" y="86"/>
                        </a:lnTo>
                        <a:lnTo>
                          <a:pt x="1006" y="91"/>
                        </a:lnTo>
                        <a:lnTo>
                          <a:pt x="998" y="99"/>
                        </a:lnTo>
                        <a:lnTo>
                          <a:pt x="847" y="270"/>
                        </a:lnTo>
                        <a:lnTo>
                          <a:pt x="803" y="79"/>
                        </a:lnTo>
                        <a:lnTo>
                          <a:pt x="800" y="66"/>
                        </a:lnTo>
                        <a:lnTo>
                          <a:pt x="798" y="54"/>
                        </a:lnTo>
                        <a:lnTo>
                          <a:pt x="794" y="45"/>
                        </a:lnTo>
                        <a:lnTo>
                          <a:pt x="788" y="35"/>
                        </a:lnTo>
                        <a:lnTo>
                          <a:pt x="781" y="27"/>
                        </a:lnTo>
                        <a:lnTo>
                          <a:pt x="773" y="19"/>
                        </a:lnTo>
                        <a:lnTo>
                          <a:pt x="765" y="12"/>
                        </a:lnTo>
                        <a:lnTo>
                          <a:pt x="754" y="6"/>
                        </a:lnTo>
                        <a:lnTo>
                          <a:pt x="743" y="2"/>
                        </a:lnTo>
                        <a:lnTo>
                          <a:pt x="731" y="0"/>
                        </a:lnTo>
                        <a:lnTo>
                          <a:pt x="214" y="0"/>
                        </a:lnTo>
                        <a:lnTo>
                          <a:pt x="198" y="5"/>
                        </a:lnTo>
                        <a:lnTo>
                          <a:pt x="184" y="9"/>
                        </a:lnTo>
                        <a:lnTo>
                          <a:pt x="174" y="16"/>
                        </a:lnTo>
                        <a:lnTo>
                          <a:pt x="166" y="21"/>
                        </a:lnTo>
                        <a:lnTo>
                          <a:pt x="157" y="32"/>
                        </a:lnTo>
                        <a:lnTo>
                          <a:pt x="150" y="42"/>
                        </a:lnTo>
                        <a:lnTo>
                          <a:pt x="146" y="53"/>
                        </a:lnTo>
                        <a:lnTo>
                          <a:pt x="140" y="65"/>
                        </a:lnTo>
                        <a:lnTo>
                          <a:pt x="0" y="589"/>
                        </a:lnTo>
                        <a:lnTo>
                          <a:pt x="151" y="589"/>
                        </a:lnTo>
                        <a:lnTo>
                          <a:pt x="249" y="214"/>
                        </a:lnTo>
                        <a:lnTo>
                          <a:pt x="293" y="214"/>
                        </a:lnTo>
                        <a:lnTo>
                          <a:pt x="199" y="5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3" name=""/>
                <p:cNvSpPr/>
                <p:nvPr/>
              </p:nvSpPr>
              <p:spPr>
                <a:xfrm>
                  <a:off x="3136320" y="2809800"/>
                  <a:ext cx="61920" cy="11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4" name=""/>
              <p:cNvGrpSpPr/>
              <p:nvPr/>
            </p:nvGrpSpPr>
            <p:grpSpPr>
              <a:xfrm>
                <a:off x="2739960" y="2751120"/>
                <a:ext cx="830160" cy="736200"/>
                <a:chOff x="2739960" y="2751120"/>
                <a:chExt cx="830160" cy="736200"/>
              </a:xfrm>
            </p:grpSpPr>
            <p:grpSp>
              <p:nvGrpSpPr>
                <p:cNvPr id="1475" name=""/>
                <p:cNvGrpSpPr/>
                <p:nvPr/>
              </p:nvGrpSpPr>
              <p:grpSpPr>
                <a:xfrm>
                  <a:off x="3144240" y="2751120"/>
                  <a:ext cx="381600" cy="736200"/>
                  <a:chOff x="3144240" y="2751120"/>
                  <a:chExt cx="381600" cy="7362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3144240" y="2751120"/>
                    <a:ext cx="381600" cy="354240"/>
                    <a:chOff x="3144240" y="2751120"/>
                    <a:chExt cx="381600" cy="35424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3144240" y="2890080"/>
                      <a:ext cx="381600" cy="21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0" h="637">
                          <a:moveTo>
                            <a:pt x="486" y="637"/>
                          </a:moveTo>
                          <a:lnTo>
                            <a:pt x="1070" y="637"/>
                          </a:lnTo>
                          <a:lnTo>
                            <a:pt x="1070" y="115"/>
                          </a:lnTo>
                          <a:lnTo>
                            <a:pt x="1067" y="100"/>
                          </a:lnTo>
                          <a:lnTo>
                            <a:pt x="1062" y="83"/>
                          </a:lnTo>
                          <a:lnTo>
                            <a:pt x="1056" y="67"/>
                          </a:lnTo>
                          <a:lnTo>
                            <a:pt x="1047" y="52"/>
                          </a:lnTo>
                          <a:lnTo>
                            <a:pt x="1037" y="41"/>
                          </a:lnTo>
                          <a:lnTo>
                            <a:pt x="1026" y="30"/>
                          </a:lnTo>
                          <a:lnTo>
                            <a:pt x="1015" y="19"/>
                          </a:lnTo>
                          <a:lnTo>
                            <a:pt x="1002" y="12"/>
                          </a:lnTo>
                          <a:lnTo>
                            <a:pt x="988" y="7"/>
                          </a:lnTo>
                          <a:lnTo>
                            <a:pt x="972" y="1"/>
                          </a:lnTo>
                          <a:lnTo>
                            <a:pt x="953" y="0"/>
                          </a:lnTo>
                          <a:lnTo>
                            <a:pt x="487" y="0"/>
                          </a:lnTo>
                          <a:lnTo>
                            <a:pt x="463" y="0"/>
                          </a:lnTo>
                          <a:lnTo>
                            <a:pt x="442" y="0"/>
                          </a:lnTo>
                          <a:lnTo>
                            <a:pt x="425" y="4"/>
                          </a:lnTo>
                          <a:lnTo>
                            <a:pt x="410" y="11"/>
                          </a:lnTo>
                          <a:lnTo>
                            <a:pt x="395" y="24"/>
                          </a:lnTo>
                          <a:lnTo>
                            <a:pt x="381" y="40"/>
                          </a:lnTo>
                          <a:lnTo>
                            <a:pt x="370" y="56"/>
                          </a:lnTo>
                          <a:lnTo>
                            <a:pt x="22" y="462"/>
                          </a:lnTo>
                          <a:lnTo>
                            <a:pt x="14" y="472"/>
                          </a:lnTo>
                          <a:lnTo>
                            <a:pt x="9" y="483"/>
                          </a:lnTo>
                          <a:lnTo>
                            <a:pt x="3" y="494"/>
                          </a:lnTo>
                          <a:lnTo>
                            <a:pt x="0" y="509"/>
                          </a:lnTo>
                          <a:lnTo>
                            <a:pt x="0" y="517"/>
                          </a:lnTo>
                          <a:lnTo>
                            <a:pt x="0" y="531"/>
                          </a:lnTo>
                          <a:lnTo>
                            <a:pt x="5" y="543"/>
                          </a:lnTo>
                          <a:lnTo>
                            <a:pt x="10" y="556"/>
                          </a:lnTo>
                          <a:lnTo>
                            <a:pt x="18" y="569"/>
                          </a:lnTo>
                          <a:lnTo>
                            <a:pt x="28" y="580"/>
                          </a:lnTo>
                          <a:lnTo>
                            <a:pt x="41" y="589"/>
                          </a:lnTo>
                          <a:lnTo>
                            <a:pt x="55" y="595"/>
                          </a:lnTo>
                          <a:lnTo>
                            <a:pt x="69" y="597"/>
                          </a:lnTo>
                          <a:lnTo>
                            <a:pt x="84" y="600"/>
                          </a:lnTo>
                          <a:lnTo>
                            <a:pt x="97" y="599"/>
                          </a:lnTo>
                          <a:lnTo>
                            <a:pt x="111" y="595"/>
                          </a:lnTo>
                          <a:lnTo>
                            <a:pt x="127" y="588"/>
                          </a:lnTo>
                          <a:lnTo>
                            <a:pt x="138" y="580"/>
                          </a:lnTo>
                          <a:lnTo>
                            <a:pt x="149" y="569"/>
                          </a:lnTo>
                          <a:lnTo>
                            <a:pt x="486" y="172"/>
                          </a:lnTo>
                          <a:lnTo>
                            <a:pt x="486" y="63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3344040" y="2751120"/>
                      <a:ext cx="123840" cy="118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79" name=""/>
                  <p:cNvGrpSpPr/>
                  <p:nvPr/>
                </p:nvGrpSpPr>
                <p:grpSpPr>
                  <a:xfrm>
                    <a:off x="3337560" y="3167640"/>
                    <a:ext cx="171720" cy="319680"/>
                    <a:chOff x="3337560" y="3167640"/>
                    <a:chExt cx="171720" cy="319680"/>
                  </a:xfrm>
                </p:grpSpPr>
                <p:grpSp>
                  <p:nvGrpSpPr>
                    <p:cNvPr id="1480" name=""/>
                    <p:cNvGrpSpPr/>
                    <p:nvPr/>
                  </p:nvGrpSpPr>
                  <p:grpSpPr>
                    <a:xfrm>
                      <a:off x="3433680" y="3167640"/>
                      <a:ext cx="75600" cy="319680"/>
                      <a:chOff x="3433680" y="3167640"/>
                      <a:chExt cx="75600" cy="319680"/>
                    </a:xfrm>
                  </p:grpSpPr>
                  <p:sp>
                    <p:nvSpPr>
                      <p:cNvPr id="1481" name=""/>
                      <p:cNvSpPr/>
                      <p:nvPr/>
                    </p:nvSpPr>
                    <p:spPr>
                      <a:xfrm>
                        <a:off x="3433680" y="3167640"/>
                        <a:ext cx="75600" cy="2883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2" name=""/>
                      <p:cNvSpPr/>
                      <p:nvPr/>
                    </p:nvSpPr>
                    <p:spPr>
                      <a:xfrm>
                        <a:off x="3433680" y="3422520"/>
                        <a:ext cx="75600" cy="648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83" name=""/>
                    <p:cNvGrpSpPr/>
                    <p:nvPr/>
                  </p:nvGrpSpPr>
                  <p:grpSpPr>
                    <a:xfrm>
                      <a:off x="3337560" y="3167640"/>
                      <a:ext cx="75600" cy="319680"/>
                      <a:chOff x="3337560" y="3167640"/>
                      <a:chExt cx="75600" cy="319680"/>
                    </a:xfrm>
                  </p:grpSpPr>
                  <p:sp>
                    <p:nvSpPr>
                      <p:cNvPr id="1484" name=""/>
                      <p:cNvSpPr/>
                      <p:nvPr/>
                    </p:nvSpPr>
                    <p:spPr>
                      <a:xfrm>
                        <a:off x="3337560" y="3167640"/>
                        <a:ext cx="75600" cy="2876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5" name=""/>
                      <p:cNvSpPr/>
                      <p:nvPr/>
                    </p:nvSpPr>
                    <p:spPr>
                      <a:xfrm>
                        <a:off x="3337560" y="3421440"/>
                        <a:ext cx="75600" cy="658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" bIns="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486" name=""/>
                <p:cNvSpPr/>
                <p:nvPr/>
              </p:nvSpPr>
              <p:spPr>
                <a:xfrm>
                  <a:off x="2739960" y="3105720"/>
                  <a:ext cx="830160" cy="56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7" name=""/>
            <p:cNvSpPr/>
            <p:nvPr/>
          </p:nvSpPr>
          <p:spPr>
            <a:xfrm>
              <a:off x="2187720" y="2336760"/>
              <a:ext cx="207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交通費率合理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8" name="" descr=""/>
            <p:cNvPicPr/>
            <p:nvPr/>
          </p:nvPicPr>
          <p:blipFill>
            <a:blip r:embed="rId8"/>
            <a:stretch/>
          </p:blipFill>
          <p:spPr>
            <a:xfrm>
              <a:off x="4898880" y="3787920"/>
              <a:ext cx="1435320" cy="7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9" name="" descr=""/>
            <p:cNvPicPr/>
            <p:nvPr/>
          </p:nvPicPr>
          <p:blipFill>
            <a:blip r:embed="rId9"/>
            <a:stretch/>
          </p:blipFill>
          <p:spPr>
            <a:xfrm>
              <a:off x="4745160" y="4122720"/>
              <a:ext cx="77616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0" name=""/>
            <p:cNvSpPr/>
            <p:nvPr/>
          </p:nvSpPr>
          <p:spPr>
            <a:xfrm>
              <a:off x="2895480" y="476892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全真中圓體"/>
                  <a:ea typeface="全真中圓體"/>
                </a:rPr>
                <a:t>運輸作業電子化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522680" y="4768920"/>
              <a:ext cx="164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全真中圓體"/>
                  <a:ea typeface="全真中圓體"/>
                </a:rPr>
                <a:t>運輸法規現代化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8195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20040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6576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11480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57200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0292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48640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94360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724280" y="152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029200" y="22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410080" y="30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791320" y="457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095880" y="685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400800" y="914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705720" y="114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238880" y="2133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31520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315200" y="2895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934320" y="1447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086600" y="1752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31520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629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152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429000" y="22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048120" y="380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666880" y="539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362320" y="76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057400" y="1066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828800" y="1371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600200" y="1676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2057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371600" y="243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330200" y="2819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371600" y="3200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4479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7" name=""/>
          <p:cNvSpPr/>
          <p:nvPr/>
        </p:nvSpPr>
        <p:spPr>
          <a:xfrm>
            <a:off x="754380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j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92280" y="639720"/>
            <a:ext cx="47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想一：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健全運輸經營環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076400" y="1150920"/>
            <a:ext cx="695016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9960" indent="-289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賡續執行「促進大眾運輸方案」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推動國際貨運物流中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推動交通運輸法規之現代化修訂工作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推動國際運輸作業之電子化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推動運輸業營運監理之電子化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960" y="3903840"/>
            <a:ext cx="60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想二：</a:t>
            </a:r>
            <a:r>
              <a:rPr b="0" lang="zh-TW" sz="2600" spc="-1" strike="noStrike">
                <a:solidFill>
                  <a:srgbClr val="cc3300"/>
                </a:solidFill>
                <a:latin typeface="Times New Roman"/>
                <a:ea typeface="華康粗圓體"/>
              </a:rPr>
              <a:t>提升大眾運輸運能與服務品質，強化營運整合措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106640" y="4808520"/>
            <a:ext cx="662616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9960" indent="-289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訂定「發展大眾運輸條例」，追求大眾運輸永續發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推動相關交通費率之合理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0" y="0"/>
            <a:ext cx="31240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d3a8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目標三：提振運輸產業經營效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038480" y="6172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k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/>
          <p:nvPr/>
        </p:nvSpPr>
        <p:spPr>
          <a:xfrm>
            <a:off x="692280" y="1063800"/>
            <a:ext cx="697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想三：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推動交通建設與運輸產業民營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085760" y="1846440"/>
            <a:ext cx="665172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推動台汽民營化工作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推動台鐵民營化，建立靈活的經營體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推動中正機場地勤業務全面民營化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航勤、港務服務民營化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繼續辦理民間投資各項建設相關計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0" y="0"/>
            <a:ext cx="31240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d3a8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目標三：提振運輸產業經營效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038480" y="624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l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8" name=""/>
          <p:cNvGrpSpPr/>
          <p:nvPr/>
        </p:nvGrpSpPr>
        <p:grpSpPr>
          <a:xfrm>
            <a:off x="762120" y="304920"/>
            <a:ext cx="7656480" cy="6327000"/>
            <a:chOff x="762120" y="304920"/>
            <a:chExt cx="7656480" cy="6327000"/>
          </a:xfrm>
        </p:grpSpPr>
        <p:sp>
          <p:nvSpPr>
            <p:cNvPr id="1539" name=""/>
            <p:cNvSpPr/>
            <p:nvPr/>
          </p:nvSpPr>
          <p:spPr>
            <a:xfrm>
              <a:off x="2362320" y="61722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全真中圓體"/>
                  <a:ea typeface="全真中圓體"/>
                </a:rPr>
                <a:t>目標四  強化交通運輸安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0" name=""/>
            <p:cNvGrpSpPr/>
            <p:nvPr/>
          </p:nvGrpSpPr>
          <p:grpSpPr>
            <a:xfrm>
              <a:off x="762120" y="304920"/>
              <a:ext cx="7656480" cy="5630760"/>
              <a:chOff x="762120" y="304920"/>
              <a:chExt cx="7656480" cy="5630760"/>
            </a:xfrm>
          </p:grpSpPr>
          <p:sp>
            <p:nvSpPr>
              <p:cNvPr id="1541" name=""/>
              <p:cNvSpPr/>
              <p:nvPr/>
            </p:nvSpPr>
            <p:spPr>
              <a:xfrm>
                <a:off x="762120" y="304920"/>
                <a:ext cx="7656480" cy="561636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124080" y="1828800"/>
                <a:ext cx="2895840" cy="2590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591080" y="304920"/>
                <a:ext cx="0" cy="1523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591080" y="4406760"/>
                <a:ext cx="1440" cy="152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62120" y="3112920"/>
                <a:ext cx="2361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019920" y="3112920"/>
                <a:ext cx="2398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7" name=""/>
              <p:cNvGrpSpPr/>
              <p:nvPr/>
            </p:nvGrpSpPr>
            <p:grpSpPr>
              <a:xfrm>
                <a:off x="5867280" y="1143000"/>
                <a:ext cx="2087280" cy="1353600"/>
                <a:chOff x="5867280" y="1143000"/>
                <a:chExt cx="2087280" cy="1353600"/>
              </a:xfrm>
            </p:grpSpPr>
            <p:pic>
              <p:nvPicPr>
                <p:cNvPr id="154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867280" y="1143000"/>
                  <a:ext cx="1527840" cy="1347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49760" y="1642680"/>
                  <a:ext cx="604800" cy="853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5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71440" y="3554280"/>
                <a:ext cx="1555920" cy="134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7400" y="4038480"/>
                <a:ext cx="1492200" cy="123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52" name=""/>
              <p:cNvGrpSpPr/>
              <p:nvPr/>
            </p:nvGrpSpPr>
            <p:grpSpPr>
              <a:xfrm>
                <a:off x="1371600" y="2057400"/>
                <a:ext cx="1600200" cy="990720"/>
                <a:chOff x="1371600" y="2057400"/>
                <a:chExt cx="1600200" cy="990720"/>
              </a:xfrm>
            </p:grpSpPr>
            <p:sp>
              <p:nvSpPr>
                <p:cNvPr id="1553" name=""/>
                <p:cNvSpPr/>
                <p:nvPr/>
              </p:nvSpPr>
              <p:spPr>
                <a:xfrm>
                  <a:off x="1371600" y="2057400"/>
                  <a:ext cx="1600200" cy="9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4b4b4"/>
                    </a:gs>
                    <a:gs pos="50000">
                      <a:srgbClr val="dddddd"/>
                    </a:gs>
                    <a:gs pos="100000">
                      <a:srgbClr val="b4b4b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4" name=""/>
                <p:cNvGrpSpPr/>
                <p:nvPr/>
              </p:nvGrpSpPr>
              <p:grpSpPr>
                <a:xfrm>
                  <a:off x="2109240" y="2387880"/>
                  <a:ext cx="657000" cy="453600"/>
                  <a:chOff x="2109240" y="2387880"/>
                  <a:chExt cx="657000" cy="453600"/>
                </a:xfrm>
              </p:grpSpPr>
              <p:sp>
                <p:nvSpPr>
                  <p:cNvPr id="1555" name=""/>
                  <p:cNvSpPr/>
                  <p:nvPr/>
                </p:nvSpPr>
                <p:spPr>
                  <a:xfrm>
                    <a:off x="2109240" y="2777040"/>
                    <a:ext cx="11124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608" h="414">
                        <a:moveTo>
                          <a:pt x="0" y="414"/>
                        </a:moveTo>
                        <a:lnTo>
                          <a:pt x="233" y="0"/>
                        </a:lnTo>
                        <a:lnTo>
                          <a:pt x="608" y="0"/>
                        </a:lnTo>
                        <a:lnTo>
                          <a:pt x="401" y="414"/>
                        </a:lnTo>
                        <a:lnTo>
                          <a:pt x="0" y="4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2294640" y="2777040"/>
                    <a:ext cx="9180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414">
                        <a:moveTo>
                          <a:pt x="0" y="414"/>
                        </a:moveTo>
                        <a:lnTo>
                          <a:pt x="440" y="414"/>
                        </a:lnTo>
                        <a:lnTo>
                          <a:pt x="501" y="0"/>
                        </a:lnTo>
                        <a:lnTo>
                          <a:pt x="246" y="0"/>
                        </a:lnTo>
                        <a:lnTo>
                          <a:pt x="48" y="281"/>
                        </a:lnTo>
                        <a:lnTo>
                          <a:pt x="0" y="4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2482560" y="2777040"/>
                    <a:ext cx="9648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414">
                        <a:moveTo>
                          <a:pt x="0" y="0"/>
                        </a:moveTo>
                        <a:lnTo>
                          <a:pt x="77" y="414"/>
                        </a:lnTo>
                        <a:lnTo>
                          <a:pt x="526" y="414"/>
                        </a:lnTo>
                        <a:lnTo>
                          <a:pt x="409" y="250"/>
                        </a:lnTo>
                        <a:lnTo>
                          <a:pt x="323" y="237"/>
                        </a:lnTo>
                        <a:lnTo>
                          <a:pt x="263" y="199"/>
                        </a:lnTo>
                        <a:lnTo>
                          <a:pt x="237" y="151"/>
                        </a:lnTo>
                        <a:lnTo>
                          <a:pt x="254" y="108"/>
                        </a:lnTo>
                        <a:lnTo>
                          <a:pt x="293" y="65"/>
                        </a:lnTo>
                        <a:lnTo>
                          <a:pt x="25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2258640" y="2387880"/>
                    <a:ext cx="336600" cy="4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9" h="2675">
                        <a:moveTo>
                          <a:pt x="9" y="2464"/>
                        </a:moveTo>
                        <a:lnTo>
                          <a:pt x="0" y="2421"/>
                        </a:lnTo>
                        <a:lnTo>
                          <a:pt x="60" y="2429"/>
                        </a:lnTo>
                        <a:lnTo>
                          <a:pt x="138" y="2421"/>
                        </a:lnTo>
                        <a:lnTo>
                          <a:pt x="229" y="2352"/>
                        </a:lnTo>
                        <a:lnTo>
                          <a:pt x="380" y="2110"/>
                        </a:lnTo>
                        <a:lnTo>
                          <a:pt x="595" y="1752"/>
                        </a:lnTo>
                        <a:lnTo>
                          <a:pt x="712" y="1562"/>
                        </a:lnTo>
                        <a:lnTo>
                          <a:pt x="790" y="1394"/>
                        </a:lnTo>
                        <a:lnTo>
                          <a:pt x="803" y="1307"/>
                        </a:lnTo>
                        <a:lnTo>
                          <a:pt x="803" y="1200"/>
                        </a:lnTo>
                        <a:lnTo>
                          <a:pt x="777" y="1135"/>
                        </a:lnTo>
                        <a:lnTo>
                          <a:pt x="738" y="1096"/>
                        </a:lnTo>
                        <a:lnTo>
                          <a:pt x="699" y="1096"/>
                        </a:lnTo>
                        <a:lnTo>
                          <a:pt x="647" y="1122"/>
                        </a:lnTo>
                        <a:lnTo>
                          <a:pt x="570" y="1187"/>
                        </a:lnTo>
                        <a:lnTo>
                          <a:pt x="466" y="1251"/>
                        </a:lnTo>
                        <a:lnTo>
                          <a:pt x="401" y="1290"/>
                        </a:lnTo>
                        <a:lnTo>
                          <a:pt x="350" y="1303"/>
                        </a:lnTo>
                        <a:lnTo>
                          <a:pt x="315" y="1286"/>
                        </a:lnTo>
                        <a:lnTo>
                          <a:pt x="298" y="1260"/>
                        </a:lnTo>
                        <a:lnTo>
                          <a:pt x="306" y="1230"/>
                        </a:lnTo>
                        <a:lnTo>
                          <a:pt x="319" y="1200"/>
                        </a:lnTo>
                        <a:lnTo>
                          <a:pt x="388" y="1135"/>
                        </a:lnTo>
                        <a:lnTo>
                          <a:pt x="518" y="1044"/>
                        </a:lnTo>
                        <a:lnTo>
                          <a:pt x="582" y="992"/>
                        </a:lnTo>
                        <a:lnTo>
                          <a:pt x="634" y="915"/>
                        </a:lnTo>
                        <a:lnTo>
                          <a:pt x="660" y="798"/>
                        </a:lnTo>
                        <a:lnTo>
                          <a:pt x="673" y="682"/>
                        </a:lnTo>
                        <a:lnTo>
                          <a:pt x="699" y="630"/>
                        </a:lnTo>
                        <a:lnTo>
                          <a:pt x="738" y="578"/>
                        </a:lnTo>
                        <a:lnTo>
                          <a:pt x="794" y="522"/>
                        </a:lnTo>
                        <a:lnTo>
                          <a:pt x="824" y="483"/>
                        </a:lnTo>
                        <a:lnTo>
                          <a:pt x="828" y="436"/>
                        </a:lnTo>
                        <a:lnTo>
                          <a:pt x="803" y="371"/>
                        </a:lnTo>
                        <a:lnTo>
                          <a:pt x="777" y="332"/>
                        </a:lnTo>
                        <a:lnTo>
                          <a:pt x="751" y="293"/>
                        </a:lnTo>
                        <a:lnTo>
                          <a:pt x="738" y="216"/>
                        </a:lnTo>
                        <a:lnTo>
                          <a:pt x="751" y="138"/>
                        </a:lnTo>
                        <a:lnTo>
                          <a:pt x="772" y="82"/>
                        </a:lnTo>
                        <a:lnTo>
                          <a:pt x="807" y="39"/>
                        </a:lnTo>
                        <a:lnTo>
                          <a:pt x="854" y="9"/>
                        </a:lnTo>
                        <a:lnTo>
                          <a:pt x="936" y="0"/>
                        </a:lnTo>
                        <a:lnTo>
                          <a:pt x="997" y="22"/>
                        </a:lnTo>
                        <a:lnTo>
                          <a:pt x="1035" y="56"/>
                        </a:lnTo>
                        <a:lnTo>
                          <a:pt x="1061" y="112"/>
                        </a:lnTo>
                        <a:lnTo>
                          <a:pt x="1066" y="160"/>
                        </a:lnTo>
                        <a:lnTo>
                          <a:pt x="1061" y="203"/>
                        </a:lnTo>
                        <a:lnTo>
                          <a:pt x="1035" y="280"/>
                        </a:lnTo>
                        <a:lnTo>
                          <a:pt x="1023" y="319"/>
                        </a:lnTo>
                        <a:lnTo>
                          <a:pt x="1010" y="371"/>
                        </a:lnTo>
                        <a:lnTo>
                          <a:pt x="1023" y="423"/>
                        </a:lnTo>
                        <a:lnTo>
                          <a:pt x="1057" y="475"/>
                        </a:lnTo>
                        <a:lnTo>
                          <a:pt x="1113" y="513"/>
                        </a:lnTo>
                        <a:lnTo>
                          <a:pt x="1178" y="552"/>
                        </a:lnTo>
                        <a:lnTo>
                          <a:pt x="1225" y="583"/>
                        </a:lnTo>
                        <a:lnTo>
                          <a:pt x="1277" y="630"/>
                        </a:lnTo>
                        <a:lnTo>
                          <a:pt x="1316" y="695"/>
                        </a:lnTo>
                        <a:lnTo>
                          <a:pt x="1372" y="798"/>
                        </a:lnTo>
                        <a:lnTo>
                          <a:pt x="1406" y="906"/>
                        </a:lnTo>
                        <a:lnTo>
                          <a:pt x="1437" y="1005"/>
                        </a:lnTo>
                        <a:lnTo>
                          <a:pt x="1450" y="1122"/>
                        </a:lnTo>
                        <a:lnTo>
                          <a:pt x="1463" y="1251"/>
                        </a:lnTo>
                        <a:lnTo>
                          <a:pt x="1463" y="1342"/>
                        </a:lnTo>
                        <a:lnTo>
                          <a:pt x="1458" y="1411"/>
                        </a:lnTo>
                        <a:lnTo>
                          <a:pt x="1445" y="1450"/>
                        </a:lnTo>
                        <a:lnTo>
                          <a:pt x="1424" y="1480"/>
                        </a:lnTo>
                        <a:lnTo>
                          <a:pt x="1385" y="1493"/>
                        </a:lnTo>
                        <a:lnTo>
                          <a:pt x="1359" y="1480"/>
                        </a:lnTo>
                        <a:lnTo>
                          <a:pt x="1346" y="1450"/>
                        </a:lnTo>
                        <a:lnTo>
                          <a:pt x="1342" y="1364"/>
                        </a:lnTo>
                        <a:lnTo>
                          <a:pt x="1342" y="1221"/>
                        </a:lnTo>
                        <a:lnTo>
                          <a:pt x="1337" y="1135"/>
                        </a:lnTo>
                        <a:lnTo>
                          <a:pt x="1320" y="1070"/>
                        </a:lnTo>
                        <a:lnTo>
                          <a:pt x="1281" y="1018"/>
                        </a:lnTo>
                        <a:lnTo>
                          <a:pt x="1238" y="1001"/>
                        </a:lnTo>
                        <a:lnTo>
                          <a:pt x="1195" y="1014"/>
                        </a:lnTo>
                        <a:lnTo>
                          <a:pt x="1178" y="1044"/>
                        </a:lnTo>
                        <a:lnTo>
                          <a:pt x="1191" y="1148"/>
                        </a:lnTo>
                        <a:lnTo>
                          <a:pt x="1208" y="1295"/>
                        </a:lnTo>
                        <a:lnTo>
                          <a:pt x="1234" y="1424"/>
                        </a:lnTo>
                        <a:lnTo>
                          <a:pt x="1264" y="1536"/>
                        </a:lnTo>
                        <a:lnTo>
                          <a:pt x="1303" y="1683"/>
                        </a:lnTo>
                        <a:lnTo>
                          <a:pt x="1346" y="1808"/>
                        </a:lnTo>
                        <a:lnTo>
                          <a:pt x="1450" y="1976"/>
                        </a:lnTo>
                        <a:lnTo>
                          <a:pt x="1527" y="2080"/>
                        </a:lnTo>
                        <a:lnTo>
                          <a:pt x="1670" y="2235"/>
                        </a:lnTo>
                        <a:lnTo>
                          <a:pt x="1760" y="2352"/>
                        </a:lnTo>
                        <a:lnTo>
                          <a:pt x="1829" y="2460"/>
                        </a:lnTo>
                        <a:lnTo>
                          <a:pt x="1825" y="2507"/>
                        </a:lnTo>
                        <a:lnTo>
                          <a:pt x="1760" y="2585"/>
                        </a:lnTo>
                        <a:lnTo>
                          <a:pt x="1657" y="2675"/>
                        </a:lnTo>
                        <a:lnTo>
                          <a:pt x="1557" y="2675"/>
                        </a:lnTo>
                        <a:lnTo>
                          <a:pt x="1527" y="2649"/>
                        </a:lnTo>
                        <a:lnTo>
                          <a:pt x="1575" y="2598"/>
                        </a:lnTo>
                        <a:lnTo>
                          <a:pt x="1622" y="2542"/>
                        </a:lnTo>
                        <a:lnTo>
                          <a:pt x="1618" y="2490"/>
                        </a:lnTo>
                        <a:lnTo>
                          <a:pt x="1549" y="2391"/>
                        </a:lnTo>
                        <a:lnTo>
                          <a:pt x="1437" y="2274"/>
                        </a:lnTo>
                        <a:lnTo>
                          <a:pt x="1260" y="2054"/>
                        </a:lnTo>
                        <a:lnTo>
                          <a:pt x="1117" y="1864"/>
                        </a:lnTo>
                        <a:lnTo>
                          <a:pt x="1061" y="1808"/>
                        </a:lnTo>
                        <a:lnTo>
                          <a:pt x="1023" y="1769"/>
                        </a:lnTo>
                        <a:lnTo>
                          <a:pt x="958" y="1756"/>
                        </a:lnTo>
                        <a:lnTo>
                          <a:pt x="893" y="1782"/>
                        </a:lnTo>
                        <a:lnTo>
                          <a:pt x="828" y="1834"/>
                        </a:lnTo>
                        <a:lnTo>
                          <a:pt x="686" y="2024"/>
                        </a:lnTo>
                        <a:lnTo>
                          <a:pt x="531" y="2235"/>
                        </a:lnTo>
                        <a:lnTo>
                          <a:pt x="375" y="2455"/>
                        </a:lnTo>
                        <a:lnTo>
                          <a:pt x="285" y="2585"/>
                        </a:lnTo>
                        <a:lnTo>
                          <a:pt x="246" y="2611"/>
                        </a:lnTo>
                        <a:lnTo>
                          <a:pt x="190" y="2602"/>
                        </a:lnTo>
                        <a:lnTo>
                          <a:pt x="130" y="2563"/>
                        </a:lnTo>
                        <a:lnTo>
                          <a:pt x="65" y="2511"/>
                        </a:lnTo>
                        <a:lnTo>
                          <a:pt x="9" y="24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2654280" y="2777040"/>
                    <a:ext cx="11196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609" h="414">
                        <a:moveTo>
                          <a:pt x="609" y="414"/>
                        </a:moveTo>
                        <a:lnTo>
                          <a:pt x="376" y="0"/>
                        </a:lnTo>
                        <a:lnTo>
                          <a:pt x="0" y="0"/>
                        </a:lnTo>
                        <a:lnTo>
                          <a:pt x="207" y="414"/>
                        </a:lnTo>
                        <a:lnTo>
                          <a:pt x="609" y="4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0" name=""/>
                <p:cNvGrpSpPr/>
                <p:nvPr/>
              </p:nvGrpSpPr>
              <p:grpSpPr>
                <a:xfrm>
                  <a:off x="1535040" y="2412720"/>
                  <a:ext cx="493200" cy="511560"/>
                  <a:chOff x="1535040" y="2412720"/>
                  <a:chExt cx="493200" cy="5115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>
                    <a:off x="1535040" y="2599920"/>
                    <a:ext cx="335520" cy="32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5" h="1227">
                        <a:moveTo>
                          <a:pt x="1088" y="1227"/>
                        </a:moveTo>
                        <a:lnTo>
                          <a:pt x="1088" y="907"/>
                        </a:lnTo>
                        <a:lnTo>
                          <a:pt x="696" y="907"/>
                        </a:lnTo>
                        <a:lnTo>
                          <a:pt x="696" y="498"/>
                        </a:lnTo>
                        <a:lnTo>
                          <a:pt x="306" y="498"/>
                        </a:lnTo>
                        <a:lnTo>
                          <a:pt x="306" y="91"/>
                        </a:lnTo>
                        <a:lnTo>
                          <a:pt x="0" y="91"/>
                        </a:lnTo>
                        <a:lnTo>
                          <a:pt x="0" y="0"/>
                        </a:lnTo>
                        <a:lnTo>
                          <a:pt x="392" y="0"/>
                        </a:lnTo>
                        <a:lnTo>
                          <a:pt x="392" y="408"/>
                        </a:lnTo>
                        <a:lnTo>
                          <a:pt x="783" y="408"/>
                        </a:lnTo>
                        <a:lnTo>
                          <a:pt x="783" y="818"/>
                        </a:lnTo>
                        <a:lnTo>
                          <a:pt x="1175" y="818"/>
                        </a:lnTo>
                        <a:lnTo>
                          <a:pt x="1175" y="1227"/>
                        </a:lnTo>
                        <a:lnTo>
                          <a:pt x="1088" y="12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62" name=""/>
                  <p:cNvGrpSpPr/>
                  <p:nvPr/>
                </p:nvGrpSpPr>
                <p:grpSpPr>
                  <a:xfrm>
                    <a:off x="1755360" y="2412720"/>
                    <a:ext cx="272880" cy="389880"/>
                    <a:chOff x="1755360" y="2412720"/>
                    <a:chExt cx="272880" cy="389880"/>
                  </a:xfrm>
                </p:grpSpPr>
                <p:sp>
                  <p:nvSpPr>
                    <p:cNvPr id="1563" name=""/>
                    <p:cNvSpPr/>
                    <p:nvPr/>
                  </p:nvSpPr>
                  <p:spPr>
                    <a:xfrm>
                      <a:off x="1755360" y="2559600"/>
                      <a:ext cx="2628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" h="59">
                          <a:moveTo>
                            <a:pt x="79" y="30"/>
                          </a:moveTo>
                          <a:lnTo>
                            <a:pt x="81" y="30"/>
                          </a:lnTo>
                          <a:lnTo>
                            <a:pt x="83" y="29"/>
                          </a:lnTo>
                          <a:lnTo>
                            <a:pt x="84" y="27"/>
                          </a:lnTo>
                          <a:lnTo>
                            <a:pt x="86" y="26"/>
                          </a:lnTo>
                          <a:lnTo>
                            <a:pt x="88" y="22"/>
                          </a:lnTo>
                          <a:lnTo>
                            <a:pt x="90" y="18"/>
                          </a:lnTo>
                          <a:lnTo>
                            <a:pt x="89" y="14"/>
                          </a:lnTo>
                          <a:lnTo>
                            <a:pt x="87" y="10"/>
                          </a:lnTo>
                          <a:lnTo>
                            <a:pt x="85" y="8"/>
                          </a:lnTo>
                          <a:lnTo>
                            <a:pt x="83" y="8"/>
                          </a:lnTo>
                          <a:lnTo>
                            <a:pt x="80" y="7"/>
                          </a:lnTo>
                          <a:lnTo>
                            <a:pt x="78" y="7"/>
                          </a:lnTo>
                          <a:lnTo>
                            <a:pt x="76" y="6"/>
                          </a:lnTo>
                          <a:lnTo>
                            <a:pt x="73" y="6"/>
                          </a:lnTo>
                          <a:lnTo>
                            <a:pt x="70" y="5"/>
                          </a:lnTo>
                          <a:lnTo>
                            <a:pt x="65" y="4"/>
                          </a:lnTo>
                          <a:lnTo>
                            <a:pt x="60" y="4"/>
                          </a:lnTo>
                          <a:lnTo>
                            <a:pt x="56" y="3"/>
                          </a:lnTo>
                          <a:lnTo>
                            <a:pt x="51" y="3"/>
                          </a:lnTo>
                          <a:lnTo>
                            <a:pt x="47" y="3"/>
                          </a:lnTo>
                          <a:lnTo>
                            <a:pt x="42" y="3"/>
                          </a:lnTo>
                          <a:lnTo>
                            <a:pt x="35" y="2"/>
                          </a:lnTo>
                          <a:lnTo>
                            <a:pt x="28" y="2"/>
                          </a:lnTo>
                          <a:lnTo>
                            <a:pt x="22" y="1"/>
                          </a:lnTo>
                          <a:lnTo>
                            <a:pt x="16" y="0"/>
                          </a:lnTo>
                          <a:lnTo>
                            <a:pt x="10" y="0"/>
                          </a:lnTo>
                          <a:lnTo>
                            <a:pt x="6" y="0"/>
                          </a:lnTo>
                          <a:lnTo>
                            <a:pt x="4" y="1"/>
                          </a:lnTo>
                          <a:lnTo>
                            <a:pt x="2" y="3"/>
                          </a:lnTo>
                          <a:lnTo>
                            <a:pt x="1" y="5"/>
                          </a:lnTo>
                          <a:lnTo>
                            <a:pt x="0" y="8"/>
                          </a:lnTo>
                          <a:lnTo>
                            <a:pt x="0" y="12"/>
                          </a:lnTo>
                          <a:lnTo>
                            <a:pt x="1" y="18"/>
                          </a:lnTo>
                          <a:lnTo>
                            <a:pt x="3" y="28"/>
                          </a:lnTo>
                          <a:lnTo>
                            <a:pt x="4" y="38"/>
                          </a:lnTo>
                          <a:lnTo>
                            <a:pt x="5" y="45"/>
                          </a:lnTo>
                          <a:lnTo>
                            <a:pt x="5" y="51"/>
                          </a:lnTo>
                          <a:lnTo>
                            <a:pt x="7" y="55"/>
                          </a:lnTo>
                          <a:lnTo>
                            <a:pt x="10" y="58"/>
                          </a:lnTo>
                          <a:lnTo>
                            <a:pt x="16" y="59"/>
                          </a:lnTo>
                          <a:lnTo>
                            <a:pt x="20" y="59"/>
                          </a:lnTo>
                          <a:lnTo>
                            <a:pt x="25" y="58"/>
                          </a:lnTo>
                          <a:lnTo>
                            <a:pt x="30" y="58"/>
                          </a:lnTo>
                          <a:lnTo>
                            <a:pt x="35" y="58"/>
                          </a:lnTo>
                          <a:lnTo>
                            <a:pt x="41" y="58"/>
                          </a:lnTo>
                          <a:lnTo>
                            <a:pt x="46" y="58"/>
                          </a:lnTo>
                          <a:lnTo>
                            <a:pt x="50" y="58"/>
                          </a:lnTo>
                          <a:lnTo>
                            <a:pt x="53" y="58"/>
                          </a:lnTo>
                          <a:lnTo>
                            <a:pt x="55" y="56"/>
                          </a:lnTo>
                          <a:lnTo>
                            <a:pt x="54" y="53"/>
                          </a:lnTo>
                          <a:lnTo>
                            <a:pt x="50" y="48"/>
                          </a:lnTo>
                          <a:lnTo>
                            <a:pt x="43" y="45"/>
                          </a:lnTo>
                          <a:lnTo>
                            <a:pt x="51" y="43"/>
                          </a:lnTo>
                          <a:lnTo>
                            <a:pt x="57" y="42"/>
                          </a:lnTo>
                          <a:lnTo>
                            <a:pt x="62" y="40"/>
                          </a:lnTo>
                          <a:lnTo>
                            <a:pt x="66" y="38"/>
                          </a:lnTo>
                          <a:lnTo>
                            <a:pt x="71" y="35"/>
                          </a:lnTo>
                          <a:lnTo>
                            <a:pt x="74" y="33"/>
                          </a:lnTo>
                          <a:lnTo>
                            <a:pt x="76" y="32"/>
                          </a:lnTo>
                          <a:lnTo>
                            <a:pt x="79" y="3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4" name=""/>
                    <p:cNvSpPr/>
                    <p:nvPr/>
                  </p:nvSpPr>
                  <p:spPr>
                    <a:xfrm>
                      <a:off x="1779120" y="2482200"/>
                      <a:ext cx="90000" cy="8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340">
                          <a:moveTo>
                            <a:pt x="25" y="340"/>
                          </a:moveTo>
                          <a:lnTo>
                            <a:pt x="23" y="338"/>
                          </a:lnTo>
                          <a:lnTo>
                            <a:pt x="19" y="332"/>
                          </a:lnTo>
                          <a:lnTo>
                            <a:pt x="15" y="323"/>
                          </a:lnTo>
                          <a:lnTo>
                            <a:pt x="9" y="313"/>
                          </a:lnTo>
                          <a:lnTo>
                            <a:pt x="4" y="304"/>
                          </a:lnTo>
                          <a:lnTo>
                            <a:pt x="1" y="294"/>
                          </a:lnTo>
                          <a:lnTo>
                            <a:pt x="0" y="287"/>
                          </a:lnTo>
                          <a:lnTo>
                            <a:pt x="1" y="283"/>
                          </a:lnTo>
                          <a:lnTo>
                            <a:pt x="6" y="280"/>
                          </a:lnTo>
                          <a:lnTo>
                            <a:pt x="16" y="275"/>
                          </a:lnTo>
                          <a:lnTo>
                            <a:pt x="28" y="270"/>
                          </a:lnTo>
                          <a:lnTo>
                            <a:pt x="43" y="264"/>
                          </a:lnTo>
                          <a:lnTo>
                            <a:pt x="56" y="257"/>
                          </a:lnTo>
                          <a:lnTo>
                            <a:pt x="70" y="252"/>
                          </a:lnTo>
                          <a:lnTo>
                            <a:pt x="81" y="246"/>
                          </a:lnTo>
                          <a:lnTo>
                            <a:pt x="89" y="242"/>
                          </a:lnTo>
                          <a:lnTo>
                            <a:pt x="97" y="238"/>
                          </a:lnTo>
                          <a:lnTo>
                            <a:pt x="105" y="231"/>
                          </a:lnTo>
                          <a:lnTo>
                            <a:pt x="115" y="225"/>
                          </a:lnTo>
                          <a:lnTo>
                            <a:pt x="126" y="217"/>
                          </a:lnTo>
                          <a:lnTo>
                            <a:pt x="135" y="212"/>
                          </a:lnTo>
                          <a:lnTo>
                            <a:pt x="143" y="206"/>
                          </a:lnTo>
                          <a:lnTo>
                            <a:pt x="150" y="203"/>
                          </a:lnTo>
                          <a:lnTo>
                            <a:pt x="155" y="203"/>
                          </a:lnTo>
                          <a:lnTo>
                            <a:pt x="160" y="205"/>
                          </a:lnTo>
                          <a:lnTo>
                            <a:pt x="163" y="204"/>
                          </a:lnTo>
                          <a:lnTo>
                            <a:pt x="165" y="202"/>
                          </a:lnTo>
                          <a:lnTo>
                            <a:pt x="164" y="199"/>
                          </a:lnTo>
                          <a:lnTo>
                            <a:pt x="163" y="194"/>
                          </a:lnTo>
                          <a:lnTo>
                            <a:pt x="163" y="190"/>
                          </a:lnTo>
                          <a:lnTo>
                            <a:pt x="166" y="187"/>
                          </a:lnTo>
                          <a:lnTo>
                            <a:pt x="171" y="186"/>
                          </a:lnTo>
                          <a:lnTo>
                            <a:pt x="175" y="186"/>
                          </a:lnTo>
                          <a:lnTo>
                            <a:pt x="176" y="182"/>
                          </a:lnTo>
                          <a:lnTo>
                            <a:pt x="176" y="178"/>
                          </a:lnTo>
                          <a:lnTo>
                            <a:pt x="175" y="173"/>
                          </a:lnTo>
                          <a:lnTo>
                            <a:pt x="175" y="163"/>
                          </a:lnTo>
                          <a:lnTo>
                            <a:pt x="178" y="151"/>
                          </a:lnTo>
                          <a:lnTo>
                            <a:pt x="184" y="137"/>
                          </a:lnTo>
                          <a:lnTo>
                            <a:pt x="190" y="123"/>
                          </a:lnTo>
                          <a:lnTo>
                            <a:pt x="201" y="95"/>
                          </a:lnTo>
                          <a:lnTo>
                            <a:pt x="211" y="70"/>
                          </a:lnTo>
                          <a:lnTo>
                            <a:pt x="220" y="47"/>
                          </a:lnTo>
                          <a:lnTo>
                            <a:pt x="229" y="28"/>
                          </a:lnTo>
                          <a:lnTo>
                            <a:pt x="240" y="14"/>
                          </a:lnTo>
                          <a:lnTo>
                            <a:pt x="251" y="5"/>
                          </a:lnTo>
                          <a:lnTo>
                            <a:pt x="266" y="0"/>
                          </a:lnTo>
                          <a:lnTo>
                            <a:pt x="284" y="2"/>
                          </a:lnTo>
                          <a:lnTo>
                            <a:pt x="288" y="4"/>
                          </a:lnTo>
                          <a:lnTo>
                            <a:pt x="294" y="7"/>
                          </a:lnTo>
                          <a:lnTo>
                            <a:pt x="299" y="11"/>
                          </a:lnTo>
                          <a:lnTo>
                            <a:pt x="305" y="17"/>
                          </a:lnTo>
                          <a:lnTo>
                            <a:pt x="310" y="24"/>
                          </a:lnTo>
                          <a:lnTo>
                            <a:pt x="314" y="33"/>
                          </a:lnTo>
                          <a:lnTo>
                            <a:pt x="315" y="44"/>
                          </a:lnTo>
                          <a:lnTo>
                            <a:pt x="314" y="56"/>
                          </a:lnTo>
                          <a:lnTo>
                            <a:pt x="305" y="85"/>
                          </a:lnTo>
                          <a:lnTo>
                            <a:pt x="294" y="115"/>
                          </a:lnTo>
                          <a:lnTo>
                            <a:pt x="281" y="145"/>
                          </a:lnTo>
                          <a:lnTo>
                            <a:pt x="268" y="174"/>
                          </a:lnTo>
                          <a:lnTo>
                            <a:pt x="255" y="200"/>
                          </a:lnTo>
                          <a:lnTo>
                            <a:pt x="245" y="220"/>
                          </a:lnTo>
                          <a:lnTo>
                            <a:pt x="238" y="236"/>
                          </a:lnTo>
                          <a:lnTo>
                            <a:pt x="234" y="246"/>
                          </a:lnTo>
                          <a:lnTo>
                            <a:pt x="230" y="256"/>
                          </a:lnTo>
                          <a:lnTo>
                            <a:pt x="226" y="262"/>
                          </a:lnTo>
                          <a:lnTo>
                            <a:pt x="220" y="266"/>
                          </a:lnTo>
                          <a:lnTo>
                            <a:pt x="215" y="267"/>
                          </a:lnTo>
                          <a:lnTo>
                            <a:pt x="211" y="268"/>
                          </a:lnTo>
                          <a:lnTo>
                            <a:pt x="205" y="271"/>
                          </a:lnTo>
                          <a:lnTo>
                            <a:pt x="199" y="274"/>
                          </a:lnTo>
                          <a:lnTo>
                            <a:pt x="193" y="279"/>
                          </a:lnTo>
                          <a:lnTo>
                            <a:pt x="186" y="282"/>
                          </a:lnTo>
                          <a:lnTo>
                            <a:pt x="179" y="286"/>
                          </a:lnTo>
                          <a:lnTo>
                            <a:pt x="174" y="290"/>
                          </a:lnTo>
                          <a:lnTo>
                            <a:pt x="170" y="292"/>
                          </a:lnTo>
                          <a:lnTo>
                            <a:pt x="166" y="294"/>
                          </a:lnTo>
                          <a:lnTo>
                            <a:pt x="160" y="296"/>
                          </a:lnTo>
                          <a:lnTo>
                            <a:pt x="151" y="299"/>
                          </a:lnTo>
                          <a:lnTo>
                            <a:pt x="142" y="304"/>
                          </a:lnTo>
                          <a:lnTo>
                            <a:pt x="133" y="307"/>
                          </a:lnTo>
                          <a:lnTo>
                            <a:pt x="125" y="310"/>
                          </a:lnTo>
                          <a:lnTo>
                            <a:pt x="116" y="312"/>
                          </a:lnTo>
                          <a:lnTo>
                            <a:pt x="110" y="313"/>
                          </a:lnTo>
                          <a:lnTo>
                            <a:pt x="103" y="314"/>
                          </a:lnTo>
                          <a:lnTo>
                            <a:pt x="91" y="318"/>
                          </a:lnTo>
                          <a:lnTo>
                            <a:pt x="78" y="323"/>
                          </a:lnTo>
                          <a:lnTo>
                            <a:pt x="64" y="327"/>
                          </a:lnTo>
                          <a:lnTo>
                            <a:pt x="51" y="333"/>
                          </a:lnTo>
                          <a:lnTo>
                            <a:pt x="38" y="337"/>
                          </a:lnTo>
                          <a:lnTo>
                            <a:pt x="30" y="339"/>
                          </a:lnTo>
                          <a:lnTo>
                            <a:pt x="25" y="34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840" bIns="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5" name=""/>
                    <p:cNvSpPr/>
                    <p:nvPr/>
                  </p:nvSpPr>
                  <p:spPr>
                    <a:xfrm>
                      <a:off x="1773720" y="2557440"/>
                      <a:ext cx="1116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53">
                          <a:moveTo>
                            <a:pt x="21" y="0"/>
                          </a:moveTo>
                          <a:lnTo>
                            <a:pt x="22" y="9"/>
                          </a:lnTo>
                          <a:lnTo>
                            <a:pt x="26" y="21"/>
                          </a:lnTo>
                          <a:lnTo>
                            <a:pt x="34" y="35"/>
                          </a:lnTo>
                          <a:lnTo>
                            <a:pt x="40" y="47"/>
                          </a:lnTo>
                          <a:lnTo>
                            <a:pt x="34" y="49"/>
                          </a:lnTo>
                          <a:lnTo>
                            <a:pt x="27" y="52"/>
                          </a:lnTo>
                          <a:lnTo>
                            <a:pt x="22" y="53"/>
                          </a:lnTo>
                          <a:lnTo>
                            <a:pt x="19" y="53"/>
                          </a:lnTo>
                          <a:lnTo>
                            <a:pt x="12" y="43"/>
                          </a:lnTo>
                          <a:lnTo>
                            <a:pt x="6" y="30"/>
                          </a:lnTo>
                          <a:lnTo>
                            <a:pt x="1" y="17"/>
                          </a:lnTo>
                          <a:lnTo>
                            <a:pt x="0" y="8"/>
                          </a:lnTo>
                          <a:lnTo>
                            <a:pt x="8" y="4"/>
                          </a:lnTo>
                          <a:lnTo>
                            <a:pt x="14" y="2"/>
                          </a:lnTo>
                          <a:lnTo>
                            <a:pt x="18" y="1"/>
                          </a:lnTo>
                          <a:lnTo>
                            <a:pt x="2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6" name=""/>
                    <p:cNvSpPr/>
                    <p:nvPr/>
                  </p:nvSpPr>
                  <p:spPr>
                    <a:xfrm>
                      <a:off x="1822680" y="2417760"/>
                      <a:ext cx="4428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263">
                          <a:moveTo>
                            <a:pt x="21" y="168"/>
                          </a:moveTo>
                          <a:lnTo>
                            <a:pt x="18" y="166"/>
                          </a:lnTo>
                          <a:lnTo>
                            <a:pt x="16" y="164"/>
                          </a:lnTo>
                          <a:lnTo>
                            <a:pt x="16" y="161"/>
                          </a:lnTo>
                          <a:lnTo>
                            <a:pt x="17" y="159"/>
                          </a:lnTo>
                          <a:lnTo>
                            <a:pt x="17" y="159"/>
                          </a:lnTo>
                          <a:lnTo>
                            <a:pt x="17" y="158"/>
                          </a:lnTo>
                          <a:lnTo>
                            <a:pt x="17" y="158"/>
                          </a:lnTo>
                          <a:lnTo>
                            <a:pt x="17" y="158"/>
                          </a:lnTo>
                          <a:lnTo>
                            <a:pt x="16" y="156"/>
                          </a:lnTo>
                          <a:lnTo>
                            <a:pt x="15" y="155"/>
                          </a:lnTo>
                          <a:lnTo>
                            <a:pt x="14" y="153"/>
                          </a:lnTo>
                          <a:lnTo>
                            <a:pt x="14" y="150"/>
                          </a:lnTo>
                          <a:lnTo>
                            <a:pt x="14" y="147"/>
                          </a:lnTo>
                          <a:lnTo>
                            <a:pt x="14" y="145"/>
                          </a:lnTo>
                          <a:lnTo>
                            <a:pt x="12" y="141"/>
                          </a:lnTo>
                          <a:lnTo>
                            <a:pt x="10" y="140"/>
                          </a:lnTo>
                          <a:lnTo>
                            <a:pt x="8" y="139"/>
                          </a:lnTo>
                          <a:lnTo>
                            <a:pt x="6" y="139"/>
                          </a:lnTo>
                          <a:lnTo>
                            <a:pt x="4" y="138"/>
                          </a:lnTo>
                          <a:lnTo>
                            <a:pt x="2" y="137"/>
                          </a:lnTo>
                          <a:lnTo>
                            <a:pt x="0" y="130"/>
                          </a:lnTo>
                          <a:lnTo>
                            <a:pt x="4" y="124"/>
                          </a:lnTo>
                          <a:lnTo>
                            <a:pt x="9" y="117"/>
                          </a:lnTo>
                          <a:lnTo>
                            <a:pt x="13" y="111"/>
                          </a:lnTo>
                          <a:lnTo>
                            <a:pt x="15" y="103"/>
                          </a:lnTo>
                          <a:lnTo>
                            <a:pt x="16" y="94"/>
                          </a:lnTo>
                          <a:lnTo>
                            <a:pt x="15" y="84"/>
                          </a:lnTo>
                          <a:lnTo>
                            <a:pt x="15" y="76"/>
                          </a:lnTo>
                          <a:lnTo>
                            <a:pt x="16" y="63"/>
                          </a:lnTo>
                          <a:lnTo>
                            <a:pt x="20" y="50"/>
                          </a:lnTo>
                          <a:lnTo>
                            <a:pt x="27" y="37"/>
                          </a:lnTo>
                          <a:lnTo>
                            <a:pt x="36" y="24"/>
                          </a:lnTo>
                          <a:lnTo>
                            <a:pt x="47" y="13"/>
                          </a:lnTo>
                          <a:lnTo>
                            <a:pt x="61" y="6"/>
                          </a:lnTo>
                          <a:lnTo>
                            <a:pt x="76" y="2"/>
                          </a:lnTo>
                          <a:lnTo>
                            <a:pt x="94" y="0"/>
                          </a:lnTo>
                          <a:lnTo>
                            <a:pt x="110" y="3"/>
                          </a:lnTo>
                          <a:lnTo>
                            <a:pt x="124" y="8"/>
                          </a:lnTo>
                          <a:lnTo>
                            <a:pt x="135" y="16"/>
                          </a:lnTo>
                          <a:lnTo>
                            <a:pt x="145" y="25"/>
                          </a:lnTo>
                          <a:lnTo>
                            <a:pt x="151" y="36"/>
                          </a:lnTo>
                          <a:lnTo>
                            <a:pt x="155" y="49"/>
                          </a:lnTo>
                          <a:lnTo>
                            <a:pt x="157" y="62"/>
                          </a:lnTo>
                          <a:lnTo>
                            <a:pt x="157" y="76"/>
                          </a:lnTo>
                          <a:lnTo>
                            <a:pt x="153" y="101"/>
                          </a:lnTo>
                          <a:lnTo>
                            <a:pt x="147" y="121"/>
                          </a:lnTo>
                          <a:lnTo>
                            <a:pt x="138" y="134"/>
                          </a:lnTo>
                          <a:lnTo>
                            <a:pt x="132" y="142"/>
                          </a:lnTo>
                          <a:lnTo>
                            <a:pt x="128" y="152"/>
                          </a:lnTo>
                          <a:lnTo>
                            <a:pt x="126" y="164"/>
                          </a:lnTo>
                          <a:lnTo>
                            <a:pt x="129" y="179"/>
                          </a:lnTo>
                          <a:lnTo>
                            <a:pt x="135" y="197"/>
                          </a:lnTo>
                          <a:lnTo>
                            <a:pt x="141" y="216"/>
                          </a:lnTo>
                          <a:lnTo>
                            <a:pt x="143" y="234"/>
                          </a:lnTo>
                          <a:lnTo>
                            <a:pt x="140" y="249"/>
                          </a:lnTo>
                          <a:lnTo>
                            <a:pt x="134" y="257"/>
                          </a:lnTo>
                          <a:lnTo>
                            <a:pt x="129" y="260"/>
                          </a:lnTo>
                          <a:lnTo>
                            <a:pt x="123" y="263"/>
                          </a:lnTo>
                          <a:lnTo>
                            <a:pt x="117" y="263"/>
                          </a:lnTo>
                          <a:lnTo>
                            <a:pt x="110" y="260"/>
                          </a:lnTo>
                          <a:lnTo>
                            <a:pt x="103" y="257"/>
                          </a:lnTo>
                          <a:lnTo>
                            <a:pt x="96" y="252"/>
                          </a:lnTo>
                          <a:lnTo>
                            <a:pt x="90" y="244"/>
                          </a:lnTo>
                          <a:lnTo>
                            <a:pt x="82" y="234"/>
                          </a:lnTo>
                          <a:lnTo>
                            <a:pt x="77" y="227"/>
                          </a:lnTo>
                          <a:lnTo>
                            <a:pt x="73" y="219"/>
                          </a:lnTo>
                          <a:lnTo>
                            <a:pt x="69" y="213"/>
                          </a:lnTo>
                          <a:lnTo>
                            <a:pt x="66" y="207"/>
                          </a:lnTo>
                          <a:lnTo>
                            <a:pt x="62" y="202"/>
                          </a:lnTo>
                          <a:lnTo>
                            <a:pt x="59" y="199"/>
                          </a:lnTo>
                          <a:lnTo>
                            <a:pt x="54" y="197"/>
                          </a:lnTo>
                          <a:lnTo>
                            <a:pt x="51" y="195"/>
                          </a:lnTo>
                          <a:lnTo>
                            <a:pt x="43" y="194"/>
                          </a:lnTo>
                          <a:lnTo>
                            <a:pt x="35" y="194"/>
                          </a:lnTo>
                          <a:lnTo>
                            <a:pt x="26" y="192"/>
                          </a:lnTo>
                          <a:lnTo>
                            <a:pt x="21" y="189"/>
                          </a:lnTo>
                          <a:lnTo>
                            <a:pt x="19" y="184"/>
                          </a:lnTo>
                          <a:lnTo>
                            <a:pt x="18" y="177"/>
                          </a:lnTo>
                          <a:lnTo>
                            <a:pt x="19" y="172"/>
                          </a:lnTo>
                          <a:lnTo>
                            <a:pt x="21" y="16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7" name=""/>
                    <p:cNvSpPr/>
                    <p:nvPr/>
                  </p:nvSpPr>
                  <p:spPr>
                    <a:xfrm>
                      <a:off x="1822680" y="2412720"/>
                      <a:ext cx="5004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9" h="199">
                          <a:moveTo>
                            <a:pt x="96" y="129"/>
                          </a:moveTo>
                          <a:lnTo>
                            <a:pt x="90" y="125"/>
                          </a:lnTo>
                          <a:lnTo>
                            <a:pt x="81" y="120"/>
                          </a:lnTo>
                          <a:lnTo>
                            <a:pt x="73" y="118"/>
                          </a:lnTo>
                          <a:lnTo>
                            <a:pt x="66" y="115"/>
                          </a:lnTo>
                          <a:lnTo>
                            <a:pt x="58" y="109"/>
                          </a:lnTo>
                          <a:lnTo>
                            <a:pt x="51" y="102"/>
                          </a:lnTo>
                          <a:lnTo>
                            <a:pt x="45" y="92"/>
                          </a:lnTo>
                          <a:lnTo>
                            <a:pt x="42" y="81"/>
                          </a:lnTo>
                          <a:lnTo>
                            <a:pt x="37" y="82"/>
                          </a:lnTo>
                          <a:lnTo>
                            <a:pt x="31" y="82"/>
                          </a:lnTo>
                          <a:lnTo>
                            <a:pt x="25" y="82"/>
                          </a:lnTo>
                          <a:lnTo>
                            <a:pt x="20" y="81"/>
                          </a:lnTo>
                          <a:lnTo>
                            <a:pt x="15" y="80"/>
                          </a:lnTo>
                          <a:lnTo>
                            <a:pt x="11" y="78"/>
                          </a:lnTo>
                          <a:lnTo>
                            <a:pt x="8" y="75"/>
                          </a:lnTo>
                          <a:lnTo>
                            <a:pt x="7" y="69"/>
                          </a:lnTo>
                          <a:lnTo>
                            <a:pt x="7" y="66"/>
                          </a:lnTo>
                          <a:lnTo>
                            <a:pt x="7" y="62"/>
                          </a:lnTo>
                          <a:lnTo>
                            <a:pt x="7" y="59"/>
                          </a:lnTo>
                          <a:lnTo>
                            <a:pt x="7" y="57"/>
                          </a:lnTo>
                          <a:lnTo>
                            <a:pt x="4" y="54"/>
                          </a:lnTo>
                          <a:lnTo>
                            <a:pt x="1" y="51"/>
                          </a:lnTo>
                          <a:lnTo>
                            <a:pt x="0" y="46"/>
                          </a:lnTo>
                          <a:lnTo>
                            <a:pt x="1" y="40"/>
                          </a:lnTo>
                          <a:lnTo>
                            <a:pt x="5" y="33"/>
                          </a:lnTo>
                          <a:lnTo>
                            <a:pt x="10" y="26"/>
                          </a:lnTo>
                          <a:lnTo>
                            <a:pt x="17" y="17"/>
                          </a:lnTo>
                          <a:lnTo>
                            <a:pt x="27" y="10"/>
                          </a:lnTo>
                          <a:lnTo>
                            <a:pt x="31" y="13"/>
                          </a:lnTo>
                          <a:lnTo>
                            <a:pt x="35" y="15"/>
                          </a:lnTo>
                          <a:lnTo>
                            <a:pt x="38" y="14"/>
                          </a:lnTo>
                          <a:lnTo>
                            <a:pt x="41" y="11"/>
                          </a:lnTo>
                          <a:lnTo>
                            <a:pt x="46" y="7"/>
                          </a:lnTo>
                          <a:lnTo>
                            <a:pt x="51" y="3"/>
                          </a:lnTo>
                          <a:lnTo>
                            <a:pt x="57" y="2"/>
                          </a:lnTo>
                          <a:lnTo>
                            <a:pt x="64" y="4"/>
                          </a:lnTo>
                          <a:lnTo>
                            <a:pt x="69" y="8"/>
                          </a:lnTo>
                          <a:lnTo>
                            <a:pt x="73" y="10"/>
                          </a:lnTo>
                          <a:lnTo>
                            <a:pt x="78" y="10"/>
                          </a:lnTo>
                          <a:lnTo>
                            <a:pt x="82" y="10"/>
                          </a:lnTo>
                          <a:lnTo>
                            <a:pt x="87" y="9"/>
                          </a:lnTo>
                          <a:lnTo>
                            <a:pt x="95" y="5"/>
                          </a:lnTo>
                          <a:lnTo>
                            <a:pt x="103" y="2"/>
                          </a:lnTo>
                          <a:lnTo>
                            <a:pt x="110" y="0"/>
                          </a:lnTo>
                          <a:lnTo>
                            <a:pt x="115" y="1"/>
                          </a:lnTo>
                          <a:lnTo>
                            <a:pt x="124" y="3"/>
                          </a:lnTo>
                          <a:lnTo>
                            <a:pt x="133" y="9"/>
                          </a:lnTo>
                          <a:lnTo>
                            <a:pt x="143" y="15"/>
                          </a:lnTo>
                          <a:lnTo>
                            <a:pt x="154" y="23"/>
                          </a:lnTo>
                          <a:lnTo>
                            <a:pt x="162" y="31"/>
                          </a:lnTo>
                          <a:lnTo>
                            <a:pt x="168" y="40"/>
                          </a:lnTo>
                          <a:lnTo>
                            <a:pt x="171" y="50"/>
                          </a:lnTo>
                          <a:lnTo>
                            <a:pt x="172" y="66"/>
                          </a:lnTo>
                          <a:lnTo>
                            <a:pt x="171" y="75"/>
                          </a:lnTo>
                          <a:lnTo>
                            <a:pt x="169" y="80"/>
                          </a:lnTo>
                          <a:lnTo>
                            <a:pt x="169" y="86"/>
                          </a:lnTo>
                          <a:lnTo>
                            <a:pt x="171" y="92"/>
                          </a:lnTo>
                          <a:lnTo>
                            <a:pt x="175" y="98"/>
                          </a:lnTo>
                          <a:lnTo>
                            <a:pt x="177" y="103"/>
                          </a:lnTo>
                          <a:lnTo>
                            <a:pt x="179" y="109"/>
                          </a:lnTo>
                          <a:lnTo>
                            <a:pt x="178" y="118"/>
                          </a:lnTo>
                          <a:lnTo>
                            <a:pt x="172" y="128"/>
                          </a:lnTo>
                          <a:lnTo>
                            <a:pt x="166" y="139"/>
                          </a:lnTo>
                          <a:lnTo>
                            <a:pt x="159" y="151"/>
                          </a:lnTo>
                          <a:lnTo>
                            <a:pt x="151" y="161"/>
                          </a:lnTo>
                          <a:lnTo>
                            <a:pt x="145" y="171"/>
                          </a:lnTo>
                          <a:lnTo>
                            <a:pt x="139" y="179"/>
                          </a:lnTo>
                          <a:lnTo>
                            <a:pt x="138" y="185"/>
                          </a:lnTo>
                          <a:lnTo>
                            <a:pt x="140" y="189"/>
                          </a:lnTo>
                          <a:lnTo>
                            <a:pt x="143" y="190"/>
                          </a:lnTo>
                          <a:lnTo>
                            <a:pt x="147" y="189"/>
                          </a:lnTo>
                          <a:lnTo>
                            <a:pt x="149" y="189"/>
                          </a:lnTo>
                          <a:lnTo>
                            <a:pt x="142" y="197"/>
                          </a:lnTo>
                          <a:lnTo>
                            <a:pt x="134" y="199"/>
                          </a:lnTo>
                          <a:lnTo>
                            <a:pt x="126" y="196"/>
                          </a:lnTo>
                          <a:lnTo>
                            <a:pt x="122" y="190"/>
                          </a:lnTo>
                          <a:lnTo>
                            <a:pt x="122" y="186"/>
                          </a:lnTo>
                          <a:lnTo>
                            <a:pt x="122" y="182"/>
                          </a:lnTo>
                          <a:lnTo>
                            <a:pt x="123" y="179"/>
                          </a:lnTo>
                          <a:lnTo>
                            <a:pt x="123" y="178"/>
                          </a:lnTo>
                          <a:lnTo>
                            <a:pt x="115" y="177"/>
                          </a:lnTo>
                          <a:lnTo>
                            <a:pt x="111" y="173"/>
                          </a:lnTo>
                          <a:lnTo>
                            <a:pt x="109" y="169"/>
                          </a:lnTo>
                          <a:lnTo>
                            <a:pt x="109" y="165"/>
                          </a:lnTo>
                          <a:lnTo>
                            <a:pt x="119" y="163"/>
                          </a:lnTo>
                          <a:lnTo>
                            <a:pt x="125" y="156"/>
                          </a:lnTo>
                          <a:lnTo>
                            <a:pt x="129" y="148"/>
                          </a:lnTo>
                          <a:lnTo>
                            <a:pt x="129" y="139"/>
                          </a:lnTo>
                          <a:lnTo>
                            <a:pt x="127" y="127"/>
                          </a:lnTo>
                          <a:lnTo>
                            <a:pt x="124" y="119"/>
                          </a:lnTo>
                          <a:lnTo>
                            <a:pt x="119" y="116"/>
                          </a:lnTo>
                          <a:lnTo>
                            <a:pt x="111" y="115"/>
                          </a:lnTo>
                          <a:lnTo>
                            <a:pt x="105" y="116"/>
                          </a:lnTo>
                          <a:lnTo>
                            <a:pt x="102" y="118"/>
                          </a:lnTo>
                          <a:lnTo>
                            <a:pt x="99" y="122"/>
                          </a:lnTo>
                          <a:lnTo>
                            <a:pt x="96" y="1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8" name=""/>
                    <p:cNvSpPr/>
                    <p:nvPr/>
                  </p:nvSpPr>
                  <p:spPr>
                    <a:xfrm>
                      <a:off x="1795320" y="2592360"/>
                      <a:ext cx="90000" cy="19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4" h="740">
                          <a:moveTo>
                            <a:pt x="121" y="740"/>
                          </a:moveTo>
                          <a:lnTo>
                            <a:pt x="128" y="737"/>
                          </a:lnTo>
                          <a:lnTo>
                            <a:pt x="132" y="727"/>
                          </a:lnTo>
                          <a:lnTo>
                            <a:pt x="134" y="713"/>
                          </a:lnTo>
                          <a:lnTo>
                            <a:pt x="133" y="695"/>
                          </a:lnTo>
                          <a:lnTo>
                            <a:pt x="129" y="661"/>
                          </a:lnTo>
                          <a:lnTo>
                            <a:pt x="125" y="610"/>
                          </a:lnTo>
                          <a:lnTo>
                            <a:pt x="125" y="555"/>
                          </a:lnTo>
                          <a:lnTo>
                            <a:pt x="130" y="510"/>
                          </a:lnTo>
                          <a:lnTo>
                            <a:pt x="132" y="493"/>
                          </a:lnTo>
                          <a:lnTo>
                            <a:pt x="130" y="479"/>
                          </a:lnTo>
                          <a:lnTo>
                            <a:pt x="125" y="464"/>
                          </a:lnTo>
                          <a:lnTo>
                            <a:pt x="120" y="445"/>
                          </a:lnTo>
                          <a:lnTo>
                            <a:pt x="116" y="435"/>
                          </a:lnTo>
                          <a:lnTo>
                            <a:pt x="111" y="423"/>
                          </a:lnTo>
                          <a:lnTo>
                            <a:pt x="105" y="411"/>
                          </a:lnTo>
                          <a:lnTo>
                            <a:pt x="99" y="399"/>
                          </a:lnTo>
                          <a:lnTo>
                            <a:pt x="92" y="389"/>
                          </a:lnTo>
                          <a:lnTo>
                            <a:pt x="88" y="379"/>
                          </a:lnTo>
                          <a:lnTo>
                            <a:pt x="84" y="373"/>
                          </a:lnTo>
                          <a:lnTo>
                            <a:pt x="82" y="368"/>
                          </a:lnTo>
                          <a:lnTo>
                            <a:pt x="81" y="364"/>
                          </a:lnTo>
                          <a:lnTo>
                            <a:pt x="81" y="359"/>
                          </a:lnTo>
                          <a:lnTo>
                            <a:pt x="82" y="354"/>
                          </a:lnTo>
                          <a:lnTo>
                            <a:pt x="83" y="350"/>
                          </a:lnTo>
                          <a:lnTo>
                            <a:pt x="86" y="346"/>
                          </a:lnTo>
                          <a:lnTo>
                            <a:pt x="93" y="338"/>
                          </a:lnTo>
                          <a:lnTo>
                            <a:pt x="104" y="327"/>
                          </a:lnTo>
                          <a:lnTo>
                            <a:pt x="116" y="314"/>
                          </a:lnTo>
                          <a:lnTo>
                            <a:pt x="131" y="299"/>
                          </a:lnTo>
                          <a:lnTo>
                            <a:pt x="147" y="282"/>
                          </a:lnTo>
                          <a:lnTo>
                            <a:pt x="165" y="263"/>
                          </a:lnTo>
                          <a:lnTo>
                            <a:pt x="184" y="244"/>
                          </a:lnTo>
                          <a:lnTo>
                            <a:pt x="203" y="223"/>
                          </a:lnTo>
                          <a:lnTo>
                            <a:pt x="222" y="204"/>
                          </a:lnTo>
                          <a:lnTo>
                            <a:pt x="240" y="183"/>
                          </a:lnTo>
                          <a:lnTo>
                            <a:pt x="256" y="165"/>
                          </a:lnTo>
                          <a:lnTo>
                            <a:pt x="272" y="146"/>
                          </a:lnTo>
                          <a:lnTo>
                            <a:pt x="285" y="129"/>
                          </a:lnTo>
                          <a:lnTo>
                            <a:pt x="296" y="114"/>
                          </a:lnTo>
                          <a:lnTo>
                            <a:pt x="303" y="101"/>
                          </a:lnTo>
                          <a:lnTo>
                            <a:pt x="308" y="88"/>
                          </a:lnTo>
                          <a:lnTo>
                            <a:pt x="312" y="74"/>
                          </a:lnTo>
                          <a:lnTo>
                            <a:pt x="314" y="60"/>
                          </a:lnTo>
                          <a:lnTo>
                            <a:pt x="314" y="46"/>
                          </a:lnTo>
                          <a:lnTo>
                            <a:pt x="312" y="33"/>
                          </a:lnTo>
                          <a:lnTo>
                            <a:pt x="307" y="21"/>
                          </a:lnTo>
                          <a:lnTo>
                            <a:pt x="299" y="11"/>
                          </a:lnTo>
                          <a:lnTo>
                            <a:pt x="288" y="3"/>
                          </a:lnTo>
                          <a:lnTo>
                            <a:pt x="281" y="1"/>
                          </a:lnTo>
                          <a:lnTo>
                            <a:pt x="274" y="0"/>
                          </a:lnTo>
                          <a:lnTo>
                            <a:pt x="265" y="0"/>
                          </a:lnTo>
                          <a:lnTo>
                            <a:pt x="257" y="2"/>
                          </a:lnTo>
                          <a:lnTo>
                            <a:pt x="249" y="6"/>
                          </a:lnTo>
                          <a:lnTo>
                            <a:pt x="240" y="9"/>
                          </a:lnTo>
                          <a:lnTo>
                            <a:pt x="231" y="14"/>
                          </a:lnTo>
                          <a:lnTo>
                            <a:pt x="223" y="19"/>
                          </a:lnTo>
                          <a:lnTo>
                            <a:pt x="213" y="26"/>
                          </a:lnTo>
                          <a:lnTo>
                            <a:pt x="201" y="35"/>
                          </a:lnTo>
                          <a:lnTo>
                            <a:pt x="190" y="45"/>
                          </a:lnTo>
                          <a:lnTo>
                            <a:pt x="177" y="57"/>
                          </a:lnTo>
                          <a:lnTo>
                            <a:pt x="166" y="68"/>
                          </a:lnTo>
                          <a:lnTo>
                            <a:pt x="153" y="81"/>
                          </a:lnTo>
                          <a:lnTo>
                            <a:pt x="141" y="95"/>
                          </a:lnTo>
                          <a:lnTo>
                            <a:pt x="130" y="111"/>
                          </a:lnTo>
                          <a:lnTo>
                            <a:pt x="117" y="126"/>
                          </a:lnTo>
                          <a:lnTo>
                            <a:pt x="105" y="143"/>
                          </a:lnTo>
                          <a:lnTo>
                            <a:pt x="93" y="159"/>
                          </a:lnTo>
                          <a:lnTo>
                            <a:pt x="82" y="177"/>
                          </a:lnTo>
                          <a:lnTo>
                            <a:pt x="72" y="194"/>
                          </a:lnTo>
                          <a:lnTo>
                            <a:pt x="61" y="212"/>
                          </a:lnTo>
                          <a:lnTo>
                            <a:pt x="51" y="230"/>
                          </a:lnTo>
                          <a:lnTo>
                            <a:pt x="42" y="248"/>
                          </a:lnTo>
                          <a:lnTo>
                            <a:pt x="34" y="262"/>
                          </a:lnTo>
                          <a:lnTo>
                            <a:pt x="26" y="279"/>
                          </a:lnTo>
                          <a:lnTo>
                            <a:pt x="18" y="295"/>
                          </a:lnTo>
                          <a:lnTo>
                            <a:pt x="11" y="306"/>
                          </a:lnTo>
                          <a:lnTo>
                            <a:pt x="6" y="313"/>
                          </a:lnTo>
                          <a:lnTo>
                            <a:pt x="2" y="322"/>
                          </a:lnTo>
                          <a:lnTo>
                            <a:pt x="0" y="333"/>
                          </a:lnTo>
                          <a:lnTo>
                            <a:pt x="0" y="346"/>
                          </a:lnTo>
                          <a:lnTo>
                            <a:pt x="2" y="353"/>
                          </a:lnTo>
                          <a:lnTo>
                            <a:pt x="5" y="362"/>
                          </a:lnTo>
                          <a:lnTo>
                            <a:pt x="10" y="370"/>
                          </a:lnTo>
                          <a:lnTo>
                            <a:pt x="17" y="378"/>
                          </a:lnTo>
                          <a:lnTo>
                            <a:pt x="23" y="389"/>
                          </a:lnTo>
                          <a:lnTo>
                            <a:pt x="29" y="401"/>
                          </a:lnTo>
                          <a:lnTo>
                            <a:pt x="35" y="415"/>
                          </a:lnTo>
                          <a:lnTo>
                            <a:pt x="39" y="431"/>
                          </a:lnTo>
                          <a:lnTo>
                            <a:pt x="42" y="443"/>
                          </a:lnTo>
                          <a:lnTo>
                            <a:pt x="46" y="459"/>
                          </a:lnTo>
                          <a:lnTo>
                            <a:pt x="51" y="480"/>
                          </a:lnTo>
                          <a:lnTo>
                            <a:pt x="56" y="501"/>
                          </a:lnTo>
                          <a:lnTo>
                            <a:pt x="61" y="522"/>
                          </a:lnTo>
                          <a:lnTo>
                            <a:pt x="65" y="543"/>
                          </a:lnTo>
                          <a:lnTo>
                            <a:pt x="70" y="559"/>
                          </a:lnTo>
                          <a:lnTo>
                            <a:pt x="72" y="571"/>
                          </a:lnTo>
                          <a:lnTo>
                            <a:pt x="76" y="601"/>
                          </a:lnTo>
                          <a:lnTo>
                            <a:pt x="82" y="645"/>
                          </a:lnTo>
                          <a:lnTo>
                            <a:pt x="87" y="686"/>
                          </a:lnTo>
                          <a:lnTo>
                            <a:pt x="91" y="711"/>
                          </a:lnTo>
                          <a:lnTo>
                            <a:pt x="93" y="722"/>
                          </a:lnTo>
                          <a:lnTo>
                            <a:pt x="99" y="731"/>
                          </a:lnTo>
                          <a:lnTo>
                            <a:pt x="107" y="739"/>
                          </a:lnTo>
                          <a:lnTo>
                            <a:pt x="121" y="74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9" name=""/>
                    <p:cNvSpPr/>
                    <p:nvPr/>
                  </p:nvSpPr>
                  <p:spPr>
                    <a:xfrm>
                      <a:off x="1790640" y="2772360"/>
                      <a:ext cx="4428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103">
                          <a:moveTo>
                            <a:pt x="139" y="0"/>
                          </a:moveTo>
                          <a:lnTo>
                            <a:pt x="143" y="5"/>
                          </a:lnTo>
                          <a:lnTo>
                            <a:pt x="147" y="13"/>
                          </a:lnTo>
                          <a:lnTo>
                            <a:pt x="149" y="24"/>
                          </a:lnTo>
                          <a:lnTo>
                            <a:pt x="151" y="34"/>
                          </a:lnTo>
                          <a:lnTo>
                            <a:pt x="153" y="43"/>
                          </a:lnTo>
                          <a:lnTo>
                            <a:pt x="156" y="51"/>
                          </a:lnTo>
                          <a:lnTo>
                            <a:pt x="158" y="59"/>
                          </a:lnTo>
                          <a:lnTo>
                            <a:pt x="157" y="64"/>
                          </a:lnTo>
                          <a:lnTo>
                            <a:pt x="152" y="69"/>
                          </a:lnTo>
                          <a:lnTo>
                            <a:pt x="146" y="73"/>
                          </a:lnTo>
                          <a:lnTo>
                            <a:pt x="136" y="76"/>
                          </a:lnTo>
                          <a:lnTo>
                            <a:pt x="127" y="78"/>
                          </a:lnTo>
                          <a:lnTo>
                            <a:pt x="122" y="79"/>
                          </a:lnTo>
                          <a:lnTo>
                            <a:pt x="116" y="79"/>
                          </a:lnTo>
                          <a:lnTo>
                            <a:pt x="108" y="82"/>
                          </a:lnTo>
                          <a:lnTo>
                            <a:pt x="100" y="84"/>
                          </a:lnTo>
                          <a:lnTo>
                            <a:pt x="92" y="87"/>
                          </a:lnTo>
                          <a:lnTo>
                            <a:pt x="82" y="90"/>
                          </a:lnTo>
                          <a:lnTo>
                            <a:pt x="73" y="96"/>
                          </a:lnTo>
                          <a:lnTo>
                            <a:pt x="64" y="101"/>
                          </a:lnTo>
                          <a:lnTo>
                            <a:pt x="60" y="103"/>
                          </a:lnTo>
                          <a:lnTo>
                            <a:pt x="56" y="103"/>
                          </a:lnTo>
                          <a:lnTo>
                            <a:pt x="53" y="103"/>
                          </a:lnTo>
                          <a:lnTo>
                            <a:pt x="49" y="102"/>
                          </a:lnTo>
                          <a:lnTo>
                            <a:pt x="46" y="101"/>
                          </a:lnTo>
                          <a:lnTo>
                            <a:pt x="42" y="100"/>
                          </a:lnTo>
                          <a:lnTo>
                            <a:pt x="36" y="99"/>
                          </a:lnTo>
                          <a:lnTo>
                            <a:pt x="29" y="97"/>
                          </a:lnTo>
                          <a:lnTo>
                            <a:pt x="23" y="96"/>
                          </a:lnTo>
                          <a:lnTo>
                            <a:pt x="17" y="95"/>
                          </a:lnTo>
                          <a:lnTo>
                            <a:pt x="12" y="94"/>
                          </a:lnTo>
                          <a:lnTo>
                            <a:pt x="8" y="92"/>
                          </a:lnTo>
                          <a:lnTo>
                            <a:pt x="2" y="90"/>
                          </a:lnTo>
                          <a:lnTo>
                            <a:pt x="0" y="86"/>
                          </a:lnTo>
                          <a:lnTo>
                            <a:pt x="0" y="83"/>
                          </a:lnTo>
                          <a:lnTo>
                            <a:pt x="2" y="81"/>
                          </a:lnTo>
                          <a:lnTo>
                            <a:pt x="5" y="79"/>
                          </a:lnTo>
                          <a:lnTo>
                            <a:pt x="8" y="78"/>
                          </a:lnTo>
                          <a:lnTo>
                            <a:pt x="10" y="77"/>
                          </a:lnTo>
                          <a:lnTo>
                            <a:pt x="14" y="76"/>
                          </a:lnTo>
                          <a:lnTo>
                            <a:pt x="18" y="76"/>
                          </a:lnTo>
                          <a:lnTo>
                            <a:pt x="22" y="75"/>
                          </a:lnTo>
                          <a:lnTo>
                            <a:pt x="27" y="76"/>
                          </a:lnTo>
                          <a:lnTo>
                            <a:pt x="34" y="76"/>
                          </a:lnTo>
                          <a:lnTo>
                            <a:pt x="46" y="66"/>
                          </a:lnTo>
                          <a:lnTo>
                            <a:pt x="61" y="55"/>
                          </a:lnTo>
                          <a:lnTo>
                            <a:pt x="77" y="42"/>
                          </a:lnTo>
                          <a:lnTo>
                            <a:pt x="95" y="29"/>
                          </a:lnTo>
                          <a:lnTo>
                            <a:pt x="110" y="18"/>
                          </a:lnTo>
                          <a:lnTo>
                            <a:pt x="124" y="8"/>
                          </a:lnTo>
                          <a:lnTo>
                            <a:pt x="134" y="3"/>
                          </a:lnTo>
                          <a:lnTo>
                            <a:pt x="13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0" name=""/>
                    <p:cNvSpPr/>
                    <p:nvPr/>
                  </p:nvSpPr>
                  <p:spPr>
                    <a:xfrm>
                      <a:off x="1789560" y="2778480"/>
                      <a:ext cx="4788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" h="95">
                          <a:moveTo>
                            <a:pt x="158" y="1"/>
                          </a:moveTo>
                          <a:lnTo>
                            <a:pt x="161" y="7"/>
                          </a:lnTo>
                          <a:lnTo>
                            <a:pt x="165" y="15"/>
                          </a:lnTo>
                          <a:lnTo>
                            <a:pt x="169" y="26"/>
                          </a:lnTo>
                          <a:lnTo>
                            <a:pt x="169" y="37"/>
                          </a:lnTo>
                          <a:lnTo>
                            <a:pt x="164" y="49"/>
                          </a:lnTo>
                          <a:lnTo>
                            <a:pt x="157" y="59"/>
                          </a:lnTo>
                          <a:lnTo>
                            <a:pt x="149" y="72"/>
                          </a:lnTo>
                          <a:lnTo>
                            <a:pt x="139" y="95"/>
                          </a:lnTo>
                          <a:lnTo>
                            <a:pt x="136" y="95"/>
                          </a:lnTo>
                          <a:lnTo>
                            <a:pt x="134" y="93"/>
                          </a:lnTo>
                          <a:lnTo>
                            <a:pt x="133" y="93"/>
                          </a:lnTo>
                          <a:lnTo>
                            <a:pt x="131" y="92"/>
                          </a:lnTo>
                          <a:lnTo>
                            <a:pt x="133" y="83"/>
                          </a:lnTo>
                          <a:lnTo>
                            <a:pt x="134" y="72"/>
                          </a:lnTo>
                          <a:lnTo>
                            <a:pt x="132" y="63"/>
                          </a:lnTo>
                          <a:lnTo>
                            <a:pt x="127" y="57"/>
                          </a:lnTo>
                          <a:lnTo>
                            <a:pt x="114" y="60"/>
                          </a:lnTo>
                          <a:lnTo>
                            <a:pt x="103" y="63"/>
                          </a:lnTo>
                          <a:lnTo>
                            <a:pt x="94" y="67"/>
                          </a:lnTo>
                          <a:lnTo>
                            <a:pt x="85" y="73"/>
                          </a:lnTo>
                          <a:lnTo>
                            <a:pt x="78" y="76"/>
                          </a:lnTo>
                          <a:lnTo>
                            <a:pt x="72" y="80"/>
                          </a:lnTo>
                          <a:lnTo>
                            <a:pt x="68" y="83"/>
                          </a:lnTo>
                          <a:lnTo>
                            <a:pt x="64" y="83"/>
                          </a:lnTo>
                          <a:lnTo>
                            <a:pt x="59" y="83"/>
                          </a:lnTo>
                          <a:lnTo>
                            <a:pt x="52" y="82"/>
                          </a:lnTo>
                          <a:lnTo>
                            <a:pt x="45" y="79"/>
                          </a:lnTo>
                          <a:lnTo>
                            <a:pt x="37" y="78"/>
                          </a:lnTo>
                          <a:lnTo>
                            <a:pt x="27" y="76"/>
                          </a:lnTo>
                          <a:lnTo>
                            <a:pt x="20" y="74"/>
                          </a:lnTo>
                          <a:lnTo>
                            <a:pt x="13" y="71"/>
                          </a:lnTo>
                          <a:lnTo>
                            <a:pt x="9" y="69"/>
                          </a:lnTo>
                          <a:lnTo>
                            <a:pt x="3" y="64"/>
                          </a:lnTo>
                          <a:lnTo>
                            <a:pt x="0" y="60"/>
                          </a:lnTo>
                          <a:lnTo>
                            <a:pt x="1" y="57"/>
                          </a:lnTo>
                          <a:lnTo>
                            <a:pt x="5" y="52"/>
                          </a:lnTo>
                          <a:lnTo>
                            <a:pt x="10" y="50"/>
                          </a:lnTo>
                          <a:lnTo>
                            <a:pt x="14" y="49"/>
                          </a:lnTo>
                          <a:lnTo>
                            <a:pt x="19" y="49"/>
                          </a:lnTo>
                          <a:lnTo>
                            <a:pt x="24" y="48"/>
                          </a:lnTo>
                          <a:lnTo>
                            <a:pt x="28" y="48"/>
                          </a:lnTo>
                          <a:lnTo>
                            <a:pt x="33" y="48"/>
                          </a:lnTo>
                          <a:lnTo>
                            <a:pt x="37" y="49"/>
                          </a:lnTo>
                          <a:lnTo>
                            <a:pt x="40" y="49"/>
                          </a:lnTo>
                          <a:lnTo>
                            <a:pt x="43" y="52"/>
                          </a:lnTo>
                          <a:lnTo>
                            <a:pt x="46" y="54"/>
                          </a:lnTo>
                          <a:lnTo>
                            <a:pt x="49" y="56"/>
                          </a:lnTo>
                          <a:lnTo>
                            <a:pt x="53" y="57"/>
                          </a:lnTo>
                          <a:lnTo>
                            <a:pt x="56" y="57"/>
                          </a:lnTo>
                          <a:lnTo>
                            <a:pt x="61" y="57"/>
                          </a:lnTo>
                          <a:lnTo>
                            <a:pt x="68" y="54"/>
                          </a:lnTo>
                          <a:lnTo>
                            <a:pt x="75" y="52"/>
                          </a:lnTo>
                          <a:lnTo>
                            <a:pt x="84" y="49"/>
                          </a:lnTo>
                          <a:lnTo>
                            <a:pt x="95" y="46"/>
                          </a:lnTo>
                          <a:lnTo>
                            <a:pt x="107" y="40"/>
                          </a:lnTo>
                          <a:lnTo>
                            <a:pt x="118" y="36"/>
                          </a:lnTo>
                          <a:lnTo>
                            <a:pt x="130" y="31"/>
                          </a:lnTo>
                          <a:lnTo>
                            <a:pt x="139" y="25"/>
                          </a:lnTo>
                          <a:lnTo>
                            <a:pt x="146" y="21"/>
                          </a:lnTo>
                          <a:lnTo>
                            <a:pt x="151" y="17"/>
                          </a:lnTo>
                          <a:lnTo>
                            <a:pt x="153" y="11"/>
                          </a:lnTo>
                          <a:lnTo>
                            <a:pt x="155" y="7"/>
                          </a:lnTo>
                          <a:lnTo>
                            <a:pt x="156" y="4"/>
                          </a:lnTo>
                          <a:lnTo>
                            <a:pt x="156" y="0"/>
                          </a:lnTo>
                          <a:lnTo>
                            <a:pt x="158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1" name=""/>
                    <p:cNvSpPr/>
                    <p:nvPr/>
                  </p:nvSpPr>
                  <p:spPr>
                    <a:xfrm>
                      <a:off x="1853640" y="2593440"/>
                      <a:ext cx="1573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2" h="540">
                          <a:moveTo>
                            <a:pt x="552" y="523"/>
                          </a:moveTo>
                          <a:lnTo>
                            <a:pt x="552" y="520"/>
                          </a:lnTo>
                          <a:lnTo>
                            <a:pt x="552" y="515"/>
                          </a:lnTo>
                          <a:lnTo>
                            <a:pt x="550" y="511"/>
                          </a:lnTo>
                          <a:lnTo>
                            <a:pt x="546" y="507"/>
                          </a:lnTo>
                          <a:lnTo>
                            <a:pt x="541" y="502"/>
                          </a:lnTo>
                          <a:lnTo>
                            <a:pt x="535" y="498"/>
                          </a:lnTo>
                          <a:lnTo>
                            <a:pt x="528" y="495"/>
                          </a:lnTo>
                          <a:lnTo>
                            <a:pt x="520" y="490"/>
                          </a:lnTo>
                          <a:lnTo>
                            <a:pt x="507" y="485"/>
                          </a:lnTo>
                          <a:lnTo>
                            <a:pt x="490" y="477"/>
                          </a:lnTo>
                          <a:lnTo>
                            <a:pt x="469" y="468"/>
                          </a:lnTo>
                          <a:lnTo>
                            <a:pt x="445" y="455"/>
                          </a:lnTo>
                          <a:lnTo>
                            <a:pt x="421" y="442"/>
                          </a:lnTo>
                          <a:lnTo>
                            <a:pt x="399" y="429"/>
                          </a:lnTo>
                          <a:lnTo>
                            <a:pt x="380" y="414"/>
                          </a:lnTo>
                          <a:lnTo>
                            <a:pt x="364" y="403"/>
                          </a:lnTo>
                          <a:lnTo>
                            <a:pt x="357" y="397"/>
                          </a:lnTo>
                          <a:lnTo>
                            <a:pt x="351" y="393"/>
                          </a:lnTo>
                          <a:lnTo>
                            <a:pt x="345" y="390"/>
                          </a:lnTo>
                          <a:lnTo>
                            <a:pt x="337" y="386"/>
                          </a:lnTo>
                          <a:lnTo>
                            <a:pt x="330" y="385"/>
                          </a:lnTo>
                          <a:lnTo>
                            <a:pt x="323" y="383"/>
                          </a:lnTo>
                          <a:lnTo>
                            <a:pt x="314" y="382"/>
                          </a:lnTo>
                          <a:lnTo>
                            <a:pt x="305" y="380"/>
                          </a:lnTo>
                          <a:lnTo>
                            <a:pt x="294" y="378"/>
                          </a:lnTo>
                          <a:lnTo>
                            <a:pt x="281" y="377"/>
                          </a:lnTo>
                          <a:lnTo>
                            <a:pt x="269" y="377"/>
                          </a:lnTo>
                          <a:lnTo>
                            <a:pt x="256" y="377"/>
                          </a:lnTo>
                          <a:lnTo>
                            <a:pt x="244" y="377"/>
                          </a:lnTo>
                          <a:lnTo>
                            <a:pt x="234" y="377"/>
                          </a:lnTo>
                          <a:lnTo>
                            <a:pt x="226" y="377"/>
                          </a:lnTo>
                          <a:lnTo>
                            <a:pt x="222" y="377"/>
                          </a:lnTo>
                          <a:lnTo>
                            <a:pt x="218" y="375"/>
                          </a:lnTo>
                          <a:lnTo>
                            <a:pt x="213" y="373"/>
                          </a:lnTo>
                          <a:lnTo>
                            <a:pt x="210" y="370"/>
                          </a:lnTo>
                          <a:lnTo>
                            <a:pt x="207" y="367"/>
                          </a:lnTo>
                          <a:lnTo>
                            <a:pt x="201" y="352"/>
                          </a:lnTo>
                          <a:lnTo>
                            <a:pt x="193" y="318"/>
                          </a:lnTo>
                          <a:lnTo>
                            <a:pt x="182" y="274"/>
                          </a:lnTo>
                          <a:lnTo>
                            <a:pt x="168" y="222"/>
                          </a:lnTo>
                          <a:lnTo>
                            <a:pt x="153" y="167"/>
                          </a:lnTo>
                          <a:lnTo>
                            <a:pt x="137" y="117"/>
                          </a:lnTo>
                          <a:lnTo>
                            <a:pt x="122" y="73"/>
                          </a:lnTo>
                          <a:lnTo>
                            <a:pt x="107" y="43"/>
                          </a:lnTo>
                          <a:lnTo>
                            <a:pt x="99" y="31"/>
                          </a:lnTo>
                          <a:lnTo>
                            <a:pt x="89" y="21"/>
                          </a:lnTo>
                          <a:lnTo>
                            <a:pt x="79" y="13"/>
                          </a:lnTo>
                          <a:lnTo>
                            <a:pt x="68" y="6"/>
                          </a:lnTo>
                          <a:lnTo>
                            <a:pt x="55" y="2"/>
                          </a:lnTo>
                          <a:lnTo>
                            <a:pt x="43" y="0"/>
                          </a:lnTo>
                          <a:lnTo>
                            <a:pt x="30" y="2"/>
                          </a:lnTo>
                          <a:lnTo>
                            <a:pt x="18" y="8"/>
                          </a:lnTo>
                          <a:lnTo>
                            <a:pt x="9" y="20"/>
                          </a:lnTo>
                          <a:lnTo>
                            <a:pt x="3" y="36"/>
                          </a:lnTo>
                          <a:lnTo>
                            <a:pt x="1" y="56"/>
                          </a:lnTo>
                          <a:lnTo>
                            <a:pt x="0" y="75"/>
                          </a:lnTo>
                          <a:lnTo>
                            <a:pt x="3" y="104"/>
                          </a:lnTo>
                          <a:lnTo>
                            <a:pt x="9" y="135"/>
                          </a:lnTo>
                          <a:lnTo>
                            <a:pt x="18" y="171"/>
                          </a:lnTo>
                          <a:lnTo>
                            <a:pt x="30" y="206"/>
                          </a:lnTo>
                          <a:lnTo>
                            <a:pt x="45" y="244"/>
                          </a:lnTo>
                          <a:lnTo>
                            <a:pt x="61" y="282"/>
                          </a:lnTo>
                          <a:lnTo>
                            <a:pt x="80" y="319"/>
                          </a:lnTo>
                          <a:lnTo>
                            <a:pt x="101" y="354"/>
                          </a:lnTo>
                          <a:lnTo>
                            <a:pt x="105" y="360"/>
                          </a:lnTo>
                          <a:lnTo>
                            <a:pt x="109" y="367"/>
                          </a:lnTo>
                          <a:lnTo>
                            <a:pt x="114" y="375"/>
                          </a:lnTo>
                          <a:lnTo>
                            <a:pt x="120" y="383"/>
                          </a:lnTo>
                          <a:lnTo>
                            <a:pt x="125" y="391"/>
                          </a:lnTo>
                          <a:lnTo>
                            <a:pt x="129" y="398"/>
                          </a:lnTo>
                          <a:lnTo>
                            <a:pt x="133" y="405"/>
                          </a:lnTo>
                          <a:lnTo>
                            <a:pt x="135" y="409"/>
                          </a:lnTo>
                          <a:lnTo>
                            <a:pt x="138" y="418"/>
                          </a:lnTo>
                          <a:lnTo>
                            <a:pt x="143" y="425"/>
                          </a:lnTo>
                          <a:lnTo>
                            <a:pt x="152" y="433"/>
                          </a:lnTo>
                          <a:lnTo>
                            <a:pt x="163" y="439"/>
                          </a:lnTo>
                          <a:lnTo>
                            <a:pt x="170" y="442"/>
                          </a:lnTo>
                          <a:lnTo>
                            <a:pt x="179" y="442"/>
                          </a:lnTo>
                          <a:lnTo>
                            <a:pt x="188" y="442"/>
                          </a:lnTo>
                          <a:lnTo>
                            <a:pt x="198" y="440"/>
                          </a:lnTo>
                          <a:lnTo>
                            <a:pt x="210" y="439"/>
                          </a:lnTo>
                          <a:lnTo>
                            <a:pt x="222" y="440"/>
                          </a:lnTo>
                          <a:lnTo>
                            <a:pt x="237" y="442"/>
                          </a:lnTo>
                          <a:lnTo>
                            <a:pt x="253" y="446"/>
                          </a:lnTo>
                          <a:lnTo>
                            <a:pt x="265" y="449"/>
                          </a:lnTo>
                          <a:lnTo>
                            <a:pt x="280" y="453"/>
                          </a:lnTo>
                          <a:lnTo>
                            <a:pt x="299" y="459"/>
                          </a:lnTo>
                          <a:lnTo>
                            <a:pt x="320" y="465"/>
                          </a:lnTo>
                          <a:lnTo>
                            <a:pt x="340" y="471"/>
                          </a:lnTo>
                          <a:lnTo>
                            <a:pt x="360" y="476"/>
                          </a:lnTo>
                          <a:lnTo>
                            <a:pt x="376" y="481"/>
                          </a:lnTo>
                          <a:lnTo>
                            <a:pt x="387" y="485"/>
                          </a:lnTo>
                          <a:lnTo>
                            <a:pt x="398" y="489"/>
                          </a:lnTo>
                          <a:lnTo>
                            <a:pt x="414" y="497"/>
                          </a:lnTo>
                          <a:lnTo>
                            <a:pt x="433" y="504"/>
                          </a:lnTo>
                          <a:lnTo>
                            <a:pt x="453" y="512"/>
                          </a:lnTo>
                          <a:lnTo>
                            <a:pt x="473" y="521"/>
                          </a:lnTo>
                          <a:lnTo>
                            <a:pt x="491" y="527"/>
                          </a:lnTo>
                          <a:lnTo>
                            <a:pt x="504" y="533"/>
                          </a:lnTo>
                          <a:lnTo>
                            <a:pt x="512" y="536"/>
                          </a:lnTo>
                          <a:lnTo>
                            <a:pt x="518" y="538"/>
                          </a:lnTo>
                          <a:lnTo>
                            <a:pt x="523" y="539"/>
                          </a:lnTo>
                          <a:lnTo>
                            <a:pt x="528" y="540"/>
                          </a:lnTo>
                          <a:lnTo>
                            <a:pt x="534" y="540"/>
                          </a:lnTo>
                          <a:lnTo>
                            <a:pt x="539" y="539"/>
                          </a:lnTo>
                          <a:lnTo>
                            <a:pt x="544" y="536"/>
                          </a:lnTo>
                          <a:lnTo>
                            <a:pt x="549" y="530"/>
                          </a:lnTo>
                          <a:lnTo>
                            <a:pt x="552" y="5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2" name=""/>
                    <p:cNvSpPr/>
                    <p:nvPr/>
                  </p:nvSpPr>
                  <p:spPr>
                    <a:xfrm>
                      <a:off x="1994040" y="2720520"/>
                      <a:ext cx="3168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156">
                          <a:moveTo>
                            <a:pt x="0" y="32"/>
                          </a:moveTo>
                          <a:lnTo>
                            <a:pt x="3" y="28"/>
                          </a:lnTo>
                          <a:lnTo>
                            <a:pt x="11" y="22"/>
                          </a:lnTo>
                          <a:lnTo>
                            <a:pt x="20" y="17"/>
                          </a:lnTo>
                          <a:lnTo>
                            <a:pt x="29" y="13"/>
                          </a:lnTo>
                          <a:lnTo>
                            <a:pt x="37" y="9"/>
                          </a:lnTo>
                          <a:lnTo>
                            <a:pt x="44" y="5"/>
                          </a:lnTo>
                          <a:lnTo>
                            <a:pt x="52" y="0"/>
                          </a:lnTo>
                          <a:lnTo>
                            <a:pt x="57" y="0"/>
                          </a:lnTo>
                          <a:lnTo>
                            <a:pt x="62" y="4"/>
                          </a:lnTo>
                          <a:lnTo>
                            <a:pt x="67" y="10"/>
                          </a:lnTo>
                          <a:lnTo>
                            <a:pt x="71" y="19"/>
                          </a:lnTo>
                          <a:lnTo>
                            <a:pt x="75" y="29"/>
                          </a:lnTo>
                          <a:lnTo>
                            <a:pt x="77" y="34"/>
                          </a:lnTo>
                          <a:lnTo>
                            <a:pt x="80" y="41"/>
                          </a:lnTo>
                          <a:lnTo>
                            <a:pt x="83" y="47"/>
                          </a:lnTo>
                          <a:lnTo>
                            <a:pt x="86" y="55"/>
                          </a:lnTo>
                          <a:lnTo>
                            <a:pt x="90" y="63"/>
                          </a:lnTo>
                          <a:lnTo>
                            <a:pt x="95" y="71"/>
                          </a:lnTo>
                          <a:lnTo>
                            <a:pt x="101" y="80"/>
                          </a:lnTo>
                          <a:lnTo>
                            <a:pt x="109" y="88"/>
                          </a:lnTo>
                          <a:lnTo>
                            <a:pt x="112" y="91"/>
                          </a:lnTo>
                          <a:lnTo>
                            <a:pt x="113" y="95"/>
                          </a:lnTo>
                          <a:lnTo>
                            <a:pt x="113" y="98"/>
                          </a:lnTo>
                          <a:lnTo>
                            <a:pt x="113" y="102"/>
                          </a:lnTo>
                          <a:lnTo>
                            <a:pt x="113" y="110"/>
                          </a:lnTo>
                          <a:lnTo>
                            <a:pt x="113" y="123"/>
                          </a:lnTo>
                          <a:lnTo>
                            <a:pt x="112" y="137"/>
                          </a:lnTo>
                          <a:lnTo>
                            <a:pt x="112" y="147"/>
                          </a:lnTo>
                          <a:lnTo>
                            <a:pt x="111" y="152"/>
                          </a:lnTo>
                          <a:lnTo>
                            <a:pt x="109" y="155"/>
                          </a:lnTo>
                          <a:lnTo>
                            <a:pt x="105" y="156"/>
                          </a:lnTo>
                          <a:lnTo>
                            <a:pt x="102" y="154"/>
                          </a:lnTo>
                          <a:lnTo>
                            <a:pt x="99" y="150"/>
                          </a:lnTo>
                          <a:lnTo>
                            <a:pt x="96" y="143"/>
                          </a:lnTo>
                          <a:lnTo>
                            <a:pt x="93" y="135"/>
                          </a:lnTo>
                          <a:lnTo>
                            <a:pt x="91" y="123"/>
                          </a:lnTo>
                          <a:lnTo>
                            <a:pt x="80" y="113"/>
                          </a:lnTo>
                          <a:lnTo>
                            <a:pt x="66" y="100"/>
                          </a:lnTo>
                          <a:lnTo>
                            <a:pt x="51" y="86"/>
                          </a:lnTo>
                          <a:lnTo>
                            <a:pt x="36" y="71"/>
                          </a:lnTo>
                          <a:lnTo>
                            <a:pt x="22" y="58"/>
                          </a:lnTo>
                          <a:lnTo>
                            <a:pt x="10" y="46"/>
                          </a:lnTo>
                          <a:lnTo>
                            <a:pt x="3" y="36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3" name=""/>
                    <p:cNvSpPr/>
                    <p:nvPr/>
                  </p:nvSpPr>
                  <p:spPr>
                    <a:xfrm>
                      <a:off x="2000880" y="2718360"/>
                      <a:ext cx="2736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68">
                          <a:moveTo>
                            <a:pt x="0" y="18"/>
                          </a:moveTo>
                          <a:lnTo>
                            <a:pt x="2" y="16"/>
                          </a:lnTo>
                          <a:lnTo>
                            <a:pt x="5" y="14"/>
                          </a:lnTo>
                          <a:lnTo>
                            <a:pt x="8" y="11"/>
                          </a:lnTo>
                          <a:lnTo>
                            <a:pt x="12" y="7"/>
                          </a:lnTo>
                          <a:lnTo>
                            <a:pt x="16" y="4"/>
                          </a:lnTo>
                          <a:lnTo>
                            <a:pt x="21" y="2"/>
                          </a:lnTo>
                          <a:lnTo>
                            <a:pt x="27" y="0"/>
                          </a:lnTo>
                          <a:lnTo>
                            <a:pt x="32" y="0"/>
                          </a:lnTo>
                          <a:lnTo>
                            <a:pt x="38" y="1"/>
                          </a:lnTo>
                          <a:lnTo>
                            <a:pt x="43" y="3"/>
                          </a:lnTo>
                          <a:lnTo>
                            <a:pt x="48" y="5"/>
                          </a:lnTo>
                          <a:lnTo>
                            <a:pt x="54" y="9"/>
                          </a:lnTo>
                          <a:lnTo>
                            <a:pt x="61" y="12"/>
                          </a:lnTo>
                          <a:lnTo>
                            <a:pt x="68" y="15"/>
                          </a:lnTo>
                          <a:lnTo>
                            <a:pt x="78" y="18"/>
                          </a:lnTo>
                          <a:lnTo>
                            <a:pt x="91" y="20"/>
                          </a:lnTo>
                          <a:lnTo>
                            <a:pt x="91" y="24"/>
                          </a:lnTo>
                          <a:lnTo>
                            <a:pt x="91" y="26"/>
                          </a:lnTo>
                          <a:lnTo>
                            <a:pt x="91" y="27"/>
                          </a:lnTo>
                          <a:lnTo>
                            <a:pt x="90" y="29"/>
                          </a:lnTo>
                          <a:lnTo>
                            <a:pt x="85" y="29"/>
                          </a:lnTo>
                          <a:lnTo>
                            <a:pt x="81" y="29"/>
                          </a:lnTo>
                          <a:lnTo>
                            <a:pt x="75" y="30"/>
                          </a:lnTo>
                          <a:lnTo>
                            <a:pt x="70" y="30"/>
                          </a:lnTo>
                          <a:lnTo>
                            <a:pt x="66" y="31"/>
                          </a:lnTo>
                          <a:lnTo>
                            <a:pt x="62" y="33"/>
                          </a:lnTo>
                          <a:lnTo>
                            <a:pt x="59" y="37"/>
                          </a:lnTo>
                          <a:lnTo>
                            <a:pt x="57" y="40"/>
                          </a:lnTo>
                          <a:lnTo>
                            <a:pt x="62" y="52"/>
                          </a:lnTo>
                          <a:lnTo>
                            <a:pt x="67" y="63"/>
                          </a:lnTo>
                          <a:lnTo>
                            <a:pt x="73" y="71"/>
                          </a:lnTo>
                          <a:lnTo>
                            <a:pt x="79" y="79"/>
                          </a:lnTo>
                          <a:lnTo>
                            <a:pt x="85" y="85"/>
                          </a:lnTo>
                          <a:lnTo>
                            <a:pt x="89" y="91"/>
                          </a:lnTo>
                          <a:lnTo>
                            <a:pt x="92" y="95"/>
                          </a:lnTo>
                          <a:lnTo>
                            <a:pt x="93" y="100"/>
                          </a:lnTo>
                          <a:lnTo>
                            <a:pt x="93" y="111"/>
                          </a:lnTo>
                          <a:lnTo>
                            <a:pt x="93" y="129"/>
                          </a:lnTo>
                          <a:lnTo>
                            <a:pt x="91" y="146"/>
                          </a:lnTo>
                          <a:lnTo>
                            <a:pt x="89" y="158"/>
                          </a:lnTo>
                          <a:lnTo>
                            <a:pt x="86" y="165"/>
                          </a:lnTo>
                          <a:lnTo>
                            <a:pt x="83" y="168"/>
                          </a:lnTo>
                          <a:lnTo>
                            <a:pt x="78" y="168"/>
                          </a:lnTo>
                          <a:lnTo>
                            <a:pt x="74" y="165"/>
                          </a:lnTo>
                          <a:lnTo>
                            <a:pt x="70" y="156"/>
                          </a:lnTo>
                          <a:lnTo>
                            <a:pt x="68" y="146"/>
                          </a:lnTo>
                          <a:lnTo>
                            <a:pt x="66" y="136"/>
                          </a:lnTo>
                          <a:lnTo>
                            <a:pt x="65" y="130"/>
                          </a:lnTo>
                          <a:lnTo>
                            <a:pt x="69" y="122"/>
                          </a:lnTo>
                          <a:lnTo>
                            <a:pt x="70" y="115"/>
                          </a:lnTo>
                          <a:lnTo>
                            <a:pt x="68" y="106"/>
                          </a:lnTo>
                          <a:lnTo>
                            <a:pt x="62" y="93"/>
                          </a:lnTo>
                          <a:lnTo>
                            <a:pt x="58" y="84"/>
                          </a:lnTo>
                          <a:lnTo>
                            <a:pt x="51" y="74"/>
                          </a:lnTo>
                          <a:lnTo>
                            <a:pt x="45" y="63"/>
                          </a:lnTo>
                          <a:lnTo>
                            <a:pt x="38" y="51"/>
                          </a:lnTo>
                          <a:lnTo>
                            <a:pt x="31" y="41"/>
                          </a:lnTo>
                          <a:lnTo>
                            <a:pt x="25" y="31"/>
                          </a:lnTo>
                          <a:lnTo>
                            <a:pt x="18" y="25"/>
                          </a:lnTo>
                          <a:lnTo>
                            <a:pt x="14" y="22"/>
                          </a:lnTo>
                          <a:lnTo>
                            <a:pt x="10" y="20"/>
                          </a:lnTo>
                          <a:lnTo>
                            <a:pt x="8" y="19"/>
                          </a:lnTo>
                          <a:lnTo>
                            <a:pt x="6" y="19"/>
                          </a:lnTo>
                          <a:lnTo>
                            <a:pt x="4" y="19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4" name=""/>
                    <p:cNvSpPr/>
                    <p:nvPr/>
                  </p:nvSpPr>
                  <p:spPr>
                    <a:xfrm>
                      <a:off x="1793880" y="2554200"/>
                      <a:ext cx="126720" cy="15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606">
                          <a:moveTo>
                            <a:pt x="432" y="519"/>
                          </a:moveTo>
                          <a:lnTo>
                            <a:pt x="437" y="519"/>
                          </a:lnTo>
                          <a:lnTo>
                            <a:pt x="442" y="521"/>
                          </a:lnTo>
                          <a:lnTo>
                            <a:pt x="444" y="524"/>
                          </a:lnTo>
                          <a:lnTo>
                            <a:pt x="441" y="528"/>
                          </a:lnTo>
                          <a:lnTo>
                            <a:pt x="437" y="529"/>
                          </a:lnTo>
                          <a:lnTo>
                            <a:pt x="434" y="531"/>
                          </a:lnTo>
                          <a:lnTo>
                            <a:pt x="430" y="533"/>
                          </a:lnTo>
                          <a:lnTo>
                            <a:pt x="425" y="536"/>
                          </a:lnTo>
                          <a:lnTo>
                            <a:pt x="420" y="541"/>
                          </a:lnTo>
                          <a:lnTo>
                            <a:pt x="415" y="546"/>
                          </a:lnTo>
                          <a:lnTo>
                            <a:pt x="408" y="551"/>
                          </a:lnTo>
                          <a:lnTo>
                            <a:pt x="402" y="559"/>
                          </a:lnTo>
                          <a:lnTo>
                            <a:pt x="396" y="567"/>
                          </a:lnTo>
                          <a:lnTo>
                            <a:pt x="390" y="573"/>
                          </a:lnTo>
                          <a:lnTo>
                            <a:pt x="385" y="578"/>
                          </a:lnTo>
                          <a:lnTo>
                            <a:pt x="378" y="584"/>
                          </a:lnTo>
                          <a:lnTo>
                            <a:pt x="372" y="588"/>
                          </a:lnTo>
                          <a:lnTo>
                            <a:pt x="366" y="591"/>
                          </a:lnTo>
                          <a:lnTo>
                            <a:pt x="360" y="594"/>
                          </a:lnTo>
                          <a:lnTo>
                            <a:pt x="352" y="596"/>
                          </a:lnTo>
                          <a:lnTo>
                            <a:pt x="340" y="599"/>
                          </a:lnTo>
                          <a:lnTo>
                            <a:pt x="328" y="601"/>
                          </a:lnTo>
                          <a:lnTo>
                            <a:pt x="315" y="602"/>
                          </a:lnTo>
                          <a:lnTo>
                            <a:pt x="302" y="603"/>
                          </a:lnTo>
                          <a:lnTo>
                            <a:pt x="289" y="604"/>
                          </a:lnTo>
                          <a:lnTo>
                            <a:pt x="275" y="606"/>
                          </a:lnTo>
                          <a:lnTo>
                            <a:pt x="261" y="604"/>
                          </a:lnTo>
                          <a:lnTo>
                            <a:pt x="248" y="604"/>
                          </a:lnTo>
                          <a:lnTo>
                            <a:pt x="233" y="603"/>
                          </a:lnTo>
                          <a:lnTo>
                            <a:pt x="219" y="602"/>
                          </a:lnTo>
                          <a:lnTo>
                            <a:pt x="205" y="600"/>
                          </a:lnTo>
                          <a:lnTo>
                            <a:pt x="191" y="599"/>
                          </a:lnTo>
                          <a:lnTo>
                            <a:pt x="176" y="596"/>
                          </a:lnTo>
                          <a:lnTo>
                            <a:pt x="162" y="594"/>
                          </a:lnTo>
                          <a:lnTo>
                            <a:pt x="148" y="590"/>
                          </a:lnTo>
                          <a:lnTo>
                            <a:pt x="134" y="587"/>
                          </a:lnTo>
                          <a:lnTo>
                            <a:pt x="123" y="584"/>
                          </a:lnTo>
                          <a:lnTo>
                            <a:pt x="107" y="580"/>
                          </a:lnTo>
                          <a:lnTo>
                            <a:pt x="87" y="573"/>
                          </a:lnTo>
                          <a:lnTo>
                            <a:pt x="66" y="567"/>
                          </a:lnTo>
                          <a:lnTo>
                            <a:pt x="46" y="559"/>
                          </a:lnTo>
                          <a:lnTo>
                            <a:pt x="27" y="554"/>
                          </a:lnTo>
                          <a:lnTo>
                            <a:pt x="12" y="548"/>
                          </a:lnTo>
                          <a:lnTo>
                            <a:pt x="4" y="545"/>
                          </a:lnTo>
                          <a:lnTo>
                            <a:pt x="2" y="528"/>
                          </a:lnTo>
                          <a:lnTo>
                            <a:pt x="0" y="506"/>
                          </a:lnTo>
                          <a:lnTo>
                            <a:pt x="0" y="485"/>
                          </a:lnTo>
                          <a:lnTo>
                            <a:pt x="2" y="468"/>
                          </a:lnTo>
                          <a:lnTo>
                            <a:pt x="5" y="456"/>
                          </a:lnTo>
                          <a:lnTo>
                            <a:pt x="9" y="447"/>
                          </a:lnTo>
                          <a:lnTo>
                            <a:pt x="12" y="441"/>
                          </a:lnTo>
                          <a:lnTo>
                            <a:pt x="17" y="432"/>
                          </a:lnTo>
                          <a:lnTo>
                            <a:pt x="23" y="418"/>
                          </a:lnTo>
                          <a:lnTo>
                            <a:pt x="36" y="395"/>
                          </a:lnTo>
                          <a:lnTo>
                            <a:pt x="55" y="365"/>
                          </a:lnTo>
                          <a:lnTo>
                            <a:pt x="77" y="330"/>
                          </a:lnTo>
                          <a:lnTo>
                            <a:pt x="99" y="295"/>
                          </a:lnTo>
                          <a:lnTo>
                            <a:pt x="123" y="260"/>
                          </a:lnTo>
                          <a:lnTo>
                            <a:pt x="146" y="230"/>
                          </a:lnTo>
                          <a:lnTo>
                            <a:pt x="165" y="207"/>
                          </a:lnTo>
                          <a:lnTo>
                            <a:pt x="168" y="203"/>
                          </a:lnTo>
                          <a:lnTo>
                            <a:pt x="170" y="200"/>
                          </a:lnTo>
                          <a:lnTo>
                            <a:pt x="171" y="198"/>
                          </a:lnTo>
                          <a:lnTo>
                            <a:pt x="171" y="196"/>
                          </a:lnTo>
                          <a:lnTo>
                            <a:pt x="171" y="194"/>
                          </a:lnTo>
                          <a:lnTo>
                            <a:pt x="172" y="192"/>
                          </a:lnTo>
                          <a:lnTo>
                            <a:pt x="174" y="192"/>
                          </a:lnTo>
                          <a:lnTo>
                            <a:pt x="176" y="192"/>
                          </a:lnTo>
                          <a:lnTo>
                            <a:pt x="179" y="193"/>
                          </a:lnTo>
                          <a:lnTo>
                            <a:pt x="182" y="193"/>
                          </a:lnTo>
                          <a:lnTo>
                            <a:pt x="184" y="191"/>
                          </a:lnTo>
                          <a:lnTo>
                            <a:pt x="184" y="189"/>
                          </a:lnTo>
                          <a:lnTo>
                            <a:pt x="181" y="186"/>
                          </a:lnTo>
                          <a:lnTo>
                            <a:pt x="177" y="183"/>
                          </a:lnTo>
                          <a:lnTo>
                            <a:pt x="173" y="180"/>
                          </a:lnTo>
                          <a:lnTo>
                            <a:pt x="171" y="177"/>
                          </a:lnTo>
                          <a:lnTo>
                            <a:pt x="171" y="169"/>
                          </a:lnTo>
                          <a:lnTo>
                            <a:pt x="170" y="157"/>
                          </a:lnTo>
                          <a:lnTo>
                            <a:pt x="170" y="143"/>
                          </a:lnTo>
                          <a:lnTo>
                            <a:pt x="168" y="128"/>
                          </a:lnTo>
                          <a:lnTo>
                            <a:pt x="165" y="109"/>
                          </a:lnTo>
                          <a:lnTo>
                            <a:pt x="162" y="88"/>
                          </a:lnTo>
                          <a:lnTo>
                            <a:pt x="160" y="67"/>
                          </a:lnTo>
                          <a:lnTo>
                            <a:pt x="160" y="55"/>
                          </a:lnTo>
                          <a:lnTo>
                            <a:pt x="161" y="53"/>
                          </a:lnTo>
                          <a:lnTo>
                            <a:pt x="162" y="51"/>
                          </a:lnTo>
                          <a:lnTo>
                            <a:pt x="163" y="49"/>
                          </a:lnTo>
                          <a:lnTo>
                            <a:pt x="163" y="47"/>
                          </a:lnTo>
                          <a:lnTo>
                            <a:pt x="162" y="40"/>
                          </a:lnTo>
                          <a:lnTo>
                            <a:pt x="161" y="30"/>
                          </a:lnTo>
                          <a:lnTo>
                            <a:pt x="161" y="21"/>
                          </a:lnTo>
                          <a:lnTo>
                            <a:pt x="162" y="16"/>
                          </a:lnTo>
                          <a:lnTo>
                            <a:pt x="183" y="17"/>
                          </a:lnTo>
                          <a:lnTo>
                            <a:pt x="204" y="17"/>
                          </a:lnTo>
                          <a:lnTo>
                            <a:pt x="225" y="15"/>
                          </a:lnTo>
                          <a:lnTo>
                            <a:pt x="245" y="12"/>
                          </a:lnTo>
                          <a:lnTo>
                            <a:pt x="261" y="9"/>
                          </a:lnTo>
                          <a:lnTo>
                            <a:pt x="276" y="5"/>
                          </a:lnTo>
                          <a:lnTo>
                            <a:pt x="286" y="2"/>
                          </a:lnTo>
                          <a:lnTo>
                            <a:pt x="291" y="0"/>
                          </a:lnTo>
                          <a:lnTo>
                            <a:pt x="295" y="21"/>
                          </a:lnTo>
                          <a:lnTo>
                            <a:pt x="305" y="43"/>
                          </a:lnTo>
                          <a:lnTo>
                            <a:pt x="317" y="68"/>
                          </a:lnTo>
                          <a:lnTo>
                            <a:pt x="331" y="93"/>
                          </a:lnTo>
                          <a:lnTo>
                            <a:pt x="343" y="120"/>
                          </a:lnTo>
                          <a:lnTo>
                            <a:pt x="353" y="146"/>
                          </a:lnTo>
                          <a:lnTo>
                            <a:pt x="359" y="172"/>
                          </a:lnTo>
                          <a:lnTo>
                            <a:pt x="357" y="198"/>
                          </a:lnTo>
                          <a:lnTo>
                            <a:pt x="355" y="207"/>
                          </a:lnTo>
                          <a:lnTo>
                            <a:pt x="352" y="217"/>
                          </a:lnTo>
                          <a:lnTo>
                            <a:pt x="351" y="226"/>
                          </a:lnTo>
                          <a:lnTo>
                            <a:pt x="351" y="234"/>
                          </a:lnTo>
                          <a:lnTo>
                            <a:pt x="353" y="238"/>
                          </a:lnTo>
                          <a:lnTo>
                            <a:pt x="355" y="243"/>
                          </a:lnTo>
                          <a:lnTo>
                            <a:pt x="355" y="247"/>
                          </a:lnTo>
                          <a:lnTo>
                            <a:pt x="353" y="251"/>
                          </a:lnTo>
                          <a:lnTo>
                            <a:pt x="351" y="256"/>
                          </a:lnTo>
                          <a:lnTo>
                            <a:pt x="351" y="259"/>
                          </a:lnTo>
                          <a:lnTo>
                            <a:pt x="351" y="263"/>
                          </a:lnTo>
                          <a:lnTo>
                            <a:pt x="353" y="268"/>
                          </a:lnTo>
                          <a:lnTo>
                            <a:pt x="356" y="273"/>
                          </a:lnTo>
                          <a:lnTo>
                            <a:pt x="359" y="285"/>
                          </a:lnTo>
                          <a:lnTo>
                            <a:pt x="363" y="301"/>
                          </a:lnTo>
                          <a:lnTo>
                            <a:pt x="368" y="321"/>
                          </a:lnTo>
                          <a:lnTo>
                            <a:pt x="373" y="340"/>
                          </a:lnTo>
                          <a:lnTo>
                            <a:pt x="377" y="360"/>
                          </a:lnTo>
                          <a:lnTo>
                            <a:pt x="383" y="377"/>
                          </a:lnTo>
                          <a:lnTo>
                            <a:pt x="386" y="390"/>
                          </a:lnTo>
                          <a:lnTo>
                            <a:pt x="393" y="420"/>
                          </a:lnTo>
                          <a:lnTo>
                            <a:pt x="401" y="458"/>
                          </a:lnTo>
                          <a:lnTo>
                            <a:pt x="409" y="492"/>
                          </a:lnTo>
                          <a:lnTo>
                            <a:pt x="415" y="507"/>
                          </a:lnTo>
                          <a:lnTo>
                            <a:pt x="418" y="508"/>
                          </a:lnTo>
                          <a:lnTo>
                            <a:pt x="420" y="507"/>
                          </a:lnTo>
                          <a:lnTo>
                            <a:pt x="422" y="505"/>
                          </a:lnTo>
                          <a:lnTo>
                            <a:pt x="425" y="505"/>
                          </a:lnTo>
                          <a:lnTo>
                            <a:pt x="427" y="508"/>
                          </a:lnTo>
                          <a:lnTo>
                            <a:pt x="428" y="513"/>
                          </a:lnTo>
                          <a:lnTo>
                            <a:pt x="429" y="518"/>
                          </a:lnTo>
                          <a:lnTo>
                            <a:pt x="432" y="51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5" name=""/>
                    <p:cNvSpPr/>
                    <p:nvPr/>
                  </p:nvSpPr>
                  <p:spPr>
                    <a:xfrm>
                      <a:off x="1841040" y="2469600"/>
                      <a:ext cx="5796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4" h="427">
                          <a:moveTo>
                            <a:pt x="204" y="384"/>
                          </a:moveTo>
                          <a:lnTo>
                            <a:pt x="199" y="388"/>
                          </a:lnTo>
                          <a:lnTo>
                            <a:pt x="185" y="395"/>
                          </a:lnTo>
                          <a:lnTo>
                            <a:pt x="167" y="403"/>
                          </a:lnTo>
                          <a:lnTo>
                            <a:pt x="145" y="413"/>
                          </a:lnTo>
                          <a:lnTo>
                            <a:pt x="121" y="421"/>
                          </a:lnTo>
                          <a:lnTo>
                            <a:pt x="99" y="426"/>
                          </a:lnTo>
                          <a:lnTo>
                            <a:pt x="82" y="427"/>
                          </a:lnTo>
                          <a:lnTo>
                            <a:pt x="69" y="423"/>
                          </a:lnTo>
                          <a:lnTo>
                            <a:pt x="62" y="413"/>
                          </a:lnTo>
                          <a:lnTo>
                            <a:pt x="56" y="398"/>
                          </a:lnTo>
                          <a:lnTo>
                            <a:pt x="50" y="381"/>
                          </a:lnTo>
                          <a:lnTo>
                            <a:pt x="46" y="361"/>
                          </a:lnTo>
                          <a:lnTo>
                            <a:pt x="41" y="341"/>
                          </a:lnTo>
                          <a:lnTo>
                            <a:pt x="37" y="321"/>
                          </a:lnTo>
                          <a:lnTo>
                            <a:pt x="32" y="303"/>
                          </a:lnTo>
                          <a:lnTo>
                            <a:pt x="27" y="286"/>
                          </a:lnTo>
                          <a:lnTo>
                            <a:pt x="20" y="268"/>
                          </a:lnTo>
                          <a:lnTo>
                            <a:pt x="14" y="244"/>
                          </a:lnTo>
                          <a:lnTo>
                            <a:pt x="9" y="217"/>
                          </a:lnTo>
                          <a:lnTo>
                            <a:pt x="5" y="188"/>
                          </a:lnTo>
                          <a:lnTo>
                            <a:pt x="2" y="158"/>
                          </a:lnTo>
                          <a:lnTo>
                            <a:pt x="0" y="128"/>
                          </a:lnTo>
                          <a:lnTo>
                            <a:pt x="0" y="103"/>
                          </a:lnTo>
                          <a:lnTo>
                            <a:pt x="3" y="83"/>
                          </a:lnTo>
                          <a:lnTo>
                            <a:pt x="7" y="67"/>
                          </a:lnTo>
                          <a:lnTo>
                            <a:pt x="10" y="52"/>
                          </a:lnTo>
                          <a:lnTo>
                            <a:pt x="13" y="41"/>
                          </a:lnTo>
                          <a:lnTo>
                            <a:pt x="17" y="31"/>
                          </a:lnTo>
                          <a:lnTo>
                            <a:pt x="21" y="23"/>
                          </a:lnTo>
                          <a:lnTo>
                            <a:pt x="27" y="17"/>
                          </a:lnTo>
                          <a:lnTo>
                            <a:pt x="35" y="11"/>
                          </a:lnTo>
                          <a:lnTo>
                            <a:pt x="44" y="8"/>
                          </a:lnTo>
                          <a:lnTo>
                            <a:pt x="54" y="5"/>
                          </a:lnTo>
                          <a:lnTo>
                            <a:pt x="61" y="3"/>
                          </a:lnTo>
                          <a:lnTo>
                            <a:pt x="68" y="2"/>
                          </a:lnTo>
                          <a:lnTo>
                            <a:pt x="73" y="0"/>
                          </a:lnTo>
                          <a:lnTo>
                            <a:pt x="76" y="0"/>
                          </a:lnTo>
                          <a:lnTo>
                            <a:pt x="80" y="2"/>
                          </a:lnTo>
                          <a:lnTo>
                            <a:pt x="82" y="3"/>
                          </a:lnTo>
                          <a:lnTo>
                            <a:pt x="83" y="4"/>
                          </a:lnTo>
                          <a:lnTo>
                            <a:pt x="84" y="8"/>
                          </a:lnTo>
                          <a:lnTo>
                            <a:pt x="87" y="13"/>
                          </a:lnTo>
                          <a:lnTo>
                            <a:pt x="88" y="18"/>
                          </a:lnTo>
                          <a:lnTo>
                            <a:pt x="88" y="20"/>
                          </a:lnTo>
                          <a:lnTo>
                            <a:pt x="87" y="21"/>
                          </a:lnTo>
                          <a:lnTo>
                            <a:pt x="87" y="23"/>
                          </a:lnTo>
                          <a:lnTo>
                            <a:pt x="87" y="24"/>
                          </a:lnTo>
                          <a:lnTo>
                            <a:pt x="87" y="24"/>
                          </a:lnTo>
                          <a:lnTo>
                            <a:pt x="95" y="31"/>
                          </a:lnTo>
                          <a:lnTo>
                            <a:pt x="103" y="38"/>
                          </a:lnTo>
                          <a:lnTo>
                            <a:pt x="113" y="47"/>
                          </a:lnTo>
                          <a:lnTo>
                            <a:pt x="121" y="58"/>
                          </a:lnTo>
                          <a:lnTo>
                            <a:pt x="129" y="71"/>
                          </a:lnTo>
                          <a:lnTo>
                            <a:pt x="137" y="86"/>
                          </a:lnTo>
                          <a:lnTo>
                            <a:pt x="144" y="104"/>
                          </a:lnTo>
                          <a:lnTo>
                            <a:pt x="149" y="126"/>
                          </a:lnTo>
                          <a:lnTo>
                            <a:pt x="154" y="169"/>
                          </a:lnTo>
                          <a:lnTo>
                            <a:pt x="156" y="208"/>
                          </a:lnTo>
                          <a:lnTo>
                            <a:pt x="159" y="244"/>
                          </a:lnTo>
                          <a:lnTo>
                            <a:pt x="170" y="282"/>
                          </a:lnTo>
                          <a:lnTo>
                            <a:pt x="177" y="302"/>
                          </a:lnTo>
                          <a:lnTo>
                            <a:pt x="184" y="320"/>
                          </a:lnTo>
                          <a:lnTo>
                            <a:pt x="189" y="336"/>
                          </a:lnTo>
                          <a:lnTo>
                            <a:pt x="195" y="350"/>
                          </a:lnTo>
                          <a:lnTo>
                            <a:pt x="199" y="363"/>
                          </a:lnTo>
                          <a:lnTo>
                            <a:pt x="202" y="373"/>
                          </a:lnTo>
                          <a:lnTo>
                            <a:pt x="204" y="380"/>
                          </a:lnTo>
                          <a:lnTo>
                            <a:pt x="204" y="38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6" name=""/>
                    <p:cNvSpPr/>
                    <p:nvPr/>
                  </p:nvSpPr>
                  <p:spPr>
                    <a:xfrm>
                      <a:off x="1828440" y="2466360"/>
                      <a:ext cx="33840" cy="9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353">
                          <a:moveTo>
                            <a:pt x="120" y="11"/>
                          </a:moveTo>
                          <a:lnTo>
                            <a:pt x="118" y="11"/>
                          </a:lnTo>
                          <a:lnTo>
                            <a:pt x="115" y="13"/>
                          </a:lnTo>
                          <a:lnTo>
                            <a:pt x="112" y="14"/>
                          </a:lnTo>
                          <a:lnTo>
                            <a:pt x="108" y="14"/>
                          </a:lnTo>
                          <a:lnTo>
                            <a:pt x="104" y="15"/>
                          </a:lnTo>
                          <a:lnTo>
                            <a:pt x="100" y="16"/>
                          </a:lnTo>
                          <a:lnTo>
                            <a:pt x="94" y="18"/>
                          </a:lnTo>
                          <a:lnTo>
                            <a:pt x="89" y="19"/>
                          </a:lnTo>
                          <a:lnTo>
                            <a:pt x="80" y="22"/>
                          </a:lnTo>
                          <a:lnTo>
                            <a:pt x="72" y="28"/>
                          </a:lnTo>
                          <a:lnTo>
                            <a:pt x="66" y="34"/>
                          </a:lnTo>
                          <a:lnTo>
                            <a:pt x="62" y="42"/>
                          </a:lnTo>
                          <a:lnTo>
                            <a:pt x="58" y="52"/>
                          </a:lnTo>
                          <a:lnTo>
                            <a:pt x="55" y="63"/>
                          </a:lnTo>
                          <a:lnTo>
                            <a:pt x="52" y="78"/>
                          </a:lnTo>
                          <a:lnTo>
                            <a:pt x="48" y="94"/>
                          </a:lnTo>
                          <a:lnTo>
                            <a:pt x="45" y="114"/>
                          </a:lnTo>
                          <a:lnTo>
                            <a:pt x="45" y="139"/>
                          </a:lnTo>
                          <a:lnTo>
                            <a:pt x="47" y="169"/>
                          </a:lnTo>
                          <a:lnTo>
                            <a:pt x="50" y="199"/>
                          </a:lnTo>
                          <a:lnTo>
                            <a:pt x="54" y="228"/>
                          </a:lnTo>
                          <a:lnTo>
                            <a:pt x="59" y="255"/>
                          </a:lnTo>
                          <a:lnTo>
                            <a:pt x="65" y="279"/>
                          </a:lnTo>
                          <a:lnTo>
                            <a:pt x="72" y="297"/>
                          </a:lnTo>
                          <a:lnTo>
                            <a:pt x="76" y="308"/>
                          </a:lnTo>
                          <a:lnTo>
                            <a:pt x="79" y="320"/>
                          </a:lnTo>
                          <a:lnTo>
                            <a:pt x="82" y="334"/>
                          </a:lnTo>
                          <a:lnTo>
                            <a:pt x="85" y="348"/>
                          </a:lnTo>
                          <a:lnTo>
                            <a:pt x="80" y="348"/>
                          </a:lnTo>
                          <a:lnTo>
                            <a:pt x="75" y="348"/>
                          </a:lnTo>
                          <a:lnTo>
                            <a:pt x="70" y="348"/>
                          </a:lnTo>
                          <a:lnTo>
                            <a:pt x="65" y="348"/>
                          </a:lnTo>
                          <a:lnTo>
                            <a:pt x="60" y="348"/>
                          </a:lnTo>
                          <a:lnTo>
                            <a:pt x="55" y="348"/>
                          </a:lnTo>
                          <a:lnTo>
                            <a:pt x="50" y="347"/>
                          </a:lnTo>
                          <a:lnTo>
                            <a:pt x="45" y="347"/>
                          </a:lnTo>
                          <a:lnTo>
                            <a:pt x="44" y="348"/>
                          </a:lnTo>
                          <a:lnTo>
                            <a:pt x="44" y="349"/>
                          </a:lnTo>
                          <a:lnTo>
                            <a:pt x="44" y="352"/>
                          </a:lnTo>
                          <a:lnTo>
                            <a:pt x="44" y="353"/>
                          </a:lnTo>
                          <a:lnTo>
                            <a:pt x="36" y="351"/>
                          </a:lnTo>
                          <a:lnTo>
                            <a:pt x="32" y="347"/>
                          </a:lnTo>
                          <a:lnTo>
                            <a:pt x="29" y="344"/>
                          </a:lnTo>
                          <a:lnTo>
                            <a:pt x="29" y="336"/>
                          </a:lnTo>
                          <a:lnTo>
                            <a:pt x="28" y="321"/>
                          </a:lnTo>
                          <a:lnTo>
                            <a:pt x="24" y="299"/>
                          </a:lnTo>
                          <a:lnTo>
                            <a:pt x="18" y="274"/>
                          </a:lnTo>
                          <a:lnTo>
                            <a:pt x="10" y="251"/>
                          </a:lnTo>
                          <a:lnTo>
                            <a:pt x="3" y="234"/>
                          </a:lnTo>
                          <a:lnTo>
                            <a:pt x="0" y="219"/>
                          </a:lnTo>
                          <a:lnTo>
                            <a:pt x="2" y="208"/>
                          </a:lnTo>
                          <a:lnTo>
                            <a:pt x="7" y="197"/>
                          </a:lnTo>
                          <a:lnTo>
                            <a:pt x="15" y="186"/>
                          </a:lnTo>
                          <a:lnTo>
                            <a:pt x="20" y="173"/>
                          </a:lnTo>
                          <a:lnTo>
                            <a:pt x="24" y="160"/>
                          </a:lnTo>
                          <a:lnTo>
                            <a:pt x="26" y="145"/>
                          </a:lnTo>
                          <a:lnTo>
                            <a:pt x="26" y="125"/>
                          </a:lnTo>
                          <a:lnTo>
                            <a:pt x="24" y="100"/>
                          </a:lnTo>
                          <a:lnTo>
                            <a:pt x="24" y="80"/>
                          </a:lnTo>
                          <a:lnTo>
                            <a:pt x="25" y="69"/>
                          </a:lnTo>
                          <a:lnTo>
                            <a:pt x="28" y="68"/>
                          </a:lnTo>
                          <a:lnTo>
                            <a:pt x="31" y="66"/>
                          </a:lnTo>
                          <a:lnTo>
                            <a:pt x="34" y="63"/>
                          </a:lnTo>
                          <a:lnTo>
                            <a:pt x="39" y="61"/>
                          </a:lnTo>
                          <a:lnTo>
                            <a:pt x="37" y="56"/>
                          </a:lnTo>
                          <a:lnTo>
                            <a:pt x="34" y="50"/>
                          </a:lnTo>
                          <a:lnTo>
                            <a:pt x="33" y="46"/>
                          </a:lnTo>
                          <a:lnTo>
                            <a:pt x="34" y="43"/>
                          </a:lnTo>
                          <a:lnTo>
                            <a:pt x="43" y="34"/>
                          </a:lnTo>
                          <a:lnTo>
                            <a:pt x="53" y="26"/>
                          </a:lnTo>
                          <a:lnTo>
                            <a:pt x="64" y="18"/>
                          </a:lnTo>
                          <a:lnTo>
                            <a:pt x="76" y="11"/>
                          </a:lnTo>
                          <a:lnTo>
                            <a:pt x="87" y="5"/>
                          </a:lnTo>
                          <a:lnTo>
                            <a:pt x="99" y="2"/>
                          </a:lnTo>
                          <a:lnTo>
                            <a:pt x="107" y="0"/>
                          </a:lnTo>
                          <a:lnTo>
                            <a:pt x="114" y="0"/>
                          </a:lnTo>
                          <a:lnTo>
                            <a:pt x="116" y="4"/>
                          </a:lnTo>
                          <a:lnTo>
                            <a:pt x="117" y="6"/>
                          </a:lnTo>
                          <a:lnTo>
                            <a:pt x="119" y="8"/>
                          </a:lnTo>
                          <a:lnTo>
                            <a:pt x="120" y="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080" bIns="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7" name=""/>
                    <p:cNvSpPr/>
                    <p:nvPr/>
                  </p:nvSpPr>
                  <p:spPr>
                    <a:xfrm>
                      <a:off x="1878840" y="2596680"/>
                      <a:ext cx="94680" cy="6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2" h="237">
                          <a:moveTo>
                            <a:pt x="37" y="237"/>
                          </a:moveTo>
                          <a:lnTo>
                            <a:pt x="33" y="237"/>
                          </a:lnTo>
                          <a:lnTo>
                            <a:pt x="30" y="235"/>
                          </a:lnTo>
                          <a:lnTo>
                            <a:pt x="28" y="232"/>
                          </a:lnTo>
                          <a:lnTo>
                            <a:pt x="27" y="229"/>
                          </a:lnTo>
                          <a:lnTo>
                            <a:pt x="0" y="58"/>
                          </a:lnTo>
                          <a:lnTo>
                            <a:pt x="0" y="54"/>
                          </a:lnTo>
                          <a:lnTo>
                            <a:pt x="2" y="50"/>
                          </a:lnTo>
                          <a:lnTo>
                            <a:pt x="5" y="48"/>
                          </a:lnTo>
                          <a:lnTo>
                            <a:pt x="8" y="47"/>
                          </a:lnTo>
                          <a:lnTo>
                            <a:pt x="296" y="0"/>
                          </a:lnTo>
                          <a:lnTo>
                            <a:pt x="300" y="0"/>
                          </a:lnTo>
                          <a:lnTo>
                            <a:pt x="302" y="2"/>
                          </a:lnTo>
                          <a:lnTo>
                            <a:pt x="304" y="4"/>
                          </a:lnTo>
                          <a:lnTo>
                            <a:pt x="305" y="7"/>
                          </a:lnTo>
                          <a:lnTo>
                            <a:pt x="332" y="179"/>
                          </a:lnTo>
                          <a:lnTo>
                            <a:pt x="332" y="182"/>
                          </a:lnTo>
                          <a:lnTo>
                            <a:pt x="331" y="186"/>
                          </a:lnTo>
                          <a:lnTo>
                            <a:pt x="328" y="188"/>
                          </a:lnTo>
                          <a:lnTo>
                            <a:pt x="325" y="189"/>
                          </a:lnTo>
                          <a:lnTo>
                            <a:pt x="37" y="23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8" name=""/>
                    <p:cNvSpPr/>
                    <p:nvPr/>
                  </p:nvSpPr>
                  <p:spPr>
                    <a:xfrm>
                      <a:off x="1875240" y="2591280"/>
                      <a:ext cx="8892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3" h="250">
                          <a:moveTo>
                            <a:pt x="115" y="42"/>
                          </a:moveTo>
                          <a:lnTo>
                            <a:pt x="295" y="12"/>
                          </a:lnTo>
                          <a:lnTo>
                            <a:pt x="296" y="12"/>
                          </a:lnTo>
                          <a:lnTo>
                            <a:pt x="298" y="12"/>
                          </a:lnTo>
                          <a:lnTo>
                            <a:pt x="298" y="13"/>
                          </a:lnTo>
                          <a:lnTo>
                            <a:pt x="299" y="13"/>
                          </a:lnTo>
                          <a:lnTo>
                            <a:pt x="300" y="13"/>
                          </a:lnTo>
                          <a:lnTo>
                            <a:pt x="303" y="15"/>
                          </a:lnTo>
                          <a:lnTo>
                            <a:pt x="307" y="17"/>
                          </a:lnTo>
                          <a:lnTo>
                            <a:pt x="313" y="20"/>
                          </a:lnTo>
                          <a:lnTo>
                            <a:pt x="312" y="19"/>
                          </a:lnTo>
                          <a:lnTo>
                            <a:pt x="311" y="19"/>
                          </a:lnTo>
                          <a:lnTo>
                            <a:pt x="310" y="19"/>
                          </a:lnTo>
                          <a:lnTo>
                            <a:pt x="308" y="20"/>
                          </a:lnTo>
                          <a:lnTo>
                            <a:pt x="20" y="67"/>
                          </a:lnTo>
                          <a:lnTo>
                            <a:pt x="17" y="68"/>
                          </a:lnTo>
                          <a:lnTo>
                            <a:pt x="14" y="70"/>
                          </a:lnTo>
                          <a:lnTo>
                            <a:pt x="12" y="74"/>
                          </a:lnTo>
                          <a:lnTo>
                            <a:pt x="12" y="78"/>
                          </a:lnTo>
                          <a:lnTo>
                            <a:pt x="39" y="250"/>
                          </a:lnTo>
                          <a:lnTo>
                            <a:pt x="25" y="231"/>
                          </a:lnTo>
                          <a:lnTo>
                            <a:pt x="0" y="70"/>
                          </a:lnTo>
                          <a:lnTo>
                            <a:pt x="0" y="66"/>
                          </a:lnTo>
                          <a:lnTo>
                            <a:pt x="1" y="63"/>
                          </a:lnTo>
                          <a:lnTo>
                            <a:pt x="4" y="61"/>
                          </a:lnTo>
                          <a:lnTo>
                            <a:pt x="7" y="59"/>
                          </a:lnTo>
                          <a:lnTo>
                            <a:pt x="97" y="44"/>
                          </a:lnTo>
                          <a:lnTo>
                            <a:pt x="97" y="41"/>
                          </a:lnTo>
                          <a:lnTo>
                            <a:pt x="97" y="38"/>
                          </a:lnTo>
                          <a:lnTo>
                            <a:pt x="98" y="37"/>
                          </a:lnTo>
                          <a:lnTo>
                            <a:pt x="101" y="36"/>
                          </a:lnTo>
                          <a:lnTo>
                            <a:pt x="101" y="24"/>
                          </a:lnTo>
                          <a:lnTo>
                            <a:pt x="102" y="16"/>
                          </a:lnTo>
                          <a:lnTo>
                            <a:pt x="105" y="12"/>
                          </a:lnTo>
                          <a:lnTo>
                            <a:pt x="112" y="10"/>
                          </a:lnTo>
                          <a:lnTo>
                            <a:pt x="118" y="9"/>
                          </a:lnTo>
                          <a:lnTo>
                            <a:pt x="126" y="7"/>
                          </a:lnTo>
                          <a:lnTo>
                            <a:pt x="135" y="6"/>
                          </a:lnTo>
                          <a:lnTo>
                            <a:pt x="144" y="4"/>
                          </a:lnTo>
                          <a:lnTo>
                            <a:pt x="152" y="3"/>
                          </a:lnTo>
                          <a:lnTo>
                            <a:pt x="161" y="2"/>
                          </a:lnTo>
                          <a:lnTo>
                            <a:pt x="167" y="1"/>
                          </a:lnTo>
                          <a:lnTo>
                            <a:pt x="171" y="0"/>
                          </a:lnTo>
                          <a:lnTo>
                            <a:pt x="176" y="0"/>
                          </a:lnTo>
                          <a:lnTo>
                            <a:pt x="181" y="0"/>
                          </a:lnTo>
                          <a:lnTo>
                            <a:pt x="184" y="3"/>
                          </a:lnTo>
                          <a:lnTo>
                            <a:pt x="187" y="9"/>
                          </a:lnTo>
                          <a:lnTo>
                            <a:pt x="189" y="14"/>
                          </a:lnTo>
                          <a:lnTo>
                            <a:pt x="190" y="18"/>
                          </a:lnTo>
                          <a:lnTo>
                            <a:pt x="191" y="22"/>
                          </a:lnTo>
                          <a:lnTo>
                            <a:pt x="191" y="23"/>
                          </a:lnTo>
                          <a:lnTo>
                            <a:pt x="195" y="23"/>
                          </a:lnTo>
                          <a:lnTo>
                            <a:pt x="197" y="24"/>
                          </a:lnTo>
                          <a:lnTo>
                            <a:pt x="198" y="25"/>
                          </a:lnTo>
                          <a:lnTo>
                            <a:pt x="199" y="28"/>
                          </a:lnTo>
                          <a:lnTo>
                            <a:pt x="179" y="31"/>
                          </a:lnTo>
                          <a:lnTo>
                            <a:pt x="178" y="25"/>
                          </a:lnTo>
                          <a:lnTo>
                            <a:pt x="177" y="22"/>
                          </a:lnTo>
                          <a:lnTo>
                            <a:pt x="176" y="19"/>
                          </a:lnTo>
                          <a:lnTo>
                            <a:pt x="176" y="17"/>
                          </a:lnTo>
                          <a:lnTo>
                            <a:pt x="175" y="16"/>
                          </a:lnTo>
                          <a:lnTo>
                            <a:pt x="174" y="14"/>
                          </a:lnTo>
                          <a:lnTo>
                            <a:pt x="172" y="14"/>
                          </a:lnTo>
                          <a:lnTo>
                            <a:pt x="170" y="14"/>
                          </a:lnTo>
                          <a:lnTo>
                            <a:pt x="167" y="14"/>
                          </a:lnTo>
                          <a:lnTo>
                            <a:pt x="161" y="15"/>
                          </a:lnTo>
                          <a:lnTo>
                            <a:pt x="152" y="16"/>
                          </a:lnTo>
                          <a:lnTo>
                            <a:pt x="144" y="18"/>
                          </a:lnTo>
                          <a:lnTo>
                            <a:pt x="135" y="19"/>
                          </a:lnTo>
                          <a:lnTo>
                            <a:pt x="126" y="20"/>
                          </a:lnTo>
                          <a:lnTo>
                            <a:pt x="120" y="22"/>
                          </a:lnTo>
                          <a:lnTo>
                            <a:pt x="117" y="23"/>
                          </a:lnTo>
                          <a:lnTo>
                            <a:pt x="116" y="23"/>
                          </a:lnTo>
                          <a:lnTo>
                            <a:pt x="115" y="25"/>
                          </a:lnTo>
                          <a:lnTo>
                            <a:pt x="115" y="26"/>
                          </a:lnTo>
                          <a:lnTo>
                            <a:pt x="114" y="28"/>
                          </a:lnTo>
                          <a:lnTo>
                            <a:pt x="114" y="31"/>
                          </a:lnTo>
                          <a:lnTo>
                            <a:pt x="115" y="35"/>
                          </a:lnTo>
                          <a:lnTo>
                            <a:pt x="115" y="39"/>
                          </a:lnTo>
                          <a:lnTo>
                            <a:pt x="115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9" name=""/>
                    <p:cNvSpPr/>
                    <p:nvPr/>
                  </p:nvSpPr>
                  <p:spPr>
                    <a:xfrm>
                      <a:off x="1908360" y="2579400"/>
                      <a:ext cx="1692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93">
                          <a:moveTo>
                            <a:pt x="37" y="13"/>
                          </a:moveTo>
                          <a:lnTo>
                            <a:pt x="37" y="10"/>
                          </a:lnTo>
                          <a:lnTo>
                            <a:pt x="36" y="8"/>
                          </a:lnTo>
                          <a:lnTo>
                            <a:pt x="35" y="7"/>
                          </a:lnTo>
                          <a:lnTo>
                            <a:pt x="34" y="5"/>
                          </a:lnTo>
                          <a:lnTo>
                            <a:pt x="31" y="2"/>
                          </a:lnTo>
                          <a:lnTo>
                            <a:pt x="28" y="0"/>
                          </a:lnTo>
                          <a:lnTo>
                            <a:pt x="24" y="0"/>
                          </a:lnTo>
                          <a:lnTo>
                            <a:pt x="21" y="2"/>
                          </a:lnTo>
                          <a:lnTo>
                            <a:pt x="19" y="4"/>
                          </a:lnTo>
                          <a:lnTo>
                            <a:pt x="18" y="6"/>
                          </a:lnTo>
                          <a:lnTo>
                            <a:pt x="17" y="9"/>
                          </a:lnTo>
                          <a:lnTo>
                            <a:pt x="16" y="11"/>
                          </a:lnTo>
                          <a:lnTo>
                            <a:pt x="14" y="17"/>
                          </a:lnTo>
                          <a:lnTo>
                            <a:pt x="11" y="23"/>
                          </a:lnTo>
                          <a:lnTo>
                            <a:pt x="8" y="33"/>
                          </a:lnTo>
                          <a:lnTo>
                            <a:pt x="7" y="43"/>
                          </a:lnTo>
                          <a:lnTo>
                            <a:pt x="5" y="55"/>
                          </a:lnTo>
                          <a:lnTo>
                            <a:pt x="2" y="68"/>
                          </a:lnTo>
                          <a:lnTo>
                            <a:pt x="0" y="80"/>
                          </a:lnTo>
                          <a:lnTo>
                            <a:pt x="0" y="86"/>
                          </a:lnTo>
                          <a:lnTo>
                            <a:pt x="2" y="88"/>
                          </a:lnTo>
                          <a:lnTo>
                            <a:pt x="3" y="91"/>
                          </a:lnTo>
                          <a:lnTo>
                            <a:pt x="6" y="92"/>
                          </a:lnTo>
                          <a:lnTo>
                            <a:pt x="9" y="93"/>
                          </a:lnTo>
                          <a:lnTo>
                            <a:pt x="12" y="93"/>
                          </a:lnTo>
                          <a:lnTo>
                            <a:pt x="16" y="93"/>
                          </a:lnTo>
                          <a:lnTo>
                            <a:pt x="20" y="92"/>
                          </a:lnTo>
                          <a:lnTo>
                            <a:pt x="25" y="92"/>
                          </a:lnTo>
                          <a:lnTo>
                            <a:pt x="30" y="92"/>
                          </a:lnTo>
                          <a:lnTo>
                            <a:pt x="34" y="92"/>
                          </a:lnTo>
                          <a:lnTo>
                            <a:pt x="38" y="92"/>
                          </a:lnTo>
                          <a:lnTo>
                            <a:pt x="41" y="92"/>
                          </a:lnTo>
                          <a:lnTo>
                            <a:pt x="47" y="92"/>
                          </a:lnTo>
                          <a:lnTo>
                            <a:pt x="51" y="91"/>
                          </a:lnTo>
                          <a:lnTo>
                            <a:pt x="55" y="87"/>
                          </a:lnTo>
                          <a:lnTo>
                            <a:pt x="56" y="82"/>
                          </a:lnTo>
                          <a:lnTo>
                            <a:pt x="57" y="73"/>
                          </a:lnTo>
                          <a:lnTo>
                            <a:pt x="58" y="61"/>
                          </a:lnTo>
                          <a:lnTo>
                            <a:pt x="59" y="50"/>
                          </a:lnTo>
                          <a:lnTo>
                            <a:pt x="60" y="44"/>
                          </a:lnTo>
                          <a:lnTo>
                            <a:pt x="59" y="42"/>
                          </a:lnTo>
                          <a:lnTo>
                            <a:pt x="56" y="42"/>
                          </a:lnTo>
                          <a:lnTo>
                            <a:pt x="51" y="45"/>
                          </a:lnTo>
                          <a:lnTo>
                            <a:pt x="47" y="53"/>
                          </a:lnTo>
                          <a:lnTo>
                            <a:pt x="46" y="37"/>
                          </a:lnTo>
                          <a:lnTo>
                            <a:pt x="44" y="27"/>
                          </a:lnTo>
                          <a:lnTo>
                            <a:pt x="40" y="19"/>
                          </a:lnTo>
                          <a:lnTo>
                            <a:pt x="37" y="1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0" name=""/>
                    <p:cNvSpPr/>
                    <p:nvPr/>
                  </p:nvSpPr>
                  <p:spPr>
                    <a:xfrm>
                      <a:off x="1843200" y="2482200"/>
                      <a:ext cx="799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2" h="367">
                          <a:moveTo>
                            <a:pt x="168" y="194"/>
                          </a:moveTo>
                          <a:lnTo>
                            <a:pt x="164" y="192"/>
                          </a:lnTo>
                          <a:lnTo>
                            <a:pt x="157" y="187"/>
                          </a:lnTo>
                          <a:lnTo>
                            <a:pt x="148" y="181"/>
                          </a:lnTo>
                          <a:lnTo>
                            <a:pt x="140" y="176"/>
                          </a:lnTo>
                          <a:lnTo>
                            <a:pt x="117" y="164"/>
                          </a:lnTo>
                          <a:lnTo>
                            <a:pt x="92" y="150"/>
                          </a:lnTo>
                          <a:lnTo>
                            <a:pt x="65" y="135"/>
                          </a:lnTo>
                          <a:lnTo>
                            <a:pt x="41" y="116"/>
                          </a:lnTo>
                          <a:lnTo>
                            <a:pt x="21" y="98"/>
                          </a:lnTo>
                          <a:lnTo>
                            <a:pt x="6" y="77"/>
                          </a:lnTo>
                          <a:lnTo>
                            <a:pt x="0" y="56"/>
                          </a:lnTo>
                          <a:lnTo>
                            <a:pt x="4" y="34"/>
                          </a:lnTo>
                          <a:lnTo>
                            <a:pt x="7" y="27"/>
                          </a:lnTo>
                          <a:lnTo>
                            <a:pt x="11" y="21"/>
                          </a:lnTo>
                          <a:lnTo>
                            <a:pt x="18" y="13"/>
                          </a:lnTo>
                          <a:lnTo>
                            <a:pt x="24" y="8"/>
                          </a:lnTo>
                          <a:lnTo>
                            <a:pt x="32" y="3"/>
                          </a:lnTo>
                          <a:lnTo>
                            <a:pt x="41" y="0"/>
                          </a:lnTo>
                          <a:lnTo>
                            <a:pt x="51" y="0"/>
                          </a:lnTo>
                          <a:lnTo>
                            <a:pt x="62" y="5"/>
                          </a:lnTo>
                          <a:lnTo>
                            <a:pt x="69" y="9"/>
                          </a:lnTo>
                          <a:lnTo>
                            <a:pt x="78" y="14"/>
                          </a:lnTo>
                          <a:lnTo>
                            <a:pt x="88" y="22"/>
                          </a:lnTo>
                          <a:lnTo>
                            <a:pt x="99" y="31"/>
                          </a:lnTo>
                          <a:lnTo>
                            <a:pt x="112" y="40"/>
                          </a:lnTo>
                          <a:lnTo>
                            <a:pt x="124" y="50"/>
                          </a:lnTo>
                          <a:lnTo>
                            <a:pt x="138" y="61"/>
                          </a:lnTo>
                          <a:lnTo>
                            <a:pt x="151" y="72"/>
                          </a:lnTo>
                          <a:lnTo>
                            <a:pt x="165" y="83"/>
                          </a:lnTo>
                          <a:lnTo>
                            <a:pt x="177" y="92"/>
                          </a:lnTo>
                          <a:lnTo>
                            <a:pt x="189" y="102"/>
                          </a:lnTo>
                          <a:lnTo>
                            <a:pt x="200" y="111"/>
                          </a:lnTo>
                          <a:lnTo>
                            <a:pt x="209" y="118"/>
                          </a:lnTo>
                          <a:lnTo>
                            <a:pt x="218" y="125"/>
                          </a:lnTo>
                          <a:lnTo>
                            <a:pt x="224" y="129"/>
                          </a:lnTo>
                          <a:lnTo>
                            <a:pt x="228" y="131"/>
                          </a:lnTo>
                          <a:lnTo>
                            <a:pt x="237" y="138"/>
                          </a:lnTo>
                          <a:lnTo>
                            <a:pt x="243" y="144"/>
                          </a:lnTo>
                          <a:lnTo>
                            <a:pt x="245" y="152"/>
                          </a:lnTo>
                          <a:lnTo>
                            <a:pt x="246" y="160"/>
                          </a:lnTo>
                          <a:lnTo>
                            <a:pt x="248" y="167"/>
                          </a:lnTo>
                          <a:lnTo>
                            <a:pt x="252" y="181"/>
                          </a:lnTo>
                          <a:lnTo>
                            <a:pt x="257" y="201"/>
                          </a:lnTo>
                          <a:lnTo>
                            <a:pt x="262" y="224"/>
                          </a:lnTo>
                          <a:lnTo>
                            <a:pt x="267" y="247"/>
                          </a:lnTo>
                          <a:lnTo>
                            <a:pt x="273" y="269"/>
                          </a:lnTo>
                          <a:lnTo>
                            <a:pt x="275" y="289"/>
                          </a:lnTo>
                          <a:lnTo>
                            <a:pt x="276" y="304"/>
                          </a:lnTo>
                          <a:lnTo>
                            <a:pt x="277" y="316"/>
                          </a:lnTo>
                          <a:lnTo>
                            <a:pt x="279" y="331"/>
                          </a:lnTo>
                          <a:lnTo>
                            <a:pt x="282" y="344"/>
                          </a:lnTo>
                          <a:lnTo>
                            <a:pt x="282" y="350"/>
                          </a:lnTo>
                          <a:lnTo>
                            <a:pt x="277" y="355"/>
                          </a:lnTo>
                          <a:lnTo>
                            <a:pt x="268" y="358"/>
                          </a:lnTo>
                          <a:lnTo>
                            <a:pt x="260" y="361"/>
                          </a:lnTo>
                          <a:lnTo>
                            <a:pt x="251" y="363"/>
                          </a:lnTo>
                          <a:lnTo>
                            <a:pt x="241" y="365"/>
                          </a:lnTo>
                          <a:lnTo>
                            <a:pt x="231" y="367"/>
                          </a:lnTo>
                          <a:lnTo>
                            <a:pt x="222" y="367"/>
                          </a:lnTo>
                          <a:lnTo>
                            <a:pt x="215" y="365"/>
                          </a:lnTo>
                          <a:lnTo>
                            <a:pt x="211" y="352"/>
                          </a:lnTo>
                          <a:lnTo>
                            <a:pt x="207" y="333"/>
                          </a:lnTo>
                          <a:lnTo>
                            <a:pt x="203" y="310"/>
                          </a:lnTo>
                          <a:lnTo>
                            <a:pt x="198" y="285"/>
                          </a:lnTo>
                          <a:lnTo>
                            <a:pt x="192" y="260"/>
                          </a:lnTo>
                          <a:lnTo>
                            <a:pt x="187" y="239"/>
                          </a:lnTo>
                          <a:lnTo>
                            <a:pt x="182" y="221"/>
                          </a:lnTo>
                          <a:lnTo>
                            <a:pt x="178" y="211"/>
                          </a:lnTo>
                          <a:lnTo>
                            <a:pt x="176" y="207"/>
                          </a:lnTo>
                          <a:lnTo>
                            <a:pt x="175" y="204"/>
                          </a:lnTo>
                          <a:lnTo>
                            <a:pt x="174" y="201"/>
                          </a:lnTo>
                          <a:lnTo>
                            <a:pt x="175" y="199"/>
                          </a:lnTo>
                          <a:lnTo>
                            <a:pt x="176" y="196"/>
                          </a:lnTo>
                          <a:lnTo>
                            <a:pt x="174" y="194"/>
                          </a:lnTo>
                          <a:lnTo>
                            <a:pt x="171" y="194"/>
                          </a:lnTo>
                          <a:lnTo>
                            <a:pt x="168" y="19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1" name=""/>
                    <p:cNvSpPr/>
                    <p:nvPr/>
                  </p:nvSpPr>
                  <p:spPr>
                    <a:xfrm>
                      <a:off x="1904760" y="2576520"/>
                      <a:ext cx="169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32">
                          <a:moveTo>
                            <a:pt x="53" y="0"/>
                          </a:moveTo>
                          <a:lnTo>
                            <a:pt x="46" y="2"/>
                          </a:lnTo>
                          <a:lnTo>
                            <a:pt x="40" y="4"/>
                          </a:lnTo>
                          <a:lnTo>
                            <a:pt x="34" y="6"/>
                          </a:lnTo>
                          <a:lnTo>
                            <a:pt x="27" y="7"/>
                          </a:lnTo>
                          <a:lnTo>
                            <a:pt x="19" y="8"/>
                          </a:lnTo>
                          <a:lnTo>
                            <a:pt x="12" y="8"/>
                          </a:lnTo>
                          <a:lnTo>
                            <a:pt x="6" y="8"/>
                          </a:lnTo>
                          <a:lnTo>
                            <a:pt x="0" y="8"/>
                          </a:lnTo>
                          <a:lnTo>
                            <a:pt x="2" y="17"/>
                          </a:lnTo>
                          <a:lnTo>
                            <a:pt x="5" y="25"/>
                          </a:lnTo>
                          <a:lnTo>
                            <a:pt x="7" y="30"/>
                          </a:lnTo>
                          <a:lnTo>
                            <a:pt x="9" y="32"/>
                          </a:lnTo>
                          <a:lnTo>
                            <a:pt x="15" y="32"/>
                          </a:lnTo>
                          <a:lnTo>
                            <a:pt x="22" y="31"/>
                          </a:lnTo>
                          <a:lnTo>
                            <a:pt x="28" y="30"/>
                          </a:lnTo>
                          <a:lnTo>
                            <a:pt x="34" y="29"/>
                          </a:lnTo>
                          <a:lnTo>
                            <a:pt x="40" y="27"/>
                          </a:lnTo>
                          <a:lnTo>
                            <a:pt x="46" y="25"/>
                          </a:lnTo>
                          <a:lnTo>
                            <a:pt x="52" y="23"/>
                          </a:lnTo>
                          <a:lnTo>
                            <a:pt x="57" y="19"/>
                          </a:lnTo>
                          <a:lnTo>
                            <a:pt x="56" y="14"/>
                          </a:lnTo>
                          <a:lnTo>
                            <a:pt x="55" y="8"/>
                          </a:lnTo>
                          <a:lnTo>
                            <a:pt x="54" y="4"/>
                          </a:lnTo>
                          <a:lnTo>
                            <a:pt x="5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pic>
              <p:nvPicPr>
                <p:cNvPr id="158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987200" y="2101320"/>
                  <a:ext cx="326880" cy="327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58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62720" y="3767040"/>
                <a:ext cx="2176200" cy="16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4" name=""/>
              <p:cNvSpPr/>
              <p:nvPr/>
            </p:nvSpPr>
            <p:spPr>
              <a:xfrm>
                <a:off x="5486400" y="533520"/>
                <a:ext cx="2514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000000"/>
                    </a:solidFill>
                    <a:latin typeface="全真中圓體"/>
                    <a:ea typeface="全真中圓體"/>
                  </a:rPr>
                  <a:t>建置運輸事件資料庫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925880" y="5454720"/>
                <a:ext cx="307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000000"/>
                    </a:solidFill>
                    <a:latin typeface="Times New Roman"/>
                    <a:ea typeface="全真中圓體"/>
                  </a:rPr>
                  <a:t>加強運輸從業人員專業訓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089000" y="5470560"/>
                <a:ext cx="335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000000"/>
                    </a:solidFill>
                    <a:latin typeface="Times New Roman"/>
                    <a:ea typeface="全真中圓體"/>
                  </a:rPr>
                  <a:t>調整運輸安全組織功能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447920" y="409680"/>
                <a:ext cx="2514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000000"/>
                    </a:solidFill>
                    <a:latin typeface="全真中圓體"/>
                    <a:ea typeface="全真中圓體"/>
                  </a:rPr>
                  <a:t>建立智慧型安全管理系統、無障礙運輸環境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352680" y="1905120"/>
                <a:ext cx="2438640" cy="141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77920" indent="-277920" algn="ctr">
                  <a:lnSpc>
                    <a:spcPct val="100000"/>
                  </a:lnSpc>
                  <a:spcAft>
                    <a:spcPts val="2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全真中圓體"/>
                    <a:ea typeface="全真中圓體"/>
                  </a:rPr>
                  <a:t>具體構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77920" indent="-277920">
                  <a:lnSpc>
                    <a:spcPct val="100000"/>
                  </a:lnSpc>
                  <a:spcBef>
                    <a:spcPts val="3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全真中圓體"/>
                    <a:ea typeface="全真中圓體"/>
                  </a:rPr>
                  <a:t>1.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全真中圓體"/>
                    <a:ea typeface="全真中圓體"/>
                  </a:rPr>
                  <a:t>健全運輸安全資訊系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77920" indent="-277920">
                  <a:lnSpc>
                    <a:spcPct val="100000"/>
                  </a:lnSpc>
                  <a:spcBef>
                    <a:spcPts val="3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全真中圓體"/>
                    <a:ea typeface="全真中圓體"/>
                  </a:rPr>
                  <a:t>2.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全真中圓體"/>
                    <a:ea typeface="全真中圓體"/>
                  </a:rPr>
                  <a:t>推動運輸安全系統智慧化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77920" indent="-277920">
                  <a:lnSpc>
                    <a:spcPct val="100000"/>
                  </a:lnSpc>
                  <a:spcBef>
                    <a:spcPts val="3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全真中圓體"/>
                    <a:ea typeface="全真中圓體"/>
                  </a:rPr>
                  <a:t>3.</a:t>
                </a:r>
                <a:r>
                  <a:rPr b="1" lang="zh-TW" sz="1800" spc="-1" strike="noStrike">
                    <a:solidFill>
                      <a:srgbClr val="000000"/>
                    </a:solidFill>
                    <a:latin typeface="全真中圓體"/>
                    <a:ea typeface="全真中圓體"/>
                  </a:rPr>
                  <a:t>整合運輸安全監督管理體系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9" name=""/>
              <p:cNvGrpSpPr/>
              <p:nvPr/>
            </p:nvGrpSpPr>
            <p:grpSpPr>
              <a:xfrm>
                <a:off x="2895480" y="1066680"/>
                <a:ext cx="1218240" cy="837360"/>
                <a:chOff x="2895480" y="1066680"/>
                <a:chExt cx="1218240" cy="837360"/>
              </a:xfrm>
            </p:grpSpPr>
            <p:grpSp>
              <p:nvGrpSpPr>
                <p:cNvPr id="1590" name=""/>
                <p:cNvGrpSpPr/>
                <p:nvPr/>
              </p:nvGrpSpPr>
              <p:grpSpPr>
                <a:xfrm>
                  <a:off x="2895480" y="1616400"/>
                  <a:ext cx="749880" cy="287640"/>
                  <a:chOff x="2895480" y="1616400"/>
                  <a:chExt cx="749880" cy="287640"/>
                </a:xfrm>
              </p:grpSpPr>
              <p:sp>
                <p:nvSpPr>
                  <p:cNvPr id="1591" name=""/>
                  <p:cNvSpPr/>
                  <p:nvPr/>
                </p:nvSpPr>
                <p:spPr>
                  <a:xfrm>
                    <a:off x="2895480" y="1616400"/>
                    <a:ext cx="74844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916" h="246">
                        <a:moveTo>
                          <a:pt x="62" y="0"/>
                        </a:moveTo>
                        <a:lnTo>
                          <a:pt x="62" y="0"/>
                        </a:lnTo>
                        <a:lnTo>
                          <a:pt x="59" y="0"/>
                        </a:lnTo>
                        <a:lnTo>
                          <a:pt x="59" y="2"/>
                        </a:lnTo>
                        <a:lnTo>
                          <a:pt x="56" y="2"/>
                        </a:lnTo>
                        <a:lnTo>
                          <a:pt x="56" y="3"/>
                        </a:lnTo>
                        <a:lnTo>
                          <a:pt x="53" y="3"/>
                        </a:lnTo>
                        <a:lnTo>
                          <a:pt x="51" y="3"/>
                        </a:lnTo>
                        <a:lnTo>
                          <a:pt x="51" y="5"/>
                        </a:lnTo>
                        <a:lnTo>
                          <a:pt x="48" y="5"/>
                        </a:lnTo>
                        <a:lnTo>
                          <a:pt x="48" y="6"/>
                        </a:lnTo>
                        <a:lnTo>
                          <a:pt x="47" y="6"/>
                        </a:lnTo>
                        <a:lnTo>
                          <a:pt x="47" y="8"/>
                        </a:lnTo>
                        <a:lnTo>
                          <a:pt x="45" y="8"/>
                        </a:lnTo>
                        <a:lnTo>
                          <a:pt x="45" y="9"/>
                        </a:lnTo>
                        <a:lnTo>
                          <a:pt x="43" y="11"/>
                        </a:lnTo>
                        <a:lnTo>
                          <a:pt x="41" y="11"/>
                        </a:lnTo>
                        <a:lnTo>
                          <a:pt x="41" y="12"/>
                        </a:lnTo>
                        <a:lnTo>
                          <a:pt x="40" y="14"/>
                        </a:lnTo>
                        <a:lnTo>
                          <a:pt x="40" y="14"/>
                        </a:lnTo>
                        <a:lnTo>
                          <a:pt x="38" y="14"/>
                        </a:lnTo>
                        <a:lnTo>
                          <a:pt x="38" y="16"/>
                        </a:lnTo>
                        <a:lnTo>
                          <a:pt x="35" y="18"/>
                        </a:lnTo>
                        <a:lnTo>
                          <a:pt x="35" y="18"/>
                        </a:lnTo>
                        <a:lnTo>
                          <a:pt x="34" y="19"/>
                        </a:lnTo>
                        <a:lnTo>
                          <a:pt x="34" y="21"/>
                        </a:lnTo>
                        <a:lnTo>
                          <a:pt x="32" y="21"/>
                        </a:lnTo>
                        <a:lnTo>
                          <a:pt x="32" y="24"/>
                        </a:lnTo>
                        <a:lnTo>
                          <a:pt x="32" y="24"/>
                        </a:lnTo>
                        <a:lnTo>
                          <a:pt x="32" y="25"/>
                        </a:lnTo>
                        <a:lnTo>
                          <a:pt x="29" y="27"/>
                        </a:lnTo>
                        <a:lnTo>
                          <a:pt x="29" y="28"/>
                        </a:lnTo>
                        <a:lnTo>
                          <a:pt x="29" y="28"/>
                        </a:lnTo>
                        <a:lnTo>
                          <a:pt x="29" y="31"/>
                        </a:lnTo>
                        <a:lnTo>
                          <a:pt x="28" y="31"/>
                        </a:lnTo>
                        <a:lnTo>
                          <a:pt x="28" y="34"/>
                        </a:lnTo>
                        <a:lnTo>
                          <a:pt x="26" y="34"/>
                        </a:lnTo>
                        <a:lnTo>
                          <a:pt x="26" y="37"/>
                        </a:lnTo>
                        <a:lnTo>
                          <a:pt x="26" y="37"/>
                        </a:lnTo>
                        <a:lnTo>
                          <a:pt x="26" y="38"/>
                        </a:lnTo>
                        <a:lnTo>
                          <a:pt x="25" y="38"/>
                        </a:lnTo>
                        <a:lnTo>
                          <a:pt x="25" y="41"/>
                        </a:lnTo>
                        <a:lnTo>
                          <a:pt x="24" y="41"/>
                        </a:lnTo>
                        <a:lnTo>
                          <a:pt x="24" y="44"/>
                        </a:lnTo>
                        <a:lnTo>
                          <a:pt x="24" y="44"/>
                        </a:lnTo>
                        <a:lnTo>
                          <a:pt x="24" y="47"/>
                        </a:lnTo>
                        <a:lnTo>
                          <a:pt x="22" y="47"/>
                        </a:lnTo>
                        <a:lnTo>
                          <a:pt x="22" y="50"/>
                        </a:lnTo>
                        <a:lnTo>
                          <a:pt x="21" y="50"/>
                        </a:lnTo>
                        <a:lnTo>
                          <a:pt x="21" y="52"/>
                        </a:lnTo>
                        <a:lnTo>
                          <a:pt x="19" y="52"/>
                        </a:lnTo>
                        <a:lnTo>
                          <a:pt x="19" y="55"/>
                        </a:lnTo>
                        <a:lnTo>
                          <a:pt x="19" y="55"/>
                        </a:lnTo>
                        <a:lnTo>
                          <a:pt x="19" y="59"/>
                        </a:lnTo>
                        <a:lnTo>
                          <a:pt x="18" y="59"/>
                        </a:lnTo>
                        <a:lnTo>
                          <a:pt x="18" y="62"/>
                        </a:lnTo>
                        <a:lnTo>
                          <a:pt x="16" y="62"/>
                        </a:lnTo>
                        <a:lnTo>
                          <a:pt x="16" y="66"/>
                        </a:lnTo>
                        <a:lnTo>
                          <a:pt x="16" y="66"/>
                        </a:lnTo>
                        <a:lnTo>
                          <a:pt x="16" y="69"/>
                        </a:lnTo>
                        <a:lnTo>
                          <a:pt x="15" y="69"/>
                        </a:lnTo>
                        <a:lnTo>
                          <a:pt x="15" y="72"/>
                        </a:lnTo>
                        <a:lnTo>
                          <a:pt x="13" y="72"/>
                        </a:lnTo>
                        <a:lnTo>
                          <a:pt x="13" y="77"/>
                        </a:lnTo>
                        <a:lnTo>
                          <a:pt x="13" y="77"/>
                        </a:lnTo>
                        <a:lnTo>
                          <a:pt x="13" y="79"/>
                        </a:lnTo>
                        <a:lnTo>
                          <a:pt x="12" y="79"/>
                        </a:lnTo>
                        <a:lnTo>
                          <a:pt x="12" y="82"/>
                        </a:lnTo>
                        <a:lnTo>
                          <a:pt x="10" y="82"/>
                        </a:lnTo>
                        <a:lnTo>
                          <a:pt x="10" y="87"/>
                        </a:lnTo>
                        <a:lnTo>
                          <a:pt x="10" y="87"/>
                        </a:lnTo>
                        <a:lnTo>
                          <a:pt x="10" y="91"/>
                        </a:lnTo>
                        <a:lnTo>
                          <a:pt x="9" y="91"/>
                        </a:lnTo>
                        <a:lnTo>
                          <a:pt x="9" y="96"/>
                        </a:lnTo>
                        <a:lnTo>
                          <a:pt x="7" y="96"/>
                        </a:lnTo>
                        <a:lnTo>
                          <a:pt x="7" y="222"/>
                        </a:lnTo>
                        <a:lnTo>
                          <a:pt x="6" y="222"/>
                        </a:lnTo>
                        <a:lnTo>
                          <a:pt x="6" y="223"/>
                        </a:lnTo>
                        <a:lnTo>
                          <a:pt x="3" y="224"/>
                        </a:lnTo>
                        <a:lnTo>
                          <a:pt x="3" y="224"/>
                        </a:lnTo>
                        <a:lnTo>
                          <a:pt x="2" y="226"/>
                        </a:lnTo>
                        <a:lnTo>
                          <a:pt x="2" y="227"/>
                        </a:lnTo>
                        <a:lnTo>
                          <a:pt x="0" y="227"/>
                        </a:lnTo>
                        <a:lnTo>
                          <a:pt x="0" y="230"/>
                        </a:lnTo>
                        <a:lnTo>
                          <a:pt x="0" y="230"/>
                        </a:lnTo>
                        <a:lnTo>
                          <a:pt x="0" y="242"/>
                        </a:lnTo>
                        <a:lnTo>
                          <a:pt x="0" y="242"/>
                        </a:lnTo>
                        <a:lnTo>
                          <a:pt x="0" y="245"/>
                        </a:lnTo>
                        <a:lnTo>
                          <a:pt x="2" y="245"/>
                        </a:lnTo>
                        <a:lnTo>
                          <a:pt x="2" y="246"/>
                        </a:lnTo>
                        <a:lnTo>
                          <a:pt x="108" y="245"/>
                        </a:lnTo>
                        <a:lnTo>
                          <a:pt x="108" y="242"/>
                        </a:lnTo>
                        <a:lnTo>
                          <a:pt x="107" y="242"/>
                        </a:lnTo>
                        <a:lnTo>
                          <a:pt x="107" y="239"/>
                        </a:lnTo>
                        <a:lnTo>
                          <a:pt x="107" y="239"/>
                        </a:lnTo>
                        <a:lnTo>
                          <a:pt x="107" y="223"/>
                        </a:lnTo>
                        <a:lnTo>
                          <a:pt x="107" y="223"/>
                        </a:lnTo>
                        <a:lnTo>
                          <a:pt x="107" y="219"/>
                        </a:lnTo>
                        <a:lnTo>
                          <a:pt x="108" y="219"/>
                        </a:lnTo>
                        <a:lnTo>
                          <a:pt x="108" y="216"/>
                        </a:lnTo>
                        <a:lnTo>
                          <a:pt x="110" y="216"/>
                        </a:lnTo>
                        <a:lnTo>
                          <a:pt x="110" y="211"/>
                        </a:lnTo>
                        <a:lnTo>
                          <a:pt x="110" y="211"/>
                        </a:lnTo>
                        <a:lnTo>
                          <a:pt x="110" y="208"/>
                        </a:lnTo>
                        <a:lnTo>
                          <a:pt x="111" y="208"/>
                        </a:lnTo>
                        <a:lnTo>
                          <a:pt x="111" y="207"/>
                        </a:lnTo>
                        <a:lnTo>
                          <a:pt x="113" y="205"/>
                        </a:lnTo>
                        <a:lnTo>
                          <a:pt x="113" y="204"/>
                        </a:lnTo>
                        <a:lnTo>
                          <a:pt x="114" y="204"/>
                        </a:lnTo>
                        <a:lnTo>
                          <a:pt x="114" y="201"/>
                        </a:lnTo>
                        <a:lnTo>
                          <a:pt x="117" y="201"/>
                        </a:lnTo>
                        <a:lnTo>
                          <a:pt x="117" y="198"/>
                        </a:lnTo>
                        <a:lnTo>
                          <a:pt x="119" y="198"/>
                        </a:lnTo>
                        <a:lnTo>
                          <a:pt x="119" y="197"/>
                        </a:lnTo>
                        <a:lnTo>
                          <a:pt x="120" y="195"/>
                        </a:lnTo>
                        <a:lnTo>
                          <a:pt x="120" y="194"/>
                        </a:lnTo>
                        <a:lnTo>
                          <a:pt x="123" y="194"/>
                        </a:lnTo>
                        <a:lnTo>
                          <a:pt x="123" y="192"/>
                        </a:lnTo>
                        <a:lnTo>
                          <a:pt x="125" y="191"/>
                        </a:lnTo>
                        <a:lnTo>
                          <a:pt x="125" y="191"/>
                        </a:lnTo>
                        <a:lnTo>
                          <a:pt x="126" y="189"/>
                        </a:lnTo>
                        <a:lnTo>
                          <a:pt x="126" y="188"/>
                        </a:lnTo>
                        <a:lnTo>
                          <a:pt x="129" y="188"/>
                        </a:lnTo>
                        <a:lnTo>
                          <a:pt x="129" y="188"/>
                        </a:lnTo>
                        <a:lnTo>
                          <a:pt x="130" y="186"/>
                        </a:lnTo>
                        <a:lnTo>
                          <a:pt x="133" y="185"/>
                        </a:lnTo>
                        <a:lnTo>
                          <a:pt x="133" y="185"/>
                        </a:lnTo>
                        <a:lnTo>
                          <a:pt x="135" y="185"/>
                        </a:lnTo>
                        <a:lnTo>
                          <a:pt x="135" y="183"/>
                        </a:lnTo>
                        <a:lnTo>
                          <a:pt x="136" y="183"/>
                        </a:lnTo>
                        <a:lnTo>
                          <a:pt x="136" y="182"/>
                        </a:lnTo>
                        <a:lnTo>
                          <a:pt x="139" y="182"/>
                        </a:lnTo>
                        <a:lnTo>
                          <a:pt x="139" y="181"/>
                        </a:lnTo>
                        <a:lnTo>
                          <a:pt x="141" y="181"/>
                        </a:lnTo>
                        <a:lnTo>
                          <a:pt x="142" y="179"/>
                        </a:lnTo>
                        <a:lnTo>
                          <a:pt x="145" y="178"/>
                        </a:lnTo>
                        <a:lnTo>
                          <a:pt x="147" y="178"/>
                        </a:lnTo>
                        <a:lnTo>
                          <a:pt x="147" y="178"/>
                        </a:lnTo>
                        <a:lnTo>
                          <a:pt x="151" y="178"/>
                        </a:lnTo>
                        <a:lnTo>
                          <a:pt x="151" y="176"/>
                        </a:lnTo>
                        <a:lnTo>
                          <a:pt x="154" y="176"/>
                        </a:lnTo>
                        <a:lnTo>
                          <a:pt x="154" y="175"/>
                        </a:lnTo>
                        <a:lnTo>
                          <a:pt x="262" y="175"/>
                        </a:lnTo>
                        <a:lnTo>
                          <a:pt x="262" y="175"/>
                        </a:lnTo>
                        <a:lnTo>
                          <a:pt x="268" y="175"/>
                        </a:lnTo>
                        <a:lnTo>
                          <a:pt x="268" y="173"/>
                        </a:lnTo>
                        <a:lnTo>
                          <a:pt x="916" y="173"/>
                        </a:lnTo>
                        <a:lnTo>
                          <a:pt x="916" y="128"/>
                        </a:lnTo>
                        <a:lnTo>
                          <a:pt x="916" y="128"/>
                        </a:lnTo>
                        <a:lnTo>
                          <a:pt x="916" y="101"/>
                        </a:lnTo>
                        <a:lnTo>
                          <a:pt x="914" y="101"/>
                        </a:lnTo>
                        <a:lnTo>
                          <a:pt x="914" y="81"/>
                        </a:lnTo>
                        <a:lnTo>
                          <a:pt x="913" y="81"/>
                        </a:lnTo>
                        <a:lnTo>
                          <a:pt x="913" y="72"/>
                        </a:lnTo>
                        <a:lnTo>
                          <a:pt x="911" y="72"/>
                        </a:lnTo>
                        <a:lnTo>
                          <a:pt x="911" y="72"/>
                        </a:lnTo>
                        <a:lnTo>
                          <a:pt x="910" y="72"/>
                        </a:lnTo>
                        <a:lnTo>
                          <a:pt x="908" y="69"/>
                        </a:lnTo>
                        <a:lnTo>
                          <a:pt x="907" y="69"/>
                        </a:lnTo>
                        <a:lnTo>
                          <a:pt x="907" y="69"/>
                        </a:lnTo>
                        <a:lnTo>
                          <a:pt x="904" y="69"/>
                        </a:lnTo>
                        <a:lnTo>
                          <a:pt x="902" y="66"/>
                        </a:lnTo>
                        <a:lnTo>
                          <a:pt x="901" y="66"/>
                        </a:lnTo>
                        <a:lnTo>
                          <a:pt x="901" y="65"/>
                        </a:lnTo>
                        <a:lnTo>
                          <a:pt x="898" y="65"/>
                        </a:lnTo>
                        <a:lnTo>
                          <a:pt x="897" y="63"/>
                        </a:lnTo>
                        <a:lnTo>
                          <a:pt x="895" y="63"/>
                        </a:lnTo>
                        <a:lnTo>
                          <a:pt x="895" y="62"/>
                        </a:lnTo>
                        <a:lnTo>
                          <a:pt x="892" y="62"/>
                        </a:lnTo>
                        <a:lnTo>
                          <a:pt x="892" y="62"/>
                        </a:lnTo>
                        <a:lnTo>
                          <a:pt x="889" y="62"/>
                        </a:lnTo>
                        <a:lnTo>
                          <a:pt x="889" y="60"/>
                        </a:lnTo>
                        <a:lnTo>
                          <a:pt x="886" y="60"/>
                        </a:lnTo>
                        <a:lnTo>
                          <a:pt x="886" y="59"/>
                        </a:lnTo>
                        <a:lnTo>
                          <a:pt x="885" y="59"/>
                        </a:lnTo>
                        <a:lnTo>
                          <a:pt x="885" y="59"/>
                        </a:lnTo>
                        <a:lnTo>
                          <a:pt x="882" y="59"/>
                        </a:lnTo>
                        <a:lnTo>
                          <a:pt x="882" y="57"/>
                        </a:lnTo>
                        <a:lnTo>
                          <a:pt x="876" y="57"/>
                        </a:lnTo>
                        <a:lnTo>
                          <a:pt x="876" y="56"/>
                        </a:lnTo>
                        <a:lnTo>
                          <a:pt x="873" y="56"/>
                        </a:lnTo>
                        <a:lnTo>
                          <a:pt x="873" y="55"/>
                        </a:lnTo>
                        <a:lnTo>
                          <a:pt x="867" y="55"/>
                        </a:lnTo>
                        <a:lnTo>
                          <a:pt x="867" y="55"/>
                        </a:lnTo>
                        <a:lnTo>
                          <a:pt x="863" y="55"/>
                        </a:lnTo>
                        <a:lnTo>
                          <a:pt x="863" y="53"/>
                        </a:lnTo>
                        <a:lnTo>
                          <a:pt x="851" y="53"/>
                        </a:lnTo>
                        <a:lnTo>
                          <a:pt x="850" y="52"/>
                        </a:lnTo>
                        <a:lnTo>
                          <a:pt x="848" y="52"/>
                        </a:lnTo>
                        <a:lnTo>
                          <a:pt x="847" y="49"/>
                        </a:lnTo>
                        <a:lnTo>
                          <a:pt x="847" y="49"/>
                        </a:lnTo>
                        <a:lnTo>
                          <a:pt x="847" y="47"/>
                        </a:lnTo>
                        <a:lnTo>
                          <a:pt x="845" y="47"/>
                        </a:lnTo>
                        <a:lnTo>
                          <a:pt x="844" y="44"/>
                        </a:lnTo>
                        <a:lnTo>
                          <a:pt x="844" y="44"/>
                        </a:lnTo>
                        <a:lnTo>
                          <a:pt x="842" y="43"/>
                        </a:lnTo>
                        <a:lnTo>
                          <a:pt x="841" y="43"/>
                        </a:lnTo>
                        <a:lnTo>
                          <a:pt x="841" y="41"/>
                        </a:lnTo>
                        <a:lnTo>
                          <a:pt x="839" y="41"/>
                        </a:lnTo>
                        <a:lnTo>
                          <a:pt x="838" y="38"/>
                        </a:lnTo>
                        <a:lnTo>
                          <a:pt x="838" y="38"/>
                        </a:lnTo>
                        <a:lnTo>
                          <a:pt x="838" y="37"/>
                        </a:lnTo>
                        <a:lnTo>
                          <a:pt x="836" y="37"/>
                        </a:lnTo>
                        <a:lnTo>
                          <a:pt x="835" y="34"/>
                        </a:lnTo>
                        <a:lnTo>
                          <a:pt x="835" y="34"/>
                        </a:lnTo>
                        <a:lnTo>
                          <a:pt x="834" y="33"/>
                        </a:lnTo>
                        <a:lnTo>
                          <a:pt x="832" y="33"/>
                        </a:lnTo>
                        <a:lnTo>
                          <a:pt x="831" y="31"/>
                        </a:lnTo>
                        <a:lnTo>
                          <a:pt x="831" y="31"/>
                        </a:lnTo>
                        <a:lnTo>
                          <a:pt x="829" y="28"/>
                        </a:lnTo>
                        <a:lnTo>
                          <a:pt x="828" y="28"/>
                        </a:lnTo>
                        <a:lnTo>
                          <a:pt x="828" y="27"/>
                        </a:lnTo>
                        <a:lnTo>
                          <a:pt x="828" y="27"/>
                        </a:lnTo>
                        <a:lnTo>
                          <a:pt x="826" y="24"/>
                        </a:lnTo>
                        <a:lnTo>
                          <a:pt x="825" y="24"/>
                        </a:lnTo>
                        <a:lnTo>
                          <a:pt x="825" y="22"/>
                        </a:lnTo>
                        <a:lnTo>
                          <a:pt x="823" y="22"/>
                        </a:lnTo>
                        <a:lnTo>
                          <a:pt x="822" y="21"/>
                        </a:lnTo>
                        <a:lnTo>
                          <a:pt x="822" y="21"/>
                        </a:lnTo>
                        <a:lnTo>
                          <a:pt x="820" y="18"/>
                        </a:lnTo>
                        <a:lnTo>
                          <a:pt x="819" y="18"/>
                        </a:lnTo>
                        <a:lnTo>
                          <a:pt x="817" y="16"/>
                        </a:lnTo>
                        <a:lnTo>
                          <a:pt x="817" y="14"/>
                        </a:lnTo>
                        <a:lnTo>
                          <a:pt x="816" y="14"/>
                        </a:lnTo>
                        <a:lnTo>
                          <a:pt x="815" y="12"/>
                        </a:lnTo>
                        <a:lnTo>
                          <a:pt x="815" y="12"/>
                        </a:lnTo>
                        <a:lnTo>
                          <a:pt x="813" y="11"/>
                        </a:lnTo>
                        <a:lnTo>
                          <a:pt x="812" y="11"/>
                        </a:lnTo>
                        <a:lnTo>
                          <a:pt x="812" y="8"/>
                        </a:lnTo>
                        <a:lnTo>
                          <a:pt x="810" y="8"/>
                        </a:lnTo>
                        <a:lnTo>
                          <a:pt x="809" y="6"/>
                        </a:lnTo>
                        <a:lnTo>
                          <a:pt x="809" y="3"/>
                        </a:lnTo>
                        <a:lnTo>
                          <a:pt x="807" y="3"/>
                        </a:lnTo>
                        <a:lnTo>
                          <a:pt x="806" y="2"/>
                        </a:lnTo>
                        <a:lnTo>
                          <a:pt x="806" y="2"/>
                        </a:lnTo>
                        <a:lnTo>
                          <a:pt x="804" y="0"/>
                        </a:lnTo>
                        <a:lnTo>
                          <a:pt x="62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3131280" y="1795680"/>
                    <a:ext cx="51264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627" h="7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5" y="2"/>
                        </a:lnTo>
                        <a:lnTo>
                          <a:pt x="5" y="3"/>
                        </a:lnTo>
                        <a:lnTo>
                          <a:pt x="10" y="3"/>
                        </a:lnTo>
                        <a:lnTo>
                          <a:pt x="11" y="5"/>
                        </a:lnTo>
                        <a:lnTo>
                          <a:pt x="13" y="5"/>
                        </a:lnTo>
                        <a:lnTo>
                          <a:pt x="13" y="6"/>
                        </a:lnTo>
                        <a:lnTo>
                          <a:pt x="16" y="6"/>
                        </a:lnTo>
                        <a:lnTo>
                          <a:pt x="16" y="8"/>
                        </a:lnTo>
                        <a:lnTo>
                          <a:pt x="17" y="8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20" y="12"/>
                        </a:lnTo>
                        <a:lnTo>
                          <a:pt x="22" y="12"/>
                        </a:lnTo>
                        <a:lnTo>
                          <a:pt x="22" y="12"/>
                        </a:lnTo>
                        <a:lnTo>
                          <a:pt x="23" y="12"/>
                        </a:lnTo>
                        <a:lnTo>
                          <a:pt x="25" y="15"/>
                        </a:lnTo>
                        <a:lnTo>
                          <a:pt x="25" y="15"/>
                        </a:lnTo>
                        <a:lnTo>
                          <a:pt x="26" y="16"/>
                        </a:lnTo>
                        <a:lnTo>
                          <a:pt x="27" y="16"/>
                        </a:lnTo>
                        <a:lnTo>
                          <a:pt x="27" y="18"/>
                        </a:lnTo>
                        <a:lnTo>
                          <a:pt x="29" y="18"/>
                        </a:lnTo>
                        <a:lnTo>
                          <a:pt x="29" y="21"/>
                        </a:lnTo>
                        <a:lnTo>
                          <a:pt x="30" y="21"/>
                        </a:lnTo>
                        <a:lnTo>
                          <a:pt x="32" y="22"/>
                        </a:lnTo>
                        <a:lnTo>
                          <a:pt x="32" y="22"/>
                        </a:lnTo>
                        <a:lnTo>
                          <a:pt x="33" y="25"/>
                        </a:lnTo>
                        <a:lnTo>
                          <a:pt x="35" y="27"/>
                        </a:lnTo>
                        <a:lnTo>
                          <a:pt x="35" y="27"/>
                        </a:lnTo>
                        <a:lnTo>
                          <a:pt x="35" y="28"/>
                        </a:lnTo>
                        <a:lnTo>
                          <a:pt x="36" y="28"/>
                        </a:lnTo>
                        <a:lnTo>
                          <a:pt x="36" y="31"/>
                        </a:lnTo>
                        <a:lnTo>
                          <a:pt x="38" y="31"/>
                        </a:lnTo>
                        <a:lnTo>
                          <a:pt x="38" y="32"/>
                        </a:lnTo>
                        <a:lnTo>
                          <a:pt x="39" y="35"/>
                        </a:lnTo>
                        <a:lnTo>
                          <a:pt x="41" y="37"/>
                        </a:lnTo>
                        <a:lnTo>
                          <a:pt x="41" y="38"/>
                        </a:lnTo>
                        <a:lnTo>
                          <a:pt x="41" y="38"/>
                        </a:lnTo>
                        <a:lnTo>
                          <a:pt x="41" y="44"/>
                        </a:lnTo>
                        <a:lnTo>
                          <a:pt x="42" y="44"/>
                        </a:lnTo>
                        <a:lnTo>
                          <a:pt x="42" y="47"/>
                        </a:lnTo>
                        <a:lnTo>
                          <a:pt x="44" y="47"/>
                        </a:lnTo>
                        <a:lnTo>
                          <a:pt x="44" y="54"/>
                        </a:lnTo>
                        <a:lnTo>
                          <a:pt x="44" y="54"/>
                        </a:lnTo>
                        <a:lnTo>
                          <a:pt x="44" y="69"/>
                        </a:lnTo>
                        <a:lnTo>
                          <a:pt x="44" y="69"/>
                        </a:lnTo>
                        <a:lnTo>
                          <a:pt x="44" y="72"/>
                        </a:lnTo>
                        <a:lnTo>
                          <a:pt x="405" y="72"/>
                        </a:lnTo>
                        <a:lnTo>
                          <a:pt x="405" y="51"/>
                        </a:lnTo>
                        <a:lnTo>
                          <a:pt x="407" y="51"/>
                        </a:lnTo>
                        <a:lnTo>
                          <a:pt x="407" y="46"/>
                        </a:lnTo>
                        <a:lnTo>
                          <a:pt x="407" y="46"/>
                        </a:lnTo>
                        <a:lnTo>
                          <a:pt x="407" y="43"/>
                        </a:lnTo>
                        <a:lnTo>
                          <a:pt x="408" y="43"/>
                        </a:lnTo>
                        <a:lnTo>
                          <a:pt x="408" y="40"/>
                        </a:lnTo>
                        <a:lnTo>
                          <a:pt x="410" y="40"/>
                        </a:lnTo>
                        <a:lnTo>
                          <a:pt x="410" y="37"/>
                        </a:lnTo>
                        <a:lnTo>
                          <a:pt x="410" y="37"/>
                        </a:lnTo>
                        <a:lnTo>
                          <a:pt x="410" y="34"/>
                        </a:lnTo>
                        <a:lnTo>
                          <a:pt x="411" y="34"/>
                        </a:lnTo>
                        <a:lnTo>
                          <a:pt x="411" y="31"/>
                        </a:lnTo>
                        <a:lnTo>
                          <a:pt x="413" y="31"/>
                        </a:lnTo>
                        <a:lnTo>
                          <a:pt x="413" y="29"/>
                        </a:lnTo>
                        <a:lnTo>
                          <a:pt x="413" y="29"/>
                        </a:lnTo>
                        <a:lnTo>
                          <a:pt x="413" y="28"/>
                        </a:lnTo>
                        <a:lnTo>
                          <a:pt x="414" y="28"/>
                        </a:lnTo>
                        <a:lnTo>
                          <a:pt x="414" y="25"/>
                        </a:lnTo>
                        <a:lnTo>
                          <a:pt x="416" y="25"/>
                        </a:lnTo>
                        <a:lnTo>
                          <a:pt x="416" y="24"/>
                        </a:lnTo>
                        <a:lnTo>
                          <a:pt x="419" y="22"/>
                        </a:lnTo>
                        <a:lnTo>
                          <a:pt x="419" y="21"/>
                        </a:lnTo>
                        <a:lnTo>
                          <a:pt x="420" y="21"/>
                        </a:lnTo>
                        <a:lnTo>
                          <a:pt x="420" y="19"/>
                        </a:lnTo>
                        <a:lnTo>
                          <a:pt x="423" y="18"/>
                        </a:lnTo>
                        <a:lnTo>
                          <a:pt x="423" y="18"/>
                        </a:lnTo>
                        <a:lnTo>
                          <a:pt x="424" y="16"/>
                        </a:lnTo>
                        <a:lnTo>
                          <a:pt x="424" y="15"/>
                        </a:lnTo>
                        <a:lnTo>
                          <a:pt x="426" y="15"/>
                        </a:lnTo>
                        <a:lnTo>
                          <a:pt x="426" y="13"/>
                        </a:lnTo>
                        <a:lnTo>
                          <a:pt x="429" y="13"/>
                        </a:lnTo>
                        <a:lnTo>
                          <a:pt x="429" y="12"/>
                        </a:lnTo>
                        <a:lnTo>
                          <a:pt x="430" y="12"/>
                        </a:lnTo>
                        <a:lnTo>
                          <a:pt x="430" y="12"/>
                        </a:lnTo>
                        <a:lnTo>
                          <a:pt x="432" y="12"/>
                        </a:lnTo>
                        <a:lnTo>
                          <a:pt x="432" y="10"/>
                        </a:lnTo>
                        <a:lnTo>
                          <a:pt x="435" y="9"/>
                        </a:lnTo>
                        <a:lnTo>
                          <a:pt x="436" y="9"/>
                        </a:lnTo>
                        <a:lnTo>
                          <a:pt x="436" y="8"/>
                        </a:lnTo>
                        <a:lnTo>
                          <a:pt x="439" y="8"/>
                        </a:lnTo>
                        <a:lnTo>
                          <a:pt x="439" y="8"/>
                        </a:lnTo>
                        <a:lnTo>
                          <a:pt x="442" y="8"/>
                        </a:lnTo>
                        <a:lnTo>
                          <a:pt x="442" y="6"/>
                        </a:lnTo>
                        <a:lnTo>
                          <a:pt x="448" y="6"/>
                        </a:lnTo>
                        <a:lnTo>
                          <a:pt x="448" y="5"/>
                        </a:lnTo>
                        <a:lnTo>
                          <a:pt x="454" y="5"/>
                        </a:lnTo>
                        <a:lnTo>
                          <a:pt x="454" y="5"/>
                        </a:lnTo>
                        <a:lnTo>
                          <a:pt x="627" y="5"/>
                        </a:lnTo>
                        <a:lnTo>
                          <a:pt x="62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3036240" y="1795680"/>
                    <a:ext cx="7056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17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12" y="3"/>
                        </a:lnTo>
                        <a:lnTo>
                          <a:pt x="12" y="4"/>
                        </a:lnTo>
                        <a:lnTo>
                          <a:pt x="13" y="4"/>
                        </a:lnTo>
                        <a:lnTo>
                          <a:pt x="13" y="6"/>
                        </a:lnTo>
                        <a:lnTo>
                          <a:pt x="15" y="6"/>
                        </a:lnTo>
                        <a:lnTo>
                          <a:pt x="15" y="6"/>
                        </a:lnTo>
                        <a:lnTo>
                          <a:pt x="17" y="6"/>
                        </a:lnTo>
                        <a:lnTo>
                          <a:pt x="17" y="7"/>
                        </a:lnTo>
                        <a:lnTo>
                          <a:pt x="20" y="7"/>
                        </a:lnTo>
                        <a:lnTo>
                          <a:pt x="22" y="10"/>
                        </a:lnTo>
                        <a:lnTo>
                          <a:pt x="23" y="10"/>
                        </a:lnTo>
                        <a:lnTo>
                          <a:pt x="23" y="10"/>
                        </a:lnTo>
                        <a:lnTo>
                          <a:pt x="25" y="10"/>
                        </a:lnTo>
                        <a:lnTo>
                          <a:pt x="26" y="13"/>
                        </a:lnTo>
                        <a:lnTo>
                          <a:pt x="28" y="13"/>
                        </a:lnTo>
                        <a:lnTo>
                          <a:pt x="29" y="14"/>
                        </a:lnTo>
                        <a:lnTo>
                          <a:pt x="31" y="14"/>
                        </a:lnTo>
                        <a:lnTo>
                          <a:pt x="31" y="16"/>
                        </a:lnTo>
                        <a:lnTo>
                          <a:pt x="32" y="16"/>
                        </a:lnTo>
                        <a:lnTo>
                          <a:pt x="32" y="17"/>
                        </a:lnTo>
                        <a:lnTo>
                          <a:pt x="61" y="17"/>
                        </a:lnTo>
                        <a:lnTo>
                          <a:pt x="61" y="16"/>
                        </a:lnTo>
                        <a:lnTo>
                          <a:pt x="63" y="16"/>
                        </a:lnTo>
                        <a:lnTo>
                          <a:pt x="63" y="14"/>
                        </a:lnTo>
                        <a:lnTo>
                          <a:pt x="66" y="13"/>
                        </a:lnTo>
                        <a:lnTo>
                          <a:pt x="66" y="13"/>
                        </a:lnTo>
                        <a:lnTo>
                          <a:pt x="67" y="11"/>
                        </a:lnTo>
                        <a:lnTo>
                          <a:pt x="70" y="10"/>
                        </a:lnTo>
                        <a:lnTo>
                          <a:pt x="70" y="10"/>
                        </a:lnTo>
                        <a:lnTo>
                          <a:pt x="72" y="10"/>
                        </a:lnTo>
                        <a:lnTo>
                          <a:pt x="72" y="8"/>
                        </a:lnTo>
                        <a:lnTo>
                          <a:pt x="73" y="8"/>
                        </a:lnTo>
                        <a:lnTo>
                          <a:pt x="73" y="7"/>
                        </a:lnTo>
                        <a:lnTo>
                          <a:pt x="76" y="6"/>
                        </a:lnTo>
                        <a:lnTo>
                          <a:pt x="76" y="6"/>
                        </a:lnTo>
                        <a:lnTo>
                          <a:pt x="78" y="6"/>
                        </a:lnTo>
                        <a:lnTo>
                          <a:pt x="78" y="4"/>
                        </a:lnTo>
                        <a:lnTo>
                          <a:pt x="79" y="4"/>
                        </a:lnTo>
                        <a:lnTo>
                          <a:pt x="79" y="3"/>
                        </a:lnTo>
                        <a:lnTo>
                          <a:pt x="82" y="3"/>
                        </a:lnTo>
                        <a:lnTo>
                          <a:pt x="82" y="3"/>
                        </a:lnTo>
                        <a:lnTo>
                          <a:pt x="83" y="3"/>
                        </a:lnTo>
                        <a:lnTo>
                          <a:pt x="83" y="1"/>
                        </a:lnTo>
                        <a:lnTo>
                          <a:pt x="86" y="1"/>
                        </a:lnTo>
                        <a:lnTo>
                          <a:pt x="8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>
                    <a:off x="3521160" y="1799280"/>
                    <a:ext cx="12276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6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8" y="1"/>
                        </a:lnTo>
                        <a:lnTo>
                          <a:pt x="8" y="3"/>
                        </a:lnTo>
                        <a:lnTo>
                          <a:pt x="11" y="3"/>
                        </a:lnTo>
                        <a:lnTo>
                          <a:pt x="11" y="3"/>
                        </a:lnTo>
                        <a:lnTo>
                          <a:pt x="14" y="3"/>
                        </a:lnTo>
                        <a:lnTo>
                          <a:pt x="14" y="4"/>
                        </a:lnTo>
                        <a:lnTo>
                          <a:pt x="16" y="4"/>
                        </a:lnTo>
                        <a:lnTo>
                          <a:pt x="17" y="7"/>
                        </a:lnTo>
                        <a:lnTo>
                          <a:pt x="19" y="7"/>
                        </a:lnTo>
                        <a:lnTo>
                          <a:pt x="20" y="8"/>
                        </a:lnTo>
                        <a:lnTo>
                          <a:pt x="22" y="8"/>
                        </a:lnTo>
                        <a:lnTo>
                          <a:pt x="23" y="10"/>
                        </a:lnTo>
                        <a:lnTo>
                          <a:pt x="25" y="10"/>
                        </a:lnTo>
                        <a:lnTo>
                          <a:pt x="25" y="13"/>
                        </a:lnTo>
                        <a:lnTo>
                          <a:pt x="26" y="13"/>
                        </a:lnTo>
                        <a:lnTo>
                          <a:pt x="26" y="14"/>
                        </a:lnTo>
                        <a:lnTo>
                          <a:pt x="28" y="14"/>
                        </a:lnTo>
                        <a:lnTo>
                          <a:pt x="28" y="16"/>
                        </a:lnTo>
                        <a:lnTo>
                          <a:pt x="30" y="16"/>
                        </a:lnTo>
                        <a:lnTo>
                          <a:pt x="30" y="19"/>
                        </a:lnTo>
                        <a:lnTo>
                          <a:pt x="32" y="20"/>
                        </a:lnTo>
                        <a:lnTo>
                          <a:pt x="33" y="20"/>
                        </a:lnTo>
                        <a:lnTo>
                          <a:pt x="33" y="23"/>
                        </a:lnTo>
                        <a:lnTo>
                          <a:pt x="33" y="23"/>
                        </a:lnTo>
                        <a:lnTo>
                          <a:pt x="33" y="24"/>
                        </a:lnTo>
                        <a:lnTo>
                          <a:pt x="35" y="24"/>
                        </a:lnTo>
                        <a:lnTo>
                          <a:pt x="35" y="26"/>
                        </a:lnTo>
                        <a:lnTo>
                          <a:pt x="36" y="26"/>
                        </a:lnTo>
                        <a:lnTo>
                          <a:pt x="36" y="29"/>
                        </a:lnTo>
                        <a:lnTo>
                          <a:pt x="36" y="29"/>
                        </a:lnTo>
                        <a:lnTo>
                          <a:pt x="36" y="32"/>
                        </a:lnTo>
                        <a:lnTo>
                          <a:pt x="38" y="32"/>
                        </a:lnTo>
                        <a:lnTo>
                          <a:pt x="38" y="35"/>
                        </a:lnTo>
                        <a:lnTo>
                          <a:pt x="39" y="35"/>
                        </a:lnTo>
                        <a:lnTo>
                          <a:pt x="39" y="38"/>
                        </a:lnTo>
                        <a:lnTo>
                          <a:pt x="41" y="38"/>
                        </a:lnTo>
                        <a:lnTo>
                          <a:pt x="41" y="41"/>
                        </a:lnTo>
                        <a:lnTo>
                          <a:pt x="41" y="41"/>
                        </a:lnTo>
                        <a:lnTo>
                          <a:pt x="41" y="44"/>
                        </a:lnTo>
                        <a:lnTo>
                          <a:pt x="42" y="44"/>
                        </a:lnTo>
                        <a:lnTo>
                          <a:pt x="42" y="51"/>
                        </a:lnTo>
                        <a:lnTo>
                          <a:pt x="44" y="51"/>
                        </a:lnTo>
                        <a:lnTo>
                          <a:pt x="44" y="58"/>
                        </a:lnTo>
                        <a:lnTo>
                          <a:pt x="44" y="58"/>
                        </a:lnTo>
                        <a:lnTo>
                          <a:pt x="44" y="67"/>
                        </a:lnTo>
                        <a:lnTo>
                          <a:pt x="151" y="67"/>
                        </a:lnTo>
                        <a:lnTo>
                          <a:pt x="151" y="54"/>
                        </a:lnTo>
                        <a:lnTo>
                          <a:pt x="151" y="54"/>
                        </a:lnTo>
                        <a:lnTo>
                          <a:pt x="149" y="51"/>
                        </a:lnTo>
                        <a:lnTo>
                          <a:pt x="148" y="49"/>
                        </a:lnTo>
                        <a:lnTo>
                          <a:pt x="146" y="49"/>
                        </a:lnTo>
                        <a:lnTo>
                          <a:pt x="146" y="46"/>
                        </a:lnTo>
                        <a:lnTo>
                          <a:pt x="146" y="32"/>
                        </a:lnTo>
                        <a:lnTo>
                          <a:pt x="146" y="32"/>
                        </a:lnTo>
                        <a:lnTo>
                          <a:pt x="146" y="27"/>
                        </a:lnTo>
                        <a:lnTo>
                          <a:pt x="148" y="27"/>
                        </a:lnTo>
                        <a:lnTo>
                          <a:pt x="148" y="23"/>
                        </a:lnTo>
                        <a:lnTo>
                          <a:pt x="149" y="23"/>
                        </a:lnTo>
                        <a:lnTo>
                          <a:pt x="149" y="17"/>
                        </a:lnTo>
                        <a:lnTo>
                          <a:pt x="151" y="17"/>
                        </a:lnTo>
                        <a:lnTo>
                          <a:pt x="151" y="13"/>
                        </a:lnTo>
                        <a:lnTo>
                          <a:pt x="151" y="13"/>
                        </a:lnTo>
                        <a:lnTo>
                          <a:pt x="15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>
                    <a:off x="2895480" y="1616400"/>
                    <a:ext cx="74844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916" h="246">
                        <a:moveTo>
                          <a:pt x="333" y="245"/>
                        </a:moveTo>
                        <a:lnTo>
                          <a:pt x="694" y="245"/>
                        </a:lnTo>
                        <a:lnTo>
                          <a:pt x="694" y="226"/>
                        </a:lnTo>
                        <a:lnTo>
                          <a:pt x="696" y="223"/>
                        </a:lnTo>
                        <a:lnTo>
                          <a:pt x="696" y="220"/>
                        </a:lnTo>
                        <a:lnTo>
                          <a:pt x="696" y="217"/>
                        </a:lnTo>
                        <a:lnTo>
                          <a:pt x="697" y="214"/>
                        </a:lnTo>
                        <a:lnTo>
                          <a:pt x="699" y="211"/>
                        </a:lnTo>
                        <a:lnTo>
                          <a:pt x="699" y="207"/>
                        </a:lnTo>
                        <a:lnTo>
                          <a:pt x="702" y="204"/>
                        </a:lnTo>
                        <a:lnTo>
                          <a:pt x="702" y="201"/>
                        </a:lnTo>
                        <a:lnTo>
                          <a:pt x="705" y="198"/>
                        </a:lnTo>
                        <a:lnTo>
                          <a:pt x="715" y="186"/>
                        </a:lnTo>
                        <a:lnTo>
                          <a:pt x="719" y="185"/>
                        </a:lnTo>
                        <a:lnTo>
                          <a:pt x="722" y="182"/>
                        </a:lnTo>
                        <a:lnTo>
                          <a:pt x="728" y="181"/>
                        </a:lnTo>
                        <a:lnTo>
                          <a:pt x="731" y="179"/>
                        </a:lnTo>
                        <a:lnTo>
                          <a:pt x="737" y="178"/>
                        </a:lnTo>
                        <a:lnTo>
                          <a:pt x="743" y="178"/>
                        </a:lnTo>
                        <a:lnTo>
                          <a:pt x="749" y="176"/>
                        </a:lnTo>
                        <a:lnTo>
                          <a:pt x="760" y="176"/>
                        </a:lnTo>
                        <a:lnTo>
                          <a:pt x="765" y="178"/>
                        </a:lnTo>
                        <a:lnTo>
                          <a:pt x="769" y="178"/>
                        </a:lnTo>
                        <a:lnTo>
                          <a:pt x="773" y="179"/>
                        </a:lnTo>
                        <a:lnTo>
                          <a:pt x="776" y="181"/>
                        </a:lnTo>
                        <a:lnTo>
                          <a:pt x="781" y="182"/>
                        </a:lnTo>
                        <a:lnTo>
                          <a:pt x="784" y="185"/>
                        </a:lnTo>
                        <a:lnTo>
                          <a:pt x="787" y="186"/>
                        </a:lnTo>
                        <a:lnTo>
                          <a:pt x="790" y="189"/>
                        </a:lnTo>
                        <a:lnTo>
                          <a:pt x="793" y="192"/>
                        </a:lnTo>
                        <a:lnTo>
                          <a:pt x="795" y="194"/>
                        </a:lnTo>
                        <a:lnTo>
                          <a:pt x="797" y="198"/>
                        </a:lnTo>
                        <a:lnTo>
                          <a:pt x="798" y="201"/>
                        </a:lnTo>
                        <a:lnTo>
                          <a:pt x="800" y="204"/>
                        </a:lnTo>
                        <a:lnTo>
                          <a:pt x="801" y="207"/>
                        </a:lnTo>
                        <a:lnTo>
                          <a:pt x="803" y="211"/>
                        </a:lnTo>
                        <a:lnTo>
                          <a:pt x="804" y="214"/>
                        </a:lnTo>
                        <a:lnTo>
                          <a:pt x="806" y="217"/>
                        </a:lnTo>
                        <a:lnTo>
                          <a:pt x="806" y="220"/>
                        </a:lnTo>
                        <a:lnTo>
                          <a:pt x="807" y="223"/>
                        </a:lnTo>
                        <a:lnTo>
                          <a:pt x="807" y="226"/>
                        </a:lnTo>
                        <a:lnTo>
                          <a:pt x="809" y="229"/>
                        </a:lnTo>
                        <a:lnTo>
                          <a:pt x="809" y="235"/>
                        </a:lnTo>
                        <a:lnTo>
                          <a:pt x="809" y="236"/>
                        </a:lnTo>
                        <a:lnTo>
                          <a:pt x="809" y="245"/>
                        </a:lnTo>
                        <a:lnTo>
                          <a:pt x="916" y="245"/>
                        </a:lnTo>
                        <a:lnTo>
                          <a:pt x="916" y="232"/>
                        </a:lnTo>
                        <a:lnTo>
                          <a:pt x="911" y="224"/>
                        </a:lnTo>
                        <a:lnTo>
                          <a:pt x="911" y="211"/>
                        </a:lnTo>
                        <a:lnTo>
                          <a:pt x="916" y="188"/>
                        </a:lnTo>
                        <a:lnTo>
                          <a:pt x="916" y="140"/>
                        </a:lnTo>
                        <a:lnTo>
                          <a:pt x="914" y="88"/>
                        </a:lnTo>
                        <a:lnTo>
                          <a:pt x="913" y="72"/>
                        </a:lnTo>
                        <a:lnTo>
                          <a:pt x="910" y="71"/>
                        </a:lnTo>
                        <a:lnTo>
                          <a:pt x="907" y="69"/>
                        </a:lnTo>
                        <a:lnTo>
                          <a:pt x="904" y="68"/>
                        </a:lnTo>
                        <a:lnTo>
                          <a:pt x="901" y="65"/>
                        </a:lnTo>
                        <a:lnTo>
                          <a:pt x="898" y="65"/>
                        </a:lnTo>
                        <a:lnTo>
                          <a:pt x="895" y="62"/>
                        </a:lnTo>
                        <a:lnTo>
                          <a:pt x="892" y="62"/>
                        </a:lnTo>
                        <a:lnTo>
                          <a:pt x="889" y="60"/>
                        </a:lnTo>
                        <a:lnTo>
                          <a:pt x="886" y="59"/>
                        </a:lnTo>
                        <a:lnTo>
                          <a:pt x="885" y="59"/>
                        </a:lnTo>
                        <a:lnTo>
                          <a:pt x="882" y="57"/>
                        </a:lnTo>
                        <a:lnTo>
                          <a:pt x="879" y="57"/>
                        </a:lnTo>
                        <a:lnTo>
                          <a:pt x="876" y="56"/>
                        </a:lnTo>
                        <a:lnTo>
                          <a:pt x="875" y="56"/>
                        </a:lnTo>
                        <a:lnTo>
                          <a:pt x="873" y="55"/>
                        </a:lnTo>
                        <a:lnTo>
                          <a:pt x="870" y="55"/>
                        </a:lnTo>
                        <a:lnTo>
                          <a:pt x="867" y="55"/>
                        </a:lnTo>
                        <a:lnTo>
                          <a:pt x="864" y="55"/>
                        </a:lnTo>
                        <a:lnTo>
                          <a:pt x="863" y="53"/>
                        </a:lnTo>
                        <a:lnTo>
                          <a:pt x="851" y="53"/>
                        </a:lnTo>
                        <a:lnTo>
                          <a:pt x="804" y="0"/>
                        </a:lnTo>
                        <a:lnTo>
                          <a:pt x="69" y="0"/>
                        </a:lnTo>
                        <a:lnTo>
                          <a:pt x="62" y="0"/>
                        </a:lnTo>
                        <a:lnTo>
                          <a:pt x="62" y="0"/>
                        </a:lnTo>
                        <a:lnTo>
                          <a:pt x="59" y="0"/>
                        </a:lnTo>
                        <a:lnTo>
                          <a:pt x="57" y="2"/>
                        </a:lnTo>
                        <a:lnTo>
                          <a:pt x="56" y="2"/>
                        </a:lnTo>
                        <a:lnTo>
                          <a:pt x="54" y="3"/>
                        </a:lnTo>
                        <a:lnTo>
                          <a:pt x="51" y="3"/>
                        </a:lnTo>
                        <a:lnTo>
                          <a:pt x="51" y="3"/>
                        </a:lnTo>
                        <a:lnTo>
                          <a:pt x="48" y="5"/>
                        </a:lnTo>
                        <a:lnTo>
                          <a:pt x="47" y="6"/>
                        </a:lnTo>
                        <a:lnTo>
                          <a:pt x="44" y="9"/>
                        </a:lnTo>
                        <a:lnTo>
                          <a:pt x="43" y="11"/>
                        </a:lnTo>
                        <a:lnTo>
                          <a:pt x="40" y="14"/>
                        </a:lnTo>
                        <a:lnTo>
                          <a:pt x="38" y="15"/>
                        </a:lnTo>
                        <a:lnTo>
                          <a:pt x="34" y="19"/>
                        </a:lnTo>
                        <a:lnTo>
                          <a:pt x="32" y="21"/>
                        </a:lnTo>
                        <a:lnTo>
                          <a:pt x="32" y="24"/>
                        </a:lnTo>
                        <a:lnTo>
                          <a:pt x="29" y="27"/>
                        </a:lnTo>
                        <a:lnTo>
                          <a:pt x="29" y="30"/>
                        </a:lnTo>
                        <a:lnTo>
                          <a:pt x="28" y="33"/>
                        </a:lnTo>
                        <a:lnTo>
                          <a:pt x="26" y="35"/>
                        </a:lnTo>
                        <a:lnTo>
                          <a:pt x="25" y="38"/>
                        </a:lnTo>
                        <a:lnTo>
                          <a:pt x="24" y="41"/>
                        </a:lnTo>
                        <a:lnTo>
                          <a:pt x="24" y="44"/>
                        </a:lnTo>
                        <a:lnTo>
                          <a:pt x="22" y="49"/>
                        </a:lnTo>
                        <a:lnTo>
                          <a:pt x="21" y="52"/>
                        </a:lnTo>
                        <a:lnTo>
                          <a:pt x="19" y="53"/>
                        </a:lnTo>
                        <a:lnTo>
                          <a:pt x="19" y="56"/>
                        </a:lnTo>
                        <a:lnTo>
                          <a:pt x="18" y="59"/>
                        </a:lnTo>
                        <a:lnTo>
                          <a:pt x="16" y="62"/>
                        </a:lnTo>
                        <a:lnTo>
                          <a:pt x="16" y="65"/>
                        </a:lnTo>
                        <a:lnTo>
                          <a:pt x="16" y="68"/>
                        </a:lnTo>
                        <a:lnTo>
                          <a:pt x="15" y="71"/>
                        </a:lnTo>
                        <a:lnTo>
                          <a:pt x="13" y="72"/>
                        </a:lnTo>
                        <a:lnTo>
                          <a:pt x="13" y="75"/>
                        </a:lnTo>
                        <a:lnTo>
                          <a:pt x="13" y="78"/>
                        </a:lnTo>
                        <a:lnTo>
                          <a:pt x="12" y="79"/>
                        </a:lnTo>
                        <a:lnTo>
                          <a:pt x="12" y="82"/>
                        </a:lnTo>
                        <a:lnTo>
                          <a:pt x="10" y="84"/>
                        </a:lnTo>
                        <a:lnTo>
                          <a:pt x="10" y="85"/>
                        </a:lnTo>
                        <a:lnTo>
                          <a:pt x="10" y="88"/>
                        </a:lnTo>
                        <a:lnTo>
                          <a:pt x="10" y="90"/>
                        </a:lnTo>
                        <a:lnTo>
                          <a:pt x="9" y="91"/>
                        </a:lnTo>
                        <a:lnTo>
                          <a:pt x="9" y="96"/>
                        </a:lnTo>
                        <a:lnTo>
                          <a:pt x="7" y="96"/>
                        </a:lnTo>
                        <a:lnTo>
                          <a:pt x="7" y="222"/>
                        </a:lnTo>
                        <a:lnTo>
                          <a:pt x="7" y="222"/>
                        </a:lnTo>
                        <a:lnTo>
                          <a:pt x="7" y="222"/>
                        </a:lnTo>
                        <a:lnTo>
                          <a:pt x="6" y="222"/>
                        </a:lnTo>
                        <a:lnTo>
                          <a:pt x="3" y="224"/>
                        </a:lnTo>
                        <a:lnTo>
                          <a:pt x="3" y="226"/>
                        </a:lnTo>
                        <a:lnTo>
                          <a:pt x="2" y="226"/>
                        </a:lnTo>
                        <a:lnTo>
                          <a:pt x="0" y="227"/>
                        </a:lnTo>
                        <a:lnTo>
                          <a:pt x="0" y="229"/>
                        </a:lnTo>
                        <a:lnTo>
                          <a:pt x="0" y="230"/>
                        </a:lnTo>
                        <a:lnTo>
                          <a:pt x="0" y="241"/>
                        </a:lnTo>
                        <a:lnTo>
                          <a:pt x="0" y="242"/>
                        </a:lnTo>
                        <a:lnTo>
                          <a:pt x="0" y="245"/>
                        </a:lnTo>
                        <a:lnTo>
                          <a:pt x="2" y="245"/>
                        </a:lnTo>
                        <a:lnTo>
                          <a:pt x="2" y="246"/>
                        </a:lnTo>
                        <a:lnTo>
                          <a:pt x="108" y="245"/>
                        </a:lnTo>
                        <a:lnTo>
                          <a:pt x="108" y="242"/>
                        </a:lnTo>
                        <a:lnTo>
                          <a:pt x="107" y="242"/>
                        </a:lnTo>
                        <a:lnTo>
                          <a:pt x="107" y="239"/>
                        </a:lnTo>
                        <a:lnTo>
                          <a:pt x="107" y="238"/>
                        </a:lnTo>
                        <a:lnTo>
                          <a:pt x="107" y="223"/>
                        </a:lnTo>
                        <a:lnTo>
                          <a:pt x="107" y="222"/>
                        </a:lnTo>
                        <a:lnTo>
                          <a:pt x="107" y="219"/>
                        </a:lnTo>
                        <a:lnTo>
                          <a:pt x="108" y="216"/>
                        </a:lnTo>
                        <a:lnTo>
                          <a:pt x="110" y="214"/>
                        </a:lnTo>
                        <a:lnTo>
                          <a:pt x="110" y="211"/>
                        </a:lnTo>
                        <a:lnTo>
                          <a:pt x="110" y="208"/>
                        </a:lnTo>
                        <a:lnTo>
                          <a:pt x="113" y="205"/>
                        </a:lnTo>
                        <a:lnTo>
                          <a:pt x="113" y="204"/>
                        </a:lnTo>
                        <a:lnTo>
                          <a:pt x="116" y="201"/>
                        </a:lnTo>
                        <a:lnTo>
                          <a:pt x="117" y="198"/>
                        </a:lnTo>
                        <a:lnTo>
                          <a:pt x="126" y="188"/>
                        </a:lnTo>
                        <a:lnTo>
                          <a:pt x="129" y="186"/>
                        </a:lnTo>
                        <a:lnTo>
                          <a:pt x="133" y="185"/>
                        </a:lnTo>
                        <a:lnTo>
                          <a:pt x="136" y="182"/>
                        </a:lnTo>
                        <a:lnTo>
                          <a:pt x="139" y="181"/>
                        </a:lnTo>
                        <a:lnTo>
                          <a:pt x="144" y="178"/>
                        </a:lnTo>
                        <a:lnTo>
                          <a:pt x="147" y="178"/>
                        </a:lnTo>
                        <a:lnTo>
                          <a:pt x="151" y="176"/>
                        </a:lnTo>
                        <a:lnTo>
                          <a:pt x="154" y="175"/>
                        </a:lnTo>
                        <a:lnTo>
                          <a:pt x="157" y="175"/>
                        </a:lnTo>
                        <a:lnTo>
                          <a:pt x="170" y="175"/>
                        </a:lnTo>
                        <a:lnTo>
                          <a:pt x="173" y="175"/>
                        </a:lnTo>
                        <a:lnTo>
                          <a:pt x="176" y="175"/>
                        </a:lnTo>
                        <a:lnTo>
                          <a:pt x="177" y="176"/>
                        </a:lnTo>
                        <a:lnTo>
                          <a:pt x="182" y="178"/>
                        </a:lnTo>
                        <a:lnTo>
                          <a:pt x="185" y="178"/>
                        </a:lnTo>
                        <a:lnTo>
                          <a:pt x="186" y="179"/>
                        </a:lnTo>
                        <a:lnTo>
                          <a:pt x="188" y="181"/>
                        </a:lnTo>
                        <a:lnTo>
                          <a:pt x="190" y="181"/>
                        </a:lnTo>
                        <a:lnTo>
                          <a:pt x="193" y="182"/>
                        </a:lnTo>
                        <a:lnTo>
                          <a:pt x="195" y="183"/>
                        </a:lnTo>
                        <a:lnTo>
                          <a:pt x="196" y="185"/>
                        </a:lnTo>
                        <a:lnTo>
                          <a:pt x="198" y="185"/>
                        </a:lnTo>
                        <a:lnTo>
                          <a:pt x="199" y="186"/>
                        </a:lnTo>
                        <a:lnTo>
                          <a:pt x="201" y="188"/>
                        </a:lnTo>
                        <a:lnTo>
                          <a:pt x="205" y="191"/>
                        </a:lnTo>
                        <a:lnTo>
                          <a:pt x="234" y="191"/>
                        </a:lnTo>
                        <a:lnTo>
                          <a:pt x="239" y="186"/>
                        </a:lnTo>
                        <a:lnTo>
                          <a:pt x="242" y="185"/>
                        </a:lnTo>
                        <a:lnTo>
                          <a:pt x="243" y="185"/>
                        </a:lnTo>
                        <a:lnTo>
                          <a:pt x="245" y="183"/>
                        </a:lnTo>
                        <a:lnTo>
                          <a:pt x="246" y="182"/>
                        </a:lnTo>
                        <a:lnTo>
                          <a:pt x="249" y="181"/>
                        </a:lnTo>
                        <a:lnTo>
                          <a:pt x="251" y="179"/>
                        </a:lnTo>
                        <a:lnTo>
                          <a:pt x="252" y="178"/>
                        </a:lnTo>
                        <a:lnTo>
                          <a:pt x="255" y="178"/>
                        </a:lnTo>
                        <a:lnTo>
                          <a:pt x="256" y="176"/>
                        </a:lnTo>
                        <a:lnTo>
                          <a:pt x="259" y="175"/>
                        </a:lnTo>
                        <a:lnTo>
                          <a:pt x="262" y="175"/>
                        </a:lnTo>
                        <a:lnTo>
                          <a:pt x="265" y="173"/>
                        </a:lnTo>
                        <a:lnTo>
                          <a:pt x="268" y="173"/>
                        </a:lnTo>
                        <a:lnTo>
                          <a:pt x="271" y="172"/>
                        </a:lnTo>
                        <a:lnTo>
                          <a:pt x="286" y="172"/>
                        </a:lnTo>
                        <a:lnTo>
                          <a:pt x="289" y="173"/>
                        </a:lnTo>
                        <a:lnTo>
                          <a:pt x="292" y="175"/>
                        </a:lnTo>
                        <a:lnTo>
                          <a:pt x="294" y="175"/>
                        </a:lnTo>
                        <a:lnTo>
                          <a:pt x="299" y="176"/>
                        </a:lnTo>
                        <a:lnTo>
                          <a:pt x="302" y="178"/>
                        </a:lnTo>
                        <a:lnTo>
                          <a:pt x="306" y="181"/>
                        </a:lnTo>
                        <a:lnTo>
                          <a:pt x="309" y="183"/>
                        </a:lnTo>
                        <a:lnTo>
                          <a:pt x="312" y="185"/>
                        </a:lnTo>
                        <a:lnTo>
                          <a:pt x="316" y="191"/>
                        </a:lnTo>
                        <a:lnTo>
                          <a:pt x="319" y="194"/>
                        </a:lnTo>
                        <a:lnTo>
                          <a:pt x="321" y="195"/>
                        </a:lnTo>
                        <a:lnTo>
                          <a:pt x="324" y="198"/>
                        </a:lnTo>
                        <a:lnTo>
                          <a:pt x="325" y="201"/>
                        </a:lnTo>
                        <a:lnTo>
                          <a:pt x="327" y="204"/>
                        </a:lnTo>
                        <a:lnTo>
                          <a:pt x="328" y="207"/>
                        </a:lnTo>
                        <a:lnTo>
                          <a:pt x="330" y="210"/>
                        </a:lnTo>
                        <a:lnTo>
                          <a:pt x="330" y="211"/>
                        </a:lnTo>
                        <a:lnTo>
                          <a:pt x="330" y="214"/>
                        </a:lnTo>
                        <a:lnTo>
                          <a:pt x="331" y="219"/>
                        </a:lnTo>
                        <a:lnTo>
                          <a:pt x="333" y="220"/>
                        </a:lnTo>
                        <a:lnTo>
                          <a:pt x="333" y="224"/>
                        </a:lnTo>
                        <a:lnTo>
                          <a:pt x="333" y="227"/>
                        </a:lnTo>
                        <a:lnTo>
                          <a:pt x="333" y="241"/>
                        </a:lnTo>
                        <a:lnTo>
                          <a:pt x="333" y="242"/>
                        </a:lnTo>
                        <a:lnTo>
                          <a:pt x="333" y="245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3171960" y="1803600"/>
                    <a:ext cx="63720" cy="6372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3244320" y="1803600"/>
                    <a:ext cx="84960" cy="6372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3336120" y="1803600"/>
                    <a:ext cx="84960" cy="6372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3076920" y="1799280"/>
                    <a:ext cx="86760" cy="104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3098520" y="1824120"/>
                    <a:ext cx="43920" cy="55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2986920" y="1799280"/>
                    <a:ext cx="84960" cy="104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3008160" y="1824120"/>
                    <a:ext cx="42480" cy="55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3467160" y="1799280"/>
                    <a:ext cx="84960" cy="104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>
                    <a:off x="3486960" y="1824120"/>
                    <a:ext cx="45360" cy="55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>
                    <a:off x="3571920" y="1708560"/>
                    <a:ext cx="1440" cy="1587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3627720" y="1706760"/>
                    <a:ext cx="1440" cy="160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H="1">
                    <a:off x="3627720" y="1847160"/>
                    <a:ext cx="1296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 flipV="1">
                    <a:off x="3630960" y="1706400"/>
                    <a:ext cx="1440" cy="53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2916360" y="1760760"/>
                    <a:ext cx="72756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 flipH="1">
                    <a:off x="3579840" y="1793160"/>
                    <a:ext cx="4068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3580200" y="1801800"/>
                    <a:ext cx="406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 flipH="1">
                    <a:off x="3579840" y="1809720"/>
                    <a:ext cx="4068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 flipH="1">
                    <a:off x="3579840" y="1826280"/>
                    <a:ext cx="406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3580200" y="1834560"/>
                    <a:ext cx="4068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 flipH="1">
                    <a:off x="3579840" y="1841040"/>
                    <a:ext cx="406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3580200" y="1851120"/>
                    <a:ext cx="406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 flipH="1">
                    <a:off x="3579840" y="1857240"/>
                    <a:ext cx="406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 flipH="1">
                    <a:off x="3579840" y="1818000"/>
                    <a:ext cx="4068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 flipH="1">
                    <a:off x="2916000" y="1793160"/>
                    <a:ext cx="64548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 flipH="1">
                    <a:off x="3535560" y="1801800"/>
                    <a:ext cx="262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 flipH="1">
                    <a:off x="3147120" y="1801800"/>
                    <a:ext cx="34236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 flipH="1">
                    <a:off x="3055320" y="1801800"/>
                    <a:ext cx="406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 flipH="1">
                    <a:off x="2916000" y="1801800"/>
                    <a:ext cx="8676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>
                    <a:off x="2916360" y="1809720"/>
                    <a:ext cx="7992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>
                    <a:off x="3154320" y="1809720"/>
                    <a:ext cx="32220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3542760" y="1809720"/>
                    <a:ext cx="1944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 flipH="1">
                    <a:off x="3548520" y="1818000"/>
                    <a:ext cx="1332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 flipH="1">
                    <a:off x="3160080" y="1818000"/>
                    <a:ext cx="30780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 flipH="1">
                    <a:off x="2916000" y="1818000"/>
                    <a:ext cx="7380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2916360" y="1826280"/>
                    <a:ext cx="7200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3167280" y="1826280"/>
                    <a:ext cx="29952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3555720" y="1826280"/>
                    <a:ext cx="64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 flipH="1">
                    <a:off x="3555720" y="1834560"/>
                    <a:ext cx="648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 flipH="1">
                    <a:off x="3557160" y="1841040"/>
                    <a:ext cx="50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 flipH="1">
                    <a:off x="3557160" y="1851120"/>
                    <a:ext cx="50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6" name=""/>
                  <p:cNvSpPr/>
                  <p:nvPr/>
                </p:nvSpPr>
                <p:spPr>
                  <a:xfrm flipH="1">
                    <a:off x="3557160" y="1857240"/>
                    <a:ext cx="50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 flipH="1">
                    <a:off x="3167280" y="1857240"/>
                    <a:ext cx="28800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3167280" y="1834560"/>
                    <a:ext cx="29772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 flipH="1">
                    <a:off x="3173760" y="1841040"/>
                    <a:ext cx="29016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3167280" y="1851120"/>
                    <a:ext cx="28800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 flipH="1">
                    <a:off x="3001680" y="1801800"/>
                    <a:ext cx="50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 flipH="1">
                    <a:off x="2994840" y="1809720"/>
                    <a:ext cx="324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 flipH="1">
                    <a:off x="3051000" y="1801800"/>
                    <a:ext cx="4536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 flipH="1">
                    <a:off x="3165120" y="1841040"/>
                    <a:ext cx="972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 flipH="1">
                    <a:off x="2990520" y="1818000"/>
                    <a:ext cx="288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 flipH="1">
                    <a:off x="2986560" y="1818000"/>
                    <a:ext cx="324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2908440" y="1653120"/>
                    <a:ext cx="2628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69">
                        <a:moveTo>
                          <a:pt x="18" y="0"/>
                        </a:moveTo>
                        <a:lnTo>
                          <a:pt x="32" y="24"/>
                        </a:lnTo>
                        <a:lnTo>
                          <a:pt x="3" y="69"/>
                        </a:lnTo>
                        <a:lnTo>
                          <a:pt x="0" y="63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3542760" y="1624680"/>
                    <a:ext cx="3384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7">
                        <a:moveTo>
                          <a:pt x="43" y="38"/>
                        </a:moveTo>
                        <a:lnTo>
                          <a:pt x="7" y="47"/>
                        </a:lnTo>
                        <a:lnTo>
                          <a:pt x="0" y="47"/>
                        </a:lnTo>
                        <a:lnTo>
                          <a:pt x="0" y="20"/>
                        </a:lnTo>
                        <a:lnTo>
                          <a:pt x="9" y="0"/>
                        </a:lnTo>
                        <a:lnTo>
                          <a:pt x="43" y="38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 flipH="1">
                    <a:off x="3455640" y="1851120"/>
                    <a:ext cx="64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3455640" y="1857240"/>
                    <a:ext cx="64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 flipV="1">
                    <a:off x="3643920" y="1694520"/>
                    <a:ext cx="1440" cy="118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 flipH="1">
                    <a:off x="3530880" y="1801800"/>
                    <a:ext cx="46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3540600" y="1809720"/>
                    <a:ext cx="180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3547440" y="1818000"/>
                    <a:ext cx="144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3550680" y="1826280"/>
                    <a:ext cx="46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 flipH="1">
                    <a:off x="3554280" y="1834560"/>
                    <a:ext cx="288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 flipH="1">
                    <a:off x="3473640" y="1809720"/>
                    <a:ext cx="648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 flipH="1">
                    <a:off x="3468240" y="1818000"/>
                    <a:ext cx="324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 flipH="1">
                    <a:off x="3163680" y="1834560"/>
                    <a:ext cx="324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>
                    <a:off x="3160440" y="1826280"/>
                    <a:ext cx="64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 flipH="1">
                    <a:off x="3156840" y="1818000"/>
                    <a:ext cx="180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 flipH="1">
                    <a:off x="3150720" y="1809720"/>
                    <a:ext cx="3240" cy="2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 flipH="1">
                    <a:off x="3143880" y="1801800"/>
                    <a:ext cx="32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2926440" y="1677960"/>
                    <a:ext cx="3888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4">
                        <a:moveTo>
                          <a:pt x="48" y="0"/>
                        </a:moveTo>
                        <a:lnTo>
                          <a:pt x="27" y="0"/>
                        </a:lnTo>
                        <a:lnTo>
                          <a:pt x="0" y="44"/>
                        </a:lnTo>
                        <a:lnTo>
                          <a:pt x="20" y="44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2957400" y="1677960"/>
                    <a:ext cx="10980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44">
                        <a:moveTo>
                          <a:pt x="31" y="0"/>
                        </a:moveTo>
                        <a:lnTo>
                          <a:pt x="0" y="44"/>
                        </a:lnTo>
                        <a:lnTo>
                          <a:pt x="107" y="44"/>
                        </a:lnTo>
                        <a:lnTo>
                          <a:pt x="135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>
                    <a:off x="3055680" y="1677960"/>
                    <a:ext cx="10944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44">
                        <a:moveTo>
                          <a:pt x="29" y="0"/>
                        </a:moveTo>
                        <a:lnTo>
                          <a:pt x="0" y="44"/>
                        </a:lnTo>
                        <a:lnTo>
                          <a:pt x="107" y="44"/>
                        </a:lnTo>
                        <a:lnTo>
                          <a:pt x="133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>
                    <a:off x="3155760" y="1677960"/>
                    <a:ext cx="10944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44">
                        <a:moveTo>
                          <a:pt x="30" y="0"/>
                        </a:moveTo>
                        <a:lnTo>
                          <a:pt x="0" y="44"/>
                        </a:lnTo>
                        <a:lnTo>
                          <a:pt x="107" y="44"/>
                        </a:lnTo>
                        <a:lnTo>
                          <a:pt x="134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>
                    <a:off x="3254400" y="1677960"/>
                    <a:ext cx="10944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44">
                        <a:moveTo>
                          <a:pt x="29" y="0"/>
                        </a:moveTo>
                        <a:lnTo>
                          <a:pt x="0" y="44"/>
                        </a:lnTo>
                        <a:lnTo>
                          <a:pt x="106" y="44"/>
                        </a:lnTo>
                        <a:lnTo>
                          <a:pt x="133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>
                    <a:off x="3352320" y="1677960"/>
                    <a:ext cx="11124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44">
                        <a:moveTo>
                          <a:pt x="30" y="0"/>
                        </a:moveTo>
                        <a:lnTo>
                          <a:pt x="0" y="44"/>
                        </a:lnTo>
                        <a:lnTo>
                          <a:pt x="108" y="44"/>
                        </a:lnTo>
                        <a:lnTo>
                          <a:pt x="134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>
                    <a:off x="3454200" y="1677960"/>
                    <a:ext cx="10944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44">
                        <a:moveTo>
                          <a:pt x="29" y="0"/>
                        </a:moveTo>
                        <a:lnTo>
                          <a:pt x="0" y="44"/>
                        </a:lnTo>
                        <a:lnTo>
                          <a:pt x="108" y="44"/>
                        </a:lnTo>
                        <a:lnTo>
                          <a:pt x="134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1" name=""/>
                  <p:cNvSpPr/>
                  <p:nvPr/>
                </p:nvSpPr>
                <p:spPr>
                  <a:xfrm>
                    <a:off x="3575160" y="1704960"/>
                    <a:ext cx="52200" cy="55440"/>
                  </a:xfrm>
                  <a:prstGeom prst="rect">
                    <a:avLst/>
                  </a:prstGeom>
                  <a:solidFill>
                    <a:srgbClr val="40404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2" name=""/>
                <p:cNvGrpSpPr/>
                <p:nvPr/>
              </p:nvGrpSpPr>
              <p:grpSpPr>
                <a:xfrm>
                  <a:off x="3621600" y="1341360"/>
                  <a:ext cx="268920" cy="285840"/>
                  <a:chOff x="3621600" y="1341360"/>
                  <a:chExt cx="268920" cy="285840"/>
                </a:xfrm>
              </p:grpSpPr>
              <p:sp>
                <p:nvSpPr>
                  <p:cNvPr id="1673" name=""/>
                  <p:cNvSpPr/>
                  <p:nvPr/>
                </p:nvSpPr>
                <p:spPr>
                  <a:xfrm flipH="1">
                    <a:off x="3789720" y="1341360"/>
                    <a:ext cx="100800" cy="70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3791520" y="1416240"/>
                    <a:ext cx="36720" cy="3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 flipH="1">
                    <a:off x="3706560" y="1442160"/>
                    <a:ext cx="117360" cy="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3706560" y="1522080"/>
                    <a:ext cx="3240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 flipH="1">
                    <a:off x="3621600" y="1547640"/>
                    <a:ext cx="105120" cy="7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 flipV="1">
                    <a:off x="3621600" y="1568880"/>
                    <a:ext cx="169920" cy="58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 flipH="1" flipV="1">
                    <a:off x="3746520" y="1542960"/>
                    <a:ext cx="44280" cy="3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 flipV="1">
                    <a:off x="3746880" y="1441800"/>
                    <a:ext cx="12168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 flipH="1" flipV="1">
                    <a:off x="3835800" y="1425600"/>
                    <a:ext cx="42480" cy="2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 flipV="1">
                    <a:off x="3835800" y="1341360"/>
                    <a:ext cx="54360" cy="82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3" name=""/>
                <p:cNvGrpSpPr/>
                <p:nvPr/>
              </p:nvGrpSpPr>
              <p:grpSpPr>
                <a:xfrm>
                  <a:off x="3891240" y="1066680"/>
                  <a:ext cx="222480" cy="600840"/>
                  <a:chOff x="3891240" y="1066680"/>
                  <a:chExt cx="222480" cy="600840"/>
                </a:xfrm>
              </p:grpSpPr>
              <p:grpSp>
                <p:nvGrpSpPr>
                  <p:cNvPr id="1684" name=""/>
                  <p:cNvGrpSpPr/>
                  <p:nvPr/>
                </p:nvGrpSpPr>
                <p:grpSpPr>
                  <a:xfrm>
                    <a:off x="3891240" y="1066680"/>
                    <a:ext cx="222480" cy="394200"/>
                    <a:chOff x="3891240" y="1066680"/>
                    <a:chExt cx="222480" cy="394200"/>
                  </a:xfrm>
                </p:grpSpPr>
                <p:sp>
                  <p:nvSpPr>
                    <p:cNvPr id="1685" name=""/>
                    <p:cNvSpPr/>
                    <p:nvPr/>
                  </p:nvSpPr>
                  <p:spPr>
                    <a:xfrm>
                      <a:off x="3959640" y="1158120"/>
                      <a:ext cx="7920" cy="2052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6" name=""/>
                    <p:cNvSpPr/>
                    <p:nvPr/>
                  </p:nvSpPr>
                  <p:spPr>
                    <a:xfrm>
                      <a:off x="3970080" y="1158120"/>
                      <a:ext cx="7560" cy="2052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7" name=""/>
                    <p:cNvSpPr/>
                    <p:nvPr/>
                  </p:nvSpPr>
                  <p:spPr>
                    <a:xfrm>
                      <a:off x="3980160" y="1158120"/>
                      <a:ext cx="7560" cy="20520"/>
                    </a:xfrm>
                    <a:prstGeom prst="rect">
                      <a:avLst/>
                    </a:prstGeom>
                    <a:solidFill>
                      <a:srgbClr val="fa002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8" name=""/>
                    <p:cNvSpPr/>
                    <p:nvPr/>
                  </p:nvSpPr>
                  <p:spPr>
                    <a:xfrm>
                      <a:off x="3990240" y="1158120"/>
                      <a:ext cx="5760" cy="20520"/>
                    </a:xfrm>
                    <a:prstGeom prst="rect">
                      <a:avLst/>
                    </a:prstGeom>
                    <a:solidFill>
                      <a:srgbClr val="fa858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9" name=""/>
                    <p:cNvSpPr/>
                    <p:nvPr/>
                  </p:nvSpPr>
                  <p:spPr>
                    <a:xfrm>
                      <a:off x="4002120" y="1158120"/>
                      <a:ext cx="5760" cy="20520"/>
                    </a:xfrm>
                    <a:prstGeom prst="rect">
                      <a:avLst/>
                    </a:prstGeom>
                    <a:solidFill>
                      <a:srgbClr val="fac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0" name=""/>
                    <p:cNvSpPr/>
                    <p:nvPr/>
                  </p:nvSpPr>
                  <p:spPr>
                    <a:xfrm>
                      <a:off x="4012200" y="1158120"/>
                      <a:ext cx="5760" cy="20520"/>
                    </a:xfrm>
                    <a:prstGeom prst="rect">
                      <a:avLst/>
                    </a:prstGeom>
                    <a:solidFill>
                      <a:srgbClr val="f7fa6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1" name=""/>
                    <p:cNvSpPr/>
                    <p:nvPr/>
                  </p:nvSpPr>
                  <p:spPr>
                    <a:xfrm>
                      <a:off x="4020480" y="1158120"/>
                      <a:ext cx="7560" cy="20520"/>
                    </a:xfrm>
                    <a:prstGeom prst="rect">
                      <a:avLst/>
                    </a:prstGeom>
                    <a:solidFill>
                      <a:srgbClr val="09fa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2" name=""/>
                    <p:cNvSpPr/>
                    <p:nvPr/>
                  </p:nvSpPr>
                  <p:spPr>
                    <a:xfrm>
                      <a:off x="4030560" y="1158120"/>
                      <a:ext cx="7560" cy="20520"/>
                    </a:xfrm>
                    <a:prstGeom prst="rect">
                      <a:avLst/>
                    </a:prstGeom>
                    <a:solidFill>
                      <a:srgbClr val="a2fa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3" name=""/>
                    <p:cNvSpPr/>
                    <p:nvPr/>
                  </p:nvSpPr>
                  <p:spPr>
                    <a:xfrm>
                      <a:off x="4032360" y="1125000"/>
                      <a:ext cx="68760" cy="93600"/>
                    </a:xfrm>
                    <a:prstGeom prst="ellipse">
                      <a:avLst/>
                    </a:prstGeom>
                    <a:solidFill>
                      <a:srgbClr val="fa002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4" name=""/>
                    <p:cNvSpPr/>
                    <p:nvPr/>
                  </p:nvSpPr>
                  <p:spPr>
                    <a:xfrm>
                      <a:off x="3901320" y="1350360"/>
                      <a:ext cx="70560" cy="91440"/>
                    </a:xfrm>
                    <a:prstGeom prst="ellipse">
                      <a:avLst/>
                    </a:prstGeom>
                    <a:solidFill>
                      <a:srgbClr val="09fa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5" name=""/>
                    <p:cNvSpPr/>
                    <p:nvPr/>
                  </p:nvSpPr>
                  <p:spPr>
                    <a:xfrm flipV="1">
                      <a:off x="4002120" y="1066680"/>
                      <a:ext cx="2160" cy="44640"/>
                    </a:xfrm>
                    <a:prstGeom prst="line">
                      <a:avLst/>
                    </a:prstGeom>
                    <a:ln w="237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6" name=""/>
                    <p:cNvSpPr/>
                    <p:nvPr/>
                  </p:nvSpPr>
                  <p:spPr>
                    <a:xfrm>
                      <a:off x="4032360" y="1350360"/>
                      <a:ext cx="68760" cy="91440"/>
                    </a:xfrm>
                    <a:prstGeom prst="ellipse">
                      <a:avLst/>
                    </a:prstGeom>
                    <a:solidFill>
                      <a:srgbClr val="09fa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7" name=""/>
                    <p:cNvSpPr/>
                    <p:nvPr/>
                  </p:nvSpPr>
                  <p:spPr>
                    <a:xfrm>
                      <a:off x="4032360" y="1239840"/>
                      <a:ext cx="68760" cy="89280"/>
                    </a:xfrm>
                    <a:prstGeom prst="ellipse">
                      <a:avLst/>
                    </a:prstGeom>
                    <a:solidFill>
                      <a:srgbClr val="fac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8" name=""/>
                    <p:cNvSpPr/>
                    <p:nvPr/>
                  </p:nvSpPr>
                  <p:spPr>
                    <a:xfrm>
                      <a:off x="3901320" y="1125000"/>
                      <a:ext cx="70560" cy="93600"/>
                    </a:xfrm>
                    <a:prstGeom prst="ellipse">
                      <a:avLst/>
                    </a:prstGeom>
                    <a:solidFill>
                      <a:srgbClr val="fa002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9" name=""/>
                    <p:cNvSpPr/>
                    <p:nvPr/>
                  </p:nvSpPr>
                  <p:spPr>
                    <a:xfrm>
                      <a:off x="3901320" y="1239840"/>
                      <a:ext cx="70560" cy="89280"/>
                    </a:xfrm>
                    <a:prstGeom prst="ellipse">
                      <a:avLst/>
                    </a:prstGeom>
                    <a:solidFill>
                      <a:srgbClr val="fac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0" name=""/>
                    <p:cNvSpPr/>
                    <p:nvPr/>
                  </p:nvSpPr>
                  <p:spPr>
                    <a:xfrm>
                      <a:off x="3929040" y="1111320"/>
                      <a:ext cx="145800" cy="34956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1" name=""/>
                    <p:cNvSpPr/>
                    <p:nvPr/>
                  </p:nvSpPr>
                  <p:spPr>
                    <a:xfrm>
                      <a:off x="4075200" y="1350360"/>
                      <a:ext cx="385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78">
                          <a:moveTo>
                            <a:pt x="37" y="0"/>
                          </a:moveTo>
                          <a:lnTo>
                            <a:pt x="30" y="2"/>
                          </a:lnTo>
                          <a:lnTo>
                            <a:pt x="25" y="5"/>
                          </a:lnTo>
                          <a:lnTo>
                            <a:pt x="19" y="11"/>
                          </a:lnTo>
                          <a:lnTo>
                            <a:pt x="17" y="17"/>
                          </a:lnTo>
                          <a:lnTo>
                            <a:pt x="12" y="25"/>
                          </a:lnTo>
                          <a:lnTo>
                            <a:pt x="11" y="33"/>
                          </a:lnTo>
                          <a:lnTo>
                            <a:pt x="8" y="47"/>
                          </a:lnTo>
                          <a:lnTo>
                            <a:pt x="3" y="63"/>
                          </a:lnTo>
                          <a:lnTo>
                            <a:pt x="0" y="78"/>
                          </a:lnTo>
                          <a:lnTo>
                            <a:pt x="0" y="0"/>
                          </a:lnTo>
                          <a:lnTo>
                            <a:pt x="37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2" name=""/>
                    <p:cNvSpPr/>
                    <p:nvPr/>
                  </p:nvSpPr>
                  <p:spPr>
                    <a:xfrm>
                      <a:off x="4075200" y="1239840"/>
                      <a:ext cx="38520" cy="8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78">
                          <a:moveTo>
                            <a:pt x="37" y="0"/>
                          </a:moveTo>
                          <a:lnTo>
                            <a:pt x="30" y="2"/>
                          </a:lnTo>
                          <a:lnTo>
                            <a:pt x="25" y="5"/>
                          </a:lnTo>
                          <a:lnTo>
                            <a:pt x="19" y="11"/>
                          </a:lnTo>
                          <a:lnTo>
                            <a:pt x="17" y="16"/>
                          </a:lnTo>
                          <a:lnTo>
                            <a:pt x="12" y="24"/>
                          </a:lnTo>
                          <a:lnTo>
                            <a:pt x="11" y="33"/>
                          </a:lnTo>
                          <a:lnTo>
                            <a:pt x="8" y="47"/>
                          </a:lnTo>
                          <a:lnTo>
                            <a:pt x="3" y="63"/>
                          </a:lnTo>
                          <a:lnTo>
                            <a:pt x="0" y="78"/>
                          </a:lnTo>
                          <a:lnTo>
                            <a:pt x="0" y="0"/>
                          </a:lnTo>
                          <a:lnTo>
                            <a:pt x="37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480" bIns="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3" name=""/>
                    <p:cNvSpPr/>
                    <p:nvPr/>
                  </p:nvSpPr>
                  <p:spPr>
                    <a:xfrm>
                      <a:off x="4075200" y="1125000"/>
                      <a:ext cx="3852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79">
                          <a:moveTo>
                            <a:pt x="37" y="0"/>
                          </a:moveTo>
                          <a:lnTo>
                            <a:pt x="30" y="3"/>
                          </a:lnTo>
                          <a:lnTo>
                            <a:pt x="25" y="5"/>
                          </a:lnTo>
                          <a:lnTo>
                            <a:pt x="19" y="10"/>
                          </a:lnTo>
                          <a:lnTo>
                            <a:pt x="17" y="17"/>
                          </a:lnTo>
                          <a:lnTo>
                            <a:pt x="12" y="24"/>
                          </a:lnTo>
                          <a:lnTo>
                            <a:pt x="11" y="32"/>
                          </a:lnTo>
                          <a:lnTo>
                            <a:pt x="8" y="48"/>
                          </a:lnTo>
                          <a:lnTo>
                            <a:pt x="3" y="63"/>
                          </a:lnTo>
                          <a:lnTo>
                            <a:pt x="0" y="79"/>
                          </a:lnTo>
                          <a:lnTo>
                            <a:pt x="0" y="0"/>
                          </a:lnTo>
                          <a:lnTo>
                            <a:pt x="37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4" name=""/>
                    <p:cNvSpPr/>
                    <p:nvPr/>
                  </p:nvSpPr>
                  <p:spPr>
                    <a:xfrm>
                      <a:off x="3891240" y="1350360"/>
                      <a:ext cx="3780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78">
                          <a:moveTo>
                            <a:pt x="0" y="0"/>
                          </a:moveTo>
                          <a:lnTo>
                            <a:pt x="7" y="2"/>
                          </a:lnTo>
                          <a:lnTo>
                            <a:pt x="12" y="5"/>
                          </a:lnTo>
                          <a:lnTo>
                            <a:pt x="17" y="11"/>
                          </a:lnTo>
                          <a:lnTo>
                            <a:pt x="20" y="17"/>
                          </a:lnTo>
                          <a:lnTo>
                            <a:pt x="23" y="25"/>
                          </a:lnTo>
                          <a:lnTo>
                            <a:pt x="26" y="33"/>
                          </a:lnTo>
                          <a:lnTo>
                            <a:pt x="29" y="47"/>
                          </a:lnTo>
                          <a:lnTo>
                            <a:pt x="33" y="63"/>
                          </a:lnTo>
                          <a:lnTo>
                            <a:pt x="36" y="78"/>
                          </a:lnTo>
                          <a:lnTo>
                            <a:pt x="36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5" name=""/>
                    <p:cNvSpPr/>
                    <p:nvPr/>
                  </p:nvSpPr>
                  <p:spPr>
                    <a:xfrm>
                      <a:off x="3891240" y="1239840"/>
                      <a:ext cx="37800" cy="8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78">
                          <a:moveTo>
                            <a:pt x="0" y="0"/>
                          </a:moveTo>
                          <a:lnTo>
                            <a:pt x="7" y="2"/>
                          </a:lnTo>
                          <a:lnTo>
                            <a:pt x="12" y="5"/>
                          </a:lnTo>
                          <a:lnTo>
                            <a:pt x="17" y="11"/>
                          </a:lnTo>
                          <a:lnTo>
                            <a:pt x="20" y="16"/>
                          </a:lnTo>
                          <a:lnTo>
                            <a:pt x="23" y="24"/>
                          </a:lnTo>
                          <a:lnTo>
                            <a:pt x="26" y="33"/>
                          </a:lnTo>
                          <a:lnTo>
                            <a:pt x="29" y="47"/>
                          </a:lnTo>
                          <a:lnTo>
                            <a:pt x="33" y="63"/>
                          </a:lnTo>
                          <a:lnTo>
                            <a:pt x="36" y="78"/>
                          </a:lnTo>
                          <a:lnTo>
                            <a:pt x="36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480" bIns="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6" name=""/>
                    <p:cNvSpPr/>
                    <p:nvPr/>
                  </p:nvSpPr>
                  <p:spPr>
                    <a:xfrm>
                      <a:off x="3891240" y="1125000"/>
                      <a:ext cx="378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79">
                          <a:moveTo>
                            <a:pt x="0" y="0"/>
                          </a:moveTo>
                          <a:lnTo>
                            <a:pt x="7" y="3"/>
                          </a:lnTo>
                          <a:lnTo>
                            <a:pt x="12" y="5"/>
                          </a:lnTo>
                          <a:lnTo>
                            <a:pt x="17" y="10"/>
                          </a:lnTo>
                          <a:lnTo>
                            <a:pt x="20" y="17"/>
                          </a:lnTo>
                          <a:lnTo>
                            <a:pt x="23" y="24"/>
                          </a:lnTo>
                          <a:lnTo>
                            <a:pt x="26" y="32"/>
                          </a:lnTo>
                          <a:lnTo>
                            <a:pt x="29" y="48"/>
                          </a:lnTo>
                          <a:lnTo>
                            <a:pt x="33" y="63"/>
                          </a:lnTo>
                          <a:lnTo>
                            <a:pt x="36" y="79"/>
                          </a:lnTo>
                          <a:lnTo>
                            <a:pt x="36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7" name=""/>
                    <p:cNvSpPr/>
                    <p:nvPr/>
                  </p:nvSpPr>
                  <p:spPr>
                    <a:xfrm>
                      <a:off x="3951720" y="1380960"/>
                      <a:ext cx="99000" cy="6300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8" name=""/>
                    <p:cNvSpPr/>
                    <p:nvPr/>
                  </p:nvSpPr>
                  <p:spPr>
                    <a:xfrm>
                      <a:off x="3951720" y="1350360"/>
                      <a:ext cx="99000" cy="65880"/>
                    </a:xfrm>
                    <a:prstGeom prst="ellips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9" name=""/>
                    <p:cNvSpPr/>
                    <p:nvPr/>
                  </p:nvSpPr>
                  <p:spPr>
                    <a:xfrm>
                      <a:off x="3951720" y="1158120"/>
                      <a:ext cx="99000" cy="6048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0" name=""/>
                    <p:cNvSpPr/>
                    <p:nvPr/>
                  </p:nvSpPr>
                  <p:spPr>
                    <a:xfrm>
                      <a:off x="3951720" y="1125000"/>
                      <a:ext cx="99000" cy="65160"/>
                    </a:xfrm>
                    <a:prstGeom prst="ellips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" bIns="-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1" name=""/>
                    <p:cNvSpPr/>
                    <p:nvPr/>
                  </p:nvSpPr>
                  <p:spPr>
                    <a:xfrm>
                      <a:off x="3951720" y="1270440"/>
                      <a:ext cx="99000" cy="5904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240" bIns="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2" name=""/>
                    <p:cNvSpPr/>
                    <p:nvPr/>
                  </p:nvSpPr>
                  <p:spPr>
                    <a:xfrm>
                      <a:off x="3951720" y="1238040"/>
                      <a:ext cx="99000" cy="65160"/>
                    </a:xfrm>
                    <a:prstGeom prst="ellips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" bIns="-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3" name=""/>
                    <p:cNvSpPr/>
                    <p:nvPr/>
                  </p:nvSpPr>
                  <p:spPr>
                    <a:xfrm>
                      <a:off x="3957480" y="1352880"/>
                      <a:ext cx="88920" cy="88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4" name=""/>
                    <p:cNvSpPr/>
                    <p:nvPr/>
                  </p:nvSpPr>
                  <p:spPr>
                    <a:xfrm>
                      <a:off x="3959640" y="1355040"/>
                      <a:ext cx="85320" cy="84600"/>
                    </a:xfrm>
                    <a:prstGeom prst="ellipse">
                      <a:avLst/>
                    </a:prstGeom>
                    <a:solidFill>
                      <a:srgbClr val="09fa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5" name=""/>
                    <p:cNvSpPr/>
                    <p:nvPr/>
                  </p:nvSpPr>
                  <p:spPr>
                    <a:xfrm>
                      <a:off x="3957480" y="1127160"/>
                      <a:ext cx="88920" cy="89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6" name=""/>
                    <p:cNvSpPr/>
                    <p:nvPr/>
                  </p:nvSpPr>
                  <p:spPr>
                    <a:xfrm>
                      <a:off x="3959640" y="1129680"/>
                      <a:ext cx="85320" cy="84600"/>
                    </a:xfrm>
                    <a:prstGeom prst="ellipse">
                      <a:avLst/>
                    </a:prstGeom>
                    <a:solidFill>
                      <a:srgbClr val="fa002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7" name=""/>
                    <p:cNvSpPr/>
                    <p:nvPr/>
                  </p:nvSpPr>
                  <p:spPr>
                    <a:xfrm>
                      <a:off x="3957480" y="1239840"/>
                      <a:ext cx="88920" cy="89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8" name=""/>
                    <p:cNvSpPr/>
                    <p:nvPr/>
                  </p:nvSpPr>
                  <p:spPr>
                    <a:xfrm>
                      <a:off x="3959640" y="1242000"/>
                      <a:ext cx="85320" cy="84600"/>
                    </a:xfrm>
                    <a:prstGeom prst="ellipse">
                      <a:avLst/>
                    </a:prstGeom>
                    <a:solidFill>
                      <a:srgbClr val="fac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9" name=""/>
                    <p:cNvSpPr/>
                    <p:nvPr/>
                  </p:nvSpPr>
                  <p:spPr>
                    <a:xfrm>
                      <a:off x="3971880" y="1090080"/>
                      <a:ext cx="60480" cy="1800"/>
                    </a:xfrm>
                    <a:prstGeom prst="line">
                      <a:avLst/>
                    </a:prstGeom>
                    <a:ln w="1908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0" name=""/>
                    <p:cNvSpPr/>
                    <p:nvPr/>
                  </p:nvSpPr>
                  <p:spPr>
                    <a:xfrm>
                      <a:off x="3990240" y="1075680"/>
                      <a:ext cx="21960" cy="25920"/>
                    </a:xfrm>
                    <a:prstGeom prst="ellipse">
                      <a:avLst/>
                    </a:pr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1" name=""/>
                    <p:cNvSpPr/>
                    <p:nvPr/>
                  </p:nvSpPr>
                  <p:spPr>
                    <a:xfrm>
                      <a:off x="4016520" y="1143720"/>
                      <a:ext cx="158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6">
                          <a:moveTo>
                            <a:pt x="9" y="0"/>
                          </a:moveTo>
                          <a:lnTo>
                            <a:pt x="12" y="2"/>
                          </a:lnTo>
                          <a:lnTo>
                            <a:pt x="14" y="3"/>
                          </a:lnTo>
                          <a:lnTo>
                            <a:pt x="16" y="5"/>
                          </a:lnTo>
                          <a:lnTo>
                            <a:pt x="16" y="6"/>
                          </a:lnTo>
                          <a:lnTo>
                            <a:pt x="13" y="10"/>
                          </a:lnTo>
                          <a:lnTo>
                            <a:pt x="12" y="13"/>
                          </a:lnTo>
                          <a:lnTo>
                            <a:pt x="10" y="16"/>
                          </a:lnTo>
                          <a:lnTo>
                            <a:pt x="10" y="16"/>
                          </a:lnTo>
                          <a:lnTo>
                            <a:pt x="9" y="13"/>
                          </a:lnTo>
                          <a:lnTo>
                            <a:pt x="7" y="12"/>
                          </a:lnTo>
                          <a:lnTo>
                            <a:pt x="3" y="12"/>
                          </a:lnTo>
                          <a:lnTo>
                            <a:pt x="1" y="10"/>
                          </a:lnTo>
                          <a:lnTo>
                            <a:pt x="0" y="8"/>
                          </a:lnTo>
                          <a:lnTo>
                            <a:pt x="1" y="6"/>
                          </a:lnTo>
                          <a:lnTo>
                            <a:pt x="3" y="3"/>
                          </a:lnTo>
                          <a:lnTo>
                            <a:pt x="4" y="2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fa858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2" name=""/>
                    <p:cNvSpPr/>
                    <p:nvPr/>
                  </p:nvSpPr>
                  <p:spPr>
                    <a:xfrm>
                      <a:off x="4006440" y="1134720"/>
                      <a:ext cx="1584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6">
                          <a:moveTo>
                            <a:pt x="7" y="0"/>
                          </a:moveTo>
                          <a:lnTo>
                            <a:pt x="10" y="1"/>
                          </a:lnTo>
                          <a:lnTo>
                            <a:pt x="14" y="3"/>
                          </a:lnTo>
                          <a:lnTo>
                            <a:pt x="16" y="4"/>
                          </a:lnTo>
                          <a:lnTo>
                            <a:pt x="16" y="6"/>
                          </a:lnTo>
                          <a:lnTo>
                            <a:pt x="13" y="10"/>
                          </a:lnTo>
                          <a:lnTo>
                            <a:pt x="10" y="13"/>
                          </a:lnTo>
                          <a:lnTo>
                            <a:pt x="8" y="15"/>
                          </a:lnTo>
                          <a:lnTo>
                            <a:pt x="8" y="16"/>
                          </a:lnTo>
                          <a:lnTo>
                            <a:pt x="7" y="13"/>
                          </a:lnTo>
                          <a:lnTo>
                            <a:pt x="5" y="12"/>
                          </a:lnTo>
                          <a:lnTo>
                            <a:pt x="3" y="12"/>
                          </a:lnTo>
                          <a:lnTo>
                            <a:pt x="0" y="10"/>
                          </a:lnTo>
                          <a:lnTo>
                            <a:pt x="0" y="7"/>
                          </a:lnTo>
                          <a:lnTo>
                            <a:pt x="0" y="6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fa858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3" name=""/>
                    <p:cNvSpPr/>
                    <p:nvPr/>
                  </p:nvSpPr>
                  <p:spPr>
                    <a:xfrm>
                      <a:off x="4018320" y="1258560"/>
                      <a:ext cx="140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17">
                          <a:moveTo>
                            <a:pt x="8" y="0"/>
                          </a:moveTo>
                          <a:lnTo>
                            <a:pt x="11" y="2"/>
                          </a:lnTo>
                          <a:lnTo>
                            <a:pt x="15" y="3"/>
                          </a:lnTo>
                          <a:lnTo>
                            <a:pt x="15" y="5"/>
                          </a:lnTo>
                          <a:lnTo>
                            <a:pt x="15" y="8"/>
                          </a:lnTo>
                          <a:lnTo>
                            <a:pt x="12" y="11"/>
                          </a:lnTo>
                          <a:lnTo>
                            <a:pt x="11" y="14"/>
                          </a:lnTo>
                          <a:lnTo>
                            <a:pt x="9" y="17"/>
                          </a:lnTo>
                          <a:lnTo>
                            <a:pt x="9" y="17"/>
                          </a:lnTo>
                          <a:lnTo>
                            <a:pt x="8" y="14"/>
                          </a:lnTo>
                          <a:lnTo>
                            <a:pt x="6" y="12"/>
                          </a:lnTo>
                          <a:lnTo>
                            <a:pt x="3" y="12"/>
                          </a:lnTo>
                          <a:lnTo>
                            <a:pt x="0" y="11"/>
                          </a:lnTo>
                          <a:lnTo>
                            <a:pt x="0" y="9"/>
                          </a:lnTo>
                          <a:lnTo>
                            <a:pt x="0" y="6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f7fa6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4" name=""/>
                    <p:cNvSpPr/>
                    <p:nvPr/>
                  </p:nvSpPr>
                  <p:spPr>
                    <a:xfrm>
                      <a:off x="4006440" y="1249560"/>
                      <a:ext cx="1584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6">
                          <a:moveTo>
                            <a:pt x="8" y="0"/>
                          </a:moveTo>
                          <a:lnTo>
                            <a:pt x="11" y="2"/>
                          </a:lnTo>
                          <a:lnTo>
                            <a:pt x="14" y="3"/>
                          </a:lnTo>
                          <a:lnTo>
                            <a:pt x="16" y="4"/>
                          </a:lnTo>
                          <a:lnTo>
                            <a:pt x="16" y="6"/>
                          </a:lnTo>
                          <a:lnTo>
                            <a:pt x="13" y="10"/>
                          </a:lnTo>
                          <a:lnTo>
                            <a:pt x="10" y="13"/>
                          </a:lnTo>
                          <a:lnTo>
                            <a:pt x="10" y="16"/>
                          </a:lnTo>
                          <a:lnTo>
                            <a:pt x="8" y="16"/>
                          </a:lnTo>
                          <a:lnTo>
                            <a:pt x="8" y="13"/>
                          </a:lnTo>
                          <a:lnTo>
                            <a:pt x="5" y="12"/>
                          </a:lnTo>
                          <a:lnTo>
                            <a:pt x="3" y="12"/>
                          </a:lnTo>
                          <a:lnTo>
                            <a:pt x="1" y="10"/>
                          </a:lnTo>
                          <a:lnTo>
                            <a:pt x="0" y="7"/>
                          </a:lnTo>
                          <a:lnTo>
                            <a:pt x="1" y="6"/>
                          </a:lnTo>
                          <a:lnTo>
                            <a:pt x="3" y="3"/>
                          </a:lnTo>
                          <a:lnTo>
                            <a:pt x="4" y="2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f7fa6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5" name=""/>
                    <p:cNvSpPr/>
                    <p:nvPr/>
                  </p:nvSpPr>
                  <p:spPr>
                    <a:xfrm>
                      <a:off x="4016520" y="1369440"/>
                      <a:ext cx="1584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6">
                          <a:moveTo>
                            <a:pt x="9" y="0"/>
                          </a:moveTo>
                          <a:lnTo>
                            <a:pt x="12" y="1"/>
                          </a:lnTo>
                          <a:lnTo>
                            <a:pt x="14" y="3"/>
                          </a:lnTo>
                          <a:lnTo>
                            <a:pt x="16" y="4"/>
                          </a:lnTo>
                          <a:lnTo>
                            <a:pt x="16" y="5"/>
                          </a:lnTo>
                          <a:lnTo>
                            <a:pt x="13" y="10"/>
                          </a:lnTo>
                          <a:lnTo>
                            <a:pt x="12" y="13"/>
                          </a:lnTo>
                          <a:lnTo>
                            <a:pt x="10" y="16"/>
                          </a:lnTo>
                          <a:lnTo>
                            <a:pt x="10" y="16"/>
                          </a:lnTo>
                          <a:lnTo>
                            <a:pt x="9" y="13"/>
                          </a:lnTo>
                          <a:lnTo>
                            <a:pt x="7" y="11"/>
                          </a:lnTo>
                          <a:lnTo>
                            <a:pt x="3" y="11"/>
                          </a:lnTo>
                          <a:lnTo>
                            <a:pt x="1" y="10"/>
                          </a:lnTo>
                          <a:lnTo>
                            <a:pt x="0" y="7"/>
                          </a:lnTo>
                          <a:lnTo>
                            <a:pt x="1" y="5"/>
                          </a:lnTo>
                          <a:lnTo>
                            <a:pt x="3" y="3"/>
                          </a:lnTo>
                          <a:lnTo>
                            <a:pt x="4" y="1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a2fa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6" name=""/>
                    <p:cNvSpPr/>
                    <p:nvPr/>
                  </p:nvSpPr>
                  <p:spPr>
                    <a:xfrm>
                      <a:off x="4006440" y="1361880"/>
                      <a:ext cx="158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6">
                          <a:moveTo>
                            <a:pt x="7" y="0"/>
                          </a:moveTo>
                          <a:lnTo>
                            <a:pt x="10" y="2"/>
                          </a:lnTo>
                          <a:lnTo>
                            <a:pt x="14" y="3"/>
                          </a:lnTo>
                          <a:lnTo>
                            <a:pt x="16" y="5"/>
                          </a:lnTo>
                          <a:lnTo>
                            <a:pt x="16" y="6"/>
                          </a:lnTo>
                          <a:lnTo>
                            <a:pt x="13" y="11"/>
                          </a:lnTo>
                          <a:lnTo>
                            <a:pt x="10" y="13"/>
                          </a:lnTo>
                          <a:lnTo>
                            <a:pt x="8" y="15"/>
                          </a:lnTo>
                          <a:lnTo>
                            <a:pt x="8" y="16"/>
                          </a:lnTo>
                          <a:lnTo>
                            <a:pt x="7" y="13"/>
                          </a:lnTo>
                          <a:lnTo>
                            <a:pt x="5" y="12"/>
                          </a:lnTo>
                          <a:lnTo>
                            <a:pt x="3" y="11"/>
                          </a:lnTo>
                          <a:lnTo>
                            <a:pt x="0" y="11"/>
                          </a:lnTo>
                          <a:lnTo>
                            <a:pt x="0" y="8"/>
                          </a:lnTo>
                          <a:lnTo>
                            <a:pt x="0" y="6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a2fa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27" name=""/>
                  <p:cNvSpPr/>
                  <p:nvPr/>
                </p:nvSpPr>
                <p:spPr>
                  <a:xfrm>
                    <a:off x="4004280" y="1446120"/>
                    <a:ext cx="0" cy="221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28" name=""/>
              <p:cNvGrpSpPr/>
              <p:nvPr/>
            </p:nvGrpSpPr>
            <p:grpSpPr>
              <a:xfrm>
                <a:off x="838080" y="1057320"/>
                <a:ext cx="1524240" cy="1000080"/>
                <a:chOff x="838080" y="1057320"/>
                <a:chExt cx="1524240" cy="1000080"/>
              </a:xfrm>
            </p:grpSpPr>
            <p:grpSp>
              <p:nvGrpSpPr>
                <p:cNvPr id="1729" name=""/>
                <p:cNvGrpSpPr/>
                <p:nvPr/>
              </p:nvGrpSpPr>
              <p:grpSpPr>
                <a:xfrm>
                  <a:off x="1371600" y="1057320"/>
                  <a:ext cx="990720" cy="914400"/>
                  <a:chOff x="1371600" y="1057320"/>
                  <a:chExt cx="990720" cy="914400"/>
                </a:xfrm>
              </p:grpSpPr>
              <p:sp>
                <p:nvSpPr>
                  <p:cNvPr id="1730" name=""/>
                  <p:cNvSpPr/>
                  <p:nvPr/>
                </p:nvSpPr>
                <p:spPr>
                  <a:xfrm>
                    <a:off x="1371600" y="1057320"/>
                    <a:ext cx="990720" cy="620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1474920" y="1101600"/>
                    <a:ext cx="380880" cy="1854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TW" sz="600" spc="-1" strike="noStrike">
                        <a:solidFill>
                          <a:srgbClr val="ffffff"/>
                        </a:solidFill>
                        <a:latin typeface="全真中圓體"/>
                        <a:ea typeface="全真中圓體"/>
                      </a:rPr>
                      <a:t>2 8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1969920" y="1285920"/>
                    <a:ext cx="316080" cy="2768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TW" sz="600" spc="-1" strike="noStrike">
                        <a:solidFill>
                          <a:srgbClr val="ffffff"/>
                        </a:solidFill>
                        <a:latin typeface="全真中圓體"/>
                        <a:ea typeface="全真中圓體"/>
                      </a:rPr>
                      <a:t>5 9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1676520" y="1285920"/>
                    <a:ext cx="1440" cy="342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1806480" y="1400040"/>
                    <a:ext cx="174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1806480" y="1400040"/>
                    <a:ext cx="0" cy="230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1798560" y="1057320"/>
                    <a:ext cx="374760" cy="185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TW" sz="600" spc="-1" strike="noStrike">
                        <a:solidFill>
                          <a:srgbClr val="000000"/>
                        </a:solidFill>
                        <a:latin typeface="全真中圓體"/>
                        <a:ea typeface="全真中圓體"/>
                      </a:rPr>
                      <a:t>南門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1971720" y="1438200"/>
                    <a:ext cx="390600" cy="185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TW" sz="600" spc="-1" strike="noStrike">
                        <a:solidFill>
                          <a:srgbClr val="000000"/>
                        </a:solidFill>
                        <a:latin typeface="全真中圓體"/>
                        <a:ea typeface="全真中圓體"/>
                      </a:rPr>
                      <a:t>洛陽</a:t>
                    </a:r>
                    <a:endParaRPr b="0" lang="en-US" sz="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1849320" y="1677960"/>
                    <a:ext cx="34920" cy="2937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73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38080" y="1859040"/>
                  <a:ext cx="76212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740" name=""/>
          <p:cNvSpPr/>
          <p:nvPr/>
        </p:nvSpPr>
        <p:spPr>
          <a:xfrm>
            <a:off x="7772400" y="624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m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"/>
          <p:cNvSpPr/>
          <p:nvPr/>
        </p:nvSpPr>
        <p:spPr>
          <a:xfrm>
            <a:off x="692280" y="615960"/>
            <a:ext cx="51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想一：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健全運輸安全資訊系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92280" y="3792600"/>
            <a:ext cx="58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想二：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推動運輸安全系統智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1035000" y="1316160"/>
            <a:ext cx="686124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9960" indent="-2890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建立整體交通安全資料庫，提升反應能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建立事故資料分析、預測、追蹤及回饋修正制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強化國民交通安全基本教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104840" y="4454640"/>
            <a:ext cx="65102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鼓勵民間研發智慧型道路交通安全系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推動無障礙運輸安全環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d3a8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目標四：強化交通運輸安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038480" y="6172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"/>
          <p:cNvSpPr/>
          <p:nvPr/>
        </p:nvSpPr>
        <p:spPr>
          <a:xfrm>
            <a:off x="1009800" y="1278000"/>
            <a:ext cx="65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想三：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整合運輸安全監督管理體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371600" y="2092320"/>
            <a:ext cx="611676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9960" indent="-289080" algn="just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推動機車安全管理政策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規劃及推動客貨運輸安全管理政策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規劃及推動道路、軌道、海事、航空等安全整體監督管理體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d3a8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目標四：強化交通運輸安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038480" y="624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1" name=""/>
          <p:cNvGrpSpPr/>
          <p:nvPr/>
        </p:nvGrpSpPr>
        <p:grpSpPr>
          <a:xfrm>
            <a:off x="609480" y="457200"/>
            <a:ext cx="7925040" cy="6022440"/>
            <a:chOff x="609480" y="457200"/>
            <a:chExt cx="7925040" cy="6022440"/>
          </a:xfrm>
        </p:grpSpPr>
        <p:sp>
          <p:nvSpPr>
            <p:cNvPr id="1752" name=""/>
            <p:cNvSpPr/>
            <p:nvPr/>
          </p:nvSpPr>
          <p:spPr>
            <a:xfrm>
              <a:off x="1600200" y="601992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全真中圓體"/>
                  <a:ea typeface="全真中圓體"/>
                </a:rPr>
                <a:t>目標五  構建與環境調和之運輸系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3" name=""/>
            <p:cNvGrpSpPr/>
            <p:nvPr/>
          </p:nvGrpSpPr>
          <p:grpSpPr>
            <a:xfrm>
              <a:off x="609480" y="457200"/>
              <a:ext cx="7925040" cy="5366520"/>
              <a:chOff x="609480" y="457200"/>
              <a:chExt cx="7925040" cy="5366520"/>
            </a:xfrm>
          </p:grpSpPr>
          <p:grpSp>
            <p:nvGrpSpPr>
              <p:cNvPr id="1754" name=""/>
              <p:cNvGrpSpPr/>
              <p:nvPr/>
            </p:nvGrpSpPr>
            <p:grpSpPr>
              <a:xfrm>
                <a:off x="609480" y="457200"/>
                <a:ext cx="7925040" cy="5334120"/>
                <a:chOff x="609480" y="457200"/>
                <a:chExt cx="7925040" cy="5334120"/>
              </a:xfrm>
            </p:grpSpPr>
            <p:sp>
              <p:nvSpPr>
                <p:cNvPr id="1755" name=""/>
                <p:cNvSpPr/>
                <p:nvPr/>
              </p:nvSpPr>
              <p:spPr>
                <a:xfrm>
                  <a:off x="609480" y="457200"/>
                  <a:ext cx="7925040" cy="53341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899eab"/>
                    </a:gs>
                    <a:gs pos="50000">
                      <a:srgbClr val="ccecff"/>
                    </a:gs>
                    <a:gs pos="100000">
                      <a:srgbClr val="899eab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75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050920" y="457200"/>
                  <a:ext cx="3521160" cy="3421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62400" y="2971800"/>
                  <a:ext cx="1409760" cy="1192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653080" y="1031760"/>
                  <a:ext cx="2481120" cy="1700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32320" y="3903840"/>
                  <a:ext cx="2962440" cy="120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0" name=""/>
                <p:cNvSpPr/>
                <p:nvPr/>
              </p:nvSpPr>
              <p:spPr>
                <a:xfrm>
                  <a:off x="5492880" y="2819520"/>
                  <a:ext cx="28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Times New Roman"/>
                      <a:ea typeface="全真中圓體"/>
                    </a:rPr>
                    <a:t>降低基地開發交通衝擊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689040" y="866880"/>
                  <a:ext cx="3762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800" spc="-1" strike="noStrike">
                      <a:solidFill>
                        <a:srgbClr val="000000"/>
                      </a:solidFill>
                      <a:latin typeface="Times New Roman"/>
                      <a:ea typeface="全真中圓體"/>
                    </a:rPr>
                    <a:t>規劃發展具地區特性之運輸系統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849240" y="4903920"/>
                  <a:ext cx="1920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600" spc="-1" strike="noStrike">
                      <a:solidFill>
                        <a:srgbClr val="000000"/>
                      </a:solidFill>
                      <a:latin typeface="Times New Roman"/>
                      <a:ea typeface="全真中圓體"/>
                    </a:rPr>
                    <a:t>引進替代能源公車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5492880" y="5067360"/>
                  <a:ext cx="2401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600" spc="-1" strike="noStrike">
                      <a:solidFill>
                        <a:srgbClr val="000000"/>
                      </a:solidFill>
                      <a:latin typeface="Times New Roman"/>
                      <a:ea typeface="全真中圓體"/>
                    </a:rPr>
                    <a:t>引進輕軌運輸系統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3011400" y="4121280"/>
                  <a:ext cx="240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600" spc="-1" strike="noStrike">
                      <a:solidFill>
                        <a:srgbClr val="000000"/>
                      </a:solidFill>
                      <a:latin typeface="Times New Roman"/>
                      <a:ea typeface="全真中圓體"/>
                    </a:rPr>
                    <a:t>規劃自行車專用道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5" name=""/>
                <p:cNvGrpSpPr/>
                <p:nvPr/>
              </p:nvGrpSpPr>
              <p:grpSpPr>
                <a:xfrm>
                  <a:off x="849240" y="4067280"/>
                  <a:ext cx="1920960" cy="726840"/>
                  <a:chOff x="849240" y="4067280"/>
                  <a:chExt cx="1920960" cy="726840"/>
                </a:xfrm>
              </p:grpSpPr>
              <p:pic>
                <p:nvPicPr>
                  <p:cNvPr id="17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 flipH="1">
                    <a:off x="849240" y="4067280"/>
                    <a:ext cx="19209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67" name=""/>
                  <p:cNvSpPr/>
                  <p:nvPr/>
                </p:nvSpPr>
                <p:spPr>
                  <a:xfrm>
                    <a:off x="1487520" y="4495680"/>
                    <a:ext cx="880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TW" sz="1000" spc="-1" strike="noStrike">
                        <a:solidFill>
                          <a:srgbClr val="3333cc"/>
                        </a:solidFill>
                        <a:latin typeface="Times New Roman"/>
                        <a:ea typeface="全真中圓體"/>
                      </a:rPr>
                      <a:t>電 動 公 車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68" name=""/>
              <p:cNvGrpSpPr/>
              <p:nvPr/>
            </p:nvGrpSpPr>
            <p:grpSpPr>
              <a:xfrm>
                <a:off x="3048120" y="4487760"/>
                <a:ext cx="2400120" cy="1335960"/>
                <a:chOff x="3048120" y="4487760"/>
                <a:chExt cx="2400120" cy="1335960"/>
              </a:xfrm>
            </p:grpSpPr>
            <p:pic>
              <p:nvPicPr>
                <p:cNvPr id="176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581280" y="4487760"/>
                  <a:ext cx="1447920" cy="9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0" name=""/>
                <p:cNvSpPr/>
                <p:nvPr/>
              </p:nvSpPr>
              <p:spPr>
                <a:xfrm>
                  <a:off x="3048120" y="5486400"/>
                  <a:ext cx="2400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600" spc="-1" strike="noStrike">
                      <a:solidFill>
                        <a:srgbClr val="000000"/>
                      </a:solidFill>
                      <a:latin typeface="Times New Roman"/>
                      <a:ea typeface="全真中圓體"/>
                    </a:rPr>
                    <a:t>推廣使用電動機車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71" name=""/>
          <p:cNvSpPr/>
          <p:nvPr/>
        </p:nvSpPr>
        <p:spPr>
          <a:xfrm>
            <a:off x="7467480" y="609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p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"/>
          <p:cNvSpPr/>
          <p:nvPr/>
        </p:nvSpPr>
        <p:spPr>
          <a:xfrm>
            <a:off x="692280" y="473040"/>
            <a:ext cx="66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想一：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推展低污染、省能源之運輸系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68160" y="3562200"/>
            <a:ext cx="708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想二：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降低土地開發衍生運輸活動造成之環境衝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085760" y="1074600"/>
            <a:ext cx="6280200" cy="22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進行電動機車的推廣使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引進替代能源公車的可行性研究計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輕軌運輸系統的引進與推廣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自行車專用道之規劃與推廣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038240" y="4460760"/>
            <a:ext cx="70419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建立不同土地使用型態旅次發生率資料庫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訂定基地開發交通衝擊評估審議規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推動實施交通衝擊審議制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0" y="0"/>
            <a:ext cx="350532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d3a8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目標五：構建與環境調和之運輸系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038480" y="6172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q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37160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d3a8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緣   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533520"/>
            <a:ext cx="723888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緣    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zh-TW" sz="30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  </a:t>
            </a:r>
            <a:r>
              <a:rPr b="0" lang="zh-TW" sz="30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部長於第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華康粗圓體"/>
              </a:rPr>
              <a:t>915</a:t>
            </a:r>
            <a:r>
              <a:rPr b="0" lang="zh-TW" sz="30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次部務會報指示：「在即將邁入二十一世紀之際，各項交通政策與建設方案，應以跨世紀的、宏觀的、前瞻性觀點來預為規劃，請運輸研究所、科技顧問室共同合作，延聘學者、專家共同探討、規劃，提供具體構想，再分別依其性質，請三位次長召集會議研擬後續推動工作計畫。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4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"/>
          <p:cNvSpPr/>
          <p:nvPr/>
        </p:nvSpPr>
        <p:spPr>
          <a:xfrm>
            <a:off x="646200" y="101916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想三：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規劃發展與地區特性融合之運輸系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035000" y="1819440"/>
            <a:ext cx="6834240" cy="22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港埠發展與都市計畫及都市建設結合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各種運輸新建工程加強與地區特性結合之設計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構建停車資訊與管理系統，減少都市停車需求高地區小汽車使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0" y="0"/>
            <a:ext cx="350532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d3a8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目標五：構建與環境調和之運輸系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038480" y="624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/>
          <p:nvPr/>
        </p:nvSpPr>
        <p:spPr>
          <a:xfrm>
            <a:off x="1676520" y="60958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全真中圓體"/>
                <a:ea typeface="全真中圓體"/>
              </a:rPr>
              <a:t>目標六  建立智慧化之交通運輸環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152280" y="228600"/>
            <a:ext cx="8839440" cy="57913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4" name=""/>
          <p:cNvGraphicFramePr/>
          <p:nvPr/>
        </p:nvGraphicFramePr>
        <p:xfrm>
          <a:off x="3084480" y="1274760"/>
          <a:ext cx="2895480" cy="21686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84480" y="1274760"/>
                    <a:ext cx="2895480" cy="21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86" name=""/>
          <p:cNvGrpSpPr/>
          <p:nvPr/>
        </p:nvGrpSpPr>
        <p:grpSpPr>
          <a:xfrm>
            <a:off x="304920" y="512640"/>
            <a:ext cx="2855880" cy="2300400"/>
            <a:chOff x="304920" y="512640"/>
            <a:chExt cx="2855880" cy="2300400"/>
          </a:xfrm>
        </p:grpSpPr>
        <p:sp>
          <p:nvSpPr>
            <p:cNvPr id="1787" name=""/>
            <p:cNvSpPr/>
            <p:nvPr/>
          </p:nvSpPr>
          <p:spPr>
            <a:xfrm>
              <a:off x="365040" y="549360"/>
              <a:ext cx="2795760" cy="22636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04920" y="512640"/>
              <a:ext cx="2782800" cy="225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9" name=""/>
          <p:cNvSpPr/>
          <p:nvPr/>
        </p:nvSpPr>
        <p:spPr>
          <a:xfrm>
            <a:off x="2388240" y="1392120"/>
            <a:ext cx="427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00"/>
                </a:solidFill>
                <a:latin typeface="全真楷書"/>
                <a:ea typeface="全真楷書"/>
              </a:rPr>
              <a:t>高乘載車輛專用道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7880" y="2090880"/>
            <a:ext cx="361800" cy="114120"/>
          </a:xfrm>
          <a:custGeom>
            <a:avLst/>
            <a:gdLst/>
            <a:ahLst/>
            <a:rect l="l" t="t" r="r" b="b"/>
            <a:pathLst>
              <a:path w="437" h="140">
                <a:moveTo>
                  <a:pt x="92" y="0"/>
                </a:moveTo>
                <a:lnTo>
                  <a:pt x="335" y="0"/>
                </a:lnTo>
                <a:lnTo>
                  <a:pt x="437" y="140"/>
                </a:lnTo>
                <a:lnTo>
                  <a:pt x="0" y="140"/>
                </a:lnTo>
                <a:lnTo>
                  <a:pt x="92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1185840" y="380880"/>
            <a:ext cx="1066680" cy="347760"/>
            <a:chOff x="1185840" y="380880"/>
            <a:chExt cx="1066680" cy="347760"/>
          </a:xfrm>
        </p:grpSpPr>
        <p:sp>
          <p:nvSpPr>
            <p:cNvPr id="1792" name=""/>
            <p:cNvSpPr/>
            <p:nvPr/>
          </p:nvSpPr>
          <p:spPr>
            <a:xfrm>
              <a:off x="1185840" y="380880"/>
              <a:ext cx="10666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440000" y="396720"/>
              <a:ext cx="54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先進大眾運輸系統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0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(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APT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4" name=""/>
          <p:cNvGrpSpPr/>
          <p:nvPr/>
        </p:nvGrpSpPr>
        <p:grpSpPr>
          <a:xfrm>
            <a:off x="2327400" y="1189080"/>
            <a:ext cx="513360" cy="170640"/>
            <a:chOff x="2327400" y="1189080"/>
            <a:chExt cx="513360" cy="170640"/>
          </a:xfrm>
        </p:grpSpPr>
        <p:grpSp>
          <p:nvGrpSpPr>
            <p:cNvPr id="1795" name=""/>
            <p:cNvGrpSpPr/>
            <p:nvPr/>
          </p:nvGrpSpPr>
          <p:grpSpPr>
            <a:xfrm>
              <a:off x="2327400" y="1189080"/>
              <a:ext cx="513360" cy="170640"/>
              <a:chOff x="2327400" y="1189080"/>
              <a:chExt cx="513360" cy="170640"/>
            </a:xfrm>
          </p:grpSpPr>
          <p:sp>
            <p:nvSpPr>
              <p:cNvPr id="1796" name=""/>
              <p:cNvSpPr/>
              <p:nvPr/>
            </p:nvSpPr>
            <p:spPr>
              <a:xfrm>
                <a:off x="2708280" y="1284120"/>
                <a:ext cx="82800" cy="75600"/>
              </a:xfrm>
              <a:prstGeom prst="ellipse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33880" y="1189080"/>
                <a:ext cx="475200" cy="101160"/>
              </a:xfrm>
              <a:custGeom>
                <a:avLst/>
                <a:gdLst/>
                <a:ahLst/>
                <a:rect l="l" t="t" r="r" b="b"/>
                <a:pathLst>
                  <a:path w="574" h="126">
                    <a:moveTo>
                      <a:pt x="384" y="0"/>
                    </a:moveTo>
                    <a:lnTo>
                      <a:pt x="384" y="1"/>
                    </a:lnTo>
                    <a:lnTo>
                      <a:pt x="346" y="1"/>
                    </a:lnTo>
                    <a:lnTo>
                      <a:pt x="346" y="1"/>
                    </a:lnTo>
                    <a:lnTo>
                      <a:pt x="312" y="1"/>
                    </a:lnTo>
                    <a:lnTo>
                      <a:pt x="312" y="3"/>
                    </a:lnTo>
                    <a:lnTo>
                      <a:pt x="290" y="3"/>
                    </a:lnTo>
                    <a:lnTo>
                      <a:pt x="290" y="4"/>
                    </a:lnTo>
                    <a:lnTo>
                      <a:pt x="268" y="4"/>
                    </a:lnTo>
                    <a:lnTo>
                      <a:pt x="268" y="6"/>
                    </a:lnTo>
                    <a:lnTo>
                      <a:pt x="243" y="6"/>
                    </a:lnTo>
                    <a:lnTo>
                      <a:pt x="243" y="7"/>
                    </a:lnTo>
                    <a:lnTo>
                      <a:pt x="228" y="7"/>
                    </a:lnTo>
                    <a:lnTo>
                      <a:pt x="228" y="9"/>
                    </a:lnTo>
                    <a:lnTo>
                      <a:pt x="209" y="9"/>
                    </a:lnTo>
                    <a:lnTo>
                      <a:pt x="209" y="9"/>
                    </a:lnTo>
                    <a:lnTo>
                      <a:pt x="206" y="9"/>
                    </a:lnTo>
                    <a:lnTo>
                      <a:pt x="206" y="10"/>
                    </a:lnTo>
                    <a:lnTo>
                      <a:pt x="204" y="10"/>
                    </a:lnTo>
                    <a:lnTo>
                      <a:pt x="204" y="12"/>
                    </a:lnTo>
                    <a:lnTo>
                      <a:pt x="202" y="13"/>
                    </a:lnTo>
                    <a:lnTo>
                      <a:pt x="202" y="14"/>
                    </a:lnTo>
                    <a:lnTo>
                      <a:pt x="199" y="16"/>
                    </a:lnTo>
                    <a:lnTo>
                      <a:pt x="199" y="16"/>
                    </a:lnTo>
                    <a:lnTo>
                      <a:pt x="196" y="17"/>
                    </a:lnTo>
                    <a:lnTo>
                      <a:pt x="196" y="20"/>
                    </a:lnTo>
                    <a:lnTo>
                      <a:pt x="195" y="20"/>
                    </a:lnTo>
                    <a:lnTo>
                      <a:pt x="195" y="23"/>
                    </a:lnTo>
                    <a:lnTo>
                      <a:pt x="193" y="23"/>
                    </a:lnTo>
                    <a:lnTo>
                      <a:pt x="193" y="26"/>
                    </a:lnTo>
                    <a:lnTo>
                      <a:pt x="192" y="26"/>
                    </a:lnTo>
                    <a:lnTo>
                      <a:pt x="192" y="31"/>
                    </a:lnTo>
                    <a:lnTo>
                      <a:pt x="192" y="31"/>
                    </a:lnTo>
                    <a:lnTo>
                      <a:pt x="192" y="34"/>
                    </a:lnTo>
                    <a:lnTo>
                      <a:pt x="190" y="34"/>
                    </a:lnTo>
                    <a:lnTo>
                      <a:pt x="190" y="38"/>
                    </a:lnTo>
                    <a:lnTo>
                      <a:pt x="189" y="38"/>
                    </a:lnTo>
                    <a:lnTo>
                      <a:pt x="189" y="41"/>
                    </a:lnTo>
                    <a:lnTo>
                      <a:pt x="187" y="41"/>
                    </a:lnTo>
                    <a:lnTo>
                      <a:pt x="187" y="45"/>
                    </a:lnTo>
                    <a:lnTo>
                      <a:pt x="186" y="45"/>
                    </a:lnTo>
                    <a:lnTo>
                      <a:pt x="186" y="48"/>
                    </a:lnTo>
                    <a:lnTo>
                      <a:pt x="185" y="48"/>
                    </a:lnTo>
                    <a:lnTo>
                      <a:pt x="185" y="53"/>
                    </a:lnTo>
                    <a:lnTo>
                      <a:pt x="183" y="53"/>
                    </a:lnTo>
                    <a:lnTo>
                      <a:pt x="183" y="55"/>
                    </a:lnTo>
                    <a:lnTo>
                      <a:pt x="182" y="55"/>
                    </a:lnTo>
                    <a:lnTo>
                      <a:pt x="182" y="60"/>
                    </a:lnTo>
                    <a:lnTo>
                      <a:pt x="182" y="60"/>
                    </a:lnTo>
                    <a:lnTo>
                      <a:pt x="182" y="63"/>
                    </a:lnTo>
                    <a:lnTo>
                      <a:pt x="180" y="63"/>
                    </a:lnTo>
                    <a:lnTo>
                      <a:pt x="180" y="67"/>
                    </a:lnTo>
                    <a:lnTo>
                      <a:pt x="179" y="67"/>
                    </a:lnTo>
                    <a:lnTo>
                      <a:pt x="179" y="70"/>
                    </a:lnTo>
                    <a:lnTo>
                      <a:pt x="177" y="70"/>
                    </a:lnTo>
                    <a:lnTo>
                      <a:pt x="177" y="72"/>
                    </a:lnTo>
                    <a:lnTo>
                      <a:pt x="57" y="72"/>
                    </a:lnTo>
                    <a:lnTo>
                      <a:pt x="57" y="75"/>
                    </a:lnTo>
                    <a:lnTo>
                      <a:pt x="56" y="75"/>
                    </a:lnTo>
                    <a:lnTo>
                      <a:pt x="56" y="76"/>
                    </a:lnTo>
                    <a:lnTo>
                      <a:pt x="54" y="76"/>
                    </a:lnTo>
                    <a:lnTo>
                      <a:pt x="54" y="79"/>
                    </a:lnTo>
                    <a:lnTo>
                      <a:pt x="53" y="79"/>
                    </a:lnTo>
                    <a:lnTo>
                      <a:pt x="53" y="82"/>
                    </a:lnTo>
                    <a:lnTo>
                      <a:pt x="51" y="82"/>
                    </a:lnTo>
                    <a:lnTo>
                      <a:pt x="51" y="83"/>
                    </a:lnTo>
                    <a:lnTo>
                      <a:pt x="48" y="85"/>
                    </a:lnTo>
                    <a:lnTo>
                      <a:pt x="44" y="85"/>
                    </a:lnTo>
                    <a:lnTo>
                      <a:pt x="44" y="83"/>
                    </a:lnTo>
                    <a:lnTo>
                      <a:pt x="38" y="83"/>
                    </a:lnTo>
                    <a:lnTo>
                      <a:pt x="38" y="82"/>
                    </a:lnTo>
                    <a:lnTo>
                      <a:pt x="31" y="82"/>
                    </a:lnTo>
                    <a:lnTo>
                      <a:pt x="31" y="98"/>
                    </a:lnTo>
                    <a:lnTo>
                      <a:pt x="28" y="99"/>
                    </a:lnTo>
                    <a:lnTo>
                      <a:pt x="26" y="101"/>
                    </a:lnTo>
                    <a:lnTo>
                      <a:pt x="23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18" y="104"/>
                    </a:lnTo>
                    <a:lnTo>
                      <a:pt x="18" y="105"/>
                    </a:lnTo>
                    <a:lnTo>
                      <a:pt x="16" y="105"/>
                    </a:lnTo>
                    <a:lnTo>
                      <a:pt x="16" y="107"/>
                    </a:lnTo>
                    <a:lnTo>
                      <a:pt x="13" y="108"/>
                    </a:lnTo>
                    <a:lnTo>
                      <a:pt x="13" y="110"/>
                    </a:lnTo>
                    <a:lnTo>
                      <a:pt x="10" y="110"/>
                    </a:lnTo>
                    <a:lnTo>
                      <a:pt x="10" y="110"/>
                    </a:lnTo>
                    <a:lnTo>
                      <a:pt x="7" y="111"/>
                    </a:lnTo>
                    <a:lnTo>
                      <a:pt x="7" y="113"/>
                    </a:lnTo>
                    <a:lnTo>
                      <a:pt x="6" y="114"/>
                    </a:lnTo>
                    <a:lnTo>
                      <a:pt x="6" y="116"/>
                    </a:lnTo>
                    <a:lnTo>
                      <a:pt x="3" y="117"/>
                    </a:lnTo>
                    <a:lnTo>
                      <a:pt x="3" y="117"/>
                    </a:lnTo>
                    <a:lnTo>
                      <a:pt x="1" y="117"/>
                    </a:lnTo>
                    <a:lnTo>
                      <a:pt x="1" y="121"/>
                    </a:lnTo>
                    <a:lnTo>
                      <a:pt x="0" y="121"/>
                    </a:lnTo>
                    <a:lnTo>
                      <a:pt x="0" y="124"/>
                    </a:lnTo>
                    <a:lnTo>
                      <a:pt x="1" y="124"/>
                    </a:lnTo>
                    <a:lnTo>
                      <a:pt x="1" y="126"/>
                    </a:lnTo>
                    <a:lnTo>
                      <a:pt x="7" y="126"/>
                    </a:lnTo>
                    <a:lnTo>
                      <a:pt x="7" y="124"/>
                    </a:lnTo>
                    <a:lnTo>
                      <a:pt x="10" y="124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8" y="121"/>
                    </a:lnTo>
                    <a:lnTo>
                      <a:pt x="18" y="120"/>
                    </a:lnTo>
                    <a:lnTo>
                      <a:pt x="19" y="120"/>
                    </a:lnTo>
                    <a:lnTo>
                      <a:pt x="19" y="118"/>
                    </a:lnTo>
                    <a:lnTo>
                      <a:pt x="22" y="118"/>
                    </a:lnTo>
                    <a:lnTo>
                      <a:pt x="22" y="117"/>
                    </a:lnTo>
                    <a:lnTo>
                      <a:pt x="26" y="117"/>
                    </a:lnTo>
                    <a:lnTo>
                      <a:pt x="26" y="117"/>
                    </a:lnTo>
                    <a:lnTo>
                      <a:pt x="31" y="117"/>
                    </a:lnTo>
                    <a:lnTo>
                      <a:pt x="31" y="116"/>
                    </a:lnTo>
                    <a:lnTo>
                      <a:pt x="37" y="116"/>
                    </a:lnTo>
                    <a:lnTo>
                      <a:pt x="37" y="114"/>
                    </a:lnTo>
                    <a:lnTo>
                      <a:pt x="573" y="114"/>
                    </a:lnTo>
                    <a:lnTo>
                      <a:pt x="573" y="108"/>
                    </a:lnTo>
                    <a:lnTo>
                      <a:pt x="574" y="108"/>
                    </a:lnTo>
                    <a:lnTo>
                      <a:pt x="574" y="64"/>
                    </a:lnTo>
                    <a:lnTo>
                      <a:pt x="573" y="64"/>
                    </a:lnTo>
                    <a:lnTo>
                      <a:pt x="573" y="51"/>
                    </a:lnTo>
                    <a:lnTo>
                      <a:pt x="571" y="51"/>
                    </a:lnTo>
                    <a:lnTo>
                      <a:pt x="571" y="42"/>
                    </a:lnTo>
                    <a:lnTo>
                      <a:pt x="573" y="42"/>
                    </a:lnTo>
                    <a:lnTo>
                      <a:pt x="573" y="31"/>
                    </a:lnTo>
                    <a:lnTo>
                      <a:pt x="571" y="31"/>
                    </a:lnTo>
                    <a:lnTo>
                      <a:pt x="571" y="26"/>
                    </a:lnTo>
                    <a:lnTo>
                      <a:pt x="571" y="26"/>
                    </a:lnTo>
                    <a:lnTo>
                      <a:pt x="571" y="23"/>
                    </a:lnTo>
                    <a:lnTo>
                      <a:pt x="570" y="23"/>
                    </a:lnTo>
                    <a:lnTo>
                      <a:pt x="570" y="22"/>
                    </a:lnTo>
                    <a:lnTo>
                      <a:pt x="568" y="22"/>
                    </a:lnTo>
                    <a:lnTo>
                      <a:pt x="567" y="19"/>
                    </a:lnTo>
                    <a:lnTo>
                      <a:pt x="565" y="19"/>
                    </a:lnTo>
                    <a:lnTo>
                      <a:pt x="564" y="16"/>
                    </a:lnTo>
                    <a:lnTo>
                      <a:pt x="562" y="16"/>
                    </a:lnTo>
                    <a:lnTo>
                      <a:pt x="562" y="16"/>
                    </a:lnTo>
                    <a:lnTo>
                      <a:pt x="561" y="16"/>
                    </a:lnTo>
                    <a:lnTo>
                      <a:pt x="560" y="13"/>
                    </a:lnTo>
                    <a:lnTo>
                      <a:pt x="557" y="13"/>
                    </a:lnTo>
                    <a:lnTo>
                      <a:pt x="557" y="12"/>
                    </a:lnTo>
                    <a:lnTo>
                      <a:pt x="552" y="12"/>
                    </a:lnTo>
                    <a:lnTo>
                      <a:pt x="552" y="10"/>
                    </a:lnTo>
                    <a:lnTo>
                      <a:pt x="548" y="10"/>
                    </a:lnTo>
                    <a:lnTo>
                      <a:pt x="548" y="9"/>
                    </a:lnTo>
                    <a:lnTo>
                      <a:pt x="542" y="9"/>
                    </a:lnTo>
                    <a:lnTo>
                      <a:pt x="542" y="9"/>
                    </a:lnTo>
                    <a:lnTo>
                      <a:pt x="533" y="9"/>
                    </a:lnTo>
                    <a:lnTo>
                      <a:pt x="533" y="7"/>
                    </a:lnTo>
                    <a:lnTo>
                      <a:pt x="530" y="7"/>
                    </a:lnTo>
                    <a:lnTo>
                      <a:pt x="530" y="6"/>
                    </a:lnTo>
                    <a:lnTo>
                      <a:pt x="521" y="6"/>
                    </a:lnTo>
                    <a:lnTo>
                      <a:pt x="521" y="4"/>
                    </a:lnTo>
                    <a:lnTo>
                      <a:pt x="514" y="4"/>
                    </a:lnTo>
                    <a:lnTo>
                      <a:pt x="514" y="3"/>
                    </a:lnTo>
                    <a:lnTo>
                      <a:pt x="505" y="3"/>
                    </a:lnTo>
                    <a:lnTo>
                      <a:pt x="505" y="1"/>
                    </a:lnTo>
                    <a:lnTo>
                      <a:pt x="489" y="1"/>
                    </a:lnTo>
                    <a:lnTo>
                      <a:pt x="489" y="1"/>
                    </a:lnTo>
                    <a:lnTo>
                      <a:pt x="464" y="1"/>
                    </a:lnTo>
                    <a:lnTo>
                      <a:pt x="464" y="0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382120" y="1282320"/>
                <a:ext cx="352800" cy="40320"/>
              </a:xfrm>
              <a:custGeom>
                <a:avLst/>
                <a:gdLst/>
                <a:ahLst/>
                <a:rect l="l" t="t" r="r" b="b"/>
                <a:pathLst>
                  <a:path w="426" h="51">
                    <a:moveTo>
                      <a:pt x="0" y="0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4" y="6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4" y="15"/>
                    </a:lnTo>
                    <a:lnTo>
                      <a:pt x="24" y="16"/>
                    </a:lnTo>
                    <a:lnTo>
                      <a:pt x="27" y="16"/>
                    </a:lnTo>
                    <a:lnTo>
                      <a:pt x="27" y="18"/>
                    </a:lnTo>
                    <a:lnTo>
                      <a:pt x="29" y="18"/>
                    </a:lnTo>
                    <a:lnTo>
                      <a:pt x="30" y="21"/>
                    </a:lnTo>
                    <a:lnTo>
                      <a:pt x="30" y="21"/>
                    </a:lnTo>
                    <a:lnTo>
                      <a:pt x="30" y="24"/>
                    </a:lnTo>
                    <a:lnTo>
                      <a:pt x="32" y="24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6" y="28"/>
                    </a:lnTo>
                    <a:lnTo>
                      <a:pt x="36" y="29"/>
                    </a:lnTo>
                    <a:lnTo>
                      <a:pt x="39" y="29"/>
                    </a:lnTo>
                    <a:lnTo>
                      <a:pt x="39" y="32"/>
                    </a:lnTo>
                    <a:lnTo>
                      <a:pt x="41" y="32"/>
                    </a:lnTo>
                    <a:lnTo>
                      <a:pt x="41" y="32"/>
                    </a:lnTo>
                    <a:lnTo>
                      <a:pt x="42" y="32"/>
                    </a:lnTo>
                    <a:lnTo>
                      <a:pt x="42" y="35"/>
                    </a:lnTo>
                    <a:lnTo>
                      <a:pt x="45" y="35"/>
                    </a:lnTo>
                    <a:lnTo>
                      <a:pt x="46" y="38"/>
                    </a:lnTo>
                    <a:lnTo>
                      <a:pt x="48" y="38"/>
                    </a:lnTo>
                    <a:lnTo>
                      <a:pt x="48" y="40"/>
                    </a:lnTo>
                    <a:lnTo>
                      <a:pt x="51" y="40"/>
                    </a:lnTo>
                    <a:lnTo>
                      <a:pt x="51" y="41"/>
                    </a:lnTo>
                    <a:lnTo>
                      <a:pt x="54" y="41"/>
                    </a:lnTo>
                    <a:lnTo>
                      <a:pt x="55" y="44"/>
                    </a:lnTo>
                    <a:lnTo>
                      <a:pt x="60" y="44"/>
                    </a:lnTo>
                    <a:lnTo>
                      <a:pt x="61" y="47"/>
                    </a:lnTo>
                    <a:lnTo>
                      <a:pt x="63" y="47"/>
                    </a:lnTo>
                    <a:lnTo>
                      <a:pt x="63" y="47"/>
                    </a:lnTo>
                    <a:lnTo>
                      <a:pt x="68" y="47"/>
                    </a:lnTo>
                    <a:lnTo>
                      <a:pt x="68" y="48"/>
                    </a:lnTo>
                    <a:lnTo>
                      <a:pt x="71" y="48"/>
                    </a:lnTo>
                    <a:lnTo>
                      <a:pt x="71" y="50"/>
                    </a:lnTo>
                    <a:lnTo>
                      <a:pt x="76" y="50"/>
                    </a:lnTo>
                    <a:lnTo>
                      <a:pt x="76" y="51"/>
                    </a:lnTo>
                    <a:lnTo>
                      <a:pt x="383" y="51"/>
                    </a:lnTo>
                    <a:lnTo>
                      <a:pt x="383" y="47"/>
                    </a:lnTo>
                    <a:lnTo>
                      <a:pt x="385" y="47"/>
                    </a:lnTo>
                    <a:lnTo>
                      <a:pt x="385" y="44"/>
                    </a:lnTo>
                    <a:lnTo>
                      <a:pt x="386" y="44"/>
                    </a:lnTo>
                    <a:lnTo>
                      <a:pt x="386" y="40"/>
                    </a:lnTo>
                    <a:lnTo>
                      <a:pt x="388" y="40"/>
                    </a:lnTo>
                    <a:lnTo>
                      <a:pt x="388" y="37"/>
                    </a:lnTo>
                    <a:lnTo>
                      <a:pt x="389" y="37"/>
                    </a:lnTo>
                    <a:lnTo>
                      <a:pt x="389" y="32"/>
                    </a:lnTo>
                    <a:lnTo>
                      <a:pt x="389" y="32"/>
                    </a:lnTo>
                    <a:lnTo>
                      <a:pt x="389" y="31"/>
                    </a:lnTo>
                    <a:lnTo>
                      <a:pt x="391" y="31"/>
                    </a:lnTo>
                    <a:lnTo>
                      <a:pt x="391" y="26"/>
                    </a:lnTo>
                    <a:lnTo>
                      <a:pt x="394" y="25"/>
                    </a:lnTo>
                    <a:lnTo>
                      <a:pt x="394" y="24"/>
                    </a:lnTo>
                    <a:lnTo>
                      <a:pt x="395" y="24"/>
                    </a:lnTo>
                    <a:lnTo>
                      <a:pt x="395" y="21"/>
                    </a:lnTo>
                    <a:lnTo>
                      <a:pt x="398" y="19"/>
                    </a:lnTo>
                    <a:lnTo>
                      <a:pt x="398" y="18"/>
                    </a:lnTo>
                    <a:lnTo>
                      <a:pt x="399" y="16"/>
                    </a:lnTo>
                    <a:lnTo>
                      <a:pt x="399" y="15"/>
                    </a:lnTo>
                    <a:lnTo>
                      <a:pt x="402" y="13"/>
                    </a:lnTo>
                    <a:lnTo>
                      <a:pt x="402" y="12"/>
                    </a:lnTo>
                    <a:lnTo>
                      <a:pt x="405" y="10"/>
                    </a:lnTo>
                    <a:lnTo>
                      <a:pt x="405" y="10"/>
                    </a:lnTo>
                    <a:lnTo>
                      <a:pt x="408" y="10"/>
                    </a:lnTo>
                    <a:lnTo>
                      <a:pt x="408" y="9"/>
                    </a:lnTo>
                    <a:lnTo>
                      <a:pt x="410" y="7"/>
                    </a:lnTo>
                    <a:lnTo>
                      <a:pt x="410" y="6"/>
                    </a:lnTo>
                    <a:lnTo>
                      <a:pt x="413" y="6"/>
                    </a:lnTo>
                    <a:lnTo>
                      <a:pt x="413" y="4"/>
                    </a:lnTo>
                    <a:lnTo>
                      <a:pt x="416" y="4"/>
                    </a:lnTo>
                    <a:lnTo>
                      <a:pt x="416" y="3"/>
                    </a:lnTo>
                    <a:lnTo>
                      <a:pt x="420" y="3"/>
                    </a:lnTo>
                    <a:lnTo>
                      <a:pt x="420" y="3"/>
                    </a:lnTo>
                    <a:lnTo>
                      <a:pt x="421" y="3"/>
                    </a:lnTo>
                    <a:lnTo>
                      <a:pt x="421" y="2"/>
                    </a:lnTo>
                    <a:lnTo>
                      <a:pt x="426" y="2"/>
                    </a:lnTo>
                    <a:lnTo>
                      <a:pt x="4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761200" y="1282320"/>
                <a:ext cx="46440" cy="25920"/>
              </a:xfrm>
              <a:custGeom>
                <a:avLst/>
                <a:gdLst/>
                <a:ahLst/>
                <a:rect l="l" t="t" r="r" b="b"/>
                <a:pathLst>
                  <a:path w="57" h="32">
                    <a:moveTo>
                      <a:pt x="0" y="0"/>
                    </a:moveTo>
                    <a:lnTo>
                      <a:pt x="0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2" y="9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7" y="10"/>
                    </a:lnTo>
                    <a:lnTo>
                      <a:pt x="27" y="13"/>
                    </a:lnTo>
                    <a:lnTo>
                      <a:pt x="30" y="13"/>
                    </a:lnTo>
                    <a:lnTo>
                      <a:pt x="30" y="16"/>
                    </a:lnTo>
                    <a:lnTo>
                      <a:pt x="33" y="16"/>
                    </a:lnTo>
                    <a:lnTo>
                      <a:pt x="33" y="18"/>
                    </a:lnTo>
                    <a:lnTo>
                      <a:pt x="35" y="18"/>
                    </a:lnTo>
                    <a:lnTo>
                      <a:pt x="35" y="21"/>
                    </a:lnTo>
                    <a:lnTo>
                      <a:pt x="36" y="21"/>
                    </a:lnTo>
                    <a:lnTo>
                      <a:pt x="38" y="24"/>
                    </a:lnTo>
                    <a:lnTo>
                      <a:pt x="39" y="25"/>
                    </a:lnTo>
                    <a:lnTo>
                      <a:pt x="41" y="28"/>
                    </a:lnTo>
                    <a:lnTo>
                      <a:pt x="42" y="28"/>
                    </a:lnTo>
                    <a:lnTo>
                      <a:pt x="42" y="31"/>
                    </a:lnTo>
                    <a:lnTo>
                      <a:pt x="44" y="31"/>
                    </a:lnTo>
                    <a:lnTo>
                      <a:pt x="44" y="32"/>
                    </a:lnTo>
                    <a:lnTo>
                      <a:pt x="45" y="32"/>
                    </a:lnTo>
                    <a:lnTo>
                      <a:pt x="45" y="31"/>
                    </a:lnTo>
                    <a:lnTo>
                      <a:pt x="48" y="29"/>
                    </a:lnTo>
                    <a:lnTo>
                      <a:pt x="51" y="28"/>
                    </a:lnTo>
                    <a:lnTo>
                      <a:pt x="51" y="26"/>
                    </a:lnTo>
                    <a:lnTo>
                      <a:pt x="54" y="26"/>
                    </a:lnTo>
                    <a:lnTo>
                      <a:pt x="52" y="25"/>
                    </a:lnTo>
                    <a:lnTo>
                      <a:pt x="51" y="22"/>
                    </a:lnTo>
                    <a:lnTo>
                      <a:pt x="49" y="19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51" y="15"/>
                    </a:lnTo>
                    <a:lnTo>
                      <a:pt x="51" y="13"/>
                    </a:lnTo>
                    <a:lnTo>
                      <a:pt x="52" y="13"/>
                    </a:lnTo>
                    <a:lnTo>
                      <a:pt x="52" y="10"/>
                    </a:lnTo>
                    <a:lnTo>
                      <a:pt x="54" y="10"/>
                    </a:lnTo>
                    <a:lnTo>
                      <a:pt x="54" y="9"/>
                    </a:lnTo>
                    <a:lnTo>
                      <a:pt x="55" y="9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333880" y="1189080"/>
                <a:ext cx="475200" cy="133920"/>
              </a:xfrm>
              <a:custGeom>
                <a:avLst/>
                <a:gdLst/>
                <a:ahLst/>
                <a:rect l="l" t="t" r="r" b="b"/>
                <a:pathLst>
                  <a:path w="574" h="165">
                    <a:moveTo>
                      <a:pt x="564" y="130"/>
                    </a:moveTo>
                    <a:lnTo>
                      <a:pt x="570" y="139"/>
                    </a:lnTo>
                    <a:lnTo>
                      <a:pt x="560" y="146"/>
                    </a:lnTo>
                    <a:lnTo>
                      <a:pt x="560" y="145"/>
                    </a:lnTo>
                    <a:lnTo>
                      <a:pt x="558" y="143"/>
                    </a:lnTo>
                    <a:lnTo>
                      <a:pt x="558" y="142"/>
                    </a:lnTo>
                    <a:lnTo>
                      <a:pt x="557" y="140"/>
                    </a:lnTo>
                    <a:lnTo>
                      <a:pt x="557" y="139"/>
                    </a:lnTo>
                    <a:lnTo>
                      <a:pt x="555" y="139"/>
                    </a:lnTo>
                    <a:lnTo>
                      <a:pt x="555" y="139"/>
                    </a:lnTo>
                    <a:lnTo>
                      <a:pt x="554" y="138"/>
                    </a:lnTo>
                    <a:lnTo>
                      <a:pt x="554" y="136"/>
                    </a:lnTo>
                    <a:lnTo>
                      <a:pt x="551" y="133"/>
                    </a:lnTo>
                    <a:lnTo>
                      <a:pt x="551" y="132"/>
                    </a:lnTo>
                    <a:lnTo>
                      <a:pt x="551" y="132"/>
                    </a:lnTo>
                    <a:lnTo>
                      <a:pt x="549" y="132"/>
                    </a:lnTo>
                    <a:lnTo>
                      <a:pt x="549" y="130"/>
                    </a:lnTo>
                    <a:lnTo>
                      <a:pt x="548" y="129"/>
                    </a:lnTo>
                    <a:lnTo>
                      <a:pt x="546" y="129"/>
                    </a:lnTo>
                    <a:lnTo>
                      <a:pt x="546" y="127"/>
                    </a:lnTo>
                    <a:lnTo>
                      <a:pt x="545" y="126"/>
                    </a:lnTo>
                    <a:lnTo>
                      <a:pt x="543" y="126"/>
                    </a:lnTo>
                    <a:lnTo>
                      <a:pt x="543" y="124"/>
                    </a:lnTo>
                    <a:lnTo>
                      <a:pt x="542" y="124"/>
                    </a:lnTo>
                    <a:lnTo>
                      <a:pt x="540" y="124"/>
                    </a:lnTo>
                    <a:lnTo>
                      <a:pt x="540" y="123"/>
                    </a:lnTo>
                    <a:lnTo>
                      <a:pt x="540" y="123"/>
                    </a:lnTo>
                    <a:lnTo>
                      <a:pt x="539" y="121"/>
                    </a:lnTo>
                    <a:lnTo>
                      <a:pt x="538" y="121"/>
                    </a:lnTo>
                    <a:lnTo>
                      <a:pt x="535" y="118"/>
                    </a:lnTo>
                    <a:lnTo>
                      <a:pt x="532" y="118"/>
                    </a:lnTo>
                    <a:lnTo>
                      <a:pt x="530" y="117"/>
                    </a:lnTo>
                    <a:lnTo>
                      <a:pt x="530" y="117"/>
                    </a:lnTo>
                    <a:lnTo>
                      <a:pt x="530" y="117"/>
                    </a:lnTo>
                    <a:lnTo>
                      <a:pt x="527" y="117"/>
                    </a:lnTo>
                    <a:lnTo>
                      <a:pt x="526" y="116"/>
                    </a:lnTo>
                    <a:lnTo>
                      <a:pt x="521" y="116"/>
                    </a:lnTo>
                    <a:lnTo>
                      <a:pt x="520" y="114"/>
                    </a:lnTo>
                    <a:lnTo>
                      <a:pt x="516" y="114"/>
                    </a:lnTo>
                    <a:lnTo>
                      <a:pt x="514" y="113"/>
                    </a:lnTo>
                    <a:lnTo>
                      <a:pt x="489" y="113"/>
                    </a:lnTo>
                    <a:lnTo>
                      <a:pt x="486" y="113"/>
                    </a:lnTo>
                    <a:lnTo>
                      <a:pt x="485" y="114"/>
                    </a:lnTo>
                    <a:lnTo>
                      <a:pt x="482" y="114"/>
                    </a:lnTo>
                    <a:lnTo>
                      <a:pt x="480" y="116"/>
                    </a:lnTo>
                    <a:lnTo>
                      <a:pt x="479" y="116"/>
                    </a:lnTo>
                    <a:lnTo>
                      <a:pt x="479" y="117"/>
                    </a:lnTo>
                    <a:lnTo>
                      <a:pt x="476" y="117"/>
                    </a:lnTo>
                    <a:lnTo>
                      <a:pt x="475" y="117"/>
                    </a:lnTo>
                    <a:lnTo>
                      <a:pt x="473" y="117"/>
                    </a:lnTo>
                    <a:lnTo>
                      <a:pt x="472" y="118"/>
                    </a:lnTo>
                    <a:lnTo>
                      <a:pt x="470" y="118"/>
                    </a:lnTo>
                    <a:lnTo>
                      <a:pt x="469" y="121"/>
                    </a:lnTo>
                    <a:lnTo>
                      <a:pt x="467" y="121"/>
                    </a:lnTo>
                    <a:lnTo>
                      <a:pt x="467" y="123"/>
                    </a:lnTo>
                    <a:lnTo>
                      <a:pt x="466" y="123"/>
                    </a:lnTo>
                    <a:lnTo>
                      <a:pt x="463" y="124"/>
                    </a:lnTo>
                    <a:lnTo>
                      <a:pt x="461" y="124"/>
                    </a:lnTo>
                    <a:lnTo>
                      <a:pt x="461" y="126"/>
                    </a:lnTo>
                    <a:lnTo>
                      <a:pt x="457" y="132"/>
                    </a:lnTo>
                    <a:lnTo>
                      <a:pt x="457" y="132"/>
                    </a:lnTo>
                    <a:lnTo>
                      <a:pt x="454" y="135"/>
                    </a:lnTo>
                    <a:lnTo>
                      <a:pt x="454" y="136"/>
                    </a:lnTo>
                    <a:lnTo>
                      <a:pt x="453" y="138"/>
                    </a:lnTo>
                    <a:lnTo>
                      <a:pt x="453" y="139"/>
                    </a:lnTo>
                    <a:lnTo>
                      <a:pt x="451" y="139"/>
                    </a:lnTo>
                    <a:lnTo>
                      <a:pt x="451" y="139"/>
                    </a:lnTo>
                    <a:lnTo>
                      <a:pt x="450" y="140"/>
                    </a:lnTo>
                    <a:lnTo>
                      <a:pt x="450" y="143"/>
                    </a:lnTo>
                    <a:lnTo>
                      <a:pt x="448" y="145"/>
                    </a:lnTo>
                    <a:lnTo>
                      <a:pt x="448" y="146"/>
                    </a:lnTo>
                    <a:lnTo>
                      <a:pt x="448" y="146"/>
                    </a:lnTo>
                    <a:lnTo>
                      <a:pt x="448" y="149"/>
                    </a:lnTo>
                    <a:lnTo>
                      <a:pt x="447" y="151"/>
                    </a:lnTo>
                    <a:lnTo>
                      <a:pt x="447" y="154"/>
                    </a:lnTo>
                    <a:lnTo>
                      <a:pt x="445" y="154"/>
                    </a:lnTo>
                    <a:lnTo>
                      <a:pt x="445" y="157"/>
                    </a:lnTo>
                    <a:lnTo>
                      <a:pt x="444" y="158"/>
                    </a:lnTo>
                    <a:lnTo>
                      <a:pt x="444" y="161"/>
                    </a:lnTo>
                    <a:lnTo>
                      <a:pt x="442" y="162"/>
                    </a:lnTo>
                    <a:lnTo>
                      <a:pt x="442" y="165"/>
                    </a:lnTo>
                    <a:lnTo>
                      <a:pt x="151" y="165"/>
                    </a:lnTo>
                    <a:lnTo>
                      <a:pt x="142" y="165"/>
                    </a:lnTo>
                    <a:lnTo>
                      <a:pt x="142" y="164"/>
                    </a:lnTo>
                    <a:lnTo>
                      <a:pt x="135" y="164"/>
                    </a:lnTo>
                    <a:lnTo>
                      <a:pt x="133" y="162"/>
                    </a:lnTo>
                    <a:lnTo>
                      <a:pt x="130" y="162"/>
                    </a:lnTo>
                    <a:lnTo>
                      <a:pt x="129" y="161"/>
                    </a:lnTo>
                    <a:lnTo>
                      <a:pt x="127" y="161"/>
                    </a:lnTo>
                    <a:lnTo>
                      <a:pt x="126" y="161"/>
                    </a:lnTo>
                    <a:lnTo>
                      <a:pt x="122" y="161"/>
                    </a:lnTo>
                    <a:lnTo>
                      <a:pt x="122" y="160"/>
                    </a:lnTo>
                    <a:lnTo>
                      <a:pt x="120" y="160"/>
                    </a:lnTo>
                    <a:lnTo>
                      <a:pt x="117" y="157"/>
                    </a:lnTo>
                    <a:lnTo>
                      <a:pt x="114" y="157"/>
                    </a:lnTo>
                    <a:lnTo>
                      <a:pt x="114" y="155"/>
                    </a:lnTo>
                    <a:lnTo>
                      <a:pt x="113" y="155"/>
                    </a:lnTo>
                    <a:lnTo>
                      <a:pt x="111" y="154"/>
                    </a:lnTo>
                    <a:lnTo>
                      <a:pt x="110" y="154"/>
                    </a:lnTo>
                    <a:lnTo>
                      <a:pt x="110" y="154"/>
                    </a:lnTo>
                    <a:lnTo>
                      <a:pt x="110" y="154"/>
                    </a:lnTo>
                    <a:lnTo>
                      <a:pt x="108" y="152"/>
                    </a:lnTo>
                    <a:lnTo>
                      <a:pt x="107" y="152"/>
                    </a:lnTo>
                    <a:lnTo>
                      <a:pt x="107" y="151"/>
                    </a:lnTo>
                    <a:lnTo>
                      <a:pt x="105" y="151"/>
                    </a:lnTo>
                    <a:lnTo>
                      <a:pt x="102" y="148"/>
                    </a:lnTo>
                    <a:lnTo>
                      <a:pt x="101" y="148"/>
                    </a:lnTo>
                    <a:lnTo>
                      <a:pt x="101" y="146"/>
                    </a:lnTo>
                    <a:lnTo>
                      <a:pt x="100" y="146"/>
                    </a:lnTo>
                    <a:lnTo>
                      <a:pt x="100" y="146"/>
                    </a:lnTo>
                    <a:lnTo>
                      <a:pt x="100" y="145"/>
                    </a:lnTo>
                    <a:lnTo>
                      <a:pt x="98" y="145"/>
                    </a:lnTo>
                    <a:lnTo>
                      <a:pt x="98" y="143"/>
                    </a:lnTo>
                    <a:lnTo>
                      <a:pt x="97" y="142"/>
                    </a:lnTo>
                    <a:lnTo>
                      <a:pt x="95" y="142"/>
                    </a:lnTo>
                    <a:lnTo>
                      <a:pt x="95" y="140"/>
                    </a:lnTo>
                    <a:lnTo>
                      <a:pt x="91" y="138"/>
                    </a:lnTo>
                    <a:lnTo>
                      <a:pt x="91" y="136"/>
                    </a:lnTo>
                    <a:lnTo>
                      <a:pt x="89" y="136"/>
                    </a:lnTo>
                    <a:lnTo>
                      <a:pt x="89" y="135"/>
                    </a:lnTo>
                    <a:lnTo>
                      <a:pt x="89" y="133"/>
                    </a:lnTo>
                    <a:lnTo>
                      <a:pt x="86" y="132"/>
                    </a:lnTo>
                    <a:lnTo>
                      <a:pt x="86" y="130"/>
                    </a:lnTo>
                    <a:lnTo>
                      <a:pt x="85" y="129"/>
                    </a:lnTo>
                    <a:lnTo>
                      <a:pt x="83" y="129"/>
                    </a:lnTo>
                    <a:lnTo>
                      <a:pt x="81" y="126"/>
                    </a:lnTo>
                    <a:lnTo>
                      <a:pt x="81" y="124"/>
                    </a:lnTo>
                    <a:lnTo>
                      <a:pt x="79" y="124"/>
                    </a:lnTo>
                    <a:lnTo>
                      <a:pt x="78" y="123"/>
                    </a:lnTo>
                    <a:lnTo>
                      <a:pt x="76" y="123"/>
                    </a:lnTo>
                    <a:lnTo>
                      <a:pt x="72" y="118"/>
                    </a:lnTo>
                    <a:lnTo>
                      <a:pt x="70" y="118"/>
                    </a:lnTo>
                    <a:lnTo>
                      <a:pt x="69" y="117"/>
                    </a:lnTo>
                    <a:lnTo>
                      <a:pt x="69" y="117"/>
                    </a:lnTo>
                    <a:lnTo>
                      <a:pt x="67" y="117"/>
                    </a:lnTo>
                    <a:lnTo>
                      <a:pt x="64" y="117"/>
                    </a:lnTo>
                    <a:lnTo>
                      <a:pt x="61" y="114"/>
                    </a:lnTo>
                    <a:lnTo>
                      <a:pt x="59" y="114"/>
                    </a:lnTo>
                    <a:lnTo>
                      <a:pt x="57" y="113"/>
                    </a:lnTo>
                    <a:lnTo>
                      <a:pt x="38" y="113"/>
                    </a:lnTo>
                    <a:lnTo>
                      <a:pt x="37" y="114"/>
                    </a:lnTo>
                    <a:lnTo>
                      <a:pt x="32" y="114"/>
                    </a:lnTo>
                    <a:lnTo>
                      <a:pt x="31" y="116"/>
                    </a:lnTo>
                    <a:lnTo>
                      <a:pt x="28" y="116"/>
                    </a:lnTo>
                    <a:lnTo>
                      <a:pt x="26" y="117"/>
                    </a:lnTo>
                    <a:lnTo>
                      <a:pt x="23" y="117"/>
                    </a:lnTo>
                    <a:lnTo>
                      <a:pt x="22" y="117"/>
                    </a:lnTo>
                    <a:lnTo>
                      <a:pt x="20" y="117"/>
                    </a:lnTo>
                    <a:lnTo>
                      <a:pt x="19" y="118"/>
                    </a:lnTo>
                    <a:lnTo>
                      <a:pt x="18" y="118"/>
                    </a:lnTo>
                    <a:lnTo>
                      <a:pt x="18" y="120"/>
                    </a:lnTo>
                    <a:lnTo>
                      <a:pt x="16" y="120"/>
                    </a:lnTo>
                    <a:lnTo>
                      <a:pt x="13" y="121"/>
                    </a:lnTo>
                    <a:lnTo>
                      <a:pt x="12" y="123"/>
                    </a:lnTo>
                    <a:lnTo>
                      <a:pt x="10" y="123"/>
                    </a:lnTo>
                    <a:lnTo>
                      <a:pt x="9" y="124"/>
                    </a:lnTo>
                    <a:lnTo>
                      <a:pt x="7" y="124"/>
                    </a:lnTo>
                    <a:lnTo>
                      <a:pt x="7" y="124"/>
                    </a:lnTo>
                    <a:lnTo>
                      <a:pt x="1" y="124"/>
                    </a:lnTo>
                    <a:lnTo>
                      <a:pt x="0" y="124"/>
                    </a:lnTo>
                    <a:lnTo>
                      <a:pt x="0" y="121"/>
                    </a:lnTo>
                    <a:lnTo>
                      <a:pt x="1" y="120"/>
                    </a:lnTo>
                    <a:lnTo>
                      <a:pt x="1" y="118"/>
                    </a:lnTo>
                    <a:lnTo>
                      <a:pt x="1" y="117"/>
                    </a:lnTo>
                    <a:lnTo>
                      <a:pt x="3" y="117"/>
                    </a:lnTo>
                    <a:lnTo>
                      <a:pt x="3" y="117"/>
                    </a:lnTo>
                    <a:lnTo>
                      <a:pt x="4" y="117"/>
                    </a:lnTo>
                    <a:lnTo>
                      <a:pt x="4" y="116"/>
                    </a:lnTo>
                    <a:lnTo>
                      <a:pt x="6" y="116"/>
                    </a:lnTo>
                    <a:lnTo>
                      <a:pt x="6" y="114"/>
                    </a:lnTo>
                    <a:lnTo>
                      <a:pt x="7" y="114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7" y="111"/>
                    </a:lnTo>
                    <a:lnTo>
                      <a:pt x="9" y="111"/>
                    </a:lnTo>
                    <a:lnTo>
                      <a:pt x="9" y="110"/>
                    </a:lnTo>
                    <a:lnTo>
                      <a:pt x="10" y="110"/>
                    </a:lnTo>
                    <a:lnTo>
                      <a:pt x="10" y="110"/>
                    </a:lnTo>
                    <a:lnTo>
                      <a:pt x="12" y="110"/>
                    </a:lnTo>
                    <a:lnTo>
                      <a:pt x="15" y="107"/>
                    </a:lnTo>
                    <a:lnTo>
                      <a:pt x="16" y="107"/>
                    </a:lnTo>
                    <a:lnTo>
                      <a:pt x="16" y="105"/>
                    </a:lnTo>
                    <a:lnTo>
                      <a:pt x="18" y="105"/>
                    </a:lnTo>
                    <a:lnTo>
                      <a:pt x="18" y="104"/>
                    </a:lnTo>
                    <a:lnTo>
                      <a:pt x="19" y="104"/>
                    </a:lnTo>
                    <a:lnTo>
                      <a:pt x="20" y="104"/>
                    </a:lnTo>
                    <a:lnTo>
                      <a:pt x="22" y="104"/>
                    </a:lnTo>
                    <a:lnTo>
                      <a:pt x="22" y="102"/>
                    </a:lnTo>
                    <a:lnTo>
                      <a:pt x="25" y="102"/>
                    </a:lnTo>
                    <a:lnTo>
                      <a:pt x="25" y="101"/>
                    </a:lnTo>
                    <a:lnTo>
                      <a:pt x="28" y="101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9" y="98"/>
                    </a:lnTo>
                    <a:lnTo>
                      <a:pt x="31" y="98"/>
                    </a:lnTo>
                    <a:lnTo>
                      <a:pt x="31" y="82"/>
                    </a:lnTo>
                    <a:lnTo>
                      <a:pt x="50" y="85"/>
                    </a:lnTo>
                    <a:lnTo>
                      <a:pt x="57" y="72"/>
                    </a:lnTo>
                    <a:lnTo>
                      <a:pt x="177" y="72"/>
                    </a:lnTo>
                    <a:lnTo>
                      <a:pt x="192" y="28"/>
                    </a:lnTo>
                    <a:lnTo>
                      <a:pt x="192" y="26"/>
                    </a:lnTo>
                    <a:lnTo>
                      <a:pt x="193" y="25"/>
                    </a:lnTo>
                    <a:lnTo>
                      <a:pt x="193" y="23"/>
                    </a:lnTo>
                    <a:lnTo>
                      <a:pt x="195" y="23"/>
                    </a:lnTo>
                    <a:lnTo>
                      <a:pt x="195" y="20"/>
                    </a:lnTo>
                    <a:lnTo>
                      <a:pt x="196" y="20"/>
                    </a:lnTo>
                    <a:lnTo>
                      <a:pt x="196" y="17"/>
                    </a:lnTo>
                    <a:lnTo>
                      <a:pt x="198" y="17"/>
                    </a:lnTo>
                    <a:lnTo>
                      <a:pt x="198" y="16"/>
                    </a:lnTo>
                    <a:lnTo>
                      <a:pt x="199" y="16"/>
                    </a:lnTo>
                    <a:lnTo>
                      <a:pt x="199" y="16"/>
                    </a:lnTo>
                    <a:lnTo>
                      <a:pt x="201" y="16"/>
                    </a:lnTo>
                    <a:lnTo>
                      <a:pt x="201" y="14"/>
                    </a:lnTo>
                    <a:lnTo>
                      <a:pt x="202" y="12"/>
                    </a:lnTo>
                    <a:lnTo>
                      <a:pt x="204" y="12"/>
                    </a:lnTo>
                    <a:lnTo>
                      <a:pt x="204" y="10"/>
                    </a:lnTo>
                    <a:lnTo>
                      <a:pt x="205" y="10"/>
                    </a:lnTo>
                    <a:lnTo>
                      <a:pt x="206" y="9"/>
                    </a:lnTo>
                    <a:lnTo>
                      <a:pt x="209" y="9"/>
                    </a:lnTo>
                    <a:lnTo>
                      <a:pt x="209" y="9"/>
                    </a:lnTo>
                    <a:lnTo>
                      <a:pt x="212" y="9"/>
                    </a:lnTo>
                    <a:lnTo>
                      <a:pt x="220" y="9"/>
                    </a:lnTo>
                    <a:lnTo>
                      <a:pt x="228" y="7"/>
                    </a:lnTo>
                    <a:lnTo>
                      <a:pt x="236" y="7"/>
                    </a:lnTo>
                    <a:lnTo>
                      <a:pt x="243" y="6"/>
                    </a:lnTo>
                    <a:lnTo>
                      <a:pt x="261" y="6"/>
                    </a:lnTo>
                    <a:lnTo>
                      <a:pt x="268" y="4"/>
                    </a:lnTo>
                    <a:lnTo>
                      <a:pt x="284" y="4"/>
                    </a:lnTo>
                    <a:lnTo>
                      <a:pt x="290" y="3"/>
                    </a:lnTo>
                    <a:lnTo>
                      <a:pt x="305" y="3"/>
                    </a:lnTo>
                    <a:lnTo>
                      <a:pt x="312" y="1"/>
                    </a:lnTo>
                    <a:lnTo>
                      <a:pt x="338" y="1"/>
                    </a:lnTo>
                    <a:lnTo>
                      <a:pt x="346" y="1"/>
                    </a:lnTo>
                    <a:lnTo>
                      <a:pt x="376" y="1"/>
                    </a:lnTo>
                    <a:lnTo>
                      <a:pt x="384" y="0"/>
                    </a:lnTo>
                    <a:lnTo>
                      <a:pt x="464" y="0"/>
                    </a:lnTo>
                    <a:lnTo>
                      <a:pt x="469" y="1"/>
                    </a:lnTo>
                    <a:lnTo>
                      <a:pt x="489" y="1"/>
                    </a:lnTo>
                    <a:lnTo>
                      <a:pt x="492" y="1"/>
                    </a:lnTo>
                    <a:lnTo>
                      <a:pt x="505" y="1"/>
                    </a:lnTo>
                    <a:lnTo>
                      <a:pt x="508" y="3"/>
                    </a:lnTo>
                    <a:lnTo>
                      <a:pt x="514" y="3"/>
                    </a:lnTo>
                    <a:lnTo>
                      <a:pt x="517" y="4"/>
                    </a:lnTo>
                    <a:lnTo>
                      <a:pt x="521" y="4"/>
                    </a:lnTo>
                    <a:lnTo>
                      <a:pt x="524" y="6"/>
                    </a:lnTo>
                    <a:lnTo>
                      <a:pt x="530" y="6"/>
                    </a:lnTo>
                    <a:lnTo>
                      <a:pt x="530" y="7"/>
                    </a:lnTo>
                    <a:lnTo>
                      <a:pt x="533" y="7"/>
                    </a:lnTo>
                    <a:lnTo>
                      <a:pt x="536" y="9"/>
                    </a:lnTo>
                    <a:lnTo>
                      <a:pt x="538" y="9"/>
                    </a:lnTo>
                    <a:lnTo>
                      <a:pt x="542" y="9"/>
                    </a:lnTo>
                    <a:lnTo>
                      <a:pt x="543" y="9"/>
                    </a:lnTo>
                    <a:lnTo>
                      <a:pt x="548" y="9"/>
                    </a:lnTo>
                    <a:lnTo>
                      <a:pt x="549" y="10"/>
                    </a:lnTo>
                    <a:lnTo>
                      <a:pt x="552" y="10"/>
                    </a:lnTo>
                    <a:lnTo>
                      <a:pt x="554" y="12"/>
                    </a:lnTo>
                    <a:lnTo>
                      <a:pt x="557" y="12"/>
                    </a:lnTo>
                    <a:lnTo>
                      <a:pt x="557" y="13"/>
                    </a:lnTo>
                    <a:lnTo>
                      <a:pt x="560" y="13"/>
                    </a:lnTo>
                    <a:lnTo>
                      <a:pt x="560" y="14"/>
                    </a:lnTo>
                    <a:lnTo>
                      <a:pt x="561" y="14"/>
                    </a:lnTo>
                    <a:lnTo>
                      <a:pt x="561" y="16"/>
                    </a:lnTo>
                    <a:lnTo>
                      <a:pt x="562" y="16"/>
                    </a:lnTo>
                    <a:lnTo>
                      <a:pt x="570" y="22"/>
                    </a:lnTo>
                    <a:lnTo>
                      <a:pt x="570" y="23"/>
                    </a:lnTo>
                    <a:lnTo>
                      <a:pt x="571" y="23"/>
                    </a:lnTo>
                    <a:lnTo>
                      <a:pt x="571" y="25"/>
                    </a:lnTo>
                    <a:lnTo>
                      <a:pt x="571" y="26"/>
                    </a:lnTo>
                    <a:lnTo>
                      <a:pt x="571" y="31"/>
                    </a:lnTo>
                    <a:lnTo>
                      <a:pt x="573" y="31"/>
                    </a:lnTo>
                    <a:lnTo>
                      <a:pt x="573" y="41"/>
                    </a:lnTo>
                    <a:lnTo>
                      <a:pt x="571" y="42"/>
                    </a:lnTo>
                    <a:lnTo>
                      <a:pt x="571" y="45"/>
                    </a:lnTo>
                    <a:lnTo>
                      <a:pt x="571" y="50"/>
                    </a:lnTo>
                    <a:lnTo>
                      <a:pt x="573" y="51"/>
                    </a:lnTo>
                    <a:lnTo>
                      <a:pt x="573" y="61"/>
                    </a:lnTo>
                    <a:lnTo>
                      <a:pt x="574" y="64"/>
                    </a:lnTo>
                    <a:lnTo>
                      <a:pt x="574" y="107"/>
                    </a:lnTo>
                    <a:lnTo>
                      <a:pt x="573" y="108"/>
                    </a:lnTo>
                    <a:lnTo>
                      <a:pt x="573" y="114"/>
                    </a:lnTo>
                    <a:lnTo>
                      <a:pt x="571" y="116"/>
                    </a:lnTo>
                    <a:lnTo>
                      <a:pt x="571" y="117"/>
                    </a:lnTo>
                    <a:lnTo>
                      <a:pt x="571" y="118"/>
                    </a:lnTo>
                    <a:lnTo>
                      <a:pt x="571" y="121"/>
                    </a:lnTo>
                    <a:lnTo>
                      <a:pt x="570" y="123"/>
                    </a:lnTo>
                    <a:lnTo>
                      <a:pt x="570" y="124"/>
                    </a:lnTo>
                    <a:lnTo>
                      <a:pt x="568" y="124"/>
                    </a:lnTo>
                    <a:lnTo>
                      <a:pt x="568" y="126"/>
                    </a:lnTo>
                    <a:lnTo>
                      <a:pt x="564" y="13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816280" y="1249920"/>
                <a:ext cx="12960" cy="75960"/>
              </a:xfrm>
              <a:custGeom>
                <a:avLst/>
                <a:gdLst/>
                <a:ahLst/>
                <a:rect l="l" t="t" r="r" b="b"/>
                <a:pathLst>
                  <a:path w="17" h="95">
                    <a:moveTo>
                      <a:pt x="6" y="0"/>
                    </a:moveTo>
                    <a:lnTo>
                      <a:pt x="6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90"/>
                    </a:lnTo>
                    <a:lnTo>
                      <a:pt x="2" y="90"/>
                    </a:lnTo>
                    <a:lnTo>
                      <a:pt x="2" y="93"/>
                    </a:lnTo>
                    <a:lnTo>
                      <a:pt x="5" y="93"/>
                    </a:lnTo>
                    <a:lnTo>
                      <a:pt x="5" y="95"/>
                    </a:lnTo>
                    <a:lnTo>
                      <a:pt x="12" y="95"/>
                    </a:lnTo>
                    <a:lnTo>
                      <a:pt x="12" y="93"/>
                    </a:lnTo>
                    <a:lnTo>
                      <a:pt x="15" y="93"/>
                    </a:lnTo>
                    <a:lnTo>
                      <a:pt x="15" y="92"/>
                    </a:lnTo>
                    <a:lnTo>
                      <a:pt x="17" y="92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816280" y="1249920"/>
                <a:ext cx="12960" cy="75960"/>
              </a:xfrm>
              <a:custGeom>
                <a:avLst/>
                <a:gdLst/>
                <a:ahLst/>
                <a:rect l="l" t="t" r="r" b="b"/>
                <a:pathLst>
                  <a:path w="17" h="95">
                    <a:moveTo>
                      <a:pt x="17" y="86"/>
                    </a:moveTo>
                    <a:lnTo>
                      <a:pt x="17" y="89"/>
                    </a:lnTo>
                    <a:lnTo>
                      <a:pt x="17" y="89"/>
                    </a:lnTo>
                    <a:lnTo>
                      <a:pt x="17" y="90"/>
                    </a:lnTo>
                    <a:lnTo>
                      <a:pt x="15" y="90"/>
                    </a:lnTo>
                    <a:lnTo>
                      <a:pt x="15" y="92"/>
                    </a:lnTo>
                    <a:lnTo>
                      <a:pt x="15" y="92"/>
                    </a:lnTo>
                    <a:lnTo>
                      <a:pt x="15" y="93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2" y="93"/>
                    </a:lnTo>
                    <a:lnTo>
                      <a:pt x="12" y="93"/>
                    </a:lnTo>
                    <a:lnTo>
                      <a:pt x="12" y="93"/>
                    </a:lnTo>
                    <a:lnTo>
                      <a:pt x="11" y="93"/>
                    </a:lnTo>
                    <a:lnTo>
                      <a:pt x="11" y="95"/>
                    </a:lnTo>
                    <a:lnTo>
                      <a:pt x="9" y="95"/>
                    </a:lnTo>
                    <a:lnTo>
                      <a:pt x="6" y="95"/>
                    </a:lnTo>
                    <a:lnTo>
                      <a:pt x="6" y="93"/>
                    </a:lnTo>
                    <a:lnTo>
                      <a:pt x="5" y="93"/>
                    </a:lnTo>
                    <a:lnTo>
                      <a:pt x="5" y="93"/>
                    </a:lnTo>
                    <a:lnTo>
                      <a:pt x="5" y="93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3"/>
                    </a:lnTo>
                    <a:lnTo>
                      <a:pt x="2" y="92"/>
                    </a:lnTo>
                    <a:lnTo>
                      <a:pt x="2" y="92"/>
                    </a:lnTo>
                    <a:lnTo>
                      <a:pt x="2" y="90"/>
                    </a:lnTo>
                    <a:lnTo>
                      <a:pt x="2" y="90"/>
                    </a:lnTo>
                    <a:lnTo>
                      <a:pt x="2" y="89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17" y="8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827800" y="1249920"/>
                <a:ext cx="12960" cy="7596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6" y="0"/>
                    </a:moveTo>
                    <a:lnTo>
                      <a:pt x="6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90"/>
                    </a:lnTo>
                    <a:lnTo>
                      <a:pt x="2" y="90"/>
                    </a:lnTo>
                    <a:lnTo>
                      <a:pt x="2" y="93"/>
                    </a:lnTo>
                    <a:lnTo>
                      <a:pt x="5" y="93"/>
                    </a:lnTo>
                    <a:lnTo>
                      <a:pt x="5" y="95"/>
                    </a:lnTo>
                    <a:lnTo>
                      <a:pt x="12" y="95"/>
                    </a:lnTo>
                    <a:lnTo>
                      <a:pt x="12" y="93"/>
                    </a:lnTo>
                    <a:lnTo>
                      <a:pt x="15" y="93"/>
                    </a:lnTo>
                    <a:lnTo>
                      <a:pt x="15" y="92"/>
                    </a:lnTo>
                    <a:lnTo>
                      <a:pt x="16" y="92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827800" y="1249920"/>
                <a:ext cx="12960" cy="7596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16" y="86"/>
                    </a:moveTo>
                    <a:lnTo>
                      <a:pt x="16" y="89"/>
                    </a:lnTo>
                    <a:lnTo>
                      <a:pt x="16" y="89"/>
                    </a:lnTo>
                    <a:lnTo>
                      <a:pt x="16" y="90"/>
                    </a:lnTo>
                    <a:lnTo>
                      <a:pt x="15" y="90"/>
                    </a:lnTo>
                    <a:lnTo>
                      <a:pt x="15" y="92"/>
                    </a:lnTo>
                    <a:lnTo>
                      <a:pt x="15" y="92"/>
                    </a:lnTo>
                    <a:lnTo>
                      <a:pt x="15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2" y="93"/>
                    </a:lnTo>
                    <a:lnTo>
                      <a:pt x="12" y="93"/>
                    </a:lnTo>
                    <a:lnTo>
                      <a:pt x="12" y="93"/>
                    </a:lnTo>
                    <a:lnTo>
                      <a:pt x="10" y="93"/>
                    </a:lnTo>
                    <a:lnTo>
                      <a:pt x="10" y="95"/>
                    </a:lnTo>
                    <a:lnTo>
                      <a:pt x="7" y="95"/>
                    </a:lnTo>
                    <a:lnTo>
                      <a:pt x="6" y="95"/>
                    </a:lnTo>
                    <a:lnTo>
                      <a:pt x="6" y="93"/>
                    </a:lnTo>
                    <a:lnTo>
                      <a:pt x="5" y="93"/>
                    </a:lnTo>
                    <a:lnTo>
                      <a:pt x="5" y="93"/>
                    </a:lnTo>
                    <a:lnTo>
                      <a:pt x="5" y="93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3"/>
                    </a:lnTo>
                    <a:lnTo>
                      <a:pt x="2" y="92"/>
                    </a:lnTo>
                    <a:lnTo>
                      <a:pt x="2" y="92"/>
                    </a:lnTo>
                    <a:lnTo>
                      <a:pt x="2" y="90"/>
                    </a:lnTo>
                    <a:lnTo>
                      <a:pt x="2" y="90"/>
                    </a:lnTo>
                    <a:lnTo>
                      <a:pt x="2" y="89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8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721960" y="1295280"/>
                <a:ext cx="57600" cy="5292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327400" y="1284120"/>
                <a:ext cx="86040" cy="75600"/>
              </a:xfrm>
              <a:prstGeom prst="ellipse">
                <a:avLst/>
              </a:prstGeom>
              <a:solidFill>
                <a:srgbClr val="00000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340360" y="1295280"/>
                <a:ext cx="59400" cy="5292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680200" y="1211400"/>
                <a:ext cx="75960" cy="35280"/>
              </a:xfrm>
              <a:custGeom>
                <a:avLst/>
                <a:gdLst/>
                <a:ahLst/>
                <a:rect l="l" t="t" r="r" b="b"/>
                <a:pathLst>
                  <a:path w="91" h="46">
                    <a:moveTo>
                      <a:pt x="0" y="0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4" y="37"/>
                    </a:lnTo>
                    <a:lnTo>
                      <a:pt x="6" y="37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9" y="41"/>
                    </a:lnTo>
                    <a:lnTo>
                      <a:pt x="12" y="41"/>
                    </a:lnTo>
                    <a:lnTo>
                      <a:pt x="12" y="43"/>
                    </a:lnTo>
                    <a:lnTo>
                      <a:pt x="16" y="43"/>
                    </a:lnTo>
                    <a:lnTo>
                      <a:pt x="16" y="44"/>
                    </a:lnTo>
                    <a:lnTo>
                      <a:pt x="19" y="44"/>
                    </a:lnTo>
                    <a:lnTo>
                      <a:pt x="19" y="46"/>
                    </a:lnTo>
                    <a:lnTo>
                      <a:pt x="72" y="46"/>
                    </a:lnTo>
                    <a:lnTo>
                      <a:pt x="72" y="44"/>
                    </a:lnTo>
                    <a:lnTo>
                      <a:pt x="75" y="44"/>
                    </a:lnTo>
                    <a:lnTo>
                      <a:pt x="75" y="43"/>
                    </a:lnTo>
                    <a:lnTo>
                      <a:pt x="79" y="43"/>
                    </a:lnTo>
                    <a:lnTo>
                      <a:pt x="79" y="41"/>
                    </a:lnTo>
                    <a:lnTo>
                      <a:pt x="80" y="41"/>
                    </a:lnTo>
                    <a:lnTo>
                      <a:pt x="80" y="41"/>
                    </a:lnTo>
                    <a:lnTo>
                      <a:pt x="83" y="40"/>
                    </a:lnTo>
                    <a:lnTo>
                      <a:pt x="83" y="38"/>
                    </a:lnTo>
                    <a:lnTo>
                      <a:pt x="86" y="37"/>
                    </a:lnTo>
                    <a:lnTo>
                      <a:pt x="86" y="35"/>
                    </a:lnTo>
                    <a:lnTo>
                      <a:pt x="89" y="34"/>
                    </a:lnTo>
                    <a:lnTo>
                      <a:pt x="89" y="31"/>
                    </a:lnTo>
                    <a:lnTo>
                      <a:pt x="91" y="31"/>
                    </a:lnTo>
                    <a:lnTo>
                      <a:pt x="9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680200" y="1211400"/>
                <a:ext cx="75960" cy="35280"/>
              </a:xfrm>
              <a:custGeom>
                <a:avLst/>
                <a:gdLst/>
                <a:ahLst/>
                <a:rect l="l" t="t" r="r" b="b"/>
                <a:pathLst>
                  <a:path w="91" h="46">
                    <a:moveTo>
                      <a:pt x="64" y="46"/>
                    </a:moveTo>
                    <a:lnTo>
                      <a:pt x="67" y="46"/>
                    </a:lnTo>
                    <a:lnTo>
                      <a:pt x="69" y="44"/>
                    </a:lnTo>
                    <a:lnTo>
                      <a:pt x="72" y="44"/>
                    </a:lnTo>
                    <a:lnTo>
                      <a:pt x="72" y="43"/>
                    </a:lnTo>
                    <a:lnTo>
                      <a:pt x="75" y="43"/>
                    </a:lnTo>
                    <a:lnTo>
                      <a:pt x="76" y="41"/>
                    </a:lnTo>
                    <a:lnTo>
                      <a:pt x="79" y="41"/>
                    </a:lnTo>
                    <a:lnTo>
                      <a:pt x="79" y="41"/>
                    </a:lnTo>
                    <a:lnTo>
                      <a:pt x="80" y="41"/>
                    </a:lnTo>
                    <a:lnTo>
                      <a:pt x="80" y="40"/>
                    </a:lnTo>
                    <a:lnTo>
                      <a:pt x="82" y="40"/>
                    </a:lnTo>
                    <a:lnTo>
                      <a:pt x="82" y="38"/>
                    </a:lnTo>
                    <a:lnTo>
                      <a:pt x="83" y="38"/>
                    </a:lnTo>
                    <a:lnTo>
                      <a:pt x="86" y="35"/>
                    </a:lnTo>
                    <a:lnTo>
                      <a:pt x="86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9" y="34"/>
                    </a:lnTo>
                    <a:lnTo>
                      <a:pt x="89" y="31"/>
                    </a:lnTo>
                    <a:lnTo>
                      <a:pt x="91" y="29"/>
                    </a:lnTo>
                    <a:lnTo>
                      <a:pt x="91" y="21"/>
                    </a:lnTo>
                    <a:lnTo>
                      <a:pt x="91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7" y="38"/>
                    </a:lnTo>
                    <a:lnTo>
                      <a:pt x="9" y="38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1"/>
                    </a:lnTo>
                    <a:lnTo>
                      <a:pt x="12" y="41"/>
                    </a:lnTo>
                    <a:lnTo>
                      <a:pt x="12" y="41"/>
                    </a:lnTo>
                    <a:lnTo>
                      <a:pt x="15" y="41"/>
                    </a:lnTo>
                    <a:lnTo>
                      <a:pt x="16" y="43"/>
                    </a:lnTo>
                    <a:lnTo>
                      <a:pt x="19" y="43"/>
                    </a:lnTo>
                    <a:lnTo>
                      <a:pt x="19" y="44"/>
                    </a:lnTo>
                    <a:lnTo>
                      <a:pt x="22" y="44"/>
                    </a:lnTo>
                    <a:lnTo>
                      <a:pt x="23" y="46"/>
                    </a:lnTo>
                    <a:lnTo>
                      <a:pt x="26" y="46"/>
                    </a:lnTo>
                    <a:lnTo>
                      <a:pt x="64" y="46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590560" y="1211400"/>
                <a:ext cx="69480" cy="35280"/>
              </a:xfrm>
              <a:custGeom>
                <a:avLst/>
                <a:gdLst/>
                <a:ahLst/>
                <a:rect l="l" t="t" r="r" b="b"/>
                <a:pathLst>
                  <a:path w="85" h="46">
                    <a:moveTo>
                      <a:pt x="0" y="0"/>
                    </a:moveTo>
                    <a:lnTo>
                      <a:pt x="0" y="32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7"/>
                    </a:lnTo>
                    <a:lnTo>
                      <a:pt x="4" y="37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7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3" y="43"/>
                    </a:lnTo>
                    <a:lnTo>
                      <a:pt x="13" y="44"/>
                    </a:lnTo>
                    <a:lnTo>
                      <a:pt x="16" y="44"/>
                    </a:lnTo>
                    <a:lnTo>
                      <a:pt x="16" y="46"/>
                    </a:lnTo>
                    <a:lnTo>
                      <a:pt x="69" y="46"/>
                    </a:lnTo>
                    <a:lnTo>
                      <a:pt x="69" y="44"/>
                    </a:lnTo>
                    <a:lnTo>
                      <a:pt x="73" y="44"/>
                    </a:lnTo>
                    <a:lnTo>
                      <a:pt x="73" y="43"/>
                    </a:lnTo>
                    <a:lnTo>
                      <a:pt x="76" y="41"/>
                    </a:lnTo>
                    <a:lnTo>
                      <a:pt x="78" y="41"/>
                    </a:lnTo>
                    <a:lnTo>
                      <a:pt x="78" y="40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2" y="34"/>
                    </a:lnTo>
                    <a:lnTo>
                      <a:pt x="84" y="34"/>
                    </a:lnTo>
                    <a:lnTo>
                      <a:pt x="84" y="31"/>
                    </a:lnTo>
                    <a:lnTo>
                      <a:pt x="85" y="31"/>
                    </a:lnTo>
                    <a:lnTo>
                      <a:pt x="8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590560" y="1211400"/>
                <a:ext cx="69480" cy="35280"/>
              </a:xfrm>
              <a:custGeom>
                <a:avLst/>
                <a:gdLst/>
                <a:ahLst/>
                <a:rect l="l" t="t" r="r" b="b"/>
                <a:pathLst>
                  <a:path w="85" h="46">
                    <a:moveTo>
                      <a:pt x="0" y="2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4" y="35"/>
                    </a:lnTo>
                    <a:lnTo>
                      <a:pt x="4" y="37"/>
                    </a:lnTo>
                    <a:lnTo>
                      <a:pt x="6" y="40"/>
                    </a:lnTo>
                    <a:lnTo>
                      <a:pt x="7" y="40"/>
                    </a:lnTo>
                    <a:lnTo>
                      <a:pt x="7" y="41"/>
                    </a:lnTo>
                    <a:lnTo>
                      <a:pt x="9" y="41"/>
                    </a:lnTo>
                    <a:lnTo>
                      <a:pt x="10" y="41"/>
                    </a:lnTo>
                    <a:lnTo>
                      <a:pt x="12" y="41"/>
                    </a:lnTo>
                    <a:lnTo>
                      <a:pt x="13" y="43"/>
                    </a:lnTo>
                    <a:lnTo>
                      <a:pt x="16" y="43"/>
                    </a:lnTo>
                    <a:lnTo>
                      <a:pt x="16" y="44"/>
                    </a:lnTo>
                    <a:lnTo>
                      <a:pt x="21" y="44"/>
                    </a:lnTo>
                    <a:lnTo>
                      <a:pt x="22" y="46"/>
                    </a:lnTo>
                    <a:lnTo>
                      <a:pt x="26" y="46"/>
                    </a:lnTo>
                    <a:lnTo>
                      <a:pt x="60" y="46"/>
                    </a:lnTo>
                    <a:lnTo>
                      <a:pt x="64" y="46"/>
                    </a:lnTo>
                    <a:lnTo>
                      <a:pt x="66" y="44"/>
                    </a:lnTo>
                    <a:lnTo>
                      <a:pt x="69" y="44"/>
                    </a:lnTo>
                    <a:lnTo>
                      <a:pt x="70" y="43"/>
                    </a:lnTo>
                    <a:lnTo>
                      <a:pt x="73" y="43"/>
                    </a:lnTo>
                    <a:lnTo>
                      <a:pt x="73" y="41"/>
                    </a:lnTo>
                    <a:lnTo>
                      <a:pt x="75" y="41"/>
                    </a:lnTo>
                    <a:lnTo>
                      <a:pt x="76" y="41"/>
                    </a:lnTo>
                    <a:lnTo>
                      <a:pt x="78" y="41"/>
                    </a:lnTo>
                    <a:lnTo>
                      <a:pt x="78" y="40"/>
                    </a:lnTo>
                    <a:lnTo>
                      <a:pt x="78" y="40"/>
                    </a:lnTo>
                    <a:lnTo>
                      <a:pt x="81" y="37"/>
                    </a:lnTo>
                    <a:lnTo>
                      <a:pt x="81" y="35"/>
                    </a:lnTo>
                    <a:lnTo>
                      <a:pt x="82" y="35"/>
                    </a:lnTo>
                    <a:lnTo>
                      <a:pt x="82" y="34"/>
                    </a:lnTo>
                    <a:lnTo>
                      <a:pt x="84" y="34"/>
                    </a:lnTo>
                    <a:lnTo>
                      <a:pt x="84" y="31"/>
                    </a:lnTo>
                    <a:lnTo>
                      <a:pt x="85" y="29"/>
                    </a:lnTo>
                    <a:lnTo>
                      <a:pt x="85" y="21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21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493000" y="1211400"/>
                <a:ext cx="77760" cy="352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16" y="0"/>
                    </a:moveTo>
                    <a:lnTo>
                      <a:pt x="16" y="3"/>
                    </a:lnTo>
                    <a:lnTo>
                      <a:pt x="14" y="3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9"/>
                    </a:lnTo>
                    <a:lnTo>
                      <a:pt x="9" y="19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7" y="27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4" y="28"/>
                    </a:lnTo>
                    <a:lnTo>
                      <a:pt x="4" y="32"/>
                    </a:lnTo>
                    <a:lnTo>
                      <a:pt x="3" y="32"/>
                    </a:lnTo>
                    <a:lnTo>
                      <a:pt x="3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89" y="46"/>
                    </a:lnTo>
                    <a:lnTo>
                      <a:pt x="89" y="44"/>
                    </a:lnTo>
                    <a:lnTo>
                      <a:pt x="92" y="43"/>
                    </a:lnTo>
                    <a:lnTo>
                      <a:pt x="92" y="41"/>
                    </a:lnTo>
                    <a:lnTo>
                      <a:pt x="92" y="41"/>
                    </a:lnTo>
                    <a:lnTo>
                      <a:pt x="92" y="38"/>
                    </a:lnTo>
                    <a:lnTo>
                      <a:pt x="94" y="38"/>
                    </a:lnTo>
                    <a:lnTo>
                      <a:pt x="9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493000" y="1211400"/>
                <a:ext cx="77760" cy="352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0" y="40"/>
                    </a:moveTo>
                    <a:lnTo>
                      <a:pt x="16" y="0"/>
                    </a:lnTo>
                    <a:lnTo>
                      <a:pt x="94" y="0"/>
                    </a:lnTo>
                    <a:lnTo>
                      <a:pt x="94" y="31"/>
                    </a:lnTo>
                    <a:lnTo>
                      <a:pt x="94" y="37"/>
                    </a:lnTo>
                    <a:lnTo>
                      <a:pt x="92" y="37"/>
                    </a:lnTo>
                    <a:lnTo>
                      <a:pt x="92" y="41"/>
                    </a:lnTo>
                    <a:lnTo>
                      <a:pt x="92" y="41"/>
                    </a:lnTo>
                    <a:lnTo>
                      <a:pt x="92" y="41"/>
                    </a:lnTo>
                    <a:lnTo>
                      <a:pt x="89" y="44"/>
                    </a:lnTo>
                    <a:lnTo>
                      <a:pt x="88" y="44"/>
                    </a:lnTo>
                    <a:lnTo>
                      <a:pt x="88" y="46"/>
                    </a:lnTo>
                    <a:lnTo>
                      <a:pt x="79" y="46"/>
                    </a:lnTo>
                    <a:lnTo>
                      <a:pt x="19" y="46"/>
                    </a:lnTo>
                    <a:lnTo>
                      <a:pt x="6" y="46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4" name=""/>
            <p:cNvSpPr/>
            <p:nvPr/>
          </p:nvSpPr>
          <p:spPr>
            <a:xfrm>
              <a:off x="2612520" y="1224360"/>
              <a:ext cx="26280" cy="2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708640" y="1222560"/>
              <a:ext cx="2448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522880" y="1222560"/>
              <a:ext cx="23040" cy="27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1619280" y="891720"/>
            <a:ext cx="367920" cy="189000"/>
            <a:chOff x="1619280" y="891720"/>
            <a:chExt cx="367920" cy="189000"/>
          </a:xfrm>
        </p:grpSpPr>
        <p:sp>
          <p:nvSpPr>
            <p:cNvPr id="1818" name=""/>
            <p:cNvSpPr/>
            <p:nvPr/>
          </p:nvSpPr>
          <p:spPr>
            <a:xfrm>
              <a:off x="1619280" y="892080"/>
              <a:ext cx="367920" cy="188640"/>
            </a:xfrm>
            <a:custGeom>
              <a:avLst/>
              <a:gdLst/>
              <a:ahLst/>
              <a:rect l="l" t="t" r="r" b="b"/>
              <a:pathLst>
                <a:path w="446" h="233">
                  <a:moveTo>
                    <a:pt x="0" y="233"/>
                  </a:moveTo>
                  <a:lnTo>
                    <a:pt x="411" y="233"/>
                  </a:lnTo>
                  <a:lnTo>
                    <a:pt x="446" y="198"/>
                  </a:lnTo>
                  <a:lnTo>
                    <a:pt x="446" y="0"/>
                  </a:lnTo>
                  <a:lnTo>
                    <a:pt x="35" y="0"/>
                  </a:lnTo>
                  <a:lnTo>
                    <a:pt x="0" y="35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>
              <a:off x="1647360" y="891720"/>
              <a:ext cx="144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1619280" y="1051560"/>
              <a:ext cx="28080" cy="2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647360" y="1051560"/>
              <a:ext cx="33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1666800" y="906480"/>
            <a:ext cx="10152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784520" y="906480"/>
            <a:ext cx="183960" cy="12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780920" y="920880"/>
            <a:ext cx="153000" cy="117360"/>
            <a:chOff x="1780920" y="920880"/>
            <a:chExt cx="153000" cy="117360"/>
          </a:xfrm>
        </p:grpSpPr>
        <p:sp>
          <p:nvSpPr>
            <p:cNvPr id="1825" name=""/>
            <p:cNvSpPr/>
            <p:nvPr/>
          </p:nvSpPr>
          <p:spPr>
            <a:xfrm>
              <a:off x="1780920" y="920880"/>
              <a:ext cx="153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HOV-3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83440" y="977040"/>
              <a:ext cx="122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ONLY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7" name=""/>
          <p:cNvSpPr/>
          <p:nvPr/>
        </p:nvSpPr>
        <p:spPr>
          <a:xfrm>
            <a:off x="1697040" y="922320"/>
            <a:ext cx="55440" cy="36360"/>
          </a:xfrm>
          <a:prstGeom prst="ellips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1697040" y="981000"/>
            <a:ext cx="55440" cy="38160"/>
          </a:xfrm>
          <a:prstGeom prst="ellipse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1982880" y="912960"/>
            <a:ext cx="12384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V="1">
            <a:off x="2095560" y="919080"/>
            <a:ext cx="3024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H="1" flipV="1">
            <a:off x="2003400" y="906480"/>
            <a:ext cx="13320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H="1">
            <a:off x="1982520" y="903240"/>
            <a:ext cx="219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087640" y="934920"/>
            <a:ext cx="144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H="1" flipV="1">
            <a:off x="1982520" y="977400"/>
            <a:ext cx="11268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127240" y="9190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2087640" y="979560"/>
            <a:ext cx="4896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101680" y="941400"/>
            <a:ext cx="20880" cy="38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154240" y="947880"/>
            <a:ext cx="28440" cy="37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2111400" y="934920"/>
            <a:ext cx="619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2107800" y="972720"/>
            <a:ext cx="65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119320" y="946080"/>
            <a:ext cx="17280" cy="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2116080" y="941400"/>
            <a:ext cx="4680" cy="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127240" y="941400"/>
            <a:ext cx="1440" cy="41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986120" y="985680"/>
            <a:ext cx="27000" cy="44640"/>
          </a:xfrm>
          <a:custGeom>
            <a:avLst/>
            <a:gdLst/>
            <a:ahLst/>
            <a:rect l="l" t="t" r="r" b="b"/>
            <a:pathLst>
              <a:path w="32" h="55">
                <a:moveTo>
                  <a:pt x="26" y="0"/>
                </a:moveTo>
                <a:lnTo>
                  <a:pt x="24" y="2"/>
                </a:lnTo>
                <a:lnTo>
                  <a:pt x="24" y="5"/>
                </a:lnTo>
                <a:lnTo>
                  <a:pt x="23" y="8"/>
                </a:lnTo>
                <a:lnTo>
                  <a:pt x="22" y="9"/>
                </a:lnTo>
                <a:lnTo>
                  <a:pt x="20" y="12"/>
                </a:lnTo>
                <a:lnTo>
                  <a:pt x="20" y="15"/>
                </a:lnTo>
                <a:lnTo>
                  <a:pt x="20" y="18"/>
                </a:lnTo>
                <a:lnTo>
                  <a:pt x="20" y="19"/>
                </a:lnTo>
                <a:lnTo>
                  <a:pt x="20" y="22"/>
                </a:lnTo>
                <a:lnTo>
                  <a:pt x="20" y="25"/>
                </a:lnTo>
                <a:lnTo>
                  <a:pt x="22" y="27"/>
                </a:lnTo>
                <a:lnTo>
                  <a:pt x="23" y="30"/>
                </a:lnTo>
                <a:lnTo>
                  <a:pt x="26" y="31"/>
                </a:lnTo>
                <a:lnTo>
                  <a:pt x="26" y="34"/>
                </a:lnTo>
                <a:lnTo>
                  <a:pt x="27" y="35"/>
                </a:lnTo>
                <a:lnTo>
                  <a:pt x="29" y="38"/>
                </a:lnTo>
                <a:lnTo>
                  <a:pt x="30" y="41"/>
                </a:lnTo>
                <a:lnTo>
                  <a:pt x="32" y="43"/>
                </a:lnTo>
                <a:lnTo>
                  <a:pt x="32" y="46"/>
                </a:lnTo>
                <a:lnTo>
                  <a:pt x="32" y="49"/>
                </a:lnTo>
                <a:lnTo>
                  <a:pt x="32" y="50"/>
                </a:lnTo>
                <a:lnTo>
                  <a:pt x="30" y="53"/>
                </a:lnTo>
                <a:lnTo>
                  <a:pt x="27" y="55"/>
                </a:lnTo>
                <a:lnTo>
                  <a:pt x="24" y="55"/>
                </a:lnTo>
                <a:lnTo>
                  <a:pt x="22" y="55"/>
                </a:lnTo>
                <a:lnTo>
                  <a:pt x="19" y="53"/>
                </a:lnTo>
                <a:lnTo>
                  <a:pt x="16" y="52"/>
                </a:lnTo>
                <a:lnTo>
                  <a:pt x="16" y="49"/>
                </a:lnTo>
                <a:lnTo>
                  <a:pt x="13" y="46"/>
                </a:lnTo>
                <a:lnTo>
                  <a:pt x="13" y="44"/>
                </a:lnTo>
                <a:lnTo>
                  <a:pt x="11" y="41"/>
                </a:lnTo>
                <a:lnTo>
                  <a:pt x="8" y="40"/>
                </a:lnTo>
                <a:lnTo>
                  <a:pt x="5" y="38"/>
                </a:lnTo>
                <a:lnTo>
                  <a:pt x="2" y="38"/>
                </a:lnTo>
                <a:lnTo>
                  <a:pt x="0" y="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1536840" y="839880"/>
            <a:ext cx="5076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587600" y="839880"/>
            <a:ext cx="409320" cy="2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708200" y="858960"/>
            <a:ext cx="144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863720" y="858960"/>
            <a:ext cx="144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2192400" y="965160"/>
            <a:ext cx="334800" cy="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 flipH="1" flipV="1">
            <a:off x="2153880" y="998640"/>
            <a:ext cx="15228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1" name=""/>
          <p:cNvGrpSpPr/>
          <p:nvPr/>
        </p:nvGrpSpPr>
        <p:grpSpPr>
          <a:xfrm>
            <a:off x="2649600" y="1698120"/>
            <a:ext cx="180720" cy="271440"/>
            <a:chOff x="2649600" y="1698120"/>
            <a:chExt cx="180720" cy="271440"/>
          </a:xfrm>
        </p:grpSpPr>
        <p:sp>
          <p:nvSpPr>
            <p:cNvPr id="1852" name=""/>
            <p:cNvSpPr/>
            <p:nvPr/>
          </p:nvSpPr>
          <p:spPr>
            <a:xfrm>
              <a:off x="2705040" y="1761480"/>
              <a:ext cx="6480" cy="140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713680" y="1761480"/>
              <a:ext cx="6120" cy="14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721960" y="1761480"/>
              <a:ext cx="6120" cy="14040"/>
            </a:xfrm>
            <a:prstGeom prst="rect">
              <a:avLst/>
            </a:prstGeom>
            <a:solidFill>
              <a:srgbClr val="fa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730240" y="1761480"/>
              <a:ext cx="4680" cy="14040"/>
            </a:xfrm>
            <a:prstGeom prst="rect">
              <a:avLst/>
            </a:prstGeom>
            <a:solidFill>
              <a:srgbClr val="fa8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739600" y="1761480"/>
              <a:ext cx="4680" cy="14040"/>
            </a:xfrm>
            <a:prstGeom prst="rect">
              <a:avLst/>
            </a:pr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747880" y="1761480"/>
              <a:ext cx="4680" cy="14040"/>
            </a:xfrm>
            <a:prstGeom prst="rect">
              <a:avLst/>
            </a:prstGeom>
            <a:solidFill>
              <a:srgbClr val="f7f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754720" y="1761480"/>
              <a:ext cx="6120" cy="14040"/>
            </a:xfrm>
            <a:prstGeom prst="rect">
              <a:avLst/>
            </a:prstGeom>
            <a:solidFill>
              <a:srgbClr val="09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763000" y="1761480"/>
              <a:ext cx="6120" cy="14040"/>
            </a:xfrm>
            <a:prstGeom prst="rect">
              <a:avLst/>
            </a:prstGeom>
            <a:solidFill>
              <a:srgbClr val="a2f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764440" y="1738440"/>
              <a:ext cx="55800" cy="64440"/>
            </a:xfrm>
            <a:prstGeom prst="ellipse">
              <a:avLst/>
            </a:prstGeom>
            <a:solidFill>
              <a:srgbClr val="fa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657520" y="1893600"/>
              <a:ext cx="57240" cy="63000"/>
            </a:xfrm>
            <a:prstGeom prst="ellipse">
              <a:avLst/>
            </a:prstGeom>
            <a:solidFill>
              <a:srgbClr val="09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V="1">
              <a:off x="2739600" y="1698120"/>
              <a:ext cx="1800" cy="30600"/>
            </a:xfrm>
            <a:prstGeom prst="line">
              <a:avLst/>
            </a:prstGeom>
            <a:ln w="237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764440" y="1893600"/>
              <a:ext cx="55800" cy="63000"/>
            </a:xfrm>
            <a:prstGeom prst="ellipse">
              <a:avLst/>
            </a:prstGeom>
            <a:solidFill>
              <a:srgbClr val="09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764440" y="1817640"/>
              <a:ext cx="55800" cy="61200"/>
            </a:xfrm>
            <a:prstGeom prst="ellipse">
              <a:avLst/>
            </a:pr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657520" y="1738440"/>
              <a:ext cx="57240" cy="64440"/>
            </a:xfrm>
            <a:prstGeom prst="ellipse">
              <a:avLst/>
            </a:prstGeom>
            <a:solidFill>
              <a:srgbClr val="fa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657520" y="1817640"/>
              <a:ext cx="57240" cy="61200"/>
            </a:xfrm>
            <a:prstGeom prst="ellipse">
              <a:avLst/>
            </a:pr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680560" y="1729080"/>
              <a:ext cx="118440" cy="2404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799000" y="1893600"/>
              <a:ext cx="31320" cy="63000"/>
            </a:xfrm>
            <a:custGeom>
              <a:avLst/>
              <a:gdLst/>
              <a:ahLst/>
              <a:rect l="l" t="t" r="r" b="b"/>
              <a:pathLst>
                <a:path w="37" h="78">
                  <a:moveTo>
                    <a:pt x="37" y="0"/>
                  </a:moveTo>
                  <a:lnTo>
                    <a:pt x="30" y="2"/>
                  </a:lnTo>
                  <a:lnTo>
                    <a:pt x="25" y="5"/>
                  </a:lnTo>
                  <a:lnTo>
                    <a:pt x="19" y="11"/>
                  </a:lnTo>
                  <a:lnTo>
                    <a:pt x="17" y="17"/>
                  </a:lnTo>
                  <a:lnTo>
                    <a:pt x="12" y="25"/>
                  </a:lnTo>
                  <a:lnTo>
                    <a:pt x="11" y="33"/>
                  </a:lnTo>
                  <a:lnTo>
                    <a:pt x="8" y="47"/>
                  </a:lnTo>
                  <a:lnTo>
                    <a:pt x="3" y="63"/>
                  </a:lnTo>
                  <a:lnTo>
                    <a:pt x="0" y="78"/>
                  </a:lnTo>
                  <a:lnTo>
                    <a:pt x="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799000" y="1817640"/>
              <a:ext cx="31320" cy="61200"/>
            </a:xfrm>
            <a:custGeom>
              <a:avLst/>
              <a:gdLst/>
              <a:ahLst/>
              <a:rect l="l" t="t" r="r" b="b"/>
              <a:pathLst>
                <a:path w="37" h="78">
                  <a:moveTo>
                    <a:pt x="37" y="0"/>
                  </a:moveTo>
                  <a:lnTo>
                    <a:pt x="30" y="2"/>
                  </a:lnTo>
                  <a:lnTo>
                    <a:pt x="25" y="5"/>
                  </a:lnTo>
                  <a:lnTo>
                    <a:pt x="19" y="11"/>
                  </a:lnTo>
                  <a:lnTo>
                    <a:pt x="17" y="16"/>
                  </a:lnTo>
                  <a:lnTo>
                    <a:pt x="12" y="24"/>
                  </a:lnTo>
                  <a:lnTo>
                    <a:pt x="11" y="33"/>
                  </a:lnTo>
                  <a:lnTo>
                    <a:pt x="8" y="47"/>
                  </a:lnTo>
                  <a:lnTo>
                    <a:pt x="3" y="63"/>
                  </a:lnTo>
                  <a:lnTo>
                    <a:pt x="0" y="78"/>
                  </a:lnTo>
                  <a:lnTo>
                    <a:pt x="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799000" y="1738440"/>
              <a:ext cx="31320" cy="644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37" y="0"/>
                  </a:moveTo>
                  <a:lnTo>
                    <a:pt x="30" y="3"/>
                  </a:lnTo>
                  <a:lnTo>
                    <a:pt x="25" y="5"/>
                  </a:lnTo>
                  <a:lnTo>
                    <a:pt x="19" y="10"/>
                  </a:lnTo>
                  <a:lnTo>
                    <a:pt x="17" y="17"/>
                  </a:lnTo>
                  <a:lnTo>
                    <a:pt x="12" y="24"/>
                  </a:lnTo>
                  <a:lnTo>
                    <a:pt x="11" y="32"/>
                  </a:lnTo>
                  <a:lnTo>
                    <a:pt x="8" y="48"/>
                  </a:lnTo>
                  <a:lnTo>
                    <a:pt x="3" y="63"/>
                  </a:lnTo>
                  <a:lnTo>
                    <a:pt x="0" y="79"/>
                  </a:lnTo>
                  <a:lnTo>
                    <a:pt x="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649600" y="1893600"/>
              <a:ext cx="30960" cy="6300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0" y="0"/>
                  </a:moveTo>
                  <a:lnTo>
                    <a:pt x="7" y="2"/>
                  </a:lnTo>
                  <a:lnTo>
                    <a:pt x="12" y="5"/>
                  </a:lnTo>
                  <a:lnTo>
                    <a:pt x="17" y="11"/>
                  </a:lnTo>
                  <a:lnTo>
                    <a:pt x="20" y="17"/>
                  </a:lnTo>
                  <a:lnTo>
                    <a:pt x="23" y="25"/>
                  </a:lnTo>
                  <a:lnTo>
                    <a:pt x="26" y="33"/>
                  </a:lnTo>
                  <a:lnTo>
                    <a:pt x="29" y="47"/>
                  </a:lnTo>
                  <a:lnTo>
                    <a:pt x="33" y="63"/>
                  </a:lnTo>
                  <a:lnTo>
                    <a:pt x="36" y="78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649600" y="1817640"/>
              <a:ext cx="30960" cy="6120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0" y="0"/>
                  </a:moveTo>
                  <a:lnTo>
                    <a:pt x="7" y="2"/>
                  </a:lnTo>
                  <a:lnTo>
                    <a:pt x="12" y="5"/>
                  </a:lnTo>
                  <a:lnTo>
                    <a:pt x="17" y="11"/>
                  </a:lnTo>
                  <a:lnTo>
                    <a:pt x="20" y="16"/>
                  </a:lnTo>
                  <a:lnTo>
                    <a:pt x="23" y="24"/>
                  </a:lnTo>
                  <a:lnTo>
                    <a:pt x="26" y="33"/>
                  </a:lnTo>
                  <a:lnTo>
                    <a:pt x="29" y="47"/>
                  </a:lnTo>
                  <a:lnTo>
                    <a:pt x="33" y="63"/>
                  </a:lnTo>
                  <a:lnTo>
                    <a:pt x="36" y="78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649600" y="1738440"/>
              <a:ext cx="30960" cy="644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0" y="0"/>
                  </a:moveTo>
                  <a:lnTo>
                    <a:pt x="7" y="3"/>
                  </a:lnTo>
                  <a:lnTo>
                    <a:pt x="12" y="5"/>
                  </a:lnTo>
                  <a:lnTo>
                    <a:pt x="17" y="10"/>
                  </a:lnTo>
                  <a:lnTo>
                    <a:pt x="20" y="17"/>
                  </a:lnTo>
                  <a:lnTo>
                    <a:pt x="23" y="24"/>
                  </a:lnTo>
                  <a:lnTo>
                    <a:pt x="26" y="32"/>
                  </a:lnTo>
                  <a:lnTo>
                    <a:pt x="29" y="48"/>
                  </a:lnTo>
                  <a:lnTo>
                    <a:pt x="33" y="63"/>
                  </a:lnTo>
                  <a:lnTo>
                    <a:pt x="36" y="79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698560" y="1914840"/>
              <a:ext cx="80640" cy="4356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698560" y="1893600"/>
              <a:ext cx="80640" cy="4536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698560" y="1761480"/>
              <a:ext cx="80640" cy="414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698560" y="1738440"/>
              <a:ext cx="80640" cy="450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698560" y="1838520"/>
              <a:ext cx="80640" cy="40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698560" y="1816200"/>
              <a:ext cx="80640" cy="450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703600" y="1895400"/>
              <a:ext cx="723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705040" y="1896840"/>
              <a:ext cx="69120" cy="57960"/>
            </a:xfrm>
            <a:prstGeom prst="ellipse">
              <a:avLst/>
            </a:prstGeom>
            <a:solidFill>
              <a:srgbClr val="09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703600" y="1739880"/>
              <a:ext cx="72360" cy="6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705040" y="1742040"/>
              <a:ext cx="69120" cy="57960"/>
            </a:xfrm>
            <a:prstGeom prst="ellipse">
              <a:avLst/>
            </a:prstGeom>
            <a:solidFill>
              <a:srgbClr val="fa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703600" y="1817640"/>
              <a:ext cx="72360" cy="6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705040" y="1819080"/>
              <a:ext cx="69120" cy="57960"/>
            </a:xfrm>
            <a:prstGeom prst="ellipse">
              <a:avLst/>
            </a:pr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715120" y="1714320"/>
              <a:ext cx="48960" cy="144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2730240" y="1704600"/>
              <a:ext cx="17640" cy="17640"/>
            </a:xfrm>
            <a:prstGeom prst="ellipse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751480" y="1751400"/>
              <a:ext cx="12960" cy="129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9" y="0"/>
                  </a:moveTo>
                  <a:lnTo>
                    <a:pt x="12" y="2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3"/>
                  </a:lnTo>
                  <a:lnTo>
                    <a:pt x="4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8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743200" y="1745280"/>
              <a:ext cx="12960" cy="126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7" y="0"/>
                  </a:moveTo>
                  <a:lnTo>
                    <a:pt x="10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3" y="10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a8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752920" y="1830600"/>
              <a:ext cx="11520" cy="1296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8" y="0"/>
                  </a:moveTo>
                  <a:lnTo>
                    <a:pt x="11" y="2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2" y="11"/>
                  </a:lnTo>
                  <a:lnTo>
                    <a:pt x="11" y="1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3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743200" y="1824480"/>
              <a:ext cx="12960" cy="126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1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3" y="10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3"/>
                  </a:lnTo>
                  <a:lnTo>
                    <a:pt x="4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751480" y="1906560"/>
              <a:ext cx="12960" cy="126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9" y="0"/>
                  </a:moveTo>
                  <a:lnTo>
                    <a:pt x="12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2f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743200" y="1901520"/>
              <a:ext cx="12960" cy="129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7" y="0"/>
                  </a:moveTo>
                  <a:lnTo>
                    <a:pt x="10" y="2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3" y="11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f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1606680" y="2205000"/>
            <a:ext cx="758160" cy="225000"/>
            <a:chOff x="1606680" y="2205000"/>
            <a:chExt cx="758160" cy="225000"/>
          </a:xfrm>
        </p:grpSpPr>
        <p:sp>
          <p:nvSpPr>
            <p:cNvPr id="1895" name=""/>
            <p:cNvSpPr/>
            <p:nvPr/>
          </p:nvSpPr>
          <p:spPr>
            <a:xfrm>
              <a:off x="1606680" y="2205000"/>
              <a:ext cx="756720" cy="197640"/>
            </a:xfrm>
            <a:custGeom>
              <a:avLst/>
              <a:gdLst/>
              <a:ahLst/>
              <a:rect l="l" t="t" r="r" b="b"/>
              <a:pathLst>
                <a:path w="916" h="246">
                  <a:moveTo>
                    <a:pt x="62" y="0"/>
                  </a:moveTo>
                  <a:lnTo>
                    <a:pt x="62" y="0"/>
                  </a:lnTo>
                  <a:lnTo>
                    <a:pt x="59" y="0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56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8" y="16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4" y="19"/>
                  </a:lnTo>
                  <a:lnTo>
                    <a:pt x="34" y="21"/>
                  </a:lnTo>
                  <a:lnTo>
                    <a:pt x="32" y="21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29" y="27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29" y="31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6" y="34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6" y="38"/>
                  </a:lnTo>
                  <a:lnTo>
                    <a:pt x="25" y="38"/>
                  </a:lnTo>
                  <a:lnTo>
                    <a:pt x="25" y="41"/>
                  </a:lnTo>
                  <a:lnTo>
                    <a:pt x="24" y="41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7"/>
                  </a:lnTo>
                  <a:lnTo>
                    <a:pt x="22" y="47"/>
                  </a:lnTo>
                  <a:lnTo>
                    <a:pt x="22" y="50"/>
                  </a:lnTo>
                  <a:lnTo>
                    <a:pt x="21" y="50"/>
                  </a:lnTo>
                  <a:lnTo>
                    <a:pt x="21" y="52"/>
                  </a:lnTo>
                  <a:lnTo>
                    <a:pt x="19" y="52"/>
                  </a:lnTo>
                  <a:lnTo>
                    <a:pt x="19" y="55"/>
                  </a:lnTo>
                  <a:lnTo>
                    <a:pt x="19" y="55"/>
                  </a:lnTo>
                  <a:lnTo>
                    <a:pt x="19" y="59"/>
                  </a:lnTo>
                  <a:lnTo>
                    <a:pt x="18" y="59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5" y="72"/>
                  </a:lnTo>
                  <a:lnTo>
                    <a:pt x="13" y="72"/>
                  </a:lnTo>
                  <a:lnTo>
                    <a:pt x="13" y="77"/>
                  </a:lnTo>
                  <a:lnTo>
                    <a:pt x="13" y="77"/>
                  </a:lnTo>
                  <a:lnTo>
                    <a:pt x="13" y="79"/>
                  </a:lnTo>
                  <a:lnTo>
                    <a:pt x="12" y="79"/>
                  </a:lnTo>
                  <a:lnTo>
                    <a:pt x="12" y="82"/>
                  </a:lnTo>
                  <a:lnTo>
                    <a:pt x="10" y="82"/>
                  </a:lnTo>
                  <a:lnTo>
                    <a:pt x="10" y="87"/>
                  </a:lnTo>
                  <a:lnTo>
                    <a:pt x="10" y="87"/>
                  </a:lnTo>
                  <a:lnTo>
                    <a:pt x="10" y="91"/>
                  </a:lnTo>
                  <a:lnTo>
                    <a:pt x="9" y="91"/>
                  </a:lnTo>
                  <a:lnTo>
                    <a:pt x="9" y="96"/>
                  </a:lnTo>
                  <a:lnTo>
                    <a:pt x="7" y="96"/>
                  </a:lnTo>
                  <a:lnTo>
                    <a:pt x="7" y="222"/>
                  </a:lnTo>
                  <a:lnTo>
                    <a:pt x="6" y="222"/>
                  </a:lnTo>
                  <a:lnTo>
                    <a:pt x="6" y="223"/>
                  </a:lnTo>
                  <a:lnTo>
                    <a:pt x="3" y="224"/>
                  </a:lnTo>
                  <a:lnTo>
                    <a:pt x="3" y="224"/>
                  </a:lnTo>
                  <a:lnTo>
                    <a:pt x="2" y="226"/>
                  </a:lnTo>
                  <a:lnTo>
                    <a:pt x="2" y="227"/>
                  </a:lnTo>
                  <a:lnTo>
                    <a:pt x="0" y="227"/>
                  </a:lnTo>
                  <a:lnTo>
                    <a:pt x="0" y="230"/>
                  </a:lnTo>
                  <a:lnTo>
                    <a:pt x="0" y="230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0" y="245"/>
                  </a:lnTo>
                  <a:lnTo>
                    <a:pt x="2" y="245"/>
                  </a:lnTo>
                  <a:lnTo>
                    <a:pt x="2" y="246"/>
                  </a:lnTo>
                  <a:lnTo>
                    <a:pt x="108" y="245"/>
                  </a:lnTo>
                  <a:lnTo>
                    <a:pt x="108" y="242"/>
                  </a:lnTo>
                  <a:lnTo>
                    <a:pt x="107" y="242"/>
                  </a:lnTo>
                  <a:lnTo>
                    <a:pt x="107" y="239"/>
                  </a:lnTo>
                  <a:lnTo>
                    <a:pt x="107" y="239"/>
                  </a:lnTo>
                  <a:lnTo>
                    <a:pt x="107" y="223"/>
                  </a:lnTo>
                  <a:lnTo>
                    <a:pt x="107" y="223"/>
                  </a:lnTo>
                  <a:lnTo>
                    <a:pt x="107" y="219"/>
                  </a:lnTo>
                  <a:lnTo>
                    <a:pt x="108" y="219"/>
                  </a:lnTo>
                  <a:lnTo>
                    <a:pt x="108" y="216"/>
                  </a:lnTo>
                  <a:lnTo>
                    <a:pt x="110" y="216"/>
                  </a:lnTo>
                  <a:lnTo>
                    <a:pt x="110" y="211"/>
                  </a:lnTo>
                  <a:lnTo>
                    <a:pt x="110" y="211"/>
                  </a:lnTo>
                  <a:lnTo>
                    <a:pt x="110" y="208"/>
                  </a:lnTo>
                  <a:lnTo>
                    <a:pt x="111" y="208"/>
                  </a:lnTo>
                  <a:lnTo>
                    <a:pt x="111" y="207"/>
                  </a:lnTo>
                  <a:lnTo>
                    <a:pt x="113" y="205"/>
                  </a:lnTo>
                  <a:lnTo>
                    <a:pt x="113" y="204"/>
                  </a:lnTo>
                  <a:lnTo>
                    <a:pt x="114" y="204"/>
                  </a:lnTo>
                  <a:lnTo>
                    <a:pt x="114" y="201"/>
                  </a:lnTo>
                  <a:lnTo>
                    <a:pt x="117" y="201"/>
                  </a:lnTo>
                  <a:lnTo>
                    <a:pt x="117" y="198"/>
                  </a:lnTo>
                  <a:lnTo>
                    <a:pt x="119" y="198"/>
                  </a:lnTo>
                  <a:lnTo>
                    <a:pt x="119" y="197"/>
                  </a:lnTo>
                  <a:lnTo>
                    <a:pt x="120" y="195"/>
                  </a:lnTo>
                  <a:lnTo>
                    <a:pt x="120" y="194"/>
                  </a:lnTo>
                  <a:lnTo>
                    <a:pt x="123" y="194"/>
                  </a:lnTo>
                  <a:lnTo>
                    <a:pt x="123" y="192"/>
                  </a:lnTo>
                  <a:lnTo>
                    <a:pt x="125" y="191"/>
                  </a:lnTo>
                  <a:lnTo>
                    <a:pt x="125" y="191"/>
                  </a:lnTo>
                  <a:lnTo>
                    <a:pt x="126" y="189"/>
                  </a:lnTo>
                  <a:lnTo>
                    <a:pt x="126" y="188"/>
                  </a:lnTo>
                  <a:lnTo>
                    <a:pt x="129" y="188"/>
                  </a:lnTo>
                  <a:lnTo>
                    <a:pt x="129" y="188"/>
                  </a:lnTo>
                  <a:lnTo>
                    <a:pt x="130" y="186"/>
                  </a:lnTo>
                  <a:lnTo>
                    <a:pt x="133" y="185"/>
                  </a:lnTo>
                  <a:lnTo>
                    <a:pt x="133" y="185"/>
                  </a:lnTo>
                  <a:lnTo>
                    <a:pt x="135" y="185"/>
                  </a:lnTo>
                  <a:lnTo>
                    <a:pt x="135" y="183"/>
                  </a:lnTo>
                  <a:lnTo>
                    <a:pt x="136" y="183"/>
                  </a:lnTo>
                  <a:lnTo>
                    <a:pt x="136" y="182"/>
                  </a:lnTo>
                  <a:lnTo>
                    <a:pt x="139" y="182"/>
                  </a:lnTo>
                  <a:lnTo>
                    <a:pt x="139" y="181"/>
                  </a:lnTo>
                  <a:lnTo>
                    <a:pt x="141" y="181"/>
                  </a:lnTo>
                  <a:lnTo>
                    <a:pt x="142" y="179"/>
                  </a:lnTo>
                  <a:lnTo>
                    <a:pt x="145" y="178"/>
                  </a:lnTo>
                  <a:lnTo>
                    <a:pt x="147" y="178"/>
                  </a:lnTo>
                  <a:lnTo>
                    <a:pt x="147" y="178"/>
                  </a:lnTo>
                  <a:lnTo>
                    <a:pt x="151" y="178"/>
                  </a:lnTo>
                  <a:lnTo>
                    <a:pt x="151" y="176"/>
                  </a:lnTo>
                  <a:lnTo>
                    <a:pt x="154" y="176"/>
                  </a:lnTo>
                  <a:lnTo>
                    <a:pt x="154" y="175"/>
                  </a:lnTo>
                  <a:lnTo>
                    <a:pt x="262" y="175"/>
                  </a:lnTo>
                  <a:lnTo>
                    <a:pt x="262" y="175"/>
                  </a:lnTo>
                  <a:lnTo>
                    <a:pt x="268" y="175"/>
                  </a:lnTo>
                  <a:lnTo>
                    <a:pt x="268" y="173"/>
                  </a:lnTo>
                  <a:lnTo>
                    <a:pt x="916" y="173"/>
                  </a:lnTo>
                  <a:lnTo>
                    <a:pt x="916" y="128"/>
                  </a:lnTo>
                  <a:lnTo>
                    <a:pt x="916" y="128"/>
                  </a:lnTo>
                  <a:lnTo>
                    <a:pt x="916" y="101"/>
                  </a:lnTo>
                  <a:lnTo>
                    <a:pt x="914" y="101"/>
                  </a:lnTo>
                  <a:lnTo>
                    <a:pt x="914" y="81"/>
                  </a:lnTo>
                  <a:lnTo>
                    <a:pt x="913" y="81"/>
                  </a:lnTo>
                  <a:lnTo>
                    <a:pt x="913" y="72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0" y="72"/>
                  </a:lnTo>
                  <a:lnTo>
                    <a:pt x="908" y="69"/>
                  </a:lnTo>
                  <a:lnTo>
                    <a:pt x="907" y="69"/>
                  </a:lnTo>
                  <a:lnTo>
                    <a:pt x="907" y="69"/>
                  </a:lnTo>
                  <a:lnTo>
                    <a:pt x="904" y="69"/>
                  </a:lnTo>
                  <a:lnTo>
                    <a:pt x="902" y="66"/>
                  </a:lnTo>
                  <a:lnTo>
                    <a:pt x="901" y="66"/>
                  </a:lnTo>
                  <a:lnTo>
                    <a:pt x="901" y="65"/>
                  </a:lnTo>
                  <a:lnTo>
                    <a:pt x="898" y="65"/>
                  </a:lnTo>
                  <a:lnTo>
                    <a:pt x="897" y="63"/>
                  </a:lnTo>
                  <a:lnTo>
                    <a:pt x="895" y="63"/>
                  </a:lnTo>
                  <a:lnTo>
                    <a:pt x="895" y="62"/>
                  </a:lnTo>
                  <a:lnTo>
                    <a:pt x="892" y="62"/>
                  </a:lnTo>
                  <a:lnTo>
                    <a:pt x="892" y="62"/>
                  </a:lnTo>
                  <a:lnTo>
                    <a:pt x="889" y="62"/>
                  </a:lnTo>
                  <a:lnTo>
                    <a:pt x="889" y="60"/>
                  </a:lnTo>
                  <a:lnTo>
                    <a:pt x="886" y="60"/>
                  </a:lnTo>
                  <a:lnTo>
                    <a:pt x="886" y="59"/>
                  </a:lnTo>
                  <a:lnTo>
                    <a:pt x="885" y="59"/>
                  </a:lnTo>
                  <a:lnTo>
                    <a:pt x="885" y="59"/>
                  </a:lnTo>
                  <a:lnTo>
                    <a:pt x="882" y="59"/>
                  </a:lnTo>
                  <a:lnTo>
                    <a:pt x="882" y="57"/>
                  </a:lnTo>
                  <a:lnTo>
                    <a:pt x="876" y="57"/>
                  </a:lnTo>
                  <a:lnTo>
                    <a:pt x="876" y="56"/>
                  </a:lnTo>
                  <a:lnTo>
                    <a:pt x="873" y="56"/>
                  </a:lnTo>
                  <a:lnTo>
                    <a:pt x="873" y="55"/>
                  </a:lnTo>
                  <a:lnTo>
                    <a:pt x="867" y="55"/>
                  </a:lnTo>
                  <a:lnTo>
                    <a:pt x="867" y="55"/>
                  </a:lnTo>
                  <a:lnTo>
                    <a:pt x="863" y="55"/>
                  </a:lnTo>
                  <a:lnTo>
                    <a:pt x="863" y="53"/>
                  </a:lnTo>
                  <a:lnTo>
                    <a:pt x="851" y="53"/>
                  </a:lnTo>
                  <a:lnTo>
                    <a:pt x="850" y="52"/>
                  </a:lnTo>
                  <a:lnTo>
                    <a:pt x="848" y="52"/>
                  </a:lnTo>
                  <a:lnTo>
                    <a:pt x="847" y="49"/>
                  </a:lnTo>
                  <a:lnTo>
                    <a:pt x="847" y="49"/>
                  </a:lnTo>
                  <a:lnTo>
                    <a:pt x="847" y="47"/>
                  </a:lnTo>
                  <a:lnTo>
                    <a:pt x="845" y="47"/>
                  </a:lnTo>
                  <a:lnTo>
                    <a:pt x="844" y="44"/>
                  </a:lnTo>
                  <a:lnTo>
                    <a:pt x="844" y="44"/>
                  </a:lnTo>
                  <a:lnTo>
                    <a:pt x="842" y="43"/>
                  </a:lnTo>
                  <a:lnTo>
                    <a:pt x="841" y="43"/>
                  </a:lnTo>
                  <a:lnTo>
                    <a:pt x="841" y="41"/>
                  </a:lnTo>
                  <a:lnTo>
                    <a:pt x="839" y="41"/>
                  </a:lnTo>
                  <a:lnTo>
                    <a:pt x="838" y="38"/>
                  </a:lnTo>
                  <a:lnTo>
                    <a:pt x="838" y="38"/>
                  </a:lnTo>
                  <a:lnTo>
                    <a:pt x="838" y="37"/>
                  </a:lnTo>
                  <a:lnTo>
                    <a:pt x="836" y="37"/>
                  </a:lnTo>
                  <a:lnTo>
                    <a:pt x="835" y="34"/>
                  </a:lnTo>
                  <a:lnTo>
                    <a:pt x="835" y="34"/>
                  </a:lnTo>
                  <a:lnTo>
                    <a:pt x="834" y="33"/>
                  </a:lnTo>
                  <a:lnTo>
                    <a:pt x="832" y="33"/>
                  </a:lnTo>
                  <a:lnTo>
                    <a:pt x="831" y="31"/>
                  </a:lnTo>
                  <a:lnTo>
                    <a:pt x="831" y="31"/>
                  </a:lnTo>
                  <a:lnTo>
                    <a:pt x="829" y="28"/>
                  </a:lnTo>
                  <a:lnTo>
                    <a:pt x="828" y="28"/>
                  </a:lnTo>
                  <a:lnTo>
                    <a:pt x="828" y="27"/>
                  </a:lnTo>
                  <a:lnTo>
                    <a:pt x="828" y="27"/>
                  </a:lnTo>
                  <a:lnTo>
                    <a:pt x="826" y="24"/>
                  </a:lnTo>
                  <a:lnTo>
                    <a:pt x="825" y="24"/>
                  </a:lnTo>
                  <a:lnTo>
                    <a:pt x="825" y="22"/>
                  </a:lnTo>
                  <a:lnTo>
                    <a:pt x="823" y="22"/>
                  </a:lnTo>
                  <a:lnTo>
                    <a:pt x="822" y="21"/>
                  </a:lnTo>
                  <a:lnTo>
                    <a:pt x="822" y="21"/>
                  </a:lnTo>
                  <a:lnTo>
                    <a:pt x="820" y="18"/>
                  </a:lnTo>
                  <a:lnTo>
                    <a:pt x="819" y="18"/>
                  </a:lnTo>
                  <a:lnTo>
                    <a:pt x="817" y="16"/>
                  </a:lnTo>
                  <a:lnTo>
                    <a:pt x="817" y="14"/>
                  </a:lnTo>
                  <a:lnTo>
                    <a:pt x="816" y="14"/>
                  </a:lnTo>
                  <a:lnTo>
                    <a:pt x="815" y="12"/>
                  </a:lnTo>
                  <a:lnTo>
                    <a:pt x="815" y="12"/>
                  </a:lnTo>
                  <a:lnTo>
                    <a:pt x="813" y="11"/>
                  </a:lnTo>
                  <a:lnTo>
                    <a:pt x="812" y="11"/>
                  </a:lnTo>
                  <a:lnTo>
                    <a:pt x="812" y="8"/>
                  </a:lnTo>
                  <a:lnTo>
                    <a:pt x="810" y="8"/>
                  </a:lnTo>
                  <a:lnTo>
                    <a:pt x="809" y="6"/>
                  </a:lnTo>
                  <a:lnTo>
                    <a:pt x="809" y="3"/>
                  </a:lnTo>
                  <a:lnTo>
                    <a:pt x="807" y="3"/>
                  </a:lnTo>
                  <a:lnTo>
                    <a:pt x="806" y="2"/>
                  </a:lnTo>
                  <a:lnTo>
                    <a:pt x="806" y="2"/>
                  </a:lnTo>
                  <a:lnTo>
                    <a:pt x="804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845000" y="2345040"/>
              <a:ext cx="518400" cy="56160"/>
            </a:xfrm>
            <a:custGeom>
              <a:avLst/>
              <a:gdLst/>
              <a:ahLst/>
              <a:rect l="l" t="t" r="r" b="b"/>
              <a:pathLst>
                <a:path w="627" h="72">
                  <a:moveTo>
                    <a:pt x="0" y="0"/>
                  </a:moveTo>
                  <a:lnTo>
                    <a:pt x="0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7" y="18"/>
                  </a:lnTo>
                  <a:lnTo>
                    <a:pt x="29" y="18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3" y="25"/>
                  </a:lnTo>
                  <a:lnTo>
                    <a:pt x="35" y="27"/>
                  </a:lnTo>
                  <a:lnTo>
                    <a:pt x="35" y="27"/>
                  </a:lnTo>
                  <a:lnTo>
                    <a:pt x="35" y="28"/>
                  </a:lnTo>
                  <a:lnTo>
                    <a:pt x="36" y="28"/>
                  </a:lnTo>
                  <a:lnTo>
                    <a:pt x="36" y="31"/>
                  </a:lnTo>
                  <a:lnTo>
                    <a:pt x="38" y="31"/>
                  </a:lnTo>
                  <a:lnTo>
                    <a:pt x="38" y="32"/>
                  </a:lnTo>
                  <a:lnTo>
                    <a:pt x="39" y="35"/>
                  </a:lnTo>
                  <a:lnTo>
                    <a:pt x="41" y="37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1" y="44"/>
                  </a:lnTo>
                  <a:lnTo>
                    <a:pt x="42" y="44"/>
                  </a:lnTo>
                  <a:lnTo>
                    <a:pt x="42" y="47"/>
                  </a:lnTo>
                  <a:lnTo>
                    <a:pt x="44" y="47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4" y="69"/>
                  </a:lnTo>
                  <a:lnTo>
                    <a:pt x="44" y="69"/>
                  </a:lnTo>
                  <a:lnTo>
                    <a:pt x="44" y="72"/>
                  </a:lnTo>
                  <a:lnTo>
                    <a:pt x="405" y="72"/>
                  </a:lnTo>
                  <a:lnTo>
                    <a:pt x="405" y="51"/>
                  </a:lnTo>
                  <a:lnTo>
                    <a:pt x="407" y="51"/>
                  </a:lnTo>
                  <a:lnTo>
                    <a:pt x="407" y="46"/>
                  </a:lnTo>
                  <a:lnTo>
                    <a:pt x="407" y="46"/>
                  </a:lnTo>
                  <a:lnTo>
                    <a:pt x="407" y="43"/>
                  </a:lnTo>
                  <a:lnTo>
                    <a:pt x="408" y="43"/>
                  </a:lnTo>
                  <a:lnTo>
                    <a:pt x="408" y="40"/>
                  </a:lnTo>
                  <a:lnTo>
                    <a:pt x="410" y="40"/>
                  </a:lnTo>
                  <a:lnTo>
                    <a:pt x="410" y="37"/>
                  </a:lnTo>
                  <a:lnTo>
                    <a:pt x="410" y="37"/>
                  </a:lnTo>
                  <a:lnTo>
                    <a:pt x="410" y="34"/>
                  </a:lnTo>
                  <a:lnTo>
                    <a:pt x="411" y="34"/>
                  </a:lnTo>
                  <a:lnTo>
                    <a:pt x="411" y="31"/>
                  </a:lnTo>
                  <a:lnTo>
                    <a:pt x="413" y="31"/>
                  </a:lnTo>
                  <a:lnTo>
                    <a:pt x="413" y="29"/>
                  </a:lnTo>
                  <a:lnTo>
                    <a:pt x="413" y="29"/>
                  </a:lnTo>
                  <a:lnTo>
                    <a:pt x="413" y="28"/>
                  </a:lnTo>
                  <a:lnTo>
                    <a:pt x="414" y="28"/>
                  </a:lnTo>
                  <a:lnTo>
                    <a:pt x="414" y="25"/>
                  </a:lnTo>
                  <a:lnTo>
                    <a:pt x="416" y="25"/>
                  </a:lnTo>
                  <a:lnTo>
                    <a:pt x="416" y="24"/>
                  </a:lnTo>
                  <a:lnTo>
                    <a:pt x="419" y="22"/>
                  </a:lnTo>
                  <a:lnTo>
                    <a:pt x="419" y="21"/>
                  </a:lnTo>
                  <a:lnTo>
                    <a:pt x="420" y="21"/>
                  </a:lnTo>
                  <a:lnTo>
                    <a:pt x="420" y="19"/>
                  </a:lnTo>
                  <a:lnTo>
                    <a:pt x="423" y="18"/>
                  </a:lnTo>
                  <a:lnTo>
                    <a:pt x="423" y="18"/>
                  </a:lnTo>
                  <a:lnTo>
                    <a:pt x="424" y="16"/>
                  </a:lnTo>
                  <a:lnTo>
                    <a:pt x="424" y="15"/>
                  </a:lnTo>
                  <a:lnTo>
                    <a:pt x="426" y="15"/>
                  </a:lnTo>
                  <a:lnTo>
                    <a:pt x="426" y="13"/>
                  </a:lnTo>
                  <a:lnTo>
                    <a:pt x="429" y="13"/>
                  </a:lnTo>
                  <a:lnTo>
                    <a:pt x="429" y="12"/>
                  </a:lnTo>
                  <a:lnTo>
                    <a:pt x="430" y="12"/>
                  </a:lnTo>
                  <a:lnTo>
                    <a:pt x="430" y="12"/>
                  </a:lnTo>
                  <a:lnTo>
                    <a:pt x="432" y="12"/>
                  </a:lnTo>
                  <a:lnTo>
                    <a:pt x="432" y="10"/>
                  </a:lnTo>
                  <a:lnTo>
                    <a:pt x="435" y="9"/>
                  </a:lnTo>
                  <a:lnTo>
                    <a:pt x="436" y="9"/>
                  </a:lnTo>
                  <a:lnTo>
                    <a:pt x="436" y="8"/>
                  </a:lnTo>
                  <a:lnTo>
                    <a:pt x="439" y="8"/>
                  </a:lnTo>
                  <a:lnTo>
                    <a:pt x="439" y="8"/>
                  </a:lnTo>
                  <a:lnTo>
                    <a:pt x="442" y="8"/>
                  </a:lnTo>
                  <a:lnTo>
                    <a:pt x="442" y="6"/>
                  </a:lnTo>
                  <a:lnTo>
                    <a:pt x="448" y="6"/>
                  </a:lnTo>
                  <a:lnTo>
                    <a:pt x="448" y="5"/>
                  </a:lnTo>
                  <a:lnTo>
                    <a:pt x="454" y="5"/>
                  </a:lnTo>
                  <a:lnTo>
                    <a:pt x="454" y="5"/>
                  </a:lnTo>
                  <a:lnTo>
                    <a:pt x="627" y="5"/>
                  </a:lnTo>
                  <a:lnTo>
                    <a:pt x="6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748880" y="2345040"/>
              <a:ext cx="71280" cy="14040"/>
            </a:xfrm>
            <a:custGeom>
              <a:avLst/>
              <a:gdLst/>
              <a:ahLst/>
              <a:rect l="l" t="t" r="r" b="b"/>
              <a:pathLst>
                <a:path w="86" h="17">
                  <a:moveTo>
                    <a:pt x="0" y="0"/>
                  </a:moveTo>
                  <a:lnTo>
                    <a:pt x="0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6" y="13"/>
                  </a:lnTo>
                  <a:lnTo>
                    <a:pt x="28" y="13"/>
                  </a:lnTo>
                  <a:lnTo>
                    <a:pt x="29" y="14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61" y="17"/>
                  </a:lnTo>
                  <a:lnTo>
                    <a:pt x="61" y="16"/>
                  </a:lnTo>
                  <a:lnTo>
                    <a:pt x="63" y="16"/>
                  </a:lnTo>
                  <a:lnTo>
                    <a:pt x="63" y="14"/>
                  </a:lnTo>
                  <a:lnTo>
                    <a:pt x="66" y="13"/>
                  </a:lnTo>
                  <a:lnTo>
                    <a:pt x="66" y="13"/>
                  </a:lnTo>
                  <a:lnTo>
                    <a:pt x="67" y="11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8"/>
                  </a:lnTo>
                  <a:lnTo>
                    <a:pt x="73" y="8"/>
                  </a:lnTo>
                  <a:lnTo>
                    <a:pt x="73" y="7"/>
                  </a:lnTo>
                  <a:lnTo>
                    <a:pt x="76" y="6"/>
                  </a:lnTo>
                  <a:lnTo>
                    <a:pt x="76" y="6"/>
                  </a:lnTo>
                  <a:lnTo>
                    <a:pt x="78" y="6"/>
                  </a:lnTo>
                  <a:lnTo>
                    <a:pt x="78" y="4"/>
                  </a:lnTo>
                  <a:lnTo>
                    <a:pt x="79" y="4"/>
                  </a:lnTo>
                  <a:lnTo>
                    <a:pt x="79" y="3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83" y="3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239200" y="2347920"/>
              <a:ext cx="124200" cy="53280"/>
            </a:xfrm>
            <a:custGeom>
              <a:avLst/>
              <a:gdLst/>
              <a:ahLst/>
              <a:rect l="l" t="t" r="r" b="b"/>
              <a:pathLst>
                <a:path w="151" h="67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5" y="13"/>
                  </a:lnTo>
                  <a:lnTo>
                    <a:pt x="26" y="13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30" y="16"/>
                  </a:lnTo>
                  <a:lnTo>
                    <a:pt x="30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3" y="24"/>
                  </a:lnTo>
                  <a:lnTo>
                    <a:pt x="35" y="24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9" y="38"/>
                  </a:lnTo>
                  <a:lnTo>
                    <a:pt x="41" y="38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41" y="44"/>
                  </a:lnTo>
                  <a:lnTo>
                    <a:pt x="42" y="44"/>
                  </a:lnTo>
                  <a:lnTo>
                    <a:pt x="42" y="51"/>
                  </a:lnTo>
                  <a:lnTo>
                    <a:pt x="44" y="51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44" y="67"/>
                  </a:lnTo>
                  <a:lnTo>
                    <a:pt x="151" y="67"/>
                  </a:lnTo>
                  <a:lnTo>
                    <a:pt x="151" y="54"/>
                  </a:lnTo>
                  <a:lnTo>
                    <a:pt x="151" y="54"/>
                  </a:lnTo>
                  <a:lnTo>
                    <a:pt x="149" y="51"/>
                  </a:lnTo>
                  <a:lnTo>
                    <a:pt x="148" y="49"/>
                  </a:lnTo>
                  <a:lnTo>
                    <a:pt x="146" y="49"/>
                  </a:lnTo>
                  <a:lnTo>
                    <a:pt x="146" y="46"/>
                  </a:lnTo>
                  <a:lnTo>
                    <a:pt x="146" y="32"/>
                  </a:lnTo>
                  <a:lnTo>
                    <a:pt x="146" y="32"/>
                  </a:lnTo>
                  <a:lnTo>
                    <a:pt x="146" y="27"/>
                  </a:lnTo>
                  <a:lnTo>
                    <a:pt x="148" y="27"/>
                  </a:lnTo>
                  <a:lnTo>
                    <a:pt x="148" y="23"/>
                  </a:lnTo>
                  <a:lnTo>
                    <a:pt x="149" y="23"/>
                  </a:lnTo>
                  <a:lnTo>
                    <a:pt x="149" y="17"/>
                  </a:lnTo>
                  <a:lnTo>
                    <a:pt x="151" y="17"/>
                  </a:lnTo>
                  <a:lnTo>
                    <a:pt x="151" y="13"/>
                  </a:lnTo>
                  <a:lnTo>
                    <a:pt x="151" y="13"/>
                  </a:lnTo>
                  <a:lnTo>
                    <a:pt x="1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06680" y="2205000"/>
              <a:ext cx="756720" cy="197640"/>
            </a:xfrm>
            <a:custGeom>
              <a:avLst/>
              <a:gdLst/>
              <a:ahLst/>
              <a:rect l="l" t="t" r="r" b="b"/>
              <a:pathLst>
                <a:path w="916" h="246">
                  <a:moveTo>
                    <a:pt x="333" y="245"/>
                  </a:moveTo>
                  <a:lnTo>
                    <a:pt x="694" y="245"/>
                  </a:lnTo>
                  <a:lnTo>
                    <a:pt x="694" y="226"/>
                  </a:lnTo>
                  <a:lnTo>
                    <a:pt x="696" y="223"/>
                  </a:lnTo>
                  <a:lnTo>
                    <a:pt x="696" y="220"/>
                  </a:lnTo>
                  <a:lnTo>
                    <a:pt x="696" y="217"/>
                  </a:lnTo>
                  <a:lnTo>
                    <a:pt x="697" y="214"/>
                  </a:lnTo>
                  <a:lnTo>
                    <a:pt x="699" y="211"/>
                  </a:lnTo>
                  <a:lnTo>
                    <a:pt x="699" y="207"/>
                  </a:lnTo>
                  <a:lnTo>
                    <a:pt x="702" y="204"/>
                  </a:lnTo>
                  <a:lnTo>
                    <a:pt x="702" y="201"/>
                  </a:lnTo>
                  <a:lnTo>
                    <a:pt x="705" y="198"/>
                  </a:lnTo>
                  <a:lnTo>
                    <a:pt x="715" y="186"/>
                  </a:lnTo>
                  <a:lnTo>
                    <a:pt x="719" y="185"/>
                  </a:lnTo>
                  <a:lnTo>
                    <a:pt x="722" y="182"/>
                  </a:lnTo>
                  <a:lnTo>
                    <a:pt x="728" y="181"/>
                  </a:lnTo>
                  <a:lnTo>
                    <a:pt x="731" y="179"/>
                  </a:lnTo>
                  <a:lnTo>
                    <a:pt x="737" y="178"/>
                  </a:lnTo>
                  <a:lnTo>
                    <a:pt x="743" y="178"/>
                  </a:lnTo>
                  <a:lnTo>
                    <a:pt x="749" y="176"/>
                  </a:lnTo>
                  <a:lnTo>
                    <a:pt x="760" y="176"/>
                  </a:lnTo>
                  <a:lnTo>
                    <a:pt x="765" y="178"/>
                  </a:lnTo>
                  <a:lnTo>
                    <a:pt x="769" y="178"/>
                  </a:lnTo>
                  <a:lnTo>
                    <a:pt x="773" y="179"/>
                  </a:lnTo>
                  <a:lnTo>
                    <a:pt x="776" y="181"/>
                  </a:lnTo>
                  <a:lnTo>
                    <a:pt x="781" y="182"/>
                  </a:lnTo>
                  <a:lnTo>
                    <a:pt x="784" y="185"/>
                  </a:lnTo>
                  <a:lnTo>
                    <a:pt x="787" y="186"/>
                  </a:lnTo>
                  <a:lnTo>
                    <a:pt x="790" y="189"/>
                  </a:lnTo>
                  <a:lnTo>
                    <a:pt x="793" y="192"/>
                  </a:lnTo>
                  <a:lnTo>
                    <a:pt x="795" y="194"/>
                  </a:lnTo>
                  <a:lnTo>
                    <a:pt x="797" y="198"/>
                  </a:lnTo>
                  <a:lnTo>
                    <a:pt x="798" y="201"/>
                  </a:lnTo>
                  <a:lnTo>
                    <a:pt x="800" y="204"/>
                  </a:lnTo>
                  <a:lnTo>
                    <a:pt x="801" y="207"/>
                  </a:lnTo>
                  <a:lnTo>
                    <a:pt x="803" y="211"/>
                  </a:lnTo>
                  <a:lnTo>
                    <a:pt x="804" y="214"/>
                  </a:lnTo>
                  <a:lnTo>
                    <a:pt x="806" y="217"/>
                  </a:lnTo>
                  <a:lnTo>
                    <a:pt x="806" y="220"/>
                  </a:lnTo>
                  <a:lnTo>
                    <a:pt x="807" y="223"/>
                  </a:lnTo>
                  <a:lnTo>
                    <a:pt x="807" y="226"/>
                  </a:lnTo>
                  <a:lnTo>
                    <a:pt x="809" y="229"/>
                  </a:lnTo>
                  <a:lnTo>
                    <a:pt x="809" y="235"/>
                  </a:lnTo>
                  <a:lnTo>
                    <a:pt x="809" y="236"/>
                  </a:lnTo>
                  <a:lnTo>
                    <a:pt x="809" y="245"/>
                  </a:lnTo>
                  <a:lnTo>
                    <a:pt x="916" y="245"/>
                  </a:lnTo>
                  <a:lnTo>
                    <a:pt x="916" y="232"/>
                  </a:lnTo>
                  <a:lnTo>
                    <a:pt x="911" y="224"/>
                  </a:lnTo>
                  <a:lnTo>
                    <a:pt x="911" y="211"/>
                  </a:lnTo>
                  <a:lnTo>
                    <a:pt x="916" y="188"/>
                  </a:lnTo>
                  <a:lnTo>
                    <a:pt x="916" y="140"/>
                  </a:lnTo>
                  <a:lnTo>
                    <a:pt x="914" y="88"/>
                  </a:lnTo>
                  <a:lnTo>
                    <a:pt x="913" y="72"/>
                  </a:lnTo>
                  <a:lnTo>
                    <a:pt x="910" y="71"/>
                  </a:lnTo>
                  <a:lnTo>
                    <a:pt x="907" y="69"/>
                  </a:lnTo>
                  <a:lnTo>
                    <a:pt x="904" y="68"/>
                  </a:lnTo>
                  <a:lnTo>
                    <a:pt x="901" y="65"/>
                  </a:lnTo>
                  <a:lnTo>
                    <a:pt x="898" y="65"/>
                  </a:lnTo>
                  <a:lnTo>
                    <a:pt x="895" y="62"/>
                  </a:lnTo>
                  <a:lnTo>
                    <a:pt x="892" y="62"/>
                  </a:lnTo>
                  <a:lnTo>
                    <a:pt x="889" y="60"/>
                  </a:lnTo>
                  <a:lnTo>
                    <a:pt x="886" y="59"/>
                  </a:lnTo>
                  <a:lnTo>
                    <a:pt x="885" y="59"/>
                  </a:lnTo>
                  <a:lnTo>
                    <a:pt x="882" y="57"/>
                  </a:lnTo>
                  <a:lnTo>
                    <a:pt x="879" y="57"/>
                  </a:lnTo>
                  <a:lnTo>
                    <a:pt x="876" y="56"/>
                  </a:lnTo>
                  <a:lnTo>
                    <a:pt x="875" y="56"/>
                  </a:lnTo>
                  <a:lnTo>
                    <a:pt x="873" y="55"/>
                  </a:lnTo>
                  <a:lnTo>
                    <a:pt x="870" y="55"/>
                  </a:lnTo>
                  <a:lnTo>
                    <a:pt x="867" y="55"/>
                  </a:lnTo>
                  <a:lnTo>
                    <a:pt x="864" y="55"/>
                  </a:lnTo>
                  <a:lnTo>
                    <a:pt x="863" y="53"/>
                  </a:lnTo>
                  <a:lnTo>
                    <a:pt x="851" y="53"/>
                  </a:lnTo>
                  <a:lnTo>
                    <a:pt x="804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4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8" y="5"/>
                  </a:lnTo>
                  <a:lnTo>
                    <a:pt x="47" y="6"/>
                  </a:lnTo>
                  <a:lnTo>
                    <a:pt x="44" y="9"/>
                  </a:lnTo>
                  <a:lnTo>
                    <a:pt x="43" y="11"/>
                  </a:lnTo>
                  <a:lnTo>
                    <a:pt x="40" y="14"/>
                  </a:lnTo>
                  <a:lnTo>
                    <a:pt x="38" y="15"/>
                  </a:lnTo>
                  <a:lnTo>
                    <a:pt x="34" y="19"/>
                  </a:lnTo>
                  <a:lnTo>
                    <a:pt x="32" y="21"/>
                  </a:lnTo>
                  <a:lnTo>
                    <a:pt x="32" y="24"/>
                  </a:lnTo>
                  <a:lnTo>
                    <a:pt x="29" y="27"/>
                  </a:lnTo>
                  <a:lnTo>
                    <a:pt x="29" y="30"/>
                  </a:lnTo>
                  <a:lnTo>
                    <a:pt x="28" y="33"/>
                  </a:lnTo>
                  <a:lnTo>
                    <a:pt x="26" y="35"/>
                  </a:lnTo>
                  <a:lnTo>
                    <a:pt x="25" y="38"/>
                  </a:lnTo>
                  <a:lnTo>
                    <a:pt x="24" y="41"/>
                  </a:lnTo>
                  <a:lnTo>
                    <a:pt x="24" y="44"/>
                  </a:lnTo>
                  <a:lnTo>
                    <a:pt x="22" y="49"/>
                  </a:lnTo>
                  <a:lnTo>
                    <a:pt x="21" y="52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18" y="59"/>
                  </a:lnTo>
                  <a:lnTo>
                    <a:pt x="16" y="62"/>
                  </a:lnTo>
                  <a:lnTo>
                    <a:pt x="16" y="65"/>
                  </a:lnTo>
                  <a:lnTo>
                    <a:pt x="16" y="68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3" y="75"/>
                  </a:lnTo>
                  <a:lnTo>
                    <a:pt x="13" y="78"/>
                  </a:lnTo>
                  <a:lnTo>
                    <a:pt x="12" y="79"/>
                  </a:lnTo>
                  <a:lnTo>
                    <a:pt x="12" y="82"/>
                  </a:lnTo>
                  <a:lnTo>
                    <a:pt x="10" y="84"/>
                  </a:lnTo>
                  <a:lnTo>
                    <a:pt x="10" y="85"/>
                  </a:lnTo>
                  <a:lnTo>
                    <a:pt x="10" y="88"/>
                  </a:lnTo>
                  <a:lnTo>
                    <a:pt x="10" y="90"/>
                  </a:lnTo>
                  <a:lnTo>
                    <a:pt x="9" y="91"/>
                  </a:lnTo>
                  <a:lnTo>
                    <a:pt x="9" y="96"/>
                  </a:lnTo>
                  <a:lnTo>
                    <a:pt x="7" y="96"/>
                  </a:lnTo>
                  <a:lnTo>
                    <a:pt x="7" y="222"/>
                  </a:lnTo>
                  <a:lnTo>
                    <a:pt x="7" y="222"/>
                  </a:lnTo>
                  <a:lnTo>
                    <a:pt x="7" y="222"/>
                  </a:lnTo>
                  <a:lnTo>
                    <a:pt x="6" y="222"/>
                  </a:lnTo>
                  <a:lnTo>
                    <a:pt x="3" y="224"/>
                  </a:lnTo>
                  <a:lnTo>
                    <a:pt x="3" y="226"/>
                  </a:lnTo>
                  <a:lnTo>
                    <a:pt x="2" y="226"/>
                  </a:lnTo>
                  <a:lnTo>
                    <a:pt x="0" y="227"/>
                  </a:lnTo>
                  <a:lnTo>
                    <a:pt x="0" y="229"/>
                  </a:lnTo>
                  <a:lnTo>
                    <a:pt x="0" y="230"/>
                  </a:lnTo>
                  <a:lnTo>
                    <a:pt x="0" y="241"/>
                  </a:lnTo>
                  <a:lnTo>
                    <a:pt x="0" y="242"/>
                  </a:lnTo>
                  <a:lnTo>
                    <a:pt x="0" y="245"/>
                  </a:lnTo>
                  <a:lnTo>
                    <a:pt x="2" y="245"/>
                  </a:lnTo>
                  <a:lnTo>
                    <a:pt x="2" y="246"/>
                  </a:lnTo>
                  <a:lnTo>
                    <a:pt x="108" y="245"/>
                  </a:lnTo>
                  <a:lnTo>
                    <a:pt x="108" y="242"/>
                  </a:lnTo>
                  <a:lnTo>
                    <a:pt x="107" y="242"/>
                  </a:lnTo>
                  <a:lnTo>
                    <a:pt x="107" y="239"/>
                  </a:lnTo>
                  <a:lnTo>
                    <a:pt x="107" y="238"/>
                  </a:lnTo>
                  <a:lnTo>
                    <a:pt x="107" y="223"/>
                  </a:lnTo>
                  <a:lnTo>
                    <a:pt x="107" y="222"/>
                  </a:lnTo>
                  <a:lnTo>
                    <a:pt x="107" y="219"/>
                  </a:lnTo>
                  <a:lnTo>
                    <a:pt x="108" y="216"/>
                  </a:lnTo>
                  <a:lnTo>
                    <a:pt x="110" y="214"/>
                  </a:lnTo>
                  <a:lnTo>
                    <a:pt x="110" y="211"/>
                  </a:lnTo>
                  <a:lnTo>
                    <a:pt x="110" y="208"/>
                  </a:lnTo>
                  <a:lnTo>
                    <a:pt x="113" y="205"/>
                  </a:lnTo>
                  <a:lnTo>
                    <a:pt x="113" y="204"/>
                  </a:lnTo>
                  <a:lnTo>
                    <a:pt x="116" y="201"/>
                  </a:lnTo>
                  <a:lnTo>
                    <a:pt x="117" y="198"/>
                  </a:lnTo>
                  <a:lnTo>
                    <a:pt x="126" y="188"/>
                  </a:lnTo>
                  <a:lnTo>
                    <a:pt x="129" y="186"/>
                  </a:lnTo>
                  <a:lnTo>
                    <a:pt x="133" y="185"/>
                  </a:lnTo>
                  <a:lnTo>
                    <a:pt x="136" y="182"/>
                  </a:lnTo>
                  <a:lnTo>
                    <a:pt x="139" y="181"/>
                  </a:lnTo>
                  <a:lnTo>
                    <a:pt x="144" y="178"/>
                  </a:lnTo>
                  <a:lnTo>
                    <a:pt x="147" y="178"/>
                  </a:lnTo>
                  <a:lnTo>
                    <a:pt x="151" y="176"/>
                  </a:lnTo>
                  <a:lnTo>
                    <a:pt x="154" y="175"/>
                  </a:lnTo>
                  <a:lnTo>
                    <a:pt x="157" y="175"/>
                  </a:lnTo>
                  <a:lnTo>
                    <a:pt x="170" y="175"/>
                  </a:lnTo>
                  <a:lnTo>
                    <a:pt x="173" y="175"/>
                  </a:lnTo>
                  <a:lnTo>
                    <a:pt x="176" y="175"/>
                  </a:lnTo>
                  <a:lnTo>
                    <a:pt x="177" y="176"/>
                  </a:lnTo>
                  <a:lnTo>
                    <a:pt x="182" y="178"/>
                  </a:lnTo>
                  <a:lnTo>
                    <a:pt x="185" y="178"/>
                  </a:lnTo>
                  <a:lnTo>
                    <a:pt x="186" y="179"/>
                  </a:lnTo>
                  <a:lnTo>
                    <a:pt x="188" y="181"/>
                  </a:lnTo>
                  <a:lnTo>
                    <a:pt x="190" y="181"/>
                  </a:lnTo>
                  <a:lnTo>
                    <a:pt x="193" y="182"/>
                  </a:lnTo>
                  <a:lnTo>
                    <a:pt x="195" y="183"/>
                  </a:lnTo>
                  <a:lnTo>
                    <a:pt x="196" y="185"/>
                  </a:lnTo>
                  <a:lnTo>
                    <a:pt x="198" y="185"/>
                  </a:lnTo>
                  <a:lnTo>
                    <a:pt x="199" y="186"/>
                  </a:lnTo>
                  <a:lnTo>
                    <a:pt x="201" y="188"/>
                  </a:lnTo>
                  <a:lnTo>
                    <a:pt x="205" y="191"/>
                  </a:lnTo>
                  <a:lnTo>
                    <a:pt x="234" y="191"/>
                  </a:lnTo>
                  <a:lnTo>
                    <a:pt x="239" y="186"/>
                  </a:lnTo>
                  <a:lnTo>
                    <a:pt x="242" y="185"/>
                  </a:lnTo>
                  <a:lnTo>
                    <a:pt x="243" y="185"/>
                  </a:lnTo>
                  <a:lnTo>
                    <a:pt x="245" y="183"/>
                  </a:lnTo>
                  <a:lnTo>
                    <a:pt x="246" y="182"/>
                  </a:lnTo>
                  <a:lnTo>
                    <a:pt x="249" y="181"/>
                  </a:lnTo>
                  <a:lnTo>
                    <a:pt x="251" y="179"/>
                  </a:lnTo>
                  <a:lnTo>
                    <a:pt x="252" y="178"/>
                  </a:lnTo>
                  <a:lnTo>
                    <a:pt x="255" y="178"/>
                  </a:lnTo>
                  <a:lnTo>
                    <a:pt x="256" y="176"/>
                  </a:lnTo>
                  <a:lnTo>
                    <a:pt x="259" y="175"/>
                  </a:lnTo>
                  <a:lnTo>
                    <a:pt x="262" y="175"/>
                  </a:lnTo>
                  <a:lnTo>
                    <a:pt x="265" y="173"/>
                  </a:lnTo>
                  <a:lnTo>
                    <a:pt x="268" y="173"/>
                  </a:lnTo>
                  <a:lnTo>
                    <a:pt x="271" y="172"/>
                  </a:lnTo>
                  <a:lnTo>
                    <a:pt x="286" y="172"/>
                  </a:lnTo>
                  <a:lnTo>
                    <a:pt x="289" y="173"/>
                  </a:lnTo>
                  <a:lnTo>
                    <a:pt x="292" y="175"/>
                  </a:lnTo>
                  <a:lnTo>
                    <a:pt x="294" y="175"/>
                  </a:lnTo>
                  <a:lnTo>
                    <a:pt x="299" y="176"/>
                  </a:lnTo>
                  <a:lnTo>
                    <a:pt x="302" y="178"/>
                  </a:lnTo>
                  <a:lnTo>
                    <a:pt x="306" y="181"/>
                  </a:lnTo>
                  <a:lnTo>
                    <a:pt x="309" y="183"/>
                  </a:lnTo>
                  <a:lnTo>
                    <a:pt x="312" y="185"/>
                  </a:lnTo>
                  <a:lnTo>
                    <a:pt x="316" y="191"/>
                  </a:lnTo>
                  <a:lnTo>
                    <a:pt x="319" y="194"/>
                  </a:lnTo>
                  <a:lnTo>
                    <a:pt x="321" y="195"/>
                  </a:lnTo>
                  <a:lnTo>
                    <a:pt x="324" y="198"/>
                  </a:lnTo>
                  <a:lnTo>
                    <a:pt x="325" y="201"/>
                  </a:lnTo>
                  <a:lnTo>
                    <a:pt x="327" y="204"/>
                  </a:lnTo>
                  <a:lnTo>
                    <a:pt x="328" y="207"/>
                  </a:lnTo>
                  <a:lnTo>
                    <a:pt x="330" y="210"/>
                  </a:lnTo>
                  <a:lnTo>
                    <a:pt x="330" y="211"/>
                  </a:lnTo>
                  <a:lnTo>
                    <a:pt x="330" y="214"/>
                  </a:lnTo>
                  <a:lnTo>
                    <a:pt x="331" y="219"/>
                  </a:lnTo>
                  <a:lnTo>
                    <a:pt x="333" y="220"/>
                  </a:lnTo>
                  <a:lnTo>
                    <a:pt x="333" y="224"/>
                  </a:lnTo>
                  <a:lnTo>
                    <a:pt x="333" y="227"/>
                  </a:lnTo>
                  <a:lnTo>
                    <a:pt x="333" y="241"/>
                  </a:lnTo>
                  <a:lnTo>
                    <a:pt x="333" y="242"/>
                  </a:lnTo>
                  <a:lnTo>
                    <a:pt x="333" y="24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886400" y="2351160"/>
              <a:ext cx="64440" cy="49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959120" y="2351160"/>
              <a:ext cx="85680" cy="49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052000" y="2351160"/>
              <a:ext cx="85680" cy="49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790280" y="2347920"/>
              <a:ext cx="87840" cy="82080"/>
            </a:xfrm>
            <a:prstGeom prst="ellips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811880" y="2367360"/>
              <a:ext cx="44640" cy="4320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699200" y="2347920"/>
              <a:ext cx="85680" cy="82080"/>
            </a:xfrm>
            <a:prstGeom prst="ellips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720800" y="2367360"/>
              <a:ext cx="43200" cy="4320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184840" y="2347920"/>
              <a:ext cx="85680" cy="82080"/>
            </a:xfrm>
            <a:prstGeom prst="ellips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204640" y="2367360"/>
              <a:ext cx="46080" cy="4320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290680" y="2277000"/>
              <a:ext cx="1440" cy="123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346840" y="2275560"/>
              <a:ext cx="1440" cy="125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2346840" y="238536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2350440" y="2275560"/>
              <a:ext cx="1440" cy="41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627920" y="2317680"/>
              <a:ext cx="735480" cy="172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2298960" y="2343240"/>
              <a:ext cx="41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298960" y="2349720"/>
              <a:ext cx="41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2298960" y="2356200"/>
              <a:ext cx="41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298960" y="2369160"/>
              <a:ext cx="41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298960" y="2375280"/>
              <a:ext cx="41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H="1">
              <a:off x="2298960" y="2380680"/>
              <a:ext cx="41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298960" y="2388600"/>
              <a:ext cx="41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>
              <a:off x="2298960" y="2393280"/>
              <a:ext cx="41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>
              <a:off x="2298960" y="2362680"/>
              <a:ext cx="41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1627560" y="2343240"/>
              <a:ext cx="652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>
              <a:off x="2254320" y="2349720"/>
              <a:ext cx="26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H="1">
              <a:off x="1861560" y="2349720"/>
              <a:ext cx="346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1768680" y="2349720"/>
              <a:ext cx="41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>
              <a:off x="1627920" y="2349720"/>
              <a:ext cx="87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627920" y="2356200"/>
              <a:ext cx="810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868400" y="2356200"/>
              <a:ext cx="325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260800" y="2356200"/>
              <a:ext cx="19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H="1">
              <a:off x="2266920" y="2362680"/>
              <a:ext cx="133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1874520" y="2362680"/>
              <a:ext cx="311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1627560" y="2362680"/>
              <a:ext cx="745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627920" y="2369160"/>
              <a:ext cx="72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881360" y="2369160"/>
              <a:ext cx="303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274120" y="23691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H="1">
              <a:off x="2274120" y="237528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>
              <a:off x="2275560" y="238068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H="1">
              <a:off x="2275560" y="238860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H="1">
              <a:off x="2275560" y="239328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1881000" y="2393280"/>
              <a:ext cx="291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881360" y="2375280"/>
              <a:ext cx="3009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H="1">
              <a:off x="1887480" y="2380680"/>
              <a:ext cx="293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881360" y="2388600"/>
              <a:ext cx="291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H="1">
              <a:off x="1713960" y="234972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1707120" y="2356200"/>
              <a:ext cx="3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H="1">
              <a:off x="1764000" y="2349720"/>
              <a:ext cx="46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H="1">
              <a:off x="1879560" y="2380680"/>
              <a:ext cx="10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H="1">
              <a:off x="1702800" y="2362680"/>
              <a:ext cx="28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H="1">
              <a:off x="1698840" y="2362680"/>
              <a:ext cx="3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619640" y="2233800"/>
              <a:ext cx="26640" cy="54720"/>
            </a:xfrm>
            <a:custGeom>
              <a:avLst/>
              <a:gdLst/>
              <a:ahLst/>
              <a:rect l="l" t="t" r="r" b="b"/>
              <a:pathLst>
                <a:path w="32" h="69">
                  <a:moveTo>
                    <a:pt x="18" y="0"/>
                  </a:moveTo>
                  <a:lnTo>
                    <a:pt x="32" y="24"/>
                  </a:lnTo>
                  <a:lnTo>
                    <a:pt x="3" y="69"/>
                  </a:lnTo>
                  <a:lnTo>
                    <a:pt x="0" y="6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260800" y="2211480"/>
              <a:ext cx="34560" cy="367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43" y="38"/>
                  </a:moveTo>
                  <a:lnTo>
                    <a:pt x="7" y="47"/>
                  </a:lnTo>
                  <a:lnTo>
                    <a:pt x="0" y="47"/>
                  </a:lnTo>
                  <a:lnTo>
                    <a:pt x="0" y="20"/>
                  </a:lnTo>
                  <a:lnTo>
                    <a:pt x="9" y="0"/>
                  </a:lnTo>
                  <a:lnTo>
                    <a:pt x="43" y="3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H="1">
              <a:off x="2172960" y="23886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172960" y="239328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363400" y="2266200"/>
              <a:ext cx="1440" cy="9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H="1">
              <a:off x="2248920" y="234972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259000" y="2356200"/>
              <a:ext cx="1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265840" y="236268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269080" y="2369160"/>
              <a:ext cx="4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H="1">
              <a:off x="2272680" y="2375280"/>
              <a:ext cx="28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H="1">
              <a:off x="2190960" y="235620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2185920" y="2362680"/>
              <a:ext cx="3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H="1">
              <a:off x="1877760" y="2375280"/>
              <a:ext cx="3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874880" y="236916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1870920" y="2362680"/>
              <a:ext cx="1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1864440" y="2356200"/>
              <a:ext cx="3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H="1">
              <a:off x="1857960" y="2349720"/>
              <a:ext cx="3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638000" y="2252880"/>
              <a:ext cx="39240" cy="3528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48" y="0"/>
                  </a:moveTo>
                  <a:lnTo>
                    <a:pt x="27" y="0"/>
                  </a:lnTo>
                  <a:lnTo>
                    <a:pt x="0" y="44"/>
                  </a:lnTo>
                  <a:lnTo>
                    <a:pt x="20" y="4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669320" y="2252880"/>
              <a:ext cx="110880" cy="352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31" y="0"/>
                  </a:moveTo>
                  <a:lnTo>
                    <a:pt x="0" y="44"/>
                  </a:lnTo>
                  <a:lnTo>
                    <a:pt x="107" y="44"/>
                  </a:lnTo>
                  <a:lnTo>
                    <a:pt x="135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768680" y="2252880"/>
              <a:ext cx="110520" cy="35280"/>
            </a:xfrm>
            <a:custGeom>
              <a:avLst/>
              <a:gdLst/>
              <a:ahLst/>
              <a:rect l="l" t="t" r="r" b="b"/>
              <a:pathLst>
                <a:path w="133" h="44">
                  <a:moveTo>
                    <a:pt x="29" y="0"/>
                  </a:moveTo>
                  <a:lnTo>
                    <a:pt x="0" y="44"/>
                  </a:lnTo>
                  <a:lnTo>
                    <a:pt x="107" y="44"/>
                  </a:lnTo>
                  <a:lnTo>
                    <a:pt x="133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869840" y="2252880"/>
              <a:ext cx="110520" cy="35280"/>
            </a:xfrm>
            <a:custGeom>
              <a:avLst/>
              <a:gdLst/>
              <a:ahLst/>
              <a:rect l="l" t="t" r="r" b="b"/>
              <a:pathLst>
                <a:path w="134" h="44">
                  <a:moveTo>
                    <a:pt x="30" y="0"/>
                  </a:moveTo>
                  <a:lnTo>
                    <a:pt x="0" y="44"/>
                  </a:lnTo>
                  <a:lnTo>
                    <a:pt x="107" y="44"/>
                  </a:lnTo>
                  <a:lnTo>
                    <a:pt x="134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969560" y="2252880"/>
              <a:ext cx="110520" cy="35280"/>
            </a:xfrm>
            <a:custGeom>
              <a:avLst/>
              <a:gdLst/>
              <a:ahLst/>
              <a:rect l="l" t="t" r="r" b="b"/>
              <a:pathLst>
                <a:path w="133" h="44">
                  <a:moveTo>
                    <a:pt x="29" y="0"/>
                  </a:moveTo>
                  <a:lnTo>
                    <a:pt x="0" y="44"/>
                  </a:lnTo>
                  <a:lnTo>
                    <a:pt x="106" y="44"/>
                  </a:lnTo>
                  <a:lnTo>
                    <a:pt x="133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068560" y="2252880"/>
              <a:ext cx="112680" cy="35280"/>
            </a:xfrm>
            <a:custGeom>
              <a:avLst/>
              <a:gdLst/>
              <a:ahLst/>
              <a:rect l="l" t="t" r="r" b="b"/>
              <a:pathLst>
                <a:path w="134" h="44">
                  <a:moveTo>
                    <a:pt x="30" y="0"/>
                  </a:moveTo>
                  <a:lnTo>
                    <a:pt x="0" y="44"/>
                  </a:lnTo>
                  <a:lnTo>
                    <a:pt x="108" y="44"/>
                  </a:lnTo>
                  <a:lnTo>
                    <a:pt x="134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171520" y="2252880"/>
              <a:ext cx="110520" cy="35280"/>
            </a:xfrm>
            <a:custGeom>
              <a:avLst/>
              <a:gdLst/>
              <a:ahLst/>
              <a:rect l="l" t="t" r="r" b="b"/>
              <a:pathLst>
                <a:path w="134" h="44">
                  <a:moveTo>
                    <a:pt x="29" y="0"/>
                  </a:moveTo>
                  <a:lnTo>
                    <a:pt x="0" y="44"/>
                  </a:lnTo>
                  <a:lnTo>
                    <a:pt x="108" y="44"/>
                  </a:lnTo>
                  <a:lnTo>
                    <a:pt x="134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293920" y="2274120"/>
              <a:ext cx="52920" cy="43200"/>
            </a:xfrm>
            <a:prstGeom prst="rect">
              <a:avLst/>
            </a:prstGeom>
            <a:solidFill>
              <a:srgbClr val="40404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6" name=""/>
          <p:cNvGrpSpPr/>
          <p:nvPr/>
        </p:nvGrpSpPr>
        <p:grpSpPr>
          <a:xfrm>
            <a:off x="2376000" y="1956960"/>
            <a:ext cx="219240" cy="196560"/>
            <a:chOff x="2376000" y="1956960"/>
            <a:chExt cx="219240" cy="196560"/>
          </a:xfrm>
        </p:grpSpPr>
        <p:sp>
          <p:nvSpPr>
            <p:cNvPr id="1977" name=""/>
            <p:cNvSpPr/>
            <p:nvPr/>
          </p:nvSpPr>
          <p:spPr>
            <a:xfrm flipH="1">
              <a:off x="2513160" y="1957320"/>
              <a:ext cx="82080" cy="4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514600" y="2008800"/>
              <a:ext cx="29880" cy="2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2445480" y="2026800"/>
              <a:ext cx="9576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445480" y="2081520"/>
              <a:ext cx="26280" cy="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2376000" y="2099160"/>
              <a:ext cx="85320" cy="5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V="1">
              <a:off x="2376360" y="2113560"/>
              <a:ext cx="138240" cy="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H="1" flipV="1">
              <a:off x="2478240" y="2095920"/>
              <a:ext cx="3600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V="1">
              <a:off x="2478240" y="2026800"/>
              <a:ext cx="9900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 flipV="1">
              <a:off x="2550960" y="2015280"/>
              <a:ext cx="3456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2550960" y="1956960"/>
              <a:ext cx="4428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7" name=""/>
          <p:cNvGrpSpPr/>
          <p:nvPr/>
        </p:nvGrpSpPr>
        <p:grpSpPr>
          <a:xfrm>
            <a:off x="743040" y="844560"/>
            <a:ext cx="383760" cy="269640"/>
            <a:chOff x="743040" y="844560"/>
            <a:chExt cx="383760" cy="269640"/>
          </a:xfrm>
        </p:grpSpPr>
        <p:sp>
          <p:nvSpPr>
            <p:cNvPr id="1988" name=""/>
            <p:cNvSpPr/>
            <p:nvPr/>
          </p:nvSpPr>
          <p:spPr>
            <a:xfrm>
              <a:off x="743040" y="844560"/>
              <a:ext cx="383760" cy="25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52760" y="857520"/>
              <a:ext cx="364320" cy="229320"/>
            </a:xfrm>
            <a:prstGeom prst="rect">
              <a:avLst/>
            </a:prstGeom>
            <a:solidFill>
              <a:srgbClr val="9b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059120" y="863640"/>
              <a:ext cx="49680" cy="214920"/>
            </a:xfrm>
            <a:prstGeom prst="rect">
              <a:avLst/>
            </a:prstGeom>
            <a:solidFill>
              <a:srgbClr val="faa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070640" y="928800"/>
              <a:ext cx="26640" cy="28800"/>
            </a:xfrm>
            <a:prstGeom prst="ellipse">
              <a:avLst/>
            </a:prstGeom>
            <a:solidFill>
              <a:srgbClr val="5d2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070640" y="883080"/>
              <a:ext cx="26640" cy="27360"/>
            </a:xfrm>
            <a:prstGeom prst="ellipse">
              <a:avLst/>
            </a:prstGeom>
            <a:solidFill>
              <a:srgbClr val="5d2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89120" y="1096560"/>
              <a:ext cx="165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067400" y="968760"/>
              <a:ext cx="31320" cy="102960"/>
            </a:xfrm>
            <a:prstGeom prst="rect">
              <a:avLst/>
            </a:prstGeom>
            <a:solidFill>
              <a:srgbClr val="5d2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764280" y="879840"/>
              <a:ext cx="21600" cy="180720"/>
            </a:xfrm>
            <a:prstGeom prst="ellipse">
              <a:avLst/>
            </a:prstGeom>
            <a:solidFill>
              <a:srgbClr val="faa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72560" y="867240"/>
              <a:ext cx="264960" cy="30600"/>
            </a:xfrm>
            <a:prstGeom prst="ellipse">
              <a:avLst/>
            </a:prstGeom>
            <a:solidFill>
              <a:srgbClr val="faa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72560" y="1043280"/>
              <a:ext cx="264960" cy="32040"/>
            </a:xfrm>
            <a:prstGeom prst="ellipse">
              <a:avLst/>
            </a:prstGeom>
            <a:solidFill>
              <a:srgbClr val="faa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026000" y="879840"/>
              <a:ext cx="21240" cy="180720"/>
            </a:xfrm>
            <a:prstGeom prst="ellipse">
              <a:avLst/>
            </a:prstGeom>
            <a:solidFill>
              <a:srgbClr val="faa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71120" y="884880"/>
              <a:ext cx="21240" cy="17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79400" y="871920"/>
              <a:ext cx="251280" cy="2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779400" y="1040040"/>
              <a:ext cx="251280" cy="2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019160" y="884880"/>
              <a:ext cx="21600" cy="17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82640" y="888120"/>
              <a:ext cx="24804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047240" y="1096560"/>
              <a:ext cx="162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52120" y="102060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6" name=""/>
          <p:cNvSpPr/>
          <p:nvPr/>
        </p:nvSpPr>
        <p:spPr>
          <a:xfrm flipV="1">
            <a:off x="795240" y="885600"/>
            <a:ext cx="20952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800280" y="1008000"/>
            <a:ext cx="20448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909720" y="876240"/>
            <a:ext cx="2844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825480" y="892080"/>
            <a:ext cx="1908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769680" y="1212840"/>
            <a:ext cx="320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00"/>
                </a:solidFill>
                <a:latin typeface="全真楷書"/>
                <a:ea typeface="全真楷書"/>
              </a:rPr>
              <a:t>電腦資訊查詢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09480" y="1488960"/>
            <a:ext cx="5191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932040" y="1519200"/>
            <a:ext cx="163440" cy="2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42960" y="1521000"/>
            <a:ext cx="264960" cy="24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730080" y="1795320"/>
            <a:ext cx="274680" cy="6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826920" y="1855800"/>
            <a:ext cx="7164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6" name=""/>
          <p:cNvGrpSpPr/>
          <p:nvPr/>
        </p:nvGrpSpPr>
        <p:grpSpPr>
          <a:xfrm>
            <a:off x="635040" y="1968480"/>
            <a:ext cx="123480" cy="271080"/>
            <a:chOff x="635040" y="1968480"/>
            <a:chExt cx="123480" cy="271080"/>
          </a:xfrm>
        </p:grpSpPr>
        <p:sp>
          <p:nvSpPr>
            <p:cNvPr id="2017" name=""/>
            <p:cNvSpPr/>
            <p:nvPr/>
          </p:nvSpPr>
          <p:spPr>
            <a:xfrm>
              <a:off x="635040" y="2019960"/>
              <a:ext cx="123480" cy="219600"/>
            </a:xfrm>
            <a:custGeom>
              <a:avLst/>
              <a:gdLst/>
              <a:ahLst/>
              <a:rect l="l" t="t" r="r" b="b"/>
              <a:pathLst>
                <a:path w="149" h="272">
                  <a:moveTo>
                    <a:pt x="35" y="0"/>
                  </a:moveTo>
                  <a:lnTo>
                    <a:pt x="114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9" y="3"/>
                  </a:lnTo>
                  <a:lnTo>
                    <a:pt x="130" y="3"/>
                  </a:lnTo>
                  <a:lnTo>
                    <a:pt x="132" y="4"/>
                  </a:lnTo>
                  <a:lnTo>
                    <a:pt x="133" y="4"/>
                  </a:lnTo>
                  <a:lnTo>
                    <a:pt x="136" y="6"/>
                  </a:lnTo>
                  <a:lnTo>
                    <a:pt x="137" y="7"/>
                  </a:lnTo>
                  <a:lnTo>
                    <a:pt x="140" y="9"/>
                  </a:lnTo>
                  <a:lnTo>
                    <a:pt x="142" y="10"/>
                  </a:lnTo>
                  <a:lnTo>
                    <a:pt x="143" y="12"/>
                  </a:lnTo>
                  <a:lnTo>
                    <a:pt x="145" y="13"/>
                  </a:lnTo>
                  <a:lnTo>
                    <a:pt x="148" y="14"/>
                  </a:lnTo>
                  <a:lnTo>
                    <a:pt x="148" y="16"/>
                  </a:lnTo>
                  <a:lnTo>
                    <a:pt x="149" y="19"/>
                  </a:lnTo>
                  <a:lnTo>
                    <a:pt x="149" y="20"/>
                  </a:lnTo>
                  <a:lnTo>
                    <a:pt x="149" y="23"/>
                  </a:lnTo>
                  <a:lnTo>
                    <a:pt x="149" y="124"/>
                  </a:lnTo>
                  <a:lnTo>
                    <a:pt x="149" y="126"/>
                  </a:lnTo>
                  <a:lnTo>
                    <a:pt x="148" y="126"/>
                  </a:lnTo>
                  <a:lnTo>
                    <a:pt x="148" y="127"/>
                  </a:lnTo>
                  <a:lnTo>
                    <a:pt x="148" y="129"/>
                  </a:lnTo>
                  <a:lnTo>
                    <a:pt x="146" y="130"/>
                  </a:lnTo>
                  <a:lnTo>
                    <a:pt x="145" y="132"/>
                  </a:lnTo>
                  <a:lnTo>
                    <a:pt x="143" y="132"/>
                  </a:lnTo>
                  <a:lnTo>
                    <a:pt x="140" y="133"/>
                  </a:lnTo>
                  <a:lnTo>
                    <a:pt x="139" y="133"/>
                  </a:lnTo>
                  <a:lnTo>
                    <a:pt x="137" y="133"/>
                  </a:lnTo>
                  <a:lnTo>
                    <a:pt x="136" y="133"/>
                  </a:lnTo>
                  <a:lnTo>
                    <a:pt x="133" y="133"/>
                  </a:lnTo>
                  <a:lnTo>
                    <a:pt x="132" y="133"/>
                  </a:lnTo>
                  <a:lnTo>
                    <a:pt x="130" y="133"/>
                  </a:lnTo>
                  <a:lnTo>
                    <a:pt x="129" y="133"/>
                  </a:lnTo>
                  <a:lnTo>
                    <a:pt x="127" y="132"/>
                  </a:lnTo>
                  <a:lnTo>
                    <a:pt x="126" y="130"/>
                  </a:lnTo>
                  <a:lnTo>
                    <a:pt x="126" y="130"/>
                  </a:lnTo>
                  <a:lnTo>
                    <a:pt x="124" y="129"/>
                  </a:lnTo>
                  <a:lnTo>
                    <a:pt x="123" y="127"/>
                  </a:lnTo>
                  <a:lnTo>
                    <a:pt x="123" y="127"/>
                  </a:lnTo>
                  <a:lnTo>
                    <a:pt x="123" y="126"/>
                  </a:lnTo>
                  <a:lnTo>
                    <a:pt x="123" y="124"/>
                  </a:lnTo>
                  <a:lnTo>
                    <a:pt x="123" y="123"/>
                  </a:lnTo>
                  <a:lnTo>
                    <a:pt x="123" y="47"/>
                  </a:lnTo>
                  <a:lnTo>
                    <a:pt x="114" y="47"/>
                  </a:lnTo>
                  <a:lnTo>
                    <a:pt x="114" y="258"/>
                  </a:lnTo>
                  <a:lnTo>
                    <a:pt x="114" y="259"/>
                  </a:lnTo>
                  <a:lnTo>
                    <a:pt x="114" y="262"/>
                  </a:lnTo>
                  <a:lnTo>
                    <a:pt x="113" y="263"/>
                  </a:lnTo>
                  <a:lnTo>
                    <a:pt x="111" y="266"/>
                  </a:lnTo>
                  <a:lnTo>
                    <a:pt x="110" y="268"/>
                  </a:lnTo>
                  <a:lnTo>
                    <a:pt x="108" y="269"/>
                  </a:lnTo>
                  <a:lnTo>
                    <a:pt x="107" y="269"/>
                  </a:lnTo>
                  <a:lnTo>
                    <a:pt x="104" y="271"/>
                  </a:lnTo>
                  <a:lnTo>
                    <a:pt x="102" y="271"/>
                  </a:lnTo>
                  <a:lnTo>
                    <a:pt x="101" y="272"/>
                  </a:lnTo>
                  <a:lnTo>
                    <a:pt x="98" y="272"/>
                  </a:lnTo>
                  <a:lnTo>
                    <a:pt x="96" y="272"/>
                  </a:lnTo>
                  <a:lnTo>
                    <a:pt x="95" y="272"/>
                  </a:lnTo>
                  <a:lnTo>
                    <a:pt x="92" y="272"/>
                  </a:lnTo>
                  <a:lnTo>
                    <a:pt x="91" y="271"/>
                  </a:lnTo>
                  <a:lnTo>
                    <a:pt x="88" y="271"/>
                  </a:lnTo>
                  <a:lnTo>
                    <a:pt x="86" y="269"/>
                  </a:lnTo>
                  <a:lnTo>
                    <a:pt x="85" y="268"/>
                  </a:lnTo>
                  <a:lnTo>
                    <a:pt x="83" y="268"/>
                  </a:lnTo>
                  <a:lnTo>
                    <a:pt x="82" y="266"/>
                  </a:lnTo>
                  <a:lnTo>
                    <a:pt x="80" y="265"/>
                  </a:lnTo>
                  <a:lnTo>
                    <a:pt x="80" y="263"/>
                  </a:lnTo>
                  <a:lnTo>
                    <a:pt x="79" y="262"/>
                  </a:lnTo>
                  <a:lnTo>
                    <a:pt x="79" y="261"/>
                  </a:lnTo>
                  <a:lnTo>
                    <a:pt x="79" y="259"/>
                  </a:lnTo>
                  <a:lnTo>
                    <a:pt x="79" y="130"/>
                  </a:lnTo>
                  <a:lnTo>
                    <a:pt x="70" y="130"/>
                  </a:lnTo>
                  <a:lnTo>
                    <a:pt x="70" y="258"/>
                  </a:lnTo>
                  <a:lnTo>
                    <a:pt x="70" y="261"/>
                  </a:lnTo>
                  <a:lnTo>
                    <a:pt x="69" y="262"/>
                  </a:lnTo>
                  <a:lnTo>
                    <a:pt x="67" y="263"/>
                  </a:lnTo>
                  <a:lnTo>
                    <a:pt x="67" y="265"/>
                  </a:lnTo>
                  <a:lnTo>
                    <a:pt x="66" y="268"/>
                  </a:lnTo>
                  <a:lnTo>
                    <a:pt x="63" y="269"/>
                  </a:lnTo>
                  <a:lnTo>
                    <a:pt x="61" y="271"/>
                  </a:lnTo>
                  <a:lnTo>
                    <a:pt x="58" y="271"/>
                  </a:lnTo>
                  <a:lnTo>
                    <a:pt x="55" y="272"/>
                  </a:lnTo>
                  <a:lnTo>
                    <a:pt x="54" y="272"/>
                  </a:lnTo>
                  <a:lnTo>
                    <a:pt x="51" y="272"/>
                  </a:lnTo>
                  <a:lnTo>
                    <a:pt x="48" y="272"/>
                  </a:lnTo>
                  <a:lnTo>
                    <a:pt x="47" y="272"/>
                  </a:lnTo>
                  <a:lnTo>
                    <a:pt x="45" y="271"/>
                  </a:lnTo>
                  <a:lnTo>
                    <a:pt x="44" y="271"/>
                  </a:lnTo>
                  <a:lnTo>
                    <a:pt x="41" y="269"/>
                  </a:lnTo>
                  <a:lnTo>
                    <a:pt x="39" y="268"/>
                  </a:lnTo>
                  <a:lnTo>
                    <a:pt x="38" y="266"/>
                  </a:lnTo>
                  <a:lnTo>
                    <a:pt x="36" y="265"/>
                  </a:lnTo>
                  <a:lnTo>
                    <a:pt x="36" y="263"/>
                  </a:lnTo>
                  <a:lnTo>
                    <a:pt x="35" y="262"/>
                  </a:lnTo>
                  <a:lnTo>
                    <a:pt x="35" y="261"/>
                  </a:lnTo>
                  <a:lnTo>
                    <a:pt x="35" y="258"/>
                  </a:lnTo>
                  <a:lnTo>
                    <a:pt x="35" y="47"/>
                  </a:lnTo>
                  <a:lnTo>
                    <a:pt x="26" y="47"/>
                  </a:lnTo>
                  <a:lnTo>
                    <a:pt x="26" y="123"/>
                  </a:lnTo>
                  <a:lnTo>
                    <a:pt x="26" y="124"/>
                  </a:lnTo>
                  <a:lnTo>
                    <a:pt x="25" y="127"/>
                  </a:lnTo>
                  <a:lnTo>
                    <a:pt x="25" y="127"/>
                  </a:lnTo>
                  <a:lnTo>
                    <a:pt x="23" y="129"/>
                  </a:lnTo>
                  <a:lnTo>
                    <a:pt x="23" y="130"/>
                  </a:lnTo>
                  <a:lnTo>
                    <a:pt x="22" y="130"/>
                  </a:lnTo>
                  <a:lnTo>
                    <a:pt x="22" y="132"/>
                  </a:lnTo>
                  <a:lnTo>
                    <a:pt x="20" y="132"/>
                  </a:lnTo>
                  <a:lnTo>
                    <a:pt x="19" y="133"/>
                  </a:lnTo>
                  <a:lnTo>
                    <a:pt x="19" y="133"/>
                  </a:lnTo>
                  <a:lnTo>
                    <a:pt x="17" y="133"/>
                  </a:lnTo>
                  <a:lnTo>
                    <a:pt x="16" y="133"/>
                  </a:lnTo>
                  <a:lnTo>
                    <a:pt x="14" y="133"/>
                  </a:lnTo>
                  <a:lnTo>
                    <a:pt x="14" y="133"/>
                  </a:lnTo>
                  <a:lnTo>
                    <a:pt x="11" y="133"/>
                  </a:lnTo>
                  <a:lnTo>
                    <a:pt x="10" y="133"/>
                  </a:lnTo>
                  <a:lnTo>
                    <a:pt x="9" y="133"/>
                  </a:lnTo>
                  <a:lnTo>
                    <a:pt x="7" y="133"/>
                  </a:lnTo>
                  <a:lnTo>
                    <a:pt x="7" y="133"/>
                  </a:lnTo>
                  <a:lnTo>
                    <a:pt x="6" y="132"/>
                  </a:lnTo>
                  <a:lnTo>
                    <a:pt x="4" y="132"/>
                  </a:lnTo>
                  <a:lnTo>
                    <a:pt x="4" y="130"/>
                  </a:lnTo>
                  <a:lnTo>
                    <a:pt x="3" y="130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7" y="10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64920" y="1968480"/>
              <a:ext cx="59040" cy="5148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927000" y="1965240"/>
            <a:ext cx="149040" cy="282240"/>
            <a:chOff x="927000" y="1965240"/>
            <a:chExt cx="149040" cy="282240"/>
          </a:xfrm>
        </p:grpSpPr>
        <p:sp>
          <p:nvSpPr>
            <p:cNvPr id="2020" name=""/>
            <p:cNvSpPr/>
            <p:nvPr/>
          </p:nvSpPr>
          <p:spPr>
            <a:xfrm>
              <a:off x="927000" y="2018520"/>
              <a:ext cx="149040" cy="228960"/>
            </a:xfrm>
            <a:custGeom>
              <a:avLst/>
              <a:gdLst/>
              <a:ahLst/>
              <a:rect l="l" t="t" r="r" b="b"/>
              <a:pathLst>
                <a:path w="180" h="285">
                  <a:moveTo>
                    <a:pt x="48" y="0"/>
                  </a:moveTo>
                  <a:lnTo>
                    <a:pt x="132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7" y="2"/>
                  </a:lnTo>
                  <a:lnTo>
                    <a:pt x="139" y="2"/>
                  </a:lnTo>
                  <a:lnTo>
                    <a:pt x="142" y="3"/>
                  </a:lnTo>
                  <a:lnTo>
                    <a:pt x="143" y="5"/>
                  </a:lnTo>
                  <a:lnTo>
                    <a:pt x="145" y="5"/>
                  </a:lnTo>
                  <a:lnTo>
                    <a:pt x="146" y="6"/>
                  </a:lnTo>
                  <a:lnTo>
                    <a:pt x="148" y="8"/>
                  </a:lnTo>
                  <a:lnTo>
                    <a:pt x="149" y="9"/>
                  </a:lnTo>
                  <a:lnTo>
                    <a:pt x="151" y="11"/>
                  </a:lnTo>
                  <a:lnTo>
                    <a:pt x="151" y="12"/>
                  </a:lnTo>
                  <a:lnTo>
                    <a:pt x="152" y="15"/>
                  </a:lnTo>
                  <a:lnTo>
                    <a:pt x="154" y="15"/>
                  </a:lnTo>
                  <a:lnTo>
                    <a:pt x="154" y="18"/>
                  </a:lnTo>
                  <a:lnTo>
                    <a:pt x="155" y="21"/>
                  </a:lnTo>
                  <a:lnTo>
                    <a:pt x="155" y="22"/>
                  </a:lnTo>
                  <a:lnTo>
                    <a:pt x="155" y="25"/>
                  </a:lnTo>
                  <a:lnTo>
                    <a:pt x="180" y="107"/>
                  </a:lnTo>
                  <a:lnTo>
                    <a:pt x="180" y="109"/>
                  </a:lnTo>
                  <a:lnTo>
                    <a:pt x="180" y="112"/>
                  </a:lnTo>
                  <a:lnTo>
                    <a:pt x="180" y="113"/>
                  </a:lnTo>
                  <a:lnTo>
                    <a:pt x="180" y="115"/>
                  </a:lnTo>
                  <a:lnTo>
                    <a:pt x="178" y="116"/>
                  </a:lnTo>
                  <a:lnTo>
                    <a:pt x="177" y="118"/>
                  </a:lnTo>
                  <a:lnTo>
                    <a:pt x="176" y="119"/>
                  </a:lnTo>
                  <a:lnTo>
                    <a:pt x="174" y="120"/>
                  </a:lnTo>
                  <a:lnTo>
                    <a:pt x="173" y="120"/>
                  </a:lnTo>
                  <a:lnTo>
                    <a:pt x="170" y="122"/>
                  </a:lnTo>
                  <a:lnTo>
                    <a:pt x="168" y="122"/>
                  </a:lnTo>
                  <a:lnTo>
                    <a:pt x="167" y="122"/>
                  </a:lnTo>
                  <a:lnTo>
                    <a:pt x="164" y="122"/>
                  </a:lnTo>
                  <a:lnTo>
                    <a:pt x="162" y="122"/>
                  </a:lnTo>
                  <a:lnTo>
                    <a:pt x="161" y="120"/>
                  </a:lnTo>
                  <a:lnTo>
                    <a:pt x="159" y="120"/>
                  </a:lnTo>
                  <a:lnTo>
                    <a:pt x="158" y="119"/>
                  </a:lnTo>
                  <a:lnTo>
                    <a:pt x="157" y="118"/>
                  </a:lnTo>
                  <a:lnTo>
                    <a:pt x="155" y="116"/>
                  </a:lnTo>
                  <a:lnTo>
                    <a:pt x="155" y="115"/>
                  </a:lnTo>
                  <a:lnTo>
                    <a:pt x="154" y="113"/>
                  </a:lnTo>
                  <a:lnTo>
                    <a:pt x="130" y="40"/>
                  </a:lnTo>
                  <a:lnTo>
                    <a:pt x="123" y="40"/>
                  </a:lnTo>
                  <a:lnTo>
                    <a:pt x="162" y="176"/>
                  </a:lnTo>
                  <a:lnTo>
                    <a:pt x="130" y="176"/>
                  </a:lnTo>
                  <a:lnTo>
                    <a:pt x="130" y="271"/>
                  </a:lnTo>
                  <a:lnTo>
                    <a:pt x="130" y="274"/>
                  </a:lnTo>
                  <a:lnTo>
                    <a:pt x="130" y="276"/>
                  </a:lnTo>
                  <a:lnTo>
                    <a:pt x="129" y="277"/>
                  </a:lnTo>
                  <a:lnTo>
                    <a:pt x="127" y="279"/>
                  </a:lnTo>
                  <a:lnTo>
                    <a:pt x="126" y="280"/>
                  </a:lnTo>
                  <a:lnTo>
                    <a:pt x="126" y="282"/>
                  </a:lnTo>
                  <a:lnTo>
                    <a:pt x="123" y="283"/>
                  </a:lnTo>
                  <a:lnTo>
                    <a:pt x="121" y="283"/>
                  </a:lnTo>
                  <a:lnTo>
                    <a:pt x="120" y="285"/>
                  </a:lnTo>
                  <a:lnTo>
                    <a:pt x="118" y="285"/>
                  </a:lnTo>
                  <a:lnTo>
                    <a:pt x="116" y="285"/>
                  </a:lnTo>
                  <a:lnTo>
                    <a:pt x="114" y="285"/>
                  </a:lnTo>
                  <a:lnTo>
                    <a:pt x="113" y="285"/>
                  </a:lnTo>
                  <a:lnTo>
                    <a:pt x="110" y="285"/>
                  </a:lnTo>
                  <a:lnTo>
                    <a:pt x="108" y="283"/>
                  </a:lnTo>
                  <a:lnTo>
                    <a:pt x="107" y="283"/>
                  </a:lnTo>
                  <a:lnTo>
                    <a:pt x="105" y="282"/>
                  </a:lnTo>
                  <a:lnTo>
                    <a:pt x="104" y="280"/>
                  </a:lnTo>
                  <a:lnTo>
                    <a:pt x="102" y="280"/>
                  </a:lnTo>
                  <a:lnTo>
                    <a:pt x="101" y="279"/>
                  </a:lnTo>
                  <a:lnTo>
                    <a:pt x="99" y="277"/>
                  </a:lnTo>
                  <a:lnTo>
                    <a:pt x="99" y="276"/>
                  </a:lnTo>
                  <a:lnTo>
                    <a:pt x="99" y="274"/>
                  </a:lnTo>
                  <a:lnTo>
                    <a:pt x="98" y="273"/>
                  </a:lnTo>
                  <a:lnTo>
                    <a:pt x="98" y="271"/>
                  </a:lnTo>
                  <a:lnTo>
                    <a:pt x="98" y="176"/>
                  </a:lnTo>
                  <a:lnTo>
                    <a:pt x="82" y="176"/>
                  </a:lnTo>
                  <a:lnTo>
                    <a:pt x="82" y="271"/>
                  </a:lnTo>
                  <a:lnTo>
                    <a:pt x="82" y="273"/>
                  </a:lnTo>
                  <a:lnTo>
                    <a:pt x="82" y="274"/>
                  </a:lnTo>
                  <a:lnTo>
                    <a:pt x="80" y="276"/>
                  </a:lnTo>
                  <a:lnTo>
                    <a:pt x="80" y="277"/>
                  </a:lnTo>
                  <a:lnTo>
                    <a:pt x="79" y="279"/>
                  </a:lnTo>
                  <a:lnTo>
                    <a:pt x="77" y="280"/>
                  </a:lnTo>
                  <a:lnTo>
                    <a:pt x="76" y="282"/>
                  </a:lnTo>
                  <a:lnTo>
                    <a:pt x="74" y="282"/>
                  </a:lnTo>
                  <a:lnTo>
                    <a:pt x="73" y="283"/>
                  </a:lnTo>
                  <a:lnTo>
                    <a:pt x="72" y="285"/>
                  </a:lnTo>
                  <a:lnTo>
                    <a:pt x="69" y="285"/>
                  </a:lnTo>
                  <a:lnTo>
                    <a:pt x="67" y="285"/>
                  </a:lnTo>
                  <a:lnTo>
                    <a:pt x="66" y="285"/>
                  </a:lnTo>
                  <a:lnTo>
                    <a:pt x="64" y="285"/>
                  </a:lnTo>
                  <a:lnTo>
                    <a:pt x="61" y="285"/>
                  </a:lnTo>
                  <a:lnTo>
                    <a:pt x="60" y="283"/>
                  </a:lnTo>
                  <a:lnTo>
                    <a:pt x="58" y="283"/>
                  </a:lnTo>
                  <a:lnTo>
                    <a:pt x="57" y="282"/>
                  </a:lnTo>
                  <a:lnTo>
                    <a:pt x="55" y="282"/>
                  </a:lnTo>
                  <a:lnTo>
                    <a:pt x="54" y="280"/>
                  </a:lnTo>
                  <a:lnTo>
                    <a:pt x="53" y="279"/>
                  </a:lnTo>
                  <a:lnTo>
                    <a:pt x="53" y="277"/>
                  </a:lnTo>
                  <a:lnTo>
                    <a:pt x="51" y="276"/>
                  </a:lnTo>
                  <a:lnTo>
                    <a:pt x="50" y="274"/>
                  </a:lnTo>
                  <a:lnTo>
                    <a:pt x="50" y="273"/>
                  </a:lnTo>
                  <a:lnTo>
                    <a:pt x="50" y="271"/>
                  </a:lnTo>
                  <a:lnTo>
                    <a:pt x="50" y="176"/>
                  </a:lnTo>
                  <a:lnTo>
                    <a:pt x="17" y="176"/>
                  </a:lnTo>
                  <a:lnTo>
                    <a:pt x="58" y="40"/>
                  </a:lnTo>
                  <a:lnTo>
                    <a:pt x="50" y="40"/>
                  </a:lnTo>
                  <a:lnTo>
                    <a:pt x="26" y="115"/>
                  </a:lnTo>
                  <a:lnTo>
                    <a:pt x="25" y="116"/>
                  </a:lnTo>
                  <a:lnTo>
                    <a:pt x="25" y="119"/>
                  </a:lnTo>
                  <a:lnTo>
                    <a:pt x="23" y="120"/>
                  </a:lnTo>
                  <a:lnTo>
                    <a:pt x="22" y="122"/>
                  </a:lnTo>
                  <a:lnTo>
                    <a:pt x="20" y="122"/>
                  </a:lnTo>
                  <a:lnTo>
                    <a:pt x="19" y="123"/>
                  </a:lnTo>
                  <a:lnTo>
                    <a:pt x="16" y="123"/>
                  </a:lnTo>
                  <a:lnTo>
                    <a:pt x="14" y="125"/>
                  </a:lnTo>
                  <a:lnTo>
                    <a:pt x="12" y="123"/>
                  </a:lnTo>
                  <a:lnTo>
                    <a:pt x="10" y="123"/>
                  </a:lnTo>
                  <a:lnTo>
                    <a:pt x="9" y="123"/>
                  </a:lnTo>
                  <a:lnTo>
                    <a:pt x="7" y="123"/>
                  </a:lnTo>
                  <a:lnTo>
                    <a:pt x="6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115"/>
                  </a:lnTo>
                  <a:lnTo>
                    <a:pt x="0" y="113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25" y="24"/>
                  </a:lnTo>
                  <a:lnTo>
                    <a:pt x="26" y="22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2" y="8"/>
                  </a:lnTo>
                  <a:lnTo>
                    <a:pt x="33" y="6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3"/>
                  </a:lnTo>
                  <a:lnTo>
                    <a:pt x="41" y="2"/>
                  </a:lnTo>
                  <a:lnTo>
                    <a:pt x="44" y="2"/>
                  </a:lnTo>
                  <a:lnTo>
                    <a:pt x="45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72000" y="1965240"/>
              <a:ext cx="59400" cy="532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1044720" y="1963800"/>
            <a:ext cx="144000" cy="290160"/>
            <a:chOff x="1044720" y="1963800"/>
            <a:chExt cx="144000" cy="290160"/>
          </a:xfrm>
        </p:grpSpPr>
        <p:sp>
          <p:nvSpPr>
            <p:cNvPr id="2023" name=""/>
            <p:cNvSpPr/>
            <p:nvPr/>
          </p:nvSpPr>
          <p:spPr>
            <a:xfrm>
              <a:off x="1044720" y="2016720"/>
              <a:ext cx="144000" cy="237240"/>
            </a:xfrm>
            <a:custGeom>
              <a:avLst/>
              <a:gdLst/>
              <a:ahLst/>
              <a:rect l="l" t="t" r="r" b="b"/>
              <a:pathLst>
                <a:path w="173" h="295">
                  <a:moveTo>
                    <a:pt x="47" y="0"/>
                  </a:moveTo>
                  <a:lnTo>
                    <a:pt x="127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6" y="3"/>
                  </a:lnTo>
                  <a:lnTo>
                    <a:pt x="138" y="5"/>
                  </a:lnTo>
                  <a:lnTo>
                    <a:pt x="139" y="5"/>
                  </a:lnTo>
                  <a:lnTo>
                    <a:pt x="140" y="8"/>
                  </a:lnTo>
                  <a:lnTo>
                    <a:pt x="142" y="8"/>
                  </a:lnTo>
                  <a:lnTo>
                    <a:pt x="143" y="9"/>
                  </a:lnTo>
                  <a:lnTo>
                    <a:pt x="145" y="11"/>
                  </a:lnTo>
                  <a:lnTo>
                    <a:pt x="145" y="14"/>
                  </a:lnTo>
                  <a:lnTo>
                    <a:pt x="146" y="15"/>
                  </a:lnTo>
                  <a:lnTo>
                    <a:pt x="146" y="17"/>
                  </a:lnTo>
                  <a:lnTo>
                    <a:pt x="148" y="18"/>
                  </a:lnTo>
                  <a:lnTo>
                    <a:pt x="148" y="21"/>
                  </a:lnTo>
                  <a:lnTo>
                    <a:pt x="148" y="24"/>
                  </a:lnTo>
                  <a:lnTo>
                    <a:pt x="149" y="27"/>
                  </a:lnTo>
                  <a:lnTo>
                    <a:pt x="173" y="112"/>
                  </a:lnTo>
                  <a:lnTo>
                    <a:pt x="173" y="113"/>
                  </a:lnTo>
                  <a:lnTo>
                    <a:pt x="173" y="115"/>
                  </a:lnTo>
                  <a:lnTo>
                    <a:pt x="173" y="118"/>
                  </a:lnTo>
                  <a:lnTo>
                    <a:pt x="173" y="119"/>
                  </a:lnTo>
                  <a:lnTo>
                    <a:pt x="171" y="121"/>
                  </a:lnTo>
                  <a:lnTo>
                    <a:pt x="170" y="122"/>
                  </a:lnTo>
                  <a:lnTo>
                    <a:pt x="168" y="123"/>
                  </a:lnTo>
                  <a:lnTo>
                    <a:pt x="167" y="125"/>
                  </a:lnTo>
                  <a:lnTo>
                    <a:pt x="165" y="125"/>
                  </a:lnTo>
                  <a:lnTo>
                    <a:pt x="162" y="126"/>
                  </a:lnTo>
                  <a:lnTo>
                    <a:pt x="161" y="126"/>
                  </a:lnTo>
                  <a:lnTo>
                    <a:pt x="160" y="126"/>
                  </a:lnTo>
                  <a:lnTo>
                    <a:pt x="158" y="126"/>
                  </a:lnTo>
                  <a:lnTo>
                    <a:pt x="157" y="126"/>
                  </a:lnTo>
                  <a:lnTo>
                    <a:pt x="155" y="125"/>
                  </a:lnTo>
                  <a:lnTo>
                    <a:pt x="154" y="125"/>
                  </a:lnTo>
                  <a:lnTo>
                    <a:pt x="151" y="123"/>
                  </a:lnTo>
                  <a:lnTo>
                    <a:pt x="151" y="122"/>
                  </a:lnTo>
                  <a:lnTo>
                    <a:pt x="149" y="121"/>
                  </a:lnTo>
                  <a:lnTo>
                    <a:pt x="148" y="119"/>
                  </a:lnTo>
                  <a:lnTo>
                    <a:pt x="148" y="118"/>
                  </a:lnTo>
                  <a:lnTo>
                    <a:pt x="126" y="41"/>
                  </a:lnTo>
                  <a:lnTo>
                    <a:pt x="117" y="41"/>
                  </a:lnTo>
                  <a:lnTo>
                    <a:pt x="155" y="182"/>
                  </a:lnTo>
                  <a:lnTo>
                    <a:pt x="124" y="182"/>
                  </a:lnTo>
                  <a:lnTo>
                    <a:pt x="126" y="282"/>
                  </a:lnTo>
                  <a:lnTo>
                    <a:pt x="124" y="283"/>
                  </a:lnTo>
                  <a:lnTo>
                    <a:pt x="124" y="285"/>
                  </a:lnTo>
                  <a:lnTo>
                    <a:pt x="123" y="288"/>
                  </a:lnTo>
                  <a:lnTo>
                    <a:pt x="123" y="289"/>
                  </a:lnTo>
                  <a:lnTo>
                    <a:pt x="121" y="290"/>
                  </a:lnTo>
                  <a:lnTo>
                    <a:pt x="120" y="292"/>
                  </a:lnTo>
                  <a:lnTo>
                    <a:pt x="119" y="293"/>
                  </a:lnTo>
                  <a:lnTo>
                    <a:pt x="117" y="293"/>
                  </a:lnTo>
                  <a:lnTo>
                    <a:pt x="114" y="295"/>
                  </a:lnTo>
                  <a:lnTo>
                    <a:pt x="113" y="295"/>
                  </a:lnTo>
                  <a:lnTo>
                    <a:pt x="111" y="295"/>
                  </a:lnTo>
                  <a:lnTo>
                    <a:pt x="110" y="295"/>
                  </a:lnTo>
                  <a:lnTo>
                    <a:pt x="107" y="295"/>
                  </a:lnTo>
                  <a:lnTo>
                    <a:pt x="105" y="295"/>
                  </a:lnTo>
                  <a:lnTo>
                    <a:pt x="104" y="293"/>
                  </a:lnTo>
                  <a:lnTo>
                    <a:pt x="102" y="293"/>
                  </a:lnTo>
                  <a:lnTo>
                    <a:pt x="101" y="292"/>
                  </a:lnTo>
                  <a:lnTo>
                    <a:pt x="99" y="290"/>
                  </a:lnTo>
                  <a:lnTo>
                    <a:pt x="98" y="289"/>
                  </a:lnTo>
                  <a:lnTo>
                    <a:pt x="97" y="289"/>
                  </a:lnTo>
                  <a:lnTo>
                    <a:pt x="97" y="288"/>
                  </a:lnTo>
                  <a:lnTo>
                    <a:pt x="95" y="286"/>
                  </a:lnTo>
                  <a:lnTo>
                    <a:pt x="95" y="285"/>
                  </a:lnTo>
                  <a:lnTo>
                    <a:pt x="95" y="283"/>
                  </a:lnTo>
                  <a:lnTo>
                    <a:pt x="94" y="282"/>
                  </a:lnTo>
                  <a:lnTo>
                    <a:pt x="95" y="184"/>
                  </a:lnTo>
                  <a:lnTo>
                    <a:pt x="79" y="184"/>
                  </a:lnTo>
                  <a:lnTo>
                    <a:pt x="79" y="282"/>
                  </a:lnTo>
                  <a:lnTo>
                    <a:pt x="79" y="283"/>
                  </a:lnTo>
                  <a:lnTo>
                    <a:pt x="79" y="285"/>
                  </a:lnTo>
                  <a:lnTo>
                    <a:pt x="78" y="286"/>
                  </a:lnTo>
                  <a:lnTo>
                    <a:pt x="78" y="288"/>
                  </a:lnTo>
                  <a:lnTo>
                    <a:pt x="76" y="289"/>
                  </a:lnTo>
                  <a:lnTo>
                    <a:pt x="75" y="290"/>
                  </a:lnTo>
                  <a:lnTo>
                    <a:pt x="73" y="292"/>
                  </a:lnTo>
                  <a:lnTo>
                    <a:pt x="72" y="292"/>
                  </a:lnTo>
                  <a:lnTo>
                    <a:pt x="70" y="293"/>
                  </a:lnTo>
                  <a:lnTo>
                    <a:pt x="69" y="295"/>
                  </a:lnTo>
                  <a:lnTo>
                    <a:pt x="67" y="295"/>
                  </a:lnTo>
                  <a:lnTo>
                    <a:pt x="64" y="295"/>
                  </a:lnTo>
                  <a:lnTo>
                    <a:pt x="63" y="295"/>
                  </a:lnTo>
                  <a:lnTo>
                    <a:pt x="61" y="295"/>
                  </a:lnTo>
                  <a:lnTo>
                    <a:pt x="60" y="295"/>
                  </a:lnTo>
                  <a:lnTo>
                    <a:pt x="57" y="293"/>
                  </a:lnTo>
                  <a:lnTo>
                    <a:pt x="56" y="293"/>
                  </a:lnTo>
                  <a:lnTo>
                    <a:pt x="54" y="292"/>
                  </a:lnTo>
                  <a:lnTo>
                    <a:pt x="53" y="292"/>
                  </a:lnTo>
                  <a:lnTo>
                    <a:pt x="51" y="290"/>
                  </a:lnTo>
                  <a:lnTo>
                    <a:pt x="51" y="289"/>
                  </a:lnTo>
                  <a:lnTo>
                    <a:pt x="50" y="288"/>
                  </a:lnTo>
                  <a:lnTo>
                    <a:pt x="50" y="286"/>
                  </a:lnTo>
                  <a:lnTo>
                    <a:pt x="48" y="285"/>
                  </a:lnTo>
                  <a:lnTo>
                    <a:pt x="48" y="283"/>
                  </a:lnTo>
                  <a:lnTo>
                    <a:pt x="48" y="282"/>
                  </a:lnTo>
                  <a:lnTo>
                    <a:pt x="48" y="184"/>
                  </a:lnTo>
                  <a:lnTo>
                    <a:pt x="17" y="184"/>
                  </a:lnTo>
                  <a:lnTo>
                    <a:pt x="56" y="41"/>
                  </a:lnTo>
                  <a:lnTo>
                    <a:pt x="48" y="41"/>
                  </a:lnTo>
                  <a:lnTo>
                    <a:pt x="25" y="119"/>
                  </a:lnTo>
                  <a:lnTo>
                    <a:pt x="25" y="121"/>
                  </a:lnTo>
                  <a:lnTo>
                    <a:pt x="23" y="122"/>
                  </a:lnTo>
                  <a:lnTo>
                    <a:pt x="22" y="125"/>
                  </a:lnTo>
                  <a:lnTo>
                    <a:pt x="22" y="126"/>
                  </a:lnTo>
                  <a:lnTo>
                    <a:pt x="19" y="126"/>
                  </a:lnTo>
                  <a:lnTo>
                    <a:pt x="19" y="128"/>
                  </a:lnTo>
                  <a:lnTo>
                    <a:pt x="16" y="128"/>
                  </a:lnTo>
                  <a:lnTo>
                    <a:pt x="15" y="129"/>
                  </a:lnTo>
                  <a:lnTo>
                    <a:pt x="12" y="128"/>
                  </a:lnTo>
                  <a:lnTo>
                    <a:pt x="10" y="128"/>
                  </a:lnTo>
                  <a:lnTo>
                    <a:pt x="9" y="128"/>
                  </a:lnTo>
                  <a:lnTo>
                    <a:pt x="6" y="128"/>
                  </a:lnTo>
                  <a:lnTo>
                    <a:pt x="4" y="126"/>
                  </a:lnTo>
                  <a:lnTo>
                    <a:pt x="3" y="125"/>
                  </a:lnTo>
                  <a:lnTo>
                    <a:pt x="3" y="123"/>
                  </a:lnTo>
                  <a:lnTo>
                    <a:pt x="1" y="122"/>
                  </a:lnTo>
                  <a:lnTo>
                    <a:pt x="0" y="121"/>
                  </a:lnTo>
                  <a:lnTo>
                    <a:pt x="0" y="119"/>
                  </a:lnTo>
                  <a:lnTo>
                    <a:pt x="0" y="118"/>
                  </a:lnTo>
                  <a:lnTo>
                    <a:pt x="0" y="116"/>
                  </a:lnTo>
                  <a:lnTo>
                    <a:pt x="0" y="115"/>
                  </a:lnTo>
                  <a:lnTo>
                    <a:pt x="0" y="113"/>
                  </a:lnTo>
                  <a:lnTo>
                    <a:pt x="25" y="25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2" y="8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4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089360" y="1963800"/>
              <a:ext cx="54360" cy="529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5" name=""/>
          <p:cNvSpPr/>
          <p:nvPr/>
        </p:nvSpPr>
        <p:spPr>
          <a:xfrm>
            <a:off x="673200" y="1521000"/>
            <a:ext cx="92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" spc="-1" strike="noStrike">
                <a:solidFill>
                  <a:srgbClr val="ffffff"/>
                </a:solidFill>
                <a:latin typeface="全真楷書"/>
                <a:ea typeface="全真楷書"/>
              </a:rPr>
              <a:t>6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46200" y="1601640"/>
            <a:ext cx="1429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819000" y="1601640"/>
            <a:ext cx="2700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853920" y="1601640"/>
            <a:ext cx="320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657360" y="1506960"/>
            <a:ext cx="263160" cy="21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4668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46682"/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822240" y="1725480"/>
            <a:ext cx="2880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858960" y="1725480"/>
            <a:ext cx="298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87320" y="1641600"/>
            <a:ext cx="92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" spc="-1" strike="noStrike">
                <a:solidFill>
                  <a:srgbClr val="ffffff"/>
                </a:solidFill>
                <a:latin typeface="全真楷書"/>
                <a:ea typeface="全真楷書"/>
              </a:rPr>
              <a:t>5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920520" y="1538280"/>
            <a:ext cx="153000" cy="195120"/>
            <a:chOff x="920520" y="1538280"/>
            <a:chExt cx="153000" cy="195120"/>
          </a:xfrm>
        </p:grpSpPr>
        <p:sp>
          <p:nvSpPr>
            <p:cNvPr id="2034" name=""/>
            <p:cNvSpPr/>
            <p:nvPr/>
          </p:nvSpPr>
          <p:spPr>
            <a:xfrm>
              <a:off x="920520" y="1538280"/>
              <a:ext cx="153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" spc="-1" strike="noStrike">
                  <a:solidFill>
                    <a:srgbClr val="ffffff"/>
                  </a:solidFill>
                  <a:latin typeface="全真楷書"/>
                  <a:ea typeface="全真楷書"/>
                </a:rPr>
                <a:t>12:45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920520" y="1672200"/>
              <a:ext cx="153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" spc="-1" strike="noStrike">
                  <a:solidFill>
                    <a:srgbClr val="ffffff"/>
                  </a:solidFill>
                  <a:latin typeface="全真楷書"/>
                  <a:ea typeface="全真楷書"/>
                </a:rPr>
                <a:t>12:53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6" name=""/>
          <p:cNvSpPr/>
          <p:nvPr/>
        </p:nvSpPr>
        <p:spPr>
          <a:xfrm>
            <a:off x="834840" y="2305080"/>
            <a:ext cx="320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00"/>
                </a:solidFill>
                <a:latin typeface="全真楷書"/>
                <a:ea typeface="全真楷書"/>
              </a:rPr>
              <a:t>車站資訊看板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1847520" y="2476440"/>
            <a:ext cx="320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00"/>
                </a:solidFill>
                <a:latin typeface="全真楷書"/>
                <a:ea typeface="全真楷書"/>
              </a:rPr>
              <a:t>公車優先通行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8" name="" descr=""/>
          <p:cNvPicPr/>
          <p:nvPr/>
        </p:nvPicPr>
        <p:blipFill>
          <a:blip r:embed="rId4"/>
          <a:stretch/>
        </p:blipFill>
        <p:spPr>
          <a:xfrm>
            <a:off x="1436760" y="1409760"/>
            <a:ext cx="685800" cy="358560"/>
          </a:xfrm>
          <a:prstGeom prst="rect">
            <a:avLst/>
          </a:prstGeom>
          <a:ln w="0">
            <a:noFill/>
          </a:ln>
        </p:spPr>
      </p:pic>
      <p:grpSp>
        <p:nvGrpSpPr>
          <p:cNvPr id="2039" name=""/>
          <p:cNvGrpSpPr/>
          <p:nvPr/>
        </p:nvGrpSpPr>
        <p:grpSpPr>
          <a:xfrm>
            <a:off x="1042920" y="1008000"/>
            <a:ext cx="261720" cy="145800"/>
            <a:chOff x="1042920" y="1008000"/>
            <a:chExt cx="261720" cy="145800"/>
          </a:xfrm>
        </p:grpSpPr>
        <p:sp>
          <p:nvSpPr>
            <p:cNvPr id="2040" name=""/>
            <p:cNvSpPr/>
            <p:nvPr/>
          </p:nvSpPr>
          <p:spPr>
            <a:xfrm>
              <a:off x="1142280" y="1070640"/>
              <a:ext cx="7920" cy="7920"/>
            </a:xfrm>
            <a:prstGeom prst="rect">
              <a:avLst/>
            </a:prstGeom>
            <a:solidFill>
              <a:srgbClr val="c5a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152000" y="1070640"/>
              <a:ext cx="10080" cy="7920"/>
            </a:xfrm>
            <a:prstGeom prst="rect">
              <a:avLst/>
            </a:prstGeom>
            <a:solidFill>
              <a:srgbClr val="4a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162440" y="107064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172160" y="1070640"/>
              <a:ext cx="10080" cy="7920"/>
            </a:xfrm>
            <a:prstGeom prst="rect">
              <a:avLst/>
            </a:prstGeom>
            <a:solidFill>
              <a:srgbClr val="c5a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183680" y="1070640"/>
              <a:ext cx="7920" cy="7920"/>
            </a:xfrm>
            <a:prstGeom prst="rect">
              <a:avLst/>
            </a:prstGeom>
            <a:solidFill>
              <a:srgbClr val="a59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193400" y="1070640"/>
              <a:ext cx="7920" cy="7920"/>
            </a:xfrm>
            <a:prstGeom prst="rect">
              <a:avLst/>
            </a:prstGeom>
            <a:solidFill>
              <a:srgbClr val="65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042920" y="1008000"/>
              <a:ext cx="261720" cy="57600"/>
            </a:xfrm>
            <a:custGeom>
              <a:avLst/>
              <a:gdLst/>
              <a:ahLst/>
              <a:rect l="l" t="t" r="r" b="b"/>
              <a:pathLst>
                <a:path w="316" h="72">
                  <a:moveTo>
                    <a:pt x="22" y="12"/>
                  </a:moveTo>
                  <a:lnTo>
                    <a:pt x="66" y="6"/>
                  </a:lnTo>
                  <a:lnTo>
                    <a:pt x="110" y="2"/>
                  </a:lnTo>
                  <a:lnTo>
                    <a:pt x="152" y="0"/>
                  </a:lnTo>
                  <a:lnTo>
                    <a:pt x="196" y="2"/>
                  </a:lnTo>
                  <a:lnTo>
                    <a:pt x="240" y="5"/>
                  </a:lnTo>
                  <a:lnTo>
                    <a:pt x="283" y="10"/>
                  </a:lnTo>
                  <a:lnTo>
                    <a:pt x="296" y="15"/>
                  </a:lnTo>
                  <a:lnTo>
                    <a:pt x="312" y="34"/>
                  </a:lnTo>
                  <a:lnTo>
                    <a:pt x="316" y="56"/>
                  </a:lnTo>
                  <a:lnTo>
                    <a:pt x="309" y="72"/>
                  </a:lnTo>
                  <a:lnTo>
                    <a:pt x="231" y="63"/>
                  </a:lnTo>
                  <a:lnTo>
                    <a:pt x="234" y="46"/>
                  </a:lnTo>
                  <a:lnTo>
                    <a:pt x="239" y="37"/>
                  </a:lnTo>
                  <a:lnTo>
                    <a:pt x="242" y="32"/>
                  </a:lnTo>
                  <a:lnTo>
                    <a:pt x="205" y="30"/>
                  </a:lnTo>
                  <a:lnTo>
                    <a:pt x="170" y="28"/>
                  </a:lnTo>
                  <a:lnTo>
                    <a:pt x="139" y="28"/>
                  </a:lnTo>
                  <a:lnTo>
                    <a:pt x="104" y="30"/>
                  </a:lnTo>
                  <a:lnTo>
                    <a:pt x="75" y="34"/>
                  </a:lnTo>
                  <a:lnTo>
                    <a:pt x="72" y="37"/>
                  </a:lnTo>
                  <a:lnTo>
                    <a:pt x="83" y="44"/>
                  </a:lnTo>
                  <a:lnTo>
                    <a:pt x="83" y="59"/>
                  </a:lnTo>
                  <a:lnTo>
                    <a:pt x="7" y="71"/>
                  </a:lnTo>
                  <a:lnTo>
                    <a:pt x="0" y="53"/>
                  </a:lnTo>
                  <a:lnTo>
                    <a:pt x="4" y="30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c5a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1238040" y="1041480"/>
              <a:ext cx="6444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V="1">
              <a:off x="1042920" y="1041480"/>
              <a:ext cx="5616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042920" y="1008000"/>
              <a:ext cx="261720" cy="57600"/>
            </a:xfrm>
            <a:custGeom>
              <a:avLst/>
              <a:gdLst/>
              <a:ahLst/>
              <a:rect l="l" t="t" r="r" b="b"/>
              <a:pathLst>
                <a:path w="316" h="72">
                  <a:moveTo>
                    <a:pt x="22" y="12"/>
                  </a:moveTo>
                  <a:lnTo>
                    <a:pt x="66" y="6"/>
                  </a:lnTo>
                  <a:lnTo>
                    <a:pt x="110" y="2"/>
                  </a:lnTo>
                  <a:lnTo>
                    <a:pt x="152" y="0"/>
                  </a:lnTo>
                  <a:lnTo>
                    <a:pt x="196" y="2"/>
                  </a:lnTo>
                  <a:lnTo>
                    <a:pt x="240" y="5"/>
                  </a:lnTo>
                  <a:lnTo>
                    <a:pt x="283" y="10"/>
                  </a:lnTo>
                  <a:lnTo>
                    <a:pt x="296" y="15"/>
                  </a:lnTo>
                  <a:lnTo>
                    <a:pt x="312" y="34"/>
                  </a:lnTo>
                  <a:lnTo>
                    <a:pt x="316" y="56"/>
                  </a:lnTo>
                  <a:lnTo>
                    <a:pt x="309" y="72"/>
                  </a:lnTo>
                  <a:lnTo>
                    <a:pt x="231" y="63"/>
                  </a:lnTo>
                  <a:lnTo>
                    <a:pt x="234" y="46"/>
                  </a:lnTo>
                  <a:lnTo>
                    <a:pt x="239" y="37"/>
                  </a:lnTo>
                  <a:lnTo>
                    <a:pt x="242" y="32"/>
                  </a:lnTo>
                  <a:lnTo>
                    <a:pt x="205" y="30"/>
                  </a:lnTo>
                  <a:lnTo>
                    <a:pt x="170" y="28"/>
                  </a:lnTo>
                  <a:lnTo>
                    <a:pt x="139" y="28"/>
                  </a:lnTo>
                  <a:lnTo>
                    <a:pt x="104" y="30"/>
                  </a:lnTo>
                  <a:lnTo>
                    <a:pt x="75" y="34"/>
                  </a:lnTo>
                  <a:lnTo>
                    <a:pt x="72" y="37"/>
                  </a:lnTo>
                  <a:lnTo>
                    <a:pt x="83" y="44"/>
                  </a:lnTo>
                  <a:lnTo>
                    <a:pt x="83" y="59"/>
                  </a:lnTo>
                  <a:lnTo>
                    <a:pt x="7" y="71"/>
                  </a:lnTo>
                  <a:lnTo>
                    <a:pt x="0" y="53"/>
                  </a:lnTo>
                  <a:lnTo>
                    <a:pt x="4" y="30"/>
                  </a:lnTo>
                  <a:lnTo>
                    <a:pt x="22" y="1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092240" y="1036440"/>
              <a:ext cx="150840" cy="69120"/>
            </a:xfrm>
            <a:custGeom>
              <a:avLst/>
              <a:gdLst/>
              <a:ahLst/>
              <a:rect l="l" t="t" r="r" b="b"/>
              <a:pathLst>
                <a:path w="182" h="86">
                  <a:moveTo>
                    <a:pt x="10" y="0"/>
                  </a:moveTo>
                  <a:lnTo>
                    <a:pt x="174" y="0"/>
                  </a:lnTo>
                  <a:lnTo>
                    <a:pt x="182" y="86"/>
                  </a:lnTo>
                  <a:lnTo>
                    <a:pt x="0" y="8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5a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04120" y="1041480"/>
              <a:ext cx="131040" cy="59760"/>
            </a:xfrm>
            <a:custGeom>
              <a:avLst/>
              <a:gdLst/>
              <a:ahLst/>
              <a:rect l="l" t="t" r="r" b="b"/>
              <a:pathLst>
                <a:path w="158" h="74">
                  <a:moveTo>
                    <a:pt x="8" y="0"/>
                  </a:moveTo>
                  <a:lnTo>
                    <a:pt x="0" y="74"/>
                  </a:lnTo>
                  <a:lnTo>
                    <a:pt x="158" y="74"/>
                  </a:lnTo>
                  <a:lnTo>
                    <a:pt x="15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a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092240" y="1036440"/>
              <a:ext cx="150840" cy="69120"/>
            </a:xfrm>
            <a:custGeom>
              <a:avLst/>
              <a:gdLst/>
              <a:ahLst/>
              <a:rect l="l" t="t" r="r" b="b"/>
              <a:pathLst>
                <a:path w="182" h="86">
                  <a:moveTo>
                    <a:pt x="10" y="0"/>
                  </a:moveTo>
                  <a:lnTo>
                    <a:pt x="174" y="0"/>
                  </a:lnTo>
                  <a:lnTo>
                    <a:pt x="182" y="86"/>
                  </a:lnTo>
                  <a:lnTo>
                    <a:pt x="0" y="86"/>
                  </a:lnTo>
                  <a:lnTo>
                    <a:pt x="1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089360" y="1105920"/>
              <a:ext cx="162360" cy="44640"/>
            </a:xfrm>
            <a:custGeom>
              <a:avLst/>
              <a:gdLst/>
              <a:ahLst/>
              <a:rect l="l" t="t" r="r" b="b"/>
              <a:pathLst>
                <a:path w="196" h="56">
                  <a:moveTo>
                    <a:pt x="184" y="0"/>
                  </a:moveTo>
                  <a:lnTo>
                    <a:pt x="196" y="56"/>
                  </a:lnTo>
                  <a:lnTo>
                    <a:pt x="0" y="56"/>
                  </a:lnTo>
                  <a:lnTo>
                    <a:pt x="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a59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089360" y="1105920"/>
              <a:ext cx="162360" cy="44640"/>
            </a:xfrm>
            <a:custGeom>
              <a:avLst/>
              <a:gdLst/>
              <a:ahLst/>
              <a:rect l="l" t="t" r="r" b="b"/>
              <a:pathLst>
                <a:path w="196" h="56">
                  <a:moveTo>
                    <a:pt x="184" y="0"/>
                  </a:moveTo>
                  <a:lnTo>
                    <a:pt x="196" y="56"/>
                  </a:lnTo>
                  <a:lnTo>
                    <a:pt x="0" y="56"/>
                  </a:lnTo>
                  <a:lnTo>
                    <a:pt x="4" y="0"/>
                  </a:lnTo>
                  <a:lnTo>
                    <a:pt x="18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236600" y="1036440"/>
              <a:ext cx="14760" cy="11052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0" y="0"/>
                  </a:moveTo>
                  <a:lnTo>
                    <a:pt x="6" y="88"/>
                  </a:lnTo>
                  <a:lnTo>
                    <a:pt x="18" y="138"/>
                  </a:lnTo>
                  <a:lnTo>
                    <a:pt x="13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236600" y="1036440"/>
              <a:ext cx="14760" cy="11052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0" y="0"/>
                  </a:moveTo>
                  <a:lnTo>
                    <a:pt x="6" y="88"/>
                  </a:lnTo>
                  <a:lnTo>
                    <a:pt x="18" y="138"/>
                  </a:lnTo>
                  <a:lnTo>
                    <a:pt x="13" y="3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142280" y="1046520"/>
              <a:ext cx="54360" cy="4320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180440" y="1044720"/>
              <a:ext cx="1800" cy="48240"/>
            </a:xfrm>
            <a:prstGeom prst="line">
              <a:avLst/>
            </a:prstGeom>
            <a:ln w="3240">
              <a:solidFill>
                <a:srgbClr val="4a4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200240" y="1015920"/>
              <a:ext cx="16200" cy="1908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25"/>
                  </a:moveTo>
                  <a:lnTo>
                    <a:pt x="2" y="0"/>
                  </a:lnTo>
                  <a:lnTo>
                    <a:pt x="18" y="0"/>
                  </a:lnTo>
                  <a:lnTo>
                    <a:pt x="21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5a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200240" y="1030320"/>
              <a:ext cx="16200" cy="4680"/>
            </a:xfrm>
            <a:prstGeom prst="rect">
              <a:avLst/>
            </a:prstGeom>
            <a:solidFill>
              <a:srgbClr val="65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200240" y="1015920"/>
              <a:ext cx="16200" cy="2052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2" y="0"/>
                  </a:lnTo>
                  <a:lnTo>
                    <a:pt x="18" y="0"/>
                  </a:lnTo>
                  <a:lnTo>
                    <a:pt x="21" y="27"/>
                  </a:lnTo>
                  <a:lnTo>
                    <a:pt x="0" y="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>
              <a:off x="1142280" y="1068840"/>
              <a:ext cx="61200" cy="1800"/>
            </a:xfrm>
            <a:prstGeom prst="line">
              <a:avLst/>
            </a:prstGeom>
            <a:ln w="3240">
              <a:solidFill>
                <a:srgbClr val="4a4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1140120" y="1080000"/>
              <a:ext cx="63000" cy="1800"/>
            </a:xfrm>
            <a:prstGeom prst="line">
              <a:avLst/>
            </a:prstGeom>
            <a:ln w="3240">
              <a:solidFill>
                <a:srgbClr val="4a4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>
              <a:off x="1142280" y="1055880"/>
              <a:ext cx="62640" cy="1440"/>
            </a:xfrm>
            <a:prstGeom prst="line">
              <a:avLst/>
            </a:prstGeom>
            <a:ln w="3240">
              <a:solidFill>
                <a:srgbClr val="4a4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095840" y="1152360"/>
              <a:ext cx="244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H="1">
              <a:off x="1216800" y="1152360"/>
              <a:ext cx="244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160280" y="1044720"/>
              <a:ext cx="1800" cy="48240"/>
            </a:xfrm>
            <a:prstGeom prst="line">
              <a:avLst/>
            </a:prstGeom>
            <a:ln w="3240">
              <a:solidFill>
                <a:srgbClr val="4a4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122480" y="1015920"/>
              <a:ext cx="14400" cy="1908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25"/>
                  </a:moveTo>
                  <a:lnTo>
                    <a:pt x="2" y="0"/>
                  </a:lnTo>
                  <a:lnTo>
                    <a:pt x="18" y="0"/>
                  </a:lnTo>
                  <a:lnTo>
                    <a:pt x="19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5a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122480" y="1030320"/>
              <a:ext cx="14400" cy="4680"/>
            </a:xfrm>
            <a:prstGeom prst="rect">
              <a:avLst/>
            </a:prstGeom>
            <a:solidFill>
              <a:srgbClr val="65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122480" y="1015920"/>
              <a:ext cx="14400" cy="20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0" y="25"/>
                  </a:moveTo>
                  <a:lnTo>
                    <a:pt x="2" y="0"/>
                  </a:lnTo>
                  <a:lnTo>
                    <a:pt x="18" y="0"/>
                  </a:lnTo>
                  <a:lnTo>
                    <a:pt x="19" y="27"/>
                  </a:lnTo>
                  <a:lnTo>
                    <a:pt x="0" y="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1" name=""/>
          <p:cNvSpPr/>
          <p:nvPr/>
        </p:nvSpPr>
        <p:spPr>
          <a:xfrm>
            <a:off x="1278000" y="1149480"/>
            <a:ext cx="146160" cy="390240"/>
          </a:xfrm>
          <a:custGeom>
            <a:avLst/>
            <a:gdLst/>
            <a:ahLst/>
            <a:rect l="l" t="t" r="r" b="b"/>
            <a:pathLst>
              <a:path w="176" h="483">
                <a:moveTo>
                  <a:pt x="0" y="0"/>
                </a:moveTo>
                <a:lnTo>
                  <a:pt x="13" y="0"/>
                </a:lnTo>
                <a:lnTo>
                  <a:pt x="31" y="4"/>
                </a:lnTo>
                <a:lnTo>
                  <a:pt x="44" y="18"/>
                </a:lnTo>
                <a:lnTo>
                  <a:pt x="57" y="31"/>
                </a:lnTo>
                <a:lnTo>
                  <a:pt x="70" y="44"/>
                </a:lnTo>
                <a:lnTo>
                  <a:pt x="84" y="57"/>
                </a:lnTo>
                <a:lnTo>
                  <a:pt x="92" y="70"/>
                </a:lnTo>
                <a:lnTo>
                  <a:pt x="101" y="84"/>
                </a:lnTo>
                <a:lnTo>
                  <a:pt x="106" y="97"/>
                </a:lnTo>
                <a:lnTo>
                  <a:pt x="106" y="110"/>
                </a:lnTo>
                <a:lnTo>
                  <a:pt x="110" y="123"/>
                </a:lnTo>
                <a:lnTo>
                  <a:pt x="110" y="136"/>
                </a:lnTo>
                <a:lnTo>
                  <a:pt x="110" y="149"/>
                </a:lnTo>
                <a:lnTo>
                  <a:pt x="110" y="163"/>
                </a:lnTo>
                <a:lnTo>
                  <a:pt x="110" y="176"/>
                </a:lnTo>
                <a:lnTo>
                  <a:pt x="106" y="189"/>
                </a:lnTo>
                <a:lnTo>
                  <a:pt x="101" y="202"/>
                </a:lnTo>
                <a:lnTo>
                  <a:pt x="97" y="215"/>
                </a:lnTo>
                <a:lnTo>
                  <a:pt x="92" y="229"/>
                </a:lnTo>
                <a:lnTo>
                  <a:pt x="84" y="242"/>
                </a:lnTo>
                <a:lnTo>
                  <a:pt x="84" y="255"/>
                </a:lnTo>
                <a:lnTo>
                  <a:pt x="79" y="268"/>
                </a:lnTo>
                <a:lnTo>
                  <a:pt x="79" y="281"/>
                </a:lnTo>
                <a:lnTo>
                  <a:pt x="79" y="294"/>
                </a:lnTo>
                <a:lnTo>
                  <a:pt x="79" y="308"/>
                </a:lnTo>
                <a:lnTo>
                  <a:pt x="79" y="321"/>
                </a:lnTo>
                <a:lnTo>
                  <a:pt x="79" y="334"/>
                </a:lnTo>
                <a:lnTo>
                  <a:pt x="79" y="347"/>
                </a:lnTo>
                <a:lnTo>
                  <a:pt x="79" y="360"/>
                </a:lnTo>
                <a:lnTo>
                  <a:pt x="79" y="374"/>
                </a:lnTo>
                <a:lnTo>
                  <a:pt x="84" y="387"/>
                </a:lnTo>
                <a:lnTo>
                  <a:pt x="92" y="400"/>
                </a:lnTo>
                <a:lnTo>
                  <a:pt x="106" y="409"/>
                </a:lnTo>
                <a:lnTo>
                  <a:pt x="110" y="422"/>
                </a:lnTo>
                <a:lnTo>
                  <a:pt x="123" y="435"/>
                </a:lnTo>
                <a:lnTo>
                  <a:pt x="132" y="448"/>
                </a:lnTo>
                <a:lnTo>
                  <a:pt x="141" y="461"/>
                </a:lnTo>
                <a:lnTo>
                  <a:pt x="154" y="466"/>
                </a:lnTo>
                <a:lnTo>
                  <a:pt x="163" y="479"/>
                </a:lnTo>
                <a:lnTo>
                  <a:pt x="176" y="48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630440" y="1109520"/>
            <a:ext cx="203040" cy="301680"/>
          </a:xfrm>
          <a:custGeom>
            <a:avLst/>
            <a:gdLst/>
            <a:ahLst/>
            <a:rect l="l" t="t" r="r" b="b"/>
            <a:pathLst>
              <a:path w="246" h="373">
                <a:moveTo>
                  <a:pt x="0" y="4"/>
                </a:moveTo>
                <a:lnTo>
                  <a:pt x="18" y="0"/>
                </a:lnTo>
                <a:lnTo>
                  <a:pt x="31" y="0"/>
                </a:lnTo>
                <a:lnTo>
                  <a:pt x="44" y="0"/>
                </a:lnTo>
                <a:lnTo>
                  <a:pt x="57" y="0"/>
                </a:lnTo>
                <a:lnTo>
                  <a:pt x="75" y="0"/>
                </a:lnTo>
                <a:lnTo>
                  <a:pt x="88" y="0"/>
                </a:lnTo>
                <a:lnTo>
                  <a:pt x="101" y="4"/>
                </a:lnTo>
                <a:lnTo>
                  <a:pt x="119" y="13"/>
                </a:lnTo>
                <a:lnTo>
                  <a:pt x="132" y="22"/>
                </a:lnTo>
                <a:lnTo>
                  <a:pt x="145" y="26"/>
                </a:lnTo>
                <a:lnTo>
                  <a:pt x="159" y="30"/>
                </a:lnTo>
                <a:lnTo>
                  <a:pt x="172" y="35"/>
                </a:lnTo>
                <a:lnTo>
                  <a:pt x="185" y="44"/>
                </a:lnTo>
                <a:lnTo>
                  <a:pt x="198" y="48"/>
                </a:lnTo>
                <a:lnTo>
                  <a:pt x="211" y="61"/>
                </a:lnTo>
                <a:lnTo>
                  <a:pt x="220" y="74"/>
                </a:lnTo>
                <a:lnTo>
                  <a:pt x="229" y="88"/>
                </a:lnTo>
                <a:lnTo>
                  <a:pt x="233" y="101"/>
                </a:lnTo>
                <a:lnTo>
                  <a:pt x="238" y="114"/>
                </a:lnTo>
                <a:lnTo>
                  <a:pt x="242" y="127"/>
                </a:lnTo>
                <a:lnTo>
                  <a:pt x="246" y="140"/>
                </a:lnTo>
                <a:lnTo>
                  <a:pt x="246" y="153"/>
                </a:lnTo>
                <a:lnTo>
                  <a:pt x="246" y="167"/>
                </a:lnTo>
                <a:lnTo>
                  <a:pt x="238" y="180"/>
                </a:lnTo>
                <a:lnTo>
                  <a:pt x="224" y="189"/>
                </a:lnTo>
                <a:lnTo>
                  <a:pt x="211" y="202"/>
                </a:lnTo>
                <a:lnTo>
                  <a:pt x="198" y="211"/>
                </a:lnTo>
                <a:lnTo>
                  <a:pt x="185" y="219"/>
                </a:lnTo>
                <a:lnTo>
                  <a:pt x="172" y="224"/>
                </a:lnTo>
                <a:lnTo>
                  <a:pt x="159" y="233"/>
                </a:lnTo>
                <a:lnTo>
                  <a:pt x="145" y="233"/>
                </a:lnTo>
                <a:lnTo>
                  <a:pt x="132" y="237"/>
                </a:lnTo>
                <a:lnTo>
                  <a:pt x="119" y="241"/>
                </a:lnTo>
                <a:lnTo>
                  <a:pt x="106" y="246"/>
                </a:lnTo>
                <a:lnTo>
                  <a:pt x="88" y="250"/>
                </a:lnTo>
                <a:lnTo>
                  <a:pt x="71" y="255"/>
                </a:lnTo>
                <a:lnTo>
                  <a:pt x="57" y="259"/>
                </a:lnTo>
                <a:lnTo>
                  <a:pt x="44" y="263"/>
                </a:lnTo>
                <a:lnTo>
                  <a:pt x="31" y="272"/>
                </a:lnTo>
                <a:lnTo>
                  <a:pt x="18" y="281"/>
                </a:lnTo>
                <a:lnTo>
                  <a:pt x="14" y="294"/>
                </a:lnTo>
                <a:lnTo>
                  <a:pt x="9" y="307"/>
                </a:lnTo>
                <a:lnTo>
                  <a:pt x="5" y="321"/>
                </a:lnTo>
                <a:lnTo>
                  <a:pt x="0" y="334"/>
                </a:lnTo>
                <a:lnTo>
                  <a:pt x="0" y="347"/>
                </a:lnTo>
                <a:lnTo>
                  <a:pt x="0" y="360"/>
                </a:lnTo>
                <a:lnTo>
                  <a:pt x="0" y="37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547640" y="183348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全真楷書"/>
                <a:ea typeface="全真楷書"/>
              </a:rPr>
              <a:t>大眾運輸控制中心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1182600" y="1731960"/>
            <a:ext cx="244440" cy="447840"/>
          </a:xfrm>
          <a:custGeom>
            <a:avLst/>
            <a:gdLst/>
            <a:ahLst/>
            <a:rect l="l" t="t" r="r" b="b"/>
            <a:pathLst>
              <a:path w="294" h="554">
                <a:moveTo>
                  <a:pt x="294" y="0"/>
                </a:moveTo>
                <a:lnTo>
                  <a:pt x="281" y="0"/>
                </a:lnTo>
                <a:lnTo>
                  <a:pt x="268" y="4"/>
                </a:lnTo>
                <a:lnTo>
                  <a:pt x="255" y="13"/>
                </a:lnTo>
                <a:lnTo>
                  <a:pt x="242" y="22"/>
                </a:lnTo>
                <a:lnTo>
                  <a:pt x="233" y="35"/>
                </a:lnTo>
                <a:lnTo>
                  <a:pt x="220" y="48"/>
                </a:lnTo>
                <a:lnTo>
                  <a:pt x="206" y="57"/>
                </a:lnTo>
                <a:lnTo>
                  <a:pt x="198" y="70"/>
                </a:lnTo>
                <a:lnTo>
                  <a:pt x="184" y="79"/>
                </a:lnTo>
                <a:lnTo>
                  <a:pt x="171" y="88"/>
                </a:lnTo>
                <a:lnTo>
                  <a:pt x="158" y="101"/>
                </a:lnTo>
                <a:lnTo>
                  <a:pt x="145" y="114"/>
                </a:lnTo>
                <a:lnTo>
                  <a:pt x="132" y="127"/>
                </a:lnTo>
                <a:lnTo>
                  <a:pt x="127" y="140"/>
                </a:lnTo>
                <a:lnTo>
                  <a:pt x="114" y="158"/>
                </a:lnTo>
                <a:lnTo>
                  <a:pt x="110" y="171"/>
                </a:lnTo>
                <a:lnTo>
                  <a:pt x="110" y="184"/>
                </a:lnTo>
                <a:lnTo>
                  <a:pt x="105" y="198"/>
                </a:lnTo>
                <a:lnTo>
                  <a:pt x="105" y="211"/>
                </a:lnTo>
                <a:lnTo>
                  <a:pt x="105" y="224"/>
                </a:lnTo>
                <a:lnTo>
                  <a:pt x="105" y="237"/>
                </a:lnTo>
                <a:lnTo>
                  <a:pt x="105" y="250"/>
                </a:lnTo>
                <a:lnTo>
                  <a:pt x="105" y="263"/>
                </a:lnTo>
                <a:lnTo>
                  <a:pt x="110" y="277"/>
                </a:lnTo>
                <a:lnTo>
                  <a:pt x="123" y="294"/>
                </a:lnTo>
                <a:lnTo>
                  <a:pt x="136" y="303"/>
                </a:lnTo>
                <a:lnTo>
                  <a:pt x="149" y="312"/>
                </a:lnTo>
                <a:lnTo>
                  <a:pt x="162" y="321"/>
                </a:lnTo>
                <a:lnTo>
                  <a:pt x="176" y="325"/>
                </a:lnTo>
                <a:lnTo>
                  <a:pt x="193" y="334"/>
                </a:lnTo>
                <a:lnTo>
                  <a:pt x="206" y="334"/>
                </a:lnTo>
                <a:lnTo>
                  <a:pt x="220" y="338"/>
                </a:lnTo>
                <a:lnTo>
                  <a:pt x="237" y="347"/>
                </a:lnTo>
                <a:lnTo>
                  <a:pt x="250" y="356"/>
                </a:lnTo>
                <a:lnTo>
                  <a:pt x="264" y="365"/>
                </a:lnTo>
                <a:lnTo>
                  <a:pt x="272" y="378"/>
                </a:lnTo>
                <a:lnTo>
                  <a:pt x="272" y="391"/>
                </a:lnTo>
                <a:lnTo>
                  <a:pt x="277" y="404"/>
                </a:lnTo>
                <a:lnTo>
                  <a:pt x="277" y="417"/>
                </a:lnTo>
                <a:lnTo>
                  <a:pt x="277" y="431"/>
                </a:lnTo>
                <a:lnTo>
                  <a:pt x="277" y="444"/>
                </a:lnTo>
                <a:lnTo>
                  <a:pt x="277" y="457"/>
                </a:lnTo>
                <a:lnTo>
                  <a:pt x="264" y="474"/>
                </a:lnTo>
                <a:lnTo>
                  <a:pt x="250" y="483"/>
                </a:lnTo>
                <a:lnTo>
                  <a:pt x="237" y="496"/>
                </a:lnTo>
                <a:lnTo>
                  <a:pt x="224" y="505"/>
                </a:lnTo>
                <a:lnTo>
                  <a:pt x="211" y="514"/>
                </a:lnTo>
                <a:lnTo>
                  <a:pt x="198" y="518"/>
                </a:lnTo>
                <a:lnTo>
                  <a:pt x="184" y="527"/>
                </a:lnTo>
                <a:lnTo>
                  <a:pt x="171" y="532"/>
                </a:lnTo>
                <a:lnTo>
                  <a:pt x="158" y="536"/>
                </a:lnTo>
                <a:lnTo>
                  <a:pt x="145" y="540"/>
                </a:lnTo>
                <a:lnTo>
                  <a:pt x="132" y="540"/>
                </a:lnTo>
                <a:lnTo>
                  <a:pt x="119" y="545"/>
                </a:lnTo>
                <a:lnTo>
                  <a:pt x="105" y="545"/>
                </a:lnTo>
                <a:lnTo>
                  <a:pt x="92" y="545"/>
                </a:lnTo>
                <a:lnTo>
                  <a:pt x="79" y="545"/>
                </a:lnTo>
                <a:lnTo>
                  <a:pt x="66" y="545"/>
                </a:lnTo>
                <a:lnTo>
                  <a:pt x="53" y="545"/>
                </a:lnTo>
                <a:lnTo>
                  <a:pt x="39" y="549"/>
                </a:lnTo>
                <a:lnTo>
                  <a:pt x="26" y="549"/>
                </a:lnTo>
                <a:lnTo>
                  <a:pt x="13" y="549"/>
                </a:lnTo>
                <a:lnTo>
                  <a:pt x="0" y="55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122560" y="1643040"/>
            <a:ext cx="504720" cy="220680"/>
          </a:xfrm>
          <a:custGeom>
            <a:avLst/>
            <a:gdLst/>
            <a:ahLst/>
            <a:rect l="l" t="t" r="r" b="b"/>
            <a:pathLst>
              <a:path w="610" h="272">
                <a:moveTo>
                  <a:pt x="0" y="0"/>
                </a:moveTo>
                <a:lnTo>
                  <a:pt x="13" y="0"/>
                </a:lnTo>
                <a:lnTo>
                  <a:pt x="26" y="0"/>
                </a:lnTo>
                <a:lnTo>
                  <a:pt x="39" y="0"/>
                </a:lnTo>
                <a:lnTo>
                  <a:pt x="52" y="0"/>
                </a:lnTo>
                <a:lnTo>
                  <a:pt x="66" y="4"/>
                </a:lnTo>
                <a:lnTo>
                  <a:pt x="79" y="4"/>
                </a:lnTo>
                <a:lnTo>
                  <a:pt x="92" y="4"/>
                </a:lnTo>
                <a:lnTo>
                  <a:pt x="109" y="9"/>
                </a:lnTo>
                <a:lnTo>
                  <a:pt x="123" y="9"/>
                </a:lnTo>
                <a:lnTo>
                  <a:pt x="136" y="13"/>
                </a:lnTo>
                <a:lnTo>
                  <a:pt x="149" y="17"/>
                </a:lnTo>
                <a:lnTo>
                  <a:pt x="162" y="22"/>
                </a:lnTo>
                <a:lnTo>
                  <a:pt x="175" y="22"/>
                </a:lnTo>
                <a:lnTo>
                  <a:pt x="193" y="31"/>
                </a:lnTo>
                <a:lnTo>
                  <a:pt x="206" y="35"/>
                </a:lnTo>
                <a:lnTo>
                  <a:pt x="219" y="44"/>
                </a:lnTo>
                <a:lnTo>
                  <a:pt x="228" y="57"/>
                </a:lnTo>
                <a:lnTo>
                  <a:pt x="237" y="70"/>
                </a:lnTo>
                <a:lnTo>
                  <a:pt x="237" y="83"/>
                </a:lnTo>
                <a:lnTo>
                  <a:pt x="237" y="97"/>
                </a:lnTo>
                <a:lnTo>
                  <a:pt x="237" y="110"/>
                </a:lnTo>
                <a:lnTo>
                  <a:pt x="237" y="123"/>
                </a:lnTo>
                <a:lnTo>
                  <a:pt x="237" y="136"/>
                </a:lnTo>
                <a:lnTo>
                  <a:pt x="237" y="149"/>
                </a:lnTo>
                <a:lnTo>
                  <a:pt x="241" y="163"/>
                </a:lnTo>
                <a:lnTo>
                  <a:pt x="250" y="176"/>
                </a:lnTo>
                <a:lnTo>
                  <a:pt x="263" y="189"/>
                </a:lnTo>
                <a:lnTo>
                  <a:pt x="276" y="193"/>
                </a:lnTo>
                <a:lnTo>
                  <a:pt x="294" y="202"/>
                </a:lnTo>
                <a:lnTo>
                  <a:pt x="307" y="211"/>
                </a:lnTo>
                <a:lnTo>
                  <a:pt x="320" y="211"/>
                </a:lnTo>
                <a:lnTo>
                  <a:pt x="338" y="215"/>
                </a:lnTo>
                <a:lnTo>
                  <a:pt x="351" y="220"/>
                </a:lnTo>
                <a:lnTo>
                  <a:pt x="364" y="224"/>
                </a:lnTo>
                <a:lnTo>
                  <a:pt x="378" y="228"/>
                </a:lnTo>
                <a:lnTo>
                  <a:pt x="391" y="233"/>
                </a:lnTo>
                <a:lnTo>
                  <a:pt x="408" y="237"/>
                </a:lnTo>
                <a:lnTo>
                  <a:pt x="421" y="237"/>
                </a:lnTo>
                <a:lnTo>
                  <a:pt x="435" y="242"/>
                </a:lnTo>
                <a:lnTo>
                  <a:pt x="448" y="246"/>
                </a:lnTo>
                <a:lnTo>
                  <a:pt x="465" y="246"/>
                </a:lnTo>
                <a:lnTo>
                  <a:pt x="483" y="250"/>
                </a:lnTo>
                <a:lnTo>
                  <a:pt x="501" y="250"/>
                </a:lnTo>
                <a:lnTo>
                  <a:pt x="518" y="255"/>
                </a:lnTo>
                <a:lnTo>
                  <a:pt x="531" y="255"/>
                </a:lnTo>
                <a:lnTo>
                  <a:pt x="545" y="259"/>
                </a:lnTo>
                <a:lnTo>
                  <a:pt x="558" y="264"/>
                </a:lnTo>
                <a:lnTo>
                  <a:pt x="571" y="268"/>
                </a:lnTo>
                <a:lnTo>
                  <a:pt x="584" y="268"/>
                </a:lnTo>
                <a:lnTo>
                  <a:pt x="597" y="268"/>
                </a:lnTo>
                <a:lnTo>
                  <a:pt x="610" y="2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6" name=""/>
          <p:cNvGrpSpPr/>
          <p:nvPr/>
        </p:nvGrpSpPr>
        <p:grpSpPr>
          <a:xfrm>
            <a:off x="2895480" y="3454560"/>
            <a:ext cx="3165120" cy="2336400"/>
            <a:chOff x="2895480" y="3454560"/>
            <a:chExt cx="3165120" cy="2336400"/>
          </a:xfrm>
        </p:grpSpPr>
        <p:sp>
          <p:nvSpPr>
            <p:cNvPr id="2077" name=""/>
            <p:cNvSpPr/>
            <p:nvPr/>
          </p:nvSpPr>
          <p:spPr>
            <a:xfrm>
              <a:off x="2948400" y="3506040"/>
              <a:ext cx="3112200" cy="228492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895480" y="3454560"/>
              <a:ext cx="3102120" cy="227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9" name=""/>
          <p:cNvGrpSpPr/>
          <p:nvPr/>
        </p:nvGrpSpPr>
        <p:grpSpPr>
          <a:xfrm>
            <a:off x="4392720" y="3814920"/>
            <a:ext cx="96480" cy="340920"/>
            <a:chOff x="4392720" y="3814920"/>
            <a:chExt cx="96480" cy="340920"/>
          </a:xfrm>
        </p:grpSpPr>
        <p:sp>
          <p:nvSpPr>
            <p:cNvPr id="2080" name=""/>
            <p:cNvSpPr/>
            <p:nvPr/>
          </p:nvSpPr>
          <p:spPr>
            <a:xfrm>
              <a:off x="4420440" y="3867840"/>
              <a:ext cx="2880" cy="4680"/>
            </a:xfrm>
            <a:prstGeom prst="rect">
              <a:avLst/>
            </a:prstGeom>
            <a:solidFill>
              <a:srgbClr val="f0602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425480" y="3867840"/>
              <a:ext cx="1440" cy="4680"/>
            </a:xfrm>
            <a:prstGeom prst="rect">
              <a:avLst/>
            </a:prstGeom>
            <a:solidFill>
              <a:srgbClr val="c04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430160" y="3867840"/>
              <a:ext cx="1800" cy="4680"/>
            </a:xfrm>
            <a:prstGeom prst="rect">
              <a:avLst/>
            </a:prstGeom>
            <a:solidFill>
              <a:srgbClr val="803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431960" y="3867840"/>
              <a:ext cx="2880" cy="4680"/>
            </a:xfrm>
            <a:prstGeom prst="rect">
              <a:avLst/>
            </a:prstGeom>
            <a:solidFill>
              <a:srgbClr val="805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434840" y="3867840"/>
              <a:ext cx="3240" cy="4680"/>
            </a:xfrm>
            <a:prstGeom prst="rect">
              <a:avLst/>
            </a:prstGeom>
            <a:solidFill>
              <a:srgbClr val="c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438440" y="3867840"/>
              <a:ext cx="3240" cy="4680"/>
            </a:xfrm>
            <a:prstGeom prst="rect">
              <a:avLst/>
            </a:prstGeom>
            <a:solidFill>
              <a:srgbClr val="5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4441680" y="3867840"/>
              <a:ext cx="3240" cy="4680"/>
            </a:xfrm>
            <a:prstGeom prst="rect">
              <a:avLst/>
            </a:prstGeom>
            <a:solidFill>
              <a:srgbClr val="00c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418640" y="3926160"/>
              <a:ext cx="42480" cy="172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0" y="9"/>
                  </a:moveTo>
                  <a:lnTo>
                    <a:pt x="31" y="22"/>
                  </a:lnTo>
                  <a:lnTo>
                    <a:pt x="52" y="12"/>
                  </a:lnTo>
                  <a:lnTo>
                    <a:pt x="25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0301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431960" y="3822840"/>
              <a:ext cx="29160" cy="179280"/>
            </a:xfrm>
            <a:custGeom>
              <a:avLst/>
              <a:gdLst/>
              <a:ahLst/>
              <a:rect l="l" t="t" r="r" b="b"/>
              <a:pathLst>
                <a:path w="36" h="223">
                  <a:moveTo>
                    <a:pt x="19" y="0"/>
                  </a:moveTo>
                  <a:lnTo>
                    <a:pt x="0" y="223"/>
                  </a:lnTo>
                  <a:lnTo>
                    <a:pt x="9" y="200"/>
                  </a:lnTo>
                  <a:lnTo>
                    <a:pt x="36" y="9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407120" y="3814920"/>
              <a:ext cx="39240" cy="187200"/>
            </a:xfrm>
            <a:custGeom>
              <a:avLst/>
              <a:gdLst/>
              <a:ahLst/>
              <a:rect l="l" t="t" r="r" b="b"/>
              <a:pathLst>
                <a:path w="48" h="231">
                  <a:moveTo>
                    <a:pt x="30" y="231"/>
                  </a:moveTo>
                  <a:lnTo>
                    <a:pt x="0" y="0"/>
                  </a:lnTo>
                  <a:lnTo>
                    <a:pt x="48" y="10"/>
                  </a:lnTo>
                  <a:lnTo>
                    <a:pt x="30" y="231"/>
                  </a:lnTo>
                  <a:close/>
                </a:path>
              </a:pathLst>
            </a:custGeom>
            <a:solidFill>
              <a:srgbClr val="c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392720" y="3932640"/>
              <a:ext cx="48960" cy="223200"/>
            </a:xfrm>
            <a:custGeom>
              <a:avLst/>
              <a:gdLst/>
              <a:ahLst/>
              <a:rect l="l" t="t" r="r" b="b"/>
              <a:pathLst>
                <a:path w="60" h="275">
                  <a:moveTo>
                    <a:pt x="0" y="246"/>
                  </a:moveTo>
                  <a:lnTo>
                    <a:pt x="31" y="0"/>
                  </a:lnTo>
                  <a:lnTo>
                    <a:pt x="60" y="14"/>
                  </a:lnTo>
                  <a:lnTo>
                    <a:pt x="60" y="275"/>
                  </a:lnTo>
                  <a:lnTo>
                    <a:pt x="54" y="272"/>
                  </a:lnTo>
                  <a:lnTo>
                    <a:pt x="56" y="29"/>
                  </a:lnTo>
                  <a:lnTo>
                    <a:pt x="35" y="17"/>
                  </a:lnTo>
                  <a:lnTo>
                    <a:pt x="4" y="249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f0602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443120" y="3934440"/>
              <a:ext cx="46080" cy="221400"/>
            </a:xfrm>
            <a:custGeom>
              <a:avLst/>
              <a:gdLst/>
              <a:ahLst/>
              <a:rect l="l" t="t" r="r" b="b"/>
              <a:pathLst>
                <a:path w="54" h="272">
                  <a:moveTo>
                    <a:pt x="0" y="11"/>
                  </a:moveTo>
                  <a:lnTo>
                    <a:pt x="21" y="0"/>
                  </a:lnTo>
                  <a:lnTo>
                    <a:pt x="54" y="246"/>
                  </a:lnTo>
                  <a:lnTo>
                    <a:pt x="48" y="249"/>
                  </a:lnTo>
                  <a:lnTo>
                    <a:pt x="18" y="17"/>
                  </a:lnTo>
                  <a:lnTo>
                    <a:pt x="6" y="27"/>
                  </a:lnTo>
                  <a:lnTo>
                    <a:pt x="4" y="269"/>
                  </a:lnTo>
                  <a:lnTo>
                    <a:pt x="0" y="27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401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444920" y="3960000"/>
              <a:ext cx="36000" cy="168120"/>
            </a:xfrm>
            <a:custGeom>
              <a:avLst/>
              <a:gdLst/>
              <a:ahLst/>
              <a:rect l="l" t="t" r="r" b="b"/>
              <a:pathLst>
                <a:path w="44" h="210">
                  <a:moveTo>
                    <a:pt x="0" y="0"/>
                  </a:moveTo>
                  <a:lnTo>
                    <a:pt x="24" y="30"/>
                  </a:lnTo>
                  <a:lnTo>
                    <a:pt x="0" y="84"/>
                  </a:lnTo>
                  <a:lnTo>
                    <a:pt x="34" y="107"/>
                  </a:lnTo>
                  <a:lnTo>
                    <a:pt x="0" y="167"/>
                  </a:lnTo>
                  <a:lnTo>
                    <a:pt x="44" y="185"/>
                  </a:lnTo>
                  <a:lnTo>
                    <a:pt x="0" y="2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444920" y="3950640"/>
              <a:ext cx="32760" cy="177840"/>
            </a:xfrm>
            <a:custGeom>
              <a:avLst/>
              <a:gdLst/>
              <a:ahLst/>
              <a:rect l="l" t="t" r="r" b="b"/>
              <a:pathLst>
                <a:path w="40" h="221">
                  <a:moveTo>
                    <a:pt x="20" y="0"/>
                  </a:moveTo>
                  <a:lnTo>
                    <a:pt x="0" y="52"/>
                  </a:lnTo>
                  <a:lnTo>
                    <a:pt x="30" y="79"/>
                  </a:lnTo>
                  <a:lnTo>
                    <a:pt x="0" y="136"/>
                  </a:lnTo>
                  <a:lnTo>
                    <a:pt x="40" y="156"/>
                  </a:lnTo>
                  <a:lnTo>
                    <a:pt x="0" y="2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398840" y="3950640"/>
              <a:ext cx="41040" cy="179280"/>
            </a:xfrm>
            <a:custGeom>
              <a:avLst/>
              <a:gdLst/>
              <a:ahLst/>
              <a:rect l="l" t="t" r="r" b="b"/>
              <a:pathLst>
                <a:path w="52" h="222">
                  <a:moveTo>
                    <a:pt x="24" y="0"/>
                  </a:moveTo>
                  <a:lnTo>
                    <a:pt x="52" y="55"/>
                  </a:lnTo>
                  <a:lnTo>
                    <a:pt x="15" y="79"/>
                  </a:lnTo>
                  <a:lnTo>
                    <a:pt x="52" y="139"/>
                  </a:lnTo>
                  <a:lnTo>
                    <a:pt x="5" y="158"/>
                  </a:lnTo>
                  <a:lnTo>
                    <a:pt x="52" y="222"/>
                  </a:lnTo>
                  <a:lnTo>
                    <a:pt x="0" y="1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398840" y="3960000"/>
              <a:ext cx="41040" cy="148680"/>
            </a:xfrm>
            <a:custGeom>
              <a:avLst/>
              <a:gdLst/>
              <a:ahLst/>
              <a:rect l="l" t="t" r="r" b="b"/>
              <a:pathLst>
                <a:path w="52" h="183">
                  <a:moveTo>
                    <a:pt x="52" y="0"/>
                  </a:moveTo>
                  <a:lnTo>
                    <a:pt x="19" y="26"/>
                  </a:lnTo>
                  <a:lnTo>
                    <a:pt x="52" y="83"/>
                  </a:lnTo>
                  <a:lnTo>
                    <a:pt x="11" y="104"/>
                  </a:lnTo>
                  <a:lnTo>
                    <a:pt x="52" y="165"/>
                  </a:lnTo>
                  <a:lnTo>
                    <a:pt x="0" y="18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412160" y="3824280"/>
              <a:ext cx="27720" cy="105120"/>
            </a:xfrm>
            <a:custGeom>
              <a:avLst/>
              <a:gdLst/>
              <a:ahLst/>
              <a:rect l="l" t="t" r="r" b="b"/>
              <a:pathLst>
                <a:path w="34" h="129">
                  <a:moveTo>
                    <a:pt x="0" y="0"/>
                  </a:moveTo>
                  <a:lnTo>
                    <a:pt x="15" y="123"/>
                  </a:lnTo>
                  <a:lnTo>
                    <a:pt x="23" y="129"/>
                  </a:lnTo>
                  <a:lnTo>
                    <a:pt x="3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0a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413600" y="3828960"/>
              <a:ext cx="27720" cy="100440"/>
            </a:xfrm>
            <a:custGeom>
              <a:avLst/>
              <a:gdLst/>
              <a:ahLst/>
              <a:rect l="l" t="t" r="r" b="b"/>
              <a:pathLst>
                <a:path w="34" h="125">
                  <a:moveTo>
                    <a:pt x="0" y="0"/>
                  </a:moveTo>
                  <a:lnTo>
                    <a:pt x="15" y="120"/>
                  </a:lnTo>
                  <a:lnTo>
                    <a:pt x="24" y="125"/>
                  </a:lnTo>
                  <a:lnTo>
                    <a:pt x="3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8" name=""/>
          <p:cNvSpPr/>
          <p:nvPr/>
        </p:nvSpPr>
        <p:spPr>
          <a:xfrm>
            <a:off x="4271040" y="473400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全真楷書"/>
                <a:ea typeface="全真楷書"/>
              </a:rPr>
              <a:t>交控中心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3394080" y="4528800"/>
            <a:ext cx="328320" cy="317520"/>
            <a:chOff x="3394080" y="4528800"/>
            <a:chExt cx="328320" cy="317520"/>
          </a:xfrm>
        </p:grpSpPr>
        <p:sp>
          <p:nvSpPr>
            <p:cNvPr id="2100" name=""/>
            <p:cNvSpPr/>
            <p:nvPr/>
          </p:nvSpPr>
          <p:spPr>
            <a:xfrm>
              <a:off x="3534120" y="4533840"/>
              <a:ext cx="17028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H="1">
              <a:off x="3660120" y="4623840"/>
              <a:ext cx="3600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661560" y="4690080"/>
              <a:ext cx="6084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3699000" y="4728960"/>
              <a:ext cx="1476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 flipV="1">
              <a:off x="3636360" y="4736520"/>
              <a:ext cx="723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3582000" y="4735440"/>
              <a:ext cx="56160" cy="1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 flipV="1">
              <a:off x="3394080" y="4756320"/>
              <a:ext cx="19800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V="1">
              <a:off x="3394080" y="4528800"/>
              <a:ext cx="14004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8" name=""/>
          <p:cNvGrpSpPr/>
          <p:nvPr/>
        </p:nvGrpSpPr>
        <p:grpSpPr>
          <a:xfrm>
            <a:off x="4365720" y="5156280"/>
            <a:ext cx="147240" cy="237600"/>
            <a:chOff x="4365720" y="5156280"/>
            <a:chExt cx="147240" cy="237600"/>
          </a:xfrm>
        </p:grpSpPr>
        <p:sp>
          <p:nvSpPr>
            <p:cNvPr id="2109" name=""/>
            <p:cNvSpPr/>
            <p:nvPr/>
          </p:nvSpPr>
          <p:spPr>
            <a:xfrm>
              <a:off x="4412160" y="5211360"/>
              <a:ext cx="4680" cy="126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6840" y="5211360"/>
              <a:ext cx="4680" cy="126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25120" y="5211360"/>
              <a:ext cx="4680" cy="12600"/>
            </a:xfrm>
            <a:prstGeom prst="rect">
              <a:avLst/>
            </a:prstGeom>
            <a:solidFill>
              <a:srgbClr val="fa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431960" y="5211360"/>
              <a:ext cx="2880" cy="12600"/>
            </a:xfrm>
            <a:prstGeom prst="rect">
              <a:avLst/>
            </a:prstGeom>
            <a:solidFill>
              <a:srgbClr val="fa8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438440" y="5211360"/>
              <a:ext cx="4680" cy="12600"/>
            </a:xfrm>
            <a:prstGeom prst="rect">
              <a:avLst/>
            </a:pr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445280" y="5211360"/>
              <a:ext cx="4680" cy="12600"/>
            </a:xfrm>
            <a:prstGeom prst="rect">
              <a:avLst/>
            </a:prstGeom>
            <a:solidFill>
              <a:srgbClr val="f7f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451400" y="5211360"/>
              <a:ext cx="5040" cy="12600"/>
            </a:xfrm>
            <a:prstGeom prst="rect">
              <a:avLst/>
            </a:prstGeom>
            <a:solidFill>
              <a:srgbClr val="09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458240" y="5211360"/>
              <a:ext cx="4680" cy="12600"/>
            </a:xfrm>
            <a:prstGeom prst="rect">
              <a:avLst/>
            </a:prstGeom>
            <a:solidFill>
              <a:srgbClr val="a2f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458240" y="5191560"/>
              <a:ext cx="47880" cy="55080"/>
            </a:xfrm>
            <a:prstGeom prst="ellipse">
              <a:avLst/>
            </a:prstGeom>
            <a:solidFill>
              <a:srgbClr val="fa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372200" y="5328000"/>
              <a:ext cx="46080" cy="55080"/>
            </a:xfrm>
            <a:prstGeom prst="ellipse">
              <a:avLst/>
            </a:prstGeom>
            <a:solidFill>
              <a:srgbClr val="09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4440240" y="5156280"/>
              <a:ext cx="1440" cy="2736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58240" y="5328000"/>
              <a:ext cx="47880" cy="55080"/>
            </a:xfrm>
            <a:prstGeom prst="ellipse">
              <a:avLst/>
            </a:prstGeom>
            <a:solidFill>
              <a:srgbClr val="09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458240" y="5259600"/>
              <a:ext cx="47880" cy="55080"/>
            </a:xfrm>
            <a:prstGeom prst="ellipse">
              <a:avLst/>
            </a:pr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372200" y="5191560"/>
              <a:ext cx="46080" cy="56880"/>
            </a:xfrm>
            <a:prstGeom prst="ellipse">
              <a:avLst/>
            </a:prstGeom>
            <a:solidFill>
              <a:srgbClr val="fa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372200" y="5259600"/>
              <a:ext cx="46080" cy="55080"/>
            </a:xfrm>
            <a:prstGeom prst="ellipse">
              <a:avLst/>
            </a:pr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390200" y="5183640"/>
              <a:ext cx="97560" cy="2102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488120" y="5328000"/>
              <a:ext cx="24840" cy="5508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5" y="1"/>
                  </a:lnTo>
                  <a:lnTo>
                    <a:pt x="20" y="4"/>
                  </a:lnTo>
                  <a:lnTo>
                    <a:pt x="16" y="9"/>
                  </a:lnTo>
                  <a:lnTo>
                    <a:pt x="13" y="15"/>
                  </a:lnTo>
                  <a:lnTo>
                    <a:pt x="10" y="20"/>
                  </a:lnTo>
                  <a:lnTo>
                    <a:pt x="9" y="28"/>
                  </a:lnTo>
                  <a:lnTo>
                    <a:pt x="6" y="41"/>
                  </a:lnTo>
                  <a:lnTo>
                    <a:pt x="3" y="54"/>
                  </a:lnTo>
                  <a:lnTo>
                    <a:pt x="0" y="67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488120" y="5259600"/>
              <a:ext cx="24840" cy="5508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9" y="0"/>
                  </a:moveTo>
                  <a:lnTo>
                    <a:pt x="25" y="2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3" y="15"/>
                  </a:lnTo>
                  <a:lnTo>
                    <a:pt x="10" y="21"/>
                  </a:lnTo>
                  <a:lnTo>
                    <a:pt x="9" y="28"/>
                  </a:lnTo>
                  <a:lnTo>
                    <a:pt x="6" y="41"/>
                  </a:lnTo>
                  <a:lnTo>
                    <a:pt x="3" y="55"/>
                  </a:lnTo>
                  <a:lnTo>
                    <a:pt x="0" y="68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488120" y="5191560"/>
              <a:ext cx="24840" cy="5508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5" y="1"/>
                  </a:lnTo>
                  <a:lnTo>
                    <a:pt x="20" y="4"/>
                  </a:lnTo>
                  <a:lnTo>
                    <a:pt x="16" y="9"/>
                  </a:lnTo>
                  <a:lnTo>
                    <a:pt x="13" y="15"/>
                  </a:lnTo>
                  <a:lnTo>
                    <a:pt x="10" y="20"/>
                  </a:lnTo>
                  <a:lnTo>
                    <a:pt x="9" y="28"/>
                  </a:lnTo>
                  <a:lnTo>
                    <a:pt x="6" y="41"/>
                  </a:lnTo>
                  <a:lnTo>
                    <a:pt x="3" y="54"/>
                  </a:lnTo>
                  <a:lnTo>
                    <a:pt x="0" y="67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365720" y="5328000"/>
              <a:ext cx="24480" cy="5508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0"/>
                  </a:moveTo>
                  <a:lnTo>
                    <a:pt x="6" y="1"/>
                  </a:lnTo>
                  <a:lnTo>
                    <a:pt x="10" y="4"/>
                  </a:lnTo>
                  <a:lnTo>
                    <a:pt x="14" y="9"/>
                  </a:lnTo>
                  <a:lnTo>
                    <a:pt x="17" y="15"/>
                  </a:lnTo>
                  <a:lnTo>
                    <a:pt x="20" y="20"/>
                  </a:lnTo>
                  <a:lnTo>
                    <a:pt x="22" y="28"/>
                  </a:lnTo>
                  <a:lnTo>
                    <a:pt x="25" y="41"/>
                  </a:lnTo>
                  <a:lnTo>
                    <a:pt x="28" y="54"/>
                  </a:lnTo>
                  <a:lnTo>
                    <a:pt x="31" y="6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365720" y="5259600"/>
              <a:ext cx="24480" cy="55080"/>
            </a:xfrm>
            <a:custGeom>
              <a:avLst/>
              <a:gdLst/>
              <a:ahLst/>
              <a:rect l="l" t="t" r="r" b="b"/>
              <a:pathLst>
                <a:path w="31" h="68">
                  <a:moveTo>
                    <a:pt x="0" y="0"/>
                  </a:moveTo>
                  <a:lnTo>
                    <a:pt x="6" y="2"/>
                  </a:lnTo>
                  <a:lnTo>
                    <a:pt x="10" y="5"/>
                  </a:lnTo>
                  <a:lnTo>
                    <a:pt x="14" y="9"/>
                  </a:lnTo>
                  <a:lnTo>
                    <a:pt x="17" y="15"/>
                  </a:lnTo>
                  <a:lnTo>
                    <a:pt x="20" y="21"/>
                  </a:lnTo>
                  <a:lnTo>
                    <a:pt x="22" y="28"/>
                  </a:lnTo>
                  <a:lnTo>
                    <a:pt x="25" y="41"/>
                  </a:lnTo>
                  <a:lnTo>
                    <a:pt x="28" y="55"/>
                  </a:lnTo>
                  <a:lnTo>
                    <a:pt x="31" y="6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365720" y="5191560"/>
              <a:ext cx="24480" cy="5508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0"/>
                  </a:moveTo>
                  <a:lnTo>
                    <a:pt x="6" y="1"/>
                  </a:lnTo>
                  <a:lnTo>
                    <a:pt x="10" y="4"/>
                  </a:lnTo>
                  <a:lnTo>
                    <a:pt x="14" y="9"/>
                  </a:lnTo>
                  <a:lnTo>
                    <a:pt x="17" y="15"/>
                  </a:lnTo>
                  <a:lnTo>
                    <a:pt x="20" y="20"/>
                  </a:lnTo>
                  <a:lnTo>
                    <a:pt x="22" y="28"/>
                  </a:lnTo>
                  <a:lnTo>
                    <a:pt x="25" y="41"/>
                  </a:lnTo>
                  <a:lnTo>
                    <a:pt x="28" y="54"/>
                  </a:lnTo>
                  <a:lnTo>
                    <a:pt x="31" y="6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405320" y="5347440"/>
              <a:ext cx="65880" cy="352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405320" y="5326200"/>
              <a:ext cx="65880" cy="403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405320" y="5211360"/>
              <a:ext cx="65880" cy="352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405320" y="5191560"/>
              <a:ext cx="65880" cy="403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405320" y="5279040"/>
              <a:ext cx="65880" cy="374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405320" y="5258160"/>
              <a:ext cx="65880" cy="403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410360" y="5328000"/>
              <a:ext cx="57960" cy="55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2160" y="5329440"/>
              <a:ext cx="54360" cy="50040"/>
            </a:xfrm>
            <a:prstGeom prst="ellipse">
              <a:avLst/>
            </a:prstGeom>
            <a:solidFill>
              <a:srgbClr val="09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410360" y="5193720"/>
              <a:ext cx="579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412160" y="5195160"/>
              <a:ext cx="54360" cy="50040"/>
            </a:xfrm>
            <a:prstGeom prst="ellipse">
              <a:avLst/>
            </a:prstGeom>
            <a:solidFill>
              <a:srgbClr val="fa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410360" y="5261400"/>
              <a:ext cx="5796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2160" y="5262840"/>
              <a:ext cx="54360" cy="48600"/>
            </a:xfrm>
            <a:prstGeom prst="ellipse">
              <a:avLst/>
            </a:pr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8640" y="5170680"/>
              <a:ext cx="39600" cy="1440"/>
            </a:xfrm>
            <a:prstGeom prst="line">
              <a:avLst/>
            </a:prstGeom>
            <a:ln w="158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30160" y="5160960"/>
              <a:ext cx="16200" cy="16200"/>
            </a:xfrm>
            <a:prstGeom prst="ellipse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448520" y="5201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0"/>
                  </a:moveTo>
                  <a:lnTo>
                    <a:pt x="9" y="1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0" y="8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a8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441680" y="5196600"/>
              <a:ext cx="115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0"/>
                  </a:moveTo>
                  <a:lnTo>
                    <a:pt x="9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1"/>
                  </a:lnTo>
                  <a:lnTo>
                    <a:pt x="3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8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4448520" y="527292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0"/>
                  </a:moveTo>
                  <a:lnTo>
                    <a:pt x="10" y="2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7f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441680" y="5268240"/>
              <a:ext cx="1152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0"/>
                  </a:moveTo>
                  <a:lnTo>
                    <a:pt x="9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0" y="8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6" y="9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2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7f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448520" y="5339160"/>
              <a:ext cx="11160" cy="10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0" y="7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6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f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441680" y="5334120"/>
              <a:ext cx="11520" cy="97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0"/>
                  </a:moveTo>
                  <a:lnTo>
                    <a:pt x="9" y="2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0" y="9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2f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1" name=""/>
          <p:cNvGrpSpPr/>
          <p:nvPr/>
        </p:nvGrpSpPr>
        <p:grpSpPr>
          <a:xfrm>
            <a:off x="5124600" y="4083120"/>
            <a:ext cx="145440" cy="237600"/>
            <a:chOff x="5124600" y="4083120"/>
            <a:chExt cx="145440" cy="237600"/>
          </a:xfrm>
        </p:grpSpPr>
        <p:sp>
          <p:nvSpPr>
            <p:cNvPr id="2152" name=""/>
            <p:cNvSpPr/>
            <p:nvPr/>
          </p:nvSpPr>
          <p:spPr>
            <a:xfrm>
              <a:off x="5169240" y="4138200"/>
              <a:ext cx="4680" cy="126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175360" y="4138200"/>
              <a:ext cx="5040" cy="126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184000" y="4138200"/>
              <a:ext cx="2880" cy="12600"/>
            </a:xfrm>
            <a:prstGeom prst="rect">
              <a:avLst/>
            </a:prstGeom>
            <a:solidFill>
              <a:srgbClr val="fa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189040" y="4138200"/>
              <a:ext cx="4680" cy="12600"/>
            </a:xfrm>
            <a:prstGeom prst="rect">
              <a:avLst/>
            </a:prstGeom>
            <a:solidFill>
              <a:srgbClr val="fa8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197320" y="4138200"/>
              <a:ext cx="4680" cy="12600"/>
            </a:xfrm>
            <a:prstGeom prst="rect">
              <a:avLst/>
            </a:pr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02360" y="4138200"/>
              <a:ext cx="4680" cy="12600"/>
            </a:xfrm>
            <a:prstGeom prst="rect">
              <a:avLst/>
            </a:prstGeom>
            <a:solidFill>
              <a:srgbClr val="f7f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10640" y="4138200"/>
              <a:ext cx="4680" cy="12600"/>
            </a:xfrm>
            <a:prstGeom prst="rect">
              <a:avLst/>
            </a:prstGeom>
            <a:solidFill>
              <a:srgbClr val="09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217120" y="4138200"/>
              <a:ext cx="3240" cy="12600"/>
            </a:xfrm>
            <a:prstGeom prst="rect">
              <a:avLst/>
            </a:prstGeom>
            <a:solidFill>
              <a:srgbClr val="a2f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17120" y="4120200"/>
              <a:ext cx="46080" cy="53280"/>
            </a:xfrm>
            <a:prstGeom prst="ellipse">
              <a:avLst/>
            </a:prstGeom>
            <a:solidFill>
              <a:srgbClr val="fa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129280" y="4254480"/>
              <a:ext cx="47880" cy="55080"/>
            </a:xfrm>
            <a:prstGeom prst="ellipse">
              <a:avLst/>
            </a:prstGeom>
            <a:solidFill>
              <a:srgbClr val="09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5197320" y="4083120"/>
              <a:ext cx="1440" cy="2736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217120" y="4254480"/>
              <a:ext cx="46080" cy="55080"/>
            </a:xfrm>
            <a:prstGeom prst="ellipse">
              <a:avLst/>
            </a:prstGeom>
            <a:solidFill>
              <a:srgbClr val="09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217120" y="4186440"/>
              <a:ext cx="46080" cy="55080"/>
            </a:xfrm>
            <a:prstGeom prst="ellipse">
              <a:avLst/>
            </a:pr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129280" y="4120200"/>
              <a:ext cx="47880" cy="55080"/>
            </a:xfrm>
            <a:prstGeom prst="ellipse">
              <a:avLst/>
            </a:prstGeom>
            <a:solidFill>
              <a:srgbClr val="fa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29280" y="4186440"/>
              <a:ext cx="47880" cy="55080"/>
            </a:xfrm>
            <a:prstGeom prst="ellipse">
              <a:avLst/>
            </a:pr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149080" y="4110480"/>
              <a:ext cx="96120" cy="2102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245560" y="4254480"/>
              <a:ext cx="24480" cy="5508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9" y="0"/>
                  </a:moveTo>
                  <a:lnTo>
                    <a:pt x="25" y="2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3" y="15"/>
                  </a:lnTo>
                  <a:lnTo>
                    <a:pt x="10" y="21"/>
                  </a:lnTo>
                  <a:lnTo>
                    <a:pt x="9" y="28"/>
                  </a:lnTo>
                  <a:lnTo>
                    <a:pt x="6" y="41"/>
                  </a:lnTo>
                  <a:lnTo>
                    <a:pt x="3" y="54"/>
                  </a:lnTo>
                  <a:lnTo>
                    <a:pt x="0" y="68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245560" y="4186440"/>
              <a:ext cx="24480" cy="5508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5" y="1"/>
                  </a:lnTo>
                  <a:lnTo>
                    <a:pt x="20" y="4"/>
                  </a:lnTo>
                  <a:lnTo>
                    <a:pt x="16" y="8"/>
                  </a:lnTo>
                  <a:lnTo>
                    <a:pt x="13" y="14"/>
                  </a:lnTo>
                  <a:lnTo>
                    <a:pt x="10" y="20"/>
                  </a:lnTo>
                  <a:lnTo>
                    <a:pt x="9" y="27"/>
                  </a:lnTo>
                  <a:lnTo>
                    <a:pt x="6" y="41"/>
                  </a:lnTo>
                  <a:lnTo>
                    <a:pt x="3" y="54"/>
                  </a:lnTo>
                  <a:lnTo>
                    <a:pt x="0" y="67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45560" y="4120200"/>
              <a:ext cx="24480" cy="5328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5" y="2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3" y="15"/>
                  </a:lnTo>
                  <a:lnTo>
                    <a:pt x="10" y="21"/>
                  </a:lnTo>
                  <a:lnTo>
                    <a:pt x="9" y="28"/>
                  </a:lnTo>
                  <a:lnTo>
                    <a:pt x="6" y="41"/>
                  </a:lnTo>
                  <a:lnTo>
                    <a:pt x="3" y="54"/>
                  </a:lnTo>
                  <a:lnTo>
                    <a:pt x="0" y="67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24600" y="4254480"/>
              <a:ext cx="24480" cy="55080"/>
            </a:xfrm>
            <a:custGeom>
              <a:avLst/>
              <a:gdLst/>
              <a:ahLst/>
              <a:rect l="l" t="t" r="r" b="b"/>
              <a:pathLst>
                <a:path w="31" h="68">
                  <a:moveTo>
                    <a:pt x="0" y="0"/>
                  </a:moveTo>
                  <a:lnTo>
                    <a:pt x="6" y="2"/>
                  </a:lnTo>
                  <a:lnTo>
                    <a:pt x="11" y="5"/>
                  </a:lnTo>
                  <a:lnTo>
                    <a:pt x="15" y="9"/>
                  </a:lnTo>
                  <a:lnTo>
                    <a:pt x="18" y="15"/>
                  </a:lnTo>
                  <a:lnTo>
                    <a:pt x="19" y="21"/>
                  </a:lnTo>
                  <a:lnTo>
                    <a:pt x="21" y="28"/>
                  </a:lnTo>
                  <a:lnTo>
                    <a:pt x="25" y="41"/>
                  </a:lnTo>
                  <a:lnTo>
                    <a:pt x="28" y="54"/>
                  </a:lnTo>
                  <a:lnTo>
                    <a:pt x="31" y="6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124600" y="4186440"/>
              <a:ext cx="24480" cy="5508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0"/>
                  </a:moveTo>
                  <a:lnTo>
                    <a:pt x="6" y="1"/>
                  </a:lnTo>
                  <a:lnTo>
                    <a:pt x="11" y="4"/>
                  </a:lnTo>
                  <a:lnTo>
                    <a:pt x="15" y="8"/>
                  </a:lnTo>
                  <a:lnTo>
                    <a:pt x="18" y="14"/>
                  </a:lnTo>
                  <a:lnTo>
                    <a:pt x="19" y="20"/>
                  </a:lnTo>
                  <a:lnTo>
                    <a:pt x="21" y="27"/>
                  </a:lnTo>
                  <a:lnTo>
                    <a:pt x="25" y="41"/>
                  </a:lnTo>
                  <a:lnTo>
                    <a:pt x="28" y="54"/>
                  </a:lnTo>
                  <a:lnTo>
                    <a:pt x="31" y="6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124600" y="4120200"/>
              <a:ext cx="24480" cy="5328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0"/>
                  </a:moveTo>
                  <a:lnTo>
                    <a:pt x="6" y="2"/>
                  </a:lnTo>
                  <a:lnTo>
                    <a:pt x="11" y="5"/>
                  </a:lnTo>
                  <a:lnTo>
                    <a:pt x="15" y="9"/>
                  </a:lnTo>
                  <a:lnTo>
                    <a:pt x="18" y="15"/>
                  </a:lnTo>
                  <a:lnTo>
                    <a:pt x="19" y="21"/>
                  </a:lnTo>
                  <a:lnTo>
                    <a:pt x="21" y="28"/>
                  </a:lnTo>
                  <a:lnTo>
                    <a:pt x="25" y="41"/>
                  </a:lnTo>
                  <a:lnTo>
                    <a:pt x="28" y="54"/>
                  </a:lnTo>
                  <a:lnTo>
                    <a:pt x="31" y="6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164200" y="4273920"/>
              <a:ext cx="65880" cy="352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164200" y="4253040"/>
              <a:ext cx="65880" cy="403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64200" y="4138200"/>
              <a:ext cx="65880" cy="352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164200" y="4118400"/>
              <a:ext cx="65880" cy="403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164200" y="4205880"/>
              <a:ext cx="65880" cy="370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164200" y="4186440"/>
              <a:ext cx="65880" cy="38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167080" y="4254480"/>
              <a:ext cx="57960" cy="55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169240" y="4257720"/>
              <a:ext cx="54360" cy="48240"/>
            </a:xfrm>
            <a:prstGeom prst="ellipse">
              <a:avLst/>
            </a:prstGeom>
            <a:solidFill>
              <a:srgbClr val="09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167080" y="4120200"/>
              <a:ext cx="57960" cy="53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169240" y="4121640"/>
              <a:ext cx="54360" cy="50040"/>
            </a:xfrm>
            <a:prstGeom prst="ellipse">
              <a:avLst/>
            </a:prstGeom>
            <a:solidFill>
              <a:srgbClr val="fa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167080" y="4187880"/>
              <a:ext cx="57960" cy="53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169240" y="4189680"/>
              <a:ext cx="54360" cy="49680"/>
            </a:xfrm>
            <a:prstGeom prst="ellipse">
              <a:avLst/>
            </a:pr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177520" y="4097160"/>
              <a:ext cx="39600" cy="1800"/>
            </a:xfrm>
            <a:prstGeom prst="line">
              <a:avLst/>
            </a:prstGeom>
            <a:ln w="158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189040" y="4089240"/>
              <a:ext cx="16200" cy="14400"/>
            </a:xfrm>
            <a:prstGeom prst="ellipse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205600" y="4128120"/>
              <a:ext cx="115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0"/>
                  </a:moveTo>
                  <a:lnTo>
                    <a:pt x="10" y="1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2" y="9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a8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198760" y="4123440"/>
              <a:ext cx="115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0"/>
                  </a:moveTo>
                  <a:lnTo>
                    <a:pt x="10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3" y="9"/>
                  </a:lnTo>
                  <a:lnTo>
                    <a:pt x="2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1"/>
                  </a:lnTo>
                  <a:lnTo>
                    <a:pt x="3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a8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207040" y="4199400"/>
              <a:ext cx="10080" cy="97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6" y="0"/>
                  </a:moveTo>
                  <a:lnTo>
                    <a:pt x="9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2"/>
                  </a:lnTo>
                  <a:lnTo>
                    <a:pt x="3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198760" y="4194720"/>
              <a:ext cx="11520" cy="93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7" y="0"/>
                  </a:moveTo>
                  <a:lnTo>
                    <a:pt x="10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2" y="8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7" y="11"/>
                  </a:lnTo>
                  <a:lnTo>
                    <a:pt x="6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7f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205600" y="4265640"/>
              <a:ext cx="115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7" y="10"/>
                  </a:lnTo>
                  <a:lnTo>
                    <a:pt x="6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1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f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198760" y="4260960"/>
              <a:ext cx="11520" cy="93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7" y="0"/>
                  </a:moveTo>
                  <a:lnTo>
                    <a:pt x="10" y="2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0" y="9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3" y="9"/>
                  </a:lnTo>
                  <a:lnTo>
                    <a:pt x="2" y="9"/>
                  </a:lnTo>
                  <a:lnTo>
                    <a:pt x="0" y="8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f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4" name=""/>
          <p:cNvGrpSpPr/>
          <p:nvPr/>
        </p:nvGrpSpPr>
        <p:grpSpPr>
          <a:xfrm>
            <a:off x="5218200" y="4414320"/>
            <a:ext cx="145440" cy="236520"/>
            <a:chOff x="5218200" y="4414320"/>
            <a:chExt cx="145440" cy="236520"/>
          </a:xfrm>
        </p:grpSpPr>
        <p:sp>
          <p:nvSpPr>
            <p:cNvPr id="2195" name=""/>
            <p:cNvSpPr/>
            <p:nvPr/>
          </p:nvSpPr>
          <p:spPr>
            <a:xfrm>
              <a:off x="5264640" y="4469760"/>
              <a:ext cx="4680" cy="126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269320" y="4469760"/>
              <a:ext cx="4680" cy="126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277600" y="4469760"/>
              <a:ext cx="4680" cy="12600"/>
            </a:xfrm>
            <a:prstGeom prst="rect">
              <a:avLst/>
            </a:prstGeom>
            <a:solidFill>
              <a:srgbClr val="fa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284440" y="4469760"/>
              <a:ext cx="2880" cy="12600"/>
            </a:xfrm>
            <a:prstGeom prst="rect">
              <a:avLst/>
            </a:prstGeom>
            <a:solidFill>
              <a:srgbClr val="fa8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290920" y="4469760"/>
              <a:ext cx="4680" cy="12600"/>
            </a:xfrm>
            <a:prstGeom prst="rect">
              <a:avLst/>
            </a:pr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297760" y="4469760"/>
              <a:ext cx="4680" cy="12600"/>
            </a:xfrm>
            <a:prstGeom prst="rect">
              <a:avLst/>
            </a:prstGeom>
            <a:solidFill>
              <a:srgbClr val="f7f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304240" y="4469760"/>
              <a:ext cx="5040" cy="12600"/>
            </a:xfrm>
            <a:prstGeom prst="rect">
              <a:avLst/>
            </a:prstGeom>
            <a:solidFill>
              <a:srgbClr val="09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310720" y="4469760"/>
              <a:ext cx="4680" cy="12600"/>
            </a:xfrm>
            <a:prstGeom prst="rect">
              <a:avLst/>
            </a:prstGeom>
            <a:solidFill>
              <a:srgbClr val="a2f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310720" y="4450320"/>
              <a:ext cx="47880" cy="55080"/>
            </a:xfrm>
            <a:prstGeom prst="ellipse">
              <a:avLst/>
            </a:prstGeom>
            <a:solidFill>
              <a:srgbClr val="fa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222880" y="4584960"/>
              <a:ext cx="47880" cy="55080"/>
            </a:xfrm>
            <a:prstGeom prst="ellipse">
              <a:avLst/>
            </a:prstGeom>
            <a:solidFill>
              <a:srgbClr val="09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5290920" y="4414320"/>
              <a:ext cx="1800" cy="2556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310720" y="4584960"/>
              <a:ext cx="47880" cy="55080"/>
            </a:xfrm>
            <a:prstGeom prst="ellipse">
              <a:avLst/>
            </a:prstGeom>
            <a:solidFill>
              <a:srgbClr val="09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310720" y="4518360"/>
              <a:ext cx="47880" cy="53280"/>
            </a:xfrm>
            <a:prstGeom prst="ellipse">
              <a:avLst/>
            </a:pr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222880" y="4450320"/>
              <a:ext cx="47880" cy="55080"/>
            </a:xfrm>
            <a:prstGeom prst="ellipse">
              <a:avLst/>
            </a:prstGeom>
            <a:solidFill>
              <a:srgbClr val="fa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222880" y="4518360"/>
              <a:ext cx="47880" cy="53280"/>
            </a:xfrm>
            <a:prstGeom prst="ellipse">
              <a:avLst/>
            </a:pr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242680" y="4440240"/>
              <a:ext cx="97560" cy="2106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340600" y="4584960"/>
              <a:ext cx="23040" cy="5508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30" y="0"/>
                  </a:moveTo>
                  <a:lnTo>
                    <a:pt x="25" y="3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4" y="15"/>
                  </a:lnTo>
                  <a:lnTo>
                    <a:pt x="11" y="22"/>
                  </a:lnTo>
                  <a:lnTo>
                    <a:pt x="9" y="30"/>
                  </a:lnTo>
                  <a:lnTo>
                    <a:pt x="6" y="43"/>
                  </a:lnTo>
                  <a:lnTo>
                    <a:pt x="3" y="56"/>
                  </a:lnTo>
                  <a:lnTo>
                    <a:pt x="0" y="69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340600" y="4518360"/>
              <a:ext cx="23040" cy="5328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30" y="0"/>
                  </a:moveTo>
                  <a:lnTo>
                    <a:pt x="25" y="2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4" y="15"/>
                  </a:lnTo>
                  <a:lnTo>
                    <a:pt x="11" y="21"/>
                  </a:lnTo>
                  <a:lnTo>
                    <a:pt x="9" y="28"/>
                  </a:lnTo>
                  <a:lnTo>
                    <a:pt x="6" y="41"/>
                  </a:lnTo>
                  <a:lnTo>
                    <a:pt x="3" y="55"/>
                  </a:lnTo>
                  <a:lnTo>
                    <a:pt x="0" y="68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340600" y="4450320"/>
              <a:ext cx="23040" cy="5508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5" y="1"/>
                  </a:lnTo>
                  <a:lnTo>
                    <a:pt x="21" y="4"/>
                  </a:lnTo>
                  <a:lnTo>
                    <a:pt x="17" y="9"/>
                  </a:lnTo>
                  <a:lnTo>
                    <a:pt x="14" y="14"/>
                  </a:lnTo>
                  <a:lnTo>
                    <a:pt x="11" y="22"/>
                  </a:lnTo>
                  <a:lnTo>
                    <a:pt x="9" y="28"/>
                  </a:lnTo>
                  <a:lnTo>
                    <a:pt x="6" y="41"/>
                  </a:lnTo>
                  <a:lnTo>
                    <a:pt x="3" y="54"/>
                  </a:lnTo>
                  <a:lnTo>
                    <a:pt x="0" y="67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218200" y="4584960"/>
              <a:ext cx="24480" cy="5508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0" y="0"/>
                  </a:moveTo>
                  <a:lnTo>
                    <a:pt x="5" y="3"/>
                  </a:lnTo>
                  <a:lnTo>
                    <a:pt x="10" y="5"/>
                  </a:lnTo>
                  <a:lnTo>
                    <a:pt x="14" y="9"/>
                  </a:lnTo>
                  <a:lnTo>
                    <a:pt x="17" y="15"/>
                  </a:lnTo>
                  <a:lnTo>
                    <a:pt x="20" y="22"/>
                  </a:lnTo>
                  <a:lnTo>
                    <a:pt x="22" y="30"/>
                  </a:lnTo>
                  <a:lnTo>
                    <a:pt x="24" y="43"/>
                  </a:lnTo>
                  <a:lnTo>
                    <a:pt x="27" y="56"/>
                  </a:lnTo>
                  <a:lnTo>
                    <a:pt x="30" y="69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218200" y="4518360"/>
              <a:ext cx="24480" cy="5328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0" y="0"/>
                  </a:moveTo>
                  <a:lnTo>
                    <a:pt x="5" y="2"/>
                  </a:lnTo>
                  <a:lnTo>
                    <a:pt x="10" y="5"/>
                  </a:lnTo>
                  <a:lnTo>
                    <a:pt x="14" y="9"/>
                  </a:lnTo>
                  <a:lnTo>
                    <a:pt x="17" y="15"/>
                  </a:lnTo>
                  <a:lnTo>
                    <a:pt x="20" y="21"/>
                  </a:lnTo>
                  <a:lnTo>
                    <a:pt x="22" y="28"/>
                  </a:lnTo>
                  <a:lnTo>
                    <a:pt x="24" y="41"/>
                  </a:lnTo>
                  <a:lnTo>
                    <a:pt x="27" y="55"/>
                  </a:lnTo>
                  <a:lnTo>
                    <a:pt x="30" y="68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218200" y="4450320"/>
              <a:ext cx="24480" cy="5508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0" y="0"/>
                  </a:moveTo>
                  <a:lnTo>
                    <a:pt x="5" y="1"/>
                  </a:lnTo>
                  <a:lnTo>
                    <a:pt x="10" y="4"/>
                  </a:lnTo>
                  <a:lnTo>
                    <a:pt x="14" y="9"/>
                  </a:lnTo>
                  <a:lnTo>
                    <a:pt x="17" y="14"/>
                  </a:lnTo>
                  <a:lnTo>
                    <a:pt x="20" y="22"/>
                  </a:lnTo>
                  <a:lnTo>
                    <a:pt x="22" y="28"/>
                  </a:lnTo>
                  <a:lnTo>
                    <a:pt x="24" y="41"/>
                  </a:lnTo>
                  <a:lnTo>
                    <a:pt x="27" y="54"/>
                  </a:lnTo>
                  <a:lnTo>
                    <a:pt x="30" y="67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257800" y="4602600"/>
              <a:ext cx="65880" cy="374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257800" y="4584960"/>
              <a:ext cx="65880" cy="385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257800" y="4469760"/>
              <a:ext cx="65880" cy="35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257800" y="4448520"/>
              <a:ext cx="65880" cy="403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257800" y="4536000"/>
              <a:ext cx="65880" cy="35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257800" y="4516560"/>
              <a:ext cx="65880" cy="406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262840" y="4584960"/>
              <a:ext cx="57960" cy="53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264640" y="4586400"/>
              <a:ext cx="54360" cy="51840"/>
            </a:xfrm>
            <a:prstGeom prst="ellipse">
              <a:avLst/>
            </a:prstGeom>
            <a:solidFill>
              <a:srgbClr val="09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262840" y="4451760"/>
              <a:ext cx="57960" cy="53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264640" y="4451760"/>
              <a:ext cx="54360" cy="51840"/>
            </a:xfrm>
            <a:prstGeom prst="ellipse">
              <a:avLst/>
            </a:prstGeom>
            <a:solidFill>
              <a:srgbClr val="fa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262840" y="4518360"/>
              <a:ext cx="57960" cy="53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264640" y="4519800"/>
              <a:ext cx="54360" cy="50040"/>
            </a:xfrm>
            <a:prstGeom prst="ellipse">
              <a:avLst/>
            </a:pr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271120" y="4427280"/>
              <a:ext cx="39600" cy="1440"/>
            </a:xfrm>
            <a:prstGeom prst="line">
              <a:avLst/>
            </a:prstGeom>
            <a:ln w="158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282640" y="4420800"/>
              <a:ext cx="16200" cy="12600"/>
            </a:xfrm>
            <a:prstGeom prst="ellipse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301000" y="4461120"/>
              <a:ext cx="11160" cy="97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0"/>
                  </a:moveTo>
                  <a:lnTo>
                    <a:pt x="8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0" y="7"/>
                  </a:lnTo>
                  <a:lnTo>
                    <a:pt x="8" y="10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1"/>
                  </a:lnTo>
                  <a:lnTo>
                    <a:pt x="3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a8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294160" y="4455000"/>
              <a:ext cx="1152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0"/>
                  </a:moveTo>
                  <a:lnTo>
                    <a:pt x="9" y="1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0" y="8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8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301000" y="452952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0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1"/>
                  </a:lnTo>
                  <a:lnTo>
                    <a:pt x="3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7f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294160" y="4524480"/>
              <a:ext cx="115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0"/>
                  </a:moveTo>
                  <a:lnTo>
                    <a:pt x="9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0" y="7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6" y="9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7f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301000" y="459576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0"/>
                  </a:moveTo>
                  <a:lnTo>
                    <a:pt x="8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0" y="9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f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294160" y="4591080"/>
              <a:ext cx="115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0"/>
                  </a:moveTo>
                  <a:lnTo>
                    <a:pt x="9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0" y="8"/>
                  </a:lnTo>
                  <a:lnTo>
                    <a:pt x="9" y="10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2f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7" name=""/>
          <p:cNvGrpSpPr/>
          <p:nvPr/>
        </p:nvGrpSpPr>
        <p:grpSpPr>
          <a:xfrm>
            <a:off x="4983120" y="5022720"/>
            <a:ext cx="644040" cy="185400"/>
            <a:chOff x="4983120" y="5022720"/>
            <a:chExt cx="644040" cy="185400"/>
          </a:xfrm>
        </p:grpSpPr>
        <p:sp>
          <p:nvSpPr>
            <p:cNvPr id="2238" name=""/>
            <p:cNvSpPr/>
            <p:nvPr/>
          </p:nvSpPr>
          <p:spPr>
            <a:xfrm>
              <a:off x="5168520" y="5144760"/>
              <a:ext cx="2548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173560" y="5151240"/>
              <a:ext cx="245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251320" y="5174280"/>
              <a:ext cx="18072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991040" y="5081040"/>
              <a:ext cx="384120" cy="14760"/>
            </a:xfrm>
            <a:custGeom>
              <a:avLst/>
              <a:gdLst/>
              <a:ahLst/>
              <a:rect l="l" t="t" r="r" b="b"/>
              <a:pathLst>
                <a:path w="464" h="17">
                  <a:moveTo>
                    <a:pt x="464" y="1"/>
                  </a:moveTo>
                  <a:lnTo>
                    <a:pt x="449" y="0"/>
                  </a:lnTo>
                  <a:lnTo>
                    <a:pt x="156" y="1"/>
                  </a:lnTo>
                  <a:lnTo>
                    <a:pt x="42" y="6"/>
                  </a:lnTo>
                  <a:lnTo>
                    <a:pt x="30" y="6"/>
                  </a:lnTo>
                  <a:lnTo>
                    <a:pt x="19" y="10"/>
                  </a:lnTo>
                  <a:lnTo>
                    <a:pt x="0" y="1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165280" y="5146560"/>
              <a:ext cx="258480" cy="4680"/>
            </a:xfrm>
            <a:custGeom>
              <a:avLst/>
              <a:gdLst/>
              <a:ahLst/>
              <a:rect l="l" t="t" r="r" b="b"/>
              <a:pathLst>
                <a:path w="310" h="6">
                  <a:moveTo>
                    <a:pt x="0" y="0"/>
                  </a:moveTo>
                  <a:lnTo>
                    <a:pt x="310" y="0"/>
                  </a:lnTo>
                  <a:lnTo>
                    <a:pt x="306" y="6"/>
                  </a:lnTo>
                  <a:lnTo>
                    <a:pt x="5" y="6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547960" y="5105880"/>
              <a:ext cx="79200" cy="61560"/>
            </a:xfrm>
            <a:custGeom>
              <a:avLst/>
              <a:gdLst/>
              <a:ahLst/>
              <a:rect l="l" t="t" r="r" b="b"/>
              <a:pathLst>
                <a:path w="95" h="76">
                  <a:moveTo>
                    <a:pt x="0" y="45"/>
                  </a:moveTo>
                  <a:lnTo>
                    <a:pt x="15" y="45"/>
                  </a:lnTo>
                  <a:lnTo>
                    <a:pt x="19" y="28"/>
                  </a:lnTo>
                  <a:lnTo>
                    <a:pt x="37" y="28"/>
                  </a:lnTo>
                  <a:lnTo>
                    <a:pt x="64" y="18"/>
                  </a:lnTo>
                  <a:lnTo>
                    <a:pt x="83" y="9"/>
                  </a:lnTo>
                  <a:lnTo>
                    <a:pt x="88" y="0"/>
                  </a:lnTo>
                  <a:lnTo>
                    <a:pt x="92" y="3"/>
                  </a:lnTo>
                  <a:lnTo>
                    <a:pt x="95" y="13"/>
                  </a:lnTo>
                  <a:lnTo>
                    <a:pt x="95" y="19"/>
                  </a:lnTo>
                  <a:lnTo>
                    <a:pt x="88" y="20"/>
                  </a:lnTo>
                  <a:lnTo>
                    <a:pt x="76" y="37"/>
                  </a:lnTo>
                  <a:lnTo>
                    <a:pt x="70" y="41"/>
                  </a:lnTo>
                  <a:lnTo>
                    <a:pt x="42" y="59"/>
                  </a:lnTo>
                  <a:lnTo>
                    <a:pt x="32" y="63"/>
                  </a:lnTo>
                  <a:lnTo>
                    <a:pt x="18" y="63"/>
                  </a:lnTo>
                  <a:lnTo>
                    <a:pt x="15" y="69"/>
                  </a:lnTo>
                  <a:lnTo>
                    <a:pt x="3" y="76"/>
                  </a:lnTo>
                  <a:lnTo>
                    <a:pt x="1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427000" y="5117040"/>
              <a:ext cx="87480" cy="91080"/>
            </a:xfrm>
            <a:prstGeom prst="ellips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088960" y="5117040"/>
              <a:ext cx="87840" cy="89640"/>
            </a:xfrm>
            <a:prstGeom prst="ellips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69960" y="5149800"/>
              <a:ext cx="248400" cy="24120"/>
            </a:xfrm>
            <a:custGeom>
              <a:avLst/>
              <a:gdLst/>
              <a:ahLst/>
              <a:rect l="l" t="t" r="r" b="b"/>
              <a:pathLst>
                <a:path w="299" h="31">
                  <a:moveTo>
                    <a:pt x="0" y="3"/>
                  </a:moveTo>
                  <a:lnTo>
                    <a:pt x="15" y="31"/>
                  </a:lnTo>
                  <a:lnTo>
                    <a:pt x="286" y="31"/>
                  </a:lnTo>
                  <a:lnTo>
                    <a:pt x="293" y="13"/>
                  </a:lnTo>
                  <a:lnTo>
                    <a:pt x="299" y="0"/>
                  </a:lnTo>
                  <a:lnTo>
                    <a:pt x="260" y="0"/>
                  </a:lnTo>
                  <a:lnTo>
                    <a:pt x="257" y="9"/>
                  </a:lnTo>
                  <a:lnTo>
                    <a:pt x="252" y="18"/>
                  </a:lnTo>
                  <a:lnTo>
                    <a:pt x="248" y="19"/>
                  </a:lnTo>
                  <a:lnTo>
                    <a:pt x="87" y="19"/>
                  </a:lnTo>
                  <a:lnTo>
                    <a:pt x="78" y="12"/>
                  </a:lnTo>
                  <a:lnTo>
                    <a:pt x="72" y="3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572800" y="5089320"/>
              <a:ext cx="49320" cy="3888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" y="45"/>
                  </a:moveTo>
                  <a:lnTo>
                    <a:pt x="8" y="32"/>
                  </a:lnTo>
                  <a:lnTo>
                    <a:pt x="6" y="31"/>
                  </a:lnTo>
                  <a:lnTo>
                    <a:pt x="0" y="19"/>
                  </a:lnTo>
                  <a:lnTo>
                    <a:pt x="13" y="19"/>
                  </a:lnTo>
                  <a:lnTo>
                    <a:pt x="34" y="13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57" y="1"/>
                  </a:lnTo>
                  <a:lnTo>
                    <a:pt x="60" y="7"/>
                  </a:lnTo>
                  <a:lnTo>
                    <a:pt x="57" y="20"/>
                  </a:lnTo>
                  <a:lnTo>
                    <a:pt x="54" y="28"/>
                  </a:lnTo>
                  <a:lnTo>
                    <a:pt x="8" y="47"/>
                  </a:lnTo>
                  <a:lnTo>
                    <a:pt x="5" y="47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983120" y="5022720"/>
              <a:ext cx="641160" cy="151560"/>
            </a:xfrm>
            <a:custGeom>
              <a:avLst/>
              <a:gdLst/>
              <a:ahLst/>
              <a:rect l="l" t="t" r="r" b="b"/>
              <a:pathLst>
                <a:path w="773" h="186">
                  <a:moveTo>
                    <a:pt x="709" y="103"/>
                  </a:moveTo>
                  <a:lnTo>
                    <a:pt x="723" y="103"/>
                  </a:lnTo>
                  <a:lnTo>
                    <a:pt x="740" y="97"/>
                  </a:lnTo>
                  <a:lnTo>
                    <a:pt x="745" y="96"/>
                  </a:lnTo>
                  <a:lnTo>
                    <a:pt x="754" y="85"/>
                  </a:lnTo>
                  <a:lnTo>
                    <a:pt x="756" y="85"/>
                  </a:lnTo>
                  <a:lnTo>
                    <a:pt x="759" y="84"/>
                  </a:lnTo>
                  <a:lnTo>
                    <a:pt x="766" y="84"/>
                  </a:lnTo>
                  <a:lnTo>
                    <a:pt x="770" y="91"/>
                  </a:lnTo>
                  <a:lnTo>
                    <a:pt x="773" y="87"/>
                  </a:lnTo>
                  <a:lnTo>
                    <a:pt x="760" y="74"/>
                  </a:lnTo>
                  <a:lnTo>
                    <a:pt x="754" y="68"/>
                  </a:lnTo>
                  <a:lnTo>
                    <a:pt x="744" y="65"/>
                  </a:lnTo>
                  <a:lnTo>
                    <a:pt x="732" y="63"/>
                  </a:lnTo>
                  <a:lnTo>
                    <a:pt x="565" y="60"/>
                  </a:lnTo>
                  <a:lnTo>
                    <a:pt x="558" y="59"/>
                  </a:lnTo>
                  <a:lnTo>
                    <a:pt x="493" y="3"/>
                  </a:lnTo>
                  <a:lnTo>
                    <a:pt x="485" y="0"/>
                  </a:lnTo>
                  <a:lnTo>
                    <a:pt x="325" y="0"/>
                  </a:lnTo>
                  <a:lnTo>
                    <a:pt x="266" y="12"/>
                  </a:lnTo>
                  <a:lnTo>
                    <a:pt x="239" y="18"/>
                  </a:lnTo>
                  <a:lnTo>
                    <a:pt x="177" y="68"/>
                  </a:lnTo>
                  <a:lnTo>
                    <a:pt x="120" y="68"/>
                  </a:lnTo>
                  <a:lnTo>
                    <a:pt x="88" y="71"/>
                  </a:lnTo>
                  <a:lnTo>
                    <a:pt x="36" y="80"/>
                  </a:lnTo>
                  <a:lnTo>
                    <a:pt x="14" y="90"/>
                  </a:lnTo>
                  <a:lnTo>
                    <a:pt x="9" y="93"/>
                  </a:lnTo>
                  <a:lnTo>
                    <a:pt x="3" y="100"/>
                  </a:lnTo>
                  <a:lnTo>
                    <a:pt x="0" y="128"/>
                  </a:lnTo>
                  <a:lnTo>
                    <a:pt x="23" y="128"/>
                  </a:lnTo>
                  <a:lnTo>
                    <a:pt x="26" y="128"/>
                  </a:lnTo>
                  <a:lnTo>
                    <a:pt x="26" y="143"/>
                  </a:lnTo>
                  <a:lnTo>
                    <a:pt x="41" y="167"/>
                  </a:lnTo>
                  <a:lnTo>
                    <a:pt x="105" y="167"/>
                  </a:lnTo>
                  <a:lnTo>
                    <a:pt x="110" y="166"/>
                  </a:lnTo>
                  <a:lnTo>
                    <a:pt x="116" y="157"/>
                  </a:lnTo>
                  <a:lnTo>
                    <a:pt x="127" y="143"/>
                  </a:lnTo>
                  <a:lnTo>
                    <a:pt x="133" y="135"/>
                  </a:lnTo>
                  <a:lnTo>
                    <a:pt x="142" y="129"/>
                  </a:lnTo>
                  <a:lnTo>
                    <a:pt x="148" y="128"/>
                  </a:lnTo>
                  <a:lnTo>
                    <a:pt x="198" y="128"/>
                  </a:lnTo>
                  <a:lnTo>
                    <a:pt x="208" y="129"/>
                  </a:lnTo>
                  <a:lnTo>
                    <a:pt x="221" y="154"/>
                  </a:lnTo>
                  <a:lnTo>
                    <a:pt x="240" y="186"/>
                  </a:lnTo>
                  <a:lnTo>
                    <a:pt x="510" y="186"/>
                  </a:lnTo>
                  <a:lnTo>
                    <a:pt x="523" y="162"/>
                  </a:lnTo>
                  <a:lnTo>
                    <a:pt x="536" y="144"/>
                  </a:lnTo>
                  <a:lnTo>
                    <a:pt x="546" y="134"/>
                  </a:lnTo>
                  <a:lnTo>
                    <a:pt x="558" y="126"/>
                  </a:lnTo>
                  <a:lnTo>
                    <a:pt x="606" y="126"/>
                  </a:lnTo>
                  <a:lnTo>
                    <a:pt x="618" y="129"/>
                  </a:lnTo>
                  <a:lnTo>
                    <a:pt x="628" y="132"/>
                  </a:lnTo>
                  <a:lnTo>
                    <a:pt x="636" y="143"/>
                  </a:lnTo>
                  <a:lnTo>
                    <a:pt x="643" y="156"/>
                  </a:lnTo>
                  <a:lnTo>
                    <a:pt x="650" y="178"/>
                  </a:lnTo>
                  <a:lnTo>
                    <a:pt x="684" y="178"/>
                  </a:lnTo>
                  <a:lnTo>
                    <a:pt x="682" y="148"/>
                  </a:lnTo>
                  <a:lnTo>
                    <a:pt x="696" y="148"/>
                  </a:lnTo>
                  <a:lnTo>
                    <a:pt x="700" y="132"/>
                  </a:lnTo>
                  <a:lnTo>
                    <a:pt x="715" y="132"/>
                  </a:lnTo>
                  <a:lnTo>
                    <a:pt x="709" y="103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385600" y="5086080"/>
              <a:ext cx="182160" cy="17640"/>
            </a:xfrm>
            <a:custGeom>
              <a:avLst/>
              <a:gdLst/>
              <a:ahLst/>
              <a:rect l="l" t="t" r="r" b="b"/>
              <a:pathLst>
                <a:path w="221" h="22">
                  <a:moveTo>
                    <a:pt x="0" y="0"/>
                  </a:moveTo>
                  <a:lnTo>
                    <a:pt x="80" y="2"/>
                  </a:lnTo>
                  <a:lnTo>
                    <a:pt x="192" y="9"/>
                  </a:lnTo>
                  <a:lnTo>
                    <a:pt x="200" y="9"/>
                  </a:lnTo>
                  <a:lnTo>
                    <a:pt x="209" y="12"/>
                  </a:lnTo>
                  <a:lnTo>
                    <a:pt x="221" y="2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178240" y="5033880"/>
              <a:ext cx="155880" cy="2880"/>
            </a:xfrm>
            <a:custGeom>
              <a:avLst/>
              <a:gdLst/>
              <a:ahLst/>
              <a:rect l="l" t="t" r="r" b="b"/>
              <a:pathLst>
                <a:path w="187" h="3">
                  <a:moveTo>
                    <a:pt x="0" y="3"/>
                  </a:moveTo>
                  <a:lnTo>
                    <a:pt x="38" y="0"/>
                  </a:lnTo>
                  <a:lnTo>
                    <a:pt x="18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346000" y="5030640"/>
              <a:ext cx="92520" cy="45360"/>
            </a:xfrm>
            <a:custGeom>
              <a:avLst/>
              <a:gdLst/>
              <a:ahLst/>
              <a:rect l="l" t="t" r="r" b="b"/>
              <a:pathLst>
                <a:path w="111" h="57">
                  <a:moveTo>
                    <a:pt x="111" y="45"/>
                  </a:moveTo>
                  <a:lnTo>
                    <a:pt x="39" y="57"/>
                  </a:lnTo>
                  <a:lnTo>
                    <a:pt x="0" y="7"/>
                  </a:lnTo>
                  <a:lnTo>
                    <a:pt x="54" y="0"/>
                  </a:lnTo>
                  <a:lnTo>
                    <a:pt x="108" y="4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181840" y="5037120"/>
              <a:ext cx="188640" cy="43920"/>
            </a:xfrm>
            <a:custGeom>
              <a:avLst/>
              <a:gdLst/>
              <a:ahLst/>
              <a:rect l="l" t="t" r="r" b="b"/>
              <a:pathLst>
                <a:path w="228" h="55">
                  <a:moveTo>
                    <a:pt x="0" y="55"/>
                  </a:moveTo>
                  <a:lnTo>
                    <a:pt x="39" y="3"/>
                  </a:lnTo>
                  <a:lnTo>
                    <a:pt x="44" y="0"/>
                  </a:lnTo>
                  <a:lnTo>
                    <a:pt x="187" y="0"/>
                  </a:lnTo>
                  <a:lnTo>
                    <a:pt x="194" y="5"/>
                  </a:lnTo>
                  <a:lnTo>
                    <a:pt x="219" y="40"/>
                  </a:lnTo>
                  <a:lnTo>
                    <a:pt x="228" y="5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334120" y="5037120"/>
              <a:ext cx="3240" cy="439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183640" y="5022720"/>
              <a:ext cx="200160" cy="12600"/>
            </a:xfrm>
            <a:custGeom>
              <a:avLst/>
              <a:gdLst/>
              <a:ahLst/>
              <a:rect l="l" t="t" r="r" b="b"/>
              <a:pathLst>
                <a:path w="243" h="17">
                  <a:moveTo>
                    <a:pt x="0" y="17"/>
                  </a:moveTo>
                  <a:lnTo>
                    <a:pt x="86" y="0"/>
                  </a:lnTo>
                  <a:lnTo>
                    <a:pt x="24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350680" y="5068080"/>
              <a:ext cx="8280" cy="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0" y="16135"/>
                  </a:moveTo>
                  <a:arcTo wR="10800" hR="10800" stAng="9023733" swAng="105190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0" y="16135"/>
                  </a:moveTo>
                  <a:arcTo wR="10800" hR="10800" stAng="9023733" swAng="10519054"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354280" y="5069880"/>
              <a:ext cx="4680" cy="144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350680" y="5081040"/>
              <a:ext cx="468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348880" y="5030640"/>
              <a:ext cx="87840" cy="4716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0" y="8"/>
                  </a:moveTo>
                  <a:lnTo>
                    <a:pt x="35" y="58"/>
                  </a:lnTo>
                  <a:lnTo>
                    <a:pt x="107" y="47"/>
                  </a:lnTo>
                  <a:lnTo>
                    <a:pt x="51" y="0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243040" y="5040360"/>
              <a:ext cx="91080" cy="40680"/>
            </a:xfrm>
            <a:custGeom>
              <a:avLst/>
              <a:gdLst/>
              <a:ahLst/>
              <a:rect l="l" t="t" r="r" b="b"/>
              <a:pathLst>
                <a:path w="110" h="52">
                  <a:moveTo>
                    <a:pt x="5" y="0"/>
                  </a:moveTo>
                  <a:lnTo>
                    <a:pt x="110" y="0"/>
                  </a:lnTo>
                  <a:lnTo>
                    <a:pt x="110" y="0"/>
                  </a:lnTo>
                  <a:lnTo>
                    <a:pt x="110" y="52"/>
                  </a:lnTo>
                  <a:lnTo>
                    <a:pt x="0" y="52"/>
                  </a:lnTo>
                  <a:lnTo>
                    <a:pt x="0" y="18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337720" y="5040360"/>
              <a:ext cx="30960" cy="4068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0" y="3"/>
                  </a:moveTo>
                  <a:lnTo>
                    <a:pt x="0" y="52"/>
                  </a:lnTo>
                  <a:lnTo>
                    <a:pt x="18" y="52"/>
                  </a:lnTo>
                  <a:lnTo>
                    <a:pt x="18" y="40"/>
                  </a:lnTo>
                  <a:lnTo>
                    <a:pt x="22" y="36"/>
                  </a:lnTo>
                  <a:lnTo>
                    <a:pt x="26" y="37"/>
                  </a:lnTo>
                  <a:lnTo>
                    <a:pt x="28" y="44"/>
                  </a:lnTo>
                  <a:lnTo>
                    <a:pt x="28" y="52"/>
                  </a:lnTo>
                  <a:lnTo>
                    <a:pt x="40" y="52"/>
                  </a:lnTo>
                  <a:lnTo>
                    <a:pt x="38" y="47"/>
                  </a:lnTo>
                  <a:lnTo>
                    <a:pt x="7" y="3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244840" y="5037120"/>
              <a:ext cx="89280" cy="4392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4" y="0"/>
                  </a:moveTo>
                  <a:lnTo>
                    <a:pt x="0" y="21"/>
                  </a:lnTo>
                  <a:lnTo>
                    <a:pt x="0" y="55"/>
                  </a:lnTo>
                  <a:lnTo>
                    <a:pt x="108" y="55"/>
                  </a:lnTo>
                  <a:lnTo>
                    <a:pt x="108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337720" y="5037120"/>
              <a:ext cx="30960" cy="4392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0"/>
                  </a:moveTo>
                  <a:lnTo>
                    <a:pt x="0" y="55"/>
                  </a:lnTo>
                  <a:lnTo>
                    <a:pt x="18" y="55"/>
                  </a:lnTo>
                  <a:lnTo>
                    <a:pt x="18" y="43"/>
                  </a:lnTo>
                  <a:lnTo>
                    <a:pt x="22" y="39"/>
                  </a:lnTo>
                  <a:lnTo>
                    <a:pt x="25" y="39"/>
                  </a:lnTo>
                  <a:lnTo>
                    <a:pt x="26" y="47"/>
                  </a:lnTo>
                  <a:lnTo>
                    <a:pt x="26" y="55"/>
                  </a:lnTo>
                  <a:lnTo>
                    <a:pt x="40" y="55"/>
                  </a:lnTo>
                  <a:lnTo>
                    <a:pt x="38" y="5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346000" y="5030640"/>
              <a:ext cx="90720" cy="47160"/>
            </a:xfrm>
            <a:custGeom>
              <a:avLst/>
              <a:gdLst/>
              <a:ahLst/>
              <a:rect l="l" t="t" r="r" b="b"/>
              <a:pathLst>
                <a:path w="110" h="58">
                  <a:moveTo>
                    <a:pt x="3" y="6"/>
                  </a:moveTo>
                  <a:lnTo>
                    <a:pt x="55" y="0"/>
                  </a:lnTo>
                  <a:lnTo>
                    <a:pt x="110" y="47"/>
                  </a:lnTo>
                  <a:lnTo>
                    <a:pt x="39" y="58"/>
                  </a:lnTo>
                  <a:lnTo>
                    <a:pt x="0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358960" y="5078160"/>
              <a:ext cx="468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445000" y="5138280"/>
              <a:ext cx="49680" cy="5004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405400" y="5124960"/>
              <a:ext cx="144000" cy="50400"/>
            </a:xfrm>
            <a:custGeom>
              <a:avLst/>
              <a:gdLst/>
              <a:ahLst/>
              <a:rect l="l" t="t" r="r" b="b"/>
              <a:pathLst>
                <a:path w="172" h="61">
                  <a:moveTo>
                    <a:pt x="172" y="50"/>
                  </a:moveTo>
                  <a:lnTo>
                    <a:pt x="140" y="50"/>
                  </a:lnTo>
                  <a:lnTo>
                    <a:pt x="134" y="31"/>
                  </a:lnTo>
                  <a:lnTo>
                    <a:pt x="126" y="13"/>
                  </a:lnTo>
                  <a:lnTo>
                    <a:pt x="115" y="4"/>
                  </a:lnTo>
                  <a:lnTo>
                    <a:pt x="104" y="1"/>
                  </a:lnTo>
                  <a:lnTo>
                    <a:pt x="96" y="0"/>
                  </a:lnTo>
                  <a:lnTo>
                    <a:pt x="46" y="0"/>
                  </a:lnTo>
                  <a:lnTo>
                    <a:pt x="33" y="7"/>
                  </a:lnTo>
                  <a:lnTo>
                    <a:pt x="13" y="32"/>
                  </a:lnTo>
                  <a:lnTo>
                    <a:pt x="4" y="53"/>
                  </a:lnTo>
                  <a:lnTo>
                    <a:pt x="0" y="6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450040" y="5141520"/>
              <a:ext cx="43200" cy="4536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463000" y="5158080"/>
              <a:ext cx="12240" cy="1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0" y="5970"/>
                  </a:moveTo>
                  <a:arcTo wR="10800" hR="10800" stAng="-9206097" swAng="7612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0" y="5970"/>
                  </a:moveTo>
                  <a:arcTo wR="10800" hR="10800" stAng="-9206097" swAng="7612194"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476680" y="5160960"/>
              <a:ext cx="4680" cy="504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7" y="1"/>
                  </a:lnTo>
                  <a:lnTo>
                    <a:pt x="0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464800" y="5156280"/>
              <a:ext cx="14040" cy="1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13" y="16095"/>
                  </a:moveTo>
                  <a:arcTo wR="10800" hR="10800" stAng="1761465" swAng="75848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13" y="16095"/>
                  </a:moveTo>
                  <a:arcTo wR="10800" hR="10800" stAng="1761465" swAng="7584869"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458680" y="5160960"/>
              <a:ext cx="6120" cy="504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0" y="1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382360" y="5092560"/>
              <a:ext cx="195120" cy="51840"/>
            </a:xfrm>
            <a:custGeom>
              <a:avLst/>
              <a:gdLst/>
              <a:ahLst/>
              <a:rect l="l" t="t" r="r" b="b"/>
              <a:pathLst>
                <a:path w="236" h="64">
                  <a:moveTo>
                    <a:pt x="1" y="1"/>
                  </a:moveTo>
                  <a:lnTo>
                    <a:pt x="0" y="13"/>
                  </a:lnTo>
                  <a:lnTo>
                    <a:pt x="3" y="56"/>
                  </a:lnTo>
                  <a:lnTo>
                    <a:pt x="3" y="64"/>
                  </a:lnTo>
                  <a:lnTo>
                    <a:pt x="48" y="64"/>
                  </a:lnTo>
                  <a:lnTo>
                    <a:pt x="55" y="56"/>
                  </a:lnTo>
                  <a:lnTo>
                    <a:pt x="64" y="47"/>
                  </a:lnTo>
                  <a:lnTo>
                    <a:pt x="74" y="39"/>
                  </a:lnTo>
                  <a:lnTo>
                    <a:pt x="124" y="39"/>
                  </a:lnTo>
                  <a:lnTo>
                    <a:pt x="139" y="42"/>
                  </a:lnTo>
                  <a:lnTo>
                    <a:pt x="148" y="48"/>
                  </a:lnTo>
                  <a:lnTo>
                    <a:pt x="154" y="54"/>
                  </a:lnTo>
                  <a:lnTo>
                    <a:pt x="159" y="64"/>
                  </a:lnTo>
                  <a:lnTo>
                    <a:pt x="200" y="64"/>
                  </a:lnTo>
                  <a:lnTo>
                    <a:pt x="200" y="63"/>
                  </a:lnTo>
                  <a:lnTo>
                    <a:pt x="214" y="63"/>
                  </a:lnTo>
                  <a:lnTo>
                    <a:pt x="218" y="44"/>
                  </a:lnTo>
                  <a:lnTo>
                    <a:pt x="233" y="44"/>
                  </a:lnTo>
                  <a:lnTo>
                    <a:pt x="233" y="42"/>
                  </a:lnTo>
                  <a:lnTo>
                    <a:pt x="236" y="29"/>
                  </a:lnTo>
                  <a:lnTo>
                    <a:pt x="231" y="20"/>
                  </a:lnTo>
                  <a:lnTo>
                    <a:pt x="227" y="16"/>
                  </a:lnTo>
                  <a:lnTo>
                    <a:pt x="222" y="12"/>
                  </a:lnTo>
                  <a:lnTo>
                    <a:pt x="215" y="10"/>
                  </a:lnTo>
                  <a:lnTo>
                    <a:pt x="60" y="3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577840" y="5105880"/>
              <a:ext cx="3240" cy="2088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571000" y="5107320"/>
              <a:ext cx="6480" cy="226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1" y="0"/>
                  </a:moveTo>
                  <a:lnTo>
                    <a:pt x="6" y="9"/>
                  </a:lnTo>
                  <a:lnTo>
                    <a:pt x="7" y="12"/>
                  </a:lnTo>
                  <a:lnTo>
                    <a:pt x="7" y="22"/>
                  </a:lnTo>
                  <a:lnTo>
                    <a:pt x="6" y="28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514480" y="5143320"/>
              <a:ext cx="34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518080" y="5151240"/>
              <a:ext cx="298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514480" y="5146560"/>
              <a:ext cx="34920" cy="4680"/>
            </a:xfrm>
            <a:custGeom>
              <a:avLst/>
              <a:gdLst/>
              <a:ahLst/>
              <a:rect l="l" t="t" r="r" b="b"/>
              <a:pathLst>
                <a:path w="43" h="6">
                  <a:moveTo>
                    <a:pt x="0" y="0"/>
                  </a:moveTo>
                  <a:lnTo>
                    <a:pt x="43" y="0"/>
                  </a:lnTo>
                  <a:lnTo>
                    <a:pt x="41" y="6"/>
                  </a:lnTo>
                  <a:lnTo>
                    <a:pt x="5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231160" y="5079600"/>
              <a:ext cx="154080" cy="86400"/>
            </a:xfrm>
            <a:custGeom>
              <a:avLst/>
              <a:gdLst/>
              <a:ahLst/>
              <a:rect l="l" t="t" r="r" b="b"/>
              <a:pathLst>
                <a:path w="186" h="105">
                  <a:moveTo>
                    <a:pt x="16" y="4"/>
                  </a:moveTo>
                  <a:lnTo>
                    <a:pt x="4" y="17"/>
                  </a:lnTo>
                  <a:lnTo>
                    <a:pt x="1" y="32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3" y="105"/>
                  </a:lnTo>
                  <a:lnTo>
                    <a:pt x="170" y="105"/>
                  </a:lnTo>
                  <a:lnTo>
                    <a:pt x="178" y="104"/>
                  </a:lnTo>
                  <a:lnTo>
                    <a:pt x="184" y="95"/>
                  </a:lnTo>
                  <a:lnTo>
                    <a:pt x="186" y="72"/>
                  </a:lnTo>
                  <a:lnTo>
                    <a:pt x="183" y="29"/>
                  </a:lnTo>
                  <a:lnTo>
                    <a:pt x="184" y="16"/>
                  </a:lnTo>
                  <a:lnTo>
                    <a:pt x="186" y="6"/>
                  </a:lnTo>
                  <a:lnTo>
                    <a:pt x="16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097240" y="5091120"/>
              <a:ext cx="278280" cy="1440"/>
            </a:xfrm>
            <a:custGeom>
              <a:avLst/>
              <a:gdLst/>
              <a:ahLst/>
              <a:rect l="l" t="t" r="r" b="b"/>
              <a:pathLst>
                <a:path w="335" h="2">
                  <a:moveTo>
                    <a:pt x="335" y="2"/>
                  </a:moveTo>
                  <a:lnTo>
                    <a:pt x="177" y="2"/>
                  </a:lnTo>
                  <a:lnTo>
                    <a:pt x="55" y="0"/>
                  </a:lnTo>
                  <a:lnTo>
                    <a:pt x="0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H="1">
              <a:off x="5370840" y="5092560"/>
              <a:ext cx="129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450040" y="5071320"/>
              <a:ext cx="174240" cy="34200"/>
            </a:xfrm>
            <a:custGeom>
              <a:avLst/>
              <a:gdLst/>
              <a:ahLst/>
              <a:rect l="l" t="t" r="r" b="b"/>
              <a:pathLst>
                <a:path w="209" h="43">
                  <a:moveTo>
                    <a:pt x="146" y="43"/>
                  </a:moveTo>
                  <a:lnTo>
                    <a:pt x="159" y="43"/>
                  </a:lnTo>
                  <a:lnTo>
                    <a:pt x="173" y="39"/>
                  </a:lnTo>
                  <a:lnTo>
                    <a:pt x="180" y="34"/>
                  </a:lnTo>
                  <a:lnTo>
                    <a:pt x="192" y="22"/>
                  </a:lnTo>
                  <a:lnTo>
                    <a:pt x="203" y="22"/>
                  </a:lnTo>
                  <a:lnTo>
                    <a:pt x="206" y="30"/>
                  </a:lnTo>
                  <a:lnTo>
                    <a:pt x="209" y="27"/>
                  </a:lnTo>
                  <a:lnTo>
                    <a:pt x="200" y="17"/>
                  </a:lnTo>
                  <a:lnTo>
                    <a:pt x="190" y="8"/>
                  </a:lnTo>
                  <a:lnTo>
                    <a:pt x="174" y="3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621040" y="5097240"/>
              <a:ext cx="1440" cy="8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614200" y="5089320"/>
              <a:ext cx="3240" cy="2268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V="1">
              <a:off x="5614200" y="5094000"/>
              <a:ext cx="144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607360" y="5092560"/>
              <a:ext cx="5040" cy="2268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108760" y="5135040"/>
              <a:ext cx="49320" cy="536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112360" y="5138280"/>
              <a:ext cx="43200" cy="4716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243040" y="5043600"/>
              <a:ext cx="1800" cy="38880"/>
            </a:xfrm>
            <a:custGeom>
              <a:avLst/>
              <a:gdLst/>
              <a:ahLst/>
              <a:rect l="l" t="t" r="r" b="b"/>
              <a:pathLst>
                <a:path w="2" h="48">
                  <a:moveTo>
                    <a:pt x="2" y="0"/>
                  </a:moveTo>
                  <a:lnTo>
                    <a:pt x="0" y="12"/>
                  </a:lnTo>
                  <a:lnTo>
                    <a:pt x="0" y="4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41600" y="5037120"/>
              <a:ext cx="4680" cy="45720"/>
            </a:xfrm>
            <a:custGeom>
              <a:avLst/>
              <a:gdLst/>
              <a:ahLst/>
              <a:rect l="l" t="t" r="r" b="b"/>
              <a:pathLst>
                <a:path w="6" h="56">
                  <a:moveTo>
                    <a:pt x="6" y="3"/>
                  </a:moveTo>
                  <a:lnTo>
                    <a:pt x="3" y="18"/>
                  </a:lnTo>
                  <a:lnTo>
                    <a:pt x="3" y="53"/>
                  </a:lnTo>
                  <a:lnTo>
                    <a:pt x="5" y="53"/>
                  </a:lnTo>
                  <a:lnTo>
                    <a:pt x="2" y="56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2" y="15"/>
                  </a:lnTo>
                  <a:lnTo>
                    <a:pt x="5" y="0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H="1">
              <a:off x="5123880" y="5037120"/>
              <a:ext cx="57600" cy="45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8240" y="5040360"/>
              <a:ext cx="66240" cy="4392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9" y="3"/>
                  </a:moveTo>
                  <a:lnTo>
                    <a:pt x="74" y="18"/>
                  </a:lnTo>
                  <a:lnTo>
                    <a:pt x="74" y="55"/>
                  </a:lnTo>
                  <a:lnTo>
                    <a:pt x="0" y="55"/>
                  </a:lnTo>
                  <a:lnTo>
                    <a:pt x="41" y="0"/>
                  </a:lnTo>
                  <a:lnTo>
                    <a:pt x="76" y="0"/>
                  </a:lnTo>
                  <a:lnTo>
                    <a:pt x="79" y="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178240" y="5037120"/>
              <a:ext cx="66240" cy="4716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79" y="3"/>
                  </a:moveTo>
                  <a:lnTo>
                    <a:pt x="74" y="17"/>
                  </a:lnTo>
                  <a:lnTo>
                    <a:pt x="73" y="22"/>
                  </a:lnTo>
                  <a:lnTo>
                    <a:pt x="73" y="53"/>
                  </a:lnTo>
                  <a:lnTo>
                    <a:pt x="74" y="58"/>
                  </a:lnTo>
                  <a:lnTo>
                    <a:pt x="0" y="58"/>
                  </a:lnTo>
                  <a:lnTo>
                    <a:pt x="42" y="0"/>
                  </a:lnTo>
                  <a:lnTo>
                    <a:pt x="76" y="0"/>
                  </a:lnTo>
                  <a:lnTo>
                    <a:pt x="79" y="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86360" y="5124960"/>
              <a:ext cx="18000" cy="133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2" y="15"/>
                  </a:moveTo>
                  <a:lnTo>
                    <a:pt x="22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983120" y="5124960"/>
              <a:ext cx="89280" cy="30960"/>
            </a:xfrm>
            <a:custGeom>
              <a:avLst/>
              <a:gdLst/>
              <a:ahLst/>
              <a:rect l="l" t="t" r="r" b="b"/>
              <a:pathLst>
                <a:path w="107" h="38">
                  <a:moveTo>
                    <a:pt x="107" y="38"/>
                  </a:moveTo>
                  <a:lnTo>
                    <a:pt x="41" y="38"/>
                  </a:lnTo>
                  <a:lnTo>
                    <a:pt x="23" y="15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6" y="23"/>
                  </a:lnTo>
                  <a:lnTo>
                    <a:pt x="17" y="37"/>
                  </a:lnTo>
                  <a:lnTo>
                    <a:pt x="45" y="3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072400" y="5124960"/>
              <a:ext cx="92520" cy="30960"/>
            </a:xfrm>
            <a:custGeom>
              <a:avLst/>
              <a:gdLst/>
              <a:ahLst/>
              <a:rect l="l" t="t" r="r" b="b"/>
              <a:pathLst>
                <a:path w="111" h="38">
                  <a:moveTo>
                    <a:pt x="111" y="16"/>
                  </a:moveTo>
                  <a:lnTo>
                    <a:pt x="101" y="3"/>
                  </a:lnTo>
                  <a:lnTo>
                    <a:pt x="94" y="0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5" y="7"/>
                  </a:lnTo>
                  <a:lnTo>
                    <a:pt x="10" y="28"/>
                  </a:lnTo>
                  <a:lnTo>
                    <a:pt x="4" y="35"/>
                  </a:lnTo>
                  <a:lnTo>
                    <a:pt x="0" y="3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983120" y="5092560"/>
              <a:ext cx="114120" cy="34200"/>
            </a:xfrm>
            <a:custGeom>
              <a:avLst/>
              <a:gdLst/>
              <a:ahLst/>
              <a:rect l="l" t="t" r="r" b="b"/>
              <a:pathLst>
                <a:path w="138" h="42">
                  <a:moveTo>
                    <a:pt x="138" y="0"/>
                  </a:moveTo>
                  <a:lnTo>
                    <a:pt x="63" y="3"/>
                  </a:lnTo>
                  <a:lnTo>
                    <a:pt x="22" y="3"/>
                  </a:lnTo>
                  <a:lnTo>
                    <a:pt x="9" y="7"/>
                  </a:lnTo>
                  <a:lnTo>
                    <a:pt x="4" y="12"/>
                  </a:lnTo>
                  <a:lnTo>
                    <a:pt x="3" y="20"/>
                  </a:lnTo>
                  <a:lnTo>
                    <a:pt x="1" y="32"/>
                  </a:lnTo>
                  <a:lnTo>
                    <a:pt x="0" y="4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04360" y="5138280"/>
              <a:ext cx="82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011200" y="5148000"/>
              <a:ext cx="69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009400" y="5156280"/>
              <a:ext cx="79560" cy="1332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96" y="16"/>
                  </a:moveTo>
                  <a:lnTo>
                    <a:pt x="19" y="1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161680" y="5138280"/>
              <a:ext cx="792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004360" y="5138280"/>
              <a:ext cx="84240" cy="9360"/>
            </a:xfrm>
            <a:custGeom>
              <a:avLst/>
              <a:gdLst/>
              <a:ahLst/>
              <a:rect l="l" t="t" r="r" b="b"/>
              <a:pathLst>
                <a:path w="102" h="11">
                  <a:moveTo>
                    <a:pt x="1" y="0"/>
                  </a:moveTo>
                  <a:lnTo>
                    <a:pt x="102" y="0"/>
                  </a:lnTo>
                  <a:lnTo>
                    <a:pt x="93" y="11"/>
                  </a:lnTo>
                  <a:lnTo>
                    <a:pt x="9" y="1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983120" y="5124960"/>
              <a:ext cx="34920" cy="3096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1" y="0"/>
                  </a:moveTo>
                  <a:lnTo>
                    <a:pt x="25" y="0"/>
                  </a:lnTo>
                  <a:lnTo>
                    <a:pt x="25" y="15"/>
                  </a:lnTo>
                  <a:lnTo>
                    <a:pt x="41" y="38"/>
                  </a:lnTo>
                  <a:lnTo>
                    <a:pt x="32" y="38"/>
                  </a:lnTo>
                  <a:lnTo>
                    <a:pt x="32" y="37"/>
                  </a:lnTo>
                  <a:lnTo>
                    <a:pt x="17" y="37"/>
                  </a:lnTo>
                  <a:lnTo>
                    <a:pt x="6" y="2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004360" y="5138280"/>
              <a:ext cx="82800" cy="9360"/>
            </a:xfrm>
            <a:custGeom>
              <a:avLst/>
              <a:gdLst/>
              <a:ahLst/>
              <a:rect l="l" t="t" r="r" b="b"/>
              <a:pathLst>
                <a:path w="101" h="11">
                  <a:moveTo>
                    <a:pt x="0" y="0"/>
                  </a:moveTo>
                  <a:lnTo>
                    <a:pt x="101" y="0"/>
                  </a:lnTo>
                  <a:lnTo>
                    <a:pt x="93" y="1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983120" y="5124960"/>
              <a:ext cx="34920" cy="309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" y="0"/>
                  </a:moveTo>
                  <a:lnTo>
                    <a:pt x="27" y="0"/>
                  </a:lnTo>
                  <a:lnTo>
                    <a:pt x="28" y="1"/>
                  </a:lnTo>
                  <a:lnTo>
                    <a:pt x="28" y="15"/>
                  </a:lnTo>
                  <a:lnTo>
                    <a:pt x="43" y="38"/>
                  </a:lnTo>
                  <a:lnTo>
                    <a:pt x="22" y="37"/>
                  </a:lnTo>
                  <a:lnTo>
                    <a:pt x="8" y="25"/>
                  </a:lnTo>
                  <a:lnTo>
                    <a:pt x="0" y="1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983120" y="5091120"/>
              <a:ext cx="253440" cy="55440"/>
            </a:xfrm>
            <a:custGeom>
              <a:avLst/>
              <a:gdLst/>
              <a:ahLst/>
              <a:rect l="l" t="t" r="r" b="b"/>
              <a:pathLst>
                <a:path w="305" h="68">
                  <a:moveTo>
                    <a:pt x="221" y="66"/>
                  </a:moveTo>
                  <a:lnTo>
                    <a:pt x="299" y="66"/>
                  </a:lnTo>
                  <a:lnTo>
                    <a:pt x="300" y="18"/>
                  </a:lnTo>
                  <a:lnTo>
                    <a:pt x="303" y="5"/>
                  </a:lnTo>
                  <a:lnTo>
                    <a:pt x="305" y="0"/>
                  </a:lnTo>
                  <a:lnTo>
                    <a:pt x="202" y="0"/>
                  </a:lnTo>
                  <a:lnTo>
                    <a:pt x="102" y="3"/>
                  </a:lnTo>
                  <a:lnTo>
                    <a:pt x="19" y="5"/>
                  </a:lnTo>
                  <a:lnTo>
                    <a:pt x="9" y="9"/>
                  </a:lnTo>
                  <a:lnTo>
                    <a:pt x="4" y="14"/>
                  </a:lnTo>
                  <a:lnTo>
                    <a:pt x="3" y="19"/>
                  </a:lnTo>
                  <a:lnTo>
                    <a:pt x="0" y="43"/>
                  </a:lnTo>
                  <a:lnTo>
                    <a:pt x="25" y="43"/>
                  </a:lnTo>
                  <a:lnTo>
                    <a:pt x="26" y="44"/>
                  </a:lnTo>
                  <a:lnTo>
                    <a:pt x="26" y="58"/>
                  </a:lnTo>
                  <a:lnTo>
                    <a:pt x="126" y="58"/>
                  </a:lnTo>
                  <a:lnTo>
                    <a:pt x="132" y="50"/>
                  </a:lnTo>
                  <a:lnTo>
                    <a:pt x="136" y="47"/>
                  </a:lnTo>
                  <a:lnTo>
                    <a:pt x="145" y="43"/>
                  </a:lnTo>
                  <a:lnTo>
                    <a:pt x="201" y="43"/>
                  </a:lnTo>
                  <a:lnTo>
                    <a:pt x="208" y="46"/>
                  </a:lnTo>
                  <a:lnTo>
                    <a:pt x="221" y="68"/>
                  </a:lnTo>
                  <a:lnTo>
                    <a:pt x="221" y="66"/>
                  </a:lnTo>
                  <a:close/>
                </a:path>
              </a:pathLst>
            </a:custGeom>
            <a:solidFill>
              <a:srgbClr val="f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125680" y="5156280"/>
              <a:ext cx="12240" cy="1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00" y="3771"/>
                  </a:moveTo>
                  <a:arcTo wR="10800" hR="10800" stAng="-8363923" swAng="59278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600" y="3771"/>
                  </a:moveTo>
                  <a:arcTo wR="10800" hR="10800" stAng="-8363923" swAng="5927845"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138640" y="5158080"/>
              <a:ext cx="6480" cy="2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8" y="3"/>
                  </a:lnTo>
                  <a:lnTo>
                    <a:pt x="0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128200" y="5153040"/>
              <a:ext cx="10440" cy="1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29" y="16242"/>
                  </a:moveTo>
                  <a:arcTo wR="10800" hR="10800" stAng="1815386" swAng="7566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29" y="16242"/>
                  </a:moveTo>
                  <a:arcTo wR="10800" hR="10800" stAng="1815386" swAng="7566851"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122080" y="5158080"/>
              <a:ext cx="5040" cy="2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5"/>
                  </a:moveTo>
                  <a:lnTo>
                    <a:pt x="0" y="3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171760" y="5128200"/>
              <a:ext cx="41040" cy="133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0" y="0"/>
                  </a:moveTo>
                  <a:lnTo>
                    <a:pt x="6" y="16"/>
                  </a:lnTo>
                  <a:lnTo>
                    <a:pt x="50" y="16"/>
                  </a:lnTo>
                  <a:lnTo>
                    <a:pt x="5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241600" y="5094360"/>
              <a:ext cx="18000" cy="468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8" y="4"/>
                  </a:lnTo>
                  <a:lnTo>
                    <a:pt x="5" y="6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029200" y="5076360"/>
              <a:ext cx="100800" cy="9720"/>
            </a:xfrm>
            <a:custGeom>
              <a:avLst/>
              <a:gdLst/>
              <a:ahLst/>
              <a:rect l="l" t="t" r="r" b="b"/>
              <a:pathLst>
                <a:path w="123" h="12">
                  <a:moveTo>
                    <a:pt x="0" y="12"/>
                  </a:moveTo>
                  <a:lnTo>
                    <a:pt x="35" y="3"/>
                  </a:lnTo>
                  <a:lnTo>
                    <a:pt x="69" y="0"/>
                  </a:lnTo>
                  <a:lnTo>
                    <a:pt x="12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4989600" y="509580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168520" y="5143320"/>
              <a:ext cx="238320" cy="30960"/>
            </a:xfrm>
            <a:custGeom>
              <a:avLst/>
              <a:gdLst/>
              <a:ahLst/>
              <a:rect l="l" t="t" r="r" b="b"/>
              <a:pathLst>
                <a:path w="289" h="40">
                  <a:moveTo>
                    <a:pt x="0" y="0"/>
                  </a:moveTo>
                  <a:lnTo>
                    <a:pt x="14" y="31"/>
                  </a:lnTo>
                  <a:lnTo>
                    <a:pt x="21" y="40"/>
                  </a:lnTo>
                  <a:lnTo>
                    <a:pt x="289" y="4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166720" y="5144760"/>
              <a:ext cx="256680" cy="6480"/>
            </a:xfrm>
            <a:custGeom>
              <a:avLst/>
              <a:gdLst/>
              <a:ahLst/>
              <a:rect l="l" t="t" r="r" b="b"/>
              <a:pathLst>
                <a:path w="309" h="8">
                  <a:moveTo>
                    <a:pt x="1" y="2"/>
                  </a:moveTo>
                  <a:lnTo>
                    <a:pt x="309" y="0"/>
                  </a:lnTo>
                  <a:lnTo>
                    <a:pt x="303" y="8"/>
                  </a:lnTo>
                  <a:lnTo>
                    <a:pt x="4" y="8"/>
                  </a:lnTo>
                  <a:lnTo>
                    <a:pt x="0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382360" y="5022720"/>
              <a:ext cx="67320" cy="4716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0" y="0"/>
                  </a:moveTo>
                  <a:lnTo>
                    <a:pt x="11" y="0"/>
                  </a:lnTo>
                  <a:lnTo>
                    <a:pt x="37" y="25"/>
                  </a:lnTo>
                  <a:lnTo>
                    <a:pt x="79" y="59"/>
                  </a:lnTo>
                  <a:lnTo>
                    <a:pt x="84" y="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7" name=""/>
          <p:cNvSpPr/>
          <p:nvPr/>
        </p:nvSpPr>
        <p:spPr>
          <a:xfrm flipV="1">
            <a:off x="5084640" y="4990680"/>
            <a:ext cx="180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8" name=""/>
          <p:cNvGrpSpPr/>
          <p:nvPr/>
        </p:nvGrpSpPr>
        <p:grpSpPr>
          <a:xfrm>
            <a:off x="4390920" y="4869000"/>
            <a:ext cx="83880" cy="221400"/>
            <a:chOff x="4390920" y="4869000"/>
            <a:chExt cx="83880" cy="221400"/>
          </a:xfrm>
        </p:grpSpPr>
        <p:sp>
          <p:nvSpPr>
            <p:cNvPr id="2319" name=""/>
            <p:cNvSpPr/>
            <p:nvPr/>
          </p:nvSpPr>
          <p:spPr>
            <a:xfrm flipV="1">
              <a:off x="4432320" y="4941000"/>
              <a:ext cx="144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390920" y="4869000"/>
              <a:ext cx="83880" cy="141480"/>
            </a:xfrm>
            <a:custGeom>
              <a:avLst/>
              <a:gdLst/>
              <a:ahLst/>
              <a:rect l="l" t="t" r="r" b="b"/>
              <a:pathLst>
                <a:path w="103" h="176">
                  <a:moveTo>
                    <a:pt x="51" y="0"/>
                  </a:moveTo>
                  <a:lnTo>
                    <a:pt x="0" y="176"/>
                  </a:lnTo>
                  <a:lnTo>
                    <a:pt x="103" y="17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1" name=""/>
          <p:cNvGrpSpPr/>
          <p:nvPr/>
        </p:nvGrpSpPr>
        <p:grpSpPr>
          <a:xfrm>
            <a:off x="4630680" y="4240080"/>
            <a:ext cx="409320" cy="145440"/>
            <a:chOff x="4630680" y="4240080"/>
            <a:chExt cx="409320" cy="145440"/>
          </a:xfrm>
        </p:grpSpPr>
        <p:sp>
          <p:nvSpPr>
            <p:cNvPr id="2322" name=""/>
            <p:cNvSpPr/>
            <p:nvPr/>
          </p:nvSpPr>
          <p:spPr>
            <a:xfrm flipV="1">
              <a:off x="4630680" y="4265640"/>
              <a:ext cx="33660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889160" y="4240080"/>
              <a:ext cx="150840" cy="87480"/>
            </a:xfrm>
            <a:custGeom>
              <a:avLst/>
              <a:gdLst/>
              <a:ahLst/>
              <a:rect l="l" t="t" r="r" b="b"/>
              <a:pathLst>
                <a:path w="181" h="108">
                  <a:moveTo>
                    <a:pt x="181" y="0"/>
                  </a:moveTo>
                  <a:lnTo>
                    <a:pt x="0" y="12"/>
                  </a:lnTo>
                  <a:lnTo>
                    <a:pt x="35" y="108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4" name=""/>
          <p:cNvGrpSpPr/>
          <p:nvPr/>
        </p:nvGrpSpPr>
        <p:grpSpPr>
          <a:xfrm>
            <a:off x="3983040" y="4219560"/>
            <a:ext cx="202680" cy="173880"/>
            <a:chOff x="3983040" y="4219560"/>
            <a:chExt cx="202680" cy="173880"/>
          </a:xfrm>
        </p:grpSpPr>
        <p:sp>
          <p:nvSpPr>
            <p:cNvPr id="2325" name=""/>
            <p:cNvSpPr/>
            <p:nvPr/>
          </p:nvSpPr>
          <p:spPr>
            <a:xfrm flipH="1" flipV="1">
              <a:off x="4053960" y="4282200"/>
              <a:ext cx="13176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983040" y="4219560"/>
              <a:ext cx="136800" cy="124560"/>
            </a:xfrm>
            <a:custGeom>
              <a:avLst/>
              <a:gdLst/>
              <a:ahLst/>
              <a:rect l="l" t="t" r="r" b="b"/>
              <a:pathLst>
                <a:path w="166" h="154">
                  <a:moveTo>
                    <a:pt x="0" y="0"/>
                  </a:moveTo>
                  <a:lnTo>
                    <a:pt x="99" y="154"/>
                  </a:lnTo>
                  <a:lnTo>
                    <a:pt x="166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7" name=""/>
          <p:cNvGrpSpPr/>
          <p:nvPr/>
        </p:nvGrpSpPr>
        <p:grpSpPr>
          <a:xfrm>
            <a:off x="3773520" y="4619520"/>
            <a:ext cx="210600" cy="82440"/>
            <a:chOff x="3773520" y="4619520"/>
            <a:chExt cx="210600" cy="82440"/>
          </a:xfrm>
        </p:grpSpPr>
        <p:sp>
          <p:nvSpPr>
            <p:cNvPr id="2328" name=""/>
            <p:cNvSpPr/>
            <p:nvPr/>
          </p:nvSpPr>
          <p:spPr>
            <a:xfrm flipV="1">
              <a:off x="3773520" y="4643280"/>
              <a:ext cx="138240" cy="4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832560" y="4619520"/>
              <a:ext cx="151560" cy="82440"/>
            </a:xfrm>
            <a:custGeom>
              <a:avLst/>
              <a:gdLst/>
              <a:ahLst/>
              <a:rect l="l" t="t" r="r" b="b"/>
              <a:pathLst>
                <a:path w="183" h="102">
                  <a:moveTo>
                    <a:pt x="183" y="0"/>
                  </a:moveTo>
                  <a:lnTo>
                    <a:pt x="0" y="6"/>
                  </a:lnTo>
                  <a:lnTo>
                    <a:pt x="32" y="102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0" name=""/>
          <p:cNvGrpSpPr/>
          <p:nvPr/>
        </p:nvGrpSpPr>
        <p:grpSpPr>
          <a:xfrm>
            <a:off x="4006800" y="4854600"/>
            <a:ext cx="164880" cy="232920"/>
            <a:chOff x="4006800" y="4854600"/>
            <a:chExt cx="164880" cy="232920"/>
          </a:xfrm>
        </p:grpSpPr>
        <p:sp>
          <p:nvSpPr>
            <p:cNvPr id="2331" name=""/>
            <p:cNvSpPr/>
            <p:nvPr/>
          </p:nvSpPr>
          <p:spPr>
            <a:xfrm flipV="1">
              <a:off x="4006800" y="4929120"/>
              <a:ext cx="11556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054680" y="4854600"/>
              <a:ext cx="117000" cy="140760"/>
            </a:xfrm>
            <a:custGeom>
              <a:avLst/>
              <a:gdLst/>
              <a:ahLst/>
              <a:rect l="l" t="t" r="r" b="b"/>
              <a:pathLst>
                <a:path w="144" h="173">
                  <a:moveTo>
                    <a:pt x="144" y="0"/>
                  </a:moveTo>
                  <a:lnTo>
                    <a:pt x="0" y="114"/>
                  </a:lnTo>
                  <a:lnTo>
                    <a:pt x="85" y="173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3" name=""/>
          <p:cNvGrpSpPr/>
          <p:nvPr/>
        </p:nvGrpSpPr>
        <p:grpSpPr>
          <a:xfrm>
            <a:off x="3946680" y="3352680"/>
            <a:ext cx="1082520" cy="350640"/>
            <a:chOff x="3946680" y="3352680"/>
            <a:chExt cx="1082520" cy="350640"/>
          </a:xfrm>
        </p:grpSpPr>
        <p:sp>
          <p:nvSpPr>
            <p:cNvPr id="2334" name=""/>
            <p:cNvSpPr/>
            <p:nvPr/>
          </p:nvSpPr>
          <p:spPr>
            <a:xfrm>
              <a:off x="3946680" y="3352680"/>
              <a:ext cx="108252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200480" y="3401640"/>
              <a:ext cx="54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先進交通管理系統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0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(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ATM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6" name=""/>
          <p:cNvGrpSpPr/>
          <p:nvPr/>
        </p:nvGrpSpPr>
        <p:grpSpPr>
          <a:xfrm>
            <a:off x="3452400" y="4233960"/>
            <a:ext cx="269280" cy="223560"/>
            <a:chOff x="3452400" y="4233960"/>
            <a:chExt cx="269280" cy="223560"/>
          </a:xfrm>
        </p:grpSpPr>
        <p:sp>
          <p:nvSpPr>
            <p:cNvPr id="2337" name=""/>
            <p:cNvSpPr/>
            <p:nvPr/>
          </p:nvSpPr>
          <p:spPr>
            <a:xfrm>
              <a:off x="3507480" y="4233960"/>
              <a:ext cx="214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7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可變訊息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452400" y="4350600"/>
              <a:ext cx="23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7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  </a:t>
              </a:r>
              <a:r>
                <a:rPr b="0" lang="zh-TW" sz="7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標誌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9" name=""/>
          <p:cNvSpPr/>
          <p:nvPr/>
        </p:nvSpPr>
        <p:spPr>
          <a:xfrm>
            <a:off x="4854240" y="3970440"/>
            <a:ext cx="320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00"/>
                </a:solidFill>
                <a:latin typeface="全真楷書"/>
                <a:ea typeface="全真楷書"/>
              </a:rPr>
              <a:t>對車通訊系統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5391000" y="4219560"/>
            <a:ext cx="320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00"/>
                </a:solidFill>
                <a:latin typeface="全真楷書"/>
                <a:ea typeface="全真楷書"/>
              </a:rPr>
              <a:t>匝道儀控號誌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5319720" y="4705200"/>
            <a:ext cx="320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00"/>
                </a:solidFill>
                <a:latin typeface="全真楷書"/>
                <a:ea typeface="全真楷書"/>
              </a:rPr>
              <a:t>幹道交通號誌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481920" y="4886280"/>
            <a:ext cx="214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00"/>
                </a:solidFill>
                <a:latin typeface="全真楷書"/>
                <a:ea typeface="全真楷書"/>
              </a:rPr>
              <a:t>感應線圈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3507840" y="5345280"/>
            <a:ext cx="267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00"/>
                </a:solidFill>
                <a:latin typeface="全真楷書"/>
                <a:ea typeface="全真楷書"/>
              </a:rPr>
              <a:t>監看攝影機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4248000" y="5438880"/>
            <a:ext cx="320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00"/>
                </a:solidFill>
                <a:latin typeface="全真楷書"/>
                <a:ea typeface="全真楷書"/>
              </a:rPr>
              <a:t>電腦號誌狀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183640" y="5283360"/>
            <a:ext cx="395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全真楷書"/>
                <a:ea typeface="全真楷書"/>
              </a:rPr>
              <a:t>IVHS</a:t>
            </a:r>
            <a:r>
              <a:rPr b="0" lang="zh-TW" sz="700" spc="-1" strike="noStrike">
                <a:solidFill>
                  <a:srgbClr val="000000"/>
                </a:solidFill>
                <a:latin typeface="全真楷書"/>
                <a:ea typeface="全真楷書"/>
              </a:rPr>
              <a:t>探測車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6" name=""/>
          <p:cNvGrpSpPr/>
          <p:nvPr/>
        </p:nvGrpSpPr>
        <p:grpSpPr>
          <a:xfrm>
            <a:off x="3755880" y="5154480"/>
            <a:ext cx="270360" cy="232560"/>
            <a:chOff x="3755880" y="5154480"/>
            <a:chExt cx="270360" cy="232560"/>
          </a:xfrm>
        </p:grpSpPr>
        <p:grpSp>
          <p:nvGrpSpPr>
            <p:cNvPr id="2347" name=""/>
            <p:cNvGrpSpPr/>
            <p:nvPr/>
          </p:nvGrpSpPr>
          <p:grpSpPr>
            <a:xfrm>
              <a:off x="3886560" y="5186520"/>
              <a:ext cx="105480" cy="36360"/>
              <a:chOff x="3886560" y="5186520"/>
              <a:chExt cx="105480" cy="36360"/>
            </a:xfrm>
          </p:grpSpPr>
          <p:sp>
            <p:nvSpPr>
              <p:cNvPr id="2348" name=""/>
              <p:cNvSpPr/>
              <p:nvPr/>
            </p:nvSpPr>
            <p:spPr>
              <a:xfrm>
                <a:off x="3886560" y="5186520"/>
                <a:ext cx="57240" cy="22680"/>
              </a:xfrm>
              <a:custGeom>
                <a:avLst/>
                <a:gdLst/>
                <a:ahLst/>
                <a:rect l="l" t="t" r="r" b="b"/>
                <a:pathLst>
                  <a:path w="70" h="27">
                    <a:moveTo>
                      <a:pt x="67" y="1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70" y="27"/>
                    </a:lnTo>
                    <a:lnTo>
                      <a:pt x="67" y="1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9" name=""/>
              <p:cNvGrpSpPr/>
              <p:nvPr/>
            </p:nvGrpSpPr>
            <p:grpSpPr>
              <a:xfrm>
                <a:off x="3934080" y="5189760"/>
                <a:ext cx="57960" cy="33120"/>
                <a:chOff x="3934080" y="5189760"/>
                <a:chExt cx="57960" cy="33120"/>
              </a:xfrm>
            </p:grpSpPr>
            <p:sp>
              <p:nvSpPr>
                <p:cNvPr id="2350" name=""/>
                <p:cNvSpPr/>
                <p:nvPr/>
              </p:nvSpPr>
              <p:spPr>
                <a:xfrm>
                  <a:off x="3934080" y="5191200"/>
                  <a:ext cx="14400" cy="23760"/>
                </a:xfrm>
                <a:custGeom>
                  <a:avLst/>
                  <a:gdLst/>
                  <a:ahLst/>
                  <a:rect l="l" t="t" r="r" b="b"/>
                  <a:pathLst>
                    <a:path w="17" h="29">
                      <a:moveTo>
                        <a:pt x="17" y="0"/>
                      </a:moveTo>
                      <a:lnTo>
                        <a:pt x="10" y="1"/>
                      </a:lnTo>
                      <a:lnTo>
                        <a:pt x="6" y="3"/>
                      </a:lnTo>
                      <a:lnTo>
                        <a:pt x="3" y="6"/>
                      </a:lnTo>
                      <a:lnTo>
                        <a:pt x="1" y="10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4" y="26"/>
                      </a:lnTo>
                      <a:lnTo>
                        <a:pt x="12" y="29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51" name=""/>
                <p:cNvGrpSpPr/>
                <p:nvPr/>
              </p:nvGrpSpPr>
              <p:grpSpPr>
                <a:xfrm>
                  <a:off x="3935520" y="5189760"/>
                  <a:ext cx="56520" cy="33120"/>
                  <a:chOff x="3935520" y="5189760"/>
                  <a:chExt cx="56520" cy="33120"/>
                </a:xfrm>
              </p:grpSpPr>
              <p:sp>
                <p:nvSpPr>
                  <p:cNvPr id="2352" name=""/>
                  <p:cNvSpPr/>
                  <p:nvPr/>
                </p:nvSpPr>
                <p:spPr>
                  <a:xfrm>
                    <a:off x="3935520" y="5191200"/>
                    <a:ext cx="55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41">
                        <a:moveTo>
                          <a:pt x="66" y="14"/>
                        </a:moveTo>
                        <a:lnTo>
                          <a:pt x="63" y="11"/>
                        </a:lnTo>
                        <a:lnTo>
                          <a:pt x="58" y="8"/>
                        </a:lnTo>
                        <a:lnTo>
                          <a:pt x="51" y="5"/>
                        </a:lnTo>
                        <a:lnTo>
                          <a:pt x="42" y="3"/>
                        </a:lnTo>
                        <a:lnTo>
                          <a:pt x="33" y="2"/>
                        </a:lnTo>
                        <a:lnTo>
                          <a:pt x="26" y="2"/>
                        </a:lnTo>
                        <a:lnTo>
                          <a:pt x="17" y="0"/>
                        </a:lnTo>
                        <a:lnTo>
                          <a:pt x="11" y="2"/>
                        </a:lnTo>
                        <a:lnTo>
                          <a:pt x="6" y="3"/>
                        </a:lnTo>
                        <a:lnTo>
                          <a:pt x="3" y="8"/>
                        </a:lnTo>
                        <a:lnTo>
                          <a:pt x="0" y="14"/>
                        </a:lnTo>
                        <a:lnTo>
                          <a:pt x="0" y="20"/>
                        </a:lnTo>
                        <a:lnTo>
                          <a:pt x="0" y="24"/>
                        </a:lnTo>
                        <a:lnTo>
                          <a:pt x="3" y="30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7" y="37"/>
                        </a:lnTo>
                        <a:lnTo>
                          <a:pt x="26" y="39"/>
                        </a:lnTo>
                        <a:lnTo>
                          <a:pt x="33" y="40"/>
                        </a:lnTo>
                        <a:lnTo>
                          <a:pt x="42" y="40"/>
                        </a:lnTo>
                        <a:lnTo>
                          <a:pt x="50" y="41"/>
                        </a:lnTo>
                        <a:lnTo>
                          <a:pt x="55" y="40"/>
                        </a:lnTo>
                        <a:lnTo>
                          <a:pt x="61" y="37"/>
                        </a:lnTo>
                        <a:lnTo>
                          <a:pt x="64" y="31"/>
                        </a:lnTo>
                        <a:lnTo>
                          <a:pt x="67" y="27"/>
                        </a:lnTo>
                        <a:lnTo>
                          <a:pt x="67" y="20"/>
                        </a:lnTo>
                        <a:lnTo>
                          <a:pt x="66" y="14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53" name=""/>
                  <p:cNvGrpSpPr/>
                  <p:nvPr/>
                </p:nvGrpSpPr>
                <p:grpSpPr>
                  <a:xfrm>
                    <a:off x="3947040" y="5189760"/>
                    <a:ext cx="45000" cy="33120"/>
                    <a:chOff x="3947040" y="5189760"/>
                    <a:chExt cx="45000" cy="33120"/>
                  </a:xfrm>
                </p:grpSpPr>
                <p:sp>
                  <p:nvSpPr>
                    <p:cNvPr id="2354" name=""/>
                    <p:cNvSpPr/>
                    <p:nvPr/>
                  </p:nvSpPr>
                  <p:spPr>
                    <a:xfrm>
                      <a:off x="3978000" y="5194440"/>
                      <a:ext cx="11160" cy="11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5" name=""/>
                    <p:cNvSpPr/>
                    <p:nvPr/>
                  </p:nvSpPr>
                  <p:spPr>
                    <a:xfrm>
                      <a:off x="3978000" y="5200920"/>
                      <a:ext cx="11160" cy="11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6" name=""/>
                    <p:cNvSpPr/>
                    <p:nvPr/>
                  </p:nvSpPr>
                  <p:spPr>
                    <a:xfrm>
                      <a:off x="3971160" y="5195880"/>
                      <a:ext cx="11160" cy="14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7" name=""/>
                    <p:cNvSpPr/>
                    <p:nvPr/>
                  </p:nvSpPr>
                  <p:spPr>
                    <a:xfrm>
                      <a:off x="3980880" y="5204160"/>
                      <a:ext cx="11160" cy="10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8" name=""/>
                    <p:cNvSpPr/>
                    <p:nvPr/>
                  </p:nvSpPr>
                  <p:spPr>
                    <a:xfrm>
                      <a:off x="3974400" y="5202360"/>
                      <a:ext cx="9360" cy="11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9" name=""/>
                    <p:cNvSpPr/>
                    <p:nvPr/>
                  </p:nvSpPr>
                  <p:spPr>
                    <a:xfrm>
                      <a:off x="3978000" y="5207040"/>
                      <a:ext cx="11160" cy="12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0" name=""/>
                    <p:cNvSpPr/>
                    <p:nvPr/>
                  </p:nvSpPr>
                  <p:spPr>
                    <a:xfrm>
                      <a:off x="3967920" y="5205600"/>
                      <a:ext cx="11160" cy="12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1" name=""/>
                    <p:cNvSpPr/>
                    <p:nvPr/>
                  </p:nvSpPr>
                  <p:spPr>
                    <a:xfrm>
                      <a:off x="3971160" y="5208840"/>
                      <a:ext cx="11160" cy="140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2" name=""/>
                    <p:cNvSpPr/>
                    <p:nvPr/>
                  </p:nvSpPr>
                  <p:spPr>
                    <a:xfrm>
                      <a:off x="3966480" y="5200920"/>
                      <a:ext cx="12600" cy="12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3" name=""/>
                    <p:cNvSpPr/>
                    <p:nvPr/>
                  </p:nvSpPr>
                  <p:spPr>
                    <a:xfrm>
                      <a:off x="3964680" y="5195880"/>
                      <a:ext cx="11160" cy="11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4" name=""/>
                    <p:cNvSpPr/>
                    <p:nvPr/>
                  </p:nvSpPr>
                  <p:spPr>
                    <a:xfrm>
                      <a:off x="3969720" y="5193000"/>
                      <a:ext cx="10800" cy="12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5" name=""/>
                    <p:cNvSpPr/>
                    <p:nvPr/>
                  </p:nvSpPr>
                  <p:spPr>
                    <a:xfrm>
                      <a:off x="3961440" y="5191200"/>
                      <a:ext cx="10800" cy="12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6" name=""/>
                    <p:cNvSpPr/>
                    <p:nvPr/>
                  </p:nvSpPr>
                  <p:spPr>
                    <a:xfrm>
                      <a:off x="3959640" y="5200920"/>
                      <a:ext cx="11160" cy="11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7" name=""/>
                    <p:cNvSpPr/>
                    <p:nvPr/>
                  </p:nvSpPr>
                  <p:spPr>
                    <a:xfrm>
                      <a:off x="3958200" y="5194440"/>
                      <a:ext cx="9360" cy="11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8" name=""/>
                    <p:cNvSpPr/>
                    <p:nvPr/>
                  </p:nvSpPr>
                  <p:spPr>
                    <a:xfrm>
                      <a:off x="3954960" y="5191200"/>
                      <a:ext cx="11160" cy="11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9" name=""/>
                    <p:cNvSpPr/>
                    <p:nvPr/>
                  </p:nvSpPr>
                  <p:spPr>
                    <a:xfrm>
                      <a:off x="3950280" y="5191200"/>
                      <a:ext cx="11160" cy="14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0" name=""/>
                    <p:cNvSpPr/>
                    <p:nvPr/>
                  </p:nvSpPr>
                  <p:spPr>
                    <a:xfrm>
                      <a:off x="3947040" y="5189760"/>
                      <a:ext cx="11160" cy="12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2371" name=""/>
            <p:cNvSpPr/>
            <p:nvPr/>
          </p:nvSpPr>
          <p:spPr>
            <a:xfrm>
              <a:off x="3863160" y="5183280"/>
              <a:ext cx="36360" cy="86040"/>
            </a:xfrm>
            <a:custGeom>
              <a:avLst/>
              <a:gdLst/>
              <a:ahLst/>
              <a:rect l="l" t="t" r="r" b="b"/>
              <a:pathLst>
                <a:path w="42" h="107">
                  <a:moveTo>
                    <a:pt x="42" y="30"/>
                  </a:moveTo>
                  <a:lnTo>
                    <a:pt x="34" y="5"/>
                  </a:lnTo>
                  <a:lnTo>
                    <a:pt x="34" y="0"/>
                  </a:lnTo>
                  <a:lnTo>
                    <a:pt x="0" y="2"/>
                  </a:lnTo>
                  <a:lnTo>
                    <a:pt x="0" y="91"/>
                  </a:lnTo>
                  <a:lnTo>
                    <a:pt x="1" y="107"/>
                  </a:lnTo>
                  <a:lnTo>
                    <a:pt x="20" y="95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>
              <a:off x="3848400" y="5204880"/>
              <a:ext cx="230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3" name=""/>
            <p:cNvGrpSpPr/>
            <p:nvPr/>
          </p:nvGrpSpPr>
          <p:grpSpPr>
            <a:xfrm>
              <a:off x="3755880" y="5191560"/>
              <a:ext cx="106920" cy="77400"/>
              <a:chOff x="3755880" y="5191560"/>
              <a:chExt cx="106920" cy="77400"/>
            </a:xfrm>
          </p:grpSpPr>
          <p:sp>
            <p:nvSpPr>
              <p:cNvPr id="2374" name=""/>
              <p:cNvSpPr/>
              <p:nvPr/>
            </p:nvSpPr>
            <p:spPr>
              <a:xfrm>
                <a:off x="3763800" y="5191560"/>
                <a:ext cx="99000" cy="77400"/>
              </a:xfrm>
              <a:custGeom>
                <a:avLst/>
                <a:gdLst/>
                <a:ahLst/>
                <a:rect l="l" t="t" r="r" b="b"/>
                <a:pathLst>
                  <a:path w="122" h="95">
                    <a:moveTo>
                      <a:pt x="122" y="95"/>
                    </a:moveTo>
                    <a:lnTo>
                      <a:pt x="71" y="86"/>
                    </a:lnTo>
                    <a:lnTo>
                      <a:pt x="68" y="86"/>
                    </a:lnTo>
                    <a:lnTo>
                      <a:pt x="65" y="75"/>
                    </a:lnTo>
                    <a:lnTo>
                      <a:pt x="3" y="64"/>
                    </a:lnTo>
                    <a:lnTo>
                      <a:pt x="0" y="60"/>
                    </a:lnTo>
                    <a:lnTo>
                      <a:pt x="0" y="4"/>
                    </a:lnTo>
                    <a:lnTo>
                      <a:pt x="38" y="0"/>
                    </a:lnTo>
                    <a:lnTo>
                      <a:pt x="122" y="10"/>
                    </a:lnTo>
                    <a:lnTo>
                      <a:pt x="122" y="9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3755880" y="5196240"/>
                <a:ext cx="106920" cy="57960"/>
              </a:xfrm>
              <a:custGeom>
                <a:avLst/>
                <a:gdLst/>
                <a:ahLst/>
                <a:rect l="l" t="t" r="r" b="b"/>
                <a:pathLst>
                  <a:path w="129" h="74">
                    <a:moveTo>
                      <a:pt x="129" y="16"/>
                    </a:moveTo>
                    <a:lnTo>
                      <a:pt x="129" y="74"/>
                    </a:lnTo>
                    <a:lnTo>
                      <a:pt x="6" y="55"/>
                    </a:lnTo>
                    <a:lnTo>
                      <a:pt x="0" y="50"/>
                    </a:lnTo>
                    <a:lnTo>
                      <a:pt x="0" y="8"/>
                    </a:lnTo>
                    <a:lnTo>
                      <a:pt x="9" y="0"/>
                    </a:lnTo>
                    <a:lnTo>
                      <a:pt x="129" y="16"/>
                    </a:lnTo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3755880" y="5201280"/>
                <a:ext cx="97200" cy="48240"/>
              </a:xfrm>
              <a:custGeom>
                <a:avLst/>
                <a:gdLst/>
                <a:ahLst/>
                <a:rect l="l" t="t" r="r" b="b"/>
                <a:pathLst>
                  <a:path w="118" h="60">
                    <a:moveTo>
                      <a:pt x="0" y="0"/>
                    </a:moveTo>
                    <a:lnTo>
                      <a:pt x="113" y="16"/>
                    </a:lnTo>
                    <a:lnTo>
                      <a:pt x="112" y="19"/>
                    </a:lnTo>
                    <a:lnTo>
                      <a:pt x="112" y="23"/>
                    </a:lnTo>
                    <a:lnTo>
                      <a:pt x="112" y="29"/>
                    </a:lnTo>
                    <a:lnTo>
                      <a:pt x="110" y="36"/>
                    </a:lnTo>
                    <a:lnTo>
                      <a:pt x="110" y="44"/>
                    </a:lnTo>
                    <a:lnTo>
                      <a:pt x="112" y="49"/>
                    </a:lnTo>
                    <a:lnTo>
                      <a:pt x="113" y="55"/>
                    </a:lnTo>
                    <a:lnTo>
                      <a:pt x="115" y="57"/>
                    </a:lnTo>
                    <a:lnTo>
                      <a:pt x="118" y="60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3813480" y="5214240"/>
                <a:ext cx="32760" cy="320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6"/>
                    </a:moveTo>
                    <a:lnTo>
                      <a:pt x="0" y="0"/>
                    </a:lnTo>
                    <a:lnTo>
                      <a:pt x="0" y="35"/>
                    </a:lnTo>
                    <a:lnTo>
                      <a:pt x="41" y="41"/>
                    </a:lnTo>
                    <a:lnTo>
                      <a:pt x="4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3763800" y="519624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46" y="7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40" y="12"/>
                    </a:lnTo>
                    <a:lnTo>
                      <a:pt x="46" y="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9" name=""/>
              <p:cNvGrpSpPr/>
              <p:nvPr/>
            </p:nvGrpSpPr>
            <p:grpSpPr>
              <a:xfrm>
                <a:off x="3836520" y="5259240"/>
                <a:ext cx="17640" cy="8280"/>
                <a:chOff x="3836520" y="5259240"/>
                <a:chExt cx="17640" cy="8280"/>
              </a:xfrm>
            </p:grpSpPr>
            <p:sp>
              <p:nvSpPr>
                <p:cNvPr id="2380" name=""/>
                <p:cNvSpPr/>
                <p:nvPr/>
              </p:nvSpPr>
              <p:spPr>
                <a:xfrm>
                  <a:off x="3850920" y="5261040"/>
                  <a:ext cx="3240" cy="64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3836520" y="5259240"/>
                  <a:ext cx="3240" cy="5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82" name=""/>
            <p:cNvGrpSpPr/>
            <p:nvPr/>
          </p:nvGrpSpPr>
          <p:grpSpPr>
            <a:xfrm>
              <a:off x="3777480" y="5173920"/>
              <a:ext cx="85320" cy="21960"/>
              <a:chOff x="3777480" y="5173920"/>
              <a:chExt cx="85320" cy="21960"/>
            </a:xfrm>
          </p:grpSpPr>
          <p:sp>
            <p:nvSpPr>
              <p:cNvPr id="2383" name=""/>
              <p:cNvSpPr/>
              <p:nvPr/>
            </p:nvSpPr>
            <p:spPr>
              <a:xfrm>
                <a:off x="3783600" y="517716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0"/>
                    </a:moveTo>
                    <a:lnTo>
                      <a:pt x="21" y="19"/>
                    </a:lnTo>
                    <a:lnTo>
                      <a:pt x="0" y="23"/>
                    </a:lnTo>
                    <a:lnTo>
                      <a:pt x="7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3777480" y="5173920"/>
                <a:ext cx="85320" cy="21960"/>
              </a:xfrm>
              <a:custGeom>
                <a:avLst/>
                <a:gdLst/>
                <a:ahLst/>
                <a:rect l="l" t="t" r="r" b="b"/>
                <a:pathLst>
                  <a:path w="104" h="26">
                    <a:moveTo>
                      <a:pt x="104" y="19"/>
                    </a:moveTo>
                    <a:lnTo>
                      <a:pt x="16" y="10"/>
                    </a:lnTo>
                    <a:lnTo>
                      <a:pt x="9" y="26"/>
                    </a:lnTo>
                    <a:lnTo>
                      <a:pt x="0" y="25"/>
                    </a:lnTo>
                    <a:lnTo>
                      <a:pt x="9" y="0"/>
                    </a:lnTo>
                    <a:lnTo>
                      <a:pt x="19" y="1"/>
                    </a:lnTo>
                    <a:lnTo>
                      <a:pt x="104" y="13"/>
                    </a:lnTo>
                    <a:lnTo>
                      <a:pt x="104" y="19"/>
                    </a:lnTo>
                    <a:close/>
                  </a:path>
                </a:pathLst>
              </a:custGeom>
              <a:solidFill>
                <a:srgbClr val="60606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3780360" y="5178600"/>
                <a:ext cx="14760" cy="158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2"/>
                    </a:moveTo>
                    <a:lnTo>
                      <a:pt x="9" y="0"/>
                    </a:lnTo>
                    <a:lnTo>
                      <a:pt x="0" y="2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3790440" y="5154480"/>
              <a:ext cx="36000" cy="31680"/>
              <a:chOff x="3790440" y="5154480"/>
              <a:chExt cx="36000" cy="31680"/>
            </a:xfrm>
          </p:grpSpPr>
          <p:sp>
            <p:nvSpPr>
              <p:cNvPr id="2387" name=""/>
              <p:cNvSpPr/>
              <p:nvPr/>
            </p:nvSpPr>
            <p:spPr>
              <a:xfrm>
                <a:off x="3790440" y="5154480"/>
                <a:ext cx="21240" cy="3168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25" y="4"/>
                    </a:moveTo>
                    <a:lnTo>
                      <a:pt x="20" y="0"/>
                    </a:lnTo>
                    <a:lnTo>
                      <a:pt x="16" y="0"/>
                    </a:lnTo>
                    <a:lnTo>
                      <a:pt x="13" y="3"/>
                    </a:lnTo>
                    <a:lnTo>
                      <a:pt x="9" y="4"/>
                    </a:lnTo>
                    <a:lnTo>
                      <a:pt x="6" y="7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4" y="32"/>
                    </a:lnTo>
                    <a:lnTo>
                      <a:pt x="6" y="35"/>
                    </a:lnTo>
                    <a:lnTo>
                      <a:pt x="10" y="38"/>
                    </a:lnTo>
                    <a:lnTo>
                      <a:pt x="15" y="40"/>
                    </a:lnTo>
                    <a:lnTo>
                      <a:pt x="20" y="38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3805200" y="5163840"/>
                <a:ext cx="16200" cy="22320"/>
              </a:xfrm>
              <a:prstGeom prst="ellipse">
                <a:avLst/>
              </a:prstGeom>
              <a:solidFill>
                <a:srgbClr val="6060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3811680" y="5165640"/>
                <a:ext cx="14760" cy="172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3816360" y="5168880"/>
                <a:ext cx="10080" cy="12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1" name=""/>
            <p:cNvGrpSpPr/>
            <p:nvPr/>
          </p:nvGrpSpPr>
          <p:grpSpPr>
            <a:xfrm>
              <a:off x="3816720" y="5154480"/>
              <a:ext cx="143280" cy="31680"/>
              <a:chOff x="3816720" y="5154480"/>
              <a:chExt cx="143280" cy="31680"/>
            </a:xfrm>
          </p:grpSpPr>
          <p:sp>
            <p:nvSpPr>
              <p:cNvPr id="2392" name=""/>
              <p:cNvSpPr/>
              <p:nvPr/>
            </p:nvSpPr>
            <p:spPr>
              <a:xfrm>
                <a:off x="3818520" y="5154480"/>
                <a:ext cx="121680" cy="7920"/>
              </a:xfrm>
              <a:custGeom>
                <a:avLst/>
                <a:gdLst/>
                <a:ahLst/>
                <a:rect l="l" t="t" r="r" b="b"/>
                <a:pathLst>
                  <a:path w="148" h="10">
                    <a:moveTo>
                      <a:pt x="28" y="10"/>
                    </a:moveTo>
                    <a:lnTo>
                      <a:pt x="148" y="2"/>
                    </a:lnTo>
                    <a:lnTo>
                      <a:pt x="129" y="0"/>
                    </a:lnTo>
                    <a:lnTo>
                      <a:pt x="97" y="2"/>
                    </a:lnTo>
                    <a:lnTo>
                      <a:pt x="0" y="9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3834720" y="5155920"/>
                <a:ext cx="115560" cy="30240"/>
              </a:xfrm>
              <a:custGeom>
                <a:avLst/>
                <a:gdLst/>
                <a:ahLst/>
                <a:rect l="l" t="t" r="r" b="b"/>
                <a:pathLst>
                  <a:path w="140" h="37">
                    <a:moveTo>
                      <a:pt x="126" y="0"/>
                    </a:moveTo>
                    <a:lnTo>
                      <a:pt x="140" y="7"/>
                    </a:lnTo>
                    <a:lnTo>
                      <a:pt x="140" y="23"/>
                    </a:lnTo>
                    <a:lnTo>
                      <a:pt x="130" y="31"/>
                    </a:lnTo>
                    <a:lnTo>
                      <a:pt x="13" y="37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60606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3816720" y="5160600"/>
                <a:ext cx="34560" cy="2556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29" y="1"/>
                    </a:moveTo>
                    <a:lnTo>
                      <a:pt x="0" y="0"/>
                    </a:lnTo>
                    <a:lnTo>
                      <a:pt x="0" y="26"/>
                    </a:lnTo>
                    <a:lnTo>
                      <a:pt x="38" y="31"/>
                    </a:lnTo>
                    <a:lnTo>
                      <a:pt x="42" y="26"/>
                    </a:lnTo>
                    <a:lnTo>
                      <a:pt x="42" y="9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3826800" y="5167080"/>
                <a:ext cx="123480" cy="7920"/>
              </a:xfrm>
              <a:custGeom>
                <a:avLst/>
                <a:gdLst/>
                <a:ahLst/>
                <a:rect l="l" t="t" r="r" b="b"/>
                <a:pathLst>
                  <a:path w="151" h="10">
                    <a:moveTo>
                      <a:pt x="151" y="0"/>
                    </a:moveTo>
                    <a:lnTo>
                      <a:pt x="34" y="6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4" y="10"/>
                    </a:lnTo>
                    <a:lnTo>
                      <a:pt x="151" y="5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H="1">
                <a:off x="3851280" y="5160600"/>
                <a:ext cx="10872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3853080" y="5170320"/>
                <a:ext cx="98640" cy="7920"/>
              </a:xfrm>
              <a:custGeom>
                <a:avLst/>
                <a:gdLst/>
                <a:ahLst/>
                <a:rect l="l" t="t" r="r" b="b"/>
                <a:pathLst>
                  <a:path w="120" h="10">
                    <a:moveTo>
                      <a:pt x="120" y="5"/>
                    </a:move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3867840" y="5159160"/>
                <a:ext cx="14760" cy="2700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0" y="0"/>
                    </a:moveTo>
                    <a:lnTo>
                      <a:pt x="6" y="3"/>
                    </a:lnTo>
                    <a:lnTo>
                      <a:pt x="17" y="10"/>
                    </a:lnTo>
                    <a:lnTo>
                      <a:pt x="17" y="25"/>
                    </a:lnTo>
                    <a:lnTo>
                      <a:pt x="6" y="3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9" name=""/>
            <p:cNvGrpSpPr/>
            <p:nvPr/>
          </p:nvGrpSpPr>
          <p:grpSpPr>
            <a:xfrm>
              <a:off x="3934440" y="5258160"/>
              <a:ext cx="27720" cy="36720"/>
              <a:chOff x="3934440" y="5258160"/>
              <a:chExt cx="27720" cy="36720"/>
            </a:xfrm>
          </p:grpSpPr>
          <p:sp>
            <p:nvSpPr>
              <p:cNvPr id="2400" name=""/>
              <p:cNvSpPr/>
              <p:nvPr/>
            </p:nvSpPr>
            <p:spPr>
              <a:xfrm>
                <a:off x="3934440" y="5258160"/>
                <a:ext cx="27720" cy="32040"/>
              </a:xfrm>
              <a:custGeom>
                <a:avLst/>
                <a:gdLst/>
                <a:ahLst/>
                <a:rect l="l" t="t" r="r" b="b"/>
                <a:pathLst>
                  <a:path w="35" h="39">
                    <a:moveTo>
                      <a:pt x="28" y="0"/>
                    </a:moveTo>
                    <a:lnTo>
                      <a:pt x="28" y="16"/>
                    </a:lnTo>
                    <a:lnTo>
                      <a:pt x="29" y="19"/>
                    </a:lnTo>
                    <a:lnTo>
                      <a:pt x="32" y="20"/>
                    </a:lnTo>
                    <a:lnTo>
                      <a:pt x="33" y="23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35" y="30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3944160" y="5277600"/>
                <a:ext cx="18000" cy="158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3935880" y="5279040"/>
                <a:ext cx="18000" cy="158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3" name=""/>
            <p:cNvGrpSpPr/>
            <p:nvPr/>
          </p:nvGrpSpPr>
          <p:grpSpPr>
            <a:xfrm>
              <a:off x="3863160" y="5201280"/>
              <a:ext cx="52200" cy="43200"/>
              <a:chOff x="3863160" y="5201280"/>
              <a:chExt cx="52200" cy="43200"/>
            </a:xfrm>
          </p:grpSpPr>
          <p:sp>
            <p:nvSpPr>
              <p:cNvPr id="2404" name=""/>
              <p:cNvSpPr/>
              <p:nvPr/>
            </p:nvSpPr>
            <p:spPr>
              <a:xfrm>
                <a:off x="3864600" y="5207400"/>
                <a:ext cx="24840" cy="1908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30" y="4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0" y="23"/>
                    </a:lnTo>
                    <a:lnTo>
                      <a:pt x="30" y="25"/>
                    </a:lnTo>
                    <a:lnTo>
                      <a:pt x="3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3871080" y="5201280"/>
                <a:ext cx="44280" cy="11160"/>
              </a:xfrm>
              <a:custGeom>
                <a:avLst/>
                <a:gdLst/>
                <a:ahLst/>
                <a:rect l="l" t="t" r="r" b="b"/>
                <a:pathLst>
                  <a:path w="54" h="15">
                    <a:moveTo>
                      <a:pt x="22" y="15"/>
                    </a:moveTo>
                    <a:lnTo>
                      <a:pt x="0" y="12"/>
                    </a:lnTo>
                    <a:lnTo>
                      <a:pt x="30" y="0"/>
                    </a:lnTo>
                    <a:lnTo>
                      <a:pt x="54" y="5"/>
                    </a:lnTo>
                    <a:lnTo>
                      <a:pt x="22" y="15"/>
                    </a:lnTo>
                    <a:close/>
                  </a:path>
                </a:pathLst>
              </a:custGeom>
              <a:solidFill>
                <a:srgbClr val="60606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3876120" y="5204520"/>
                <a:ext cx="37800" cy="39960"/>
              </a:xfrm>
              <a:custGeom>
                <a:avLst/>
                <a:gdLst/>
                <a:ahLst/>
                <a:rect l="l" t="t" r="r" b="b"/>
                <a:pathLst>
                  <a:path w="45" h="51">
                    <a:moveTo>
                      <a:pt x="45" y="0"/>
                    </a:moveTo>
                    <a:lnTo>
                      <a:pt x="15" y="8"/>
                    </a:lnTo>
                    <a:lnTo>
                      <a:pt x="15" y="20"/>
                    </a:lnTo>
                    <a:lnTo>
                      <a:pt x="12" y="10"/>
                    </a:lnTo>
                    <a:lnTo>
                      <a:pt x="1" y="17"/>
                    </a:lnTo>
                    <a:lnTo>
                      <a:pt x="3" y="27"/>
                    </a:lnTo>
                    <a:lnTo>
                      <a:pt x="0" y="46"/>
                    </a:lnTo>
                    <a:lnTo>
                      <a:pt x="10" y="51"/>
                    </a:lnTo>
                    <a:lnTo>
                      <a:pt x="22" y="44"/>
                    </a:lnTo>
                    <a:lnTo>
                      <a:pt x="45" y="26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3863160" y="5209200"/>
                <a:ext cx="21240" cy="936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25" y="4"/>
                    </a:moveTo>
                    <a:lnTo>
                      <a:pt x="17" y="10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60606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3863160" y="5215320"/>
                <a:ext cx="14760" cy="2592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7" y="3"/>
                    </a:moveTo>
                    <a:lnTo>
                      <a:pt x="0" y="0"/>
                    </a:lnTo>
                    <a:lnTo>
                      <a:pt x="1" y="15"/>
                    </a:lnTo>
                    <a:lnTo>
                      <a:pt x="0" y="31"/>
                    </a:lnTo>
                    <a:lnTo>
                      <a:pt x="16" y="32"/>
                    </a:lnTo>
                    <a:lnTo>
                      <a:pt x="17" y="15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3863160" y="523980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2" y="4"/>
                    </a:moveTo>
                    <a:lnTo>
                      <a:pt x="14" y="1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0" name=""/>
            <p:cNvGrpSpPr/>
            <p:nvPr/>
          </p:nvGrpSpPr>
          <p:grpSpPr>
            <a:xfrm>
              <a:off x="3894840" y="5220720"/>
              <a:ext cx="57240" cy="41400"/>
              <a:chOff x="3894840" y="5220720"/>
              <a:chExt cx="57240" cy="41400"/>
            </a:xfrm>
          </p:grpSpPr>
          <p:sp>
            <p:nvSpPr>
              <p:cNvPr id="2411" name=""/>
              <p:cNvSpPr/>
              <p:nvPr/>
            </p:nvSpPr>
            <p:spPr>
              <a:xfrm>
                <a:off x="3894840" y="5220720"/>
                <a:ext cx="27720" cy="41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3902760" y="5226840"/>
                <a:ext cx="27720" cy="306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3917520" y="5223600"/>
                <a:ext cx="34560" cy="3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4" name=""/>
            <p:cNvGrpSpPr/>
            <p:nvPr/>
          </p:nvGrpSpPr>
          <p:grpSpPr>
            <a:xfrm>
              <a:off x="3934440" y="5280840"/>
              <a:ext cx="91800" cy="106200"/>
              <a:chOff x="3934440" y="5280840"/>
              <a:chExt cx="91800" cy="106200"/>
            </a:xfrm>
          </p:grpSpPr>
          <p:sp>
            <p:nvSpPr>
              <p:cNvPr id="2415" name=""/>
              <p:cNvSpPr/>
              <p:nvPr/>
            </p:nvSpPr>
            <p:spPr>
              <a:xfrm>
                <a:off x="3939120" y="5311440"/>
                <a:ext cx="50760" cy="75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3" y="10405"/>
                    </a:moveTo>
                    <a:arcTo wR="10800" hR="10800" stAng="-125913" swAng="161330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3" y="10405"/>
                    </a:moveTo>
                    <a:arcTo wR="10800" hR="10800" stAng="-125913" swAng="16133077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6" name=""/>
              <p:cNvGrpSpPr/>
              <p:nvPr/>
            </p:nvGrpSpPr>
            <p:grpSpPr>
              <a:xfrm>
                <a:off x="3934440" y="5280840"/>
                <a:ext cx="91800" cy="99720"/>
                <a:chOff x="3934440" y="5280840"/>
                <a:chExt cx="91800" cy="99720"/>
              </a:xfrm>
            </p:grpSpPr>
            <p:sp>
              <p:nvSpPr>
                <p:cNvPr id="2417" name=""/>
                <p:cNvSpPr/>
                <p:nvPr/>
              </p:nvSpPr>
              <p:spPr>
                <a:xfrm>
                  <a:off x="3948840" y="5311440"/>
                  <a:ext cx="46080" cy="64440"/>
                </a:xfrm>
                <a:custGeom>
                  <a:avLst/>
                  <a:gdLst/>
                  <a:ahLst/>
                  <a:rect l="l" t="t" r="r" b="b"/>
                  <a:pathLst>
                    <a:path w="54" h="79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47" y="79"/>
                      </a:lnTo>
                      <a:lnTo>
                        <a:pt x="54" y="7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3984840" y="5356440"/>
                  <a:ext cx="41400" cy="24120"/>
                </a:xfrm>
                <a:custGeom>
                  <a:avLst/>
                  <a:gdLst/>
                  <a:ahLst/>
                  <a:rect l="l" t="t" r="r" b="b"/>
                  <a:pathLst>
                    <a:path w="50" h="31">
                      <a:moveTo>
                        <a:pt x="50" y="13"/>
                      </a:moveTo>
                      <a:lnTo>
                        <a:pt x="16" y="0"/>
                      </a:lnTo>
                      <a:lnTo>
                        <a:pt x="0" y="31"/>
                      </a:lnTo>
                      <a:lnTo>
                        <a:pt x="15" y="28"/>
                      </a:lnTo>
                      <a:lnTo>
                        <a:pt x="40" y="19"/>
                      </a:lnTo>
                      <a:lnTo>
                        <a:pt x="5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3934440" y="5280840"/>
                  <a:ext cx="81720" cy="91800"/>
                </a:xfrm>
                <a:custGeom>
                  <a:avLst/>
                  <a:gdLst/>
                  <a:ahLst/>
                  <a:rect l="l" t="t" r="r" b="b"/>
                  <a:pathLst>
                    <a:path w="99" h="115">
                      <a:moveTo>
                        <a:pt x="44" y="0"/>
                      </a:moveTo>
                      <a:lnTo>
                        <a:pt x="7" y="9"/>
                      </a:lnTo>
                      <a:lnTo>
                        <a:pt x="4" y="19"/>
                      </a:lnTo>
                      <a:lnTo>
                        <a:pt x="0" y="22"/>
                      </a:lnTo>
                      <a:lnTo>
                        <a:pt x="10" y="38"/>
                      </a:lnTo>
                      <a:lnTo>
                        <a:pt x="23" y="41"/>
                      </a:lnTo>
                      <a:lnTo>
                        <a:pt x="60" y="106"/>
                      </a:lnTo>
                      <a:lnTo>
                        <a:pt x="55" y="109"/>
                      </a:lnTo>
                      <a:lnTo>
                        <a:pt x="60" y="115"/>
                      </a:lnTo>
                      <a:lnTo>
                        <a:pt x="69" y="109"/>
                      </a:lnTo>
                      <a:lnTo>
                        <a:pt x="89" y="103"/>
                      </a:lnTo>
                      <a:lnTo>
                        <a:pt x="99" y="103"/>
                      </a:lnTo>
                      <a:lnTo>
                        <a:pt x="63" y="40"/>
                      </a:lnTo>
                      <a:lnTo>
                        <a:pt x="67" y="34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3945600" y="530964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4" y="12"/>
                      </a:moveTo>
                      <a:lnTo>
                        <a:pt x="9" y="0"/>
                      </a:lnTo>
                      <a:lnTo>
                        <a:pt x="0" y="7"/>
                      </a:lnTo>
                      <a:lnTo>
                        <a:pt x="14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3962160" y="5282280"/>
                  <a:ext cx="44280" cy="82440"/>
                </a:xfrm>
                <a:custGeom>
                  <a:avLst/>
                  <a:gdLst/>
                  <a:ahLst/>
                  <a:rect l="l" t="t" r="r" b="b"/>
                  <a:pathLst>
                    <a:path w="53" h="103">
                      <a:moveTo>
                        <a:pt x="0" y="0"/>
                      </a:moveTo>
                      <a:lnTo>
                        <a:pt x="22" y="34"/>
                      </a:lnTo>
                      <a:lnTo>
                        <a:pt x="18" y="40"/>
                      </a:lnTo>
                      <a:lnTo>
                        <a:pt x="53" y="103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3965400" y="5312880"/>
                  <a:ext cx="57600" cy="56160"/>
                </a:xfrm>
                <a:custGeom>
                  <a:avLst/>
                  <a:gdLst/>
                  <a:ahLst/>
                  <a:rect l="l" t="t" r="r" b="b"/>
                  <a:pathLst>
                    <a:path w="70" h="69">
                      <a:moveTo>
                        <a:pt x="32" y="0"/>
                      </a:moveTo>
                      <a:lnTo>
                        <a:pt x="0" y="9"/>
                      </a:lnTo>
                      <a:lnTo>
                        <a:pt x="35" y="69"/>
                      </a:lnTo>
                      <a:lnTo>
                        <a:pt x="58" y="63"/>
                      </a:lnTo>
                      <a:lnTo>
                        <a:pt x="70" y="63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 flipH="1" flipV="1">
                  <a:off x="3945240" y="5285160"/>
                  <a:ext cx="49320" cy="9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3962160" y="5308200"/>
                  <a:ext cx="24480" cy="9360"/>
                </a:xfrm>
                <a:custGeom>
                  <a:avLst/>
                  <a:gdLst/>
                  <a:ahLst/>
                  <a:rect l="l" t="t" r="r" b="b"/>
                  <a:pathLst>
                    <a:path w="29" h="13">
                      <a:moveTo>
                        <a:pt x="29" y="0"/>
                      </a:moveTo>
                      <a:lnTo>
                        <a:pt x="7" y="6"/>
                      </a:lnTo>
                      <a:lnTo>
                        <a:pt x="6" y="7"/>
                      </a:lnTo>
                      <a:lnTo>
                        <a:pt x="4" y="7"/>
                      </a:lnTo>
                      <a:lnTo>
                        <a:pt x="3" y="9"/>
                      </a:lnTo>
                      <a:lnTo>
                        <a:pt x="1" y="10"/>
                      </a:lnTo>
                      <a:lnTo>
                        <a:pt x="0" y="12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25" name=""/>
            <p:cNvGrpSpPr/>
            <p:nvPr/>
          </p:nvGrpSpPr>
          <p:grpSpPr>
            <a:xfrm>
              <a:off x="3868200" y="5243400"/>
              <a:ext cx="82440" cy="33840"/>
              <a:chOff x="3868200" y="5243400"/>
              <a:chExt cx="82440" cy="33840"/>
            </a:xfrm>
          </p:grpSpPr>
          <p:sp>
            <p:nvSpPr>
              <p:cNvPr id="2426" name=""/>
              <p:cNvSpPr/>
              <p:nvPr/>
            </p:nvSpPr>
            <p:spPr>
              <a:xfrm>
                <a:off x="3868200" y="5266080"/>
                <a:ext cx="60840" cy="11160"/>
              </a:xfrm>
              <a:custGeom>
                <a:avLst/>
                <a:gdLst/>
                <a:ahLst/>
                <a:rect l="l" t="t" r="r" b="b"/>
                <a:pathLst>
                  <a:path w="73" h="14">
                    <a:moveTo>
                      <a:pt x="73" y="14"/>
                    </a:moveTo>
                    <a:lnTo>
                      <a:pt x="64" y="9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7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3868200" y="5243400"/>
                <a:ext cx="52560" cy="29160"/>
              </a:xfrm>
              <a:custGeom>
                <a:avLst/>
                <a:gdLst/>
                <a:ahLst/>
                <a:rect l="l" t="t" r="r" b="b"/>
                <a:pathLst>
                  <a:path w="63" h="37">
                    <a:moveTo>
                      <a:pt x="0" y="0"/>
                    </a:moveTo>
                    <a:lnTo>
                      <a:pt x="63" y="9"/>
                    </a:lnTo>
                    <a:lnTo>
                      <a:pt x="63" y="37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889800" y="5249880"/>
                <a:ext cx="27720" cy="194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35" y="6"/>
                    </a:moveTo>
                    <a:lnTo>
                      <a:pt x="35" y="25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3927600" y="5254560"/>
                <a:ext cx="23040" cy="226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8" y="0"/>
                    </a:moveTo>
                    <a:lnTo>
                      <a:pt x="28" y="24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3920760" y="5249880"/>
                <a:ext cx="6480" cy="2736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6"/>
                    </a:moveTo>
                    <a:lnTo>
                      <a:pt x="8" y="35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3930840" y="5262840"/>
                <a:ext cx="16200" cy="129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9" y="0"/>
                    </a:moveTo>
                    <a:lnTo>
                      <a:pt x="0" y="5"/>
                    </a:lnTo>
                    <a:lnTo>
                      <a:pt x="0" y="16"/>
                    </a:lnTo>
                    <a:lnTo>
                      <a:pt x="19" y="1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2" name=""/>
            <p:cNvSpPr/>
            <p:nvPr/>
          </p:nvSpPr>
          <p:spPr>
            <a:xfrm>
              <a:off x="3931200" y="5282280"/>
              <a:ext cx="19800" cy="15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3" name=""/>
            <p:cNvGrpSpPr/>
            <p:nvPr/>
          </p:nvGrpSpPr>
          <p:grpSpPr>
            <a:xfrm>
              <a:off x="3904560" y="5196240"/>
              <a:ext cx="42480" cy="27000"/>
              <a:chOff x="3904560" y="5196240"/>
              <a:chExt cx="42480" cy="27000"/>
            </a:xfrm>
          </p:grpSpPr>
          <p:grpSp>
            <p:nvGrpSpPr>
              <p:cNvPr id="2434" name=""/>
              <p:cNvGrpSpPr/>
              <p:nvPr/>
            </p:nvGrpSpPr>
            <p:grpSpPr>
              <a:xfrm>
                <a:off x="3904560" y="5196240"/>
                <a:ext cx="42120" cy="27000"/>
                <a:chOff x="3904560" y="5196240"/>
                <a:chExt cx="42120" cy="27000"/>
              </a:xfrm>
            </p:grpSpPr>
            <p:sp>
              <p:nvSpPr>
                <p:cNvPr id="2435" name=""/>
                <p:cNvSpPr/>
                <p:nvPr/>
              </p:nvSpPr>
              <p:spPr>
                <a:xfrm>
                  <a:off x="3914280" y="5196240"/>
                  <a:ext cx="32400" cy="11160"/>
                </a:xfrm>
                <a:custGeom>
                  <a:avLst/>
                  <a:gdLst/>
                  <a:ahLst/>
                  <a:rect l="l" t="t" r="r" b="b"/>
                  <a:pathLst>
                    <a:path w="40" h="13">
                      <a:moveTo>
                        <a:pt x="40" y="4"/>
                      </a:moveTo>
                      <a:lnTo>
                        <a:pt x="12" y="13"/>
                      </a:lnTo>
                      <a:lnTo>
                        <a:pt x="0" y="9"/>
                      </a:lnTo>
                      <a:lnTo>
                        <a:pt x="27" y="0"/>
                      </a:lnTo>
                      <a:lnTo>
                        <a:pt x="4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3904560" y="5204520"/>
                  <a:ext cx="21240" cy="18720"/>
                </a:xfrm>
                <a:custGeom>
                  <a:avLst/>
                  <a:gdLst/>
                  <a:ahLst/>
                  <a:rect l="l" t="t" r="r" b="b"/>
                  <a:pathLst>
                    <a:path w="28" h="23">
                      <a:moveTo>
                        <a:pt x="28" y="4"/>
                      </a:moveTo>
                      <a:lnTo>
                        <a:pt x="13" y="0"/>
                      </a:lnTo>
                      <a:lnTo>
                        <a:pt x="0" y="8"/>
                      </a:lnTo>
                      <a:lnTo>
                        <a:pt x="0" y="20"/>
                      </a:lnTo>
                      <a:lnTo>
                        <a:pt x="18" y="23"/>
                      </a:lnTo>
                      <a:lnTo>
                        <a:pt x="24" y="19"/>
                      </a:lnTo>
                      <a:lnTo>
                        <a:pt x="28" y="22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3925800" y="5201280"/>
                  <a:ext cx="20880" cy="2052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25" y="0"/>
                      </a:moveTo>
                      <a:lnTo>
                        <a:pt x="0" y="6"/>
                      </a:lnTo>
                      <a:lnTo>
                        <a:pt x="0" y="25"/>
                      </a:lnTo>
                      <a:lnTo>
                        <a:pt x="25" y="1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8" name=""/>
              <p:cNvSpPr/>
              <p:nvPr/>
            </p:nvSpPr>
            <p:spPr>
              <a:xfrm>
                <a:off x="3927600" y="5204520"/>
                <a:ext cx="19440" cy="140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24" y="0"/>
                    </a:moveTo>
                    <a:lnTo>
                      <a:pt x="0" y="5"/>
                    </a:lnTo>
                    <a:lnTo>
                      <a:pt x="0" y="19"/>
                    </a:lnTo>
                    <a:lnTo>
                      <a:pt x="24" y="1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c02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9" name=""/>
            <p:cNvSpPr/>
            <p:nvPr/>
          </p:nvSpPr>
          <p:spPr>
            <a:xfrm>
              <a:off x="3822120" y="5186520"/>
              <a:ext cx="42480" cy="20880"/>
            </a:xfrm>
            <a:custGeom>
              <a:avLst/>
              <a:gdLst/>
              <a:ahLst/>
              <a:rect l="l" t="t" r="r" b="b"/>
              <a:pathLst>
                <a:path w="52" h="26">
                  <a:moveTo>
                    <a:pt x="49" y="5"/>
                  </a:moveTo>
                  <a:lnTo>
                    <a:pt x="52" y="16"/>
                  </a:lnTo>
                  <a:lnTo>
                    <a:pt x="52" y="26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" y="0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0" name=""/>
            <p:cNvGrpSpPr/>
            <p:nvPr/>
          </p:nvGrpSpPr>
          <p:grpSpPr>
            <a:xfrm>
              <a:off x="3917520" y="5218920"/>
              <a:ext cx="60480" cy="49680"/>
              <a:chOff x="3917520" y="5218920"/>
              <a:chExt cx="60480" cy="49680"/>
            </a:xfrm>
          </p:grpSpPr>
          <p:grpSp>
            <p:nvGrpSpPr>
              <p:cNvPr id="2441" name=""/>
              <p:cNvGrpSpPr/>
              <p:nvPr/>
            </p:nvGrpSpPr>
            <p:grpSpPr>
              <a:xfrm>
                <a:off x="3922560" y="5218920"/>
                <a:ext cx="45360" cy="49680"/>
                <a:chOff x="3922560" y="5218920"/>
                <a:chExt cx="45360" cy="49680"/>
              </a:xfrm>
            </p:grpSpPr>
            <p:sp>
              <p:nvSpPr>
                <p:cNvPr id="2442" name=""/>
                <p:cNvSpPr/>
                <p:nvPr/>
              </p:nvSpPr>
              <p:spPr>
                <a:xfrm>
                  <a:off x="3922560" y="5218920"/>
                  <a:ext cx="45360" cy="496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3940200" y="5218920"/>
                  <a:ext cx="19440" cy="4824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4" name=""/>
              <p:cNvGrpSpPr/>
              <p:nvPr/>
            </p:nvGrpSpPr>
            <p:grpSpPr>
              <a:xfrm>
                <a:off x="3939120" y="5225400"/>
                <a:ext cx="38880" cy="38520"/>
                <a:chOff x="3939120" y="5225400"/>
                <a:chExt cx="38880" cy="38520"/>
              </a:xfrm>
            </p:grpSpPr>
            <p:sp>
              <p:nvSpPr>
                <p:cNvPr id="2445" name=""/>
                <p:cNvSpPr/>
                <p:nvPr/>
              </p:nvSpPr>
              <p:spPr>
                <a:xfrm>
                  <a:off x="3939120" y="5225400"/>
                  <a:ext cx="33840" cy="3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3943800" y="5226840"/>
                  <a:ext cx="34200" cy="37080"/>
                </a:xfrm>
                <a:prstGeom prst="ellipse">
                  <a:avLst/>
                </a:prstGeom>
                <a:solidFill>
                  <a:srgbClr val="40404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3943800" y="5231520"/>
                  <a:ext cx="27720" cy="2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3940560" y="5228640"/>
                  <a:ext cx="18000" cy="28800"/>
                </a:xfrm>
                <a:custGeom>
                  <a:avLst/>
                  <a:gdLst/>
                  <a:ahLst/>
                  <a:rect l="l" t="t" r="r" b="b"/>
                  <a:pathLst>
                    <a:path w="24" h="37">
                      <a:moveTo>
                        <a:pt x="9" y="0"/>
                      </a:moveTo>
                      <a:lnTo>
                        <a:pt x="12" y="2"/>
                      </a:lnTo>
                      <a:lnTo>
                        <a:pt x="15" y="5"/>
                      </a:lnTo>
                      <a:lnTo>
                        <a:pt x="18" y="6"/>
                      </a:lnTo>
                      <a:lnTo>
                        <a:pt x="21" y="9"/>
                      </a:lnTo>
                      <a:lnTo>
                        <a:pt x="22" y="12"/>
                      </a:lnTo>
                      <a:lnTo>
                        <a:pt x="22" y="15"/>
                      </a:lnTo>
                      <a:lnTo>
                        <a:pt x="24" y="19"/>
                      </a:lnTo>
                      <a:lnTo>
                        <a:pt x="22" y="22"/>
                      </a:lnTo>
                      <a:lnTo>
                        <a:pt x="22" y="25"/>
                      </a:lnTo>
                      <a:lnTo>
                        <a:pt x="19" y="28"/>
                      </a:lnTo>
                      <a:lnTo>
                        <a:pt x="16" y="31"/>
                      </a:lnTo>
                      <a:lnTo>
                        <a:pt x="13" y="33"/>
                      </a:lnTo>
                      <a:lnTo>
                        <a:pt x="9" y="36"/>
                      </a:lnTo>
                      <a:lnTo>
                        <a:pt x="5" y="37"/>
                      </a:lnTo>
                      <a:lnTo>
                        <a:pt x="3" y="33"/>
                      </a:lnTo>
                      <a:lnTo>
                        <a:pt x="2" y="28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3" y="8"/>
                      </a:lnTo>
                      <a:lnTo>
                        <a:pt x="5" y="5"/>
                      </a:lnTo>
                      <a:lnTo>
                        <a:pt x="6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9" name=""/>
              <p:cNvSpPr/>
              <p:nvPr/>
            </p:nvSpPr>
            <p:spPr>
              <a:xfrm flipH="1">
                <a:off x="3926880" y="5223600"/>
                <a:ext cx="21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H="1">
                <a:off x="3925440" y="5226840"/>
                <a:ext cx="21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H="1">
                <a:off x="3922200" y="5228640"/>
                <a:ext cx="22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H="1">
                <a:off x="3920760" y="5230080"/>
                <a:ext cx="23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H="1">
                <a:off x="3918960" y="5231520"/>
                <a:ext cx="21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H="1">
                <a:off x="3918960" y="5233320"/>
                <a:ext cx="21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H="1">
                <a:off x="3917520" y="5236920"/>
                <a:ext cx="23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H="1">
                <a:off x="3918960" y="5240160"/>
                <a:ext cx="21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H="1">
                <a:off x="3922200" y="5250960"/>
                <a:ext cx="21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H="1">
                <a:off x="3920760" y="5249520"/>
                <a:ext cx="230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H="1">
                <a:off x="3920760" y="5246280"/>
                <a:ext cx="19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H="1">
                <a:off x="3920760" y="5244840"/>
                <a:ext cx="19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H="1">
                <a:off x="3918960" y="5243040"/>
                <a:ext cx="21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H="1">
                <a:off x="3918960" y="5241600"/>
                <a:ext cx="21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H="1">
                <a:off x="3920760" y="5249520"/>
                <a:ext cx="19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64" name="" descr=""/>
          <p:cNvPicPr/>
          <p:nvPr/>
        </p:nvPicPr>
        <p:blipFill>
          <a:blip r:embed="rId6"/>
          <a:stretch/>
        </p:blipFill>
        <p:spPr>
          <a:xfrm>
            <a:off x="4051440" y="4398840"/>
            <a:ext cx="685800" cy="333360"/>
          </a:xfrm>
          <a:prstGeom prst="rect">
            <a:avLst/>
          </a:prstGeom>
          <a:ln w="0">
            <a:noFill/>
          </a:ln>
        </p:spPr>
      </p:pic>
      <p:grpSp>
        <p:nvGrpSpPr>
          <p:cNvPr id="2465" name=""/>
          <p:cNvGrpSpPr/>
          <p:nvPr/>
        </p:nvGrpSpPr>
        <p:grpSpPr>
          <a:xfrm>
            <a:off x="4402080" y="4159080"/>
            <a:ext cx="83880" cy="221760"/>
            <a:chOff x="4402080" y="4159080"/>
            <a:chExt cx="83880" cy="221760"/>
          </a:xfrm>
        </p:grpSpPr>
        <p:sp>
          <p:nvSpPr>
            <p:cNvPr id="2466" name=""/>
            <p:cNvSpPr/>
            <p:nvPr/>
          </p:nvSpPr>
          <p:spPr>
            <a:xfrm flipV="1">
              <a:off x="4443120" y="4230000"/>
              <a:ext cx="18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402080" y="4159080"/>
              <a:ext cx="83880" cy="142560"/>
            </a:xfrm>
            <a:custGeom>
              <a:avLst/>
              <a:gdLst/>
              <a:ahLst/>
              <a:rect l="l" t="t" r="r" b="b"/>
              <a:pathLst>
                <a:path w="102" h="176">
                  <a:moveTo>
                    <a:pt x="51" y="0"/>
                  </a:moveTo>
                  <a:lnTo>
                    <a:pt x="0" y="176"/>
                  </a:lnTo>
                  <a:lnTo>
                    <a:pt x="102" y="17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8" name=""/>
          <p:cNvSpPr/>
          <p:nvPr/>
        </p:nvSpPr>
        <p:spPr>
          <a:xfrm>
            <a:off x="4489560" y="3819600"/>
            <a:ext cx="218880" cy="55440"/>
          </a:xfrm>
          <a:custGeom>
            <a:avLst/>
            <a:gdLst/>
            <a:ahLst/>
            <a:rect l="l" t="t" r="r" b="b"/>
            <a:pathLst>
              <a:path w="265" h="68">
                <a:moveTo>
                  <a:pt x="0" y="61"/>
                </a:moveTo>
                <a:lnTo>
                  <a:pt x="123" y="8"/>
                </a:lnTo>
                <a:lnTo>
                  <a:pt x="85" y="68"/>
                </a:lnTo>
                <a:lnTo>
                  <a:pt x="26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4505400" y="3924360"/>
            <a:ext cx="203040" cy="63360"/>
          </a:xfrm>
          <a:custGeom>
            <a:avLst/>
            <a:gdLst/>
            <a:ahLst/>
            <a:rect l="l" t="t" r="r" b="b"/>
            <a:pathLst>
              <a:path w="246" h="76">
                <a:moveTo>
                  <a:pt x="0" y="0"/>
                </a:moveTo>
                <a:lnTo>
                  <a:pt x="161" y="7"/>
                </a:lnTo>
                <a:lnTo>
                  <a:pt x="47" y="35"/>
                </a:lnTo>
                <a:lnTo>
                  <a:pt x="246" y="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083120" y="3819600"/>
            <a:ext cx="279360" cy="55440"/>
          </a:xfrm>
          <a:custGeom>
            <a:avLst/>
            <a:gdLst/>
            <a:ahLst/>
            <a:rect l="l" t="t" r="r" b="b"/>
            <a:pathLst>
              <a:path w="340" h="68">
                <a:moveTo>
                  <a:pt x="340" y="61"/>
                </a:moveTo>
                <a:lnTo>
                  <a:pt x="189" y="8"/>
                </a:lnTo>
                <a:lnTo>
                  <a:pt x="255" y="6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1" name=""/>
          <p:cNvGrpSpPr/>
          <p:nvPr/>
        </p:nvGrpSpPr>
        <p:grpSpPr>
          <a:xfrm>
            <a:off x="4684680" y="4834080"/>
            <a:ext cx="358560" cy="139320"/>
            <a:chOff x="4684680" y="4834080"/>
            <a:chExt cx="358560" cy="139320"/>
          </a:xfrm>
        </p:grpSpPr>
        <p:sp>
          <p:nvSpPr>
            <p:cNvPr id="2472" name=""/>
            <p:cNvSpPr/>
            <p:nvPr/>
          </p:nvSpPr>
          <p:spPr>
            <a:xfrm>
              <a:off x="4797360" y="4872960"/>
              <a:ext cx="245880" cy="100440"/>
            </a:xfrm>
            <a:custGeom>
              <a:avLst/>
              <a:gdLst/>
              <a:ahLst/>
              <a:rect l="l" t="t" r="r" b="b"/>
              <a:pathLst>
                <a:path w="298" h="123">
                  <a:moveTo>
                    <a:pt x="298" y="123"/>
                  </a:moveTo>
                  <a:lnTo>
                    <a:pt x="98" y="0"/>
                  </a:lnTo>
                  <a:lnTo>
                    <a:pt x="85" y="95"/>
                  </a:lnTo>
                  <a:lnTo>
                    <a:pt x="0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684680" y="4834080"/>
              <a:ext cx="142560" cy="111960"/>
            </a:xfrm>
            <a:custGeom>
              <a:avLst/>
              <a:gdLst/>
              <a:ahLst/>
              <a:rect l="l" t="t" r="r" b="b"/>
              <a:pathLst>
                <a:path w="173" h="139">
                  <a:moveTo>
                    <a:pt x="0" y="0"/>
                  </a:moveTo>
                  <a:lnTo>
                    <a:pt x="117" y="139"/>
                  </a:lnTo>
                  <a:lnTo>
                    <a:pt x="17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4" name=""/>
          <p:cNvGrpSpPr/>
          <p:nvPr/>
        </p:nvGrpSpPr>
        <p:grpSpPr>
          <a:xfrm>
            <a:off x="4808520" y="4500720"/>
            <a:ext cx="353520" cy="82080"/>
            <a:chOff x="4808520" y="4500720"/>
            <a:chExt cx="353520" cy="82080"/>
          </a:xfrm>
        </p:grpSpPr>
        <p:sp>
          <p:nvSpPr>
            <p:cNvPr id="2475" name=""/>
            <p:cNvSpPr/>
            <p:nvPr/>
          </p:nvSpPr>
          <p:spPr>
            <a:xfrm flipV="1">
              <a:off x="4808520" y="4538880"/>
              <a:ext cx="280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015160" y="4500720"/>
              <a:ext cx="146880" cy="82080"/>
            </a:xfrm>
            <a:custGeom>
              <a:avLst/>
              <a:gdLst/>
              <a:ahLst/>
              <a:rect l="l" t="t" r="r" b="b"/>
              <a:pathLst>
                <a:path w="179" h="103">
                  <a:moveTo>
                    <a:pt x="179" y="43"/>
                  </a:moveTo>
                  <a:lnTo>
                    <a:pt x="0" y="0"/>
                  </a:lnTo>
                  <a:lnTo>
                    <a:pt x="6" y="103"/>
                  </a:lnTo>
                  <a:lnTo>
                    <a:pt x="17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7" name=""/>
          <p:cNvSpPr/>
          <p:nvPr/>
        </p:nvSpPr>
        <p:spPr>
          <a:xfrm>
            <a:off x="4199040" y="3924360"/>
            <a:ext cx="163440" cy="8568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199" y="0"/>
                </a:moveTo>
                <a:lnTo>
                  <a:pt x="47" y="28"/>
                </a:lnTo>
                <a:lnTo>
                  <a:pt x="180" y="42"/>
                </a:lnTo>
                <a:lnTo>
                  <a:pt x="0" y="1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3542040" y="4025880"/>
            <a:ext cx="160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00"/>
                </a:solidFill>
                <a:latin typeface="全真楷書"/>
                <a:ea typeface="全真楷書"/>
              </a:rPr>
              <a:t>請改道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3398760" y="3990960"/>
            <a:ext cx="457200" cy="15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0" name=""/>
          <p:cNvGrpSpPr/>
          <p:nvPr/>
        </p:nvGrpSpPr>
        <p:grpSpPr>
          <a:xfrm>
            <a:off x="5979960" y="406440"/>
            <a:ext cx="2847600" cy="2315880"/>
            <a:chOff x="5979960" y="406440"/>
            <a:chExt cx="2847600" cy="2315880"/>
          </a:xfrm>
        </p:grpSpPr>
        <p:sp>
          <p:nvSpPr>
            <p:cNvPr id="2481" name=""/>
            <p:cNvSpPr/>
            <p:nvPr/>
          </p:nvSpPr>
          <p:spPr>
            <a:xfrm>
              <a:off x="6034680" y="457920"/>
              <a:ext cx="2792880" cy="226440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979960" y="406440"/>
              <a:ext cx="2783160" cy="225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3" name=""/>
          <p:cNvSpPr/>
          <p:nvPr/>
        </p:nvSpPr>
        <p:spPr>
          <a:xfrm>
            <a:off x="7346160" y="1550880"/>
            <a:ext cx="214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00"/>
                </a:solidFill>
                <a:latin typeface="全真楷書"/>
                <a:ea typeface="全真楷書"/>
              </a:rPr>
              <a:t>通訊設備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4" name=""/>
          <p:cNvGrpSpPr/>
          <p:nvPr/>
        </p:nvGrpSpPr>
        <p:grpSpPr>
          <a:xfrm>
            <a:off x="7664400" y="1965240"/>
            <a:ext cx="445680" cy="271080"/>
            <a:chOff x="7664400" y="1965240"/>
            <a:chExt cx="445680" cy="271080"/>
          </a:xfrm>
        </p:grpSpPr>
        <p:sp>
          <p:nvSpPr>
            <p:cNvPr id="2485" name=""/>
            <p:cNvSpPr/>
            <p:nvPr/>
          </p:nvSpPr>
          <p:spPr>
            <a:xfrm>
              <a:off x="7848000" y="1965240"/>
              <a:ext cx="223920" cy="146880"/>
            </a:xfrm>
            <a:custGeom>
              <a:avLst/>
              <a:gdLst/>
              <a:ahLst/>
              <a:rect l="l" t="t" r="r" b="b"/>
              <a:pathLst>
                <a:path w="271" h="182">
                  <a:moveTo>
                    <a:pt x="261" y="0"/>
                  </a:moveTo>
                  <a:lnTo>
                    <a:pt x="271" y="91"/>
                  </a:lnTo>
                  <a:lnTo>
                    <a:pt x="261" y="182"/>
                  </a:lnTo>
                  <a:lnTo>
                    <a:pt x="10" y="182"/>
                  </a:lnTo>
                  <a:lnTo>
                    <a:pt x="0" y="91"/>
                  </a:lnTo>
                  <a:lnTo>
                    <a:pt x="10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851600" y="1968480"/>
              <a:ext cx="217080" cy="143280"/>
            </a:xfrm>
            <a:custGeom>
              <a:avLst/>
              <a:gdLst/>
              <a:ahLst/>
              <a:rect l="l" t="t" r="r" b="b"/>
              <a:pathLst>
                <a:path w="261" h="177">
                  <a:moveTo>
                    <a:pt x="251" y="0"/>
                  </a:moveTo>
                  <a:lnTo>
                    <a:pt x="261" y="89"/>
                  </a:lnTo>
                  <a:lnTo>
                    <a:pt x="251" y="177"/>
                  </a:lnTo>
                  <a:lnTo>
                    <a:pt x="11" y="177"/>
                  </a:lnTo>
                  <a:lnTo>
                    <a:pt x="0" y="89"/>
                  </a:lnTo>
                  <a:lnTo>
                    <a:pt x="11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875000" y="1982880"/>
              <a:ext cx="172440" cy="99720"/>
            </a:xfrm>
            <a:prstGeom prst="rect">
              <a:avLst/>
            </a:prstGeom>
            <a:solidFill>
              <a:srgbClr val="404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863120" y="2093040"/>
              <a:ext cx="194040" cy="4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866720" y="2103840"/>
              <a:ext cx="187200" cy="7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932600" y="2115360"/>
              <a:ext cx="52920" cy="11160"/>
            </a:xfrm>
            <a:custGeom>
              <a:avLst/>
              <a:gdLst/>
              <a:ahLst/>
              <a:rect l="l" t="t" r="r" b="b"/>
              <a:pathLst>
                <a:path w="63" h="14">
                  <a:moveTo>
                    <a:pt x="63" y="14"/>
                  </a:moveTo>
                  <a:lnTo>
                    <a:pt x="0" y="14"/>
                  </a:lnTo>
                  <a:lnTo>
                    <a:pt x="2" y="0"/>
                  </a:lnTo>
                  <a:lnTo>
                    <a:pt x="62" y="0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932600" y="2126520"/>
              <a:ext cx="52920" cy="6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7873200" y="2103840"/>
              <a:ext cx="14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889760" y="2103840"/>
              <a:ext cx="14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904520" y="2103840"/>
              <a:ext cx="18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7922880" y="2103840"/>
              <a:ext cx="14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939440" y="2103840"/>
              <a:ext cx="14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954560" y="2103840"/>
              <a:ext cx="14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972560" y="2103840"/>
              <a:ext cx="18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989120" y="2103840"/>
              <a:ext cx="18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005680" y="2103840"/>
              <a:ext cx="18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022240" y="2103840"/>
              <a:ext cx="18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039160" y="2103840"/>
              <a:ext cx="14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879680" y="2103840"/>
              <a:ext cx="18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896240" y="2103840"/>
              <a:ext cx="18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914600" y="2103840"/>
              <a:ext cx="14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931160" y="2103840"/>
              <a:ext cx="14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947720" y="2103840"/>
              <a:ext cx="14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964280" y="2103840"/>
              <a:ext cx="18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979400" y="2103840"/>
              <a:ext cx="14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995960" y="2103840"/>
              <a:ext cx="14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013960" y="2103840"/>
              <a:ext cx="18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8032320" y="2103840"/>
              <a:ext cx="14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8047440" y="2103840"/>
              <a:ext cx="14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943040" y="2112120"/>
              <a:ext cx="37800" cy="79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0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37" y="9"/>
                  </a:lnTo>
                  <a:lnTo>
                    <a:pt x="37" y="7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7691040" y="2154240"/>
              <a:ext cx="104040" cy="25920"/>
            </a:xfrm>
            <a:custGeom>
              <a:avLst/>
              <a:gdLst/>
              <a:ahLst/>
              <a:rect l="l" t="t" r="r" b="b"/>
              <a:pathLst>
                <a:path w="126" h="33">
                  <a:moveTo>
                    <a:pt x="25" y="2"/>
                  </a:moveTo>
                  <a:lnTo>
                    <a:pt x="0" y="33"/>
                  </a:lnTo>
                  <a:lnTo>
                    <a:pt x="113" y="33"/>
                  </a:lnTo>
                  <a:lnTo>
                    <a:pt x="126" y="2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e0e0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7733880" y="2136600"/>
              <a:ext cx="9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768800" y="2155680"/>
              <a:ext cx="21240" cy="1908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1" y="0"/>
                  </a:moveTo>
                  <a:lnTo>
                    <a:pt x="25" y="0"/>
                  </a:lnTo>
                  <a:lnTo>
                    <a:pt x="16" y="24"/>
                  </a:lnTo>
                  <a:lnTo>
                    <a:pt x="0" y="2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705440" y="2155680"/>
              <a:ext cx="64440" cy="21240"/>
            </a:xfrm>
            <a:custGeom>
              <a:avLst/>
              <a:gdLst/>
              <a:ahLst/>
              <a:rect l="l" t="t" r="r" b="b"/>
              <a:pathLst>
                <a:path w="79" h="27">
                  <a:moveTo>
                    <a:pt x="69" y="27"/>
                  </a:moveTo>
                  <a:lnTo>
                    <a:pt x="0" y="27"/>
                  </a:lnTo>
                  <a:lnTo>
                    <a:pt x="18" y="0"/>
                  </a:lnTo>
                  <a:lnTo>
                    <a:pt x="79" y="0"/>
                  </a:lnTo>
                  <a:lnTo>
                    <a:pt x="69" y="27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712280" y="2136600"/>
              <a:ext cx="101160" cy="17280"/>
            </a:xfrm>
            <a:custGeom>
              <a:avLst/>
              <a:gdLst/>
              <a:ahLst/>
              <a:rect l="l" t="t" r="r" b="b"/>
              <a:pathLst>
                <a:path w="121" h="22">
                  <a:moveTo>
                    <a:pt x="0" y="22"/>
                  </a:moveTo>
                  <a:lnTo>
                    <a:pt x="25" y="0"/>
                  </a:lnTo>
                  <a:lnTo>
                    <a:pt x="121" y="0"/>
                  </a:lnTo>
                  <a:lnTo>
                    <a:pt x="99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0f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695720" y="2184840"/>
              <a:ext cx="84600" cy="9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785360" y="2136600"/>
              <a:ext cx="28080" cy="6300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0" y="78"/>
                  </a:moveTo>
                  <a:lnTo>
                    <a:pt x="33" y="33"/>
                  </a:lnTo>
                  <a:lnTo>
                    <a:pt x="33" y="0"/>
                  </a:lnTo>
                  <a:lnTo>
                    <a:pt x="13" y="19"/>
                  </a:lnTo>
                  <a:lnTo>
                    <a:pt x="0" y="53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7665840" y="2199600"/>
              <a:ext cx="129240" cy="33480"/>
            </a:xfrm>
            <a:custGeom>
              <a:avLst/>
              <a:gdLst/>
              <a:ahLst/>
              <a:rect l="l" t="t" r="r" b="b"/>
              <a:pathLst>
                <a:path w="157" h="41">
                  <a:moveTo>
                    <a:pt x="22" y="0"/>
                  </a:moveTo>
                  <a:lnTo>
                    <a:pt x="0" y="41"/>
                  </a:lnTo>
                  <a:lnTo>
                    <a:pt x="142" y="41"/>
                  </a:lnTo>
                  <a:lnTo>
                    <a:pt x="15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0e0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664400" y="2233080"/>
              <a:ext cx="120960" cy="3240"/>
            </a:xfrm>
            <a:custGeom>
              <a:avLst/>
              <a:gdLst/>
              <a:ahLst/>
              <a:rect l="l" t="t" r="r" b="b"/>
              <a:pathLst>
                <a:path w="145" h="4">
                  <a:moveTo>
                    <a:pt x="0" y="0"/>
                  </a:moveTo>
                  <a:lnTo>
                    <a:pt x="0" y="4"/>
                  </a:lnTo>
                  <a:lnTo>
                    <a:pt x="145" y="4"/>
                  </a:lnTo>
                  <a:lnTo>
                    <a:pt x="1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7675920" y="2202480"/>
              <a:ext cx="115920" cy="27360"/>
            </a:xfrm>
            <a:custGeom>
              <a:avLst/>
              <a:gdLst/>
              <a:ahLst/>
              <a:rect l="l" t="t" r="r" b="b"/>
              <a:pathLst>
                <a:path w="139" h="32">
                  <a:moveTo>
                    <a:pt x="126" y="32"/>
                  </a:moveTo>
                  <a:lnTo>
                    <a:pt x="0" y="32"/>
                  </a:lnTo>
                  <a:lnTo>
                    <a:pt x="16" y="0"/>
                  </a:lnTo>
                  <a:lnTo>
                    <a:pt x="139" y="0"/>
                  </a:lnTo>
                  <a:lnTo>
                    <a:pt x="126" y="3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760520" y="2207520"/>
              <a:ext cx="24480" cy="140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11" y="0"/>
                  </a:moveTo>
                  <a:lnTo>
                    <a:pt x="30" y="0"/>
                  </a:lnTo>
                  <a:lnTo>
                    <a:pt x="19" y="19"/>
                  </a:lnTo>
                  <a:lnTo>
                    <a:pt x="0" y="1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7685640" y="2205720"/>
              <a:ext cx="78120" cy="19080"/>
            </a:xfrm>
            <a:custGeom>
              <a:avLst/>
              <a:gdLst/>
              <a:ahLst/>
              <a:rect l="l" t="t" r="r" b="b"/>
              <a:pathLst>
                <a:path w="93" h="25">
                  <a:moveTo>
                    <a:pt x="0" y="20"/>
                  </a:moveTo>
                  <a:lnTo>
                    <a:pt x="13" y="20"/>
                  </a:lnTo>
                  <a:lnTo>
                    <a:pt x="11" y="25"/>
                  </a:lnTo>
                  <a:lnTo>
                    <a:pt x="57" y="25"/>
                  </a:lnTo>
                  <a:lnTo>
                    <a:pt x="60" y="20"/>
                  </a:lnTo>
                  <a:lnTo>
                    <a:pt x="74" y="20"/>
                  </a:lnTo>
                  <a:lnTo>
                    <a:pt x="76" y="14"/>
                  </a:lnTo>
                  <a:lnTo>
                    <a:pt x="85" y="14"/>
                  </a:lnTo>
                  <a:lnTo>
                    <a:pt x="93" y="0"/>
                  </a:lnTo>
                  <a:lnTo>
                    <a:pt x="1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785360" y="2199600"/>
              <a:ext cx="9720" cy="3672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3" y="45"/>
                  </a:moveTo>
                  <a:lnTo>
                    <a:pt x="0" y="39"/>
                  </a:lnTo>
                  <a:lnTo>
                    <a:pt x="13" y="0"/>
                  </a:lnTo>
                  <a:lnTo>
                    <a:pt x="13" y="10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8032320" y="2123280"/>
              <a:ext cx="72720" cy="1584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68" y="0"/>
                  </a:moveTo>
                  <a:lnTo>
                    <a:pt x="68" y="3"/>
                  </a:lnTo>
                  <a:lnTo>
                    <a:pt x="60" y="3"/>
                  </a:lnTo>
                  <a:lnTo>
                    <a:pt x="60" y="4"/>
                  </a:lnTo>
                  <a:lnTo>
                    <a:pt x="52" y="4"/>
                  </a:lnTo>
                  <a:lnTo>
                    <a:pt x="52" y="6"/>
                  </a:lnTo>
                  <a:lnTo>
                    <a:pt x="48" y="6"/>
                  </a:lnTo>
                  <a:lnTo>
                    <a:pt x="48" y="9"/>
                  </a:lnTo>
                  <a:lnTo>
                    <a:pt x="41" y="9"/>
                  </a:lnTo>
                  <a:lnTo>
                    <a:pt x="41" y="11"/>
                  </a:lnTo>
                  <a:lnTo>
                    <a:pt x="26" y="11"/>
                  </a:lnTo>
                  <a:lnTo>
                    <a:pt x="26" y="14"/>
                  </a:lnTo>
                  <a:lnTo>
                    <a:pt x="20" y="14"/>
                  </a:lnTo>
                  <a:lnTo>
                    <a:pt x="20" y="11"/>
                  </a:lnTo>
                  <a:lnTo>
                    <a:pt x="7" y="11"/>
                  </a:lnTo>
                  <a:lnTo>
                    <a:pt x="7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27" y="19"/>
                  </a:lnTo>
                  <a:lnTo>
                    <a:pt x="27" y="16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45" y="14"/>
                  </a:lnTo>
                  <a:lnTo>
                    <a:pt x="45" y="11"/>
                  </a:lnTo>
                  <a:lnTo>
                    <a:pt x="51" y="11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6"/>
                  </a:lnTo>
                  <a:lnTo>
                    <a:pt x="68" y="6"/>
                  </a:lnTo>
                  <a:lnTo>
                    <a:pt x="68" y="4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3" y="3"/>
                  </a:lnTo>
                  <a:lnTo>
                    <a:pt x="83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8100360" y="2142720"/>
              <a:ext cx="32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8100360" y="214272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8100360" y="2139480"/>
              <a:ext cx="4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8005680" y="2128320"/>
              <a:ext cx="36360" cy="936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15" y="0"/>
                  </a:moveTo>
                  <a:lnTo>
                    <a:pt x="15" y="1"/>
                  </a:lnTo>
                  <a:lnTo>
                    <a:pt x="9" y="1"/>
                  </a:lnTo>
                  <a:lnTo>
                    <a:pt x="9" y="4"/>
                  </a:lnTo>
                  <a:lnTo>
                    <a:pt x="3" y="4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8"/>
                  </a:lnTo>
                  <a:lnTo>
                    <a:pt x="11" y="8"/>
                  </a:lnTo>
                  <a:lnTo>
                    <a:pt x="11" y="4"/>
                  </a:lnTo>
                  <a:lnTo>
                    <a:pt x="44" y="4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8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8095680" y="2128320"/>
              <a:ext cx="14400" cy="172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6" y="11"/>
                  </a:lnTo>
                  <a:lnTo>
                    <a:pt x="19" y="11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8093520" y="2145960"/>
              <a:ext cx="6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7994520" y="2129760"/>
              <a:ext cx="14400" cy="144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4" y="0"/>
                  </a:moveTo>
                  <a:lnTo>
                    <a:pt x="14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8" y="4"/>
                  </a:lnTo>
                  <a:lnTo>
                    <a:pt x="8" y="7"/>
                  </a:lnTo>
                  <a:lnTo>
                    <a:pt x="6" y="7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8095680" y="2145960"/>
              <a:ext cx="46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8095680" y="214596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8095680" y="21445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994520" y="2123280"/>
              <a:ext cx="110880" cy="22680"/>
            </a:xfrm>
            <a:custGeom>
              <a:avLst/>
              <a:gdLst/>
              <a:ahLst/>
              <a:rect l="l" t="t" r="r" b="b"/>
              <a:pathLst>
                <a:path w="134" h="28">
                  <a:moveTo>
                    <a:pt x="123" y="26"/>
                  </a:moveTo>
                  <a:lnTo>
                    <a:pt x="130" y="19"/>
                  </a:lnTo>
                  <a:lnTo>
                    <a:pt x="130" y="17"/>
                  </a:lnTo>
                  <a:lnTo>
                    <a:pt x="131" y="16"/>
                  </a:lnTo>
                  <a:lnTo>
                    <a:pt x="133" y="16"/>
                  </a:lnTo>
                  <a:lnTo>
                    <a:pt x="133" y="14"/>
                  </a:lnTo>
                  <a:lnTo>
                    <a:pt x="133" y="14"/>
                  </a:lnTo>
                  <a:lnTo>
                    <a:pt x="133" y="11"/>
                  </a:lnTo>
                  <a:lnTo>
                    <a:pt x="134" y="10"/>
                  </a:lnTo>
                  <a:lnTo>
                    <a:pt x="134" y="6"/>
                  </a:lnTo>
                  <a:lnTo>
                    <a:pt x="131" y="3"/>
                  </a:lnTo>
                  <a:lnTo>
                    <a:pt x="130" y="3"/>
                  </a:lnTo>
                  <a:lnTo>
                    <a:pt x="129" y="1"/>
                  </a:lnTo>
                  <a:lnTo>
                    <a:pt x="127" y="1"/>
                  </a:lnTo>
                  <a:lnTo>
                    <a:pt x="124" y="0"/>
                  </a:lnTo>
                  <a:lnTo>
                    <a:pt x="111" y="0"/>
                  </a:lnTo>
                  <a:lnTo>
                    <a:pt x="108" y="1"/>
                  </a:lnTo>
                  <a:lnTo>
                    <a:pt x="104" y="1"/>
                  </a:lnTo>
                  <a:lnTo>
                    <a:pt x="102" y="3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3" y="3"/>
                  </a:lnTo>
                  <a:lnTo>
                    <a:pt x="90" y="4"/>
                  </a:lnTo>
                  <a:lnTo>
                    <a:pt x="86" y="4"/>
                  </a:lnTo>
                  <a:lnTo>
                    <a:pt x="83" y="6"/>
                  </a:lnTo>
                  <a:lnTo>
                    <a:pt x="73" y="6"/>
                  </a:lnTo>
                  <a:lnTo>
                    <a:pt x="71" y="7"/>
                  </a:lnTo>
                  <a:lnTo>
                    <a:pt x="67" y="6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7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6" y="3"/>
                  </a:lnTo>
                  <a:lnTo>
                    <a:pt x="45" y="3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4" y="6"/>
                  </a:lnTo>
                  <a:lnTo>
                    <a:pt x="57" y="7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76" y="7"/>
                  </a:lnTo>
                  <a:lnTo>
                    <a:pt x="83" y="7"/>
                  </a:lnTo>
                  <a:lnTo>
                    <a:pt x="88" y="6"/>
                  </a:lnTo>
                  <a:lnTo>
                    <a:pt x="90" y="6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8" y="3"/>
                  </a:lnTo>
                  <a:lnTo>
                    <a:pt x="102" y="3"/>
                  </a:lnTo>
                  <a:lnTo>
                    <a:pt x="104" y="3"/>
                  </a:lnTo>
                  <a:lnTo>
                    <a:pt x="111" y="3"/>
                  </a:lnTo>
                  <a:lnTo>
                    <a:pt x="114" y="1"/>
                  </a:lnTo>
                  <a:lnTo>
                    <a:pt x="123" y="1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3"/>
                  </a:lnTo>
                  <a:lnTo>
                    <a:pt x="130" y="3"/>
                  </a:lnTo>
                  <a:lnTo>
                    <a:pt x="133" y="6"/>
                  </a:lnTo>
                  <a:lnTo>
                    <a:pt x="133" y="7"/>
                  </a:lnTo>
                  <a:lnTo>
                    <a:pt x="133" y="9"/>
                  </a:lnTo>
                  <a:lnTo>
                    <a:pt x="133" y="10"/>
                  </a:lnTo>
                  <a:lnTo>
                    <a:pt x="133" y="10"/>
                  </a:lnTo>
                  <a:lnTo>
                    <a:pt x="133" y="14"/>
                  </a:lnTo>
                  <a:lnTo>
                    <a:pt x="131" y="14"/>
                  </a:lnTo>
                  <a:lnTo>
                    <a:pt x="131" y="16"/>
                  </a:lnTo>
                  <a:lnTo>
                    <a:pt x="127" y="20"/>
                  </a:lnTo>
                  <a:lnTo>
                    <a:pt x="127" y="22"/>
                  </a:lnTo>
                  <a:lnTo>
                    <a:pt x="127" y="22"/>
                  </a:lnTo>
                  <a:lnTo>
                    <a:pt x="126" y="23"/>
                  </a:lnTo>
                  <a:lnTo>
                    <a:pt x="126" y="25"/>
                  </a:lnTo>
                  <a:lnTo>
                    <a:pt x="124" y="25"/>
                  </a:lnTo>
                  <a:lnTo>
                    <a:pt x="121" y="28"/>
                  </a:lnTo>
                  <a:lnTo>
                    <a:pt x="123" y="2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7801920" y="2225160"/>
              <a:ext cx="298440" cy="7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801920" y="2131200"/>
              <a:ext cx="298440" cy="98280"/>
            </a:xfrm>
            <a:custGeom>
              <a:avLst/>
              <a:gdLst/>
              <a:ahLst/>
              <a:rect l="l" t="t" r="r" b="b"/>
              <a:pathLst>
                <a:path w="361" h="121">
                  <a:moveTo>
                    <a:pt x="0" y="121"/>
                  </a:moveTo>
                  <a:lnTo>
                    <a:pt x="51" y="0"/>
                  </a:lnTo>
                  <a:lnTo>
                    <a:pt x="344" y="0"/>
                  </a:lnTo>
                  <a:lnTo>
                    <a:pt x="361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e0e0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819920" y="2142720"/>
              <a:ext cx="270360" cy="78840"/>
            </a:xfrm>
            <a:custGeom>
              <a:avLst/>
              <a:gdLst/>
              <a:ahLst/>
              <a:rect l="l" t="t" r="r" b="b"/>
              <a:pathLst>
                <a:path w="327" h="98">
                  <a:moveTo>
                    <a:pt x="258" y="97"/>
                  </a:moveTo>
                  <a:lnTo>
                    <a:pt x="254" y="35"/>
                  </a:lnTo>
                  <a:lnTo>
                    <a:pt x="92" y="35"/>
                  </a:lnTo>
                  <a:lnTo>
                    <a:pt x="72" y="98"/>
                  </a:lnTo>
                  <a:lnTo>
                    <a:pt x="0" y="98"/>
                  </a:lnTo>
                  <a:lnTo>
                    <a:pt x="38" y="0"/>
                  </a:lnTo>
                  <a:lnTo>
                    <a:pt x="312" y="0"/>
                  </a:lnTo>
                  <a:lnTo>
                    <a:pt x="327" y="98"/>
                  </a:lnTo>
                  <a:lnTo>
                    <a:pt x="258" y="98"/>
                  </a:lnTo>
                  <a:lnTo>
                    <a:pt x="258" y="97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8069040" y="2145960"/>
              <a:ext cx="26640" cy="3528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1" y="0"/>
                  </a:moveTo>
                  <a:lnTo>
                    <a:pt x="34" y="2"/>
                  </a:lnTo>
                  <a:lnTo>
                    <a:pt x="9" y="37"/>
                  </a:lnTo>
                  <a:lnTo>
                    <a:pt x="0" y="44"/>
                  </a:lnTo>
                  <a:lnTo>
                    <a:pt x="6" y="3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4" name=""/>
          <p:cNvGrpSpPr/>
          <p:nvPr/>
        </p:nvGrpSpPr>
        <p:grpSpPr>
          <a:xfrm>
            <a:off x="7683480" y="846000"/>
            <a:ext cx="142560" cy="688680"/>
            <a:chOff x="7683480" y="846000"/>
            <a:chExt cx="142560" cy="688680"/>
          </a:xfrm>
        </p:grpSpPr>
        <p:sp>
          <p:nvSpPr>
            <p:cNvPr id="2545" name=""/>
            <p:cNvSpPr/>
            <p:nvPr/>
          </p:nvSpPr>
          <p:spPr>
            <a:xfrm>
              <a:off x="7728120" y="955440"/>
              <a:ext cx="4680" cy="8280"/>
            </a:xfrm>
            <a:prstGeom prst="rect">
              <a:avLst/>
            </a:prstGeom>
            <a:solidFill>
              <a:srgbClr val="f0602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7732800" y="955440"/>
              <a:ext cx="3240" cy="8280"/>
            </a:xfrm>
            <a:prstGeom prst="rect">
              <a:avLst/>
            </a:prstGeom>
            <a:solidFill>
              <a:srgbClr val="c04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737480" y="955440"/>
              <a:ext cx="4680" cy="8280"/>
            </a:xfrm>
            <a:prstGeom prst="rect">
              <a:avLst/>
            </a:prstGeom>
            <a:solidFill>
              <a:srgbClr val="803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744320" y="955440"/>
              <a:ext cx="4680" cy="8280"/>
            </a:xfrm>
            <a:prstGeom prst="rect">
              <a:avLst/>
            </a:prstGeom>
            <a:solidFill>
              <a:srgbClr val="805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749000" y="955440"/>
              <a:ext cx="3240" cy="8280"/>
            </a:xfrm>
            <a:prstGeom prst="rect">
              <a:avLst/>
            </a:prstGeom>
            <a:solidFill>
              <a:srgbClr val="c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754040" y="955440"/>
              <a:ext cx="4680" cy="8280"/>
            </a:xfrm>
            <a:prstGeom prst="rect">
              <a:avLst/>
            </a:prstGeom>
            <a:solidFill>
              <a:srgbClr val="5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760880" y="955440"/>
              <a:ext cx="3240" cy="8280"/>
            </a:xfrm>
            <a:prstGeom prst="rect">
              <a:avLst/>
            </a:prstGeom>
            <a:solidFill>
              <a:srgbClr val="00c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724520" y="1068840"/>
              <a:ext cx="63720" cy="40320"/>
            </a:xfrm>
            <a:custGeom>
              <a:avLst/>
              <a:gdLst/>
              <a:ahLst/>
              <a:rect l="l" t="t" r="r" b="b"/>
              <a:pathLst>
                <a:path w="78" h="50">
                  <a:moveTo>
                    <a:pt x="0" y="19"/>
                  </a:moveTo>
                  <a:lnTo>
                    <a:pt x="46" y="50"/>
                  </a:lnTo>
                  <a:lnTo>
                    <a:pt x="78" y="27"/>
                  </a:lnTo>
                  <a:lnTo>
                    <a:pt x="37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0301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744320" y="861840"/>
              <a:ext cx="44280" cy="370440"/>
            </a:xfrm>
            <a:custGeom>
              <a:avLst/>
              <a:gdLst/>
              <a:ahLst/>
              <a:rect l="l" t="t" r="r" b="b"/>
              <a:pathLst>
                <a:path w="54" h="457">
                  <a:moveTo>
                    <a:pt x="29" y="0"/>
                  </a:moveTo>
                  <a:lnTo>
                    <a:pt x="0" y="457"/>
                  </a:lnTo>
                  <a:lnTo>
                    <a:pt x="13" y="408"/>
                  </a:lnTo>
                  <a:lnTo>
                    <a:pt x="54" y="19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704720" y="846000"/>
              <a:ext cx="61920" cy="386640"/>
            </a:xfrm>
            <a:custGeom>
              <a:avLst/>
              <a:gdLst/>
              <a:ahLst/>
              <a:rect l="l" t="t" r="r" b="b"/>
              <a:pathLst>
                <a:path w="76" h="478">
                  <a:moveTo>
                    <a:pt x="46" y="478"/>
                  </a:moveTo>
                  <a:lnTo>
                    <a:pt x="0" y="0"/>
                  </a:lnTo>
                  <a:lnTo>
                    <a:pt x="76" y="21"/>
                  </a:lnTo>
                  <a:lnTo>
                    <a:pt x="46" y="478"/>
                  </a:lnTo>
                  <a:close/>
                </a:path>
              </a:pathLst>
            </a:custGeom>
            <a:solidFill>
              <a:srgbClr val="c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683480" y="1083600"/>
              <a:ext cx="77400" cy="451080"/>
            </a:xfrm>
            <a:custGeom>
              <a:avLst/>
              <a:gdLst/>
              <a:ahLst/>
              <a:rect l="l" t="t" r="r" b="b"/>
              <a:pathLst>
                <a:path w="95" h="557">
                  <a:moveTo>
                    <a:pt x="0" y="497"/>
                  </a:moveTo>
                  <a:lnTo>
                    <a:pt x="50" y="0"/>
                  </a:lnTo>
                  <a:lnTo>
                    <a:pt x="95" y="31"/>
                  </a:lnTo>
                  <a:lnTo>
                    <a:pt x="95" y="557"/>
                  </a:lnTo>
                  <a:lnTo>
                    <a:pt x="87" y="551"/>
                  </a:lnTo>
                  <a:lnTo>
                    <a:pt x="88" y="61"/>
                  </a:lnTo>
                  <a:lnTo>
                    <a:pt x="56" y="36"/>
                  </a:lnTo>
                  <a:lnTo>
                    <a:pt x="8" y="504"/>
                  </a:lnTo>
                  <a:lnTo>
                    <a:pt x="0" y="497"/>
                  </a:lnTo>
                  <a:close/>
                </a:path>
              </a:pathLst>
            </a:custGeom>
            <a:solidFill>
              <a:srgbClr val="f0602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762320" y="1088280"/>
              <a:ext cx="63720" cy="446400"/>
            </a:xfrm>
            <a:custGeom>
              <a:avLst/>
              <a:gdLst/>
              <a:ahLst/>
              <a:rect l="l" t="t" r="r" b="b"/>
              <a:pathLst>
                <a:path w="79" h="551">
                  <a:moveTo>
                    <a:pt x="0" y="24"/>
                  </a:moveTo>
                  <a:lnTo>
                    <a:pt x="31" y="0"/>
                  </a:lnTo>
                  <a:lnTo>
                    <a:pt x="79" y="497"/>
                  </a:lnTo>
                  <a:lnTo>
                    <a:pt x="70" y="504"/>
                  </a:lnTo>
                  <a:lnTo>
                    <a:pt x="26" y="37"/>
                  </a:lnTo>
                  <a:lnTo>
                    <a:pt x="9" y="56"/>
                  </a:lnTo>
                  <a:lnTo>
                    <a:pt x="7" y="545"/>
                  </a:lnTo>
                  <a:lnTo>
                    <a:pt x="0" y="55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401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764120" y="1138680"/>
              <a:ext cx="57240" cy="342720"/>
            </a:xfrm>
            <a:custGeom>
              <a:avLst/>
              <a:gdLst/>
              <a:ahLst/>
              <a:rect l="l" t="t" r="r" b="b"/>
              <a:pathLst>
                <a:path w="69" h="423">
                  <a:moveTo>
                    <a:pt x="0" y="0"/>
                  </a:moveTo>
                  <a:lnTo>
                    <a:pt x="36" y="58"/>
                  </a:lnTo>
                  <a:lnTo>
                    <a:pt x="0" y="170"/>
                  </a:lnTo>
                  <a:lnTo>
                    <a:pt x="53" y="215"/>
                  </a:lnTo>
                  <a:lnTo>
                    <a:pt x="0" y="338"/>
                  </a:lnTo>
                  <a:lnTo>
                    <a:pt x="69" y="372"/>
                  </a:lnTo>
                  <a:lnTo>
                    <a:pt x="0" y="42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764120" y="1122480"/>
              <a:ext cx="48960" cy="358920"/>
            </a:xfrm>
            <a:custGeom>
              <a:avLst/>
              <a:gdLst/>
              <a:ahLst/>
              <a:rect l="l" t="t" r="r" b="b"/>
              <a:pathLst>
                <a:path w="58" h="444">
                  <a:moveTo>
                    <a:pt x="28" y="0"/>
                  </a:moveTo>
                  <a:lnTo>
                    <a:pt x="0" y="106"/>
                  </a:lnTo>
                  <a:lnTo>
                    <a:pt x="42" y="157"/>
                  </a:lnTo>
                  <a:lnTo>
                    <a:pt x="0" y="274"/>
                  </a:lnTo>
                  <a:lnTo>
                    <a:pt x="58" y="315"/>
                  </a:lnTo>
                  <a:lnTo>
                    <a:pt x="0" y="4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691760" y="1122480"/>
              <a:ext cx="66960" cy="363960"/>
            </a:xfrm>
            <a:custGeom>
              <a:avLst/>
              <a:gdLst/>
              <a:ahLst/>
              <a:rect l="l" t="t" r="r" b="b"/>
              <a:pathLst>
                <a:path w="80" h="452">
                  <a:moveTo>
                    <a:pt x="38" y="0"/>
                  </a:moveTo>
                  <a:lnTo>
                    <a:pt x="80" y="112"/>
                  </a:lnTo>
                  <a:lnTo>
                    <a:pt x="22" y="160"/>
                  </a:lnTo>
                  <a:lnTo>
                    <a:pt x="80" y="282"/>
                  </a:lnTo>
                  <a:lnTo>
                    <a:pt x="7" y="320"/>
                  </a:lnTo>
                  <a:lnTo>
                    <a:pt x="80" y="452"/>
                  </a:lnTo>
                  <a:lnTo>
                    <a:pt x="0" y="4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691760" y="1144800"/>
              <a:ext cx="66960" cy="299160"/>
            </a:xfrm>
            <a:custGeom>
              <a:avLst/>
              <a:gdLst/>
              <a:ahLst/>
              <a:rect l="l" t="t" r="r" b="b"/>
              <a:pathLst>
                <a:path w="80" h="371">
                  <a:moveTo>
                    <a:pt x="80" y="0"/>
                  </a:moveTo>
                  <a:lnTo>
                    <a:pt x="31" y="53"/>
                  </a:lnTo>
                  <a:lnTo>
                    <a:pt x="80" y="169"/>
                  </a:lnTo>
                  <a:lnTo>
                    <a:pt x="15" y="211"/>
                  </a:lnTo>
                  <a:lnTo>
                    <a:pt x="80" y="337"/>
                  </a:lnTo>
                  <a:lnTo>
                    <a:pt x="0" y="37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714440" y="866880"/>
              <a:ext cx="44280" cy="209880"/>
            </a:xfrm>
            <a:custGeom>
              <a:avLst/>
              <a:gdLst/>
              <a:ahLst/>
              <a:rect l="l" t="t" r="r" b="b"/>
              <a:pathLst>
                <a:path w="52" h="260">
                  <a:moveTo>
                    <a:pt x="0" y="0"/>
                  </a:moveTo>
                  <a:lnTo>
                    <a:pt x="23" y="249"/>
                  </a:lnTo>
                  <a:lnTo>
                    <a:pt x="36" y="260"/>
                  </a:lnTo>
                  <a:lnTo>
                    <a:pt x="5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0a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714440" y="870120"/>
              <a:ext cx="44280" cy="208440"/>
            </a:xfrm>
            <a:custGeom>
              <a:avLst/>
              <a:gdLst/>
              <a:ahLst/>
              <a:rect l="l" t="t" r="r" b="b"/>
              <a:pathLst>
                <a:path w="54" h="256">
                  <a:moveTo>
                    <a:pt x="0" y="0"/>
                  </a:moveTo>
                  <a:lnTo>
                    <a:pt x="23" y="246"/>
                  </a:lnTo>
                  <a:lnTo>
                    <a:pt x="38" y="256"/>
                  </a:lnTo>
                  <a:lnTo>
                    <a:pt x="54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3" name=""/>
          <p:cNvSpPr/>
          <p:nvPr/>
        </p:nvSpPr>
        <p:spPr>
          <a:xfrm>
            <a:off x="6865200" y="2357280"/>
            <a:ext cx="214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00"/>
                </a:solidFill>
                <a:latin typeface="全真楷書"/>
                <a:ea typeface="全真楷書"/>
              </a:rPr>
              <a:t>電子地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4" name=""/>
          <p:cNvGrpSpPr/>
          <p:nvPr/>
        </p:nvGrpSpPr>
        <p:grpSpPr>
          <a:xfrm>
            <a:off x="6510240" y="1501920"/>
            <a:ext cx="469800" cy="308880"/>
            <a:chOff x="6510240" y="1501920"/>
            <a:chExt cx="469800" cy="308880"/>
          </a:xfrm>
        </p:grpSpPr>
        <p:sp>
          <p:nvSpPr>
            <p:cNvPr id="2565" name=""/>
            <p:cNvSpPr/>
            <p:nvPr/>
          </p:nvSpPr>
          <p:spPr>
            <a:xfrm>
              <a:off x="6528600" y="1519200"/>
              <a:ext cx="433080" cy="289800"/>
            </a:xfrm>
            <a:prstGeom prst="roundRect">
              <a:avLst>
                <a:gd name="adj" fmla="val 12042"/>
              </a:avLst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 flipV="1">
              <a:off x="6513480" y="1521000"/>
              <a:ext cx="46332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862680" y="1503360"/>
              <a:ext cx="65880" cy="29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807960" y="1501920"/>
              <a:ext cx="18360" cy="29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611040" y="1503360"/>
              <a:ext cx="53280" cy="30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571440" y="1503360"/>
              <a:ext cx="144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V="1">
              <a:off x="6510240" y="1648800"/>
              <a:ext cx="5940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 flipV="1">
              <a:off x="6571440" y="1639440"/>
              <a:ext cx="756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637680" y="1639440"/>
              <a:ext cx="188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 flipV="1">
              <a:off x="6816240" y="1613520"/>
              <a:ext cx="81000" cy="2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V="1">
              <a:off x="6888960" y="1546560"/>
              <a:ext cx="8280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V="1">
              <a:off x="6713640" y="1596960"/>
              <a:ext cx="32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V="1">
              <a:off x="6720120" y="1529280"/>
              <a:ext cx="2599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711840" y="1592280"/>
              <a:ext cx="21600" cy="2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813000" y="1631520"/>
              <a:ext cx="1980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630840" y="1636200"/>
              <a:ext cx="19800" cy="2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564960" y="1644120"/>
              <a:ext cx="19800" cy="2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2" name=""/>
            <p:cNvGrpSpPr/>
            <p:nvPr/>
          </p:nvGrpSpPr>
          <p:grpSpPr>
            <a:xfrm>
              <a:off x="6672600" y="1640880"/>
              <a:ext cx="85320" cy="158040"/>
              <a:chOff x="6672600" y="1640880"/>
              <a:chExt cx="85320" cy="158040"/>
            </a:xfrm>
          </p:grpSpPr>
          <p:sp>
            <p:nvSpPr>
              <p:cNvPr id="2583" name=""/>
              <p:cNvSpPr/>
              <p:nvPr/>
            </p:nvSpPr>
            <p:spPr>
              <a:xfrm flipV="1">
                <a:off x="6715080" y="1711800"/>
                <a:ext cx="18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672600" y="1640880"/>
                <a:ext cx="85320" cy="140760"/>
              </a:xfrm>
              <a:custGeom>
                <a:avLst/>
                <a:gdLst/>
                <a:ahLst/>
                <a:rect l="l" t="t" r="r" b="b"/>
                <a:pathLst>
                  <a:path w="103" h="176">
                    <a:moveTo>
                      <a:pt x="52" y="0"/>
                    </a:moveTo>
                    <a:lnTo>
                      <a:pt x="0" y="176"/>
                    </a:lnTo>
                    <a:lnTo>
                      <a:pt x="103" y="176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5" name=""/>
          <p:cNvSpPr/>
          <p:nvPr/>
        </p:nvSpPr>
        <p:spPr>
          <a:xfrm>
            <a:off x="6636600" y="1390680"/>
            <a:ext cx="214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00"/>
                </a:solidFill>
                <a:latin typeface="全真楷書"/>
                <a:ea typeface="全真楷書"/>
              </a:rPr>
              <a:t>路況訊息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7707240" y="2303640"/>
            <a:ext cx="320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00"/>
                </a:solidFill>
                <a:latin typeface="全真楷書"/>
                <a:ea typeface="全真楷書"/>
              </a:rPr>
              <a:t>交通資訊中心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7" name=""/>
          <p:cNvGrpSpPr/>
          <p:nvPr/>
        </p:nvGrpSpPr>
        <p:grpSpPr>
          <a:xfrm>
            <a:off x="6745320" y="304920"/>
            <a:ext cx="1179360" cy="326880"/>
            <a:chOff x="6745320" y="304920"/>
            <a:chExt cx="1179360" cy="326880"/>
          </a:xfrm>
        </p:grpSpPr>
        <p:sp>
          <p:nvSpPr>
            <p:cNvPr id="2588" name=""/>
            <p:cNvSpPr/>
            <p:nvPr/>
          </p:nvSpPr>
          <p:spPr>
            <a:xfrm>
              <a:off x="6745320" y="304920"/>
              <a:ext cx="1179360" cy="32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021800" y="320400"/>
              <a:ext cx="618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900" spc="-1" strike="noStrike">
                  <a:solidFill>
                    <a:srgbClr val="000000"/>
                  </a:solidFill>
                  <a:latin typeface="全真楷書"/>
                  <a:ea typeface="全真楷書"/>
                </a:rPr>
                <a:t>先進旅行者資訊系統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0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(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ATI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90" name="" descr=""/>
          <p:cNvPicPr/>
          <p:nvPr/>
        </p:nvPicPr>
        <p:blipFill>
          <a:blip r:embed="rId7"/>
          <a:stretch/>
        </p:blipFill>
        <p:spPr>
          <a:xfrm>
            <a:off x="7942320" y="1471680"/>
            <a:ext cx="674640" cy="407880"/>
          </a:xfrm>
          <a:prstGeom prst="rect">
            <a:avLst/>
          </a:prstGeom>
          <a:ln w="0">
            <a:noFill/>
          </a:ln>
        </p:spPr>
      </p:pic>
      <p:grpSp>
        <p:nvGrpSpPr>
          <p:cNvPr id="2591" name=""/>
          <p:cNvGrpSpPr/>
          <p:nvPr/>
        </p:nvGrpSpPr>
        <p:grpSpPr>
          <a:xfrm>
            <a:off x="6621480" y="2073240"/>
            <a:ext cx="696240" cy="262800"/>
            <a:chOff x="6621480" y="2073240"/>
            <a:chExt cx="696240" cy="262800"/>
          </a:xfrm>
        </p:grpSpPr>
        <p:grpSp>
          <p:nvGrpSpPr>
            <p:cNvPr id="2592" name=""/>
            <p:cNvGrpSpPr/>
            <p:nvPr/>
          </p:nvGrpSpPr>
          <p:grpSpPr>
            <a:xfrm>
              <a:off x="6621480" y="2073240"/>
              <a:ext cx="696240" cy="262800"/>
              <a:chOff x="6621480" y="2073240"/>
              <a:chExt cx="696240" cy="262800"/>
            </a:xfrm>
          </p:grpSpPr>
          <p:sp>
            <p:nvSpPr>
              <p:cNvPr id="2593" name=""/>
              <p:cNvSpPr/>
              <p:nvPr/>
            </p:nvSpPr>
            <p:spPr>
              <a:xfrm>
                <a:off x="6701040" y="2241000"/>
                <a:ext cx="110520" cy="85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621480" y="2073240"/>
                <a:ext cx="696240" cy="209880"/>
              </a:xfrm>
              <a:custGeom>
                <a:avLst/>
                <a:gdLst/>
                <a:ahLst/>
                <a:rect l="l" t="t" r="r" b="b"/>
                <a:pathLst>
                  <a:path w="842" h="259">
                    <a:moveTo>
                      <a:pt x="194" y="95"/>
                    </a:moveTo>
                    <a:lnTo>
                      <a:pt x="213" y="95"/>
                    </a:lnTo>
                    <a:lnTo>
                      <a:pt x="262" y="17"/>
                    </a:lnTo>
                    <a:lnTo>
                      <a:pt x="273" y="16"/>
                    </a:lnTo>
                    <a:lnTo>
                      <a:pt x="284" y="13"/>
                    </a:lnTo>
                    <a:lnTo>
                      <a:pt x="295" y="11"/>
                    </a:lnTo>
                    <a:lnTo>
                      <a:pt x="306" y="10"/>
                    </a:lnTo>
                    <a:lnTo>
                      <a:pt x="316" y="9"/>
                    </a:lnTo>
                    <a:lnTo>
                      <a:pt x="326" y="7"/>
                    </a:lnTo>
                    <a:lnTo>
                      <a:pt x="338" y="6"/>
                    </a:lnTo>
                    <a:lnTo>
                      <a:pt x="350" y="4"/>
                    </a:lnTo>
                    <a:lnTo>
                      <a:pt x="360" y="3"/>
                    </a:lnTo>
                    <a:lnTo>
                      <a:pt x="370" y="3"/>
                    </a:lnTo>
                    <a:lnTo>
                      <a:pt x="379" y="1"/>
                    </a:lnTo>
                    <a:lnTo>
                      <a:pt x="389" y="1"/>
                    </a:lnTo>
                    <a:lnTo>
                      <a:pt x="399" y="0"/>
                    </a:lnTo>
                    <a:lnTo>
                      <a:pt x="471" y="0"/>
                    </a:lnTo>
                    <a:lnTo>
                      <a:pt x="480" y="1"/>
                    </a:lnTo>
                    <a:lnTo>
                      <a:pt x="489" y="1"/>
                    </a:lnTo>
                    <a:lnTo>
                      <a:pt x="498" y="3"/>
                    </a:lnTo>
                    <a:lnTo>
                      <a:pt x="503" y="3"/>
                    </a:lnTo>
                    <a:lnTo>
                      <a:pt x="512" y="4"/>
                    </a:lnTo>
                    <a:lnTo>
                      <a:pt x="521" y="6"/>
                    </a:lnTo>
                    <a:lnTo>
                      <a:pt x="528" y="7"/>
                    </a:lnTo>
                    <a:lnTo>
                      <a:pt x="536" y="9"/>
                    </a:lnTo>
                    <a:lnTo>
                      <a:pt x="544" y="10"/>
                    </a:lnTo>
                    <a:lnTo>
                      <a:pt x="550" y="11"/>
                    </a:lnTo>
                    <a:lnTo>
                      <a:pt x="558" y="13"/>
                    </a:lnTo>
                    <a:lnTo>
                      <a:pt x="563" y="14"/>
                    </a:lnTo>
                    <a:lnTo>
                      <a:pt x="571" y="17"/>
                    </a:lnTo>
                    <a:lnTo>
                      <a:pt x="578" y="19"/>
                    </a:lnTo>
                    <a:lnTo>
                      <a:pt x="585" y="20"/>
                    </a:lnTo>
                    <a:lnTo>
                      <a:pt x="590" y="22"/>
                    </a:lnTo>
                    <a:lnTo>
                      <a:pt x="597" y="25"/>
                    </a:lnTo>
                    <a:lnTo>
                      <a:pt x="604" y="28"/>
                    </a:lnTo>
                    <a:lnTo>
                      <a:pt x="609" y="31"/>
                    </a:lnTo>
                    <a:lnTo>
                      <a:pt x="616" y="33"/>
                    </a:lnTo>
                    <a:lnTo>
                      <a:pt x="621" y="36"/>
                    </a:lnTo>
                    <a:lnTo>
                      <a:pt x="626" y="39"/>
                    </a:lnTo>
                    <a:lnTo>
                      <a:pt x="631" y="42"/>
                    </a:lnTo>
                    <a:lnTo>
                      <a:pt x="637" y="45"/>
                    </a:lnTo>
                    <a:lnTo>
                      <a:pt x="643" y="50"/>
                    </a:lnTo>
                    <a:lnTo>
                      <a:pt x="647" y="52"/>
                    </a:lnTo>
                    <a:lnTo>
                      <a:pt x="653" y="55"/>
                    </a:lnTo>
                    <a:lnTo>
                      <a:pt x="657" y="58"/>
                    </a:lnTo>
                    <a:lnTo>
                      <a:pt x="663" y="63"/>
                    </a:lnTo>
                    <a:lnTo>
                      <a:pt x="666" y="67"/>
                    </a:lnTo>
                    <a:lnTo>
                      <a:pt x="672" y="72"/>
                    </a:lnTo>
                    <a:lnTo>
                      <a:pt x="675" y="76"/>
                    </a:lnTo>
                    <a:lnTo>
                      <a:pt x="681" y="80"/>
                    </a:lnTo>
                    <a:lnTo>
                      <a:pt x="684" y="85"/>
                    </a:lnTo>
                    <a:lnTo>
                      <a:pt x="687" y="88"/>
                    </a:lnTo>
                    <a:lnTo>
                      <a:pt x="691" y="92"/>
                    </a:lnTo>
                    <a:lnTo>
                      <a:pt x="694" y="98"/>
                    </a:lnTo>
                    <a:lnTo>
                      <a:pt x="697" y="102"/>
                    </a:lnTo>
                    <a:lnTo>
                      <a:pt x="700" y="108"/>
                    </a:lnTo>
                    <a:lnTo>
                      <a:pt x="704" y="114"/>
                    </a:lnTo>
                    <a:lnTo>
                      <a:pt x="707" y="117"/>
                    </a:lnTo>
                    <a:lnTo>
                      <a:pt x="708" y="123"/>
                    </a:lnTo>
                    <a:lnTo>
                      <a:pt x="713" y="129"/>
                    </a:lnTo>
                    <a:lnTo>
                      <a:pt x="716" y="129"/>
                    </a:lnTo>
                    <a:lnTo>
                      <a:pt x="719" y="130"/>
                    </a:lnTo>
                    <a:lnTo>
                      <a:pt x="728" y="130"/>
                    </a:lnTo>
                    <a:lnTo>
                      <a:pt x="732" y="132"/>
                    </a:lnTo>
                    <a:lnTo>
                      <a:pt x="735" y="132"/>
                    </a:lnTo>
                    <a:lnTo>
                      <a:pt x="738" y="133"/>
                    </a:lnTo>
                    <a:lnTo>
                      <a:pt x="742" y="135"/>
                    </a:lnTo>
                    <a:lnTo>
                      <a:pt x="745" y="135"/>
                    </a:lnTo>
                    <a:lnTo>
                      <a:pt x="748" y="136"/>
                    </a:lnTo>
                    <a:lnTo>
                      <a:pt x="752" y="136"/>
                    </a:lnTo>
                    <a:lnTo>
                      <a:pt x="755" y="137"/>
                    </a:lnTo>
                    <a:lnTo>
                      <a:pt x="760" y="139"/>
                    </a:lnTo>
                    <a:lnTo>
                      <a:pt x="761" y="140"/>
                    </a:lnTo>
                    <a:lnTo>
                      <a:pt x="764" y="142"/>
                    </a:lnTo>
                    <a:lnTo>
                      <a:pt x="767" y="142"/>
                    </a:lnTo>
                    <a:lnTo>
                      <a:pt x="771" y="143"/>
                    </a:lnTo>
                    <a:lnTo>
                      <a:pt x="773" y="145"/>
                    </a:lnTo>
                    <a:lnTo>
                      <a:pt x="776" y="146"/>
                    </a:lnTo>
                    <a:lnTo>
                      <a:pt x="777" y="148"/>
                    </a:lnTo>
                    <a:lnTo>
                      <a:pt x="782" y="148"/>
                    </a:lnTo>
                    <a:lnTo>
                      <a:pt x="785" y="149"/>
                    </a:lnTo>
                    <a:lnTo>
                      <a:pt x="793" y="157"/>
                    </a:lnTo>
                    <a:lnTo>
                      <a:pt x="796" y="158"/>
                    </a:lnTo>
                    <a:lnTo>
                      <a:pt x="799" y="159"/>
                    </a:lnTo>
                    <a:lnTo>
                      <a:pt x="801" y="162"/>
                    </a:lnTo>
                    <a:lnTo>
                      <a:pt x="804" y="164"/>
                    </a:lnTo>
                    <a:lnTo>
                      <a:pt x="805" y="167"/>
                    </a:lnTo>
                    <a:lnTo>
                      <a:pt x="808" y="170"/>
                    </a:lnTo>
                    <a:lnTo>
                      <a:pt x="811" y="173"/>
                    </a:lnTo>
                    <a:lnTo>
                      <a:pt x="812" y="176"/>
                    </a:lnTo>
                    <a:lnTo>
                      <a:pt x="814" y="177"/>
                    </a:lnTo>
                    <a:lnTo>
                      <a:pt x="815" y="178"/>
                    </a:lnTo>
                    <a:lnTo>
                      <a:pt x="817" y="180"/>
                    </a:lnTo>
                    <a:lnTo>
                      <a:pt x="820" y="183"/>
                    </a:lnTo>
                    <a:lnTo>
                      <a:pt x="821" y="186"/>
                    </a:lnTo>
                    <a:lnTo>
                      <a:pt x="823" y="189"/>
                    </a:lnTo>
                    <a:lnTo>
                      <a:pt x="824" y="190"/>
                    </a:lnTo>
                    <a:lnTo>
                      <a:pt x="826" y="193"/>
                    </a:lnTo>
                    <a:lnTo>
                      <a:pt x="827" y="196"/>
                    </a:lnTo>
                    <a:lnTo>
                      <a:pt x="827" y="199"/>
                    </a:lnTo>
                    <a:lnTo>
                      <a:pt x="830" y="202"/>
                    </a:lnTo>
                    <a:lnTo>
                      <a:pt x="832" y="205"/>
                    </a:lnTo>
                    <a:lnTo>
                      <a:pt x="832" y="208"/>
                    </a:lnTo>
                    <a:lnTo>
                      <a:pt x="833" y="211"/>
                    </a:lnTo>
                    <a:lnTo>
                      <a:pt x="834" y="212"/>
                    </a:lnTo>
                    <a:lnTo>
                      <a:pt x="834" y="215"/>
                    </a:lnTo>
                    <a:lnTo>
                      <a:pt x="836" y="218"/>
                    </a:lnTo>
                    <a:lnTo>
                      <a:pt x="836" y="221"/>
                    </a:lnTo>
                    <a:lnTo>
                      <a:pt x="837" y="225"/>
                    </a:lnTo>
                    <a:lnTo>
                      <a:pt x="837" y="231"/>
                    </a:lnTo>
                    <a:lnTo>
                      <a:pt x="840" y="236"/>
                    </a:lnTo>
                    <a:lnTo>
                      <a:pt x="840" y="244"/>
                    </a:lnTo>
                    <a:lnTo>
                      <a:pt x="842" y="247"/>
                    </a:lnTo>
                    <a:lnTo>
                      <a:pt x="842" y="259"/>
                    </a:lnTo>
                    <a:lnTo>
                      <a:pt x="760" y="258"/>
                    </a:lnTo>
                    <a:lnTo>
                      <a:pt x="760" y="247"/>
                    </a:lnTo>
                    <a:lnTo>
                      <a:pt x="757" y="246"/>
                    </a:lnTo>
                    <a:lnTo>
                      <a:pt x="757" y="241"/>
                    </a:lnTo>
                    <a:lnTo>
                      <a:pt x="755" y="240"/>
                    </a:lnTo>
                    <a:lnTo>
                      <a:pt x="755" y="237"/>
                    </a:lnTo>
                    <a:lnTo>
                      <a:pt x="754" y="236"/>
                    </a:lnTo>
                    <a:lnTo>
                      <a:pt x="754" y="231"/>
                    </a:lnTo>
                    <a:lnTo>
                      <a:pt x="752" y="231"/>
                    </a:lnTo>
                    <a:lnTo>
                      <a:pt x="752" y="230"/>
                    </a:lnTo>
                    <a:lnTo>
                      <a:pt x="751" y="228"/>
                    </a:lnTo>
                    <a:lnTo>
                      <a:pt x="751" y="227"/>
                    </a:lnTo>
                    <a:lnTo>
                      <a:pt x="748" y="225"/>
                    </a:lnTo>
                    <a:lnTo>
                      <a:pt x="748" y="222"/>
                    </a:lnTo>
                    <a:lnTo>
                      <a:pt x="747" y="222"/>
                    </a:lnTo>
                    <a:lnTo>
                      <a:pt x="747" y="221"/>
                    </a:lnTo>
                    <a:lnTo>
                      <a:pt x="744" y="218"/>
                    </a:lnTo>
                    <a:lnTo>
                      <a:pt x="744" y="217"/>
                    </a:lnTo>
                    <a:lnTo>
                      <a:pt x="741" y="214"/>
                    </a:lnTo>
                    <a:lnTo>
                      <a:pt x="741" y="212"/>
                    </a:lnTo>
                    <a:lnTo>
                      <a:pt x="738" y="212"/>
                    </a:lnTo>
                    <a:lnTo>
                      <a:pt x="735" y="211"/>
                    </a:lnTo>
                    <a:lnTo>
                      <a:pt x="735" y="209"/>
                    </a:lnTo>
                    <a:lnTo>
                      <a:pt x="733" y="209"/>
                    </a:lnTo>
                    <a:lnTo>
                      <a:pt x="729" y="206"/>
                    </a:lnTo>
                    <a:lnTo>
                      <a:pt x="728" y="206"/>
                    </a:lnTo>
                    <a:lnTo>
                      <a:pt x="728" y="205"/>
                    </a:lnTo>
                    <a:lnTo>
                      <a:pt x="726" y="203"/>
                    </a:lnTo>
                    <a:lnTo>
                      <a:pt x="725" y="203"/>
                    </a:lnTo>
                    <a:lnTo>
                      <a:pt x="725" y="202"/>
                    </a:lnTo>
                    <a:lnTo>
                      <a:pt x="723" y="202"/>
                    </a:lnTo>
                    <a:lnTo>
                      <a:pt x="722" y="200"/>
                    </a:lnTo>
                    <a:lnTo>
                      <a:pt x="719" y="200"/>
                    </a:lnTo>
                    <a:lnTo>
                      <a:pt x="717" y="199"/>
                    </a:lnTo>
                    <a:lnTo>
                      <a:pt x="716" y="199"/>
                    </a:lnTo>
                    <a:lnTo>
                      <a:pt x="716" y="198"/>
                    </a:lnTo>
                    <a:lnTo>
                      <a:pt x="714" y="198"/>
                    </a:lnTo>
                    <a:lnTo>
                      <a:pt x="713" y="196"/>
                    </a:lnTo>
                    <a:lnTo>
                      <a:pt x="710" y="196"/>
                    </a:lnTo>
                    <a:lnTo>
                      <a:pt x="708" y="195"/>
                    </a:lnTo>
                    <a:lnTo>
                      <a:pt x="706" y="195"/>
                    </a:lnTo>
                    <a:lnTo>
                      <a:pt x="704" y="193"/>
                    </a:lnTo>
                    <a:lnTo>
                      <a:pt x="703" y="193"/>
                    </a:lnTo>
                    <a:lnTo>
                      <a:pt x="700" y="192"/>
                    </a:lnTo>
                    <a:lnTo>
                      <a:pt x="695" y="192"/>
                    </a:lnTo>
                    <a:lnTo>
                      <a:pt x="694" y="190"/>
                    </a:lnTo>
                    <a:lnTo>
                      <a:pt x="685" y="190"/>
                    </a:lnTo>
                    <a:lnTo>
                      <a:pt x="685" y="189"/>
                    </a:lnTo>
                    <a:lnTo>
                      <a:pt x="659" y="189"/>
                    </a:lnTo>
                    <a:lnTo>
                      <a:pt x="659" y="190"/>
                    </a:lnTo>
                    <a:lnTo>
                      <a:pt x="650" y="190"/>
                    </a:lnTo>
                    <a:lnTo>
                      <a:pt x="648" y="192"/>
                    </a:lnTo>
                    <a:lnTo>
                      <a:pt x="644" y="192"/>
                    </a:lnTo>
                    <a:lnTo>
                      <a:pt x="643" y="193"/>
                    </a:lnTo>
                    <a:lnTo>
                      <a:pt x="640" y="193"/>
                    </a:lnTo>
                    <a:lnTo>
                      <a:pt x="638" y="195"/>
                    </a:lnTo>
                    <a:lnTo>
                      <a:pt x="635" y="195"/>
                    </a:lnTo>
                    <a:lnTo>
                      <a:pt x="634" y="196"/>
                    </a:lnTo>
                    <a:lnTo>
                      <a:pt x="631" y="196"/>
                    </a:lnTo>
                    <a:lnTo>
                      <a:pt x="629" y="198"/>
                    </a:lnTo>
                    <a:lnTo>
                      <a:pt x="628" y="198"/>
                    </a:lnTo>
                    <a:lnTo>
                      <a:pt x="628" y="199"/>
                    </a:lnTo>
                    <a:lnTo>
                      <a:pt x="626" y="199"/>
                    </a:lnTo>
                    <a:lnTo>
                      <a:pt x="625" y="200"/>
                    </a:lnTo>
                    <a:lnTo>
                      <a:pt x="624" y="200"/>
                    </a:lnTo>
                    <a:lnTo>
                      <a:pt x="621" y="202"/>
                    </a:lnTo>
                    <a:lnTo>
                      <a:pt x="619" y="202"/>
                    </a:lnTo>
                    <a:lnTo>
                      <a:pt x="619" y="203"/>
                    </a:lnTo>
                    <a:lnTo>
                      <a:pt x="618" y="203"/>
                    </a:lnTo>
                    <a:lnTo>
                      <a:pt x="616" y="205"/>
                    </a:lnTo>
                    <a:lnTo>
                      <a:pt x="616" y="206"/>
                    </a:lnTo>
                    <a:lnTo>
                      <a:pt x="615" y="206"/>
                    </a:lnTo>
                    <a:lnTo>
                      <a:pt x="610" y="209"/>
                    </a:lnTo>
                    <a:lnTo>
                      <a:pt x="609" y="209"/>
                    </a:lnTo>
                    <a:lnTo>
                      <a:pt x="609" y="211"/>
                    </a:lnTo>
                    <a:lnTo>
                      <a:pt x="606" y="212"/>
                    </a:lnTo>
                    <a:lnTo>
                      <a:pt x="604" y="212"/>
                    </a:lnTo>
                    <a:lnTo>
                      <a:pt x="604" y="214"/>
                    </a:lnTo>
                    <a:lnTo>
                      <a:pt x="600" y="217"/>
                    </a:lnTo>
                    <a:lnTo>
                      <a:pt x="600" y="218"/>
                    </a:lnTo>
                    <a:lnTo>
                      <a:pt x="597" y="221"/>
                    </a:lnTo>
                    <a:lnTo>
                      <a:pt x="597" y="222"/>
                    </a:lnTo>
                    <a:lnTo>
                      <a:pt x="596" y="222"/>
                    </a:lnTo>
                    <a:lnTo>
                      <a:pt x="596" y="225"/>
                    </a:lnTo>
                    <a:lnTo>
                      <a:pt x="594" y="227"/>
                    </a:lnTo>
                    <a:lnTo>
                      <a:pt x="594" y="228"/>
                    </a:lnTo>
                    <a:lnTo>
                      <a:pt x="591" y="230"/>
                    </a:lnTo>
                    <a:lnTo>
                      <a:pt x="591" y="231"/>
                    </a:lnTo>
                    <a:lnTo>
                      <a:pt x="590" y="231"/>
                    </a:lnTo>
                    <a:lnTo>
                      <a:pt x="590" y="236"/>
                    </a:lnTo>
                    <a:lnTo>
                      <a:pt x="588" y="237"/>
                    </a:lnTo>
                    <a:lnTo>
                      <a:pt x="588" y="240"/>
                    </a:lnTo>
                    <a:lnTo>
                      <a:pt x="587" y="241"/>
                    </a:lnTo>
                    <a:lnTo>
                      <a:pt x="587" y="246"/>
                    </a:lnTo>
                    <a:lnTo>
                      <a:pt x="585" y="247"/>
                    </a:lnTo>
                    <a:lnTo>
                      <a:pt x="585" y="258"/>
                    </a:lnTo>
                    <a:lnTo>
                      <a:pt x="246" y="258"/>
                    </a:lnTo>
                    <a:lnTo>
                      <a:pt x="246" y="247"/>
                    </a:lnTo>
                    <a:lnTo>
                      <a:pt x="244" y="246"/>
                    </a:lnTo>
                    <a:lnTo>
                      <a:pt x="244" y="241"/>
                    </a:lnTo>
                    <a:lnTo>
                      <a:pt x="243" y="240"/>
                    </a:lnTo>
                    <a:lnTo>
                      <a:pt x="243" y="237"/>
                    </a:lnTo>
                    <a:lnTo>
                      <a:pt x="240" y="236"/>
                    </a:lnTo>
                    <a:lnTo>
                      <a:pt x="240" y="233"/>
                    </a:lnTo>
                    <a:lnTo>
                      <a:pt x="238" y="231"/>
                    </a:lnTo>
                    <a:lnTo>
                      <a:pt x="238" y="230"/>
                    </a:lnTo>
                    <a:lnTo>
                      <a:pt x="237" y="228"/>
                    </a:lnTo>
                    <a:lnTo>
                      <a:pt x="237" y="227"/>
                    </a:lnTo>
                    <a:lnTo>
                      <a:pt x="235" y="225"/>
                    </a:lnTo>
                    <a:lnTo>
                      <a:pt x="235" y="224"/>
                    </a:lnTo>
                    <a:lnTo>
                      <a:pt x="232" y="221"/>
                    </a:lnTo>
                    <a:lnTo>
                      <a:pt x="232" y="220"/>
                    </a:lnTo>
                    <a:lnTo>
                      <a:pt x="229" y="218"/>
                    </a:lnTo>
                    <a:lnTo>
                      <a:pt x="229" y="217"/>
                    </a:lnTo>
                    <a:lnTo>
                      <a:pt x="229" y="215"/>
                    </a:lnTo>
                    <a:lnTo>
                      <a:pt x="227" y="215"/>
                    </a:lnTo>
                    <a:lnTo>
                      <a:pt x="227" y="214"/>
                    </a:lnTo>
                    <a:lnTo>
                      <a:pt x="218" y="208"/>
                    </a:lnTo>
                    <a:lnTo>
                      <a:pt x="216" y="208"/>
                    </a:lnTo>
                    <a:lnTo>
                      <a:pt x="216" y="206"/>
                    </a:lnTo>
                    <a:lnTo>
                      <a:pt x="215" y="206"/>
                    </a:lnTo>
                    <a:lnTo>
                      <a:pt x="213" y="205"/>
                    </a:lnTo>
                    <a:lnTo>
                      <a:pt x="213" y="203"/>
                    </a:lnTo>
                    <a:lnTo>
                      <a:pt x="210" y="203"/>
                    </a:lnTo>
                    <a:lnTo>
                      <a:pt x="208" y="200"/>
                    </a:lnTo>
                    <a:lnTo>
                      <a:pt x="205" y="200"/>
                    </a:lnTo>
                    <a:lnTo>
                      <a:pt x="205" y="199"/>
                    </a:lnTo>
                    <a:lnTo>
                      <a:pt x="203" y="199"/>
                    </a:lnTo>
                    <a:lnTo>
                      <a:pt x="202" y="198"/>
                    </a:lnTo>
                    <a:lnTo>
                      <a:pt x="199" y="198"/>
                    </a:lnTo>
                    <a:lnTo>
                      <a:pt x="199" y="196"/>
                    </a:lnTo>
                    <a:lnTo>
                      <a:pt x="196" y="196"/>
                    </a:lnTo>
                    <a:lnTo>
                      <a:pt x="194" y="195"/>
                    </a:lnTo>
                    <a:lnTo>
                      <a:pt x="191" y="195"/>
                    </a:lnTo>
                    <a:lnTo>
                      <a:pt x="191" y="193"/>
                    </a:lnTo>
                    <a:lnTo>
                      <a:pt x="187" y="193"/>
                    </a:lnTo>
                    <a:lnTo>
                      <a:pt x="186" y="192"/>
                    </a:lnTo>
                    <a:lnTo>
                      <a:pt x="180" y="192"/>
                    </a:lnTo>
                    <a:lnTo>
                      <a:pt x="178" y="190"/>
                    </a:lnTo>
                    <a:lnTo>
                      <a:pt x="172" y="190"/>
                    </a:lnTo>
                    <a:lnTo>
                      <a:pt x="169" y="189"/>
                    </a:lnTo>
                    <a:lnTo>
                      <a:pt x="146" y="189"/>
                    </a:lnTo>
                    <a:lnTo>
                      <a:pt x="145" y="190"/>
                    </a:lnTo>
                    <a:lnTo>
                      <a:pt x="137" y="190"/>
                    </a:lnTo>
                    <a:lnTo>
                      <a:pt x="136" y="192"/>
                    </a:lnTo>
                    <a:lnTo>
                      <a:pt x="130" y="192"/>
                    </a:lnTo>
                    <a:lnTo>
                      <a:pt x="128" y="193"/>
                    </a:lnTo>
                    <a:lnTo>
                      <a:pt x="125" y="193"/>
                    </a:lnTo>
                    <a:lnTo>
                      <a:pt x="124" y="195"/>
                    </a:lnTo>
                    <a:lnTo>
                      <a:pt x="121" y="195"/>
                    </a:lnTo>
                    <a:lnTo>
                      <a:pt x="120" y="196"/>
                    </a:lnTo>
                    <a:lnTo>
                      <a:pt x="117" y="196"/>
                    </a:lnTo>
                    <a:lnTo>
                      <a:pt x="117" y="198"/>
                    </a:lnTo>
                    <a:lnTo>
                      <a:pt x="115" y="198"/>
                    </a:lnTo>
                    <a:lnTo>
                      <a:pt x="112" y="199"/>
                    </a:lnTo>
                    <a:lnTo>
                      <a:pt x="111" y="199"/>
                    </a:lnTo>
                    <a:lnTo>
                      <a:pt x="111" y="200"/>
                    </a:lnTo>
                    <a:lnTo>
                      <a:pt x="108" y="200"/>
                    </a:lnTo>
                    <a:lnTo>
                      <a:pt x="105" y="203"/>
                    </a:lnTo>
                    <a:lnTo>
                      <a:pt x="102" y="203"/>
                    </a:lnTo>
                    <a:lnTo>
                      <a:pt x="102" y="205"/>
                    </a:lnTo>
                    <a:lnTo>
                      <a:pt x="101" y="206"/>
                    </a:lnTo>
                    <a:lnTo>
                      <a:pt x="99" y="206"/>
                    </a:lnTo>
                    <a:lnTo>
                      <a:pt x="99" y="208"/>
                    </a:lnTo>
                    <a:lnTo>
                      <a:pt x="98" y="208"/>
                    </a:lnTo>
                    <a:lnTo>
                      <a:pt x="89" y="214"/>
                    </a:lnTo>
                    <a:lnTo>
                      <a:pt x="89" y="215"/>
                    </a:lnTo>
                    <a:lnTo>
                      <a:pt x="87" y="215"/>
                    </a:lnTo>
                    <a:lnTo>
                      <a:pt x="86" y="217"/>
                    </a:lnTo>
                    <a:lnTo>
                      <a:pt x="86" y="218"/>
                    </a:lnTo>
                    <a:lnTo>
                      <a:pt x="83" y="220"/>
                    </a:lnTo>
                    <a:lnTo>
                      <a:pt x="83" y="221"/>
                    </a:lnTo>
                    <a:lnTo>
                      <a:pt x="80" y="224"/>
                    </a:lnTo>
                    <a:lnTo>
                      <a:pt x="80" y="225"/>
                    </a:lnTo>
                    <a:lnTo>
                      <a:pt x="79" y="227"/>
                    </a:lnTo>
                    <a:lnTo>
                      <a:pt x="79" y="228"/>
                    </a:lnTo>
                    <a:lnTo>
                      <a:pt x="77" y="230"/>
                    </a:lnTo>
                    <a:lnTo>
                      <a:pt x="77" y="231"/>
                    </a:lnTo>
                    <a:lnTo>
                      <a:pt x="74" y="233"/>
                    </a:lnTo>
                    <a:lnTo>
                      <a:pt x="74" y="236"/>
                    </a:lnTo>
                    <a:lnTo>
                      <a:pt x="74" y="237"/>
                    </a:lnTo>
                    <a:lnTo>
                      <a:pt x="74" y="240"/>
                    </a:lnTo>
                    <a:lnTo>
                      <a:pt x="71" y="241"/>
                    </a:lnTo>
                    <a:lnTo>
                      <a:pt x="71" y="246"/>
                    </a:lnTo>
                    <a:lnTo>
                      <a:pt x="70" y="247"/>
                    </a:lnTo>
                    <a:lnTo>
                      <a:pt x="70" y="258"/>
                    </a:lnTo>
                    <a:lnTo>
                      <a:pt x="0" y="259"/>
                    </a:lnTo>
                    <a:lnTo>
                      <a:pt x="0" y="231"/>
                    </a:lnTo>
                    <a:lnTo>
                      <a:pt x="1" y="227"/>
                    </a:lnTo>
                    <a:lnTo>
                      <a:pt x="1" y="222"/>
                    </a:lnTo>
                    <a:lnTo>
                      <a:pt x="2" y="218"/>
                    </a:lnTo>
                    <a:lnTo>
                      <a:pt x="2" y="215"/>
                    </a:lnTo>
                    <a:lnTo>
                      <a:pt x="4" y="211"/>
                    </a:lnTo>
                    <a:lnTo>
                      <a:pt x="4" y="209"/>
                    </a:lnTo>
                    <a:lnTo>
                      <a:pt x="7" y="205"/>
                    </a:lnTo>
                    <a:lnTo>
                      <a:pt x="8" y="202"/>
                    </a:lnTo>
                    <a:lnTo>
                      <a:pt x="8" y="198"/>
                    </a:lnTo>
                    <a:lnTo>
                      <a:pt x="10" y="195"/>
                    </a:lnTo>
                    <a:lnTo>
                      <a:pt x="11" y="190"/>
                    </a:lnTo>
                    <a:lnTo>
                      <a:pt x="13" y="187"/>
                    </a:lnTo>
                    <a:lnTo>
                      <a:pt x="14" y="184"/>
                    </a:lnTo>
                    <a:lnTo>
                      <a:pt x="17" y="180"/>
                    </a:lnTo>
                    <a:lnTo>
                      <a:pt x="19" y="178"/>
                    </a:lnTo>
                    <a:lnTo>
                      <a:pt x="21" y="176"/>
                    </a:lnTo>
                    <a:lnTo>
                      <a:pt x="23" y="173"/>
                    </a:lnTo>
                    <a:lnTo>
                      <a:pt x="26" y="170"/>
                    </a:lnTo>
                    <a:lnTo>
                      <a:pt x="27" y="167"/>
                    </a:lnTo>
                    <a:lnTo>
                      <a:pt x="30" y="164"/>
                    </a:lnTo>
                    <a:lnTo>
                      <a:pt x="32" y="161"/>
                    </a:lnTo>
                    <a:lnTo>
                      <a:pt x="39" y="155"/>
                    </a:lnTo>
                    <a:lnTo>
                      <a:pt x="41" y="152"/>
                    </a:lnTo>
                    <a:lnTo>
                      <a:pt x="51" y="145"/>
                    </a:lnTo>
                    <a:lnTo>
                      <a:pt x="55" y="143"/>
                    </a:lnTo>
                    <a:lnTo>
                      <a:pt x="61" y="137"/>
                    </a:lnTo>
                    <a:lnTo>
                      <a:pt x="65" y="136"/>
                    </a:lnTo>
                    <a:lnTo>
                      <a:pt x="68" y="133"/>
                    </a:lnTo>
                    <a:lnTo>
                      <a:pt x="71" y="132"/>
                    </a:lnTo>
                    <a:lnTo>
                      <a:pt x="74" y="129"/>
                    </a:lnTo>
                    <a:lnTo>
                      <a:pt x="80" y="127"/>
                    </a:lnTo>
                    <a:lnTo>
                      <a:pt x="83" y="124"/>
                    </a:lnTo>
                    <a:lnTo>
                      <a:pt x="87" y="123"/>
                    </a:lnTo>
                    <a:lnTo>
                      <a:pt x="93" y="120"/>
                    </a:lnTo>
                    <a:lnTo>
                      <a:pt x="98" y="118"/>
                    </a:lnTo>
                    <a:lnTo>
                      <a:pt x="101" y="117"/>
                    </a:lnTo>
                    <a:lnTo>
                      <a:pt x="106" y="115"/>
                    </a:lnTo>
                    <a:lnTo>
                      <a:pt x="111" y="114"/>
                    </a:lnTo>
                    <a:lnTo>
                      <a:pt x="115" y="113"/>
                    </a:lnTo>
                    <a:lnTo>
                      <a:pt x="120" y="111"/>
                    </a:lnTo>
                    <a:lnTo>
                      <a:pt x="125" y="110"/>
                    </a:lnTo>
                    <a:lnTo>
                      <a:pt x="130" y="108"/>
                    </a:lnTo>
                    <a:lnTo>
                      <a:pt x="136" y="107"/>
                    </a:lnTo>
                    <a:lnTo>
                      <a:pt x="140" y="105"/>
                    </a:lnTo>
                    <a:lnTo>
                      <a:pt x="147" y="104"/>
                    </a:lnTo>
                    <a:lnTo>
                      <a:pt x="153" y="102"/>
                    </a:lnTo>
                    <a:lnTo>
                      <a:pt x="158" y="101"/>
                    </a:lnTo>
                    <a:lnTo>
                      <a:pt x="164" y="101"/>
                    </a:lnTo>
                    <a:lnTo>
                      <a:pt x="169" y="99"/>
                    </a:lnTo>
                    <a:lnTo>
                      <a:pt x="175" y="98"/>
                    </a:lnTo>
                    <a:lnTo>
                      <a:pt x="183" y="96"/>
                    </a:lnTo>
                    <a:lnTo>
                      <a:pt x="187" y="96"/>
                    </a:lnTo>
                    <a:lnTo>
                      <a:pt x="194" y="9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900840" y="2100600"/>
                <a:ext cx="99360" cy="4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7034760" y="2097360"/>
                <a:ext cx="120600" cy="49680"/>
              </a:xfrm>
              <a:custGeom>
                <a:avLst/>
                <a:gdLst/>
                <a:ahLst/>
                <a:rect l="l" t="t" r="r" b="b"/>
                <a:pathLst>
                  <a:path w="145" h="63">
                    <a:moveTo>
                      <a:pt x="0" y="0"/>
                    </a:moveTo>
                    <a:lnTo>
                      <a:pt x="0" y="63"/>
                    </a:lnTo>
                    <a:lnTo>
                      <a:pt x="145" y="63"/>
                    </a:lnTo>
                    <a:lnTo>
                      <a:pt x="145" y="60"/>
                    </a:lnTo>
                    <a:lnTo>
                      <a:pt x="144" y="60"/>
                    </a:lnTo>
                    <a:lnTo>
                      <a:pt x="144" y="57"/>
                    </a:lnTo>
                    <a:lnTo>
                      <a:pt x="143" y="57"/>
                    </a:lnTo>
                    <a:lnTo>
                      <a:pt x="141" y="54"/>
                    </a:lnTo>
                    <a:lnTo>
                      <a:pt x="140" y="53"/>
                    </a:lnTo>
                    <a:lnTo>
                      <a:pt x="137" y="53"/>
                    </a:lnTo>
                    <a:lnTo>
                      <a:pt x="137" y="50"/>
                    </a:lnTo>
                    <a:lnTo>
                      <a:pt x="135" y="50"/>
                    </a:lnTo>
                    <a:lnTo>
                      <a:pt x="134" y="47"/>
                    </a:lnTo>
                    <a:lnTo>
                      <a:pt x="132" y="47"/>
                    </a:lnTo>
                    <a:lnTo>
                      <a:pt x="131" y="44"/>
                    </a:lnTo>
                    <a:lnTo>
                      <a:pt x="129" y="44"/>
                    </a:lnTo>
                    <a:lnTo>
                      <a:pt x="128" y="41"/>
                    </a:lnTo>
                    <a:lnTo>
                      <a:pt x="125" y="41"/>
                    </a:lnTo>
                    <a:lnTo>
                      <a:pt x="125" y="38"/>
                    </a:lnTo>
                    <a:lnTo>
                      <a:pt x="122" y="38"/>
                    </a:lnTo>
                    <a:lnTo>
                      <a:pt x="122" y="38"/>
                    </a:lnTo>
                    <a:lnTo>
                      <a:pt x="119" y="38"/>
                    </a:lnTo>
                    <a:lnTo>
                      <a:pt x="119" y="35"/>
                    </a:lnTo>
                    <a:lnTo>
                      <a:pt x="118" y="35"/>
                    </a:lnTo>
                    <a:lnTo>
                      <a:pt x="116" y="32"/>
                    </a:lnTo>
                    <a:lnTo>
                      <a:pt x="110" y="32"/>
                    </a:lnTo>
                    <a:lnTo>
                      <a:pt x="109" y="29"/>
                    </a:lnTo>
                    <a:lnTo>
                      <a:pt x="107" y="29"/>
                    </a:lnTo>
                    <a:lnTo>
                      <a:pt x="106" y="26"/>
                    </a:lnTo>
                    <a:lnTo>
                      <a:pt x="103" y="26"/>
                    </a:lnTo>
                    <a:lnTo>
                      <a:pt x="102" y="23"/>
                    </a:lnTo>
                    <a:lnTo>
                      <a:pt x="96" y="23"/>
                    </a:lnTo>
                    <a:lnTo>
                      <a:pt x="94" y="22"/>
                    </a:lnTo>
                    <a:lnTo>
                      <a:pt x="93" y="22"/>
                    </a:lnTo>
                    <a:lnTo>
                      <a:pt x="93" y="21"/>
                    </a:lnTo>
                    <a:lnTo>
                      <a:pt x="90" y="21"/>
                    </a:lnTo>
                    <a:lnTo>
                      <a:pt x="90" y="19"/>
                    </a:lnTo>
                    <a:lnTo>
                      <a:pt x="87" y="19"/>
                    </a:lnTo>
                    <a:lnTo>
                      <a:pt x="87" y="18"/>
                    </a:lnTo>
                    <a:lnTo>
                      <a:pt x="82" y="18"/>
                    </a:lnTo>
                    <a:lnTo>
                      <a:pt x="82" y="16"/>
                    </a:lnTo>
                    <a:lnTo>
                      <a:pt x="80" y="16"/>
                    </a:lnTo>
                    <a:lnTo>
                      <a:pt x="80" y="15"/>
                    </a:lnTo>
                    <a:lnTo>
                      <a:pt x="77" y="15"/>
                    </a:lnTo>
                    <a:lnTo>
                      <a:pt x="77" y="13"/>
                    </a:lnTo>
                    <a:lnTo>
                      <a:pt x="71" y="13"/>
                    </a:lnTo>
                    <a:lnTo>
                      <a:pt x="71" y="12"/>
                    </a:lnTo>
                    <a:lnTo>
                      <a:pt x="68" y="12"/>
                    </a:lnTo>
                    <a:lnTo>
                      <a:pt x="68" y="10"/>
                    </a:lnTo>
                    <a:lnTo>
                      <a:pt x="63" y="10"/>
                    </a:lnTo>
                    <a:lnTo>
                      <a:pt x="63" y="9"/>
                    </a:lnTo>
                    <a:lnTo>
                      <a:pt x="58" y="9"/>
                    </a:lnTo>
                    <a:lnTo>
                      <a:pt x="58" y="7"/>
                    </a:lnTo>
                    <a:lnTo>
                      <a:pt x="53" y="7"/>
                    </a:lnTo>
                    <a:lnTo>
                      <a:pt x="52" y="6"/>
                    </a:lnTo>
                    <a:lnTo>
                      <a:pt x="46" y="6"/>
                    </a:lnTo>
                    <a:lnTo>
                      <a:pt x="46" y="4"/>
                    </a:lnTo>
                    <a:lnTo>
                      <a:pt x="40" y="4"/>
                    </a:lnTo>
                    <a:lnTo>
                      <a:pt x="40" y="3"/>
                    </a:lnTo>
                    <a:lnTo>
                      <a:pt x="36" y="3"/>
                    </a:lnTo>
                    <a:lnTo>
                      <a:pt x="36" y="2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034760" y="2097360"/>
                <a:ext cx="124200" cy="51480"/>
              </a:xfrm>
              <a:custGeom>
                <a:avLst/>
                <a:gdLst/>
                <a:ahLst/>
                <a:rect l="l" t="t" r="r" b="b"/>
                <a:pathLst>
                  <a:path w="150" h="66">
                    <a:moveTo>
                      <a:pt x="0" y="0"/>
                    </a:moveTo>
                    <a:lnTo>
                      <a:pt x="27" y="0"/>
                    </a:lnTo>
                    <a:lnTo>
                      <a:pt x="30" y="0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39" y="3"/>
                    </a:lnTo>
                    <a:lnTo>
                      <a:pt x="40" y="3"/>
                    </a:lnTo>
                    <a:lnTo>
                      <a:pt x="44" y="4"/>
                    </a:lnTo>
                    <a:lnTo>
                      <a:pt x="47" y="4"/>
                    </a:lnTo>
                    <a:lnTo>
                      <a:pt x="49" y="6"/>
                    </a:lnTo>
                    <a:lnTo>
                      <a:pt x="52" y="6"/>
                    </a:lnTo>
                    <a:lnTo>
                      <a:pt x="55" y="7"/>
                    </a:lnTo>
                    <a:lnTo>
                      <a:pt x="58" y="9"/>
                    </a:lnTo>
                    <a:lnTo>
                      <a:pt x="59" y="9"/>
                    </a:lnTo>
                    <a:lnTo>
                      <a:pt x="62" y="10"/>
                    </a:lnTo>
                    <a:lnTo>
                      <a:pt x="65" y="10"/>
                    </a:lnTo>
                    <a:lnTo>
                      <a:pt x="68" y="12"/>
                    </a:lnTo>
                    <a:lnTo>
                      <a:pt x="69" y="12"/>
                    </a:lnTo>
                    <a:lnTo>
                      <a:pt x="72" y="13"/>
                    </a:lnTo>
                    <a:lnTo>
                      <a:pt x="74" y="15"/>
                    </a:lnTo>
                    <a:lnTo>
                      <a:pt x="78" y="15"/>
                    </a:lnTo>
                    <a:lnTo>
                      <a:pt x="80" y="16"/>
                    </a:lnTo>
                    <a:lnTo>
                      <a:pt x="81" y="16"/>
                    </a:lnTo>
                    <a:lnTo>
                      <a:pt x="84" y="16"/>
                    </a:lnTo>
                    <a:lnTo>
                      <a:pt x="85" y="18"/>
                    </a:lnTo>
                    <a:lnTo>
                      <a:pt x="88" y="18"/>
                    </a:lnTo>
                    <a:lnTo>
                      <a:pt x="91" y="19"/>
                    </a:lnTo>
                    <a:lnTo>
                      <a:pt x="93" y="21"/>
                    </a:lnTo>
                    <a:lnTo>
                      <a:pt x="94" y="21"/>
                    </a:lnTo>
                    <a:lnTo>
                      <a:pt x="99" y="23"/>
                    </a:lnTo>
                    <a:lnTo>
                      <a:pt x="102" y="25"/>
                    </a:lnTo>
                    <a:lnTo>
                      <a:pt x="103" y="25"/>
                    </a:lnTo>
                    <a:lnTo>
                      <a:pt x="106" y="28"/>
                    </a:lnTo>
                    <a:lnTo>
                      <a:pt x="107" y="28"/>
                    </a:lnTo>
                    <a:lnTo>
                      <a:pt x="113" y="32"/>
                    </a:lnTo>
                    <a:lnTo>
                      <a:pt x="116" y="34"/>
                    </a:lnTo>
                    <a:lnTo>
                      <a:pt x="118" y="34"/>
                    </a:lnTo>
                    <a:lnTo>
                      <a:pt x="121" y="37"/>
                    </a:lnTo>
                    <a:lnTo>
                      <a:pt x="121" y="38"/>
                    </a:lnTo>
                    <a:lnTo>
                      <a:pt x="124" y="40"/>
                    </a:lnTo>
                    <a:lnTo>
                      <a:pt x="125" y="40"/>
                    </a:lnTo>
                    <a:lnTo>
                      <a:pt x="135" y="48"/>
                    </a:lnTo>
                    <a:lnTo>
                      <a:pt x="135" y="50"/>
                    </a:lnTo>
                    <a:lnTo>
                      <a:pt x="137" y="50"/>
                    </a:lnTo>
                    <a:lnTo>
                      <a:pt x="140" y="51"/>
                    </a:lnTo>
                    <a:lnTo>
                      <a:pt x="140" y="53"/>
                    </a:lnTo>
                    <a:lnTo>
                      <a:pt x="144" y="56"/>
                    </a:lnTo>
                    <a:lnTo>
                      <a:pt x="144" y="57"/>
                    </a:lnTo>
                    <a:lnTo>
                      <a:pt x="147" y="60"/>
                    </a:lnTo>
                    <a:lnTo>
                      <a:pt x="147" y="62"/>
                    </a:lnTo>
                    <a:lnTo>
                      <a:pt x="148" y="63"/>
                    </a:lnTo>
                    <a:lnTo>
                      <a:pt x="148" y="65"/>
                    </a:lnTo>
                    <a:lnTo>
                      <a:pt x="150" y="66"/>
                    </a:lnTo>
                    <a:lnTo>
                      <a:pt x="0" y="6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6818400" y="2095560"/>
                <a:ext cx="69120" cy="61560"/>
              </a:xfrm>
              <a:custGeom>
                <a:avLst/>
                <a:gdLst/>
                <a:ahLst/>
                <a:rect l="l" t="t" r="r" b="b"/>
                <a:pathLst>
                  <a:path w="84" h="76">
                    <a:moveTo>
                      <a:pt x="60" y="0"/>
                    </a:moveTo>
                    <a:lnTo>
                      <a:pt x="60" y="1"/>
                    </a:lnTo>
                    <a:lnTo>
                      <a:pt x="53" y="1"/>
                    </a:lnTo>
                    <a:lnTo>
                      <a:pt x="53" y="3"/>
                    </a:lnTo>
                    <a:lnTo>
                      <a:pt x="47" y="3"/>
                    </a:lnTo>
                    <a:lnTo>
                      <a:pt x="47" y="4"/>
                    </a:lnTo>
                    <a:lnTo>
                      <a:pt x="43" y="4"/>
                    </a:lnTo>
                    <a:lnTo>
                      <a:pt x="43" y="5"/>
                    </a:lnTo>
                    <a:lnTo>
                      <a:pt x="40" y="8"/>
                    </a:lnTo>
                    <a:lnTo>
                      <a:pt x="40" y="10"/>
                    </a:lnTo>
                    <a:lnTo>
                      <a:pt x="35" y="10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4" y="16"/>
                    </a:lnTo>
                    <a:lnTo>
                      <a:pt x="31" y="16"/>
                    </a:lnTo>
                    <a:lnTo>
                      <a:pt x="31" y="20"/>
                    </a:lnTo>
                    <a:lnTo>
                      <a:pt x="30" y="20"/>
                    </a:lnTo>
                    <a:lnTo>
                      <a:pt x="30" y="23"/>
                    </a:lnTo>
                    <a:lnTo>
                      <a:pt x="28" y="23"/>
                    </a:lnTo>
                    <a:lnTo>
                      <a:pt x="28" y="27"/>
                    </a:lnTo>
                    <a:lnTo>
                      <a:pt x="25" y="27"/>
                    </a:lnTo>
                    <a:lnTo>
                      <a:pt x="25" y="32"/>
                    </a:lnTo>
                    <a:lnTo>
                      <a:pt x="24" y="32"/>
                    </a:lnTo>
                    <a:lnTo>
                      <a:pt x="24" y="35"/>
                    </a:lnTo>
                    <a:lnTo>
                      <a:pt x="22" y="35"/>
                    </a:lnTo>
                    <a:lnTo>
                      <a:pt x="22" y="38"/>
                    </a:lnTo>
                    <a:lnTo>
                      <a:pt x="19" y="38"/>
                    </a:lnTo>
                    <a:lnTo>
                      <a:pt x="19" y="42"/>
                    </a:lnTo>
                    <a:lnTo>
                      <a:pt x="18" y="42"/>
                    </a:lnTo>
                    <a:lnTo>
                      <a:pt x="18" y="46"/>
                    </a:lnTo>
                    <a:lnTo>
                      <a:pt x="16" y="46"/>
                    </a:lnTo>
                    <a:lnTo>
                      <a:pt x="16" y="48"/>
                    </a:lnTo>
                    <a:lnTo>
                      <a:pt x="13" y="48"/>
                    </a:lnTo>
                    <a:lnTo>
                      <a:pt x="13" y="52"/>
                    </a:lnTo>
                    <a:lnTo>
                      <a:pt x="12" y="52"/>
                    </a:lnTo>
                    <a:lnTo>
                      <a:pt x="12" y="57"/>
                    </a:lnTo>
                    <a:lnTo>
                      <a:pt x="11" y="57"/>
                    </a:lnTo>
                    <a:lnTo>
                      <a:pt x="11" y="60"/>
                    </a:lnTo>
                    <a:lnTo>
                      <a:pt x="9" y="60"/>
                    </a:lnTo>
                    <a:lnTo>
                      <a:pt x="9" y="63"/>
                    </a:lnTo>
                    <a:lnTo>
                      <a:pt x="6" y="63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5" y="71"/>
                    </a:lnTo>
                    <a:lnTo>
                      <a:pt x="2" y="71"/>
                    </a:lnTo>
                    <a:lnTo>
                      <a:pt x="2" y="74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84" y="76"/>
                    </a:lnTo>
                    <a:lnTo>
                      <a:pt x="84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6818400" y="2095560"/>
                <a:ext cx="60840" cy="53280"/>
              </a:xfrm>
              <a:custGeom>
                <a:avLst/>
                <a:gdLst/>
                <a:ahLst/>
                <a:rect l="l" t="t" r="r" b="b"/>
                <a:pathLst>
                  <a:path w="75" h="67">
                    <a:moveTo>
                      <a:pt x="75" y="0"/>
                    </a:moveTo>
                    <a:lnTo>
                      <a:pt x="54" y="0"/>
                    </a:lnTo>
                    <a:lnTo>
                      <a:pt x="53" y="1"/>
                    </a:lnTo>
                    <a:lnTo>
                      <a:pt x="47" y="1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3" y="4"/>
                    </a:lnTo>
                    <a:lnTo>
                      <a:pt x="38" y="4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7"/>
                    </a:lnTo>
                    <a:lnTo>
                      <a:pt x="35" y="7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30" y="13"/>
                    </a:lnTo>
                    <a:lnTo>
                      <a:pt x="28" y="14"/>
                    </a:lnTo>
                    <a:lnTo>
                      <a:pt x="28" y="16"/>
                    </a:lnTo>
                    <a:lnTo>
                      <a:pt x="0" y="67"/>
                    </a:lnTo>
                    <a:lnTo>
                      <a:pt x="75" y="67"/>
                    </a:lnTo>
                    <a:lnTo>
                      <a:pt x="7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861240" y="2260440"/>
                <a:ext cx="2365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6675840" y="2185920"/>
                <a:ext cx="185400" cy="72720"/>
              </a:xfrm>
              <a:custGeom>
                <a:avLst/>
                <a:gdLst/>
                <a:ahLst/>
                <a:rect l="l" t="t" r="r" b="b"/>
                <a:pathLst>
                  <a:path w="223" h="90">
                    <a:moveTo>
                      <a:pt x="0" y="18"/>
                    </a:moveTo>
                    <a:lnTo>
                      <a:pt x="4" y="17"/>
                    </a:lnTo>
                    <a:lnTo>
                      <a:pt x="10" y="15"/>
                    </a:lnTo>
                    <a:lnTo>
                      <a:pt x="13" y="14"/>
                    </a:lnTo>
                    <a:lnTo>
                      <a:pt x="19" y="12"/>
                    </a:lnTo>
                    <a:lnTo>
                      <a:pt x="23" y="11"/>
                    </a:lnTo>
                    <a:lnTo>
                      <a:pt x="29" y="9"/>
                    </a:lnTo>
                    <a:lnTo>
                      <a:pt x="32" y="8"/>
                    </a:lnTo>
                    <a:lnTo>
                      <a:pt x="38" y="6"/>
                    </a:lnTo>
                    <a:lnTo>
                      <a:pt x="42" y="5"/>
                    </a:lnTo>
                    <a:lnTo>
                      <a:pt x="45" y="5"/>
                    </a:lnTo>
                    <a:lnTo>
                      <a:pt x="51" y="3"/>
                    </a:lnTo>
                    <a:lnTo>
                      <a:pt x="54" y="3"/>
                    </a:lnTo>
                    <a:lnTo>
                      <a:pt x="60" y="2"/>
                    </a:lnTo>
                    <a:lnTo>
                      <a:pt x="69" y="2"/>
                    </a:lnTo>
                    <a:lnTo>
                      <a:pt x="73" y="0"/>
                    </a:lnTo>
                    <a:lnTo>
                      <a:pt x="101" y="0"/>
                    </a:lnTo>
                    <a:lnTo>
                      <a:pt x="105" y="2"/>
                    </a:lnTo>
                    <a:lnTo>
                      <a:pt x="111" y="2"/>
                    </a:lnTo>
                    <a:lnTo>
                      <a:pt x="117" y="3"/>
                    </a:lnTo>
                    <a:lnTo>
                      <a:pt x="120" y="3"/>
                    </a:lnTo>
                    <a:lnTo>
                      <a:pt x="124" y="5"/>
                    </a:lnTo>
                    <a:lnTo>
                      <a:pt x="127" y="6"/>
                    </a:lnTo>
                    <a:lnTo>
                      <a:pt x="130" y="6"/>
                    </a:lnTo>
                    <a:lnTo>
                      <a:pt x="135" y="8"/>
                    </a:lnTo>
                    <a:lnTo>
                      <a:pt x="138" y="9"/>
                    </a:lnTo>
                    <a:lnTo>
                      <a:pt x="142" y="11"/>
                    </a:lnTo>
                    <a:lnTo>
                      <a:pt x="145" y="12"/>
                    </a:lnTo>
                    <a:lnTo>
                      <a:pt x="148" y="14"/>
                    </a:lnTo>
                    <a:lnTo>
                      <a:pt x="152" y="15"/>
                    </a:lnTo>
                    <a:lnTo>
                      <a:pt x="155" y="17"/>
                    </a:lnTo>
                    <a:lnTo>
                      <a:pt x="157" y="18"/>
                    </a:lnTo>
                    <a:lnTo>
                      <a:pt x="161" y="19"/>
                    </a:lnTo>
                    <a:lnTo>
                      <a:pt x="164" y="22"/>
                    </a:lnTo>
                    <a:lnTo>
                      <a:pt x="167" y="24"/>
                    </a:lnTo>
                    <a:lnTo>
                      <a:pt x="176" y="30"/>
                    </a:lnTo>
                    <a:lnTo>
                      <a:pt x="180" y="31"/>
                    </a:lnTo>
                    <a:lnTo>
                      <a:pt x="182" y="34"/>
                    </a:lnTo>
                    <a:lnTo>
                      <a:pt x="184" y="37"/>
                    </a:lnTo>
                    <a:lnTo>
                      <a:pt x="186" y="40"/>
                    </a:lnTo>
                    <a:lnTo>
                      <a:pt x="193" y="46"/>
                    </a:lnTo>
                    <a:lnTo>
                      <a:pt x="195" y="49"/>
                    </a:lnTo>
                    <a:lnTo>
                      <a:pt x="199" y="52"/>
                    </a:lnTo>
                    <a:lnTo>
                      <a:pt x="201" y="55"/>
                    </a:lnTo>
                    <a:lnTo>
                      <a:pt x="202" y="58"/>
                    </a:lnTo>
                    <a:lnTo>
                      <a:pt x="205" y="60"/>
                    </a:lnTo>
                    <a:lnTo>
                      <a:pt x="208" y="65"/>
                    </a:lnTo>
                    <a:lnTo>
                      <a:pt x="209" y="68"/>
                    </a:lnTo>
                    <a:lnTo>
                      <a:pt x="212" y="72"/>
                    </a:lnTo>
                    <a:lnTo>
                      <a:pt x="214" y="74"/>
                    </a:lnTo>
                    <a:lnTo>
                      <a:pt x="215" y="78"/>
                    </a:lnTo>
                    <a:lnTo>
                      <a:pt x="218" y="81"/>
                    </a:lnTo>
                    <a:lnTo>
                      <a:pt x="221" y="85"/>
                    </a:lnTo>
                    <a:lnTo>
                      <a:pt x="223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087680" y="2176560"/>
                <a:ext cx="128880" cy="85680"/>
              </a:xfrm>
              <a:custGeom>
                <a:avLst/>
                <a:gdLst/>
                <a:ahLst/>
                <a:rect l="l" t="t" r="r" b="b"/>
                <a:pathLst>
                  <a:path w="155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1" y="100"/>
                    </a:lnTo>
                    <a:lnTo>
                      <a:pt x="1" y="93"/>
                    </a:lnTo>
                    <a:lnTo>
                      <a:pt x="4" y="90"/>
                    </a:lnTo>
                    <a:lnTo>
                      <a:pt x="4" y="84"/>
                    </a:lnTo>
                    <a:lnTo>
                      <a:pt x="6" y="81"/>
                    </a:lnTo>
                    <a:lnTo>
                      <a:pt x="6" y="78"/>
                    </a:lnTo>
                    <a:lnTo>
                      <a:pt x="7" y="73"/>
                    </a:lnTo>
                    <a:lnTo>
                      <a:pt x="9" y="71"/>
                    </a:lnTo>
                    <a:lnTo>
                      <a:pt x="9" y="68"/>
                    </a:lnTo>
                    <a:lnTo>
                      <a:pt x="10" y="65"/>
                    </a:lnTo>
                    <a:lnTo>
                      <a:pt x="12" y="62"/>
                    </a:lnTo>
                    <a:lnTo>
                      <a:pt x="12" y="59"/>
                    </a:lnTo>
                    <a:lnTo>
                      <a:pt x="15" y="56"/>
                    </a:lnTo>
                    <a:lnTo>
                      <a:pt x="16" y="54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0" y="47"/>
                    </a:lnTo>
                    <a:lnTo>
                      <a:pt x="23" y="46"/>
                    </a:lnTo>
                    <a:lnTo>
                      <a:pt x="25" y="43"/>
                    </a:lnTo>
                    <a:lnTo>
                      <a:pt x="26" y="40"/>
                    </a:lnTo>
                    <a:lnTo>
                      <a:pt x="28" y="38"/>
                    </a:lnTo>
                    <a:lnTo>
                      <a:pt x="29" y="35"/>
                    </a:lnTo>
                    <a:lnTo>
                      <a:pt x="31" y="34"/>
                    </a:lnTo>
                    <a:lnTo>
                      <a:pt x="34" y="31"/>
                    </a:lnTo>
                    <a:lnTo>
                      <a:pt x="37" y="30"/>
                    </a:lnTo>
                    <a:lnTo>
                      <a:pt x="38" y="28"/>
                    </a:lnTo>
                    <a:lnTo>
                      <a:pt x="39" y="25"/>
                    </a:lnTo>
                    <a:lnTo>
                      <a:pt x="44" y="24"/>
                    </a:lnTo>
                    <a:lnTo>
                      <a:pt x="47" y="21"/>
                    </a:lnTo>
                    <a:lnTo>
                      <a:pt x="50" y="21"/>
                    </a:lnTo>
                    <a:lnTo>
                      <a:pt x="53" y="19"/>
                    </a:lnTo>
                    <a:lnTo>
                      <a:pt x="56" y="18"/>
                    </a:lnTo>
                    <a:lnTo>
                      <a:pt x="57" y="16"/>
                    </a:lnTo>
                    <a:lnTo>
                      <a:pt x="60" y="15"/>
                    </a:lnTo>
                    <a:lnTo>
                      <a:pt x="64" y="13"/>
                    </a:lnTo>
                    <a:lnTo>
                      <a:pt x="66" y="12"/>
                    </a:lnTo>
                    <a:lnTo>
                      <a:pt x="69" y="10"/>
                    </a:lnTo>
                    <a:lnTo>
                      <a:pt x="72" y="9"/>
                    </a:lnTo>
                    <a:lnTo>
                      <a:pt x="76" y="9"/>
                    </a:lnTo>
                    <a:lnTo>
                      <a:pt x="79" y="8"/>
                    </a:lnTo>
                    <a:lnTo>
                      <a:pt x="80" y="6"/>
                    </a:lnTo>
                    <a:lnTo>
                      <a:pt x="85" y="6"/>
                    </a:lnTo>
                    <a:lnTo>
                      <a:pt x="88" y="5"/>
                    </a:lnTo>
                    <a:lnTo>
                      <a:pt x="91" y="5"/>
                    </a:lnTo>
                    <a:lnTo>
                      <a:pt x="95" y="3"/>
                    </a:lnTo>
                    <a:lnTo>
                      <a:pt x="102" y="3"/>
                    </a:lnTo>
                    <a:lnTo>
                      <a:pt x="107" y="2"/>
                    </a:lnTo>
                    <a:lnTo>
                      <a:pt x="122" y="2"/>
                    </a:lnTo>
                    <a:lnTo>
                      <a:pt x="126" y="0"/>
                    </a:lnTo>
                    <a:lnTo>
                      <a:pt x="142" y="0"/>
                    </a:lnTo>
                    <a:lnTo>
                      <a:pt x="146" y="2"/>
                    </a:lnTo>
                    <a:lnTo>
                      <a:pt x="155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6662520" y="2207160"/>
                <a:ext cx="7920" cy="3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6689160" y="2231280"/>
                <a:ext cx="1339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111080" y="2231280"/>
                <a:ext cx="1389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6819840" y="2148840"/>
                <a:ext cx="1440" cy="6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7020360" y="2087280"/>
                <a:ext cx="144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7152480" y="2260440"/>
                <a:ext cx="57960" cy="4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6726960" y="2260440"/>
                <a:ext cx="57600" cy="4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0" name=""/>
            <p:cNvSpPr/>
            <p:nvPr/>
          </p:nvSpPr>
          <p:spPr>
            <a:xfrm>
              <a:off x="6877800" y="2199240"/>
              <a:ext cx="61560" cy="4500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V="1">
              <a:off x="6933960" y="2210040"/>
              <a:ext cx="309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238880" y="2200680"/>
              <a:ext cx="26280" cy="15840"/>
            </a:xfrm>
            <a:prstGeom prst="roundRect">
              <a:avLst>
                <a:gd name="adj" fmla="val 681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V="1">
              <a:off x="7250760" y="2095200"/>
              <a:ext cx="144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V="1">
              <a:off x="7252200" y="2103480"/>
              <a:ext cx="19800" cy="3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H="1" flipV="1">
              <a:off x="7227360" y="2101680"/>
              <a:ext cx="29520" cy="4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6" name=""/>
          <p:cNvSpPr/>
          <p:nvPr/>
        </p:nvSpPr>
        <p:spPr>
          <a:xfrm flipH="1" flipV="1">
            <a:off x="6513120" y="1801440"/>
            <a:ext cx="3762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 flipV="1">
            <a:off x="6934320" y="1790640"/>
            <a:ext cx="29880" cy="41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8" name=""/>
          <p:cNvGrpSpPr/>
          <p:nvPr/>
        </p:nvGrpSpPr>
        <p:grpSpPr>
          <a:xfrm>
            <a:off x="6208560" y="982800"/>
            <a:ext cx="226800" cy="253440"/>
            <a:chOff x="6208560" y="982800"/>
            <a:chExt cx="226800" cy="253440"/>
          </a:xfrm>
        </p:grpSpPr>
        <p:sp>
          <p:nvSpPr>
            <p:cNvPr id="2619" name=""/>
            <p:cNvSpPr/>
            <p:nvPr/>
          </p:nvSpPr>
          <p:spPr>
            <a:xfrm>
              <a:off x="6336000" y="1100520"/>
              <a:ext cx="52920" cy="5472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19" y="0"/>
                  </a:moveTo>
                  <a:lnTo>
                    <a:pt x="18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2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5" y="9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3" y="39"/>
                  </a:lnTo>
                  <a:lnTo>
                    <a:pt x="5" y="41"/>
                  </a:lnTo>
                  <a:lnTo>
                    <a:pt x="6" y="44"/>
                  </a:lnTo>
                  <a:lnTo>
                    <a:pt x="8" y="46"/>
                  </a:lnTo>
                  <a:lnTo>
                    <a:pt x="9" y="49"/>
                  </a:lnTo>
                  <a:lnTo>
                    <a:pt x="12" y="52"/>
                  </a:lnTo>
                  <a:lnTo>
                    <a:pt x="13" y="53"/>
                  </a:lnTo>
                  <a:lnTo>
                    <a:pt x="15" y="56"/>
                  </a:lnTo>
                  <a:lnTo>
                    <a:pt x="16" y="58"/>
                  </a:lnTo>
                  <a:lnTo>
                    <a:pt x="19" y="59"/>
                  </a:lnTo>
                  <a:lnTo>
                    <a:pt x="22" y="61"/>
                  </a:lnTo>
                  <a:lnTo>
                    <a:pt x="24" y="62"/>
                  </a:lnTo>
                  <a:lnTo>
                    <a:pt x="27" y="63"/>
                  </a:lnTo>
                  <a:lnTo>
                    <a:pt x="30" y="65"/>
                  </a:lnTo>
                  <a:lnTo>
                    <a:pt x="31" y="66"/>
                  </a:lnTo>
                  <a:lnTo>
                    <a:pt x="34" y="66"/>
                  </a:lnTo>
                  <a:lnTo>
                    <a:pt x="37" y="66"/>
                  </a:lnTo>
                  <a:lnTo>
                    <a:pt x="40" y="68"/>
                  </a:lnTo>
                  <a:lnTo>
                    <a:pt x="44" y="68"/>
                  </a:lnTo>
                  <a:lnTo>
                    <a:pt x="47" y="66"/>
                  </a:lnTo>
                  <a:lnTo>
                    <a:pt x="49" y="66"/>
                  </a:lnTo>
                  <a:lnTo>
                    <a:pt x="52" y="66"/>
                  </a:lnTo>
                  <a:lnTo>
                    <a:pt x="53" y="65"/>
                  </a:lnTo>
                  <a:lnTo>
                    <a:pt x="56" y="63"/>
                  </a:lnTo>
                  <a:lnTo>
                    <a:pt x="59" y="61"/>
                  </a:lnTo>
                  <a:lnTo>
                    <a:pt x="60" y="59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3" y="53"/>
                  </a:lnTo>
                  <a:lnTo>
                    <a:pt x="65" y="52"/>
                  </a:lnTo>
                  <a:lnTo>
                    <a:pt x="65" y="49"/>
                  </a:lnTo>
                  <a:lnTo>
                    <a:pt x="65" y="37"/>
                  </a:lnTo>
                  <a:lnTo>
                    <a:pt x="65" y="34"/>
                  </a:lnTo>
                  <a:lnTo>
                    <a:pt x="63" y="31"/>
                  </a:lnTo>
                  <a:lnTo>
                    <a:pt x="62" y="28"/>
                  </a:lnTo>
                  <a:lnTo>
                    <a:pt x="60" y="27"/>
                  </a:lnTo>
                  <a:lnTo>
                    <a:pt x="60" y="24"/>
                  </a:lnTo>
                  <a:lnTo>
                    <a:pt x="59" y="21"/>
                  </a:lnTo>
                  <a:lnTo>
                    <a:pt x="57" y="20"/>
                  </a:lnTo>
                  <a:lnTo>
                    <a:pt x="56" y="17"/>
                  </a:lnTo>
                  <a:lnTo>
                    <a:pt x="44" y="6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354360" y="1099080"/>
              <a:ext cx="26280" cy="4356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16" y="53"/>
                  </a:moveTo>
                  <a:lnTo>
                    <a:pt x="19" y="51"/>
                  </a:lnTo>
                  <a:lnTo>
                    <a:pt x="26" y="45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9" y="40"/>
                  </a:lnTo>
                  <a:lnTo>
                    <a:pt x="29" y="37"/>
                  </a:lnTo>
                  <a:lnTo>
                    <a:pt x="30" y="35"/>
                  </a:lnTo>
                  <a:lnTo>
                    <a:pt x="30" y="29"/>
                  </a:lnTo>
                  <a:lnTo>
                    <a:pt x="29" y="26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8" y="21"/>
                  </a:lnTo>
                  <a:lnTo>
                    <a:pt x="28" y="19"/>
                  </a:lnTo>
                  <a:lnTo>
                    <a:pt x="26" y="16"/>
                  </a:lnTo>
                  <a:lnTo>
                    <a:pt x="25" y="15"/>
                  </a:lnTo>
                  <a:lnTo>
                    <a:pt x="23" y="12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7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341040" y="1103760"/>
              <a:ext cx="34560" cy="385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23" y="47"/>
                  </a:moveTo>
                  <a:lnTo>
                    <a:pt x="25" y="47"/>
                  </a:lnTo>
                  <a:lnTo>
                    <a:pt x="27" y="45"/>
                  </a:lnTo>
                  <a:lnTo>
                    <a:pt x="30" y="44"/>
                  </a:lnTo>
                  <a:lnTo>
                    <a:pt x="35" y="39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9" y="34"/>
                  </a:lnTo>
                  <a:lnTo>
                    <a:pt x="39" y="32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41" y="26"/>
                  </a:lnTo>
                  <a:lnTo>
                    <a:pt x="41" y="25"/>
                  </a:lnTo>
                  <a:lnTo>
                    <a:pt x="41" y="22"/>
                  </a:lnTo>
                  <a:lnTo>
                    <a:pt x="41" y="20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29" y="6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6341040" y="1118520"/>
              <a:ext cx="21240" cy="205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0" y="0"/>
                  </a:move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7" y="12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341040" y="1105560"/>
              <a:ext cx="12960" cy="108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3" y="2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3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361200" y="113472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6349320" y="1142640"/>
              <a:ext cx="12960" cy="93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4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361200" y="1121760"/>
              <a:ext cx="12960" cy="93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9"/>
                  </a:moveTo>
                  <a:lnTo>
                    <a:pt x="9" y="0"/>
                  </a:lnTo>
                  <a:lnTo>
                    <a:pt x="0" y="3"/>
                  </a:lnTo>
                  <a:lnTo>
                    <a:pt x="7" y="14"/>
                  </a:lnTo>
                  <a:lnTo>
                    <a:pt x="16" y="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6334200" y="1116720"/>
              <a:ext cx="4680" cy="9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6349320" y="1084320"/>
              <a:ext cx="4680" cy="46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375600" y="1134720"/>
              <a:ext cx="41040" cy="2268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49" y="2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11" y="30"/>
                  </a:lnTo>
                  <a:lnTo>
                    <a:pt x="13" y="28"/>
                  </a:lnTo>
                  <a:lnTo>
                    <a:pt x="16" y="28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6" y="25"/>
                  </a:lnTo>
                  <a:lnTo>
                    <a:pt x="27" y="25"/>
                  </a:lnTo>
                  <a:lnTo>
                    <a:pt x="29" y="24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21"/>
                  </a:lnTo>
                  <a:lnTo>
                    <a:pt x="36" y="20"/>
                  </a:lnTo>
                  <a:lnTo>
                    <a:pt x="38" y="20"/>
                  </a:lnTo>
                  <a:lnTo>
                    <a:pt x="42" y="17"/>
                  </a:lnTo>
                  <a:lnTo>
                    <a:pt x="45" y="14"/>
                  </a:lnTo>
                  <a:lnTo>
                    <a:pt x="45" y="12"/>
                  </a:lnTo>
                  <a:lnTo>
                    <a:pt x="46" y="12"/>
                  </a:lnTo>
                  <a:lnTo>
                    <a:pt x="48" y="11"/>
                  </a:lnTo>
                  <a:lnTo>
                    <a:pt x="49" y="9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6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9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425640" y="1129680"/>
              <a:ext cx="2880" cy="1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3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399000" y="1133280"/>
              <a:ext cx="26640" cy="273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4"/>
                  </a:moveTo>
                  <a:lnTo>
                    <a:pt x="0" y="34"/>
                  </a:lnTo>
                  <a:lnTo>
                    <a:pt x="1" y="34"/>
                  </a:lnTo>
                  <a:lnTo>
                    <a:pt x="3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31" y="3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422400" y="1131480"/>
              <a:ext cx="12960" cy="792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3" y="2"/>
                  </a:moveTo>
                  <a:lnTo>
                    <a:pt x="14" y="0"/>
                  </a:lnTo>
                  <a:lnTo>
                    <a:pt x="7" y="8"/>
                  </a:lnTo>
                  <a:lnTo>
                    <a:pt x="0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410880" y="1149120"/>
              <a:ext cx="11520" cy="79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9" y="0"/>
                  </a:moveTo>
                  <a:lnTo>
                    <a:pt x="13" y="0"/>
                  </a:lnTo>
                  <a:lnTo>
                    <a:pt x="3" y="10"/>
                  </a:lnTo>
                  <a:lnTo>
                    <a:pt x="0" y="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312960" y="1078200"/>
              <a:ext cx="90720" cy="9180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5" y="68"/>
                  </a:moveTo>
                  <a:lnTo>
                    <a:pt x="108" y="44"/>
                  </a:lnTo>
                  <a:lnTo>
                    <a:pt x="79" y="5"/>
                  </a:lnTo>
                  <a:lnTo>
                    <a:pt x="39" y="0"/>
                  </a:lnTo>
                  <a:lnTo>
                    <a:pt x="0" y="27"/>
                  </a:lnTo>
                  <a:lnTo>
                    <a:pt x="0" y="76"/>
                  </a:lnTo>
                  <a:lnTo>
                    <a:pt x="29" y="111"/>
                  </a:lnTo>
                  <a:lnTo>
                    <a:pt x="73" y="114"/>
                  </a:lnTo>
                  <a:lnTo>
                    <a:pt x="79" y="10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372360" y="1170000"/>
              <a:ext cx="41400" cy="9360"/>
            </a:xfrm>
            <a:custGeom>
              <a:avLst/>
              <a:gdLst/>
              <a:ahLst/>
              <a:rect l="l" t="t" r="r" b="b"/>
              <a:pathLst>
                <a:path w="50" h="10">
                  <a:moveTo>
                    <a:pt x="3" y="0"/>
                  </a:moveTo>
                  <a:lnTo>
                    <a:pt x="50" y="6"/>
                  </a:lnTo>
                  <a:lnTo>
                    <a:pt x="50" y="10"/>
                  </a:lnTo>
                  <a:lnTo>
                    <a:pt x="0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 flipH="1" flipV="1">
              <a:off x="6395760" y="1165320"/>
              <a:ext cx="12960" cy="9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400440" y="1160640"/>
              <a:ext cx="21600" cy="1584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25" y="11"/>
                  </a:lnTo>
                  <a:lnTo>
                    <a:pt x="15" y="2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296400" y="1171440"/>
              <a:ext cx="77760" cy="5040"/>
            </a:xfrm>
            <a:custGeom>
              <a:avLst/>
              <a:gdLst/>
              <a:ahLst/>
              <a:rect l="l" t="t" r="r" b="b"/>
              <a:pathLst>
                <a:path w="94" h="6">
                  <a:moveTo>
                    <a:pt x="94" y="0"/>
                  </a:moveTo>
                  <a:lnTo>
                    <a:pt x="38" y="6"/>
                  </a:lnTo>
                  <a:lnTo>
                    <a:pt x="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 flipH="1">
              <a:off x="6296400" y="1168560"/>
              <a:ext cx="410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H="1">
              <a:off x="6273000" y="1100520"/>
              <a:ext cx="39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H="1">
              <a:off x="6296040" y="1139400"/>
              <a:ext cx="16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H="1">
              <a:off x="6271200" y="114912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284880" y="1092600"/>
              <a:ext cx="24480" cy="50040"/>
            </a:xfrm>
            <a:custGeom>
              <a:avLst/>
              <a:gdLst/>
              <a:ahLst/>
              <a:rect l="l" t="t" r="r" b="b"/>
              <a:pathLst>
                <a:path w="31" h="62">
                  <a:moveTo>
                    <a:pt x="31" y="0"/>
                  </a:moveTo>
                  <a:lnTo>
                    <a:pt x="6" y="22"/>
                  </a:lnTo>
                  <a:lnTo>
                    <a:pt x="0" y="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299280" y="1095840"/>
              <a:ext cx="14760" cy="35280"/>
            </a:xfrm>
            <a:custGeom>
              <a:avLst/>
              <a:gdLst/>
              <a:ahLst/>
              <a:rect l="l" t="t" r="r" b="b"/>
              <a:pathLst>
                <a:path w="19" h="44">
                  <a:moveTo>
                    <a:pt x="19" y="0"/>
                  </a:moveTo>
                  <a:lnTo>
                    <a:pt x="5" y="13"/>
                  </a:lnTo>
                  <a:lnTo>
                    <a:pt x="0" y="4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296400" y="1144080"/>
              <a:ext cx="49320" cy="2916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60" y="35"/>
                  </a:moveTo>
                  <a:lnTo>
                    <a:pt x="27" y="3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291000" y="1160640"/>
              <a:ext cx="38160" cy="1584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45" y="20"/>
                  </a:moveTo>
                  <a:lnTo>
                    <a:pt x="10" y="14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296400" y="1123200"/>
              <a:ext cx="14400" cy="9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0"/>
                  </a:move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1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297840" y="1126440"/>
              <a:ext cx="14760" cy="792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7" y="0"/>
                  </a:move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224760" y="1131480"/>
              <a:ext cx="72720" cy="104760"/>
            </a:xfrm>
            <a:custGeom>
              <a:avLst/>
              <a:gdLst/>
              <a:ahLst/>
              <a:rect l="l" t="t" r="r" b="b"/>
              <a:pathLst>
                <a:path w="88" h="130">
                  <a:moveTo>
                    <a:pt x="88" y="0"/>
                  </a:moveTo>
                  <a:lnTo>
                    <a:pt x="0" y="82"/>
                  </a:lnTo>
                  <a:lnTo>
                    <a:pt x="13" y="130"/>
                  </a:lnTo>
                  <a:lnTo>
                    <a:pt x="16" y="130"/>
                  </a:lnTo>
                  <a:lnTo>
                    <a:pt x="3" y="82"/>
                  </a:lnTo>
                  <a:lnTo>
                    <a:pt x="86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282720" y="1133280"/>
              <a:ext cx="14760" cy="334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18" y="0"/>
                  </a:moveTo>
                  <a:lnTo>
                    <a:pt x="16" y="29"/>
                  </a:lnTo>
                  <a:lnTo>
                    <a:pt x="0" y="4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243120" y="1182960"/>
              <a:ext cx="10080" cy="39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H="1">
              <a:off x="6284520" y="1171440"/>
              <a:ext cx="972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239880" y="1170000"/>
              <a:ext cx="54360" cy="6624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0" y="82"/>
                  </a:moveTo>
                  <a:lnTo>
                    <a:pt x="65" y="22"/>
                  </a:lnTo>
                  <a:lnTo>
                    <a:pt x="67" y="2"/>
                  </a:lnTo>
                  <a:lnTo>
                    <a:pt x="63" y="0"/>
                  </a:lnTo>
                  <a:lnTo>
                    <a:pt x="54" y="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flipH="1" flipV="1">
              <a:off x="6244560" y="1181160"/>
              <a:ext cx="9720" cy="41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V="1">
              <a:off x="6233040" y="1205280"/>
              <a:ext cx="1476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 flipV="1">
              <a:off x="6233040" y="1203840"/>
              <a:ext cx="1476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H="1" flipV="1">
              <a:off x="6262920" y="1161720"/>
              <a:ext cx="7920" cy="45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flipH="1" flipV="1">
              <a:off x="6262920" y="1163520"/>
              <a:ext cx="6480" cy="45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 flipV="1">
              <a:off x="6249600" y="1187280"/>
              <a:ext cx="18360" cy="1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 flipV="1">
              <a:off x="6249600" y="1187640"/>
              <a:ext cx="1836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flipH="1">
              <a:off x="6268320" y="1175040"/>
              <a:ext cx="1440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H="1">
              <a:off x="6268320" y="1173600"/>
              <a:ext cx="1440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flipH="1" flipV="1">
              <a:off x="6280920" y="1149120"/>
              <a:ext cx="3240" cy="46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 flipH="1" flipV="1">
              <a:off x="6280920" y="1147320"/>
              <a:ext cx="4680" cy="46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294600" y="1171440"/>
              <a:ext cx="1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294600" y="1175040"/>
              <a:ext cx="1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271200" y="1091160"/>
              <a:ext cx="41400" cy="60840"/>
            </a:xfrm>
            <a:custGeom>
              <a:avLst/>
              <a:gdLst/>
              <a:ahLst/>
              <a:rect l="l" t="t" r="r" b="b"/>
              <a:pathLst>
                <a:path w="51" h="78">
                  <a:moveTo>
                    <a:pt x="1" y="78"/>
                  </a:moveTo>
                  <a:lnTo>
                    <a:pt x="0" y="74"/>
                  </a:lnTo>
                  <a:lnTo>
                    <a:pt x="3" y="33"/>
                  </a:lnTo>
                  <a:lnTo>
                    <a:pt x="35" y="6"/>
                  </a:lnTo>
                  <a:lnTo>
                    <a:pt x="5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271200" y="1131480"/>
              <a:ext cx="6480" cy="7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262920" y="1134720"/>
              <a:ext cx="13320" cy="93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3" y="0"/>
                  </a:moveTo>
                  <a:lnTo>
                    <a:pt x="0" y="2"/>
                  </a:lnTo>
                  <a:lnTo>
                    <a:pt x="3" y="12"/>
                  </a:lnTo>
                  <a:lnTo>
                    <a:pt x="15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273000" y="1131480"/>
              <a:ext cx="3240" cy="79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262920" y="1134720"/>
              <a:ext cx="5040" cy="64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297840" y="113148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307560" y="1123200"/>
              <a:ext cx="5040" cy="32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3" y="5"/>
                  </a:lnTo>
                  <a:lnTo>
                    <a:pt x="0" y="2"/>
                  </a:lnTo>
                  <a:lnTo>
                    <a:pt x="4" y="0"/>
                  </a:lnTo>
                  <a:lnTo>
                    <a:pt x="5" y="3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H="1">
              <a:off x="6425640" y="1133280"/>
              <a:ext cx="1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407280" y="1137960"/>
              <a:ext cx="6480" cy="1404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0" y="1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382440" y="1152360"/>
              <a:ext cx="24480" cy="972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30" y="0"/>
                  </a:moveTo>
                  <a:lnTo>
                    <a:pt x="30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5"/>
                  </a:lnTo>
                  <a:lnTo>
                    <a:pt x="24" y="5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0" y="1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V="1">
              <a:off x="6382440" y="1137600"/>
              <a:ext cx="31320" cy="24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357600" y="1129680"/>
              <a:ext cx="68040" cy="3672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51" y="38"/>
                  </a:moveTo>
                  <a:lnTo>
                    <a:pt x="41" y="46"/>
                  </a:lnTo>
                  <a:lnTo>
                    <a:pt x="0" y="46"/>
                  </a:lnTo>
                  <a:lnTo>
                    <a:pt x="42" y="8"/>
                  </a:lnTo>
                  <a:lnTo>
                    <a:pt x="8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H="1" flipV="1">
              <a:off x="6223320" y="992520"/>
              <a:ext cx="122400" cy="85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H="1" flipV="1">
              <a:off x="6217920" y="993960"/>
              <a:ext cx="122760" cy="87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208560" y="982800"/>
              <a:ext cx="19800" cy="162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12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15" y="19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 flipH="1">
              <a:off x="6330600" y="1078200"/>
              <a:ext cx="1476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309720" y="1058760"/>
              <a:ext cx="7920" cy="38520"/>
            </a:xfrm>
            <a:custGeom>
              <a:avLst/>
              <a:gdLst/>
              <a:ahLst/>
              <a:rect l="l" t="t" r="r" b="b"/>
              <a:pathLst>
                <a:path w="10" h="48">
                  <a:moveTo>
                    <a:pt x="2" y="0"/>
                  </a:moveTo>
                  <a:lnTo>
                    <a:pt x="0" y="1"/>
                  </a:lnTo>
                  <a:lnTo>
                    <a:pt x="7" y="48"/>
                  </a:lnTo>
                  <a:lnTo>
                    <a:pt x="10" y="47"/>
                  </a:lnTo>
                  <a:lnTo>
                    <a:pt x="7" y="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21240" y="1064880"/>
              <a:ext cx="9720" cy="190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7" y="7"/>
                  </a:moveTo>
                  <a:lnTo>
                    <a:pt x="13" y="21"/>
                  </a:lnTo>
                  <a:lnTo>
                    <a:pt x="11" y="23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H="1">
              <a:off x="6317640" y="1084320"/>
              <a:ext cx="1152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312960" y="1052280"/>
              <a:ext cx="1152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14"/>
                  </a:moveTo>
                  <a:lnTo>
                    <a:pt x="10" y="3"/>
                  </a:lnTo>
                  <a:lnTo>
                    <a:pt x="6" y="0"/>
                  </a:lnTo>
                  <a:lnTo>
                    <a:pt x="0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6342480" y="1084320"/>
              <a:ext cx="648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H="1">
              <a:off x="6346080" y="1091160"/>
              <a:ext cx="7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6348960" y="110052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372360" y="1011960"/>
              <a:ext cx="59760" cy="7092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8"/>
                  </a:moveTo>
                  <a:lnTo>
                    <a:pt x="6" y="57"/>
                  </a:lnTo>
                  <a:lnTo>
                    <a:pt x="69" y="0"/>
                  </a:lnTo>
                  <a:lnTo>
                    <a:pt x="72" y="2"/>
                  </a:lnTo>
                  <a:lnTo>
                    <a:pt x="9" y="60"/>
                  </a:lnTo>
                  <a:lnTo>
                    <a:pt x="3" y="8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386040" y="1011960"/>
              <a:ext cx="46080" cy="80280"/>
            </a:xfrm>
            <a:custGeom>
              <a:avLst/>
              <a:gdLst/>
              <a:ahLst/>
              <a:rect l="l" t="t" r="r" b="b"/>
              <a:pathLst>
                <a:path w="56" h="99">
                  <a:moveTo>
                    <a:pt x="56" y="0"/>
                  </a:moveTo>
                  <a:lnTo>
                    <a:pt x="30" y="76"/>
                  </a:lnTo>
                  <a:lnTo>
                    <a:pt x="0" y="9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6395400" y="1024560"/>
              <a:ext cx="21240" cy="5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H="1">
              <a:off x="6395400" y="1026720"/>
              <a:ext cx="18360" cy="57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H="1">
              <a:off x="6385680" y="1037520"/>
              <a:ext cx="16200" cy="53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6386040" y="1040760"/>
              <a:ext cx="12960" cy="50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flipH="1">
              <a:off x="6379200" y="1049040"/>
              <a:ext cx="11520" cy="35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 flipH="1">
              <a:off x="6379200" y="1050840"/>
              <a:ext cx="7920" cy="32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6404040" y="1050840"/>
              <a:ext cx="1296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H="1">
              <a:off x="6392160" y="1064880"/>
              <a:ext cx="1008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flipH="1">
              <a:off x="6380640" y="1073160"/>
              <a:ext cx="10080" cy="9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H="1">
              <a:off x="6404040" y="1049040"/>
              <a:ext cx="1296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H="1">
              <a:off x="6392160" y="1062000"/>
              <a:ext cx="1152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380640" y="1073160"/>
              <a:ext cx="1008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H="1">
              <a:off x="6377760" y="1082880"/>
              <a:ext cx="1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362640" y="1068480"/>
              <a:ext cx="11520" cy="126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0"/>
                  </a:moveTo>
                  <a:lnTo>
                    <a:pt x="13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364080" y="1068480"/>
              <a:ext cx="10080" cy="144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7" name=""/>
          <p:cNvGrpSpPr/>
          <p:nvPr/>
        </p:nvGrpSpPr>
        <p:grpSpPr>
          <a:xfrm>
            <a:off x="6515280" y="747720"/>
            <a:ext cx="225000" cy="253800"/>
            <a:chOff x="6515280" y="747720"/>
            <a:chExt cx="225000" cy="253800"/>
          </a:xfrm>
        </p:grpSpPr>
        <p:sp>
          <p:nvSpPr>
            <p:cNvPr id="2708" name=""/>
            <p:cNvSpPr/>
            <p:nvPr/>
          </p:nvSpPr>
          <p:spPr>
            <a:xfrm>
              <a:off x="6641280" y="865800"/>
              <a:ext cx="52920" cy="5508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19" y="0"/>
                  </a:moveTo>
                  <a:lnTo>
                    <a:pt x="18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5" y="9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5" y="41"/>
                  </a:lnTo>
                  <a:lnTo>
                    <a:pt x="6" y="44"/>
                  </a:lnTo>
                  <a:lnTo>
                    <a:pt x="8" y="46"/>
                  </a:lnTo>
                  <a:lnTo>
                    <a:pt x="9" y="49"/>
                  </a:lnTo>
                  <a:lnTo>
                    <a:pt x="12" y="52"/>
                  </a:lnTo>
                  <a:lnTo>
                    <a:pt x="14" y="53"/>
                  </a:lnTo>
                  <a:lnTo>
                    <a:pt x="15" y="56"/>
                  </a:lnTo>
                  <a:lnTo>
                    <a:pt x="17" y="58"/>
                  </a:lnTo>
                  <a:lnTo>
                    <a:pt x="19" y="59"/>
                  </a:lnTo>
                  <a:lnTo>
                    <a:pt x="22" y="60"/>
                  </a:lnTo>
                  <a:lnTo>
                    <a:pt x="24" y="62"/>
                  </a:lnTo>
                  <a:lnTo>
                    <a:pt x="27" y="63"/>
                  </a:lnTo>
                  <a:lnTo>
                    <a:pt x="30" y="65"/>
                  </a:lnTo>
                  <a:lnTo>
                    <a:pt x="31" y="66"/>
                  </a:lnTo>
                  <a:lnTo>
                    <a:pt x="34" y="66"/>
                  </a:lnTo>
                  <a:lnTo>
                    <a:pt x="37" y="66"/>
                  </a:lnTo>
                  <a:lnTo>
                    <a:pt x="40" y="68"/>
                  </a:lnTo>
                  <a:lnTo>
                    <a:pt x="44" y="68"/>
                  </a:lnTo>
                  <a:lnTo>
                    <a:pt x="47" y="66"/>
                  </a:lnTo>
                  <a:lnTo>
                    <a:pt x="49" y="66"/>
                  </a:lnTo>
                  <a:lnTo>
                    <a:pt x="52" y="66"/>
                  </a:lnTo>
                  <a:lnTo>
                    <a:pt x="53" y="65"/>
                  </a:lnTo>
                  <a:lnTo>
                    <a:pt x="56" y="63"/>
                  </a:lnTo>
                  <a:lnTo>
                    <a:pt x="59" y="60"/>
                  </a:lnTo>
                  <a:lnTo>
                    <a:pt x="60" y="59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3" y="53"/>
                  </a:lnTo>
                  <a:lnTo>
                    <a:pt x="65" y="52"/>
                  </a:lnTo>
                  <a:lnTo>
                    <a:pt x="65" y="49"/>
                  </a:lnTo>
                  <a:lnTo>
                    <a:pt x="65" y="37"/>
                  </a:lnTo>
                  <a:lnTo>
                    <a:pt x="65" y="34"/>
                  </a:lnTo>
                  <a:lnTo>
                    <a:pt x="63" y="31"/>
                  </a:lnTo>
                  <a:lnTo>
                    <a:pt x="62" y="28"/>
                  </a:lnTo>
                  <a:lnTo>
                    <a:pt x="60" y="27"/>
                  </a:lnTo>
                  <a:lnTo>
                    <a:pt x="60" y="24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6" y="17"/>
                  </a:lnTo>
                  <a:lnTo>
                    <a:pt x="44" y="6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661080" y="864360"/>
              <a:ext cx="24480" cy="4356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6" y="53"/>
                  </a:moveTo>
                  <a:lnTo>
                    <a:pt x="19" y="51"/>
                  </a:lnTo>
                  <a:lnTo>
                    <a:pt x="26" y="45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9" y="39"/>
                  </a:lnTo>
                  <a:lnTo>
                    <a:pt x="29" y="37"/>
                  </a:lnTo>
                  <a:lnTo>
                    <a:pt x="31" y="35"/>
                  </a:lnTo>
                  <a:lnTo>
                    <a:pt x="31" y="29"/>
                  </a:lnTo>
                  <a:lnTo>
                    <a:pt x="29" y="26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8" y="20"/>
                  </a:lnTo>
                  <a:lnTo>
                    <a:pt x="28" y="19"/>
                  </a:lnTo>
                  <a:lnTo>
                    <a:pt x="26" y="16"/>
                  </a:lnTo>
                  <a:lnTo>
                    <a:pt x="25" y="15"/>
                  </a:lnTo>
                  <a:lnTo>
                    <a:pt x="23" y="12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7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647400" y="869040"/>
              <a:ext cx="33480" cy="3888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23" y="47"/>
                  </a:moveTo>
                  <a:lnTo>
                    <a:pt x="25" y="47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5" y="39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9" y="33"/>
                  </a:lnTo>
                  <a:lnTo>
                    <a:pt x="39" y="32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41" y="26"/>
                  </a:lnTo>
                  <a:lnTo>
                    <a:pt x="41" y="25"/>
                  </a:lnTo>
                  <a:lnTo>
                    <a:pt x="41" y="22"/>
                  </a:lnTo>
                  <a:lnTo>
                    <a:pt x="41" y="20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36" y="14"/>
                  </a:lnTo>
                  <a:lnTo>
                    <a:pt x="36" y="13"/>
                  </a:lnTo>
                  <a:lnTo>
                    <a:pt x="29" y="6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645960" y="883440"/>
              <a:ext cx="21240" cy="212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1" y="0"/>
                  </a:move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7" y="12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647400" y="870480"/>
              <a:ext cx="1152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3" y="2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3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667560" y="900000"/>
              <a:ext cx="1008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655680" y="907920"/>
              <a:ext cx="11520" cy="93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4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667560" y="886680"/>
              <a:ext cx="13320" cy="97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9"/>
                  </a:moveTo>
                  <a:lnTo>
                    <a:pt x="9" y="0"/>
                  </a:lnTo>
                  <a:lnTo>
                    <a:pt x="0" y="3"/>
                  </a:lnTo>
                  <a:lnTo>
                    <a:pt x="7" y="13"/>
                  </a:lnTo>
                  <a:lnTo>
                    <a:pt x="16" y="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639120" y="882000"/>
              <a:ext cx="5040" cy="93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6654240" y="849600"/>
              <a:ext cx="6480" cy="4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1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680880" y="900000"/>
              <a:ext cx="42840" cy="2232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50" y="2"/>
                  </a:moveTo>
                  <a:lnTo>
                    <a:pt x="47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11" y="30"/>
                  </a:lnTo>
                  <a:lnTo>
                    <a:pt x="13" y="28"/>
                  </a:lnTo>
                  <a:lnTo>
                    <a:pt x="16" y="28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21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2" y="17"/>
                  </a:lnTo>
                  <a:lnTo>
                    <a:pt x="45" y="14"/>
                  </a:lnTo>
                  <a:lnTo>
                    <a:pt x="45" y="12"/>
                  </a:lnTo>
                  <a:lnTo>
                    <a:pt x="47" y="12"/>
                  </a:lnTo>
                  <a:lnTo>
                    <a:pt x="48" y="11"/>
                  </a:lnTo>
                  <a:lnTo>
                    <a:pt x="50" y="9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6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730560" y="894960"/>
              <a:ext cx="468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705720" y="898200"/>
              <a:ext cx="24480" cy="273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4"/>
                  </a:moveTo>
                  <a:lnTo>
                    <a:pt x="0" y="34"/>
                  </a:lnTo>
                  <a:lnTo>
                    <a:pt x="2" y="34"/>
                  </a:lnTo>
                  <a:lnTo>
                    <a:pt x="3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31" y="3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728760" y="896760"/>
              <a:ext cx="11520" cy="79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3" y="3"/>
                  </a:moveTo>
                  <a:lnTo>
                    <a:pt x="15" y="0"/>
                  </a:lnTo>
                  <a:lnTo>
                    <a:pt x="7" y="9"/>
                  </a:lnTo>
                  <a:lnTo>
                    <a:pt x="0" y="1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717600" y="912960"/>
              <a:ext cx="9720" cy="93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9" y="0"/>
                  </a:moveTo>
                  <a:lnTo>
                    <a:pt x="13" y="0"/>
                  </a:lnTo>
                  <a:lnTo>
                    <a:pt x="3" y="10"/>
                  </a:lnTo>
                  <a:lnTo>
                    <a:pt x="0" y="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619320" y="843120"/>
              <a:ext cx="89640" cy="9252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6" y="68"/>
                  </a:moveTo>
                  <a:lnTo>
                    <a:pt x="108" y="44"/>
                  </a:lnTo>
                  <a:lnTo>
                    <a:pt x="79" y="5"/>
                  </a:lnTo>
                  <a:lnTo>
                    <a:pt x="40" y="0"/>
                  </a:lnTo>
                  <a:lnTo>
                    <a:pt x="0" y="27"/>
                  </a:lnTo>
                  <a:lnTo>
                    <a:pt x="0" y="76"/>
                  </a:lnTo>
                  <a:lnTo>
                    <a:pt x="29" y="111"/>
                  </a:lnTo>
                  <a:lnTo>
                    <a:pt x="73" y="114"/>
                  </a:lnTo>
                  <a:lnTo>
                    <a:pt x="79" y="10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677640" y="935640"/>
              <a:ext cx="41040" cy="9360"/>
            </a:xfrm>
            <a:custGeom>
              <a:avLst/>
              <a:gdLst/>
              <a:ahLst/>
              <a:rect l="l" t="t" r="r" b="b"/>
              <a:pathLst>
                <a:path w="50" h="10">
                  <a:moveTo>
                    <a:pt x="3" y="0"/>
                  </a:moveTo>
                  <a:lnTo>
                    <a:pt x="50" y="6"/>
                  </a:lnTo>
                  <a:lnTo>
                    <a:pt x="50" y="10"/>
                  </a:lnTo>
                  <a:lnTo>
                    <a:pt x="0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flipV="1">
              <a:off x="6701040" y="930240"/>
              <a:ext cx="14400" cy="9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707160" y="925560"/>
              <a:ext cx="19800" cy="158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0"/>
                  </a:moveTo>
                  <a:lnTo>
                    <a:pt x="24" y="11"/>
                  </a:lnTo>
                  <a:lnTo>
                    <a:pt x="14" y="2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602760" y="937080"/>
              <a:ext cx="78120" cy="4680"/>
            </a:xfrm>
            <a:custGeom>
              <a:avLst/>
              <a:gdLst/>
              <a:ahLst/>
              <a:rect l="l" t="t" r="r" b="b"/>
              <a:pathLst>
                <a:path w="93" h="6">
                  <a:moveTo>
                    <a:pt x="93" y="0"/>
                  </a:moveTo>
                  <a:lnTo>
                    <a:pt x="38" y="6"/>
                  </a:lnTo>
                  <a:lnTo>
                    <a:pt x="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 flipH="1">
              <a:off x="6602400" y="933840"/>
              <a:ext cx="414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 flipH="1">
              <a:off x="6579360" y="865800"/>
              <a:ext cx="392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 flipH="1">
              <a:off x="6602400" y="904680"/>
              <a:ext cx="162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 flipH="1">
              <a:off x="6576120" y="914400"/>
              <a:ext cx="6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589440" y="857880"/>
              <a:ext cx="26640" cy="50040"/>
            </a:xfrm>
            <a:custGeom>
              <a:avLst/>
              <a:gdLst/>
              <a:ahLst/>
              <a:rect l="l" t="t" r="r" b="b"/>
              <a:pathLst>
                <a:path w="31" h="62">
                  <a:moveTo>
                    <a:pt x="31" y="0"/>
                  </a:moveTo>
                  <a:lnTo>
                    <a:pt x="6" y="22"/>
                  </a:lnTo>
                  <a:lnTo>
                    <a:pt x="0" y="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6604560" y="861120"/>
              <a:ext cx="16200" cy="3528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20" y="0"/>
                  </a:moveTo>
                  <a:lnTo>
                    <a:pt x="5" y="13"/>
                  </a:lnTo>
                  <a:lnTo>
                    <a:pt x="0" y="4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602760" y="909360"/>
              <a:ext cx="49680" cy="28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60" y="35"/>
                  </a:moveTo>
                  <a:lnTo>
                    <a:pt x="26" y="3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597720" y="925560"/>
              <a:ext cx="38160" cy="1584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45" y="20"/>
                  </a:moveTo>
                  <a:lnTo>
                    <a:pt x="10" y="14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6602760" y="888480"/>
              <a:ext cx="14760" cy="93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7" y="0"/>
                  </a:move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604560" y="891360"/>
              <a:ext cx="12960" cy="82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0"/>
                  </a:moveTo>
                  <a:lnTo>
                    <a:pt x="18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531480" y="896760"/>
              <a:ext cx="72720" cy="104760"/>
            </a:xfrm>
            <a:custGeom>
              <a:avLst/>
              <a:gdLst/>
              <a:ahLst/>
              <a:rect l="l" t="t" r="r" b="b"/>
              <a:pathLst>
                <a:path w="88" h="130">
                  <a:moveTo>
                    <a:pt x="88" y="0"/>
                  </a:moveTo>
                  <a:lnTo>
                    <a:pt x="0" y="82"/>
                  </a:lnTo>
                  <a:lnTo>
                    <a:pt x="13" y="130"/>
                  </a:lnTo>
                  <a:lnTo>
                    <a:pt x="16" y="130"/>
                  </a:lnTo>
                  <a:lnTo>
                    <a:pt x="3" y="82"/>
                  </a:lnTo>
                  <a:lnTo>
                    <a:pt x="87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589440" y="898200"/>
              <a:ext cx="14760" cy="3204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18" y="0"/>
                  </a:moveTo>
                  <a:lnTo>
                    <a:pt x="17" y="29"/>
                  </a:lnTo>
                  <a:lnTo>
                    <a:pt x="0" y="4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549840" y="948600"/>
              <a:ext cx="7920" cy="40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 flipH="1">
              <a:off x="6589440" y="937080"/>
              <a:ext cx="1152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544800" y="935640"/>
              <a:ext cx="56160" cy="6588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0" y="82"/>
                  </a:moveTo>
                  <a:lnTo>
                    <a:pt x="66" y="22"/>
                  </a:lnTo>
                  <a:lnTo>
                    <a:pt x="67" y="2"/>
                  </a:lnTo>
                  <a:lnTo>
                    <a:pt x="63" y="0"/>
                  </a:lnTo>
                  <a:lnTo>
                    <a:pt x="54" y="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 flipH="1" flipV="1">
              <a:off x="6549840" y="946080"/>
              <a:ext cx="10080" cy="42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V="1">
              <a:off x="6539760" y="970920"/>
              <a:ext cx="1296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V="1">
              <a:off x="6539760" y="969120"/>
              <a:ext cx="1296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H="1" flipV="1">
              <a:off x="6569640" y="927000"/>
              <a:ext cx="6480" cy="45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H="1" flipV="1">
              <a:off x="6568200" y="928440"/>
              <a:ext cx="7920" cy="45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V="1">
              <a:off x="6556320" y="953280"/>
              <a:ext cx="162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V="1">
              <a:off x="6554520" y="953280"/>
              <a:ext cx="1836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H="1">
              <a:off x="6574320" y="940320"/>
              <a:ext cx="1476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 flipH="1">
              <a:off x="6574320" y="938520"/>
              <a:ext cx="14760" cy="12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 flipH="1" flipV="1">
              <a:off x="6585840" y="912960"/>
              <a:ext cx="3240" cy="48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H="1" flipV="1">
              <a:off x="6588000" y="912960"/>
              <a:ext cx="2880" cy="46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601320" y="937080"/>
              <a:ext cx="1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601320" y="940320"/>
              <a:ext cx="1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576480" y="855720"/>
              <a:ext cx="42840" cy="61560"/>
            </a:xfrm>
            <a:custGeom>
              <a:avLst/>
              <a:gdLst/>
              <a:ahLst/>
              <a:rect l="l" t="t" r="r" b="b"/>
              <a:pathLst>
                <a:path w="51" h="78">
                  <a:moveTo>
                    <a:pt x="1" y="78"/>
                  </a:moveTo>
                  <a:lnTo>
                    <a:pt x="0" y="73"/>
                  </a:lnTo>
                  <a:lnTo>
                    <a:pt x="3" y="32"/>
                  </a:lnTo>
                  <a:lnTo>
                    <a:pt x="35" y="6"/>
                  </a:lnTo>
                  <a:lnTo>
                    <a:pt x="5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576480" y="896760"/>
              <a:ext cx="7920" cy="79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9"/>
                  </a:lnTo>
                  <a:lnTo>
                    <a:pt x="9" y="9"/>
                  </a:lnTo>
                  <a:lnTo>
                    <a:pt x="9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569640" y="900000"/>
              <a:ext cx="11520" cy="93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3" y="0"/>
                  </a:moveTo>
                  <a:lnTo>
                    <a:pt x="0" y="2"/>
                  </a:lnTo>
                  <a:lnTo>
                    <a:pt x="3" y="12"/>
                  </a:lnTo>
                  <a:lnTo>
                    <a:pt x="15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579720" y="896760"/>
              <a:ext cx="2880" cy="792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568200" y="900000"/>
              <a:ext cx="4680" cy="612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604560" y="896760"/>
              <a:ext cx="1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612840" y="888480"/>
              <a:ext cx="4680" cy="28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5"/>
                  </a:moveTo>
                  <a:lnTo>
                    <a:pt x="3" y="5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3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 flipH="1">
              <a:off x="6730560" y="89820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712200" y="902880"/>
              <a:ext cx="7920" cy="144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0"/>
                  </a:moveTo>
                  <a:lnTo>
                    <a:pt x="9" y="0"/>
                  </a:lnTo>
                  <a:lnTo>
                    <a:pt x="9" y="1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0" y="1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689160" y="917640"/>
              <a:ext cx="22680" cy="972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29" y="0"/>
                  </a:moveTo>
                  <a:lnTo>
                    <a:pt x="29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 flipV="1">
              <a:off x="6689160" y="902880"/>
              <a:ext cx="29520" cy="24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662520" y="894960"/>
              <a:ext cx="68040" cy="3744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51" y="38"/>
                  </a:moveTo>
                  <a:lnTo>
                    <a:pt x="41" y="46"/>
                  </a:lnTo>
                  <a:lnTo>
                    <a:pt x="0" y="46"/>
                  </a:lnTo>
                  <a:lnTo>
                    <a:pt x="42" y="8"/>
                  </a:lnTo>
                  <a:lnTo>
                    <a:pt x="8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 flipH="1" flipV="1">
              <a:off x="6529320" y="757080"/>
              <a:ext cx="122760" cy="85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H="1" flipV="1">
              <a:off x="6523200" y="758880"/>
              <a:ext cx="122400" cy="87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515280" y="747720"/>
              <a:ext cx="19800" cy="1440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2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15" y="19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 flipH="1">
              <a:off x="6637320" y="843120"/>
              <a:ext cx="1476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614280" y="823680"/>
              <a:ext cx="7920" cy="38880"/>
            </a:xfrm>
            <a:custGeom>
              <a:avLst/>
              <a:gdLst/>
              <a:ahLst/>
              <a:rect l="l" t="t" r="r" b="b"/>
              <a:pathLst>
                <a:path w="10" h="48">
                  <a:moveTo>
                    <a:pt x="2" y="0"/>
                  </a:moveTo>
                  <a:lnTo>
                    <a:pt x="0" y="1"/>
                  </a:lnTo>
                  <a:lnTo>
                    <a:pt x="8" y="48"/>
                  </a:lnTo>
                  <a:lnTo>
                    <a:pt x="10" y="47"/>
                  </a:lnTo>
                  <a:lnTo>
                    <a:pt x="8" y="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626160" y="830160"/>
              <a:ext cx="11520" cy="1944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7" y="8"/>
                  </a:moveTo>
                  <a:lnTo>
                    <a:pt x="13" y="22"/>
                  </a:lnTo>
                  <a:lnTo>
                    <a:pt x="12" y="24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 flipH="1">
              <a:off x="6622200" y="849600"/>
              <a:ext cx="1332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619320" y="817200"/>
              <a:ext cx="1152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14"/>
                  </a:moveTo>
                  <a:lnTo>
                    <a:pt x="10" y="3"/>
                  </a:lnTo>
                  <a:lnTo>
                    <a:pt x="6" y="0"/>
                  </a:lnTo>
                  <a:lnTo>
                    <a:pt x="0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 flipH="1">
              <a:off x="6649200" y="849600"/>
              <a:ext cx="612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 flipH="1">
              <a:off x="6651000" y="855720"/>
              <a:ext cx="792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H="1">
              <a:off x="6655680" y="865800"/>
              <a:ext cx="6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677640" y="776520"/>
              <a:ext cx="59760" cy="6948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8"/>
                  </a:moveTo>
                  <a:lnTo>
                    <a:pt x="6" y="57"/>
                  </a:lnTo>
                  <a:lnTo>
                    <a:pt x="69" y="0"/>
                  </a:lnTo>
                  <a:lnTo>
                    <a:pt x="72" y="2"/>
                  </a:lnTo>
                  <a:lnTo>
                    <a:pt x="9" y="60"/>
                  </a:lnTo>
                  <a:lnTo>
                    <a:pt x="3" y="8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690960" y="776520"/>
              <a:ext cx="46440" cy="81000"/>
            </a:xfrm>
            <a:custGeom>
              <a:avLst/>
              <a:gdLst/>
              <a:ahLst/>
              <a:rect l="l" t="t" r="r" b="b"/>
              <a:pathLst>
                <a:path w="56" h="99">
                  <a:moveTo>
                    <a:pt x="56" y="0"/>
                  </a:moveTo>
                  <a:lnTo>
                    <a:pt x="30" y="76"/>
                  </a:lnTo>
                  <a:lnTo>
                    <a:pt x="0" y="9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 flipH="1">
              <a:off x="6702120" y="789840"/>
              <a:ext cx="21240" cy="57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H="1">
              <a:off x="6701040" y="791280"/>
              <a:ext cx="19440" cy="58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H="1">
              <a:off x="6692040" y="802800"/>
              <a:ext cx="14760" cy="52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H="1">
              <a:off x="6690960" y="806040"/>
              <a:ext cx="12960" cy="49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H="1">
              <a:off x="6685560" y="813960"/>
              <a:ext cx="9720" cy="35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H="1">
              <a:off x="6685920" y="815400"/>
              <a:ext cx="7920" cy="32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 flipH="1">
              <a:off x="6710760" y="815400"/>
              <a:ext cx="1296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>
              <a:off x="6699240" y="828720"/>
              <a:ext cx="792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H="1">
              <a:off x="6687360" y="838080"/>
              <a:ext cx="792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H="1">
              <a:off x="6710760" y="813960"/>
              <a:ext cx="1296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>
              <a:off x="6699240" y="826920"/>
              <a:ext cx="1008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 flipH="1">
              <a:off x="6687360" y="838080"/>
              <a:ext cx="792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H="1">
              <a:off x="6683760" y="846360"/>
              <a:ext cx="1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6669360" y="833400"/>
              <a:ext cx="11520" cy="126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0"/>
                  </a:moveTo>
                  <a:lnTo>
                    <a:pt x="13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670800" y="833400"/>
              <a:ext cx="10080" cy="126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0"/>
                  </a:move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6" name=""/>
          <p:cNvGrpSpPr/>
          <p:nvPr/>
        </p:nvGrpSpPr>
        <p:grpSpPr>
          <a:xfrm>
            <a:off x="6834240" y="870120"/>
            <a:ext cx="226440" cy="252000"/>
            <a:chOff x="6834240" y="870120"/>
            <a:chExt cx="226440" cy="252000"/>
          </a:xfrm>
        </p:grpSpPr>
        <p:sp>
          <p:nvSpPr>
            <p:cNvPr id="2797" name=""/>
            <p:cNvSpPr/>
            <p:nvPr/>
          </p:nvSpPr>
          <p:spPr>
            <a:xfrm>
              <a:off x="6961320" y="988200"/>
              <a:ext cx="52920" cy="5472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19" y="0"/>
                  </a:moveTo>
                  <a:lnTo>
                    <a:pt x="18" y="1"/>
                  </a:lnTo>
                  <a:lnTo>
                    <a:pt x="15" y="1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3" y="35"/>
                  </a:lnTo>
                  <a:lnTo>
                    <a:pt x="3" y="38"/>
                  </a:lnTo>
                  <a:lnTo>
                    <a:pt x="5" y="41"/>
                  </a:lnTo>
                  <a:lnTo>
                    <a:pt x="6" y="44"/>
                  </a:lnTo>
                  <a:lnTo>
                    <a:pt x="7" y="45"/>
                  </a:lnTo>
                  <a:lnTo>
                    <a:pt x="9" y="48"/>
                  </a:lnTo>
                  <a:lnTo>
                    <a:pt x="12" y="51"/>
                  </a:lnTo>
                  <a:lnTo>
                    <a:pt x="13" y="53"/>
                  </a:lnTo>
                  <a:lnTo>
                    <a:pt x="15" y="55"/>
                  </a:lnTo>
                  <a:lnTo>
                    <a:pt x="16" y="57"/>
                  </a:lnTo>
                  <a:lnTo>
                    <a:pt x="19" y="58"/>
                  </a:lnTo>
                  <a:lnTo>
                    <a:pt x="22" y="60"/>
                  </a:lnTo>
                  <a:lnTo>
                    <a:pt x="24" y="61"/>
                  </a:lnTo>
                  <a:lnTo>
                    <a:pt x="26" y="63"/>
                  </a:lnTo>
                  <a:lnTo>
                    <a:pt x="29" y="64"/>
                  </a:lnTo>
                  <a:lnTo>
                    <a:pt x="31" y="66"/>
                  </a:lnTo>
                  <a:lnTo>
                    <a:pt x="34" y="66"/>
                  </a:lnTo>
                  <a:lnTo>
                    <a:pt x="37" y="66"/>
                  </a:lnTo>
                  <a:lnTo>
                    <a:pt x="40" y="67"/>
                  </a:lnTo>
                  <a:lnTo>
                    <a:pt x="44" y="67"/>
                  </a:lnTo>
                  <a:lnTo>
                    <a:pt x="47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4"/>
                  </a:lnTo>
                  <a:lnTo>
                    <a:pt x="56" y="63"/>
                  </a:lnTo>
                  <a:lnTo>
                    <a:pt x="59" y="60"/>
                  </a:lnTo>
                  <a:lnTo>
                    <a:pt x="60" y="58"/>
                  </a:lnTo>
                  <a:lnTo>
                    <a:pt x="60" y="57"/>
                  </a:lnTo>
                  <a:lnTo>
                    <a:pt x="62" y="55"/>
                  </a:lnTo>
                  <a:lnTo>
                    <a:pt x="63" y="53"/>
                  </a:lnTo>
                  <a:lnTo>
                    <a:pt x="65" y="51"/>
                  </a:lnTo>
                  <a:lnTo>
                    <a:pt x="65" y="48"/>
                  </a:lnTo>
                  <a:lnTo>
                    <a:pt x="65" y="36"/>
                  </a:lnTo>
                  <a:lnTo>
                    <a:pt x="65" y="34"/>
                  </a:lnTo>
                  <a:lnTo>
                    <a:pt x="63" y="31"/>
                  </a:lnTo>
                  <a:lnTo>
                    <a:pt x="62" y="28"/>
                  </a:lnTo>
                  <a:lnTo>
                    <a:pt x="60" y="26"/>
                  </a:lnTo>
                  <a:lnTo>
                    <a:pt x="60" y="23"/>
                  </a:lnTo>
                  <a:lnTo>
                    <a:pt x="59" y="20"/>
                  </a:lnTo>
                  <a:lnTo>
                    <a:pt x="57" y="19"/>
                  </a:lnTo>
                  <a:lnTo>
                    <a:pt x="56" y="16"/>
                  </a:lnTo>
                  <a:lnTo>
                    <a:pt x="44" y="6"/>
                  </a:lnTo>
                  <a:lnTo>
                    <a:pt x="41" y="4"/>
                  </a:lnTo>
                  <a:lnTo>
                    <a:pt x="40" y="4"/>
                  </a:lnTo>
                  <a:lnTo>
                    <a:pt x="37" y="3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979680" y="986040"/>
              <a:ext cx="26280" cy="4356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16" y="53"/>
                  </a:moveTo>
                  <a:lnTo>
                    <a:pt x="19" y="52"/>
                  </a:lnTo>
                  <a:lnTo>
                    <a:pt x="26" y="46"/>
                  </a:lnTo>
                  <a:lnTo>
                    <a:pt x="27" y="43"/>
                  </a:lnTo>
                  <a:lnTo>
                    <a:pt x="27" y="41"/>
                  </a:lnTo>
                  <a:lnTo>
                    <a:pt x="29" y="40"/>
                  </a:lnTo>
                  <a:lnTo>
                    <a:pt x="29" y="37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29" y="27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7" y="21"/>
                  </a:lnTo>
                  <a:lnTo>
                    <a:pt x="27" y="19"/>
                  </a:lnTo>
                  <a:lnTo>
                    <a:pt x="26" y="16"/>
                  </a:lnTo>
                  <a:lnTo>
                    <a:pt x="24" y="15"/>
                  </a:lnTo>
                  <a:lnTo>
                    <a:pt x="23" y="12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966360" y="991080"/>
              <a:ext cx="34560" cy="3888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24" y="47"/>
                  </a:moveTo>
                  <a:lnTo>
                    <a:pt x="25" y="47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6" y="40"/>
                  </a:lnTo>
                  <a:lnTo>
                    <a:pt x="37" y="38"/>
                  </a:lnTo>
                  <a:lnTo>
                    <a:pt x="39" y="37"/>
                  </a:lnTo>
                  <a:lnTo>
                    <a:pt x="40" y="34"/>
                  </a:lnTo>
                  <a:lnTo>
                    <a:pt x="40" y="32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41" y="27"/>
                  </a:lnTo>
                  <a:lnTo>
                    <a:pt x="41" y="25"/>
                  </a:lnTo>
                  <a:lnTo>
                    <a:pt x="41" y="22"/>
                  </a:lnTo>
                  <a:lnTo>
                    <a:pt x="41" y="21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37" y="15"/>
                  </a:lnTo>
                  <a:lnTo>
                    <a:pt x="37" y="13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964560" y="1005480"/>
              <a:ext cx="23040" cy="212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0" y="0"/>
                  </a:moveTo>
                  <a:lnTo>
                    <a:pt x="9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7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2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966360" y="992880"/>
              <a:ext cx="13320" cy="93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3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986160" y="1021680"/>
              <a:ext cx="11520" cy="97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3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6975000" y="1029960"/>
              <a:ext cx="12960" cy="79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4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6986160" y="1007640"/>
              <a:ext cx="13320" cy="1080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9"/>
                  </a:moveTo>
                  <a:lnTo>
                    <a:pt x="9" y="0"/>
                  </a:lnTo>
                  <a:lnTo>
                    <a:pt x="0" y="3"/>
                  </a:lnTo>
                  <a:lnTo>
                    <a:pt x="7" y="13"/>
                  </a:lnTo>
                  <a:lnTo>
                    <a:pt x="16" y="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6959880" y="1004040"/>
              <a:ext cx="4680" cy="93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975000" y="972000"/>
              <a:ext cx="4680" cy="46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001280" y="1020240"/>
              <a:ext cx="41040" cy="241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50" y="1"/>
                  </a:moveTo>
                  <a:lnTo>
                    <a:pt x="4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19" y="4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5" y="29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7" y="28"/>
                  </a:lnTo>
                  <a:lnTo>
                    <a:pt x="18" y="28"/>
                  </a:lnTo>
                  <a:lnTo>
                    <a:pt x="19" y="28"/>
                  </a:lnTo>
                  <a:lnTo>
                    <a:pt x="22" y="26"/>
                  </a:lnTo>
                  <a:lnTo>
                    <a:pt x="24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3" y="22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3" y="16"/>
                  </a:lnTo>
                  <a:lnTo>
                    <a:pt x="46" y="13"/>
                  </a:lnTo>
                  <a:lnTo>
                    <a:pt x="46" y="12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050600" y="1015560"/>
              <a:ext cx="3240" cy="2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3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024320" y="1020240"/>
              <a:ext cx="26280" cy="273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34"/>
                  </a:moveTo>
                  <a:lnTo>
                    <a:pt x="0" y="34"/>
                  </a:lnTo>
                  <a:lnTo>
                    <a:pt x="1" y="34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6" y="33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7047720" y="1018440"/>
              <a:ext cx="12960" cy="82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3" y="3"/>
                  </a:moveTo>
                  <a:lnTo>
                    <a:pt x="14" y="0"/>
                  </a:lnTo>
                  <a:lnTo>
                    <a:pt x="7" y="9"/>
                  </a:lnTo>
                  <a:lnTo>
                    <a:pt x="0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7036200" y="1035000"/>
              <a:ext cx="1152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9" y="0"/>
                  </a:moveTo>
                  <a:lnTo>
                    <a:pt x="13" y="0"/>
                  </a:lnTo>
                  <a:lnTo>
                    <a:pt x="3" y="11"/>
                  </a:lnTo>
                  <a:lnTo>
                    <a:pt x="0" y="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938280" y="965160"/>
              <a:ext cx="90720" cy="9180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105" y="69"/>
                  </a:moveTo>
                  <a:lnTo>
                    <a:pt x="108" y="44"/>
                  </a:lnTo>
                  <a:lnTo>
                    <a:pt x="79" y="6"/>
                  </a:lnTo>
                  <a:lnTo>
                    <a:pt x="39" y="0"/>
                  </a:lnTo>
                  <a:lnTo>
                    <a:pt x="0" y="28"/>
                  </a:lnTo>
                  <a:lnTo>
                    <a:pt x="0" y="76"/>
                  </a:lnTo>
                  <a:lnTo>
                    <a:pt x="29" y="111"/>
                  </a:lnTo>
                  <a:lnTo>
                    <a:pt x="73" y="114"/>
                  </a:lnTo>
                  <a:lnTo>
                    <a:pt x="79" y="1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6997680" y="1057320"/>
              <a:ext cx="39600" cy="7920"/>
            </a:xfrm>
            <a:custGeom>
              <a:avLst/>
              <a:gdLst/>
              <a:ahLst/>
              <a:rect l="l" t="t" r="r" b="b"/>
              <a:pathLst>
                <a:path w="50" h="11">
                  <a:moveTo>
                    <a:pt x="3" y="0"/>
                  </a:moveTo>
                  <a:lnTo>
                    <a:pt x="50" y="6"/>
                  </a:lnTo>
                  <a:lnTo>
                    <a:pt x="50" y="11"/>
                  </a:lnTo>
                  <a:lnTo>
                    <a:pt x="0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flipH="1" flipV="1">
              <a:off x="7019640" y="1051200"/>
              <a:ext cx="14400" cy="9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025760" y="1047960"/>
              <a:ext cx="21600" cy="1584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0" y="0"/>
                  </a:moveTo>
                  <a:lnTo>
                    <a:pt x="25" y="12"/>
                  </a:lnTo>
                  <a:lnTo>
                    <a:pt x="15" y="2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6921720" y="1059120"/>
              <a:ext cx="77760" cy="4680"/>
            </a:xfrm>
            <a:custGeom>
              <a:avLst/>
              <a:gdLst/>
              <a:ahLst/>
              <a:rect l="l" t="t" r="r" b="b"/>
              <a:pathLst>
                <a:path w="94" h="6">
                  <a:moveTo>
                    <a:pt x="94" y="0"/>
                  </a:moveTo>
                  <a:lnTo>
                    <a:pt x="38" y="6"/>
                  </a:lnTo>
                  <a:lnTo>
                    <a:pt x="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 flipH="1">
              <a:off x="6921360" y="1055880"/>
              <a:ext cx="414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>
              <a:off x="6898680" y="988200"/>
              <a:ext cx="396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H="1">
              <a:off x="6921720" y="1027080"/>
              <a:ext cx="1656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 flipH="1">
              <a:off x="6896880" y="103644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910200" y="979920"/>
              <a:ext cx="24480" cy="4968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30" y="0"/>
                  </a:moveTo>
                  <a:lnTo>
                    <a:pt x="5" y="22"/>
                  </a:lnTo>
                  <a:lnTo>
                    <a:pt x="0" y="6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924960" y="981360"/>
              <a:ext cx="14760" cy="35280"/>
            </a:xfrm>
            <a:custGeom>
              <a:avLst/>
              <a:gdLst/>
              <a:ahLst/>
              <a:rect l="l" t="t" r="r" b="b"/>
              <a:pathLst>
                <a:path w="19" h="44">
                  <a:moveTo>
                    <a:pt x="19" y="0"/>
                  </a:moveTo>
                  <a:lnTo>
                    <a:pt x="5" y="14"/>
                  </a:lnTo>
                  <a:lnTo>
                    <a:pt x="0" y="4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6921720" y="1031760"/>
              <a:ext cx="49680" cy="28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60" y="35"/>
                  </a:moveTo>
                  <a:lnTo>
                    <a:pt x="27" y="3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6916680" y="1047960"/>
              <a:ext cx="38160" cy="1584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46" y="21"/>
                  </a:moveTo>
                  <a:lnTo>
                    <a:pt x="11" y="15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6921720" y="1010520"/>
              <a:ext cx="14760" cy="97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8" y="0"/>
                  </a:moveTo>
                  <a:lnTo>
                    <a:pt x="18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6923520" y="1012320"/>
              <a:ext cx="14760" cy="93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0"/>
                  </a:moveTo>
                  <a:lnTo>
                    <a:pt x="17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6850440" y="1017000"/>
              <a:ext cx="72720" cy="10512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88" y="0"/>
                  </a:moveTo>
                  <a:lnTo>
                    <a:pt x="0" y="82"/>
                  </a:lnTo>
                  <a:lnTo>
                    <a:pt x="13" y="131"/>
                  </a:lnTo>
                  <a:lnTo>
                    <a:pt x="16" y="131"/>
                  </a:lnTo>
                  <a:lnTo>
                    <a:pt x="3" y="82"/>
                  </a:lnTo>
                  <a:lnTo>
                    <a:pt x="86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6908400" y="1020240"/>
              <a:ext cx="14760" cy="3204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18" y="0"/>
                  </a:moveTo>
                  <a:lnTo>
                    <a:pt x="16" y="30"/>
                  </a:lnTo>
                  <a:lnTo>
                    <a:pt x="0" y="4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6868440" y="1068840"/>
              <a:ext cx="10080" cy="42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H="1">
              <a:off x="6909840" y="1059120"/>
              <a:ext cx="972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6865200" y="1055880"/>
              <a:ext cx="54720" cy="66240"/>
            </a:xfrm>
            <a:custGeom>
              <a:avLst/>
              <a:gdLst/>
              <a:ahLst/>
              <a:rect l="l" t="t" r="r" b="b"/>
              <a:pathLst>
                <a:path w="68" h="82">
                  <a:moveTo>
                    <a:pt x="0" y="82"/>
                  </a:moveTo>
                  <a:lnTo>
                    <a:pt x="66" y="22"/>
                  </a:lnTo>
                  <a:lnTo>
                    <a:pt x="68" y="1"/>
                  </a:lnTo>
                  <a:lnTo>
                    <a:pt x="63" y="0"/>
                  </a:lnTo>
                  <a:lnTo>
                    <a:pt x="55" y="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 flipH="1" flipV="1">
              <a:off x="6870600" y="1068840"/>
              <a:ext cx="7920" cy="40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 flipV="1">
              <a:off x="6858720" y="1091160"/>
              <a:ext cx="1476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 flipV="1">
              <a:off x="6858720" y="1091160"/>
              <a:ext cx="1476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 flipH="1" flipV="1">
              <a:off x="6888600" y="1049400"/>
              <a:ext cx="7920" cy="45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H="1" flipV="1">
              <a:off x="6888600" y="1050840"/>
              <a:ext cx="6480" cy="45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 flipV="1">
              <a:off x="6875280" y="1075320"/>
              <a:ext cx="180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V="1">
              <a:off x="6875280" y="1073520"/>
              <a:ext cx="180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 flipH="1">
              <a:off x="6892920" y="1060560"/>
              <a:ext cx="1476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 flipH="1">
              <a:off x="6892920" y="1060560"/>
              <a:ext cx="1476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 flipH="1" flipV="1">
              <a:off x="6906600" y="1035000"/>
              <a:ext cx="3240" cy="48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 flipH="1" flipV="1">
              <a:off x="6906600" y="1033200"/>
              <a:ext cx="4680" cy="48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919920" y="1059120"/>
              <a:ext cx="1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919920" y="106056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896880" y="976680"/>
              <a:ext cx="41400" cy="63000"/>
            </a:xfrm>
            <a:custGeom>
              <a:avLst/>
              <a:gdLst/>
              <a:ahLst/>
              <a:rect l="l" t="t" r="r" b="b"/>
              <a:pathLst>
                <a:path w="52" h="77">
                  <a:moveTo>
                    <a:pt x="2" y="77"/>
                  </a:moveTo>
                  <a:lnTo>
                    <a:pt x="0" y="73"/>
                  </a:lnTo>
                  <a:lnTo>
                    <a:pt x="3" y="32"/>
                  </a:lnTo>
                  <a:lnTo>
                    <a:pt x="36" y="5"/>
                  </a:lnTo>
                  <a:lnTo>
                    <a:pt x="5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896880" y="1017000"/>
              <a:ext cx="6480" cy="9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6888600" y="1020240"/>
              <a:ext cx="13320" cy="93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3" y="0"/>
                  </a:moveTo>
                  <a:lnTo>
                    <a:pt x="0" y="1"/>
                  </a:lnTo>
                  <a:lnTo>
                    <a:pt x="3" y="12"/>
                  </a:lnTo>
                  <a:lnTo>
                    <a:pt x="14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898680" y="1018440"/>
              <a:ext cx="3240" cy="64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888600" y="1020240"/>
              <a:ext cx="4680" cy="79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923520" y="1017000"/>
              <a:ext cx="1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933240" y="1010520"/>
              <a:ext cx="5040" cy="32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4"/>
                  </a:moveTo>
                  <a:lnTo>
                    <a:pt x="3" y="4"/>
                  </a:lnTo>
                  <a:lnTo>
                    <a:pt x="0" y="1"/>
                  </a:lnTo>
                  <a:lnTo>
                    <a:pt x="5" y="0"/>
                  </a:lnTo>
                  <a:lnTo>
                    <a:pt x="6" y="3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H="1">
              <a:off x="7050240" y="1020240"/>
              <a:ext cx="1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032600" y="1024920"/>
              <a:ext cx="6480" cy="1260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007760" y="1037880"/>
              <a:ext cx="24480" cy="1116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30" y="0"/>
                  </a:move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0" y="1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 flipV="1">
              <a:off x="7007760" y="1024560"/>
              <a:ext cx="29520" cy="24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983280" y="1015560"/>
              <a:ext cx="67320" cy="38160"/>
            </a:xfrm>
            <a:custGeom>
              <a:avLst/>
              <a:gdLst/>
              <a:ahLst/>
              <a:rect l="l" t="t" r="r" b="b"/>
              <a:pathLst>
                <a:path w="83" h="47">
                  <a:moveTo>
                    <a:pt x="52" y="38"/>
                  </a:moveTo>
                  <a:lnTo>
                    <a:pt x="41" y="47"/>
                  </a:lnTo>
                  <a:lnTo>
                    <a:pt x="0" y="47"/>
                  </a:lnTo>
                  <a:lnTo>
                    <a:pt x="43" y="9"/>
                  </a:lnTo>
                  <a:lnTo>
                    <a:pt x="8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6848280" y="879480"/>
              <a:ext cx="122760" cy="85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 flipH="1" flipV="1">
              <a:off x="6843600" y="879480"/>
              <a:ext cx="120600" cy="87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6834240" y="870120"/>
              <a:ext cx="19800" cy="140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12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14" y="19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H="1">
              <a:off x="6956280" y="965160"/>
              <a:ext cx="1476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933240" y="945720"/>
              <a:ext cx="10080" cy="38880"/>
            </a:xfrm>
            <a:custGeom>
              <a:avLst/>
              <a:gdLst/>
              <a:ahLst/>
              <a:rect l="l" t="t" r="r" b="b"/>
              <a:pathLst>
                <a:path w="10" h="48">
                  <a:moveTo>
                    <a:pt x="1" y="0"/>
                  </a:moveTo>
                  <a:lnTo>
                    <a:pt x="0" y="2"/>
                  </a:lnTo>
                  <a:lnTo>
                    <a:pt x="7" y="48"/>
                  </a:lnTo>
                  <a:lnTo>
                    <a:pt x="10" y="47"/>
                  </a:lnTo>
                  <a:lnTo>
                    <a:pt x="7" y="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946560" y="952560"/>
              <a:ext cx="9720" cy="194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7" y="7"/>
                  </a:moveTo>
                  <a:lnTo>
                    <a:pt x="13" y="22"/>
                  </a:lnTo>
                  <a:lnTo>
                    <a:pt x="11" y="23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H="1">
              <a:off x="6943320" y="972000"/>
              <a:ext cx="1152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938280" y="939240"/>
              <a:ext cx="11160" cy="97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3"/>
                  </a:moveTo>
                  <a:lnTo>
                    <a:pt x="10" y="3"/>
                  </a:lnTo>
                  <a:lnTo>
                    <a:pt x="6" y="0"/>
                  </a:lnTo>
                  <a:lnTo>
                    <a:pt x="0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 flipH="1">
              <a:off x="6968160" y="972000"/>
              <a:ext cx="648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H="1">
              <a:off x="6969600" y="976680"/>
              <a:ext cx="1008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>
              <a:off x="6974640" y="988200"/>
              <a:ext cx="6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997680" y="897480"/>
              <a:ext cx="57960" cy="7092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8"/>
                  </a:moveTo>
                  <a:lnTo>
                    <a:pt x="6" y="58"/>
                  </a:lnTo>
                  <a:lnTo>
                    <a:pt x="69" y="0"/>
                  </a:lnTo>
                  <a:lnTo>
                    <a:pt x="72" y="2"/>
                  </a:lnTo>
                  <a:lnTo>
                    <a:pt x="9" y="61"/>
                  </a:lnTo>
                  <a:lnTo>
                    <a:pt x="3" y="8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011360" y="898920"/>
              <a:ext cx="44640" cy="81000"/>
            </a:xfrm>
            <a:custGeom>
              <a:avLst/>
              <a:gdLst/>
              <a:ahLst/>
              <a:rect l="l" t="t" r="r" b="b"/>
              <a:pathLst>
                <a:path w="56" h="100">
                  <a:moveTo>
                    <a:pt x="56" y="0"/>
                  </a:moveTo>
                  <a:lnTo>
                    <a:pt x="29" y="76"/>
                  </a:lnTo>
                  <a:lnTo>
                    <a:pt x="0" y="10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H="1">
              <a:off x="7020720" y="910440"/>
              <a:ext cx="21240" cy="59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 flipH="1">
              <a:off x="7019280" y="913680"/>
              <a:ext cx="19800" cy="58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 flipH="1">
              <a:off x="7011000" y="924840"/>
              <a:ext cx="16200" cy="51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 flipH="1">
              <a:off x="7011360" y="928440"/>
              <a:ext cx="12960" cy="49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 flipH="1">
              <a:off x="7004520" y="936360"/>
              <a:ext cx="11520" cy="35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 flipH="1">
              <a:off x="7004520" y="937800"/>
              <a:ext cx="7920" cy="32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H="1">
              <a:off x="7029360" y="936360"/>
              <a:ext cx="1296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H="1">
              <a:off x="7017840" y="950760"/>
              <a:ext cx="1008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H="1">
              <a:off x="7005960" y="960480"/>
              <a:ext cx="1008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 flipH="1">
              <a:off x="7029360" y="936360"/>
              <a:ext cx="1296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H="1">
              <a:off x="7017840" y="949320"/>
              <a:ext cx="1152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 flipH="1">
              <a:off x="7005960" y="958680"/>
              <a:ext cx="1008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 flipH="1">
              <a:off x="7002360" y="968760"/>
              <a:ext cx="1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6987960" y="954000"/>
              <a:ext cx="11520" cy="126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0"/>
                  </a:move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989400" y="955440"/>
              <a:ext cx="10080" cy="129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5"/>
                  </a:lnTo>
                  <a:lnTo>
                    <a:pt x="5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5" name=""/>
          <p:cNvSpPr/>
          <p:nvPr/>
        </p:nvSpPr>
        <p:spPr>
          <a:xfrm>
            <a:off x="6569640" y="1165320"/>
            <a:ext cx="214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" spc="-1" strike="noStrike">
                <a:solidFill>
                  <a:srgbClr val="000000"/>
                </a:solidFill>
                <a:latin typeface="全真楷書"/>
                <a:ea typeface="全真楷書"/>
              </a:rPr>
              <a:t>衛星定位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7596360" y="1015920"/>
            <a:ext cx="95040" cy="284400"/>
          </a:xfrm>
          <a:custGeom>
            <a:avLst/>
            <a:gdLst/>
            <a:ahLst/>
            <a:rect l="l" t="t" r="r" b="b"/>
            <a:pathLst>
              <a:path w="114" h="351">
                <a:moveTo>
                  <a:pt x="114" y="0"/>
                </a:moveTo>
                <a:lnTo>
                  <a:pt x="0" y="246"/>
                </a:lnTo>
                <a:lnTo>
                  <a:pt x="96" y="175"/>
                </a:lnTo>
                <a:lnTo>
                  <a:pt x="8" y="35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7823160" y="985680"/>
            <a:ext cx="181080" cy="177840"/>
          </a:xfrm>
          <a:custGeom>
            <a:avLst/>
            <a:gdLst/>
            <a:ahLst/>
            <a:rect l="l" t="t" r="r" b="b"/>
            <a:pathLst>
              <a:path w="220" h="220">
                <a:moveTo>
                  <a:pt x="0" y="0"/>
                </a:moveTo>
                <a:lnTo>
                  <a:pt x="88" y="194"/>
                </a:lnTo>
                <a:lnTo>
                  <a:pt x="114" y="88"/>
                </a:lnTo>
                <a:lnTo>
                  <a:pt x="220" y="2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7815240" y="801720"/>
            <a:ext cx="146160" cy="85680"/>
          </a:xfrm>
          <a:custGeom>
            <a:avLst/>
            <a:gdLst/>
            <a:ahLst/>
            <a:rect l="l" t="t" r="r" b="b"/>
            <a:pathLst>
              <a:path w="176" h="105">
                <a:moveTo>
                  <a:pt x="0" y="97"/>
                </a:moveTo>
                <a:lnTo>
                  <a:pt x="71" y="26"/>
                </a:lnTo>
                <a:lnTo>
                  <a:pt x="79" y="105"/>
                </a:lnTo>
                <a:lnTo>
                  <a:pt x="1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7415280" y="844560"/>
            <a:ext cx="239760" cy="92160"/>
          </a:xfrm>
          <a:custGeom>
            <a:avLst/>
            <a:gdLst/>
            <a:ahLst/>
            <a:rect l="l" t="t" r="r" b="b"/>
            <a:pathLst>
              <a:path w="290" h="114">
                <a:moveTo>
                  <a:pt x="290" y="61"/>
                </a:moveTo>
                <a:lnTo>
                  <a:pt x="176" y="0"/>
                </a:lnTo>
                <a:lnTo>
                  <a:pt x="202" y="11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7291440" y="1774800"/>
            <a:ext cx="160200" cy="271440"/>
          </a:xfrm>
          <a:custGeom>
            <a:avLst/>
            <a:gdLst/>
            <a:ahLst/>
            <a:rect l="l" t="t" r="r" b="b"/>
            <a:pathLst>
              <a:path w="193" h="334">
                <a:moveTo>
                  <a:pt x="0" y="334"/>
                </a:moveTo>
                <a:lnTo>
                  <a:pt x="70" y="167"/>
                </a:lnTo>
                <a:lnTo>
                  <a:pt x="105" y="246"/>
                </a:lnTo>
                <a:lnTo>
                  <a:pt x="19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8164440" y="1893960"/>
            <a:ext cx="279360" cy="330120"/>
          </a:xfrm>
          <a:custGeom>
            <a:avLst/>
            <a:gdLst/>
            <a:ahLst/>
            <a:rect l="l" t="t" r="r" b="b"/>
            <a:pathLst>
              <a:path w="339" h="409">
                <a:moveTo>
                  <a:pt x="295" y="0"/>
                </a:moveTo>
                <a:lnTo>
                  <a:pt x="281" y="0"/>
                </a:lnTo>
                <a:lnTo>
                  <a:pt x="264" y="4"/>
                </a:lnTo>
                <a:lnTo>
                  <a:pt x="255" y="18"/>
                </a:lnTo>
                <a:lnTo>
                  <a:pt x="242" y="26"/>
                </a:lnTo>
                <a:lnTo>
                  <a:pt x="233" y="40"/>
                </a:lnTo>
                <a:lnTo>
                  <a:pt x="220" y="57"/>
                </a:lnTo>
                <a:lnTo>
                  <a:pt x="216" y="70"/>
                </a:lnTo>
                <a:lnTo>
                  <a:pt x="207" y="84"/>
                </a:lnTo>
                <a:lnTo>
                  <a:pt x="202" y="97"/>
                </a:lnTo>
                <a:lnTo>
                  <a:pt x="202" y="110"/>
                </a:lnTo>
                <a:lnTo>
                  <a:pt x="202" y="123"/>
                </a:lnTo>
                <a:lnTo>
                  <a:pt x="202" y="136"/>
                </a:lnTo>
                <a:lnTo>
                  <a:pt x="211" y="150"/>
                </a:lnTo>
                <a:lnTo>
                  <a:pt x="224" y="163"/>
                </a:lnTo>
                <a:lnTo>
                  <a:pt x="242" y="171"/>
                </a:lnTo>
                <a:lnTo>
                  <a:pt x="255" y="176"/>
                </a:lnTo>
                <a:lnTo>
                  <a:pt x="277" y="180"/>
                </a:lnTo>
                <a:lnTo>
                  <a:pt x="290" y="189"/>
                </a:lnTo>
                <a:lnTo>
                  <a:pt x="303" y="193"/>
                </a:lnTo>
                <a:lnTo>
                  <a:pt x="317" y="198"/>
                </a:lnTo>
                <a:lnTo>
                  <a:pt x="330" y="211"/>
                </a:lnTo>
                <a:lnTo>
                  <a:pt x="334" y="229"/>
                </a:lnTo>
                <a:lnTo>
                  <a:pt x="334" y="246"/>
                </a:lnTo>
                <a:lnTo>
                  <a:pt x="339" y="259"/>
                </a:lnTo>
                <a:lnTo>
                  <a:pt x="339" y="277"/>
                </a:lnTo>
                <a:lnTo>
                  <a:pt x="334" y="295"/>
                </a:lnTo>
                <a:lnTo>
                  <a:pt x="321" y="308"/>
                </a:lnTo>
                <a:lnTo>
                  <a:pt x="308" y="317"/>
                </a:lnTo>
                <a:lnTo>
                  <a:pt x="290" y="325"/>
                </a:lnTo>
                <a:lnTo>
                  <a:pt x="273" y="338"/>
                </a:lnTo>
                <a:lnTo>
                  <a:pt x="259" y="343"/>
                </a:lnTo>
                <a:lnTo>
                  <a:pt x="246" y="347"/>
                </a:lnTo>
                <a:lnTo>
                  <a:pt x="229" y="352"/>
                </a:lnTo>
                <a:lnTo>
                  <a:pt x="216" y="356"/>
                </a:lnTo>
                <a:lnTo>
                  <a:pt x="198" y="360"/>
                </a:lnTo>
                <a:lnTo>
                  <a:pt x="185" y="365"/>
                </a:lnTo>
                <a:lnTo>
                  <a:pt x="172" y="369"/>
                </a:lnTo>
                <a:lnTo>
                  <a:pt x="154" y="374"/>
                </a:lnTo>
                <a:lnTo>
                  <a:pt x="136" y="378"/>
                </a:lnTo>
                <a:lnTo>
                  <a:pt x="123" y="378"/>
                </a:lnTo>
                <a:lnTo>
                  <a:pt x="110" y="382"/>
                </a:lnTo>
                <a:lnTo>
                  <a:pt x="97" y="382"/>
                </a:lnTo>
                <a:lnTo>
                  <a:pt x="84" y="387"/>
                </a:lnTo>
                <a:lnTo>
                  <a:pt x="71" y="391"/>
                </a:lnTo>
                <a:lnTo>
                  <a:pt x="57" y="391"/>
                </a:lnTo>
                <a:lnTo>
                  <a:pt x="44" y="396"/>
                </a:lnTo>
                <a:lnTo>
                  <a:pt x="31" y="396"/>
                </a:lnTo>
                <a:lnTo>
                  <a:pt x="13" y="404"/>
                </a:lnTo>
                <a:lnTo>
                  <a:pt x="0" y="40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3236760" y="104616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全真中圓體"/>
              </a:rPr>
              <a:t>智慧型運輸系統執行專案架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685800" y="3200400"/>
            <a:ext cx="198108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91440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777777"/>
                </a:solidFill>
                <a:latin typeface="全真楷書"/>
                <a:ea typeface="全真楷書"/>
              </a:rPr>
              <a:t>商用車輛系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777777"/>
                </a:solidFill>
                <a:latin typeface="Times New Roman"/>
                <a:ea typeface="全真楷書"/>
              </a:rPr>
              <a:t>(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  <a:ea typeface="全真楷書"/>
              </a:rPr>
              <a:t>C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6324480" y="3200400"/>
            <a:ext cx="198144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6553080" y="35035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777777"/>
                </a:solidFill>
                <a:latin typeface="全真楷書"/>
                <a:ea typeface="全真楷書"/>
              </a:rPr>
              <a:t>先進車輛安全及控制系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777777"/>
                </a:solidFill>
                <a:latin typeface="全真楷書"/>
                <a:ea typeface="全真楷書"/>
              </a:rPr>
              <a:t>  </a:t>
            </a:r>
            <a:r>
              <a:rPr b="1" lang="zh-TW" sz="1800" spc="-1" strike="noStrike">
                <a:solidFill>
                  <a:srgbClr val="777777"/>
                </a:solidFill>
                <a:latin typeface="Times New Roman"/>
                <a:ea typeface="全真楷書"/>
              </a:rPr>
              <a:t>(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  <a:ea typeface="全真楷書"/>
              </a:rPr>
              <a:t>AVS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7620120" y="6172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"/>
          <p:cNvSpPr/>
          <p:nvPr/>
        </p:nvSpPr>
        <p:spPr>
          <a:xfrm>
            <a:off x="906480" y="901800"/>
            <a:ext cx="722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想一：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推動</a:t>
            </a:r>
            <a:r>
              <a:rPr b="0" lang="en-US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ITS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運輸系統應用性專案計畫，提升既有運輸系統運作效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1346040" y="2109960"/>
            <a:ext cx="6348600" cy="22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推動城際高快速公路系統智慧化專案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推動都會區交通系統智慧化專案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推動大眾運輸系統智慧化專案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推動商用運輸系統智慧化專案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0" y="0"/>
            <a:ext cx="350532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d3a8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目標六：建立智慧化之交通運輸環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4038480" y="6172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"/>
          <p:cNvSpPr/>
          <p:nvPr/>
        </p:nvSpPr>
        <p:spPr>
          <a:xfrm>
            <a:off x="692280" y="687240"/>
            <a:ext cx="70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想二：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加強發展</a:t>
            </a:r>
            <a:r>
              <a:rPr b="0" lang="en-US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ITS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共通技術平台專案，俾利未來系統的整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692280" y="3848040"/>
            <a:ext cx="70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構想三：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繼續辦理</a:t>
            </a:r>
            <a:r>
              <a:rPr b="0" lang="en-US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ITS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推廣專案，以期全面推動</a:t>
            </a:r>
            <a:r>
              <a:rPr b="0" lang="en-US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ITS</a:t>
            </a:r>
            <a:r>
              <a:rPr b="0" lang="zh-TW" sz="2800" spc="-1" strike="noStrike">
                <a:solidFill>
                  <a:srgbClr val="cc3300"/>
                </a:solidFill>
                <a:latin typeface="華康粗圓體"/>
                <a:ea typeface="華康粗圓體"/>
              </a:rPr>
              <a:t>發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1077840" y="1803240"/>
            <a:ext cx="64645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發展</a:t>
            </a:r>
            <a:r>
              <a:rPr b="0" lang="en-US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ITS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通信與資訊發展平台專案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發展用路者資訊服務系統智慧化專案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發展交通路網數值地圖建置專案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1038240" y="4842000"/>
            <a:ext cx="65041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進行教育推廣與國際合作專案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69960" indent="-289080" algn="just">
              <a:lnSpc>
                <a:spcPct val="110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辦理其他先期研究、調查、實驗專案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0" y="0"/>
            <a:ext cx="350532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d3a8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目標六：建立智慧化之交通運輸環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4038480" y="624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2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u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"/>
          <p:cNvSpPr/>
          <p:nvPr/>
        </p:nvSpPr>
        <p:spPr>
          <a:xfrm>
            <a:off x="1066680" y="2541600"/>
            <a:ext cx="704556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291960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1.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西部走廊建設完成兩條南北高速公路、一條西濱快速公路、十二條東西向快速公路及二高四條環支線，可構成便捷的高快速公路網。再配合連繫各生活圈公路系統之改善與興建，整體公路網已然形成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291960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2.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從北到南各大都市之間，民眾可選擇搭乘飛機或高速鐵路於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50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分鐘或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90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分鐘內抵達各中心都市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685800" y="129528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b50069"/>
                </a:solidFill>
                <a:uFillTx/>
                <a:latin typeface="華康粗圓體"/>
                <a:ea typeface="華康粗圓體"/>
              </a:rPr>
              <a:t>國內運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1488960" y="1941480"/>
            <a:ext cx="42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289080" algn="ctr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華康粗圓體"/>
                <a:ea typeface="華康粗圓體"/>
              </a:rPr>
              <a:t>旅客運輸方面</a:t>
            </a:r>
            <a:r>
              <a:rPr b="0" lang="zh-TW" sz="2800" spc="-1" strike="noStrike">
                <a:solidFill>
                  <a:srgbClr val="0000ff"/>
                </a:solidFill>
                <a:latin typeface="華康粗圓體"/>
                <a:ea typeface="華康粗圓體"/>
              </a:rPr>
              <a:t>(</a:t>
            </a:r>
            <a:r>
              <a:rPr b="0" lang="zh-TW" sz="2800" spc="-1" strike="noStrike">
                <a:solidFill>
                  <a:srgbClr val="0000ff"/>
                </a:solidFill>
                <a:latin typeface="華康粗圓體"/>
                <a:ea typeface="華康粗圓體"/>
              </a:rPr>
              <a:t>展望</a:t>
            </a:r>
            <a:r>
              <a:rPr b="0" lang="zh-TW" sz="2800" spc="-1" strike="noStrike">
                <a:solidFill>
                  <a:srgbClr val="0000ff"/>
                </a:solidFill>
                <a:latin typeface="華康粗圓體"/>
                <a:ea typeface="華康粗圓體"/>
              </a:rPr>
              <a:t>21</a:t>
            </a:r>
            <a:r>
              <a:rPr b="0" lang="zh-TW" sz="2800" spc="-1" strike="noStrike">
                <a:solidFill>
                  <a:srgbClr val="0000ff"/>
                </a:solidFill>
                <a:latin typeface="華康粗圓體"/>
                <a:ea typeface="華康粗圓體"/>
              </a:rPr>
              <a:t>世紀初</a:t>
            </a:r>
            <a:r>
              <a:rPr b="0" lang="zh-TW" sz="2800" spc="-1" strike="noStrike">
                <a:solidFill>
                  <a:srgbClr val="0000ff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1905120" y="6541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五、跨世紀之發展願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跨世紀運輸政策與建設方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3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"/>
          <p:cNvSpPr/>
          <p:nvPr/>
        </p:nvSpPr>
        <p:spPr>
          <a:xfrm>
            <a:off x="762120" y="6858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b50069"/>
                </a:solidFill>
                <a:uFillTx/>
                <a:latin typeface="華康粗圓體"/>
                <a:ea typeface="華康粗圓體"/>
              </a:rPr>
              <a:t>國內運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990720" y="1547640"/>
            <a:ext cx="731520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9960" indent="-669960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3.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高速鐵路未來將為西部走廊客運主軸，各車站搭配台鐵、都會區捷運系統與輕軌及公車系統接駁，構成大眾運輸服務網，民眾可選擇不開車，而有便利的及戶服務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  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4.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傳統鐵路因高速鐵路之投入服務，西部地區將轉而作為區域內通勤交通工具及貨運服務，其他路廊仍為主要長程客貨運具。同時，台鐵於民國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91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年車路分離後，完成民營化，將有助於經營效率及服務品質之提升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跨世紀運輸政策與建設方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4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"/>
          <p:cNvSpPr/>
          <p:nvPr/>
        </p:nvSpPr>
        <p:spPr>
          <a:xfrm>
            <a:off x="1473120" y="1932120"/>
            <a:ext cx="65278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 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1. 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以高快速公路及傳統鐵路作為城際運輸之主幹，配合三大都會區快速道路網及區域內之公路網，將可構成綿密的貨物運輸網路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 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2. 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台灣鐵路複合運輸服務公司之順利運作，可刺激台鐵貨運服務，同時更可減緩公路貨櫃南北運對公路交通之干擾，海陸聯運多一選擇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838080" y="60948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b50069"/>
                </a:solidFill>
                <a:uFillTx/>
                <a:latin typeface="華康粗圓體"/>
                <a:ea typeface="華康粗圓體"/>
              </a:rPr>
              <a:t>國內運輸</a:t>
            </a:r>
            <a:r>
              <a:rPr b="0" lang="zh-TW" sz="3000" spc="-1" strike="noStrike" u="sng">
                <a:solidFill>
                  <a:srgbClr val="000000"/>
                </a:solidFill>
                <a:uFillTx/>
                <a:latin typeface="華康粗圓體"/>
                <a:ea typeface="華康粗圓體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1621080" y="1268280"/>
            <a:ext cx="19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289080" algn="ctr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華康粗圓體"/>
                <a:ea typeface="華康粗圓體"/>
              </a:rPr>
              <a:t>貨物運輸方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跨世紀運輸政策與建設方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5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"/>
          <p:cNvSpPr/>
          <p:nvPr/>
        </p:nvSpPr>
        <p:spPr>
          <a:xfrm>
            <a:off x="685800" y="89856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 u="sng">
                <a:solidFill>
                  <a:srgbClr val="b50069"/>
                </a:solidFill>
                <a:uFillTx/>
                <a:latin typeface="華康粗圓體"/>
                <a:ea typeface="華康粗圓體"/>
              </a:rPr>
              <a:t>國際運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990720" y="1649520"/>
            <a:ext cx="723888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1.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中正機場航空城、第二客運航廈、第二貨運站以及 </a:t>
            </a:r>
            <a:r>
              <a:rPr b="0" lang="en-US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UPS 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與 </a:t>
            </a:r>
            <a:r>
              <a:rPr b="0" lang="en-US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FedEx 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之加入服務，可大幅提昇我國國際客貨空運品質，國人可同享便利與發展之成果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2.</a:t>
            </a:r>
            <a:r>
              <a:rPr b="0" lang="zh-TW" sz="2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國際港埠容量的擴充，加上航港體制之改革與部份作業民營化，及我國對商港建設費及相關規定之放寬，可大幅提昇商港競爭力，有助國家整體競爭力之提昇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跨世紀運輸政策與建設方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6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"/>
          <p:cNvSpPr/>
          <p:nvPr/>
        </p:nvSpPr>
        <p:spPr>
          <a:xfrm>
            <a:off x="91440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2040" indent="-392040"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我國於邁入二十一世紀希望成為現代化開發國家，其關鍵不僅在於國家整體是否有足夠的競爭力，以屹立於此一多變、既合作又競爭的國際社會中，更在於民眾是否滿意政府所提供之各項設施與服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392040"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「跨世紀運輸政策與建設方案」是我們對運輸系統現代化的政策方向與行動方案，為我國跨世紀時的運輸發展擘劃實踐的藍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跨世紀運輸政策與建設方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2971800" y="6094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六、結    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7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"/>
          <p:cNvSpPr/>
          <p:nvPr/>
        </p:nvSpPr>
        <p:spPr>
          <a:xfrm>
            <a:off x="1219320" y="1298520"/>
            <a:ext cx="685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2040" indent="-392040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我們的目標就是 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 致力提升國家整體競爭力、增進民眾「行」的服務品質、強化並確保全民運輸的安全、促進環境永續的發展、以及充分的運用與研發運輸新科技，以為國家之進步與發展提供最有力的保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跨世紀運輸政策與建設方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8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76520" y="2228760"/>
            <a:ext cx="5867280" cy="1352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6969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99"/>
                </a:solidFill>
                <a:latin typeface="全真顏體"/>
                <a:ea typeface="全真顏體"/>
              </a:rPr>
              <a:t>貳、辦理方式與進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5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"/>
          <p:cNvSpPr/>
          <p:nvPr/>
        </p:nvSpPr>
        <p:spPr>
          <a:xfrm>
            <a:off x="2286000" y="22096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詳如附錄，請各機關首長審視是否已符合各局處單位之政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1752480" y="11113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七、各機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(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單位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)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施政計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0" y="0"/>
            <a:ext cx="26668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跨世紀運輸政策與建設方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29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"/>
          <p:cNvSpPr/>
          <p:nvPr/>
        </p:nvSpPr>
        <p:spPr>
          <a:xfrm>
            <a:off x="1676520" y="2209680"/>
            <a:ext cx="6019560" cy="1447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6969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99"/>
                </a:solidFill>
                <a:latin typeface="全真顏體"/>
                <a:ea typeface="全真顏體"/>
              </a:rPr>
              <a:t>肆、推動方式研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30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0" name=""/>
          <p:cNvGraphicFramePr/>
          <p:nvPr/>
        </p:nvGraphicFramePr>
        <p:xfrm>
          <a:off x="228600" y="685800"/>
          <a:ext cx="8534520" cy="57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53452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2" name=""/>
          <p:cNvSpPr/>
          <p:nvPr/>
        </p:nvSpPr>
        <p:spPr>
          <a:xfrm>
            <a:off x="8763120" y="6858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2590920" y="22860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各機關</a:t>
            </a:r>
            <a:r>
              <a:rPr b="1" lang="zh-TW" sz="1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單位</a:t>
            </a:r>
            <a:r>
              <a:rPr b="1" lang="zh-TW" sz="1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提報計畫分類統計表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31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5" name=""/>
          <p:cNvGraphicFramePr/>
          <p:nvPr/>
        </p:nvGraphicFramePr>
        <p:xfrm>
          <a:off x="457200" y="590400"/>
          <a:ext cx="8077320" cy="58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90400"/>
                    <a:ext cx="8077320" cy="58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7" name=""/>
          <p:cNvSpPr/>
          <p:nvPr/>
        </p:nvSpPr>
        <p:spPr>
          <a:xfrm>
            <a:off x="8534520" y="609480"/>
            <a:ext cx="0" cy="563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2514600" y="1666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各機關</a:t>
            </a:r>
            <a:r>
              <a:rPr b="1" lang="zh-TW" sz="1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單位</a:t>
            </a:r>
            <a:r>
              <a:rPr b="1" lang="zh-TW" sz="1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提報計畫年度經費統計表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32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1" name=""/>
          <p:cNvGrpSpPr/>
          <p:nvPr/>
        </p:nvGrpSpPr>
        <p:grpSpPr>
          <a:xfrm>
            <a:off x="581400" y="380880"/>
            <a:ext cx="6908400" cy="5103000"/>
            <a:chOff x="581400" y="380880"/>
            <a:chExt cx="6908400" cy="5103000"/>
          </a:xfrm>
        </p:grpSpPr>
        <p:sp>
          <p:nvSpPr>
            <p:cNvPr id="2952" name=""/>
            <p:cNvSpPr/>
            <p:nvPr/>
          </p:nvSpPr>
          <p:spPr>
            <a:xfrm>
              <a:off x="1673280" y="1400040"/>
              <a:ext cx="5815080" cy="364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1673280" y="4437000"/>
              <a:ext cx="5815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1673280" y="3832200"/>
              <a:ext cx="5815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1673280" y="3225960"/>
              <a:ext cx="5815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1673280" y="2611440"/>
              <a:ext cx="5815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1673280" y="2006640"/>
              <a:ext cx="5815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1673280" y="1400040"/>
              <a:ext cx="5815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1673280" y="1400040"/>
              <a:ext cx="5815080" cy="36435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1673280" y="1400040"/>
              <a:ext cx="1440" cy="364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1673280" y="5043600"/>
              <a:ext cx="6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1673280" y="4437000"/>
              <a:ext cx="60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1673280" y="3832200"/>
              <a:ext cx="6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1673280" y="3225960"/>
              <a:ext cx="6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1673280" y="2611440"/>
              <a:ext cx="6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1673280" y="2006640"/>
              <a:ext cx="6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1673280" y="1400040"/>
              <a:ext cx="60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1673280" y="5043600"/>
              <a:ext cx="5815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V="1">
              <a:off x="1673280" y="498312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V="1">
              <a:off x="2505240" y="498312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 flipV="1">
              <a:off x="3336840" y="498312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 flipV="1">
              <a:off x="4168800" y="498312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 flipV="1">
              <a:off x="4992840" y="498312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 flipV="1">
              <a:off x="5824440" y="498312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 flipV="1">
              <a:off x="6656400" y="498312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 flipV="1">
              <a:off x="7488360" y="498312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488360" y="1400040"/>
              <a:ext cx="1440" cy="364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7427880" y="504360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427880" y="4437000"/>
              <a:ext cx="6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427880" y="383220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7427880" y="322596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7427880" y="261144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427880" y="2006640"/>
              <a:ext cx="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7427880" y="1400040"/>
              <a:ext cx="6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1256040" y="4975200"/>
              <a:ext cx="5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1199880" y="436896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1067400" y="376380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1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1067400" y="31575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1,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1067400" y="25430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2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1067400" y="19382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2,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1067400" y="133200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3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1986840" y="527040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8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2818800" y="527040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8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3650400" y="527040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8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482360" y="527040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8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307840" y="527040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8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6139800" y="527040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8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6971400" y="527040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新細明體"/>
                </a:rPr>
                <a:t>8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581400" y="1515600"/>
              <a:ext cx="485280" cy="35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運輸部門總經費（億元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2379240" y="380880"/>
              <a:ext cx="45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華康粗圓體"/>
                </a:rPr>
                <a:t>政府重要經建投資計畫－運輸部門經費需求及核定情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1" name=""/>
          <p:cNvGrpSpPr/>
          <p:nvPr/>
        </p:nvGrpSpPr>
        <p:grpSpPr>
          <a:xfrm>
            <a:off x="1498320" y="1747800"/>
            <a:ext cx="5377320" cy="4781520"/>
            <a:chOff x="1498320" y="1747800"/>
            <a:chExt cx="5377320" cy="4781520"/>
          </a:xfrm>
        </p:grpSpPr>
        <p:sp>
          <p:nvSpPr>
            <p:cNvPr id="3002" name=""/>
            <p:cNvSpPr/>
            <p:nvPr/>
          </p:nvSpPr>
          <p:spPr>
            <a:xfrm>
              <a:off x="1764000" y="3362040"/>
              <a:ext cx="128520" cy="168120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2595600" y="2635200"/>
              <a:ext cx="128880" cy="240804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3427560" y="1976400"/>
              <a:ext cx="128520" cy="306684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259520" y="1747800"/>
              <a:ext cx="128520" cy="329544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5083200" y="2307960"/>
              <a:ext cx="128880" cy="273528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915160" y="2808000"/>
              <a:ext cx="128520" cy="223524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747120" y="2876400"/>
              <a:ext cx="128520" cy="216684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1498320" y="5573520"/>
              <a:ext cx="6670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主辦機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1521000" y="5902200"/>
              <a:ext cx="209520" cy="2476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1" name=""/>
          <p:cNvGrpSpPr/>
          <p:nvPr/>
        </p:nvGrpSpPr>
        <p:grpSpPr>
          <a:xfrm>
            <a:off x="1892160" y="1990800"/>
            <a:ext cx="5111640" cy="4542840"/>
            <a:chOff x="1892160" y="1990800"/>
            <a:chExt cx="5111640" cy="4542840"/>
          </a:xfrm>
        </p:grpSpPr>
        <p:sp>
          <p:nvSpPr>
            <p:cNvPr id="3012" name=""/>
            <p:cNvSpPr/>
            <p:nvPr/>
          </p:nvSpPr>
          <p:spPr>
            <a:xfrm>
              <a:off x="1892160" y="3370320"/>
              <a:ext cx="128520" cy="167256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2724120" y="2673360"/>
              <a:ext cx="128520" cy="2369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3555720" y="1990800"/>
              <a:ext cx="128520" cy="305244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387680" y="2460600"/>
              <a:ext cx="128520" cy="258228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5211720" y="2512800"/>
              <a:ext cx="128520" cy="253008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043320" y="3036600"/>
              <a:ext cx="128880" cy="200628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875280" y="3278160"/>
              <a:ext cx="128520" cy="17647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2435040" y="5900760"/>
              <a:ext cx="209520" cy="24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2407680" y="5572080"/>
              <a:ext cx="667080" cy="9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主管機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1" name=""/>
          <p:cNvGrpSpPr/>
          <p:nvPr/>
        </p:nvGrpSpPr>
        <p:grpSpPr>
          <a:xfrm>
            <a:off x="2021040" y="1982880"/>
            <a:ext cx="5111640" cy="4499640"/>
            <a:chOff x="2021040" y="1982880"/>
            <a:chExt cx="5111640" cy="4499640"/>
          </a:xfrm>
        </p:grpSpPr>
        <p:sp>
          <p:nvSpPr>
            <p:cNvPr id="3022" name=""/>
            <p:cNvSpPr/>
            <p:nvPr/>
          </p:nvSpPr>
          <p:spPr>
            <a:xfrm>
              <a:off x="2021040" y="3764160"/>
              <a:ext cx="128520" cy="127944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2853000" y="2748240"/>
              <a:ext cx="128520" cy="229536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3684600" y="1982880"/>
              <a:ext cx="128880" cy="30607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516560" y="2772000"/>
              <a:ext cx="120600" cy="227160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340600" y="4059360"/>
              <a:ext cx="128520" cy="98424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172560" y="3103920"/>
              <a:ext cx="128520" cy="193968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004160" y="4134240"/>
              <a:ext cx="128520" cy="90936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3254400" y="5905800"/>
              <a:ext cx="209880" cy="2476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3470760" y="5560560"/>
              <a:ext cx="42372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經建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1" name=""/>
          <p:cNvGrpSpPr/>
          <p:nvPr/>
        </p:nvGrpSpPr>
        <p:grpSpPr>
          <a:xfrm>
            <a:off x="2149560" y="2763720"/>
            <a:ext cx="5111280" cy="3702600"/>
            <a:chOff x="2149560" y="2763720"/>
            <a:chExt cx="5111280" cy="3702600"/>
          </a:xfrm>
        </p:grpSpPr>
        <p:sp>
          <p:nvSpPr>
            <p:cNvPr id="3032" name=""/>
            <p:cNvSpPr/>
            <p:nvPr/>
          </p:nvSpPr>
          <p:spPr>
            <a:xfrm>
              <a:off x="2149560" y="3854160"/>
              <a:ext cx="128160" cy="11890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2981160" y="3187440"/>
              <a:ext cx="128160" cy="185580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3813120" y="2763720"/>
              <a:ext cx="128160" cy="227952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636800" y="2778120"/>
              <a:ext cx="128520" cy="226512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468760" y="3755880"/>
              <a:ext cx="128160" cy="128736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300720" y="3233520"/>
              <a:ext cx="128160" cy="180972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7132320" y="4165560"/>
              <a:ext cx="128520" cy="8776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006800" y="5900760"/>
              <a:ext cx="209160" cy="2476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227120" y="5544360"/>
              <a:ext cx="42372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行政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2278080" y="3263760"/>
            <a:ext cx="5111280" cy="3207240"/>
            <a:chOff x="2278080" y="3263760"/>
            <a:chExt cx="5111280" cy="3207240"/>
          </a:xfrm>
        </p:grpSpPr>
        <p:sp>
          <p:nvSpPr>
            <p:cNvPr id="3042" name=""/>
            <p:cNvSpPr/>
            <p:nvPr/>
          </p:nvSpPr>
          <p:spPr>
            <a:xfrm>
              <a:off x="4787640" y="5900760"/>
              <a:ext cx="214200" cy="2491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2278080" y="4467240"/>
              <a:ext cx="128520" cy="57600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3109680" y="3263760"/>
              <a:ext cx="128160" cy="177948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3941640" y="3573360"/>
              <a:ext cx="128160" cy="146988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765680" y="3286080"/>
              <a:ext cx="128160" cy="175716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597280" y="3922560"/>
              <a:ext cx="128160" cy="112068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429240" y="3400200"/>
              <a:ext cx="128160" cy="164304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261200" y="4376520"/>
              <a:ext cx="128160" cy="6667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5008320" y="5549040"/>
              <a:ext cx="423720" cy="9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立法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2021040" y="1332000"/>
            <a:ext cx="6665040" cy="5297400"/>
            <a:chOff x="2021040" y="1332000"/>
            <a:chExt cx="6665040" cy="5297400"/>
          </a:xfrm>
        </p:grpSpPr>
        <p:grpSp>
          <p:nvGrpSpPr>
            <p:cNvPr id="3052" name=""/>
            <p:cNvGrpSpPr/>
            <p:nvPr/>
          </p:nvGrpSpPr>
          <p:grpSpPr>
            <a:xfrm>
              <a:off x="2021040" y="1332000"/>
              <a:ext cx="6665040" cy="3856680"/>
              <a:chOff x="2021040" y="1332000"/>
              <a:chExt cx="6665040" cy="3856680"/>
            </a:xfrm>
          </p:grpSpPr>
          <p:grpSp>
            <p:nvGrpSpPr>
              <p:cNvPr id="3053" name=""/>
              <p:cNvGrpSpPr/>
              <p:nvPr/>
            </p:nvGrpSpPr>
            <p:grpSpPr>
              <a:xfrm>
                <a:off x="7589160" y="1332000"/>
                <a:ext cx="1096920" cy="3856680"/>
                <a:chOff x="7589160" y="1332000"/>
                <a:chExt cx="1096920" cy="3856680"/>
              </a:xfrm>
            </p:grpSpPr>
            <p:sp>
              <p:nvSpPr>
                <p:cNvPr id="3054" name=""/>
                <p:cNvSpPr/>
                <p:nvPr/>
              </p:nvSpPr>
              <p:spPr>
                <a:xfrm>
                  <a:off x="7597800" y="4975200"/>
                  <a:ext cx="5022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新細明體"/>
                    </a:rPr>
                    <a:t>0.00%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7589160" y="4368600"/>
                  <a:ext cx="6040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新細明體"/>
                    </a:rPr>
                    <a:t>15.00%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7589160" y="3763800"/>
                  <a:ext cx="6040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新細明體"/>
                    </a:rPr>
                    <a:t>30.00%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7589160" y="3157560"/>
                  <a:ext cx="6040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新細明體"/>
                    </a:rPr>
                    <a:t>45.00%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7589160" y="2543040"/>
                  <a:ext cx="6040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新細明體"/>
                    </a:rPr>
                    <a:t>60.00%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7589160" y="1938240"/>
                  <a:ext cx="6040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新細明體"/>
                    </a:rPr>
                    <a:t>75.00%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7589160" y="1332000"/>
                  <a:ext cx="6040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新細明體"/>
                    </a:rPr>
                    <a:t>90.00%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8200800" y="2622960"/>
                  <a:ext cx="485280" cy="113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  <a:ea typeface="標楷體"/>
                    </a:rPr>
                    <a:t>百分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2" name=""/>
              <p:cNvGrpSpPr/>
              <p:nvPr/>
            </p:nvGrpSpPr>
            <p:grpSpPr>
              <a:xfrm>
                <a:off x="2021040" y="1982520"/>
                <a:ext cx="5110920" cy="1879200"/>
                <a:chOff x="2021040" y="1982520"/>
                <a:chExt cx="5110920" cy="1879200"/>
              </a:xfrm>
            </p:grpSpPr>
            <p:sp>
              <p:nvSpPr>
                <p:cNvPr id="3063" name=""/>
                <p:cNvSpPr/>
                <p:nvPr/>
              </p:nvSpPr>
              <p:spPr>
                <a:xfrm flipV="1">
                  <a:off x="3752640" y="2883960"/>
                  <a:ext cx="831600" cy="21888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 flipV="1">
                  <a:off x="5408280" y="2058120"/>
                  <a:ext cx="831600" cy="131724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65" name=""/>
                <p:cNvGrpSpPr/>
                <p:nvPr/>
              </p:nvGrpSpPr>
              <p:grpSpPr>
                <a:xfrm>
                  <a:off x="2021040" y="1982520"/>
                  <a:ext cx="5110920" cy="1879200"/>
                  <a:chOff x="2021040" y="1982520"/>
                  <a:chExt cx="5110920" cy="1879200"/>
                </a:xfrm>
              </p:grpSpPr>
              <p:sp>
                <p:nvSpPr>
                  <p:cNvPr id="3066" name=""/>
                  <p:cNvSpPr/>
                  <p:nvPr/>
                </p:nvSpPr>
                <p:spPr>
                  <a:xfrm flipV="1">
                    <a:off x="2089080" y="2050560"/>
                    <a:ext cx="831240" cy="1606320"/>
                  </a:xfrm>
                  <a:prstGeom prst="line">
                    <a:avLst/>
                  </a:prstGeom>
                  <a:ln w="223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7" name=""/>
                  <p:cNvSpPr/>
                  <p:nvPr/>
                </p:nvSpPr>
                <p:spPr>
                  <a:xfrm>
                    <a:off x="2920680" y="2050560"/>
                    <a:ext cx="831600" cy="1052280"/>
                  </a:xfrm>
                  <a:prstGeom prst="line">
                    <a:avLst/>
                  </a:prstGeom>
                  <a:ln w="223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8" name=""/>
                  <p:cNvSpPr/>
                  <p:nvPr/>
                </p:nvSpPr>
                <p:spPr>
                  <a:xfrm>
                    <a:off x="4584600" y="2883960"/>
                    <a:ext cx="823320" cy="491760"/>
                  </a:xfrm>
                  <a:prstGeom prst="line">
                    <a:avLst/>
                  </a:prstGeom>
                  <a:ln w="223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9" name=""/>
                  <p:cNvSpPr/>
                  <p:nvPr/>
                </p:nvSpPr>
                <p:spPr>
                  <a:xfrm>
                    <a:off x="6240240" y="2058480"/>
                    <a:ext cx="831600" cy="1741320"/>
                  </a:xfrm>
                  <a:prstGeom prst="line">
                    <a:avLst/>
                  </a:prstGeom>
                  <a:ln w="223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0" name=""/>
                  <p:cNvSpPr/>
                  <p:nvPr/>
                </p:nvSpPr>
                <p:spPr>
                  <a:xfrm>
                    <a:off x="2021040" y="3588840"/>
                    <a:ext cx="128160" cy="128160"/>
                  </a:xfrm>
                  <a:prstGeom prst="rect">
                    <a:avLst/>
                  </a:prstGeom>
                  <a:solidFill>
                    <a:srgbClr val="0000ff"/>
                  </a:solidFill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1" name=""/>
                  <p:cNvSpPr/>
                  <p:nvPr/>
                </p:nvSpPr>
                <p:spPr>
                  <a:xfrm>
                    <a:off x="2852640" y="1982520"/>
                    <a:ext cx="128160" cy="128520"/>
                  </a:xfrm>
                  <a:prstGeom prst="rect">
                    <a:avLst/>
                  </a:prstGeom>
                  <a:solidFill>
                    <a:srgbClr val="0000ff"/>
                  </a:solidFill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2" name=""/>
                  <p:cNvSpPr/>
                  <p:nvPr/>
                </p:nvSpPr>
                <p:spPr>
                  <a:xfrm>
                    <a:off x="3684240" y="3036240"/>
                    <a:ext cx="128520" cy="128520"/>
                  </a:xfrm>
                  <a:prstGeom prst="rect">
                    <a:avLst/>
                  </a:prstGeom>
                  <a:solidFill>
                    <a:srgbClr val="0000ff"/>
                  </a:solidFill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3" name=""/>
                  <p:cNvSpPr/>
                  <p:nvPr/>
                </p:nvSpPr>
                <p:spPr>
                  <a:xfrm>
                    <a:off x="4516200" y="2815920"/>
                    <a:ext cx="128160" cy="128160"/>
                  </a:xfrm>
                  <a:prstGeom prst="rect">
                    <a:avLst/>
                  </a:prstGeom>
                  <a:solidFill>
                    <a:srgbClr val="0000ff"/>
                  </a:solidFill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4" name=""/>
                  <p:cNvSpPr/>
                  <p:nvPr/>
                </p:nvSpPr>
                <p:spPr>
                  <a:xfrm>
                    <a:off x="5340240" y="3308040"/>
                    <a:ext cx="128160" cy="128160"/>
                  </a:xfrm>
                  <a:prstGeom prst="rect">
                    <a:avLst/>
                  </a:prstGeom>
                  <a:solidFill>
                    <a:srgbClr val="0000ff"/>
                  </a:solidFill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5" name=""/>
                  <p:cNvSpPr/>
                  <p:nvPr/>
                </p:nvSpPr>
                <p:spPr>
                  <a:xfrm>
                    <a:off x="6172200" y="1990080"/>
                    <a:ext cx="128160" cy="128520"/>
                  </a:xfrm>
                  <a:prstGeom prst="rect">
                    <a:avLst/>
                  </a:prstGeom>
                  <a:solidFill>
                    <a:srgbClr val="0000ff"/>
                  </a:solidFill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6" name=""/>
                  <p:cNvSpPr/>
                  <p:nvPr/>
                </p:nvSpPr>
                <p:spPr>
                  <a:xfrm>
                    <a:off x="7003800" y="3733200"/>
                    <a:ext cx="128160" cy="128520"/>
                  </a:xfrm>
                  <a:prstGeom prst="rect">
                    <a:avLst/>
                  </a:prstGeom>
                  <a:solidFill>
                    <a:srgbClr val="0000ff"/>
                  </a:solidFill>
                  <a:ln w="79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077" name=""/>
            <p:cNvSpPr/>
            <p:nvPr/>
          </p:nvSpPr>
          <p:spPr>
            <a:xfrm>
              <a:off x="5587920" y="6026040"/>
              <a:ext cx="5709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160320" y="5431680"/>
              <a:ext cx="667080" cy="11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立法院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列百分比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9" name=""/>
          <p:cNvGrpSpPr/>
          <p:nvPr/>
        </p:nvGrpSpPr>
        <p:grpSpPr>
          <a:xfrm>
            <a:off x="2021040" y="3498840"/>
            <a:ext cx="6247800" cy="3127680"/>
            <a:chOff x="2021040" y="3498840"/>
            <a:chExt cx="6247800" cy="3127680"/>
          </a:xfrm>
        </p:grpSpPr>
        <p:grpSp>
          <p:nvGrpSpPr>
            <p:cNvPr id="3080" name=""/>
            <p:cNvGrpSpPr/>
            <p:nvPr/>
          </p:nvGrpSpPr>
          <p:grpSpPr>
            <a:xfrm>
              <a:off x="2021040" y="3498840"/>
              <a:ext cx="5110920" cy="931680"/>
              <a:chOff x="2021040" y="3498840"/>
              <a:chExt cx="5110920" cy="931680"/>
            </a:xfrm>
          </p:grpSpPr>
          <p:sp>
            <p:nvSpPr>
              <p:cNvPr id="3081" name=""/>
              <p:cNvSpPr/>
              <p:nvPr/>
            </p:nvSpPr>
            <p:spPr>
              <a:xfrm flipV="1">
                <a:off x="2089080" y="3990960"/>
                <a:ext cx="831240" cy="2109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 flipV="1">
                <a:off x="2920680" y="3566880"/>
                <a:ext cx="831600" cy="4240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3752640" y="3566880"/>
                <a:ext cx="831600" cy="446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4584600" y="3611520"/>
                <a:ext cx="823320" cy="6141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V="1">
                <a:off x="5408280" y="3892320"/>
                <a:ext cx="831600" cy="333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240240" y="3892320"/>
                <a:ext cx="831600" cy="476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2021040" y="4133880"/>
                <a:ext cx="128160" cy="129960"/>
              </a:xfrm>
              <a:prstGeom prst="ellipse">
                <a:avLst/>
              </a:prstGeom>
              <a:solidFill>
                <a:srgbClr val="ff0000"/>
              </a:solidFill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2852640" y="3922560"/>
                <a:ext cx="128160" cy="128520"/>
              </a:xfrm>
              <a:prstGeom prst="ellipse">
                <a:avLst/>
              </a:prstGeom>
              <a:solidFill>
                <a:srgbClr val="ff0000"/>
              </a:solidFill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684240" y="3498840"/>
                <a:ext cx="128520" cy="128520"/>
              </a:xfrm>
              <a:prstGeom prst="ellipse">
                <a:avLst/>
              </a:prstGeom>
              <a:solidFill>
                <a:srgbClr val="ff0000"/>
              </a:solidFill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4516200" y="3543120"/>
                <a:ext cx="128160" cy="128520"/>
              </a:xfrm>
              <a:prstGeom prst="ellipse">
                <a:avLst/>
              </a:prstGeom>
              <a:solidFill>
                <a:srgbClr val="ff0000"/>
              </a:solidFill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340240" y="4157640"/>
                <a:ext cx="128160" cy="128520"/>
              </a:xfrm>
              <a:prstGeom prst="ellipse">
                <a:avLst/>
              </a:prstGeom>
              <a:solidFill>
                <a:srgbClr val="ff0000"/>
              </a:solidFill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172200" y="3824280"/>
                <a:ext cx="128160" cy="128520"/>
              </a:xfrm>
              <a:prstGeom prst="ellipse">
                <a:avLst/>
              </a:prstGeom>
              <a:solidFill>
                <a:srgbClr val="ff0000"/>
              </a:solidFill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003800" y="4300560"/>
                <a:ext cx="128160" cy="129960"/>
              </a:xfrm>
              <a:prstGeom prst="ellipse">
                <a:avLst/>
              </a:prstGeom>
              <a:solidFill>
                <a:srgbClr val="ff0000"/>
              </a:solidFill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4" name=""/>
            <p:cNvSpPr/>
            <p:nvPr/>
          </p:nvSpPr>
          <p:spPr>
            <a:xfrm>
              <a:off x="7016760" y="6026040"/>
              <a:ext cx="5900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7601760" y="5428800"/>
              <a:ext cx="667080" cy="11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佔政府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全真楷書"/>
                </a:rPr>
                <a:t>預算比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6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33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34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0" y="0"/>
            <a:ext cx="167652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推動方式研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1905120" y="685800"/>
            <a:ext cx="4114800" cy="66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跨世紀運輸政策與建設方案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0" name=""/>
          <p:cNvGrpSpPr/>
          <p:nvPr/>
        </p:nvGrpSpPr>
        <p:grpSpPr>
          <a:xfrm>
            <a:off x="1600200" y="1828800"/>
            <a:ext cx="4800240" cy="380880"/>
            <a:chOff x="1600200" y="1828800"/>
            <a:chExt cx="4800240" cy="380880"/>
          </a:xfrm>
        </p:grpSpPr>
        <p:sp>
          <p:nvSpPr>
            <p:cNvPr id="3101" name=""/>
            <p:cNvSpPr/>
            <p:nvPr/>
          </p:nvSpPr>
          <p:spPr>
            <a:xfrm>
              <a:off x="1600200" y="18288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1600200" y="1828800"/>
              <a:ext cx="480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400440" y="18288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4" name=""/>
          <p:cNvSpPr/>
          <p:nvPr/>
        </p:nvSpPr>
        <p:spPr>
          <a:xfrm>
            <a:off x="5486400" y="2212920"/>
            <a:ext cx="1905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建設計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838080" y="2209680"/>
            <a:ext cx="16002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政策方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6400800" y="2666880"/>
            <a:ext cx="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7" name=""/>
          <p:cNvGrpSpPr/>
          <p:nvPr/>
        </p:nvGrpSpPr>
        <p:grpSpPr>
          <a:xfrm>
            <a:off x="5486400" y="2971800"/>
            <a:ext cx="1905120" cy="285840"/>
            <a:chOff x="5486400" y="2971800"/>
            <a:chExt cx="1905120" cy="285840"/>
          </a:xfrm>
        </p:grpSpPr>
        <p:sp>
          <p:nvSpPr>
            <p:cNvPr id="3108" name=""/>
            <p:cNvSpPr/>
            <p:nvPr/>
          </p:nvSpPr>
          <p:spPr>
            <a:xfrm>
              <a:off x="5486400" y="297180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486400" y="2971800"/>
              <a:ext cx="0" cy="28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7391520" y="2971800"/>
              <a:ext cx="0" cy="28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1" name=""/>
          <p:cNvSpPr/>
          <p:nvPr/>
        </p:nvSpPr>
        <p:spPr>
          <a:xfrm>
            <a:off x="4876920" y="3276720"/>
            <a:ext cx="12189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已核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6781680" y="3276720"/>
            <a:ext cx="12193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未核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3886200" y="1447920"/>
            <a:ext cx="144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5334120" y="38448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7315200" y="38448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4724280" y="445464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各機關依計畫循序推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6324480" y="445464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納入本部配合行政院中長程計畫之評估機制運作檢討，視可用資源與各計畫急迫性推動辦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685800" y="3524400"/>
            <a:ext cx="1828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由部次長適時指示主管機關</a:t>
            </a:r>
            <a:r>
              <a:rPr b="0" lang="zh-TW" sz="20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單位</a:t>
            </a:r>
            <a:r>
              <a:rPr b="0" lang="zh-TW" sz="20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辦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由機關首長依權責辦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1447920" y="283860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3048120" y="2209680"/>
            <a:ext cx="16002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研究規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2895480" y="34894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各機關</a:t>
            </a:r>
            <a:r>
              <a:rPr b="0" lang="zh-TW" sz="20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單位</a:t>
            </a:r>
            <a:r>
              <a:rPr b="0" lang="zh-TW" sz="20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依權責推動辦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3657600" y="28195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"/>
          <p:cNvSpPr/>
          <p:nvPr/>
        </p:nvSpPr>
        <p:spPr>
          <a:xfrm>
            <a:off x="1676520" y="2209680"/>
            <a:ext cx="6019560" cy="1447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6969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99"/>
                </a:solidFill>
                <a:latin typeface="全真顏體"/>
                <a:ea typeface="全真顏體"/>
              </a:rPr>
              <a:t>伍、恭請  裁示事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35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"/>
          <p:cNvSpPr/>
          <p:nvPr/>
        </p:nvSpPr>
        <p:spPr>
          <a:xfrm>
            <a:off x="1295280" y="1511280"/>
            <a:ext cx="670572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20000"/>
              </a:lnSpc>
              <a:spcBef>
                <a:spcPts val="225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恭請  裁示事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1.</a:t>
            </a:r>
            <a:r>
              <a:rPr b="0" lang="zh-TW" sz="3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「跨世紀運輸政策與建設方案」</a:t>
            </a:r>
            <a:r>
              <a:rPr b="0" lang="zh-TW" sz="3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初稿</a:t>
            </a:r>
            <a:r>
              <a:rPr b="0" lang="zh-TW" sz="3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)</a:t>
            </a:r>
            <a:r>
              <a:rPr b="0" lang="zh-TW" sz="3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撰擬內容是否妥適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2.</a:t>
            </a:r>
            <a:r>
              <a:rPr b="0" lang="zh-TW" sz="3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所提推動方式是否允當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0" y="0"/>
            <a:ext cx="167652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裁 示 事 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36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2590920" y="2286000"/>
            <a:ext cx="396216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cc3300"/>
                </a:solidFill>
                <a:latin typeface="Times New Roman"/>
                <a:ea typeface="華康勘亭流"/>
              </a:rPr>
              <a:t>簡 報 完 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cc3300"/>
                </a:solidFill>
                <a:latin typeface="Times New Roman"/>
                <a:ea typeface="華康勘亭流"/>
              </a:rPr>
              <a:t>恭 請 裁 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37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19810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辦理方式與進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930320"/>
            <a:ext cx="6629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9960" indent="-66996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</a:t>
            </a:r>
            <a:r>
              <a:rPr b="0" lang="zh-TW" sz="3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運研所負責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   </a:t>
            </a:r>
            <a:r>
              <a:rPr b="0" lang="zh-TW" sz="3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運輸方面之政策與建設方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</a:t>
            </a:r>
            <a:r>
              <a:rPr b="0" lang="zh-TW" sz="3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科顧室負責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   </a:t>
            </a:r>
            <a:r>
              <a:rPr b="0" lang="zh-TW" sz="36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郵政、電信、氣象、觀光等方面之政策與建設方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9144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一、分  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6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19520" y="3808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二、辦理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209680" y="1143000"/>
            <a:ext cx="4786560" cy="2286000"/>
            <a:chOff x="2209680" y="1143000"/>
            <a:chExt cx="4786560" cy="2286000"/>
          </a:xfrm>
        </p:grpSpPr>
        <p:sp>
          <p:nvSpPr>
            <p:cNvPr id="60" name=""/>
            <p:cNvSpPr/>
            <p:nvPr/>
          </p:nvSpPr>
          <p:spPr>
            <a:xfrm>
              <a:off x="2209680" y="1143000"/>
              <a:ext cx="4786560" cy="22860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51880" y="1285920"/>
              <a:ext cx="4416120" cy="2084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1.</a:t>
              </a:r>
              <a:r>
                <a:rPr b="1" lang="zh-TW" sz="22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政策目標研擬與歸納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2.</a:t>
              </a:r>
              <a:r>
                <a:rPr b="1" lang="zh-TW" sz="22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無主辦或跨機關間之事項與政策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3.</a:t>
              </a:r>
              <a:r>
                <a:rPr b="1" lang="zh-TW" sz="22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未來應辦理但尚未經各主辦機關提出之計畫與政策方向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4.</a:t>
              </a:r>
              <a:r>
                <a:rPr b="1" lang="zh-TW" sz="22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主辦機關</a:t>
              </a:r>
              <a:r>
                <a:rPr b="1" lang="zh-TW" sz="22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(</a:t>
              </a:r>
              <a:r>
                <a:rPr b="1" lang="zh-TW" sz="22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單位</a:t>
              </a:r>
              <a:r>
                <a:rPr b="1" lang="zh-TW" sz="22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)</a:t>
              </a:r>
              <a:r>
                <a:rPr b="1" lang="zh-TW" sz="22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計畫性質之建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209680" y="4114800"/>
            <a:ext cx="4786200" cy="2195640"/>
            <a:chOff x="2209680" y="4114800"/>
            <a:chExt cx="4786200" cy="2195640"/>
          </a:xfrm>
        </p:grpSpPr>
        <p:sp>
          <p:nvSpPr>
            <p:cNvPr id="63" name=""/>
            <p:cNvSpPr/>
            <p:nvPr/>
          </p:nvSpPr>
          <p:spPr>
            <a:xfrm>
              <a:off x="2209680" y="4114800"/>
              <a:ext cx="4786200" cy="2195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22200" y="4190040"/>
              <a:ext cx="3415320" cy="2061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3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1.</a:t>
              </a:r>
              <a:r>
                <a:rPr b="1" lang="zh-TW" sz="23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緣    起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3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2.</a:t>
              </a:r>
              <a:r>
                <a:rPr b="1" lang="zh-TW" sz="23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政策目標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3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3.</a:t>
              </a:r>
              <a:r>
                <a:rPr b="1" lang="zh-TW" sz="23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具體構想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3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4.</a:t>
              </a:r>
              <a:r>
                <a:rPr b="1" lang="zh-TW" sz="23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配合策略／執行方針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3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5.</a:t>
              </a:r>
              <a:r>
                <a:rPr b="1" lang="zh-TW" sz="23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分年經費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85800" y="1981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運研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72428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各部屬機關</a:t>
            </a: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單位</a:t>
            </a:r>
            <a:r>
              <a:rPr b="0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1752480"/>
            <a:ext cx="4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詳本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4648320"/>
            <a:ext cx="5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詳附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9810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辦理方式與進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733920" y="3505320"/>
            <a:ext cx="1676160" cy="556920"/>
            <a:chOff x="3733920" y="3505320"/>
            <a:chExt cx="1676160" cy="556920"/>
          </a:xfrm>
        </p:grpSpPr>
        <p:sp>
          <p:nvSpPr>
            <p:cNvPr id="71" name=""/>
            <p:cNvSpPr/>
            <p:nvPr/>
          </p:nvSpPr>
          <p:spPr>
            <a:xfrm>
              <a:off x="3733920" y="3505320"/>
              <a:ext cx="539640" cy="550800"/>
            </a:xfrm>
            <a:prstGeom prst="upArrow">
              <a:avLst>
                <a:gd name="adj1" fmla="val 50000"/>
                <a:gd name="adj2" fmla="val 2551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d762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70440" y="3511440"/>
              <a:ext cx="539640" cy="550800"/>
            </a:xfrm>
            <a:prstGeom prst="downArrow">
              <a:avLst>
                <a:gd name="adj1" fmla="val 50000"/>
                <a:gd name="adj2" fmla="val 2551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d762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7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19520" y="5335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華康粗圓體"/>
              </a:rPr>
              <a:t>三、辦理過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1447920"/>
            <a:ext cx="7162560" cy="46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本所就本案召開三次會議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第一次：各機關</a:t>
            </a:r>
            <a:r>
              <a:rPr b="1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單位</a:t>
            </a:r>
            <a:r>
              <a:rPr b="1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座談會</a:t>
            </a:r>
            <a:r>
              <a:rPr b="1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(88.3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          </a:t>
            </a:r>
            <a:r>
              <a:rPr b="1" lang="zh-TW" sz="24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就白書宣示方向、中長程計畫，逐項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           </a:t>
            </a:r>
            <a:r>
              <a:rPr b="1" lang="zh-TW" sz="24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年檢討修正各建設計畫內容與經費</a:t>
            </a:r>
            <a:r>
              <a:rPr b="1" lang="zh-TW" sz="24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第二次：學者專家座談會</a:t>
            </a:r>
            <a:r>
              <a:rPr b="1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(88.4.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          </a:t>
            </a:r>
            <a:r>
              <a:rPr b="1" lang="zh-TW" sz="24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就所擬政策目標與具體構想、及第一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           </a:t>
            </a:r>
            <a:r>
              <a:rPr b="1" lang="zh-TW" sz="24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會議後之修正資料進行討論</a:t>
            </a:r>
            <a:r>
              <a:rPr b="1" lang="zh-TW" sz="24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第三次：  次長主持會議研討</a:t>
            </a:r>
            <a:r>
              <a:rPr b="1" lang="zh-TW" sz="28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(88.8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1981080" cy="337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ba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99"/>
                </a:solidFill>
                <a:latin typeface="華康粗圓體"/>
                <a:ea typeface="華康粗圓體"/>
              </a:rPr>
              <a:t>辦理方式與進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8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52480" y="2209680"/>
            <a:ext cx="5715000" cy="167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6969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99"/>
                </a:solidFill>
                <a:latin typeface="全真顏體"/>
                <a:ea typeface="全真顏體"/>
              </a:rPr>
              <a:t>參、跨世紀運輸政策與建設方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6399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儷粗圓"/>
              </a:rPr>
              <a:t>-9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2T03:05:59Z</dcterms:created>
  <dc:creator>YYW</dc:creator>
  <dc:description/>
  <dc:language>en-US</dc:language>
  <cp:lastModifiedBy>YYW</cp:lastModifiedBy>
  <cp:lastPrinted>1999-07-13T03:52:49Z</cp:lastPrinted>
  <dcterms:modified xsi:type="dcterms:W3CDTF">2000-02-23T02:29:59Z</dcterms:modified>
  <cp:revision>65</cp:revision>
  <dc:subject/>
  <dc:title>無投影片標題</dc:title>
</cp:coreProperties>
</file>