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細明體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細明體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細明體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  <a:p>
            <a:pPr lvl="1" marL="646200" indent="-248400">
              <a:spcBef>
                <a:spcPts val="79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細明體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  <a:p>
            <a:pPr lvl="2" marL="994320" indent="-198720">
              <a:spcBef>
                <a:spcPts val="799"/>
              </a:spcBef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細明體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  <a:p>
            <a:pPr lvl="3" marL="1392120" indent="-198720">
              <a:spcBef>
                <a:spcPts val="79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細明體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  <a:p>
            <a:pPr lvl="4" marL="1789920" indent="-198720">
              <a:spcBef>
                <a:spcPts val="799"/>
              </a:spcBef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細明體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  <a:p>
            <a:pPr lvl="5" marL="1789920" indent="-198720">
              <a:spcBef>
                <a:spcPts val="799"/>
              </a:spcBef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細明體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  <a:p>
            <a:pPr lvl="6" marL="1789920" indent="-198720">
              <a:spcBef>
                <a:spcPts val="799"/>
              </a:spcBef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細明體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" name=""/>
          <p:cNvGrpSpPr/>
          <p:nvPr/>
        </p:nvGrpSpPr>
        <p:grpSpPr>
          <a:xfrm>
            <a:off x="2057400" y="457200"/>
            <a:ext cx="3659040" cy="7773840"/>
            <a:chOff x="2057400" y="457200"/>
            <a:chExt cx="3659040" cy="7773840"/>
          </a:xfrm>
        </p:grpSpPr>
        <p:sp>
          <p:nvSpPr>
            <p:cNvPr id="39" name=""/>
            <p:cNvSpPr/>
            <p:nvPr/>
          </p:nvSpPr>
          <p:spPr>
            <a:xfrm>
              <a:off x="2057400" y="3666960"/>
              <a:ext cx="2852640" cy="4564080"/>
            </a:xfrm>
            <a:custGeom>
              <a:avLst/>
              <a:gdLst/>
              <a:ahLst/>
              <a:rect l="l" t="t" r="r" b="b"/>
              <a:pathLst>
                <a:path w="1797" h="2875">
                  <a:moveTo>
                    <a:pt x="1794" y="79"/>
                  </a:moveTo>
                  <a:lnTo>
                    <a:pt x="1796" y="60"/>
                  </a:lnTo>
                  <a:lnTo>
                    <a:pt x="1690" y="0"/>
                  </a:lnTo>
                  <a:lnTo>
                    <a:pt x="1530" y="85"/>
                  </a:lnTo>
                  <a:lnTo>
                    <a:pt x="1555" y="173"/>
                  </a:lnTo>
                  <a:lnTo>
                    <a:pt x="1351" y="751"/>
                  </a:lnTo>
                  <a:lnTo>
                    <a:pt x="1259" y="756"/>
                  </a:lnTo>
                  <a:lnTo>
                    <a:pt x="1007" y="598"/>
                  </a:lnTo>
                  <a:lnTo>
                    <a:pt x="953" y="609"/>
                  </a:lnTo>
                  <a:lnTo>
                    <a:pt x="614" y="413"/>
                  </a:lnTo>
                  <a:lnTo>
                    <a:pt x="574" y="432"/>
                  </a:lnTo>
                  <a:lnTo>
                    <a:pt x="418" y="515"/>
                  </a:lnTo>
                  <a:lnTo>
                    <a:pt x="283" y="705"/>
                  </a:lnTo>
                  <a:lnTo>
                    <a:pt x="241" y="1118"/>
                  </a:lnTo>
                  <a:lnTo>
                    <a:pt x="177" y="1184"/>
                  </a:lnTo>
                  <a:lnTo>
                    <a:pt x="166" y="1267"/>
                  </a:lnTo>
                  <a:lnTo>
                    <a:pt x="235" y="1437"/>
                  </a:lnTo>
                  <a:lnTo>
                    <a:pt x="366" y="1610"/>
                  </a:lnTo>
                  <a:lnTo>
                    <a:pt x="360" y="1746"/>
                  </a:lnTo>
                  <a:lnTo>
                    <a:pt x="108" y="1861"/>
                  </a:lnTo>
                  <a:lnTo>
                    <a:pt x="0" y="2174"/>
                  </a:lnTo>
                  <a:lnTo>
                    <a:pt x="114" y="2487"/>
                  </a:lnTo>
                  <a:lnTo>
                    <a:pt x="100" y="2627"/>
                  </a:lnTo>
                  <a:lnTo>
                    <a:pt x="191" y="2653"/>
                  </a:lnTo>
                  <a:lnTo>
                    <a:pt x="202" y="2742"/>
                  </a:lnTo>
                  <a:lnTo>
                    <a:pt x="264" y="2833"/>
                  </a:lnTo>
                  <a:lnTo>
                    <a:pt x="499" y="2874"/>
                  </a:lnTo>
                  <a:lnTo>
                    <a:pt x="541" y="2582"/>
                  </a:lnTo>
                  <a:lnTo>
                    <a:pt x="601" y="2536"/>
                  </a:lnTo>
                  <a:lnTo>
                    <a:pt x="714" y="2086"/>
                  </a:lnTo>
                  <a:lnTo>
                    <a:pt x="1203" y="1520"/>
                  </a:lnTo>
                  <a:lnTo>
                    <a:pt x="1197" y="1401"/>
                  </a:lnTo>
                  <a:lnTo>
                    <a:pt x="1332" y="1379"/>
                  </a:lnTo>
                  <a:lnTo>
                    <a:pt x="1679" y="851"/>
                  </a:lnTo>
                  <a:lnTo>
                    <a:pt x="1650" y="645"/>
                  </a:lnTo>
                  <a:lnTo>
                    <a:pt x="1794" y="232"/>
                  </a:lnTo>
                  <a:lnTo>
                    <a:pt x="1794" y="79"/>
                  </a:lnTo>
                </a:path>
              </a:pathLst>
            </a:custGeom>
            <a:noFill/>
            <a:ln cap="rnd" w="5076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2790720" y="457200"/>
              <a:ext cx="2925720" cy="4406760"/>
            </a:xfrm>
            <a:custGeom>
              <a:avLst/>
              <a:gdLst/>
              <a:ahLst/>
              <a:rect l="l" t="t" r="r" b="b"/>
              <a:pathLst>
                <a:path w="1843" h="2776">
                  <a:moveTo>
                    <a:pt x="96" y="2122"/>
                  </a:moveTo>
                  <a:lnTo>
                    <a:pt x="137" y="2176"/>
                  </a:lnTo>
                  <a:lnTo>
                    <a:pt x="0" y="2214"/>
                  </a:lnTo>
                  <a:lnTo>
                    <a:pt x="10" y="2286"/>
                  </a:lnTo>
                  <a:lnTo>
                    <a:pt x="141" y="2316"/>
                  </a:lnTo>
                  <a:lnTo>
                    <a:pt x="156" y="2427"/>
                  </a:lnTo>
                  <a:lnTo>
                    <a:pt x="148" y="2432"/>
                  </a:lnTo>
                  <a:lnTo>
                    <a:pt x="486" y="2628"/>
                  </a:lnTo>
                  <a:lnTo>
                    <a:pt x="541" y="2617"/>
                  </a:lnTo>
                  <a:lnTo>
                    <a:pt x="792" y="2775"/>
                  </a:lnTo>
                  <a:lnTo>
                    <a:pt x="884" y="2769"/>
                  </a:lnTo>
                  <a:lnTo>
                    <a:pt x="1087" y="2193"/>
                  </a:lnTo>
                  <a:lnTo>
                    <a:pt x="1062" y="2105"/>
                  </a:lnTo>
                  <a:lnTo>
                    <a:pt x="1222" y="2020"/>
                  </a:lnTo>
                  <a:lnTo>
                    <a:pt x="1328" y="2080"/>
                  </a:lnTo>
                  <a:lnTo>
                    <a:pt x="1326" y="2099"/>
                  </a:lnTo>
                  <a:lnTo>
                    <a:pt x="1328" y="2099"/>
                  </a:lnTo>
                  <a:lnTo>
                    <a:pt x="1362" y="1997"/>
                  </a:lnTo>
                  <a:lnTo>
                    <a:pt x="1304" y="1907"/>
                  </a:lnTo>
                  <a:lnTo>
                    <a:pt x="1356" y="1804"/>
                  </a:lnTo>
                  <a:lnTo>
                    <a:pt x="1499" y="951"/>
                  </a:lnTo>
                  <a:lnTo>
                    <a:pt x="1576" y="785"/>
                  </a:lnTo>
                  <a:lnTo>
                    <a:pt x="1557" y="642"/>
                  </a:lnTo>
                  <a:lnTo>
                    <a:pt x="1628" y="442"/>
                  </a:lnTo>
                  <a:lnTo>
                    <a:pt x="1603" y="337"/>
                  </a:lnTo>
                  <a:lnTo>
                    <a:pt x="1842" y="171"/>
                  </a:lnTo>
                  <a:lnTo>
                    <a:pt x="1842" y="60"/>
                  </a:lnTo>
                  <a:lnTo>
                    <a:pt x="1838" y="66"/>
                  </a:lnTo>
                  <a:lnTo>
                    <a:pt x="1719" y="45"/>
                  </a:lnTo>
                  <a:lnTo>
                    <a:pt x="1576" y="30"/>
                  </a:lnTo>
                  <a:lnTo>
                    <a:pt x="1495" y="13"/>
                  </a:lnTo>
                  <a:lnTo>
                    <a:pt x="1380" y="81"/>
                  </a:lnTo>
                  <a:lnTo>
                    <a:pt x="1241" y="66"/>
                  </a:lnTo>
                  <a:lnTo>
                    <a:pt x="1185" y="60"/>
                  </a:lnTo>
                  <a:lnTo>
                    <a:pt x="1143" y="30"/>
                  </a:lnTo>
                  <a:lnTo>
                    <a:pt x="975" y="0"/>
                  </a:lnTo>
                  <a:lnTo>
                    <a:pt x="971" y="0"/>
                  </a:lnTo>
                  <a:lnTo>
                    <a:pt x="755" y="213"/>
                  </a:lnTo>
                  <a:lnTo>
                    <a:pt x="753" y="322"/>
                  </a:lnTo>
                  <a:lnTo>
                    <a:pt x="807" y="489"/>
                  </a:lnTo>
                  <a:lnTo>
                    <a:pt x="709" y="525"/>
                  </a:lnTo>
                  <a:lnTo>
                    <a:pt x="721" y="529"/>
                  </a:lnTo>
                  <a:lnTo>
                    <a:pt x="721" y="544"/>
                  </a:lnTo>
                  <a:lnTo>
                    <a:pt x="730" y="623"/>
                  </a:lnTo>
                  <a:lnTo>
                    <a:pt x="593" y="815"/>
                  </a:lnTo>
                  <a:lnTo>
                    <a:pt x="597" y="883"/>
                  </a:lnTo>
                  <a:lnTo>
                    <a:pt x="626" y="921"/>
                  </a:lnTo>
                  <a:lnTo>
                    <a:pt x="590" y="1163"/>
                  </a:lnTo>
                  <a:lnTo>
                    <a:pt x="470" y="1350"/>
                  </a:lnTo>
                  <a:lnTo>
                    <a:pt x="578" y="1429"/>
                  </a:lnTo>
                  <a:lnTo>
                    <a:pt x="518" y="1747"/>
                  </a:lnTo>
                  <a:lnTo>
                    <a:pt x="397" y="1804"/>
                  </a:lnTo>
                  <a:lnTo>
                    <a:pt x="385" y="1903"/>
                  </a:lnTo>
                  <a:lnTo>
                    <a:pt x="220" y="1945"/>
                  </a:lnTo>
                  <a:lnTo>
                    <a:pt x="102" y="2122"/>
                  </a:lnTo>
                  <a:lnTo>
                    <a:pt x="96" y="2122"/>
                  </a:lnTo>
                </a:path>
              </a:pathLst>
            </a:custGeom>
            <a:noFill/>
            <a:ln cap="rnd" w="5076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" name=""/>
          <p:cNvSpPr/>
          <p:nvPr/>
        </p:nvSpPr>
        <p:spPr>
          <a:xfrm rot="600000">
            <a:off x="4341600" y="5000760"/>
            <a:ext cx="333360" cy="333360"/>
          </a:xfrm>
          <a:prstGeom prst="ellipse">
            <a:avLst/>
          </a:prstGeom>
          <a:solidFill>
            <a:srgbClr val="a2ff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387600" y="5883120"/>
            <a:ext cx="568440" cy="540000"/>
          </a:xfrm>
          <a:prstGeom prst="ellipse">
            <a:avLst/>
          </a:prstGeom>
          <a:solidFill>
            <a:srgbClr val="a2ffa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600000">
            <a:off x="3591000" y="4876560"/>
            <a:ext cx="581040" cy="438120"/>
          </a:xfrm>
          <a:prstGeom prst="ellipse">
            <a:avLst/>
          </a:prstGeom>
          <a:solidFill>
            <a:srgbClr val="a2ff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38680" y="3809880"/>
            <a:ext cx="581040" cy="438120"/>
          </a:xfrm>
          <a:prstGeom prst="ellipse">
            <a:avLst/>
          </a:prstGeom>
          <a:solidFill>
            <a:srgbClr val="a2ff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038480" y="2486160"/>
            <a:ext cx="581040" cy="438120"/>
          </a:xfrm>
          <a:prstGeom prst="ellipse">
            <a:avLst/>
          </a:prstGeom>
          <a:solidFill>
            <a:srgbClr val="a2ff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826160" y="1606680"/>
            <a:ext cx="568080" cy="568080"/>
          </a:xfrm>
          <a:prstGeom prst="ellipse">
            <a:avLst/>
          </a:prstGeom>
          <a:solidFill>
            <a:srgbClr val="a2ffa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213520" y="870120"/>
            <a:ext cx="88560" cy="8856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908600" y="1111320"/>
            <a:ext cx="88920" cy="8892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692600" y="1162080"/>
            <a:ext cx="88920" cy="8892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8480" y="1047600"/>
            <a:ext cx="88920" cy="8892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387680" y="1060560"/>
            <a:ext cx="88920" cy="8892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788000" y="1533600"/>
            <a:ext cx="88920" cy="8892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 flipV="1">
            <a:off x="4812840" y="1593360"/>
            <a:ext cx="289080" cy="7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959720" y="120600"/>
            <a:ext cx="291240" cy="1587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60800" y="644760"/>
            <a:ext cx="273240" cy="1072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4422600" y="1117080"/>
            <a:ext cx="231840" cy="32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0480" y="669960"/>
            <a:ext cx="336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細明體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43080" y="936720"/>
            <a:ext cx="3294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細明體"/>
              </a:rPr>
              <a:t>B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19440" y="1441440"/>
            <a:ext cx="336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細明體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252680" y="888840"/>
            <a:ext cx="3294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細明體"/>
              </a:rPr>
              <a:t>B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81280" y="879480"/>
            <a:ext cx="3294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細明體"/>
              </a:rPr>
              <a:t>B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95400" y="1203480"/>
            <a:ext cx="3294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細明體"/>
              </a:rPr>
              <a:t>B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273560" y="1765440"/>
            <a:ext cx="88920" cy="8892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083120" y="2127240"/>
            <a:ext cx="88920" cy="8892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130640" y="1860480"/>
            <a:ext cx="88920" cy="8892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322880" y="1712880"/>
            <a:ext cx="1549080" cy="234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2955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2955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081320" y="1584360"/>
            <a:ext cx="336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細明體"/>
              </a:rPr>
              <a:t>C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00600" y="1746360"/>
            <a:ext cx="336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細明體"/>
              </a:rPr>
              <a:t>C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43360" y="2041560"/>
            <a:ext cx="336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細明體"/>
              </a:rPr>
              <a:t>C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4177800" y="1727280"/>
            <a:ext cx="939960" cy="927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 flipV="1">
            <a:off x="4118040" y="2193840"/>
            <a:ext cx="79200" cy="479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825720" y="2790720"/>
            <a:ext cx="88920" cy="8892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530520" y="3990960"/>
            <a:ext cx="88920" cy="8892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311720" y="4210200"/>
            <a:ext cx="88920" cy="8892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016600" y="2476440"/>
            <a:ext cx="88920" cy="8892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614760" y="2584440"/>
            <a:ext cx="336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細明體"/>
              </a:rPr>
              <a:t>C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768840" y="3524400"/>
            <a:ext cx="88920" cy="8892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807000" y="3228840"/>
            <a:ext cx="88560" cy="8892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576600" y="3127320"/>
            <a:ext cx="336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細明體"/>
              </a:rPr>
              <a:t>C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097240" y="2422440"/>
            <a:ext cx="336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細明體"/>
              </a:rPr>
              <a:t>D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4736880" y="1149480"/>
            <a:ext cx="222120" cy="6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949560" y="2679840"/>
            <a:ext cx="254160" cy="1336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4448160" y="2048040"/>
            <a:ext cx="53352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4257360" y="2733840"/>
            <a:ext cx="228600" cy="131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826160" y="3305160"/>
            <a:ext cx="88920" cy="8892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797360" y="3876840"/>
            <a:ext cx="88920" cy="8856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226040" y="5533920"/>
            <a:ext cx="88920" cy="8892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10040" y="3289320"/>
            <a:ext cx="336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細明體"/>
              </a:rPr>
              <a:t>D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33720" y="3832200"/>
            <a:ext cx="336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細明體"/>
              </a:rPr>
              <a:t>D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3870360" y="2682720"/>
            <a:ext cx="326880" cy="168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510000" y="3489480"/>
            <a:ext cx="336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細明體"/>
              </a:rPr>
              <a:t>C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262320" y="3898800"/>
            <a:ext cx="336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細明體"/>
              </a:rPr>
              <a:t>C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300560" y="4289400"/>
            <a:ext cx="336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細明體"/>
              </a:rPr>
              <a:t>C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664160" y="4981680"/>
            <a:ext cx="88920" cy="8892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691160" y="5003640"/>
            <a:ext cx="336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細明體"/>
              </a:rPr>
              <a:t>D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768760" y="6353280"/>
            <a:ext cx="88920" cy="8892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301920" y="5591160"/>
            <a:ext cx="88920" cy="8892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832120" y="4740120"/>
            <a:ext cx="88920" cy="8892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997360" y="6124680"/>
            <a:ext cx="88920" cy="8892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538000" y="6432480"/>
            <a:ext cx="401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細明體"/>
              </a:rPr>
              <a:t>C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766600" y="5965920"/>
            <a:ext cx="401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細明體"/>
              </a:rPr>
              <a:t>C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61800" y="5365800"/>
            <a:ext cx="401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細明體"/>
              </a:rPr>
              <a:t>C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700360" y="4537080"/>
            <a:ext cx="336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細明體"/>
              </a:rPr>
              <a:t>C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3565440" y="4044960"/>
            <a:ext cx="403200" cy="6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968640" y="4044960"/>
            <a:ext cx="378000" cy="225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 flipV="1">
            <a:off x="2870280" y="4803840"/>
            <a:ext cx="869760" cy="231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 flipV="1">
            <a:off x="3327120" y="5651640"/>
            <a:ext cx="260280" cy="45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3022560" y="6102360"/>
            <a:ext cx="565200" cy="73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3749760" y="4051440"/>
            <a:ext cx="225360" cy="974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558960" y="5041800"/>
            <a:ext cx="206280" cy="1022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587760" y="6102360"/>
            <a:ext cx="54000" cy="149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3673440" y="6013080"/>
            <a:ext cx="196920" cy="260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3587760" y="6013080"/>
            <a:ext cx="282600" cy="889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3847680" y="5162400"/>
            <a:ext cx="190440" cy="847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4009680" y="4057560"/>
            <a:ext cx="276120" cy="1067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4955760" y="1711440"/>
            <a:ext cx="136440" cy="301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959360" y="1945800"/>
            <a:ext cx="206280" cy="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492360" y="5448240"/>
            <a:ext cx="88920" cy="8892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121280" y="5705640"/>
            <a:ext cx="88920" cy="8856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902120" y="3009960"/>
            <a:ext cx="88920" cy="8892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275080" y="2908440"/>
            <a:ext cx="336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細明體"/>
              </a:rPr>
              <a:t>D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376440" y="5222880"/>
            <a:ext cx="336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細明體"/>
              </a:rPr>
              <a:t>D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167000" y="5756400"/>
            <a:ext cx="336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細明體"/>
              </a:rPr>
              <a:t>D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290840" y="5518080"/>
            <a:ext cx="336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細明體"/>
              </a:rPr>
              <a:t>D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40240" y="5511960"/>
            <a:ext cx="54000" cy="577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4502160" y="5041800"/>
            <a:ext cx="187200" cy="14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178160" y="5295960"/>
            <a:ext cx="88920" cy="8892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4222800" y="5187960"/>
            <a:ext cx="279360" cy="168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3568320" y="5194440"/>
            <a:ext cx="939960" cy="88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062240" y="5108400"/>
            <a:ext cx="336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細明體"/>
              </a:rPr>
              <a:t>D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774960" y="5956200"/>
            <a:ext cx="136800" cy="117720"/>
          </a:xfrm>
          <a:prstGeom prst="triangle">
            <a:avLst>
              <a:gd name="adj" fmla="val 49995"/>
            </a:avLst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560" bIns="-7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594240" y="6222960"/>
            <a:ext cx="98280" cy="98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 flipV="1">
            <a:off x="5099040" y="1717560"/>
            <a:ext cx="108000" cy="231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127480" y="1889280"/>
            <a:ext cx="98640" cy="98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197240" y="2673360"/>
            <a:ext cx="263520" cy="63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968640" y="4044960"/>
            <a:ext cx="311400" cy="6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740040" y="5035680"/>
            <a:ext cx="263520" cy="1108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946680" y="5070600"/>
            <a:ext cx="136440" cy="117360"/>
          </a:xfrm>
          <a:prstGeom prst="triangle">
            <a:avLst>
              <a:gd name="adj" fmla="val 49995"/>
            </a:avLst>
          </a:prstGeom>
          <a:blipFill rotWithShape="0">
            <a:blip r:embed="rId4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560" bIns="-7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502240" y="1357200"/>
            <a:ext cx="730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花蓮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456360" y="2320920"/>
            <a:ext cx="592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光復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237120" y="4083120"/>
            <a:ext cx="592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玉里鎮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018240" y="4950000"/>
            <a:ext cx="592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池上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032360" y="6218280"/>
            <a:ext cx="730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台東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4613400" y="1108080"/>
            <a:ext cx="117360" cy="117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213080" y="3965400"/>
            <a:ext cx="136800" cy="117720"/>
          </a:xfrm>
          <a:prstGeom prst="triangle">
            <a:avLst>
              <a:gd name="adj" fmla="val 49995"/>
            </a:avLst>
          </a:prstGeom>
          <a:blipFill rotWithShape="0">
            <a:blip r:embed="rId5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560" bIns="-7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03880" y="2660760"/>
            <a:ext cx="136440" cy="117360"/>
          </a:xfrm>
          <a:prstGeom prst="triangle">
            <a:avLst>
              <a:gd name="adj" fmla="val 49995"/>
            </a:avLst>
          </a:prstGeom>
          <a:blipFill rotWithShape="0">
            <a:blip r:embed="rId6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560" bIns="-7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675320" y="5111640"/>
            <a:ext cx="592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成功鎮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24960" y="8464680"/>
            <a:ext cx="3960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圖</a:t>
            </a:r>
            <a:r>
              <a:rPr b="0" lang="zh-TW" sz="20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5-3 </a:t>
            </a:r>
            <a:r>
              <a:rPr b="0" lang="zh-TW" sz="20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東部區域遊憩公共運輸系統整合規劃示意圖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87360" y="235080"/>
            <a:ext cx="6159600" cy="8140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22440" y="863640"/>
            <a:ext cx="1936440" cy="3549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003320" y="1546200"/>
            <a:ext cx="127080" cy="12708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987480" y="1260360"/>
            <a:ext cx="136440" cy="117720"/>
          </a:xfrm>
          <a:prstGeom prst="triangle">
            <a:avLst>
              <a:gd name="adj" fmla="val 49995"/>
            </a:avLst>
          </a:prstGeom>
          <a:blipFill rotWithShape="0">
            <a:blip r:embed="rId8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560" bIns="-7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009800" y="1022400"/>
            <a:ext cx="98280" cy="9828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06520" y="932040"/>
            <a:ext cx="5014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航空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442160" y="1185840"/>
            <a:ext cx="608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鐵路車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503720" y="1442880"/>
            <a:ext cx="8215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公路客運車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442160" y="1693800"/>
            <a:ext cx="608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步行路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442160" y="1960560"/>
            <a:ext cx="608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鐵路路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00280" y="184788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12880" y="2127240"/>
            <a:ext cx="495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06400" y="2381400"/>
            <a:ext cx="507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513440" y="2239920"/>
            <a:ext cx="8215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公路客運路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細明體"/>
              </a:rPr>
              <a:t>(</a:t>
            </a: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直達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細明體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22440" y="571680"/>
            <a:ext cx="1936440" cy="279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圖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細明體"/>
              </a:rPr>
              <a:t>            </a:t>
            </a:r>
            <a:r>
              <a:rPr b="0" lang="zh-TW" sz="16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899520" y="2681280"/>
            <a:ext cx="583200" cy="500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975120" y="4051440"/>
            <a:ext cx="517680" cy="1108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004200" y="5043600"/>
            <a:ext cx="1459440" cy="240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692520" y="4971960"/>
            <a:ext cx="127080" cy="12708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111560" y="2610000"/>
            <a:ext cx="127080" cy="12672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4473720" y="1765440"/>
            <a:ext cx="644400" cy="3384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89520" y="1955880"/>
            <a:ext cx="136440" cy="117360"/>
          </a:xfrm>
          <a:prstGeom prst="triangle">
            <a:avLst>
              <a:gd name="adj" fmla="val 49995"/>
            </a:avLst>
          </a:prstGeom>
          <a:blipFill rotWithShape="0">
            <a:blip r:embed="rId12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560" bIns="-7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902040" y="3981600"/>
            <a:ext cx="127080" cy="126720"/>
          </a:xfrm>
          <a:prstGeom prst="ellipse">
            <a:avLst/>
          </a:prstGeom>
          <a:blipFill rotWithShape="0">
            <a:blip r:embed="rId13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435560" y="5105520"/>
            <a:ext cx="127080" cy="126720"/>
          </a:xfrm>
          <a:prstGeom prst="ellipse">
            <a:avLst/>
          </a:prstGeom>
          <a:blipFill rotWithShape="0">
            <a:blip r:embed="rId14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199040" y="1836720"/>
            <a:ext cx="291240" cy="13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62635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62635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122720" y="1913040"/>
            <a:ext cx="139320" cy="59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21883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21883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841560" y="2825640"/>
            <a:ext cx="50760" cy="453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3812760" y="3282840"/>
            <a:ext cx="50760" cy="311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rot="10800000">
            <a:off x="3581280" y="5762520"/>
            <a:ext cx="1149480" cy="654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511440" y="6010200"/>
            <a:ext cx="127080" cy="127080"/>
          </a:xfrm>
          <a:prstGeom prst="ellipse">
            <a:avLst/>
          </a:prstGeom>
          <a:blipFill rotWithShape="0">
            <a:blip r:embed="rId15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2803680" y="6178680"/>
            <a:ext cx="250560" cy="23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rot="10800000">
            <a:off x="4143600" y="5591520"/>
            <a:ext cx="215640" cy="310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4919400" y="1703520"/>
            <a:ext cx="433440" cy="837720"/>
            <a:chOff x="4919400" y="1703520"/>
            <a:chExt cx="433440" cy="837720"/>
          </a:xfrm>
        </p:grpSpPr>
        <p:sp>
          <p:nvSpPr>
            <p:cNvPr id="182" name=""/>
            <p:cNvSpPr/>
            <p:nvPr/>
          </p:nvSpPr>
          <p:spPr>
            <a:xfrm>
              <a:off x="4970880" y="1703520"/>
              <a:ext cx="357840" cy="837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05" y="0"/>
                  </a:moveTo>
                  <a:arcTo wR="10800" hR="10800" stAng="-5430287" swAng="543028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05" y="0"/>
                  </a:moveTo>
                  <a:arcTo wR="10800" hR="10800" stAng="-5430287" swAng="543028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rot="10980000">
              <a:off x="4939200" y="1739520"/>
              <a:ext cx="393480" cy="76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6"/>
                  </a:moveTo>
                  <a:arcTo wR="10800" hR="10800" stAng="-10785881" swAng="535810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6"/>
                  </a:moveTo>
                  <a:arcTo wR="10800" hR="10800" stAng="-10785881" swAng="535810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5029200" y="1650960"/>
            <a:ext cx="127080" cy="127080"/>
          </a:xfrm>
          <a:prstGeom prst="ellipse">
            <a:avLst/>
          </a:prstGeom>
          <a:blipFill rotWithShape="0">
            <a:blip r:embed="rId16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4912200" y="2522520"/>
            <a:ext cx="276840" cy="561960"/>
            <a:chOff x="4912200" y="2522520"/>
            <a:chExt cx="276840" cy="561960"/>
          </a:xfrm>
        </p:grpSpPr>
        <p:sp>
          <p:nvSpPr>
            <p:cNvPr id="186" name=""/>
            <p:cNvSpPr/>
            <p:nvPr/>
          </p:nvSpPr>
          <p:spPr>
            <a:xfrm>
              <a:off x="4943880" y="2522520"/>
              <a:ext cx="224640" cy="56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49" y="1"/>
                  </a:moveTo>
                  <a:arcTo wR="10800" hR="10800" stAng="-5448077" swAng="5448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49" y="1"/>
                  </a:moveTo>
                  <a:arcTo wR="10800" hR="10800" stAng="-5448077" swAng="544807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10980000">
              <a:off x="4925520" y="2544480"/>
              <a:ext cx="250200" cy="517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5620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5620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4717080" y="3075120"/>
            <a:ext cx="343800" cy="304200"/>
            <a:chOff x="4717080" y="3075120"/>
            <a:chExt cx="343800" cy="304200"/>
          </a:xfrm>
        </p:grpSpPr>
        <p:sp>
          <p:nvSpPr>
            <p:cNvPr id="189" name=""/>
            <p:cNvSpPr/>
            <p:nvPr/>
          </p:nvSpPr>
          <p:spPr>
            <a:xfrm>
              <a:off x="4751640" y="3075120"/>
              <a:ext cx="30096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10980000">
              <a:off x="4723920" y="3088440"/>
              <a:ext cx="32940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694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694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4689720" y="3379680"/>
            <a:ext cx="333720" cy="568080"/>
            <a:chOff x="4689720" y="3379680"/>
            <a:chExt cx="333720" cy="568080"/>
          </a:xfrm>
        </p:grpSpPr>
        <p:sp>
          <p:nvSpPr>
            <p:cNvPr id="192" name=""/>
            <p:cNvSpPr/>
            <p:nvPr/>
          </p:nvSpPr>
          <p:spPr>
            <a:xfrm>
              <a:off x="4726080" y="3379680"/>
              <a:ext cx="279000" cy="568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8074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8074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rot="10980000">
              <a:off x="4703040" y="3405960"/>
              <a:ext cx="307080" cy="517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34"/>
                  </a:moveTo>
                  <a:arcTo wR="10800" hR="10800" stAng="-10779083" swAng="534356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34"/>
                  </a:moveTo>
                  <a:arcTo wR="10800" hR="10800" stAng="-10779083" swAng="534356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4524840" y="3929040"/>
            <a:ext cx="584280" cy="1163520"/>
            <a:chOff x="4524840" y="3929040"/>
            <a:chExt cx="584280" cy="1163520"/>
          </a:xfrm>
        </p:grpSpPr>
        <p:sp>
          <p:nvSpPr>
            <p:cNvPr id="195" name=""/>
            <p:cNvSpPr/>
            <p:nvPr/>
          </p:nvSpPr>
          <p:spPr>
            <a:xfrm rot="300000">
              <a:off x="4628880" y="3944160"/>
              <a:ext cx="402480" cy="113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15" y="0"/>
                  </a:moveTo>
                  <a:arcTo wR="10800" hR="10800" stAng="-5426925" swAng="541724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15" y="0"/>
                  </a:moveTo>
                  <a:arcTo wR="10800" hR="10800" stAng="-5426925" swAng="541724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1280000">
              <a:off x="4595040" y="3983400"/>
              <a:ext cx="443880" cy="1040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75445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7544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4227480" y="5130720"/>
            <a:ext cx="82440" cy="425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3803760" y="3574800"/>
            <a:ext cx="164880" cy="469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00280" y="28386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464840" y="2697120"/>
            <a:ext cx="9187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公路客運路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細明體"/>
              </a:rPr>
              <a:t>(</a:t>
            </a: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含觀光巴士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細明體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53920" y="3273480"/>
            <a:ext cx="368280" cy="368280"/>
          </a:xfrm>
          <a:prstGeom prst="ellipse">
            <a:avLst/>
          </a:prstGeom>
          <a:solidFill>
            <a:srgbClr val="a2ffa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475280" y="3236760"/>
            <a:ext cx="9612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區域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細明體"/>
              </a:rPr>
              <a:t>(</a:t>
            </a: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次區域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細明體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旅遊運輸中心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486440" y="3745080"/>
            <a:ext cx="60804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系統旅遊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運輸中心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847800" y="3800520"/>
            <a:ext cx="380880" cy="380880"/>
          </a:xfrm>
          <a:prstGeom prst="ellipse">
            <a:avLst/>
          </a:prstGeom>
          <a:solidFill>
            <a:srgbClr val="a2ff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26T20:11:16Z</dcterms:created>
  <dc:creator>亞聯工程顧問股份有限公司  運輸規劃部</dc:creator>
  <dc:description/>
  <dc:language>en-US</dc:language>
  <cp:lastModifiedBy>Trace</cp:lastModifiedBy>
  <cp:lastPrinted>1998-05-20T17:28:34Z</cp:lastPrinted>
  <dcterms:modified xsi:type="dcterms:W3CDTF">1999-07-26T08:57:28Z</dcterms:modified>
  <cp:revision>18</cp:revision>
  <dc:subject/>
  <dc:title>無投影片標題</dc:title>
</cp:coreProperties>
</file>