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95D5-35FD-441F-909E-0907F90E0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5A44-6DC9-4AA3-A70B-50217127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2007-BB71-42B9-83EC-13738F8B6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6E79-2AC1-4554-8004-9E6C319C8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A332-5EAA-4619-A062-691326EA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B255-9366-4926-A8B9-CDC8A6B5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76D7-C9D5-4262-A8D4-F2F11EA1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EB32-F52D-47C7-A540-B8FEA6D3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C9E9-58CE-43D1-BEAC-69D625C5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A2C7-479D-47AC-922A-D249B7D2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D4D7-A42B-4ACC-9A74-FBFD7797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FDB3-2A03-41B9-93F5-C2D06FE8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3497-8572-4C00-BF85-BD373B8EF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1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6107400" cy="8458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1337760" y="8686800"/>
            <a:ext cx="41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圖</a:t>
            </a: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5-1 </a:t>
            </a: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東部區域與其他區域未來航線分佈建議示意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03:48:46Z</dcterms:created>
  <dc:creator>Trace</dc:creator>
  <dc:description/>
  <dc:language>en-US</dc:language>
  <cp:lastModifiedBy>Trace</cp:lastModifiedBy>
  <dcterms:modified xsi:type="dcterms:W3CDTF">1999-07-26T08:56:24Z</dcterms:modified>
  <cp:revision>4</cp:revision>
  <dc:subject/>
  <dc:title>無投影片標題</dc:title>
</cp:coreProperties>
</file>