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0BE-3717-4AFE-8867-1349D351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795-1EDB-4B68-A54C-F0CC8B44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114-A28C-4B4C-9690-71854367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EDF-12C7-415D-ABB1-EE8430E2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3A27-D529-4109-B9F2-0C2447D4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A3AF-DD6C-4B1E-B555-6F63BCA1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E777-926E-4D8C-A96F-DB8F89D5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0242-E322-41D5-A0B2-D97DC10E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E9A9-DE46-4638-B0CC-6EC04D08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E467-07E8-47FB-BD0F-F7C20FF7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9168-E858-4F36-A767-81D47DD1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482-C4C7-44EB-BAFE-FD064515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302A-4F1B-4392-B284-9BD0DA45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EC96-FAD4-44C6-8FA1-82A215A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2671-E4A3-46A4-BCAB-2336CB39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8FB8-DE58-4D53-A203-38C5F59E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A869-C6D2-4DF0-895A-EB0728EA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B14-A41B-4EE9-AED7-D99E10CC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C41-978D-4045-8D86-5470C83D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B7A-5F65-406D-9195-13FD0472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6CF-3534-44D3-9DAE-F9417BF2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123-729B-4FBC-AA4E-7E06D512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6B0-6785-4E4A-8EC6-B7E2820F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7AC-E980-43FD-A422-0F1A171F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fld id="{DF186D4B-B19F-44C3-8AA5-5ACB766434A7}" type="datetime12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11:32 A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EB10-5EF4-4937-B8D4-E630271803B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fld id="{08F4C313-2C79-4A31-9657-136A7F4F2CCC}" type="datetime12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11:32 A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5DE6-3F53-407C-982F-01FD81F01F8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華康新儷粗黑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華康新儷粗黑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華康新儷粗黑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華康新儷粗黑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華康新儷粗黑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華康新儷粗黑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華康新儷粗黑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華康新儷粗黑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華康新儷粗黑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華康新儷粗黑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華康新儷粗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華康新儷粗黑"/>
              </a:rPr>
              <a:t>用路人超速行為與改善策略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華康新儷粗黑"/>
              </a:rPr>
              <a:t>之研究</a:t>
            </a:r>
            <a:endParaRPr b="0" lang="en-US" sz="48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14400" y="4419360"/>
            <a:ext cx="6858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華康新儷粗黑"/>
              </a:rPr>
              <a:t>簡報單位：運輸安全組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華康新儷粗黑"/>
              </a:rPr>
              <a:t>簡報人：林亨杰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中華民國八十八年十月八日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574F-5A35-48EF-9876-FFE2F81FFD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國內文獻資料 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4-4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514600"/>
            <a:ext cx="79250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警政資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超速失控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死亡人數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85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年→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459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(15.35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％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86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年→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46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(20.6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％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基隆市肇事原因排行榜（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81-8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年）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未依規定減速：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20.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％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(29/142)→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首位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7992-88EF-4F12-8359-E673C31023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國外文獻回顧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7800" y="2437920"/>
            <a:ext cx="7790040" cy="13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日本相關研究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歐美相關研究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A68-2AAB-4B00-89DC-499C80B9B0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日本相關研究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4-1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6840" y="29718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華康新儷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事故防範對策（昭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45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年，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1970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年）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indent="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速度限制：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indent="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實施前：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1533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件，死亡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53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人；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indent="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實施後：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1211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件</a:t>
            </a:r>
            <a:r>
              <a:rPr b="1" lang="en-US" sz="3200" spc="-1" strike="noStrike">
                <a:solidFill>
                  <a:srgbClr val="ffff00"/>
                </a:solidFill>
                <a:latin typeface="華康新儷粗黑"/>
                <a:ea typeface="全真楷書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華康新儷粗黑"/>
                <a:ea typeface="全真楷書"/>
              </a:rPr>
              <a:t>-21</a:t>
            </a:r>
            <a:r>
              <a:rPr b="1" lang="en-US" sz="3200" spc="-1" strike="noStrike">
                <a:solidFill>
                  <a:srgbClr val="ffff00"/>
                </a:solidFill>
                <a:latin typeface="華康新儷粗黑"/>
                <a:ea typeface="全真楷書"/>
              </a:rPr>
              <a:t>％）</a:t>
            </a:r>
            <a:r>
              <a:rPr b="1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，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死亡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33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人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D0FE-425F-4553-8C69-F8E6E6CC43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日本相關研究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4-2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華康新儷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幹道</a:t>
            </a:r>
            <a:r>
              <a:rPr b="1" lang="en-US" sz="3200" spc="-1" strike="noStrike">
                <a:solidFill>
                  <a:srgbClr val="ffff00"/>
                </a:solidFill>
                <a:latin typeface="華康新儷粗黑"/>
                <a:ea typeface="全真楷書"/>
              </a:rPr>
              <a:t>速限調整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（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1985→1990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indent="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區  間  數（處）：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1353→1505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indent="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延長距離（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km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）：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308→2398 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C3C0-7C36-4ECC-BDB6-0BF064B5AC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日本相關研究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4-3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7913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實際行駛速率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﹥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規定速限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514600"/>
          <a:ext cx="7696080" cy="316224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  <a:gridCol w="153972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表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.10 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規定速限與實際行駛速率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單位：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km/h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             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區分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399ff"/>
                          </a:solidFill>
                          <a:latin typeface="Times New Roman"/>
                          <a:ea typeface="全真楷書"/>
                        </a:rPr>
                        <a:t>規定速限</a:t>
                      </a:r>
                      <a:endParaRPr b="0" lang="en-US" sz="1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實際行駛速率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商業區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住宅區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非市區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全體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ff"/>
                          </a:solidFill>
                          <a:latin typeface="Times New Roman"/>
                          <a:ea typeface="全真楷書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9.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4.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—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44.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ff"/>
                          </a:solidFill>
                          <a:latin typeface="Times New Roman"/>
                          <a:ea typeface="全真楷書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3.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2.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5.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53.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ff"/>
                          </a:solidFill>
                          <a:latin typeface="Times New Roman"/>
                          <a:ea typeface="全真楷書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9.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9.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2.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60.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ff"/>
                          </a:solidFill>
                          <a:latin typeface="Times New Roman"/>
                          <a:ea typeface="全真楷書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7.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4.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70.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68.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全體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8.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6.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3.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9.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85800" y="2895480"/>
            <a:ext cx="152388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DED7-18FD-40E4-9821-7DB10615CF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日本相關研究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4-4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80520" y="2819160"/>
            <a:ext cx="8153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華康新儷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華康新儷粗黑"/>
                <a:ea typeface="全真楷書"/>
              </a:rPr>
              <a:t>冬季速限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：積雪地區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華康新儷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夜間安全居住對策、居住環境寧靜對策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華康新儷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其他對策：天候、路面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華康新儷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方式：集中控制標誌、路面感應、手動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華康新儷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華康新儷粗黑"/>
                <a:ea typeface="全真楷書"/>
              </a:rPr>
              <a:t>權責機關：各地區警察署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16F2-171C-43E4-B533-A0909D778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歐美相關研究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4-1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320004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華康新儷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駕駛者在車速選擇上，會</a:t>
            </a:r>
            <a:r>
              <a:rPr b="1" lang="en-US" sz="3600" spc="-1" strike="noStrike">
                <a:solidFill>
                  <a:srgbClr val="ffff00"/>
                </a:solidFill>
                <a:latin typeface="華康新儷粗黑"/>
                <a:ea typeface="全真楷書"/>
              </a:rPr>
              <a:t>低估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可能造成死亡或危險之情況，且以滿足之心理因素取代。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  <a:p>
            <a:pPr lvl="1" marL="457200" algn="just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華康新儷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摘自：「交通安全與駕駛者」一書（</a:t>
            </a:r>
            <a:r>
              <a:rPr b="1" lang="en-US" sz="21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Leorard Evans</a:t>
            </a:r>
            <a:r>
              <a:rPr b="0" lang="en-US" sz="2100" spc="-1" strike="noStrike">
                <a:solidFill>
                  <a:srgbClr val="ffffcc"/>
                </a:solidFill>
                <a:latin typeface="華康新儷粗黑"/>
                <a:ea typeface="全真楷書"/>
              </a:rPr>
              <a:t>著）</a:t>
            </a:r>
            <a:endParaRPr b="0" lang="en-US" sz="21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AC43-FB95-498A-9A8E-B835670359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歐美相關研究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4-2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2133720"/>
            <a:ext cx="428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一般道路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法定速限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km/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514600"/>
            <a:ext cx="64008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55            60             65            70            75km/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4065480"/>
            <a:ext cx="4292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高速道路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法定速限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00km/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410000"/>
            <a:ext cx="7772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90         95        100        105       110        115      120km/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5812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經濟速度 安全速度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  <a:ea typeface="新細明體"/>
              </a:rPr>
              <a:t>實際速度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                     暢快速度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5334120"/>
            <a:ext cx="617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經濟速度             安全速度        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  <a:ea typeface="新細明體"/>
              </a:rPr>
              <a:t>實際速度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          暢快速度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3095640"/>
            <a:ext cx="381240" cy="409680"/>
          </a:xfrm>
          <a:prstGeom prst="upArrow">
            <a:avLst>
              <a:gd name="adj1" fmla="val 50000"/>
              <a:gd name="adj2" fmla="val 26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3095640"/>
            <a:ext cx="380880" cy="409680"/>
          </a:xfrm>
          <a:prstGeom prst="upArrow">
            <a:avLst>
              <a:gd name="adj1" fmla="val 50000"/>
              <a:gd name="adj2" fmla="val 268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3124080"/>
            <a:ext cx="380880" cy="409680"/>
          </a:xfrm>
          <a:prstGeom prst="upArrow">
            <a:avLst>
              <a:gd name="adj1" fmla="val 50000"/>
              <a:gd name="adj2" fmla="val 268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3095640"/>
            <a:ext cx="380880" cy="409680"/>
          </a:xfrm>
          <a:prstGeom prst="upArrow">
            <a:avLst>
              <a:gd name="adj1" fmla="val 50000"/>
              <a:gd name="adj2" fmla="val 2689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2971800"/>
            <a:ext cx="5105160" cy="0"/>
          </a:xfrm>
          <a:prstGeom prst="line">
            <a:avLst/>
          </a:prstGeom>
          <a:ln cap="sq"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5943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圖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2-1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駕駛人速度選擇變化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876920"/>
            <a:ext cx="6172200" cy="0"/>
          </a:xfrm>
          <a:prstGeom prst="line">
            <a:avLst/>
          </a:prstGeom>
          <a:ln cap="sq"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4924440"/>
            <a:ext cx="380880" cy="409680"/>
          </a:xfrm>
          <a:prstGeom prst="upArrow">
            <a:avLst>
              <a:gd name="adj1" fmla="val 50000"/>
              <a:gd name="adj2" fmla="val 268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4952880"/>
            <a:ext cx="380880" cy="409680"/>
          </a:xfrm>
          <a:prstGeom prst="upArrow">
            <a:avLst>
              <a:gd name="adj1" fmla="val 50000"/>
              <a:gd name="adj2" fmla="val 268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4952880"/>
            <a:ext cx="380880" cy="409680"/>
          </a:xfrm>
          <a:prstGeom prst="upArrow">
            <a:avLst>
              <a:gd name="adj1" fmla="val 50000"/>
              <a:gd name="adj2" fmla="val 268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4952880"/>
            <a:ext cx="381240" cy="409680"/>
          </a:xfrm>
          <a:prstGeom prst="upArrow">
            <a:avLst>
              <a:gd name="adj1" fmla="val 50000"/>
              <a:gd name="adj2" fmla="val 2686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209680"/>
            <a:ext cx="7162920" cy="175284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114800"/>
            <a:ext cx="7315200" cy="16765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1DBC-1E19-466B-BEB5-A8E0B3B530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歐美相關研究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4-3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2286000"/>
            <a:ext cx="2965320" cy="287964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9040" y="3965400"/>
            <a:ext cx="1611360" cy="16797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2760" y="4924440"/>
            <a:ext cx="1947960" cy="7207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2819520"/>
            <a:ext cx="2286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DRIV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91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6280" y="3994200"/>
            <a:ext cx="20336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O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32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911840"/>
            <a:ext cx="254016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VEHIC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9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54320" y="3005280"/>
            <a:ext cx="1270080" cy="24120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68760" y="4444920"/>
            <a:ext cx="59544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68760" y="4924440"/>
            <a:ext cx="76536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5403960"/>
            <a:ext cx="118728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4640" y="5403960"/>
            <a:ext cx="76212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29440" y="4202280"/>
            <a:ext cx="30668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oad+Driver=25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34120" y="4684680"/>
            <a:ext cx="2117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oad Only=2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48440" y="5165640"/>
            <a:ext cx="30463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Vehicle+Road=4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154480"/>
            <a:ext cx="25398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Vehicle Only=3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362320"/>
            <a:ext cx="32767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Driver Only =64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603396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圖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2-2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人車路因素所產生衝撞之比例關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33C6-7F5A-4336-AED9-688C491AF4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歐美相關研究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4-4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2133720"/>
            <a:ext cx="7086600" cy="3733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066680" y="2133720"/>
          <a:ext cx="67820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67820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990720" y="60199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圖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2-4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超速防治實施措施之公開意見調查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2590920"/>
            <a:ext cx="137160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6791-7447-4A63-8143-654E9B2B87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1158480"/>
            <a:ext cx="888516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華康新儷粗黑"/>
              </a:rPr>
              <a:t>簡報內容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115720"/>
            <a:ext cx="76197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華康新儷粗黑"/>
              </a:rPr>
              <a:t>一、前言</a:t>
            </a:r>
            <a:endParaRPr b="0" lang="en-US" sz="40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華康新儷粗黑"/>
              </a:rPr>
              <a:t>二、文獻回顧</a:t>
            </a:r>
            <a:endParaRPr b="0" lang="en-US" sz="40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華康新儷粗黑"/>
              </a:rPr>
              <a:t>三、速度與人因之關係</a:t>
            </a:r>
            <a:endParaRPr b="0" lang="en-US" sz="40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華康新儷粗黑"/>
              </a:rPr>
              <a:t>四、易肇事路段超速地點分析</a:t>
            </a:r>
            <a:endParaRPr b="0" lang="en-US" sz="40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華康新儷粗黑"/>
              </a:rPr>
              <a:t>五、超速地點改善方法</a:t>
            </a:r>
            <a:endParaRPr b="0" lang="en-US" sz="40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華康新儷粗黑"/>
              </a:rPr>
              <a:t>六、結論與建議</a:t>
            </a:r>
            <a:endParaRPr b="0" lang="en-US" sz="40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614-9DDD-4477-857E-D0C0B0015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三、速度與人因關係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D906-A221-4C85-9604-42A4D1141A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8552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華康新儷粗黑"/>
              </a:rPr>
              <a:t>日本交通安全白書統計：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華康新儷粗黑"/>
              </a:rPr>
              <a:t>第一當事人因超速而發生的死亡事故：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20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％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447920" y="2666880"/>
          <a:ext cx="5930640" cy="2070000"/>
        </p:xfrm>
        <a:graphic>
          <a:graphicData uri="http://schemas.openxmlformats.org/drawingml/2006/table">
            <a:tbl>
              <a:tblPr/>
              <a:tblGrid>
                <a:gridCol w="2965320"/>
                <a:gridCol w="296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年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件數（比例％）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1965(19.2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199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1707(17.9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199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1642(17.8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447920" y="52880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→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死亡事故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件中有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件為超速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D79-31B9-411E-B40E-7BF645A752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5410080"/>
            <a:ext cx="88851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圖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3-3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車速與衝撞力之關係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924200" y="1046160"/>
          <a:ext cx="5314680" cy="41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4200" y="1046160"/>
                    <a:ext cx="531468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7816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←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五層樓高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6BB-FEEF-44AB-A43A-B02162FF73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華康新儷粗黑"/>
              </a:rPr>
              <a:t>車輛停止之重要性</a:t>
            </a:r>
            <a:endParaRPr b="0" lang="en-US" sz="48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2666880"/>
            <a:ext cx="76964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踩踏板通常為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5-20Kg→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緊急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30-60Kg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乘車姿勢、鞋之變換→影響踩力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乘車人數多、貨車載物重→煞車距離長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華康新儷粗黑"/>
              </a:rPr>
              <a:t>→</a:t>
            </a:r>
            <a:r>
              <a:rPr b="1" lang="en-US" sz="3200" spc="-1" strike="noStrike">
                <a:solidFill>
                  <a:srgbClr val="ffff00"/>
                </a:solidFill>
                <a:latin typeface="華康新儷粗黑"/>
              </a:rPr>
              <a:t>煞車前低速行駛是必要的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21C7-4FA1-4744-9419-9D0FA44DC8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960" y="52578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圖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3-12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輪胎殘留溝深與停止距離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4920" y="990720"/>
            <a:ext cx="8457840" cy="4114800"/>
            <a:chOff x="304920" y="990720"/>
            <a:chExt cx="8457840" cy="4114800"/>
          </a:xfrm>
        </p:grpSpPr>
        <p:graphicFrame>
          <p:nvGraphicFramePr>
            <p:cNvPr id="214" name=""/>
            <p:cNvGraphicFramePr/>
            <p:nvPr/>
          </p:nvGraphicFramePr>
          <p:xfrm>
            <a:off x="304920" y="990720"/>
            <a:ext cx="5193000" cy="411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990720"/>
                      <a:ext cx="5193000" cy="4114800"/>
                    </a:xfrm>
                    <a:prstGeom prst="rect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600480" y="2808720"/>
              <a:ext cx="362520" cy="347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  <a:ea typeface="新細明體"/>
                </a:rPr>
                <a:t>(</a:t>
              </a:r>
              <a:r>
                <a:rPr b="0" lang="zh-CN" sz="2000" spc="-1" strike="noStrike">
                  <a:solidFill>
                    <a:srgbClr val="ff0066"/>
                  </a:solidFill>
                  <a:latin typeface="新細明體"/>
                  <a:ea typeface="新細明體"/>
                </a:rPr>
                <a:t>ｍ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42240" y="990720"/>
              <a:ext cx="2720520" cy="1042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新細明體"/>
                  <a:ea typeface="新細明體"/>
                </a:rPr>
                <a:t>   </a:t>
              </a:r>
              <a:r>
                <a:rPr b="0" lang="en-US" sz="2000" spc="-1" strike="noStrike">
                  <a:solidFill>
                    <a:srgbClr val="ff0066"/>
                  </a:solidFill>
                  <a:latin typeface="新細明體"/>
                  <a:ea typeface="新細明體"/>
                </a:rPr>
                <a:t>大　小：</a:t>
              </a:r>
              <a:r>
                <a:rPr b="0" lang="en-US" sz="2000" spc="-1" strike="noStrike">
                  <a:solidFill>
                    <a:srgbClr val="ff0066"/>
                  </a:solidFill>
                  <a:latin typeface="新細明體"/>
                  <a:ea typeface="新細明體"/>
                </a:rPr>
                <a:t>165SR13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新細明體"/>
                  <a:ea typeface="新細明體"/>
                </a:rPr>
                <a:t>   </a:t>
              </a:r>
              <a:r>
                <a:rPr b="0" lang="en-US" sz="2000" spc="-1" strike="noStrike">
                  <a:solidFill>
                    <a:srgbClr val="ff0066"/>
                  </a:solidFill>
                  <a:latin typeface="新細明體"/>
                  <a:ea typeface="新細明體"/>
                </a:rPr>
                <a:t>種　類：</a:t>
              </a:r>
              <a:r>
                <a:rPr b="0" lang="en-US" sz="2000" spc="-1" strike="noStrike">
                  <a:solidFill>
                    <a:srgbClr val="ff0066"/>
                  </a:solidFill>
                  <a:latin typeface="新細明體"/>
                  <a:ea typeface="新細明體"/>
                </a:rPr>
                <a:t>radial.rib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新細明體"/>
                  <a:ea typeface="新細明體"/>
                </a:rPr>
                <a:t>   </a:t>
              </a:r>
              <a:r>
                <a:rPr b="0" lang="en-US" sz="2000" spc="-1" strike="noStrike">
                  <a:solidFill>
                    <a:srgbClr val="ff0066"/>
                  </a:solidFill>
                  <a:latin typeface="新細明體"/>
                  <a:ea typeface="新細明體"/>
                </a:rPr>
                <a:t>路　面：瀝青濕潤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13D-7F71-4C0D-B516-A3618A296D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動體視野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動體視野 ：本身為移動狀態，眼睛位置不             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變所能看見的範圍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（ 靜體視野 ：本身為靜止移動狀態，眼睛              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華康新儷粗黑"/>
              </a:rPr>
              <a:t>位置不變所能看見的範圍。）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華康新儷粗黑"/>
              </a:rPr>
              <a:t>本身移動速度愈高→可視範圍愈狹小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華康新儷粗黑"/>
              </a:rPr>
              <a:t>→</a:t>
            </a:r>
            <a:r>
              <a:rPr b="0" lang="en-US" sz="3200" spc="-1" strike="noStrike">
                <a:solidFill>
                  <a:srgbClr val="ffff00"/>
                </a:solidFill>
                <a:latin typeface="華康新儷粗黑"/>
              </a:rPr>
              <a:t>對於危險狀態的發現便會遲緩。 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2FAC-A1D0-4EF5-87AF-739B5AD195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5473800"/>
            <a:ext cx="888552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圖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3-22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速度與動體視野之關係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838080"/>
            <a:ext cx="8153280" cy="472464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838080"/>
          <a:ext cx="8305920" cy="47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059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5EE-E641-4964-A9EE-8A7A82E478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5168880"/>
            <a:ext cx="888552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圖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3-23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動體視野概念圖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2280" y="1160640"/>
          <a:ext cx="8896320" cy="35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60640"/>
                    <a:ext cx="8896320" cy="35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873-3417-41F9-AC26-2C99CCF604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四、易肇事路段超速地點分析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AB8-D19F-4358-9B42-0F693EBAAE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表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4.1  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各期超速肇事地點數及所佔比例表</a:t>
            </a:r>
            <a:endParaRPr b="0" lang="en-US" sz="3800" spc="-1" strike="noStrike">
              <a:solidFill>
                <a:srgbClr val="ffffcc"/>
              </a:solidFill>
              <a:latin typeface="華康新儷粗黑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80880" y="1954080"/>
          <a:ext cx="8323560" cy="4135680"/>
        </p:xfrm>
        <a:graphic>
          <a:graphicData uri="http://schemas.openxmlformats.org/drawingml/2006/table">
            <a:tbl>
              <a:tblPr/>
              <a:tblGrid>
                <a:gridCol w="932040"/>
                <a:gridCol w="2057400"/>
                <a:gridCol w="1295280"/>
                <a:gridCol w="2057400"/>
                <a:gridCol w="1981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期別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期間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肇事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地點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因超速之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肇事地點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因超速而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肇事之比例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2.7</a:t>
                      </a: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3.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0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2.9</a:t>
                      </a: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％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3.7</a:t>
                      </a: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4.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0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1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7.2</a:t>
                      </a: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％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4.10</a:t>
                      </a: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5.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2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0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3.7</a:t>
                      </a: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％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5.7</a:t>
                      </a: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6.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8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1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8.9</a:t>
                      </a: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％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6.7</a:t>
                      </a: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7.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2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2.5</a:t>
                      </a: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％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2.7</a:t>
                      </a: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7.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43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0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35.1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％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53D-0EB5-4B6A-A614-893DC85AA6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294920"/>
            <a:ext cx="888552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一、前言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3123720"/>
            <a:ext cx="8305560" cy="17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研究緣起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研究目的及步驟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C5C-3F6A-4257-AC66-810369067F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9154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表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4.2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超速易肇事路段地點改善方式一覽表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(8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年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35000" y="1600200"/>
          <a:ext cx="8896320" cy="5052960"/>
        </p:xfrm>
        <a:graphic>
          <a:graphicData uri="http://schemas.openxmlformats.org/drawingml/2006/table">
            <a:tbl>
              <a:tblPr/>
              <a:tblGrid>
                <a:gridCol w="550800"/>
                <a:gridCol w="609480"/>
                <a:gridCol w="609840"/>
                <a:gridCol w="914400"/>
                <a:gridCol w="914400"/>
                <a:gridCol w="914400"/>
                <a:gridCol w="1218960"/>
                <a:gridCol w="1447920"/>
                <a:gridCol w="762120"/>
                <a:gridCol w="95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序號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期別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編號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改善地點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改善單位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道路特性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華康中黑體"/>
                          <a:ea typeface="華康中黑體"/>
                        </a:rPr>
                        <a:t>標誌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華康中黑體"/>
                          <a:ea typeface="華康中黑體"/>
                        </a:rPr>
                        <a:t>標線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華康中黑體"/>
                          <a:ea typeface="華康中黑體"/>
                        </a:rPr>
                        <a:t>號誌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華康中黑體"/>
                          <a:ea typeface="華康中黑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台北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交通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直路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實體分隔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台北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交通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直路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實體分隔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台北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交通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直路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取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嘉義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察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路口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遵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危３、導標、標記、槽化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嘉義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察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路口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遵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危３、導標、標記、槽化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嘉義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察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直路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告示牌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危３、導標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台南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察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彎道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3</a:t>
                      </a: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、遵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讓路線、標線、標記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台南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察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彎道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限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、輔２、告示牌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分向限制線、車道線、標記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反光鏡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台南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察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路口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標記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台南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察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路口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危３、減速標線、標記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4B9-733D-47F7-B20A-B90E844922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8552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表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4.7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超速防制設施種類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5400" y="1371600"/>
          <a:ext cx="8896320" cy="5379840"/>
        </p:xfrm>
        <a:graphic>
          <a:graphicData uri="http://schemas.openxmlformats.org/drawingml/2006/table">
            <a:tbl>
              <a:tblPr/>
              <a:tblGrid>
                <a:gridCol w="627120"/>
                <a:gridCol w="990360"/>
                <a:gridCol w="7278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項目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功   能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種          類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899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標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誌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警告標誌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彎路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1,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2)﹑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連續彎路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4)﹑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險坡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5,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6)﹑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岔路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～警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19)﹑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注意號誌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23)﹑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當心行人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34)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及慢行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警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49)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禁制標誌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停車再開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遵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1)﹑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讓路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遵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2)﹑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機慢車兩段左轉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遵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20)﹑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圓環遵行方向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遵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22)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及最高速限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限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5)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指示標誌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地名方向指示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指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22)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、停車場指示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指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50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、指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51)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輔助標誌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安全方向引導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(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輔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2)﹑</a:t>
                      </a: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告示牌﹑固定型拒馬及活動型拒馬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標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線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警告標線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標線：路寬變更線﹑近障礙物線﹑減速標線﹑反光導標及危險標記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標字：「慢」字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禁制標線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分向限制線﹑禁止超車線﹑禁止變換車道線﹑禁止停車線﹑禁止臨時停車線﹑停止線﹑槽化線﹑讓路線﹑網狀線及車種專用道標線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車種專用道標字、行車方向專用車道標字、「停」標字、「禁行機車」標字及速度限制標字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指示標線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行車分向線、車道線、路面邊線、快慢車道分隔線、左彎待轉區線、枕木紋行人穿越道線、斑馬紋行人穿越道線、公路行車安全距離辨識標線、指向線、轉彎線、車輛停放線及機慢車左轉待轉區線。標字：地名路名方向指示標字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路面標記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傳統反光路面標記及強化玻璃反光路面標記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號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誌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行車管制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定時號誌﹑交通感應號誌及交通調整號誌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行車專用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定時號誌及行人觸動號誌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特種交通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車道管制號誌﹑鐵路平交道號誌﹑行人穿越道號誌﹑特種閃光號誌及盲人音響號誌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7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cc"/>
                          </a:solidFill>
                          <a:latin typeface="華康中黑體"/>
                          <a:ea typeface="華康中黑體"/>
                        </a:rPr>
                        <a:t>其     他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增設護欄、防撞緩衝設施、超高、車道屏、自動超速闖紅燈照相、反光鏡、反光紙、降低坡度及加強違規取締。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D32-E4CA-4833-BB52-75D4B28F65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59688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表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4.8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縣市別超速地點改善方法比較表</a:t>
            </a:r>
            <a:endParaRPr b="0" lang="en-US" sz="4000" spc="-1" strike="noStrike">
              <a:solidFill>
                <a:srgbClr val="ffffcc"/>
              </a:solidFill>
              <a:latin typeface="華康新儷粗黑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04920" y="1600200"/>
          <a:ext cx="8574120" cy="4622760"/>
        </p:xfrm>
        <a:graphic>
          <a:graphicData uri="http://schemas.openxmlformats.org/drawingml/2006/table">
            <a:tbl>
              <a:tblPr/>
              <a:tblGrid>
                <a:gridCol w="10670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8017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標誌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標線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號誌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其他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警告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禁制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指示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輔助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警告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禁制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指示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標記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三色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閃光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特種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台北市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基隆市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新竹市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嘉義市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台南市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台北縣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桃園縣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新竹縣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苗栗縣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台中縣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南投縣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5DA-98B3-4899-A93B-B291B95683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888552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五、超速地點改善方法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488-4D89-44BD-8A98-CBF7F1D974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各縣市設置情形比較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19320" y="2971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縣市別改善超速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設施使用比較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表 （表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5.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） </a:t>
            </a:r>
            <a:endParaRPr b="0" lang="en-US" sz="2800" spc="-1" strike="noStrike">
              <a:solidFill>
                <a:srgbClr val="ffffcc"/>
              </a:solidFill>
              <a:latin typeface="華康新儷粗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縣市別改善超速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設施使用比例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表 （表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5.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） </a:t>
            </a:r>
            <a:endParaRPr b="0" lang="en-US" sz="2800" spc="-1" strike="noStrike">
              <a:solidFill>
                <a:srgbClr val="ffffcc"/>
              </a:solidFill>
              <a:latin typeface="華康新儷粗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各縣市易肇事地點提報數及其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超速肇事比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表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表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5.3) 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常見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改善超速設施設置比例表 （表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5.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）</a:t>
            </a:r>
            <a:endParaRPr b="0" lang="en-US" sz="28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4724280"/>
            <a:ext cx="762120" cy="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5A20-59FF-4B63-8116-F953C51873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常見改善超速設施設置比例表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76280" y="1905120"/>
          <a:ext cx="8286840" cy="468288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項目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功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比例（％）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標誌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警告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5.0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25.69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禁制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4.7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指示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0.5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輔助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15.3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華康新儷粗黑"/>
                          <a:ea typeface="華康新儷粗黑"/>
                        </a:rPr>
                        <a:t>標線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警告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19.0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華康新儷粗黑"/>
                        </a:rPr>
                        <a:t>57.41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禁制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11.5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指示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6.6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標記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20.1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號誌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9.4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其他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7.4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合計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華康新儷粗黑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BC3-4E88-43E9-919B-A49D60EA9C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8480" y="6858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表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5.5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其他可作為改善超速之優先設置排序表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62120" y="1752480"/>
          <a:ext cx="7561080" cy="4743360"/>
        </p:xfrm>
        <a:graphic>
          <a:graphicData uri="http://schemas.openxmlformats.org/drawingml/2006/table">
            <a:tbl>
              <a:tblPr/>
              <a:tblGrid>
                <a:gridCol w="2520720"/>
                <a:gridCol w="2519640"/>
                <a:gridCol w="252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排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種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類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使用次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全真楷書"/>
                          <a:ea typeface="全真楷書"/>
                        </a:rPr>
                        <a:t>增設護欄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全真楷書"/>
                          <a:ea typeface="全真楷書"/>
                        </a:rPr>
                        <a:t>自動超速闖紅燈照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全真楷書"/>
                          <a:ea typeface="全真楷書"/>
                        </a:rPr>
                        <a:t>實體分隔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反光鏡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加強違規取締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改善調整號誌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刨除標線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超高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車道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反光紙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拒馬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FBB-CEF8-4B7F-B5BB-48F2C6726A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表</a:t>
            </a:r>
            <a:r>
              <a:rPr b="0" lang="en-US" sz="3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5.6  </a:t>
            </a:r>
            <a:r>
              <a:rPr b="0" lang="en-US" sz="3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各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道路特性</a:t>
            </a:r>
            <a:r>
              <a:rPr b="0" lang="en-US" sz="3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別超速地點改善方法比較表</a:t>
            </a:r>
            <a:endParaRPr b="0" lang="en-US" sz="3400" spc="-1" strike="noStrike">
              <a:solidFill>
                <a:srgbClr val="ffffcc"/>
              </a:solidFill>
              <a:latin typeface="華康新儷粗黑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43000" y="1981080"/>
          <a:ext cx="6858000" cy="27338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標誌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標線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號誌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其他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合計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直路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6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7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彎道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17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7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4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0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路口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31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2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坡道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全真楷書"/>
                          <a:ea typeface="全真楷書"/>
                        </a:rPr>
                        <a:t>合計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4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全真楷書"/>
                        </a:rPr>
                        <a:t>75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2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31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1143000" y="5029200"/>
            <a:ext cx="624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516744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使用設施：以「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全真楷書"/>
              </a:rPr>
              <a:t>標線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」次數居多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常使用地點：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全真楷書"/>
              </a:rPr>
              <a:t>標誌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  <a:ea typeface="全真楷書"/>
              </a:rPr>
              <a:t>、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全真楷書"/>
              </a:rPr>
              <a:t>其他→彎道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；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全真楷書"/>
              </a:rPr>
              <a:t>標線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  <a:ea typeface="全真楷書"/>
              </a:rPr>
              <a:t>、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全真楷書"/>
              </a:rPr>
              <a:t>號誌→路口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338-4D31-46AF-A295-A396FEE6F0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00040" y="1282680"/>
            <a:ext cx="57150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五、結論與建議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pic>
        <p:nvPicPr>
          <p:cNvPr id="249" name="bd05515_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9096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19B-CCE2-4592-8C3E-AF34808002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結論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52480" y="2362320"/>
            <a:ext cx="4741920" cy="27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文獻部份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速度與人因部份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超速地點分析部份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華康新儷粗黑"/>
              </a:rPr>
              <a:t>後續研究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82E-E35E-4E75-83C1-AF0BF556EB0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研究緣起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286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由於人為或道路幾何線形設計等諸多因素，使得駕駛人會故意或不知不覺中超速行駛，此一行為卻大大影響了交通安全之維護。以本所歷年來所進行之「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易肇事路段改善計畫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」為例，每年會勘改善之地點中，肇事原因中以「超速」行為居首位，且每件事故幾乎皆造成人員之死傷。是故，如何能有效改善此一潛在危機便成了本研究之主要課題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40B8-2071-4102-B5F0-F340ECDF10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「文獻」部份結論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280" y="1600200"/>
          <a:ext cx="8896320" cy="5129280"/>
        </p:xfrm>
        <a:graphic>
          <a:graphicData uri="http://schemas.openxmlformats.org/drawingml/2006/table">
            <a:tbl>
              <a:tblPr/>
              <a:tblGrid>
                <a:gridCol w="627120"/>
                <a:gridCol w="1295640"/>
                <a:gridCol w="6973560"/>
              </a:tblGrid>
              <a:tr h="58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國內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高公局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高速公路違規告發事件中，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超速比例：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/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台北市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交通肇事原因中以「超速行駛」居首位。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實施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防範對策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可使事故率大幅降低。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193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國外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日本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交通安全最優先考量項目為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抑制速度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提昇。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過低      速限區間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之超速比例是較高的。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9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歐洲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合理速限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並適當取締方能有效改善交通。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德國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進行主要幹道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速限檢討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並提適切速限對策。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美國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駕駛人會以滿足之心理因素而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低估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可能造成自身死亡或危險之情況超速行駛。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1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華康新儷粗黑"/>
                          <a:ea typeface="華康新儷粗黑"/>
                        </a:rPr>
                        <a:t>加拿大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不適當速度及危險動作之駕駛所發生事故有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４％為死亡事故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CA9-714D-4D49-95CF-CB91421C084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「速度與人因」部份結論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0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日本交通安全白書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1995-1997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）資料顯示，第一當事人因違規而發生之死亡事故件數中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違規超速比例接近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％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華康新儷粗黑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日本相關分析結果顯示：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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過度緊張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易使駕駛人誤判資訊而造成操作錯誤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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未保持正確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乘車姿勢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駕車，煞停時無法以十足踏力煞車。 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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車輪接地面與路面間隙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滲入之雨水量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，會因車速高而增加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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對死亡與負傷情形而言，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危險認知速度值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有明顯差異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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行駛速度係依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主觀的感覺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來判斷，然極易造成速度與主題環境之誤差現象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亦即造成實際行駛速度比主觀認定速度高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00D-4FB8-48D9-9CF7-BAB371C45C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「超速地點分析」部份結論</a:t>
            </a: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3-1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9632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由「台灣區易肇事路段改善計畫」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(12-16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期）提報地點顯示，肇事原因屬於「超速」或「未減速慢行」之地點每年約佔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3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％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總體而言，各縣市對於超速地點改善之方法，以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標線」之使用比例最高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（佔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55.8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％），而「標線」之種類中又以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標記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之設置比例最高（佔標線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37.4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％）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在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標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方面，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輔助標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最多（佔標誌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60.5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％）。以縣市別作比較，在使用「標誌」作為改善設施之縣市中，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金門縣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所佔比例最高（佔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47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％）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在使用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標線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之比例上，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嘉義市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所佔比例最高（佔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78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％）。在使用「號誌」比例上，由於該改善方式非直接針對超速防治作改善，而係由於其他因素一併設置，故相對比例皆較低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FFD-1C8A-4C32-B213-215FCABD9A9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「超速地點分析」部份結論</a:t>
            </a: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3-2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96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本研究統計之易肇事地點數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1,438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處，其中因超速肇事之地點為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505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處，計算其比例為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35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％。其中依縣市別比較，易肇事地點中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因超速而肇事之比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為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新竹市佔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7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％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屬比例較高之縣市，依次為台南市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56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％、南投縣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54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％、台東縣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5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％、桃園縣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5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％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在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標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種類方面：警告性質以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叉路標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使用次數最多，禁制性質以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讓路標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使用次數最多，指示性質以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地名方向指示標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使用次數最多，輔助性質以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安全方向引導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（輔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）使用次數最多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在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標線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種類方面：警告性質以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反光導標與危險標記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使用次數最多，禁制性質以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禁制標線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（如分向限制線、禁止超車線、禁止變換車道線等）使用次數最多，指示性質以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指示標線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（如行車分向線、車道線、路面邊線等）使用次數最多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。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標記」佔總設施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％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FF2-F5D1-4EA0-8955-2CD46AF161B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「超速地點分析」部份結論</a:t>
            </a: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3-3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35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在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號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種類方面則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三色號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為最多。在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其他設施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方面，其種類則包括實體分隔設施（如安全分向島）、增設護欄（如紐澤西護欄）及防撞座等設施。使用次數依排序為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增設護欄」最高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，其次為設置「自動超速闖紅燈照相機」、設置「實體分隔」、加設「反光鏡」及「加強違規取締」等多項作法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在使用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標誌之時機以「彎道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」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較多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標線為「路口」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居多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號誌為「路口」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處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其他設施於「彎道」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處較常被使用。</a:t>
            </a:r>
            <a:endParaRPr b="0" lang="en-US" sz="2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60C-E48C-4E4D-9049-7370D142B48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「後續研究」部份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31520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華康新儷粗黑"/>
              </a:rPr>
              <a:t>針對</a:t>
            </a:r>
            <a:r>
              <a:rPr b="0" lang="en-US" sz="3200" spc="-1" strike="noStrike">
                <a:solidFill>
                  <a:srgbClr val="ffff00"/>
                </a:solidFill>
                <a:latin typeface="華康新儷粗黑"/>
              </a:rPr>
              <a:t>505</a:t>
            </a:r>
            <a:r>
              <a:rPr b="0" lang="en-US" sz="3200" spc="-1" strike="noStrike">
                <a:solidFill>
                  <a:srgbClr val="ffff00"/>
                </a:solidFill>
                <a:latin typeface="華康新儷粗黑"/>
              </a:rPr>
              <a:t>處易肇事路段中之超速路段，分析其</a:t>
            </a:r>
            <a:r>
              <a:rPr b="1" lang="en-US" sz="3200" spc="-1" strike="noStrike">
                <a:solidFill>
                  <a:srgbClr val="ff0066"/>
                </a:solidFill>
                <a:latin typeface="華康新儷粗黑"/>
              </a:rPr>
              <a:t>改善後之肇事數據</a:t>
            </a:r>
            <a:r>
              <a:rPr b="0" lang="en-US" sz="3200" spc="-1" strike="noStrike">
                <a:solidFill>
                  <a:srgbClr val="ffff00"/>
                </a:solidFill>
                <a:latin typeface="華康新儷粗黑"/>
              </a:rPr>
              <a:t>，以獲得不同改善措施之改善績效。</a:t>
            </a:r>
            <a:endParaRPr b="0" lang="en-US" sz="3200" spc="-1" strike="noStrike">
              <a:solidFill>
                <a:srgbClr val="ffffcc"/>
              </a:solidFill>
              <a:latin typeface="華康新儷粗黑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34120" y="3897360"/>
            <a:ext cx="251460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117-F52D-4919-8762-1379329F04A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建議</a:t>
            </a: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2-1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7044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建議一：除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全真楷書"/>
              </a:rPr>
              <a:t>積極進行交通安全設施之設置與教育宣導外，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  <a:ea typeface="全真楷書"/>
              </a:rPr>
              <a:t>全面重新檢討「規定速限」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全真楷書"/>
              </a:rPr>
              <a:t>之合理性並加以適當取締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是有其絕對必要性。</a:t>
            </a:r>
            <a:endParaRPr b="0" lang="en-US" sz="40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建議二：交通安全相關研究議題上可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全真楷書"/>
              </a:rPr>
              <a:t>朝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  <a:ea typeface="全真楷書"/>
              </a:rPr>
              <a:t>人因方面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全真楷書"/>
              </a:rPr>
              <a:t>進行探討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，如駕駛人心理、交通安全設施人性化等相關課題。</a:t>
            </a:r>
            <a:endParaRPr b="0" lang="en-US" sz="40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C86-2E81-4FD5-BD63-A6389791B8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4640" y="74880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建議</a:t>
            </a: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2-2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3995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建議三：為求該改善措施更具實效同時能加以驗證，建議各相關單位對於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全真楷書"/>
              </a:rPr>
              <a:t>相關肇事地點改善後之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全真楷書"/>
              </a:rPr>
              <a:t>績效評估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全真楷書"/>
              </a:rPr>
              <a:t>工作與研究課題應可同時推動並實施。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建議四：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全真楷書"/>
              </a:rPr>
              <a:t>加強交通安全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全真楷書"/>
              </a:rPr>
              <a:t>專業人員訓練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全真楷書"/>
              </a:rPr>
              <a:t>外，相關規範與設置規則內容之加強實有其必要性。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105520" y="5416560"/>
            <a:ext cx="243828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425-8D35-44CE-8C04-6EB5645780F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Ship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52448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114800" y="4114800"/>
            <a:ext cx="5029200" cy="208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華康新儷粗黑"/>
              </a:rPr>
              <a:t>簡報完畢</a:t>
            </a:r>
            <a:br>
              <a:rPr sz="7200"/>
            </a:br>
            <a:r>
              <a:rPr b="0" lang="en-US" sz="7200" spc="-1" strike="noStrike">
                <a:solidFill>
                  <a:srgbClr val="ff0066"/>
                </a:solidFill>
                <a:latin typeface="華康新儷粗黑"/>
              </a:rPr>
              <a:t>敬請指正</a:t>
            </a:r>
            <a:endParaRPr b="0" lang="en-US" sz="72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C04-221E-47D0-80E1-C851E71EDD3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研究目的及步驟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286000"/>
            <a:ext cx="7391160" cy="39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目的：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資料蒐集→瞭解原因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改善經驗→研擬策略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步驟：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文獻回顧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暨資料蒐集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749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探討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速度與人因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之關係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749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易肇事路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改善經驗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之分析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749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提出分析結果並研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改善策略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08E6-CBC7-48D8-96B2-19B0E102CE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1294920"/>
            <a:ext cx="888552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華康新儷粗黑"/>
              </a:rPr>
              <a:t>二、文獻回顧</a:t>
            </a:r>
            <a:endParaRPr b="0" lang="en-US" sz="44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3123720"/>
            <a:ext cx="8305560" cy="17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國內文獻資料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國外文獻資料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2F1-D4FC-4D24-9289-CE56EA3978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國內文獻資料 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4-1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55627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→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高速公路超速比例佔：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2/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2286000"/>
          <a:ext cx="7162560" cy="310500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  <a:gridCol w="1790640"/>
                <a:gridCol w="179064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表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.1 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高速公路違規取締統計表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總件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超速件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比率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,783,74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78,84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54.9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,683,88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,111,63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6.0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,879,91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,249,68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6.5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,621,22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,062,12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5.5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E962-6D7A-415B-B34D-D8D5468D2A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國內文獻資料 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4-2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510552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超速比例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：速限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90﹥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速限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原因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：速限雖不同但駕駛者行駛速率未有所差異。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2133720"/>
          <a:ext cx="8076960" cy="2857320"/>
        </p:xfrm>
        <a:graphic>
          <a:graphicData uri="http://schemas.openxmlformats.org/drawingml/2006/table">
            <a:tbl>
              <a:tblPr/>
              <a:tblGrid>
                <a:gridCol w="2692080"/>
                <a:gridCol w="2692440"/>
                <a:gridCol w="269244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表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2.2 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不同速限路段小型車超速時段百分比彙整表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區分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速限：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0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公里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/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速限：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100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公里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/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內側車道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8.6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76.1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中間車道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96.5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外側車道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.5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8.6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平    均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68.5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全真楷書"/>
                        </a:rPr>
                        <a:t>30.1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0786-4D30-462A-ACB4-61C084E176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國內文獻資料 </a:t>
            </a:r>
            <a:r>
              <a:rPr b="0" lang="en-US" sz="3600" spc="-1" strike="noStrike">
                <a:solidFill>
                  <a:srgbClr val="ffffcc"/>
                </a:solidFill>
                <a:latin typeface="華康新儷粗黑"/>
              </a:rPr>
              <a:t>4-3</a:t>
            </a:r>
            <a:endParaRPr b="0" lang="en-US" sz="3600" spc="-1" strike="noStrike">
              <a:solidFill>
                <a:srgbClr val="ffffcc"/>
              </a:solidFill>
              <a:latin typeface="華康新儷粗黑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602080"/>
            <a:ext cx="8305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台北市數據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83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年肇事原因：「超速行駛」→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首位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85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年超速行駛：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死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1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人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，傷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30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人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首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全真楷書"/>
              </a:rPr>
              <a:t>列管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全真楷書"/>
              </a:rPr>
              <a:t>事項：「超速」及酒醉駕車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7C0E-227D-4F43-B994-B3A7FDB36E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07:03:55Z</dcterms:created>
  <dc:creator>林亨杰</dc:creator>
  <dc:description/>
  <dc:language>en-US</dc:language>
  <cp:lastModifiedBy>林亨杰</cp:lastModifiedBy>
  <dcterms:modified xsi:type="dcterms:W3CDTF">2000-01-19T09:39:11Z</dcterms:modified>
  <cp:revision>67</cp:revision>
  <dc:subject/>
  <dc:title>二高後續計畫基隆汐止段通車後基隆市區車流動線規劃案</dc:title>
</cp:coreProperties>
</file>