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9CF-8BA8-4070-BDC7-686E0EB5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9F9E-6DC6-40DC-A937-014477B6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1E5-160A-4F89-8C24-18BF5052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2FD-260E-498B-939D-A0F8A88C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40A-ABA0-46C2-8090-90F56BBD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F10-9244-4238-A9AF-89AD424B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81D-1515-4015-A8C7-FF0403A5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378-48BE-484F-AD20-3B5071D4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57E5-53AF-492F-B8F3-1840D90D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6DCB-F640-4C33-9DAD-C00C940A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B55-82F3-4A98-A7E3-672FAFB5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871-8351-4BA6-8128-1A1E14F8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E6E3-8C39-4D5C-8A8B-4023BD473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鐵路業務電子化現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42040" y="4272120"/>
            <a:ext cx="1141560" cy="1207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72720" y="5651640"/>
            <a:ext cx="126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鐵路運輸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台鐵 高鐵 森林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捷運系統  輕軌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80200" y="184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航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40320" y="2620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公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13400" y="3271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海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7440" y="5010120"/>
            <a:ext cx="1128600" cy="83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0560" y="3792600"/>
            <a:ext cx="84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在家 辦公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在路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在車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在車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01800" y="2052720"/>
            <a:ext cx="18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安全   效率   便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高品質服務  環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16040" y="2911320"/>
            <a:ext cx="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03720" y="4724280"/>
            <a:ext cx="103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網路電話 電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有線電視等通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資訊設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06440" y="4646520"/>
            <a:ext cx="2838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913120" y="4006800"/>
            <a:ext cx="582480" cy="525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722760" y="4137120"/>
            <a:ext cx="338040" cy="320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025720" y="3559320"/>
            <a:ext cx="627120" cy="89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 flipH="1">
            <a:off x="7929720" y="3708360"/>
            <a:ext cx="985680" cy="444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V="1">
            <a:off x="6029280" y="4614840"/>
            <a:ext cx="949320" cy="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726320" y="3209760"/>
            <a:ext cx="162000" cy="916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8040600" y="3094200"/>
            <a:ext cx="809640" cy="210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325440" y="2516040"/>
            <a:ext cx="911160" cy="13096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819520" y="3247920"/>
            <a:ext cx="1042920" cy="381240"/>
            <a:chOff x="2819520" y="3247920"/>
            <a:chExt cx="1042920" cy="381240"/>
          </a:xfrm>
        </p:grpSpPr>
        <p:sp>
          <p:nvSpPr>
            <p:cNvPr id="62" name=""/>
            <p:cNvSpPr/>
            <p:nvPr/>
          </p:nvSpPr>
          <p:spPr>
            <a:xfrm>
              <a:off x="3132720" y="3247920"/>
              <a:ext cx="72972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43320" y="3518280"/>
              <a:ext cx="4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SUN" descr=""/>
            <p:cNvPicPr/>
            <p:nvPr/>
          </p:nvPicPr>
          <p:blipFill>
            <a:blip r:embed="rId9"/>
            <a:stretch/>
          </p:blipFill>
          <p:spPr>
            <a:xfrm>
              <a:off x="3642840" y="3279240"/>
              <a:ext cx="135000" cy="16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10160" y="344124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SERVER" descr=""/>
            <p:cNvPicPr/>
            <p:nvPr/>
          </p:nvPicPr>
          <p:blipFill>
            <a:blip r:embed="rId10"/>
            <a:stretch/>
          </p:blipFill>
          <p:spPr>
            <a:xfrm>
              <a:off x="3209040" y="3290760"/>
              <a:ext cx="109800" cy="2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1"/>
            <a:stretch/>
          </p:blipFill>
          <p:spPr>
            <a:xfrm>
              <a:off x="2819520" y="3404160"/>
              <a:ext cx="18540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002400" y="3441240"/>
              <a:ext cx="201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149600" y="3274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轉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64520" y="4757760"/>
            <a:ext cx="1034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電話及網路訂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34280" y="3930480"/>
            <a:ext cx="1034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電話及網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時刻及票價查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475400" y="44830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鐵路運輸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158320" y="2274840"/>
            <a:ext cx="985680" cy="880920"/>
            <a:chOff x="8158320" y="2274840"/>
            <a:chExt cx="985680" cy="880920"/>
          </a:xfrm>
        </p:grpSpPr>
        <p:sp>
          <p:nvSpPr>
            <p:cNvPr id="74" name=""/>
            <p:cNvSpPr/>
            <p:nvPr/>
          </p:nvSpPr>
          <p:spPr>
            <a:xfrm>
              <a:off x="8434080" y="2274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海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 flipH="1">
              <a:off x="8158320" y="2711160"/>
              <a:ext cx="98568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4835520" y="2629080"/>
            <a:ext cx="12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行程規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42240" y="17226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平交道自動防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73600" y="54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航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40200" y="300996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即時資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51360" y="2168640"/>
            <a:ext cx="12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轉乘資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4040" y="3807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先進整合票證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434080" y="131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公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66360" y="4157640"/>
            <a:ext cx="51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訂票、購票、取票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驗票、退票的便民服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11200" y="3708360"/>
            <a:ext cx="1128600" cy="835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23960" y="2490840"/>
            <a:ext cx="84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在家 辦公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在路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在車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在車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95560" y="750960"/>
            <a:ext cx="18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安全   效率   便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高品質服務  環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97480" y="3422520"/>
            <a:ext cx="103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網路電話 電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有線電視等通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資訊設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3344760"/>
            <a:ext cx="2838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06880" y="2705040"/>
            <a:ext cx="582480" cy="525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016520" y="2835360"/>
            <a:ext cx="338040" cy="320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319480" y="2257560"/>
            <a:ext cx="626760" cy="890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6323040" y="3313080"/>
            <a:ext cx="949320" cy="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8020080" y="1908000"/>
            <a:ext cx="162000" cy="916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34360" y="1792440"/>
            <a:ext cx="809640" cy="210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619200" y="1214280"/>
            <a:ext cx="911160" cy="13096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112920" y="1946160"/>
            <a:ext cx="1043280" cy="381240"/>
            <a:chOff x="3112920" y="1946160"/>
            <a:chExt cx="1043280" cy="381240"/>
          </a:xfrm>
        </p:grpSpPr>
        <p:sp>
          <p:nvSpPr>
            <p:cNvPr id="97" name=""/>
            <p:cNvSpPr/>
            <p:nvPr/>
          </p:nvSpPr>
          <p:spPr>
            <a:xfrm>
              <a:off x="3426120" y="1946160"/>
              <a:ext cx="73008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36720" y="2216520"/>
              <a:ext cx="4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SUN" descr=""/>
            <p:cNvPicPr/>
            <p:nvPr/>
          </p:nvPicPr>
          <p:blipFill>
            <a:blip r:embed="rId8"/>
            <a:stretch/>
          </p:blipFill>
          <p:spPr>
            <a:xfrm>
              <a:off x="3936600" y="1977480"/>
              <a:ext cx="135000" cy="16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003920" y="213948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SERVER" descr=""/>
            <p:cNvPicPr/>
            <p:nvPr/>
          </p:nvPicPr>
          <p:blipFill>
            <a:blip r:embed="rId9"/>
            <a:stretch/>
          </p:blipFill>
          <p:spPr>
            <a:xfrm>
              <a:off x="3502440" y="1989000"/>
              <a:ext cx="110160" cy="2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0"/>
            <a:stretch/>
          </p:blipFill>
          <p:spPr>
            <a:xfrm>
              <a:off x="3112920" y="2102400"/>
              <a:ext cx="18576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295800" y="2139480"/>
              <a:ext cx="201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7443360" y="1973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轉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12200" y="4781520"/>
            <a:ext cx="1034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電話及網路訂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12200" y="3363840"/>
            <a:ext cx="1034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時刻及票價查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5657760"/>
            <a:ext cx="56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2.2-1 </a:t>
            </a:r>
            <a:r>
              <a:rPr b="0" lang="zh-TW" sz="1600" spc="-1" strike="noStrike">
                <a:solidFill>
                  <a:srgbClr val="000000"/>
                </a:solidFill>
                <a:latin typeface="華康中楷體"/>
                <a:ea typeface="華康中楷體"/>
              </a:rPr>
              <a:t>鐵路次部門電子化業務未來展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7905600" y="971640"/>
            <a:ext cx="936720" cy="4442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7048440" y="3613320"/>
            <a:ext cx="1606320" cy="729360"/>
            <a:chOff x="7048440" y="3613320"/>
            <a:chExt cx="1606320" cy="729360"/>
          </a:xfrm>
        </p:grpSpPr>
        <p:sp>
          <p:nvSpPr>
            <p:cNvPr id="110" name=""/>
            <p:cNvSpPr/>
            <p:nvPr/>
          </p:nvSpPr>
          <p:spPr>
            <a:xfrm>
              <a:off x="7048440" y="3735360"/>
              <a:ext cx="586800" cy="556560"/>
            </a:xfrm>
            <a:prstGeom prst="rect">
              <a:avLst/>
            </a:prstGeom>
            <a:gradFill rotWithShape="0">
              <a:gsLst>
                <a:gs pos="0">
                  <a:srgbClr val="6f4237"/>
                </a:gs>
                <a:gs pos="100000">
                  <a:srgbClr val="a06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29640" y="4237920"/>
              <a:ext cx="352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65120" y="4233600"/>
              <a:ext cx="35280" cy="103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80160" y="4237920"/>
              <a:ext cx="33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41560" y="4233600"/>
              <a:ext cx="33480" cy="103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81800" y="4165920"/>
              <a:ext cx="263880" cy="117000"/>
            </a:xfrm>
            <a:prstGeom prst="rect">
              <a:avLst/>
            </a:prstGeom>
            <a:solidFill>
              <a:srgbClr val="303030"/>
            </a:solidFill>
            <a:ln w="12600">
              <a:solidFill>
                <a:srgbClr val="303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66920" y="4160880"/>
              <a:ext cx="224280" cy="122040"/>
            </a:xfrm>
            <a:prstGeom prst="rect">
              <a:avLst/>
            </a:prstGeom>
            <a:solidFill>
              <a:srgbClr val="303030"/>
            </a:solidFill>
            <a:ln w="12600">
              <a:solidFill>
                <a:srgbClr val="303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31280" y="3748680"/>
              <a:ext cx="23760" cy="5032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39560" y="3617280"/>
              <a:ext cx="1015200" cy="716040"/>
            </a:xfrm>
            <a:custGeom>
              <a:avLst/>
              <a:gdLst/>
              <a:ahLst/>
              <a:rect l="l" t="t" r="r" b="b"/>
              <a:pathLst>
                <a:path w="512" h="158">
                  <a:moveTo>
                    <a:pt x="0" y="18"/>
                  </a:moveTo>
                  <a:lnTo>
                    <a:pt x="0" y="154"/>
                  </a:lnTo>
                  <a:lnTo>
                    <a:pt x="7" y="157"/>
                  </a:lnTo>
                  <a:lnTo>
                    <a:pt x="20" y="122"/>
                  </a:lnTo>
                  <a:lnTo>
                    <a:pt x="107" y="123"/>
                  </a:lnTo>
                  <a:lnTo>
                    <a:pt x="123" y="157"/>
                  </a:lnTo>
                  <a:lnTo>
                    <a:pt x="344" y="157"/>
                  </a:lnTo>
                  <a:lnTo>
                    <a:pt x="353" y="123"/>
                  </a:lnTo>
                  <a:lnTo>
                    <a:pt x="436" y="122"/>
                  </a:lnTo>
                  <a:lnTo>
                    <a:pt x="449" y="157"/>
                  </a:lnTo>
                  <a:lnTo>
                    <a:pt x="500" y="157"/>
                  </a:lnTo>
                  <a:lnTo>
                    <a:pt x="499" y="139"/>
                  </a:lnTo>
                  <a:lnTo>
                    <a:pt x="511" y="128"/>
                  </a:lnTo>
                  <a:lnTo>
                    <a:pt x="511" y="110"/>
                  </a:lnTo>
                  <a:lnTo>
                    <a:pt x="486" y="92"/>
                  </a:lnTo>
                  <a:lnTo>
                    <a:pt x="454" y="67"/>
                  </a:lnTo>
                  <a:lnTo>
                    <a:pt x="427" y="29"/>
                  </a:lnTo>
                  <a:lnTo>
                    <a:pt x="379" y="24"/>
                  </a:lnTo>
                  <a:lnTo>
                    <a:pt x="360" y="11"/>
                  </a:lnTo>
                  <a:lnTo>
                    <a:pt x="222" y="11"/>
                  </a:lnTo>
                  <a:lnTo>
                    <a:pt x="206" y="2"/>
                  </a:lnTo>
                  <a:lnTo>
                    <a:pt x="124" y="2"/>
                  </a:lnTo>
                  <a:lnTo>
                    <a:pt x="122" y="15"/>
                  </a:lnTo>
                  <a:lnTo>
                    <a:pt x="116" y="15"/>
                  </a:lnTo>
                  <a:lnTo>
                    <a:pt x="116" y="2"/>
                  </a:lnTo>
                  <a:lnTo>
                    <a:pt x="79" y="2"/>
                  </a:lnTo>
                  <a:lnTo>
                    <a:pt x="72" y="6"/>
                  </a:lnTo>
                  <a:lnTo>
                    <a:pt x="72" y="13"/>
                  </a:lnTo>
                  <a:lnTo>
                    <a:pt x="56" y="13"/>
                  </a:lnTo>
                  <a:lnTo>
                    <a:pt x="55" y="0"/>
                  </a:lnTo>
                  <a:lnTo>
                    <a:pt x="42" y="2"/>
                  </a:lnTo>
                  <a:lnTo>
                    <a:pt x="41" y="13"/>
                  </a:lnTo>
                  <a:lnTo>
                    <a:pt x="6" y="13"/>
                  </a:lnTo>
                  <a:lnTo>
                    <a:pt x="0" y="18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37040" y="3776400"/>
              <a:ext cx="1011600" cy="556560"/>
            </a:xfrm>
            <a:custGeom>
              <a:avLst/>
              <a:gdLst/>
              <a:ahLst/>
              <a:rect l="l" t="t" r="r" b="b"/>
              <a:pathLst>
                <a:path w="510" h="123">
                  <a:moveTo>
                    <a:pt x="406" y="0"/>
                  </a:moveTo>
                  <a:lnTo>
                    <a:pt x="437" y="36"/>
                  </a:lnTo>
                  <a:lnTo>
                    <a:pt x="509" y="87"/>
                  </a:lnTo>
                  <a:lnTo>
                    <a:pt x="505" y="99"/>
                  </a:lnTo>
                  <a:lnTo>
                    <a:pt x="477" y="112"/>
                  </a:lnTo>
                  <a:lnTo>
                    <a:pt x="453" y="115"/>
                  </a:lnTo>
                  <a:lnTo>
                    <a:pt x="449" y="115"/>
                  </a:lnTo>
                  <a:lnTo>
                    <a:pt x="437" y="92"/>
                  </a:lnTo>
                  <a:lnTo>
                    <a:pt x="356" y="92"/>
                  </a:lnTo>
                  <a:lnTo>
                    <a:pt x="344" y="122"/>
                  </a:lnTo>
                  <a:lnTo>
                    <a:pt x="119" y="120"/>
                  </a:lnTo>
                  <a:lnTo>
                    <a:pt x="109" y="90"/>
                  </a:lnTo>
                  <a:lnTo>
                    <a:pt x="23" y="90"/>
                  </a:lnTo>
                  <a:lnTo>
                    <a:pt x="10" y="122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406" y="0"/>
                  </a:lnTo>
                </a:path>
              </a:pathLst>
            </a:custGeom>
            <a:solidFill>
              <a:srgbClr val="e02000"/>
            </a:solidFill>
            <a:ln cap="rnd" w="12600">
              <a:solidFill>
                <a:srgbClr val="e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8492040" y="3780720"/>
              <a:ext cx="55080" cy="14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5520" y="4083840"/>
              <a:ext cx="1013400" cy="77040"/>
            </a:xfrm>
            <a:custGeom>
              <a:avLst/>
              <a:gdLst/>
              <a:ahLst/>
              <a:rect l="l" t="t" r="r" b="b"/>
              <a:pathLst>
                <a:path w="511" h="17">
                  <a:moveTo>
                    <a:pt x="487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510" y="16"/>
                  </a:lnTo>
                  <a:lnTo>
                    <a:pt x="487" y="0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71440" y="3744720"/>
              <a:ext cx="98640" cy="3564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49" y="0"/>
                  </a:moveTo>
                  <a:lnTo>
                    <a:pt x="18" y="0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21720" y="3934800"/>
              <a:ext cx="555480" cy="154080"/>
            </a:xfrm>
            <a:custGeom>
              <a:avLst/>
              <a:gdLst/>
              <a:ahLst/>
              <a:rect l="l" t="t" r="r" b="b"/>
              <a:pathLst>
                <a:path w="280" h="34">
                  <a:moveTo>
                    <a:pt x="0" y="0"/>
                  </a:moveTo>
                  <a:lnTo>
                    <a:pt x="266" y="0"/>
                  </a:lnTo>
                  <a:lnTo>
                    <a:pt x="279" y="33"/>
                  </a:lnTo>
                  <a:lnTo>
                    <a:pt x="0" y="3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864920" y="4329360"/>
              <a:ext cx="46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5520" y="3907080"/>
              <a:ext cx="749880" cy="172440"/>
            </a:xfrm>
            <a:custGeom>
              <a:avLst/>
              <a:gdLst/>
              <a:ahLst/>
              <a:rect l="l" t="t" r="r" b="b"/>
              <a:pathLst>
                <a:path w="378" h="38">
                  <a:moveTo>
                    <a:pt x="376" y="37"/>
                  </a:moveTo>
                  <a:lnTo>
                    <a:pt x="377" y="34"/>
                  </a:lnTo>
                  <a:lnTo>
                    <a:pt x="36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360" y="6"/>
                  </a:lnTo>
                  <a:lnTo>
                    <a:pt x="376" y="37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5520" y="3748680"/>
              <a:ext cx="753840" cy="22320"/>
            </a:xfrm>
            <a:prstGeom prst="rect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38080" y="3699360"/>
              <a:ext cx="315360" cy="71640"/>
            </a:xfrm>
            <a:custGeom>
              <a:avLst/>
              <a:gdLst/>
              <a:ahLst/>
              <a:rect l="l" t="t" r="r" b="b"/>
              <a:pathLst>
                <a:path w="159" h="16">
                  <a:moveTo>
                    <a:pt x="158" y="0"/>
                  </a:moveTo>
                  <a:lnTo>
                    <a:pt x="158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522280" y="3902760"/>
              <a:ext cx="128880" cy="19908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60" y="43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64" y="43"/>
                  </a:lnTo>
                  <a:lnTo>
                    <a:pt x="60" y="4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12840" y="3776400"/>
              <a:ext cx="170640" cy="28944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16" y="0"/>
                  </a:moveTo>
                  <a:lnTo>
                    <a:pt x="40" y="28"/>
                  </a:lnTo>
                  <a:lnTo>
                    <a:pt x="85" y="59"/>
                  </a:lnTo>
                  <a:lnTo>
                    <a:pt x="83" y="63"/>
                  </a:lnTo>
                  <a:lnTo>
                    <a:pt x="13" y="27"/>
                  </a:lnTo>
                  <a:lnTo>
                    <a:pt x="0" y="1"/>
                  </a:lnTo>
                  <a:lnTo>
                    <a:pt x="16" y="0"/>
                  </a:lnTo>
                </a:path>
              </a:pathLst>
            </a:custGeom>
            <a:solidFill>
              <a:srgbClr val="c00000"/>
            </a:solidFill>
            <a:ln cap="rnd"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71600" y="4015800"/>
              <a:ext cx="79560" cy="26676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16" y="2"/>
                  </a:moveTo>
                  <a:lnTo>
                    <a:pt x="25" y="8"/>
                  </a:lnTo>
                  <a:lnTo>
                    <a:pt x="37" y="19"/>
                  </a:lnTo>
                  <a:lnTo>
                    <a:pt x="39" y="30"/>
                  </a:lnTo>
                  <a:lnTo>
                    <a:pt x="39" y="36"/>
                  </a:lnTo>
                  <a:lnTo>
                    <a:pt x="38" y="40"/>
                  </a:lnTo>
                  <a:lnTo>
                    <a:pt x="33" y="44"/>
                  </a:lnTo>
                  <a:lnTo>
                    <a:pt x="26" y="49"/>
                  </a:lnTo>
                  <a:lnTo>
                    <a:pt x="17" y="54"/>
                  </a:lnTo>
                  <a:lnTo>
                    <a:pt x="1" y="58"/>
                  </a:lnTo>
                  <a:lnTo>
                    <a:pt x="0" y="39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3" y="7"/>
                  </a:lnTo>
                  <a:lnTo>
                    <a:pt x="13" y="0"/>
                  </a:lnTo>
                  <a:lnTo>
                    <a:pt x="16" y="2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01480" y="4052880"/>
              <a:ext cx="37440" cy="583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6" y="12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8" y="9"/>
                  </a:lnTo>
                  <a:lnTo>
                    <a:pt x="16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43080" y="3799080"/>
              <a:ext cx="98640" cy="10764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29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49" y="23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67480" y="3726000"/>
              <a:ext cx="120960" cy="54360"/>
            </a:xfrm>
            <a:custGeom>
              <a:avLst/>
              <a:gdLst/>
              <a:ahLst/>
              <a:rect l="l" t="t" r="r" b="b"/>
              <a:pathLst>
                <a:path w="61" h="12">
                  <a:moveTo>
                    <a:pt x="60" y="4"/>
                  </a:moveTo>
                  <a:lnTo>
                    <a:pt x="39" y="10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60" y="4"/>
                  </a:lnTo>
                </a:path>
              </a:pathLst>
            </a:custGeom>
            <a:solidFill>
              <a:srgbClr val="a04000"/>
            </a:solidFill>
            <a:ln cap="rnd"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55040" y="3613320"/>
              <a:ext cx="422280" cy="71640"/>
            </a:xfrm>
            <a:custGeom>
              <a:avLst/>
              <a:gdLst/>
              <a:ahLst/>
              <a:rect l="l" t="t" r="r" b="b"/>
              <a:pathLst>
                <a:path w="213" h="16">
                  <a:moveTo>
                    <a:pt x="212" y="12"/>
                  </a:moveTo>
                  <a:lnTo>
                    <a:pt x="68" y="12"/>
                  </a:lnTo>
                  <a:lnTo>
                    <a:pt x="0" y="15"/>
                  </a:lnTo>
                  <a:lnTo>
                    <a:pt x="32" y="14"/>
                  </a:lnTo>
                  <a:lnTo>
                    <a:pt x="32" y="0"/>
                  </a:lnTo>
                  <a:lnTo>
                    <a:pt x="52" y="0"/>
                  </a:lnTo>
                  <a:lnTo>
                    <a:pt x="50" y="15"/>
                  </a:lnTo>
                  <a:lnTo>
                    <a:pt x="65" y="15"/>
                  </a:lnTo>
                  <a:lnTo>
                    <a:pt x="64" y="8"/>
                  </a:lnTo>
                  <a:lnTo>
                    <a:pt x="70" y="4"/>
                  </a:lnTo>
                  <a:lnTo>
                    <a:pt x="106" y="3"/>
                  </a:lnTo>
                  <a:lnTo>
                    <a:pt x="108" y="15"/>
                  </a:lnTo>
                  <a:lnTo>
                    <a:pt x="113" y="14"/>
                  </a:lnTo>
                  <a:lnTo>
                    <a:pt x="116" y="3"/>
                  </a:lnTo>
                  <a:lnTo>
                    <a:pt x="196" y="3"/>
                  </a:lnTo>
                  <a:lnTo>
                    <a:pt x="212" y="12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13840" y="3938760"/>
              <a:ext cx="59040" cy="14472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29" y="31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2" y="31"/>
                  </a:lnTo>
                  <a:lnTo>
                    <a:pt x="29" y="31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16160" y="4252320"/>
              <a:ext cx="118440" cy="8496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30" y="10"/>
                  </a:moveTo>
                  <a:lnTo>
                    <a:pt x="0" y="18"/>
                  </a:lnTo>
                  <a:lnTo>
                    <a:pt x="59" y="18"/>
                  </a:lnTo>
                  <a:lnTo>
                    <a:pt x="59" y="0"/>
                  </a:lnTo>
                  <a:lnTo>
                    <a:pt x="30" y="1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7T01:13:44Z</dcterms:created>
  <dc:creator>USERS</dc:creator>
  <dc:description/>
  <dc:language>en-US</dc:language>
  <cp:lastModifiedBy>林楨家</cp:lastModifiedBy>
  <cp:lastPrinted>2098-03-02T02:58:20Z</cp:lastPrinted>
  <dcterms:modified xsi:type="dcterms:W3CDTF">2098-03-02T03:01:58Z</dcterms:modified>
  <cp:revision>31</cp:revision>
  <dc:subject/>
  <dc:title>無投影片標題</dc:title>
</cp:coreProperties>
</file>