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BB0-C2E8-4E63-A2B7-A6EFEE07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55F-266B-4AC7-AE66-2232399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074-B348-4C2D-A229-AC454361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DA8-D862-404D-8BE5-8E516FFD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CA1-AC7B-4AC5-AFC3-D677F38B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12B-F3FA-400B-86FE-141C9303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44C-0C8D-48C3-9416-C44A473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951-B34F-4ADB-AD14-578E9EB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20D-3C7C-475C-80BD-93B43961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D05-52B3-4B69-B4E3-C4B2749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630-4F51-49DB-B8C8-87C3CE14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C3F-B809-4AB5-B73F-088D341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057-6C07-4590-B842-0ED94D0D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wmf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8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53200" y="3468600"/>
            <a:ext cx="486000" cy="55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75160" y="2428920"/>
            <a:ext cx="1141200" cy="120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371000" y="3633840"/>
            <a:ext cx="38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50240" y="4427640"/>
            <a:ext cx="40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真伺服器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000" y="3949560"/>
            <a:ext cx="20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中華電信數據分公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﹝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HiNet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GSN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FR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440" y="3699000"/>
          <a:ext cx="1245960" cy="107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440" y="3699000"/>
                    <a:ext cx="12459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076400" y="3909960"/>
          <a:ext cx="182232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6400" y="3909960"/>
                    <a:ext cx="18223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280520" y="41608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427120" y="5084640"/>
            <a:ext cx="72576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866960" y="3003480"/>
            <a:ext cx="1058760" cy="496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82640" y="5024520"/>
            <a:ext cx="669960" cy="850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890640" y="2886120"/>
            <a:ext cx="909720" cy="6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75640" y="5840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680" y="5843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信業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9840" y="25718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般民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434000">
            <a:off x="2894040" y="3779640"/>
            <a:ext cx="1015920" cy="150480"/>
          </a:xfrm>
          <a:prstGeom prst="leftRightArrow">
            <a:avLst>
              <a:gd name="adj1" fmla="val 50000"/>
              <a:gd name="adj2" fmla="val 1343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37240" y="463680"/>
            <a:ext cx="3660120" cy="1993680"/>
            <a:chOff x="4737240" y="463680"/>
            <a:chExt cx="3660120" cy="1993680"/>
          </a:xfrm>
        </p:grpSpPr>
        <p:sp>
          <p:nvSpPr>
            <p:cNvPr id="60" name=""/>
            <p:cNvSpPr/>
            <p:nvPr/>
          </p:nvSpPr>
          <p:spPr>
            <a:xfrm>
              <a:off x="5424120" y="463680"/>
              <a:ext cx="2973240" cy="19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51080" y="1654200"/>
              <a:ext cx="21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AN" descr=""/>
            <p:cNvPicPr/>
            <p:nvPr/>
          </p:nvPicPr>
          <p:blipFill>
            <a:blip r:embed="rId10"/>
            <a:stretch/>
          </p:blipFill>
          <p:spPr>
            <a:xfrm>
              <a:off x="7224480" y="2028960"/>
              <a:ext cx="380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432560" y="165564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SERVER" descr=""/>
            <p:cNvPicPr/>
            <p:nvPr/>
          </p:nvPicPr>
          <p:blipFill>
            <a:blip r:embed="rId11"/>
            <a:stretch/>
          </p:blipFill>
          <p:spPr>
            <a:xfrm>
              <a:off x="6284520" y="841320"/>
              <a:ext cx="28404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22760" y="1354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4600" y="18367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路由器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SERVER" descr=""/>
            <p:cNvPicPr/>
            <p:nvPr/>
          </p:nvPicPr>
          <p:blipFill>
            <a:blip r:embed="rId12"/>
            <a:stretch/>
          </p:blipFill>
          <p:spPr>
            <a:xfrm>
              <a:off x="6805440" y="835200"/>
              <a:ext cx="2836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943320" y="1347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ERVER" descr=""/>
            <p:cNvPicPr/>
            <p:nvPr/>
          </p:nvPicPr>
          <p:blipFill>
            <a:blip r:embed="rId13"/>
            <a:stretch/>
          </p:blipFill>
          <p:spPr>
            <a:xfrm>
              <a:off x="7311600" y="828720"/>
              <a:ext cx="28404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449840" y="1341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737240" y="476280"/>
              <a:ext cx="137124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標楷體"/>
                </a:rPr>
                <a:t>便民應用服務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標楷體"/>
                <a:ea typeface="標楷體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89400" y="2562120"/>
            <a:ext cx="3222720" cy="3367080"/>
            <a:chOff x="5189400" y="2562120"/>
            <a:chExt cx="3222720" cy="3367080"/>
          </a:xfrm>
        </p:grpSpPr>
        <p:sp>
          <p:nvSpPr>
            <p:cNvPr id="73" name=""/>
            <p:cNvSpPr/>
            <p:nvPr/>
          </p:nvSpPr>
          <p:spPr>
            <a:xfrm>
              <a:off x="5654520" y="2562120"/>
              <a:ext cx="2757600" cy="33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5514840" y="3884400"/>
            <a:ext cx="1208160" cy="701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514840" y="3884400"/>
                      <a:ext cx="1208160" cy="7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 flipH="1">
              <a:off x="6579720" y="3798720"/>
              <a:ext cx="14292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681600" y="4268880"/>
              <a:ext cx="2858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3680" y="5162400"/>
              <a:ext cx="16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SERVER" descr=""/>
            <p:cNvPicPr/>
            <p:nvPr/>
          </p:nvPicPr>
          <p:blipFill>
            <a:blip r:embed="rId16"/>
            <a:stretch/>
          </p:blipFill>
          <p:spPr>
            <a:xfrm>
              <a:off x="6683400" y="4656240"/>
              <a:ext cx="182520" cy="33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7164360" y="4775040"/>
              <a:ext cx="174600" cy="199800"/>
              <a:chOff x="7164360" y="4775040"/>
              <a:chExt cx="174600" cy="199800"/>
            </a:xfrm>
          </p:grpSpPr>
          <p:sp>
            <p:nvSpPr>
              <p:cNvPr id="81" name=""/>
              <p:cNvSpPr/>
              <p:nvPr/>
            </p:nvSpPr>
            <p:spPr>
              <a:xfrm>
                <a:off x="7164360" y="4775040"/>
                <a:ext cx="174600" cy="1191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64360" y="4856040"/>
                <a:ext cx="174600" cy="11880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3" name="SERVER" descr=""/>
            <p:cNvPicPr/>
            <p:nvPr/>
          </p:nvPicPr>
          <p:blipFill>
            <a:blip r:embed="rId17"/>
            <a:stretch/>
          </p:blipFill>
          <p:spPr>
            <a:xfrm>
              <a:off x="6916680" y="4651200"/>
              <a:ext cx="18252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7412040" y="4770360"/>
              <a:ext cx="174600" cy="199800"/>
              <a:chOff x="7412040" y="4770360"/>
              <a:chExt cx="174600" cy="199800"/>
            </a:xfrm>
          </p:grpSpPr>
          <p:sp>
            <p:nvSpPr>
              <p:cNvPr id="85" name=""/>
              <p:cNvSpPr/>
              <p:nvPr/>
            </p:nvSpPr>
            <p:spPr>
              <a:xfrm>
                <a:off x="7412040" y="4770360"/>
                <a:ext cx="174600" cy="1191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12040" y="4851360"/>
                <a:ext cx="174600" cy="11880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7" name="" descr=""/>
            <p:cNvPicPr/>
            <p:nvPr/>
          </p:nvPicPr>
          <p:blipFill>
            <a:blip r:embed="rId18"/>
            <a:stretch/>
          </p:blipFill>
          <p:spPr>
            <a:xfrm>
              <a:off x="7657920" y="4781520"/>
              <a:ext cx="29232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772320" y="49798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05600" y="49798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48240" y="49752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0960" y="49752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05520" y="49752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SUN" descr=""/>
            <p:cNvPicPr/>
            <p:nvPr/>
          </p:nvPicPr>
          <p:blipFill>
            <a:blip r:embed="rId19"/>
            <a:stretch/>
          </p:blipFill>
          <p:spPr>
            <a:xfrm>
              <a:off x="7529400" y="5476680"/>
              <a:ext cx="223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MODEM" descr=""/>
            <p:cNvPicPr/>
            <p:nvPr/>
          </p:nvPicPr>
          <p:blipFill>
            <a:blip r:embed="rId20"/>
            <a:stretch/>
          </p:blipFill>
          <p:spPr>
            <a:xfrm>
              <a:off x="7184880" y="5654520"/>
              <a:ext cx="241200" cy="104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5" name=""/>
            <p:cNvCxnSpPr/>
            <p:nvPr/>
          </p:nvCxnSpPr>
          <p:spPr>
            <a:xfrm rot="5400000">
              <a:off x="7539840" y="5311800"/>
              <a:ext cx="529200" cy="249840"/>
            </a:xfrm>
            <a:prstGeom prst="bentConnector3">
              <a:avLst>
                <a:gd name="adj1" fmla="val 10987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94" idx="3"/>
              <a:endCxn id="93" idx="2"/>
            </p:cNvCxnSpPr>
            <p:nvPr/>
          </p:nvCxnSpPr>
          <p:spPr>
            <a:xfrm flipV="1">
              <a:off x="7426080" y="5700600"/>
              <a:ext cx="215640" cy="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97" name="COMPUTER" descr=""/>
            <p:cNvPicPr/>
            <p:nvPr/>
          </p:nvPicPr>
          <p:blipFill>
            <a:blip r:embed="rId21"/>
            <a:stretch/>
          </p:blipFill>
          <p:spPr>
            <a:xfrm>
              <a:off x="7638840" y="3925800"/>
              <a:ext cx="2635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COMPUTER" descr=""/>
            <p:cNvPicPr/>
            <p:nvPr/>
          </p:nvPicPr>
          <p:blipFill>
            <a:blip r:embed="rId22"/>
            <a:stretch/>
          </p:blipFill>
          <p:spPr>
            <a:xfrm>
              <a:off x="7918200" y="3921120"/>
              <a:ext cx="26352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361280" y="4244760"/>
              <a:ext cx="793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67360" y="4122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5280" y="411300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AN" descr=""/>
            <p:cNvPicPr/>
            <p:nvPr/>
          </p:nvPicPr>
          <p:blipFill>
            <a:blip r:embed="rId23"/>
            <a:stretch/>
          </p:blipFill>
          <p:spPr>
            <a:xfrm>
              <a:off x="6953040" y="4268880"/>
              <a:ext cx="3812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06840" y="3281400"/>
              <a:ext cx="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SERVER" descr=""/>
            <p:cNvPicPr/>
            <p:nvPr/>
          </p:nvPicPr>
          <p:blipFill>
            <a:blip r:embed="rId24"/>
            <a:stretch/>
          </p:blipFill>
          <p:spPr>
            <a:xfrm>
              <a:off x="7437240" y="3801960"/>
              <a:ext cx="18252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COMPUTER" descr=""/>
            <p:cNvPicPr/>
            <p:nvPr/>
          </p:nvPicPr>
          <p:blipFill>
            <a:blip r:embed="rId25"/>
            <a:stretch/>
          </p:blipFill>
          <p:spPr>
            <a:xfrm>
              <a:off x="7237440" y="3325680"/>
              <a:ext cx="2635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COMPUTER" descr=""/>
            <p:cNvPicPr/>
            <p:nvPr/>
          </p:nvPicPr>
          <p:blipFill>
            <a:blip r:embed="rId26"/>
            <a:stretch/>
          </p:blipFill>
          <p:spPr>
            <a:xfrm>
              <a:off x="7516800" y="3311280"/>
              <a:ext cx="26352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V="1">
              <a:off x="6959520" y="3655440"/>
              <a:ext cx="803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5960" y="3521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45320" y="3517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AN" descr=""/>
            <p:cNvPicPr/>
            <p:nvPr/>
          </p:nvPicPr>
          <p:blipFill>
            <a:blip r:embed="rId27"/>
            <a:stretch/>
          </p:blipFill>
          <p:spPr>
            <a:xfrm>
              <a:off x="6540480" y="3684600"/>
              <a:ext cx="3808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ERVER" descr=""/>
            <p:cNvPicPr/>
            <p:nvPr/>
          </p:nvPicPr>
          <p:blipFill>
            <a:blip r:embed="rId28"/>
            <a:stretch/>
          </p:blipFill>
          <p:spPr>
            <a:xfrm>
              <a:off x="7030800" y="3219480"/>
              <a:ext cx="182520" cy="33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6132240" y="2631960"/>
              <a:ext cx="1239840" cy="630000"/>
              <a:chOff x="6132240" y="2631960"/>
              <a:chExt cx="1239840" cy="630000"/>
            </a:xfrm>
          </p:grpSpPr>
          <p:pic>
            <p:nvPicPr>
              <p:cNvPr id="113" name="COMPUTER" descr=""/>
              <p:cNvPicPr/>
              <p:nvPr/>
            </p:nvPicPr>
            <p:blipFill>
              <a:blip r:embed="rId29"/>
              <a:stretch/>
            </p:blipFill>
            <p:spPr>
              <a:xfrm>
                <a:off x="6829200" y="2761920"/>
                <a:ext cx="2635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FMS_24" descr=""/>
              <p:cNvPicPr/>
              <p:nvPr/>
            </p:nvPicPr>
            <p:blipFill>
              <a:blip r:embed="rId30"/>
              <a:stretch/>
            </p:blipFill>
            <p:spPr>
              <a:xfrm>
                <a:off x="6156360" y="3044520"/>
                <a:ext cx="40464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COMPUTER" descr=""/>
              <p:cNvPicPr/>
              <p:nvPr/>
            </p:nvPicPr>
            <p:blipFill>
              <a:blip r:embed="rId31"/>
              <a:stretch/>
            </p:blipFill>
            <p:spPr>
              <a:xfrm>
                <a:off x="7108560" y="2747520"/>
                <a:ext cx="263520" cy="22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flipV="1">
                <a:off x="6551640" y="3091680"/>
                <a:ext cx="80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57720" y="2957400"/>
                <a:ext cx="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37440" y="2954160"/>
                <a:ext cx="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" name="AN" descr=""/>
              <p:cNvPicPr/>
              <p:nvPr/>
            </p:nvPicPr>
            <p:blipFill>
              <a:blip r:embed="rId32"/>
              <a:stretch/>
            </p:blipFill>
            <p:spPr>
              <a:xfrm>
                <a:off x="6132240" y="3134880"/>
                <a:ext cx="3812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SERVER" descr=""/>
              <p:cNvPicPr/>
              <p:nvPr/>
            </p:nvPicPr>
            <p:blipFill>
              <a:blip r:embed="rId33"/>
              <a:stretch/>
            </p:blipFill>
            <p:spPr>
              <a:xfrm>
                <a:off x="6622920" y="2631960"/>
                <a:ext cx="182520" cy="33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715080" y="2957400"/>
                <a:ext cx="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527960" y="4132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1520" y="355284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1120" y="4552920"/>
              <a:ext cx="48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資料庫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38480" y="447192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伺服器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54680" y="455292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光碟櫃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1880" y="3952800"/>
              <a:ext cx="395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集線器</a:t>
              </a: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路由器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34000" y="3363840"/>
              <a:ext cx="395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集線器</a:t>
              </a: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路由器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24320" y="2795400"/>
              <a:ext cx="395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集線器</a:t>
              </a: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路由器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59440" y="376236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工作站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47320" y="401472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ra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60760" y="548964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數據機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04840" y="5226120"/>
              <a:ext cx="474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Times New Roman"/>
                </a:rPr>
                <a:t>Sun </a:t>
              </a:r>
              <a:r>
                <a:rPr b="0" lang="zh-TW" sz="600" spc="-1" strike="noStrike">
                  <a:solidFill>
                    <a:srgbClr val="000000"/>
                  </a:solidFill>
                  <a:latin typeface="Albertus Extra Bold"/>
                  <a:ea typeface="標楷體"/>
                </a:rPr>
                <a:t>工作站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" spc="-1" strike="noStrike">
                  <a:solidFill>
                    <a:srgbClr val="000000"/>
                  </a:solidFill>
                  <a:latin typeface="Albertus Extra Bold"/>
                  <a:ea typeface="標楷體"/>
                </a:rPr>
                <a:t>交通部連線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72200" y="457344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AN" descr=""/>
            <p:cNvPicPr/>
            <p:nvPr/>
          </p:nvPicPr>
          <p:blipFill>
            <a:blip r:embed="rId34"/>
            <a:stretch/>
          </p:blipFill>
          <p:spPr>
            <a:xfrm>
              <a:off x="5999040" y="5229000"/>
              <a:ext cx="3808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FMS_24" descr=""/>
            <p:cNvPicPr/>
            <p:nvPr/>
          </p:nvPicPr>
          <p:blipFill>
            <a:blip r:embed="rId35"/>
            <a:stretch/>
          </p:blipFill>
          <p:spPr>
            <a:xfrm>
              <a:off x="6010200" y="5167080"/>
              <a:ext cx="40464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FMS_24" descr=""/>
            <p:cNvPicPr/>
            <p:nvPr/>
          </p:nvPicPr>
          <p:blipFill>
            <a:blip r:embed="rId36"/>
            <a:stretch/>
          </p:blipFill>
          <p:spPr>
            <a:xfrm>
              <a:off x="6010200" y="5105160"/>
              <a:ext cx="40464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FMS_24" descr=""/>
            <p:cNvPicPr/>
            <p:nvPr/>
          </p:nvPicPr>
          <p:blipFill>
            <a:blip r:embed="rId37"/>
            <a:stretch/>
          </p:blipFill>
          <p:spPr>
            <a:xfrm>
              <a:off x="6973920" y="4195800"/>
              <a:ext cx="40464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FMS_24" descr=""/>
            <p:cNvPicPr/>
            <p:nvPr/>
          </p:nvPicPr>
          <p:blipFill>
            <a:blip r:embed="rId38"/>
            <a:stretch/>
          </p:blipFill>
          <p:spPr>
            <a:xfrm>
              <a:off x="6564240" y="3608280"/>
              <a:ext cx="404640" cy="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5189400" y="2579760"/>
              <a:ext cx="1371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標楷體"/>
                </a:rPr>
                <a:t>行政應用服務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標楷體"/>
                <a:ea typeface="標楷體"/>
              </a:endParaRPr>
            </a:p>
          </p:txBody>
        </p:sp>
      </p:grpSp>
      <p:sp>
        <p:nvSpPr>
          <p:cNvPr id="141" name=""/>
          <p:cNvSpPr/>
          <p:nvPr/>
        </p:nvSpPr>
        <p:spPr>
          <a:xfrm rot="8284800">
            <a:off x="4389120" y="2110680"/>
            <a:ext cx="1565280" cy="136440"/>
          </a:xfrm>
          <a:prstGeom prst="leftRightArrow">
            <a:avLst>
              <a:gd name="adj1" fmla="val 50000"/>
              <a:gd name="adj2" fmla="val 2283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350200">
            <a:off x="4665240" y="3675240"/>
            <a:ext cx="1181160" cy="164880"/>
          </a:xfrm>
          <a:prstGeom prst="leftRightArrow">
            <a:avLst>
              <a:gd name="adj1" fmla="val 50000"/>
              <a:gd name="adj2" fmla="val 14261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4880" y="457200"/>
            <a:ext cx="820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已電子化項目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子郵件應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子新聞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子法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文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徵求人才公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信監理應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專案討論應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67800" y="447840"/>
            <a:ext cx="1429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行中及未來電子化項目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子化公佈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子化通知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事務申請作業 電子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文存檔光碟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文影像線上查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文電子交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才通報電腦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信頻率收費作業電腦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•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業餘無線電人員考照作業電腦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63760" y="6226200"/>
            <a:ext cx="58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7-1 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電信次部門之電子化發展示意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3968600">
            <a:off x="1035720" y="3673800"/>
            <a:ext cx="968400" cy="19188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665400">
            <a:off x="2031120" y="3634200"/>
            <a:ext cx="968400" cy="192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7785000">
            <a:off x="1099080" y="4952160"/>
            <a:ext cx="968400" cy="19188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3349800">
            <a:off x="1964160" y="4856400"/>
            <a:ext cx="968400" cy="192240"/>
          </a:xfrm>
          <a:custGeom>
            <a:avLst/>
            <a:gdLst/>
            <a:ahLst/>
            <a:rect l="l" t="t" r="r" b="b"/>
            <a:pathLst>
              <a:path w="2005" h="82">
                <a:moveTo>
                  <a:pt x="2004" y="5"/>
                </a:moveTo>
                <a:lnTo>
                  <a:pt x="916" y="0"/>
                </a:lnTo>
                <a:lnTo>
                  <a:pt x="997" y="63"/>
                </a:lnTo>
                <a:lnTo>
                  <a:pt x="0" y="76"/>
                </a:lnTo>
                <a:lnTo>
                  <a:pt x="1090" y="81"/>
                </a:lnTo>
                <a:lnTo>
                  <a:pt x="1013" y="18"/>
                </a:lnTo>
                <a:lnTo>
                  <a:pt x="2004" y="5"/>
                </a:lnTo>
              </a:path>
            </a:pathLst>
          </a:custGeom>
          <a:solidFill>
            <a:srgbClr val="ffcc00"/>
          </a:solidFill>
          <a:ln cap="rnd"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7T01:13:44Z</dcterms:created>
  <dc:creator>USERS</dc:creator>
  <dc:description/>
  <dc:language>en-US</dc:language>
  <cp:lastModifiedBy>Bryam Pai</cp:lastModifiedBy>
  <cp:lastPrinted>1997-12-31T08:40:28Z</cp:lastPrinted>
  <dcterms:modified xsi:type="dcterms:W3CDTF">1998-03-01T15:41:28Z</dcterms:modified>
  <cp:revision>20</cp:revision>
  <dc:subject/>
  <dc:title>無投影片標題</dc:title>
</cp:coreProperties>
</file>