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331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7F9-4A02-49CE-8F5B-E14D1E79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046-F7CF-4ACC-9454-12AE4DBA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BAF-955E-41CC-864A-CD8F474C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313-FE08-4E23-B054-0A5AE02A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85E-D57E-42DB-A58F-24EAF814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A7D-1E83-451A-B052-CA5442E3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8BB-3A11-4A11-AAB7-2EBFD715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386-6CC6-4946-8A6A-9E0FCE3D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3D8-0D04-46B0-94EC-4D336BC0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5CB-86FE-4CDD-B564-0B438EDB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B6C-9E5C-4F0C-8FEA-AAE44E0B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183-61A4-472C-9730-BA77E444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D28A-51F8-4500-A6C3-2689091F4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24280" y="1523880"/>
            <a:ext cx="3886200" cy="21337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105520" y="2438280"/>
            <a:ext cx="1142640" cy="410760"/>
            <a:chOff x="5105520" y="2438280"/>
            <a:chExt cx="1142640" cy="410760"/>
          </a:xfrm>
        </p:grpSpPr>
        <p:grpSp>
          <p:nvGrpSpPr>
            <p:cNvPr id="43" name=""/>
            <p:cNvGrpSpPr/>
            <p:nvPr/>
          </p:nvGrpSpPr>
          <p:grpSpPr>
            <a:xfrm>
              <a:off x="5105520" y="2438280"/>
              <a:ext cx="1142640" cy="410760"/>
              <a:chOff x="5105520" y="2438280"/>
              <a:chExt cx="1142640" cy="410760"/>
            </a:xfrm>
          </p:grpSpPr>
          <p:sp>
            <p:nvSpPr>
              <p:cNvPr id="44" name=""/>
              <p:cNvSpPr/>
              <p:nvPr/>
            </p:nvSpPr>
            <p:spPr>
              <a:xfrm>
                <a:off x="5463720" y="2450880"/>
                <a:ext cx="270000" cy="1281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95560" y="2438280"/>
                <a:ext cx="218880" cy="1029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01480" y="2552400"/>
                <a:ext cx="346680" cy="1695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233320" y="2630520"/>
                <a:ext cx="398160" cy="1933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797800" y="2655720"/>
                <a:ext cx="296640" cy="1429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128200" y="2668680"/>
                <a:ext cx="219960" cy="10188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105520" y="2579400"/>
                <a:ext cx="218880" cy="10188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209200" y="2476080"/>
                <a:ext cx="346680" cy="1681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516280" y="2679840"/>
                <a:ext cx="345600" cy="1692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52600" y="2487600"/>
                <a:ext cx="271440" cy="1310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73040" y="2438280"/>
                <a:ext cx="245880" cy="1159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194800" y="2466360"/>
                <a:ext cx="995040" cy="333360"/>
              </a:xfrm>
              <a:custGeom>
                <a:avLst/>
                <a:gdLst/>
                <a:ahLst/>
                <a:rect l="l" t="t" r="r" b="b"/>
                <a:pathLst>
                  <a:path w="700" h="236">
                    <a:moveTo>
                      <a:pt x="216" y="23"/>
                    </a:moveTo>
                    <a:lnTo>
                      <a:pt x="244" y="6"/>
                    </a:lnTo>
                    <a:lnTo>
                      <a:pt x="375" y="7"/>
                    </a:lnTo>
                    <a:lnTo>
                      <a:pt x="467" y="0"/>
                    </a:lnTo>
                    <a:lnTo>
                      <a:pt x="584" y="28"/>
                    </a:lnTo>
                    <a:lnTo>
                      <a:pt x="643" y="20"/>
                    </a:lnTo>
                    <a:lnTo>
                      <a:pt x="673" y="23"/>
                    </a:lnTo>
                    <a:lnTo>
                      <a:pt x="681" y="93"/>
                    </a:lnTo>
                    <a:lnTo>
                      <a:pt x="699" y="105"/>
                    </a:lnTo>
                    <a:lnTo>
                      <a:pt x="645" y="158"/>
                    </a:lnTo>
                    <a:lnTo>
                      <a:pt x="585" y="121"/>
                    </a:lnTo>
                    <a:lnTo>
                      <a:pt x="570" y="140"/>
                    </a:lnTo>
                    <a:lnTo>
                      <a:pt x="488" y="214"/>
                    </a:lnTo>
                    <a:lnTo>
                      <a:pt x="210" y="235"/>
                    </a:lnTo>
                    <a:lnTo>
                      <a:pt x="67" y="220"/>
                    </a:lnTo>
                    <a:lnTo>
                      <a:pt x="23" y="174"/>
                    </a:lnTo>
                    <a:lnTo>
                      <a:pt x="23" y="126"/>
                    </a:lnTo>
                    <a:lnTo>
                      <a:pt x="0" y="87"/>
                    </a:lnTo>
                    <a:lnTo>
                      <a:pt x="216" y="23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146560" y="2456640"/>
              <a:ext cx="10605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33"/>
                  </a:solidFill>
                  <a:latin typeface="Times New Roman"/>
                  <a:ea typeface="全真楷書"/>
                </a:rPr>
                <a:t>Intra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010280" y="1828800"/>
            <a:ext cx="322560" cy="255240"/>
            <a:chOff x="7010280" y="1828800"/>
            <a:chExt cx="322560" cy="255240"/>
          </a:xfrm>
        </p:grpSpPr>
        <p:grpSp>
          <p:nvGrpSpPr>
            <p:cNvPr id="58" name=""/>
            <p:cNvGrpSpPr/>
            <p:nvPr/>
          </p:nvGrpSpPr>
          <p:grpSpPr>
            <a:xfrm>
              <a:off x="7024320" y="1988640"/>
              <a:ext cx="293760" cy="78480"/>
              <a:chOff x="7024320" y="1988640"/>
              <a:chExt cx="293760" cy="78480"/>
            </a:xfrm>
          </p:grpSpPr>
          <p:sp>
            <p:nvSpPr>
              <p:cNvPr id="59" name=""/>
              <p:cNvSpPr/>
              <p:nvPr/>
            </p:nvSpPr>
            <p:spPr>
              <a:xfrm>
                <a:off x="7024320" y="1988640"/>
                <a:ext cx="293760" cy="78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87760" y="2001240"/>
                <a:ext cx="101520" cy="352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7010280" y="2032920"/>
              <a:ext cx="322560" cy="51120"/>
              <a:chOff x="7010280" y="2032920"/>
              <a:chExt cx="322560" cy="51120"/>
            </a:xfrm>
          </p:grpSpPr>
          <p:sp>
            <p:nvSpPr>
              <p:cNvPr id="62" name=""/>
              <p:cNvSpPr/>
              <p:nvPr/>
            </p:nvSpPr>
            <p:spPr>
              <a:xfrm>
                <a:off x="7010280" y="2032920"/>
                <a:ext cx="322560" cy="5112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29" y="0"/>
                    </a:moveTo>
                    <a:lnTo>
                      <a:pt x="198" y="0"/>
                    </a:lnTo>
                    <a:lnTo>
                      <a:pt x="223" y="31"/>
                    </a:lnTo>
                    <a:lnTo>
                      <a:pt x="225" y="33"/>
                    </a:lnTo>
                    <a:lnTo>
                      <a:pt x="223" y="34"/>
                    </a:lnTo>
                    <a:lnTo>
                      <a:pt x="221" y="36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030440" y="2042640"/>
                <a:ext cx="210600" cy="32400"/>
              </a:xfrm>
              <a:custGeom>
                <a:avLst/>
                <a:gdLst/>
                <a:ahLst/>
                <a:rect l="l" t="t" r="r" b="b"/>
                <a:pathLst>
                  <a:path w="147" h="23">
                    <a:moveTo>
                      <a:pt x="20" y="0"/>
                    </a:moveTo>
                    <a:lnTo>
                      <a:pt x="140" y="0"/>
                    </a:lnTo>
                    <a:lnTo>
                      <a:pt x="147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48240" y="2042640"/>
                <a:ext cx="64080" cy="3240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0"/>
                    </a:moveTo>
                    <a:lnTo>
                      <a:pt x="27" y="0"/>
                    </a:lnTo>
                    <a:lnTo>
                      <a:pt x="45" y="23"/>
                    </a:lnTo>
                    <a:lnTo>
                      <a:pt x="9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064640" y="1828800"/>
              <a:ext cx="213480" cy="155520"/>
              <a:chOff x="7064640" y="1828800"/>
              <a:chExt cx="213480" cy="155520"/>
            </a:xfrm>
          </p:grpSpPr>
          <p:sp>
            <p:nvSpPr>
              <p:cNvPr id="66" name=""/>
              <p:cNvSpPr/>
              <p:nvPr/>
            </p:nvSpPr>
            <p:spPr>
              <a:xfrm>
                <a:off x="7064640" y="1828800"/>
                <a:ext cx="213480" cy="1555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078680" y="1841400"/>
                <a:ext cx="184320" cy="13104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237800" y="1841400"/>
                <a:ext cx="25560" cy="131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245000" y="1848600"/>
                <a:ext cx="11160" cy="6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245000" y="1905480"/>
                <a:ext cx="8640" cy="8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245000" y="193140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245000" y="195264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" name=""/>
          <p:cNvGrpSpPr/>
          <p:nvPr/>
        </p:nvGrpSpPr>
        <p:grpSpPr>
          <a:xfrm>
            <a:off x="7696080" y="1828800"/>
            <a:ext cx="322560" cy="255240"/>
            <a:chOff x="7696080" y="1828800"/>
            <a:chExt cx="322560" cy="255240"/>
          </a:xfrm>
        </p:grpSpPr>
        <p:grpSp>
          <p:nvGrpSpPr>
            <p:cNvPr id="74" name=""/>
            <p:cNvGrpSpPr/>
            <p:nvPr/>
          </p:nvGrpSpPr>
          <p:grpSpPr>
            <a:xfrm>
              <a:off x="7710120" y="1988640"/>
              <a:ext cx="293760" cy="78480"/>
              <a:chOff x="7710120" y="1988640"/>
              <a:chExt cx="293760" cy="78480"/>
            </a:xfrm>
          </p:grpSpPr>
          <p:sp>
            <p:nvSpPr>
              <p:cNvPr id="75" name=""/>
              <p:cNvSpPr/>
              <p:nvPr/>
            </p:nvSpPr>
            <p:spPr>
              <a:xfrm>
                <a:off x="7710120" y="1988640"/>
                <a:ext cx="293760" cy="78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873560" y="2001240"/>
                <a:ext cx="101520" cy="352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7696080" y="2032920"/>
              <a:ext cx="322560" cy="51120"/>
              <a:chOff x="7696080" y="2032920"/>
              <a:chExt cx="322560" cy="51120"/>
            </a:xfrm>
          </p:grpSpPr>
          <p:sp>
            <p:nvSpPr>
              <p:cNvPr id="78" name=""/>
              <p:cNvSpPr/>
              <p:nvPr/>
            </p:nvSpPr>
            <p:spPr>
              <a:xfrm>
                <a:off x="7696080" y="2032920"/>
                <a:ext cx="322560" cy="5112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29" y="0"/>
                    </a:moveTo>
                    <a:lnTo>
                      <a:pt x="198" y="0"/>
                    </a:lnTo>
                    <a:lnTo>
                      <a:pt x="223" y="31"/>
                    </a:lnTo>
                    <a:lnTo>
                      <a:pt x="225" y="33"/>
                    </a:lnTo>
                    <a:lnTo>
                      <a:pt x="223" y="34"/>
                    </a:lnTo>
                    <a:lnTo>
                      <a:pt x="221" y="36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6240" y="2042640"/>
                <a:ext cx="210600" cy="32400"/>
              </a:xfrm>
              <a:custGeom>
                <a:avLst/>
                <a:gdLst/>
                <a:ahLst/>
                <a:rect l="l" t="t" r="r" b="b"/>
                <a:pathLst>
                  <a:path w="147" h="23">
                    <a:moveTo>
                      <a:pt x="20" y="0"/>
                    </a:moveTo>
                    <a:lnTo>
                      <a:pt x="140" y="0"/>
                    </a:lnTo>
                    <a:lnTo>
                      <a:pt x="147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934040" y="2042640"/>
                <a:ext cx="64080" cy="3240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0"/>
                    </a:moveTo>
                    <a:lnTo>
                      <a:pt x="27" y="0"/>
                    </a:lnTo>
                    <a:lnTo>
                      <a:pt x="45" y="23"/>
                    </a:lnTo>
                    <a:lnTo>
                      <a:pt x="9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7750440" y="1828800"/>
              <a:ext cx="213480" cy="155520"/>
              <a:chOff x="7750440" y="1828800"/>
              <a:chExt cx="213480" cy="155520"/>
            </a:xfrm>
          </p:grpSpPr>
          <p:sp>
            <p:nvSpPr>
              <p:cNvPr id="82" name=""/>
              <p:cNvSpPr/>
              <p:nvPr/>
            </p:nvSpPr>
            <p:spPr>
              <a:xfrm>
                <a:off x="7750440" y="1828800"/>
                <a:ext cx="213480" cy="1555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64480" y="1841400"/>
                <a:ext cx="184320" cy="13104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923600" y="1841400"/>
                <a:ext cx="25560" cy="131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30800" y="1848600"/>
                <a:ext cx="11160" cy="6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930800" y="1905480"/>
                <a:ext cx="8640" cy="8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930800" y="193140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930800" y="195264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7010280" y="2362320"/>
            <a:ext cx="322560" cy="255240"/>
            <a:chOff x="7010280" y="2362320"/>
            <a:chExt cx="322560" cy="255240"/>
          </a:xfrm>
        </p:grpSpPr>
        <p:grpSp>
          <p:nvGrpSpPr>
            <p:cNvPr id="90" name=""/>
            <p:cNvGrpSpPr/>
            <p:nvPr/>
          </p:nvGrpSpPr>
          <p:grpSpPr>
            <a:xfrm>
              <a:off x="7024320" y="2522160"/>
              <a:ext cx="293760" cy="78480"/>
              <a:chOff x="7024320" y="2522160"/>
              <a:chExt cx="293760" cy="78480"/>
            </a:xfrm>
          </p:grpSpPr>
          <p:sp>
            <p:nvSpPr>
              <p:cNvPr id="91" name=""/>
              <p:cNvSpPr/>
              <p:nvPr/>
            </p:nvSpPr>
            <p:spPr>
              <a:xfrm>
                <a:off x="7024320" y="2522160"/>
                <a:ext cx="293760" cy="78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87760" y="2534760"/>
                <a:ext cx="101520" cy="352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7010280" y="2566440"/>
              <a:ext cx="322560" cy="51120"/>
              <a:chOff x="7010280" y="2566440"/>
              <a:chExt cx="322560" cy="51120"/>
            </a:xfrm>
          </p:grpSpPr>
          <p:sp>
            <p:nvSpPr>
              <p:cNvPr id="94" name=""/>
              <p:cNvSpPr/>
              <p:nvPr/>
            </p:nvSpPr>
            <p:spPr>
              <a:xfrm>
                <a:off x="7010280" y="2566440"/>
                <a:ext cx="322560" cy="5112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29" y="0"/>
                    </a:moveTo>
                    <a:lnTo>
                      <a:pt x="198" y="0"/>
                    </a:lnTo>
                    <a:lnTo>
                      <a:pt x="223" y="31"/>
                    </a:lnTo>
                    <a:lnTo>
                      <a:pt x="225" y="33"/>
                    </a:lnTo>
                    <a:lnTo>
                      <a:pt x="223" y="34"/>
                    </a:lnTo>
                    <a:lnTo>
                      <a:pt x="221" y="36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30440" y="2576160"/>
                <a:ext cx="210600" cy="32400"/>
              </a:xfrm>
              <a:custGeom>
                <a:avLst/>
                <a:gdLst/>
                <a:ahLst/>
                <a:rect l="l" t="t" r="r" b="b"/>
                <a:pathLst>
                  <a:path w="147" h="23">
                    <a:moveTo>
                      <a:pt x="20" y="0"/>
                    </a:moveTo>
                    <a:lnTo>
                      <a:pt x="140" y="0"/>
                    </a:lnTo>
                    <a:lnTo>
                      <a:pt x="147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48240" y="2576160"/>
                <a:ext cx="64080" cy="3240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0"/>
                    </a:moveTo>
                    <a:lnTo>
                      <a:pt x="27" y="0"/>
                    </a:lnTo>
                    <a:lnTo>
                      <a:pt x="45" y="23"/>
                    </a:lnTo>
                    <a:lnTo>
                      <a:pt x="9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064640" y="2362320"/>
              <a:ext cx="213480" cy="155520"/>
              <a:chOff x="7064640" y="2362320"/>
              <a:chExt cx="213480" cy="155520"/>
            </a:xfrm>
          </p:grpSpPr>
          <p:sp>
            <p:nvSpPr>
              <p:cNvPr id="98" name=""/>
              <p:cNvSpPr/>
              <p:nvPr/>
            </p:nvSpPr>
            <p:spPr>
              <a:xfrm>
                <a:off x="7064640" y="2362320"/>
                <a:ext cx="213480" cy="1555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078680" y="2374920"/>
                <a:ext cx="184320" cy="13104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237800" y="2374920"/>
                <a:ext cx="25560" cy="131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245000" y="2382120"/>
                <a:ext cx="11160" cy="6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245000" y="2439000"/>
                <a:ext cx="8640" cy="8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45000" y="246492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245000" y="248616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7696080" y="2362320"/>
            <a:ext cx="322560" cy="255240"/>
            <a:chOff x="7696080" y="2362320"/>
            <a:chExt cx="322560" cy="255240"/>
          </a:xfrm>
        </p:grpSpPr>
        <p:grpSp>
          <p:nvGrpSpPr>
            <p:cNvPr id="106" name=""/>
            <p:cNvGrpSpPr/>
            <p:nvPr/>
          </p:nvGrpSpPr>
          <p:grpSpPr>
            <a:xfrm>
              <a:off x="7710120" y="2522160"/>
              <a:ext cx="293760" cy="78480"/>
              <a:chOff x="7710120" y="2522160"/>
              <a:chExt cx="293760" cy="78480"/>
            </a:xfrm>
          </p:grpSpPr>
          <p:sp>
            <p:nvSpPr>
              <p:cNvPr id="107" name=""/>
              <p:cNvSpPr/>
              <p:nvPr/>
            </p:nvSpPr>
            <p:spPr>
              <a:xfrm>
                <a:off x="7710120" y="2522160"/>
                <a:ext cx="293760" cy="78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73560" y="2534760"/>
                <a:ext cx="101520" cy="352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7696080" y="2566440"/>
              <a:ext cx="322560" cy="51120"/>
              <a:chOff x="7696080" y="2566440"/>
              <a:chExt cx="322560" cy="51120"/>
            </a:xfrm>
          </p:grpSpPr>
          <p:sp>
            <p:nvSpPr>
              <p:cNvPr id="110" name=""/>
              <p:cNvSpPr/>
              <p:nvPr/>
            </p:nvSpPr>
            <p:spPr>
              <a:xfrm>
                <a:off x="7696080" y="2566440"/>
                <a:ext cx="322560" cy="5112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29" y="0"/>
                    </a:moveTo>
                    <a:lnTo>
                      <a:pt x="198" y="0"/>
                    </a:lnTo>
                    <a:lnTo>
                      <a:pt x="223" y="31"/>
                    </a:lnTo>
                    <a:lnTo>
                      <a:pt x="225" y="33"/>
                    </a:lnTo>
                    <a:lnTo>
                      <a:pt x="223" y="34"/>
                    </a:lnTo>
                    <a:lnTo>
                      <a:pt x="221" y="36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16240" y="2576160"/>
                <a:ext cx="210600" cy="32400"/>
              </a:xfrm>
              <a:custGeom>
                <a:avLst/>
                <a:gdLst/>
                <a:ahLst/>
                <a:rect l="l" t="t" r="r" b="b"/>
                <a:pathLst>
                  <a:path w="147" h="23">
                    <a:moveTo>
                      <a:pt x="20" y="0"/>
                    </a:moveTo>
                    <a:lnTo>
                      <a:pt x="140" y="0"/>
                    </a:lnTo>
                    <a:lnTo>
                      <a:pt x="147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34040" y="2576160"/>
                <a:ext cx="64080" cy="3240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0"/>
                    </a:moveTo>
                    <a:lnTo>
                      <a:pt x="27" y="0"/>
                    </a:lnTo>
                    <a:lnTo>
                      <a:pt x="45" y="23"/>
                    </a:lnTo>
                    <a:lnTo>
                      <a:pt x="9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750440" y="2362320"/>
              <a:ext cx="213480" cy="155520"/>
              <a:chOff x="7750440" y="2362320"/>
              <a:chExt cx="213480" cy="155520"/>
            </a:xfrm>
          </p:grpSpPr>
          <p:sp>
            <p:nvSpPr>
              <p:cNvPr id="114" name=""/>
              <p:cNvSpPr/>
              <p:nvPr/>
            </p:nvSpPr>
            <p:spPr>
              <a:xfrm>
                <a:off x="7750440" y="2362320"/>
                <a:ext cx="213480" cy="1555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64480" y="2374920"/>
                <a:ext cx="184320" cy="13104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923600" y="2374920"/>
                <a:ext cx="25560" cy="131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30800" y="2382120"/>
                <a:ext cx="11160" cy="6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930800" y="2439000"/>
                <a:ext cx="8640" cy="8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930800" y="246492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930800" y="248616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6400800" y="2133720"/>
            <a:ext cx="358920" cy="150840"/>
            <a:chOff x="6400800" y="2133720"/>
            <a:chExt cx="358920" cy="150840"/>
          </a:xfrm>
        </p:grpSpPr>
        <p:grpSp>
          <p:nvGrpSpPr>
            <p:cNvPr id="122" name=""/>
            <p:cNvGrpSpPr/>
            <p:nvPr/>
          </p:nvGrpSpPr>
          <p:grpSpPr>
            <a:xfrm>
              <a:off x="6400800" y="2133720"/>
              <a:ext cx="358920" cy="150840"/>
              <a:chOff x="6400800" y="2133720"/>
              <a:chExt cx="358920" cy="150840"/>
            </a:xfrm>
          </p:grpSpPr>
          <p:sp>
            <p:nvSpPr>
              <p:cNvPr id="123" name=""/>
              <p:cNvSpPr/>
              <p:nvPr/>
            </p:nvSpPr>
            <p:spPr>
              <a:xfrm>
                <a:off x="6423480" y="2190240"/>
                <a:ext cx="334440" cy="9252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400800" y="2133720"/>
                <a:ext cx="358920" cy="55440"/>
              </a:xfrm>
              <a:custGeom>
                <a:avLst/>
                <a:gdLst/>
                <a:ahLst/>
                <a:rect l="l" t="t" r="r" b="b"/>
                <a:pathLst>
                  <a:path w="251" h="39">
                    <a:moveTo>
                      <a:pt x="251" y="39"/>
                    </a:moveTo>
                    <a:lnTo>
                      <a:pt x="15" y="39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251" y="39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00800" y="2133720"/>
                <a:ext cx="21240" cy="150840"/>
              </a:xfrm>
              <a:custGeom>
                <a:avLst/>
                <a:gdLst/>
                <a:ahLst/>
                <a:rect l="l" t="t" r="r" b="b"/>
                <a:pathLst>
                  <a:path w="15" h="106">
                    <a:moveTo>
                      <a:pt x="15" y="39"/>
                    </a:moveTo>
                    <a:lnTo>
                      <a:pt x="15" y="106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a0a0a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6430680" y="2275560"/>
              <a:ext cx="320040" cy="2880"/>
            </a:xfrm>
            <a:prstGeom prst="rect">
              <a:avLst/>
            </a:prstGeom>
            <a:solidFill>
              <a:srgbClr val="40404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430680" y="2220120"/>
              <a:ext cx="320040" cy="39600"/>
              <a:chOff x="6430680" y="2220120"/>
              <a:chExt cx="320040" cy="39600"/>
            </a:xfrm>
          </p:grpSpPr>
          <p:sp>
            <p:nvSpPr>
              <p:cNvPr id="128" name=""/>
              <p:cNvSpPr/>
              <p:nvPr/>
            </p:nvSpPr>
            <p:spPr>
              <a:xfrm>
                <a:off x="6430680" y="2225880"/>
                <a:ext cx="320040" cy="108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30680" y="2229840"/>
                <a:ext cx="320040" cy="396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30680" y="2237040"/>
                <a:ext cx="320040" cy="288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30680" y="2242800"/>
                <a:ext cx="320040" cy="396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30680" y="2250000"/>
                <a:ext cx="320040" cy="252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30680" y="2255400"/>
                <a:ext cx="320040" cy="432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30680" y="2220120"/>
                <a:ext cx="320040" cy="108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6453360" y="2264400"/>
              <a:ext cx="16920" cy="5400"/>
            </a:xfrm>
            <a:prstGeom prst="rect">
              <a:avLst/>
            </a:prstGeom>
            <a:solidFill>
              <a:srgbClr val="ff8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77840" y="2264400"/>
              <a:ext cx="16920" cy="5400"/>
            </a:xfrm>
            <a:prstGeom prst="rect">
              <a:avLst/>
            </a:prstGeom>
            <a:solidFill>
              <a:srgbClr val="ff8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01960" y="2264400"/>
              <a:ext cx="15840" cy="540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32200" y="2265840"/>
              <a:ext cx="3960" cy="3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0920" y="2265840"/>
              <a:ext cx="5760" cy="3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30680" y="2196000"/>
              <a:ext cx="39600" cy="1260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19160" y="2184840"/>
              <a:ext cx="336240" cy="93600"/>
            </a:xfrm>
            <a:custGeom>
              <a:avLst/>
              <a:gdLst/>
              <a:ahLst/>
              <a:rect l="l" t="t" r="r" b="b"/>
              <a:pathLst>
                <a:path w="235" h="66">
                  <a:moveTo>
                    <a:pt x="0" y="66"/>
                  </a:moveTo>
                  <a:lnTo>
                    <a:pt x="0" y="0"/>
                  </a:lnTo>
                  <a:lnTo>
                    <a:pt x="235" y="0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77120" y="2743200"/>
            <a:ext cx="358560" cy="150840"/>
            <a:chOff x="6477120" y="2743200"/>
            <a:chExt cx="358560" cy="150840"/>
          </a:xfrm>
        </p:grpSpPr>
        <p:grpSp>
          <p:nvGrpSpPr>
            <p:cNvPr id="143" name=""/>
            <p:cNvGrpSpPr/>
            <p:nvPr/>
          </p:nvGrpSpPr>
          <p:grpSpPr>
            <a:xfrm>
              <a:off x="6477120" y="2743200"/>
              <a:ext cx="358560" cy="150840"/>
              <a:chOff x="6477120" y="2743200"/>
              <a:chExt cx="358560" cy="150840"/>
            </a:xfrm>
          </p:grpSpPr>
          <p:sp>
            <p:nvSpPr>
              <p:cNvPr id="144" name=""/>
              <p:cNvSpPr/>
              <p:nvPr/>
            </p:nvSpPr>
            <p:spPr>
              <a:xfrm>
                <a:off x="6499800" y="2799720"/>
                <a:ext cx="334080" cy="9252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77120" y="2743200"/>
                <a:ext cx="358560" cy="55440"/>
              </a:xfrm>
              <a:custGeom>
                <a:avLst/>
                <a:gdLst/>
                <a:ahLst/>
                <a:rect l="l" t="t" r="r" b="b"/>
                <a:pathLst>
                  <a:path w="251" h="39">
                    <a:moveTo>
                      <a:pt x="251" y="39"/>
                    </a:moveTo>
                    <a:lnTo>
                      <a:pt x="15" y="39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251" y="39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77120" y="2743200"/>
                <a:ext cx="21240" cy="150840"/>
              </a:xfrm>
              <a:custGeom>
                <a:avLst/>
                <a:gdLst/>
                <a:ahLst/>
                <a:rect l="l" t="t" r="r" b="b"/>
                <a:pathLst>
                  <a:path w="15" h="106">
                    <a:moveTo>
                      <a:pt x="15" y="39"/>
                    </a:moveTo>
                    <a:lnTo>
                      <a:pt x="15" y="106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a0a0a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507000" y="2885040"/>
              <a:ext cx="320040" cy="2880"/>
            </a:xfrm>
            <a:prstGeom prst="rect">
              <a:avLst/>
            </a:prstGeom>
            <a:solidFill>
              <a:srgbClr val="40404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6507000" y="2829600"/>
              <a:ext cx="320040" cy="39600"/>
              <a:chOff x="6507000" y="2829600"/>
              <a:chExt cx="320040" cy="39600"/>
            </a:xfrm>
          </p:grpSpPr>
          <p:sp>
            <p:nvSpPr>
              <p:cNvPr id="149" name=""/>
              <p:cNvSpPr/>
              <p:nvPr/>
            </p:nvSpPr>
            <p:spPr>
              <a:xfrm>
                <a:off x="6507000" y="2835360"/>
                <a:ext cx="320040" cy="108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507000" y="2839320"/>
                <a:ext cx="320040" cy="396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507000" y="2846520"/>
                <a:ext cx="320040" cy="288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507000" y="2852280"/>
                <a:ext cx="320040" cy="396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507000" y="2859480"/>
                <a:ext cx="320040" cy="252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07000" y="2864880"/>
                <a:ext cx="320040" cy="432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07000" y="2829600"/>
                <a:ext cx="320040" cy="108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6529680" y="2873880"/>
              <a:ext cx="16920" cy="5400"/>
            </a:xfrm>
            <a:prstGeom prst="rect">
              <a:avLst/>
            </a:prstGeom>
            <a:solidFill>
              <a:srgbClr val="ff8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4160" y="2873880"/>
              <a:ext cx="16920" cy="5400"/>
            </a:xfrm>
            <a:prstGeom prst="rect">
              <a:avLst/>
            </a:prstGeom>
            <a:solidFill>
              <a:srgbClr val="ff8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78280" y="2873880"/>
              <a:ext cx="15840" cy="540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08520" y="2875320"/>
              <a:ext cx="3960" cy="3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26880" y="2875320"/>
              <a:ext cx="5760" cy="3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07000" y="2805480"/>
              <a:ext cx="39600" cy="1260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95480" y="2794320"/>
              <a:ext cx="335880" cy="93600"/>
            </a:xfrm>
            <a:custGeom>
              <a:avLst/>
              <a:gdLst/>
              <a:ahLst/>
              <a:rect l="l" t="t" r="r" b="b"/>
              <a:pathLst>
                <a:path w="235" h="66">
                  <a:moveTo>
                    <a:pt x="0" y="66"/>
                  </a:moveTo>
                  <a:lnTo>
                    <a:pt x="0" y="0"/>
                  </a:lnTo>
                  <a:lnTo>
                    <a:pt x="235" y="0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858000" y="2819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019920" y="22093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集線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25146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集線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971800" y="2057400"/>
            <a:ext cx="798120" cy="327960"/>
            <a:chOff x="2971800" y="2057400"/>
            <a:chExt cx="798120" cy="327960"/>
          </a:xfrm>
        </p:grpSpPr>
        <p:sp>
          <p:nvSpPr>
            <p:cNvPr id="173" name=""/>
            <p:cNvSpPr/>
            <p:nvPr/>
          </p:nvSpPr>
          <p:spPr>
            <a:xfrm>
              <a:off x="3287520" y="2284560"/>
              <a:ext cx="6840" cy="2268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6"/>
                  </a:moveTo>
                  <a:lnTo>
                    <a:pt x="5" y="1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971800" y="2057400"/>
              <a:ext cx="798120" cy="327960"/>
              <a:chOff x="2971800" y="2057400"/>
              <a:chExt cx="798120" cy="3279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2971800" y="2057400"/>
                <a:ext cx="614160" cy="296640"/>
                <a:chOff x="2971800" y="2057400"/>
                <a:chExt cx="614160" cy="296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971800" y="2117160"/>
                  <a:ext cx="614160" cy="236880"/>
                </a:xfrm>
                <a:custGeom>
                  <a:avLst/>
                  <a:gdLst/>
                  <a:ahLst/>
                  <a:rect l="l" t="t" r="r" b="b"/>
                  <a:pathLst>
                    <a:path w="430" h="166">
                      <a:moveTo>
                        <a:pt x="430" y="0"/>
                      </a:moveTo>
                      <a:lnTo>
                        <a:pt x="430" y="166"/>
                      </a:lnTo>
                      <a:lnTo>
                        <a:pt x="16" y="166"/>
                      </a:lnTo>
                      <a:lnTo>
                        <a:pt x="16" y="135"/>
                      </a:lnTo>
                      <a:lnTo>
                        <a:pt x="8" y="133"/>
                      </a:lnTo>
                      <a:lnTo>
                        <a:pt x="8" y="112"/>
                      </a:lnTo>
                      <a:lnTo>
                        <a:pt x="0" y="109"/>
                      </a:lnTo>
                      <a:lnTo>
                        <a:pt x="4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3021480" y="2305800"/>
                  <a:ext cx="38160" cy="16920"/>
                  <a:chOff x="3021480" y="2305800"/>
                  <a:chExt cx="38160" cy="169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3052800" y="2305800"/>
                    <a:ext cx="6840" cy="14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047400" y="2305800"/>
                    <a:ext cx="5400" cy="14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3040200" y="2305800"/>
                    <a:ext cx="3960" cy="1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3033000" y="2305800"/>
                    <a:ext cx="3960" cy="1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025800" y="2307240"/>
                    <a:ext cx="6840" cy="1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021480" y="2307240"/>
                    <a:ext cx="4320" cy="1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3100320" y="2284200"/>
                  <a:ext cx="66600" cy="30960"/>
                  <a:chOff x="3100320" y="2284200"/>
                  <a:chExt cx="66600" cy="309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157200" y="2284200"/>
                    <a:ext cx="97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7" y="18"/>
                        </a:lnTo>
                        <a:lnTo>
                          <a:pt x="7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148560" y="2284200"/>
                    <a:ext cx="68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5" y="18"/>
                        </a:lnTo>
                        <a:lnTo>
                          <a:pt x="5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138480" y="2285640"/>
                    <a:ext cx="68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5" y="18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128760" y="2285640"/>
                    <a:ext cx="68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5" y="18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118680" y="2288520"/>
                    <a:ext cx="97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7" y="18"/>
                        </a:lnTo>
                        <a:lnTo>
                          <a:pt x="7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110040" y="2288520"/>
                    <a:ext cx="82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6" y="18"/>
                        </a:lnTo>
                        <a:lnTo>
                          <a:pt x="6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3100320" y="2289960"/>
                    <a:ext cx="97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7" y="18"/>
                        </a:lnTo>
                        <a:lnTo>
                          <a:pt x="7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3227040" y="2264400"/>
                  <a:ext cx="91080" cy="38160"/>
                  <a:chOff x="3227040" y="2264400"/>
                  <a:chExt cx="91080" cy="38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3305520" y="2264400"/>
                    <a:ext cx="126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3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9" y="23"/>
                        </a:lnTo>
                        <a:lnTo>
                          <a:pt x="9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291120" y="2266920"/>
                    <a:ext cx="9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2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7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274200" y="2268360"/>
                    <a:ext cx="126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9" y="21"/>
                        </a:lnTo>
                        <a:lnTo>
                          <a:pt x="9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259800" y="2268360"/>
                    <a:ext cx="972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3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7" y="23"/>
                        </a:lnTo>
                        <a:lnTo>
                          <a:pt x="7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243960" y="2271240"/>
                    <a:ext cx="1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8" y="21"/>
                        </a:lnTo>
                        <a:lnTo>
                          <a:pt x="8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227040" y="2272680"/>
                    <a:ext cx="115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8" y="21"/>
                        </a:lnTo>
                        <a:lnTo>
                          <a:pt x="8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3437280" y="2245680"/>
                  <a:ext cx="115200" cy="38160"/>
                  <a:chOff x="3437280" y="2245680"/>
                  <a:chExt cx="115200" cy="381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540960" y="2245680"/>
                    <a:ext cx="115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8" y="21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514320" y="2247120"/>
                    <a:ext cx="11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0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8" y="20"/>
                        </a:lnTo>
                        <a:lnTo>
                          <a:pt x="8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88400" y="2247120"/>
                    <a:ext cx="1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8" y="21"/>
                        </a:lnTo>
                        <a:lnTo>
                          <a:pt x="8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461400" y="2251440"/>
                    <a:ext cx="126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0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437280" y="2254320"/>
                    <a:ext cx="93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7" y="21"/>
                        </a:lnTo>
                        <a:lnTo>
                          <a:pt x="7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2994480" y="2268720"/>
                  <a:ext cx="589680" cy="69840"/>
                </a:xfrm>
                <a:custGeom>
                  <a:avLst/>
                  <a:gdLst/>
                  <a:ahLst/>
                  <a:rect l="l" t="t" r="r" b="b"/>
                  <a:pathLst>
                    <a:path w="413" h="49">
                      <a:moveTo>
                        <a:pt x="413" y="27"/>
                      </a:moveTo>
                      <a:lnTo>
                        <a:pt x="413" y="0"/>
                      </a:lnTo>
                      <a:lnTo>
                        <a:pt x="0" y="36"/>
                      </a:lnTo>
                      <a:lnTo>
                        <a:pt x="0" y="49"/>
                      </a:lnTo>
                      <a:lnTo>
                        <a:pt x="413" y="2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982960" y="2189880"/>
                  <a:ext cx="601560" cy="117000"/>
                </a:xfrm>
                <a:custGeom>
                  <a:avLst/>
                  <a:gdLst/>
                  <a:ahLst/>
                  <a:rect l="l" t="t" r="r" b="b"/>
                  <a:pathLst>
                    <a:path w="421" h="82">
                      <a:moveTo>
                        <a:pt x="421" y="22"/>
                      </a:moveTo>
                      <a:lnTo>
                        <a:pt x="421" y="0"/>
                      </a:lnTo>
                      <a:lnTo>
                        <a:pt x="0" y="72"/>
                      </a:lnTo>
                      <a:lnTo>
                        <a:pt x="0" y="82"/>
                      </a:lnTo>
                      <a:lnTo>
                        <a:pt x="421" y="2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71800" y="2057400"/>
                  <a:ext cx="612720" cy="215640"/>
                </a:xfrm>
                <a:custGeom>
                  <a:avLst/>
                  <a:gdLst/>
                  <a:ahLst/>
                  <a:rect l="l" t="t" r="r" b="b"/>
                  <a:pathLst>
                    <a:path w="429" h="151">
                      <a:moveTo>
                        <a:pt x="429" y="54"/>
                      </a:moveTo>
                      <a:lnTo>
                        <a:pt x="429" y="0"/>
                      </a:lnTo>
                      <a:lnTo>
                        <a:pt x="0" y="132"/>
                      </a:lnTo>
                      <a:lnTo>
                        <a:pt x="0" y="151"/>
                      </a:lnTo>
                      <a:lnTo>
                        <a:pt x="429" y="54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584520" y="2057400"/>
                <a:ext cx="185400" cy="294480"/>
                <a:chOff x="3584520" y="2057400"/>
                <a:chExt cx="185400" cy="2944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585600" y="2323080"/>
                  <a:ext cx="139680" cy="28800"/>
                </a:xfrm>
                <a:custGeom>
                  <a:avLst/>
                  <a:gdLst/>
                  <a:ahLst/>
                  <a:rect l="l" t="t" r="r" b="b"/>
                  <a:pathLst>
                    <a:path w="98" h="20">
                      <a:moveTo>
                        <a:pt x="0" y="0"/>
                      </a:moveTo>
                      <a:lnTo>
                        <a:pt x="98" y="6"/>
                      </a:lnTo>
                      <a:lnTo>
                        <a:pt x="98" y="1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584520" y="2128680"/>
                  <a:ext cx="185400" cy="207000"/>
                </a:xfrm>
                <a:custGeom>
                  <a:avLst/>
                  <a:gdLst/>
                  <a:ahLst/>
                  <a:rect l="l" t="t" r="r" b="b"/>
                  <a:pathLst>
                    <a:path w="130" h="145">
                      <a:moveTo>
                        <a:pt x="0" y="0"/>
                      </a:moveTo>
                      <a:lnTo>
                        <a:pt x="130" y="76"/>
                      </a:lnTo>
                      <a:lnTo>
                        <a:pt x="115" y="76"/>
                      </a:lnTo>
                      <a:lnTo>
                        <a:pt x="115" y="103"/>
                      </a:lnTo>
                      <a:lnTo>
                        <a:pt x="120" y="106"/>
                      </a:lnTo>
                      <a:lnTo>
                        <a:pt x="115" y="106"/>
                      </a:lnTo>
                      <a:lnTo>
                        <a:pt x="115" y="140"/>
                      </a:lnTo>
                      <a:lnTo>
                        <a:pt x="100" y="145"/>
                      </a:lnTo>
                      <a:lnTo>
                        <a:pt x="0" y="1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84520" y="2057400"/>
                  <a:ext cx="185400" cy="180000"/>
                </a:xfrm>
                <a:custGeom>
                  <a:avLst/>
                  <a:gdLst/>
                  <a:ahLst/>
                  <a:rect l="l" t="t" r="r" b="b"/>
                  <a:pathLst>
                    <a:path w="130" h="126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130" y="126"/>
                      </a:lnTo>
                      <a:lnTo>
                        <a:pt x="130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3585600" y="2230200"/>
                  <a:ext cx="143640" cy="96840"/>
                  <a:chOff x="3585600" y="2230200"/>
                  <a:chExt cx="143640" cy="968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712320" y="227988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703680" y="2277000"/>
                    <a:ext cx="187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95400" y="227268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686400" y="2271600"/>
                    <a:ext cx="187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679560" y="2266920"/>
                    <a:ext cx="154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1" y="33"/>
                        </a:lnTo>
                        <a:lnTo>
                          <a:pt x="11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669480" y="2262600"/>
                    <a:ext cx="187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662280" y="225972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652200" y="225576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8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643920" y="2254320"/>
                    <a:ext cx="1836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636720" y="2249640"/>
                    <a:ext cx="154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1" y="33"/>
                        </a:lnTo>
                        <a:lnTo>
                          <a:pt x="1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629520" y="2245680"/>
                    <a:ext cx="154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1" y="33"/>
                        </a:lnTo>
                        <a:lnTo>
                          <a:pt x="1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619800" y="2242800"/>
                    <a:ext cx="1836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612600" y="223848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8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602520" y="2237040"/>
                    <a:ext cx="169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3592440" y="2233080"/>
                    <a:ext cx="198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4" y="33"/>
                        </a:lnTo>
                        <a:lnTo>
                          <a:pt x="1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585600" y="2230200"/>
                    <a:ext cx="198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2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4" y="32"/>
                        </a:lnTo>
                        <a:lnTo>
                          <a:pt x="14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3585600" y="2162880"/>
                  <a:ext cx="136800" cy="104040"/>
                  <a:chOff x="3585600" y="2162880"/>
                  <a:chExt cx="136800" cy="10404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3703680" y="2225880"/>
                    <a:ext cx="187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9">
                        <a:moveTo>
                          <a:pt x="0" y="8"/>
                        </a:moveTo>
                        <a:lnTo>
                          <a:pt x="0" y="24"/>
                        </a:lnTo>
                        <a:lnTo>
                          <a:pt x="13" y="29"/>
                        </a:lnTo>
                        <a:lnTo>
                          <a:pt x="13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695400" y="2221200"/>
                    <a:ext cx="169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7">
                        <a:moveTo>
                          <a:pt x="0" y="6"/>
                        </a:moveTo>
                        <a:lnTo>
                          <a:pt x="0" y="23"/>
                        </a:lnTo>
                        <a:lnTo>
                          <a:pt x="12" y="27"/>
                        </a:lnTo>
                        <a:lnTo>
                          <a:pt x="1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686760" y="2216880"/>
                    <a:ext cx="187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9">
                        <a:moveTo>
                          <a:pt x="0" y="6"/>
                        </a:moveTo>
                        <a:lnTo>
                          <a:pt x="0" y="26"/>
                        </a:lnTo>
                        <a:lnTo>
                          <a:pt x="13" y="29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679560" y="2212920"/>
                    <a:ext cx="158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9">
                        <a:moveTo>
                          <a:pt x="0" y="6"/>
                        </a:moveTo>
                        <a:lnTo>
                          <a:pt x="0" y="26"/>
                        </a:lnTo>
                        <a:lnTo>
                          <a:pt x="11" y="29"/>
                        </a:lnTo>
                        <a:lnTo>
                          <a:pt x="11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669480" y="2208600"/>
                    <a:ext cx="187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662280" y="2202840"/>
                    <a:ext cx="169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652560" y="2198520"/>
                    <a:ext cx="169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3643920" y="2194200"/>
                    <a:ext cx="1836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3636720" y="2189880"/>
                    <a:ext cx="154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1" y="33"/>
                        </a:lnTo>
                        <a:lnTo>
                          <a:pt x="11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3627000" y="2185560"/>
                    <a:ext cx="1836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3619800" y="2181600"/>
                    <a:ext cx="169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609720" y="2177280"/>
                    <a:ext cx="198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1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4" y="31"/>
                        </a:lnTo>
                        <a:lnTo>
                          <a:pt x="14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3602520" y="2171520"/>
                    <a:ext cx="1692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2">
                        <a:moveTo>
                          <a:pt x="0" y="7"/>
                        </a:moveTo>
                        <a:lnTo>
                          <a:pt x="0" y="29"/>
                        </a:lnTo>
                        <a:lnTo>
                          <a:pt x="12" y="32"/>
                        </a:lnTo>
                        <a:lnTo>
                          <a:pt x="1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592440" y="2167200"/>
                    <a:ext cx="198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2">
                        <a:moveTo>
                          <a:pt x="0" y="6"/>
                        </a:moveTo>
                        <a:lnTo>
                          <a:pt x="0" y="29"/>
                        </a:lnTo>
                        <a:lnTo>
                          <a:pt x="14" y="32"/>
                        </a:lnTo>
                        <a:lnTo>
                          <a:pt x="14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3585600" y="2162880"/>
                    <a:ext cx="169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2">
                        <a:moveTo>
                          <a:pt x="0" y="6"/>
                        </a:moveTo>
                        <a:lnTo>
                          <a:pt x="0" y="29"/>
                        </a:lnTo>
                        <a:lnTo>
                          <a:pt x="12" y="32"/>
                        </a:lnTo>
                        <a:lnTo>
                          <a:pt x="1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3584520" y="2190240"/>
                  <a:ext cx="173880" cy="90000"/>
                </a:xfrm>
                <a:custGeom>
                  <a:avLst/>
                  <a:gdLst/>
                  <a:ahLst/>
                  <a:rect l="l" t="t" r="r" b="b"/>
                  <a:pathLst>
                    <a:path w="122" h="63">
                      <a:moveTo>
                        <a:pt x="0" y="0"/>
                      </a:moveTo>
                      <a:lnTo>
                        <a:pt x="122" y="51"/>
                      </a:lnTo>
                      <a:lnTo>
                        <a:pt x="122" y="63"/>
                      </a:lnTo>
                      <a:lnTo>
                        <a:pt x="0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584520" y="2268720"/>
                  <a:ext cx="166680" cy="62640"/>
                </a:xfrm>
                <a:custGeom>
                  <a:avLst/>
                  <a:gdLst/>
                  <a:ahLst/>
                  <a:rect l="l" t="t" r="r" b="b"/>
                  <a:pathLst>
                    <a:path w="117" h="44">
                      <a:moveTo>
                        <a:pt x="0" y="0"/>
                      </a:moveTo>
                      <a:lnTo>
                        <a:pt x="117" y="27"/>
                      </a:lnTo>
                      <a:lnTo>
                        <a:pt x="117" y="44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2990160" y="2064240"/>
                <a:ext cx="484920" cy="321120"/>
                <a:chOff x="2990160" y="2064240"/>
                <a:chExt cx="484920" cy="3211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3185640" y="2134080"/>
                  <a:ext cx="79560" cy="251280"/>
                  <a:chOff x="3185640" y="2134080"/>
                  <a:chExt cx="79560" cy="2512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191400" y="2134080"/>
                    <a:ext cx="738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76">
                        <a:moveTo>
                          <a:pt x="52" y="15"/>
                        </a:move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5" y="0"/>
                        </a:lnTo>
                        <a:lnTo>
                          <a:pt x="5" y="9"/>
                        </a:lnTo>
                        <a:lnTo>
                          <a:pt x="0" y="8"/>
                        </a:lnTo>
                        <a:lnTo>
                          <a:pt x="0" y="175"/>
                        </a:lnTo>
                        <a:lnTo>
                          <a:pt x="8" y="169"/>
                        </a:lnTo>
                        <a:lnTo>
                          <a:pt x="15" y="169"/>
                        </a:lnTo>
                        <a:lnTo>
                          <a:pt x="15" y="176"/>
                        </a:lnTo>
                        <a:lnTo>
                          <a:pt x="22" y="176"/>
                        </a:lnTo>
                        <a:lnTo>
                          <a:pt x="25" y="172"/>
                        </a:lnTo>
                        <a:lnTo>
                          <a:pt x="25" y="24"/>
                        </a:lnTo>
                        <a:lnTo>
                          <a:pt x="52" y="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85640" y="2142720"/>
                    <a:ext cx="57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69">
                        <a:moveTo>
                          <a:pt x="4" y="0"/>
                        </a:moveTo>
                        <a:lnTo>
                          <a:pt x="4" y="169"/>
                        </a:lnTo>
                        <a:lnTo>
                          <a:pt x="0" y="169"/>
                        </a:lnTo>
                        <a:lnTo>
                          <a:pt x="0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212640" y="2134080"/>
                    <a:ext cx="6840" cy="251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98240" y="2140920"/>
                    <a:ext cx="14040" cy="2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65">
                        <a:moveTo>
                          <a:pt x="0" y="165"/>
                        </a:moveTo>
                        <a:lnTo>
                          <a:pt x="0" y="7"/>
                        </a:lnTo>
                        <a:lnTo>
                          <a:pt x="10" y="0"/>
                        </a:lnTo>
                        <a:lnTo>
                          <a:pt x="10" y="165"/>
                        </a:lnTo>
                        <a:lnTo>
                          <a:pt x="0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3375720" y="2064240"/>
                  <a:ext cx="99360" cy="320040"/>
                  <a:chOff x="3375720" y="2064240"/>
                  <a:chExt cx="99360" cy="3200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3382560" y="2064240"/>
                    <a:ext cx="9252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224">
                        <a:moveTo>
                          <a:pt x="65" y="19"/>
                        </a:move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18" y="1"/>
                        </a:lnTo>
                        <a:lnTo>
                          <a:pt x="7" y="12"/>
                        </a:lnTo>
                        <a:lnTo>
                          <a:pt x="0" y="9"/>
                        </a:lnTo>
                        <a:lnTo>
                          <a:pt x="0" y="224"/>
                        </a:lnTo>
                        <a:lnTo>
                          <a:pt x="10" y="215"/>
                        </a:lnTo>
                        <a:lnTo>
                          <a:pt x="18" y="215"/>
                        </a:lnTo>
                        <a:lnTo>
                          <a:pt x="18" y="224"/>
                        </a:lnTo>
                        <a:lnTo>
                          <a:pt x="27" y="224"/>
                        </a:lnTo>
                        <a:lnTo>
                          <a:pt x="32" y="219"/>
                        </a:lnTo>
                        <a:lnTo>
                          <a:pt x="32" y="30"/>
                        </a:lnTo>
                        <a:lnTo>
                          <a:pt x="65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3375720" y="2073960"/>
                    <a:ext cx="684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17">
                        <a:moveTo>
                          <a:pt x="5" y="0"/>
                        </a:moveTo>
                        <a:lnTo>
                          <a:pt x="5" y="217"/>
                        </a:lnTo>
                        <a:lnTo>
                          <a:pt x="0" y="217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408120" y="2064240"/>
                    <a:ext cx="126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24">
                        <a:moveTo>
                          <a:pt x="0" y="1"/>
                        </a:moveTo>
                        <a:lnTo>
                          <a:pt x="9" y="0"/>
                        </a:lnTo>
                        <a:lnTo>
                          <a:pt x="9" y="224"/>
                        </a:lnTo>
                        <a:lnTo>
                          <a:pt x="0" y="224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392640" y="2072880"/>
                    <a:ext cx="1548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12">
                        <a:moveTo>
                          <a:pt x="0" y="212"/>
                        </a:moveTo>
                        <a:lnTo>
                          <a:pt x="0" y="9"/>
                        </a:lnTo>
                        <a:lnTo>
                          <a:pt x="11" y="0"/>
                        </a:lnTo>
                        <a:lnTo>
                          <a:pt x="11" y="212"/>
                        </a:lnTo>
                        <a:lnTo>
                          <a:pt x="0" y="2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3068640" y="2179800"/>
                  <a:ext cx="62280" cy="201240"/>
                  <a:chOff x="3068640" y="2179800"/>
                  <a:chExt cx="62280" cy="2012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3074400" y="2179800"/>
                    <a:ext cx="5652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41">
                        <a:moveTo>
                          <a:pt x="40" y="11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1" y="0"/>
                        </a:lnTo>
                        <a:lnTo>
                          <a:pt x="3" y="7"/>
                        </a:lnTo>
                        <a:lnTo>
                          <a:pt x="0" y="5"/>
                        </a:lnTo>
                        <a:lnTo>
                          <a:pt x="0" y="140"/>
                        </a:lnTo>
                        <a:lnTo>
                          <a:pt x="6" y="135"/>
                        </a:lnTo>
                        <a:lnTo>
                          <a:pt x="11" y="135"/>
                        </a:lnTo>
                        <a:lnTo>
                          <a:pt x="11" y="141"/>
                        </a:lnTo>
                        <a:lnTo>
                          <a:pt x="16" y="141"/>
                        </a:lnTo>
                        <a:lnTo>
                          <a:pt x="20" y="137"/>
                        </a:lnTo>
                        <a:lnTo>
                          <a:pt x="20" y="19"/>
                        </a:lnTo>
                        <a:lnTo>
                          <a:pt x="40" y="1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068640" y="2185560"/>
                    <a:ext cx="57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36">
                        <a:moveTo>
                          <a:pt x="4" y="0"/>
                        </a:moveTo>
                        <a:lnTo>
                          <a:pt x="4" y="136"/>
                        </a:lnTo>
                        <a:lnTo>
                          <a:pt x="0" y="136"/>
                        </a:lnTo>
                        <a:lnTo>
                          <a:pt x="0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088440" y="2179800"/>
                    <a:ext cx="82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0">
                        <a:moveTo>
                          <a:pt x="0" y="1"/>
                        </a:moveTo>
                        <a:lnTo>
                          <a:pt x="6" y="0"/>
                        </a:lnTo>
                        <a:lnTo>
                          <a:pt x="6" y="140"/>
                        </a:lnTo>
                        <a:lnTo>
                          <a:pt x="0" y="14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078360" y="2182680"/>
                    <a:ext cx="972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5">
                        <a:moveTo>
                          <a:pt x="0" y="135"/>
                        </a:moveTo>
                        <a:lnTo>
                          <a:pt x="0" y="6"/>
                        </a:lnTo>
                        <a:lnTo>
                          <a:pt x="7" y="0"/>
                        </a:lnTo>
                        <a:lnTo>
                          <a:pt x="7" y="135"/>
                        </a:lnTo>
                        <a:lnTo>
                          <a:pt x="0" y="1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2990160" y="2208600"/>
                  <a:ext cx="54360" cy="167040"/>
                  <a:chOff x="2990160" y="2208600"/>
                  <a:chExt cx="54360" cy="1670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2993040" y="2208600"/>
                    <a:ext cx="514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17">
                        <a:moveTo>
                          <a:pt x="36" y="11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1" y="2"/>
                        </a:lnTo>
                        <a:lnTo>
                          <a:pt x="5" y="8"/>
                        </a:lnTo>
                        <a:lnTo>
                          <a:pt x="0" y="5"/>
                        </a:lnTo>
                        <a:lnTo>
                          <a:pt x="0" y="117"/>
                        </a:lnTo>
                        <a:lnTo>
                          <a:pt x="6" y="112"/>
                        </a:lnTo>
                        <a:lnTo>
                          <a:pt x="10" y="112"/>
                        </a:lnTo>
                        <a:lnTo>
                          <a:pt x="10" y="117"/>
                        </a:lnTo>
                        <a:lnTo>
                          <a:pt x="15" y="117"/>
                        </a:lnTo>
                        <a:lnTo>
                          <a:pt x="18" y="114"/>
                        </a:lnTo>
                        <a:lnTo>
                          <a:pt x="18" y="15"/>
                        </a:lnTo>
                        <a:lnTo>
                          <a:pt x="36" y="1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990160" y="2215440"/>
                    <a:ext cx="2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12">
                        <a:moveTo>
                          <a:pt x="2" y="0"/>
                        </a:moveTo>
                        <a:lnTo>
                          <a:pt x="2" y="112"/>
                        </a:lnTo>
                        <a:lnTo>
                          <a:pt x="0" y="11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007080" y="2208600"/>
                    <a:ext cx="684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17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117"/>
                        </a:lnTo>
                        <a:lnTo>
                          <a:pt x="0" y="117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999880" y="2212560"/>
                    <a:ext cx="684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9">
                        <a:moveTo>
                          <a:pt x="0" y="109"/>
                        </a:moveTo>
                        <a:lnTo>
                          <a:pt x="0" y="6"/>
                        </a:lnTo>
                        <a:lnTo>
                          <a:pt x="5" y="0"/>
                        </a:lnTo>
                        <a:lnTo>
                          <a:pt x="5" y="109"/>
                        </a:lnTo>
                        <a:lnTo>
                          <a:pt x="0" y="10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68" name=""/>
          <p:cNvSpPr/>
          <p:nvPr/>
        </p:nvSpPr>
        <p:spPr>
          <a:xfrm>
            <a:off x="27432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資策會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SEED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47920" y="1752480"/>
            <a:ext cx="1148760" cy="415800"/>
            <a:chOff x="1447920" y="1752480"/>
            <a:chExt cx="1148760" cy="415800"/>
          </a:xfrm>
        </p:grpSpPr>
        <p:grpSp>
          <p:nvGrpSpPr>
            <p:cNvPr id="270" name=""/>
            <p:cNvGrpSpPr/>
            <p:nvPr/>
          </p:nvGrpSpPr>
          <p:grpSpPr>
            <a:xfrm>
              <a:off x="1447920" y="1752480"/>
              <a:ext cx="1148760" cy="415800"/>
              <a:chOff x="1447920" y="1752480"/>
              <a:chExt cx="1148760" cy="415800"/>
            </a:xfrm>
          </p:grpSpPr>
          <p:sp>
            <p:nvSpPr>
              <p:cNvPr id="271" name=""/>
              <p:cNvSpPr/>
              <p:nvPr/>
            </p:nvSpPr>
            <p:spPr>
              <a:xfrm>
                <a:off x="1807920" y="1765440"/>
                <a:ext cx="271440" cy="1299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40840" y="1752480"/>
                <a:ext cx="219960" cy="1044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48200" y="1868040"/>
                <a:ext cx="348480" cy="1717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76440" y="1946880"/>
                <a:ext cx="400320" cy="1958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44160" y="1972440"/>
                <a:ext cx="298440" cy="1443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470600" y="1985400"/>
                <a:ext cx="221400" cy="1029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7920" y="1895400"/>
                <a:ext cx="219960" cy="1029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51960" y="1791000"/>
                <a:ext cx="348480" cy="17028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860840" y="1996920"/>
                <a:ext cx="347400" cy="1713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99680" y="1802520"/>
                <a:ext cx="272880" cy="1328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219400" y="1752480"/>
                <a:ext cx="247320" cy="1173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37920" y="1780920"/>
                <a:ext cx="1000440" cy="337680"/>
              </a:xfrm>
              <a:custGeom>
                <a:avLst/>
                <a:gdLst/>
                <a:ahLst/>
                <a:rect l="l" t="t" r="r" b="b"/>
                <a:pathLst>
                  <a:path w="700" h="236">
                    <a:moveTo>
                      <a:pt x="216" y="23"/>
                    </a:moveTo>
                    <a:lnTo>
                      <a:pt x="244" y="6"/>
                    </a:lnTo>
                    <a:lnTo>
                      <a:pt x="375" y="7"/>
                    </a:lnTo>
                    <a:lnTo>
                      <a:pt x="467" y="0"/>
                    </a:lnTo>
                    <a:lnTo>
                      <a:pt x="584" y="28"/>
                    </a:lnTo>
                    <a:lnTo>
                      <a:pt x="643" y="20"/>
                    </a:lnTo>
                    <a:lnTo>
                      <a:pt x="673" y="23"/>
                    </a:lnTo>
                    <a:lnTo>
                      <a:pt x="681" y="93"/>
                    </a:lnTo>
                    <a:lnTo>
                      <a:pt x="699" y="105"/>
                    </a:lnTo>
                    <a:lnTo>
                      <a:pt x="645" y="158"/>
                    </a:lnTo>
                    <a:lnTo>
                      <a:pt x="585" y="121"/>
                    </a:lnTo>
                    <a:lnTo>
                      <a:pt x="570" y="140"/>
                    </a:lnTo>
                    <a:lnTo>
                      <a:pt x="488" y="214"/>
                    </a:lnTo>
                    <a:lnTo>
                      <a:pt x="210" y="235"/>
                    </a:lnTo>
                    <a:lnTo>
                      <a:pt x="67" y="220"/>
                    </a:lnTo>
                    <a:lnTo>
                      <a:pt x="23" y="174"/>
                    </a:lnTo>
                    <a:lnTo>
                      <a:pt x="23" y="126"/>
                    </a:lnTo>
                    <a:lnTo>
                      <a:pt x="0" y="87"/>
                    </a:lnTo>
                    <a:lnTo>
                      <a:pt x="216" y="23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490400" y="1771200"/>
              <a:ext cx="1064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33"/>
                  </a:solidFill>
                  <a:latin typeface="Times New Roman"/>
                  <a:ea typeface="全真楷書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14600" y="1981080"/>
            <a:ext cx="412920" cy="274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952880" y="4114800"/>
            <a:ext cx="1149120" cy="415440"/>
            <a:chOff x="4952880" y="4114800"/>
            <a:chExt cx="1149120" cy="415440"/>
          </a:xfrm>
        </p:grpSpPr>
        <p:grpSp>
          <p:nvGrpSpPr>
            <p:cNvPr id="286" name=""/>
            <p:cNvGrpSpPr/>
            <p:nvPr/>
          </p:nvGrpSpPr>
          <p:grpSpPr>
            <a:xfrm>
              <a:off x="4952880" y="4114800"/>
              <a:ext cx="1149120" cy="415440"/>
              <a:chOff x="4952880" y="4114800"/>
              <a:chExt cx="1149120" cy="415440"/>
            </a:xfrm>
          </p:grpSpPr>
          <p:sp>
            <p:nvSpPr>
              <p:cNvPr id="287" name=""/>
              <p:cNvSpPr/>
              <p:nvPr/>
            </p:nvSpPr>
            <p:spPr>
              <a:xfrm>
                <a:off x="5312880" y="4127760"/>
                <a:ext cx="271440" cy="1299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546160" y="4114800"/>
                <a:ext cx="219960" cy="1040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53160" y="4230360"/>
                <a:ext cx="348840" cy="1717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81400" y="4309200"/>
                <a:ext cx="400320" cy="19548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649120" y="4334760"/>
                <a:ext cx="298440" cy="1443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975560" y="4347720"/>
                <a:ext cx="221400" cy="1029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52880" y="4257720"/>
                <a:ext cx="219960" cy="1029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057280" y="4153320"/>
                <a:ext cx="348840" cy="1699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65800" y="4358880"/>
                <a:ext cx="347400" cy="1713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05000" y="4164840"/>
                <a:ext cx="272880" cy="1328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724720" y="4114800"/>
                <a:ext cx="247320" cy="1170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42880" y="4143240"/>
                <a:ext cx="1000800" cy="337320"/>
              </a:xfrm>
              <a:custGeom>
                <a:avLst/>
                <a:gdLst/>
                <a:ahLst/>
                <a:rect l="l" t="t" r="r" b="b"/>
                <a:pathLst>
                  <a:path w="700" h="236">
                    <a:moveTo>
                      <a:pt x="216" y="23"/>
                    </a:moveTo>
                    <a:lnTo>
                      <a:pt x="244" y="6"/>
                    </a:lnTo>
                    <a:lnTo>
                      <a:pt x="375" y="7"/>
                    </a:lnTo>
                    <a:lnTo>
                      <a:pt x="467" y="0"/>
                    </a:lnTo>
                    <a:lnTo>
                      <a:pt x="584" y="28"/>
                    </a:lnTo>
                    <a:lnTo>
                      <a:pt x="643" y="20"/>
                    </a:lnTo>
                    <a:lnTo>
                      <a:pt x="673" y="23"/>
                    </a:lnTo>
                    <a:lnTo>
                      <a:pt x="681" y="93"/>
                    </a:lnTo>
                    <a:lnTo>
                      <a:pt x="699" y="105"/>
                    </a:lnTo>
                    <a:lnTo>
                      <a:pt x="645" y="158"/>
                    </a:lnTo>
                    <a:lnTo>
                      <a:pt x="585" y="121"/>
                    </a:lnTo>
                    <a:lnTo>
                      <a:pt x="570" y="140"/>
                    </a:lnTo>
                    <a:lnTo>
                      <a:pt x="488" y="214"/>
                    </a:lnTo>
                    <a:lnTo>
                      <a:pt x="210" y="235"/>
                    </a:lnTo>
                    <a:lnTo>
                      <a:pt x="67" y="220"/>
                    </a:lnTo>
                    <a:lnTo>
                      <a:pt x="23" y="174"/>
                    </a:lnTo>
                    <a:lnTo>
                      <a:pt x="23" y="126"/>
                    </a:lnTo>
                    <a:lnTo>
                      <a:pt x="0" y="87"/>
                    </a:lnTo>
                    <a:lnTo>
                      <a:pt x="216" y="23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995360" y="4133520"/>
              <a:ext cx="1065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0033"/>
                  </a:solidFill>
                  <a:latin typeface="Times New Roman"/>
                  <a:ea typeface="全真楷書"/>
                </a:rPr>
                <a:t>關貿網路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410080" y="3124080"/>
            <a:ext cx="274320" cy="502920"/>
            <a:chOff x="5410080" y="3124080"/>
            <a:chExt cx="274320" cy="502920"/>
          </a:xfrm>
        </p:grpSpPr>
        <p:grpSp>
          <p:nvGrpSpPr>
            <p:cNvPr id="301" name=""/>
            <p:cNvGrpSpPr/>
            <p:nvPr/>
          </p:nvGrpSpPr>
          <p:grpSpPr>
            <a:xfrm>
              <a:off x="5410080" y="3510360"/>
              <a:ext cx="274320" cy="116640"/>
              <a:chOff x="5410080" y="3510360"/>
              <a:chExt cx="274320" cy="116640"/>
            </a:xfrm>
          </p:grpSpPr>
          <p:sp>
            <p:nvSpPr>
              <p:cNvPr id="302" name=""/>
              <p:cNvSpPr/>
              <p:nvPr/>
            </p:nvSpPr>
            <p:spPr>
              <a:xfrm>
                <a:off x="5410080" y="3510360"/>
                <a:ext cx="234360" cy="116640"/>
              </a:xfrm>
              <a:custGeom>
                <a:avLst/>
                <a:gdLst/>
                <a:ahLst/>
                <a:rect l="l" t="t" r="r" b="b"/>
                <a:pathLst>
                  <a:path w="164" h="82">
                    <a:moveTo>
                      <a:pt x="16" y="43"/>
                    </a:moveTo>
                    <a:lnTo>
                      <a:pt x="15" y="46"/>
                    </a:lnTo>
                    <a:lnTo>
                      <a:pt x="6" y="53"/>
                    </a:lnTo>
                    <a:lnTo>
                      <a:pt x="1" y="56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1" y="64"/>
                    </a:lnTo>
                    <a:lnTo>
                      <a:pt x="5" y="67"/>
                    </a:lnTo>
                    <a:lnTo>
                      <a:pt x="10" y="67"/>
                    </a:lnTo>
                    <a:lnTo>
                      <a:pt x="15" y="68"/>
                    </a:lnTo>
                    <a:lnTo>
                      <a:pt x="104" y="80"/>
                    </a:lnTo>
                    <a:lnTo>
                      <a:pt x="112" y="82"/>
                    </a:lnTo>
                    <a:lnTo>
                      <a:pt x="120" y="82"/>
                    </a:lnTo>
                    <a:lnTo>
                      <a:pt x="125" y="80"/>
                    </a:lnTo>
                    <a:lnTo>
                      <a:pt x="129" y="80"/>
                    </a:lnTo>
                    <a:lnTo>
                      <a:pt x="132" y="77"/>
                    </a:lnTo>
                    <a:lnTo>
                      <a:pt x="134" y="76"/>
                    </a:lnTo>
                    <a:lnTo>
                      <a:pt x="137" y="74"/>
                    </a:lnTo>
                    <a:lnTo>
                      <a:pt x="164" y="0"/>
                    </a:lnTo>
                    <a:lnTo>
                      <a:pt x="16" y="4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74240" y="3510360"/>
                <a:ext cx="110160" cy="108000"/>
              </a:xfrm>
              <a:custGeom>
                <a:avLst/>
                <a:gdLst/>
                <a:ahLst/>
                <a:rect l="l" t="t" r="r" b="b"/>
                <a:pathLst>
                  <a:path w="77" h="76">
                    <a:moveTo>
                      <a:pt x="0" y="50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5" y="70"/>
                    </a:lnTo>
                    <a:lnTo>
                      <a:pt x="7" y="71"/>
                    </a:lnTo>
                    <a:lnTo>
                      <a:pt x="10" y="74"/>
                    </a:lnTo>
                    <a:lnTo>
                      <a:pt x="12" y="76"/>
                    </a:lnTo>
                    <a:lnTo>
                      <a:pt x="15" y="76"/>
                    </a:lnTo>
                    <a:lnTo>
                      <a:pt x="19" y="76"/>
                    </a:lnTo>
                    <a:lnTo>
                      <a:pt x="22" y="73"/>
                    </a:lnTo>
                    <a:lnTo>
                      <a:pt x="77" y="10"/>
                    </a:lnTo>
                    <a:lnTo>
                      <a:pt x="77" y="9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52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435640" y="3511800"/>
              <a:ext cx="212760" cy="72720"/>
            </a:xfrm>
            <a:custGeom>
              <a:avLst/>
              <a:gdLst/>
              <a:ahLst/>
              <a:rect l="l" t="t" r="r" b="b"/>
              <a:pathLst>
                <a:path w="149" h="51">
                  <a:moveTo>
                    <a:pt x="149" y="0"/>
                  </a:moveTo>
                  <a:lnTo>
                    <a:pt x="99" y="48"/>
                  </a:lnTo>
                  <a:lnTo>
                    <a:pt x="97" y="49"/>
                  </a:lnTo>
                  <a:lnTo>
                    <a:pt x="94" y="51"/>
                  </a:lnTo>
                  <a:lnTo>
                    <a:pt x="91" y="51"/>
                  </a:lnTo>
                  <a:lnTo>
                    <a:pt x="86" y="5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606060"/>
            </a:solidFill>
            <a:ln w="324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432760" y="3124080"/>
              <a:ext cx="214200" cy="457200"/>
              <a:chOff x="5432760" y="3124080"/>
              <a:chExt cx="214200" cy="457200"/>
            </a:xfrm>
          </p:grpSpPr>
          <p:sp>
            <p:nvSpPr>
              <p:cNvPr id="306" name=""/>
              <p:cNvSpPr/>
              <p:nvPr/>
            </p:nvSpPr>
            <p:spPr>
              <a:xfrm>
                <a:off x="5432760" y="3128040"/>
                <a:ext cx="214200" cy="453240"/>
              </a:xfrm>
              <a:custGeom>
                <a:avLst/>
                <a:gdLst/>
                <a:ahLst/>
                <a:rect l="l" t="t" r="r" b="b"/>
                <a:pathLst>
                  <a:path w="150" h="318">
                    <a:moveTo>
                      <a:pt x="150" y="0"/>
                    </a:moveTo>
                    <a:lnTo>
                      <a:pt x="150" y="268"/>
                    </a:lnTo>
                    <a:lnTo>
                      <a:pt x="99" y="315"/>
                    </a:lnTo>
                    <a:lnTo>
                      <a:pt x="98" y="317"/>
                    </a:lnTo>
                    <a:lnTo>
                      <a:pt x="96" y="318"/>
                    </a:lnTo>
                    <a:lnTo>
                      <a:pt x="93" y="318"/>
                    </a:lnTo>
                    <a:lnTo>
                      <a:pt x="88" y="318"/>
                    </a:lnTo>
                    <a:lnTo>
                      <a:pt x="5" y="310"/>
                    </a:lnTo>
                    <a:lnTo>
                      <a:pt x="2" y="308"/>
                    </a:lnTo>
                    <a:lnTo>
                      <a:pt x="0" y="307"/>
                    </a:lnTo>
                    <a:lnTo>
                      <a:pt x="0" y="305"/>
                    </a:lnTo>
                    <a:lnTo>
                      <a:pt x="0" y="301"/>
                    </a:lnTo>
                    <a:lnTo>
                      <a:pt x="0" y="11"/>
                    </a:lnTo>
                    <a:lnTo>
                      <a:pt x="91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32760" y="3124080"/>
                <a:ext cx="210960" cy="28440"/>
              </a:xfrm>
              <a:custGeom>
                <a:avLst/>
                <a:gdLst/>
                <a:ahLst/>
                <a:rect l="l" t="t" r="r" b="b"/>
                <a:pathLst>
                  <a:path w="148" h="20">
                    <a:moveTo>
                      <a:pt x="0" y="14"/>
                    </a:moveTo>
                    <a:lnTo>
                      <a:pt x="84" y="0"/>
                    </a:lnTo>
                    <a:lnTo>
                      <a:pt x="148" y="3"/>
                    </a:lnTo>
                    <a:lnTo>
                      <a:pt x="91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5431320" y="3141000"/>
              <a:ext cx="146880" cy="425880"/>
              <a:chOff x="5431320" y="3141000"/>
              <a:chExt cx="146880" cy="425880"/>
            </a:xfrm>
          </p:grpSpPr>
          <p:sp>
            <p:nvSpPr>
              <p:cNvPr id="309" name=""/>
              <p:cNvSpPr/>
              <p:nvPr/>
            </p:nvSpPr>
            <p:spPr>
              <a:xfrm>
                <a:off x="5431320" y="3141000"/>
                <a:ext cx="135720" cy="424800"/>
              </a:xfrm>
              <a:custGeom>
                <a:avLst/>
                <a:gdLst/>
                <a:ahLst/>
                <a:rect l="l" t="t" r="r" b="b"/>
                <a:pathLst>
                  <a:path w="95" h="298">
                    <a:moveTo>
                      <a:pt x="1" y="289"/>
                    </a:moveTo>
                    <a:lnTo>
                      <a:pt x="3" y="292"/>
                    </a:lnTo>
                    <a:lnTo>
                      <a:pt x="5" y="292"/>
                    </a:lnTo>
                    <a:lnTo>
                      <a:pt x="8" y="292"/>
                    </a:lnTo>
                    <a:lnTo>
                      <a:pt x="10" y="292"/>
                    </a:lnTo>
                    <a:lnTo>
                      <a:pt x="95" y="298"/>
                    </a:lnTo>
                    <a:lnTo>
                      <a:pt x="95" y="12"/>
                    </a:lnTo>
                    <a:lnTo>
                      <a:pt x="94" y="9"/>
                    </a:lnTo>
                    <a:lnTo>
                      <a:pt x="92" y="8"/>
                    </a:lnTo>
                    <a:lnTo>
                      <a:pt x="90" y="6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18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5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1" y="166"/>
                    </a:lnTo>
                    <a:lnTo>
                      <a:pt x="1" y="28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577120" y="3149280"/>
                <a:ext cx="1080" cy="413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565600" y="3147840"/>
                <a:ext cx="11160" cy="419040"/>
              </a:xfrm>
              <a:custGeom>
                <a:avLst/>
                <a:gdLst/>
                <a:ahLst/>
                <a:rect l="l" t="t" r="r" b="b"/>
                <a:pathLst>
                  <a:path w="8" h="294">
                    <a:moveTo>
                      <a:pt x="0" y="294"/>
                    </a:moveTo>
                    <a:lnTo>
                      <a:pt x="8" y="290"/>
                    </a:lnTo>
                    <a:lnTo>
                      <a:pt x="8" y="0"/>
                    </a:lnTo>
                    <a:lnTo>
                      <a:pt x="0" y="3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31320" y="3344400"/>
                <a:ext cx="134280" cy="972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31320" y="3371760"/>
                <a:ext cx="134280" cy="1116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5439960" y="3380400"/>
                <a:ext cx="125640" cy="186120"/>
                <a:chOff x="5439960" y="3380400"/>
                <a:chExt cx="125640" cy="186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39960" y="3552480"/>
                  <a:ext cx="125640" cy="126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5551200" y="33894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442480" y="3380400"/>
                  <a:ext cx="1440" cy="176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48240" y="3380400"/>
                  <a:ext cx="1080" cy="176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452560" y="33814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56880" y="33814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459400" y="33814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478480" y="33814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464080" y="33814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469480" y="33814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473800" y="33814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483880" y="338436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485320" y="338436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91080" y="338436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495400" y="33858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499720" y="338436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505120" y="338580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509800" y="33858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514120" y="33886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5519880" y="338544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523840" y="33886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529600" y="33886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533920" y="33886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536800" y="33886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5541120" y="3388680"/>
                  <a:ext cx="1080" cy="177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545440" y="338976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5431320" y="3183480"/>
                <a:ext cx="134280" cy="828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31320" y="3378960"/>
                <a:ext cx="1342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5444280" y="3157920"/>
                <a:ext cx="106920" cy="22320"/>
                <a:chOff x="5444280" y="3157920"/>
                <a:chExt cx="106920" cy="223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444280" y="3157920"/>
                  <a:ext cx="11160" cy="140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471280" y="3159000"/>
                  <a:ext cx="11160" cy="140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493960" y="3161880"/>
                  <a:ext cx="11160" cy="111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542560" y="3163320"/>
                  <a:ext cx="8640" cy="16920"/>
                </a:xfrm>
                <a:prstGeom prst="rect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431320" y="3209040"/>
                <a:ext cx="135720" cy="120600"/>
                <a:chOff x="5431320" y="3209040"/>
                <a:chExt cx="135720" cy="120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431320" y="3209040"/>
                  <a:ext cx="135720" cy="864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431320" y="3237480"/>
                  <a:ext cx="134280" cy="828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431320" y="3291480"/>
                  <a:ext cx="134280" cy="972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31320" y="3318480"/>
                  <a:ext cx="135720" cy="1116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431320" y="3263040"/>
                  <a:ext cx="135720" cy="828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439960" y="3211920"/>
                  <a:ext cx="112680" cy="3528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439960" y="3237480"/>
                  <a:ext cx="112680" cy="3528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439960" y="3264480"/>
                  <a:ext cx="112680" cy="3564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439960" y="3290040"/>
                  <a:ext cx="112680" cy="38160"/>
                </a:xfrm>
                <a:custGeom>
                  <a:avLst/>
                  <a:gdLst/>
                  <a:ahLst/>
                  <a:rect l="l" t="t" r="r" b="b"/>
                  <a:pathLst>
                    <a:path w="79" h="27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7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5452560" y="3220560"/>
                  <a:ext cx="85680" cy="46080"/>
                  <a:chOff x="5452560" y="3220560"/>
                  <a:chExt cx="85680" cy="4608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5520960" y="3223080"/>
                    <a:ext cx="108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5462280" y="3242880"/>
                    <a:ext cx="666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2"/>
                        </a:moveTo>
                        <a:lnTo>
                          <a:pt x="0" y="0"/>
                        </a:lnTo>
                        <a:lnTo>
                          <a:pt x="47" y="5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5464080" y="3251520"/>
                    <a:ext cx="626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4" y="6"/>
                        </a:lnTo>
                        <a:lnTo>
                          <a:pt x="44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5506560" y="3259800"/>
                    <a:ext cx="198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5">
                        <a:moveTo>
                          <a:pt x="0" y="0"/>
                        </a:moveTo>
                        <a:lnTo>
                          <a:pt x="14" y="2"/>
                        </a:lnTo>
                        <a:lnTo>
                          <a:pt x="14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5466600" y="3220560"/>
                    <a:ext cx="500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3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35" y="13"/>
                        </a:lnTo>
                        <a:lnTo>
                          <a:pt x="35" y="0"/>
                        </a:lnTo>
                        <a:lnTo>
                          <a:pt x="20" y="0"/>
                        </a:lnTo>
                        <a:lnTo>
                          <a:pt x="17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5452560" y="3224520"/>
                    <a:ext cx="85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60" y="6"/>
                        </a:lnTo>
                        <a:lnTo>
                          <a:pt x="60" y="6"/>
                        </a:lnTo>
                        <a:lnTo>
                          <a:pt x="60" y="4"/>
                        </a:lnTo>
                        <a:lnTo>
                          <a:pt x="60" y="4"/>
                        </a:lnTo>
                        <a:lnTo>
                          <a:pt x="57" y="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65" name=""/>
          <p:cNvGrpSpPr/>
          <p:nvPr/>
        </p:nvGrpSpPr>
        <p:grpSpPr>
          <a:xfrm>
            <a:off x="6629400" y="3124080"/>
            <a:ext cx="274320" cy="502920"/>
            <a:chOff x="6629400" y="3124080"/>
            <a:chExt cx="274320" cy="502920"/>
          </a:xfrm>
        </p:grpSpPr>
        <p:grpSp>
          <p:nvGrpSpPr>
            <p:cNvPr id="366" name=""/>
            <p:cNvGrpSpPr/>
            <p:nvPr/>
          </p:nvGrpSpPr>
          <p:grpSpPr>
            <a:xfrm>
              <a:off x="6629400" y="3510360"/>
              <a:ext cx="274320" cy="116640"/>
              <a:chOff x="6629400" y="3510360"/>
              <a:chExt cx="274320" cy="116640"/>
            </a:xfrm>
          </p:grpSpPr>
          <p:sp>
            <p:nvSpPr>
              <p:cNvPr id="367" name=""/>
              <p:cNvSpPr/>
              <p:nvPr/>
            </p:nvSpPr>
            <p:spPr>
              <a:xfrm>
                <a:off x="6629400" y="3510360"/>
                <a:ext cx="234360" cy="116640"/>
              </a:xfrm>
              <a:custGeom>
                <a:avLst/>
                <a:gdLst/>
                <a:ahLst/>
                <a:rect l="l" t="t" r="r" b="b"/>
                <a:pathLst>
                  <a:path w="164" h="82">
                    <a:moveTo>
                      <a:pt x="16" y="43"/>
                    </a:moveTo>
                    <a:lnTo>
                      <a:pt x="15" y="46"/>
                    </a:lnTo>
                    <a:lnTo>
                      <a:pt x="6" y="53"/>
                    </a:lnTo>
                    <a:lnTo>
                      <a:pt x="1" y="56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1" y="64"/>
                    </a:lnTo>
                    <a:lnTo>
                      <a:pt x="5" y="67"/>
                    </a:lnTo>
                    <a:lnTo>
                      <a:pt x="10" y="67"/>
                    </a:lnTo>
                    <a:lnTo>
                      <a:pt x="15" y="68"/>
                    </a:lnTo>
                    <a:lnTo>
                      <a:pt x="104" y="80"/>
                    </a:lnTo>
                    <a:lnTo>
                      <a:pt x="112" y="82"/>
                    </a:lnTo>
                    <a:lnTo>
                      <a:pt x="120" y="82"/>
                    </a:lnTo>
                    <a:lnTo>
                      <a:pt x="125" y="80"/>
                    </a:lnTo>
                    <a:lnTo>
                      <a:pt x="129" y="80"/>
                    </a:lnTo>
                    <a:lnTo>
                      <a:pt x="132" y="77"/>
                    </a:lnTo>
                    <a:lnTo>
                      <a:pt x="134" y="76"/>
                    </a:lnTo>
                    <a:lnTo>
                      <a:pt x="137" y="74"/>
                    </a:lnTo>
                    <a:lnTo>
                      <a:pt x="164" y="0"/>
                    </a:lnTo>
                    <a:lnTo>
                      <a:pt x="16" y="4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793560" y="3510360"/>
                <a:ext cx="110160" cy="108000"/>
              </a:xfrm>
              <a:custGeom>
                <a:avLst/>
                <a:gdLst/>
                <a:ahLst/>
                <a:rect l="l" t="t" r="r" b="b"/>
                <a:pathLst>
                  <a:path w="77" h="76">
                    <a:moveTo>
                      <a:pt x="0" y="50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5" y="70"/>
                    </a:lnTo>
                    <a:lnTo>
                      <a:pt x="7" y="71"/>
                    </a:lnTo>
                    <a:lnTo>
                      <a:pt x="10" y="74"/>
                    </a:lnTo>
                    <a:lnTo>
                      <a:pt x="12" y="76"/>
                    </a:lnTo>
                    <a:lnTo>
                      <a:pt x="15" y="76"/>
                    </a:lnTo>
                    <a:lnTo>
                      <a:pt x="19" y="76"/>
                    </a:lnTo>
                    <a:lnTo>
                      <a:pt x="22" y="73"/>
                    </a:lnTo>
                    <a:lnTo>
                      <a:pt x="77" y="10"/>
                    </a:lnTo>
                    <a:lnTo>
                      <a:pt x="77" y="9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52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654960" y="3511800"/>
              <a:ext cx="212760" cy="72720"/>
            </a:xfrm>
            <a:custGeom>
              <a:avLst/>
              <a:gdLst/>
              <a:ahLst/>
              <a:rect l="l" t="t" r="r" b="b"/>
              <a:pathLst>
                <a:path w="149" h="51">
                  <a:moveTo>
                    <a:pt x="149" y="0"/>
                  </a:moveTo>
                  <a:lnTo>
                    <a:pt x="99" y="48"/>
                  </a:lnTo>
                  <a:lnTo>
                    <a:pt x="97" y="49"/>
                  </a:lnTo>
                  <a:lnTo>
                    <a:pt x="94" y="51"/>
                  </a:lnTo>
                  <a:lnTo>
                    <a:pt x="91" y="51"/>
                  </a:lnTo>
                  <a:lnTo>
                    <a:pt x="86" y="5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606060"/>
            </a:solidFill>
            <a:ln w="324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6652080" y="3124080"/>
              <a:ext cx="214200" cy="457200"/>
              <a:chOff x="6652080" y="3124080"/>
              <a:chExt cx="214200" cy="457200"/>
            </a:xfrm>
          </p:grpSpPr>
          <p:sp>
            <p:nvSpPr>
              <p:cNvPr id="371" name=""/>
              <p:cNvSpPr/>
              <p:nvPr/>
            </p:nvSpPr>
            <p:spPr>
              <a:xfrm>
                <a:off x="6652080" y="3128040"/>
                <a:ext cx="214200" cy="453240"/>
              </a:xfrm>
              <a:custGeom>
                <a:avLst/>
                <a:gdLst/>
                <a:ahLst/>
                <a:rect l="l" t="t" r="r" b="b"/>
                <a:pathLst>
                  <a:path w="150" h="318">
                    <a:moveTo>
                      <a:pt x="150" y="0"/>
                    </a:moveTo>
                    <a:lnTo>
                      <a:pt x="150" y="268"/>
                    </a:lnTo>
                    <a:lnTo>
                      <a:pt x="99" y="315"/>
                    </a:lnTo>
                    <a:lnTo>
                      <a:pt x="98" y="317"/>
                    </a:lnTo>
                    <a:lnTo>
                      <a:pt x="96" y="318"/>
                    </a:lnTo>
                    <a:lnTo>
                      <a:pt x="93" y="318"/>
                    </a:lnTo>
                    <a:lnTo>
                      <a:pt x="88" y="318"/>
                    </a:lnTo>
                    <a:lnTo>
                      <a:pt x="5" y="310"/>
                    </a:lnTo>
                    <a:lnTo>
                      <a:pt x="2" y="308"/>
                    </a:lnTo>
                    <a:lnTo>
                      <a:pt x="0" y="307"/>
                    </a:lnTo>
                    <a:lnTo>
                      <a:pt x="0" y="305"/>
                    </a:lnTo>
                    <a:lnTo>
                      <a:pt x="0" y="301"/>
                    </a:lnTo>
                    <a:lnTo>
                      <a:pt x="0" y="11"/>
                    </a:lnTo>
                    <a:lnTo>
                      <a:pt x="91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52080" y="3124080"/>
                <a:ext cx="210960" cy="28440"/>
              </a:xfrm>
              <a:custGeom>
                <a:avLst/>
                <a:gdLst/>
                <a:ahLst/>
                <a:rect l="l" t="t" r="r" b="b"/>
                <a:pathLst>
                  <a:path w="148" h="20">
                    <a:moveTo>
                      <a:pt x="0" y="14"/>
                    </a:moveTo>
                    <a:lnTo>
                      <a:pt x="84" y="0"/>
                    </a:lnTo>
                    <a:lnTo>
                      <a:pt x="148" y="3"/>
                    </a:lnTo>
                    <a:lnTo>
                      <a:pt x="91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6650640" y="3141000"/>
              <a:ext cx="146880" cy="425880"/>
              <a:chOff x="6650640" y="3141000"/>
              <a:chExt cx="146880" cy="425880"/>
            </a:xfrm>
          </p:grpSpPr>
          <p:sp>
            <p:nvSpPr>
              <p:cNvPr id="374" name=""/>
              <p:cNvSpPr/>
              <p:nvPr/>
            </p:nvSpPr>
            <p:spPr>
              <a:xfrm>
                <a:off x="6650640" y="3141000"/>
                <a:ext cx="135720" cy="424800"/>
              </a:xfrm>
              <a:custGeom>
                <a:avLst/>
                <a:gdLst/>
                <a:ahLst/>
                <a:rect l="l" t="t" r="r" b="b"/>
                <a:pathLst>
                  <a:path w="95" h="298">
                    <a:moveTo>
                      <a:pt x="1" y="289"/>
                    </a:moveTo>
                    <a:lnTo>
                      <a:pt x="3" y="292"/>
                    </a:lnTo>
                    <a:lnTo>
                      <a:pt x="5" y="292"/>
                    </a:lnTo>
                    <a:lnTo>
                      <a:pt x="8" y="292"/>
                    </a:lnTo>
                    <a:lnTo>
                      <a:pt x="10" y="292"/>
                    </a:lnTo>
                    <a:lnTo>
                      <a:pt x="95" y="298"/>
                    </a:lnTo>
                    <a:lnTo>
                      <a:pt x="95" y="12"/>
                    </a:lnTo>
                    <a:lnTo>
                      <a:pt x="94" y="9"/>
                    </a:lnTo>
                    <a:lnTo>
                      <a:pt x="92" y="8"/>
                    </a:lnTo>
                    <a:lnTo>
                      <a:pt x="90" y="6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18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5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1" y="166"/>
                    </a:lnTo>
                    <a:lnTo>
                      <a:pt x="1" y="28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96440" y="3149280"/>
                <a:ext cx="1080" cy="413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784920" y="3147840"/>
                <a:ext cx="11160" cy="419040"/>
              </a:xfrm>
              <a:custGeom>
                <a:avLst/>
                <a:gdLst/>
                <a:ahLst/>
                <a:rect l="l" t="t" r="r" b="b"/>
                <a:pathLst>
                  <a:path w="8" h="294">
                    <a:moveTo>
                      <a:pt x="0" y="294"/>
                    </a:moveTo>
                    <a:lnTo>
                      <a:pt x="8" y="290"/>
                    </a:lnTo>
                    <a:lnTo>
                      <a:pt x="8" y="0"/>
                    </a:lnTo>
                    <a:lnTo>
                      <a:pt x="0" y="3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50640" y="3344400"/>
                <a:ext cx="134280" cy="972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650640" y="3371760"/>
                <a:ext cx="134280" cy="1116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6659280" y="3380400"/>
                <a:ext cx="125640" cy="186120"/>
                <a:chOff x="6659280" y="3380400"/>
                <a:chExt cx="125640" cy="1861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659280" y="3552480"/>
                  <a:ext cx="125640" cy="126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6770520" y="33894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661800" y="3380400"/>
                  <a:ext cx="1440" cy="176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667560" y="3380400"/>
                  <a:ext cx="1080" cy="176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671880" y="33814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676200" y="33814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678720" y="33814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697800" y="33814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683400" y="33814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88800" y="33814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693120" y="33814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703200" y="338436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704640" y="338436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710400" y="338436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714720" y="33858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719040" y="338436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724440" y="338580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729120" y="33858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733440" y="33886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6739200" y="338544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743160" y="33886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748920" y="33886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753240" y="33886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756120" y="33886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6760440" y="3388680"/>
                  <a:ext cx="1080" cy="177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64760" y="338976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6650640" y="3183480"/>
                <a:ext cx="134280" cy="828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650640" y="3378960"/>
                <a:ext cx="1342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6663600" y="3157920"/>
                <a:ext cx="106920" cy="22320"/>
                <a:chOff x="6663600" y="3157920"/>
                <a:chExt cx="106920" cy="223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6663600" y="3157920"/>
                  <a:ext cx="11160" cy="140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690600" y="3159000"/>
                  <a:ext cx="11160" cy="140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713280" y="3161880"/>
                  <a:ext cx="11160" cy="111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761880" y="3163320"/>
                  <a:ext cx="8640" cy="16920"/>
                </a:xfrm>
                <a:prstGeom prst="rect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6650640" y="3209040"/>
                <a:ext cx="135720" cy="120600"/>
                <a:chOff x="6650640" y="3209040"/>
                <a:chExt cx="135720" cy="1206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6650640" y="3209040"/>
                  <a:ext cx="135720" cy="864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650640" y="3237480"/>
                  <a:ext cx="134280" cy="828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650640" y="3291480"/>
                  <a:ext cx="134280" cy="972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650640" y="3318480"/>
                  <a:ext cx="135720" cy="1116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650640" y="3263040"/>
                  <a:ext cx="135720" cy="828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659280" y="3211920"/>
                  <a:ext cx="112680" cy="3528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659280" y="3237480"/>
                  <a:ext cx="112680" cy="3528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659280" y="3264480"/>
                  <a:ext cx="112680" cy="3564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659280" y="3290040"/>
                  <a:ext cx="112680" cy="38160"/>
                </a:xfrm>
                <a:custGeom>
                  <a:avLst/>
                  <a:gdLst/>
                  <a:ahLst/>
                  <a:rect l="l" t="t" r="r" b="b"/>
                  <a:pathLst>
                    <a:path w="79" h="27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7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6671880" y="3220560"/>
                  <a:ext cx="85680" cy="46080"/>
                  <a:chOff x="6671880" y="3220560"/>
                  <a:chExt cx="85680" cy="4608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6740280" y="3223080"/>
                    <a:ext cx="108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6681600" y="3242880"/>
                    <a:ext cx="666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2"/>
                        </a:moveTo>
                        <a:lnTo>
                          <a:pt x="0" y="0"/>
                        </a:lnTo>
                        <a:lnTo>
                          <a:pt x="47" y="5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6683400" y="3251520"/>
                    <a:ext cx="626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4" y="6"/>
                        </a:lnTo>
                        <a:lnTo>
                          <a:pt x="44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6725880" y="3259800"/>
                    <a:ext cx="198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5">
                        <a:moveTo>
                          <a:pt x="0" y="0"/>
                        </a:moveTo>
                        <a:lnTo>
                          <a:pt x="14" y="2"/>
                        </a:lnTo>
                        <a:lnTo>
                          <a:pt x="14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685920" y="3220560"/>
                    <a:ext cx="500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3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35" y="13"/>
                        </a:lnTo>
                        <a:lnTo>
                          <a:pt x="35" y="0"/>
                        </a:lnTo>
                        <a:lnTo>
                          <a:pt x="20" y="0"/>
                        </a:lnTo>
                        <a:lnTo>
                          <a:pt x="17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671880" y="3224520"/>
                    <a:ext cx="85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60" y="6"/>
                        </a:lnTo>
                        <a:lnTo>
                          <a:pt x="60" y="6"/>
                        </a:lnTo>
                        <a:lnTo>
                          <a:pt x="60" y="4"/>
                        </a:lnTo>
                        <a:lnTo>
                          <a:pt x="60" y="4"/>
                        </a:lnTo>
                        <a:lnTo>
                          <a:pt x="57" y="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30" name=""/>
          <p:cNvGrpSpPr/>
          <p:nvPr/>
        </p:nvGrpSpPr>
        <p:grpSpPr>
          <a:xfrm>
            <a:off x="7620120" y="3124080"/>
            <a:ext cx="274320" cy="502920"/>
            <a:chOff x="7620120" y="3124080"/>
            <a:chExt cx="274320" cy="502920"/>
          </a:xfrm>
        </p:grpSpPr>
        <p:grpSp>
          <p:nvGrpSpPr>
            <p:cNvPr id="431" name=""/>
            <p:cNvGrpSpPr/>
            <p:nvPr/>
          </p:nvGrpSpPr>
          <p:grpSpPr>
            <a:xfrm>
              <a:off x="7620120" y="3510360"/>
              <a:ext cx="274320" cy="116640"/>
              <a:chOff x="7620120" y="3510360"/>
              <a:chExt cx="274320" cy="116640"/>
            </a:xfrm>
          </p:grpSpPr>
          <p:sp>
            <p:nvSpPr>
              <p:cNvPr id="432" name=""/>
              <p:cNvSpPr/>
              <p:nvPr/>
            </p:nvSpPr>
            <p:spPr>
              <a:xfrm>
                <a:off x="7620120" y="3510360"/>
                <a:ext cx="234360" cy="116640"/>
              </a:xfrm>
              <a:custGeom>
                <a:avLst/>
                <a:gdLst/>
                <a:ahLst/>
                <a:rect l="l" t="t" r="r" b="b"/>
                <a:pathLst>
                  <a:path w="164" h="82">
                    <a:moveTo>
                      <a:pt x="16" y="43"/>
                    </a:moveTo>
                    <a:lnTo>
                      <a:pt x="15" y="46"/>
                    </a:lnTo>
                    <a:lnTo>
                      <a:pt x="6" y="53"/>
                    </a:lnTo>
                    <a:lnTo>
                      <a:pt x="1" y="56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1" y="64"/>
                    </a:lnTo>
                    <a:lnTo>
                      <a:pt x="5" y="67"/>
                    </a:lnTo>
                    <a:lnTo>
                      <a:pt x="10" y="67"/>
                    </a:lnTo>
                    <a:lnTo>
                      <a:pt x="15" y="68"/>
                    </a:lnTo>
                    <a:lnTo>
                      <a:pt x="104" y="80"/>
                    </a:lnTo>
                    <a:lnTo>
                      <a:pt x="112" y="82"/>
                    </a:lnTo>
                    <a:lnTo>
                      <a:pt x="120" y="82"/>
                    </a:lnTo>
                    <a:lnTo>
                      <a:pt x="125" y="80"/>
                    </a:lnTo>
                    <a:lnTo>
                      <a:pt x="129" y="80"/>
                    </a:lnTo>
                    <a:lnTo>
                      <a:pt x="132" y="77"/>
                    </a:lnTo>
                    <a:lnTo>
                      <a:pt x="134" y="76"/>
                    </a:lnTo>
                    <a:lnTo>
                      <a:pt x="137" y="74"/>
                    </a:lnTo>
                    <a:lnTo>
                      <a:pt x="164" y="0"/>
                    </a:lnTo>
                    <a:lnTo>
                      <a:pt x="16" y="4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84280" y="3510360"/>
                <a:ext cx="110160" cy="108000"/>
              </a:xfrm>
              <a:custGeom>
                <a:avLst/>
                <a:gdLst/>
                <a:ahLst/>
                <a:rect l="l" t="t" r="r" b="b"/>
                <a:pathLst>
                  <a:path w="77" h="76">
                    <a:moveTo>
                      <a:pt x="0" y="50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5" y="70"/>
                    </a:lnTo>
                    <a:lnTo>
                      <a:pt x="7" y="71"/>
                    </a:lnTo>
                    <a:lnTo>
                      <a:pt x="10" y="74"/>
                    </a:lnTo>
                    <a:lnTo>
                      <a:pt x="12" y="76"/>
                    </a:lnTo>
                    <a:lnTo>
                      <a:pt x="15" y="76"/>
                    </a:lnTo>
                    <a:lnTo>
                      <a:pt x="19" y="76"/>
                    </a:lnTo>
                    <a:lnTo>
                      <a:pt x="22" y="73"/>
                    </a:lnTo>
                    <a:lnTo>
                      <a:pt x="77" y="10"/>
                    </a:lnTo>
                    <a:lnTo>
                      <a:pt x="77" y="9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52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645680" y="3511800"/>
              <a:ext cx="212760" cy="72720"/>
            </a:xfrm>
            <a:custGeom>
              <a:avLst/>
              <a:gdLst/>
              <a:ahLst/>
              <a:rect l="l" t="t" r="r" b="b"/>
              <a:pathLst>
                <a:path w="149" h="51">
                  <a:moveTo>
                    <a:pt x="149" y="0"/>
                  </a:moveTo>
                  <a:lnTo>
                    <a:pt x="99" y="48"/>
                  </a:lnTo>
                  <a:lnTo>
                    <a:pt x="97" y="49"/>
                  </a:lnTo>
                  <a:lnTo>
                    <a:pt x="94" y="51"/>
                  </a:lnTo>
                  <a:lnTo>
                    <a:pt x="91" y="51"/>
                  </a:lnTo>
                  <a:lnTo>
                    <a:pt x="86" y="5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606060"/>
            </a:solidFill>
            <a:ln w="324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7642800" y="3124080"/>
              <a:ext cx="214200" cy="457200"/>
              <a:chOff x="7642800" y="3124080"/>
              <a:chExt cx="214200" cy="457200"/>
            </a:xfrm>
          </p:grpSpPr>
          <p:sp>
            <p:nvSpPr>
              <p:cNvPr id="436" name=""/>
              <p:cNvSpPr/>
              <p:nvPr/>
            </p:nvSpPr>
            <p:spPr>
              <a:xfrm>
                <a:off x="7642800" y="3128040"/>
                <a:ext cx="214200" cy="453240"/>
              </a:xfrm>
              <a:custGeom>
                <a:avLst/>
                <a:gdLst/>
                <a:ahLst/>
                <a:rect l="l" t="t" r="r" b="b"/>
                <a:pathLst>
                  <a:path w="150" h="318">
                    <a:moveTo>
                      <a:pt x="150" y="0"/>
                    </a:moveTo>
                    <a:lnTo>
                      <a:pt x="150" y="268"/>
                    </a:lnTo>
                    <a:lnTo>
                      <a:pt x="99" y="315"/>
                    </a:lnTo>
                    <a:lnTo>
                      <a:pt x="98" y="317"/>
                    </a:lnTo>
                    <a:lnTo>
                      <a:pt x="96" y="318"/>
                    </a:lnTo>
                    <a:lnTo>
                      <a:pt x="93" y="318"/>
                    </a:lnTo>
                    <a:lnTo>
                      <a:pt x="88" y="318"/>
                    </a:lnTo>
                    <a:lnTo>
                      <a:pt x="5" y="310"/>
                    </a:lnTo>
                    <a:lnTo>
                      <a:pt x="2" y="308"/>
                    </a:lnTo>
                    <a:lnTo>
                      <a:pt x="0" y="307"/>
                    </a:lnTo>
                    <a:lnTo>
                      <a:pt x="0" y="305"/>
                    </a:lnTo>
                    <a:lnTo>
                      <a:pt x="0" y="301"/>
                    </a:lnTo>
                    <a:lnTo>
                      <a:pt x="0" y="11"/>
                    </a:lnTo>
                    <a:lnTo>
                      <a:pt x="91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42800" y="3124080"/>
                <a:ext cx="210960" cy="28440"/>
              </a:xfrm>
              <a:custGeom>
                <a:avLst/>
                <a:gdLst/>
                <a:ahLst/>
                <a:rect l="l" t="t" r="r" b="b"/>
                <a:pathLst>
                  <a:path w="148" h="20">
                    <a:moveTo>
                      <a:pt x="0" y="14"/>
                    </a:moveTo>
                    <a:lnTo>
                      <a:pt x="84" y="0"/>
                    </a:lnTo>
                    <a:lnTo>
                      <a:pt x="148" y="3"/>
                    </a:lnTo>
                    <a:lnTo>
                      <a:pt x="91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7641360" y="3141000"/>
              <a:ext cx="146880" cy="425880"/>
              <a:chOff x="7641360" y="3141000"/>
              <a:chExt cx="146880" cy="425880"/>
            </a:xfrm>
          </p:grpSpPr>
          <p:sp>
            <p:nvSpPr>
              <p:cNvPr id="439" name=""/>
              <p:cNvSpPr/>
              <p:nvPr/>
            </p:nvSpPr>
            <p:spPr>
              <a:xfrm>
                <a:off x="7641360" y="3141000"/>
                <a:ext cx="135720" cy="424800"/>
              </a:xfrm>
              <a:custGeom>
                <a:avLst/>
                <a:gdLst/>
                <a:ahLst/>
                <a:rect l="l" t="t" r="r" b="b"/>
                <a:pathLst>
                  <a:path w="95" h="298">
                    <a:moveTo>
                      <a:pt x="1" y="289"/>
                    </a:moveTo>
                    <a:lnTo>
                      <a:pt x="3" y="292"/>
                    </a:lnTo>
                    <a:lnTo>
                      <a:pt x="5" y="292"/>
                    </a:lnTo>
                    <a:lnTo>
                      <a:pt x="8" y="292"/>
                    </a:lnTo>
                    <a:lnTo>
                      <a:pt x="10" y="292"/>
                    </a:lnTo>
                    <a:lnTo>
                      <a:pt x="95" y="298"/>
                    </a:lnTo>
                    <a:lnTo>
                      <a:pt x="95" y="12"/>
                    </a:lnTo>
                    <a:lnTo>
                      <a:pt x="94" y="9"/>
                    </a:lnTo>
                    <a:lnTo>
                      <a:pt x="92" y="8"/>
                    </a:lnTo>
                    <a:lnTo>
                      <a:pt x="90" y="6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18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5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1" y="166"/>
                    </a:lnTo>
                    <a:lnTo>
                      <a:pt x="1" y="28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787160" y="3149280"/>
                <a:ext cx="1080" cy="413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775640" y="3147840"/>
                <a:ext cx="11160" cy="419040"/>
              </a:xfrm>
              <a:custGeom>
                <a:avLst/>
                <a:gdLst/>
                <a:ahLst/>
                <a:rect l="l" t="t" r="r" b="b"/>
                <a:pathLst>
                  <a:path w="8" h="294">
                    <a:moveTo>
                      <a:pt x="0" y="294"/>
                    </a:moveTo>
                    <a:lnTo>
                      <a:pt x="8" y="290"/>
                    </a:lnTo>
                    <a:lnTo>
                      <a:pt x="8" y="0"/>
                    </a:lnTo>
                    <a:lnTo>
                      <a:pt x="0" y="3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641360" y="3344400"/>
                <a:ext cx="134280" cy="972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641360" y="3371760"/>
                <a:ext cx="134280" cy="1116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" name=""/>
              <p:cNvGrpSpPr/>
              <p:nvPr/>
            </p:nvGrpSpPr>
            <p:grpSpPr>
              <a:xfrm>
                <a:off x="7650000" y="3380400"/>
                <a:ext cx="125640" cy="186120"/>
                <a:chOff x="7650000" y="3380400"/>
                <a:chExt cx="125640" cy="186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650000" y="3552480"/>
                  <a:ext cx="125640" cy="126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7761240" y="33894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652520" y="3380400"/>
                  <a:ext cx="1440" cy="176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658280" y="3380400"/>
                  <a:ext cx="1080" cy="176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662600" y="33814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666920" y="33814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669440" y="33814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688520" y="33814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674120" y="33814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679520" y="33814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683840" y="33814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693920" y="338436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695360" y="338436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701120" y="338436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705440" y="33858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709760" y="338436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715160" y="338580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719840" y="33858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724160" y="33886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7729920" y="338544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733880" y="33886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739640" y="33886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743960" y="33886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746840" y="338868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V="1">
                  <a:off x="7751160" y="3388680"/>
                  <a:ext cx="1080" cy="177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755480" y="338976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7641360" y="3183480"/>
                <a:ext cx="134280" cy="828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641360" y="3378960"/>
                <a:ext cx="1342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7654320" y="3157920"/>
                <a:ext cx="106920" cy="22320"/>
                <a:chOff x="7654320" y="3157920"/>
                <a:chExt cx="106920" cy="223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7654320" y="3157920"/>
                  <a:ext cx="11160" cy="140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681320" y="3159000"/>
                  <a:ext cx="11160" cy="140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704000" y="3161880"/>
                  <a:ext cx="11160" cy="111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752600" y="3163320"/>
                  <a:ext cx="8640" cy="16920"/>
                </a:xfrm>
                <a:prstGeom prst="rect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7641360" y="3209040"/>
                <a:ext cx="135720" cy="120600"/>
                <a:chOff x="7641360" y="3209040"/>
                <a:chExt cx="135720" cy="1206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641360" y="3209040"/>
                  <a:ext cx="135720" cy="864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641360" y="3237480"/>
                  <a:ext cx="134280" cy="828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641360" y="3291480"/>
                  <a:ext cx="134280" cy="972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641360" y="3318480"/>
                  <a:ext cx="135720" cy="1116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641360" y="3263040"/>
                  <a:ext cx="135720" cy="828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650000" y="3211920"/>
                  <a:ext cx="112680" cy="3528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650000" y="3237480"/>
                  <a:ext cx="112680" cy="3528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650000" y="3264480"/>
                  <a:ext cx="112680" cy="3564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650000" y="3290040"/>
                  <a:ext cx="112680" cy="38160"/>
                </a:xfrm>
                <a:custGeom>
                  <a:avLst/>
                  <a:gdLst/>
                  <a:ahLst/>
                  <a:rect l="l" t="t" r="r" b="b"/>
                  <a:pathLst>
                    <a:path w="79" h="27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7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7662600" y="3220560"/>
                  <a:ext cx="85680" cy="46080"/>
                  <a:chOff x="7662600" y="3220560"/>
                  <a:chExt cx="85680" cy="4608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7731000" y="3223080"/>
                    <a:ext cx="108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672320" y="3242880"/>
                    <a:ext cx="666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2"/>
                        </a:moveTo>
                        <a:lnTo>
                          <a:pt x="0" y="0"/>
                        </a:lnTo>
                        <a:lnTo>
                          <a:pt x="47" y="5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674120" y="3251520"/>
                    <a:ext cx="626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4" y="6"/>
                        </a:lnTo>
                        <a:lnTo>
                          <a:pt x="44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716600" y="3259800"/>
                    <a:ext cx="198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5">
                        <a:moveTo>
                          <a:pt x="0" y="0"/>
                        </a:moveTo>
                        <a:lnTo>
                          <a:pt x="14" y="2"/>
                        </a:lnTo>
                        <a:lnTo>
                          <a:pt x="14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676640" y="3220560"/>
                    <a:ext cx="500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3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35" y="13"/>
                        </a:lnTo>
                        <a:lnTo>
                          <a:pt x="35" y="0"/>
                        </a:lnTo>
                        <a:lnTo>
                          <a:pt x="20" y="0"/>
                        </a:lnTo>
                        <a:lnTo>
                          <a:pt x="17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662600" y="3224520"/>
                    <a:ext cx="85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60" y="6"/>
                        </a:lnTo>
                        <a:lnTo>
                          <a:pt x="60" y="6"/>
                        </a:lnTo>
                        <a:lnTo>
                          <a:pt x="60" y="4"/>
                        </a:lnTo>
                        <a:lnTo>
                          <a:pt x="60" y="4"/>
                        </a:lnTo>
                        <a:lnTo>
                          <a:pt x="57" y="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95" name=""/>
          <p:cNvSpPr/>
          <p:nvPr/>
        </p:nvSpPr>
        <p:spPr>
          <a:xfrm>
            <a:off x="55627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8168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800600" y="3200400"/>
            <a:ext cx="358920" cy="150840"/>
            <a:chOff x="4800600" y="3200400"/>
            <a:chExt cx="358920" cy="150840"/>
          </a:xfrm>
        </p:grpSpPr>
        <p:grpSp>
          <p:nvGrpSpPr>
            <p:cNvPr id="498" name=""/>
            <p:cNvGrpSpPr/>
            <p:nvPr/>
          </p:nvGrpSpPr>
          <p:grpSpPr>
            <a:xfrm>
              <a:off x="4800600" y="3200400"/>
              <a:ext cx="358920" cy="150840"/>
              <a:chOff x="4800600" y="3200400"/>
              <a:chExt cx="358920" cy="150840"/>
            </a:xfrm>
          </p:grpSpPr>
          <p:sp>
            <p:nvSpPr>
              <p:cNvPr id="499" name=""/>
              <p:cNvSpPr/>
              <p:nvPr/>
            </p:nvSpPr>
            <p:spPr>
              <a:xfrm>
                <a:off x="4823280" y="3256920"/>
                <a:ext cx="334440" cy="9252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800600" y="3200400"/>
                <a:ext cx="358920" cy="55440"/>
              </a:xfrm>
              <a:custGeom>
                <a:avLst/>
                <a:gdLst/>
                <a:ahLst/>
                <a:rect l="l" t="t" r="r" b="b"/>
                <a:pathLst>
                  <a:path w="251" h="39">
                    <a:moveTo>
                      <a:pt x="251" y="39"/>
                    </a:moveTo>
                    <a:lnTo>
                      <a:pt x="15" y="39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251" y="39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800600" y="3200400"/>
                <a:ext cx="21240" cy="150840"/>
              </a:xfrm>
              <a:custGeom>
                <a:avLst/>
                <a:gdLst/>
                <a:ahLst/>
                <a:rect l="l" t="t" r="r" b="b"/>
                <a:pathLst>
                  <a:path w="15" h="106">
                    <a:moveTo>
                      <a:pt x="15" y="39"/>
                    </a:moveTo>
                    <a:lnTo>
                      <a:pt x="15" y="106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a0a0a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4830480" y="3342240"/>
              <a:ext cx="320040" cy="2880"/>
            </a:xfrm>
            <a:prstGeom prst="rect">
              <a:avLst/>
            </a:prstGeom>
            <a:solidFill>
              <a:srgbClr val="40404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830480" y="3286800"/>
              <a:ext cx="320040" cy="39600"/>
              <a:chOff x="4830480" y="3286800"/>
              <a:chExt cx="320040" cy="39600"/>
            </a:xfrm>
          </p:grpSpPr>
          <p:sp>
            <p:nvSpPr>
              <p:cNvPr id="504" name=""/>
              <p:cNvSpPr/>
              <p:nvPr/>
            </p:nvSpPr>
            <p:spPr>
              <a:xfrm>
                <a:off x="4830480" y="3292560"/>
                <a:ext cx="320040" cy="108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830480" y="3296520"/>
                <a:ext cx="320040" cy="396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830480" y="3303720"/>
                <a:ext cx="320040" cy="288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830480" y="3309480"/>
                <a:ext cx="320040" cy="396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830480" y="3316680"/>
                <a:ext cx="320040" cy="252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30480" y="3322080"/>
                <a:ext cx="320040" cy="432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30480" y="3286800"/>
                <a:ext cx="320040" cy="108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4853160" y="3331080"/>
              <a:ext cx="16920" cy="5400"/>
            </a:xfrm>
            <a:prstGeom prst="rect">
              <a:avLst/>
            </a:prstGeom>
            <a:solidFill>
              <a:srgbClr val="ff8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77640" y="3331080"/>
              <a:ext cx="16920" cy="5400"/>
            </a:xfrm>
            <a:prstGeom prst="rect">
              <a:avLst/>
            </a:prstGeom>
            <a:solidFill>
              <a:srgbClr val="ff8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01760" y="3331080"/>
              <a:ext cx="15840" cy="540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32000" y="3332520"/>
              <a:ext cx="3960" cy="3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50720" y="3332520"/>
              <a:ext cx="5760" cy="3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30480" y="3262680"/>
              <a:ext cx="39600" cy="1260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18960" y="3251520"/>
              <a:ext cx="336240" cy="93600"/>
            </a:xfrm>
            <a:custGeom>
              <a:avLst/>
              <a:gdLst/>
              <a:ahLst/>
              <a:rect l="l" t="t" r="r" b="b"/>
              <a:pathLst>
                <a:path w="235" h="66">
                  <a:moveTo>
                    <a:pt x="0" y="66"/>
                  </a:moveTo>
                  <a:lnTo>
                    <a:pt x="0" y="0"/>
                  </a:lnTo>
                  <a:lnTo>
                    <a:pt x="235" y="0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724280" y="2971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集線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457200" y="2819520"/>
          <a:ext cx="79056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7905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1" name=""/>
          <p:cNvGrpSpPr/>
          <p:nvPr/>
        </p:nvGrpSpPr>
        <p:grpSpPr>
          <a:xfrm>
            <a:off x="3809880" y="3657600"/>
            <a:ext cx="761760" cy="297720"/>
            <a:chOff x="3809880" y="3657600"/>
            <a:chExt cx="761760" cy="297720"/>
          </a:xfrm>
        </p:grpSpPr>
        <p:sp>
          <p:nvSpPr>
            <p:cNvPr id="522" name=""/>
            <p:cNvSpPr/>
            <p:nvPr/>
          </p:nvSpPr>
          <p:spPr>
            <a:xfrm>
              <a:off x="4457880" y="3843000"/>
              <a:ext cx="113760" cy="17280"/>
            </a:xfrm>
            <a:custGeom>
              <a:avLst/>
              <a:gdLst/>
              <a:ahLst/>
              <a:rect l="l" t="t" r="r" b="b"/>
              <a:pathLst>
                <a:path w="148" h="18">
                  <a:moveTo>
                    <a:pt x="5" y="1"/>
                  </a:moveTo>
                  <a:lnTo>
                    <a:pt x="148" y="0"/>
                  </a:lnTo>
                  <a:lnTo>
                    <a:pt x="148" y="2"/>
                  </a:lnTo>
                  <a:lnTo>
                    <a:pt x="0" y="18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421520" y="3863880"/>
              <a:ext cx="83520" cy="55080"/>
              <a:chOff x="4421520" y="3863880"/>
              <a:chExt cx="83520" cy="55080"/>
            </a:xfrm>
          </p:grpSpPr>
          <p:sp>
            <p:nvSpPr>
              <p:cNvPr id="524" name=""/>
              <p:cNvSpPr/>
              <p:nvPr/>
            </p:nvSpPr>
            <p:spPr>
              <a:xfrm>
                <a:off x="4421520" y="3863880"/>
                <a:ext cx="83520" cy="55080"/>
              </a:xfrm>
              <a:custGeom>
                <a:avLst/>
                <a:gdLst/>
                <a:ahLst/>
                <a:rect l="l" t="t" r="r" b="b"/>
                <a:pathLst>
                  <a:path w="108" h="58">
                    <a:moveTo>
                      <a:pt x="67" y="2"/>
                    </a:moveTo>
                    <a:lnTo>
                      <a:pt x="80" y="5"/>
                    </a:lnTo>
                    <a:lnTo>
                      <a:pt x="84" y="6"/>
                    </a:lnTo>
                    <a:lnTo>
                      <a:pt x="86" y="6"/>
                    </a:lnTo>
                    <a:lnTo>
                      <a:pt x="88" y="7"/>
                    </a:lnTo>
                    <a:lnTo>
                      <a:pt x="90" y="7"/>
                    </a:lnTo>
                    <a:lnTo>
                      <a:pt x="93" y="9"/>
                    </a:lnTo>
                    <a:lnTo>
                      <a:pt x="94" y="9"/>
                    </a:lnTo>
                    <a:lnTo>
                      <a:pt x="97" y="10"/>
                    </a:lnTo>
                    <a:lnTo>
                      <a:pt x="98" y="11"/>
                    </a:lnTo>
                    <a:lnTo>
                      <a:pt x="101" y="13"/>
                    </a:lnTo>
                    <a:lnTo>
                      <a:pt x="102" y="14"/>
                    </a:lnTo>
                    <a:lnTo>
                      <a:pt x="103" y="15"/>
                    </a:lnTo>
                    <a:lnTo>
                      <a:pt x="105" y="16"/>
                    </a:lnTo>
                    <a:lnTo>
                      <a:pt x="106" y="19"/>
                    </a:lnTo>
                    <a:lnTo>
                      <a:pt x="106" y="20"/>
                    </a:lnTo>
                    <a:lnTo>
                      <a:pt x="107" y="23"/>
                    </a:lnTo>
                    <a:lnTo>
                      <a:pt x="108" y="24"/>
                    </a:lnTo>
                    <a:lnTo>
                      <a:pt x="108" y="27"/>
                    </a:lnTo>
                    <a:lnTo>
                      <a:pt x="108" y="29"/>
                    </a:lnTo>
                    <a:lnTo>
                      <a:pt x="108" y="31"/>
                    </a:lnTo>
                    <a:lnTo>
                      <a:pt x="108" y="33"/>
                    </a:lnTo>
                    <a:lnTo>
                      <a:pt x="108" y="36"/>
                    </a:lnTo>
                    <a:lnTo>
                      <a:pt x="107" y="38"/>
                    </a:lnTo>
                    <a:lnTo>
                      <a:pt x="107" y="40"/>
                    </a:lnTo>
                    <a:lnTo>
                      <a:pt x="106" y="42"/>
                    </a:lnTo>
                    <a:lnTo>
                      <a:pt x="105" y="44"/>
                    </a:lnTo>
                    <a:lnTo>
                      <a:pt x="103" y="45"/>
                    </a:lnTo>
                    <a:lnTo>
                      <a:pt x="102" y="46"/>
                    </a:lnTo>
                    <a:lnTo>
                      <a:pt x="101" y="48"/>
                    </a:lnTo>
                    <a:lnTo>
                      <a:pt x="99" y="49"/>
                    </a:lnTo>
                    <a:lnTo>
                      <a:pt x="98" y="50"/>
                    </a:lnTo>
                    <a:lnTo>
                      <a:pt x="96" y="51"/>
                    </a:lnTo>
                    <a:lnTo>
                      <a:pt x="93" y="53"/>
                    </a:lnTo>
                    <a:lnTo>
                      <a:pt x="90" y="54"/>
                    </a:lnTo>
                    <a:lnTo>
                      <a:pt x="88" y="55"/>
                    </a:lnTo>
                    <a:lnTo>
                      <a:pt x="85" y="55"/>
                    </a:lnTo>
                    <a:lnTo>
                      <a:pt x="81" y="57"/>
                    </a:lnTo>
                    <a:lnTo>
                      <a:pt x="77" y="57"/>
                    </a:lnTo>
                    <a:lnTo>
                      <a:pt x="74" y="57"/>
                    </a:lnTo>
                    <a:lnTo>
                      <a:pt x="70" y="58"/>
                    </a:lnTo>
                    <a:lnTo>
                      <a:pt x="64" y="58"/>
                    </a:lnTo>
                    <a:lnTo>
                      <a:pt x="59" y="58"/>
                    </a:lnTo>
                    <a:lnTo>
                      <a:pt x="55" y="58"/>
                    </a:lnTo>
                    <a:lnTo>
                      <a:pt x="52" y="58"/>
                    </a:lnTo>
                    <a:lnTo>
                      <a:pt x="48" y="58"/>
                    </a:lnTo>
                    <a:lnTo>
                      <a:pt x="44" y="58"/>
                    </a:lnTo>
                    <a:lnTo>
                      <a:pt x="39" y="57"/>
                    </a:lnTo>
                    <a:lnTo>
                      <a:pt x="35" y="57"/>
                    </a:lnTo>
                    <a:lnTo>
                      <a:pt x="30" y="55"/>
                    </a:lnTo>
                    <a:lnTo>
                      <a:pt x="27" y="54"/>
                    </a:lnTo>
                    <a:lnTo>
                      <a:pt x="24" y="53"/>
                    </a:lnTo>
                    <a:lnTo>
                      <a:pt x="20" y="51"/>
                    </a:lnTo>
                    <a:lnTo>
                      <a:pt x="18" y="50"/>
                    </a:lnTo>
                    <a:lnTo>
                      <a:pt x="15" y="49"/>
                    </a:lnTo>
                    <a:lnTo>
                      <a:pt x="13" y="48"/>
                    </a:lnTo>
                    <a:lnTo>
                      <a:pt x="10" y="45"/>
                    </a:lnTo>
                    <a:lnTo>
                      <a:pt x="9" y="44"/>
                    </a:lnTo>
                    <a:lnTo>
                      <a:pt x="8" y="42"/>
                    </a:lnTo>
                    <a:lnTo>
                      <a:pt x="5" y="41"/>
                    </a:lnTo>
                    <a:lnTo>
                      <a:pt x="4" y="40"/>
                    </a:lnTo>
                    <a:lnTo>
                      <a:pt x="4" y="37"/>
                    </a:lnTo>
                    <a:lnTo>
                      <a:pt x="2" y="36"/>
                    </a:lnTo>
                    <a:lnTo>
                      <a:pt x="0" y="27"/>
                    </a:lnTo>
                    <a:lnTo>
                      <a:pt x="1" y="16"/>
                    </a:lnTo>
                    <a:lnTo>
                      <a:pt x="5" y="11"/>
                    </a:lnTo>
                    <a:lnTo>
                      <a:pt x="15" y="6"/>
                    </a:lnTo>
                    <a:lnTo>
                      <a:pt x="23" y="2"/>
                    </a:lnTo>
                    <a:lnTo>
                      <a:pt x="33" y="1"/>
                    </a:lnTo>
                    <a:lnTo>
                      <a:pt x="48" y="0"/>
                    </a:lnTo>
                    <a:lnTo>
                      <a:pt x="61" y="1"/>
                    </a:lnTo>
                    <a:lnTo>
                      <a:pt x="67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467240" y="3873240"/>
                <a:ext cx="34560" cy="4176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4318560" y="3902400"/>
              <a:ext cx="96480" cy="47160"/>
              <a:chOff x="4318560" y="3902400"/>
              <a:chExt cx="96480" cy="47160"/>
            </a:xfrm>
          </p:grpSpPr>
          <p:sp>
            <p:nvSpPr>
              <p:cNvPr id="527" name=""/>
              <p:cNvSpPr/>
              <p:nvPr/>
            </p:nvSpPr>
            <p:spPr>
              <a:xfrm>
                <a:off x="4318560" y="3903840"/>
                <a:ext cx="13320" cy="3060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0"/>
                    </a:moveTo>
                    <a:lnTo>
                      <a:pt x="17" y="0"/>
                    </a:lnTo>
                    <a:lnTo>
                      <a:pt x="17" y="31"/>
                    </a:lnTo>
                    <a:lnTo>
                      <a:pt x="1" y="31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377240" y="39024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50" y="0"/>
                    </a:lnTo>
                    <a:lnTo>
                      <a:pt x="50" y="14"/>
                    </a:lnTo>
                    <a:lnTo>
                      <a:pt x="44" y="14"/>
                    </a:lnTo>
                    <a:lnTo>
                      <a:pt x="27" y="17"/>
                    </a:lnTo>
                    <a:lnTo>
                      <a:pt x="27" y="36"/>
                    </a:lnTo>
                    <a:lnTo>
                      <a:pt x="29" y="39"/>
                    </a:lnTo>
                    <a:lnTo>
                      <a:pt x="29" y="49"/>
                    </a:lnTo>
                    <a:lnTo>
                      <a:pt x="11" y="49"/>
                    </a:lnTo>
                    <a:lnTo>
                      <a:pt x="11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4055760" y="3657600"/>
              <a:ext cx="451800" cy="252000"/>
              <a:chOff x="4055760" y="3657600"/>
              <a:chExt cx="451800" cy="252000"/>
            </a:xfrm>
          </p:grpSpPr>
          <p:sp>
            <p:nvSpPr>
              <p:cNvPr id="530" name=""/>
              <p:cNvSpPr/>
              <p:nvPr/>
            </p:nvSpPr>
            <p:spPr>
              <a:xfrm>
                <a:off x="4055760" y="3657600"/>
                <a:ext cx="450360" cy="252000"/>
              </a:xfrm>
              <a:custGeom>
                <a:avLst/>
                <a:gdLst/>
                <a:ahLst/>
                <a:rect l="l" t="t" r="r" b="b"/>
                <a:pathLst>
                  <a:path w="594" h="264">
                    <a:moveTo>
                      <a:pt x="56" y="101"/>
                    </a:moveTo>
                    <a:lnTo>
                      <a:pt x="14" y="121"/>
                    </a:lnTo>
                    <a:lnTo>
                      <a:pt x="12" y="122"/>
                    </a:lnTo>
                    <a:lnTo>
                      <a:pt x="10" y="124"/>
                    </a:lnTo>
                    <a:lnTo>
                      <a:pt x="9" y="124"/>
                    </a:lnTo>
                    <a:lnTo>
                      <a:pt x="8" y="125"/>
                    </a:lnTo>
                    <a:lnTo>
                      <a:pt x="6" y="126"/>
                    </a:lnTo>
                    <a:lnTo>
                      <a:pt x="5" y="127"/>
                    </a:lnTo>
                    <a:lnTo>
                      <a:pt x="5" y="127"/>
                    </a:lnTo>
                    <a:lnTo>
                      <a:pt x="4" y="129"/>
                    </a:lnTo>
                    <a:lnTo>
                      <a:pt x="3" y="130"/>
                    </a:lnTo>
                    <a:lnTo>
                      <a:pt x="3" y="131"/>
                    </a:lnTo>
                    <a:lnTo>
                      <a:pt x="1" y="133"/>
                    </a:lnTo>
                    <a:lnTo>
                      <a:pt x="1" y="134"/>
                    </a:lnTo>
                    <a:lnTo>
                      <a:pt x="1" y="135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2"/>
                    </a:lnTo>
                    <a:lnTo>
                      <a:pt x="0" y="143"/>
                    </a:lnTo>
                    <a:lnTo>
                      <a:pt x="0" y="144"/>
                    </a:lnTo>
                    <a:lnTo>
                      <a:pt x="1" y="146"/>
                    </a:lnTo>
                    <a:lnTo>
                      <a:pt x="1" y="147"/>
                    </a:lnTo>
                    <a:lnTo>
                      <a:pt x="3" y="148"/>
                    </a:lnTo>
                    <a:lnTo>
                      <a:pt x="3" y="149"/>
                    </a:lnTo>
                    <a:lnTo>
                      <a:pt x="3" y="151"/>
                    </a:lnTo>
                    <a:lnTo>
                      <a:pt x="4" y="152"/>
                    </a:lnTo>
                    <a:lnTo>
                      <a:pt x="5" y="153"/>
                    </a:lnTo>
                    <a:lnTo>
                      <a:pt x="6" y="155"/>
                    </a:lnTo>
                    <a:lnTo>
                      <a:pt x="8" y="156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3" y="159"/>
                    </a:lnTo>
                    <a:lnTo>
                      <a:pt x="16" y="159"/>
                    </a:lnTo>
                    <a:lnTo>
                      <a:pt x="18" y="160"/>
                    </a:lnTo>
                    <a:lnTo>
                      <a:pt x="21" y="160"/>
                    </a:lnTo>
                    <a:lnTo>
                      <a:pt x="22" y="160"/>
                    </a:lnTo>
                    <a:lnTo>
                      <a:pt x="25" y="160"/>
                    </a:lnTo>
                    <a:lnTo>
                      <a:pt x="26" y="160"/>
                    </a:lnTo>
                    <a:lnTo>
                      <a:pt x="60" y="151"/>
                    </a:lnTo>
                    <a:lnTo>
                      <a:pt x="61" y="160"/>
                    </a:lnTo>
                    <a:lnTo>
                      <a:pt x="38" y="188"/>
                    </a:lnTo>
                    <a:lnTo>
                      <a:pt x="38" y="199"/>
                    </a:lnTo>
                    <a:lnTo>
                      <a:pt x="40" y="204"/>
                    </a:lnTo>
                    <a:lnTo>
                      <a:pt x="60" y="227"/>
                    </a:lnTo>
                    <a:lnTo>
                      <a:pt x="67" y="236"/>
                    </a:lnTo>
                    <a:lnTo>
                      <a:pt x="71" y="242"/>
                    </a:lnTo>
                    <a:lnTo>
                      <a:pt x="79" y="244"/>
                    </a:lnTo>
                    <a:lnTo>
                      <a:pt x="135" y="262"/>
                    </a:lnTo>
                    <a:lnTo>
                      <a:pt x="141" y="264"/>
                    </a:lnTo>
                    <a:lnTo>
                      <a:pt x="444" y="261"/>
                    </a:lnTo>
                    <a:lnTo>
                      <a:pt x="456" y="260"/>
                    </a:lnTo>
                    <a:lnTo>
                      <a:pt x="469" y="258"/>
                    </a:lnTo>
                    <a:lnTo>
                      <a:pt x="478" y="257"/>
                    </a:lnTo>
                    <a:lnTo>
                      <a:pt x="488" y="254"/>
                    </a:lnTo>
                    <a:lnTo>
                      <a:pt x="500" y="251"/>
                    </a:lnTo>
                    <a:lnTo>
                      <a:pt x="510" y="248"/>
                    </a:lnTo>
                    <a:lnTo>
                      <a:pt x="519" y="244"/>
                    </a:lnTo>
                    <a:lnTo>
                      <a:pt x="527" y="239"/>
                    </a:lnTo>
                    <a:lnTo>
                      <a:pt x="535" y="235"/>
                    </a:lnTo>
                    <a:lnTo>
                      <a:pt x="541" y="230"/>
                    </a:lnTo>
                    <a:lnTo>
                      <a:pt x="547" y="223"/>
                    </a:lnTo>
                    <a:lnTo>
                      <a:pt x="554" y="217"/>
                    </a:lnTo>
                    <a:lnTo>
                      <a:pt x="560" y="212"/>
                    </a:lnTo>
                    <a:lnTo>
                      <a:pt x="566" y="205"/>
                    </a:lnTo>
                    <a:lnTo>
                      <a:pt x="571" y="200"/>
                    </a:lnTo>
                    <a:lnTo>
                      <a:pt x="577" y="195"/>
                    </a:lnTo>
                    <a:lnTo>
                      <a:pt x="584" y="187"/>
                    </a:lnTo>
                    <a:lnTo>
                      <a:pt x="589" y="182"/>
                    </a:lnTo>
                    <a:lnTo>
                      <a:pt x="590" y="178"/>
                    </a:lnTo>
                    <a:lnTo>
                      <a:pt x="591" y="173"/>
                    </a:lnTo>
                    <a:lnTo>
                      <a:pt x="594" y="168"/>
                    </a:lnTo>
                    <a:lnTo>
                      <a:pt x="594" y="162"/>
                    </a:lnTo>
                    <a:lnTo>
                      <a:pt x="593" y="159"/>
                    </a:lnTo>
                    <a:lnTo>
                      <a:pt x="593" y="156"/>
                    </a:lnTo>
                    <a:lnTo>
                      <a:pt x="591" y="152"/>
                    </a:lnTo>
                    <a:lnTo>
                      <a:pt x="590" y="148"/>
                    </a:lnTo>
                    <a:lnTo>
                      <a:pt x="588" y="146"/>
                    </a:lnTo>
                    <a:lnTo>
                      <a:pt x="586" y="142"/>
                    </a:lnTo>
                    <a:lnTo>
                      <a:pt x="584" y="140"/>
                    </a:lnTo>
                    <a:lnTo>
                      <a:pt x="580" y="138"/>
                    </a:lnTo>
                    <a:lnTo>
                      <a:pt x="549" y="111"/>
                    </a:lnTo>
                    <a:lnTo>
                      <a:pt x="545" y="107"/>
                    </a:lnTo>
                    <a:lnTo>
                      <a:pt x="540" y="103"/>
                    </a:lnTo>
                    <a:lnTo>
                      <a:pt x="535" y="99"/>
                    </a:lnTo>
                    <a:lnTo>
                      <a:pt x="529" y="95"/>
                    </a:lnTo>
                    <a:lnTo>
                      <a:pt x="524" y="92"/>
                    </a:lnTo>
                    <a:lnTo>
                      <a:pt x="519" y="90"/>
                    </a:lnTo>
                    <a:lnTo>
                      <a:pt x="514" y="87"/>
                    </a:lnTo>
                    <a:lnTo>
                      <a:pt x="507" y="85"/>
                    </a:lnTo>
                    <a:lnTo>
                      <a:pt x="502" y="82"/>
                    </a:lnTo>
                    <a:lnTo>
                      <a:pt x="496" y="81"/>
                    </a:lnTo>
                    <a:lnTo>
                      <a:pt x="491" y="78"/>
                    </a:lnTo>
                    <a:lnTo>
                      <a:pt x="483" y="77"/>
                    </a:lnTo>
                    <a:lnTo>
                      <a:pt x="476" y="76"/>
                    </a:lnTo>
                    <a:lnTo>
                      <a:pt x="469" y="74"/>
                    </a:lnTo>
                    <a:lnTo>
                      <a:pt x="462" y="74"/>
                    </a:lnTo>
                    <a:lnTo>
                      <a:pt x="456" y="74"/>
                    </a:lnTo>
                    <a:lnTo>
                      <a:pt x="449" y="73"/>
                    </a:lnTo>
                    <a:lnTo>
                      <a:pt x="444" y="74"/>
                    </a:lnTo>
                    <a:lnTo>
                      <a:pt x="437" y="74"/>
                    </a:lnTo>
                    <a:lnTo>
                      <a:pt x="432" y="74"/>
                    </a:lnTo>
                    <a:lnTo>
                      <a:pt x="427" y="76"/>
                    </a:lnTo>
                    <a:lnTo>
                      <a:pt x="422" y="76"/>
                    </a:lnTo>
                    <a:lnTo>
                      <a:pt x="195" y="126"/>
                    </a:lnTo>
                    <a:lnTo>
                      <a:pt x="148" y="135"/>
                    </a:lnTo>
                    <a:lnTo>
                      <a:pt x="148" y="129"/>
                    </a:lnTo>
                    <a:lnTo>
                      <a:pt x="150" y="127"/>
                    </a:lnTo>
                    <a:lnTo>
                      <a:pt x="153" y="126"/>
                    </a:lnTo>
                    <a:lnTo>
                      <a:pt x="155" y="124"/>
                    </a:lnTo>
                    <a:lnTo>
                      <a:pt x="157" y="121"/>
                    </a:lnTo>
                    <a:lnTo>
                      <a:pt x="160" y="117"/>
                    </a:lnTo>
                    <a:lnTo>
                      <a:pt x="162" y="114"/>
                    </a:lnTo>
                    <a:lnTo>
                      <a:pt x="163" y="112"/>
                    </a:lnTo>
                    <a:lnTo>
                      <a:pt x="163" y="109"/>
                    </a:lnTo>
                    <a:lnTo>
                      <a:pt x="163" y="107"/>
                    </a:lnTo>
                    <a:lnTo>
                      <a:pt x="163" y="104"/>
                    </a:lnTo>
                    <a:lnTo>
                      <a:pt x="163" y="103"/>
                    </a:lnTo>
                    <a:lnTo>
                      <a:pt x="162" y="100"/>
                    </a:lnTo>
                    <a:lnTo>
                      <a:pt x="160" y="98"/>
                    </a:lnTo>
                    <a:lnTo>
                      <a:pt x="159" y="95"/>
                    </a:lnTo>
                    <a:lnTo>
                      <a:pt x="158" y="92"/>
                    </a:lnTo>
                    <a:lnTo>
                      <a:pt x="155" y="90"/>
                    </a:lnTo>
                    <a:lnTo>
                      <a:pt x="153" y="87"/>
                    </a:lnTo>
                    <a:lnTo>
                      <a:pt x="150" y="86"/>
                    </a:lnTo>
                    <a:lnTo>
                      <a:pt x="148" y="85"/>
                    </a:lnTo>
                    <a:lnTo>
                      <a:pt x="145" y="83"/>
                    </a:lnTo>
                    <a:lnTo>
                      <a:pt x="142" y="83"/>
                    </a:lnTo>
                    <a:lnTo>
                      <a:pt x="141" y="82"/>
                    </a:lnTo>
                    <a:lnTo>
                      <a:pt x="137" y="82"/>
                    </a:lnTo>
                    <a:lnTo>
                      <a:pt x="135" y="82"/>
                    </a:lnTo>
                    <a:lnTo>
                      <a:pt x="129" y="82"/>
                    </a:lnTo>
                    <a:lnTo>
                      <a:pt x="126" y="82"/>
                    </a:lnTo>
                    <a:lnTo>
                      <a:pt x="123" y="82"/>
                    </a:lnTo>
                    <a:lnTo>
                      <a:pt x="119" y="83"/>
                    </a:lnTo>
                    <a:lnTo>
                      <a:pt x="115" y="85"/>
                    </a:lnTo>
                    <a:lnTo>
                      <a:pt x="113" y="85"/>
                    </a:lnTo>
                    <a:lnTo>
                      <a:pt x="107" y="85"/>
                    </a:lnTo>
                    <a:lnTo>
                      <a:pt x="101" y="81"/>
                    </a:lnTo>
                    <a:lnTo>
                      <a:pt x="89" y="81"/>
                    </a:lnTo>
                    <a:lnTo>
                      <a:pt x="89" y="79"/>
                    </a:lnTo>
                    <a:lnTo>
                      <a:pt x="66" y="0"/>
                    </a:lnTo>
                    <a:lnTo>
                      <a:pt x="50" y="2"/>
                    </a:lnTo>
                    <a:lnTo>
                      <a:pt x="56" y="101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141800" y="3739680"/>
                <a:ext cx="34560" cy="3960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468320" y="3787560"/>
                <a:ext cx="39240" cy="51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4107240" y="3768480"/>
                <a:ext cx="380160" cy="68400"/>
                <a:chOff x="4107240" y="3768480"/>
                <a:chExt cx="380160" cy="684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4460400" y="3768480"/>
                  <a:ext cx="27000" cy="13320"/>
                </a:xfrm>
                <a:custGeom>
                  <a:avLst/>
                  <a:gdLst/>
                  <a:ahLst/>
                  <a:rect l="l" t="t" r="r" b="b"/>
                  <a:pathLst>
                    <a:path w="38" h="14">
                      <a:moveTo>
                        <a:pt x="21" y="0"/>
                      </a:moveTo>
                      <a:lnTo>
                        <a:pt x="38" y="14"/>
                      </a:lnTo>
                      <a:lnTo>
                        <a:pt x="9" y="14"/>
                      </a:lnTo>
                      <a:lnTo>
                        <a:pt x="0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430160" y="3768480"/>
                  <a:ext cx="33120" cy="13320"/>
                </a:xfrm>
                <a:custGeom>
                  <a:avLst/>
                  <a:gdLst/>
                  <a:ahLst/>
                  <a:rect l="l" t="t" r="r" b="b"/>
                  <a:pathLst>
                    <a:path w="44" h="14">
                      <a:moveTo>
                        <a:pt x="1" y="0"/>
                      </a:moveTo>
                      <a:lnTo>
                        <a:pt x="35" y="0"/>
                      </a:lnTo>
                      <a:lnTo>
                        <a:pt x="44" y="14"/>
                      </a:lnTo>
                      <a:lnTo>
                        <a:pt x="0" y="1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413240" y="3768480"/>
                  <a:ext cx="13680" cy="13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3" y="0"/>
                      </a:moveTo>
                      <a:lnTo>
                        <a:pt x="18" y="0"/>
                      </a:lnTo>
                      <a:lnTo>
                        <a:pt x="17" y="14"/>
                      </a:lnTo>
                      <a:lnTo>
                        <a:pt x="0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98120" y="3768480"/>
                  <a:ext cx="13680" cy="1332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3" y="0"/>
                      </a:moveTo>
                      <a:lnTo>
                        <a:pt x="17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46640" y="3768480"/>
                  <a:ext cx="51480" cy="1728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68" y="0"/>
                      </a:moveTo>
                      <a:lnTo>
                        <a:pt x="65" y="14"/>
                      </a:lnTo>
                      <a:lnTo>
                        <a:pt x="47" y="15"/>
                      </a:lnTo>
                      <a:lnTo>
                        <a:pt x="33" y="15"/>
                      </a:lnTo>
                      <a:lnTo>
                        <a:pt x="20" y="17"/>
                      </a:lnTo>
                      <a:lnTo>
                        <a:pt x="0" y="18"/>
                      </a:lnTo>
                      <a:lnTo>
                        <a:pt x="2" y="6"/>
                      </a:lnTo>
                      <a:lnTo>
                        <a:pt x="21" y="4"/>
                      </a:lnTo>
                      <a:lnTo>
                        <a:pt x="33" y="2"/>
                      </a:lnTo>
                      <a:lnTo>
                        <a:pt x="51" y="1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107240" y="3776040"/>
                  <a:ext cx="237960" cy="60840"/>
                </a:xfrm>
                <a:custGeom>
                  <a:avLst/>
                  <a:gdLst/>
                  <a:ahLst/>
                  <a:rect l="l" t="t" r="r" b="b"/>
                  <a:pathLst>
                    <a:path w="313" h="64">
                      <a:moveTo>
                        <a:pt x="0" y="59"/>
                      </a:moveTo>
                      <a:lnTo>
                        <a:pt x="0" y="64"/>
                      </a:lnTo>
                      <a:lnTo>
                        <a:pt x="311" y="10"/>
                      </a:lnTo>
                      <a:lnTo>
                        <a:pt x="313" y="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3809880" y="3850560"/>
              <a:ext cx="396000" cy="104760"/>
              <a:chOff x="3809880" y="3850560"/>
              <a:chExt cx="396000" cy="10476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3809880" y="3850560"/>
                <a:ext cx="396000" cy="37800"/>
                <a:chOff x="3809880" y="3850560"/>
                <a:chExt cx="396000" cy="378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3809880" y="3850560"/>
                  <a:ext cx="396000" cy="9720"/>
                </a:xfrm>
                <a:custGeom>
                  <a:avLst/>
                  <a:gdLst/>
                  <a:ahLst/>
                  <a:rect l="l" t="t" r="r" b="b"/>
                  <a:pathLst>
                    <a:path w="523" h="10">
                      <a:moveTo>
                        <a:pt x="45" y="0"/>
                      </a:moveTo>
                      <a:lnTo>
                        <a:pt x="514" y="0"/>
                      </a:lnTo>
                      <a:lnTo>
                        <a:pt x="523" y="10"/>
                      </a:lnTo>
                      <a:lnTo>
                        <a:pt x="0" y="1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931200" y="3860280"/>
                  <a:ext cx="274320" cy="28080"/>
                </a:xfrm>
                <a:custGeom>
                  <a:avLst/>
                  <a:gdLst/>
                  <a:ahLst/>
                  <a:rect l="l" t="t" r="r" b="b"/>
                  <a:pathLst>
                    <a:path w="361" h="29">
                      <a:moveTo>
                        <a:pt x="361" y="0"/>
                      </a:moveTo>
                      <a:lnTo>
                        <a:pt x="336" y="29"/>
                      </a:lnTo>
                      <a:lnTo>
                        <a:pt x="224" y="19"/>
                      </a:lnTo>
                      <a:lnTo>
                        <a:pt x="159" y="14"/>
                      </a:lnTo>
                      <a:lnTo>
                        <a:pt x="74" y="14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0" y="9"/>
                      </a:lnTo>
                      <a:lnTo>
                        <a:pt x="4" y="0"/>
                      </a:lnTo>
                      <a:lnTo>
                        <a:pt x="36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>
                <a:off x="4090320" y="3877200"/>
                <a:ext cx="40680" cy="78120"/>
              </a:xfrm>
              <a:custGeom>
                <a:avLst/>
                <a:gdLst/>
                <a:ahLst/>
                <a:rect l="l" t="t" r="r" b="b"/>
                <a:pathLst>
                  <a:path w="55" h="83">
                    <a:moveTo>
                      <a:pt x="9" y="0"/>
                    </a:moveTo>
                    <a:lnTo>
                      <a:pt x="21" y="0"/>
                    </a:lnTo>
                    <a:lnTo>
                      <a:pt x="21" y="31"/>
                    </a:lnTo>
                    <a:lnTo>
                      <a:pt x="47" y="12"/>
                    </a:lnTo>
                    <a:lnTo>
                      <a:pt x="55" y="12"/>
                    </a:lnTo>
                    <a:lnTo>
                      <a:pt x="20" y="40"/>
                    </a:lnTo>
                    <a:lnTo>
                      <a:pt x="20" y="65"/>
                    </a:lnTo>
                    <a:lnTo>
                      <a:pt x="26" y="65"/>
                    </a:lnTo>
                    <a:lnTo>
                      <a:pt x="26" y="83"/>
                    </a:lnTo>
                    <a:lnTo>
                      <a:pt x="9" y="83"/>
                    </a:lnTo>
                    <a:lnTo>
                      <a:pt x="9" y="24"/>
                    </a:lnTo>
                    <a:lnTo>
                      <a:pt x="0" y="24"/>
                    </a:lnTo>
                    <a:lnTo>
                      <a:pt x="5" y="14"/>
                    </a:lnTo>
                    <a:lnTo>
                      <a:pt x="11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4003920" y="3867840"/>
                <a:ext cx="69840" cy="69840"/>
                <a:chOff x="4003920" y="3867840"/>
                <a:chExt cx="69840" cy="698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4003920" y="3867840"/>
                  <a:ext cx="69840" cy="6984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020120" y="3879360"/>
                  <a:ext cx="42480" cy="4500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48" name=""/>
          <p:cNvSpPr/>
          <p:nvPr/>
        </p:nvSpPr>
        <p:spPr>
          <a:xfrm>
            <a:off x="4952880" y="3733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81480" y="2895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航材簽審系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391520" y="28954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政風業務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724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24480" y="2895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公文管理系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3392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航空公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86400" y="5867280"/>
            <a:ext cx="1523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報關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貨運承攬業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5627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19720" y="5791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海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5181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各航空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590920" y="5638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航空貨運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86000" y="37339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71600" y="274320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62320" y="3733920"/>
            <a:ext cx="1447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倉儲資訊查詢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倉庫使用費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EDI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轉帳作業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27432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班機到離即時資訊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33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523880" y="5638680"/>
            <a:ext cx="126720" cy="147240"/>
            <a:chOff x="1523880" y="5638680"/>
            <a:chExt cx="126720" cy="147240"/>
          </a:xfrm>
        </p:grpSpPr>
        <p:grpSp>
          <p:nvGrpSpPr>
            <p:cNvPr id="566" name=""/>
            <p:cNvGrpSpPr/>
            <p:nvPr/>
          </p:nvGrpSpPr>
          <p:grpSpPr>
            <a:xfrm>
              <a:off x="1523880" y="5638680"/>
              <a:ext cx="126720" cy="147240"/>
              <a:chOff x="1523880" y="5638680"/>
              <a:chExt cx="126720" cy="14724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1523880" y="5638680"/>
                <a:ext cx="126720" cy="147240"/>
                <a:chOff x="1523880" y="5638680"/>
                <a:chExt cx="126720" cy="147240"/>
              </a:xfrm>
            </p:grpSpPr>
            <p:grpSp>
              <p:nvGrpSpPr>
                <p:cNvPr id="568" name=""/>
                <p:cNvGrpSpPr/>
                <p:nvPr/>
              </p:nvGrpSpPr>
              <p:grpSpPr>
                <a:xfrm>
                  <a:off x="1535040" y="5750280"/>
                  <a:ext cx="108000" cy="35640"/>
                  <a:chOff x="1535040" y="5750280"/>
                  <a:chExt cx="108000" cy="3564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1535040" y="5750280"/>
                    <a:ext cx="154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9">
                        <a:moveTo>
                          <a:pt x="22" y="35"/>
                        </a:move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8" y="49"/>
                        </a:lnTo>
                        <a:lnTo>
                          <a:pt x="22" y="3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1539000" y="5751720"/>
                    <a:ext cx="99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33">
                        <a:moveTo>
                          <a:pt x="0" y="3"/>
                        </a:moveTo>
                        <a:lnTo>
                          <a:pt x="17" y="33"/>
                        </a:lnTo>
                        <a:lnTo>
                          <a:pt x="141" y="33"/>
                        </a:lnTo>
                        <a:lnTo>
                          <a:pt x="117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1547640" y="5775840"/>
                    <a:ext cx="954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14">
                        <a:moveTo>
                          <a:pt x="0" y="14"/>
                        </a:moveTo>
                        <a:lnTo>
                          <a:pt x="2" y="0"/>
                        </a:lnTo>
                        <a:lnTo>
                          <a:pt x="128" y="0"/>
                        </a:lnTo>
                        <a:lnTo>
                          <a:pt x="133" y="14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1560600" y="5750280"/>
                  <a:ext cx="54360" cy="19440"/>
                  <a:chOff x="1560600" y="5750280"/>
                  <a:chExt cx="54360" cy="19440"/>
                </a:xfrm>
              </p:grpSpPr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1560600" y="5754600"/>
                    <a:ext cx="54360" cy="15120"/>
                    <a:chOff x="1560600" y="5754600"/>
                    <a:chExt cx="54360" cy="151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1560600" y="5754600"/>
                      <a:ext cx="54360" cy="1512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1560600" y="5755680"/>
                      <a:ext cx="54360" cy="6840"/>
                    </a:xfrm>
                    <a:prstGeom prst="rect">
                      <a:avLst/>
                    </a:prstGeom>
                    <a:solidFill>
                      <a:srgbClr val="a0a0a0"/>
                    </a:solidFill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1560600" y="5761440"/>
                      <a:ext cx="525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4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17" y="4"/>
                          </a:lnTo>
                          <a:lnTo>
                            <a:pt x="61" y="4"/>
                          </a:lnTo>
                          <a:lnTo>
                            <a:pt x="74" y="1"/>
                          </a:lnTo>
                          <a:lnTo>
                            <a:pt x="74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1560600" y="5750280"/>
                    <a:ext cx="54360" cy="15480"/>
                    <a:chOff x="1560600" y="5750280"/>
                    <a:chExt cx="54360" cy="1548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1560600" y="5750280"/>
                      <a:ext cx="54360" cy="1548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1560600" y="5751720"/>
                      <a:ext cx="54360" cy="6840"/>
                    </a:xfrm>
                    <a:prstGeom prst="rect">
                      <a:avLst/>
                    </a:prstGeom>
                    <a:solidFill>
                      <a:srgbClr val="a0a0a0"/>
                    </a:solidFill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1560600" y="5757120"/>
                      <a:ext cx="525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5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17" y="4"/>
                          </a:lnTo>
                          <a:lnTo>
                            <a:pt x="61" y="5"/>
                          </a:lnTo>
                          <a:lnTo>
                            <a:pt x="74" y="3"/>
                          </a:lnTo>
                          <a:lnTo>
                            <a:pt x="74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1523880" y="5638680"/>
                  <a:ext cx="126720" cy="121680"/>
                  <a:chOff x="1523880" y="5638680"/>
                  <a:chExt cx="126720" cy="12168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1523880" y="5638680"/>
                    <a:ext cx="123840" cy="121680"/>
                  </a:xfrm>
                  <a:prstGeom prst="roundRect">
                    <a:avLst>
                      <a:gd name="adj" fmla="val 8713"/>
                    </a:avLst>
                  </a:prstGeom>
                  <a:solidFill>
                    <a:srgbClr val="e0e0e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1529280" y="5639760"/>
                    <a:ext cx="121320" cy="120240"/>
                  </a:xfrm>
                  <a:prstGeom prst="roundRect">
                    <a:avLst>
                      <a:gd name="adj" fmla="val 8847"/>
                    </a:avLst>
                  </a:prstGeom>
                  <a:solidFill>
                    <a:srgbClr val="c0c0c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1540800" y="5652720"/>
                    <a:ext cx="92520" cy="92160"/>
                  </a:xfrm>
                  <a:prstGeom prst="roundRect">
                    <a:avLst>
                      <a:gd name="adj" fmla="val 8500"/>
                    </a:avLst>
                  </a:prstGeom>
                  <a:solidFill>
                    <a:srgbClr val="e0e0e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1548000" y="5652720"/>
                    <a:ext cx="92520" cy="92160"/>
                  </a:xfrm>
                  <a:prstGeom prst="roundRect">
                    <a:avLst>
                      <a:gd name="adj" fmla="val 8500"/>
                    </a:avLst>
                  </a:prstGeom>
                  <a:solidFill>
                    <a:srgbClr val="a0a0a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542240" y="5655600"/>
                    <a:ext cx="94320" cy="86040"/>
                  </a:xfrm>
                  <a:prstGeom prst="roundRect">
                    <a:avLst>
                      <a:gd name="adj" fmla="val 8949"/>
                    </a:avLst>
                  </a:prstGeom>
                  <a:solidFill>
                    <a:srgbClr val="20202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1550520" y="5654160"/>
                    <a:ext cx="86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">
                        <a:moveTo>
                          <a:pt x="3" y="1"/>
                        </a:moveTo>
                        <a:lnTo>
                          <a:pt x="7" y="1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550520" y="5742000"/>
                    <a:ext cx="846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101" y="0"/>
                        </a:lnTo>
                        <a:lnTo>
                          <a:pt x="106" y="0"/>
                        </a:lnTo>
                        <a:lnTo>
                          <a:pt x="109" y="0"/>
                        </a:lnTo>
                        <a:lnTo>
                          <a:pt x="112" y="0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5" y="2"/>
                        </a:lnTo>
                        <a:lnTo>
                          <a:pt x="113" y="2"/>
                        </a:lnTo>
                        <a:lnTo>
                          <a:pt x="104" y="2"/>
                        </a:lnTo>
                        <a:lnTo>
                          <a:pt x="18" y="2"/>
                        </a:lnTo>
                        <a:lnTo>
                          <a:pt x="5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9" name=""/>
                <p:cNvSpPr/>
                <p:nvPr/>
              </p:nvSpPr>
              <p:spPr>
                <a:xfrm>
                  <a:off x="1553400" y="5769000"/>
                  <a:ext cx="16920" cy="540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24" y="8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555200" y="5777280"/>
                  <a:ext cx="21240" cy="2880"/>
                </a:xfrm>
                <a:prstGeom prst="rect">
                  <a:avLst/>
                </a:prstGeom>
                <a:solidFill>
                  <a:srgbClr val="60606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642320" y="5655600"/>
                  <a:ext cx="6840" cy="684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1" y="9"/>
                      </a:lnTo>
                      <a:lnTo>
                        <a:pt x="9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644840" y="5658480"/>
                  <a:ext cx="2880" cy="288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3" name=""/>
              <p:cNvSpPr/>
              <p:nvPr/>
            </p:nvSpPr>
            <p:spPr>
              <a:xfrm>
                <a:off x="1535040" y="5652720"/>
                <a:ext cx="396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1550520" y="5661360"/>
              <a:ext cx="78480" cy="7488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7720" y="5668560"/>
              <a:ext cx="64440" cy="16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7720" y="5686920"/>
              <a:ext cx="27000" cy="972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7720" y="5698080"/>
              <a:ext cx="27000" cy="1152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7720" y="5712120"/>
              <a:ext cx="27000" cy="972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95160" y="5685480"/>
              <a:ext cx="25560" cy="4500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86520" y="5686920"/>
              <a:ext cx="5400" cy="972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6520" y="5698080"/>
              <a:ext cx="5400" cy="972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86520" y="5712120"/>
              <a:ext cx="5400" cy="972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57720" y="5723640"/>
              <a:ext cx="8640" cy="5400"/>
            </a:xfrm>
            <a:prstGeom prst="rect">
              <a:avLst/>
            </a:prstGeom>
            <a:solidFill>
              <a:srgbClr val="000060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67800" y="5723640"/>
              <a:ext cx="6840" cy="5400"/>
            </a:xfrm>
            <a:prstGeom prst="rect">
              <a:avLst/>
            </a:prstGeom>
            <a:solidFill>
              <a:srgbClr val="000060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77880" y="5723640"/>
              <a:ext cx="6840" cy="5400"/>
            </a:xfrm>
            <a:prstGeom prst="rect">
              <a:avLst/>
            </a:prstGeom>
            <a:solidFill>
              <a:srgbClr val="000060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1828800" y="5638680"/>
            <a:ext cx="126720" cy="147240"/>
            <a:chOff x="1828800" y="5638680"/>
            <a:chExt cx="126720" cy="147240"/>
          </a:xfrm>
        </p:grpSpPr>
        <p:grpSp>
          <p:nvGrpSpPr>
            <p:cNvPr id="607" name=""/>
            <p:cNvGrpSpPr/>
            <p:nvPr/>
          </p:nvGrpSpPr>
          <p:grpSpPr>
            <a:xfrm>
              <a:off x="1828800" y="5638680"/>
              <a:ext cx="126720" cy="147240"/>
              <a:chOff x="1828800" y="5638680"/>
              <a:chExt cx="126720" cy="14724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828800" y="5638680"/>
                <a:ext cx="126720" cy="147240"/>
                <a:chOff x="1828800" y="5638680"/>
                <a:chExt cx="126720" cy="147240"/>
              </a:xfrm>
            </p:grpSpPr>
            <p:grpSp>
              <p:nvGrpSpPr>
                <p:cNvPr id="609" name=""/>
                <p:cNvGrpSpPr/>
                <p:nvPr/>
              </p:nvGrpSpPr>
              <p:grpSpPr>
                <a:xfrm>
                  <a:off x="1839960" y="5750280"/>
                  <a:ext cx="108000" cy="35640"/>
                  <a:chOff x="1839960" y="5750280"/>
                  <a:chExt cx="108000" cy="3564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1839960" y="5750280"/>
                    <a:ext cx="154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9">
                        <a:moveTo>
                          <a:pt x="22" y="35"/>
                        </a:move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8" y="49"/>
                        </a:lnTo>
                        <a:lnTo>
                          <a:pt x="22" y="3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1843920" y="5751720"/>
                    <a:ext cx="99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33">
                        <a:moveTo>
                          <a:pt x="0" y="3"/>
                        </a:moveTo>
                        <a:lnTo>
                          <a:pt x="17" y="33"/>
                        </a:lnTo>
                        <a:lnTo>
                          <a:pt x="141" y="33"/>
                        </a:lnTo>
                        <a:lnTo>
                          <a:pt x="117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1852560" y="5775840"/>
                    <a:ext cx="954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14">
                        <a:moveTo>
                          <a:pt x="0" y="14"/>
                        </a:moveTo>
                        <a:lnTo>
                          <a:pt x="2" y="0"/>
                        </a:lnTo>
                        <a:lnTo>
                          <a:pt x="128" y="0"/>
                        </a:lnTo>
                        <a:lnTo>
                          <a:pt x="133" y="14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3" name=""/>
                <p:cNvGrpSpPr/>
                <p:nvPr/>
              </p:nvGrpSpPr>
              <p:grpSpPr>
                <a:xfrm>
                  <a:off x="1865520" y="5750280"/>
                  <a:ext cx="54360" cy="19440"/>
                  <a:chOff x="1865520" y="5750280"/>
                  <a:chExt cx="54360" cy="19440"/>
                </a:xfrm>
              </p:grpSpPr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1865520" y="5754600"/>
                    <a:ext cx="54360" cy="15120"/>
                    <a:chOff x="1865520" y="5754600"/>
                    <a:chExt cx="54360" cy="151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1865520" y="5754600"/>
                      <a:ext cx="54360" cy="1512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1865520" y="5755680"/>
                      <a:ext cx="54360" cy="6840"/>
                    </a:xfrm>
                    <a:prstGeom prst="rect">
                      <a:avLst/>
                    </a:prstGeom>
                    <a:solidFill>
                      <a:srgbClr val="a0a0a0"/>
                    </a:solidFill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865520" y="5761440"/>
                      <a:ext cx="525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4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17" y="4"/>
                          </a:lnTo>
                          <a:lnTo>
                            <a:pt x="61" y="4"/>
                          </a:lnTo>
                          <a:lnTo>
                            <a:pt x="74" y="1"/>
                          </a:lnTo>
                          <a:lnTo>
                            <a:pt x="74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8" name=""/>
                  <p:cNvGrpSpPr/>
                  <p:nvPr/>
                </p:nvGrpSpPr>
                <p:grpSpPr>
                  <a:xfrm>
                    <a:off x="1865520" y="5750280"/>
                    <a:ext cx="54360" cy="15480"/>
                    <a:chOff x="1865520" y="5750280"/>
                    <a:chExt cx="54360" cy="15480"/>
                  </a:xfrm>
                </p:grpSpPr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865520" y="5750280"/>
                      <a:ext cx="54360" cy="1548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1865520" y="5751720"/>
                      <a:ext cx="54360" cy="6840"/>
                    </a:xfrm>
                    <a:prstGeom prst="rect">
                      <a:avLst/>
                    </a:prstGeom>
                    <a:solidFill>
                      <a:srgbClr val="a0a0a0"/>
                    </a:solidFill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1865520" y="5757120"/>
                      <a:ext cx="525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5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17" y="4"/>
                          </a:lnTo>
                          <a:lnTo>
                            <a:pt x="61" y="5"/>
                          </a:lnTo>
                          <a:lnTo>
                            <a:pt x="74" y="3"/>
                          </a:lnTo>
                          <a:lnTo>
                            <a:pt x="74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1828800" y="5638680"/>
                  <a:ext cx="126720" cy="121680"/>
                  <a:chOff x="1828800" y="5638680"/>
                  <a:chExt cx="126720" cy="12168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1828800" y="5638680"/>
                    <a:ext cx="123840" cy="121680"/>
                  </a:xfrm>
                  <a:prstGeom prst="roundRect">
                    <a:avLst>
                      <a:gd name="adj" fmla="val 8713"/>
                    </a:avLst>
                  </a:prstGeom>
                  <a:solidFill>
                    <a:srgbClr val="e0e0e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1834200" y="5639760"/>
                    <a:ext cx="121320" cy="120240"/>
                  </a:xfrm>
                  <a:prstGeom prst="roundRect">
                    <a:avLst>
                      <a:gd name="adj" fmla="val 8847"/>
                    </a:avLst>
                  </a:prstGeom>
                  <a:solidFill>
                    <a:srgbClr val="c0c0c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1845720" y="5652720"/>
                    <a:ext cx="92520" cy="92160"/>
                  </a:xfrm>
                  <a:prstGeom prst="roundRect">
                    <a:avLst>
                      <a:gd name="adj" fmla="val 8500"/>
                    </a:avLst>
                  </a:prstGeom>
                  <a:solidFill>
                    <a:srgbClr val="e0e0e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1852920" y="5652720"/>
                    <a:ext cx="92520" cy="92160"/>
                  </a:xfrm>
                  <a:prstGeom prst="roundRect">
                    <a:avLst>
                      <a:gd name="adj" fmla="val 8500"/>
                    </a:avLst>
                  </a:prstGeom>
                  <a:solidFill>
                    <a:srgbClr val="a0a0a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1847160" y="5655600"/>
                    <a:ext cx="94320" cy="86040"/>
                  </a:xfrm>
                  <a:prstGeom prst="roundRect">
                    <a:avLst>
                      <a:gd name="adj" fmla="val 8949"/>
                    </a:avLst>
                  </a:prstGeom>
                  <a:solidFill>
                    <a:srgbClr val="20202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1855440" y="5654160"/>
                    <a:ext cx="86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">
                        <a:moveTo>
                          <a:pt x="3" y="1"/>
                        </a:moveTo>
                        <a:lnTo>
                          <a:pt x="7" y="1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855440" y="5742000"/>
                    <a:ext cx="846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101" y="0"/>
                        </a:lnTo>
                        <a:lnTo>
                          <a:pt x="106" y="0"/>
                        </a:lnTo>
                        <a:lnTo>
                          <a:pt x="109" y="0"/>
                        </a:lnTo>
                        <a:lnTo>
                          <a:pt x="112" y="0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5" y="2"/>
                        </a:lnTo>
                        <a:lnTo>
                          <a:pt x="113" y="2"/>
                        </a:lnTo>
                        <a:lnTo>
                          <a:pt x="104" y="2"/>
                        </a:lnTo>
                        <a:lnTo>
                          <a:pt x="18" y="2"/>
                        </a:lnTo>
                        <a:lnTo>
                          <a:pt x="5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1858320" y="5769000"/>
                  <a:ext cx="16920" cy="540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24" y="8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860120" y="5777280"/>
                  <a:ext cx="21240" cy="2880"/>
                </a:xfrm>
                <a:prstGeom prst="rect">
                  <a:avLst/>
                </a:prstGeom>
                <a:solidFill>
                  <a:srgbClr val="60606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947240" y="5655600"/>
                  <a:ext cx="6840" cy="684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1" y="9"/>
                      </a:lnTo>
                      <a:lnTo>
                        <a:pt x="9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949760" y="5658480"/>
                  <a:ext cx="2880" cy="288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1839960" y="5652720"/>
                <a:ext cx="396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1855440" y="5661360"/>
              <a:ext cx="78480" cy="7488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2640" y="5668560"/>
              <a:ext cx="64440" cy="16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62640" y="5686920"/>
              <a:ext cx="27000" cy="972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62640" y="5698080"/>
              <a:ext cx="27000" cy="1152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62640" y="5712120"/>
              <a:ext cx="27000" cy="972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0080" y="5685480"/>
              <a:ext cx="25560" cy="4500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91440" y="5686920"/>
              <a:ext cx="5400" cy="972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91440" y="5698080"/>
              <a:ext cx="5400" cy="972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91440" y="5712120"/>
              <a:ext cx="5400" cy="9720"/>
            </a:xfrm>
            <a:prstGeom prst="rect">
              <a:avLst/>
            </a:prstGeom>
            <a:solidFill>
              <a:srgbClr val="4040ff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62640" y="5723640"/>
              <a:ext cx="8640" cy="5400"/>
            </a:xfrm>
            <a:prstGeom prst="rect">
              <a:avLst/>
            </a:prstGeom>
            <a:solidFill>
              <a:srgbClr val="000060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872720" y="5723640"/>
              <a:ext cx="6840" cy="5400"/>
            </a:xfrm>
            <a:prstGeom prst="rect">
              <a:avLst/>
            </a:prstGeom>
            <a:solidFill>
              <a:srgbClr val="000060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82800" y="5723640"/>
              <a:ext cx="6840" cy="5400"/>
            </a:xfrm>
            <a:prstGeom prst="rect">
              <a:avLst/>
            </a:prstGeom>
            <a:solidFill>
              <a:srgbClr val="000060"/>
            </a:solidFill>
            <a:ln w="144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1523880" y="5486400"/>
            <a:ext cx="428760" cy="36360"/>
          </a:xfrm>
          <a:prstGeom prst="rect">
            <a:avLst/>
          </a:prstGeom>
          <a:solidFill>
            <a:srgbClr val="00bcb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90720" y="5867280"/>
            <a:ext cx="1600200" cy="477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旅客服務資訊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查詢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)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系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班機動態資訊顯示系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5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002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880" y="3505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一般民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19139400">
            <a:off x="960480" y="2398320"/>
            <a:ext cx="884160" cy="18108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00"/>
          </a:solidFill>
          <a:ln cap="rnd"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29200" y="1523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Times New Roman"/>
                <a:ea typeface="全真楷書"/>
              </a:rPr>
              <a:t>民航局區域網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7543800" y="3733920"/>
            <a:ext cx="474480" cy="997920"/>
            <a:chOff x="7543800" y="3733920"/>
            <a:chExt cx="474480" cy="997920"/>
          </a:xfrm>
        </p:grpSpPr>
        <p:grpSp>
          <p:nvGrpSpPr>
            <p:cNvPr id="655" name=""/>
            <p:cNvGrpSpPr/>
            <p:nvPr/>
          </p:nvGrpSpPr>
          <p:grpSpPr>
            <a:xfrm>
              <a:off x="7651080" y="4503600"/>
              <a:ext cx="182880" cy="154800"/>
              <a:chOff x="7651080" y="4503600"/>
              <a:chExt cx="182880" cy="154800"/>
            </a:xfrm>
          </p:grpSpPr>
          <p:grpSp>
            <p:nvGrpSpPr>
              <p:cNvPr id="656" name=""/>
              <p:cNvGrpSpPr/>
              <p:nvPr/>
            </p:nvGrpSpPr>
            <p:grpSpPr>
              <a:xfrm>
                <a:off x="7659360" y="4597560"/>
                <a:ext cx="166680" cy="60840"/>
                <a:chOff x="7659360" y="4597560"/>
                <a:chExt cx="166680" cy="608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7660800" y="4597560"/>
                  <a:ext cx="165240" cy="25560"/>
                </a:xfrm>
                <a:custGeom>
                  <a:avLst/>
                  <a:gdLst/>
                  <a:ahLst/>
                  <a:rect l="l" t="t" r="r" b="b"/>
                  <a:pathLst>
                    <a:path w="116" h="18">
                      <a:moveTo>
                        <a:pt x="0" y="18"/>
                      </a:moveTo>
                      <a:lnTo>
                        <a:pt x="12" y="0"/>
                      </a:lnTo>
                      <a:lnTo>
                        <a:pt x="104" y="0"/>
                      </a:lnTo>
                      <a:lnTo>
                        <a:pt x="116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659360" y="4620240"/>
                  <a:ext cx="165600" cy="32400"/>
                </a:xfrm>
                <a:prstGeom prst="roundRect">
                  <a:avLst>
                    <a:gd name="adj" fmla="val 20588"/>
                  </a:avLst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702200" y="4633200"/>
                  <a:ext cx="112320" cy="111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2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709400" y="4637520"/>
                  <a:ext cx="3960" cy="2880"/>
                </a:xfrm>
                <a:prstGeom prst="ellipse">
                  <a:avLst/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723440" y="4637520"/>
                  <a:ext cx="3960" cy="2880"/>
                </a:xfrm>
                <a:prstGeom prst="ellipse">
                  <a:avLst/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790760" y="4637520"/>
                  <a:ext cx="3960" cy="2880"/>
                </a:xfrm>
                <a:prstGeom prst="ellipse">
                  <a:avLst/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739280" y="4637520"/>
                  <a:ext cx="6840" cy="3960"/>
                </a:xfrm>
                <a:prstGeom prst="ellipse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7759080" y="4637520"/>
                  <a:ext cx="3960" cy="3960"/>
                </a:xfrm>
                <a:prstGeom prst="ellipse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7773480" y="4637520"/>
                  <a:ext cx="6840" cy="3960"/>
                </a:xfrm>
                <a:prstGeom prst="ellipse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806240" y="4637520"/>
                  <a:ext cx="4320" cy="3960"/>
                </a:xfrm>
                <a:prstGeom prst="ellipse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7703640" y="4601880"/>
                  <a:ext cx="77040" cy="12240"/>
                </a:xfrm>
                <a:custGeom>
                  <a:avLst/>
                  <a:gdLst/>
                  <a:ahLst/>
                  <a:rect l="l" t="t" r="r" b="b"/>
                  <a:pathLst>
                    <a:path w="54" h="9">
                      <a:moveTo>
                        <a:pt x="0" y="9"/>
                      </a:moveTo>
                      <a:lnTo>
                        <a:pt x="3" y="0"/>
                      </a:lnTo>
                      <a:lnTo>
                        <a:pt x="49" y="0"/>
                      </a:lnTo>
                      <a:lnTo>
                        <a:pt x="54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703640" y="4614480"/>
                  <a:ext cx="77040" cy="3960"/>
                </a:xfrm>
                <a:custGeom>
                  <a:avLst/>
                  <a:gdLst/>
                  <a:ahLst/>
                  <a:rect l="l" t="t" r="r" b="b"/>
                  <a:pathLst>
                    <a:path w="54" h="3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2020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678080" y="4654440"/>
                  <a:ext cx="8280" cy="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801920" y="4654440"/>
                  <a:ext cx="6840" cy="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7767720" y="4624560"/>
                  <a:ext cx="41400" cy="3960"/>
                  <a:chOff x="7767720" y="4624560"/>
                  <a:chExt cx="41400" cy="396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>
                    <a:off x="7767720" y="4624560"/>
                    <a:ext cx="288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7770600" y="4624560"/>
                    <a:ext cx="288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7773480" y="4624560"/>
                    <a:ext cx="108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7777440" y="4624560"/>
                    <a:ext cx="288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7780320" y="4624560"/>
                    <a:ext cx="144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7782120" y="4624560"/>
                    <a:ext cx="252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7784640" y="4624560"/>
                    <a:ext cx="432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7789320" y="4624560"/>
                    <a:ext cx="252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7791840" y="4624560"/>
                    <a:ext cx="288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7794720" y="4624560"/>
                    <a:ext cx="144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7796520" y="4624560"/>
                    <a:ext cx="252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7801920" y="4624560"/>
                    <a:ext cx="144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7803360" y="4624560"/>
                    <a:ext cx="252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7806240" y="4624560"/>
                    <a:ext cx="288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6" name=""/>
                <p:cNvSpPr/>
                <p:nvPr/>
              </p:nvSpPr>
              <p:spPr>
                <a:xfrm>
                  <a:off x="7710840" y="46486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7724880" y="464868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0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742160" y="4648680"/>
                  <a:ext cx="1080" cy="3960"/>
                </a:xfrm>
                <a:custGeom>
                  <a:avLst/>
                  <a:gdLst/>
                  <a:ahLst/>
                  <a:rect l="l" t="t" r="r" b="b"/>
                  <a:pathLst>
                    <a:path w="0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760520" y="464868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0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777800" y="464868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0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794720" y="464868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0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809120" y="464868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0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3" name=""/>
                <p:cNvGrpSpPr/>
                <p:nvPr/>
              </p:nvGrpSpPr>
              <p:grpSpPr>
                <a:xfrm>
                  <a:off x="7678080" y="4631400"/>
                  <a:ext cx="20880" cy="6480"/>
                  <a:chOff x="7678080" y="4631400"/>
                  <a:chExt cx="20880" cy="648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>
                    <a:off x="7678080" y="4631400"/>
                    <a:ext cx="1080" cy="396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7680600" y="4632840"/>
                    <a:ext cx="2880" cy="108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7684920" y="4631400"/>
                    <a:ext cx="1080" cy="396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7690320" y="4632840"/>
                    <a:ext cx="360" cy="108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7693200" y="4632840"/>
                    <a:ext cx="1440" cy="108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7697520" y="4632840"/>
                    <a:ext cx="1440" cy="108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7693200" y="4636800"/>
                    <a:ext cx="1440" cy="108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7697520" y="4636800"/>
                    <a:ext cx="1440" cy="108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7651080" y="4503600"/>
                <a:ext cx="182880" cy="110520"/>
                <a:chOff x="7651080" y="4503600"/>
                <a:chExt cx="182880" cy="110520"/>
              </a:xfrm>
            </p:grpSpPr>
            <p:grpSp>
              <p:nvGrpSpPr>
                <p:cNvPr id="703" name=""/>
                <p:cNvGrpSpPr/>
                <p:nvPr/>
              </p:nvGrpSpPr>
              <p:grpSpPr>
                <a:xfrm>
                  <a:off x="7651080" y="4503600"/>
                  <a:ext cx="182880" cy="47160"/>
                  <a:chOff x="7651080" y="4503600"/>
                  <a:chExt cx="182880" cy="4716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7651080" y="4534920"/>
                    <a:ext cx="48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3" y="11"/>
                        </a:moveTo>
                        <a:lnTo>
                          <a:pt x="0" y="3"/>
                        </a:lnTo>
                        <a:lnTo>
                          <a:pt x="34" y="0"/>
                        </a:lnTo>
                        <a:lnTo>
                          <a:pt x="34" y="8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7651080" y="4503600"/>
                    <a:ext cx="1828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27">
                        <a:moveTo>
                          <a:pt x="0" y="27"/>
                        </a:moveTo>
                        <a:lnTo>
                          <a:pt x="2" y="15"/>
                        </a:lnTo>
                        <a:lnTo>
                          <a:pt x="10" y="7"/>
                        </a:lnTo>
                        <a:lnTo>
                          <a:pt x="30" y="3"/>
                        </a:lnTo>
                        <a:lnTo>
                          <a:pt x="52" y="2"/>
                        </a:lnTo>
                        <a:lnTo>
                          <a:pt x="71" y="0"/>
                        </a:lnTo>
                        <a:lnTo>
                          <a:pt x="89" y="3"/>
                        </a:lnTo>
                        <a:lnTo>
                          <a:pt x="102" y="5"/>
                        </a:lnTo>
                        <a:lnTo>
                          <a:pt x="117" y="7"/>
                        </a:lnTo>
                        <a:lnTo>
                          <a:pt x="124" y="15"/>
                        </a:lnTo>
                        <a:lnTo>
                          <a:pt x="128" y="25"/>
                        </a:lnTo>
                        <a:lnTo>
                          <a:pt x="96" y="24"/>
                        </a:lnTo>
                        <a:lnTo>
                          <a:pt x="99" y="16"/>
                        </a:lnTo>
                        <a:lnTo>
                          <a:pt x="89" y="15"/>
                        </a:lnTo>
                        <a:lnTo>
                          <a:pt x="82" y="13"/>
                        </a:lnTo>
                        <a:lnTo>
                          <a:pt x="69" y="13"/>
                        </a:lnTo>
                        <a:lnTo>
                          <a:pt x="52" y="13"/>
                        </a:lnTo>
                        <a:lnTo>
                          <a:pt x="39" y="15"/>
                        </a:lnTo>
                        <a:lnTo>
                          <a:pt x="30" y="16"/>
                        </a:lnTo>
                        <a:lnTo>
                          <a:pt x="32" y="22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7789680" y="4537800"/>
                    <a:ext cx="439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7">
                        <a:moveTo>
                          <a:pt x="0" y="0"/>
                        </a:moveTo>
                        <a:lnTo>
                          <a:pt x="31" y="1"/>
                        </a:lnTo>
                        <a:lnTo>
                          <a:pt x="29" y="7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7" name=""/>
                <p:cNvGrpSpPr/>
                <p:nvPr/>
              </p:nvGrpSpPr>
              <p:grpSpPr>
                <a:xfrm>
                  <a:off x="7682400" y="4516200"/>
                  <a:ext cx="121320" cy="97920"/>
                  <a:chOff x="7682400" y="4516200"/>
                  <a:chExt cx="121320" cy="9792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7692120" y="4528800"/>
                    <a:ext cx="10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42">
                        <a:moveTo>
                          <a:pt x="0" y="42"/>
                        </a:moveTo>
                        <a:lnTo>
                          <a:pt x="6" y="0"/>
                        </a:lnTo>
                        <a:lnTo>
                          <a:pt x="65" y="0"/>
                        </a:lnTo>
                        <a:lnTo>
                          <a:pt x="72" y="42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682400" y="4588920"/>
                    <a:ext cx="121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8">
                        <a:moveTo>
                          <a:pt x="7" y="0"/>
                        </a:moveTo>
                        <a:lnTo>
                          <a:pt x="79" y="0"/>
                        </a:lnTo>
                        <a:lnTo>
                          <a:pt x="85" y="18"/>
                        </a:lnTo>
                        <a:lnTo>
                          <a:pt x="0" y="18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682400" y="4528800"/>
                    <a:ext cx="1836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60">
                        <a:moveTo>
                          <a:pt x="7" y="42"/>
                        </a:moveTo>
                        <a:lnTo>
                          <a:pt x="0" y="60"/>
                        </a:lnTo>
                        <a:lnTo>
                          <a:pt x="7" y="18"/>
                        </a:lnTo>
                        <a:lnTo>
                          <a:pt x="13" y="0"/>
                        </a:lnTo>
                        <a:lnTo>
                          <a:pt x="7" y="4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7784640" y="4525920"/>
                    <a:ext cx="1872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62">
                        <a:moveTo>
                          <a:pt x="7" y="44"/>
                        </a:moveTo>
                        <a:lnTo>
                          <a:pt x="13" y="62"/>
                        </a:lnTo>
                        <a:lnTo>
                          <a:pt x="7" y="18"/>
                        </a:lnTo>
                        <a:lnTo>
                          <a:pt x="0" y="0"/>
                        </a:lnTo>
                        <a:lnTo>
                          <a:pt x="7" y="4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7707960" y="4516200"/>
                    <a:ext cx="169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9">
                        <a:moveTo>
                          <a:pt x="0" y="9"/>
                        </a:moveTo>
                        <a:lnTo>
                          <a:pt x="0" y="6"/>
                        </a:lnTo>
                        <a:lnTo>
                          <a:pt x="2" y="0"/>
                        </a:lnTo>
                        <a:lnTo>
                          <a:pt x="10" y="0"/>
                        </a:lnTo>
                        <a:lnTo>
                          <a:pt x="12" y="6"/>
                        </a:lnTo>
                        <a:lnTo>
                          <a:pt x="12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7759080" y="4516200"/>
                    <a:ext cx="14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0" y="9"/>
                        </a:moveTo>
                        <a:lnTo>
                          <a:pt x="0" y="6"/>
                        </a:lnTo>
                        <a:lnTo>
                          <a:pt x="1" y="0"/>
                        </a:lnTo>
                        <a:lnTo>
                          <a:pt x="8" y="0"/>
                        </a:lnTo>
                        <a:lnTo>
                          <a:pt x="10" y="6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7699320" y="4533120"/>
                    <a:ext cx="8820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6"/>
                        </a:moveTo>
                        <a:lnTo>
                          <a:pt x="5" y="0"/>
                        </a:lnTo>
                        <a:lnTo>
                          <a:pt x="55" y="0"/>
                        </a:lnTo>
                        <a:lnTo>
                          <a:pt x="62" y="36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7722360" y="4540680"/>
                  <a:ext cx="42480" cy="35280"/>
                  <a:chOff x="7722360" y="4540680"/>
                  <a:chExt cx="42480" cy="3528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7722360" y="4540680"/>
                    <a:ext cx="11520" cy="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7737840" y="4540680"/>
                    <a:ext cx="9720" cy="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7753320" y="4540680"/>
                    <a:ext cx="11520" cy="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7722360" y="4551840"/>
                    <a:ext cx="11520" cy="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7737840" y="4551840"/>
                    <a:ext cx="9720" cy="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7753320" y="4551840"/>
                    <a:ext cx="11520" cy="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7722360" y="4561560"/>
                    <a:ext cx="1152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7737840" y="4561560"/>
                    <a:ext cx="972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7753320" y="4561560"/>
                    <a:ext cx="11520" cy="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7722360" y="4573080"/>
                    <a:ext cx="11520" cy="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7737840" y="4573080"/>
                    <a:ext cx="9720" cy="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7753320" y="4573080"/>
                    <a:ext cx="11520" cy="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28" name=""/>
            <p:cNvGrpSpPr/>
            <p:nvPr/>
          </p:nvGrpSpPr>
          <p:grpSpPr>
            <a:xfrm>
              <a:off x="7543800" y="3888360"/>
              <a:ext cx="474480" cy="330120"/>
              <a:chOff x="7543800" y="3888360"/>
              <a:chExt cx="474480" cy="330120"/>
            </a:xfrm>
          </p:grpSpPr>
          <p:sp>
            <p:nvSpPr>
              <p:cNvPr id="729" name=""/>
              <p:cNvSpPr/>
              <p:nvPr/>
            </p:nvSpPr>
            <p:spPr>
              <a:xfrm>
                <a:off x="7543800" y="4140720"/>
                <a:ext cx="47160" cy="25560"/>
              </a:xfrm>
              <a:custGeom>
                <a:avLst/>
                <a:gdLst/>
                <a:ahLst/>
                <a:rect l="l" t="t" r="r" b="b"/>
                <a:pathLst>
                  <a:path w="33" h="18">
                    <a:moveTo>
                      <a:pt x="32" y="0"/>
                    </a:moveTo>
                    <a:lnTo>
                      <a:pt x="25" y="0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3" y="12"/>
                    </a:lnTo>
                    <a:lnTo>
                      <a:pt x="25" y="14"/>
                    </a:lnTo>
                    <a:lnTo>
                      <a:pt x="33" y="18"/>
                    </a:lnTo>
                    <a:lnTo>
                      <a:pt x="32" y="18"/>
                    </a:lnTo>
                    <a:lnTo>
                      <a:pt x="33" y="18"/>
                    </a:lnTo>
                  </a:path>
                </a:pathLst>
              </a:custGeom>
              <a:noFill/>
              <a:ln w="46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"/>
              <p:cNvGrpSpPr/>
              <p:nvPr/>
            </p:nvGrpSpPr>
            <p:grpSpPr>
              <a:xfrm>
                <a:off x="7583760" y="4072320"/>
                <a:ext cx="371160" cy="113400"/>
                <a:chOff x="7583760" y="4072320"/>
                <a:chExt cx="371160" cy="11340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7586280" y="4127760"/>
                  <a:ext cx="368640" cy="57960"/>
                </a:xfrm>
                <a:custGeom>
                  <a:avLst/>
                  <a:gdLst/>
                  <a:ahLst/>
                  <a:rect l="l" t="t" r="r" b="b"/>
                  <a:pathLst>
                    <a:path w="258" h="41">
                      <a:moveTo>
                        <a:pt x="0" y="3"/>
                      </a:moveTo>
                      <a:lnTo>
                        <a:pt x="0" y="21"/>
                      </a:lnTo>
                      <a:lnTo>
                        <a:pt x="209" y="41"/>
                      </a:lnTo>
                      <a:lnTo>
                        <a:pt x="258" y="17"/>
                      </a:lnTo>
                      <a:lnTo>
                        <a:pt x="258" y="0"/>
                      </a:lnTo>
                      <a:lnTo>
                        <a:pt x="208" y="2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7583760" y="4072320"/>
                  <a:ext cx="301320" cy="88200"/>
                </a:xfrm>
                <a:custGeom>
                  <a:avLst/>
                  <a:gdLst/>
                  <a:ahLst/>
                  <a:rect l="l" t="t" r="r" b="b"/>
                  <a:pathLst>
                    <a:path w="211" h="62">
                      <a:moveTo>
                        <a:pt x="0" y="0"/>
                      </a:moveTo>
                      <a:lnTo>
                        <a:pt x="211" y="14"/>
                      </a:lnTo>
                      <a:lnTo>
                        <a:pt x="211" y="62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3" name=""/>
                <p:cNvGrpSpPr/>
                <p:nvPr/>
              </p:nvGrpSpPr>
              <p:grpSpPr>
                <a:xfrm>
                  <a:off x="7583760" y="4087800"/>
                  <a:ext cx="301320" cy="33840"/>
                  <a:chOff x="7583760" y="4087800"/>
                  <a:chExt cx="301320" cy="3384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7583760" y="4087800"/>
                    <a:ext cx="301320" cy="212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7803720" y="4104720"/>
                    <a:ext cx="65520" cy="3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7732080" y="4097520"/>
                    <a:ext cx="62640" cy="68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7583760" y="4100400"/>
                    <a:ext cx="301320" cy="212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8" name=""/>
              <p:cNvGrpSpPr/>
              <p:nvPr/>
            </p:nvGrpSpPr>
            <p:grpSpPr>
              <a:xfrm>
                <a:off x="7583760" y="4059360"/>
                <a:ext cx="374400" cy="32400"/>
                <a:chOff x="7583760" y="4059360"/>
                <a:chExt cx="374400" cy="324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83760" y="4059360"/>
                  <a:ext cx="374400" cy="32400"/>
                </a:xfrm>
                <a:custGeom>
                  <a:avLst/>
                  <a:gdLst/>
                  <a:ahLst/>
                  <a:rect l="l" t="t" r="r" b="b"/>
                  <a:pathLst>
                    <a:path w="262" h="23">
                      <a:moveTo>
                        <a:pt x="0" y="9"/>
                      </a:moveTo>
                      <a:lnTo>
                        <a:pt x="211" y="23"/>
                      </a:lnTo>
                      <a:lnTo>
                        <a:pt x="262" y="9"/>
                      </a:lnTo>
                      <a:lnTo>
                        <a:pt x="243" y="8"/>
                      </a:lnTo>
                      <a:lnTo>
                        <a:pt x="8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668000" y="4066200"/>
                  <a:ext cx="275760" cy="18000"/>
                </a:xfrm>
                <a:custGeom>
                  <a:avLst/>
                  <a:gdLst/>
                  <a:ahLst/>
                  <a:rect l="l" t="t" r="r" b="b"/>
                  <a:pathLst>
                    <a:path w="193" h="13">
                      <a:moveTo>
                        <a:pt x="17" y="0"/>
                      </a:moveTo>
                      <a:lnTo>
                        <a:pt x="0" y="6"/>
                      </a:lnTo>
                      <a:lnTo>
                        <a:pt x="156" y="13"/>
                      </a:lnTo>
                      <a:lnTo>
                        <a:pt x="181" y="7"/>
                      </a:lnTo>
                      <a:lnTo>
                        <a:pt x="179" y="7"/>
                      </a:lnTo>
                      <a:lnTo>
                        <a:pt x="193" y="3"/>
                      </a:lnTo>
                      <a:lnTo>
                        <a:pt x="184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7888320" y="3892320"/>
                <a:ext cx="69480" cy="191160"/>
                <a:chOff x="7888320" y="3892320"/>
                <a:chExt cx="69480" cy="191160"/>
              </a:xfrm>
            </p:grpSpPr>
            <p:grpSp>
              <p:nvGrpSpPr>
                <p:cNvPr id="742" name=""/>
                <p:cNvGrpSpPr/>
                <p:nvPr/>
              </p:nvGrpSpPr>
              <p:grpSpPr>
                <a:xfrm>
                  <a:off x="7915320" y="3914640"/>
                  <a:ext cx="42480" cy="159480"/>
                  <a:chOff x="7915320" y="3914640"/>
                  <a:chExt cx="42480" cy="15948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>
                    <a:off x="7915320" y="3914640"/>
                    <a:ext cx="42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12">
                        <a:moveTo>
                          <a:pt x="3" y="0"/>
                        </a:moveTo>
                        <a:lnTo>
                          <a:pt x="30" y="10"/>
                        </a:lnTo>
                        <a:lnTo>
                          <a:pt x="26" y="54"/>
                        </a:lnTo>
                        <a:lnTo>
                          <a:pt x="23" y="106"/>
                        </a:lnTo>
                        <a:lnTo>
                          <a:pt x="0" y="1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7915320" y="3923280"/>
                    <a:ext cx="39240" cy="132480"/>
                    <a:chOff x="7915320" y="3923280"/>
                    <a:chExt cx="39240" cy="132480"/>
                  </a:xfrm>
                </p:grpSpPr>
                <p:grpSp>
                  <p:nvGrpSpPr>
                    <p:cNvPr id="745" name=""/>
                    <p:cNvGrpSpPr/>
                    <p:nvPr/>
                  </p:nvGrpSpPr>
                  <p:grpSpPr>
                    <a:xfrm>
                      <a:off x="7915320" y="3923280"/>
                      <a:ext cx="39240" cy="132480"/>
                      <a:chOff x="7915320" y="3923280"/>
                      <a:chExt cx="39240" cy="132480"/>
                    </a:xfrm>
                  </p:grpSpPr>
                  <p:grpSp>
                    <p:nvGrpSpPr>
                      <p:cNvPr id="746" name=""/>
                      <p:cNvGrpSpPr/>
                      <p:nvPr/>
                    </p:nvGrpSpPr>
                    <p:grpSpPr>
                      <a:xfrm>
                        <a:off x="7915320" y="3923280"/>
                        <a:ext cx="39240" cy="77400"/>
                        <a:chOff x="7915320" y="3923280"/>
                        <a:chExt cx="39240" cy="77400"/>
                      </a:xfrm>
                    </p:grpSpPr>
                    <p:grpSp>
                      <p:nvGrpSpPr>
                        <p:cNvPr id="747" name=""/>
                        <p:cNvGrpSpPr/>
                        <p:nvPr/>
                      </p:nvGrpSpPr>
                      <p:grpSpPr>
                        <a:xfrm>
                          <a:off x="7916400" y="3923280"/>
                          <a:ext cx="38160" cy="42120"/>
                          <a:chOff x="7916400" y="3923280"/>
                          <a:chExt cx="38160" cy="42120"/>
                        </a:xfrm>
                      </p:grpSpPr>
                      <p:sp>
                        <p:nvSpPr>
                          <p:cNvPr id="748" name=""/>
                          <p:cNvSpPr/>
                          <p:nvPr/>
                        </p:nvSpPr>
                        <p:spPr>
                          <a:xfrm>
                            <a:off x="7919280" y="3923280"/>
                            <a:ext cx="35280" cy="97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9" name=""/>
                          <p:cNvSpPr/>
                          <p:nvPr/>
                        </p:nvSpPr>
                        <p:spPr>
                          <a:xfrm>
                            <a:off x="7919280" y="3928680"/>
                            <a:ext cx="35280" cy="111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0" name=""/>
                          <p:cNvSpPr/>
                          <p:nvPr/>
                        </p:nvSpPr>
                        <p:spPr>
                          <a:xfrm>
                            <a:off x="7919280" y="3935880"/>
                            <a:ext cx="35280" cy="93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1" name=""/>
                          <p:cNvSpPr/>
                          <p:nvPr/>
                        </p:nvSpPr>
                        <p:spPr>
                          <a:xfrm>
                            <a:off x="7919280" y="3944160"/>
                            <a:ext cx="35280" cy="8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2" name=""/>
                          <p:cNvSpPr/>
                          <p:nvPr/>
                        </p:nvSpPr>
                        <p:spPr>
                          <a:xfrm>
                            <a:off x="7916400" y="3949920"/>
                            <a:ext cx="38160" cy="8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3" name=""/>
                          <p:cNvSpPr/>
                          <p:nvPr/>
                        </p:nvSpPr>
                        <p:spPr>
                          <a:xfrm>
                            <a:off x="7916400" y="3957120"/>
                            <a:ext cx="38160" cy="8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54" name=""/>
                        <p:cNvSpPr/>
                        <p:nvPr/>
                      </p:nvSpPr>
                      <p:spPr>
                        <a:xfrm>
                          <a:off x="7915320" y="3971160"/>
                          <a:ext cx="36720" cy="68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5" name=""/>
                        <p:cNvSpPr/>
                        <p:nvPr/>
                      </p:nvSpPr>
                      <p:spPr>
                        <a:xfrm>
                          <a:off x="7915320" y="3978360"/>
                          <a:ext cx="36720" cy="39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840" bIns="-42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6" name=""/>
                        <p:cNvSpPr/>
                        <p:nvPr/>
                      </p:nvSpPr>
                      <p:spPr>
                        <a:xfrm>
                          <a:off x="7915320" y="3984120"/>
                          <a:ext cx="36720" cy="68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7" name=""/>
                        <p:cNvSpPr/>
                        <p:nvPr/>
                      </p:nvSpPr>
                      <p:spPr>
                        <a:xfrm>
                          <a:off x="7915320" y="3992400"/>
                          <a:ext cx="36720" cy="28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>
                          <a:off x="7915320" y="3999600"/>
                          <a:ext cx="36720" cy="10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59" name=""/>
                      <p:cNvGrpSpPr/>
                      <p:nvPr/>
                    </p:nvGrpSpPr>
                    <p:grpSpPr>
                      <a:xfrm>
                        <a:off x="7915320" y="4005720"/>
                        <a:ext cx="35280" cy="50040"/>
                        <a:chOff x="7915320" y="4005720"/>
                        <a:chExt cx="35280" cy="50040"/>
                      </a:xfrm>
                    </p:grpSpPr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>
                          <a:off x="7915320" y="4005720"/>
                          <a:ext cx="35280" cy="28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1" name=""/>
                        <p:cNvSpPr/>
                        <p:nvPr/>
                      </p:nvSpPr>
                      <p:spPr>
                        <a:xfrm>
                          <a:off x="7916400" y="4014000"/>
                          <a:ext cx="33840" cy="14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2" name=""/>
                        <p:cNvSpPr/>
                        <p:nvPr/>
                      </p:nvSpPr>
                      <p:spPr>
                        <a:xfrm>
                          <a:off x="7915320" y="4020840"/>
                          <a:ext cx="35280" cy="14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>
                          <a:off x="7915320" y="4026600"/>
                          <a:ext cx="35280" cy="10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 flipV="1">
                          <a:off x="7915320" y="4033440"/>
                          <a:ext cx="35280" cy="10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flipV="1">
                          <a:off x="7915320" y="4039200"/>
                          <a:ext cx="35280" cy="25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flipV="1">
                          <a:off x="7915320" y="4046400"/>
                          <a:ext cx="35280" cy="10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 flipV="1">
                          <a:off x="7915320" y="4051800"/>
                          <a:ext cx="32400" cy="39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840" bIns="-42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7916400" y="3962880"/>
                      <a:ext cx="35280" cy="864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69" name=""/>
                <p:cNvGrpSpPr/>
                <p:nvPr/>
              </p:nvGrpSpPr>
              <p:grpSpPr>
                <a:xfrm>
                  <a:off x="7888320" y="3892320"/>
                  <a:ext cx="35280" cy="191160"/>
                  <a:chOff x="7888320" y="3892320"/>
                  <a:chExt cx="35280" cy="19116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>
                    <a:off x="7888320" y="3892320"/>
                    <a:ext cx="3528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4">
                        <a:moveTo>
                          <a:pt x="7" y="0"/>
                        </a:moveTo>
                        <a:lnTo>
                          <a:pt x="24" y="7"/>
                        </a:lnTo>
                        <a:lnTo>
                          <a:pt x="25" y="8"/>
                        </a:lnTo>
                        <a:lnTo>
                          <a:pt x="20" y="128"/>
                        </a:lnTo>
                        <a:lnTo>
                          <a:pt x="19" y="129"/>
                        </a:lnTo>
                        <a:lnTo>
                          <a:pt x="0" y="134"/>
                        </a:lnTo>
                        <a:lnTo>
                          <a:pt x="2" y="131"/>
                        </a:lnTo>
                        <a:lnTo>
                          <a:pt x="2" y="129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7921080" y="3902040"/>
                    <a:ext cx="216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18780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187806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2" name=""/>
              <p:cNvGrpSpPr/>
              <p:nvPr/>
            </p:nvGrpSpPr>
            <p:grpSpPr>
              <a:xfrm>
                <a:off x="7902720" y="4179240"/>
                <a:ext cx="115560" cy="39240"/>
                <a:chOff x="7902720" y="4179240"/>
                <a:chExt cx="115560" cy="3924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902720" y="4179240"/>
                  <a:ext cx="115560" cy="25560"/>
                </a:xfrm>
                <a:custGeom>
                  <a:avLst/>
                  <a:gdLst/>
                  <a:ahLst/>
                  <a:rect l="l" t="t" r="r" b="b"/>
                  <a:pathLst>
                    <a:path w="81" h="18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27" y="2"/>
                      </a:lnTo>
                      <a:lnTo>
                        <a:pt x="37" y="2"/>
                      </a:lnTo>
                      <a:lnTo>
                        <a:pt x="47" y="3"/>
                      </a:lnTo>
                      <a:lnTo>
                        <a:pt x="54" y="5"/>
                      </a:lnTo>
                      <a:lnTo>
                        <a:pt x="62" y="6"/>
                      </a:lnTo>
                      <a:lnTo>
                        <a:pt x="67" y="6"/>
                      </a:lnTo>
                      <a:lnTo>
                        <a:pt x="71" y="8"/>
                      </a:lnTo>
                      <a:lnTo>
                        <a:pt x="72" y="8"/>
                      </a:lnTo>
                      <a:lnTo>
                        <a:pt x="74" y="8"/>
                      </a:lnTo>
                      <a:lnTo>
                        <a:pt x="76" y="9"/>
                      </a:lnTo>
                      <a:lnTo>
                        <a:pt x="79" y="9"/>
                      </a:lnTo>
                      <a:lnTo>
                        <a:pt x="81" y="11"/>
                      </a:lnTo>
                      <a:lnTo>
                        <a:pt x="81" y="11"/>
                      </a:lnTo>
                      <a:lnTo>
                        <a:pt x="81" y="12"/>
                      </a:lnTo>
                      <a:lnTo>
                        <a:pt x="81" y="14"/>
                      </a:lnTo>
                      <a:lnTo>
                        <a:pt x="81" y="15"/>
                      </a:lnTo>
                      <a:lnTo>
                        <a:pt x="79" y="15"/>
                      </a:lnTo>
                      <a:lnTo>
                        <a:pt x="77" y="17"/>
                      </a:lnTo>
                      <a:lnTo>
                        <a:pt x="76" y="18"/>
                      </a:lnTo>
                      <a:lnTo>
                        <a:pt x="74" y="18"/>
                      </a:lnTo>
                      <a:lnTo>
                        <a:pt x="72" y="18"/>
                      </a:lnTo>
                      <a:lnTo>
                        <a:pt x="69" y="18"/>
                      </a:lnTo>
                      <a:lnTo>
                        <a:pt x="67" y="18"/>
                      </a:lnTo>
                      <a:lnTo>
                        <a:pt x="64" y="18"/>
                      </a:lnTo>
                      <a:lnTo>
                        <a:pt x="59" y="18"/>
                      </a:lnTo>
                    </a:path>
                  </a:pathLst>
                </a:custGeom>
                <a:noFill/>
                <a:ln w="32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4" name=""/>
                <p:cNvGrpSpPr/>
                <p:nvPr/>
              </p:nvGrpSpPr>
              <p:grpSpPr>
                <a:xfrm>
                  <a:off x="7908480" y="4191840"/>
                  <a:ext cx="79560" cy="26640"/>
                  <a:chOff x="7908480" y="4191840"/>
                  <a:chExt cx="79560" cy="26640"/>
                </a:xfrm>
              </p:grpSpPr>
              <p:grpSp>
                <p:nvGrpSpPr>
                  <p:cNvPr id="775" name=""/>
                  <p:cNvGrpSpPr/>
                  <p:nvPr/>
                </p:nvGrpSpPr>
                <p:grpSpPr>
                  <a:xfrm>
                    <a:off x="7908480" y="4191840"/>
                    <a:ext cx="79560" cy="26640"/>
                    <a:chOff x="7908480" y="4191840"/>
                    <a:chExt cx="79560" cy="26640"/>
                  </a:xfrm>
                </p:grpSpPr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7908480" y="4191840"/>
                      <a:ext cx="4968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3">
                          <a:moveTo>
                            <a:pt x="0" y="8"/>
                          </a:moveTo>
                          <a:lnTo>
                            <a:pt x="8" y="0"/>
                          </a:lnTo>
                          <a:lnTo>
                            <a:pt x="35" y="5"/>
                          </a:lnTo>
                          <a:lnTo>
                            <a:pt x="25" y="13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7908480" y="4203000"/>
                      <a:ext cx="3528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1">
                          <a:moveTo>
                            <a:pt x="0" y="0"/>
                          </a:move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25" y="11"/>
                          </a:lnTo>
                          <a:lnTo>
                            <a:pt x="25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7943760" y="4198680"/>
                      <a:ext cx="442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4">
                          <a:moveTo>
                            <a:pt x="0" y="8"/>
                          </a:moveTo>
                          <a:lnTo>
                            <a:pt x="10" y="0"/>
                          </a:lnTo>
                          <a:lnTo>
                            <a:pt x="31" y="1"/>
                          </a:lnTo>
                          <a:lnTo>
                            <a:pt x="31" y="8"/>
                          </a:lnTo>
                          <a:lnTo>
                            <a:pt x="0" y="14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7919640" y="4191840"/>
                      <a:ext cx="684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6">
                          <a:moveTo>
                            <a:pt x="0" y="0"/>
                          </a:moveTo>
                          <a:lnTo>
                            <a:pt x="25" y="2"/>
                          </a:lnTo>
                          <a:lnTo>
                            <a:pt x="48" y="6"/>
                          </a:lnTo>
                          <a:lnTo>
                            <a:pt x="27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7908480" y="4199760"/>
                    <a:ext cx="79560" cy="12600"/>
                    <a:chOff x="7908480" y="4199760"/>
                    <a:chExt cx="79560" cy="1260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>
                      <a:off x="7908480" y="4204440"/>
                      <a:ext cx="35280" cy="792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flipV="1">
                      <a:off x="7943760" y="4199760"/>
                      <a:ext cx="14040" cy="1260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7958160" y="4200120"/>
                      <a:ext cx="29880" cy="252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784" name=""/>
              <p:cNvSpPr/>
              <p:nvPr/>
            </p:nvSpPr>
            <p:spPr>
              <a:xfrm>
                <a:off x="7885440" y="4128120"/>
                <a:ext cx="69840" cy="579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21"/>
                    </a:moveTo>
                    <a:lnTo>
                      <a:pt x="49" y="0"/>
                    </a:lnTo>
                    <a:lnTo>
                      <a:pt x="49" y="17"/>
                    </a:lnTo>
                    <a:lnTo>
                      <a:pt x="0" y="4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885440" y="4072320"/>
                <a:ext cx="72720" cy="8820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0" y="14"/>
                    </a:moveTo>
                    <a:lnTo>
                      <a:pt x="51" y="0"/>
                    </a:lnTo>
                    <a:lnTo>
                      <a:pt x="51" y="41"/>
                    </a:lnTo>
                    <a:lnTo>
                      <a:pt x="0" y="6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89600" y="3916800"/>
                <a:ext cx="180000" cy="135360"/>
              </a:xfrm>
              <a:custGeom>
                <a:avLst/>
                <a:gdLst/>
                <a:ahLst/>
                <a:rect l="l" t="t" r="r" b="b"/>
                <a:pathLst>
                  <a:path w="126" h="95">
                    <a:moveTo>
                      <a:pt x="5" y="0"/>
                    </a:moveTo>
                    <a:lnTo>
                      <a:pt x="126" y="0"/>
                    </a:lnTo>
                    <a:lnTo>
                      <a:pt x="121" y="95"/>
                    </a:lnTo>
                    <a:lnTo>
                      <a:pt x="0" y="8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572240" y="4140720"/>
                <a:ext cx="333360" cy="59760"/>
              </a:xfrm>
              <a:custGeom>
                <a:avLst/>
                <a:gdLst/>
                <a:ahLst/>
                <a:rect l="l" t="t" r="r" b="b"/>
                <a:pathLst>
                  <a:path w="233" h="42">
                    <a:moveTo>
                      <a:pt x="38" y="0"/>
                    </a:moveTo>
                    <a:lnTo>
                      <a:pt x="233" y="17"/>
                    </a:lnTo>
                    <a:lnTo>
                      <a:pt x="219" y="33"/>
                    </a:lnTo>
                    <a:lnTo>
                      <a:pt x="206" y="42"/>
                    </a:lnTo>
                    <a:lnTo>
                      <a:pt x="0" y="21"/>
                    </a:lnTo>
                    <a:lnTo>
                      <a:pt x="17" y="1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7885440" y="4079160"/>
                <a:ext cx="72720" cy="73800"/>
                <a:chOff x="7885440" y="4079160"/>
                <a:chExt cx="72720" cy="73800"/>
              </a:xfrm>
            </p:grpSpPr>
            <p:sp>
              <p:nvSpPr>
                <p:cNvPr id="789" name=""/>
                <p:cNvSpPr/>
                <p:nvPr/>
              </p:nvSpPr>
              <p:spPr>
                <a:xfrm flipV="1">
                  <a:off x="7885440" y="4100400"/>
                  <a:ext cx="72720" cy="21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V="1">
                  <a:off x="7898040" y="4105800"/>
                  <a:ext cx="59760" cy="198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7898040" y="4113360"/>
                  <a:ext cx="59760" cy="21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V="1">
                  <a:off x="7898040" y="4118760"/>
                  <a:ext cx="59760" cy="21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V="1">
                  <a:off x="7898040" y="4125600"/>
                  <a:ext cx="59760" cy="22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V="1">
                  <a:off x="7898040" y="4091400"/>
                  <a:ext cx="59760" cy="183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7898040" y="4084560"/>
                  <a:ext cx="59760" cy="169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V="1">
                  <a:off x="7898040" y="4079160"/>
                  <a:ext cx="5976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7898040" y="4088880"/>
                  <a:ext cx="1080" cy="64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7665120" y="3888360"/>
                <a:ext cx="234360" cy="195480"/>
                <a:chOff x="7665120" y="3888360"/>
                <a:chExt cx="234360" cy="195480"/>
              </a:xfrm>
            </p:grpSpPr>
            <p:grpSp>
              <p:nvGrpSpPr>
                <p:cNvPr id="799" name=""/>
                <p:cNvGrpSpPr/>
                <p:nvPr/>
              </p:nvGrpSpPr>
              <p:grpSpPr>
                <a:xfrm>
                  <a:off x="7665120" y="3888360"/>
                  <a:ext cx="234360" cy="195480"/>
                  <a:chOff x="7665120" y="3888360"/>
                  <a:chExt cx="234360" cy="195480"/>
                </a:xfrm>
              </p:grpSpPr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7665120" y="3888360"/>
                    <a:ext cx="234360" cy="195480"/>
                    <a:chOff x="7665120" y="3888360"/>
                    <a:chExt cx="234360" cy="195480"/>
                  </a:xfrm>
                </p:grpSpPr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7665120" y="3888360"/>
                      <a:ext cx="234360" cy="19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37">
                          <a:moveTo>
                            <a:pt x="14" y="3"/>
                          </a:moveTo>
                          <a:lnTo>
                            <a:pt x="27" y="1"/>
                          </a:lnTo>
                          <a:lnTo>
                            <a:pt x="47" y="1"/>
                          </a:lnTo>
                          <a:lnTo>
                            <a:pt x="66" y="0"/>
                          </a:lnTo>
                          <a:lnTo>
                            <a:pt x="89" y="0"/>
                          </a:lnTo>
                          <a:lnTo>
                            <a:pt x="106" y="0"/>
                          </a:lnTo>
                          <a:lnTo>
                            <a:pt x="131" y="1"/>
                          </a:lnTo>
                          <a:lnTo>
                            <a:pt x="156" y="3"/>
                          </a:lnTo>
                          <a:lnTo>
                            <a:pt x="161" y="3"/>
                          </a:lnTo>
                          <a:lnTo>
                            <a:pt x="163" y="3"/>
                          </a:lnTo>
                          <a:lnTo>
                            <a:pt x="164" y="4"/>
                          </a:lnTo>
                          <a:lnTo>
                            <a:pt x="164" y="4"/>
                          </a:lnTo>
                          <a:lnTo>
                            <a:pt x="164" y="6"/>
                          </a:lnTo>
                          <a:lnTo>
                            <a:pt x="158" y="134"/>
                          </a:lnTo>
                          <a:lnTo>
                            <a:pt x="158" y="135"/>
                          </a:lnTo>
                          <a:lnTo>
                            <a:pt x="156" y="137"/>
                          </a:lnTo>
                          <a:lnTo>
                            <a:pt x="102" y="132"/>
                          </a:lnTo>
                          <a:lnTo>
                            <a:pt x="50" y="129"/>
                          </a:lnTo>
                          <a:lnTo>
                            <a:pt x="2" y="126"/>
                          </a:lnTo>
                          <a:lnTo>
                            <a:pt x="0" y="123"/>
                          </a:lnTo>
                          <a:lnTo>
                            <a:pt x="7" y="7"/>
                          </a:lnTo>
                          <a:lnTo>
                            <a:pt x="14" y="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7887600" y="3893760"/>
                      <a:ext cx="111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3003" y="227"/>
                          </a:moveTo>
                          <a:arcTo wR="10800" hR="10800" stAng="-4693902" swAng="469390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3003" y="227"/>
                          </a:moveTo>
                          <a:arcTo wR="10800" hR="10800" stAng="-4693902" swAng="4693902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7674840" y="3892320"/>
                      <a:ext cx="2484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499741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499741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7665120" y="4057920"/>
                      <a:ext cx="111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7689240" y="3916800"/>
                    <a:ext cx="179640" cy="135360"/>
                    <a:chOff x="7689240" y="3916800"/>
                    <a:chExt cx="179640" cy="135360"/>
                  </a:xfrm>
                </p:grpSpPr>
                <p:grpSp>
                  <p:nvGrpSpPr>
                    <p:cNvPr id="806" name=""/>
                    <p:cNvGrpSpPr/>
                    <p:nvPr/>
                  </p:nvGrpSpPr>
                  <p:grpSpPr>
                    <a:xfrm>
                      <a:off x="7689240" y="3916800"/>
                      <a:ext cx="179640" cy="135360"/>
                      <a:chOff x="7689240" y="3916800"/>
                      <a:chExt cx="179640" cy="135360"/>
                    </a:xfrm>
                  </p:grpSpPr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7696080" y="3916800"/>
                        <a:ext cx="17280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1" h="3">
                            <a:moveTo>
                              <a:pt x="0" y="0"/>
                            </a:moveTo>
                            <a:lnTo>
                              <a:pt x="121" y="0"/>
                            </a:lnTo>
                            <a:lnTo>
                              <a:pt x="117" y="3"/>
                            </a:lnTo>
                            <a:lnTo>
                              <a:pt x="3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7856280" y="3916800"/>
                        <a:ext cx="12600" cy="13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5">
                            <a:moveTo>
                              <a:pt x="5" y="3"/>
                            </a:moveTo>
                            <a:lnTo>
                              <a:pt x="9" y="0"/>
                            </a:lnTo>
                            <a:lnTo>
                              <a:pt x="5" y="51"/>
                            </a:lnTo>
                            <a:lnTo>
                              <a:pt x="4" y="95"/>
                            </a:lnTo>
                            <a:lnTo>
                              <a:pt x="0" y="92"/>
                            </a:lnTo>
                            <a:lnTo>
                              <a:pt x="5" y="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7689240" y="4039200"/>
                        <a:ext cx="172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1" h="9">
                            <a:moveTo>
                              <a:pt x="3" y="0"/>
                            </a:moveTo>
                            <a:lnTo>
                              <a:pt x="0" y="3"/>
                            </a:lnTo>
                            <a:lnTo>
                              <a:pt x="121" y="9"/>
                            </a:lnTo>
                            <a:lnTo>
                              <a:pt x="117" y="6"/>
                            </a:lnTo>
                            <a:lnTo>
                              <a:pt x="3" y="0"/>
                            </a:lnTo>
                            <a:close/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" name=""/>
                      <p:cNvSpPr/>
                      <p:nvPr/>
                    </p:nvSpPr>
                    <p:spPr>
                      <a:xfrm>
                        <a:off x="7689240" y="3916800"/>
                        <a:ext cx="11160" cy="12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9">
                            <a:moveTo>
                              <a:pt x="5" y="0"/>
                            </a:moveTo>
                            <a:lnTo>
                              <a:pt x="8" y="3"/>
                            </a:lnTo>
                            <a:lnTo>
                              <a:pt x="3" y="86"/>
                            </a:lnTo>
                            <a:lnTo>
                              <a:pt x="0" y="8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1" name=""/>
                    <p:cNvGrpSpPr/>
                    <p:nvPr/>
                  </p:nvGrpSpPr>
                  <p:grpSpPr>
                    <a:xfrm>
                      <a:off x="7693200" y="3920760"/>
                      <a:ext cx="169920" cy="126720"/>
                      <a:chOff x="7693200" y="3920760"/>
                      <a:chExt cx="169920" cy="126720"/>
                    </a:xfrm>
                  </p:grpSpPr>
                  <p:sp>
                    <p:nvSpPr>
                      <p:cNvPr id="812" name=""/>
                      <p:cNvSpPr/>
                      <p:nvPr/>
                    </p:nvSpPr>
                    <p:spPr>
                      <a:xfrm>
                        <a:off x="7693200" y="3920760"/>
                        <a:ext cx="169920" cy="12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" h="89">
                            <a:moveTo>
                              <a:pt x="5" y="0"/>
                            </a:moveTo>
                            <a:lnTo>
                              <a:pt x="119" y="0"/>
                            </a:lnTo>
                            <a:lnTo>
                              <a:pt x="114" y="89"/>
                            </a:lnTo>
                            <a:lnTo>
                              <a:pt x="0" y="83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3" name=""/>
                      <p:cNvSpPr/>
                      <p:nvPr/>
                    </p:nvSpPr>
                    <p:spPr>
                      <a:xfrm>
                        <a:off x="7698960" y="3924720"/>
                        <a:ext cx="15984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83">
                            <a:moveTo>
                              <a:pt x="5" y="0"/>
                            </a:moveTo>
                            <a:lnTo>
                              <a:pt x="112" y="0"/>
                            </a:lnTo>
                            <a:lnTo>
                              <a:pt x="107" y="83"/>
                            </a:lnTo>
                            <a:lnTo>
                              <a:pt x="0" y="78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7700040" y="3931920"/>
                        <a:ext cx="151200" cy="10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75">
                            <a:moveTo>
                              <a:pt x="5" y="0"/>
                            </a:moveTo>
                            <a:lnTo>
                              <a:pt x="106" y="0"/>
                            </a:lnTo>
                            <a:lnTo>
                              <a:pt x="101" y="75"/>
                            </a:lnTo>
                            <a:lnTo>
                              <a:pt x="0" y="7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15" name=""/>
                <p:cNvSpPr/>
                <p:nvPr/>
              </p:nvSpPr>
              <p:spPr>
                <a:xfrm>
                  <a:off x="7854840" y="4066560"/>
                  <a:ext cx="8640" cy="39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7572240" y="4144680"/>
                <a:ext cx="333000" cy="65520"/>
                <a:chOff x="7572240" y="4144680"/>
                <a:chExt cx="333000" cy="6552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7802280" y="4164840"/>
                  <a:ext cx="81720" cy="2988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22" y="0"/>
                      </a:moveTo>
                      <a:lnTo>
                        <a:pt x="8" y="12"/>
                      </a:lnTo>
                      <a:lnTo>
                        <a:pt x="0" y="18"/>
                      </a:lnTo>
                      <a:lnTo>
                        <a:pt x="37" y="21"/>
                      </a:lnTo>
                      <a:lnTo>
                        <a:pt x="45" y="13"/>
                      </a:lnTo>
                      <a:lnTo>
                        <a:pt x="57" y="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8" name=""/>
                <p:cNvGrpSpPr/>
                <p:nvPr/>
              </p:nvGrpSpPr>
              <p:grpSpPr>
                <a:xfrm>
                  <a:off x="7572240" y="4144680"/>
                  <a:ext cx="333000" cy="65520"/>
                  <a:chOff x="7572240" y="4144680"/>
                  <a:chExt cx="333000" cy="6552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>
                    <a:off x="7572240" y="4170600"/>
                    <a:ext cx="294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8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206" y="28"/>
                        </a:lnTo>
                        <a:lnTo>
                          <a:pt x="206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866720" y="4164840"/>
                    <a:ext cx="3852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2">
                        <a:moveTo>
                          <a:pt x="0" y="25"/>
                        </a:moveTo>
                        <a:lnTo>
                          <a:pt x="0" y="32"/>
                        </a:lnTo>
                        <a:lnTo>
                          <a:pt x="12" y="25"/>
                        </a:lnTo>
                        <a:lnTo>
                          <a:pt x="17" y="21"/>
                        </a:lnTo>
                        <a:lnTo>
                          <a:pt x="27" y="10"/>
                        </a:lnTo>
                        <a:lnTo>
                          <a:pt x="27" y="0"/>
                        </a:lnTo>
                        <a:lnTo>
                          <a:pt x="13" y="16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7573680" y="4174920"/>
                    <a:ext cx="293040" cy="2808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7593480" y="4144680"/>
                    <a:ext cx="282600" cy="49680"/>
                    <a:chOff x="7593480" y="4144680"/>
                    <a:chExt cx="282600" cy="49680"/>
                  </a:xfrm>
                </p:grpSpPr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7593480" y="4145040"/>
                      <a:ext cx="2156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29">
                          <a:moveTo>
                            <a:pt x="25" y="0"/>
                          </a:moveTo>
                          <a:lnTo>
                            <a:pt x="7" y="14"/>
                          </a:lnTo>
                          <a:lnTo>
                            <a:pt x="0" y="17"/>
                          </a:lnTo>
                          <a:lnTo>
                            <a:pt x="129" y="29"/>
                          </a:lnTo>
                          <a:lnTo>
                            <a:pt x="137" y="24"/>
                          </a:lnTo>
                          <a:lnTo>
                            <a:pt x="151" y="12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24" name=""/>
                    <p:cNvGrpSpPr/>
                    <p:nvPr/>
                  </p:nvGrpSpPr>
                  <p:grpSpPr>
                    <a:xfrm>
                      <a:off x="7597800" y="4144680"/>
                      <a:ext cx="278280" cy="49680"/>
                      <a:chOff x="7597800" y="4144680"/>
                      <a:chExt cx="278280" cy="49680"/>
                    </a:xfrm>
                  </p:grpSpPr>
                  <p:grpSp>
                    <p:nvGrpSpPr>
                      <p:cNvPr id="825" name=""/>
                      <p:cNvGrpSpPr/>
                      <p:nvPr/>
                    </p:nvGrpSpPr>
                    <p:grpSpPr>
                      <a:xfrm>
                        <a:off x="7603200" y="4144680"/>
                        <a:ext cx="199440" cy="40320"/>
                        <a:chOff x="7603200" y="4144680"/>
                        <a:chExt cx="199440" cy="40320"/>
                      </a:xfrm>
                    </p:grpSpPr>
                    <p:grpSp>
                      <p:nvGrpSpPr>
                        <p:cNvPr id="826" name=""/>
                        <p:cNvGrpSpPr/>
                        <p:nvPr/>
                      </p:nvGrpSpPr>
                      <p:grpSpPr>
                        <a:xfrm>
                          <a:off x="7603200" y="4144680"/>
                          <a:ext cx="39600" cy="25920"/>
                          <a:chOff x="7603200" y="4144680"/>
                          <a:chExt cx="39600" cy="25920"/>
                        </a:xfrm>
                      </p:grpSpPr>
                      <p:sp>
                        <p:nvSpPr>
                          <p:cNvPr id="827" name=""/>
                          <p:cNvSpPr/>
                          <p:nvPr/>
                        </p:nvSpPr>
                        <p:spPr>
                          <a:xfrm flipV="1">
                            <a:off x="7603200" y="4164840"/>
                            <a:ext cx="11520" cy="5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8" name=""/>
                          <p:cNvSpPr/>
                          <p:nvPr/>
                        </p:nvSpPr>
                        <p:spPr>
                          <a:xfrm flipV="1">
                            <a:off x="7614720" y="4144680"/>
                            <a:ext cx="28080" cy="198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000" bIns="-27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9" name=""/>
                        <p:cNvGrpSpPr/>
                        <p:nvPr/>
                      </p:nvGrpSpPr>
                      <p:grpSpPr>
                        <a:xfrm>
                          <a:off x="7619040" y="4144680"/>
                          <a:ext cx="41400" cy="28080"/>
                          <a:chOff x="7619040" y="4144680"/>
                          <a:chExt cx="41400" cy="28080"/>
                        </a:xfrm>
                      </p:grpSpPr>
                      <p:sp>
                        <p:nvSpPr>
                          <p:cNvPr id="830" name=""/>
                          <p:cNvSpPr/>
                          <p:nvPr/>
                        </p:nvSpPr>
                        <p:spPr>
                          <a:xfrm flipV="1">
                            <a:off x="7619040" y="4165920"/>
                            <a:ext cx="12600" cy="68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960" bIns="-39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1" name=""/>
                          <p:cNvSpPr/>
                          <p:nvPr/>
                        </p:nvSpPr>
                        <p:spPr>
                          <a:xfrm flipV="1">
                            <a:off x="7631640" y="4144680"/>
                            <a:ext cx="28800" cy="212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2" name=""/>
                        <p:cNvGrpSpPr/>
                        <p:nvPr/>
                      </p:nvGrpSpPr>
                      <p:grpSpPr>
                        <a:xfrm>
                          <a:off x="7635960" y="4147920"/>
                          <a:ext cx="41040" cy="25920"/>
                          <a:chOff x="7635960" y="4147920"/>
                          <a:chExt cx="41040" cy="25920"/>
                        </a:xfrm>
                      </p:grpSpPr>
                      <p:sp>
                        <p:nvSpPr>
                          <p:cNvPr id="833" name=""/>
                          <p:cNvSpPr/>
                          <p:nvPr/>
                        </p:nvSpPr>
                        <p:spPr>
                          <a:xfrm flipV="1">
                            <a:off x="7635960" y="4168440"/>
                            <a:ext cx="11160" cy="54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4" name=""/>
                          <p:cNvSpPr/>
                          <p:nvPr/>
                        </p:nvSpPr>
                        <p:spPr>
                          <a:xfrm flipV="1">
                            <a:off x="7647120" y="4147920"/>
                            <a:ext cx="29880" cy="208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5" name=""/>
                        <p:cNvGrpSpPr/>
                        <p:nvPr/>
                      </p:nvGrpSpPr>
                      <p:grpSpPr>
                        <a:xfrm>
                          <a:off x="7650360" y="4149360"/>
                          <a:ext cx="42120" cy="27360"/>
                          <a:chOff x="7650360" y="4149360"/>
                          <a:chExt cx="42120" cy="27360"/>
                        </a:xfrm>
                      </p:grpSpPr>
                      <p:sp>
                        <p:nvSpPr>
                          <p:cNvPr id="836" name=""/>
                          <p:cNvSpPr/>
                          <p:nvPr/>
                        </p:nvSpPr>
                        <p:spPr>
                          <a:xfrm flipV="1">
                            <a:off x="7650360" y="4169880"/>
                            <a:ext cx="14040" cy="68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960" bIns="-39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7" name=""/>
                          <p:cNvSpPr/>
                          <p:nvPr/>
                        </p:nvSpPr>
                        <p:spPr>
                          <a:xfrm flipV="1">
                            <a:off x="7664400" y="4149360"/>
                            <a:ext cx="28080" cy="208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8" name=""/>
                        <p:cNvGrpSpPr/>
                        <p:nvPr/>
                      </p:nvGrpSpPr>
                      <p:grpSpPr>
                        <a:xfrm>
                          <a:off x="7667640" y="4149360"/>
                          <a:ext cx="42120" cy="27360"/>
                          <a:chOff x="7667640" y="4149360"/>
                          <a:chExt cx="42120" cy="27360"/>
                        </a:xfrm>
                      </p:grpSpPr>
                      <p:sp>
                        <p:nvSpPr>
                          <p:cNvPr id="839" name=""/>
                          <p:cNvSpPr/>
                          <p:nvPr/>
                        </p:nvSpPr>
                        <p:spPr>
                          <a:xfrm flipV="1">
                            <a:off x="7667640" y="4169880"/>
                            <a:ext cx="14040" cy="68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960" bIns="-39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0" name=""/>
                          <p:cNvSpPr/>
                          <p:nvPr/>
                        </p:nvSpPr>
                        <p:spPr>
                          <a:xfrm flipV="1">
                            <a:off x="7681680" y="4149360"/>
                            <a:ext cx="28080" cy="208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1" name=""/>
                        <p:cNvGrpSpPr/>
                        <p:nvPr/>
                      </p:nvGrpSpPr>
                      <p:grpSpPr>
                        <a:xfrm>
                          <a:off x="7684560" y="4151520"/>
                          <a:ext cx="42120" cy="25200"/>
                          <a:chOff x="7684560" y="4151520"/>
                          <a:chExt cx="42120" cy="25200"/>
                        </a:xfrm>
                      </p:grpSpPr>
                      <p:sp>
                        <p:nvSpPr>
                          <p:cNvPr id="842" name=""/>
                          <p:cNvSpPr/>
                          <p:nvPr/>
                        </p:nvSpPr>
                        <p:spPr>
                          <a:xfrm flipV="1">
                            <a:off x="7684560" y="4169880"/>
                            <a:ext cx="14040" cy="68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960" bIns="-39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3" name=""/>
                          <p:cNvSpPr/>
                          <p:nvPr/>
                        </p:nvSpPr>
                        <p:spPr>
                          <a:xfrm flipV="1">
                            <a:off x="7698600" y="4151520"/>
                            <a:ext cx="28080" cy="183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440" bIns="-28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4" name=""/>
                        <p:cNvGrpSpPr/>
                        <p:nvPr/>
                      </p:nvGrpSpPr>
                      <p:grpSpPr>
                        <a:xfrm>
                          <a:off x="7700040" y="4151520"/>
                          <a:ext cx="41040" cy="26640"/>
                          <a:chOff x="7700040" y="4151520"/>
                          <a:chExt cx="41040" cy="26640"/>
                        </a:xfrm>
                      </p:grpSpPr>
                      <p:sp>
                        <p:nvSpPr>
                          <p:cNvPr id="845" name=""/>
                          <p:cNvSpPr/>
                          <p:nvPr/>
                        </p:nvSpPr>
                        <p:spPr>
                          <a:xfrm flipV="1">
                            <a:off x="7700040" y="4172760"/>
                            <a:ext cx="12600" cy="54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6" name=""/>
                          <p:cNvSpPr/>
                          <p:nvPr/>
                        </p:nvSpPr>
                        <p:spPr>
                          <a:xfrm flipV="1">
                            <a:off x="7712640" y="4151520"/>
                            <a:ext cx="28440" cy="212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7" name=""/>
                        <p:cNvGrpSpPr/>
                        <p:nvPr/>
                      </p:nvGrpSpPr>
                      <p:grpSpPr>
                        <a:xfrm>
                          <a:off x="7714440" y="4153680"/>
                          <a:ext cx="43920" cy="27360"/>
                          <a:chOff x="7714440" y="4153680"/>
                          <a:chExt cx="43920" cy="27360"/>
                        </a:xfrm>
                      </p:grpSpPr>
                      <p:sp>
                        <p:nvSpPr>
                          <p:cNvPr id="848" name=""/>
                          <p:cNvSpPr/>
                          <p:nvPr/>
                        </p:nvSpPr>
                        <p:spPr>
                          <a:xfrm flipV="1">
                            <a:off x="7714440" y="4174200"/>
                            <a:ext cx="14040" cy="68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960" bIns="-39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9" name=""/>
                          <p:cNvSpPr/>
                          <p:nvPr/>
                        </p:nvSpPr>
                        <p:spPr>
                          <a:xfrm flipV="1">
                            <a:off x="7728480" y="4153680"/>
                            <a:ext cx="29880" cy="208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0" name=""/>
                        <p:cNvGrpSpPr/>
                        <p:nvPr/>
                      </p:nvGrpSpPr>
                      <p:grpSpPr>
                        <a:xfrm>
                          <a:off x="7731720" y="4156560"/>
                          <a:ext cx="41040" cy="25920"/>
                          <a:chOff x="7731720" y="4156560"/>
                          <a:chExt cx="41040" cy="25920"/>
                        </a:xfrm>
                      </p:grpSpPr>
                      <p:sp>
                        <p:nvSpPr>
                          <p:cNvPr id="851" name=""/>
                          <p:cNvSpPr/>
                          <p:nvPr/>
                        </p:nvSpPr>
                        <p:spPr>
                          <a:xfrm flipV="1">
                            <a:off x="7731720" y="4177440"/>
                            <a:ext cx="12600" cy="50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2" name=""/>
                          <p:cNvSpPr/>
                          <p:nvPr/>
                        </p:nvSpPr>
                        <p:spPr>
                          <a:xfrm flipV="1">
                            <a:off x="7744320" y="4156560"/>
                            <a:ext cx="28440" cy="208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3" name=""/>
                        <p:cNvGrpSpPr/>
                        <p:nvPr/>
                      </p:nvGrpSpPr>
                      <p:grpSpPr>
                        <a:xfrm>
                          <a:off x="7745760" y="4157280"/>
                          <a:ext cx="42480" cy="25200"/>
                          <a:chOff x="7745760" y="4157280"/>
                          <a:chExt cx="42480" cy="25200"/>
                        </a:xfrm>
                      </p:grpSpPr>
                      <p:sp>
                        <p:nvSpPr>
                          <p:cNvPr id="854" name=""/>
                          <p:cNvSpPr/>
                          <p:nvPr/>
                        </p:nvSpPr>
                        <p:spPr>
                          <a:xfrm flipV="1">
                            <a:off x="7745760" y="4177080"/>
                            <a:ext cx="14040" cy="54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5" name=""/>
                          <p:cNvSpPr/>
                          <p:nvPr/>
                        </p:nvSpPr>
                        <p:spPr>
                          <a:xfrm flipV="1">
                            <a:off x="7759800" y="4157280"/>
                            <a:ext cx="28440" cy="198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000" bIns="-27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6" name=""/>
                        <p:cNvGrpSpPr/>
                        <p:nvPr/>
                      </p:nvGrpSpPr>
                      <p:grpSpPr>
                        <a:xfrm>
                          <a:off x="7763040" y="4157640"/>
                          <a:ext cx="39600" cy="27360"/>
                          <a:chOff x="7763040" y="4157640"/>
                          <a:chExt cx="39600" cy="27360"/>
                        </a:xfrm>
                      </p:grpSpPr>
                      <p:sp>
                        <p:nvSpPr>
                          <p:cNvPr id="857" name=""/>
                          <p:cNvSpPr/>
                          <p:nvPr/>
                        </p:nvSpPr>
                        <p:spPr>
                          <a:xfrm flipV="1">
                            <a:off x="7763040" y="4178160"/>
                            <a:ext cx="11160" cy="68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960" bIns="-39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8" name=""/>
                          <p:cNvSpPr/>
                          <p:nvPr/>
                        </p:nvSpPr>
                        <p:spPr>
                          <a:xfrm flipV="1">
                            <a:off x="7774200" y="4157640"/>
                            <a:ext cx="28440" cy="208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59" name=""/>
                      <p:cNvGrpSpPr/>
                      <p:nvPr/>
                    </p:nvGrpSpPr>
                    <p:grpSpPr>
                      <a:xfrm>
                        <a:off x="7810560" y="4161960"/>
                        <a:ext cx="61920" cy="32400"/>
                        <a:chOff x="7810560" y="4161960"/>
                        <a:chExt cx="61920" cy="32400"/>
                      </a:xfrm>
                    </p:grpSpPr>
                    <p:grpSp>
                      <p:nvGrpSpPr>
                        <p:cNvPr id="860" name=""/>
                        <p:cNvGrpSpPr/>
                        <p:nvPr/>
                      </p:nvGrpSpPr>
                      <p:grpSpPr>
                        <a:xfrm>
                          <a:off x="7837200" y="4164840"/>
                          <a:ext cx="35280" cy="29520"/>
                          <a:chOff x="7837200" y="4164840"/>
                          <a:chExt cx="35280" cy="29520"/>
                        </a:xfrm>
                      </p:grpSpPr>
                      <p:sp>
                        <p:nvSpPr>
                          <p:cNvPr id="861" name=""/>
                          <p:cNvSpPr/>
                          <p:nvPr/>
                        </p:nvSpPr>
                        <p:spPr>
                          <a:xfrm flipV="1">
                            <a:off x="7837200" y="4185720"/>
                            <a:ext cx="11520" cy="86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160" bIns="-38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2" name=""/>
                          <p:cNvSpPr/>
                          <p:nvPr/>
                        </p:nvSpPr>
                        <p:spPr>
                          <a:xfrm flipV="1">
                            <a:off x="7848720" y="4164840"/>
                            <a:ext cx="23760" cy="208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3" name=""/>
                        <p:cNvGrpSpPr/>
                        <p:nvPr/>
                      </p:nvGrpSpPr>
                      <p:grpSpPr>
                        <a:xfrm>
                          <a:off x="7826040" y="4161960"/>
                          <a:ext cx="34920" cy="32400"/>
                          <a:chOff x="7826040" y="4161960"/>
                          <a:chExt cx="34920" cy="32400"/>
                        </a:xfrm>
                      </p:grpSpPr>
                      <p:sp>
                        <p:nvSpPr>
                          <p:cNvPr id="864" name=""/>
                          <p:cNvSpPr/>
                          <p:nvPr/>
                        </p:nvSpPr>
                        <p:spPr>
                          <a:xfrm flipV="1">
                            <a:off x="7826040" y="4185720"/>
                            <a:ext cx="11160" cy="86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160" bIns="-38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5" name=""/>
                          <p:cNvSpPr/>
                          <p:nvPr/>
                        </p:nvSpPr>
                        <p:spPr>
                          <a:xfrm flipV="1">
                            <a:off x="7837200" y="4161960"/>
                            <a:ext cx="2376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6" name=""/>
                        <p:cNvGrpSpPr/>
                        <p:nvPr/>
                      </p:nvGrpSpPr>
                      <p:grpSpPr>
                        <a:xfrm>
                          <a:off x="7810560" y="4161960"/>
                          <a:ext cx="36360" cy="29520"/>
                          <a:chOff x="7810560" y="4161960"/>
                          <a:chExt cx="36360" cy="29520"/>
                        </a:xfrm>
                      </p:grpSpPr>
                      <p:sp>
                        <p:nvSpPr>
                          <p:cNvPr id="867" name=""/>
                          <p:cNvSpPr/>
                          <p:nvPr/>
                        </p:nvSpPr>
                        <p:spPr>
                          <a:xfrm flipV="1">
                            <a:off x="7810560" y="4182840"/>
                            <a:ext cx="12240" cy="86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160" bIns="-38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8" name=""/>
                          <p:cNvSpPr/>
                          <p:nvPr/>
                        </p:nvSpPr>
                        <p:spPr>
                          <a:xfrm flipV="1">
                            <a:off x="7822800" y="4161960"/>
                            <a:ext cx="24120" cy="208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69" name=""/>
                      <p:cNvSpPr/>
                      <p:nvPr/>
                    </p:nvSpPr>
                    <p:spPr>
                      <a:xfrm>
                        <a:off x="7617240" y="4151880"/>
                        <a:ext cx="258840" cy="2268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" name=""/>
                      <p:cNvSpPr/>
                      <p:nvPr/>
                    </p:nvSpPr>
                    <p:spPr>
                      <a:xfrm>
                        <a:off x="7607520" y="4157640"/>
                        <a:ext cx="262440" cy="2412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" name=""/>
                      <p:cNvSpPr/>
                      <p:nvPr/>
                    </p:nvSpPr>
                    <p:spPr>
                      <a:xfrm>
                        <a:off x="7597800" y="4164840"/>
                        <a:ext cx="265680" cy="255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72" name=""/>
                  <p:cNvGrpSpPr/>
                  <p:nvPr/>
                </p:nvGrpSpPr>
                <p:grpSpPr>
                  <a:xfrm>
                    <a:off x="7866720" y="4168800"/>
                    <a:ext cx="38160" cy="35280"/>
                    <a:chOff x="7866720" y="4168800"/>
                    <a:chExt cx="38160" cy="35280"/>
                  </a:xfrm>
                </p:grpSpPr>
                <p:sp>
                  <p:nvSpPr>
                    <p:cNvPr id="873" name=""/>
                    <p:cNvSpPr/>
                    <p:nvPr/>
                  </p:nvSpPr>
                  <p:spPr>
                    <a:xfrm flipV="1">
                      <a:off x="7866720" y="4190040"/>
                      <a:ext cx="21240" cy="140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 flipV="1">
                      <a:off x="7887960" y="4168800"/>
                      <a:ext cx="16920" cy="212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875" name=""/>
            <p:cNvSpPr/>
            <p:nvPr/>
          </p:nvSpPr>
          <p:spPr>
            <a:xfrm>
              <a:off x="7563600" y="425628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756200" y="42580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779600" y="426636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576560" y="43664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763760" y="3733920"/>
              <a:ext cx="1440" cy="158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7467480" y="4191120"/>
            <a:ext cx="838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SUN</a:t>
            </a: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工作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交通部連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7924680" y="5105520"/>
            <a:ext cx="533160" cy="587160"/>
            <a:chOff x="7924680" y="5105520"/>
            <a:chExt cx="533160" cy="587160"/>
          </a:xfrm>
        </p:grpSpPr>
        <p:sp>
          <p:nvSpPr>
            <p:cNvPr id="882" name=""/>
            <p:cNvSpPr/>
            <p:nvPr/>
          </p:nvSpPr>
          <p:spPr>
            <a:xfrm>
              <a:off x="8135640" y="5509080"/>
              <a:ext cx="5400" cy="3996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6" y="6"/>
                  </a:moveTo>
                  <a:lnTo>
                    <a:pt x="6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7924680" y="5105520"/>
              <a:ext cx="533160" cy="587160"/>
              <a:chOff x="7924680" y="5105520"/>
              <a:chExt cx="533160" cy="587160"/>
            </a:xfrm>
          </p:grpSpPr>
          <p:grpSp>
            <p:nvGrpSpPr>
              <p:cNvPr id="884" name=""/>
              <p:cNvGrpSpPr/>
              <p:nvPr/>
            </p:nvGrpSpPr>
            <p:grpSpPr>
              <a:xfrm>
                <a:off x="7924680" y="5105520"/>
                <a:ext cx="409680" cy="527040"/>
                <a:chOff x="7924680" y="5105520"/>
                <a:chExt cx="409680" cy="52704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7925760" y="5214240"/>
                  <a:ext cx="408600" cy="418320"/>
                </a:xfrm>
                <a:custGeom>
                  <a:avLst/>
                  <a:gdLst/>
                  <a:ahLst/>
                  <a:rect l="l" t="t" r="r" b="b"/>
                  <a:pathLst>
                    <a:path w="608" h="209">
                      <a:moveTo>
                        <a:pt x="608" y="0"/>
                      </a:moveTo>
                      <a:lnTo>
                        <a:pt x="608" y="209"/>
                      </a:lnTo>
                      <a:lnTo>
                        <a:pt x="23" y="209"/>
                      </a:lnTo>
                      <a:lnTo>
                        <a:pt x="23" y="170"/>
                      </a:lnTo>
                      <a:lnTo>
                        <a:pt x="11" y="167"/>
                      </a:lnTo>
                      <a:lnTo>
                        <a:pt x="11" y="141"/>
                      </a:lnTo>
                      <a:lnTo>
                        <a:pt x="0" y="137"/>
                      </a:lnTo>
                      <a:lnTo>
                        <a:pt x="6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6" name=""/>
                <p:cNvGrpSpPr/>
                <p:nvPr/>
              </p:nvGrpSpPr>
              <p:grpSpPr>
                <a:xfrm>
                  <a:off x="7958160" y="5544000"/>
                  <a:ext cx="25200" cy="32040"/>
                  <a:chOff x="7958160" y="5544000"/>
                  <a:chExt cx="25200" cy="3204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7980840" y="5544000"/>
                    <a:ext cx="2520" cy="2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7975440" y="5548320"/>
                    <a:ext cx="396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7971480" y="5548320"/>
                    <a:ext cx="3960" cy="2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7967520" y="5548320"/>
                    <a:ext cx="2160" cy="2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7963200" y="5548320"/>
                    <a:ext cx="2520" cy="2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7958160" y="5548320"/>
                    <a:ext cx="3960" cy="2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3" name=""/>
                <p:cNvGrpSpPr/>
                <p:nvPr/>
              </p:nvGrpSpPr>
              <p:grpSpPr>
                <a:xfrm>
                  <a:off x="8011800" y="5508360"/>
                  <a:ext cx="42480" cy="59040"/>
                  <a:chOff x="8011800" y="5508360"/>
                  <a:chExt cx="42480" cy="59040"/>
                </a:xfrm>
              </p:grpSpPr>
              <p:sp>
                <p:nvSpPr>
                  <p:cNvPr id="894" name=""/>
                  <p:cNvSpPr/>
                  <p:nvPr/>
                </p:nvSpPr>
                <p:spPr>
                  <a:xfrm>
                    <a:off x="8049240" y="5508360"/>
                    <a:ext cx="504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2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7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8042760" y="5508360"/>
                    <a:ext cx="64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3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9" y="23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8037000" y="5511960"/>
                    <a:ext cx="54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3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8" y="23"/>
                        </a:lnTo>
                        <a:lnTo>
                          <a:pt x="8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8030520" y="5516280"/>
                    <a:ext cx="540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3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8" y="23"/>
                        </a:lnTo>
                        <a:lnTo>
                          <a:pt x="8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8025120" y="5516280"/>
                    <a:ext cx="39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3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8" y="23"/>
                        </a:lnTo>
                        <a:lnTo>
                          <a:pt x="8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8018280" y="5516280"/>
                    <a:ext cx="54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4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8" y="24"/>
                        </a:lnTo>
                        <a:lnTo>
                          <a:pt x="8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8011800" y="5519880"/>
                    <a:ext cx="54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3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9" y="23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8096400" y="5475240"/>
                  <a:ext cx="59040" cy="67680"/>
                  <a:chOff x="8096400" y="5475240"/>
                  <a:chExt cx="59040" cy="6768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8147520" y="5475240"/>
                    <a:ext cx="7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7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2" y="27"/>
                        </a:lnTo>
                        <a:lnTo>
                          <a:pt x="12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8137800" y="5479560"/>
                    <a:ext cx="792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6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12" y="26"/>
                        </a:lnTo>
                        <a:lnTo>
                          <a:pt x="12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8128440" y="5479560"/>
                    <a:ext cx="648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7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0" y="27"/>
                        </a:lnTo>
                        <a:lnTo>
                          <a:pt x="10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8118000" y="5483160"/>
                    <a:ext cx="64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7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0" y="27"/>
                        </a:lnTo>
                        <a:lnTo>
                          <a:pt x="10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8106840" y="5483160"/>
                    <a:ext cx="648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7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0" y="27"/>
                        </a:lnTo>
                        <a:lnTo>
                          <a:pt x="10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8096400" y="5487840"/>
                    <a:ext cx="64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7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2" y="27"/>
                        </a:lnTo>
                        <a:lnTo>
                          <a:pt x="12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8" name=""/>
                <p:cNvGrpSpPr/>
                <p:nvPr/>
              </p:nvGrpSpPr>
              <p:grpSpPr>
                <a:xfrm>
                  <a:off x="8235000" y="5439600"/>
                  <a:ext cx="77400" cy="67320"/>
                  <a:chOff x="8235000" y="5439600"/>
                  <a:chExt cx="77400" cy="67320"/>
                </a:xfrm>
              </p:grpSpPr>
              <p:sp>
                <p:nvSpPr>
                  <p:cNvPr id="909" name=""/>
                  <p:cNvSpPr/>
                  <p:nvPr/>
                </p:nvSpPr>
                <p:spPr>
                  <a:xfrm>
                    <a:off x="8304840" y="5439600"/>
                    <a:ext cx="7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6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12" y="26"/>
                        </a:lnTo>
                        <a:lnTo>
                          <a:pt x="12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8287200" y="5443200"/>
                    <a:ext cx="7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6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12" y="26"/>
                        </a:lnTo>
                        <a:lnTo>
                          <a:pt x="12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8269920" y="5447520"/>
                    <a:ext cx="648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6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10" y="26"/>
                        </a:lnTo>
                        <a:lnTo>
                          <a:pt x="1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8250840" y="5447520"/>
                    <a:ext cx="79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7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2" y="27"/>
                        </a:lnTo>
                        <a:lnTo>
                          <a:pt x="12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8235000" y="5454720"/>
                    <a:ext cx="64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6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11" y="26"/>
                        </a:lnTo>
                        <a:lnTo>
                          <a:pt x="11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4" name=""/>
                <p:cNvSpPr/>
                <p:nvPr/>
              </p:nvSpPr>
              <p:spPr>
                <a:xfrm>
                  <a:off x="7940520" y="5479920"/>
                  <a:ext cx="392400" cy="128520"/>
                </a:xfrm>
                <a:custGeom>
                  <a:avLst/>
                  <a:gdLst/>
                  <a:ahLst/>
                  <a:rect l="l" t="t" r="r" b="b"/>
                  <a:pathLst>
                    <a:path w="584" h="64">
                      <a:moveTo>
                        <a:pt x="584" y="35"/>
                      </a:moveTo>
                      <a:lnTo>
                        <a:pt x="584" y="0"/>
                      </a:lnTo>
                      <a:lnTo>
                        <a:pt x="0" y="47"/>
                      </a:lnTo>
                      <a:lnTo>
                        <a:pt x="0" y="64"/>
                      </a:lnTo>
                      <a:lnTo>
                        <a:pt x="584" y="3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933680" y="5339160"/>
                  <a:ext cx="399240" cy="212760"/>
                </a:xfrm>
                <a:custGeom>
                  <a:avLst/>
                  <a:gdLst/>
                  <a:ahLst/>
                  <a:rect l="l" t="t" r="r" b="b"/>
                  <a:pathLst>
                    <a:path w="596" h="105">
                      <a:moveTo>
                        <a:pt x="596" y="29"/>
                      </a:moveTo>
                      <a:lnTo>
                        <a:pt x="596" y="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596" y="29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7924680" y="5105520"/>
                  <a:ext cx="408240" cy="386280"/>
                </a:xfrm>
                <a:custGeom>
                  <a:avLst/>
                  <a:gdLst/>
                  <a:ahLst/>
                  <a:rect l="l" t="t" r="r" b="b"/>
                  <a:pathLst>
                    <a:path w="609" h="191">
                      <a:moveTo>
                        <a:pt x="609" y="67"/>
                      </a:moveTo>
                      <a:lnTo>
                        <a:pt x="609" y="0"/>
                      </a:lnTo>
                      <a:lnTo>
                        <a:pt x="0" y="167"/>
                      </a:lnTo>
                      <a:lnTo>
                        <a:pt x="0" y="191"/>
                      </a:lnTo>
                      <a:lnTo>
                        <a:pt x="609" y="6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8332920" y="5105520"/>
                <a:ext cx="124920" cy="526680"/>
                <a:chOff x="8332920" y="5105520"/>
                <a:chExt cx="124920" cy="52668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8334360" y="5576760"/>
                  <a:ext cx="92520" cy="55440"/>
                </a:xfrm>
                <a:custGeom>
                  <a:avLst/>
                  <a:gdLst/>
                  <a:ahLst/>
                  <a:rect l="l" t="t" r="r" b="b"/>
                  <a:pathLst>
                    <a:path w="137" h="27">
                      <a:moveTo>
                        <a:pt x="0" y="0"/>
                      </a:moveTo>
                      <a:lnTo>
                        <a:pt x="137" y="8"/>
                      </a:lnTo>
                      <a:lnTo>
                        <a:pt x="137" y="20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332920" y="5229720"/>
                  <a:ext cx="124920" cy="370800"/>
                </a:xfrm>
                <a:custGeom>
                  <a:avLst/>
                  <a:gdLst/>
                  <a:ahLst/>
                  <a:rect l="l" t="t" r="r" b="b"/>
                  <a:pathLst>
                    <a:path w="185" h="184">
                      <a:moveTo>
                        <a:pt x="0" y="0"/>
                      </a:moveTo>
                      <a:lnTo>
                        <a:pt x="185" y="97"/>
                      </a:lnTo>
                      <a:lnTo>
                        <a:pt x="163" y="97"/>
                      </a:lnTo>
                      <a:lnTo>
                        <a:pt x="163" y="131"/>
                      </a:lnTo>
                      <a:lnTo>
                        <a:pt x="170" y="135"/>
                      </a:lnTo>
                      <a:lnTo>
                        <a:pt x="163" y="135"/>
                      </a:lnTo>
                      <a:lnTo>
                        <a:pt x="161" y="179"/>
                      </a:lnTo>
                      <a:lnTo>
                        <a:pt x="141" y="184"/>
                      </a:lnTo>
                      <a:lnTo>
                        <a:pt x="0" y="1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332920" y="5105520"/>
                  <a:ext cx="124920" cy="322200"/>
                </a:xfrm>
                <a:custGeom>
                  <a:avLst/>
                  <a:gdLst/>
                  <a:ahLst/>
                  <a:rect l="l" t="t" r="r" b="b"/>
                  <a:pathLst>
                    <a:path w="185" h="159">
                      <a:moveTo>
                        <a:pt x="0" y="0"/>
                      </a:moveTo>
                      <a:lnTo>
                        <a:pt x="0" y="67"/>
                      </a:lnTo>
                      <a:lnTo>
                        <a:pt x="185" y="159"/>
                      </a:lnTo>
                      <a:lnTo>
                        <a:pt x="185" y="1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1" name=""/>
                <p:cNvGrpSpPr/>
                <p:nvPr/>
              </p:nvGrpSpPr>
              <p:grpSpPr>
                <a:xfrm>
                  <a:off x="8334360" y="5411520"/>
                  <a:ext cx="96120" cy="176400"/>
                  <a:chOff x="8334360" y="5411520"/>
                  <a:chExt cx="96120" cy="17640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8418600" y="5503320"/>
                    <a:ext cx="118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1">
                        <a:moveTo>
                          <a:pt x="0" y="8"/>
                        </a:moveTo>
                        <a:lnTo>
                          <a:pt x="0" y="38"/>
                        </a:lnTo>
                        <a:lnTo>
                          <a:pt x="19" y="41"/>
                        </a:lnTo>
                        <a:lnTo>
                          <a:pt x="19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8411760" y="5496120"/>
                    <a:ext cx="1188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0" y="8"/>
                        </a:moveTo>
                        <a:lnTo>
                          <a:pt x="0" y="38"/>
                        </a:lnTo>
                        <a:lnTo>
                          <a:pt x="18" y="42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8406720" y="5491440"/>
                    <a:ext cx="1152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0" y="8"/>
                        </a:moveTo>
                        <a:lnTo>
                          <a:pt x="0" y="38"/>
                        </a:lnTo>
                        <a:lnTo>
                          <a:pt x="18" y="42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8401320" y="5483160"/>
                    <a:ext cx="118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0" y="8"/>
                        </a:moveTo>
                        <a:lnTo>
                          <a:pt x="0" y="37"/>
                        </a:lnTo>
                        <a:lnTo>
                          <a:pt x="17" y="41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8395560" y="5474880"/>
                    <a:ext cx="118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1">
                        <a:moveTo>
                          <a:pt x="0" y="8"/>
                        </a:moveTo>
                        <a:lnTo>
                          <a:pt x="0" y="38"/>
                        </a:lnTo>
                        <a:lnTo>
                          <a:pt x="18" y="41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8390520" y="5471280"/>
                    <a:ext cx="115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0" y="8"/>
                        </a:moveTo>
                        <a:lnTo>
                          <a:pt x="0" y="38"/>
                        </a:lnTo>
                        <a:lnTo>
                          <a:pt x="18" y="42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8383680" y="5463360"/>
                    <a:ext cx="133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0" y="10"/>
                        </a:moveTo>
                        <a:lnTo>
                          <a:pt x="0" y="39"/>
                        </a:lnTo>
                        <a:lnTo>
                          <a:pt x="18" y="42"/>
                        </a:lnTo>
                        <a:lnTo>
                          <a:pt x="18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8378280" y="5463360"/>
                    <a:ext cx="118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0" y="8"/>
                        </a:moveTo>
                        <a:lnTo>
                          <a:pt x="0" y="38"/>
                        </a:lnTo>
                        <a:lnTo>
                          <a:pt x="18" y="42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8372880" y="5455080"/>
                    <a:ext cx="11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0" y="8"/>
                        </a:moveTo>
                        <a:lnTo>
                          <a:pt x="0" y="38"/>
                        </a:lnTo>
                        <a:lnTo>
                          <a:pt x="18" y="42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8367840" y="5447880"/>
                    <a:ext cx="1152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0" y="7"/>
                        </a:moveTo>
                        <a:lnTo>
                          <a:pt x="0" y="37"/>
                        </a:lnTo>
                        <a:lnTo>
                          <a:pt x="17" y="41"/>
                        </a:lnTo>
                        <a:lnTo>
                          <a:pt x="17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8362080" y="5439600"/>
                    <a:ext cx="1188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1">
                        <a:moveTo>
                          <a:pt x="0" y="8"/>
                        </a:moveTo>
                        <a:lnTo>
                          <a:pt x="0" y="37"/>
                        </a:lnTo>
                        <a:lnTo>
                          <a:pt x="18" y="41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8356680" y="5434920"/>
                    <a:ext cx="118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0" y="8"/>
                        </a:moveTo>
                        <a:lnTo>
                          <a:pt x="0" y="38"/>
                        </a:lnTo>
                        <a:lnTo>
                          <a:pt x="18" y="42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8351640" y="5431320"/>
                    <a:ext cx="1044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0" y="7"/>
                        </a:moveTo>
                        <a:lnTo>
                          <a:pt x="0" y="37"/>
                        </a:lnTo>
                        <a:lnTo>
                          <a:pt x="17" y="41"/>
                        </a:lnTo>
                        <a:lnTo>
                          <a:pt x="17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8344800" y="5427720"/>
                    <a:ext cx="1152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0">
                        <a:moveTo>
                          <a:pt x="0" y="8"/>
                        </a:moveTo>
                        <a:lnTo>
                          <a:pt x="0" y="38"/>
                        </a:lnTo>
                        <a:lnTo>
                          <a:pt x="18" y="40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8339400" y="5419440"/>
                    <a:ext cx="118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0" y="9"/>
                        </a:moveTo>
                        <a:lnTo>
                          <a:pt x="0" y="38"/>
                        </a:lnTo>
                        <a:lnTo>
                          <a:pt x="17" y="42"/>
                        </a:lnTo>
                        <a:lnTo>
                          <a:pt x="17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8334360" y="5411520"/>
                    <a:ext cx="115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1">
                        <a:moveTo>
                          <a:pt x="0" y="7"/>
                        </a:moveTo>
                        <a:lnTo>
                          <a:pt x="0" y="37"/>
                        </a:lnTo>
                        <a:lnTo>
                          <a:pt x="18" y="41"/>
                        </a:lnTo>
                        <a:lnTo>
                          <a:pt x="18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8334360" y="5290920"/>
                  <a:ext cx="89280" cy="183600"/>
                  <a:chOff x="8334360" y="5290920"/>
                  <a:chExt cx="89280" cy="18360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>
                    <a:off x="8411760" y="5407200"/>
                    <a:ext cx="1188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5">
                        <a:moveTo>
                          <a:pt x="0" y="8"/>
                        </a:moveTo>
                        <a:lnTo>
                          <a:pt x="0" y="28"/>
                        </a:lnTo>
                        <a:lnTo>
                          <a:pt x="18" y="35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8406720" y="5398920"/>
                    <a:ext cx="1152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4">
                        <a:moveTo>
                          <a:pt x="0" y="8"/>
                        </a:moveTo>
                        <a:lnTo>
                          <a:pt x="0" y="29"/>
                        </a:lnTo>
                        <a:lnTo>
                          <a:pt x="16" y="34"/>
                        </a:lnTo>
                        <a:lnTo>
                          <a:pt x="16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8400960" y="5390640"/>
                    <a:ext cx="118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5">
                        <a:moveTo>
                          <a:pt x="0" y="8"/>
                        </a:moveTo>
                        <a:lnTo>
                          <a:pt x="0" y="33"/>
                        </a:lnTo>
                        <a:lnTo>
                          <a:pt x="18" y="35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8395560" y="5379120"/>
                    <a:ext cx="1188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6">
                        <a:moveTo>
                          <a:pt x="0" y="9"/>
                        </a:moveTo>
                        <a:lnTo>
                          <a:pt x="0" y="34"/>
                        </a:lnTo>
                        <a:lnTo>
                          <a:pt x="18" y="36"/>
                        </a:lnTo>
                        <a:lnTo>
                          <a:pt x="18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8390520" y="5374440"/>
                    <a:ext cx="104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0" y="9"/>
                        </a:moveTo>
                        <a:lnTo>
                          <a:pt x="0" y="38"/>
                        </a:lnTo>
                        <a:lnTo>
                          <a:pt x="17" y="42"/>
                        </a:lnTo>
                        <a:lnTo>
                          <a:pt x="17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8383680" y="5366160"/>
                    <a:ext cx="133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0" y="8"/>
                        </a:moveTo>
                        <a:lnTo>
                          <a:pt x="0" y="38"/>
                        </a:lnTo>
                        <a:lnTo>
                          <a:pt x="18" y="42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8378280" y="5358960"/>
                    <a:ext cx="118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0" y="8"/>
                        </a:moveTo>
                        <a:lnTo>
                          <a:pt x="0" y="38"/>
                        </a:lnTo>
                        <a:lnTo>
                          <a:pt x="18" y="42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8372880" y="5350680"/>
                    <a:ext cx="1080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0" y="8"/>
                        </a:moveTo>
                        <a:lnTo>
                          <a:pt x="0" y="38"/>
                        </a:lnTo>
                        <a:lnTo>
                          <a:pt x="17" y="42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8367480" y="5342760"/>
                    <a:ext cx="1152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0">
                        <a:moveTo>
                          <a:pt x="0" y="7"/>
                        </a:moveTo>
                        <a:lnTo>
                          <a:pt x="0" y="37"/>
                        </a:lnTo>
                        <a:lnTo>
                          <a:pt x="18" y="40"/>
                        </a:lnTo>
                        <a:lnTo>
                          <a:pt x="18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8362080" y="5330880"/>
                    <a:ext cx="1188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0" y="9"/>
                        </a:moveTo>
                        <a:lnTo>
                          <a:pt x="0" y="38"/>
                        </a:lnTo>
                        <a:lnTo>
                          <a:pt x="18" y="42"/>
                        </a:lnTo>
                        <a:lnTo>
                          <a:pt x="18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8356680" y="5326200"/>
                    <a:ext cx="1080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0">
                        <a:moveTo>
                          <a:pt x="0" y="8"/>
                        </a:moveTo>
                        <a:lnTo>
                          <a:pt x="0" y="37"/>
                        </a:lnTo>
                        <a:lnTo>
                          <a:pt x="16" y="40"/>
                        </a:lnTo>
                        <a:lnTo>
                          <a:pt x="16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8349840" y="5314320"/>
                    <a:ext cx="118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1">
                        <a:moveTo>
                          <a:pt x="0" y="9"/>
                        </a:moveTo>
                        <a:lnTo>
                          <a:pt x="0" y="37"/>
                        </a:lnTo>
                        <a:lnTo>
                          <a:pt x="19" y="41"/>
                        </a:lnTo>
                        <a:lnTo>
                          <a:pt x="19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8344800" y="5306040"/>
                    <a:ext cx="115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1">
                        <a:moveTo>
                          <a:pt x="0" y="7"/>
                        </a:moveTo>
                        <a:lnTo>
                          <a:pt x="0" y="37"/>
                        </a:lnTo>
                        <a:lnTo>
                          <a:pt x="18" y="41"/>
                        </a:lnTo>
                        <a:lnTo>
                          <a:pt x="18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8339400" y="5298120"/>
                    <a:ext cx="118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1">
                        <a:moveTo>
                          <a:pt x="0" y="8"/>
                        </a:moveTo>
                        <a:lnTo>
                          <a:pt x="0" y="37"/>
                        </a:lnTo>
                        <a:lnTo>
                          <a:pt x="18" y="41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8334360" y="5290920"/>
                    <a:ext cx="1152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1">
                        <a:moveTo>
                          <a:pt x="0" y="8"/>
                        </a:moveTo>
                        <a:lnTo>
                          <a:pt x="0" y="37"/>
                        </a:lnTo>
                        <a:lnTo>
                          <a:pt x="18" y="41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4" name=""/>
                <p:cNvSpPr/>
                <p:nvPr/>
              </p:nvSpPr>
              <p:spPr>
                <a:xfrm>
                  <a:off x="8332920" y="5339160"/>
                  <a:ext cx="115200" cy="164160"/>
                </a:xfrm>
                <a:custGeom>
                  <a:avLst/>
                  <a:gdLst/>
                  <a:ahLst/>
                  <a:rect l="l" t="t" r="r" b="b"/>
                  <a:pathLst>
                    <a:path w="172" h="82">
                      <a:moveTo>
                        <a:pt x="0" y="0"/>
                      </a:moveTo>
                      <a:lnTo>
                        <a:pt x="172" y="65"/>
                      </a:lnTo>
                      <a:lnTo>
                        <a:pt x="172" y="82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8332920" y="5479920"/>
                  <a:ext cx="110160" cy="108720"/>
                </a:xfrm>
                <a:custGeom>
                  <a:avLst/>
                  <a:gdLst/>
                  <a:ahLst/>
                  <a:rect l="l" t="t" r="r" b="b"/>
                  <a:pathLst>
                    <a:path w="164" h="55">
                      <a:moveTo>
                        <a:pt x="0" y="0"/>
                      </a:moveTo>
                      <a:lnTo>
                        <a:pt x="164" y="37"/>
                      </a:lnTo>
                      <a:lnTo>
                        <a:pt x="164" y="55"/>
                      </a:lnTo>
                      <a:lnTo>
                        <a:pt x="0" y="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7938000" y="5113440"/>
                <a:ext cx="322920" cy="579240"/>
                <a:chOff x="7938000" y="5113440"/>
                <a:chExt cx="322920" cy="579240"/>
              </a:xfrm>
            </p:grpSpPr>
            <p:grpSp>
              <p:nvGrpSpPr>
                <p:cNvPr id="957" name=""/>
                <p:cNvGrpSpPr/>
                <p:nvPr/>
              </p:nvGrpSpPr>
              <p:grpSpPr>
                <a:xfrm>
                  <a:off x="8067960" y="5237640"/>
                  <a:ext cx="51840" cy="455040"/>
                  <a:chOff x="8067960" y="5237640"/>
                  <a:chExt cx="51840" cy="45504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8071920" y="5237640"/>
                    <a:ext cx="47880" cy="45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24">
                        <a:moveTo>
                          <a:pt x="73" y="19"/>
                        </a:moveTo>
                        <a:lnTo>
                          <a:pt x="34" y="0"/>
                        </a:lnTo>
                        <a:lnTo>
                          <a:pt x="29" y="0"/>
                        </a:lnTo>
                        <a:lnTo>
                          <a:pt x="21" y="1"/>
                        </a:lnTo>
                        <a:lnTo>
                          <a:pt x="7" y="13"/>
                        </a:lnTo>
                        <a:lnTo>
                          <a:pt x="0" y="9"/>
                        </a:lnTo>
                        <a:lnTo>
                          <a:pt x="0" y="223"/>
                        </a:lnTo>
                        <a:lnTo>
                          <a:pt x="11" y="214"/>
                        </a:lnTo>
                        <a:lnTo>
                          <a:pt x="20" y="214"/>
                        </a:lnTo>
                        <a:lnTo>
                          <a:pt x="20" y="224"/>
                        </a:lnTo>
                        <a:lnTo>
                          <a:pt x="29" y="224"/>
                        </a:lnTo>
                        <a:lnTo>
                          <a:pt x="35" y="219"/>
                        </a:lnTo>
                        <a:lnTo>
                          <a:pt x="35" y="30"/>
                        </a:lnTo>
                        <a:lnTo>
                          <a:pt x="73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8067960" y="5257440"/>
                    <a:ext cx="3960" cy="430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14">
                        <a:moveTo>
                          <a:pt x="6" y="0"/>
                        </a:moveTo>
                        <a:lnTo>
                          <a:pt x="6" y="214"/>
                        </a:lnTo>
                        <a:lnTo>
                          <a:pt x="0" y="214"/>
                        </a:lnTo>
                        <a:lnTo>
                          <a:pt x="0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8085240" y="5237640"/>
                    <a:ext cx="5040" cy="455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24">
                        <a:moveTo>
                          <a:pt x="0" y="1"/>
                        </a:moveTo>
                        <a:lnTo>
                          <a:pt x="9" y="0"/>
                        </a:lnTo>
                        <a:lnTo>
                          <a:pt x="9" y="224"/>
                        </a:lnTo>
                        <a:lnTo>
                          <a:pt x="0" y="224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8075880" y="5253840"/>
                    <a:ext cx="9360" cy="42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12">
                        <a:moveTo>
                          <a:pt x="0" y="212"/>
                        </a:moveTo>
                        <a:lnTo>
                          <a:pt x="0" y="11"/>
                        </a:lnTo>
                        <a:lnTo>
                          <a:pt x="13" y="0"/>
                        </a:lnTo>
                        <a:lnTo>
                          <a:pt x="13" y="212"/>
                        </a:lnTo>
                        <a:lnTo>
                          <a:pt x="0" y="2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8194320" y="5113440"/>
                  <a:ext cx="66600" cy="574560"/>
                  <a:chOff x="8194320" y="5113440"/>
                  <a:chExt cx="66600" cy="57456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>
                    <a:off x="8199720" y="5113440"/>
                    <a:ext cx="61200" cy="5745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285">
                        <a:moveTo>
                          <a:pt x="93" y="24"/>
                        </a:moveTo>
                        <a:lnTo>
                          <a:pt x="43" y="0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9" y="15"/>
                        </a:lnTo>
                        <a:lnTo>
                          <a:pt x="0" y="11"/>
                        </a:lnTo>
                        <a:lnTo>
                          <a:pt x="0" y="284"/>
                        </a:lnTo>
                        <a:lnTo>
                          <a:pt x="15" y="273"/>
                        </a:lnTo>
                        <a:lnTo>
                          <a:pt x="26" y="273"/>
                        </a:lnTo>
                        <a:lnTo>
                          <a:pt x="26" y="285"/>
                        </a:lnTo>
                        <a:lnTo>
                          <a:pt x="38" y="285"/>
                        </a:lnTo>
                        <a:lnTo>
                          <a:pt x="46" y="278"/>
                        </a:lnTo>
                        <a:lnTo>
                          <a:pt x="46" y="37"/>
                        </a:lnTo>
                        <a:lnTo>
                          <a:pt x="93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8194320" y="5136840"/>
                    <a:ext cx="5400" cy="547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74">
                        <a:moveTo>
                          <a:pt x="7" y="0"/>
                        </a:moveTo>
                        <a:lnTo>
                          <a:pt x="7" y="274"/>
                        </a:lnTo>
                        <a:lnTo>
                          <a:pt x="0" y="274"/>
                        </a:lnTo>
                        <a:lnTo>
                          <a:pt x="0" y="3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8217000" y="5113440"/>
                    <a:ext cx="6480" cy="57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85">
                        <a:moveTo>
                          <a:pt x="0" y="1"/>
                        </a:moveTo>
                        <a:lnTo>
                          <a:pt x="11" y="0"/>
                        </a:lnTo>
                        <a:lnTo>
                          <a:pt x="11" y="285"/>
                        </a:lnTo>
                        <a:lnTo>
                          <a:pt x="0" y="285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8204760" y="5128920"/>
                    <a:ext cx="1188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68">
                        <a:moveTo>
                          <a:pt x="0" y="268"/>
                        </a:moveTo>
                        <a:lnTo>
                          <a:pt x="0" y="12"/>
                        </a:lnTo>
                        <a:lnTo>
                          <a:pt x="17" y="0"/>
                        </a:lnTo>
                        <a:lnTo>
                          <a:pt x="17" y="268"/>
                        </a:lnTo>
                        <a:lnTo>
                          <a:pt x="0" y="2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7990200" y="5322600"/>
                  <a:ext cx="41040" cy="361800"/>
                  <a:chOff x="7990200" y="5322600"/>
                  <a:chExt cx="41040" cy="36180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7992360" y="5322600"/>
                    <a:ext cx="388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0">
                        <a:moveTo>
                          <a:pt x="58" y="16"/>
                        </a:moveTo>
                        <a:lnTo>
                          <a:pt x="27" y="0"/>
                        </a:lnTo>
                        <a:lnTo>
                          <a:pt x="23" y="0"/>
                        </a:lnTo>
                        <a:lnTo>
                          <a:pt x="16" y="1"/>
                        </a:lnTo>
                        <a:lnTo>
                          <a:pt x="6" y="11"/>
                        </a:lnTo>
                        <a:lnTo>
                          <a:pt x="0" y="8"/>
                        </a:lnTo>
                        <a:lnTo>
                          <a:pt x="0" y="179"/>
                        </a:lnTo>
                        <a:lnTo>
                          <a:pt x="9" y="173"/>
                        </a:lnTo>
                        <a:lnTo>
                          <a:pt x="16" y="173"/>
                        </a:lnTo>
                        <a:lnTo>
                          <a:pt x="16" y="180"/>
                        </a:lnTo>
                        <a:lnTo>
                          <a:pt x="23" y="180"/>
                        </a:lnTo>
                        <a:lnTo>
                          <a:pt x="28" y="175"/>
                        </a:lnTo>
                        <a:lnTo>
                          <a:pt x="28" y="25"/>
                        </a:lnTo>
                        <a:lnTo>
                          <a:pt x="58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7990200" y="5334120"/>
                    <a:ext cx="2160" cy="345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72">
                        <a:moveTo>
                          <a:pt x="4" y="0"/>
                        </a:moveTo>
                        <a:lnTo>
                          <a:pt x="4" y="172"/>
                        </a:lnTo>
                        <a:lnTo>
                          <a:pt x="0" y="172"/>
                        </a:lnTo>
                        <a:lnTo>
                          <a:pt x="0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8003520" y="5322600"/>
                    <a:ext cx="5040" cy="3571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79">
                        <a:moveTo>
                          <a:pt x="0" y="1"/>
                        </a:moveTo>
                        <a:lnTo>
                          <a:pt x="8" y="0"/>
                        </a:lnTo>
                        <a:lnTo>
                          <a:pt x="8" y="179"/>
                        </a:lnTo>
                        <a:lnTo>
                          <a:pt x="0" y="179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7996680" y="5330520"/>
                    <a:ext cx="6480" cy="3373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9">
                        <a:moveTo>
                          <a:pt x="0" y="169"/>
                        </a:moveTo>
                        <a:lnTo>
                          <a:pt x="0" y="8"/>
                        </a:lnTo>
                        <a:lnTo>
                          <a:pt x="9" y="0"/>
                        </a:lnTo>
                        <a:lnTo>
                          <a:pt x="9" y="169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7938000" y="5374440"/>
                  <a:ext cx="37080" cy="297720"/>
                  <a:chOff x="7938000" y="5374440"/>
                  <a:chExt cx="37080" cy="29772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7940160" y="5374440"/>
                    <a:ext cx="349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47">
                        <a:moveTo>
                          <a:pt x="51" y="12"/>
                        </a:move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4" y="2"/>
                        </a:lnTo>
                        <a:lnTo>
                          <a:pt x="5" y="8"/>
                        </a:lnTo>
                        <a:lnTo>
                          <a:pt x="0" y="7"/>
                        </a:lnTo>
                        <a:lnTo>
                          <a:pt x="0" y="147"/>
                        </a:lnTo>
                        <a:lnTo>
                          <a:pt x="7" y="142"/>
                        </a:lnTo>
                        <a:lnTo>
                          <a:pt x="14" y="142"/>
                        </a:lnTo>
                        <a:lnTo>
                          <a:pt x="14" y="147"/>
                        </a:lnTo>
                        <a:lnTo>
                          <a:pt x="20" y="147"/>
                        </a:lnTo>
                        <a:lnTo>
                          <a:pt x="24" y="144"/>
                        </a:lnTo>
                        <a:lnTo>
                          <a:pt x="24" y="20"/>
                        </a:lnTo>
                        <a:lnTo>
                          <a:pt x="51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7938000" y="5385960"/>
                    <a:ext cx="2160" cy="281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949880" y="5374440"/>
                    <a:ext cx="396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8">
                        <a:moveTo>
                          <a:pt x="0" y="2"/>
                        </a:moveTo>
                        <a:lnTo>
                          <a:pt x="6" y="0"/>
                        </a:lnTo>
                        <a:lnTo>
                          <a:pt x="6" y="148"/>
                        </a:lnTo>
                        <a:lnTo>
                          <a:pt x="0" y="148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7943040" y="5382360"/>
                    <a:ext cx="64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39">
                        <a:moveTo>
                          <a:pt x="0" y="139"/>
                        </a:moveTo>
                        <a:lnTo>
                          <a:pt x="0" y="8"/>
                        </a:lnTo>
                        <a:lnTo>
                          <a:pt x="9" y="0"/>
                        </a:lnTo>
                        <a:lnTo>
                          <a:pt x="9" y="139"/>
                        </a:lnTo>
                        <a:lnTo>
                          <a:pt x="0" y="1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77" name=""/>
          <p:cNvGrpSpPr/>
          <p:nvPr/>
        </p:nvGrpSpPr>
        <p:grpSpPr>
          <a:xfrm>
            <a:off x="7620120" y="5334120"/>
            <a:ext cx="234360" cy="196200"/>
            <a:chOff x="7620120" y="5334120"/>
            <a:chExt cx="234360" cy="196200"/>
          </a:xfrm>
        </p:grpSpPr>
        <p:sp>
          <p:nvSpPr>
            <p:cNvPr id="978" name=""/>
            <p:cNvSpPr/>
            <p:nvPr/>
          </p:nvSpPr>
          <p:spPr>
            <a:xfrm>
              <a:off x="7679880" y="5521680"/>
              <a:ext cx="5760" cy="86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833240" y="5502240"/>
              <a:ext cx="6840" cy="93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20120" y="5338080"/>
              <a:ext cx="38520" cy="183600"/>
            </a:xfrm>
            <a:custGeom>
              <a:avLst/>
              <a:gdLst/>
              <a:ahLst/>
              <a:rect l="l" t="t" r="r" b="b"/>
              <a:pathLst>
                <a:path w="53" h="258">
                  <a:moveTo>
                    <a:pt x="0" y="0"/>
                  </a:moveTo>
                  <a:lnTo>
                    <a:pt x="53" y="0"/>
                  </a:lnTo>
                  <a:lnTo>
                    <a:pt x="53" y="258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71600" y="5334120"/>
              <a:ext cx="174600" cy="15480"/>
            </a:xfrm>
            <a:custGeom>
              <a:avLst/>
              <a:gdLst/>
              <a:ahLst/>
              <a:rect l="l" t="t" r="r" b="b"/>
              <a:pathLst>
                <a:path w="243" h="22">
                  <a:moveTo>
                    <a:pt x="0" y="5"/>
                  </a:moveTo>
                  <a:lnTo>
                    <a:pt x="0" y="22"/>
                  </a:lnTo>
                  <a:lnTo>
                    <a:pt x="243" y="16"/>
                  </a:lnTo>
                  <a:lnTo>
                    <a:pt x="24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671600" y="5345640"/>
              <a:ext cx="174600" cy="154800"/>
            </a:xfrm>
            <a:custGeom>
              <a:avLst/>
              <a:gdLst/>
              <a:ahLst/>
              <a:rect l="l" t="t" r="r" b="b"/>
              <a:pathLst>
                <a:path w="243" h="218">
                  <a:moveTo>
                    <a:pt x="0" y="218"/>
                  </a:moveTo>
                  <a:lnTo>
                    <a:pt x="243" y="189"/>
                  </a:lnTo>
                  <a:lnTo>
                    <a:pt x="243" y="0"/>
                  </a:lnTo>
                  <a:lnTo>
                    <a:pt x="0" y="6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e0e0e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674120" y="5358240"/>
              <a:ext cx="5760" cy="126720"/>
            </a:xfrm>
            <a:custGeom>
              <a:avLst/>
              <a:gdLst/>
              <a:ahLst/>
              <a:rect l="l" t="t" r="r" b="b"/>
              <a:pathLst>
                <a:path w="9" h="179">
                  <a:moveTo>
                    <a:pt x="9" y="0"/>
                  </a:moveTo>
                  <a:lnTo>
                    <a:pt x="0" y="1"/>
                  </a:lnTo>
                  <a:lnTo>
                    <a:pt x="0" y="179"/>
                  </a:lnTo>
                  <a:lnTo>
                    <a:pt x="9" y="17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88520" y="5358240"/>
              <a:ext cx="5760" cy="124920"/>
            </a:xfrm>
            <a:custGeom>
              <a:avLst/>
              <a:gdLst/>
              <a:ahLst/>
              <a:rect l="l" t="t" r="r" b="b"/>
              <a:pathLst>
                <a:path w="9" h="176">
                  <a:moveTo>
                    <a:pt x="9" y="0"/>
                  </a:moveTo>
                  <a:lnTo>
                    <a:pt x="0" y="0"/>
                  </a:lnTo>
                  <a:lnTo>
                    <a:pt x="0" y="176"/>
                  </a:lnTo>
                  <a:lnTo>
                    <a:pt x="9" y="17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701480" y="5356800"/>
              <a:ext cx="6840" cy="12492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714440" y="5356800"/>
              <a:ext cx="6840" cy="123480"/>
            </a:xfrm>
            <a:custGeom>
              <a:avLst/>
              <a:gdLst/>
              <a:ahLst/>
              <a:rect l="l" t="t" r="r" b="b"/>
              <a:pathLst>
                <a:path w="9" h="173">
                  <a:moveTo>
                    <a:pt x="9" y="0"/>
                  </a:moveTo>
                  <a:lnTo>
                    <a:pt x="0" y="0"/>
                  </a:lnTo>
                  <a:lnTo>
                    <a:pt x="0" y="173"/>
                  </a:lnTo>
                  <a:lnTo>
                    <a:pt x="9" y="17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727400" y="5356800"/>
              <a:ext cx="6840" cy="122040"/>
            </a:xfrm>
            <a:custGeom>
              <a:avLst/>
              <a:gdLst/>
              <a:ahLst/>
              <a:rect l="l" t="t" r="r" b="b"/>
              <a:pathLst>
                <a:path w="9" h="173">
                  <a:moveTo>
                    <a:pt x="9" y="0"/>
                  </a:moveTo>
                  <a:lnTo>
                    <a:pt x="0" y="0"/>
                  </a:lnTo>
                  <a:lnTo>
                    <a:pt x="0" y="173"/>
                  </a:lnTo>
                  <a:lnTo>
                    <a:pt x="9" y="17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741800" y="5355360"/>
              <a:ext cx="5400" cy="122400"/>
            </a:xfrm>
            <a:custGeom>
              <a:avLst/>
              <a:gdLst/>
              <a:ahLst/>
              <a:rect l="l" t="t" r="r" b="b"/>
              <a:pathLst>
                <a:path w="9" h="171">
                  <a:moveTo>
                    <a:pt x="9" y="0"/>
                  </a:moveTo>
                  <a:lnTo>
                    <a:pt x="0" y="1"/>
                  </a:lnTo>
                  <a:lnTo>
                    <a:pt x="0" y="171"/>
                  </a:lnTo>
                  <a:lnTo>
                    <a:pt x="9" y="17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754400" y="5355360"/>
              <a:ext cx="6840" cy="120960"/>
            </a:xfrm>
            <a:custGeom>
              <a:avLst/>
              <a:gdLst/>
              <a:ahLst/>
              <a:rect l="l" t="t" r="r" b="b"/>
              <a:pathLst>
                <a:path w="10" h="170">
                  <a:moveTo>
                    <a:pt x="10" y="0"/>
                  </a:moveTo>
                  <a:lnTo>
                    <a:pt x="0" y="0"/>
                  </a:lnTo>
                  <a:lnTo>
                    <a:pt x="0" y="170"/>
                  </a:lnTo>
                  <a:lnTo>
                    <a:pt x="9" y="16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765920" y="5355360"/>
              <a:ext cx="6840" cy="119520"/>
            </a:xfrm>
            <a:custGeom>
              <a:avLst/>
              <a:gdLst/>
              <a:ahLst/>
              <a:rect l="l" t="t" r="r" b="b"/>
              <a:pathLst>
                <a:path w="9" h="167">
                  <a:moveTo>
                    <a:pt x="9" y="0"/>
                  </a:moveTo>
                  <a:lnTo>
                    <a:pt x="0" y="0"/>
                  </a:lnTo>
                  <a:lnTo>
                    <a:pt x="0" y="167"/>
                  </a:lnTo>
                  <a:lnTo>
                    <a:pt x="9" y="16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777440" y="5353920"/>
              <a:ext cx="6840" cy="119160"/>
            </a:xfrm>
            <a:custGeom>
              <a:avLst/>
              <a:gdLst/>
              <a:ahLst/>
              <a:rect l="l" t="t" r="r" b="b"/>
              <a:pathLst>
                <a:path w="11" h="167">
                  <a:moveTo>
                    <a:pt x="11" y="0"/>
                  </a:moveTo>
                  <a:lnTo>
                    <a:pt x="0" y="1"/>
                  </a:lnTo>
                  <a:lnTo>
                    <a:pt x="0" y="167"/>
                  </a:lnTo>
                  <a:lnTo>
                    <a:pt x="10" y="16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797600" y="5353920"/>
              <a:ext cx="6840" cy="116640"/>
            </a:xfrm>
            <a:custGeom>
              <a:avLst/>
              <a:gdLst/>
              <a:ahLst/>
              <a:rect l="l" t="t" r="r" b="b"/>
              <a:pathLst>
                <a:path w="9" h="165">
                  <a:moveTo>
                    <a:pt x="9" y="0"/>
                  </a:moveTo>
                  <a:lnTo>
                    <a:pt x="0" y="2"/>
                  </a:lnTo>
                  <a:lnTo>
                    <a:pt x="0" y="165"/>
                  </a:lnTo>
                  <a:lnTo>
                    <a:pt x="8" y="16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812000" y="5353920"/>
              <a:ext cx="5400" cy="115200"/>
            </a:xfrm>
            <a:custGeom>
              <a:avLst/>
              <a:gdLst/>
              <a:ahLst/>
              <a:rect l="l" t="t" r="r" b="b"/>
              <a:pathLst>
                <a:path w="9" h="162">
                  <a:moveTo>
                    <a:pt x="9" y="0"/>
                  </a:moveTo>
                  <a:lnTo>
                    <a:pt x="0" y="0"/>
                  </a:lnTo>
                  <a:lnTo>
                    <a:pt x="0" y="162"/>
                  </a:lnTo>
                  <a:lnTo>
                    <a:pt x="9" y="16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658640" y="5338080"/>
              <a:ext cx="12960" cy="192240"/>
            </a:xfrm>
            <a:custGeom>
              <a:avLst/>
              <a:gdLst/>
              <a:ahLst/>
              <a:rect l="l" t="t" r="r" b="b"/>
              <a:pathLst>
                <a:path w="18" h="270">
                  <a:moveTo>
                    <a:pt x="18" y="0"/>
                  </a:moveTo>
                  <a:lnTo>
                    <a:pt x="0" y="0"/>
                  </a:lnTo>
                  <a:lnTo>
                    <a:pt x="0" y="270"/>
                  </a:lnTo>
                  <a:lnTo>
                    <a:pt x="18" y="26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71600" y="5479200"/>
              <a:ext cx="174600" cy="48240"/>
            </a:xfrm>
            <a:custGeom>
              <a:avLst/>
              <a:gdLst/>
              <a:ahLst/>
              <a:rect l="l" t="t" r="r" b="b"/>
              <a:pathLst>
                <a:path w="243" h="67">
                  <a:moveTo>
                    <a:pt x="0" y="67"/>
                  </a:moveTo>
                  <a:lnTo>
                    <a:pt x="243" y="36"/>
                  </a:lnTo>
                  <a:lnTo>
                    <a:pt x="243" y="0"/>
                  </a:lnTo>
                  <a:lnTo>
                    <a:pt x="0" y="29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82760" y="5349600"/>
              <a:ext cx="1080" cy="1476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698600" y="5348160"/>
              <a:ext cx="1440" cy="1479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711560" y="5349600"/>
              <a:ext cx="1080" cy="1465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724520" y="5348160"/>
              <a:ext cx="1080" cy="145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738920" y="5348160"/>
              <a:ext cx="1080" cy="143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750080" y="5348160"/>
              <a:ext cx="1440" cy="142200"/>
            </a:xfrm>
            <a:custGeom>
              <a:avLst/>
              <a:gdLst/>
              <a:ahLst/>
              <a:rect l="l" t="t" r="r" b="b"/>
              <a:pathLst>
                <a:path w="0" h="199">
                  <a:moveTo>
                    <a:pt x="0" y="0"/>
                  </a:moveTo>
                  <a:lnTo>
                    <a:pt x="0" y="198"/>
                  </a:lnTo>
                  <a:lnTo>
                    <a:pt x="0" y="199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763040" y="5348160"/>
              <a:ext cx="1080" cy="1422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74560" y="5346720"/>
              <a:ext cx="1080" cy="1404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785720" y="5346720"/>
              <a:ext cx="1440" cy="1393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788960" y="5353920"/>
              <a:ext cx="6840" cy="127800"/>
            </a:xfrm>
            <a:custGeom>
              <a:avLst/>
              <a:gdLst/>
              <a:ahLst/>
              <a:rect l="l" t="t" r="r" b="b"/>
              <a:pathLst>
                <a:path w="10" h="179">
                  <a:moveTo>
                    <a:pt x="0" y="0"/>
                  </a:moveTo>
                  <a:lnTo>
                    <a:pt x="10" y="0"/>
                  </a:lnTo>
                  <a:lnTo>
                    <a:pt x="10" y="177"/>
                  </a:lnTo>
                  <a:lnTo>
                    <a:pt x="0" y="1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805880" y="5346720"/>
              <a:ext cx="1080" cy="137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822080" y="5345640"/>
              <a:ext cx="1080" cy="136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827480" y="5456160"/>
              <a:ext cx="9720" cy="7200"/>
            </a:xfrm>
            <a:prstGeom prst="rect">
              <a:avLst/>
            </a:prstGeom>
            <a:solidFill>
              <a:srgbClr val="40404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828920" y="5409360"/>
              <a:ext cx="9720" cy="9720"/>
            </a:xfrm>
            <a:prstGeom prst="ellipse">
              <a:avLst/>
            </a:prstGeom>
            <a:solidFill>
              <a:srgbClr val="40404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846200" y="5334120"/>
              <a:ext cx="8280" cy="1720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13" y="0"/>
                  </a:moveTo>
                  <a:lnTo>
                    <a:pt x="0" y="0"/>
                  </a:lnTo>
                  <a:lnTo>
                    <a:pt x="0" y="241"/>
                  </a:lnTo>
                  <a:lnTo>
                    <a:pt x="13" y="24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827480" y="5470920"/>
              <a:ext cx="15840" cy="25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7" y="4"/>
                  </a:lnTo>
                  <a:lnTo>
                    <a:pt x="24" y="1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826040" y="5402520"/>
              <a:ext cx="14040" cy="57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1"/>
                  </a:moveTo>
                  <a:lnTo>
                    <a:pt x="21" y="0"/>
                  </a:lnTo>
                  <a:lnTo>
                    <a:pt x="21" y="8"/>
                  </a:lnTo>
                  <a:lnTo>
                    <a:pt x="0" y="8"/>
                  </a:lnTo>
                  <a:lnTo>
                    <a:pt x="0" y="1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688520" y="5408280"/>
              <a:ext cx="4320" cy="66600"/>
            </a:xfrm>
            <a:prstGeom prst="rect">
              <a:avLst/>
            </a:prstGeom>
            <a:solidFill>
              <a:srgbClr val="40404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02920" y="5406480"/>
              <a:ext cx="3960" cy="68400"/>
            </a:xfrm>
            <a:custGeom>
              <a:avLst/>
              <a:gdLst/>
              <a:ahLst/>
              <a:rect l="l" t="t" r="r" b="b"/>
              <a:pathLst>
                <a:path w="6" h="94">
                  <a:moveTo>
                    <a:pt x="5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6" y="9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715880" y="5406480"/>
              <a:ext cx="3960" cy="65520"/>
            </a:xfrm>
            <a:custGeom>
              <a:avLst/>
              <a:gdLst/>
              <a:ahLst/>
              <a:rect l="l" t="t" r="r" b="b"/>
              <a:pathLst>
                <a:path w="5" h="94">
                  <a:moveTo>
                    <a:pt x="5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5" y="9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729920" y="5405400"/>
              <a:ext cx="2880" cy="65520"/>
            </a:xfrm>
            <a:prstGeom prst="rect">
              <a:avLst/>
            </a:prstGeom>
            <a:solidFill>
              <a:srgbClr val="40404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741800" y="5405400"/>
              <a:ext cx="3960" cy="63720"/>
            </a:xfrm>
            <a:prstGeom prst="rect">
              <a:avLst/>
            </a:prstGeom>
            <a:solidFill>
              <a:srgbClr val="40404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754400" y="5403600"/>
              <a:ext cx="4320" cy="65520"/>
            </a:xfrm>
            <a:custGeom>
              <a:avLst/>
              <a:gdLst/>
              <a:ahLst/>
              <a:rect l="l" t="t" r="r" b="b"/>
              <a:pathLst>
                <a:path w="7" h="90">
                  <a:moveTo>
                    <a:pt x="7" y="0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" y="8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67360" y="5402520"/>
              <a:ext cx="3960" cy="65520"/>
            </a:xfrm>
            <a:custGeom>
              <a:avLst/>
              <a:gdLst/>
              <a:ahLst/>
              <a:rect l="l" t="t" r="r" b="b"/>
              <a:pathLst>
                <a:path w="7" h="92">
                  <a:moveTo>
                    <a:pt x="7" y="0"/>
                  </a:moveTo>
                  <a:lnTo>
                    <a:pt x="0" y="0"/>
                  </a:lnTo>
                  <a:lnTo>
                    <a:pt x="0" y="92"/>
                  </a:lnTo>
                  <a:lnTo>
                    <a:pt x="7" y="9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777440" y="5402520"/>
              <a:ext cx="5760" cy="63720"/>
            </a:xfrm>
            <a:prstGeom prst="rect">
              <a:avLst/>
            </a:prstGeom>
            <a:solidFill>
              <a:srgbClr val="40404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797600" y="5400720"/>
              <a:ext cx="3960" cy="62640"/>
            </a:xfrm>
            <a:custGeom>
              <a:avLst/>
              <a:gdLst/>
              <a:ahLst/>
              <a:rect l="l" t="t" r="r" b="b"/>
              <a:pathLst>
                <a:path w="6" h="90">
                  <a:moveTo>
                    <a:pt x="6" y="0"/>
                  </a:moveTo>
                  <a:lnTo>
                    <a:pt x="1" y="0"/>
                  </a:lnTo>
                  <a:lnTo>
                    <a:pt x="0" y="90"/>
                  </a:lnTo>
                  <a:lnTo>
                    <a:pt x="6" y="9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812000" y="5399640"/>
              <a:ext cx="5400" cy="64080"/>
            </a:xfrm>
            <a:custGeom>
              <a:avLst/>
              <a:gdLst/>
              <a:ahLst/>
              <a:rect l="l" t="t" r="r" b="b"/>
              <a:pathLst>
                <a:path w="6" h="90">
                  <a:moveTo>
                    <a:pt x="6" y="0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5" y="8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837560" y="5486400"/>
              <a:ext cx="5760" cy="1116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1" y="0"/>
                  </a:moveTo>
                  <a:lnTo>
                    <a:pt x="9" y="3"/>
                  </a:lnTo>
                  <a:lnTo>
                    <a:pt x="9" y="17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"/>
            <p:cNvGrpSpPr/>
            <p:nvPr/>
          </p:nvGrpSpPr>
          <p:grpSpPr>
            <a:xfrm>
              <a:off x="7661520" y="5343840"/>
              <a:ext cx="5400" cy="178920"/>
              <a:chOff x="7661520" y="5343840"/>
              <a:chExt cx="5400" cy="178920"/>
            </a:xfrm>
          </p:grpSpPr>
          <p:sp>
            <p:nvSpPr>
              <p:cNvPr id="1025" name=""/>
              <p:cNvSpPr/>
              <p:nvPr/>
            </p:nvSpPr>
            <p:spPr>
              <a:xfrm>
                <a:off x="7661520" y="5477400"/>
                <a:ext cx="540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661520" y="5502960"/>
                <a:ext cx="540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661520" y="5511240"/>
                <a:ext cx="5400" cy="43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61520" y="5518800"/>
                <a:ext cx="540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661520" y="5382000"/>
                <a:ext cx="540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61520" y="5360760"/>
                <a:ext cx="5400" cy="28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61520" y="5352480"/>
                <a:ext cx="540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661520" y="5343840"/>
                <a:ext cx="5400" cy="28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7848720" y="5337000"/>
              <a:ext cx="4320" cy="163440"/>
              <a:chOff x="7848720" y="5337000"/>
              <a:chExt cx="4320" cy="163440"/>
            </a:xfrm>
          </p:grpSpPr>
          <p:sp>
            <p:nvSpPr>
              <p:cNvPr id="1034" name=""/>
              <p:cNvSpPr/>
              <p:nvPr/>
            </p:nvSpPr>
            <p:spPr>
              <a:xfrm>
                <a:off x="7848720" y="5459040"/>
                <a:ext cx="4320" cy="43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848720" y="5483160"/>
                <a:ext cx="432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848720" y="5490360"/>
                <a:ext cx="4320" cy="43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48720" y="5497560"/>
                <a:ext cx="4320" cy="28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848720" y="5372280"/>
                <a:ext cx="4320" cy="43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848720" y="5352480"/>
                <a:ext cx="432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848720" y="5345640"/>
                <a:ext cx="4320" cy="25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848720" y="5337000"/>
                <a:ext cx="432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7674120" y="5375160"/>
              <a:ext cx="6840" cy="21240"/>
              <a:chOff x="7674120" y="5375160"/>
              <a:chExt cx="6840" cy="21240"/>
            </a:xfrm>
          </p:grpSpPr>
          <p:sp>
            <p:nvSpPr>
              <p:cNvPr id="1043" name=""/>
              <p:cNvSpPr/>
              <p:nvPr/>
            </p:nvSpPr>
            <p:spPr>
              <a:xfrm>
                <a:off x="7674120" y="5380920"/>
                <a:ext cx="5400" cy="15120"/>
              </a:xfrm>
              <a:prstGeom prst="rect">
                <a:avLst/>
              </a:prstGeom>
              <a:solidFill>
                <a:srgbClr val="60606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674120" y="537516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0" y="28"/>
                    </a:lnTo>
                    <a:lnTo>
                      <a:pt x="4" y="29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28"/>
                    </a:lnTo>
                    <a:lnTo>
                      <a:pt x="10" y="29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9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7688520" y="5359680"/>
              <a:ext cx="4320" cy="46800"/>
              <a:chOff x="7688520" y="5359680"/>
              <a:chExt cx="4320" cy="46800"/>
            </a:xfrm>
          </p:grpSpPr>
          <p:sp>
            <p:nvSpPr>
              <p:cNvPr id="1046" name=""/>
              <p:cNvSpPr/>
              <p:nvPr/>
            </p:nvSpPr>
            <p:spPr>
              <a:xfrm>
                <a:off x="7689960" y="5359680"/>
                <a:ext cx="2520" cy="46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688520" y="5360760"/>
                <a:ext cx="43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688520" y="536364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688520" y="5366520"/>
                <a:ext cx="432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688520" y="5370840"/>
                <a:ext cx="43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688520" y="5375160"/>
                <a:ext cx="432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688520" y="5378040"/>
                <a:ext cx="43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688520" y="538092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688520" y="5384880"/>
                <a:ext cx="43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688520" y="538776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88520" y="5391000"/>
                <a:ext cx="432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688520" y="5394960"/>
                <a:ext cx="43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688520" y="5397840"/>
                <a:ext cx="432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88520" y="540036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7702920" y="5359680"/>
              <a:ext cx="3960" cy="45360"/>
              <a:chOff x="7702920" y="5359680"/>
              <a:chExt cx="3960" cy="45360"/>
            </a:xfrm>
          </p:grpSpPr>
          <p:sp>
            <p:nvSpPr>
              <p:cNvPr id="1061" name=""/>
              <p:cNvSpPr/>
              <p:nvPr/>
            </p:nvSpPr>
            <p:spPr>
              <a:xfrm>
                <a:off x="7704000" y="5359680"/>
                <a:ext cx="2520" cy="453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702920" y="5359680"/>
                <a:ext cx="396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702920" y="536364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702920" y="5366520"/>
                <a:ext cx="396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702920" y="536904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702920" y="537372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702920" y="537768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02920" y="538092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702920" y="538488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702920" y="538776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702920" y="5390640"/>
                <a:ext cx="396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702920" y="539496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02920" y="539784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702920" y="540036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7715880" y="5358240"/>
              <a:ext cx="3960" cy="45360"/>
              <a:chOff x="7715880" y="5358240"/>
              <a:chExt cx="3960" cy="45360"/>
            </a:xfrm>
          </p:grpSpPr>
          <p:sp>
            <p:nvSpPr>
              <p:cNvPr id="1076" name=""/>
              <p:cNvSpPr/>
              <p:nvPr/>
            </p:nvSpPr>
            <p:spPr>
              <a:xfrm>
                <a:off x="7717320" y="5358240"/>
                <a:ext cx="2160" cy="453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715880" y="5359680"/>
                <a:ext cx="396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715880" y="536220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715880" y="536688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715880" y="536940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715880" y="537228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715880" y="537660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715880" y="537948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715880" y="538380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715880" y="538632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715880" y="539100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715880" y="539352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715880" y="539640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715880" y="540072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7728840" y="5358240"/>
              <a:ext cx="3960" cy="45360"/>
              <a:chOff x="7728840" y="5358240"/>
              <a:chExt cx="3960" cy="45360"/>
            </a:xfrm>
          </p:grpSpPr>
          <p:sp>
            <p:nvSpPr>
              <p:cNvPr id="1091" name=""/>
              <p:cNvSpPr/>
              <p:nvPr/>
            </p:nvSpPr>
            <p:spPr>
              <a:xfrm>
                <a:off x="7729920" y="5358240"/>
                <a:ext cx="2520" cy="453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728840" y="535968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728840" y="536220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728840" y="536508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728840" y="536940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728840" y="537228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728840" y="537660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728840" y="537948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728840" y="538236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728840" y="538632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728840" y="538920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728840" y="539352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728840" y="539640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728840" y="539928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7741800" y="5358240"/>
              <a:ext cx="3960" cy="45360"/>
              <a:chOff x="7741800" y="5358240"/>
              <a:chExt cx="3960" cy="45360"/>
            </a:xfrm>
          </p:grpSpPr>
          <p:sp>
            <p:nvSpPr>
              <p:cNvPr id="1106" name=""/>
              <p:cNvSpPr/>
              <p:nvPr/>
            </p:nvSpPr>
            <p:spPr>
              <a:xfrm>
                <a:off x="7742880" y="5358240"/>
                <a:ext cx="2520" cy="453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741800" y="535968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741800" y="536220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741800" y="536508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741800" y="536940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741800" y="537228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741800" y="537516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741800" y="537948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741800" y="538236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741800" y="538632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741800" y="538920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741800" y="539352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741800" y="539640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741800" y="539928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7754400" y="5356800"/>
              <a:ext cx="4320" cy="46800"/>
              <a:chOff x="7754400" y="5356800"/>
              <a:chExt cx="4320" cy="46800"/>
            </a:xfrm>
          </p:grpSpPr>
          <p:sp>
            <p:nvSpPr>
              <p:cNvPr id="1121" name=""/>
              <p:cNvSpPr/>
              <p:nvPr/>
            </p:nvSpPr>
            <p:spPr>
              <a:xfrm>
                <a:off x="7755840" y="5356800"/>
                <a:ext cx="2520" cy="46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754400" y="5357880"/>
                <a:ext cx="432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754400" y="5362200"/>
                <a:ext cx="432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754400" y="536364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754400" y="5367960"/>
                <a:ext cx="43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54400" y="5372280"/>
                <a:ext cx="432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54400" y="537516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754400" y="537804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754400" y="5382000"/>
                <a:ext cx="432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754400" y="538488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754400" y="538812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754400" y="5392080"/>
                <a:ext cx="43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754400" y="5396400"/>
                <a:ext cx="432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754400" y="5397840"/>
                <a:ext cx="432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7767360" y="5356800"/>
              <a:ext cx="3960" cy="43560"/>
              <a:chOff x="7767360" y="5356800"/>
              <a:chExt cx="3960" cy="43560"/>
            </a:xfrm>
          </p:grpSpPr>
          <p:sp>
            <p:nvSpPr>
              <p:cNvPr id="1136" name=""/>
              <p:cNvSpPr/>
              <p:nvPr/>
            </p:nvSpPr>
            <p:spPr>
              <a:xfrm>
                <a:off x="7767360" y="5356800"/>
                <a:ext cx="3960" cy="43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767360" y="535680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767360" y="5360760"/>
                <a:ext cx="25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767360" y="536364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767360" y="5366520"/>
                <a:ext cx="396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767360" y="537084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767360" y="5373720"/>
                <a:ext cx="25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767360" y="537768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767360" y="538056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767360" y="538488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767360" y="538776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767360" y="5390640"/>
                <a:ext cx="252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767360" y="5393160"/>
                <a:ext cx="25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767360" y="5397480"/>
                <a:ext cx="25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7778880" y="5356800"/>
              <a:ext cx="4320" cy="43560"/>
              <a:chOff x="7778880" y="5356800"/>
              <a:chExt cx="4320" cy="43560"/>
            </a:xfrm>
          </p:grpSpPr>
          <p:sp>
            <p:nvSpPr>
              <p:cNvPr id="1151" name=""/>
              <p:cNvSpPr/>
              <p:nvPr/>
            </p:nvSpPr>
            <p:spPr>
              <a:xfrm>
                <a:off x="7780320" y="5356800"/>
                <a:ext cx="2520" cy="43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778880" y="535680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778880" y="5360760"/>
                <a:ext cx="43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778880" y="536364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78880" y="5366520"/>
                <a:ext cx="432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778880" y="536904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778880" y="5373720"/>
                <a:ext cx="43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778880" y="5377680"/>
                <a:ext cx="43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778880" y="5380560"/>
                <a:ext cx="43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778880" y="5383440"/>
                <a:ext cx="43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778880" y="538596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778880" y="5390640"/>
                <a:ext cx="43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778880" y="5393160"/>
                <a:ext cx="43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778880" y="5396040"/>
                <a:ext cx="432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7798680" y="5356800"/>
              <a:ext cx="3960" cy="43560"/>
              <a:chOff x="7798680" y="5356800"/>
              <a:chExt cx="3960" cy="43560"/>
            </a:xfrm>
          </p:grpSpPr>
          <p:sp>
            <p:nvSpPr>
              <p:cNvPr id="1166" name=""/>
              <p:cNvSpPr/>
              <p:nvPr/>
            </p:nvSpPr>
            <p:spPr>
              <a:xfrm>
                <a:off x="7798680" y="5356800"/>
                <a:ext cx="3960" cy="43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798680" y="5356800"/>
                <a:ext cx="25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798680" y="5359680"/>
                <a:ext cx="252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798680" y="5363640"/>
                <a:ext cx="25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798680" y="5366520"/>
                <a:ext cx="252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798680" y="5369040"/>
                <a:ext cx="25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798680" y="5373720"/>
                <a:ext cx="25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798680" y="5376600"/>
                <a:ext cx="25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98680" y="5379120"/>
                <a:ext cx="25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98680" y="5383440"/>
                <a:ext cx="252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98680" y="5385960"/>
                <a:ext cx="252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798680" y="5388840"/>
                <a:ext cx="252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798680" y="5393160"/>
                <a:ext cx="252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798680" y="5396040"/>
                <a:ext cx="252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7812000" y="5353920"/>
              <a:ext cx="5040" cy="43920"/>
              <a:chOff x="7812000" y="5353920"/>
              <a:chExt cx="5040" cy="43920"/>
            </a:xfrm>
          </p:grpSpPr>
          <p:sp>
            <p:nvSpPr>
              <p:cNvPr id="1181" name=""/>
              <p:cNvSpPr/>
              <p:nvPr/>
            </p:nvSpPr>
            <p:spPr>
              <a:xfrm>
                <a:off x="7813080" y="5353920"/>
                <a:ext cx="3960" cy="43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812000" y="535500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812000" y="535968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812000" y="536220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812000" y="536508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812000" y="536796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812000" y="537192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812000" y="537480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812000" y="537912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812000" y="5382000"/>
                <a:ext cx="396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812000" y="538488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12000" y="5387760"/>
                <a:ext cx="3960" cy="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812000" y="539208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812000" y="5394960"/>
                <a:ext cx="3960" cy="1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7827480" y="5422320"/>
              <a:ext cx="12960" cy="9720"/>
              <a:chOff x="7827480" y="5422320"/>
              <a:chExt cx="12960" cy="9720"/>
            </a:xfrm>
          </p:grpSpPr>
          <p:sp>
            <p:nvSpPr>
              <p:cNvPr id="1196" name=""/>
              <p:cNvSpPr/>
              <p:nvPr/>
            </p:nvSpPr>
            <p:spPr>
              <a:xfrm>
                <a:off x="7827480" y="542232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16" y="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830360" y="5422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0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12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833240" y="5424840"/>
                <a:ext cx="2880" cy="25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33240" y="5427360"/>
                <a:ext cx="2880" cy="25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675920" y="5472000"/>
              <a:ext cx="141120" cy="24840"/>
              <a:chOff x="7675920" y="5472000"/>
              <a:chExt cx="141120" cy="24840"/>
            </a:xfrm>
          </p:grpSpPr>
          <p:sp>
            <p:nvSpPr>
              <p:cNvPr id="1201" name=""/>
              <p:cNvSpPr/>
              <p:nvPr/>
            </p:nvSpPr>
            <p:spPr>
              <a:xfrm>
                <a:off x="7813080" y="547200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5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5" y="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798680" y="547308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3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3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778520" y="54745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767360" y="547596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0"/>
                    </a:moveTo>
                    <a:lnTo>
                      <a:pt x="0" y="1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755840" y="54774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4" y="0"/>
                    </a:moveTo>
                    <a:lnTo>
                      <a:pt x="0" y="2"/>
                    </a:lnTo>
                    <a:lnTo>
                      <a:pt x="0" y="15"/>
                    </a:lnTo>
                    <a:lnTo>
                      <a:pt x="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742880" y="547884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0"/>
                    </a:moveTo>
                    <a:lnTo>
                      <a:pt x="0" y="1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729920" y="54817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4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717320" y="548172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0"/>
                    </a:moveTo>
                    <a:lnTo>
                      <a:pt x="0" y="1"/>
                    </a:lnTo>
                    <a:lnTo>
                      <a:pt x="0" y="14"/>
                    </a:lnTo>
                    <a:lnTo>
                      <a:pt x="6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702920" y="548460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5" y="0"/>
                    </a:moveTo>
                    <a:lnTo>
                      <a:pt x="0" y="2"/>
                    </a:lnTo>
                    <a:lnTo>
                      <a:pt x="0" y="15"/>
                    </a:lnTo>
                    <a:lnTo>
                      <a:pt x="5" y="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689960" y="5486040"/>
                <a:ext cx="288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75920" y="548712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6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7678800" y="5482080"/>
              <a:ext cx="156960" cy="42120"/>
              <a:chOff x="7678800" y="5482080"/>
              <a:chExt cx="156960" cy="42120"/>
            </a:xfrm>
          </p:grpSpPr>
          <p:sp>
            <p:nvSpPr>
              <p:cNvPr id="1213" name=""/>
              <p:cNvSpPr/>
              <p:nvPr/>
            </p:nvSpPr>
            <p:spPr>
              <a:xfrm>
                <a:off x="7679880" y="5487480"/>
                <a:ext cx="155880" cy="28440"/>
              </a:xfrm>
              <a:custGeom>
                <a:avLst/>
                <a:gdLst/>
                <a:ahLst/>
                <a:rect l="l" t="t" r="r" b="b"/>
                <a:pathLst>
                  <a:path w="216" h="42">
                    <a:moveTo>
                      <a:pt x="0" y="26"/>
                    </a:moveTo>
                    <a:lnTo>
                      <a:pt x="0" y="42"/>
                    </a:lnTo>
                    <a:lnTo>
                      <a:pt x="216" y="15"/>
                    </a:lnTo>
                    <a:lnTo>
                      <a:pt x="216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685640" y="5500440"/>
                <a:ext cx="252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691400" y="5500440"/>
                <a:ext cx="144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695720" y="5500440"/>
                <a:ext cx="252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701480" y="5497200"/>
                <a:ext cx="2880" cy="22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707240" y="5499000"/>
                <a:ext cx="28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714440" y="5497200"/>
                <a:ext cx="288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719840" y="5496120"/>
                <a:ext cx="2880" cy="22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725600" y="5496120"/>
                <a:ext cx="288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731360" y="5496120"/>
                <a:ext cx="288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737120" y="5493240"/>
                <a:ext cx="288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742880" y="5494680"/>
                <a:ext cx="288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748640" y="5493240"/>
                <a:ext cx="288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754040" y="5493240"/>
                <a:ext cx="288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758720" y="5491800"/>
                <a:ext cx="252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764120" y="5493240"/>
                <a:ext cx="2880" cy="19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770240" y="5490360"/>
                <a:ext cx="288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777080" y="5490360"/>
                <a:ext cx="288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783200" y="5488920"/>
                <a:ext cx="252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787160" y="5488920"/>
                <a:ext cx="28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792920" y="5488920"/>
                <a:ext cx="288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798680" y="5487480"/>
                <a:ext cx="288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804440" y="5487480"/>
                <a:ext cx="108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808760" y="5487480"/>
                <a:ext cx="2880" cy="2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814520" y="5486040"/>
                <a:ext cx="2520" cy="22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818840" y="5484960"/>
                <a:ext cx="28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824240" y="5482080"/>
                <a:ext cx="28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828920" y="5483160"/>
                <a:ext cx="2520" cy="22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832880" y="5482080"/>
                <a:ext cx="28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678800" y="5501880"/>
                <a:ext cx="39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3" name=""/>
            <p:cNvSpPr/>
            <p:nvPr/>
          </p:nvSpPr>
          <p:spPr>
            <a:xfrm>
              <a:off x="7679880" y="5506200"/>
              <a:ext cx="5760" cy="126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1" y="0"/>
                  </a:moveTo>
                  <a:lnTo>
                    <a:pt x="7" y="3"/>
                  </a:lnTo>
                  <a:lnTo>
                    <a:pt x="7" y="18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7673040" y="5353920"/>
              <a:ext cx="5760" cy="3960"/>
              <a:chOff x="7673040" y="5353920"/>
              <a:chExt cx="5760" cy="3960"/>
            </a:xfrm>
          </p:grpSpPr>
          <p:sp>
            <p:nvSpPr>
              <p:cNvPr id="1245" name=""/>
              <p:cNvSpPr/>
              <p:nvPr/>
            </p:nvSpPr>
            <p:spPr>
              <a:xfrm>
                <a:off x="7673040" y="5353920"/>
                <a:ext cx="2880" cy="25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674120" y="5353920"/>
                <a:ext cx="2880" cy="25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675920" y="5353920"/>
                <a:ext cx="2880" cy="25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674120" y="5353920"/>
                <a:ext cx="1440" cy="39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7687080" y="5353920"/>
              <a:ext cx="5760" cy="2880"/>
              <a:chOff x="7687080" y="5353920"/>
              <a:chExt cx="5760" cy="2880"/>
            </a:xfrm>
          </p:grpSpPr>
          <p:sp>
            <p:nvSpPr>
              <p:cNvPr id="1250" name=""/>
              <p:cNvSpPr/>
              <p:nvPr/>
            </p:nvSpPr>
            <p:spPr>
              <a:xfrm>
                <a:off x="7687080" y="5353920"/>
                <a:ext cx="2880" cy="28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688160" y="5353920"/>
                <a:ext cx="2880" cy="28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689960" y="5353920"/>
                <a:ext cx="2880" cy="28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688160" y="5353920"/>
                <a:ext cx="2880" cy="28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7701480" y="5353920"/>
              <a:ext cx="5760" cy="2880"/>
              <a:chOff x="7701480" y="5353920"/>
              <a:chExt cx="5760" cy="2880"/>
            </a:xfrm>
          </p:grpSpPr>
          <p:sp>
            <p:nvSpPr>
              <p:cNvPr id="1255" name=""/>
              <p:cNvSpPr/>
              <p:nvPr/>
            </p:nvSpPr>
            <p:spPr>
              <a:xfrm>
                <a:off x="7701480" y="5353920"/>
                <a:ext cx="2880" cy="28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702920" y="5353920"/>
                <a:ext cx="2520" cy="28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704360" y="5353920"/>
                <a:ext cx="2880" cy="28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701480" y="5353920"/>
                <a:ext cx="2880" cy="28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7714440" y="5352840"/>
              <a:ext cx="5400" cy="3960"/>
              <a:chOff x="7714440" y="5352840"/>
              <a:chExt cx="5400" cy="3960"/>
            </a:xfrm>
          </p:grpSpPr>
          <p:sp>
            <p:nvSpPr>
              <p:cNvPr id="1260" name=""/>
              <p:cNvSpPr/>
              <p:nvPr/>
            </p:nvSpPr>
            <p:spPr>
              <a:xfrm>
                <a:off x="7714440" y="5352840"/>
                <a:ext cx="2880" cy="396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715520" y="5352840"/>
                <a:ext cx="2880" cy="396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717320" y="5352840"/>
                <a:ext cx="252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714440" y="5352840"/>
                <a:ext cx="2880" cy="39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7727400" y="5351040"/>
              <a:ext cx="5400" cy="5400"/>
              <a:chOff x="7727400" y="5351040"/>
              <a:chExt cx="5400" cy="5400"/>
            </a:xfrm>
          </p:grpSpPr>
          <p:sp>
            <p:nvSpPr>
              <p:cNvPr id="1265" name=""/>
              <p:cNvSpPr/>
              <p:nvPr/>
            </p:nvSpPr>
            <p:spPr>
              <a:xfrm>
                <a:off x="7727400" y="5351040"/>
                <a:ext cx="2520" cy="396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728480" y="5351040"/>
                <a:ext cx="3960" cy="396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729920" y="5351040"/>
                <a:ext cx="288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728480" y="5352480"/>
                <a:ext cx="1080" cy="39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7741800" y="5351040"/>
              <a:ext cx="3600" cy="3960"/>
              <a:chOff x="7741800" y="5351040"/>
              <a:chExt cx="3600" cy="3960"/>
            </a:xfrm>
          </p:grpSpPr>
          <p:sp>
            <p:nvSpPr>
              <p:cNvPr id="1270" name=""/>
              <p:cNvSpPr/>
              <p:nvPr/>
            </p:nvSpPr>
            <p:spPr>
              <a:xfrm>
                <a:off x="7741800" y="5351040"/>
                <a:ext cx="1080" cy="396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741800" y="5351040"/>
                <a:ext cx="2160" cy="396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742880" y="5351040"/>
                <a:ext cx="252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741800" y="5351040"/>
                <a:ext cx="1080" cy="39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7754400" y="5351040"/>
              <a:ext cx="3960" cy="3960"/>
              <a:chOff x="7754400" y="5351040"/>
              <a:chExt cx="3960" cy="3960"/>
            </a:xfrm>
          </p:grpSpPr>
          <p:sp>
            <p:nvSpPr>
              <p:cNvPr id="1275" name=""/>
              <p:cNvSpPr/>
              <p:nvPr/>
            </p:nvSpPr>
            <p:spPr>
              <a:xfrm>
                <a:off x="7754400" y="5351040"/>
                <a:ext cx="2520" cy="25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754400" y="5351040"/>
                <a:ext cx="2520" cy="25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756920" y="5351040"/>
                <a:ext cx="1440" cy="25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754400" y="5351040"/>
                <a:ext cx="2520" cy="39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7764480" y="5351040"/>
              <a:ext cx="5760" cy="3960"/>
              <a:chOff x="7764480" y="5351040"/>
              <a:chExt cx="5760" cy="3960"/>
            </a:xfrm>
          </p:grpSpPr>
          <p:sp>
            <p:nvSpPr>
              <p:cNvPr id="1280" name=""/>
              <p:cNvSpPr/>
              <p:nvPr/>
            </p:nvSpPr>
            <p:spPr>
              <a:xfrm>
                <a:off x="7764480" y="5351040"/>
                <a:ext cx="2880" cy="25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765920" y="5351040"/>
                <a:ext cx="3960" cy="25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767360" y="5351040"/>
                <a:ext cx="2880" cy="25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765920" y="5351040"/>
                <a:ext cx="2520" cy="39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7777440" y="5349600"/>
              <a:ext cx="5760" cy="3960"/>
              <a:chOff x="7777440" y="5349600"/>
              <a:chExt cx="5760" cy="3960"/>
            </a:xfrm>
          </p:grpSpPr>
          <p:sp>
            <p:nvSpPr>
              <p:cNvPr id="1285" name=""/>
              <p:cNvSpPr/>
              <p:nvPr/>
            </p:nvSpPr>
            <p:spPr>
              <a:xfrm>
                <a:off x="7777440" y="5349600"/>
                <a:ext cx="2880" cy="396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777440" y="5349600"/>
                <a:ext cx="2880" cy="396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780320" y="5349600"/>
                <a:ext cx="288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777440" y="5350680"/>
                <a:ext cx="2880" cy="25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7797600" y="5349600"/>
              <a:ext cx="3600" cy="3960"/>
              <a:chOff x="7797600" y="5349600"/>
              <a:chExt cx="3600" cy="3960"/>
            </a:xfrm>
          </p:grpSpPr>
          <p:sp>
            <p:nvSpPr>
              <p:cNvPr id="1290" name=""/>
              <p:cNvSpPr/>
              <p:nvPr/>
            </p:nvSpPr>
            <p:spPr>
              <a:xfrm>
                <a:off x="7797600" y="5349600"/>
                <a:ext cx="1080" cy="25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798680" y="5349600"/>
                <a:ext cx="2520" cy="25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798680" y="5349600"/>
                <a:ext cx="2520" cy="25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797600" y="5349600"/>
                <a:ext cx="2160" cy="39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7812000" y="5348160"/>
              <a:ext cx="3600" cy="4320"/>
              <a:chOff x="7812000" y="5348160"/>
              <a:chExt cx="3600" cy="4320"/>
            </a:xfrm>
          </p:grpSpPr>
          <p:sp>
            <p:nvSpPr>
              <p:cNvPr id="1295" name=""/>
              <p:cNvSpPr/>
              <p:nvPr/>
            </p:nvSpPr>
            <p:spPr>
              <a:xfrm>
                <a:off x="7812000" y="5348160"/>
                <a:ext cx="1080" cy="43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812000" y="5348160"/>
                <a:ext cx="2520" cy="43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813080" y="5348160"/>
                <a:ext cx="2520" cy="43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812000" y="5348160"/>
                <a:ext cx="2520" cy="43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7824600" y="5348160"/>
              <a:ext cx="3960" cy="4320"/>
              <a:chOff x="7824600" y="5348160"/>
              <a:chExt cx="3960" cy="4320"/>
            </a:xfrm>
          </p:grpSpPr>
          <p:sp>
            <p:nvSpPr>
              <p:cNvPr id="1300" name=""/>
              <p:cNvSpPr/>
              <p:nvPr/>
            </p:nvSpPr>
            <p:spPr>
              <a:xfrm>
                <a:off x="7824600" y="5348160"/>
                <a:ext cx="1440" cy="43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824600" y="5348160"/>
                <a:ext cx="2520" cy="43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826040" y="5348160"/>
                <a:ext cx="2520" cy="43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824600" y="5348160"/>
                <a:ext cx="2520" cy="43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7837560" y="5348160"/>
              <a:ext cx="5760" cy="4320"/>
              <a:chOff x="7837560" y="5348160"/>
              <a:chExt cx="5760" cy="4320"/>
            </a:xfrm>
          </p:grpSpPr>
          <p:sp>
            <p:nvSpPr>
              <p:cNvPr id="1305" name=""/>
              <p:cNvSpPr/>
              <p:nvPr/>
            </p:nvSpPr>
            <p:spPr>
              <a:xfrm>
                <a:off x="7837560" y="5348160"/>
                <a:ext cx="2880" cy="25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837560" y="5348160"/>
                <a:ext cx="3960" cy="25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840440" y="5348160"/>
                <a:ext cx="2880" cy="25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837560" y="5348160"/>
                <a:ext cx="2880" cy="43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7788960" y="5346720"/>
              <a:ext cx="5760" cy="684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7673040" y="5495040"/>
              <a:ext cx="3960" cy="3600"/>
              <a:chOff x="7673040" y="5495040"/>
              <a:chExt cx="3960" cy="3600"/>
            </a:xfrm>
          </p:grpSpPr>
          <p:sp>
            <p:nvSpPr>
              <p:cNvPr id="1311" name=""/>
              <p:cNvSpPr/>
              <p:nvPr/>
            </p:nvSpPr>
            <p:spPr>
              <a:xfrm>
                <a:off x="7673040" y="5495040"/>
                <a:ext cx="2520" cy="216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73040" y="5495040"/>
                <a:ext cx="3960" cy="216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675560" y="5495040"/>
                <a:ext cx="1080" cy="2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73040" y="5496120"/>
                <a:ext cx="2520" cy="25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7686000" y="5493240"/>
              <a:ext cx="3600" cy="3960"/>
              <a:chOff x="7686000" y="5493240"/>
              <a:chExt cx="3600" cy="3960"/>
            </a:xfrm>
          </p:grpSpPr>
          <p:sp>
            <p:nvSpPr>
              <p:cNvPr id="1316" name=""/>
              <p:cNvSpPr/>
              <p:nvPr/>
            </p:nvSpPr>
            <p:spPr>
              <a:xfrm>
                <a:off x="7686000" y="5493240"/>
                <a:ext cx="2160" cy="396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686000" y="5493240"/>
                <a:ext cx="2160" cy="396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687080" y="5493240"/>
                <a:ext cx="252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686000" y="5493240"/>
                <a:ext cx="2160" cy="39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7698600" y="5492160"/>
              <a:ext cx="5760" cy="3960"/>
              <a:chOff x="7698600" y="5492160"/>
              <a:chExt cx="5760" cy="3960"/>
            </a:xfrm>
          </p:grpSpPr>
          <p:sp>
            <p:nvSpPr>
              <p:cNvPr id="1321" name=""/>
              <p:cNvSpPr/>
              <p:nvPr/>
            </p:nvSpPr>
            <p:spPr>
              <a:xfrm>
                <a:off x="7698600" y="5492160"/>
                <a:ext cx="2880" cy="396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701480" y="5492160"/>
                <a:ext cx="2880" cy="396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701480" y="5492160"/>
                <a:ext cx="288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700040" y="5493240"/>
                <a:ext cx="2880" cy="25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7711560" y="5490360"/>
              <a:ext cx="5760" cy="4320"/>
              <a:chOff x="7711560" y="5490360"/>
              <a:chExt cx="5760" cy="4320"/>
            </a:xfrm>
          </p:grpSpPr>
          <p:sp>
            <p:nvSpPr>
              <p:cNvPr id="1326" name=""/>
              <p:cNvSpPr/>
              <p:nvPr/>
            </p:nvSpPr>
            <p:spPr>
              <a:xfrm>
                <a:off x="7711560" y="5490360"/>
                <a:ext cx="2880" cy="25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712640" y="5490360"/>
                <a:ext cx="4320" cy="25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714440" y="5490360"/>
                <a:ext cx="2880" cy="25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712640" y="5490360"/>
                <a:ext cx="2880" cy="43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7725960" y="5489280"/>
              <a:ext cx="3600" cy="3960"/>
              <a:chOff x="7725960" y="5489280"/>
              <a:chExt cx="3600" cy="3960"/>
            </a:xfrm>
          </p:grpSpPr>
          <p:sp>
            <p:nvSpPr>
              <p:cNvPr id="1331" name=""/>
              <p:cNvSpPr/>
              <p:nvPr/>
            </p:nvSpPr>
            <p:spPr>
              <a:xfrm>
                <a:off x="7725960" y="5489280"/>
                <a:ext cx="1440" cy="396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727400" y="5489280"/>
                <a:ext cx="2160" cy="396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727400" y="5489280"/>
                <a:ext cx="216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725960" y="5489280"/>
                <a:ext cx="2520" cy="39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"/>
            <p:cNvGrpSpPr/>
            <p:nvPr/>
          </p:nvGrpSpPr>
          <p:grpSpPr>
            <a:xfrm>
              <a:off x="7738920" y="5487480"/>
              <a:ext cx="5400" cy="4320"/>
              <a:chOff x="7738920" y="5487480"/>
              <a:chExt cx="5400" cy="4320"/>
            </a:xfrm>
          </p:grpSpPr>
          <p:sp>
            <p:nvSpPr>
              <p:cNvPr id="1336" name=""/>
              <p:cNvSpPr/>
              <p:nvPr/>
            </p:nvSpPr>
            <p:spPr>
              <a:xfrm>
                <a:off x="7738920" y="5487480"/>
                <a:ext cx="2880" cy="25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740000" y="5487480"/>
                <a:ext cx="2880" cy="25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741800" y="5487480"/>
                <a:ext cx="2520" cy="25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740000" y="5487480"/>
                <a:ext cx="1440" cy="43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7751880" y="5486400"/>
              <a:ext cx="5400" cy="3960"/>
              <a:chOff x="7751880" y="5486400"/>
              <a:chExt cx="5400" cy="3960"/>
            </a:xfrm>
          </p:grpSpPr>
          <p:sp>
            <p:nvSpPr>
              <p:cNvPr id="1341" name=""/>
              <p:cNvSpPr/>
              <p:nvPr/>
            </p:nvSpPr>
            <p:spPr>
              <a:xfrm>
                <a:off x="7751880" y="5486400"/>
                <a:ext cx="2520" cy="25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752960" y="5486400"/>
                <a:ext cx="3960" cy="25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754400" y="5486400"/>
                <a:ext cx="2880" cy="25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752960" y="5486400"/>
                <a:ext cx="1080" cy="39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7764480" y="5484960"/>
              <a:ext cx="5760" cy="2520"/>
              <a:chOff x="7764480" y="5484960"/>
              <a:chExt cx="5760" cy="2520"/>
            </a:xfrm>
          </p:grpSpPr>
          <p:sp>
            <p:nvSpPr>
              <p:cNvPr id="1346" name=""/>
              <p:cNvSpPr/>
              <p:nvPr/>
            </p:nvSpPr>
            <p:spPr>
              <a:xfrm>
                <a:off x="7764480" y="5484960"/>
                <a:ext cx="2880" cy="25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764480" y="5484960"/>
                <a:ext cx="3960" cy="25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767360" y="5484960"/>
                <a:ext cx="2880" cy="25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764480" y="5484960"/>
                <a:ext cx="2880" cy="25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7775640" y="5482080"/>
              <a:ext cx="5760" cy="5040"/>
              <a:chOff x="7775640" y="5482080"/>
              <a:chExt cx="5760" cy="5040"/>
            </a:xfrm>
          </p:grpSpPr>
          <p:sp>
            <p:nvSpPr>
              <p:cNvPr id="1351" name=""/>
              <p:cNvSpPr/>
              <p:nvPr/>
            </p:nvSpPr>
            <p:spPr>
              <a:xfrm>
                <a:off x="7775640" y="5482080"/>
                <a:ext cx="2880" cy="396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777080" y="5482080"/>
                <a:ext cx="2880" cy="396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778520" y="5482080"/>
                <a:ext cx="288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777080" y="5483160"/>
                <a:ext cx="2880" cy="39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7795800" y="5480640"/>
              <a:ext cx="5760" cy="4320"/>
              <a:chOff x="7795800" y="5480640"/>
              <a:chExt cx="5760" cy="4320"/>
            </a:xfrm>
          </p:grpSpPr>
          <p:sp>
            <p:nvSpPr>
              <p:cNvPr id="1356" name=""/>
              <p:cNvSpPr/>
              <p:nvPr/>
            </p:nvSpPr>
            <p:spPr>
              <a:xfrm>
                <a:off x="7795800" y="5480640"/>
                <a:ext cx="2880" cy="43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797240" y="5480640"/>
                <a:ext cx="3960" cy="43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798680" y="5480640"/>
                <a:ext cx="2880" cy="43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797240" y="5480640"/>
                <a:ext cx="1080" cy="43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7807320" y="5479200"/>
              <a:ext cx="5760" cy="3960"/>
              <a:chOff x="7807320" y="5479200"/>
              <a:chExt cx="5760" cy="3960"/>
            </a:xfrm>
          </p:grpSpPr>
          <p:sp>
            <p:nvSpPr>
              <p:cNvPr id="1361" name=""/>
              <p:cNvSpPr/>
              <p:nvPr/>
            </p:nvSpPr>
            <p:spPr>
              <a:xfrm>
                <a:off x="7807320" y="5479200"/>
                <a:ext cx="2880" cy="25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808760" y="5479200"/>
                <a:ext cx="2880" cy="25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810200" y="5479200"/>
                <a:ext cx="2880" cy="25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808760" y="5479200"/>
                <a:ext cx="1080" cy="39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7823160" y="5477760"/>
              <a:ext cx="5760" cy="2520"/>
              <a:chOff x="7823160" y="5477760"/>
              <a:chExt cx="5760" cy="2520"/>
            </a:xfrm>
          </p:grpSpPr>
          <p:sp>
            <p:nvSpPr>
              <p:cNvPr id="1366" name=""/>
              <p:cNvSpPr/>
              <p:nvPr/>
            </p:nvSpPr>
            <p:spPr>
              <a:xfrm>
                <a:off x="7823160" y="5477760"/>
                <a:ext cx="2880" cy="25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824240" y="5477760"/>
                <a:ext cx="2880" cy="25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826040" y="5477760"/>
                <a:ext cx="2880" cy="25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824240" y="5477760"/>
                <a:ext cx="2880" cy="25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7837560" y="5474880"/>
              <a:ext cx="5760" cy="3960"/>
              <a:chOff x="7837560" y="5474880"/>
              <a:chExt cx="5760" cy="3960"/>
            </a:xfrm>
          </p:grpSpPr>
          <p:sp>
            <p:nvSpPr>
              <p:cNvPr id="1371" name=""/>
              <p:cNvSpPr/>
              <p:nvPr/>
            </p:nvSpPr>
            <p:spPr>
              <a:xfrm>
                <a:off x="7837560" y="5474880"/>
                <a:ext cx="2880" cy="396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839000" y="5474880"/>
                <a:ext cx="2520" cy="396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840440" y="5474880"/>
                <a:ext cx="2880" cy="3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837560" y="5475960"/>
                <a:ext cx="2880" cy="25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5" name=""/>
          <p:cNvSpPr/>
          <p:nvPr/>
        </p:nvSpPr>
        <p:spPr>
          <a:xfrm>
            <a:off x="7772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696080" y="5638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620120" y="5715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交通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77240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772400" y="48006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64K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專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038480" y="19051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28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K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專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477120" y="5715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局屬單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172200" y="38098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公文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EDI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前端通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" descr=""/>
          <p:cNvPicPr/>
          <p:nvPr/>
        </p:nvPicPr>
        <p:blipFill>
          <a:blip r:embed="rId3"/>
          <a:stretch/>
        </p:blipFill>
        <p:spPr>
          <a:xfrm>
            <a:off x="6477120" y="4343400"/>
            <a:ext cx="685800" cy="522360"/>
          </a:xfrm>
          <a:prstGeom prst="rect">
            <a:avLst/>
          </a:prstGeom>
          <a:ln w="0">
            <a:noFill/>
          </a:ln>
        </p:spPr>
      </p:pic>
      <p:sp>
        <p:nvSpPr>
          <p:cNvPr id="1384" name=""/>
          <p:cNvSpPr/>
          <p:nvPr/>
        </p:nvSpPr>
        <p:spPr>
          <a:xfrm>
            <a:off x="647712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交換中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6477120" y="5410080"/>
            <a:ext cx="798120" cy="327960"/>
            <a:chOff x="6477120" y="5410080"/>
            <a:chExt cx="798120" cy="327960"/>
          </a:xfrm>
        </p:grpSpPr>
        <p:sp>
          <p:nvSpPr>
            <p:cNvPr id="1386" name=""/>
            <p:cNvSpPr/>
            <p:nvPr/>
          </p:nvSpPr>
          <p:spPr>
            <a:xfrm>
              <a:off x="6792840" y="5637240"/>
              <a:ext cx="6840" cy="2268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6"/>
                  </a:moveTo>
                  <a:lnTo>
                    <a:pt x="5" y="1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6477120" y="5410080"/>
              <a:ext cx="798120" cy="327960"/>
              <a:chOff x="6477120" y="5410080"/>
              <a:chExt cx="798120" cy="327960"/>
            </a:xfrm>
          </p:grpSpPr>
          <p:grpSp>
            <p:nvGrpSpPr>
              <p:cNvPr id="1388" name=""/>
              <p:cNvGrpSpPr/>
              <p:nvPr/>
            </p:nvGrpSpPr>
            <p:grpSpPr>
              <a:xfrm>
                <a:off x="6477120" y="5410080"/>
                <a:ext cx="614160" cy="296640"/>
                <a:chOff x="6477120" y="5410080"/>
                <a:chExt cx="614160" cy="29664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6477120" y="5469840"/>
                  <a:ext cx="614160" cy="236880"/>
                </a:xfrm>
                <a:custGeom>
                  <a:avLst/>
                  <a:gdLst/>
                  <a:ahLst/>
                  <a:rect l="l" t="t" r="r" b="b"/>
                  <a:pathLst>
                    <a:path w="430" h="166">
                      <a:moveTo>
                        <a:pt x="430" y="0"/>
                      </a:moveTo>
                      <a:lnTo>
                        <a:pt x="430" y="166"/>
                      </a:lnTo>
                      <a:lnTo>
                        <a:pt x="16" y="166"/>
                      </a:lnTo>
                      <a:lnTo>
                        <a:pt x="16" y="135"/>
                      </a:lnTo>
                      <a:lnTo>
                        <a:pt x="8" y="133"/>
                      </a:lnTo>
                      <a:lnTo>
                        <a:pt x="8" y="112"/>
                      </a:lnTo>
                      <a:lnTo>
                        <a:pt x="0" y="109"/>
                      </a:lnTo>
                      <a:lnTo>
                        <a:pt x="4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0" name=""/>
                <p:cNvGrpSpPr/>
                <p:nvPr/>
              </p:nvGrpSpPr>
              <p:grpSpPr>
                <a:xfrm>
                  <a:off x="6526800" y="5658480"/>
                  <a:ext cx="38160" cy="16920"/>
                  <a:chOff x="6526800" y="5658480"/>
                  <a:chExt cx="38160" cy="16920"/>
                </a:xfrm>
              </p:grpSpPr>
              <p:sp>
                <p:nvSpPr>
                  <p:cNvPr id="1391" name=""/>
                  <p:cNvSpPr/>
                  <p:nvPr/>
                </p:nvSpPr>
                <p:spPr>
                  <a:xfrm>
                    <a:off x="6558120" y="5658480"/>
                    <a:ext cx="6840" cy="14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6552720" y="5658480"/>
                    <a:ext cx="5400" cy="14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6545520" y="5658480"/>
                    <a:ext cx="3960" cy="1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6538320" y="5658480"/>
                    <a:ext cx="3960" cy="1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6531120" y="5659920"/>
                    <a:ext cx="6840" cy="1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6526800" y="5659920"/>
                    <a:ext cx="4320" cy="1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7" name=""/>
                <p:cNvGrpSpPr/>
                <p:nvPr/>
              </p:nvGrpSpPr>
              <p:grpSpPr>
                <a:xfrm>
                  <a:off x="6605640" y="5636880"/>
                  <a:ext cx="66600" cy="30960"/>
                  <a:chOff x="6605640" y="5636880"/>
                  <a:chExt cx="66600" cy="30960"/>
                </a:xfrm>
              </p:grpSpPr>
              <p:sp>
                <p:nvSpPr>
                  <p:cNvPr id="1398" name=""/>
                  <p:cNvSpPr/>
                  <p:nvPr/>
                </p:nvSpPr>
                <p:spPr>
                  <a:xfrm>
                    <a:off x="6662520" y="5636880"/>
                    <a:ext cx="97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7" y="18"/>
                        </a:lnTo>
                        <a:lnTo>
                          <a:pt x="7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6653880" y="5636880"/>
                    <a:ext cx="68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5" y="18"/>
                        </a:lnTo>
                        <a:lnTo>
                          <a:pt x="5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6643800" y="5638320"/>
                    <a:ext cx="68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5" y="18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6634080" y="5638320"/>
                    <a:ext cx="68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5" y="18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6624000" y="5641200"/>
                    <a:ext cx="97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7" y="18"/>
                        </a:lnTo>
                        <a:lnTo>
                          <a:pt x="7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6615360" y="5641200"/>
                    <a:ext cx="82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6" y="18"/>
                        </a:lnTo>
                        <a:lnTo>
                          <a:pt x="6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6605640" y="5642640"/>
                    <a:ext cx="97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7" y="18"/>
                        </a:lnTo>
                        <a:lnTo>
                          <a:pt x="7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5" name=""/>
                <p:cNvGrpSpPr/>
                <p:nvPr/>
              </p:nvGrpSpPr>
              <p:grpSpPr>
                <a:xfrm>
                  <a:off x="6732360" y="5617080"/>
                  <a:ext cx="91080" cy="38160"/>
                  <a:chOff x="6732360" y="5617080"/>
                  <a:chExt cx="91080" cy="38160"/>
                </a:xfrm>
              </p:grpSpPr>
              <p:sp>
                <p:nvSpPr>
                  <p:cNvPr id="1406" name=""/>
                  <p:cNvSpPr/>
                  <p:nvPr/>
                </p:nvSpPr>
                <p:spPr>
                  <a:xfrm>
                    <a:off x="6810840" y="5617080"/>
                    <a:ext cx="126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3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9" y="23"/>
                        </a:lnTo>
                        <a:lnTo>
                          <a:pt x="9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6796440" y="5619600"/>
                    <a:ext cx="9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2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7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6779520" y="5621040"/>
                    <a:ext cx="126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9" y="21"/>
                        </a:lnTo>
                        <a:lnTo>
                          <a:pt x="9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6765120" y="5621040"/>
                    <a:ext cx="972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3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7" y="23"/>
                        </a:lnTo>
                        <a:lnTo>
                          <a:pt x="7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749280" y="5623920"/>
                    <a:ext cx="1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8" y="21"/>
                        </a:lnTo>
                        <a:lnTo>
                          <a:pt x="8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732360" y="5625360"/>
                    <a:ext cx="115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8" y="21"/>
                        </a:lnTo>
                        <a:lnTo>
                          <a:pt x="8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2" name=""/>
                <p:cNvGrpSpPr/>
                <p:nvPr/>
              </p:nvGrpSpPr>
              <p:grpSpPr>
                <a:xfrm>
                  <a:off x="6942600" y="5598360"/>
                  <a:ext cx="115200" cy="38160"/>
                  <a:chOff x="6942600" y="5598360"/>
                  <a:chExt cx="115200" cy="38160"/>
                </a:xfrm>
              </p:grpSpPr>
              <p:sp>
                <p:nvSpPr>
                  <p:cNvPr id="1413" name=""/>
                  <p:cNvSpPr/>
                  <p:nvPr/>
                </p:nvSpPr>
                <p:spPr>
                  <a:xfrm>
                    <a:off x="7046280" y="5598360"/>
                    <a:ext cx="115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8" y="21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7019640" y="5599800"/>
                    <a:ext cx="11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0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8" y="20"/>
                        </a:lnTo>
                        <a:lnTo>
                          <a:pt x="8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6993720" y="5599800"/>
                    <a:ext cx="1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8" y="21"/>
                        </a:lnTo>
                        <a:lnTo>
                          <a:pt x="8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966720" y="5604120"/>
                    <a:ext cx="126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0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942600" y="5607000"/>
                    <a:ext cx="93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7" y="21"/>
                        </a:lnTo>
                        <a:lnTo>
                          <a:pt x="7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8" name=""/>
                <p:cNvSpPr/>
                <p:nvPr/>
              </p:nvSpPr>
              <p:spPr>
                <a:xfrm>
                  <a:off x="6499800" y="5621400"/>
                  <a:ext cx="589680" cy="69840"/>
                </a:xfrm>
                <a:custGeom>
                  <a:avLst/>
                  <a:gdLst/>
                  <a:ahLst/>
                  <a:rect l="l" t="t" r="r" b="b"/>
                  <a:pathLst>
                    <a:path w="413" h="49">
                      <a:moveTo>
                        <a:pt x="413" y="27"/>
                      </a:moveTo>
                      <a:lnTo>
                        <a:pt x="413" y="0"/>
                      </a:lnTo>
                      <a:lnTo>
                        <a:pt x="0" y="36"/>
                      </a:lnTo>
                      <a:lnTo>
                        <a:pt x="0" y="49"/>
                      </a:lnTo>
                      <a:lnTo>
                        <a:pt x="413" y="2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488280" y="5542560"/>
                  <a:ext cx="601560" cy="117000"/>
                </a:xfrm>
                <a:custGeom>
                  <a:avLst/>
                  <a:gdLst/>
                  <a:ahLst/>
                  <a:rect l="l" t="t" r="r" b="b"/>
                  <a:pathLst>
                    <a:path w="421" h="82">
                      <a:moveTo>
                        <a:pt x="421" y="22"/>
                      </a:moveTo>
                      <a:lnTo>
                        <a:pt x="421" y="0"/>
                      </a:lnTo>
                      <a:lnTo>
                        <a:pt x="0" y="72"/>
                      </a:lnTo>
                      <a:lnTo>
                        <a:pt x="0" y="82"/>
                      </a:lnTo>
                      <a:lnTo>
                        <a:pt x="421" y="2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477120" y="5410080"/>
                  <a:ext cx="612720" cy="215640"/>
                </a:xfrm>
                <a:custGeom>
                  <a:avLst/>
                  <a:gdLst/>
                  <a:ahLst/>
                  <a:rect l="l" t="t" r="r" b="b"/>
                  <a:pathLst>
                    <a:path w="429" h="151">
                      <a:moveTo>
                        <a:pt x="429" y="54"/>
                      </a:moveTo>
                      <a:lnTo>
                        <a:pt x="429" y="0"/>
                      </a:lnTo>
                      <a:lnTo>
                        <a:pt x="0" y="132"/>
                      </a:lnTo>
                      <a:lnTo>
                        <a:pt x="0" y="151"/>
                      </a:lnTo>
                      <a:lnTo>
                        <a:pt x="429" y="54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7089840" y="5410080"/>
                <a:ext cx="185400" cy="294480"/>
                <a:chOff x="7089840" y="5410080"/>
                <a:chExt cx="185400" cy="29448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7090920" y="5675760"/>
                  <a:ext cx="139680" cy="28800"/>
                </a:xfrm>
                <a:custGeom>
                  <a:avLst/>
                  <a:gdLst/>
                  <a:ahLst/>
                  <a:rect l="l" t="t" r="r" b="b"/>
                  <a:pathLst>
                    <a:path w="98" h="20">
                      <a:moveTo>
                        <a:pt x="0" y="0"/>
                      </a:moveTo>
                      <a:lnTo>
                        <a:pt x="98" y="6"/>
                      </a:lnTo>
                      <a:lnTo>
                        <a:pt x="98" y="1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089840" y="5481360"/>
                  <a:ext cx="185400" cy="207000"/>
                </a:xfrm>
                <a:custGeom>
                  <a:avLst/>
                  <a:gdLst/>
                  <a:ahLst/>
                  <a:rect l="l" t="t" r="r" b="b"/>
                  <a:pathLst>
                    <a:path w="130" h="145">
                      <a:moveTo>
                        <a:pt x="0" y="0"/>
                      </a:moveTo>
                      <a:lnTo>
                        <a:pt x="130" y="76"/>
                      </a:lnTo>
                      <a:lnTo>
                        <a:pt x="115" y="76"/>
                      </a:lnTo>
                      <a:lnTo>
                        <a:pt x="115" y="103"/>
                      </a:lnTo>
                      <a:lnTo>
                        <a:pt x="120" y="106"/>
                      </a:lnTo>
                      <a:lnTo>
                        <a:pt x="115" y="106"/>
                      </a:lnTo>
                      <a:lnTo>
                        <a:pt x="115" y="140"/>
                      </a:lnTo>
                      <a:lnTo>
                        <a:pt x="100" y="145"/>
                      </a:lnTo>
                      <a:lnTo>
                        <a:pt x="0" y="1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7089840" y="5410080"/>
                  <a:ext cx="185400" cy="180000"/>
                </a:xfrm>
                <a:custGeom>
                  <a:avLst/>
                  <a:gdLst/>
                  <a:ahLst/>
                  <a:rect l="l" t="t" r="r" b="b"/>
                  <a:pathLst>
                    <a:path w="130" h="126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130" y="126"/>
                      </a:lnTo>
                      <a:lnTo>
                        <a:pt x="130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5" name=""/>
                <p:cNvGrpSpPr/>
                <p:nvPr/>
              </p:nvGrpSpPr>
              <p:grpSpPr>
                <a:xfrm>
                  <a:off x="7090920" y="5582880"/>
                  <a:ext cx="143640" cy="96840"/>
                  <a:chOff x="7090920" y="5582880"/>
                  <a:chExt cx="143640" cy="96840"/>
                </a:xfrm>
              </p:grpSpPr>
              <p:sp>
                <p:nvSpPr>
                  <p:cNvPr id="1426" name=""/>
                  <p:cNvSpPr/>
                  <p:nvPr/>
                </p:nvSpPr>
                <p:spPr>
                  <a:xfrm>
                    <a:off x="7217640" y="563256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7209000" y="5629680"/>
                    <a:ext cx="187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7200720" y="562536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7191720" y="5624280"/>
                    <a:ext cx="187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7184880" y="5619600"/>
                    <a:ext cx="154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1" y="33"/>
                        </a:lnTo>
                        <a:lnTo>
                          <a:pt x="11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7174800" y="5615280"/>
                    <a:ext cx="187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7167600" y="561240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7157520" y="560844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8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7149240" y="5607000"/>
                    <a:ext cx="1836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7142040" y="5602320"/>
                    <a:ext cx="154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1" y="33"/>
                        </a:lnTo>
                        <a:lnTo>
                          <a:pt x="1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7134840" y="5598360"/>
                    <a:ext cx="154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1" y="33"/>
                        </a:lnTo>
                        <a:lnTo>
                          <a:pt x="1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7125120" y="5595480"/>
                    <a:ext cx="1836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7117920" y="559116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8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7107840" y="5589720"/>
                    <a:ext cx="169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7097760" y="5585760"/>
                    <a:ext cx="198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4" y="33"/>
                        </a:lnTo>
                        <a:lnTo>
                          <a:pt x="1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7090920" y="5582880"/>
                    <a:ext cx="198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2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4" y="32"/>
                        </a:lnTo>
                        <a:lnTo>
                          <a:pt x="14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2" name=""/>
                <p:cNvGrpSpPr/>
                <p:nvPr/>
              </p:nvGrpSpPr>
              <p:grpSpPr>
                <a:xfrm>
                  <a:off x="7090920" y="5515560"/>
                  <a:ext cx="136800" cy="104040"/>
                  <a:chOff x="7090920" y="5515560"/>
                  <a:chExt cx="136800" cy="104040"/>
                </a:xfrm>
              </p:grpSpPr>
              <p:sp>
                <p:nvSpPr>
                  <p:cNvPr id="1443" name=""/>
                  <p:cNvSpPr/>
                  <p:nvPr/>
                </p:nvSpPr>
                <p:spPr>
                  <a:xfrm>
                    <a:off x="7209000" y="5578560"/>
                    <a:ext cx="187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9">
                        <a:moveTo>
                          <a:pt x="0" y="8"/>
                        </a:moveTo>
                        <a:lnTo>
                          <a:pt x="0" y="24"/>
                        </a:lnTo>
                        <a:lnTo>
                          <a:pt x="13" y="29"/>
                        </a:lnTo>
                        <a:lnTo>
                          <a:pt x="13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7200720" y="5573880"/>
                    <a:ext cx="169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7">
                        <a:moveTo>
                          <a:pt x="0" y="6"/>
                        </a:moveTo>
                        <a:lnTo>
                          <a:pt x="0" y="23"/>
                        </a:lnTo>
                        <a:lnTo>
                          <a:pt x="12" y="27"/>
                        </a:lnTo>
                        <a:lnTo>
                          <a:pt x="1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7192080" y="5569560"/>
                    <a:ext cx="187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9">
                        <a:moveTo>
                          <a:pt x="0" y="6"/>
                        </a:moveTo>
                        <a:lnTo>
                          <a:pt x="0" y="26"/>
                        </a:lnTo>
                        <a:lnTo>
                          <a:pt x="13" y="29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7184880" y="5565600"/>
                    <a:ext cx="158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9">
                        <a:moveTo>
                          <a:pt x="0" y="6"/>
                        </a:moveTo>
                        <a:lnTo>
                          <a:pt x="0" y="26"/>
                        </a:lnTo>
                        <a:lnTo>
                          <a:pt x="11" y="29"/>
                        </a:lnTo>
                        <a:lnTo>
                          <a:pt x="11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7174800" y="5561280"/>
                    <a:ext cx="187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7167600" y="5555520"/>
                    <a:ext cx="169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7157880" y="5551200"/>
                    <a:ext cx="169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7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7149240" y="5546880"/>
                    <a:ext cx="1836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7142040" y="5542560"/>
                    <a:ext cx="154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1" y="33"/>
                        </a:lnTo>
                        <a:lnTo>
                          <a:pt x="11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7132320" y="5538240"/>
                    <a:ext cx="1836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3" y="33"/>
                        </a:lnTo>
                        <a:lnTo>
                          <a:pt x="1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7125120" y="5534280"/>
                    <a:ext cx="169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3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2" y="33"/>
                        </a:lnTo>
                        <a:lnTo>
                          <a:pt x="1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7115040" y="5529960"/>
                    <a:ext cx="198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1">
                        <a:moveTo>
                          <a:pt x="0" y="6"/>
                        </a:moveTo>
                        <a:lnTo>
                          <a:pt x="0" y="30"/>
                        </a:lnTo>
                        <a:lnTo>
                          <a:pt x="14" y="31"/>
                        </a:lnTo>
                        <a:lnTo>
                          <a:pt x="14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7107840" y="5524200"/>
                    <a:ext cx="1692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2">
                        <a:moveTo>
                          <a:pt x="0" y="7"/>
                        </a:moveTo>
                        <a:lnTo>
                          <a:pt x="0" y="29"/>
                        </a:lnTo>
                        <a:lnTo>
                          <a:pt x="12" y="32"/>
                        </a:lnTo>
                        <a:lnTo>
                          <a:pt x="1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7097760" y="5519880"/>
                    <a:ext cx="198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2">
                        <a:moveTo>
                          <a:pt x="0" y="6"/>
                        </a:moveTo>
                        <a:lnTo>
                          <a:pt x="0" y="29"/>
                        </a:lnTo>
                        <a:lnTo>
                          <a:pt x="14" y="32"/>
                        </a:lnTo>
                        <a:lnTo>
                          <a:pt x="14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7090920" y="5515560"/>
                    <a:ext cx="169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2">
                        <a:moveTo>
                          <a:pt x="0" y="6"/>
                        </a:moveTo>
                        <a:lnTo>
                          <a:pt x="0" y="29"/>
                        </a:lnTo>
                        <a:lnTo>
                          <a:pt x="12" y="32"/>
                        </a:lnTo>
                        <a:lnTo>
                          <a:pt x="1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8" name=""/>
                <p:cNvSpPr/>
                <p:nvPr/>
              </p:nvSpPr>
              <p:spPr>
                <a:xfrm>
                  <a:off x="7089840" y="5542920"/>
                  <a:ext cx="173880" cy="90000"/>
                </a:xfrm>
                <a:custGeom>
                  <a:avLst/>
                  <a:gdLst/>
                  <a:ahLst/>
                  <a:rect l="l" t="t" r="r" b="b"/>
                  <a:pathLst>
                    <a:path w="122" h="63">
                      <a:moveTo>
                        <a:pt x="0" y="0"/>
                      </a:moveTo>
                      <a:lnTo>
                        <a:pt x="122" y="51"/>
                      </a:lnTo>
                      <a:lnTo>
                        <a:pt x="122" y="63"/>
                      </a:lnTo>
                      <a:lnTo>
                        <a:pt x="0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7089840" y="5621400"/>
                  <a:ext cx="166680" cy="62640"/>
                </a:xfrm>
                <a:custGeom>
                  <a:avLst/>
                  <a:gdLst/>
                  <a:ahLst/>
                  <a:rect l="l" t="t" r="r" b="b"/>
                  <a:pathLst>
                    <a:path w="117" h="44">
                      <a:moveTo>
                        <a:pt x="0" y="0"/>
                      </a:moveTo>
                      <a:lnTo>
                        <a:pt x="117" y="27"/>
                      </a:lnTo>
                      <a:lnTo>
                        <a:pt x="117" y="44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0" name=""/>
              <p:cNvGrpSpPr/>
              <p:nvPr/>
            </p:nvGrpSpPr>
            <p:grpSpPr>
              <a:xfrm>
                <a:off x="6495480" y="5416920"/>
                <a:ext cx="484920" cy="321120"/>
                <a:chOff x="6495480" y="5416920"/>
                <a:chExt cx="484920" cy="321120"/>
              </a:xfrm>
            </p:grpSpPr>
            <p:grpSp>
              <p:nvGrpSpPr>
                <p:cNvPr id="1461" name=""/>
                <p:cNvGrpSpPr/>
                <p:nvPr/>
              </p:nvGrpSpPr>
              <p:grpSpPr>
                <a:xfrm>
                  <a:off x="6690960" y="5486760"/>
                  <a:ext cx="79560" cy="251280"/>
                  <a:chOff x="6690960" y="5486760"/>
                  <a:chExt cx="79560" cy="251280"/>
                </a:xfrm>
              </p:grpSpPr>
              <p:sp>
                <p:nvSpPr>
                  <p:cNvPr id="1462" name=""/>
                  <p:cNvSpPr/>
                  <p:nvPr/>
                </p:nvSpPr>
                <p:spPr>
                  <a:xfrm>
                    <a:off x="6696720" y="5486760"/>
                    <a:ext cx="738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76">
                        <a:moveTo>
                          <a:pt x="52" y="15"/>
                        </a:move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5" y="0"/>
                        </a:lnTo>
                        <a:lnTo>
                          <a:pt x="5" y="9"/>
                        </a:lnTo>
                        <a:lnTo>
                          <a:pt x="0" y="8"/>
                        </a:lnTo>
                        <a:lnTo>
                          <a:pt x="0" y="175"/>
                        </a:lnTo>
                        <a:lnTo>
                          <a:pt x="8" y="169"/>
                        </a:lnTo>
                        <a:lnTo>
                          <a:pt x="15" y="169"/>
                        </a:lnTo>
                        <a:lnTo>
                          <a:pt x="15" y="176"/>
                        </a:lnTo>
                        <a:lnTo>
                          <a:pt x="22" y="176"/>
                        </a:lnTo>
                        <a:lnTo>
                          <a:pt x="25" y="172"/>
                        </a:lnTo>
                        <a:lnTo>
                          <a:pt x="25" y="24"/>
                        </a:lnTo>
                        <a:lnTo>
                          <a:pt x="52" y="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6690960" y="5495400"/>
                    <a:ext cx="57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69">
                        <a:moveTo>
                          <a:pt x="4" y="0"/>
                        </a:moveTo>
                        <a:lnTo>
                          <a:pt x="4" y="169"/>
                        </a:lnTo>
                        <a:lnTo>
                          <a:pt x="0" y="169"/>
                        </a:lnTo>
                        <a:lnTo>
                          <a:pt x="0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6717960" y="5486760"/>
                    <a:ext cx="6840" cy="251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6703560" y="5493600"/>
                    <a:ext cx="14040" cy="2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65">
                        <a:moveTo>
                          <a:pt x="0" y="165"/>
                        </a:moveTo>
                        <a:lnTo>
                          <a:pt x="0" y="7"/>
                        </a:lnTo>
                        <a:lnTo>
                          <a:pt x="10" y="0"/>
                        </a:lnTo>
                        <a:lnTo>
                          <a:pt x="10" y="165"/>
                        </a:lnTo>
                        <a:lnTo>
                          <a:pt x="0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6" name=""/>
                <p:cNvGrpSpPr/>
                <p:nvPr/>
              </p:nvGrpSpPr>
              <p:grpSpPr>
                <a:xfrm>
                  <a:off x="6881040" y="5416920"/>
                  <a:ext cx="99360" cy="320040"/>
                  <a:chOff x="6881040" y="5416920"/>
                  <a:chExt cx="99360" cy="320040"/>
                </a:xfrm>
              </p:grpSpPr>
              <p:sp>
                <p:nvSpPr>
                  <p:cNvPr id="1467" name=""/>
                  <p:cNvSpPr/>
                  <p:nvPr/>
                </p:nvSpPr>
                <p:spPr>
                  <a:xfrm>
                    <a:off x="6887880" y="5416920"/>
                    <a:ext cx="9252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224">
                        <a:moveTo>
                          <a:pt x="65" y="19"/>
                        </a:move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18" y="1"/>
                        </a:lnTo>
                        <a:lnTo>
                          <a:pt x="7" y="12"/>
                        </a:lnTo>
                        <a:lnTo>
                          <a:pt x="0" y="9"/>
                        </a:lnTo>
                        <a:lnTo>
                          <a:pt x="0" y="224"/>
                        </a:lnTo>
                        <a:lnTo>
                          <a:pt x="10" y="215"/>
                        </a:lnTo>
                        <a:lnTo>
                          <a:pt x="18" y="215"/>
                        </a:lnTo>
                        <a:lnTo>
                          <a:pt x="18" y="224"/>
                        </a:lnTo>
                        <a:lnTo>
                          <a:pt x="27" y="224"/>
                        </a:lnTo>
                        <a:lnTo>
                          <a:pt x="32" y="219"/>
                        </a:lnTo>
                        <a:lnTo>
                          <a:pt x="32" y="30"/>
                        </a:lnTo>
                        <a:lnTo>
                          <a:pt x="65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6881040" y="5426640"/>
                    <a:ext cx="684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17">
                        <a:moveTo>
                          <a:pt x="5" y="0"/>
                        </a:moveTo>
                        <a:lnTo>
                          <a:pt x="5" y="217"/>
                        </a:lnTo>
                        <a:lnTo>
                          <a:pt x="0" y="217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6913440" y="5416920"/>
                    <a:ext cx="126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24">
                        <a:moveTo>
                          <a:pt x="0" y="1"/>
                        </a:moveTo>
                        <a:lnTo>
                          <a:pt x="9" y="0"/>
                        </a:lnTo>
                        <a:lnTo>
                          <a:pt x="9" y="224"/>
                        </a:lnTo>
                        <a:lnTo>
                          <a:pt x="0" y="224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6897960" y="5425560"/>
                    <a:ext cx="1548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12">
                        <a:moveTo>
                          <a:pt x="0" y="212"/>
                        </a:moveTo>
                        <a:lnTo>
                          <a:pt x="0" y="9"/>
                        </a:lnTo>
                        <a:lnTo>
                          <a:pt x="11" y="0"/>
                        </a:lnTo>
                        <a:lnTo>
                          <a:pt x="11" y="212"/>
                        </a:lnTo>
                        <a:lnTo>
                          <a:pt x="0" y="2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1" name=""/>
                <p:cNvGrpSpPr/>
                <p:nvPr/>
              </p:nvGrpSpPr>
              <p:grpSpPr>
                <a:xfrm>
                  <a:off x="6573960" y="5532480"/>
                  <a:ext cx="62280" cy="201240"/>
                  <a:chOff x="6573960" y="5532480"/>
                  <a:chExt cx="62280" cy="201240"/>
                </a:xfrm>
              </p:grpSpPr>
              <p:sp>
                <p:nvSpPr>
                  <p:cNvPr id="1472" name=""/>
                  <p:cNvSpPr/>
                  <p:nvPr/>
                </p:nvSpPr>
                <p:spPr>
                  <a:xfrm>
                    <a:off x="6579720" y="5532480"/>
                    <a:ext cx="5652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41">
                        <a:moveTo>
                          <a:pt x="40" y="11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1" y="0"/>
                        </a:lnTo>
                        <a:lnTo>
                          <a:pt x="3" y="7"/>
                        </a:lnTo>
                        <a:lnTo>
                          <a:pt x="0" y="5"/>
                        </a:lnTo>
                        <a:lnTo>
                          <a:pt x="0" y="140"/>
                        </a:lnTo>
                        <a:lnTo>
                          <a:pt x="6" y="135"/>
                        </a:lnTo>
                        <a:lnTo>
                          <a:pt x="11" y="135"/>
                        </a:lnTo>
                        <a:lnTo>
                          <a:pt x="11" y="141"/>
                        </a:lnTo>
                        <a:lnTo>
                          <a:pt x="16" y="141"/>
                        </a:lnTo>
                        <a:lnTo>
                          <a:pt x="20" y="137"/>
                        </a:lnTo>
                        <a:lnTo>
                          <a:pt x="20" y="19"/>
                        </a:lnTo>
                        <a:lnTo>
                          <a:pt x="40" y="1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6573960" y="5538240"/>
                    <a:ext cx="57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36">
                        <a:moveTo>
                          <a:pt x="4" y="0"/>
                        </a:moveTo>
                        <a:lnTo>
                          <a:pt x="4" y="136"/>
                        </a:lnTo>
                        <a:lnTo>
                          <a:pt x="0" y="136"/>
                        </a:lnTo>
                        <a:lnTo>
                          <a:pt x="0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6593760" y="5532480"/>
                    <a:ext cx="82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0">
                        <a:moveTo>
                          <a:pt x="0" y="1"/>
                        </a:moveTo>
                        <a:lnTo>
                          <a:pt x="6" y="0"/>
                        </a:lnTo>
                        <a:lnTo>
                          <a:pt x="6" y="140"/>
                        </a:lnTo>
                        <a:lnTo>
                          <a:pt x="0" y="14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6583680" y="5535360"/>
                    <a:ext cx="972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5">
                        <a:moveTo>
                          <a:pt x="0" y="135"/>
                        </a:moveTo>
                        <a:lnTo>
                          <a:pt x="0" y="6"/>
                        </a:lnTo>
                        <a:lnTo>
                          <a:pt x="7" y="0"/>
                        </a:lnTo>
                        <a:lnTo>
                          <a:pt x="7" y="135"/>
                        </a:lnTo>
                        <a:lnTo>
                          <a:pt x="0" y="1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6" name=""/>
                <p:cNvGrpSpPr/>
                <p:nvPr/>
              </p:nvGrpSpPr>
              <p:grpSpPr>
                <a:xfrm>
                  <a:off x="6495480" y="5561280"/>
                  <a:ext cx="54360" cy="167040"/>
                  <a:chOff x="6495480" y="5561280"/>
                  <a:chExt cx="54360" cy="167040"/>
                </a:xfrm>
              </p:grpSpPr>
              <p:sp>
                <p:nvSpPr>
                  <p:cNvPr id="1477" name=""/>
                  <p:cNvSpPr/>
                  <p:nvPr/>
                </p:nvSpPr>
                <p:spPr>
                  <a:xfrm>
                    <a:off x="6498360" y="5561280"/>
                    <a:ext cx="514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17">
                        <a:moveTo>
                          <a:pt x="36" y="11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1" y="2"/>
                        </a:lnTo>
                        <a:lnTo>
                          <a:pt x="5" y="8"/>
                        </a:lnTo>
                        <a:lnTo>
                          <a:pt x="0" y="5"/>
                        </a:lnTo>
                        <a:lnTo>
                          <a:pt x="0" y="117"/>
                        </a:lnTo>
                        <a:lnTo>
                          <a:pt x="6" y="112"/>
                        </a:lnTo>
                        <a:lnTo>
                          <a:pt x="10" y="112"/>
                        </a:lnTo>
                        <a:lnTo>
                          <a:pt x="10" y="117"/>
                        </a:lnTo>
                        <a:lnTo>
                          <a:pt x="15" y="117"/>
                        </a:lnTo>
                        <a:lnTo>
                          <a:pt x="18" y="114"/>
                        </a:lnTo>
                        <a:lnTo>
                          <a:pt x="18" y="15"/>
                        </a:lnTo>
                        <a:lnTo>
                          <a:pt x="36" y="1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6495480" y="5568120"/>
                    <a:ext cx="2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12">
                        <a:moveTo>
                          <a:pt x="2" y="0"/>
                        </a:moveTo>
                        <a:lnTo>
                          <a:pt x="2" y="112"/>
                        </a:lnTo>
                        <a:lnTo>
                          <a:pt x="0" y="11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6512400" y="5561280"/>
                    <a:ext cx="684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17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117"/>
                        </a:lnTo>
                        <a:lnTo>
                          <a:pt x="0" y="117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6505200" y="5565240"/>
                    <a:ext cx="684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9">
                        <a:moveTo>
                          <a:pt x="0" y="109"/>
                        </a:moveTo>
                        <a:lnTo>
                          <a:pt x="0" y="6"/>
                        </a:lnTo>
                        <a:lnTo>
                          <a:pt x="5" y="0"/>
                        </a:lnTo>
                        <a:lnTo>
                          <a:pt x="5" y="109"/>
                        </a:lnTo>
                        <a:lnTo>
                          <a:pt x="0" y="10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481" name=""/>
          <p:cNvSpPr/>
          <p:nvPr/>
        </p:nvSpPr>
        <p:spPr>
          <a:xfrm>
            <a:off x="68580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 rot="13092600">
            <a:off x="5486040" y="4723560"/>
            <a:ext cx="649440" cy="8316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00"/>
          </a:solidFill>
          <a:ln cap="rnd"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 rot="13092600">
            <a:off x="4495320" y="4037760"/>
            <a:ext cx="517680" cy="9396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00"/>
          </a:solidFill>
          <a:ln cap="rnd"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9139400">
            <a:off x="4736880" y="4757400"/>
            <a:ext cx="695160" cy="15552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00"/>
          </a:solidFill>
          <a:ln cap="rnd"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295280" y="646128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2.3-1</a:t>
            </a: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　空運業務電子化發展示意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6" name=""/>
          <p:cNvGraphicFramePr/>
          <p:nvPr/>
        </p:nvGraphicFramePr>
        <p:xfrm>
          <a:off x="3200400" y="304920"/>
          <a:ext cx="533520" cy="66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304920"/>
                    <a:ext cx="5335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8" name=""/>
          <p:cNvGrpSpPr/>
          <p:nvPr/>
        </p:nvGrpSpPr>
        <p:grpSpPr>
          <a:xfrm>
            <a:off x="762120" y="380880"/>
            <a:ext cx="608040" cy="485640"/>
            <a:chOff x="762120" y="380880"/>
            <a:chExt cx="608040" cy="485640"/>
          </a:xfrm>
        </p:grpSpPr>
        <p:grpSp>
          <p:nvGrpSpPr>
            <p:cNvPr id="1489" name=""/>
            <p:cNvGrpSpPr/>
            <p:nvPr/>
          </p:nvGrpSpPr>
          <p:grpSpPr>
            <a:xfrm>
              <a:off x="762120" y="397080"/>
              <a:ext cx="608040" cy="469440"/>
              <a:chOff x="762120" y="397080"/>
              <a:chExt cx="608040" cy="469440"/>
            </a:xfrm>
          </p:grpSpPr>
          <p:grpSp>
            <p:nvGrpSpPr>
              <p:cNvPr id="1490" name=""/>
              <p:cNvGrpSpPr/>
              <p:nvPr/>
            </p:nvGrpSpPr>
            <p:grpSpPr>
              <a:xfrm>
                <a:off x="978840" y="674640"/>
                <a:ext cx="22680" cy="59040"/>
                <a:chOff x="978840" y="674640"/>
                <a:chExt cx="22680" cy="5904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978840" y="674640"/>
                  <a:ext cx="22680" cy="5904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987840" y="674640"/>
                  <a:ext cx="5040" cy="52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3" name=""/>
              <p:cNvSpPr/>
              <p:nvPr/>
            </p:nvSpPr>
            <p:spPr>
              <a:xfrm>
                <a:off x="890280" y="638640"/>
                <a:ext cx="70200" cy="95760"/>
              </a:xfrm>
              <a:prstGeom prst="rect">
                <a:avLst/>
              </a:prstGeom>
              <a:solidFill>
                <a:srgbClr val="c0c0c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134720" y="655200"/>
                <a:ext cx="42480" cy="194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0"/>
                    </a:moveTo>
                    <a:lnTo>
                      <a:pt x="0" y="11"/>
                    </a:lnTo>
                    <a:lnTo>
                      <a:pt x="18" y="11"/>
                    </a:lnTo>
                    <a:lnTo>
                      <a:pt x="18" y="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045080" y="618120"/>
                <a:ext cx="28800" cy="2016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7" y="0"/>
                    </a:moveTo>
                    <a:lnTo>
                      <a:pt x="0" y="10"/>
                    </a:lnTo>
                    <a:lnTo>
                      <a:pt x="10" y="10"/>
                    </a:lnTo>
                    <a:lnTo>
                      <a:pt x="13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993960" y="740520"/>
                <a:ext cx="140760" cy="6480"/>
              </a:xfrm>
              <a:custGeom>
                <a:avLst/>
                <a:gdLst/>
                <a:ahLst/>
                <a:rect l="l" t="t" r="r" b="b"/>
                <a:pathLst>
                  <a:path w="59" h="4">
                    <a:moveTo>
                      <a:pt x="0" y="0"/>
                    </a:moveTo>
                    <a:lnTo>
                      <a:pt x="59" y="0"/>
                    </a:lnTo>
                    <a:lnTo>
                      <a:pt x="59" y="4"/>
                    </a:lnTo>
                    <a:lnTo>
                      <a:pt x="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890280" y="50256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3" y="0"/>
                    </a:moveTo>
                    <a:lnTo>
                      <a:pt x="0" y="17"/>
                    </a:lnTo>
                    <a:lnTo>
                      <a:pt x="0" y="24"/>
                    </a:lnTo>
                    <a:lnTo>
                      <a:pt x="24" y="8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5160" y="397080"/>
                <a:ext cx="85320" cy="33768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38" y="0"/>
                    </a:moveTo>
                    <a:lnTo>
                      <a:pt x="0" y="13"/>
                    </a:lnTo>
                    <a:lnTo>
                      <a:pt x="0" y="203"/>
                    </a:lnTo>
                    <a:lnTo>
                      <a:pt x="7" y="203"/>
                    </a:lnTo>
                    <a:lnTo>
                      <a:pt x="7" y="30"/>
                    </a:lnTo>
                    <a:lnTo>
                      <a:pt x="38" y="19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9f9f9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70840" y="734760"/>
                <a:ext cx="498960" cy="72720"/>
              </a:xfrm>
              <a:custGeom>
                <a:avLst/>
                <a:gdLst/>
                <a:ahLst/>
                <a:rect l="l" t="t" r="r" b="b"/>
                <a:pathLst>
                  <a:path w="212" h="45">
                    <a:moveTo>
                      <a:pt x="0" y="45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56" y="7"/>
                    </a:lnTo>
                    <a:lnTo>
                      <a:pt x="84" y="7"/>
                    </a:lnTo>
                    <a:lnTo>
                      <a:pt x="93" y="15"/>
                    </a:lnTo>
                    <a:lnTo>
                      <a:pt x="185" y="15"/>
                    </a:lnTo>
                    <a:lnTo>
                      <a:pt x="185" y="29"/>
                    </a:lnTo>
                    <a:lnTo>
                      <a:pt x="212" y="29"/>
                    </a:lnTo>
                    <a:lnTo>
                      <a:pt x="21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70840" y="780480"/>
                <a:ext cx="371880" cy="27000"/>
              </a:xfrm>
              <a:prstGeom prst="rect">
                <a:avLst/>
              </a:prstGeom>
              <a:solidFill>
                <a:srgbClr val="c0c0c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7160" y="631800"/>
                <a:ext cx="3960" cy="424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37720" y="674640"/>
                <a:ext cx="3708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3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5" y="5"/>
                    </a:lnTo>
                    <a:lnTo>
                      <a:pt x="5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021680" y="658080"/>
                <a:ext cx="113040" cy="8928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0" y="0"/>
                    </a:moveTo>
                    <a:lnTo>
                      <a:pt x="48" y="53"/>
                    </a:lnTo>
                    <a:lnTo>
                      <a:pt x="40" y="52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86600" y="707400"/>
                <a:ext cx="84240" cy="9972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27" y="0"/>
                    </a:moveTo>
                    <a:lnTo>
                      <a:pt x="0" y="22"/>
                    </a:lnTo>
                    <a:lnTo>
                      <a:pt x="0" y="60"/>
                    </a:lnTo>
                    <a:lnTo>
                      <a:pt x="36" y="60"/>
                    </a:lnTo>
                    <a:lnTo>
                      <a:pt x="36" y="1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62120" y="850320"/>
                <a:ext cx="608040" cy="16200"/>
              </a:xfrm>
              <a:prstGeom prst="rect">
                <a:avLst/>
              </a:prstGeom>
              <a:solidFill>
                <a:srgbClr val="9f9f9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62120" y="829800"/>
                <a:ext cx="608040" cy="20160"/>
              </a:xfrm>
              <a:prstGeom prst="rect">
                <a:avLst/>
              </a:prstGeom>
              <a:solidFill>
                <a:srgbClr val="9f9f9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62120" y="807480"/>
                <a:ext cx="608040" cy="22320"/>
              </a:xfrm>
              <a:prstGeom prst="rect">
                <a:avLst/>
              </a:prstGeom>
              <a:solidFill>
                <a:srgbClr val="9f9f9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289880" y="786960"/>
                <a:ext cx="61920" cy="13320"/>
              </a:xfrm>
              <a:prstGeom prst="rect">
                <a:avLst/>
              </a:prstGeom>
              <a:solidFill>
                <a:srgbClr val="9f9f9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824040" y="694800"/>
                <a:ext cx="51120" cy="25920"/>
              </a:xfrm>
              <a:prstGeom prst="ellipse">
                <a:avLst/>
              </a:prstGeom>
              <a:solidFill>
                <a:srgbClr val="9f9f9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978840" y="648360"/>
                <a:ext cx="42480" cy="23040"/>
              </a:xfrm>
              <a:prstGeom prst="rect">
                <a:avLst/>
              </a:prstGeom>
              <a:solidFill>
                <a:srgbClr val="80808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960840" y="638640"/>
                <a:ext cx="173880" cy="9576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10" y="58"/>
                    </a:moveTo>
                    <a:lnTo>
                      <a:pt x="10" y="7"/>
                    </a:lnTo>
                    <a:lnTo>
                      <a:pt x="74" y="7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10" y="58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2" name=""/>
              <p:cNvGrpSpPr/>
              <p:nvPr/>
            </p:nvGrpSpPr>
            <p:grpSpPr>
              <a:xfrm>
                <a:off x="814320" y="542520"/>
                <a:ext cx="196560" cy="101880"/>
                <a:chOff x="814320" y="542520"/>
                <a:chExt cx="196560" cy="10188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833400" y="542520"/>
                  <a:ext cx="177480" cy="10188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814320" y="542520"/>
                  <a:ext cx="178560" cy="10188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890280" y="734760"/>
                <a:ext cx="69480" cy="94320"/>
                <a:chOff x="890280" y="734760"/>
                <a:chExt cx="69480" cy="9432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890280" y="734760"/>
                  <a:ext cx="69480" cy="9432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7" name=""/>
                <p:cNvGrpSpPr/>
                <p:nvPr/>
              </p:nvGrpSpPr>
              <p:grpSpPr>
                <a:xfrm>
                  <a:off x="890280" y="744120"/>
                  <a:ext cx="68760" cy="74520"/>
                  <a:chOff x="890280" y="744120"/>
                  <a:chExt cx="68760" cy="7452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890280" y="756720"/>
                    <a:ext cx="68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890280" y="792720"/>
                    <a:ext cx="68760" cy="2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890280" y="779400"/>
                    <a:ext cx="68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890280" y="770040"/>
                    <a:ext cx="68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890280" y="744120"/>
                    <a:ext cx="68760" cy="2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890280" y="806040"/>
                    <a:ext cx="68760" cy="2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890280" y="815760"/>
                    <a:ext cx="68760" cy="2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25" name=""/>
              <p:cNvSpPr/>
              <p:nvPr/>
            </p:nvSpPr>
            <p:spPr>
              <a:xfrm>
                <a:off x="1304640" y="757080"/>
                <a:ext cx="23400" cy="23040"/>
              </a:xfrm>
              <a:prstGeom prst="rect">
                <a:avLst/>
              </a:prstGeom>
              <a:solidFill>
                <a:srgbClr val="c0c0c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1125720" y="489600"/>
              <a:ext cx="112320" cy="65160"/>
              <a:chOff x="1125720" y="489600"/>
              <a:chExt cx="112320" cy="651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186200" y="509400"/>
                <a:ext cx="51840" cy="4536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16" y="0"/>
                    </a:moveTo>
                    <a:lnTo>
                      <a:pt x="0" y="25"/>
                    </a:lnTo>
                    <a:lnTo>
                      <a:pt x="2" y="29"/>
                    </a:lnTo>
                    <a:lnTo>
                      <a:pt x="20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fbfd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125720" y="489600"/>
                <a:ext cx="93240" cy="13320"/>
              </a:xfrm>
              <a:custGeom>
                <a:avLst/>
                <a:gdLst/>
                <a:ahLst/>
                <a:rect l="l" t="t" r="r" b="b"/>
                <a:pathLst>
                  <a:path w="40" h="7">
                    <a:moveTo>
                      <a:pt x="38" y="0"/>
                    </a:moveTo>
                    <a:lnTo>
                      <a:pt x="0" y="4"/>
                    </a:lnTo>
                    <a:lnTo>
                      <a:pt x="6" y="7"/>
                    </a:lnTo>
                    <a:lnTo>
                      <a:pt x="40" y="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fbfd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908640" y="380880"/>
              <a:ext cx="357480" cy="310320"/>
              <a:chOff x="908640" y="380880"/>
              <a:chExt cx="357480" cy="310320"/>
            </a:xfrm>
          </p:grpSpPr>
          <p:sp>
            <p:nvSpPr>
              <p:cNvPr id="1530" name=""/>
              <p:cNvSpPr/>
              <p:nvPr/>
            </p:nvSpPr>
            <p:spPr>
              <a:xfrm>
                <a:off x="908640" y="380880"/>
                <a:ext cx="357480" cy="310320"/>
              </a:xfrm>
              <a:custGeom>
                <a:avLst/>
                <a:gdLst/>
                <a:ahLst/>
                <a:rect l="l" t="t" r="r" b="b"/>
                <a:pathLst>
                  <a:path w="151" h="189">
                    <a:moveTo>
                      <a:pt x="5" y="7"/>
                    </a:moveTo>
                    <a:lnTo>
                      <a:pt x="2" y="13"/>
                    </a:lnTo>
                    <a:lnTo>
                      <a:pt x="1" y="19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7" y="68"/>
                    </a:lnTo>
                    <a:lnTo>
                      <a:pt x="13" y="84"/>
                    </a:lnTo>
                    <a:lnTo>
                      <a:pt x="22" y="98"/>
                    </a:lnTo>
                    <a:lnTo>
                      <a:pt x="35" y="116"/>
                    </a:lnTo>
                    <a:lnTo>
                      <a:pt x="49" y="133"/>
                    </a:lnTo>
                    <a:lnTo>
                      <a:pt x="61" y="143"/>
                    </a:lnTo>
                    <a:lnTo>
                      <a:pt x="77" y="156"/>
                    </a:lnTo>
                    <a:lnTo>
                      <a:pt x="93" y="168"/>
                    </a:lnTo>
                    <a:lnTo>
                      <a:pt x="108" y="176"/>
                    </a:lnTo>
                    <a:lnTo>
                      <a:pt x="119" y="182"/>
                    </a:lnTo>
                    <a:lnTo>
                      <a:pt x="130" y="186"/>
                    </a:lnTo>
                    <a:lnTo>
                      <a:pt x="140" y="189"/>
                    </a:lnTo>
                    <a:lnTo>
                      <a:pt x="146" y="189"/>
                    </a:lnTo>
                    <a:lnTo>
                      <a:pt x="151" y="186"/>
                    </a:lnTo>
                    <a:lnTo>
                      <a:pt x="1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932040" y="380880"/>
                <a:ext cx="333720" cy="307440"/>
              </a:xfrm>
              <a:custGeom>
                <a:avLst/>
                <a:gdLst/>
                <a:ahLst/>
                <a:rect l="l" t="t" r="r" b="b"/>
                <a:pathLst>
                  <a:path w="142" h="186">
                    <a:moveTo>
                      <a:pt x="1" y="0"/>
                    </a:moveTo>
                    <a:lnTo>
                      <a:pt x="0" y="3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1" y="29"/>
                    </a:lnTo>
                    <a:lnTo>
                      <a:pt x="4" y="38"/>
                    </a:lnTo>
                    <a:lnTo>
                      <a:pt x="5" y="51"/>
                    </a:lnTo>
                    <a:lnTo>
                      <a:pt x="9" y="63"/>
                    </a:lnTo>
                    <a:lnTo>
                      <a:pt x="15" y="79"/>
                    </a:lnTo>
                    <a:lnTo>
                      <a:pt x="26" y="97"/>
                    </a:lnTo>
                    <a:lnTo>
                      <a:pt x="37" y="111"/>
                    </a:lnTo>
                    <a:lnTo>
                      <a:pt x="52" y="127"/>
                    </a:lnTo>
                    <a:lnTo>
                      <a:pt x="65" y="138"/>
                    </a:lnTo>
                    <a:lnTo>
                      <a:pt x="74" y="147"/>
                    </a:lnTo>
                    <a:lnTo>
                      <a:pt x="84" y="155"/>
                    </a:lnTo>
                    <a:lnTo>
                      <a:pt x="93" y="162"/>
                    </a:lnTo>
                    <a:lnTo>
                      <a:pt x="105" y="169"/>
                    </a:lnTo>
                    <a:lnTo>
                      <a:pt x="111" y="173"/>
                    </a:lnTo>
                    <a:lnTo>
                      <a:pt x="120" y="178"/>
                    </a:lnTo>
                    <a:lnTo>
                      <a:pt x="128" y="182"/>
                    </a:lnTo>
                    <a:lnTo>
                      <a:pt x="136" y="186"/>
                    </a:lnTo>
                    <a:lnTo>
                      <a:pt x="141" y="186"/>
                    </a:lnTo>
                    <a:lnTo>
                      <a:pt x="142" y="184"/>
                    </a:lnTo>
                    <a:lnTo>
                      <a:pt x="142" y="180"/>
                    </a:lnTo>
                    <a:lnTo>
                      <a:pt x="141" y="176"/>
                    </a:lnTo>
                    <a:lnTo>
                      <a:pt x="138" y="168"/>
                    </a:lnTo>
                    <a:lnTo>
                      <a:pt x="137" y="158"/>
                    </a:lnTo>
                    <a:lnTo>
                      <a:pt x="133" y="149"/>
                    </a:lnTo>
                    <a:lnTo>
                      <a:pt x="131" y="137"/>
                    </a:lnTo>
                    <a:lnTo>
                      <a:pt x="125" y="125"/>
                    </a:lnTo>
                    <a:lnTo>
                      <a:pt x="120" y="116"/>
                    </a:lnTo>
                    <a:lnTo>
                      <a:pt x="116" y="107"/>
                    </a:lnTo>
                    <a:lnTo>
                      <a:pt x="110" y="97"/>
                    </a:lnTo>
                    <a:lnTo>
                      <a:pt x="103" y="88"/>
                    </a:lnTo>
                    <a:lnTo>
                      <a:pt x="96" y="77"/>
                    </a:lnTo>
                    <a:lnTo>
                      <a:pt x="83" y="64"/>
                    </a:lnTo>
                    <a:lnTo>
                      <a:pt x="74" y="55"/>
                    </a:lnTo>
                    <a:lnTo>
                      <a:pt x="62" y="42"/>
                    </a:lnTo>
                    <a:lnTo>
                      <a:pt x="50" y="33"/>
                    </a:lnTo>
                    <a:lnTo>
                      <a:pt x="39" y="24"/>
                    </a:lnTo>
                    <a:lnTo>
                      <a:pt x="30" y="18"/>
                    </a:lnTo>
                    <a:lnTo>
                      <a:pt x="21" y="11"/>
                    </a:lnTo>
                    <a:lnTo>
                      <a:pt x="14" y="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941760" y="460440"/>
              <a:ext cx="347400" cy="201240"/>
              <a:chOff x="941760" y="460440"/>
              <a:chExt cx="347400" cy="201240"/>
            </a:xfrm>
          </p:grpSpPr>
          <p:sp>
            <p:nvSpPr>
              <p:cNvPr id="1533" name=""/>
              <p:cNvSpPr/>
              <p:nvPr/>
            </p:nvSpPr>
            <p:spPr>
              <a:xfrm>
                <a:off x="941760" y="460440"/>
                <a:ext cx="329400" cy="12600"/>
              </a:xfrm>
              <a:custGeom>
                <a:avLst/>
                <a:gdLst/>
                <a:ahLst/>
                <a:rect l="l" t="t" r="r" b="b"/>
                <a:pathLst>
                  <a:path w="140" h="7">
                    <a:moveTo>
                      <a:pt x="0" y="0"/>
                    </a:moveTo>
                    <a:lnTo>
                      <a:pt x="140" y="3"/>
                    </a:lnTo>
                    <a:lnTo>
                      <a:pt x="138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167840" y="500040"/>
                <a:ext cx="121320" cy="16164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44" y="1"/>
                    </a:moveTo>
                    <a:lnTo>
                      <a:pt x="0" y="95"/>
                    </a:lnTo>
                    <a:lnTo>
                      <a:pt x="4" y="97"/>
                    </a:lnTo>
                    <a:lnTo>
                      <a:pt x="50" y="0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dfd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1210320" y="460440"/>
              <a:ext cx="141480" cy="51840"/>
              <a:chOff x="1210320" y="460440"/>
              <a:chExt cx="141480" cy="51840"/>
            </a:xfrm>
          </p:grpSpPr>
          <p:sp>
            <p:nvSpPr>
              <p:cNvPr id="1536" name=""/>
              <p:cNvSpPr/>
              <p:nvPr/>
            </p:nvSpPr>
            <p:spPr>
              <a:xfrm>
                <a:off x="1210320" y="466200"/>
                <a:ext cx="94680" cy="46080"/>
              </a:xfrm>
              <a:custGeom>
                <a:avLst/>
                <a:gdLst/>
                <a:ahLst/>
                <a:rect l="l" t="t" r="r" b="b"/>
                <a:pathLst>
                  <a:path w="40" h="27">
                    <a:moveTo>
                      <a:pt x="30" y="0"/>
                    </a:moveTo>
                    <a:lnTo>
                      <a:pt x="1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5" y="24"/>
                    </a:lnTo>
                    <a:lnTo>
                      <a:pt x="9" y="26"/>
                    </a:lnTo>
                    <a:lnTo>
                      <a:pt x="12" y="27"/>
                    </a:lnTo>
                    <a:lnTo>
                      <a:pt x="14" y="27"/>
                    </a:lnTo>
                    <a:lnTo>
                      <a:pt x="40" y="17"/>
                    </a:lnTo>
                    <a:lnTo>
                      <a:pt x="35" y="13"/>
                    </a:lnTo>
                    <a:lnTo>
                      <a:pt x="32" y="1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fbfd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266480" y="460440"/>
                <a:ext cx="56160" cy="424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13" y="4"/>
                    </a:moveTo>
                    <a:lnTo>
                      <a:pt x="13" y="2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4" y="17"/>
                    </a:lnTo>
                    <a:lnTo>
                      <a:pt x="5" y="19"/>
                    </a:lnTo>
                    <a:lnTo>
                      <a:pt x="8" y="22"/>
                    </a:lnTo>
                    <a:lnTo>
                      <a:pt x="11" y="23"/>
                    </a:lnTo>
                    <a:lnTo>
                      <a:pt x="13" y="24"/>
                    </a:lnTo>
                    <a:lnTo>
                      <a:pt x="16" y="26"/>
                    </a:lnTo>
                    <a:lnTo>
                      <a:pt x="20" y="26"/>
                    </a:lnTo>
                    <a:lnTo>
                      <a:pt x="22" y="24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2" y="17"/>
                    </a:lnTo>
                    <a:lnTo>
                      <a:pt x="21" y="13"/>
                    </a:lnTo>
                    <a:lnTo>
                      <a:pt x="17" y="8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281600" y="466200"/>
                <a:ext cx="70200" cy="26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" y="4"/>
                    </a:moveTo>
                    <a:lnTo>
                      <a:pt x="19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6"/>
                    </a:lnTo>
                    <a:lnTo>
                      <a:pt x="10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f9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229400" y="479520"/>
                <a:ext cx="32760" cy="295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3" y="1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248480" y="473040"/>
                <a:ext cx="32760" cy="295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2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9" y="16"/>
                    </a:lnTo>
                    <a:lnTo>
                      <a:pt x="11" y="18"/>
                    </a:lnTo>
                    <a:lnTo>
                      <a:pt x="13" y="1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1" name=""/>
          <p:cNvSpPr/>
          <p:nvPr/>
        </p:nvSpPr>
        <p:spPr>
          <a:xfrm rot="13092000">
            <a:off x="1143000" y="1447560"/>
            <a:ext cx="890640" cy="11592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00"/>
          </a:solidFill>
          <a:ln cap="rnd"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 rot="19140000">
            <a:off x="2185560" y="1432080"/>
            <a:ext cx="914400" cy="7596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0000"/>
          </a:solidFill>
          <a:ln cap="rnd"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971800" y="914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企業組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85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傳播媒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248520" y="26668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809880" y="19810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816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510516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9528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438280" y="4038480"/>
            <a:ext cx="1219320" cy="3812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828800" y="3276720"/>
            <a:ext cx="1981080" cy="344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752480" y="3276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停機坪車輛通行證申請作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200400" y="28195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809880" y="3581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0481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867280" y="380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867280" y="76212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553080" y="457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553080" y="914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5029200" y="533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圖例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086600" y="304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已完成電子化業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086600" y="6858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進行中與未來發展之電子化業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6"/>
          <a:stretch/>
        </p:blipFill>
        <p:spPr>
          <a:xfrm>
            <a:off x="1295280" y="4267080"/>
            <a:ext cx="922320" cy="928800"/>
          </a:xfrm>
          <a:prstGeom prst="rect">
            <a:avLst/>
          </a:prstGeom>
          <a:ln w="0">
            <a:noFill/>
          </a:ln>
        </p:spPr>
      </p:pic>
      <p:sp>
        <p:nvSpPr>
          <p:cNvPr id="1564" name=""/>
          <p:cNvSpPr/>
          <p:nvPr/>
        </p:nvSpPr>
        <p:spPr>
          <a:xfrm>
            <a:off x="160020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98108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6" name="" descr=""/>
          <p:cNvPicPr/>
          <p:nvPr/>
        </p:nvPicPr>
        <p:blipFill>
          <a:blip r:embed="rId7"/>
          <a:stretch/>
        </p:blipFill>
        <p:spPr>
          <a:xfrm>
            <a:off x="2666880" y="5029200"/>
            <a:ext cx="951120" cy="642960"/>
          </a:xfrm>
          <a:prstGeom prst="rect">
            <a:avLst/>
          </a:prstGeom>
          <a:ln w="0">
            <a:noFill/>
          </a:ln>
        </p:spPr>
      </p:pic>
      <p:pic>
        <p:nvPicPr>
          <p:cNvPr id="1567" name="" descr=""/>
          <p:cNvPicPr/>
          <p:nvPr/>
        </p:nvPicPr>
        <p:blipFill>
          <a:blip r:embed="rId8"/>
          <a:stretch/>
        </p:blipFill>
        <p:spPr>
          <a:xfrm>
            <a:off x="4343400" y="5105520"/>
            <a:ext cx="880920" cy="642960"/>
          </a:xfrm>
          <a:prstGeom prst="rect">
            <a:avLst/>
          </a:prstGeom>
          <a:ln w="0">
            <a:noFill/>
          </a:ln>
        </p:spPr>
      </p:pic>
      <p:pic>
        <p:nvPicPr>
          <p:cNvPr id="1568" name="" descr=""/>
          <p:cNvPicPr/>
          <p:nvPr/>
        </p:nvPicPr>
        <p:blipFill>
          <a:blip r:embed="rId9"/>
          <a:stretch/>
        </p:blipFill>
        <p:spPr>
          <a:xfrm>
            <a:off x="5486400" y="4952880"/>
            <a:ext cx="90000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8T05:54:40Z</dcterms:created>
  <dc:creator>胡守任</dc:creator>
  <dc:description/>
  <dc:language>en-US</dc:language>
  <cp:lastModifiedBy>胡守任</cp:lastModifiedBy>
  <cp:lastPrinted>1998-02-27T02:48:16Z</cp:lastPrinted>
  <dcterms:modified xsi:type="dcterms:W3CDTF">1998-02-27T03:14:42Z</dcterms:modified>
  <cp:revision>29</cp:revision>
  <dc:subject/>
  <dc:title>無投影片標題</dc:title>
</cp:coreProperties>
</file>