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EBF1-EB9D-4C01-9158-4DC1CFE2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773-D01B-42B7-9004-DBFCC4B5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E00-FD07-44E0-B461-D7A5172E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22A9-6865-42E0-9806-827B190C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4A0-D16A-4E95-AD7A-E53BFE60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4C5-688C-4B4A-A66E-EB823E70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76B0-A1B8-41FF-85A9-357087AB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295-24A2-44E5-959E-BD4D9ECF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4310-6F67-41FD-9572-C559781B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318-F26E-4096-9180-178E73B7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B47B-BA56-4138-B6A0-DD8798E3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1BF-F636-46C9-B5C0-A3B13750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B2E2-15B9-438F-9093-03784C842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2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2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6.wmf"/><Relationship Id="rId15" Type="http://schemas.openxmlformats.org/officeDocument/2006/relationships/image" Target="../media/image7.wmf"/><Relationship Id="rId16" Type="http://schemas.openxmlformats.org/officeDocument/2006/relationships/image" Target="../media/image3.wmf"/><Relationship Id="rId17" Type="http://schemas.openxmlformats.org/officeDocument/2006/relationships/image" Target="../media/image7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7.wmf"/><Relationship Id="rId2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2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2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6.wmf"/><Relationship Id="rId15" Type="http://schemas.openxmlformats.org/officeDocument/2006/relationships/image" Target="../media/image7.wmf"/><Relationship Id="rId16" Type="http://schemas.openxmlformats.org/officeDocument/2006/relationships/image" Target="../media/image3.wmf"/><Relationship Id="rId17" Type="http://schemas.openxmlformats.org/officeDocument/2006/relationships/image" Target="../media/image7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7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8.wmf"/><Relationship Id="rId26" Type="http://schemas.openxmlformats.org/officeDocument/2006/relationships/image" Target="../media/image9.wmf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72200" y="3657600"/>
            <a:ext cx="1600200" cy="198108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1143000" cy="95724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4038480" y="1143000"/>
            <a:ext cx="588960" cy="838080"/>
            <a:chOff x="4038480" y="1143000"/>
            <a:chExt cx="588960" cy="83808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038480" y="1371600"/>
              <a:ext cx="5875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141800" y="1143000"/>
              <a:ext cx="48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交換集線器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6568920" y="2820960"/>
            <a:ext cx="533520" cy="447840"/>
            <a:chOff x="6568920" y="2820960"/>
            <a:chExt cx="533520" cy="44784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6568920" y="3040200"/>
              <a:ext cx="53352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6615720" y="2820960"/>
              <a:ext cx="36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數據機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662840" y="838080"/>
            <a:ext cx="410400" cy="447840"/>
            <a:chOff x="1662840" y="838080"/>
            <a:chExt cx="410400" cy="447840"/>
          </a:xfrm>
        </p:grpSpPr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1692000" y="981000"/>
              <a:ext cx="381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662840" y="838080"/>
              <a:ext cx="36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路由器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8153280" y="1295280"/>
            <a:ext cx="378000" cy="762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4648320" y="11426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15000" y="1600200"/>
            <a:ext cx="596880" cy="466560"/>
            <a:chOff x="5715000" y="1600200"/>
            <a:chExt cx="596880" cy="466560"/>
          </a:xfrm>
        </p:grpSpPr>
        <p:sp>
          <p:nvSpPr>
            <p:cNvPr id="55" name=""/>
            <p:cNvSpPr/>
            <p:nvPr/>
          </p:nvSpPr>
          <p:spPr>
            <a:xfrm>
              <a:off x="5715000" y="1955880"/>
              <a:ext cx="57240" cy="34920"/>
            </a:xfrm>
            <a:custGeom>
              <a:avLst/>
              <a:gdLst/>
              <a:ahLst/>
              <a:rect l="l" t="t" r="r" b="b"/>
              <a:pathLst>
                <a:path w="257" h="153">
                  <a:moveTo>
                    <a:pt x="252" y="0"/>
                  </a:moveTo>
                  <a:lnTo>
                    <a:pt x="193" y="0"/>
                  </a:lnTo>
                  <a:lnTo>
                    <a:pt x="160" y="4"/>
                  </a:lnTo>
                  <a:lnTo>
                    <a:pt x="128" y="9"/>
                  </a:lnTo>
                  <a:lnTo>
                    <a:pt x="89" y="16"/>
                  </a:lnTo>
                  <a:lnTo>
                    <a:pt x="59" y="24"/>
                  </a:lnTo>
                  <a:lnTo>
                    <a:pt x="38" y="31"/>
                  </a:lnTo>
                  <a:lnTo>
                    <a:pt x="24" y="40"/>
                  </a:lnTo>
                  <a:lnTo>
                    <a:pt x="13" y="48"/>
                  </a:lnTo>
                  <a:lnTo>
                    <a:pt x="5" y="58"/>
                  </a:lnTo>
                  <a:lnTo>
                    <a:pt x="0" y="69"/>
                  </a:lnTo>
                  <a:lnTo>
                    <a:pt x="1" y="81"/>
                  </a:lnTo>
                  <a:lnTo>
                    <a:pt x="8" y="92"/>
                  </a:lnTo>
                  <a:lnTo>
                    <a:pt x="17" y="98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79" y="99"/>
                  </a:lnTo>
                  <a:lnTo>
                    <a:pt x="108" y="96"/>
                  </a:lnTo>
                  <a:lnTo>
                    <a:pt x="135" y="98"/>
                  </a:lnTo>
                  <a:lnTo>
                    <a:pt x="155" y="101"/>
                  </a:lnTo>
                  <a:lnTo>
                    <a:pt x="175" y="106"/>
                  </a:lnTo>
                  <a:lnTo>
                    <a:pt x="197" y="115"/>
                  </a:lnTo>
                  <a:lnTo>
                    <a:pt x="257" y="153"/>
                  </a:lnTo>
                  <a:lnTo>
                    <a:pt x="254" y="153"/>
                  </a:lnTo>
                  <a:lnTo>
                    <a:pt x="255" y="150"/>
                  </a:lnTo>
                </a:path>
              </a:pathLst>
            </a:custGeom>
            <a:noFill/>
            <a:ln w="79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5764320" y="1859040"/>
              <a:ext cx="469800" cy="160200"/>
              <a:chOff x="5764320" y="1859040"/>
              <a:chExt cx="469800" cy="160200"/>
            </a:xfrm>
          </p:grpSpPr>
          <p:sp>
            <p:nvSpPr>
              <p:cNvPr id="57" name=""/>
              <p:cNvSpPr/>
              <p:nvPr/>
            </p:nvSpPr>
            <p:spPr>
              <a:xfrm>
                <a:off x="5767560" y="1939680"/>
                <a:ext cx="466560" cy="79560"/>
              </a:xfrm>
              <a:custGeom>
                <a:avLst/>
                <a:gdLst/>
                <a:ahLst/>
                <a:rect l="l" t="t" r="r" b="b"/>
                <a:pathLst>
                  <a:path w="2056" h="354">
                    <a:moveTo>
                      <a:pt x="0" y="22"/>
                    </a:moveTo>
                    <a:lnTo>
                      <a:pt x="0" y="178"/>
                    </a:lnTo>
                    <a:lnTo>
                      <a:pt x="1669" y="354"/>
                    </a:lnTo>
                    <a:lnTo>
                      <a:pt x="2056" y="138"/>
                    </a:lnTo>
                    <a:lnTo>
                      <a:pt x="2056" y="0"/>
                    </a:lnTo>
                    <a:lnTo>
                      <a:pt x="1655" y="187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764320" y="1859040"/>
                <a:ext cx="379440" cy="123480"/>
              </a:xfrm>
              <a:custGeom>
                <a:avLst/>
                <a:gdLst/>
                <a:ahLst/>
                <a:rect l="l" t="t" r="r" b="b"/>
                <a:pathLst>
                  <a:path w="1676" h="546">
                    <a:moveTo>
                      <a:pt x="0" y="0"/>
                    </a:moveTo>
                    <a:lnTo>
                      <a:pt x="1676" y="120"/>
                    </a:lnTo>
                    <a:lnTo>
                      <a:pt x="1676" y="546"/>
                    </a:lnTo>
                    <a:lnTo>
                      <a:pt x="0" y="3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5765760" y="1881000"/>
                <a:ext cx="379440" cy="49320"/>
                <a:chOff x="5765760" y="1881000"/>
                <a:chExt cx="379440" cy="493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5765760" y="1881000"/>
                  <a:ext cx="378000" cy="28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043680" y="1903320"/>
                  <a:ext cx="79200" cy="7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950080" y="1896840"/>
                  <a:ext cx="79200" cy="6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765760" y="1896840"/>
                  <a:ext cx="379440" cy="334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5764320" y="1841400"/>
              <a:ext cx="469800" cy="44280"/>
              <a:chOff x="5764320" y="1841400"/>
              <a:chExt cx="469800" cy="44280"/>
            </a:xfrm>
          </p:grpSpPr>
          <p:sp>
            <p:nvSpPr>
              <p:cNvPr id="65" name=""/>
              <p:cNvSpPr/>
              <p:nvPr/>
            </p:nvSpPr>
            <p:spPr>
              <a:xfrm>
                <a:off x="5764320" y="1841400"/>
                <a:ext cx="469800" cy="44280"/>
              </a:xfrm>
              <a:custGeom>
                <a:avLst/>
                <a:gdLst/>
                <a:ahLst/>
                <a:rect l="l" t="t" r="r" b="b"/>
                <a:pathLst>
                  <a:path w="2075" h="195">
                    <a:moveTo>
                      <a:pt x="0" y="75"/>
                    </a:moveTo>
                    <a:lnTo>
                      <a:pt x="1675" y="195"/>
                    </a:lnTo>
                    <a:lnTo>
                      <a:pt x="2075" y="81"/>
                    </a:lnTo>
                    <a:lnTo>
                      <a:pt x="1934" y="65"/>
                    </a:lnTo>
                    <a:lnTo>
                      <a:pt x="639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870520" y="1850760"/>
                <a:ext cx="346320" cy="28800"/>
              </a:xfrm>
              <a:custGeom>
                <a:avLst/>
                <a:gdLst/>
                <a:ahLst/>
                <a:rect l="l" t="t" r="r" b="b"/>
                <a:pathLst>
                  <a:path w="1525" h="124">
                    <a:moveTo>
                      <a:pt x="124" y="0"/>
                    </a:moveTo>
                    <a:lnTo>
                      <a:pt x="0" y="46"/>
                    </a:lnTo>
                    <a:lnTo>
                      <a:pt x="1231" y="124"/>
                    </a:lnTo>
                    <a:lnTo>
                      <a:pt x="1432" y="69"/>
                    </a:lnTo>
                    <a:lnTo>
                      <a:pt x="1415" y="61"/>
                    </a:lnTo>
                    <a:lnTo>
                      <a:pt x="1525" y="31"/>
                    </a:lnTo>
                    <a:lnTo>
                      <a:pt x="1457" y="24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6148440" y="1604880"/>
              <a:ext cx="85680" cy="268200"/>
              <a:chOff x="6148440" y="1604880"/>
              <a:chExt cx="85680" cy="26820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6181920" y="1638360"/>
                <a:ext cx="52200" cy="225360"/>
                <a:chOff x="6181920" y="1638360"/>
                <a:chExt cx="52200" cy="22536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6181920" y="1638360"/>
                  <a:ext cx="52200" cy="225360"/>
                </a:xfrm>
                <a:custGeom>
                  <a:avLst/>
                  <a:gdLst/>
                  <a:ahLst/>
                  <a:rect l="l" t="t" r="r" b="b"/>
                  <a:pathLst>
                    <a:path w="231" h="992">
                      <a:moveTo>
                        <a:pt x="22" y="0"/>
                      </a:moveTo>
                      <a:lnTo>
                        <a:pt x="231" y="82"/>
                      </a:lnTo>
                      <a:lnTo>
                        <a:pt x="211" y="469"/>
                      </a:lnTo>
                      <a:lnTo>
                        <a:pt x="189" y="935"/>
                      </a:lnTo>
                      <a:lnTo>
                        <a:pt x="0" y="992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"/>
                <p:cNvGrpSpPr/>
                <p:nvPr/>
              </p:nvGrpSpPr>
              <p:grpSpPr>
                <a:xfrm>
                  <a:off x="6181920" y="1649160"/>
                  <a:ext cx="50760" cy="188640"/>
                  <a:chOff x="6181920" y="1649160"/>
                  <a:chExt cx="50760" cy="188640"/>
                </a:xfrm>
              </p:grpSpPr>
              <p:grpSp>
                <p:nvGrpSpPr>
                  <p:cNvPr id="71" name=""/>
                  <p:cNvGrpSpPr/>
                  <p:nvPr/>
                </p:nvGrpSpPr>
                <p:grpSpPr>
                  <a:xfrm>
                    <a:off x="6181920" y="1649160"/>
                    <a:ext cx="50760" cy="188640"/>
                    <a:chOff x="6181920" y="1649160"/>
                    <a:chExt cx="50760" cy="188640"/>
                  </a:xfrm>
                </p:grpSpPr>
                <p:grpSp>
                  <p:nvGrpSpPr>
                    <p:cNvPr id="72" name=""/>
                    <p:cNvGrpSpPr/>
                    <p:nvPr/>
                  </p:nvGrpSpPr>
                  <p:grpSpPr>
                    <a:xfrm>
                      <a:off x="6181920" y="1649160"/>
                      <a:ext cx="50760" cy="113040"/>
                      <a:chOff x="6181920" y="1649160"/>
                      <a:chExt cx="50760" cy="113040"/>
                    </a:xfrm>
                  </p:grpSpPr>
                  <p:grpSp>
                    <p:nvGrpSpPr>
                      <p:cNvPr id="73" name=""/>
                      <p:cNvGrpSpPr/>
                      <p:nvPr/>
                    </p:nvGrpSpPr>
                    <p:grpSpPr>
                      <a:xfrm>
                        <a:off x="6184800" y="1649160"/>
                        <a:ext cx="47880" cy="60480"/>
                        <a:chOff x="6184800" y="1649160"/>
                        <a:chExt cx="47880" cy="60480"/>
                      </a:xfrm>
                    </p:grpSpPr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6186600" y="1649160"/>
                          <a:ext cx="46080" cy="176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>
                          <a:off x="6186600" y="1658880"/>
                          <a:ext cx="46080" cy="158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>
                          <a:off x="6186600" y="1668240"/>
                          <a:ext cx="46080" cy="144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>
                          <a:off x="6186600" y="1677960"/>
                          <a:ext cx="46080" cy="144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>
                          <a:off x="6184800" y="1687320"/>
                          <a:ext cx="46080" cy="144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>
                          <a:off x="6184800" y="1697040"/>
                          <a:ext cx="46080" cy="126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181920" y="1717560"/>
                        <a:ext cx="47520" cy="97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" name=""/>
                      <p:cNvSpPr/>
                      <p:nvPr/>
                    </p:nvSpPr>
                    <p:spPr>
                      <a:xfrm>
                        <a:off x="6181920" y="1727280"/>
                        <a:ext cx="47520" cy="79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181920" y="1736640"/>
                        <a:ext cx="45720" cy="79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6181920" y="1747800"/>
                        <a:ext cx="45720" cy="46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" name=""/>
                      <p:cNvSpPr/>
                      <p:nvPr/>
                    </p:nvSpPr>
                    <p:spPr>
                      <a:xfrm>
                        <a:off x="6181920" y="1757160"/>
                        <a:ext cx="45720" cy="50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5" name=""/>
                    <p:cNvGrpSpPr/>
                    <p:nvPr/>
                  </p:nvGrpSpPr>
                  <p:grpSpPr>
                    <a:xfrm>
                      <a:off x="6181920" y="1768320"/>
                      <a:ext cx="45720" cy="69480"/>
                      <a:chOff x="6181920" y="1768320"/>
                      <a:chExt cx="45720" cy="69480"/>
                    </a:xfrm>
                  </p:grpSpPr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6181920" y="1768320"/>
                        <a:ext cx="4572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" name=""/>
                      <p:cNvSpPr/>
                      <p:nvPr/>
                    </p:nvSpPr>
                    <p:spPr>
                      <a:xfrm>
                        <a:off x="6183360" y="1778040"/>
                        <a:ext cx="428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" name=""/>
                      <p:cNvSpPr/>
                      <p:nvPr/>
                    </p:nvSpPr>
                    <p:spPr>
                      <a:xfrm>
                        <a:off x="6181920" y="1787400"/>
                        <a:ext cx="4428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" name=""/>
                      <p:cNvSpPr/>
                      <p:nvPr/>
                    </p:nvSpPr>
                    <p:spPr>
                      <a:xfrm flipV="1">
                        <a:off x="6181920" y="1797120"/>
                        <a:ext cx="4428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" name=""/>
                      <p:cNvSpPr/>
                      <p:nvPr/>
                    </p:nvSpPr>
                    <p:spPr>
                      <a:xfrm flipV="1">
                        <a:off x="6181920" y="1805040"/>
                        <a:ext cx="42840" cy="28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" name=""/>
                      <p:cNvSpPr/>
                      <p:nvPr/>
                    </p:nvSpPr>
                    <p:spPr>
                      <a:xfrm flipV="1">
                        <a:off x="6181920" y="1814040"/>
                        <a:ext cx="42840" cy="32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" name=""/>
                      <p:cNvSpPr/>
                      <p:nvPr/>
                    </p:nvSpPr>
                    <p:spPr>
                      <a:xfrm flipV="1">
                        <a:off x="6181920" y="1821960"/>
                        <a:ext cx="42840" cy="46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" name=""/>
                      <p:cNvSpPr/>
                      <p:nvPr/>
                    </p:nvSpPr>
                    <p:spPr>
                      <a:xfrm flipV="1">
                        <a:off x="6181920" y="1831680"/>
                        <a:ext cx="42840" cy="61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94" name=""/>
                  <p:cNvSpPr/>
                  <p:nvPr/>
                </p:nvSpPr>
                <p:spPr>
                  <a:xfrm>
                    <a:off x="6183360" y="1708200"/>
                    <a:ext cx="46080" cy="9360"/>
                  </a:xfrm>
                  <a:prstGeom prst="line">
                    <a:avLst/>
                  </a:prstGeom>
                  <a:ln w="14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" name=""/>
              <p:cNvGrpSpPr/>
              <p:nvPr/>
            </p:nvGrpSpPr>
            <p:grpSpPr>
              <a:xfrm>
                <a:off x="6148440" y="1604880"/>
                <a:ext cx="45720" cy="268200"/>
                <a:chOff x="6148440" y="1604880"/>
                <a:chExt cx="45720" cy="2682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148440" y="1604880"/>
                  <a:ext cx="44280" cy="268200"/>
                </a:xfrm>
                <a:custGeom>
                  <a:avLst/>
                  <a:gdLst/>
                  <a:ahLst/>
                  <a:rect l="l" t="t" r="r" b="b"/>
                  <a:pathLst>
                    <a:path w="202" h="1184">
                      <a:moveTo>
                        <a:pt x="48" y="0"/>
                      </a:moveTo>
                      <a:lnTo>
                        <a:pt x="191" y="61"/>
                      </a:lnTo>
                      <a:lnTo>
                        <a:pt x="202" y="74"/>
                      </a:lnTo>
                      <a:lnTo>
                        <a:pt x="159" y="1136"/>
                      </a:lnTo>
                      <a:lnTo>
                        <a:pt x="141" y="1149"/>
                      </a:lnTo>
                      <a:lnTo>
                        <a:pt x="0" y="1184"/>
                      </a:lnTo>
                      <a:lnTo>
                        <a:pt x="19" y="1165"/>
                      </a:lnTo>
                      <a:lnTo>
                        <a:pt x="20" y="115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188040" y="16192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789" y="772"/>
                      </a:moveTo>
                      <a:arcTo wR="10800" hR="10800" stAng="-6708084" swAng="670808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789" y="772"/>
                      </a:moveTo>
                      <a:arcTo wR="10800" hR="10800" stAng="-6708084" swAng="6708084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6165720" y="2009520"/>
              <a:ext cx="146160" cy="57240"/>
              <a:chOff x="6165720" y="2009520"/>
              <a:chExt cx="146160" cy="57240"/>
            </a:xfrm>
          </p:grpSpPr>
          <p:sp>
            <p:nvSpPr>
              <p:cNvPr id="99" name=""/>
              <p:cNvSpPr/>
              <p:nvPr/>
            </p:nvSpPr>
            <p:spPr>
              <a:xfrm>
                <a:off x="6165720" y="2009520"/>
                <a:ext cx="146160" cy="38160"/>
              </a:xfrm>
              <a:custGeom>
                <a:avLst/>
                <a:gdLst/>
                <a:ahLst/>
                <a:rect l="l" t="t" r="r" b="b"/>
                <a:pathLst>
                  <a:path w="643" h="167">
                    <a:moveTo>
                      <a:pt x="0" y="0"/>
                    </a:moveTo>
                    <a:lnTo>
                      <a:pt x="119" y="8"/>
                    </a:lnTo>
                    <a:lnTo>
                      <a:pt x="208" y="12"/>
                    </a:lnTo>
                    <a:lnTo>
                      <a:pt x="288" y="21"/>
                    </a:lnTo>
                    <a:lnTo>
                      <a:pt x="367" y="31"/>
                    </a:lnTo>
                    <a:lnTo>
                      <a:pt x="423" y="39"/>
                    </a:lnTo>
                    <a:lnTo>
                      <a:pt x="491" y="50"/>
                    </a:lnTo>
                    <a:lnTo>
                      <a:pt x="529" y="57"/>
                    </a:lnTo>
                    <a:lnTo>
                      <a:pt x="558" y="63"/>
                    </a:lnTo>
                    <a:lnTo>
                      <a:pt x="574" y="67"/>
                    </a:lnTo>
                    <a:lnTo>
                      <a:pt x="587" y="71"/>
                    </a:lnTo>
                    <a:lnTo>
                      <a:pt x="603" y="76"/>
                    </a:lnTo>
                    <a:lnTo>
                      <a:pt x="619" y="82"/>
                    </a:lnTo>
                    <a:lnTo>
                      <a:pt x="634" y="90"/>
                    </a:lnTo>
                    <a:lnTo>
                      <a:pt x="642" y="99"/>
                    </a:lnTo>
                    <a:lnTo>
                      <a:pt x="643" y="106"/>
                    </a:lnTo>
                    <a:lnTo>
                      <a:pt x="639" y="117"/>
                    </a:lnTo>
                    <a:lnTo>
                      <a:pt x="634" y="129"/>
                    </a:lnTo>
                    <a:lnTo>
                      <a:pt x="626" y="139"/>
                    </a:lnTo>
                    <a:lnTo>
                      <a:pt x="616" y="146"/>
                    </a:lnTo>
                    <a:lnTo>
                      <a:pt x="602" y="155"/>
                    </a:lnTo>
                    <a:lnTo>
                      <a:pt x="586" y="161"/>
                    </a:lnTo>
                    <a:lnTo>
                      <a:pt x="569" y="163"/>
                    </a:lnTo>
                    <a:lnTo>
                      <a:pt x="550" y="166"/>
                    </a:lnTo>
                    <a:lnTo>
                      <a:pt x="526" y="167"/>
                    </a:lnTo>
                    <a:lnTo>
                      <a:pt x="504" y="165"/>
                    </a:lnTo>
                    <a:lnTo>
                      <a:pt x="468" y="160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6172200" y="2028600"/>
                <a:ext cx="101520" cy="38160"/>
                <a:chOff x="6172200" y="2028600"/>
                <a:chExt cx="101520" cy="3816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6172200" y="2028600"/>
                  <a:ext cx="101520" cy="38160"/>
                  <a:chOff x="6172200" y="2028600"/>
                  <a:chExt cx="101520" cy="381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6172200" y="2028600"/>
                    <a:ext cx="633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112">
                        <a:moveTo>
                          <a:pt x="0" y="67"/>
                        </a:moveTo>
                        <a:lnTo>
                          <a:pt x="74" y="0"/>
                        </a:lnTo>
                        <a:lnTo>
                          <a:pt x="281" y="37"/>
                        </a:lnTo>
                        <a:lnTo>
                          <a:pt x="199" y="112"/>
                        </a:lnTo>
                        <a:lnTo>
                          <a:pt x="0" y="67"/>
                        </a:lnTo>
                        <a:close/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172200" y="2043000"/>
                    <a:ext cx="44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106">
                        <a:moveTo>
                          <a:pt x="0" y="0"/>
                        </a:moveTo>
                        <a:lnTo>
                          <a:pt x="0" y="59"/>
                        </a:lnTo>
                        <a:lnTo>
                          <a:pt x="2" y="59"/>
                        </a:lnTo>
                        <a:lnTo>
                          <a:pt x="199" y="106"/>
                        </a:lnTo>
                        <a:lnTo>
                          <a:pt x="199" y="4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216840" y="2036520"/>
                    <a:ext cx="56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136">
                        <a:moveTo>
                          <a:pt x="0" y="74"/>
                        </a:moveTo>
                        <a:lnTo>
                          <a:pt x="81" y="0"/>
                        </a:lnTo>
                        <a:lnTo>
                          <a:pt x="253" y="20"/>
                        </a:lnTo>
                        <a:lnTo>
                          <a:pt x="253" y="76"/>
                        </a:lnTo>
                        <a:lnTo>
                          <a:pt x="0" y="136"/>
                        </a:lnTo>
                        <a:lnTo>
                          <a:pt x="0" y="7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188040" y="2028600"/>
                    <a:ext cx="856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56">
                        <a:moveTo>
                          <a:pt x="0" y="0"/>
                        </a:moveTo>
                        <a:lnTo>
                          <a:pt x="190" y="13"/>
                        </a:lnTo>
                        <a:lnTo>
                          <a:pt x="379" y="56"/>
                        </a:lnTo>
                        <a:lnTo>
                          <a:pt x="207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6172200" y="2039400"/>
                  <a:ext cx="101520" cy="18000"/>
                  <a:chOff x="6172200" y="2039400"/>
                  <a:chExt cx="101520" cy="1800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>
                    <a:off x="6172200" y="2046240"/>
                    <a:ext cx="44640" cy="11160"/>
                  </a:xfrm>
                  <a:prstGeom prst="line">
                    <a:avLst/>
                  </a:prstGeom>
                  <a:ln w="14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6216840" y="2039400"/>
                    <a:ext cx="18720" cy="1764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6237360" y="2039760"/>
                    <a:ext cx="36360" cy="324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0" name=""/>
            <p:cNvSpPr/>
            <p:nvPr/>
          </p:nvSpPr>
          <p:spPr>
            <a:xfrm>
              <a:off x="6145200" y="1936800"/>
              <a:ext cx="88920" cy="82440"/>
            </a:xfrm>
            <a:custGeom>
              <a:avLst/>
              <a:gdLst/>
              <a:ahLst/>
              <a:rect l="l" t="t" r="r" b="b"/>
              <a:pathLst>
                <a:path w="390" h="364">
                  <a:moveTo>
                    <a:pt x="0" y="183"/>
                  </a:moveTo>
                  <a:lnTo>
                    <a:pt x="390" y="0"/>
                  </a:lnTo>
                  <a:lnTo>
                    <a:pt x="390" y="147"/>
                  </a:lnTo>
                  <a:lnTo>
                    <a:pt x="0" y="364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43760" y="1860480"/>
              <a:ext cx="91800" cy="122040"/>
            </a:xfrm>
            <a:custGeom>
              <a:avLst/>
              <a:gdLst/>
              <a:ahLst/>
              <a:rect l="l" t="t" r="r" b="b"/>
              <a:pathLst>
                <a:path w="402" h="538">
                  <a:moveTo>
                    <a:pt x="0" y="114"/>
                  </a:moveTo>
                  <a:lnTo>
                    <a:pt x="402" y="0"/>
                  </a:lnTo>
                  <a:lnTo>
                    <a:pt x="402" y="355"/>
                  </a:lnTo>
                  <a:lnTo>
                    <a:pt x="1" y="538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97520" y="1641240"/>
              <a:ext cx="225360" cy="187560"/>
            </a:xfrm>
            <a:custGeom>
              <a:avLst/>
              <a:gdLst/>
              <a:ahLst/>
              <a:rect l="l" t="t" r="r" b="b"/>
              <a:pathLst>
                <a:path w="992" h="822">
                  <a:moveTo>
                    <a:pt x="39" y="0"/>
                  </a:moveTo>
                  <a:lnTo>
                    <a:pt x="992" y="0"/>
                  </a:lnTo>
                  <a:lnTo>
                    <a:pt x="953" y="822"/>
                  </a:lnTo>
                  <a:lnTo>
                    <a:pt x="0" y="77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49920" y="1955880"/>
              <a:ext cx="420840" cy="83880"/>
            </a:xfrm>
            <a:custGeom>
              <a:avLst/>
              <a:gdLst/>
              <a:ahLst/>
              <a:rect l="l" t="t" r="r" b="b"/>
              <a:pathLst>
                <a:path w="1849" h="375">
                  <a:moveTo>
                    <a:pt x="301" y="0"/>
                  </a:moveTo>
                  <a:lnTo>
                    <a:pt x="1849" y="153"/>
                  </a:lnTo>
                  <a:lnTo>
                    <a:pt x="1740" y="290"/>
                  </a:lnTo>
                  <a:lnTo>
                    <a:pt x="1634" y="375"/>
                  </a:lnTo>
                  <a:lnTo>
                    <a:pt x="0" y="187"/>
                  </a:lnTo>
                  <a:lnTo>
                    <a:pt x="122" y="134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6143760" y="1868400"/>
              <a:ext cx="90360" cy="106200"/>
              <a:chOff x="6143760" y="1868400"/>
              <a:chExt cx="90360" cy="106200"/>
            </a:xfrm>
          </p:grpSpPr>
          <p:sp>
            <p:nvSpPr>
              <p:cNvPr id="115" name=""/>
              <p:cNvSpPr/>
              <p:nvPr/>
            </p:nvSpPr>
            <p:spPr>
              <a:xfrm flipV="1">
                <a:off x="6143760" y="1896480"/>
                <a:ext cx="90360" cy="334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6159600" y="1906200"/>
                <a:ext cx="74520" cy="284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6159600" y="1915920"/>
                <a:ext cx="74520" cy="302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6159600" y="1923480"/>
                <a:ext cx="74520" cy="320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6159600" y="1933560"/>
                <a:ext cx="74520" cy="331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6159600" y="1887120"/>
                <a:ext cx="74520" cy="2700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159600" y="1877400"/>
                <a:ext cx="74520" cy="241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6159600" y="1868400"/>
                <a:ext cx="74520" cy="223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6159600" y="1882800"/>
                <a:ext cx="1440" cy="9180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867280" y="1600200"/>
              <a:ext cx="295560" cy="272880"/>
              <a:chOff x="5867280" y="1600200"/>
              <a:chExt cx="295560" cy="27288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5867280" y="1600200"/>
                <a:ext cx="295560" cy="272880"/>
                <a:chOff x="5867280" y="1600200"/>
                <a:chExt cx="295560" cy="272880"/>
              </a:xfrm>
            </p:grpSpPr>
            <p:grpSp>
              <p:nvGrpSpPr>
                <p:cNvPr id="126" name=""/>
                <p:cNvGrpSpPr/>
                <p:nvPr/>
              </p:nvGrpSpPr>
              <p:grpSpPr>
                <a:xfrm>
                  <a:off x="5867280" y="1600200"/>
                  <a:ext cx="295560" cy="272880"/>
                  <a:chOff x="5867280" y="1600200"/>
                  <a:chExt cx="295560" cy="27288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5867280" y="1600200"/>
                    <a:ext cx="29556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07" h="1209">
                        <a:moveTo>
                          <a:pt x="104" y="20"/>
                        </a:moveTo>
                        <a:lnTo>
                          <a:pt x="216" y="14"/>
                        </a:lnTo>
                        <a:lnTo>
                          <a:pt x="368" y="4"/>
                        </a:lnTo>
                        <a:lnTo>
                          <a:pt x="526" y="0"/>
                        </a:lnTo>
                        <a:lnTo>
                          <a:pt x="712" y="0"/>
                        </a:lnTo>
                        <a:lnTo>
                          <a:pt x="842" y="2"/>
                        </a:lnTo>
                        <a:lnTo>
                          <a:pt x="1042" y="9"/>
                        </a:lnTo>
                        <a:lnTo>
                          <a:pt x="1236" y="19"/>
                        </a:lnTo>
                        <a:lnTo>
                          <a:pt x="1282" y="21"/>
                        </a:lnTo>
                        <a:lnTo>
                          <a:pt x="1292" y="26"/>
                        </a:lnTo>
                        <a:lnTo>
                          <a:pt x="1300" y="31"/>
                        </a:lnTo>
                        <a:lnTo>
                          <a:pt x="1306" y="40"/>
                        </a:lnTo>
                        <a:lnTo>
                          <a:pt x="1307" y="50"/>
                        </a:lnTo>
                        <a:lnTo>
                          <a:pt x="1258" y="1186"/>
                        </a:lnTo>
                        <a:lnTo>
                          <a:pt x="1252" y="1204"/>
                        </a:lnTo>
                        <a:lnTo>
                          <a:pt x="1236" y="1209"/>
                        </a:lnTo>
                        <a:lnTo>
                          <a:pt x="814" y="1180"/>
                        </a:lnTo>
                        <a:lnTo>
                          <a:pt x="400" y="1151"/>
                        </a:lnTo>
                        <a:lnTo>
                          <a:pt x="19" y="1123"/>
                        </a:lnTo>
                        <a:lnTo>
                          <a:pt x="0" y="1094"/>
                        </a:lnTo>
                        <a:lnTo>
                          <a:pt x="58" y="57"/>
                        </a:lnTo>
                        <a:lnTo>
                          <a:pt x="104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6149880" y="1604880"/>
                    <a:ext cx="129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33086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330866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5880240" y="1603440"/>
                    <a:ext cx="27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5" y="9373"/>
                        </a:moveTo>
                        <a:arcTo wR="10800" hR="10800" stAng="-10344321" swAng="494432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5" y="9373"/>
                        </a:moveTo>
                        <a:arcTo wR="10800" hR="10800" stAng="-10344321" swAng="4944321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5867280" y="1838160"/>
                    <a:ext cx="12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833" y="21184"/>
                        </a:moveTo>
                        <a:arcTo wR="10800" hR="10800" stAng="6356723" swAng="44432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833" y="21184"/>
                        </a:moveTo>
                        <a:arcTo wR="10800" hR="10800" stAng="6356723" swAng="4443277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5897520" y="1641240"/>
                  <a:ext cx="225360" cy="187560"/>
                  <a:chOff x="5897520" y="1641240"/>
                  <a:chExt cx="225360" cy="18756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5897520" y="1641240"/>
                    <a:ext cx="225360" cy="187560"/>
                    <a:chOff x="5897520" y="1641240"/>
                    <a:chExt cx="225360" cy="18756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5907240" y="1641240"/>
                      <a:ext cx="2156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17">
                          <a:moveTo>
                            <a:pt x="0" y="0"/>
                          </a:moveTo>
                          <a:lnTo>
                            <a:pt x="952" y="1"/>
                          </a:lnTo>
                          <a:lnTo>
                            <a:pt x="931" y="17"/>
                          </a:lnTo>
                          <a:lnTo>
                            <a:pt x="21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108840" y="1641240"/>
                      <a:ext cx="14040" cy="18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822">
                          <a:moveTo>
                            <a:pt x="39" y="16"/>
                          </a:moveTo>
                          <a:lnTo>
                            <a:pt x="61" y="0"/>
                          </a:lnTo>
                          <a:lnTo>
                            <a:pt x="40" y="446"/>
                          </a:lnTo>
                          <a:lnTo>
                            <a:pt x="20" y="822"/>
                          </a:lnTo>
                          <a:lnTo>
                            <a:pt x="0" y="799"/>
                          </a:lnTo>
                          <a:lnTo>
                            <a:pt x="39" y="1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5897520" y="1812960"/>
                      <a:ext cx="21600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67">
                          <a:moveTo>
                            <a:pt x="22" y="0"/>
                          </a:moveTo>
                          <a:lnTo>
                            <a:pt x="0" y="21"/>
                          </a:lnTo>
                          <a:lnTo>
                            <a:pt x="952" y="67"/>
                          </a:lnTo>
                          <a:lnTo>
                            <a:pt x="932" y="45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5897520" y="1641240"/>
                      <a:ext cx="14400" cy="17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775">
                          <a:moveTo>
                            <a:pt x="39" y="0"/>
                          </a:moveTo>
                          <a:lnTo>
                            <a:pt x="60" y="16"/>
                          </a:lnTo>
                          <a:lnTo>
                            <a:pt x="22" y="754"/>
                          </a:lnTo>
                          <a:lnTo>
                            <a:pt x="0" y="775"/>
                          </a:lnTo>
                          <a:lnTo>
                            <a:pt x="39" y="0"/>
                          </a:lnTo>
                          <a:close/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5902200" y="1646280"/>
                    <a:ext cx="216000" cy="177840"/>
                    <a:chOff x="5902200" y="1646280"/>
                    <a:chExt cx="216000" cy="17784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5902200" y="1646280"/>
                      <a:ext cx="2160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9" h="783">
                          <a:moveTo>
                            <a:pt x="39" y="0"/>
                          </a:moveTo>
                          <a:lnTo>
                            <a:pt x="949" y="0"/>
                          </a:lnTo>
                          <a:lnTo>
                            <a:pt x="911" y="783"/>
                          </a:lnTo>
                          <a:lnTo>
                            <a:pt x="0" y="738"/>
                          </a:lnTo>
                          <a:lnTo>
                            <a:pt x="3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5910120" y="1652400"/>
                      <a:ext cx="200160" cy="16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4" h="723">
                          <a:moveTo>
                            <a:pt x="32" y="1"/>
                          </a:moveTo>
                          <a:lnTo>
                            <a:pt x="884" y="0"/>
                          </a:lnTo>
                          <a:lnTo>
                            <a:pt x="847" y="723"/>
                          </a:lnTo>
                          <a:lnTo>
                            <a:pt x="0" y="686"/>
                          </a:lnTo>
                          <a:lnTo>
                            <a:pt x="32" y="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5913360" y="1662120"/>
                      <a:ext cx="18900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4" h="653">
                          <a:moveTo>
                            <a:pt x="31" y="0"/>
                          </a:moveTo>
                          <a:lnTo>
                            <a:pt x="834" y="0"/>
                          </a:lnTo>
                          <a:lnTo>
                            <a:pt x="801" y="653"/>
                          </a:lnTo>
                          <a:lnTo>
                            <a:pt x="0" y="620"/>
                          </a:lnTo>
                          <a:lnTo>
                            <a:pt x="31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41" name=""/>
              <p:cNvSpPr/>
              <p:nvPr/>
            </p:nvSpPr>
            <p:spPr>
              <a:xfrm>
                <a:off x="6103800" y="1850760"/>
                <a:ext cx="12960" cy="504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0" y="0"/>
                    </a:moveTo>
                    <a:lnTo>
                      <a:pt x="55" y="1"/>
                    </a:lnTo>
                    <a:lnTo>
                      <a:pt x="55" y="19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5751360" y="1960560"/>
              <a:ext cx="419400" cy="95040"/>
              <a:chOff x="5751360" y="1960560"/>
              <a:chExt cx="419400" cy="95040"/>
            </a:xfrm>
          </p:grpSpPr>
          <p:sp>
            <p:nvSpPr>
              <p:cNvPr id="143" name=""/>
              <p:cNvSpPr/>
              <p:nvPr/>
            </p:nvSpPr>
            <p:spPr>
              <a:xfrm>
                <a:off x="6040440" y="1989000"/>
                <a:ext cx="100080" cy="41400"/>
              </a:xfrm>
              <a:custGeom>
                <a:avLst/>
                <a:gdLst/>
                <a:ahLst/>
                <a:rect l="l" t="t" r="r" b="b"/>
                <a:pathLst>
                  <a:path w="444" h="184">
                    <a:moveTo>
                      <a:pt x="171" y="0"/>
                    </a:moveTo>
                    <a:lnTo>
                      <a:pt x="67" y="108"/>
                    </a:lnTo>
                    <a:lnTo>
                      <a:pt x="0" y="153"/>
                    </a:lnTo>
                    <a:lnTo>
                      <a:pt x="291" y="184"/>
                    </a:lnTo>
                    <a:lnTo>
                      <a:pt x="358" y="126"/>
                    </a:lnTo>
                    <a:lnTo>
                      <a:pt x="444" y="25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751360" y="1960560"/>
                <a:ext cx="419400" cy="95040"/>
                <a:chOff x="5751360" y="1960560"/>
                <a:chExt cx="419400" cy="950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5751360" y="1996920"/>
                  <a:ext cx="370080" cy="58680"/>
                </a:xfrm>
                <a:custGeom>
                  <a:avLst/>
                  <a:gdLst/>
                  <a:ahLst/>
                  <a:rect l="l" t="t" r="r" b="b"/>
                  <a:pathLst>
                    <a:path w="1634" h="253">
                      <a:moveTo>
                        <a:pt x="0" y="0"/>
                      </a:moveTo>
                      <a:lnTo>
                        <a:pt x="0" y="65"/>
                      </a:lnTo>
                      <a:lnTo>
                        <a:pt x="1634" y="253"/>
                      </a:lnTo>
                      <a:lnTo>
                        <a:pt x="1633" y="1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121440" y="1990800"/>
                  <a:ext cx="49320" cy="64800"/>
                </a:xfrm>
                <a:custGeom>
                  <a:avLst/>
                  <a:gdLst/>
                  <a:ahLst/>
                  <a:rect l="l" t="t" r="r" b="b"/>
                  <a:pathLst>
                    <a:path w="215" h="287">
                      <a:moveTo>
                        <a:pt x="0" y="222"/>
                      </a:moveTo>
                      <a:lnTo>
                        <a:pt x="0" y="287"/>
                      </a:lnTo>
                      <a:lnTo>
                        <a:pt x="94" y="221"/>
                      </a:lnTo>
                      <a:lnTo>
                        <a:pt x="132" y="182"/>
                      </a:lnTo>
                      <a:lnTo>
                        <a:pt x="215" y="81"/>
                      </a:lnTo>
                      <a:lnTo>
                        <a:pt x="215" y="0"/>
                      </a:lnTo>
                      <a:lnTo>
                        <a:pt x="106" y="136"/>
                      </a:lnTo>
                      <a:lnTo>
                        <a:pt x="0" y="222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51360" y="2003400"/>
                  <a:ext cx="370080" cy="41040"/>
                </a:xfrm>
                <a:prstGeom prst="line">
                  <a:avLst/>
                </a:prstGeom>
                <a:ln w="144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5775480" y="1960560"/>
                  <a:ext cx="357120" cy="69480"/>
                  <a:chOff x="5775480" y="1960560"/>
                  <a:chExt cx="357120" cy="694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5775480" y="1963800"/>
                    <a:ext cx="27468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0" h="251">
                        <a:moveTo>
                          <a:pt x="208" y="0"/>
                        </a:moveTo>
                        <a:lnTo>
                          <a:pt x="64" y="110"/>
                        </a:lnTo>
                        <a:lnTo>
                          <a:pt x="0" y="144"/>
                        </a:lnTo>
                        <a:lnTo>
                          <a:pt x="1026" y="251"/>
                        </a:lnTo>
                        <a:lnTo>
                          <a:pt x="1100" y="202"/>
                        </a:lnTo>
                        <a:lnTo>
                          <a:pt x="1210" y="101"/>
                        </a:lnTo>
                        <a:lnTo>
                          <a:pt x="208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5781600" y="1960560"/>
                    <a:ext cx="351000" cy="69480"/>
                    <a:chOff x="5781600" y="1960560"/>
                    <a:chExt cx="351000" cy="69480"/>
                  </a:xfrm>
                </p:grpSpPr>
                <p:grpSp>
                  <p:nvGrpSpPr>
                    <p:cNvPr id="151" name=""/>
                    <p:cNvGrpSpPr/>
                    <p:nvPr/>
                  </p:nvGrpSpPr>
                  <p:grpSpPr>
                    <a:xfrm>
                      <a:off x="5788080" y="1960560"/>
                      <a:ext cx="255600" cy="58320"/>
                      <a:chOff x="5788080" y="1960560"/>
                      <a:chExt cx="255600" cy="58320"/>
                    </a:xfrm>
                  </p:grpSpPr>
                  <p:grpSp>
                    <p:nvGrpSpPr>
                      <p:cNvPr id="152" name=""/>
                      <p:cNvGrpSpPr/>
                      <p:nvPr/>
                    </p:nvGrpSpPr>
                    <p:grpSpPr>
                      <a:xfrm>
                        <a:off x="5788080" y="1960560"/>
                        <a:ext cx="52200" cy="38160"/>
                        <a:chOff x="5788080" y="1960560"/>
                        <a:chExt cx="52200" cy="38160"/>
                      </a:xfrm>
                    </p:grpSpPr>
                    <p:sp>
                      <p:nvSpPr>
                        <p:cNvPr id="153" name=""/>
                        <p:cNvSpPr/>
                        <p:nvPr/>
                      </p:nvSpPr>
                      <p:spPr>
                        <a:xfrm flipV="1">
                          <a:off x="5788080" y="1990800"/>
                          <a:ext cx="17280" cy="7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 flipV="1">
                          <a:off x="5805360" y="1960560"/>
                          <a:ext cx="3492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5" name=""/>
                      <p:cNvGrpSpPr/>
                      <p:nvPr/>
                    </p:nvGrpSpPr>
                    <p:grpSpPr>
                      <a:xfrm>
                        <a:off x="5808600" y="1962000"/>
                        <a:ext cx="54000" cy="39600"/>
                        <a:chOff x="5808600" y="1962000"/>
                        <a:chExt cx="54000" cy="39600"/>
                      </a:xfrm>
                    </p:grpSpPr>
                    <p:sp>
                      <p:nvSpPr>
                        <p:cNvPr id="156" name=""/>
                        <p:cNvSpPr/>
                        <p:nvPr/>
                      </p:nvSpPr>
                      <p:spPr>
                        <a:xfrm flipV="1">
                          <a:off x="5808600" y="1992240"/>
                          <a:ext cx="1764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 flipV="1">
                          <a:off x="5826240" y="1962000"/>
                          <a:ext cx="3636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8" name=""/>
                      <p:cNvGrpSpPr/>
                      <p:nvPr/>
                    </p:nvGrpSpPr>
                    <p:grpSpPr>
                      <a:xfrm>
                        <a:off x="5829480" y="1963440"/>
                        <a:ext cx="53640" cy="39600"/>
                        <a:chOff x="5829480" y="1963440"/>
                        <a:chExt cx="53640" cy="39600"/>
                      </a:xfrm>
                    </p:grpSpPr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 flipV="1">
                          <a:off x="5829480" y="1993320"/>
                          <a:ext cx="17280" cy="9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 flipV="1">
                          <a:off x="5846760" y="1963440"/>
                          <a:ext cx="36360" cy="298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1" name=""/>
                      <p:cNvGrpSpPr/>
                      <p:nvPr/>
                    </p:nvGrpSpPr>
                    <p:grpSpPr>
                      <a:xfrm>
                        <a:off x="5850000" y="1966680"/>
                        <a:ext cx="52200" cy="38160"/>
                        <a:chOff x="5850000" y="1966680"/>
                        <a:chExt cx="52200" cy="38160"/>
                      </a:xfrm>
                    </p:grpSpPr>
                    <p:sp>
                      <p:nvSpPr>
                        <p:cNvPr id="162" name=""/>
                        <p:cNvSpPr/>
                        <p:nvPr/>
                      </p:nvSpPr>
                      <p:spPr>
                        <a:xfrm flipV="1">
                          <a:off x="5850000" y="1996920"/>
                          <a:ext cx="17280" cy="7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 flipV="1">
                          <a:off x="5867280" y="1966680"/>
                          <a:ext cx="3492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4" name=""/>
                      <p:cNvGrpSpPr/>
                      <p:nvPr/>
                    </p:nvGrpSpPr>
                    <p:grpSpPr>
                      <a:xfrm>
                        <a:off x="5870520" y="1968120"/>
                        <a:ext cx="54000" cy="38160"/>
                        <a:chOff x="5870520" y="1968120"/>
                        <a:chExt cx="54000" cy="38160"/>
                      </a:xfrm>
                    </p:grpSpPr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 flipV="1">
                          <a:off x="5870520" y="1996560"/>
                          <a:ext cx="17640" cy="9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 flipV="1">
                          <a:off x="5888160" y="1968120"/>
                          <a:ext cx="36360" cy="28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360" bIns="-18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7" name=""/>
                      <p:cNvGrpSpPr/>
                      <p:nvPr/>
                    </p:nvGrpSpPr>
                    <p:grpSpPr>
                      <a:xfrm>
                        <a:off x="5891400" y="1969920"/>
                        <a:ext cx="53640" cy="38160"/>
                        <a:chOff x="5891400" y="1969920"/>
                        <a:chExt cx="53640" cy="38160"/>
                      </a:xfrm>
                    </p:grpSpPr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 flipV="1">
                          <a:off x="5891400" y="1998720"/>
                          <a:ext cx="1728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 flipV="1">
                          <a:off x="5908680" y="1969920"/>
                          <a:ext cx="36360" cy="288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0" name=""/>
                      <p:cNvGrpSpPr/>
                      <p:nvPr/>
                    </p:nvGrpSpPr>
                    <p:grpSpPr>
                      <a:xfrm>
                        <a:off x="5911920" y="1971360"/>
                        <a:ext cx="52200" cy="38160"/>
                        <a:chOff x="5911920" y="1971360"/>
                        <a:chExt cx="52200" cy="38160"/>
                      </a:xfrm>
                    </p:grpSpPr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 flipV="1">
                          <a:off x="5911920" y="2001600"/>
                          <a:ext cx="17280" cy="7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 flipV="1">
                          <a:off x="5929200" y="1971360"/>
                          <a:ext cx="34920" cy="298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929200" y="1974600"/>
                        <a:ext cx="54000" cy="38160"/>
                        <a:chOff x="5929200" y="1974600"/>
                        <a:chExt cx="54000" cy="38160"/>
                      </a:xfrm>
                    </p:grpSpPr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 flipV="1">
                          <a:off x="5929200" y="2003400"/>
                          <a:ext cx="1764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 flipV="1">
                          <a:off x="5946840" y="1974600"/>
                          <a:ext cx="36360" cy="288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6" name=""/>
                      <p:cNvGrpSpPr/>
                      <p:nvPr/>
                    </p:nvGrpSpPr>
                    <p:grpSpPr>
                      <a:xfrm>
                        <a:off x="5950080" y="1976400"/>
                        <a:ext cx="54000" cy="39600"/>
                        <a:chOff x="5950080" y="1976400"/>
                        <a:chExt cx="54000" cy="39600"/>
                      </a:xfrm>
                    </p:grpSpPr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 flipV="1">
                          <a:off x="5950080" y="2006640"/>
                          <a:ext cx="1728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V="1">
                          <a:off x="5967360" y="1976400"/>
                          <a:ext cx="3672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9" name=""/>
                      <p:cNvGrpSpPr/>
                      <p:nvPr/>
                    </p:nvGrpSpPr>
                    <p:grpSpPr>
                      <a:xfrm>
                        <a:off x="5970600" y="1977840"/>
                        <a:ext cx="54000" cy="39600"/>
                        <a:chOff x="5970600" y="1977840"/>
                        <a:chExt cx="54000" cy="39600"/>
                      </a:xfrm>
                    </p:grpSpPr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V="1">
                          <a:off x="5970600" y="2007720"/>
                          <a:ext cx="17640" cy="9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V="1">
                          <a:off x="5988240" y="1977840"/>
                          <a:ext cx="3636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" name=""/>
                      <p:cNvGrpSpPr/>
                      <p:nvPr/>
                    </p:nvGrpSpPr>
                    <p:grpSpPr>
                      <a:xfrm>
                        <a:off x="5989680" y="1979280"/>
                        <a:ext cx="54000" cy="39600"/>
                        <a:chOff x="5989680" y="1979280"/>
                        <a:chExt cx="54000" cy="39600"/>
                      </a:xfrm>
                    </p:grpSpPr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V="1">
                          <a:off x="5989680" y="2009160"/>
                          <a:ext cx="17280" cy="9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V="1">
                          <a:off x="6006960" y="1979280"/>
                          <a:ext cx="36720" cy="298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85" name=""/>
                    <p:cNvGrpSpPr/>
                    <p:nvPr/>
                  </p:nvGrpSpPr>
                  <p:grpSpPr>
                    <a:xfrm>
                      <a:off x="6051600" y="1985400"/>
                      <a:ext cx="77760" cy="44640"/>
                      <a:chOff x="6051600" y="1985400"/>
                      <a:chExt cx="77760" cy="44640"/>
                    </a:xfrm>
                  </p:grpSpPr>
                  <p:grpSp>
                    <p:nvGrpSpPr>
                      <p:cNvPr id="186" name=""/>
                      <p:cNvGrpSpPr/>
                      <p:nvPr/>
                    </p:nvGrpSpPr>
                    <p:grpSpPr>
                      <a:xfrm>
                        <a:off x="6085080" y="1989000"/>
                        <a:ext cx="44280" cy="41040"/>
                        <a:chOff x="6085080" y="1989000"/>
                        <a:chExt cx="44280" cy="41040"/>
                      </a:xfrm>
                    </p:grpSpPr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V="1">
                          <a:off x="6085080" y="2018880"/>
                          <a:ext cx="14040" cy="11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V="1">
                          <a:off x="6099120" y="1989000"/>
                          <a:ext cx="3024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6067440" y="1985400"/>
                        <a:ext cx="46080" cy="44640"/>
                        <a:chOff x="6067440" y="1985400"/>
                        <a:chExt cx="46080" cy="446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V="1">
                          <a:off x="6067440" y="2018880"/>
                          <a:ext cx="15840" cy="11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V="1">
                          <a:off x="6083280" y="1985400"/>
                          <a:ext cx="30240" cy="334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2" name=""/>
                      <p:cNvGrpSpPr/>
                      <p:nvPr/>
                    </p:nvGrpSpPr>
                    <p:grpSpPr>
                      <a:xfrm>
                        <a:off x="6051600" y="1985760"/>
                        <a:ext cx="44280" cy="41040"/>
                        <a:chOff x="6051600" y="1985760"/>
                        <a:chExt cx="44280" cy="41040"/>
                      </a:xfrm>
                    </p:grpSpPr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V="1">
                          <a:off x="6051600" y="2015640"/>
                          <a:ext cx="15840" cy="11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V="1">
                          <a:off x="6067440" y="1985760"/>
                          <a:ext cx="2844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5807160" y="1971720"/>
                      <a:ext cx="325440" cy="31680"/>
                    </a:xfrm>
                    <a:prstGeom prst="line">
                      <a:avLst/>
                    </a:prstGeom>
                    <a:ln w="14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5794560" y="1981080"/>
                      <a:ext cx="331560" cy="31680"/>
                    </a:xfrm>
                    <a:prstGeom prst="line">
                      <a:avLst/>
                    </a:prstGeom>
                    <a:ln w="14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5781600" y="1989000"/>
                      <a:ext cx="336600" cy="34920"/>
                    </a:xfrm>
                    <a:prstGeom prst="line">
                      <a:avLst/>
                    </a:prstGeom>
                    <a:ln w="32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6121440" y="1995120"/>
                  <a:ext cx="47520" cy="48960"/>
                  <a:chOff x="6121440" y="1995120"/>
                  <a:chExt cx="47520" cy="489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V="1">
                    <a:off x="6121440" y="2023560"/>
                    <a:ext cx="25200" cy="20520"/>
                  </a:xfrm>
                  <a:prstGeom prst="line">
                    <a:avLst/>
                  </a:prstGeom>
                  <a:ln w="144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V="1">
                    <a:off x="6146640" y="1995120"/>
                    <a:ext cx="22320" cy="28440"/>
                  </a:xfrm>
                  <a:prstGeom prst="line">
                    <a:avLst/>
                  </a:prstGeom>
                  <a:ln w="144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01" name="COMP1" descr=""/>
          <p:cNvPicPr/>
          <p:nvPr/>
        </p:nvPicPr>
        <p:blipFill>
          <a:blip r:embed="rId6"/>
          <a:stretch/>
        </p:blipFill>
        <p:spPr>
          <a:xfrm>
            <a:off x="6553080" y="1600200"/>
            <a:ext cx="609840" cy="468360"/>
          </a:xfrm>
          <a:prstGeom prst="rect">
            <a:avLst/>
          </a:prstGeom>
          <a:ln w="0">
            <a:noFill/>
          </a:ln>
        </p:spPr>
      </p:pic>
      <p:pic>
        <p:nvPicPr>
          <p:cNvPr id="202" name="COMP1" descr=""/>
          <p:cNvPicPr/>
          <p:nvPr/>
        </p:nvPicPr>
        <p:blipFill>
          <a:blip r:embed="rId7"/>
          <a:stretch/>
        </p:blipFill>
        <p:spPr>
          <a:xfrm>
            <a:off x="7315200" y="1600200"/>
            <a:ext cx="609480" cy="46836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5029200" y="1905120"/>
            <a:ext cx="457200" cy="380880"/>
            <a:chOff x="5029200" y="1905120"/>
            <a:chExt cx="457200" cy="380880"/>
          </a:xfrm>
        </p:grpSpPr>
        <p:pic>
          <p:nvPicPr>
            <p:cNvPr id="204" name="" descr=""/>
            <p:cNvPicPr/>
            <p:nvPr/>
          </p:nvPicPr>
          <p:blipFill>
            <a:blip r:embed="rId8"/>
            <a:stretch/>
          </p:blipFill>
          <p:spPr>
            <a:xfrm>
              <a:off x="5029200" y="2133720"/>
              <a:ext cx="4572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5091840" y="1905120"/>
              <a:ext cx="36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集線器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486400" y="2209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0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1828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029200" y="228600"/>
            <a:ext cx="2895480" cy="990360"/>
            <a:chOff x="5029200" y="228600"/>
            <a:chExt cx="2895480" cy="990360"/>
          </a:xfrm>
        </p:grpSpPr>
        <p:grpSp>
          <p:nvGrpSpPr>
            <p:cNvPr id="212" name=""/>
            <p:cNvGrpSpPr/>
            <p:nvPr/>
          </p:nvGrpSpPr>
          <p:grpSpPr>
            <a:xfrm>
              <a:off x="5562720" y="533520"/>
              <a:ext cx="596880" cy="466560"/>
              <a:chOff x="5562720" y="533520"/>
              <a:chExt cx="596880" cy="466560"/>
            </a:xfrm>
          </p:grpSpPr>
          <p:sp>
            <p:nvSpPr>
              <p:cNvPr id="213" name=""/>
              <p:cNvSpPr/>
              <p:nvPr/>
            </p:nvSpPr>
            <p:spPr>
              <a:xfrm>
                <a:off x="5562720" y="889200"/>
                <a:ext cx="57240" cy="34920"/>
              </a:xfrm>
              <a:custGeom>
                <a:avLst/>
                <a:gdLst/>
                <a:ahLst/>
                <a:rect l="l" t="t" r="r" b="b"/>
                <a:pathLst>
                  <a:path w="257" h="153">
                    <a:moveTo>
                      <a:pt x="252" y="0"/>
                    </a:moveTo>
                    <a:lnTo>
                      <a:pt x="193" y="0"/>
                    </a:lnTo>
                    <a:lnTo>
                      <a:pt x="160" y="4"/>
                    </a:lnTo>
                    <a:lnTo>
                      <a:pt x="128" y="9"/>
                    </a:lnTo>
                    <a:lnTo>
                      <a:pt x="89" y="16"/>
                    </a:lnTo>
                    <a:lnTo>
                      <a:pt x="59" y="24"/>
                    </a:lnTo>
                    <a:lnTo>
                      <a:pt x="38" y="31"/>
                    </a:lnTo>
                    <a:lnTo>
                      <a:pt x="24" y="40"/>
                    </a:lnTo>
                    <a:lnTo>
                      <a:pt x="13" y="48"/>
                    </a:lnTo>
                    <a:lnTo>
                      <a:pt x="5" y="58"/>
                    </a:lnTo>
                    <a:lnTo>
                      <a:pt x="0" y="69"/>
                    </a:lnTo>
                    <a:lnTo>
                      <a:pt x="1" y="81"/>
                    </a:lnTo>
                    <a:lnTo>
                      <a:pt x="8" y="92"/>
                    </a:lnTo>
                    <a:lnTo>
                      <a:pt x="17" y="98"/>
                    </a:lnTo>
                    <a:lnTo>
                      <a:pt x="35" y="101"/>
                    </a:lnTo>
                    <a:lnTo>
                      <a:pt x="57" y="101"/>
                    </a:lnTo>
                    <a:lnTo>
                      <a:pt x="79" y="99"/>
                    </a:lnTo>
                    <a:lnTo>
                      <a:pt x="108" y="96"/>
                    </a:lnTo>
                    <a:lnTo>
                      <a:pt x="135" y="98"/>
                    </a:lnTo>
                    <a:lnTo>
                      <a:pt x="155" y="101"/>
                    </a:lnTo>
                    <a:lnTo>
                      <a:pt x="175" y="106"/>
                    </a:lnTo>
                    <a:lnTo>
                      <a:pt x="197" y="115"/>
                    </a:lnTo>
                    <a:lnTo>
                      <a:pt x="257" y="153"/>
                    </a:lnTo>
                    <a:lnTo>
                      <a:pt x="254" y="153"/>
                    </a:lnTo>
                    <a:lnTo>
                      <a:pt x="255" y="150"/>
                    </a:lnTo>
                  </a:path>
                </a:pathLst>
              </a:custGeom>
              <a:noFill/>
              <a:ln w="79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5612040" y="792360"/>
                <a:ext cx="469800" cy="160200"/>
                <a:chOff x="5612040" y="792360"/>
                <a:chExt cx="469800" cy="1602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615280" y="873000"/>
                  <a:ext cx="466560" cy="79560"/>
                </a:xfrm>
                <a:custGeom>
                  <a:avLst/>
                  <a:gdLst/>
                  <a:ahLst/>
                  <a:rect l="l" t="t" r="r" b="b"/>
                  <a:pathLst>
                    <a:path w="2056" h="354">
                      <a:moveTo>
                        <a:pt x="0" y="22"/>
                      </a:moveTo>
                      <a:lnTo>
                        <a:pt x="0" y="178"/>
                      </a:lnTo>
                      <a:lnTo>
                        <a:pt x="1669" y="354"/>
                      </a:lnTo>
                      <a:lnTo>
                        <a:pt x="2056" y="138"/>
                      </a:lnTo>
                      <a:lnTo>
                        <a:pt x="2056" y="0"/>
                      </a:lnTo>
                      <a:lnTo>
                        <a:pt x="1655" y="187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612040" y="792360"/>
                  <a:ext cx="379440" cy="123480"/>
                </a:xfrm>
                <a:custGeom>
                  <a:avLst/>
                  <a:gdLst/>
                  <a:ahLst/>
                  <a:rect l="l" t="t" r="r" b="b"/>
                  <a:pathLst>
                    <a:path w="1676" h="546">
                      <a:moveTo>
                        <a:pt x="0" y="0"/>
                      </a:moveTo>
                      <a:lnTo>
                        <a:pt x="1676" y="120"/>
                      </a:lnTo>
                      <a:lnTo>
                        <a:pt x="1676" y="546"/>
                      </a:lnTo>
                      <a:lnTo>
                        <a:pt x="0" y="3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5613480" y="814320"/>
                  <a:ext cx="379440" cy="49320"/>
                  <a:chOff x="5613480" y="814320"/>
                  <a:chExt cx="379440" cy="4932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5613480" y="814320"/>
                    <a:ext cx="378000" cy="28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5891400" y="836640"/>
                    <a:ext cx="79200" cy="7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5797800" y="830160"/>
                    <a:ext cx="79200" cy="64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5613480" y="830160"/>
                    <a:ext cx="379440" cy="334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2" name=""/>
              <p:cNvGrpSpPr/>
              <p:nvPr/>
            </p:nvGrpSpPr>
            <p:grpSpPr>
              <a:xfrm>
                <a:off x="5612040" y="774720"/>
                <a:ext cx="469800" cy="44280"/>
                <a:chOff x="5612040" y="774720"/>
                <a:chExt cx="469800" cy="442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5612040" y="774720"/>
                  <a:ext cx="469800" cy="44280"/>
                </a:xfrm>
                <a:custGeom>
                  <a:avLst/>
                  <a:gdLst/>
                  <a:ahLst/>
                  <a:rect l="l" t="t" r="r" b="b"/>
                  <a:pathLst>
                    <a:path w="2075" h="195">
                      <a:moveTo>
                        <a:pt x="0" y="75"/>
                      </a:moveTo>
                      <a:lnTo>
                        <a:pt x="1675" y="195"/>
                      </a:lnTo>
                      <a:lnTo>
                        <a:pt x="2075" y="81"/>
                      </a:lnTo>
                      <a:lnTo>
                        <a:pt x="1934" y="65"/>
                      </a:lnTo>
                      <a:lnTo>
                        <a:pt x="639" y="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8240" y="784080"/>
                  <a:ext cx="346320" cy="28800"/>
                </a:xfrm>
                <a:custGeom>
                  <a:avLst/>
                  <a:gdLst/>
                  <a:ahLst/>
                  <a:rect l="l" t="t" r="r" b="b"/>
                  <a:pathLst>
                    <a:path w="1525" h="124">
                      <a:moveTo>
                        <a:pt x="124" y="0"/>
                      </a:moveTo>
                      <a:lnTo>
                        <a:pt x="0" y="46"/>
                      </a:lnTo>
                      <a:lnTo>
                        <a:pt x="1231" y="124"/>
                      </a:lnTo>
                      <a:lnTo>
                        <a:pt x="1432" y="69"/>
                      </a:lnTo>
                      <a:lnTo>
                        <a:pt x="1415" y="61"/>
                      </a:lnTo>
                      <a:lnTo>
                        <a:pt x="1525" y="31"/>
                      </a:lnTo>
                      <a:lnTo>
                        <a:pt x="1457" y="24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5996160" y="538200"/>
                <a:ext cx="85680" cy="268200"/>
                <a:chOff x="5996160" y="538200"/>
                <a:chExt cx="85680" cy="26820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6029640" y="571680"/>
                  <a:ext cx="52200" cy="225360"/>
                  <a:chOff x="6029640" y="571680"/>
                  <a:chExt cx="52200" cy="2253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6029640" y="571680"/>
                    <a:ext cx="5220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1" h="992">
                        <a:moveTo>
                          <a:pt x="22" y="0"/>
                        </a:moveTo>
                        <a:lnTo>
                          <a:pt x="231" y="82"/>
                        </a:lnTo>
                        <a:lnTo>
                          <a:pt x="211" y="469"/>
                        </a:lnTo>
                        <a:lnTo>
                          <a:pt x="189" y="935"/>
                        </a:lnTo>
                        <a:lnTo>
                          <a:pt x="0" y="99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6029640" y="582480"/>
                    <a:ext cx="50760" cy="188640"/>
                    <a:chOff x="6029640" y="582480"/>
                    <a:chExt cx="50760" cy="188640"/>
                  </a:xfrm>
                </p:grpSpPr>
                <p:grpSp>
                  <p:nvGrpSpPr>
                    <p:cNvPr id="229" name=""/>
                    <p:cNvGrpSpPr/>
                    <p:nvPr/>
                  </p:nvGrpSpPr>
                  <p:grpSpPr>
                    <a:xfrm>
                      <a:off x="6029640" y="582480"/>
                      <a:ext cx="50760" cy="188640"/>
                      <a:chOff x="6029640" y="582480"/>
                      <a:chExt cx="50760" cy="188640"/>
                    </a:xfrm>
                  </p:grpSpPr>
                  <p:grpSp>
                    <p:nvGrpSpPr>
                      <p:cNvPr id="230" name=""/>
                      <p:cNvGrpSpPr/>
                      <p:nvPr/>
                    </p:nvGrpSpPr>
                    <p:grpSpPr>
                      <a:xfrm>
                        <a:off x="6029640" y="582480"/>
                        <a:ext cx="50760" cy="113040"/>
                        <a:chOff x="6029640" y="582480"/>
                        <a:chExt cx="50760" cy="113040"/>
                      </a:xfrm>
                    </p:grpSpPr>
                    <p:grpSp>
                      <p:nvGrpSpPr>
                        <p:cNvPr id="231" name=""/>
                        <p:cNvGrpSpPr/>
                        <p:nvPr/>
                      </p:nvGrpSpPr>
                      <p:grpSpPr>
                        <a:xfrm>
                          <a:off x="6032520" y="582480"/>
                          <a:ext cx="47880" cy="60480"/>
                          <a:chOff x="6032520" y="582480"/>
                          <a:chExt cx="47880" cy="60480"/>
                        </a:xfrm>
                      </p:grpSpPr>
                      <p:sp>
                        <p:nvSpPr>
                          <p:cNvPr id="232" name=""/>
                          <p:cNvSpPr/>
                          <p:nvPr/>
                        </p:nvSpPr>
                        <p:spPr>
                          <a:xfrm>
                            <a:off x="6034320" y="582480"/>
                            <a:ext cx="46080" cy="1764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160" bIns="-29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3" name=""/>
                          <p:cNvSpPr/>
                          <p:nvPr/>
                        </p:nvSpPr>
                        <p:spPr>
                          <a:xfrm>
                            <a:off x="6034320" y="592200"/>
                            <a:ext cx="46080" cy="1584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0960" bIns="-30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4" name=""/>
                          <p:cNvSpPr/>
                          <p:nvPr/>
                        </p:nvSpPr>
                        <p:spPr>
                          <a:xfrm>
                            <a:off x="6034320" y="601560"/>
                            <a:ext cx="46080" cy="1440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0" bIns="-32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5" name=""/>
                          <p:cNvSpPr/>
                          <p:nvPr/>
                        </p:nvSpPr>
                        <p:spPr>
                          <a:xfrm>
                            <a:off x="6034320" y="611280"/>
                            <a:ext cx="46080" cy="1440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0" bIns="-32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6" name=""/>
                          <p:cNvSpPr/>
                          <p:nvPr/>
                        </p:nvSpPr>
                        <p:spPr>
                          <a:xfrm>
                            <a:off x="6032520" y="620640"/>
                            <a:ext cx="46080" cy="1440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0" bIns="-32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7" name=""/>
                          <p:cNvSpPr/>
                          <p:nvPr/>
                        </p:nvSpPr>
                        <p:spPr>
                          <a:xfrm>
                            <a:off x="6032520" y="630360"/>
                            <a:ext cx="46080" cy="1260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200" bIns="-34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6029640" y="650880"/>
                          <a:ext cx="47520" cy="9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6029640" y="660600"/>
                          <a:ext cx="47520" cy="7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>
                          <a:off x="6029640" y="669960"/>
                          <a:ext cx="45720" cy="7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>
                          <a:off x="6029640" y="681120"/>
                          <a:ext cx="45720" cy="46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>
                          <a:off x="6029640" y="690480"/>
                          <a:ext cx="45720" cy="50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029640" y="701640"/>
                        <a:ext cx="45720" cy="69480"/>
                        <a:chOff x="6029640" y="701640"/>
                        <a:chExt cx="45720" cy="69480"/>
                      </a:xfrm>
                    </p:grpSpPr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>
                          <a:off x="6029640" y="701640"/>
                          <a:ext cx="45720" cy="18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>
                          <a:off x="6031080" y="711360"/>
                          <a:ext cx="42840" cy="1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>
                          <a:off x="6029640" y="720720"/>
                          <a:ext cx="44280" cy="18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V="1">
                          <a:off x="6029640" y="730440"/>
                          <a:ext cx="44280" cy="1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V="1">
                          <a:off x="6029640" y="738360"/>
                          <a:ext cx="42840" cy="28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V="1">
                          <a:off x="6029640" y="747360"/>
                          <a:ext cx="42840" cy="3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V="1">
                          <a:off x="6029640" y="755280"/>
                          <a:ext cx="42840" cy="46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V="1">
                          <a:off x="6029640" y="765000"/>
                          <a:ext cx="42840" cy="61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6031080" y="641520"/>
                      <a:ext cx="46080" cy="9360"/>
                    </a:xfrm>
                    <a:prstGeom prst="line">
                      <a:avLst/>
                    </a:prstGeom>
                    <a:ln w="144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5996160" y="538200"/>
                  <a:ext cx="45720" cy="268200"/>
                  <a:chOff x="5996160" y="538200"/>
                  <a:chExt cx="45720" cy="2682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5996160" y="538200"/>
                    <a:ext cx="4428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1184">
                        <a:moveTo>
                          <a:pt x="48" y="0"/>
                        </a:moveTo>
                        <a:lnTo>
                          <a:pt x="191" y="61"/>
                        </a:lnTo>
                        <a:lnTo>
                          <a:pt x="202" y="74"/>
                        </a:lnTo>
                        <a:lnTo>
                          <a:pt x="159" y="1136"/>
                        </a:lnTo>
                        <a:lnTo>
                          <a:pt x="141" y="1149"/>
                        </a:lnTo>
                        <a:lnTo>
                          <a:pt x="0" y="1184"/>
                        </a:lnTo>
                        <a:lnTo>
                          <a:pt x="19" y="1165"/>
                        </a:lnTo>
                        <a:lnTo>
                          <a:pt x="20" y="115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035760" y="552600"/>
                    <a:ext cx="61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789" y="772"/>
                        </a:moveTo>
                        <a:arcTo wR="10800" hR="10800" stAng="-6708084" swAng="67080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789" y="772"/>
                        </a:moveTo>
                        <a:arcTo wR="10800" hR="10800" stAng="-6708084" swAng="6708084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6" name=""/>
              <p:cNvGrpSpPr/>
              <p:nvPr/>
            </p:nvGrpSpPr>
            <p:grpSpPr>
              <a:xfrm>
                <a:off x="6013440" y="942840"/>
                <a:ext cx="146160" cy="57240"/>
                <a:chOff x="6013440" y="942840"/>
                <a:chExt cx="146160" cy="572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013440" y="942840"/>
                  <a:ext cx="146160" cy="38160"/>
                </a:xfrm>
                <a:custGeom>
                  <a:avLst/>
                  <a:gdLst/>
                  <a:ahLst/>
                  <a:rect l="l" t="t" r="r" b="b"/>
                  <a:pathLst>
                    <a:path w="643" h="167">
                      <a:moveTo>
                        <a:pt x="0" y="0"/>
                      </a:moveTo>
                      <a:lnTo>
                        <a:pt x="119" y="8"/>
                      </a:lnTo>
                      <a:lnTo>
                        <a:pt x="208" y="12"/>
                      </a:lnTo>
                      <a:lnTo>
                        <a:pt x="288" y="21"/>
                      </a:lnTo>
                      <a:lnTo>
                        <a:pt x="367" y="31"/>
                      </a:lnTo>
                      <a:lnTo>
                        <a:pt x="423" y="39"/>
                      </a:lnTo>
                      <a:lnTo>
                        <a:pt x="491" y="50"/>
                      </a:lnTo>
                      <a:lnTo>
                        <a:pt x="529" y="57"/>
                      </a:lnTo>
                      <a:lnTo>
                        <a:pt x="558" y="63"/>
                      </a:lnTo>
                      <a:lnTo>
                        <a:pt x="574" y="67"/>
                      </a:lnTo>
                      <a:lnTo>
                        <a:pt x="587" y="71"/>
                      </a:lnTo>
                      <a:lnTo>
                        <a:pt x="603" y="76"/>
                      </a:lnTo>
                      <a:lnTo>
                        <a:pt x="619" y="82"/>
                      </a:lnTo>
                      <a:lnTo>
                        <a:pt x="634" y="90"/>
                      </a:lnTo>
                      <a:lnTo>
                        <a:pt x="642" y="99"/>
                      </a:lnTo>
                      <a:lnTo>
                        <a:pt x="643" y="106"/>
                      </a:lnTo>
                      <a:lnTo>
                        <a:pt x="639" y="117"/>
                      </a:lnTo>
                      <a:lnTo>
                        <a:pt x="634" y="129"/>
                      </a:lnTo>
                      <a:lnTo>
                        <a:pt x="626" y="139"/>
                      </a:lnTo>
                      <a:lnTo>
                        <a:pt x="616" y="146"/>
                      </a:lnTo>
                      <a:lnTo>
                        <a:pt x="602" y="155"/>
                      </a:lnTo>
                      <a:lnTo>
                        <a:pt x="586" y="161"/>
                      </a:lnTo>
                      <a:lnTo>
                        <a:pt x="569" y="163"/>
                      </a:lnTo>
                      <a:lnTo>
                        <a:pt x="550" y="166"/>
                      </a:lnTo>
                      <a:lnTo>
                        <a:pt x="526" y="167"/>
                      </a:lnTo>
                      <a:lnTo>
                        <a:pt x="504" y="165"/>
                      </a:lnTo>
                      <a:lnTo>
                        <a:pt x="468" y="160"/>
                      </a:lnTo>
                    </a:path>
                  </a:pathLst>
                </a:custGeom>
                <a:noFill/>
                <a:ln w="32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" name=""/>
                <p:cNvGrpSpPr/>
                <p:nvPr/>
              </p:nvGrpSpPr>
              <p:grpSpPr>
                <a:xfrm>
                  <a:off x="6019920" y="961920"/>
                  <a:ext cx="101520" cy="38160"/>
                  <a:chOff x="6019920" y="961920"/>
                  <a:chExt cx="101520" cy="38160"/>
                </a:xfrm>
              </p:grpSpPr>
              <p:grpSp>
                <p:nvGrpSpPr>
                  <p:cNvPr id="259" name=""/>
                  <p:cNvGrpSpPr/>
                  <p:nvPr/>
                </p:nvGrpSpPr>
                <p:grpSpPr>
                  <a:xfrm>
                    <a:off x="6019920" y="961920"/>
                    <a:ext cx="101520" cy="38160"/>
                    <a:chOff x="6019920" y="961920"/>
                    <a:chExt cx="101520" cy="38160"/>
                  </a:xfrm>
                </p:grpSpPr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6019920" y="961920"/>
                      <a:ext cx="63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1" h="112">
                          <a:moveTo>
                            <a:pt x="0" y="67"/>
                          </a:moveTo>
                          <a:lnTo>
                            <a:pt x="74" y="0"/>
                          </a:lnTo>
                          <a:lnTo>
                            <a:pt x="281" y="37"/>
                          </a:lnTo>
                          <a:lnTo>
                            <a:pt x="199" y="112"/>
                          </a:lnTo>
                          <a:lnTo>
                            <a:pt x="0" y="67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6019920" y="976320"/>
                      <a:ext cx="4464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9" h="106">
                          <a:moveTo>
                            <a:pt x="0" y="0"/>
                          </a:moveTo>
                          <a:lnTo>
                            <a:pt x="0" y="59"/>
                          </a:lnTo>
                          <a:lnTo>
                            <a:pt x="2" y="59"/>
                          </a:lnTo>
                          <a:lnTo>
                            <a:pt x="199" y="106"/>
                          </a:lnTo>
                          <a:lnTo>
                            <a:pt x="199" y="4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6064560" y="969840"/>
                      <a:ext cx="5688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3" h="136">
                          <a:moveTo>
                            <a:pt x="0" y="74"/>
                          </a:moveTo>
                          <a:lnTo>
                            <a:pt x="81" y="0"/>
                          </a:lnTo>
                          <a:lnTo>
                            <a:pt x="253" y="20"/>
                          </a:lnTo>
                          <a:lnTo>
                            <a:pt x="253" y="76"/>
                          </a:lnTo>
                          <a:lnTo>
                            <a:pt x="0" y="136"/>
                          </a:lnTo>
                          <a:lnTo>
                            <a:pt x="0" y="74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6035760" y="961920"/>
                      <a:ext cx="8568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9" h="56">
                          <a:moveTo>
                            <a:pt x="0" y="0"/>
                          </a:moveTo>
                          <a:lnTo>
                            <a:pt x="190" y="13"/>
                          </a:lnTo>
                          <a:lnTo>
                            <a:pt x="379" y="56"/>
                          </a:lnTo>
                          <a:lnTo>
                            <a:pt x="207" y="3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6019920" y="972720"/>
                    <a:ext cx="101520" cy="18000"/>
                    <a:chOff x="6019920" y="972720"/>
                    <a:chExt cx="101520" cy="1800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019920" y="979560"/>
                      <a:ext cx="44640" cy="11160"/>
                    </a:xfrm>
                    <a:prstGeom prst="line">
                      <a:avLst/>
                    </a:prstGeom>
                    <a:ln w="144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 flipV="1">
                      <a:off x="6064560" y="972720"/>
                      <a:ext cx="18720" cy="17640"/>
                    </a:xfrm>
                    <a:prstGeom prst="line">
                      <a:avLst/>
                    </a:prstGeom>
                    <a:ln w="14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6085080" y="973080"/>
                      <a:ext cx="36360" cy="3240"/>
                    </a:xfrm>
                    <a:prstGeom prst="line">
                      <a:avLst/>
                    </a:prstGeom>
                    <a:ln w="14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68" name=""/>
              <p:cNvSpPr/>
              <p:nvPr/>
            </p:nvSpPr>
            <p:spPr>
              <a:xfrm>
                <a:off x="5992920" y="87012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390" h="364">
                    <a:moveTo>
                      <a:pt x="0" y="183"/>
                    </a:moveTo>
                    <a:lnTo>
                      <a:pt x="390" y="0"/>
                    </a:lnTo>
                    <a:lnTo>
                      <a:pt x="390" y="147"/>
                    </a:lnTo>
                    <a:lnTo>
                      <a:pt x="0" y="36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991480" y="793800"/>
                <a:ext cx="91800" cy="122040"/>
              </a:xfrm>
              <a:custGeom>
                <a:avLst/>
                <a:gdLst/>
                <a:ahLst/>
                <a:rect l="l" t="t" r="r" b="b"/>
                <a:pathLst>
                  <a:path w="402" h="538">
                    <a:moveTo>
                      <a:pt x="0" y="114"/>
                    </a:moveTo>
                    <a:lnTo>
                      <a:pt x="402" y="0"/>
                    </a:lnTo>
                    <a:lnTo>
                      <a:pt x="402" y="355"/>
                    </a:lnTo>
                    <a:lnTo>
                      <a:pt x="1" y="538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45240" y="574560"/>
                <a:ext cx="225360" cy="187560"/>
              </a:xfrm>
              <a:custGeom>
                <a:avLst/>
                <a:gdLst/>
                <a:ahLst/>
                <a:rect l="l" t="t" r="r" b="b"/>
                <a:pathLst>
                  <a:path w="992" h="822">
                    <a:moveTo>
                      <a:pt x="39" y="0"/>
                    </a:moveTo>
                    <a:lnTo>
                      <a:pt x="992" y="0"/>
                    </a:lnTo>
                    <a:lnTo>
                      <a:pt x="953" y="822"/>
                    </a:lnTo>
                    <a:lnTo>
                      <a:pt x="0" y="775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97640" y="889200"/>
                <a:ext cx="420840" cy="83880"/>
              </a:xfrm>
              <a:custGeom>
                <a:avLst/>
                <a:gdLst/>
                <a:ahLst/>
                <a:rect l="l" t="t" r="r" b="b"/>
                <a:pathLst>
                  <a:path w="1849" h="375">
                    <a:moveTo>
                      <a:pt x="301" y="0"/>
                    </a:moveTo>
                    <a:lnTo>
                      <a:pt x="1849" y="153"/>
                    </a:lnTo>
                    <a:lnTo>
                      <a:pt x="1740" y="290"/>
                    </a:lnTo>
                    <a:lnTo>
                      <a:pt x="1634" y="375"/>
                    </a:lnTo>
                    <a:lnTo>
                      <a:pt x="0" y="187"/>
                    </a:lnTo>
                    <a:lnTo>
                      <a:pt x="122" y="134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5991480" y="801720"/>
                <a:ext cx="90360" cy="106200"/>
                <a:chOff x="5991480" y="801720"/>
                <a:chExt cx="90360" cy="106200"/>
              </a:xfrm>
            </p:grpSpPr>
            <p:sp>
              <p:nvSpPr>
                <p:cNvPr id="273" name=""/>
                <p:cNvSpPr/>
                <p:nvPr/>
              </p:nvSpPr>
              <p:spPr>
                <a:xfrm flipV="1">
                  <a:off x="5991480" y="829800"/>
                  <a:ext cx="90360" cy="3348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6007320" y="839520"/>
                  <a:ext cx="74520" cy="2844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6007320" y="849240"/>
                  <a:ext cx="74520" cy="3024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V="1">
                  <a:off x="6007320" y="856800"/>
                  <a:ext cx="74520" cy="3204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6007320" y="866880"/>
                  <a:ext cx="74520" cy="3312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6007320" y="820440"/>
                  <a:ext cx="74520" cy="2700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6007320" y="810720"/>
                  <a:ext cx="74520" cy="2412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6007320" y="801720"/>
                  <a:ext cx="74520" cy="2232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>
                  <a:off x="6007320" y="816120"/>
                  <a:ext cx="1440" cy="9180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5715000" y="533520"/>
                <a:ext cx="295560" cy="272880"/>
                <a:chOff x="5715000" y="533520"/>
                <a:chExt cx="295560" cy="2728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5715000" y="533520"/>
                  <a:ext cx="295560" cy="272880"/>
                  <a:chOff x="5715000" y="533520"/>
                  <a:chExt cx="295560" cy="272880"/>
                </a:xfrm>
              </p:grpSpPr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715000" y="533520"/>
                    <a:ext cx="295560" cy="272880"/>
                    <a:chOff x="5715000" y="533520"/>
                    <a:chExt cx="295560" cy="27288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715000" y="533520"/>
                      <a:ext cx="295560" cy="27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7" h="1209">
                          <a:moveTo>
                            <a:pt x="104" y="20"/>
                          </a:moveTo>
                          <a:lnTo>
                            <a:pt x="216" y="14"/>
                          </a:lnTo>
                          <a:lnTo>
                            <a:pt x="368" y="4"/>
                          </a:lnTo>
                          <a:lnTo>
                            <a:pt x="526" y="0"/>
                          </a:lnTo>
                          <a:lnTo>
                            <a:pt x="712" y="0"/>
                          </a:lnTo>
                          <a:lnTo>
                            <a:pt x="842" y="2"/>
                          </a:lnTo>
                          <a:lnTo>
                            <a:pt x="1042" y="9"/>
                          </a:lnTo>
                          <a:lnTo>
                            <a:pt x="1236" y="19"/>
                          </a:lnTo>
                          <a:lnTo>
                            <a:pt x="1282" y="21"/>
                          </a:lnTo>
                          <a:lnTo>
                            <a:pt x="1292" y="26"/>
                          </a:lnTo>
                          <a:lnTo>
                            <a:pt x="1300" y="31"/>
                          </a:lnTo>
                          <a:lnTo>
                            <a:pt x="1306" y="40"/>
                          </a:lnTo>
                          <a:lnTo>
                            <a:pt x="1307" y="50"/>
                          </a:lnTo>
                          <a:lnTo>
                            <a:pt x="1258" y="1186"/>
                          </a:lnTo>
                          <a:lnTo>
                            <a:pt x="1252" y="1204"/>
                          </a:lnTo>
                          <a:lnTo>
                            <a:pt x="1236" y="1209"/>
                          </a:lnTo>
                          <a:lnTo>
                            <a:pt x="814" y="1180"/>
                          </a:lnTo>
                          <a:lnTo>
                            <a:pt x="400" y="1151"/>
                          </a:lnTo>
                          <a:lnTo>
                            <a:pt x="19" y="1123"/>
                          </a:lnTo>
                          <a:lnTo>
                            <a:pt x="0" y="1094"/>
                          </a:lnTo>
                          <a:lnTo>
                            <a:pt x="58" y="57"/>
                          </a:lnTo>
                          <a:lnTo>
                            <a:pt x="104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5997600" y="538200"/>
                      <a:ext cx="129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433086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4330866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5727960" y="536760"/>
                      <a:ext cx="277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5" y="9373"/>
                          </a:moveTo>
                          <a:arcTo wR="10800" hR="10800" stAng="-10344321" swAng="494432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5" y="9373"/>
                          </a:moveTo>
                          <a:arcTo wR="10800" hR="10800" stAng="-10344321" swAng="4944321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5715000" y="771480"/>
                      <a:ext cx="1260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7833" y="21184"/>
                          </a:moveTo>
                          <a:arcTo wR="10800" hR="10800" stAng="6356723" swAng="444327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7833" y="21184"/>
                          </a:moveTo>
                          <a:arcTo wR="10800" hR="10800" stAng="6356723" swAng="4443277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5745240" y="574560"/>
                    <a:ext cx="225360" cy="187560"/>
                    <a:chOff x="5745240" y="574560"/>
                    <a:chExt cx="225360" cy="187560"/>
                  </a:xfrm>
                </p:grpSpPr>
                <p:grpSp>
                  <p:nvGrpSpPr>
                    <p:cNvPr id="290" name=""/>
                    <p:cNvGrpSpPr/>
                    <p:nvPr/>
                  </p:nvGrpSpPr>
                  <p:grpSpPr>
                    <a:xfrm>
                      <a:off x="5745240" y="574560"/>
                      <a:ext cx="225360" cy="187560"/>
                      <a:chOff x="5745240" y="574560"/>
                      <a:chExt cx="225360" cy="187560"/>
                    </a:xfrm>
                  </p:grpSpPr>
                  <p:sp>
                    <p:nvSpPr>
                      <p:cNvPr id="291" name=""/>
                      <p:cNvSpPr/>
                      <p:nvPr/>
                    </p:nvSpPr>
                    <p:spPr>
                      <a:xfrm>
                        <a:off x="5754960" y="574560"/>
                        <a:ext cx="21564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2" h="17">
                            <a:moveTo>
                              <a:pt x="0" y="0"/>
                            </a:moveTo>
                            <a:lnTo>
                              <a:pt x="952" y="1"/>
                            </a:lnTo>
                            <a:lnTo>
                              <a:pt x="931" y="17"/>
                            </a:lnTo>
                            <a:lnTo>
                              <a:pt x="21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5956560" y="574560"/>
                        <a:ext cx="14040" cy="18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" h="822">
                            <a:moveTo>
                              <a:pt x="39" y="16"/>
                            </a:moveTo>
                            <a:lnTo>
                              <a:pt x="61" y="0"/>
                            </a:lnTo>
                            <a:lnTo>
                              <a:pt x="40" y="446"/>
                            </a:lnTo>
                            <a:lnTo>
                              <a:pt x="20" y="822"/>
                            </a:lnTo>
                            <a:lnTo>
                              <a:pt x="0" y="799"/>
                            </a:lnTo>
                            <a:lnTo>
                              <a:pt x="39" y="1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3" name=""/>
                      <p:cNvSpPr/>
                      <p:nvPr/>
                    </p:nvSpPr>
                    <p:spPr>
                      <a:xfrm>
                        <a:off x="5745240" y="746280"/>
                        <a:ext cx="21600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2" h="67">
                            <a:moveTo>
                              <a:pt x="22" y="0"/>
                            </a:moveTo>
                            <a:lnTo>
                              <a:pt x="0" y="21"/>
                            </a:lnTo>
                            <a:lnTo>
                              <a:pt x="952" y="67"/>
                            </a:lnTo>
                            <a:lnTo>
                              <a:pt x="932" y="45"/>
                            </a:lnTo>
                            <a:lnTo>
                              <a:pt x="22" y="0"/>
                            </a:lnTo>
                            <a:close/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5745240" y="574560"/>
                        <a:ext cx="14400" cy="17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775">
                            <a:moveTo>
                              <a:pt x="39" y="0"/>
                            </a:moveTo>
                            <a:lnTo>
                              <a:pt x="60" y="16"/>
                            </a:lnTo>
                            <a:lnTo>
                              <a:pt x="22" y="754"/>
                            </a:lnTo>
                            <a:lnTo>
                              <a:pt x="0" y="775"/>
                            </a:lnTo>
                            <a:lnTo>
                              <a:pt x="39" y="0"/>
                            </a:lnTo>
                            <a:close/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5" name=""/>
                    <p:cNvGrpSpPr/>
                    <p:nvPr/>
                  </p:nvGrpSpPr>
                  <p:grpSpPr>
                    <a:xfrm>
                      <a:off x="5749920" y="579600"/>
                      <a:ext cx="216000" cy="177840"/>
                      <a:chOff x="5749920" y="579600"/>
                      <a:chExt cx="216000" cy="177840"/>
                    </a:xfrm>
                  </p:grpSpPr>
                  <p:sp>
                    <p:nvSpPr>
                      <p:cNvPr id="296" name=""/>
                      <p:cNvSpPr/>
                      <p:nvPr/>
                    </p:nvSpPr>
                    <p:spPr>
                      <a:xfrm>
                        <a:off x="5749920" y="579600"/>
                        <a:ext cx="2160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9" h="783">
                            <a:moveTo>
                              <a:pt x="39" y="0"/>
                            </a:moveTo>
                            <a:lnTo>
                              <a:pt x="949" y="0"/>
                            </a:lnTo>
                            <a:lnTo>
                              <a:pt x="911" y="783"/>
                            </a:lnTo>
                            <a:lnTo>
                              <a:pt x="0" y="738"/>
                            </a:lnTo>
                            <a:lnTo>
                              <a:pt x="39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5757840" y="585720"/>
                        <a:ext cx="200160" cy="16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4" h="723">
                            <a:moveTo>
                              <a:pt x="32" y="1"/>
                            </a:moveTo>
                            <a:lnTo>
                              <a:pt x="884" y="0"/>
                            </a:lnTo>
                            <a:lnTo>
                              <a:pt x="847" y="723"/>
                            </a:lnTo>
                            <a:lnTo>
                              <a:pt x="0" y="686"/>
                            </a:lnTo>
                            <a:lnTo>
                              <a:pt x="32" y="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8" name=""/>
                      <p:cNvSpPr/>
                      <p:nvPr/>
                    </p:nvSpPr>
                    <p:spPr>
                      <a:xfrm>
                        <a:off x="5761080" y="595440"/>
                        <a:ext cx="189000" cy="147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4" h="653">
                            <a:moveTo>
                              <a:pt x="31" y="0"/>
                            </a:moveTo>
                            <a:lnTo>
                              <a:pt x="834" y="0"/>
                            </a:lnTo>
                            <a:lnTo>
                              <a:pt x="801" y="653"/>
                            </a:lnTo>
                            <a:lnTo>
                              <a:pt x="0" y="620"/>
                            </a:lnTo>
                            <a:lnTo>
                              <a:pt x="31" y="0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99" name=""/>
                <p:cNvSpPr/>
                <p:nvPr/>
              </p:nvSpPr>
              <p:spPr>
                <a:xfrm>
                  <a:off x="5951520" y="784080"/>
                  <a:ext cx="12960" cy="50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55" y="1"/>
                      </a:lnTo>
                      <a:lnTo>
                        <a:pt x="55" y="19"/>
                      </a:lnTo>
                      <a:lnTo>
                        <a:pt x="0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5599080" y="893880"/>
                <a:ext cx="419400" cy="95040"/>
                <a:chOff x="5599080" y="893880"/>
                <a:chExt cx="419400" cy="9504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888160" y="922320"/>
                  <a:ext cx="100080" cy="41400"/>
                </a:xfrm>
                <a:custGeom>
                  <a:avLst/>
                  <a:gdLst/>
                  <a:ahLst/>
                  <a:rect l="l" t="t" r="r" b="b"/>
                  <a:pathLst>
                    <a:path w="444" h="184">
                      <a:moveTo>
                        <a:pt x="171" y="0"/>
                      </a:moveTo>
                      <a:lnTo>
                        <a:pt x="67" y="108"/>
                      </a:lnTo>
                      <a:lnTo>
                        <a:pt x="0" y="153"/>
                      </a:lnTo>
                      <a:lnTo>
                        <a:pt x="291" y="184"/>
                      </a:lnTo>
                      <a:lnTo>
                        <a:pt x="358" y="126"/>
                      </a:lnTo>
                      <a:lnTo>
                        <a:pt x="444" y="25"/>
                      </a:lnTo>
                      <a:lnTo>
                        <a:pt x="17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"/>
                <p:cNvGrpSpPr/>
                <p:nvPr/>
              </p:nvGrpSpPr>
              <p:grpSpPr>
                <a:xfrm>
                  <a:off x="5599080" y="893880"/>
                  <a:ext cx="419400" cy="95040"/>
                  <a:chOff x="5599080" y="893880"/>
                  <a:chExt cx="419400" cy="9504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5599080" y="930240"/>
                    <a:ext cx="3700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34" h="253">
                        <a:moveTo>
                          <a:pt x="0" y="0"/>
                        </a:moveTo>
                        <a:lnTo>
                          <a:pt x="0" y="65"/>
                        </a:lnTo>
                        <a:lnTo>
                          <a:pt x="1634" y="253"/>
                        </a:lnTo>
                        <a:lnTo>
                          <a:pt x="1633" y="18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969160" y="924120"/>
                    <a:ext cx="4932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287">
                        <a:moveTo>
                          <a:pt x="0" y="222"/>
                        </a:moveTo>
                        <a:lnTo>
                          <a:pt x="0" y="287"/>
                        </a:lnTo>
                        <a:lnTo>
                          <a:pt x="94" y="221"/>
                        </a:lnTo>
                        <a:lnTo>
                          <a:pt x="132" y="182"/>
                        </a:lnTo>
                        <a:lnTo>
                          <a:pt x="215" y="81"/>
                        </a:lnTo>
                        <a:lnTo>
                          <a:pt x="215" y="0"/>
                        </a:lnTo>
                        <a:lnTo>
                          <a:pt x="106" y="136"/>
                        </a:lnTo>
                        <a:lnTo>
                          <a:pt x="0" y="222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5599080" y="936720"/>
                    <a:ext cx="370080" cy="41040"/>
                  </a:xfrm>
                  <a:prstGeom prst="line">
                    <a:avLst/>
                  </a:prstGeom>
                  <a:ln w="14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5623200" y="893880"/>
                    <a:ext cx="357120" cy="69480"/>
                    <a:chOff x="5623200" y="893880"/>
                    <a:chExt cx="357120" cy="6948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5623200" y="897120"/>
                      <a:ext cx="27468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0" h="251">
                          <a:moveTo>
                            <a:pt x="208" y="0"/>
                          </a:moveTo>
                          <a:lnTo>
                            <a:pt x="64" y="110"/>
                          </a:lnTo>
                          <a:lnTo>
                            <a:pt x="0" y="144"/>
                          </a:lnTo>
                          <a:lnTo>
                            <a:pt x="1026" y="251"/>
                          </a:lnTo>
                          <a:lnTo>
                            <a:pt x="1100" y="202"/>
                          </a:lnTo>
                          <a:lnTo>
                            <a:pt x="1210" y="101"/>
                          </a:lnTo>
                          <a:lnTo>
                            <a:pt x="208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8" name=""/>
                    <p:cNvGrpSpPr/>
                    <p:nvPr/>
                  </p:nvGrpSpPr>
                  <p:grpSpPr>
                    <a:xfrm>
                      <a:off x="5629320" y="893880"/>
                      <a:ext cx="351000" cy="69480"/>
                      <a:chOff x="5629320" y="893880"/>
                      <a:chExt cx="351000" cy="69480"/>
                    </a:xfrm>
                  </p:grpSpPr>
                  <p:grpSp>
                    <p:nvGrpSpPr>
                      <p:cNvPr id="309" name=""/>
                      <p:cNvGrpSpPr/>
                      <p:nvPr/>
                    </p:nvGrpSpPr>
                    <p:grpSpPr>
                      <a:xfrm>
                        <a:off x="5635800" y="893880"/>
                        <a:ext cx="255600" cy="58320"/>
                        <a:chOff x="5635800" y="893880"/>
                        <a:chExt cx="255600" cy="58320"/>
                      </a:xfrm>
                    </p:grpSpPr>
                    <p:grpSp>
                      <p:nvGrpSpPr>
                        <p:cNvPr id="310" name=""/>
                        <p:cNvGrpSpPr/>
                        <p:nvPr/>
                      </p:nvGrpSpPr>
                      <p:grpSpPr>
                        <a:xfrm>
                          <a:off x="5635800" y="893880"/>
                          <a:ext cx="52200" cy="38160"/>
                          <a:chOff x="5635800" y="893880"/>
                          <a:chExt cx="52200" cy="38160"/>
                        </a:xfrm>
                      </p:grpSpPr>
                      <p:sp>
                        <p:nvSpPr>
                          <p:cNvPr id="311" name=""/>
                          <p:cNvSpPr/>
                          <p:nvPr/>
                        </p:nvSpPr>
                        <p:spPr>
                          <a:xfrm flipV="1">
                            <a:off x="5635800" y="924120"/>
                            <a:ext cx="17280" cy="792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2" name=""/>
                          <p:cNvSpPr/>
                          <p:nvPr/>
                        </p:nvSpPr>
                        <p:spPr>
                          <a:xfrm flipV="1">
                            <a:off x="5653080" y="893880"/>
                            <a:ext cx="34920" cy="3024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13" name=""/>
                        <p:cNvGrpSpPr/>
                        <p:nvPr/>
                      </p:nvGrpSpPr>
                      <p:grpSpPr>
                        <a:xfrm>
                          <a:off x="5656320" y="895320"/>
                          <a:ext cx="54000" cy="39600"/>
                          <a:chOff x="5656320" y="895320"/>
                          <a:chExt cx="54000" cy="39600"/>
                        </a:xfrm>
                      </p:grpSpPr>
                      <p:sp>
                        <p:nvSpPr>
                          <p:cNvPr id="314" name=""/>
                          <p:cNvSpPr/>
                          <p:nvPr/>
                        </p:nvSpPr>
                        <p:spPr>
                          <a:xfrm flipV="1">
                            <a:off x="5656320" y="925560"/>
                            <a:ext cx="17640" cy="936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5" name=""/>
                          <p:cNvSpPr/>
                          <p:nvPr/>
                        </p:nvSpPr>
                        <p:spPr>
                          <a:xfrm flipV="1">
                            <a:off x="5673960" y="895320"/>
                            <a:ext cx="36360" cy="3024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16" name=""/>
                        <p:cNvGrpSpPr/>
                        <p:nvPr/>
                      </p:nvGrpSpPr>
                      <p:grpSpPr>
                        <a:xfrm>
                          <a:off x="5677200" y="896760"/>
                          <a:ext cx="53640" cy="39600"/>
                          <a:chOff x="5677200" y="896760"/>
                          <a:chExt cx="53640" cy="39600"/>
                        </a:xfrm>
                      </p:grpSpPr>
                      <p:sp>
                        <p:nvSpPr>
                          <p:cNvPr id="317" name=""/>
                          <p:cNvSpPr/>
                          <p:nvPr/>
                        </p:nvSpPr>
                        <p:spPr>
                          <a:xfrm flipV="1">
                            <a:off x="5677200" y="926640"/>
                            <a:ext cx="17280" cy="972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/>
                          <p:nvPr/>
                        </p:nvSpPr>
                        <p:spPr>
                          <a:xfrm flipV="1">
                            <a:off x="5694480" y="896760"/>
                            <a:ext cx="36360" cy="2988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19" name=""/>
                        <p:cNvGrpSpPr/>
                        <p:nvPr/>
                      </p:nvGrpSpPr>
                      <p:grpSpPr>
                        <a:xfrm>
                          <a:off x="5697720" y="900000"/>
                          <a:ext cx="52200" cy="38160"/>
                          <a:chOff x="5697720" y="900000"/>
                          <a:chExt cx="52200" cy="38160"/>
                        </a:xfrm>
                      </p:grpSpPr>
                      <p:sp>
                        <p:nvSpPr>
                          <p:cNvPr id="320" name=""/>
                          <p:cNvSpPr/>
                          <p:nvPr/>
                        </p:nvSpPr>
                        <p:spPr>
                          <a:xfrm flipV="1">
                            <a:off x="5697720" y="930240"/>
                            <a:ext cx="17280" cy="792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flipV="1">
                            <a:off x="5715000" y="900000"/>
                            <a:ext cx="34920" cy="3024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2" name=""/>
                        <p:cNvGrpSpPr/>
                        <p:nvPr/>
                      </p:nvGrpSpPr>
                      <p:grpSpPr>
                        <a:xfrm>
                          <a:off x="5718240" y="901440"/>
                          <a:ext cx="54000" cy="38160"/>
                          <a:chOff x="5718240" y="901440"/>
                          <a:chExt cx="54000" cy="38160"/>
                        </a:xfrm>
                      </p:grpSpPr>
                      <p:sp>
                        <p:nvSpPr>
                          <p:cNvPr id="323" name=""/>
                          <p:cNvSpPr/>
                          <p:nvPr/>
                        </p:nvSpPr>
                        <p:spPr>
                          <a:xfrm flipV="1">
                            <a:off x="5718240" y="929880"/>
                            <a:ext cx="17640" cy="972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4" name=""/>
                          <p:cNvSpPr/>
                          <p:nvPr/>
                        </p:nvSpPr>
                        <p:spPr>
                          <a:xfrm flipV="1">
                            <a:off x="5735880" y="901440"/>
                            <a:ext cx="36360" cy="2844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360" bIns="-18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5" name=""/>
                        <p:cNvGrpSpPr/>
                        <p:nvPr/>
                      </p:nvGrpSpPr>
                      <p:grpSpPr>
                        <a:xfrm>
                          <a:off x="5739120" y="903240"/>
                          <a:ext cx="53640" cy="38160"/>
                          <a:chOff x="5739120" y="903240"/>
                          <a:chExt cx="53640" cy="38160"/>
                        </a:xfrm>
                      </p:grpSpPr>
                      <p:sp>
                        <p:nvSpPr>
                          <p:cNvPr id="326" name=""/>
                          <p:cNvSpPr/>
                          <p:nvPr/>
                        </p:nvSpPr>
                        <p:spPr>
                          <a:xfrm flipV="1">
                            <a:off x="5739120" y="932040"/>
                            <a:ext cx="17280" cy="936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7" name=""/>
                          <p:cNvSpPr/>
                          <p:nvPr/>
                        </p:nvSpPr>
                        <p:spPr>
                          <a:xfrm flipV="1">
                            <a:off x="5756400" y="903240"/>
                            <a:ext cx="36360" cy="2880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0" bIns="-18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8" name=""/>
                        <p:cNvGrpSpPr/>
                        <p:nvPr/>
                      </p:nvGrpSpPr>
                      <p:grpSpPr>
                        <a:xfrm>
                          <a:off x="5759640" y="904680"/>
                          <a:ext cx="52200" cy="38160"/>
                          <a:chOff x="5759640" y="904680"/>
                          <a:chExt cx="52200" cy="38160"/>
                        </a:xfrm>
                      </p:grpSpPr>
                      <p:sp>
                        <p:nvSpPr>
                          <p:cNvPr id="329" name=""/>
                          <p:cNvSpPr/>
                          <p:nvPr/>
                        </p:nvSpPr>
                        <p:spPr>
                          <a:xfrm flipV="1">
                            <a:off x="5759640" y="934920"/>
                            <a:ext cx="17280" cy="792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0" name=""/>
                          <p:cNvSpPr/>
                          <p:nvPr/>
                        </p:nvSpPr>
                        <p:spPr>
                          <a:xfrm flipV="1">
                            <a:off x="5776920" y="904680"/>
                            <a:ext cx="34920" cy="2988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1" name=""/>
                        <p:cNvGrpSpPr/>
                        <p:nvPr/>
                      </p:nvGrpSpPr>
                      <p:grpSpPr>
                        <a:xfrm>
                          <a:off x="5776920" y="907920"/>
                          <a:ext cx="54000" cy="38160"/>
                          <a:chOff x="5776920" y="907920"/>
                          <a:chExt cx="54000" cy="38160"/>
                        </a:xfrm>
                      </p:grpSpPr>
                      <p:sp>
                        <p:nvSpPr>
                          <p:cNvPr id="332" name=""/>
                          <p:cNvSpPr/>
                          <p:nvPr/>
                        </p:nvSpPr>
                        <p:spPr>
                          <a:xfrm flipV="1">
                            <a:off x="5776920" y="936720"/>
                            <a:ext cx="17640" cy="936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3" name=""/>
                          <p:cNvSpPr/>
                          <p:nvPr/>
                        </p:nvSpPr>
                        <p:spPr>
                          <a:xfrm flipV="1">
                            <a:off x="5794560" y="907920"/>
                            <a:ext cx="36360" cy="2880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0" bIns="-18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4" name=""/>
                        <p:cNvGrpSpPr/>
                        <p:nvPr/>
                      </p:nvGrpSpPr>
                      <p:grpSpPr>
                        <a:xfrm>
                          <a:off x="5797800" y="909720"/>
                          <a:ext cx="54000" cy="39600"/>
                          <a:chOff x="5797800" y="909720"/>
                          <a:chExt cx="54000" cy="39600"/>
                        </a:xfrm>
                      </p:grpSpPr>
                      <p:sp>
                        <p:nvSpPr>
                          <p:cNvPr id="335" name=""/>
                          <p:cNvSpPr/>
                          <p:nvPr/>
                        </p:nvSpPr>
                        <p:spPr>
                          <a:xfrm flipV="1">
                            <a:off x="5797800" y="939960"/>
                            <a:ext cx="17280" cy="936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6" name=""/>
                          <p:cNvSpPr/>
                          <p:nvPr/>
                        </p:nvSpPr>
                        <p:spPr>
                          <a:xfrm flipV="1">
                            <a:off x="5815080" y="909720"/>
                            <a:ext cx="36720" cy="3024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7" name=""/>
                        <p:cNvGrpSpPr/>
                        <p:nvPr/>
                      </p:nvGrpSpPr>
                      <p:grpSpPr>
                        <a:xfrm>
                          <a:off x="5818320" y="911160"/>
                          <a:ext cx="54000" cy="39600"/>
                          <a:chOff x="5818320" y="911160"/>
                          <a:chExt cx="54000" cy="39600"/>
                        </a:xfrm>
                      </p:grpSpPr>
                      <p:sp>
                        <p:nvSpPr>
                          <p:cNvPr id="338" name=""/>
                          <p:cNvSpPr/>
                          <p:nvPr/>
                        </p:nvSpPr>
                        <p:spPr>
                          <a:xfrm flipV="1">
                            <a:off x="5818320" y="941040"/>
                            <a:ext cx="17640" cy="972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9" name=""/>
                          <p:cNvSpPr/>
                          <p:nvPr/>
                        </p:nvSpPr>
                        <p:spPr>
                          <a:xfrm flipV="1">
                            <a:off x="5835960" y="911160"/>
                            <a:ext cx="36360" cy="3024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0" name=""/>
                        <p:cNvGrpSpPr/>
                        <p:nvPr/>
                      </p:nvGrpSpPr>
                      <p:grpSpPr>
                        <a:xfrm>
                          <a:off x="5837400" y="912600"/>
                          <a:ext cx="54000" cy="39600"/>
                          <a:chOff x="5837400" y="912600"/>
                          <a:chExt cx="54000" cy="39600"/>
                        </a:xfrm>
                      </p:grpSpPr>
                      <p:sp>
                        <p:nvSpPr>
                          <p:cNvPr id="341" name=""/>
                          <p:cNvSpPr/>
                          <p:nvPr/>
                        </p:nvSpPr>
                        <p:spPr>
                          <a:xfrm flipV="1">
                            <a:off x="5837400" y="942480"/>
                            <a:ext cx="17280" cy="972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2" name=""/>
                          <p:cNvSpPr/>
                          <p:nvPr/>
                        </p:nvSpPr>
                        <p:spPr>
                          <a:xfrm flipV="1">
                            <a:off x="5854680" y="912600"/>
                            <a:ext cx="36720" cy="2988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43" name=""/>
                      <p:cNvGrpSpPr/>
                      <p:nvPr/>
                    </p:nvGrpSpPr>
                    <p:grpSpPr>
                      <a:xfrm>
                        <a:off x="5899320" y="918720"/>
                        <a:ext cx="77760" cy="44640"/>
                        <a:chOff x="5899320" y="918720"/>
                        <a:chExt cx="77760" cy="44640"/>
                      </a:xfrm>
                    </p:grpSpPr>
                    <p:grpSp>
                      <p:nvGrpSpPr>
                        <p:cNvPr id="344" name=""/>
                        <p:cNvGrpSpPr/>
                        <p:nvPr/>
                      </p:nvGrpSpPr>
                      <p:grpSpPr>
                        <a:xfrm>
                          <a:off x="5932800" y="922320"/>
                          <a:ext cx="44280" cy="41040"/>
                          <a:chOff x="5932800" y="922320"/>
                          <a:chExt cx="44280" cy="41040"/>
                        </a:xfrm>
                      </p:grpSpPr>
                      <p:sp>
                        <p:nvSpPr>
                          <p:cNvPr id="345" name=""/>
                          <p:cNvSpPr/>
                          <p:nvPr/>
                        </p:nvSpPr>
                        <p:spPr>
                          <a:xfrm flipV="1">
                            <a:off x="5932800" y="952200"/>
                            <a:ext cx="14040" cy="1116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6" name=""/>
                          <p:cNvSpPr/>
                          <p:nvPr/>
                        </p:nvSpPr>
                        <p:spPr>
                          <a:xfrm flipV="1">
                            <a:off x="5946840" y="922320"/>
                            <a:ext cx="30240" cy="3024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7" name=""/>
                        <p:cNvGrpSpPr/>
                        <p:nvPr/>
                      </p:nvGrpSpPr>
                      <p:grpSpPr>
                        <a:xfrm>
                          <a:off x="5915160" y="918720"/>
                          <a:ext cx="46080" cy="44640"/>
                          <a:chOff x="5915160" y="918720"/>
                          <a:chExt cx="46080" cy="44640"/>
                        </a:xfrm>
                      </p:grpSpPr>
                      <p:sp>
                        <p:nvSpPr>
                          <p:cNvPr id="348" name=""/>
                          <p:cNvSpPr/>
                          <p:nvPr/>
                        </p:nvSpPr>
                        <p:spPr>
                          <a:xfrm flipV="1">
                            <a:off x="5915160" y="952200"/>
                            <a:ext cx="15840" cy="1116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9" name=""/>
                          <p:cNvSpPr/>
                          <p:nvPr/>
                        </p:nvSpPr>
                        <p:spPr>
                          <a:xfrm flipV="1">
                            <a:off x="5931000" y="918720"/>
                            <a:ext cx="30240" cy="3348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0" name=""/>
                        <p:cNvGrpSpPr/>
                        <p:nvPr/>
                      </p:nvGrpSpPr>
                      <p:grpSpPr>
                        <a:xfrm>
                          <a:off x="5899320" y="919080"/>
                          <a:ext cx="44280" cy="41040"/>
                          <a:chOff x="5899320" y="919080"/>
                          <a:chExt cx="44280" cy="41040"/>
                        </a:xfrm>
                      </p:grpSpPr>
                      <p:sp>
                        <p:nvSpPr>
                          <p:cNvPr id="351" name=""/>
                          <p:cNvSpPr/>
                          <p:nvPr/>
                        </p:nvSpPr>
                        <p:spPr>
                          <a:xfrm flipV="1">
                            <a:off x="5899320" y="948960"/>
                            <a:ext cx="15840" cy="1116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2" name=""/>
                          <p:cNvSpPr/>
                          <p:nvPr/>
                        </p:nvSpPr>
                        <p:spPr>
                          <a:xfrm flipV="1">
                            <a:off x="5915160" y="919080"/>
                            <a:ext cx="28440" cy="3024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53" name=""/>
                      <p:cNvSpPr/>
                      <p:nvPr/>
                    </p:nvSpPr>
                    <p:spPr>
                      <a:xfrm>
                        <a:off x="5654880" y="905040"/>
                        <a:ext cx="325440" cy="31680"/>
                      </a:xfrm>
                      <a:prstGeom prst="line">
                        <a:avLst/>
                      </a:prstGeom>
                      <a:ln w="14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4" name=""/>
                      <p:cNvSpPr/>
                      <p:nvPr/>
                    </p:nvSpPr>
                    <p:spPr>
                      <a:xfrm>
                        <a:off x="5642280" y="914400"/>
                        <a:ext cx="331560" cy="31680"/>
                      </a:xfrm>
                      <a:prstGeom prst="line">
                        <a:avLst/>
                      </a:prstGeom>
                      <a:ln w="14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" name=""/>
                      <p:cNvSpPr/>
                      <p:nvPr/>
                    </p:nvSpPr>
                    <p:spPr>
                      <a:xfrm>
                        <a:off x="5629320" y="922320"/>
                        <a:ext cx="336600" cy="34920"/>
                      </a:xfrm>
                      <a:prstGeom prst="line">
                        <a:avLst/>
                      </a:prstGeom>
                      <a:ln w="32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969160" y="928440"/>
                    <a:ext cx="47520" cy="48960"/>
                    <a:chOff x="5969160" y="928440"/>
                    <a:chExt cx="47520" cy="4896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flipV="1">
                      <a:off x="5969160" y="956880"/>
                      <a:ext cx="25200" cy="20520"/>
                    </a:xfrm>
                    <a:prstGeom prst="line">
                      <a:avLst/>
                    </a:prstGeom>
                    <a:ln w="144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flipV="1">
                      <a:off x="5994360" y="928440"/>
                      <a:ext cx="22320" cy="28440"/>
                    </a:xfrm>
                    <a:prstGeom prst="line">
                      <a:avLst/>
                    </a:prstGeom>
                    <a:ln w="144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pic>
          <p:nvPicPr>
            <p:cNvPr id="359" name="COMP1" descr=""/>
            <p:cNvPicPr/>
            <p:nvPr/>
          </p:nvPicPr>
          <p:blipFill>
            <a:blip r:embed="rId9"/>
            <a:stretch/>
          </p:blipFill>
          <p:spPr>
            <a:xfrm>
              <a:off x="6400800" y="533520"/>
              <a:ext cx="60948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COMP1" descr=""/>
            <p:cNvPicPr/>
            <p:nvPr/>
          </p:nvPicPr>
          <p:blipFill>
            <a:blip r:embed="rId10"/>
            <a:stretch/>
          </p:blipFill>
          <p:spPr>
            <a:xfrm>
              <a:off x="7162920" y="533520"/>
              <a:ext cx="609480" cy="46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1" name=""/>
            <p:cNvGrpSpPr/>
            <p:nvPr/>
          </p:nvGrpSpPr>
          <p:grpSpPr>
            <a:xfrm>
              <a:off x="5029200" y="838080"/>
              <a:ext cx="457200" cy="380880"/>
              <a:chOff x="5029200" y="838080"/>
              <a:chExt cx="457200" cy="380880"/>
            </a:xfrm>
          </p:grpSpPr>
          <p:pic>
            <p:nvPicPr>
              <p:cNvPr id="36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029200" y="1066680"/>
                <a:ext cx="45720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>
                <a:off x="5091840" y="838080"/>
                <a:ext cx="36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</a:rPr>
                  <a:t>集線器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5486400" y="11430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67280" y="990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05720" y="990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990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172200" y="228600"/>
              <a:ext cx="11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辦公室區域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6248520" y="12952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辦公室區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81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40840" y="1371600"/>
            <a:ext cx="423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</a:rPr>
              <a:t>用地系統主機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144960" y="685800"/>
            <a:ext cx="485640" cy="1055520"/>
            <a:chOff x="3144960" y="685800"/>
            <a:chExt cx="485640" cy="1055520"/>
          </a:xfrm>
        </p:grpSpPr>
        <p:pic>
          <p:nvPicPr>
            <p:cNvPr id="373" name="" descr=""/>
            <p:cNvPicPr/>
            <p:nvPr/>
          </p:nvPicPr>
          <p:blipFill>
            <a:blip r:embed="rId12"/>
            <a:stretch/>
          </p:blipFill>
          <p:spPr>
            <a:xfrm>
              <a:off x="3200400" y="685800"/>
              <a:ext cx="3780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3144960" y="1525680"/>
              <a:ext cx="48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網路伺服器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438280" y="685800"/>
            <a:ext cx="426240" cy="1053720"/>
            <a:chOff x="2438280" y="685800"/>
            <a:chExt cx="426240" cy="1053720"/>
          </a:xfrm>
        </p:grpSpPr>
        <p:pic>
          <p:nvPicPr>
            <p:cNvPr id="376" name="" descr=""/>
            <p:cNvPicPr/>
            <p:nvPr/>
          </p:nvPicPr>
          <p:blipFill>
            <a:blip r:embed="rId13"/>
            <a:stretch/>
          </p:blipFill>
          <p:spPr>
            <a:xfrm>
              <a:off x="2438280" y="685800"/>
              <a:ext cx="3780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2500920" y="1523880"/>
              <a:ext cx="36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防火牆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143000" y="1676520"/>
            <a:ext cx="1041480" cy="832680"/>
            <a:chOff x="1143000" y="1676520"/>
            <a:chExt cx="1041480" cy="832680"/>
          </a:xfrm>
        </p:grpSpPr>
        <p:pic>
          <p:nvPicPr>
            <p:cNvPr id="379" name="" descr=""/>
            <p:cNvPicPr/>
            <p:nvPr/>
          </p:nvPicPr>
          <p:blipFill>
            <a:blip r:embed="rId14"/>
            <a:stretch/>
          </p:blipFill>
          <p:spPr>
            <a:xfrm>
              <a:off x="1143000" y="1676520"/>
              <a:ext cx="1041480" cy="6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1252800" y="2293560"/>
              <a:ext cx="637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數據所</a:t>
              </a: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Hi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 flipH="1" flipV="1">
            <a:off x="3581280" y="11426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819520" y="106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057400" y="106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6720" y="4572000"/>
            <a:ext cx="28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</a:rPr>
              <a:t>一般民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28800" y="1295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66680" y="2590920"/>
            <a:ext cx="1067040" cy="10666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5"/>
          <a:stretch/>
        </p:blipFill>
        <p:spPr>
          <a:xfrm>
            <a:off x="5638680" y="2743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4419720" y="1981080"/>
            <a:ext cx="12189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721200" y="3735360"/>
            <a:ext cx="533160" cy="447840"/>
            <a:chOff x="6721200" y="3735360"/>
            <a:chExt cx="533160" cy="447840"/>
          </a:xfrm>
        </p:grpSpPr>
        <p:pic>
          <p:nvPicPr>
            <p:cNvPr id="392" name="" descr=""/>
            <p:cNvPicPr/>
            <p:nvPr/>
          </p:nvPicPr>
          <p:blipFill>
            <a:blip r:embed="rId16"/>
            <a:stretch/>
          </p:blipFill>
          <p:spPr>
            <a:xfrm>
              <a:off x="6721200" y="3954600"/>
              <a:ext cx="53316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6768000" y="3735360"/>
              <a:ext cx="36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數據機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4" name="" descr=""/>
          <p:cNvPicPr/>
          <p:nvPr/>
        </p:nvPicPr>
        <p:blipFill>
          <a:blip r:embed="rId17"/>
          <a:stretch/>
        </p:blipFill>
        <p:spPr>
          <a:xfrm>
            <a:off x="6629400" y="4419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685800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89440" y="3352680"/>
            <a:ext cx="59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zh-TW" sz="800" spc="-1" strike="noStrike">
                <a:solidFill>
                  <a:srgbClr val="000000"/>
                </a:solidFill>
                <a:latin typeface="Times New Roman"/>
              </a:rPr>
              <a:t>工作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22640" y="50292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交通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3200400" y="198108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693880" y="2819520"/>
            <a:ext cx="485640" cy="1100880"/>
            <a:chOff x="2693880" y="2819520"/>
            <a:chExt cx="485640" cy="1100880"/>
          </a:xfrm>
        </p:grpSpPr>
        <p:pic>
          <p:nvPicPr>
            <p:cNvPr id="401" name="" descr=""/>
            <p:cNvPicPr/>
            <p:nvPr/>
          </p:nvPicPr>
          <p:blipFill>
            <a:blip r:embed="rId18"/>
            <a:stretch/>
          </p:blipFill>
          <p:spPr>
            <a:xfrm>
              <a:off x="2742840" y="2819520"/>
              <a:ext cx="37764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693880" y="358308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郵件伺服器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3" name="" descr=""/>
          <p:cNvPicPr/>
          <p:nvPr/>
        </p:nvPicPr>
        <p:blipFill>
          <a:blip r:embed="rId19"/>
          <a:stretch/>
        </p:blipFill>
        <p:spPr>
          <a:xfrm>
            <a:off x="4952880" y="2819520"/>
            <a:ext cx="378000" cy="761760"/>
          </a:xfrm>
          <a:prstGeom prst="rect">
            <a:avLst/>
          </a:prstGeom>
          <a:ln w="0">
            <a:noFill/>
          </a:ln>
        </p:spPr>
      </p:pic>
      <p:grpSp>
        <p:nvGrpSpPr>
          <p:cNvPr id="404" name=""/>
          <p:cNvGrpSpPr/>
          <p:nvPr/>
        </p:nvGrpSpPr>
        <p:grpSpPr>
          <a:xfrm>
            <a:off x="3657600" y="2819520"/>
            <a:ext cx="399240" cy="1100880"/>
            <a:chOff x="3657600" y="2819520"/>
            <a:chExt cx="399240" cy="1100880"/>
          </a:xfrm>
        </p:grpSpPr>
        <p:pic>
          <p:nvPicPr>
            <p:cNvPr id="405" name="" descr=""/>
            <p:cNvPicPr/>
            <p:nvPr/>
          </p:nvPicPr>
          <p:blipFill>
            <a:blip r:embed="rId20"/>
            <a:stretch/>
          </p:blipFill>
          <p:spPr>
            <a:xfrm>
              <a:off x="3657600" y="2819520"/>
              <a:ext cx="37764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3693240" y="3583080"/>
              <a:ext cx="36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伺服器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5044320" y="358308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</a:rPr>
              <a:t>伺服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886200" y="198108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43400" y="19810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1"/>
          <a:stretch/>
        </p:blipFill>
        <p:spPr>
          <a:xfrm>
            <a:off x="4267080" y="40384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5110200" y="4691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6000" y="472428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</a:rPr>
              <a:t>IBM RS/6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</a:rPr>
              <a:t>列車模擬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1981080"/>
            <a:ext cx="22860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11400" y="5943600"/>
            <a:ext cx="306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2-1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交通部高速鐵路工程局業務電子化示意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209680" y="3657600"/>
            <a:ext cx="2133720" cy="198108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1143000" cy="957240"/>
          </a:xfrm>
          <a:prstGeom prst="rect">
            <a:avLst/>
          </a:prstGeom>
          <a:ln w="0">
            <a:noFill/>
          </a:ln>
        </p:spPr>
      </p:pic>
      <p:grpSp>
        <p:nvGrpSpPr>
          <p:cNvPr id="417" name=""/>
          <p:cNvGrpSpPr/>
          <p:nvPr/>
        </p:nvGrpSpPr>
        <p:grpSpPr>
          <a:xfrm>
            <a:off x="4038480" y="1143000"/>
            <a:ext cx="588960" cy="838080"/>
            <a:chOff x="4038480" y="1143000"/>
            <a:chExt cx="588960" cy="838080"/>
          </a:xfrm>
        </p:grpSpPr>
        <p:pic>
          <p:nvPicPr>
            <p:cNvPr id="418" name="" descr=""/>
            <p:cNvPicPr/>
            <p:nvPr/>
          </p:nvPicPr>
          <p:blipFill>
            <a:blip r:embed="rId2"/>
            <a:stretch/>
          </p:blipFill>
          <p:spPr>
            <a:xfrm>
              <a:off x="4038480" y="1371600"/>
              <a:ext cx="5875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4141800" y="1143000"/>
              <a:ext cx="48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交換集線器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340320" y="2820960"/>
            <a:ext cx="533520" cy="447840"/>
            <a:chOff x="6340320" y="2820960"/>
            <a:chExt cx="533520" cy="447840"/>
          </a:xfrm>
        </p:grpSpPr>
        <p:pic>
          <p:nvPicPr>
            <p:cNvPr id="421" name="" descr=""/>
            <p:cNvPicPr/>
            <p:nvPr/>
          </p:nvPicPr>
          <p:blipFill>
            <a:blip r:embed="rId3"/>
            <a:stretch/>
          </p:blipFill>
          <p:spPr>
            <a:xfrm>
              <a:off x="6340320" y="3040200"/>
              <a:ext cx="53352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6387120" y="2820960"/>
              <a:ext cx="36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數據機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662840" y="839880"/>
            <a:ext cx="410400" cy="447120"/>
            <a:chOff x="1662840" y="839880"/>
            <a:chExt cx="410400" cy="447120"/>
          </a:xfrm>
        </p:grpSpPr>
        <p:pic>
          <p:nvPicPr>
            <p:cNvPr id="424" name="" descr=""/>
            <p:cNvPicPr/>
            <p:nvPr/>
          </p:nvPicPr>
          <p:blipFill>
            <a:blip r:embed="rId4"/>
            <a:stretch/>
          </p:blipFill>
          <p:spPr>
            <a:xfrm>
              <a:off x="1692000" y="982440"/>
              <a:ext cx="38124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1662840" y="839880"/>
              <a:ext cx="36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路由器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5"/>
          <a:stretch/>
        </p:blipFill>
        <p:spPr>
          <a:xfrm>
            <a:off x="8153280" y="1295280"/>
            <a:ext cx="378000" cy="7621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flipV="1">
            <a:off x="4648320" y="11426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715000" y="1600200"/>
            <a:ext cx="596880" cy="466560"/>
            <a:chOff x="5715000" y="1600200"/>
            <a:chExt cx="596880" cy="466560"/>
          </a:xfrm>
        </p:grpSpPr>
        <p:sp>
          <p:nvSpPr>
            <p:cNvPr id="429" name=""/>
            <p:cNvSpPr/>
            <p:nvPr/>
          </p:nvSpPr>
          <p:spPr>
            <a:xfrm>
              <a:off x="5715000" y="1955880"/>
              <a:ext cx="57240" cy="34920"/>
            </a:xfrm>
            <a:custGeom>
              <a:avLst/>
              <a:gdLst/>
              <a:ahLst/>
              <a:rect l="l" t="t" r="r" b="b"/>
              <a:pathLst>
                <a:path w="257" h="153">
                  <a:moveTo>
                    <a:pt x="252" y="0"/>
                  </a:moveTo>
                  <a:lnTo>
                    <a:pt x="193" y="0"/>
                  </a:lnTo>
                  <a:lnTo>
                    <a:pt x="160" y="4"/>
                  </a:lnTo>
                  <a:lnTo>
                    <a:pt x="128" y="9"/>
                  </a:lnTo>
                  <a:lnTo>
                    <a:pt x="89" y="16"/>
                  </a:lnTo>
                  <a:lnTo>
                    <a:pt x="59" y="24"/>
                  </a:lnTo>
                  <a:lnTo>
                    <a:pt x="38" y="31"/>
                  </a:lnTo>
                  <a:lnTo>
                    <a:pt x="24" y="40"/>
                  </a:lnTo>
                  <a:lnTo>
                    <a:pt x="13" y="48"/>
                  </a:lnTo>
                  <a:lnTo>
                    <a:pt x="5" y="58"/>
                  </a:lnTo>
                  <a:lnTo>
                    <a:pt x="0" y="69"/>
                  </a:lnTo>
                  <a:lnTo>
                    <a:pt x="1" y="81"/>
                  </a:lnTo>
                  <a:lnTo>
                    <a:pt x="8" y="92"/>
                  </a:lnTo>
                  <a:lnTo>
                    <a:pt x="17" y="98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79" y="99"/>
                  </a:lnTo>
                  <a:lnTo>
                    <a:pt x="108" y="96"/>
                  </a:lnTo>
                  <a:lnTo>
                    <a:pt x="135" y="98"/>
                  </a:lnTo>
                  <a:lnTo>
                    <a:pt x="155" y="101"/>
                  </a:lnTo>
                  <a:lnTo>
                    <a:pt x="175" y="106"/>
                  </a:lnTo>
                  <a:lnTo>
                    <a:pt x="197" y="115"/>
                  </a:lnTo>
                  <a:lnTo>
                    <a:pt x="257" y="153"/>
                  </a:lnTo>
                  <a:lnTo>
                    <a:pt x="254" y="153"/>
                  </a:lnTo>
                  <a:lnTo>
                    <a:pt x="255" y="150"/>
                  </a:lnTo>
                </a:path>
              </a:pathLst>
            </a:custGeom>
            <a:noFill/>
            <a:ln w="79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764320" y="1859040"/>
              <a:ext cx="469800" cy="160200"/>
              <a:chOff x="5764320" y="1859040"/>
              <a:chExt cx="469800" cy="160200"/>
            </a:xfrm>
          </p:grpSpPr>
          <p:sp>
            <p:nvSpPr>
              <p:cNvPr id="431" name=""/>
              <p:cNvSpPr/>
              <p:nvPr/>
            </p:nvSpPr>
            <p:spPr>
              <a:xfrm>
                <a:off x="5767560" y="1939680"/>
                <a:ext cx="466560" cy="79560"/>
              </a:xfrm>
              <a:custGeom>
                <a:avLst/>
                <a:gdLst/>
                <a:ahLst/>
                <a:rect l="l" t="t" r="r" b="b"/>
                <a:pathLst>
                  <a:path w="2056" h="354">
                    <a:moveTo>
                      <a:pt x="0" y="22"/>
                    </a:moveTo>
                    <a:lnTo>
                      <a:pt x="0" y="178"/>
                    </a:lnTo>
                    <a:lnTo>
                      <a:pt x="1669" y="354"/>
                    </a:lnTo>
                    <a:lnTo>
                      <a:pt x="2056" y="138"/>
                    </a:lnTo>
                    <a:lnTo>
                      <a:pt x="2056" y="0"/>
                    </a:lnTo>
                    <a:lnTo>
                      <a:pt x="1655" y="187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764320" y="1859040"/>
                <a:ext cx="379440" cy="123480"/>
              </a:xfrm>
              <a:custGeom>
                <a:avLst/>
                <a:gdLst/>
                <a:ahLst/>
                <a:rect l="l" t="t" r="r" b="b"/>
                <a:pathLst>
                  <a:path w="1676" h="546">
                    <a:moveTo>
                      <a:pt x="0" y="0"/>
                    </a:moveTo>
                    <a:lnTo>
                      <a:pt x="1676" y="120"/>
                    </a:lnTo>
                    <a:lnTo>
                      <a:pt x="1676" y="546"/>
                    </a:lnTo>
                    <a:lnTo>
                      <a:pt x="0" y="3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3" name=""/>
              <p:cNvGrpSpPr/>
              <p:nvPr/>
            </p:nvGrpSpPr>
            <p:grpSpPr>
              <a:xfrm>
                <a:off x="5765760" y="1881000"/>
                <a:ext cx="379440" cy="49320"/>
                <a:chOff x="5765760" y="1881000"/>
                <a:chExt cx="379440" cy="493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5765760" y="1881000"/>
                  <a:ext cx="378000" cy="28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043680" y="1903320"/>
                  <a:ext cx="79200" cy="7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950080" y="1896840"/>
                  <a:ext cx="79200" cy="6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765760" y="1896840"/>
                  <a:ext cx="379440" cy="334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8" name=""/>
            <p:cNvGrpSpPr/>
            <p:nvPr/>
          </p:nvGrpSpPr>
          <p:grpSpPr>
            <a:xfrm>
              <a:off x="5764320" y="1841400"/>
              <a:ext cx="469800" cy="44280"/>
              <a:chOff x="5764320" y="1841400"/>
              <a:chExt cx="469800" cy="44280"/>
            </a:xfrm>
          </p:grpSpPr>
          <p:sp>
            <p:nvSpPr>
              <p:cNvPr id="439" name=""/>
              <p:cNvSpPr/>
              <p:nvPr/>
            </p:nvSpPr>
            <p:spPr>
              <a:xfrm>
                <a:off x="5764320" y="1841400"/>
                <a:ext cx="469800" cy="44280"/>
              </a:xfrm>
              <a:custGeom>
                <a:avLst/>
                <a:gdLst/>
                <a:ahLst/>
                <a:rect l="l" t="t" r="r" b="b"/>
                <a:pathLst>
                  <a:path w="2075" h="195">
                    <a:moveTo>
                      <a:pt x="0" y="75"/>
                    </a:moveTo>
                    <a:lnTo>
                      <a:pt x="1675" y="195"/>
                    </a:lnTo>
                    <a:lnTo>
                      <a:pt x="2075" y="81"/>
                    </a:lnTo>
                    <a:lnTo>
                      <a:pt x="1934" y="65"/>
                    </a:lnTo>
                    <a:lnTo>
                      <a:pt x="639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870520" y="1850760"/>
                <a:ext cx="346320" cy="28800"/>
              </a:xfrm>
              <a:custGeom>
                <a:avLst/>
                <a:gdLst/>
                <a:ahLst/>
                <a:rect l="l" t="t" r="r" b="b"/>
                <a:pathLst>
                  <a:path w="1525" h="124">
                    <a:moveTo>
                      <a:pt x="124" y="0"/>
                    </a:moveTo>
                    <a:lnTo>
                      <a:pt x="0" y="46"/>
                    </a:lnTo>
                    <a:lnTo>
                      <a:pt x="1231" y="124"/>
                    </a:lnTo>
                    <a:lnTo>
                      <a:pt x="1432" y="69"/>
                    </a:lnTo>
                    <a:lnTo>
                      <a:pt x="1415" y="61"/>
                    </a:lnTo>
                    <a:lnTo>
                      <a:pt x="1525" y="31"/>
                    </a:lnTo>
                    <a:lnTo>
                      <a:pt x="1457" y="24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6148440" y="1604880"/>
              <a:ext cx="85680" cy="268200"/>
              <a:chOff x="6148440" y="1604880"/>
              <a:chExt cx="85680" cy="26820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6181920" y="1638360"/>
                <a:ext cx="52200" cy="225360"/>
                <a:chOff x="6181920" y="1638360"/>
                <a:chExt cx="52200" cy="22536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6181920" y="1638360"/>
                  <a:ext cx="52200" cy="225360"/>
                </a:xfrm>
                <a:custGeom>
                  <a:avLst/>
                  <a:gdLst/>
                  <a:ahLst/>
                  <a:rect l="l" t="t" r="r" b="b"/>
                  <a:pathLst>
                    <a:path w="231" h="992">
                      <a:moveTo>
                        <a:pt x="22" y="0"/>
                      </a:moveTo>
                      <a:lnTo>
                        <a:pt x="231" y="82"/>
                      </a:lnTo>
                      <a:lnTo>
                        <a:pt x="211" y="469"/>
                      </a:lnTo>
                      <a:lnTo>
                        <a:pt x="189" y="935"/>
                      </a:lnTo>
                      <a:lnTo>
                        <a:pt x="0" y="992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4" name=""/>
                <p:cNvGrpSpPr/>
                <p:nvPr/>
              </p:nvGrpSpPr>
              <p:grpSpPr>
                <a:xfrm>
                  <a:off x="6181920" y="1649160"/>
                  <a:ext cx="50760" cy="188640"/>
                  <a:chOff x="6181920" y="1649160"/>
                  <a:chExt cx="50760" cy="188640"/>
                </a:xfrm>
              </p:grpSpPr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6181920" y="1649160"/>
                    <a:ext cx="50760" cy="188640"/>
                    <a:chOff x="6181920" y="1649160"/>
                    <a:chExt cx="50760" cy="188640"/>
                  </a:xfrm>
                </p:grpSpPr>
                <p:grpSp>
                  <p:nvGrpSpPr>
                    <p:cNvPr id="446" name=""/>
                    <p:cNvGrpSpPr/>
                    <p:nvPr/>
                  </p:nvGrpSpPr>
                  <p:grpSpPr>
                    <a:xfrm>
                      <a:off x="6181920" y="1649160"/>
                      <a:ext cx="50760" cy="113040"/>
                      <a:chOff x="6181920" y="1649160"/>
                      <a:chExt cx="50760" cy="113040"/>
                    </a:xfrm>
                  </p:grpSpPr>
                  <p:grpSp>
                    <p:nvGrpSpPr>
                      <p:cNvPr id="447" name=""/>
                      <p:cNvGrpSpPr/>
                      <p:nvPr/>
                    </p:nvGrpSpPr>
                    <p:grpSpPr>
                      <a:xfrm>
                        <a:off x="6184800" y="1649160"/>
                        <a:ext cx="47880" cy="60480"/>
                        <a:chOff x="6184800" y="1649160"/>
                        <a:chExt cx="47880" cy="60480"/>
                      </a:xfrm>
                    </p:grpSpPr>
                    <p:sp>
                      <p:nvSpPr>
                        <p:cNvPr id="448" name=""/>
                        <p:cNvSpPr/>
                        <p:nvPr/>
                      </p:nvSpPr>
                      <p:spPr>
                        <a:xfrm>
                          <a:off x="6186600" y="1649160"/>
                          <a:ext cx="46080" cy="176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9" name=""/>
                        <p:cNvSpPr/>
                        <p:nvPr/>
                      </p:nvSpPr>
                      <p:spPr>
                        <a:xfrm>
                          <a:off x="6186600" y="1658880"/>
                          <a:ext cx="46080" cy="158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0" name=""/>
                        <p:cNvSpPr/>
                        <p:nvPr/>
                      </p:nvSpPr>
                      <p:spPr>
                        <a:xfrm>
                          <a:off x="6186600" y="1668240"/>
                          <a:ext cx="46080" cy="144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1" name=""/>
                        <p:cNvSpPr/>
                        <p:nvPr/>
                      </p:nvSpPr>
                      <p:spPr>
                        <a:xfrm>
                          <a:off x="6186600" y="1677960"/>
                          <a:ext cx="46080" cy="144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" name=""/>
                        <p:cNvSpPr/>
                        <p:nvPr/>
                      </p:nvSpPr>
                      <p:spPr>
                        <a:xfrm>
                          <a:off x="6184800" y="1687320"/>
                          <a:ext cx="46080" cy="144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" name=""/>
                        <p:cNvSpPr/>
                        <p:nvPr/>
                      </p:nvSpPr>
                      <p:spPr>
                        <a:xfrm>
                          <a:off x="6184800" y="1697040"/>
                          <a:ext cx="46080" cy="126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54" name=""/>
                      <p:cNvSpPr/>
                      <p:nvPr/>
                    </p:nvSpPr>
                    <p:spPr>
                      <a:xfrm>
                        <a:off x="6181920" y="1717560"/>
                        <a:ext cx="47520" cy="97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5" name=""/>
                      <p:cNvSpPr/>
                      <p:nvPr/>
                    </p:nvSpPr>
                    <p:spPr>
                      <a:xfrm>
                        <a:off x="6181920" y="1727280"/>
                        <a:ext cx="47520" cy="79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6" name=""/>
                      <p:cNvSpPr/>
                      <p:nvPr/>
                    </p:nvSpPr>
                    <p:spPr>
                      <a:xfrm>
                        <a:off x="6181920" y="1736640"/>
                        <a:ext cx="45720" cy="79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7" name=""/>
                      <p:cNvSpPr/>
                      <p:nvPr/>
                    </p:nvSpPr>
                    <p:spPr>
                      <a:xfrm>
                        <a:off x="6181920" y="1747800"/>
                        <a:ext cx="45720" cy="46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" name=""/>
                      <p:cNvSpPr/>
                      <p:nvPr/>
                    </p:nvSpPr>
                    <p:spPr>
                      <a:xfrm>
                        <a:off x="6181920" y="1757160"/>
                        <a:ext cx="45720" cy="50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9" name=""/>
                    <p:cNvGrpSpPr/>
                    <p:nvPr/>
                  </p:nvGrpSpPr>
                  <p:grpSpPr>
                    <a:xfrm>
                      <a:off x="6181920" y="1768320"/>
                      <a:ext cx="45720" cy="69480"/>
                      <a:chOff x="6181920" y="1768320"/>
                      <a:chExt cx="45720" cy="69480"/>
                    </a:xfrm>
                  </p:grpSpPr>
                  <p:sp>
                    <p:nvSpPr>
                      <p:cNvPr id="460" name=""/>
                      <p:cNvSpPr/>
                      <p:nvPr/>
                    </p:nvSpPr>
                    <p:spPr>
                      <a:xfrm>
                        <a:off x="6181920" y="1768320"/>
                        <a:ext cx="4572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6183360" y="1778040"/>
                        <a:ext cx="428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2" name=""/>
                      <p:cNvSpPr/>
                      <p:nvPr/>
                    </p:nvSpPr>
                    <p:spPr>
                      <a:xfrm>
                        <a:off x="6181920" y="1787400"/>
                        <a:ext cx="4428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" name=""/>
                      <p:cNvSpPr/>
                      <p:nvPr/>
                    </p:nvSpPr>
                    <p:spPr>
                      <a:xfrm flipV="1">
                        <a:off x="6181920" y="1797120"/>
                        <a:ext cx="4428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4" name=""/>
                      <p:cNvSpPr/>
                      <p:nvPr/>
                    </p:nvSpPr>
                    <p:spPr>
                      <a:xfrm flipV="1">
                        <a:off x="6181920" y="1805040"/>
                        <a:ext cx="42840" cy="28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5" name=""/>
                      <p:cNvSpPr/>
                      <p:nvPr/>
                    </p:nvSpPr>
                    <p:spPr>
                      <a:xfrm flipV="1">
                        <a:off x="6181920" y="1814040"/>
                        <a:ext cx="42840" cy="32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6" name=""/>
                      <p:cNvSpPr/>
                      <p:nvPr/>
                    </p:nvSpPr>
                    <p:spPr>
                      <a:xfrm flipV="1">
                        <a:off x="6181920" y="1821960"/>
                        <a:ext cx="42840" cy="46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7" name=""/>
                      <p:cNvSpPr/>
                      <p:nvPr/>
                    </p:nvSpPr>
                    <p:spPr>
                      <a:xfrm flipV="1">
                        <a:off x="6181920" y="1831680"/>
                        <a:ext cx="42840" cy="61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68" name=""/>
                  <p:cNvSpPr/>
                  <p:nvPr/>
                </p:nvSpPr>
                <p:spPr>
                  <a:xfrm>
                    <a:off x="6183360" y="1708200"/>
                    <a:ext cx="46080" cy="9360"/>
                  </a:xfrm>
                  <a:prstGeom prst="line">
                    <a:avLst/>
                  </a:prstGeom>
                  <a:ln w="14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9" name=""/>
              <p:cNvGrpSpPr/>
              <p:nvPr/>
            </p:nvGrpSpPr>
            <p:grpSpPr>
              <a:xfrm>
                <a:off x="6148440" y="1604880"/>
                <a:ext cx="45720" cy="268200"/>
                <a:chOff x="6148440" y="1604880"/>
                <a:chExt cx="45720" cy="26820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6148440" y="1604880"/>
                  <a:ext cx="44280" cy="268200"/>
                </a:xfrm>
                <a:custGeom>
                  <a:avLst/>
                  <a:gdLst/>
                  <a:ahLst/>
                  <a:rect l="l" t="t" r="r" b="b"/>
                  <a:pathLst>
                    <a:path w="202" h="1184">
                      <a:moveTo>
                        <a:pt x="48" y="0"/>
                      </a:moveTo>
                      <a:lnTo>
                        <a:pt x="191" y="61"/>
                      </a:lnTo>
                      <a:lnTo>
                        <a:pt x="202" y="74"/>
                      </a:lnTo>
                      <a:lnTo>
                        <a:pt x="159" y="1136"/>
                      </a:lnTo>
                      <a:lnTo>
                        <a:pt x="141" y="1149"/>
                      </a:lnTo>
                      <a:lnTo>
                        <a:pt x="0" y="1184"/>
                      </a:lnTo>
                      <a:lnTo>
                        <a:pt x="19" y="1165"/>
                      </a:lnTo>
                      <a:lnTo>
                        <a:pt x="20" y="115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188040" y="16192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789" y="772"/>
                      </a:moveTo>
                      <a:arcTo wR="10800" hR="10800" stAng="-6708084" swAng="670808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789" y="772"/>
                      </a:moveTo>
                      <a:arcTo wR="10800" hR="10800" stAng="-6708084" swAng="6708084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2" name=""/>
            <p:cNvGrpSpPr/>
            <p:nvPr/>
          </p:nvGrpSpPr>
          <p:grpSpPr>
            <a:xfrm>
              <a:off x="6165720" y="2009520"/>
              <a:ext cx="146160" cy="57240"/>
              <a:chOff x="6165720" y="2009520"/>
              <a:chExt cx="146160" cy="57240"/>
            </a:xfrm>
          </p:grpSpPr>
          <p:sp>
            <p:nvSpPr>
              <p:cNvPr id="473" name=""/>
              <p:cNvSpPr/>
              <p:nvPr/>
            </p:nvSpPr>
            <p:spPr>
              <a:xfrm>
                <a:off x="6165720" y="2009520"/>
                <a:ext cx="146160" cy="38160"/>
              </a:xfrm>
              <a:custGeom>
                <a:avLst/>
                <a:gdLst/>
                <a:ahLst/>
                <a:rect l="l" t="t" r="r" b="b"/>
                <a:pathLst>
                  <a:path w="643" h="167">
                    <a:moveTo>
                      <a:pt x="0" y="0"/>
                    </a:moveTo>
                    <a:lnTo>
                      <a:pt x="119" y="8"/>
                    </a:lnTo>
                    <a:lnTo>
                      <a:pt x="208" y="12"/>
                    </a:lnTo>
                    <a:lnTo>
                      <a:pt x="288" y="21"/>
                    </a:lnTo>
                    <a:lnTo>
                      <a:pt x="367" y="31"/>
                    </a:lnTo>
                    <a:lnTo>
                      <a:pt x="423" y="39"/>
                    </a:lnTo>
                    <a:lnTo>
                      <a:pt x="491" y="50"/>
                    </a:lnTo>
                    <a:lnTo>
                      <a:pt x="529" y="57"/>
                    </a:lnTo>
                    <a:lnTo>
                      <a:pt x="558" y="63"/>
                    </a:lnTo>
                    <a:lnTo>
                      <a:pt x="574" y="67"/>
                    </a:lnTo>
                    <a:lnTo>
                      <a:pt x="587" y="71"/>
                    </a:lnTo>
                    <a:lnTo>
                      <a:pt x="603" y="76"/>
                    </a:lnTo>
                    <a:lnTo>
                      <a:pt x="619" y="82"/>
                    </a:lnTo>
                    <a:lnTo>
                      <a:pt x="634" y="90"/>
                    </a:lnTo>
                    <a:lnTo>
                      <a:pt x="642" y="99"/>
                    </a:lnTo>
                    <a:lnTo>
                      <a:pt x="643" y="106"/>
                    </a:lnTo>
                    <a:lnTo>
                      <a:pt x="639" y="117"/>
                    </a:lnTo>
                    <a:lnTo>
                      <a:pt x="634" y="129"/>
                    </a:lnTo>
                    <a:lnTo>
                      <a:pt x="626" y="139"/>
                    </a:lnTo>
                    <a:lnTo>
                      <a:pt x="616" y="146"/>
                    </a:lnTo>
                    <a:lnTo>
                      <a:pt x="602" y="155"/>
                    </a:lnTo>
                    <a:lnTo>
                      <a:pt x="586" y="161"/>
                    </a:lnTo>
                    <a:lnTo>
                      <a:pt x="569" y="163"/>
                    </a:lnTo>
                    <a:lnTo>
                      <a:pt x="550" y="166"/>
                    </a:lnTo>
                    <a:lnTo>
                      <a:pt x="526" y="167"/>
                    </a:lnTo>
                    <a:lnTo>
                      <a:pt x="504" y="165"/>
                    </a:lnTo>
                    <a:lnTo>
                      <a:pt x="468" y="160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6172200" y="2028600"/>
                <a:ext cx="101520" cy="38160"/>
                <a:chOff x="6172200" y="2028600"/>
                <a:chExt cx="101520" cy="38160"/>
              </a:xfrm>
            </p:grpSpPr>
            <p:grpSp>
              <p:nvGrpSpPr>
                <p:cNvPr id="475" name=""/>
                <p:cNvGrpSpPr/>
                <p:nvPr/>
              </p:nvGrpSpPr>
              <p:grpSpPr>
                <a:xfrm>
                  <a:off x="6172200" y="2028600"/>
                  <a:ext cx="101520" cy="38160"/>
                  <a:chOff x="6172200" y="2028600"/>
                  <a:chExt cx="101520" cy="3816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6172200" y="2028600"/>
                    <a:ext cx="633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112">
                        <a:moveTo>
                          <a:pt x="0" y="67"/>
                        </a:moveTo>
                        <a:lnTo>
                          <a:pt x="74" y="0"/>
                        </a:lnTo>
                        <a:lnTo>
                          <a:pt x="281" y="37"/>
                        </a:lnTo>
                        <a:lnTo>
                          <a:pt x="199" y="112"/>
                        </a:lnTo>
                        <a:lnTo>
                          <a:pt x="0" y="67"/>
                        </a:lnTo>
                        <a:close/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6172200" y="2043000"/>
                    <a:ext cx="44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106">
                        <a:moveTo>
                          <a:pt x="0" y="0"/>
                        </a:moveTo>
                        <a:lnTo>
                          <a:pt x="0" y="59"/>
                        </a:lnTo>
                        <a:lnTo>
                          <a:pt x="2" y="59"/>
                        </a:lnTo>
                        <a:lnTo>
                          <a:pt x="199" y="106"/>
                        </a:lnTo>
                        <a:lnTo>
                          <a:pt x="199" y="4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216840" y="2036520"/>
                    <a:ext cx="56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136">
                        <a:moveTo>
                          <a:pt x="0" y="74"/>
                        </a:moveTo>
                        <a:lnTo>
                          <a:pt x="81" y="0"/>
                        </a:lnTo>
                        <a:lnTo>
                          <a:pt x="253" y="20"/>
                        </a:lnTo>
                        <a:lnTo>
                          <a:pt x="253" y="76"/>
                        </a:lnTo>
                        <a:lnTo>
                          <a:pt x="0" y="136"/>
                        </a:lnTo>
                        <a:lnTo>
                          <a:pt x="0" y="7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188040" y="2028600"/>
                    <a:ext cx="856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56">
                        <a:moveTo>
                          <a:pt x="0" y="0"/>
                        </a:moveTo>
                        <a:lnTo>
                          <a:pt x="190" y="13"/>
                        </a:lnTo>
                        <a:lnTo>
                          <a:pt x="379" y="56"/>
                        </a:lnTo>
                        <a:lnTo>
                          <a:pt x="207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6172200" y="2039400"/>
                  <a:ext cx="101520" cy="18000"/>
                  <a:chOff x="6172200" y="2039400"/>
                  <a:chExt cx="101520" cy="180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>
                    <a:off x="6172200" y="2046240"/>
                    <a:ext cx="44640" cy="11160"/>
                  </a:xfrm>
                  <a:prstGeom prst="line">
                    <a:avLst/>
                  </a:prstGeom>
                  <a:ln w="14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V="1">
                    <a:off x="6216840" y="2039400"/>
                    <a:ext cx="18720" cy="1764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6237360" y="2039760"/>
                    <a:ext cx="36360" cy="324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84" name=""/>
            <p:cNvSpPr/>
            <p:nvPr/>
          </p:nvSpPr>
          <p:spPr>
            <a:xfrm>
              <a:off x="6145200" y="1936800"/>
              <a:ext cx="88920" cy="82440"/>
            </a:xfrm>
            <a:custGeom>
              <a:avLst/>
              <a:gdLst/>
              <a:ahLst/>
              <a:rect l="l" t="t" r="r" b="b"/>
              <a:pathLst>
                <a:path w="390" h="364">
                  <a:moveTo>
                    <a:pt x="0" y="183"/>
                  </a:moveTo>
                  <a:lnTo>
                    <a:pt x="390" y="0"/>
                  </a:lnTo>
                  <a:lnTo>
                    <a:pt x="390" y="147"/>
                  </a:lnTo>
                  <a:lnTo>
                    <a:pt x="0" y="364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143760" y="1860480"/>
              <a:ext cx="91800" cy="122040"/>
            </a:xfrm>
            <a:custGeom>
              <a:avLst/>
              <a:gdLst/>
              <a:ahLst/>
              <a:rect l="l" t="t" r="r" b="b"/>
              <a:pathLst>
                <a:path w="402" h="538">
                  <a:moveTo>
                    <a:pt x="0" y="114"/>
                  </a:moveTo>
                  <a:lnTo>
                    <a:pt x="402" y="0"/>
                  </a:lnTo>
                  <a:lnTo>
                    <a:pt x="402" y="355"/>
                  </a:lnTo>
                  <a:lnTo>
                    <a:pt x="1" y="538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97520" y="1641240"/>
              <a:ext cx="225360" cy="187560"/>
            </a:xfrm>
            <a:custGeom>
              <a:avLst/>
              <a:gdLst/>
              <a:ahLst/>
              <a:rect l="l" t="t" r="r" b="b"/>
              <a:pathLst>
                <a:path w="992" h="822">
                  <a:moveTo>
                    <a:pt x="39" y="0"/>
                  </a:moveTo>
                  <a:lnTo>
                    <a:pt x="992" y="0"/>
                  </a:lnTo>
                  <a:lnTo>
                    <a:pt x="953" y="822"/>
                  </a:lnTo>
                  <a:lnTo>
                    <a:pt x="0" y="77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49920" y="1955880"/>
              <a:ext cx="420840" cy="83880"/>
            </a:xfrm>
            <a:custGeom>
              <a:avLst/>
              <a:gdLst/>
              <a:ahLst/>
              <a:rect l="l" t="t" r="r" b="b"/>
              <a:pathLst>
                <a:path w="1849" h="375">
                  <a:moveTo>
                    <a:pt x="301" y="0"/>
                  </a:moveTo>
                  <a:lnTo>
                    <a:pt x="1849" y="153"/>
                  </a:lnTo>
                  <a:lnTo>
                    <a:pt x="1740" y="290"/>
                  </a:lnTo>
                  <a:lnTo>
                    <a:pt x="1634" y="375"/>
                  </a:lnTo>
                  <a:lnTo>
                    <a:pt x="0" y="187"/>
                  </a:lnTo>
                  <a:lnTo>
                    <a:pt x="122" y="134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6143760" y="1868400"/>
              <a:ext cx="90360" cy="106200"/>
              <a:chOff x="6143760" y="1868400"/>
              <a:chExt cx="90360" cy="106200"/>
            </a:xfrm>
          </p:grpSpPr>
          <p:sp>
            <p:nvSpPr>
              <p:cNvPr id="489" name=""/>
              <p:cNvSpPr/>
              <p:nvPr/>
            </p:nvSpPr>
            <p:spPr>
              <a:xfrm flipV="1">
                <a:off x="6143760" y="1896480"/>
                <a:ext cx="90360" cy="334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6159600" y="1906200"/>
                <a:ext cx="74520" cy="284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6159600" y="1915920"/>
                <a:ext cx="74520" cy="302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6159600" y="1923480"/>
                <a:ext cx="74520" cy="320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159600" y="1933560"/>
                <a:ext cx="74520" cy="331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159600" y="1887120"/>
                <a:ext cx="74520" cy="2700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159600" y="1877400"/>
                <a:ext cx="74520" cy="241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6159600" y="1868400"/>
                <a:ext cx="74520" cy="223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6159600" y="1882800"/>
                <a:ext cx="1440" cy="9180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5867280" y="1600200"/>
              <a:ext cx="295560" cy="272880"/>
              <a:chOff x="5867280" y="1600200"/>
              <a:chExt cx="295560" cy="272880"/>
            </a:xfrm>
          </p:grpSpPr>
          <p:grpSp>
            <p:nvGrpSpPr>
              <p:cNvPr id="499" name=""/>
              <p:cNvGrpSpPr/>
              <p:nvPr/>
            </p:nvGrpSpPr>
            <p:grpSpPr>
              <a:xfrm>
                <a:off x="5867280" y="1600200"/>
                <a:ext cx="295560" cy="272880"/>
                <a:chOff x="5867280" y="1600200"/>
                <a:chExt cx="295560" cy="272880"/>
              </a:xfrm>
            </p:grpSpPr>
            <p:grpSp>
              <p:nvGrpSpPr>
                <p:cNvPr id="500" name=""/>
                <p:cNvGrpSpPr/>
                <p:nvPr/>
              </p:nvGrpSpPr>
              <p:grpSpPr>
                <a:xfrm>
                  <a:off x="5867280" y="1600200"/>
                  <a:ext cx="295560" cy="272880"/>
                  <a:chOff x="5867280" y="1600200"/>
                  <a:chExt cx="295560" cy="27288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>
                    <a:off x="5867280" y="1600200"/>
                    <a:ext cx="29556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07" h="1209">
                        <a:moveTo>
                          <a:pt x="104" y="20"/>
                        </a:moveTo>
                        <a:lnTo>
                          <a:pt x="216" y="14"/>
                        </a:lnTo>
                        <a:lnTo>
                          <a:pt x="368" y="4"/>
                        </a:lnTo>
                        <a:lnTo>
                          <a:pt x="526" y="0"/>
                        </a:lnTo>
                        <a:lnTo>
                          <a:pt x="712" y="0"/>
                        </a:lnTo>
                        <a:lnTo>
                          <a:pt x="842" y="2"/>
                        </a:lnTo>
                        <a:lnTo>
                          <a:pt x="1042" y="9"/>
                        </a:lnTo>
                        <a:lnTo>
                          <a:pt x="1236" y="19"/>
                        </a:lnTo>
                        <a:lnTo>
                          <a:pt x="1282" y="21"/>
                        </a:lnTo>
                        <a:lnTo>
                          <a:pt x="1292" y="26"/>
                        </a:lnTo>
                        <a:lnTo>
                          <a:pt x="1300" y="31"/>
                        </a:lnTo>
                        <a:lnTo>
                          <a:pt x="1306" y="40"/>
                        </a:lnTo>
                        <a:lnTo>
                          <a:pt x="1307" y="50"/>
                        </a:lnTo>
                        <a:lnTo>
                          <a:pt x="1258" y="1186"/>
                        </a:lnTo>
                        <a:lnTo>
                          <a:pt x="1252" y="1204"/>
                        </a:lnTo>
                        <a:lnTo>
                          <a:pt x="1236" y="1209"/>
                        </a:lnTo>
                        <a:lnTo>
                          <a:pt x="814" y="1180"/>
                        </a:lnTo>
                        <a:lnTo>
                          <a:pt x="400" y="1151"/>
                        </a:lnTo>
                        <a:lnTo>
                          <a:pt x="19" y="1123"/>
                        </a:lnTo>
                        <a:lnTo>
                          <a:pt x="0" y="1094"/>
                        </a:lnTo>
                        <a:lnTo>
                          <a:pt x="58" y="57"/>
                        </a:lnTo>
                        <a:lnTo>
                          <a:pt x="104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6149880" y="1604880"/>
                    <a:ext cx="129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33086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330866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5880240" y="1603440"/>
                    <a:ext cx="27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5" y="9373"/>
                        </a:moveTo>
                        <a:arcTo wR="10800" hR="10800" stAng="-10344321" swAng="494432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5" y="9373"/>
                        </a:moveTo>
                        <a:arcTo wR="10800" hR="10800" stAng="-10344321" swAng="4944321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5867280" y="1838160"/>
                    <a:ext cx="12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833" y="21184"/>
                        </a:moveTo>
                        <a:arcTo wR="10800" hR="10800" stAng="6356723" swAng="44432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833" y="21184"/>
                        </a:moveTo>
                        <a:arcTo wR="10800" hR="10800" stAng="6356723" swAng="4443277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897520" y="1641240"/>
                  <a:ext cx="225360" cy="187560"/>
                  <a:chOff x="5897520" y="1641240"/>
                  <a:chExt cx="225360" cy="187560"/>
                </a:xfrm>
              </p:grpSpPr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5897520" y="1641240"/>
                    <a:ext cx="225360" cy="187560"/>
                    <a:chOff x="5897520" y="1641240"/>
                    <a:chExt cx="225360" cy="18756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5907240" y="1641240"/>
                      <a:ext cx="2156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17">
                          <a:moveTo>
                            <a:pt x="0" y="0"/>
                          </a:moveTo>
                          <a:lnTo>
                            <a:pt x="952" y="1"/>
                          </a:lnTo>
                          <a:lnTo>
                            <a:pt x="931" y="17"/>
                          </a:lnTo>
                          <a:lnTo>
                            <a:pt x="21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6108840" y="1641240"/>
                      <a:ext cx="14040" cy="18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822">
                          <a:moveTo>
                            <a:pt x="39" y="16"/>
                          </a:moveTo>
                          <a:lnTo>
                            <a:pt x="61" y="0"/>
                          </a:lnTo>
                          <a:lnTo>
                            <a:pt x="40" y="446"/>
                          </a:lnTo>
                          <a:lnTo>
                            <a:pt x="20" y="822"/>
                          </a:lnTo>
                          <a:lnTo>
                            <a:pt x="0" y="799"/>
                          </a:lnTo>
                          <a:lnTo>
                            <a:pt x="39" y="1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5897520" y="1812960"/>
                      <a:ext cx="21600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67">
                          <a:moveTo>
                            <a:pt x="22" y="0"/>
                          </a:moveTo>
                          <a:lnTo>
                            <a:pt x="0" y="21"/>
                          </a:lnTo>
                          <a:lnTo>
                            <a:pt x="952" y="67"/>
                          </a:lnTo>
                          <a:lnTo>
                            <a:pt x="932" y="45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5897520" y="1641240"/>
                      <a:ext cx="14400" cy="17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775">
                          <a:moveTo>
                            <a:pt x="39" y="0"/>
                          </a:moveTo>
                          <a:lnTo>
                            <a:pt x="60" y="16"/>
                          </a:lnTo>
                          <a:lnTo>
                            <a:pt x="22" y="754"/>
                          </a:lnTo>
                          <a:lnTo>
                            <a:pt x="0" y="775"/>
                          </a:lnTo>
                          <a:lnTo>
                            <a:pt x="39" y="0"/>
                          </a:lnTo>
                          <a:close/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5902200" y="1646280"/>
                    <a:ext cx="216000" cy="177840"/>
                    <a:chOff x="5902200" y="1646280"/>
                    <a:chExt cx="216000" cy="17784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5902200" y="1646280"/>
                      <a:ext cx="2160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9" h="783">
                          <a:moveTo>
                            <a:pt x="39" y="0"/>
                          </a:moveTo>
                          <a:lnTo>
                            <a:pt x="949" y="0"/>
                          </a:lnTo>
                          <a:lnTo>
                            <a:pt x="911" y="783"/>
                          </a:lnTo>
                          <a:lnTo>
                            <a:pt x="0" y="738"/>
                          </a:lnTo>
                          <a:lnTo>
                            <a:pt x="3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5910120" y="1652400"/>
                      <a:ext cx="200160" cy="16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4" h="723">
                          <a:moveTo>
                            <a:pt x="32" y="1"/>
                          </a:moveTo>
                          <a:lnTo>
                            <a:pt x="884" y="0"/>
                          </a:lnTo>
                          <a:lnTo>
                            <a:pt x="847" y="723"/>
                          </a:lnTo>
                          <a:lnTo>
                            <a:pt x="0" y="686"/>
                          </a:lnTo>
                          <a:lnTo>
                            <a:pt x="32" y="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5913360" y="1662120"/>
                      <a:ext cx="18900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4" h="653">
                          <a:moveTo>
                            <a:pt x="31" y="0"/>
                          </a:moveTo>
                          <a:lnTo>
                            <a:pt x="834" y="0"/>
                          </a:lnTo>
                          <a:lnTo>
                            <a:pt x="801" y="653"/>
                          </a:lnTo>
                          <a:lnTo>
                            <a:pt x="0" y="620"/>
                          </a:lnTo>
                          <a:lnTo>
                            <a:pt x="31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515" name=""/>
              <p:cNvSpPr/>
              <p:nvPr/>
            </p:nvSpPr>
            <p:spPr>
              <a:xfrm>
                <a:off x="6103800" y="1850760"/>
                <a:ext cx="12960" cy="504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0" y="0"/>
                    </a:moveTo>
                    <a:lnTo>
                      <a:pt x="55" y="1"/>
                    </a:lnTo>
                    <a:lnTo>
                      <a:pt x="55" y="19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5751360" y="1960560"/>
              <a:ext cx="419400" cy="95040"/>
              <a:chOff x="5751360" y="1960560"/>
              <a:chExt cx="419400" cy="95040"/>
            </a:xfrm>
          </p:grpSpPr>
          <p:sp>
            <p:nvSpPr>
              <p:cNvPr id="517" name=""/>
              <p:cNvSpPr/>
              <p:nvPr/>
            </p:nvSpPr>
            <p:spPr>
              <a:xfrm>
                <a:off x="6040440" y="1989000"/>
                <a:ext cx="100080" cy="41400"/>
              </a:xfrm>
              <a:custGeom>
                <a:avLst/>
                <a:gdLst/>
                <a:ahLst/>
                <a:rect l="l" t="t" r="r" b="b"/>
                <a:pathLst>
                  <a:path w="444" h="184">
                    <a:moveTo>
                      <a:pt x="171" y="0"/>
                    </a:moveTo>
                    <a:lnTo>
                      <a:pt x="67" y="108"/>
                    </a:lnTo>
                    <a:lnTo>
                      <a:pt x="0" y="153"/>
                    </a:lnTo>
                    <a:lnTo>
                      <a:pt x="291" y="184"/>
                    </a:lnTo>
                    <a:lnTo>
                      <a:pt x="358" y="126"/>
                    </a:lnTo>
                    <a:lnTo>
                      <a:pt x="444" y="25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8" name=""/>
              <p:cNvGrpSpPr/>
              <p:nvPr/>
            </p:nvGrpSpPr>
            <p:grpSpPr>
              <a:xfrm>
                <a:off x="5751360" y="1960560"/>
                <a:ext cx="419400" cy="95040"/>
                <a:chOff x="5751360" y="1960560"/>
                <a:chExt cx="419400" cy="9504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751360" y="1996920"/>
                  <a:ext cx="370080" cy="58680"/>
                </a:xfrm>
                <a:custGeom>
                  <a:avLst/>
                  <a:gdLst/>
                  <a:ahLst/>
                  <a:rect l="l" t="t" r="r" b="b"/>
                  <a:pathLst>
                    <a:path w="1634" h="253">
                      <a:moveTo>
                        <a:pt x="0" y="0"/>
                      </a:moveTo>
                      <a:lnTo>
                        <a:pt x="0" y="65"/>
                      </a:lnTo>
                      <a:lnTo>
                        <a:pt x="1634" y="253"/>
                      </a:lnTo>
                      <a:lnTo>
                        <a:pt x="1633" y="1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121440" y="1990800"/>
                  <a:ext cx="49320" cy="64800"/>
                </a:xfrm>
                <a:custGeom>
                  <a:avLst/>
                  <a:gdLst/>
                  <a:ahLst/>
                  <a:rect l="l" t="t" r="r" b="b"/>
                  <a:pathLst>
                    <a:path w="215" h="287">
                      <a:moveTo>
                        <a:pt x="0" y="222"/>
                      </a:moveTo>
                      <a:lnTo>
                        <a:pt x="0" y="287"/>
                      </a:lnTo>
                      <a:lnTo>
                        <a:pt x="94" y="221"/>
                      </a:lnTo>
                      <a:lnTo>
                        <a:pt x="132" y="182"/>
                      </a:lnTo>
                      <a:lnTo>
                        <a:pt x="215" y="81"/>
                      </a:lnTo>
                      <a:lnTo>
                        <a:pt x="215" y="0"/>
                      </a:lnTo>
                      <a:lnTo>
                        <a:pt x="106" y="136"/>
                      </a:lnTo>
                      <a:lnTo>
                        <a:pt x="0" y="222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751360" y="2003400"/>
                  <a:ext cx="370080" cy="41040"/>
                </a:xfrm>
                <a:prstGeom prst="line">
                  <a:avLst/>
                </a:prstGeom>
                <a:ln w="144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2" name=""/>
                <p:cNvGrpSpPr/>
                <p:nvPr/>
              </p:nvGrpSpPr>
              <p:grpSpPr>
                <a:xfrm>
                  <a:off x="5775480" y="1960560"/>
                  <a:ext cx="357120" cy="69480"/>
                  <a:chOff x="5775480" y="1960560"/>
                  <a:chExt cx="357120" cy="6948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>
                    <a:off x="5775480" y="1963800"/>
                    <a:ext cx="27468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0" h="251">
                        <a:moveTo>
                          <a:pt x="208" y="0"/>
                        </a:moveTo>
                        <a:lnTo>
                          <a:pt x="64" y="110"/>
                        </a:lnTo>
                        <a:lnTo>
                          <a:pt x="0" y="144"/>
                        </a:lnTo>
                        <a:lnTo>
                          <a:pt x="1026" y="251"/>
                        </a:lnTo>
                        <a:lnTo>
                          <a:pt x="1100" y="202"/>
                        </a:lnTo>
                        <a:lnTo>
                          <a:pt x="1210" y="101"/>
                        </a:lnTo>
                        <a:lnTo>
                          <a:pt x="208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5781600" y="1960560"/>
                    <a:ext cx="351000" cy="69480"/>
                    <a:chOff x="5781600" y="1960560"/>
                    <a:chExt cx="351000" cy="69480"/>
                  </a:xfrm>
                </p:grpSpPr>
                <p:grpSp>
                  <p:nvGrpSpPr>
                    <p:cNvPr id="525" name=""/>
                    <p:cNvGrpSpPr/>
                    <p:nvPr/>
                  </p:nvGrpSpPr>
                  <p:grpSpPr>
                    <a:xfrm>
                      <a:off x="5788080" y="1960560"/>
                      <a:ext cx="255600" cy="58320"/>
                      <a:chOff x="5788080" y="1960560"/>
                      <a:chExt cx="255600" cy="58320"/>
                    </a:xfrm>
                  </p:grpSpPr>
                  <p:grpSp>
                    <p:nvGrpSpPr>
                      <p:cNvPr id="526" name=""/>
                      <p:cNvGrpSpPr/>
                      <p:nvPr/>
                    </p:nvGrpSpPr>
                    <p:grpSpPr>
                      <a:xfrm>
                        <a:off x="5788080" y="1960560"/>
                        <a:ext cx="52200" cy="38160"/>
                        <a:chOff x="5788080" y="1960560"/>
                        <a:chExt cx="52200" cy="38160"/>
                      </a:xfrm>
                    </p:grpSpPr>
                    <p:sp>
                      <p:nvSpPr>
                        <p:cNvPr id="527" name=""/>
                        <p:cNvSpPr/>
                        <p:nvPr/>
                      </p:nvSpPr>
                      <p:spPr>
                        <a:xfrm flipV="1">
                          <a:off x="5788080" y="1990800"/>
                          <a:ext cx="17280" cy="7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8" name=""/>
                        <p:cNvSpPr/>
                        <p:nvPr/>
                      </p:nvSpPr>
                      <p:spPr>
                        <a:xfrm flipV="1">
                          <a:off x="5805360" y="1960560"/>
                          <a:ext cx="3492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9" name=""/>
                      <p:cNvGrpSpPr/>
                      <p:nvPr/>
                    </p:nvGrpSpPr>
                    <p:grpSpPr>
                      <a:xfrm>
                        <a:off x="5808600" y="1962000"/>
                        <a:ext cx="54000" cy="39600"/>
                        <a:chOff x="5808600" y="1962000"/>
                        <a:chExt cx="54000" cy="39600"/>
                      </a:xfrm>
                    </p:grpSpPr>
                    <p:sp>
                      <p:nvSpPr>
                        <p:cNvPr id="530" name=""/>
                        <p:cNvSpPr/>
                        <p:nvPr/>
                      </p:nvSpPr>
                      <p:spPr>
                        <a:xfrm flipV="1">
                          <a:off x="5808600" y="1992240"/>
                          <a:ext cx="1764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1" name=""/>
                        <p:cNvSpPr/>
                        <p:nvPr/>
                      </p:nvSpPr>
                      <p:spPr>
                        <a:xfrm flipV="1">
                          <a:off x="5826240" y="1962000"/>
                          <a:ext cx="3636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32" name=""/>
                      <p:cNvGrpSpPr/>
                      <p:nvPr/>
                    </p:nvGrpSpPr>
                    <p:grpSpPr>
                      <a:xfrm>
                        <a:off x="5829480" y="1963440"/>
                        <a:ext cx="53640" cy="39600"/>
                        <a:chOff x="5829480" y="1963440"/>
                        <a:chExt cx="53640" cy="39600"/>
                      </a:xfrm>
                    </p:grpSpPr>
                    <p:sp>
                      <p:nvSpPr>
                        <p:cNvPr id="533" name=""/>
                        <p:cNvSpPr/>
                        <p:nvPr/>
                      </p:nvSpPr>
                      <p:spPr>
                        <a:xfrm flipV="1">
                          <a:off x="5829480" y="1993320"/>
                          <a:ext cx="17280" cy="9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4" name=""/>
                        <p:cNvSpPr/>
                        <p:nvPr/>
                      </p:nvSpPr>
                      <p:spPr>
                        <a:xfrm flipV="1">
                          <a:off x="5846760" y="1963440"/>
                          <a:ext cx="36360" cy="298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35" name=""/>
                      <p:cNvGrpSpPr/>
                      <p:nvPr/>
                    </p:nvGrpSpPr>
                    <p:grpSpPr>
                      <a:xfrm>
                        <a:off x="5850000" y="1966680"/>
                        <a:ext cx="52200" cy="38160"/>
                        <a:chOff x="5850000" y="1966680"/>
                        <a:chExt cx="52200" cy="38160"/>
                      </a:xfrm>
                    </p:grpSpPr>
                    <p:sp>
                      <p:nvSpPr>
                        <p:cNvPr id="536" name=""/>
                        <p:cNvSpPr/>
                        <p:nvPr/>
                      </p:nvSpPr>
                      <p:spPr>
                        <a:xfrm flipV="1">
                          <a:off x="5850000" y="1996920"/>
                          <a:ext cx="17280" cy="7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7" name=""/>
                        <p:cNvSpPr/>
                        <p:nvPr/>
                      </p:nvSpPr>
                      <p:spPr>
                        <a:xfrm flipV="1">
                          <a:off x="5867280" y="1966680"/>
                          <a:ext cx="3492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38" name=""/>
                      <p:cNvGrpSpPr/>
                      <p:nvPr/>
                    </p:nvGrpSpPr>
                    <p:grpSpPr>
                      <a:xfrm>
                        <a:off x="5870520" y="1968120"/>
                        <a:ext cx="54000" cy="38160"/>
                        <a:chOff x="5870520" y="1968120"/>
                        <a:chExt cx="54000" cy="38160"/>
                      </a:xfrm>
                    </p:grpSpPr>
                    <p:sp>
                      <p:nvSpPr>
                        <p:cNvPr id="539" name=""/>
                        <p:cNvSpPr/>
                        <p:nvPr/>
                      </p:nvSpPr>
                      <p:spPr>
                        <a:xfrm flipV="1">
                          <a:off x="5870520" y="1996560"/>
                          <a:ext cx="17640" cy="9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0" name=""/>
                        <p:cNvSpPr/>
                        <p:nvPr/>
                      </p:nvSpPr>
                      <p:spPr>
                        <a:xfrm flipV="1">
                          <a:off x="5888160" y="1968120"/>
                          <a:ext cx="36360" cy="28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360" bIns="-18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41" name=""/>
                      <p:cNvGrpSpPr/>
                      <p:nvPr/>
                    </p:nvGrpSpPr>
                    <p:grpSpPr>
                      <a:xfrm>
                        <a:off x="5891400" y="1969920"/>
                        <a:ext cx="53640" cy="38160"/>
                        <a:chOff x="5891400" y="1969920"/>
                        <a:chExt cx="53640" cy="38160"/>
                      </a:xfrm>
                    </p:grpSpPr>
                    <p:sp>
                      <p:nvSpPr>
                        <p:cNvPr id="542" name=""/>
                        <p:cNvSpPr/>
                        <p:nvPr/>
                      </p:nvSpPr>
                      <p:spPr>
                        <a:xfrm flipV="1">
                          <a:off x="5891400" y="1998720"/>
                          <a:ext cx="1728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3" name=""/>
                        <p:cNvSpPr/>
                        <p:nvPr/>
                      </p:nvSpPr>
                      <p:spPr>
                        <a:xfrm flipV="1">
                          <a:off x="5908680" y="1969920"/>
                          <a:ext cx="36360" cy="288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44" name=""/>
                      <p:cNvGrpSpPr/>
                      <p:nvPr/>
                    </p:nvGrpSpPr>
                    <p:grpSpPr>
                      <a:xfrm>
                        <a:off x="5911920" y="1971360"/>
                        <a:ext cx="52200" cy="38160"/>
                        <a:chOff x="5911920" y="1971360"/>
                        <a:chExt cx="52200" cy="38160"/>
                      </a:xfrm>
                    </p:grpSpPr>
                    <p:sp>
                      <p:nvSpPr>
                        <p:cNvPr id="545" name=""/>
                        <p:cNvSpPr/>
                        <p:nvPr/>
                      </p:nvSpPr>
                      <p:spPr>
                        <a:xfrm flipV="1">
                          <a:off x="5911920" y="2001600"/>
                          <a:ext cx="17280" cy="7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6" name=""/>
                        <p:cNvSpPr/>
                        <p:nvPr/>
                      </p:nvSpPr>
                      <p:spPr>
                        <a:xfrm flipV="1">
                          <a:off x="5929200" y="1971360"/>
                          <a:ext cx="34920" cy="298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47" name=""/>
                      <p:cNvGrpSpPr/>
                      <p:nvPr/>
                    </p:nvGrpSpPr>
                    <p:grpSpPr>
                      <a:xfrm>
                        <a:off x="5929200" y="1974600"/>
                        <a:ext cx="54000" cy="38160"/>
                        <a:chOff x="5929200" y="1974600"/>
                        <a:chExt cx="54000" cy="38160"/>
                      </a:xfrm>
                    </p:grpSpPr>
                    <p:sp>
                      <p:nvSpPr>
                        <p:cNvPr id="548" name=""/>
                        <p:cNvSpPr/>
                        <p:nvPr/>
                      </p:nvSpPr>
                      <p:spPr>
                        <a:xfrm flipV="1">
                          <a:off x="5929200" y="2003400"/>
                          <a:ext cx="1764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9" name=""/>
                        <p:cNvSpPr/>
                        <p:nvPr/>
                      </p:nvSpPr>
                      <p:spPr>
                        <a:xfrm flipV="1">
                          <a:off x="5946840" y="1974600"/>
                          <a:ext cx="36360" cy="288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0" name=""/>
                      <p:cNvGrpSpPr/>
                      <p:nvPr/>
                    </p:nvGrpSpPr>
                    <p:grpSpPr>
                      <a:xfrm>
                        <a:off x="5950080" y="1976400"/>
                        <a:ext cx="54000" cy="39600"/>
                        <a:chOff x="5950080" y="1976400"/>
                        <a:chExt cx="54000" cy="39600"/>
                      </a:xfrm>
                    </p:grpSpPr>
                    <p:sp>
                      <p:nvSpPr>
                        <p:cNvPr id="551" name=""/>
                        <p:cNvSpPr/>
                        <p:nvPr/>
                      </p:nvSpPr>
                      <p:spPr>
                        <a:xfrm flipV="1">
                          <a:off x="5950080" y="2006640"/>
                          <a:ext cx="1728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2" name=""/>
                        <p:cNvSpPr/>
                        <p:nvPr/>
                      </p:nvSpPr>
                      <p:spPr>
                        <a:xfrm flipV="1">
                          <a:off x="5967360" y="1976400"/>
                          <a:ext cx="3672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3" name=""/>
                      <p:cNvGrpSpPr/>
                      <p:nvPr/>
                    </p:nvGrpSpPr>
                    <p:grpSpPr>
                      <a:xfrm>
                        <a:off x="5970600" y="1977840"/>
                        <a:ext cx="54000" cy="39600"/>
                        <a:chOff x="5970600" y="1977840"/>
                        <a:chExt cx="54000" cy="39600"/>
                      </a:xfrm>
                    </p:grpSpPr>
                    <p:sp>
                      <p:nvSpPr>
                        <p:cNvPr id="554" name=""/>
                        <p:cNvSpPr/>
                        <p:nvPr/>
                      </p:nvSpPr>
                      <p:spPr>
                        <a:xfrm flipV="1">
                          <a:off x="5970600" y="2007720"/>
                          <a:ext cx="17640" cy="9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5" name=""/>
                        <p:cNvSpPr/>
                        <p:nvPr/>
                      </p:nvSpPr>
                      <p:spPr>
                        <a:xfrm flipV="1">
                          <a:off x="5988240" y="1977840"/>
                          <a:ext cx="3636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6" name=""/>
                      <p:cNvGrpSpPr/>
                      <p:nvPr/>
                    </p:nvGrpSpPr>
                    <p:grpSpPr>
                      <a:xfrm>
                        <a:off x="5989680" y="1979280"/>
                        <a:ext cx="54000" cy="39600"/>
                        <a:chOff x="5989680" y="1979280"/>
                        <a:chExt cx="54000" cy="39600"/>
                      </a:xfrm>
                    </p:grpSpPr>
                    <p:sp>
                      <p:nvSpPr>
                        <p:cNvPr id="557" name=""/>
                        <p:cNvSpPr/>
                        <p:nvPr/>
                      </p:nvSpPr>
                      <p:spPr>
                        <a:xfrm flipV="1">
                          <a:off x="5989680" y="2009160"/>
                          <a:ext cx="17280" cy="9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8" name=""/>
                        <p:cNvSpPr/>
                        <p:nvPr/>
                      </p:nvSpPr>
                      <p:spPr>
                        <a:xfrm flipV="1">
                          <a:off x="6006960" y="1979280"/>
                          <a:ext cx="36720" cy="298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59" name=""/>
                    <p:cNvGrpSpPr/>
                    <p:nvPr/>
                  </p:nvGrpSpPr>
                  <p:grpSpPr>
                    <a:xfrm>
                      <a:off x="6051600" y="1985400"/>
                      <a:ext cx="77760" cy="44640"/>
                      <a:chOff x="6051600" y="1985400"/>
                      <a:chExt cx="77760" cy="44640"/>
                    </a:xfrm>
                  </p:grpSpPr>
                  <p:grpSp>
                    <p:nvGrpSpPr>
                      <p:cNvPr id="560" name=""/>
                      <p:cNvGrpSpPr/>
                      <p:nvPr/>
                    </p:nvGrpSpPr>
                    <p:grpSpPr>
                      <a:xfrm>
                        <a:off x="6085080" y="1989000"/>
                        <a:ext cx="44280" cy="41040"/>
                        <a:chOff x="6085080" y="1989000"/>
                        <a:chExt cx="44280" cy="41040"/>
                      </a:xfrm>
                    </p:grpSpPr>
                    <p:sp>
                      <p:nvSpPr>
                        <p:cNvPr id="561" name=""/>
                        <p:cNvSpPr/>
                        <p:nvPr/>
                      </p:nvSpPr>
                      <p:spPr>
                        <a:xfrm flipV="1">
                          <a:off x="6085080" y="2018880"/>
                          <a:ext cx="14040" cy="11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2" name=""/>
                        <p:cNvSpPr/>
                        <p:nvPr/>
                      </p:nvSpPr>
                      <p:spPr>
                        <a:xfrm flipV="1">
                          <a:off x="6099120" y="1989000"/>
                          <a:ext cx="3024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63" name=""/>
                      <p:cNvGrpSpPr/>
                      <p:nvPr/>
                    </p:nvGrpSpPr>
                    <p:grpSpPr>
                      <a:xfrm>
                        <a:off x="6067440" y="1985400"/>
                        <a:ext cx="46080" cy="44640"/>
                        <a:chOff x="6067440" y="1985400"/>
                        <a:chExt cx="46080" cy="44640"/>
                      </a:xfrm>
                    </p:grpSpPr>
                    <p:sp>
                      <p:nvSpPr>
                        <p:cNvPr id="564" name=""/>
                        <p:cNvSpPr/>
                        <p:nvPr/>
                      </p:nvSpPr>
                      <p:spPr>
                        <a:xfrm flipV="1">
                          <a:off x="6067440" y="2018880"/>
                          <a:ext cx="15840" cy="11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5" name=""/>
                        <p:cNvSpPr/>
                        <p:nvPr/>
                      </p:nvSpPr>
                      <p:spPr>
                        <a:xfrm flipV="1">
                          <a:off x="6083280" y="1985400"/>
                          <a:ext cx="30240" cy="334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66" name=""/>
                      <p:cNvGrpSpPr/>
                      <p:nvPr/>
                    </p:nvGrpSpPr>
                    <p:grpSpPr>
                      <a:xfrm>
                        <a:off x="6051600" y="1985760"/>
                        <a:ext cx="44280" cy="41040"/>
                        <a:chOff x="6051600" y="1985760"/>
                        <a:chExt cx="44280" cy="41040"/>
                      </a:xfrm>
                    </p:grpSpPr>
                    <p:sp>
                      <p:nvSpPr>
                        <p:cNvPr id="567" name=""/>
                        <p:cNvSpPr/>
                        <p:nvPr/>
                      </p:nvSpPr>
                      <p:spPr>
                        <a:xfrm flipV="1">
                          <a:off x="6051600" y="2015640"/>
                          <a:ext cx="15840" cy="11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8" name=""/>
                        <p:cNvSpPr/>
                        <p:nvPr/>
                      </p:nvSpPr>
                      <p:spPr>
                        <a:xfrm flipV="1">
                          <a:off x="6067440" y="1985760"/>
                          <a:ext cx="2844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5807160" y="1971720"/>
                      <a:ext cx="325440" cy="31680"/>
                    </a:xfrm>
                    <a:prstGeom prst="line">
                      <a:avLst/>
                    </a:prstGeom>
                    <a:ln w="14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5794560" y="1981080"/>
                      <a:ext cx="331560" cy="31680"/>
                    </a:xfrm>
                    <a:prstGeom prst="line">
                      <a:avLst/>
                    </a:prstGeom>
                    <a:ln w="14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5781600" y="1989000"/>
                      <a:ext cx="336600" cy="34920"/>
                    </a:xfrm>
                    <a:prstGeom prst="line">
                      <a:avLst/>
                    </a:prstGeom>
                    <a:ln w="32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6121440" y="1995120"/>
                  <a:ext cx="47520" cy="48960"/>
                  <a:chOff x="6121440" y="1995120"/>
                  <a:chExt cx="47520" cy="4896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flipV="1">
                    <a:off x="6121440" y="2023560"/>
                    <a:ext cx="25200" cy="20520"/>
                  </a:xfrm>
                  <a:prstGeom prst="line">
                    <a:avLst/>
                  </a:prstGeom>
                  <a:ln w="144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V="1">
                    <a:off x="6146640" y="1995120"/>
                    <a:ext cx="22320" cy="28440"/>
                  </a:xfrm>
                  <a:prstGeom prst="line">
                    <a:avLst/>
                  </a:prstGeom>
                  <a:ln w="144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575" name="COMP1" descr=""/>
          <p:cNvPicPr/>
          <p:nvPr/>
        </p:nvPicPr>
        <p:blipFill>
          <a:blip r:embed="rId6"/>
          <a:stretch/>
        </p:blipFill>
        <p:spPr>
          <a:xfrm>
            <a:off x="6553080" y="1600200"/>
            <a:ext cx="609840" cy="468360"/>
          </a:xfrm>
          <a:prstGeom prst="rect">
            <a:avLst/>
          </a:prstGeom>
          <a:ln w="0">
            <a:noFill/>
          </a:ln>
        </p:spPr>
      </p:pic>
      <p:pic>
        <p:nvPicPr>
          <p:cNvPr id="576" name="COMP1" descr=""/>
          <p:cNvPicPr/>
          <p:nvPr/>
        </p:nvPicPr>
        <p:blipFill>
          <a:blip r:embed="rId7"/>
          <a:stretch/>
        </p:blipFill>
        <p:spPr>
          <a:xfrm>
            <a:off x="7315200" y="1600200"/>
            <a:ext cx="609480" cy="468360"/>
          </a:xfrm>
          <a:prstGeom prst="rect">
            <a:avLst/>
          </a:prstGeom>
          <a:ln w="0">
            <a:noFill/>
          </a:ln>
        </p:spPr>
      </p:pic>
      <p:grpSp>
        <p:nvGrpSpPr>
          <p:cNvPr id="577" name=""/>
          <p:cNvGrpSpPr/>
          <p:nvPr/>
        </p:nvGrpSpPr>
        <p:grpSpPr>
          <a:xfrm>
            <a:off x="5029200" y="1905120"/>
            <a:ext cx="457200" cy="380880"/>
            <a:chOff x="5029200" y="1905120"/>
            <a:chExt cx="457200" cy="380880"/>
          </a:xfrm>
        </p:grpSpPr>
        <p:pic>
          <p:nvPicPr>
            <p:cNvPr id="578" name="" descr=""/>
            <p:cNvPicPr/>
            <p:nvPr/>
          </p:nvPicPr>
          <p:blipFill>
            <a:blip r:embed="rId8"/>
            <a:stretch/>
          </p:blipFill>
          <p:spPr>
            <a:xfrm>
              <a:off x="5029200" y="2133720"/>
              <a:ext cx="4572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5091840" y="1905120"/>
              <a:ext cx="36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集線器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5486400" y="2209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19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620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0" y="1828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5029200" y="228600"/>
            <a:ext cx="2895480" cy="990360"/>
            <a:chOff x="5029200" y="228600"/>
            <a:chExt cx="2895480" cy="990360"/>
          </a:xfrm>
        </p:grpSpPr>
        <p:grpSp>
          <p:nvGrpSpPr>
            <p:cNvPr id="586" name=""/>
            <p:cNvGrpSpPr/>
            <p:nvPr/>
          </p:nvGrpSpPr>
          <p:grpSpPr>
            <a:xfrm>
              <a:off x="5562720" y="533520"/>
              <a:ext cx="596880" cy="466560"/>
              <a:chOff x="5562720" y="533520"/>
              <a:chExt cx="596880" cy="466560"/>
            </a:xfrm>
          </p:grpSpPr>
          <p:sp>
            <p:nvSpPr>
              <p:cNvPr id="587" name=""/>
              <p:cNvSpPr/>
              <p:nvPr/>
            </p:nvSpPr>
            <p:spPr>
              <a:xfrm>
                <a:off x="5562720" y="889200"/>
                <a:ext cx="57240" cy="34920"/>
              </a:xfrm>
              <a:custGeom>
                <a:avLst/>
                <a:gdLst/>
                <a:ahLst/>
                <a:rect l="l" t="t" r="r" b="b"/>
                <a:pathLst>
                  <a:path w="257" h="153">
                    <a:moveTo>
                      <a:pt x="252" y="0"/>
                    </a:moveTo>
                    <a:lnTo>
                      <a:pt x="193" y="0"/>
                    </a:lnTo>
                    <a:lnTo>
                      <a:pt x="160" y="4"/>
                    </a:lnTo>
                    <a:lnTo>
                      <a:pt x="128" y="9"/>
                    </a:lnTo>
                    <a:lnTo>
                      <a:pt x="89" y="16"/>
                    </a:lnTo>
                    <a:lnTo>
                      <a:pt x="59" y="24"/>
                    </a:lnTo>
                    <a:lnTo>
                      <a:pt x="38" y="31"/>
                    </a:lnTo>
                    <a:lnTo>
                      <a:pt x="24" y="40"/>
                    </a:lnTo>
                    <a:lnTo>
                      <a:pt x="13" y="48"/>
                    </a:lnTo>
                    <a:lnTo>
                      <a:pt x="5" y="58"/>
                    </a:lnTo>
                    <a:lnTo>
                      <a:pt x="0" y="69"/>
                    </a:lnTo>
                    <a:lnTo>
                      <a:pt x="1" y="81"/>
                    </a:lnTo>
                    <a:lnTo>
                      <a:pt x="8" y="92"/>
                    </a:lnTo>
                    <a:lnTo>
                      <a:pt x="17" y="98"/>
                    </a:lnTo>
                    <a:lnTo>
                      <a:pt x="35" y="101"/>
                    </a:lnTo>
                    <a:lnTo>
                      <a:pt x="57" y="101"/>
                    </a:lnTo>
                    <a:lnTo>
                      <a:pt x="79" y="99"/>
                    </a:lnTo>
                    <a:lnTo>
                      <a:pt x="108" y="96"/>
                    </a:lnTo>
                    <a:lnTo>
                      <a:pt x="135" y="98"/>
                    </a:lnTo>
                    <a:lnTo>
                      <a:pt x="155" y="101"/>
                    </a:lnTo>
                    <a:lnTo>
                      <a:pt x="175" y="106"/>
                    </a:lnTo>
                    <a:lnTo>
                      <a:pt x="197" y="115"/>
                    </a:lnTo>
                    <a:lnTo>
                      <a:pt x="257" y="153"/>
                    </a:lnTo>
                    <a:lnTo>
                      <a:pt x="254" y="153"/>
                    </a:lnTo>
                    <a:lnTo>
                      <a:pt x="255" y="150"/>
                    </a:lnTo>
                  </a:path>
                </a:pathLst>
              </a:custGeom>
              <a:noFill/>
              <a:ln w="79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8" name=""/>
              <p:cNvGrpSpPr/>
              <p:nvPr/>
            </p:nvGrpSpPr>
            <p:grpSpPr>
              <a:xfrm>
                <a:off x="5612040" y="792360"/>
                <a:ext cx="469800" cy="160200"/>
                <a:chOff x="5612040" y="792360"/>
                <a:chExt cx="469800" cy="16020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5615280" y="873000"/>
                  <a:ext cx="466560" cy="79560"/>
                </a:xfrm>
                <a:custGeom>
                  <a:avLst/>
                  <a:gdLst/>
                  <a:ahLst/>
                  <a:rect l="l" t="t" r="r" b="b"/>
                  <a:pathLst>
                    <a:path w="2056" h="354">
                      <a:moveTo>
                        <a:pt x="0" y="22"/>
                      </a:moveTo>
                      <a:lnTo>
                        <a:pt x="0" y="178"/>
                      </a:lnTo>
                      <a:lnTo>
                        <a:pt x="1669" y="354"/>
                      </a:lnTo>
                      <a:lnTo>
                        <a:pt x="2056" y="138"/>
                      </a:lnTo>
                      <a:lnTo>
                        <a:pt x="2056" y="0"/>
                      </a:lnTo>
                      <a:lnTo>
                        <a:pt x="1655" y="187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612040" y="792360"/>
                  <a:ext cx="379440" cy="123480"/>
                </a:xfrm>
                <a:custGeom>
                  <a:avLst/>
                  <a:gdLst/>
                  <a:ahLst/>
                  <a:rect l="l" t="t" r="r" b="b"/>
                  <a:pathLst>
                    <a:path w="1676" h="546">
                      <a:moveTo>
                        <a:pt x="0" y="0"/>
                      </a:moveTo>
                      <a:lnTo>
                        <a:pt x="1676" y="120"/>
                      </a:lnTo>
                      <a:lnTo>
                        <a:pt x="1676" y="546"/>
                      </a:lnTo>
                      <a:lnTo>
                        <a:pt x="0" y="3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1" name=""/>
                <p:cNvGrpSpPr/>
                <p:nvPr/>
              </p:nvGrpSpPr>
              <p:grpSpPr>
                <a:xfrm>
                  <a:off x="5613480" y="814320"/>
                  <a:ext cx="379440" cy="49320"/>
                  <a:chOff x="5613480" y="814320"/>
                  <a:chExt cx="379440" cy="4932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5613480" y="814320"/>
                    <a:ext cx="378000" cy="28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5891400" y="836640"/>
                    <a:ext cx="79200" cy="7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5797800" y="830160"/>
                    <a:ext cx="79200" cy="64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5613480" y="830160"/>
                    <a:ext cx="379440" cy="334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6" name=""/>
              <p:cNvGrpSpPr/>
              <p:nvPr/>
            </p:nvGrpSpPr>
            <p:grpSpPr>
              <a:xfrm>
                <a:off x="5612040" y="774720"/>
                <a:ext cx="469800" cy="44280"/>
                <a:chOff x="5612040" y="774720"/>
                <a:chExt cx="469800" cy="4428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5612040" y="774720"/>
                  <a:ext cx="469800" cy="44280"/>
                </a:xfrm>
                <a:custGeom>
                  <a:avLst/>
                  <a:gdLst/>
                  <a:ahLst/>
                  <a:rect l="l" t="t" r="r" b="b"/>
                  <a:pathLst>
                    <a:path w="2075" h="195">
                      <a:moveTo>
                        <a:pt x="0" y="75"/>
                      </a:moveTo>
                      <a:lnTo>
                        <a:pt x="1675" y="195"/>
                      </a:lnTo>
                      <a:lnTo>
                        <a:pt x="2075" y="81"/>
                      </a:lnTo>
                      <a:lnTo>
                        <a:pt x="1934" y="65"/>
                      </a:lnTo>
                      <a:lnTo>
                        <a:pt x="639" y="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718240" y="784080"/>
                  <a:ext cx="346320" cy="28800"/>
                </a:xfrm>
                <a:custGeom>
                  <a:avLst/>
                  <a:gdLst/>
                  <a:ahLst/>
                  <a:rect l="l" t="t" r="r" b="b"/>
                  <a:pathLst>
                    <a:path w="1525" h="124">
                      <a:moveTo>
                        <a:pt x="124" y="0"/>
                      </a:moveTo>
                      <a:lnTo>
                        <a:pt x="0" y="46"/>
                      </a:lnTo>
                      <a:lnTo>
                        <a:pt x="1231" y="124"/>
                      </a:lnTo>
                      <a:lnTo>
                        <a:pt x="1432" y="69"/>
                      </a:lnTo>
                      <a:lnTo>
                        <a:pt x="1415" y="61"/>
                      </a:lnTo>
                      <a:lnTo>
                        <a:pt x="1525" y="31"/>
                      </a:lnTo>
                      <a:lnTo>
                        <a:pt x="1457" y="24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5996160" y="538200"/>
                <a:ext cx="85680" cy="268200"/>
                <a:chOff x="5996160" y="538200"/>
                <a:chExt cx="85680" cy="268200"/>
              </a:xfrm>
            </p:grpSpPr>
            <p:grpSp>
              <p:nvGrpSpPr>
                <p:cNvPr id="600" name=""/>
                <p:cNvGrpSpPr/>
                <p:nvPr/>
              </p:nvGrpSpPr>
              <p:grpSpPr>
                <a:xfrm>
                  <a:off x="6029640" y="571680"/>
                  <a:ext cx="52200" cy="225360"/>
                  <a:chOff x="6029640" y="571680"/>
                  <a:chExt cx="52200" cy="22536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>
                    <a:off x="6029640" y="571680"/>
                    <a:ext cx="5220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1" h="992">
                        <a:moveTo>
                          <a:pt x="22" y="0"/>
                        </a:moveTo>
                        <a:lnTo>
                          <a:pt x="231" y="82"/>
                        </a:lnTo>
                        <a:lnTo>
                          <a:pt x="211" y="469"/>
                        </a:lnTo>
                        <a:lnTo>
                          <a:pt x="189" y="935"/>
                        </a:lnTo>
                        <a:lnTo>
                          <a:pt x="0" y="99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6029640" y="582480"/>
                    <a:ext cx="50760" cy="188640"/>
                    <a:chOff x="6029640" y="582480"/>
                    <a:chExt cx="50760" cy="188640"/>
                  </a:xfrm>
                </p:grpSpPr>
                <p:grpSp>
                  <p:nvGrpSpPr>
                    <p:cNvPr id="603" name=""/>
                    <p:cNvGrpSpPr/>
                    <p:nvPr/>
                  </p:nvGrpSpPr>
                  <p:grpSpPr>
                    <a:xfrm>
                      <a:off x="6029640" y="582480"/>
                      <a:ext cx="50760" cy="188640"/>
                      <a:chOff x="6029640" y="582480"/>
                      <a:chExt cx="50760" cy="188640"/>
                    </a:xfrm>
                  </p:grpSpPr>
                  <p:grpSp>
                    <p:nvGrpSpPr>
                      <p:cNvPr id="604" name=""/>
                      <p:cNvGrpSpPr/>
                      <p:nvPr/>
                    </p:nvGrpSpPr>
                    <p:grpSpPr>
                      <a:xfrm>
                        <a:off x="6029640" y="582480"/>
                        <a:ext cx="50760" cy="113040"/>
                        <a:chOff x="6029640" y="582480"/>
                        <a:chExt cx="50760" cy="113040"/>
                      </a:xfrm>
                    </p:grpSpPr>
                    <p:grpSp>
                      <p:nvGrpSpPr>
                        <p:cNvPr id="605" name=""/>
                        <p:cNvGrpSpPr/>
                        <p:nvPr/>
                      </p:nvGrpSpPr>
                      <p:grpSpPr>
                        <a:xfrm>
                          <a:off x="6032520" y="582480"/>
                          <a:ext cx="47880" cy="60480"/>
                          <a:chOff x="6032520" y="582480"/>
                          <a:chExt cx="47880" cy="60480"/>
                        </a:xfrm>
                      </p:grpSpPr>
                      <p:sp>
                        <p:nvSpPr>
                          <p:cNvPr id="606" name=""/>
                          <p:cNvSpPr/>
                          <p:nvPr/>
                        </p:nvSpPr>
                        <p:spPr>
                          <a:xfrm>
                            <a:off x="6034320" y="582480"/>
                            <a:ext cx="46080" cy="1764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160" bIns="-29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7" name=""/>
                          <p:cNvSpPr/>
                          <p:nvPr/>
                        </p:nvSpPr>
                        <p:spPr>
                          <a:xfrm>
                            <a:off x="6034320" y="592200"/>
                            <a:ext cx="46080" cy="1584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0960" bIns="-30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8" name=""/>
                          <p:cNvSpPr/>
                          <p:nvPr/>
                        </p:nvSpPr>
                        <p:spPr>
                          <a:xfrm>
                            <a:off x="6034320" y="601560"/>
                            <a:ext cx="46080" cy="1440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0" bIns="-32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9" name=""/>
                          <p:cNvSpPr/>
                          <p:nvPr/>
                        </p:nvSpPr>
                        <p:spPr>
                          <a:xfrm>
                            <a:off x="6034320" y="611280"/>
                            <a:ext cx="46080" cy="1440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0" bIns="-32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0" name=""/>
                          <p:cNvSpPr/>
                          <p:nvPr/>
                        </p:nvSpPr>
                        <p:spPr>
                          <a:xfrm>
                            <a:off x="6032520" y="620640"/>
                            <a:ext cx="46080" cy="1440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0" bIns="-32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1" name=""/>
                          <p:cNvSpPr/>
                          <p:nvPr/>
                        </p:nvSpPr>
                        <p:spPr>
                          <a:xfrm>
                            <a:off x="6032520" y="630360"/>
                            <a:ext cx="46080" cy="1260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200" bIns="-34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>
                          <a:off x="6029640" y="650880"/>
                          <a:ext cx="47520" cy="9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>
                          <a:off x="6029640" y="660600"/>
                          <a:ext cx="47520" cy="7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>
                          <a:off x="6029640" y="669960"/>
                          <a:ext cx="45720" cy="7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5" name=""/>
                        <p:cNvSpPr/>
                        <p:nvPr/>
                      </p:nvSpPr>
                      <p:spPr>
                        <a:xfrm>
                          <a:off x="6029640" y="681120"/>
                          <a:ext cx="45720" cy="46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6" name=""/>
                        <p:cNvSpPr/>
                        <p:nvPr/>
                      </p:nvSpPr>
                      <p:spPr>
                        <a:xfrm>
                          <a:off x="6029640" y="690480"/>
                          <a:ext cx="45720" cy="50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17" name=""/>
                      <p:cNvGrpSpPr/>
                      <p:nvPr/>
                    </p:nvGrpSpPr>
                    <p:grpSpPr>
                      <a:xfrm>
                        <a:off x="6029640" y="701640"/>
                        <a:ext cx="45720" cy="69480"/>
                        <a:chOff x="6029640" y="701640"/>
                        <a:chExt cx="45720" cy="69480"/>
                      </a:xfrm>
                    </p:grpSpPr>
                    <p:sp>
                      <p:nvSpPr>
                        <p:cNvPr id="618" name=""/>
                        <p:cNvSpPr/>
                        <p:nvPr/>
                      </p:nvSpPr>
                      <p:spPr>
                        <a:xfrm>
                          <a:off x="6029640" y="701640"/>
                          <a:ext cx="45720" cy="18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9" name=""/>
                        <p:cNvSpPr/>
                        <p:nvPr/>
                      </p:nvSpPr>
                      <p:spPr>
                        <a:xfrm>
                          <a:off x="6031080" y="711360"/>
                          <a:ext cx="42840" cy="1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0" name=""/>
                        <p:cNvSpPr/>
                        <p:nvPr/>
                      </p:nvSpPr>
                      <p:spPr>
                        <a:xfrm>
                          <a:off x="6029640" y="720720"/>
                          <a:ext cx="44280" cy="18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1" name=""/>
                        <p:cNvSpPr/>
                        <p:nvPr/>
                      </p:nvSpPr>
                      <p:spPr>
                        <a:xfrm flipV="1">
                          <a:off x="6029640" y="730440"/>
                          <a:ext cx="44280" cy="1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2" name=""/>
                        <p:cNvSpPr/>
                        <p:nvPr/>
                      </p:nvSpPr>
                      <p:spPr>
                        <a:xfrm flipV="1">
                          <a:off x="6029640" y="738360"/>
                          <a:ext cx="42840" cy="28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3" name=""/>
                        <p:cNvSpPr/>
                        <p:nvPr/>
                      </p:nvSpPr>
                      <p:spPr>
                        <a:xfrm flipV="1">
                          <a:off x="6029640" y="747360"/>
                          <a:ext cx="42840" cy="3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" name=""/>
                        <p:cNvSpPr/>
                        <p:nvPr/>
                      </p:nvSpPr>
                      <p:spPr>
                        <a:xfrm flipV="1">
                          <a:off x="6029640" y="755280"/>
                          <a:ext cx="42840" cy="46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5" name=""/>
                        <p:cNvSpPr/>
                        <p:nvPr/>
                      </p:nvSpPr>
                      <p:spPr>
                        <a:xfrm flipV="1">
                          <a:off x="6029640" y="765000"/>
                          <a:ext cx="42840" cy="61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6031080" y="641520"/>
                      <a:ext cx="46080" cy="9360"/>
                    </a:xfrm>
                    <a:prstGeom prst="line">
                      <a:avLst/>
                    </a:prstGeom>
                    <a:ln w="144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27" name=""/>
                <p:cNvGrpSpPr/>
                <p:nvPr/>
              </p:nvGrpSpPr>
              <p:grpSpPr>
                <a:xfrm>
                  <a:off x="5996160" y="538200"/>
                  <a:ext cx="45720" cy="268200"/>
                  <a:chOff x="5996160" y="538200"/>
                  <a:chExt cx="45720" cy="26820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>
                    <a:off x="5996160" y="538200"/>
                    <a:ext cx="4428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1184">
                        <a:moveTo>
                          <a:pt x="48" y="0"/>
                        </a:moveTo>
                        <a:lnTo>
                          <a:pt x="191" y="61"/>
                        </a:lnTo>
                        <a:lnTo>
                          <a:pt x="202" y="74"/>
                        </a:lnTo>
                        <a:lnTo>
                          <a:pt x="159" y="1136"/>
                        </a:lnTo>
                        <a:lnTo>
                          <a:pt x="141" y="1149"/>
                        </a:lnTo>
                        <a:lnTo>
                          <a:pt x="0" y="1184"/>
                        </a:lnTo>
                        <a:lnTo>
                          <a:pt x="19" y="1165"/>
                        </a:lnTo>
                        <a:lnTo>
                          <a:pt x="20" y="115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6035760" y="552600"/>
                    <a:ext cx="61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789" y="772"/>
                        </a:moveTo>
                        <a:arcTo wR="10800" hR="10800" stAng="-6708084" swAng="67080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789" y="772"/>
                        </a:moveTo>
                        <a:arcTo wR="10800" hR="10800" stAng="-6708084" swAng="6708084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30" name=""/>
              <p:cNvGrpSpPr/>
              <p:nvPr/>
            </p:nvGrpSpPr>
            <p:grpSpPr>
              <a:xfrm>
                <a:off x="6013440" y="942840"/>
                <a:ext cx="146160" cy="57240"/>
                <a:chOff x="6013440" y="942840"/>
                <a:chExt cx="146160" cy="5724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6013440" y="942840"/>
                  <a:ext cx="146160" cy="38160"/>
                </a:xfrm>
                <a:custGeom>
                  <a:avLst/>
                  <a:gdLst/>
                  <a:ahLst/>
                  <a:rect l="l" t="t" r="r" b="b"/>
                  <a:pathLst>
                    <a:path w="643" h="167">
                      <a:moveTo>
                        <a:pt x="0" y="0"/>
                      </a:moveTo>
                      <a:lnTo>
                        <a:pt x="119" y="8"/>
                      </a:lnTo>
                      <a:lnTo>
                        <a:pt x="208" y="12"/>
                      </a:lnTo>
                      <a:lnTo>
                        <a:pt x="288" y="21"/>
                      </a:lnTo>
                      <a:lnTo>
                        <a:pt x="367" y="31"/>
                      </a:lnTo>
                      <a:lnTo>
                        <a:pt x="423" y="39"/>
                      </a:lnTo>
                      <a:lnTo>
                        <a:pt x="491" y="50"/>
                      </a:lnTo>
                      <a:lnTo>
                        <a:pt x="529" y="57"/>
                      </a:lnTo>
                      <a:lnTo>
                        <a:pt x="558" y="63"/>
                      </a:lnTo>
                      <a:lnTo>
                        <a:pt x="574" y="67"/>
                      </a:lnTo>
                      <a:lnTo>
                        <a:pt x="587" y="71"/>
                      </a:lnTo>
                      <a:lnTo>
                        <a:pt x="603" y="76"/>
                      </a:lnTo>
                      <a:lnTo>
                        <a:pt x="619" y="82"/>
                      </a:lnTo>
                      <a:lnTo>
                        <a:pt x="634" y="90"/>
                      </a:lnTo>
                      <a:lnTo>
                        <a:pt x="642" y="99"/>
                      </a:lnTo>
                      <a:lnTo>
                        <a:pt x="643" y="106"/>
                      </a:lnTo>
                      <a:lnTo>
                        <a:pt x="639" y="117"/>
                      </a:lnTo>
                      <a:lnTo>
                        <a:pt x="634" y="129"/>
                      </a:lnTo>
                      <a:lnTo>
                        <a:pt x="626" y="139"/>
                      </a:lnTo>
                      <a:lnTo>
                        <a:pt x="616" y="146"/>
                      </a:lnTo>
                      <a:lnTo>
                        <a:pt x="602" y="155"/>
                      </a:lnTo>
                      <a:lnTo>
                        <a:pt x="586" y="161"/>
                      </a:lnTo>
                      <a:lnTo>
                        <a:pt x="569" y="163"/>
                      </a:lnTo>
                      <a:lnTo>
                        <a:pt x="550" y="166"/>
                      </a:lnTo>
                      <a:lnTo>
                        <a:pt x="526" y="167"/>
                      </a:lnTo>
                      <a:lnTo>
                        <a:pt x="504" y="165"/>
                      </a:lnTo>
                      <a:lnTo>
                        <a:pt x="468" y="160"/>
                      </a:lnTo>
                    </a:path>
                  </a:pathLst>
                </a:custGeom>
                <a:noFill/>
                <a:ln w="32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2" name=""/>
                <p:cNvGrpSpPr/>
                <p:nvPr/>
              </p:nvGrpSpPr>
              <p:grpSpPr>
                <a:xfrm>
                  <a:off x="6019920" y="961920"/>
                  <a:ext cx="101520" cy="38160"/>
                  <a:chOff x="6019920" y="961920"/>
                  <a:chExt cx="101520" cy="38160"/>
                </a:xfrm>
              </p:grpSpPr>
              <p:grpSp>
                <p:nvGrpSpPr>
                  <p:cNvPr id="633" name=""/>
                  <p:cNvGrpSpPr/>
                  <p:nvPr/>
                </p:nvGrpSpPr>
                <p:grpSpPr>
                  <a:xfrm>
                    <a:off x="6019920" y="961920"/>
                    <a:ext cx="101520" cy="38160"/>
                    <a:chOff x="6019920" y="961920"/>
                    <a:chExt cx="101520" cy="38160"/>
                  </a:xfrm>
                </p:grpSpPr>
                <p:sp>
                  <p:nvSpPr>
                    <p:cNvPr id="634" name=""/>
                    <p:cNvSpPr/>
                    <p:nvPr/>
                  </p:nvSpPr>
                  <p:spPr>
                    <a:xfrm>
                      <a:off x="6019920" y="961920"/>
                      <a:ext cx="63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1" h="112">
                          <a:moveTo>
                            <a:pt x="0" y="67"/>
                          </a:moveTo>
                          <a:lnTo>
                            <a:pt x="74" y="0"/>
                          </a:lnTo>
                          <a:lnTo>
                            <a:pt x="281" y="37"/>
                          </a:lnTo>
                          <a:lnTo>
                            <a:pt x="199" y="112"/>
                          </a:lnTo>
                          <a:lnTo>
                            <a:pt x="0" y="67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>
                      <a:off x="6019920" y="976320"/>
                      <a:ext cx="4464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9" h="106">
                          <a:moveTo>
                            <a:pt x="0" y="0"/>
                          </a:moveTo>
                          <a:lnTo>
                            <a:pt x="0" y="59"/>
                          </a:lnTo>
                          <a:lnTo>
                            <a:pt x="2" y="59"/>
                          </a:lnTo>
                          <a:lnTo>
                            <a:pt x="199" y="106"/>
                          </a:lnTo>
                          <a:lnTo>
                            <a:pt x="199" y="4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>
                      <a:off x="6064560" y="969840"/>
                      <a:ext cx="5688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3" h="136">
                          <a:moveTo>
                            <a:pt x="0" y="74"/>
                          </a:moveTo>
                          <a:lnTo>
                            <a:pt x="81" y="0"/>
                          </a:lnTo>
                          <a:lnTo>
                            <a:pt x="253" y="20"/>
                          </a:lnTo>
                          <a:lnTo>
                            <a:pt x="253" y="76"/>
                          </a:lnTo>
                          <a:lnTo>
                            <a:pt x="0" y="136"/>
                          </a:lnTo>
                          <a:lnTo>
                            <a:pt x="0" y="74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>
                      <a:off x="6035760" y="961920"/>
                      <a:ext cx="8568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9" h="56">
                          <a:moveTo>
                            <a:pt x="0" y="0"/>
                          </a:moveTo>
                          <a:lnTo>
                            <a:pt x="190" y="13"/>
                          </a:lnTo>
                          <a:lnTo>
                            <a:pt x="379" y="56"/>
                          </a:lnTo>
                          <a:lnTo>
                            <a:pt x="207" y="3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6019920" y="972720"/>
                    <a:ext cx="101520" cy="18000"/>
                    <a:chOff x="6019920" y="972720"/>
                    <a:chExt cx="101520" cy="1800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>
                      <a:off x="6019920" y="979560"/>
                      <a:ext cx="44640" cy="11160"/>
                    </a:xfrm>
                    <a:prstGeom prst="line">
                      <a:avLst/>
                    </a:prstGeom>
                    <a:ln w="144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flipV="1">
                      <a:off x="6064560" y="972720"/>
                      <a:ext cx="18720" cy="17640"/>
                    </a:xfrm>
                    <a:prstGeom prst="line">
                      <a:avLst/>
                    </a:prstGeom>
                    <a:ln w="14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6085080" y="973080"/>
                      <a:ext cx="36360" cy="3240"/>
                    </a:xfrm>
                    <a:prstGeom prst="line">
                      <a:avLst/>
                    </a:prstGeom>
                    <a:ln w="14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42" name=""/>
              <p:cNvSpPr/>
              <p:nvPr/>
            </p:nvSpPr>
            <p:spPr>
              <a:xfrm>
                <a:off x="5992920" y="87012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390" h="364">
                    <a:moveTo>
                      <a:pt x="0" y="183"/>
                    </a:moveTo>
                    <a:lnTo>
                      <a:pt x="390" y="0"/>
                    </a:lnTo>
                    <a:lnTo>
                      <a:pt x="390" y="147"/>
                    </a:lnTo>
                    <a:lnTo>
                      <a:pt x="0" y="36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991480" y="793800"/>
                <a:ext cx="91800" cy="122040"/>
              </a:xfrm>
              <a:custGeom>
                <a:avLst/>
                <a:gdLst/>
                <a:ahLst/>
                <a:rect l="l" t="t" r="r" b="b"/>
                <a:pathLst>
                  <a:path w="402" h="538">
                    <a:moveTo>
                      <a:pt x="0" y="114"/>
                    </a:moveTo>
                    <a:lnTo>
                      <a:pt x="402" y="0"/>
                    </a:lnTo>
                    <a:lnTo>
                      <a:pt x="402" y="355"/>
                    </a:lnTo>
                    <a:lnTo>
                      <a:pt x="1" y="538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745240" y="574560"/>
                <a:ext cx="225360" cy="187560"/>
              </a:xfrm>
              <a:custGeom>
                <a:avLst/>
                <a:gdLst/>
                <a:ahLst/>
                <a:rect l="l" t="t" r="r" b="b"/>
                <a:pathLst>
                  <a:path w="992" h="822">
                    <a:moveTo>
                      <a:pt x="39" y="0"/>
                    </a:moveTo>
                    <a:lnTo>
                      <a:pt x="992" y="0"/>
                    </a:lnTo>
                    <a:lnTo>
                      <a:pt x="953" y="822"/>
                    </a:lnTo>
                    <a:lnTo>
                      <a:pt x="0" y="775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597640" y="889200"/>
                <a:ext cx="420840" cy="83880"/>
              </a:xfrm>
              <a:custGeom>
                <a:avLst/>
                <a:gdLst/>
                <a:ahLst/>
                <a:rect l="l" t="t" r="r" b="b"/>
                <a:pathLst>
                  <a:path w="1849" h="375">
                    <a:moveTo>
                      <a:pt x="301" y="0"/>
                    </a:moveTo>
                    <a:lnTo>
                      <a:pt x="1849" y="153"/>
                    </a:lnTo>
                    <a:lnTo>
                      <a:pt x="1740" y="290"/>
                    </a:lnTo>
                    <a:lnTo>
                      <a:pt x="1634" y="375"/>
                    </a:lnTo>
                    <a:lnTo>
                      <a:pt x="0" y="187"/>
                    </a:lnTo>
                    <a:lnTo>
                      <a:pt x="122" y="134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6" name=""/>
              <p:cNvGrpSpPr/>
              <p:nvPr/>
            </p:nvGrpSpPr>
            <p:grpSpPr>
              <a:xfrm>
                <a:off x="5991480" y="801720"/>
                <a:ext cx="90360" cy="106200"/>
                <a:chOff x="5991480" y="801720"/>
                <a:chExt cx="90360" cy="106200"/>
              </a:xfrm>
            </p:grpSpPr>
            <p:sp>
              <p:nvSpPr>
                <p:cNvPr id="647" name=""/>
                <p:cNvSpPr/>
                <p:nvPr/>
              </p:nvSpPr>
              <p:spPr>
                <a:xfrm flipV="1">
                  <a:off x="5991480" y="829800"/>
                  <a:ext cx="90360" cy="3348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V="1">
                  <a:off x="6007320" y="839520"/>
                  <a:ext cx="74520" cy="2844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6007320" y="849240"/>
                  <a:ext cx="74520" cy="3024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6007320" y="856800"/>
                  <a:ext cx="74520" cy="3204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V="1">
                  <a:off x="6007320" y="866880"/>
                  <a:ext cx="74520" cy="3312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007320" y="820440"/>
                  <a:ext cx="74520" cy="2700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V="1">
                  <a:off x="6007320" y="810720"/>
                  <a:ext cx="74520" cy="2412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V="1">
                  <a:off x="6007320" y="801720"/>
                  <a:ext cx="74520" cy="2232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>
                  <a:off x="6007320" y="816120"/>
                  <a:ext cx="1440" cy="9180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5715000" y="533520"/>
                <a:ext cx="295560" cy="272880"/>
                <a:chOff x="5715000" y="533520"/>
                <a:chExt cx="295560" cy="272880"/>
              </a:xfrm>
            </p:grpSpPr>
            <p:grpSp>
              <p:nvGrpSpPr>
                <p:cNvPr id="657" name=""/>
                <p:cNvGrpSpPr/>
                <p:nvPr/>
              </p:nvGrpSpPr>
              <p:grpSpPr>
                <a:xfrm>
                  <a:off x="5715000" y="533520"/>
                  <a:ext cx="295560" cy="272880"/>
                  <a:chOff x="5715000" y="533520"/>
                  <a:chExt cx="295560" cy="272880"/>
                </a:xfrm>
              </p:grpSpPr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715000" y="533520"/>
                    <a:ext cx="295560" cy="272880"/>
                    <a:chOff x="5715000" y="533520"/>
                    <a:chExt cx="295560" cy="27288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5715000" y="533520"/>
                      <a:ext cx="295560" cy="27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7" h="1209">
                          <a:moveTo>
                            <a:pt x="104" y="20"/>
                          </a:moveTo>
                          <a:lnTo>
                            <a:pt x="216" y="14"/>
                          </a:lnTo>
                          <a:lnTo>
                            <a:pt x="368" y="4"/>
                          </a:lnTo>
                          <a:lnTo>
                            <a:pt x="526" y="0"/>
                          </a:lnTo>
                          <a:lnTo>
                            <a:pt x="712" y="0"/>
                          </a:lnTo>
                          <a:lnTo>
                            <a:pt x="842" y="2"/>
                          </a:lnTo>
                          <a:lnTo>
                            <a:pt x="1042" y="9"/>
                          </a:lnTo>
                          <a:lnTo>
                            <a:pt x="1236" y="19"/>
                          </a:lnTo>
                          <a:lnTo>
                            <a:pt x="1282" y="21"/>
                          </a:lnTo>
                          <a:lnTo>
                            <a:pt x="1292" y="26"/>
                          </a:lnTo>
                          <a:lnTo>
                            <a:pt x="1300" y="31"/>
                          </a:lnTo>
                          <a:lnTo>
                            <a:pt x="1306" y="40"/>
                          </a:lnTo>
                          <a:lnTo>
                            <a:pt x="1307" y="50"/>
                          </a:lnTo>
                          <a:lnTo>
                            <a:pt x="1258" y="1186"/>
                          </a:lnTo>
                          <a:lnTo>
                            <a:pt x="1252" y="1204"/>
                          </a:lnTo>
                          <a:lnTo>
                            <a:pt x="1236" y="1209"/>
                          </a:lnTo>
                          <a:lnTo>
                            <a:pt x="814" y="1180"/>
                          </a:lnTo>
                          <a:lnTo>
                            <a:pt x="400" y="1151"/>
                          </a:lnTo>
                          <a:lnTo>
                            <a:pt x="19" y="1123"/>
                          </a:lnTo>
                          <a:lnTo>
                            <a:pt x="0" y="1094"/>
                          </a:lnTo>
                          <a:lnTo>
                            <a:pt x="58" y="57"/>
                          </a:lnTo>
                          <a:lnTo>
                            <a:pt x="104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5997600" y="538200"/>
                      <a:ext cx="129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433086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4330866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5727960" y="536760"/>
                      <a:ext cx="277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5" y="9373"/>
                          </a:moveTo>
                          <a:arcTo wR="10800" hR="10800" stAng="-10344321" swAng="494432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5" y="9373"/>
                          </a:moveTo>
                          <a:arcTo wR="10800" hR="10800" stAng="-10344321" swAng="4944321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5715000" y="771480"/>
                      <a:ext cx="1260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7833" y="21184"/>
                          </a:moveTo>
                          <a:arcTo wR="10800" hR="10800" stAng="6356723" swAng="444327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7833" y="21184"/>
                          </a:moveTo>
                          <a:arcTo wR="10800" hR="10800" stAng="6356723" swAng="4443277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3" name=""/>
                  <p:cNvGrpSpPr/>
                  <p:nvPr/>
                </p:nvGrpSpPr>
                <p:grpSpPr>
                  <a:xfrm>
                    <a:off x="5745240" y="574560"/>
                    <a:ext cx="225360" cy="187560"/>
                    <a:chOff x="5745240" y="574560"/>
                    <a:chExt cx="225360" cy="187560"/>
                  </a:xfrm>
                </p:grpSpPr>
                <p:grpSp>
                  <p:nvGrpSpPr>
                    <p:cNvPr id="664" name=""/>
                    <p:cNvGrpSpPr/>
                    <p:nvPr/>
                  </p:nvGrpSpPr>
                  <p:grpSpPr>
                    <a:xfrm>
                      <a:off x="5745240" y="574560"/>
                      <a:ext cx="225360" cy="187560"/>
                      <a:chOff x="5745240" y="574560"/>
                      <a:chExt cx="225360" cy="187560"/>
                    </a:xfrm>
                  </p:grpSpPr>
                  <p:sp>
                    <p:nvSpPr>
                      <p:cNvPr id="665" name=""/>
                      <p:cNvSpPr/>
                      <p:nvPr/>
                    </p:nvSpPr>
                    <p:spPr>
                      <a:xfrm>
                        <a:off x="5754960" y="574560"/>
                        <a:ext cx="21564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2" h="17">
                            <a:moveTo>
                              <a:pt x="0" y="0"/>
                            </a:moveTo>
                            <a:lnTo>
                              <a:pt x="952" y="1"/>
                            </a:lnTo>
                            <a:lnTo>
                              <a:pt x="931" y="17"/>
                            </a:lnTo>
                            <a:lnTo>
                              <a:pt x="21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6" name=""/>
                      <p:cNvSpPr/>
                      <p:nvPr/>
                    </p:nvSpPr>
                    <p:spPr>
                      <a:xfrm>
                        <a:off x="5956560" y="574560"/>
                        <a:ext cx="14040" cy="18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" h="822">
                            <a:moveTo>
                              <a:pt x="39" y="16"/>
                            </a:moveTo>
                            <a:lnTo>
                              <a:pt x="61" y="0"/>
                            </a:lnTo>
                            <a:lnTo>
                              <a:pt x="40" y="446"/>
                            </a:lnTo>
                            <a:lnTo>
                              <a:pt x="20" y="822"/>
                            </a:lnTo>
                            <a:lnTo>
                              <a:pt x="0" y="799"/>
                            </a:lnTo>
                            <a:lnTo>
                              <a:pt x="39" y="1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7" name=""/>
                      <p:cNvSpPr/>
                      <p:nvPr/>
                    </p:nvSpPr>
                    <p:spPr>
                      <a:xfrm>
                        <a:off x="5745240" y="746280"/>
                        <a:ext cx="21600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2" h="67">
                            <a:moveTo>
                              <a:pt x="22" y="0"/>
                            </a:moveTo>
                            <a:lnTo>
                              <a:pt x="0" y="21"/>
                            </a:lnTo>
                            <a:lnTo>
                              <a:pt x="952" y="67"/>
                            </a:lnTo>
                            <a:lnTo>
                              <a:pt x="932" y="45"/>
                            </a:lnTo>
                            <a:lnTo>
                              <a:pt x="22" y="0"/>
                            </a:lnTo>
                            <a:close/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8" name=""/>
                      <p:cNvSpPr/>
                      <p:nvPr/>
                    </p:nvSpPr>
                    <p:spPr>
                      <a:xfrm>
                        <a:off x="5745240" y="574560"/>
                        <a:ext cx="14400" cy="17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775">
                            <a:moveTo>
                              <a:pt x="39" y="0"/>
                            </a:moveTo>
                            <a:lnTo>
                              <a:pt x="60" y="16"/>
                            </a:lnTo>
                            <a:lnTo>
                              <a:pt x="22" y="754"/>
                            </a:lnTo>
                            <a:lnTo>
                              <a:pt x="0" y="775"/>
                            </a:lnTo>
                            <a:lnTo>
                              <a:pt x="39" y="0"/>
                            </a:lnTo>
                            <a:close/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69" name=""/>
                    <p:cNvGrpSpPr/>
                    <p:nvPr/>
                  </p:nvGrpSpPr>
                  <p:grpSpPr>
                    <a:xfrm>
                      <a:off x="5749920" y="579600"/>
                      <a:ext cx="216000" cy="177840"/>
                      <a:chOff x="5749920" y="579600"/>
                      <a:chExt cx="216000" cy="177840"/>
                    </a:xfrm>
                  </p:grpSpPr>
                  <p:sp>
                    <p:nvSpPr>
                      <p:cNvPr id="670" name=""/>
                      <p:cNvSpPr/>
                      <p:nvPr/>
                    </p:nvSpPr>
                    <p:spPr>
                      <a:xfrm>
                        <a:off x="5749920" y="579600"/>
                        <a:ext cx="2160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9" h="783">
                            <a:moveTo>
                              <a:pt x="39" y="0"/>
                            </a:moveTo>
                            <a:lnTo>
                              <a:pt x="949" y="0"/>
                            </a:lnTo>
                            <a:lnTo>
                              <a:pt x="911" y="783"/>
                            </a:lnTo>
                            <a:lnTo>
                              <a:pt x="0" y="738"/>
                            </a:lnTo>
                            <a:lnTo>
                              <a:pt x="39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" name=""/>
                      <p:cNvSpPr/>
                      <p:nvPr/>
                    </p:nvSpPr>
                    <p:spPr>
                      <a:xfrm>
                        <a:off x="5757840" y="585720"/>
                        <a:ext cx="200160" cy="16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4" h="723">
                            <a:moveTo>
                              <a:pt x="32" y="1"/>
                            </a:moveTo>
                            <a:lnTo>
                              <a:pt x="884" y="0"/>
                            </a:lnTo>
                            <a:lnTo>
                              <a:pt x="847" y="723"/>
                            </a:lnTo>
                            <a:lnTo>
                              <a:pt x="0" y="686"/>
                            </a:lnTo>
                            <a:lnTo>
                              <a:pt x="32" y="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2" name=""/>
                      <p:cNvSpPr/>
                      <p:nvPr/>
                    </p:nvSpPr>
                    <p:spPr>
                      <a:xfrm>
                        <a:off x="5761080" y="595440"/>
                        <a:ext cx="189000" cy="147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4" h="653">
                            <a:moveTo>
                              <a:pt x="31" y="0"/>
                            </a:moveTo>
                            <a:lnTo>
                              <a:pt x="834" y="0"/>
                            </a:lnTo>
                            <a:lnTo>
                              <a:pt x="801" y="653"/>
                            </a:lnTo>
                            <a:lnTo>
                              <a:pt x="0" y="620"/>
                            </a:lnTo>
                            <a:lnTo>
                              <a:pt x="31" y="0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73" name=""/>
                <p:cNvSpPr/>
                <p:nvPr/>
              </p:nvSpPr>
              <p:spPr>
                <a:xfrm>
                  <a:off x="5951520" y="784080"/>
                  <a:ext cx="12960" cy="50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55" y="1"/>
                      </a:lnTo>
                      <a:lnTo>
                        <a:pt x="55" y="19"/>
                      </a:lnTo>
                      <a:lnTo>
                        <a:pt x="0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5599080" y="893880"/>
                <a:ext cx="419400" cy="95040"/>
                <a:chOff x="5599080" y="893880"/>
                <a:chExt cx="419400" cy="9504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5888160" y="922320"/>
                  <a:ext cx="100080" cy="41400"/>
                </a:xfrm>
                <a:custGeom>
                  <a:avLst/>
                  <a:gdLst/>
                  <a:ahLst/>
                  <a:rect l="l" t="t" r="r" b="b"/>
                  <a:pathLst>
                    <a:path w="444" h="184">
                      <a:moveTo>
                        <a:pt x="171" y="0"/>
                      </a:moveTo>
                      <a:lnTo>
                        <a:pt x="67" y="108"/>
                      </a:lnTo>
                      <a:lnTo>
                        <a:pt x="0" y="153"/>
                      </a:lnTo>
                      <a:lnTo>
                        <a:pt x="291" y="184"/>
                      </a:lnTo>
                      <a:lnTo>
                        <a:pt x="358" y="126"/>
                      </a:lnTo>
                      <a:lnTo>
                        <a:pt x="444" y="25"/>
                      </a:lnTo>
                      <a:lnTo>
                        <a:pt x="17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6" name=""/>
                <p:cNvGrpSpPr/>
                <p:nvPr/>
              </p:nvGrpSpPr>
              <p:grpSpPr>
                <a:xfrm>
                  <a:off x="5599080" y="893880"/>
                  <a:ext cx="419400" cy="95040"/>
                  <a:chOff x="5599080" y="893880"/>
                  <a:chExt cx="419400" cy="9504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>
                    <a:off x="5599080" y="930240"/>
                    <a:ext cx="3700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34" h="253">
                        <a:moveTo>
                          <a:pt x="0" y="0"/>
                        </a:moveTo>
                        <a:lnTo>
                          <a:pt x="0" y="65"/>
                        </a:lnTo>
                        <a:lnTo>
                          <a:pt x="1634" y="253"/>
                        </a:lnTo>
                        <a:lnTo>
                          <a:pt x="1633" y="18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5969160" y="924120"/>
                    <a:ext cx="4932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287">
                        <a:moveTo>
                          <a:pt x="0" y="222"/>
                        </a:moveTo>
                        <a:lnTo>
                          <a:pt x="0" y="287"/>
                        </a:lnTo>
                        <a:lnTo>
                          <a:pt x="94" y="221"/>
                        </a:lnTo>
                        <a:lnTo>
                          <a:pt x="132" y="182"/>
                        </a:lnTo>
                        <a:lnTo>
                          <a:pt x="215" y="81"/>
                        </a:lnTo>
                        <a:lnTo>
                          <a:pt x="215" y="0"/>
                        </a:lnTo>
                        <a:lnTo>
                          <a:pt x="106" y="136"/>
                        </a:lnTo>
                        <a:lnTo>
                          <a:pt x="0" y="222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5599080" y="936720"/>
                    <a:ext cx="370080" cy="41040"/>
                  </a:xfrm>
                  <a:prstGeom prst="line">
                    <a:avLst/>
                  </a:prstGeom>
                  <a:ln w="14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0" name=""/>
                  <p:cNvGrpSpPr/>
                  <p:nvPr/>
                </p:nvGrpSpPr>
                <p:grpSpPr>
                  <a:xfrm>
                    <a:off x="5623200" y="893880"/>
                    <a:ext cx="357120" cy="69480"/>
                    <a:chOff x="5623200" y="893880"/>
                    <a:chExt cx="357120" cy="69480"/>
                  </a:xfrm>
                </p:grpSpPr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5623200" y="897120"/>
                      <a:ext cx="27468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0" h="251">
                          <a:moveTo>
                            <a:pt x="208" y="0"/>
                          </a:moveTo>
                          <a:lnTo>
                            <a:pt x="64" y="110"/>
                          </a:lnTo>
                          <a:lnTo>
                            <a:pt x="0" y="144"/>
                          </a:lnTo>
                          <a:lnTo>
                            <a:pt x="1026" y="251"/>
                          </a:lnTo>
                          <a:lnTo>
                            <a:pt x="1100" y="202"/>
                          </a:lnTo>
                          <a:lnTo>
                            <a:pt x="1210" y="101"/>
                          </a:lnTo>
                          <a:lnTo>
                            <a:pt x="208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82" name=""/>
                    <p:cNvGrpSpPr/>
                    <p:nvPr/>
                  </p:nvGrpSpPr>
                  <p:grpSpPr>
                    <a:xfrm>
                      <a:off x="5629320" y="893880"/>
                      <a:ext cx="351000" cy="69480"/>
                      <a:chOff x="5629320" y="893880"/>
                      <a:chExt cx="351000" cy="69480"/>
                    </a:xfrm>
                  </p:grpSpPr>
                  <p:grpSp>
                    <p:nvGrpSpPr>
                      <p:cNvPr id="683" name=""/>
                      <p:cNvGrpSpPr/>
                      <p:nvPr/>
                    </p:nvGrpSpPr>
                    <p:grpSpPr>
                      <a:xfrm>
                        <a:off x="5635800" y="893880"/>
                        <a:ext cx="255600" cy="58320"/>
                        <a:chOff x="5635800" y="893880"/>
                        <a:chExt cx="255600" cy="58320"/>
                      </a:xfrm>
                    </p:grpSpPr>
                    <p:grpSp>
                      <p:nvGrpSpPr>
                        <p:cNvPr id="684" name=""/>
                        <p:cNvGrpSpPr/>
                        <p:nvPr/>
                      </p:nvGrpSpPr>
                      <p:grpSpPr>
                        <a:xfrm>
                          <a:off x="5635800" y="893880"/>
                          <a:ext cx="52200" cy="38160"/>
                          <a:chOff x="5635800" y="893880"/>
                          <a:chExt cx="52200" cy="38160"/>
                        </a:xfrm>
                      </p:grpSpPr>
                      <p:sp>
                        <p:nvSpPr>
                          <p:cNvPr id="685" name=""/>
                          <p:cNvSpPr/>
                          <p:nvPr/>
                        </p:nvSpPr>
                        <p:spPr>
                          <a:xfrm flipV="1">
                            <a:off x="5635800" y="924120"/>
                            <a:ext cx="17280" cy="792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6" name=""/>
                          <p:cNvSpPr/>
                          <p:nvPr/>
                        </p:nvSpPr>
                        <p:spPr>
                          <a:xfrm flipV="1">
                            <a:off x="5653080" y="893880"/>
                            <a:ext cx="34920" cy="3024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87" name=""/>
                        <p:cNvGrpSpPr/>
                        <p:nvPr/>
                      </p:nvGrpSpPr>
                      <p:grpSpPr>
                        <a:xfrm>
                          <a:off x="5656320" y="895320"/>
                          <a:ext cx="54000" cy="39600"/>
                          <a:chOff x="5656320" y="895320"/>
                          <a:chExt cx="54000" cy="39600"/>
                        </a:xfrm>
                      </p:grpSpPr>
                      <p:sp>
                        <p:nvSpPr>
                          <p:cNvPr id="688" name=""/>
                          <p:cNvSpPr/>
                          <p:nvPr/>
                        </p:nvSpPr>
                        <p:spPr>
                          <a:xfrm flipV="1">
                            <a:off x="5656320" y="925560"/>
                            <a:ext cx="17640" cy="936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9" name=""/>
                          <p:cNvSpPr/>
                          <p:nvPr/>
                        </p:nvSpPr>
                        <p:spPr>
                          <a:xfrm flipV="1">
                            <a:off x="5673960" y="895320"/>
                            <a:ext cx="36360" cy="3024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90" name=""/>
                        <p:cNvGrpSpPr/>
                        <p:nvPr/>
                      </p:nvGrpSpPr>
                      <p:grpSpPr>
                        <a:xfrm>
                          <a:off x="5677200" y="896760"/>
                          <a:ext cx="53640" cy="39600"/>
                          <a:chOff x="5677200" y="896760"/>
                          <a:chExt cx="53640" cy="39600"/>
                        </a:xfrm>
                      </p:grpSpPr>
                      <p:sp>
                        <p:nvSpPr>
                          <p:cNvPr id="691" name=""/>
                          <p:cNvSpPr/>
                          <p:nvPr/>
                        </p:nvSpPr>
                        <p:spPr>
                          <a:xfrm flipV="1">
                            <a:off x="5677200" y="926640"/>
                            <a:ext cx="17280" cy="972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2" name=""/>
                          <p:cNvSpPr/>
                          <p:nvPr/>
                        </p:nvSpPr>
                        <p:spPr>
                          <a:xfrm flipV="1">
                            <a:off x="5694480" y="896760"/>
                            <a:ext cx="36360" cy="2988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93" name=""/>
                        <p:cNvGrpSpPr/>
                        <p:nvPr/>
                      </p:nvGrpSpPr>
                      <p:grpSpPr>
                        <a:xfrm>
                          <a:off x="5697720" y="900000"/>
                          <a:ext cx="52200" cy="38160"/>
                          <a:chOff x="5697720" y="900000"/>
                          <a:chExt cx="52200" cy="38160"/>
                        </a:xfrm>
                      </p:grpSpPr>
                      <p:sp>
                        <p:nvSpPr>
                          <p:cNvPr id="694" name=""/>
                          <p:cNvSpPr/>
                          <p:nvPr/>
                        </p:nvSpPr>
                        <p:spPr>
                          <a:xfrm flipV="1">
                            <a:off x="5697720" y="930240"/>
                            <a:ext cx="17280" cy="792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5" name=""/>
                          <p:cNvSpPr/>
                          <p:nvPr/>
                        </p:nvSpPr>
                        <p:spPr>
                          <a:xfrm flipV="1">
                            <a:off x="5715000" y="900000"/>
                            <a:ext cx="34920" cy="3024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96" name=""/>
                        <p:cNvGrpSpPr/>
                        <p:nvPr/>
                      </p:nvGrpSpPr>
                      <p:grpSpPr>
                        <a:xfrm>
                          <a:off x="5718240" y="901440"/>
                          <a:ext cx="54000" cy="38160"/>
                          <a:chOff x="5718240" y="901440"/>
                          <a:chExt cx="54000" cy="38160"/>
                        </a:xfrm>
                      </p:grpSpPr>
                      <p:sp>
                        <p:nvSpPr>
                          <p:cNvPr id="697" name=""/>
                          <p:cNvSpPr/>
                          <p:nvPr/>
                        </p:nvSpPr>
                        <p:spPr>
                          <a:xfrm flipV="1">
                            <a:off x="5718240" y="929880"/>
                            <a:ext cx="17640" cy="972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8" name=""/>
                          <p:cNvSpPr/>
                          <p:nvPr/>
                        </p:nvSpPr>
                        <p:spPr>
                          <a:xfrm flipV="1">
                            <a:off x="5735880" y="901440"/>
                            <a:ext cx="36360" cy="2844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360" bIns="-18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99" name=""/>
                        <p:cNvGrpSpPr/>
                        <p:nvPr/>
                      </p:nvGrpSpPr>
                      <p:grpSpPr>
                        <a:xfrm>
                          <a:off x="5739120" y="903240"/>
                          <a:ext cx="53640" cy="38160"/>
                          <a:chOff x="5739120" y="903240"/>
                          <a:chExt cx="53640" cy="38160"/>
                        </a:xfrm>
                      </p:grpSpPr>
                      <p:sp>
                        <p:nvSpPr>
                          <p:cNvPr id="700" name=""/>
                          <p:cNvSpPr/>
                          <p:nvPr/>
                        </p:nvSpPr>
                        <p:spPr>
                          <a:xfrm flipV="1">
                            <a:off x="5739120" y="932040"/>
                            <a:ext cx="17280" cy="936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1" name=""/>
                          <p:cNvSpPr/>
                          <p:nvPr/>
                        </p:nvSpPr>
                        <p:spPr>
                          <a:xfrm flipV="1">
                            <a:off x="5756400" y="903240"/>
                            <a:ext cx="36360" cy="2880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0" bIns="-18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02" name=""/>
                        <p:cNvGrpSpPr/>
                        <p:nvPr/>
                      </p:nvGrpSpPr>
                      <p:grpSpPr>
                        <a:xfrm>
                          <a:off x="5759640" y="904680"/>
                          <a:ext cx="52200" cy="38160"/>
                          <a:chOff x="5759640" y="904680"/>
                          <a:chExt cx="52200" cy="38160"/>
                        </a:xfrm>
                      </p:grpSpPr>
                      <p:sp>
                        <p:nvSpPr>
                          <p:cNvPr id="703" name=""/>
                          <p:cNvSpPr/>
                          <p:nvPr/>
                        </p:nvSpPr>
                        <p:spPr>
                          <a:xfrm flipV="1">
                            <a:off x="5759640" y="934920"/>
                            <a:ext cx="17280" cy="792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4" name=""/>
                          <p:cNvSpPr/>
                          <p:nvPr/>
                        </p:nvSpPr>
                        <p:spPr>
                          <a:xfrm flipV="1">
                            <a:off x="5776920" y="904680"/>
                            <a:ext cx="34920" cy="2988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05" name=""/>
                        <p:cNvGrpSpPr/>
                        <p:nvPr/>
                      </p:nvGrpSpPr>
                      <p:grpSpPr>
                        <a:xfrm>
                          <a:off x="5776920" y="907920"/>
                          <a:ext cx="54000" cy="38160"/>
                          <a:chOff x="5776920" y="907920"/>
                          <a:chExt cx="54000" cy="38160"/>
                        </a:xfrm>
                      </p:grpSpPr>
                      <p:sp>
                        <p:nvSpPr>
                          <p:cNvPr id="706" name=""/>
                          <p:cNvSpPr/>
                          <p:nvPr/>
                        </p:nvSpPr>
                        <p:spPr>
                          <a:xfrm flipV="1">
                            <a:off x="5776920" y="936720"/>
                            <a:ext cx="17640" cy="936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7" name=""/>
                          <p:cNvSpPr/>
                          <p:nvPr/>
                        </p:nvSpPr>
                        <p:spPr>
                          <a:xfrm flipV="1">
                            <a:off x="5794560" y="907920"/>
                            <a:ext cx="36360" cy="2880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0" bIns="-18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08" name=""/>
                        <p:cNvGrpSpPr/>
                        <p:nvPr/>
                      </p:nvGrpSpPr>
                      <p:grpSpPr>
                        <a:xfrm>
                          <a:off x="5797800" y="909720"/>
                          <a:ext cx="54000" cy="39600"/>
                          <a:chOff x="5797800" y="909720"/>
                          <a:chExt cx="54000" cy="39600"/>
                        </a:xfrm>
                      </p:grpSpPr>
                      <p:sp>
                        <p:nvSpPr>
                          <p:cNvPr id="709" name=""/>
                          <p:cNvSpPr/>
                          <p:nvPr/>
                        </p:nvSpPr>
                        <p:spPr>
                          <a:xfrm flipV="1">
                            <a:off x="5797800" y="939960"/>
                            <a:ext cx="17280" cy="936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0" name=""/>
                          <p:cNvSpPr/>
                          <p:nvPr/>
                        </p:nvSpPr>
                        <p:spPr>
                          <a:xfrm flipV="1">
                            <a:off x="5815080" y="909720"/>
                            <a:ext cx="36720" cy="3024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11" name=""/>
                        <p:cNvGrpSpPr/>
                        <p:nvPr/>
                      </p:nvGrpSpPr>
                      <p:grpSpPr>
                        <a:xfrm>
                          <a:off x="5818320" y="911160"/>
                          <a:ext cx="54000" cy="39600"/>
                          <a:chOff x="5818320" y="911160"/>
                          <a:chExt cx="54000" cy="39600"/>
                        </a:xfrm>
                      </p:grpSpPr>
                      <p:sp>
                        <p:nvSpPr>
                          <p:cNvPr id="712" name=""/>
                          <p:cNvSpPr/>
                          <p:nvPr/>
                        </p:nvSpPr>
                        <p:spPr>
                          <a:xfrm flipV="1">
                            <a:off x="5818320" y="941040"/>
                            <a:ext cx="17640" cy="972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3" name=""/>
                          <p:cNvSpPr/>
                          <p:nvPr/>
                        </p:nvSpPr>
                        <p:spPr>
                          <a:xfrm flipV="1">
                            <a:off x="5835960" y="911160"/>
                            <a:ext cx="36360" cy="3024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14" name=""/>
                        <p:cNvGrpSpPr/>
                        <p:nvPr/>
                      </p:nvGrpSpPr>
                      <p:grpSpPr>
                        <a:xfrm>
                          <a:off x="5837400" y="912600"/>
                          <a:ext cx="54000" cy="39600"/>
                          <a:chOff x="5837400" y="912600"/>
                          <a:chExt cx="54000" cy="39600"/>
                        </a:xfrm>
                      </p:grpSpPr>
                      <p:sp>
                        <p:nvSpPr>
                          <p:cNvPr id="715" name=""/>
                          <p:cNvSpPr/>
                          <p:nvPr/>
                        </p:nvSpPr>
                        <p:spPr>
                          <a:xfrm flipV="1">
                            <a:off x="5837400" y="942480"/>
                            <a:ext cx="17280" cy="972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6" name=""/>
                          <p:cNvSpPr/>
                          <p:nvPr/>
                        </p:nvSpPr>
                        <p:spPr>
                          <a:xfrm flipV="1">
                            <a:off x="5854680" y="912600"/>
                            <a:ext cx="36720" cy="2988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17" name=""/>
                      <p:cNvGrpSpPr/>
                      <p:nvPr/>
                    </p:nvGrpSpPr>
                    <p:grpSpPr>
                      <a:xfrm>
                        <a:off x="5899320" y="918720"/>
                        <a:ext cx="77760" cy="44640"/>
                        <a:chOff x="5899320" y="918720"/>
                        <a:chExt cx="77760" cy="44640"/>
                      </a:xfrm>
                    </p:grpSpPr>
                    <p:grpSp>
                      <p:nvGrpSpPr>
                        <p:cNvPr id="718" name=""/>
                        <p:cNvGrpSpPr/>
                        <p:nvPr/>
                      </p:nvGrpSpPr>
                      <p:grpSpPr>
                        <a:xfrm>
                          <a:off x="5932800" y="922320"/>
                          <a:ext cx="44280" cy="41040"/>
                          <a:chOff x="5932800" y="922320"/>
                          <a:chExt cx="44280" cy="41040"/>
                        </a:xfrm>
                      </p:grpSpPr>
                      <p:sp>
                        <p:nvSpPr>
                          <p:cNvPr id="719" name=""/>
                          <p:cNvSpPr/>
                          <p:nvPr/>
                        </p:nvSpPr>
                        <p:spPr>
                          <a:xfrm flipV="1">
                            <a:off x="5932800" y="952200"/>
                            <a:ext cx="14040" cy="1116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0" name=""/>
                          <p:cNvSpPr/>
                          <p:nvPr/>
                        </p:nvSpPr>
                        <p:spPr>
                          <a:xfrm flipV="1">
                            <a:off x="5946840" y="922320"/>
                            <a:ext cx="30240" cy="3024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21" name=""/>
                        <p:cNvGrpSpPr/>
                        <p:nvPr/>
                      </p:nvGrpSpPr>
                      <p:grpSpPr>
                        <a:xfrm>
                          <a:off x="5915160" y="918720"/>
                          <a:ext cx="46080" cy="44640"/>
                          <a:chOff x="5915160" y="918720"/>
                          <a:chExt cx="46080" cy="44640"/>
                        </a:xfrm>
                      </p:grpSpPr>
                      <p:sp>
                        <p:nvSpPr>
                          <p:cNvPr id="722" name=""/>
                          <p:cNvSpPr/>
                          <p:nvPr/>
                        </p:nvSpPr>
                        <p:spPr>
                          <a:xfrm flipV="1">
                            <a:off x="5915160" y="952200"/>
                            <a:ext cx="15840" cy="1116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3" name=""/>
                          <p:cNvSpPr/>
                          <p:nvPr/>
                        </p:nvSpPr>
                        <p:spPr>
                          <a:xfrm flipV="1">
                            <a:off x="5931000" y="918720"/>
                            <a:ext cx="30240" cy="3348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24" name=""/>
                        <p:cNvGrpSpPr/>
                        <p:nvPr/>
                      </p:nvGrpSpPr>
                      <p:grpSpPr>
                        <a:xfrm>
                          <a:off x="5899320" y="919080"/>
                          <a:ext cx="44280" cy="41040"/>
                          <a:chOff x="5899320" y="919080"/>
                          <a:chExt cx="44280" cy="41040"/>
                        </a:xfrm>
                      </p:grpSpPr>
                      <p:sp>
                        <p:nvSpPr>
                          <p:cNvPr id="725" name=""/>
                          <p:cNvSpPr/>
                          <p:nvPr/>
                        </p:nvSpPr>
                        <p:spPr>
                          <a:xfrm flipV="1">
                            <a:off x="5899320" y="948960"/>
                            <a:ext cx="15840" cy="1116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6" name=""/>
                          <p:cNvSpPr/>
                          <p:nvPr/>
                        </p:nvSpPr>
                        <p:spPr>
                          <a:xfrm flipV="1">
                            <a:off x="5915160" y="919080"/>
                            <a:ext cx="28440" cy="3024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727" name=""/>
                      <p:cNvSpPr/>
                      <p:nvPr/>
                    </p:nvSpPr>
                    <p:spPr>
                      <a:xfrm>
                        <a:off x="5654880" y="905040"/>
                        <a:ext cx="325440" cy="31680"/>
                      </a:xfrm>
                      <a:prstGeom prst="line">
                        <a:avLst/>
                      </a:prstGeom>
                      <a:ln w="14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8" name=""/>
                      <p:cNvSpPr/>
                      <p:nvPr/>
                    </p:nvSpPr>
                    <p:spPr>
                      <a:xfrm>
                        <a:off x="5642280" y="914400"/>
                        <a:ext cx="331560" cy="31680"/>
                      </a:xfrm>
                      <a:prstGeom prst="line">
                        <a:avLst/>
                      </a:prstGeom>
                      <a:ln w="14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9" name=""/>
                      <p:cNvSpPr/>
                      <p:nvPr/>
                    </p:nvSpPr>
                    <p:spPr>
                      <a:xfrm>
                        <a:off x="5629320" y="922320"/>
                        <a:ext cx="336600" cy="34920"/>
                      </a:xfrm>
                      <a:prstGeom prst="line">
                        <a:avLst/>
                      </a:prstGeom>
                      <a:ln w="32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30" name=""/>
                  <p:cNvGrpSpPr/>
                  <p:nvPr/>
                </p:nvGrpSpPr>
                <p:grpSpPr>
                  <a:xfrm>
                    <a:off x="5969160" y="928440"/>
                    <a:ext cx="47520" cy="48960"/>
                    <a:chOff x="5969160" y="928440"/>
                    <a:chExt cx="47520" cy="48960"/>
                  </a:xfrm>
                </p:grpSpPr>
                <p:sp>
                  <p:nvSpPr>
                    <p:cNvPr id="731" name=""/>
                    <p:cNvSpPr/>
                    <p:nvPr/>
                  </p:nvSpPr>
                  <p:spPr>
                    <a:xfrm flipV="1">
                      <a:off x="5969160" y="956880"/>
                      <a:ext cx="25200" cy="20520"/>
                    </a:xfrm>
                    <a:prstGeom prst="line">
                      <a:avLst/>
                    </a:prstGeom>
                    <a:ln w="144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 flipV="1">
                      <a:off x="5994360" y="928440"/>
                      <a:ext cx="22320" cy="28440"/>
                    </a:xfrm>
                    <a:prstGeom prst="line">
                      <a:avLst/>
                    </a:prstGeom>
                    <a:ln w="144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pic>
          <p:nvPicPr>
            <p:cNvPr id="733" name="COMP1" descr=""/>
            <p:cNvPicPr/>
            <p:nvPr/>
          </p:nvPicPr>
          <p:blipFill>
            <a:blip r:embed="rId9"/>
            <a:stretch/>
          </p:blipFill>
          <p:spPr>
            <a:xfrm>
              <a:off x="6400800" y="533520"/>
              <a:ext cx="60948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COMP1" descr=""/>
            <p:cNvPicPr/>
            <p:nvPr/>
          </p:nvPicPr>
          <p:blipFill>
            <a:blip r:embed="rId10"/>
            <a:stretch/>
          </p:blipFill>
          <p:spPr>
            <a:xfrm>
              <a:off x="7162920" y="533520"/>
              <a:ext cx="609480" cy="46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5" name=""/>
            <p:cNvGrpSpPr/>
            <p:nvPr/>
          </p:nvGrpSpPr>
          <p:grpSpPr>
            <a:xfrm>
              <a:off x="5029200" y="838080"/>
              <a:ext cx="457200" cy="380880"/>
              <a:chOff x="5029200" y="838080"/>
              <a:chExt cx="457200" cy="380880"/>
            </a:xfrm>
          </p:grpSpPr>
          <p:pic>
            <p:nvPicPr>
              <p:cNvPr id="73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029200" y="1066680"/>
                <a:ext cx="45720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7" name=""/>
              <p:cNvSpPr/>
              <p:nvPr/>
            </p:nvSpPr>
            <p:spPr>
              <a:xfrm>
                <a:off x="5091840" y="838080"/>
                <a:ext cx="36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</a:rPr>
                  <a:t>集線器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5486400" y="11430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867280" y="990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705720" y="990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467480" y="990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172200" y="228600"/>
              <a:ext cx="11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辦公室區域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6248520" y="12952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辦公室區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381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340840" y="1371600"/>
            <a:ext cx="423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</a:rPr>
              <a:t>用地系統主機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3144960" y="685800"/>
            <a:ext cx="485640" cy="1055520"/>
            <a:chOff x="3144960" y="685800"/>
            <a:chExt cx="485640" cy="1055520"/>
          </a:xfrm>
        </p:grpSpPr>
        <p:pic>
          <p:nvPicPr>
            <p:cNvPr id="747" name="" descr=""/>
            <p:cNvPicPr/>
            <p:nvPr/>
          </p:nvPicPr>
          <p:blipFill>
            <a:blip r:embed="rId12"/>
            <a:stretch/>
          </p:blipFill>
          <p:spPr>
            <a:xfrm>
              <a:off x="3200400" y="685800"/>
              <a:ext cx="3780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3144960" y="1525680"/>
              <a:ext cx="48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網路伺服器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438280" y="685800"/>
            <a:ext cx="426240" cy="1053720"/>
            <a:chOff x="2438280" y="685800"/>
            <a:chExt cx="426240" cy="1053720"/>
          </a:xfrm>
        </p:grpSpPr>
        <p:pic>
          <p:nvPicPr>
            <p:cNvPr id="750" name="" descr=""/>
            <p:cNvPicPr/>
            <p:nvPr/>
          </p:nvPicPr>
          <p:blipFill>
            <a:blip r:embed="rId13"/>
            <a:stretch/>
          </p:blipFill>
          <p:spPr>
            <a:xfrm>
              <a:off x="2438280" y="685800"/>
              <a:ext cx="3780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2500920" y="1523880"/>
              <a:ext cx="36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防火牆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1143000" y="1676520"/>
            <a:ext cx="1041480" cy="832680"/>
            <a:chOff x="1143000" y="1676520"/>
            <a:chExt cx="1041480" cy="832680"/>
          </a:xfrm>
        </p:grpSpPr>
        <p:pic>
          <p:nvPicPr>
            <p:cNvPr id="753" name="" descr=""/>
            <p:cNvPicPr/>
            <p:nvPr/>
          </p:nvPicPr>
          <p:blipFill>
            <a:blip r:embed="rId14"/>
            <a:stretch/>
          </p:blipFill>
          <p:spPr>
            <a:xfrm>
              <a:off x="1143000" y="1676520"/>
              <a:ext cx="1041480" cy="6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1252800" y="2293560"/>
              <a:ext cx="637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數據所</a:t>
              </a: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Hi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 flipH="1" flipV="1">
            <a:off x="3581280" y="11426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2819520" y="106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2057400" y="106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296720" y="4572000"/>
            <a:ext cx="28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</a:rPr>
              <a:t>一般民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28800" y="1295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2880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066680" y="2590920"/>
            <a:ext cx="1067040" cy="10666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5"/>
          <a:stretch/>
        </p:blipFill>
        <p:spPr>
          <a:xfrm>
            <a:off x="5638680" y="2743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4419720" y="1981080"/>
            <a:ext cx="12189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248520" y="3124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689440" y="3352680"/>
            <a:ext cx="59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zh-TW" sz="800" spc="-1" strike="noStrike">
                <a:solidFill>
                  <a:srgbClr val="000000"/>
                </a:solidFill>
                <a:latin typeface="Times New Roman"/>
              </a:rPr>
              <a:t>工作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7238880" y="2514600"/>
            <a:ext cx="1600200" cy="1981080"/>
            <a:chOff x="7238880" y="2514600"/>
            <a:chExt cx="1600200" cy="1981080"/>
          </a:xfrm>
        </p:grpSpPr>
        <p:sp>
          <p:nvSpPr>
            <p:cNvPr id="767" name=""/>
            <p:cNvSpPr/>
            <p:nvPr/>
          </p:nvSpPr>
          <p:spPr>
            <a:xfrm>
              <a:off x="7238880" y="2514600"/>
              <a:ext cx="1600200" cy="19810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7787880" y="2592360"/>
              <a:ext cx="533160" cy="447840"/>
              <a:chOff x="7787880" y="2592360"/>
              <a:chExt cx="533160" cy="447840"/>
            </a:xfrm>
          </p:grpSpPr>
          <p:pic>
            <p:nvPicPr>
              <p:cNvPr id="76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87880" y="2811600"/>
                <a:ext cx="533160" cy="22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0" name=""/>
              <p:cNvSpPr/>
              <p:nvPr/>
            </p:nvSpPr>
            <p:spPr>
              <a:xfrm>
                <a:off x="7834680" y="2592360"/>
                <a:ext cx="36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</a:rPr>
                  <a:t>數據機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71" name="" descr=""/>
            <p:cNvPicPr/>
            <p:nvPr/>
          </p:nvPicPr>
          <p:blipFill>
            <a:blip r:embed="rId17"/>
            <a:stretch/>
          </p:blipFill>
          <p:spPr>
            <a:xfrm>
              <a:off x="7696080" y="327672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/>
            <p:cNvSpPr/>
            <p:nvPr/>
          </p:nvSpPr>
          <p:spPr>
            <a:xfrm>
              <a:off x="792468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789320" y="388620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交通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4267080" y="2057400"/>
            <a:ext cx="60984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4751280" y="4800600"/>
            <a:ext cx="485640" cy="1100880"/>
            <a:chOff x="4751280" y="4800600"/>
            <a:chExt cx="485640" cy="1100880"/>
          </a:xfrm>
        </p:grpSpPr>
        <p:pic>
          <p:nvPicPr>
            <p:cNvPr id="776" name="" descr=""/>
            <p:cNvPicPr/>
            <p:nvPr/>
          </p:nvPicPr>
          <p:blipFill>
            <a:blip r:embed="rId18"/>
            <a:stretch/>
          </p:blipFill>
          <p:spPr>
            <a:xfrm>
              <a:off x="4800240" y="4800600"/>
              <a:ext cx="37764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4751280" y="556416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郵件伺服器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8" name="" descr=""/>
          <p:cNvPicPr/>
          <p:nvPr/>
        </p:nvPicPr>
        <p:blipFill>
          <a:blip r:embed="rId19"/>
          <a:stretch/>
        </p:blipFill>
        <p:spPr>
          <a:xfrm>
            <a:off x="5715000" y="4800600"/>
            <a:ext cx="378000" cy="762120"/>
          </a:xfrm>
          <a:prstGeom prst="rect">
            <a:avLst/>
          </a:prstGeom>
          <a:ln w="0">
            <a:noFill/>
          </a:ln>
        </p:spPr>
      </p:pic>
      <p:grpSp>
        <p:nvGrpSpPr>
          <p:cNvPr id="779" name=""/>
          <p:cNvGrpSpPr/>
          <p:nvPr/>
        </p:nvGrpSpPr>
        <p:grpSpPr>
          <a:xfrm>
            <a:off x="5257800" y="4800600"/>
            <a:ext cx="399240" cy="1100880"/>
            <a:chOff x="5257800" y="4800600"/>
            <a:chExt cx="399240" cy="1100880"/>
          </a:xfrm>
        </p:grpSpPr>
        <p:pic>
          <p:nvPicPr>
            <p:cNvPr id="780" name="" descr=""/>
            <p:cNvPicPr/>
            <p:nvPr/>
          </p:nvPicPr>
          <p:blipFill>
            <a:blip r:embed="rId20"/>
            <a:stretch/>
          </p:blipFill>
          <p:spPr>
            <a:xfrm>
              <a:off x="5257800" y="4800600"/>
              <a:ext cx="37764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"/>
            <p:cNvSpPr/>
            <p:nvPr/>
          </p:nvSpPr>
          <p:spPr>
            <a:xfrm>
              <a:off x="5293440" y="5564160"/>
              <a:ext cx="36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伺服器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2" name=""/>
          <p:cNvSpPr/>
          <p:nvPr/>
        </p:nvSpPr>
        <p:spPr>
          <a:xfrm>
            <a:off x="5806080" y="556416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</a:rPr>
              <a:t>伺服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267080" y="1981080"/>
            <a:ext cx="9907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343400" y="1981080"/>
            <a:ext cx="12952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110200" y="4691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637600" y="3733920"/>
            <a:ext cx="761400" cy="1023120"/>
            <a:chOff x="5637600" y="3733920"/>
            <a:chExt cx="761400" cy="1023120"/>
          </a:xfrm>
        </p:grpSpPr>
        <p:pic>
          <p:nvPicPr>
            <p:cNvPr id="787" name="" descr=""/>
            <p:cNvPicPr/>
            <p:nvPr/>
          </p:nvPicPr>
          <p:blipFill>
            <a:blip r:embed="rId21"/>
            <a:stretch/>
          </p:blipFill>
          <p:spPr>
            <a:xfrm>
              <a:off x="5638680" y="3733920"/>
              <a:ext cx="6098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5637600" y="441972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IBM RS/6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列車模擬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4343400" y="2057400"/>
            <a:ext cx="12952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93240" y="5943600"/>
            <a:ext cx="36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2-3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交通部高速鐵路工程局業務電子化未來發展示意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9343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3368520" y="1982880"/>
            <a:ext cx="533520" cy="447120"/>
            <a:chOff x="3368520" y="1982880"/>
            <a:chExt cx="533520" cy="447120"/>
          </a:xfrm>
        </p:grpSpPr>
        <p:pic>
          <p:nvPicPr>
            <p:cNvPr id="793" name="" descr=""/>
            <p:cNvPicPr/>
            <p:nvPr/>
          </p:nvPicPr>
          <p:blipFill>
            <a:blip r:embed="rId22"/>
            <a:stretch/>
          </p:blipFill>
          <p:spPr>
            <a:xfrm>
              <a:off x="3368520" y="2201760"/>
              <a:ext cx="533520" cy="22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3415320" y="1982880"/>
              <a:ext cx="36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數據機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2606400" y="3201840"/>
            <a:ext cx="533160" cy="447840"/>
            <a:chOff x="2606400" y="3201840"/>
            <a:chExt cx="533160" cy="447840"/>
          </a:xfrm>
        </p:grpSpPr>
        <p:pic>
          <p:nvPicPr>
            <p:cNvPr id="796" name="" descr=""/>
            <p:cNvPicPr/>
            <p:nvPr/>
          </p:nvPicPr>
          <p:blipFill>
            <a:blip r:embed="rId23"/>
            <a:stretch/>
          </p:blipFill>
          <p:spPr>
            <a:xfrm>
              <a:off x="2606400" y="3421080"/>
              <a:ext cx="53316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2653200" y="3201840"/>
              <a:ext cx="36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數據機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438280" y="3886200"/>
            <a:ext cx="596880" cy="466560"/>
            <a:chOff x="2438280" y="3886200"/>
            <a:chExt cx="596880" cy="466560"/>
          </a:xfrm>
        </p:grpSpPr>
        <p:sp>
          <p:nvSpPr>
            <p:cNvPr id="799" name=""/>
            <p:cNvSpPr/>
            <p:nvPr/>
          </p:nvSpPr>
          <p:spPr>
            <a:xfrm>
              <a:off x="2438280" y="4241880"/>
              <a:ext cx="57240" cy="34920"/>
            </a:xfrm>
            <a:custGeom>
              <a:avLst/>
              <a:gdLst/>
              <a:ahLst/>
              <a:rect l="l" t="t" r="r" b="b"/>
              <a:pathLst>
                <a:path w="257" h="153">
                  <a:moveTo>
                    <a:pt x="252" y="0"/>
                  </a:moveTo>
                  <a:lnTo>
                    <a:pt x="193" y="0"/>
                  </a:lnTo>
                  <a:lnTo>
                    <a:pt x="160" y="4"/>
                  </a:lnTo>
                  <a:lnTo>
                    <a:pt x="128" y="9"/>
                  </a:lnTo>
                  <a:lnTo>
                    <a:pt x="89" y="16"/>
                  </a:lnTo>
                  <a:lnTo>
                    <a:pt x="59" y="24"/>
                  </a:lnTo>
                  <a:lnTo>
                    <a:pt x="38" y="31"/>
                  </a:lnTo>
                  <a:lnTo>
                    <a:pt x="24" y="40"/>
                  </a:lnTo>
                  <a:lnTo>
                    <a:pt x="13" y="48"/>
                  </a:lnTo>
                  <a:lnTo>
                    <a:pt x="5" y="58"/>
                  </a:lnTo>
                  <a:lnTo>
                    <a:pt x="0" y="69"/>
                  </a:lnTo>
                  <a:lnTo>
                    <a:pt x="1" y="81"/>
                  </a:lnTo>
                  <a:lnTo>
                    <a:pt x="8" y="92"/>
                  </a:lnTo>
                  <a:lnTo>
                    <a:pt x="17" y="98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79" y="99"/>
                  </a:lnTo>
                  <a:lnTo>
                    <a:pt x="108" y="96"/>
                  </a:lnTo>
                  <a:lnTo>
                    <a:pt x="135" y="98"/>
                  </a:lnTo>
                  <a:lnTo>
                    <a:pt x="155" y="101"/>
                  </a:lnTo>
                  <a:lnTo>
                    <a:pt x="175" y="106"/>
                  </a:lnTo>
                  <a:lnTo>
                    <a:pt x="197" y="115"/>
                  </a:lnTo>
                  <a:lnTo>
                    <a:pt x="257" y="153"/>
                  </a:lnTo>
                  <a:lnTo>
                    <a:pt x="254" y="153"/>
                  </a:lnTo>
                  <a:lnTo>
                    <a:pt x="255" y="150"/>
                  </a:lnTo>
                </a:path>
              </a:pathLst>
            </a:custGeom>
            <a:noFill/>
            <a:ln w="79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2487600" y="4145040"/>
              <a:ext cx="469800" cy="160200"/>
              <a:chOff x="2487600" y="4145040"/>
              <a:chExt cx="469800" cy="160200"/>
            </a:xfrm>
          </p:grpSpPr>
          <p:sp>
            <p:nvSpPr>
              <p:cNvPr id="801" name=""/>
              <p:cNvSpPr/>
              <p:nvPr/>
            </p:nvSpPr>
            <p:spPr>
              <a:xfrm>
                <a:off x="2490840" y="4225680"/>
                <a:ext cx="466560" cy="79560"/>
              </a:xfrm>
              <a:custGeom>
                <a:avLst/>
                <a:gdLst/>
                <a:ahLst/>
                <a:rect l="l" t="t" r="r" b="b"/>
                <a:pathLst>
                  <a:path w="2056" h="354">
                    <a:moveTo>
                      <a:pt x="0" y="22"/>
                    </a:moveTo>
                    <a:lnTo>
                      <a:pt x="0" y="178"/>
                    </a:lnTo>
                    <a:lnTo>
                      <a:pt x="1669" y="354"/>
                    </a:lnTo>
                    <a:lnTo>
                      <a:pt x="2056" y="138"/>
                    </a:lnTo>
                    <a:lnTo>
                      <a:pt x="2056" y="0"/>
                    </a:lnTo>
                    <a:lnTo>
                      <a:pt x="1655" y="187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487600" y="4145040"/>
                <a:ext cx="379440" cy="123480"/>
              </a:xfrm>
              <a:custGeom>
                <a:avLst/>
                <a:gdLst/>
                <a:ahLst/>
                <a:rect l="l" t="t" r="r" b="b"/>
                <a:pathLst>
                  <a:path w="1676" h="546">
                    <a:moveTo>
                      <a:pt x="0" y="0"/>
                    </a:moveTo>
                    <a:lnTo>
                      <a:pt x="1676" y="120"/>
                    </a:lnTo>
                    <a:lnTo>
                      <a:pt x="1676" y="546"/>
                    </a:lnTo>
                    <a:lnTo>
                      <a:pt x="0" y="3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3" name=""/>
              <p:cNvGrpSpPr/>
              <p:nvPr/>
            </p:nvGrpSpPr>
            <p:grpSpPr>
              <a:xfrm>
                <a:off x="2489040" y="4167000"/>
                <a:ext cx="379440" cy="49320"/>
                <a:chOff x="2489040" y="4167000"/>
                <a:chExt cx="379440" cy="4932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2489040" y="4167000"/>
                  <a:ext cx="378000" cy="28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2766960" y="4189320"/>
                  <a:ext cx="79200" cy="7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2673360" y="4182840"/>
                  <a:ext cx="79200" cy="6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2489040" y="4182840"/>
                  <a:ext cx="379440" cy="334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8" name=""/>
            <p:cNvGrpSpPr/>
            <p:nvPr/>
          </p:nvGrpSpPr>
          <p:grpSpPr>
            <a:xfrm>
              <a:off x="2487600" y="4127400"/>
              <a:ext cx="469800" cy="44280"/>
              <a:chOff x="2487600" y="4127400"/>
              <a:chExt cx="469800" cy="44280"/>
            </a:xfrm>
          </p:grpSpPr>
          <p:sp>
            <p:nvSpPr>
              <p:cNvPr id="809" name=""/>
              <p:cNvSpPr/>
              <p:nvPr/>
            </p:nvSpPr>
            <p:spPr>
              <a:xfrm>
                <a:off x="2487600" y="4127400"/>
                <a:ext cx="469800" cy="44280"/>
              </a:xfrm>
              <a:custGeom>
                <a:avLst/>
                <a:gdLst/>
                <a:ahLst/>
                <a:rect l="l" t="t" r="r" b="b"/>
                <a:pathLst>
                  <a:path w="2075" h="195">
                    <a:moveTo>
                      <a:pt x="0" y="75"/>
                    </a:moveTo>
                    <a:lnTo>
                      <a:pt x="1675" y="195"/>
                    </a:lnTo>
                    <a:lnTo>
                      <a:pt x="2075" y="81"/>
                    </a:lnTo>
                    <a:lnTo>
                      <a:pt x="1934" y="65"/>
                    </a:lnTo>
                    <a:lnTo>
                      <a:pt x="639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93800" y="4136760"/>
                <a:ext cx="346320" cy="28800"/>
              </a:xfrm>
              <a:custGeom>
                <a:avLst/>
                <a:gdLst/>
                <a:ahLst/>
                <a:rect l="l" t="t" r="r" b="b"/>
                <a:pathLst>
                  <a:path w="1525" h="124">
                    <a:moveTo>
                      <a:pt x="124" y="0"/>
                    </a:moveTo>
                    <a:lnTo>
                      <a:pt x="0" y="46"/>
                    </a:lnTo>
                    <a:lnTo>
                      <a:pt x="1231" y="124"/>
                    </a:lnTo>
                    <a:lnTo>
                      <a:pt x="1432" y="69"/>
                    </a:lnTo>
                    <a:lnTo>
                      <a:pt x="1415" y="61"/>
                    </a:lnTo>
                    <a:lnTo>
                      <a:pt x="1525" y="31"/>
                    </a:lnTo>
                    <a:lnTo>
                      <a:pt x="1457" y="24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2871720" y="3890880"/>
              <a:ext cx="85680" cy="268200"/>
              <a:chOff x="2871720" y="3890880"/>
              <a:chExt cx="85680" cy="268200"/>
            </a:xfrm>
          </p:grpSpPr>
          <p:grpSp>
            <p:nvGrpSpPr>
              <p:cNvPr id="812" name=""/>
              <p:cNvGrpSpPr/>
              <p:nvPr/>
            </p:nvGrpSpPr>
            <p:grpSpPr>
              <a:xfrm>
                <a:off x="2905200" y="3924360"/>
                <a:ext cx="52200" cy="225360"/>
                <a:chOff x="2905200" y="3924360"/>
                <a:chExt cx="52200" cy="22536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2905200" y="3924360"/>
                  <a:ext cx="52200" cy="225360"/>
                </a:xfrm>
                <a:custGeom>
                  <a:avLst/>
                  <a:gdLst/>
                  <a:ahLst/>
                  <a:rect l="l" t="t" r="r" b="b"/>
                  <a:pathLst>
                    <a:path w="231" h="992">
                      <a:moveTo>
                        <a:pt x="22" y="0"/>
                      </a:moveTo>
                      <a:lnTo>
                        <a:pt x="231" y="82"/>
                      </a:lnTo>
                      <a:lnTo>
                        <a:pt x="211" y="469"/>
                      </a:lnTo>
                      <a:lnTo>
                        <a:pt x="189" y="935"/>
                      </a:lnTo>
                      <a:lnTo>
                        <a:pt x="0" y="992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4" name=""/>
                <p:cNvGrpSpPr/>
                <p:nvPr/>
              </p:nvGrpSpPr>
              <p:grpSpPr>
                <a:xfrm>
                  <a:off x="2905200" y="3935160"/>
                  <a:ext cx="50760" cy="188640"/>
                  <a:chOff x="2905200" y="3935160"/>
                  <a:chExt cx="50760" cy="188640"/>
                </a:xfrm>
              </p:grpSpPr>
              <p:grpSp>
                <p:nvGrpSpPr>
                  <p:cNvPr id="815" name=""/>
                  <p:cNvGrpSpPr/>
                  <p:nvPr/>
                </p:nvGrpSpPr>
                <p:grpSpPr>
                  <a:xfrm>
                    <a:off x="2905200" y="3935160"/>
                    <a:ext cx="50760" cy="188640"/>
                    <a:chOff x="2905200" y="3935160"/>
                    <a:chExt cx="50760" cy="188640"/>
                  </a:xfrm>
                </p:grpSpPr>
                <p:grpSp>
                  <p:nvGrpSpPr>
                    <p:cNvPr id="816" name=""/>
                    <p:cNvGrpSpPr/>
                    <p:nvPr/>
                  </p:nvGrpSpPr>
                  <p:grpSpPr>
                    <a:xfrm>
                      <a:off x="2905200" y="3935160"/>
                      <a:ext cx="50760" cy="113040"/>
                      <a:chOff x="2905200" y="3935160"/>
                      <a:chExt cx="50760" cy="113040"/>
                    </a:xfrm>
                  </p:grpSpPr>
                  <p:grpSp>
                    <p:nvGrpSpPr>
                      <p:cNvPr id="817" name=""/>
                      <p:cNvGrpSpPr/>
                      <p:nvPr/>
                    </p:nvGrpSpPr>
                    <p:grpSpPr>
                      <a:xfrm>
                        <a:off x="2908080" y="3935160"/>
                        <a:ext cx="47880" cy="60480"/>
                        <a:chOff x="2908080" y="3935160"/>
                        <a:chExt cx="47880" cy="60480"/>
                      </a:xfrm>
                    </p:grpSpPr>
                    <p:sp>
                      <p:nvSpPr>
                        <p:cNvPr id="818" name=""/>
                        <p:cNvSpPr/>
                        <p:nvPr/>
                      </p:nvSpPr>
                      <p:spPr>
                        <a:xfrm>
                          <a:off x="2909880" y="3935160"/>
                          <a:ext cx="46080" cy="176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9" name=""/>
                        <p:cNvSpPr/>
                        <p:nvPr/>
                      </p:nvSpPr>
                      <p:spPr>
                        <a:xfrm>
                          <a:off x="2909880" y="3944880"/>
                          <a:ext cx="46080" cy="158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0" name=""/>
                        <p:cNvSpPr/>
                        <p:nvPr/>
                      </p:nvSpPr>
                      <p:spPr>
                        <a:xfrm>
                          <a:off x="2909880" y="3954240"/>
                          <a:ext cx="46080" cy="144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1" name=""/>
                        <p:cNvSpPr/>
                        <p:nvPr/>
                      </p:nvSpPr>
                      <p:spPr>
                        <a:xfrm>
                          <a:off x="2909880" y="3963960"/>
                          <a:ext cx="46080" cy="144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2" name=""/>
                        <p:cNvSpPr/>
                        <p:nvPr/>
                      </p:nvSpPr>
                      <p:spPr>
                        <a:xfrm>
                          <a:off x="2908080" y="3973320"/>
                          <a:ext cx="46080" cy="144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3" name=""/>
                        <p:cNvSpPr/>
                        <p:nvPr/>
                      </p:nvSpPr>
                      <p:spPr>
                        <a:xfrm>
                          <a:off x="2908080" y="3983040"/>
                          <a:ext cx="46080" cy="126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24" name=""/>
                      <p:cNvSpPr/>
                      <p:nvPr/>
                    </p:nvSpPr>
                    <p:spPr>
                      <a:xfrm>
                        <a:off x="2905200" y="4003560"/>
                        <a:ext cx="47520" cy="97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5" name=""/>
                      <p:cNvSpPr/>
                      <p:nvPr/>
                    </p:nvSpPr>
                    <p:spPr>
                      <a:xfrm>
                        <a:off x="2905200" y="4013280"/>
                        <a:ext cx="47520" cy="79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6" name=""/>
                      <p:cNvSpPr/>
                      <p:nvPr/>
                    </p:nvSpPr>
                    <p:spPr>
                      <a:xfrm>
                        <a:off x="2905200" y="4022640"/>
                        <a:ext cx="45720" cy="79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7" name=""/>
                      <p:cNvSpPr/>
                      <p:nvPr/>
                    </p:nvSpPr>
                    <p:spPr>
                      <a:xfrm>
                        <a:off x="2905200" y="4033800"/>
                        <a:ext cx="45720" cy="46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8" name=""/>
                      <p:cNvSpPr/>
                      <p:nvPr/>
                    </p:nvSpPr>
                    <p:spPr>
                      <a:xfrm>
                        <a:off x="2905200" y="4043160"/>
                        <a:ext cx="45720" cy="50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29" name=""/>
                    <p:cNvGrpSpPr/>
                    <p:nvPr/>
                  </p:nvGrpSpPr>
                  <p:grpSpPr>
                    <a:xfrm>
                      <a:off x="2905200" y="4054320"/>
                      <a:ext cx="45720" cy="69480"/>
                      <a:chOff x="2905200" y="4054320"/>
                      <a:chExt cx="45720" cy="69480"/>
                    </a:xfrm>
                  </p:grpSpPr>
                  <p:sp>
                    <p:nvSpPr>
                      <p:cNvPr id="830" name=""/>
                      <p:cNvSpPr/>
                      <p:nvPr/>
                    </p:nvSpPr>
                    <p:spPr>
                      <a:xfrm>
                        <a:off x="2905200" y="4054320"/>
                        <a:ext cx="4572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1" name=""/>
                      <p:cNvSpPr/>
                      <p:nvPr/>
                    </p:nvSpPr>
                    <p:spPr>
                      <a:xfrm>
                        <a:off x="2906640" y="4064040"/>
                        <a:ext cx="428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2" name=""/>
                      <p:cNvSpPr/>
                      <p:nvPr/>
                    </p:nvSpPr>
                    <p:spPr>
                      <a:xfrm>
                        <a:off x="2905200" y="4073400"/>
                        <a:ext cx="4428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3" name=""/>
                      <p:cNvSpPr/>
                      <p:nvPr/>
                    </p:nvSpPr>
                    <p:spPr>
                      <a:xfrm flipV="1">
                        <a:off x="2905200" y="4083120"/>
                        <a:ext cx="4428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4" name=""/>
                      <p:cNvSpPr/>
                      <p:nvPr/>
                    </p:nvSpPr>
                    <p:spPr>
                      <a:xfrm flipV="1">
                        <a:off x="2905200" y="4091040"/>
                        <a:ext cx="42840" cy="28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5" name=""/>
                      <p:cNvSpPr/>
                      <p:nvPr/>
                    </p:nvSpPr>
                    <p:spPr>
                      <a:xfrm flipV="1">
                        <a:off x="2905200" y="4100040"/>
                        <a:ext cx="42840" cy="32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6" name=""/>
                      <p:cNvSpPr/>
                      <p:nvPr/>
                    </p:nvSpPr>
                    <p:spPr>
                      <a:xfrm flipV="1">
                        <a:off x="2905200" y="4107960"/>
                        <a:ext cx="42840" cy="46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7" name=""/>
                      <p:cNvSpPr/>
                      <p:nvPr/>
                    </p:nvSpPr>
                    <p:spPr>
                      <a:xfrm flipV="1">
                        <a:off x="2905200" y="4117680"/>
                        <a:ext cx="42840" cy="61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38" name=""/>
                  <p:cNvSpPr/>
                  <p:nvPr/>
                </p:nvSpPr>
                <p:spPr>
                  <a:xfrm>
                    <a:off x="2906640" y="3994200"/>
                    <a:ext cx="46080" cy="9360"/>
                  </a:xfrm>
                  <a:prstGeom prst="line">
                    <a:avLst/>
                  </a:prstGeom>
                  <a:ln w="14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39" name=""/>
              <p:cNvGrpSpPr/>
              <p:nvPr/>
            </p:nvGrpSpPr>
            <p:grpSpPr>
              <a:xfrm>
                <a:off x="2871720" y="3890880"/>
                <a:ext cx="45720" cy="268200"/>
                <a:chOff x="2871720" y="3890880"/>
                <a:chExt cx="45720" cy="26820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2871720" y="3890880"/>
                  <a:ext cx="44280" cy="268200"/>
                </a:xfrm>
                <a:custGeom>
                  <a:avLst/>
                  <a:gdLst/>
                  <a:ahLst/>
                  <a:rect l="l" t="t" r="r" b="b"/>
                  <a:pathLst>
                    <a:path w="202" h="1184">
                      <a:moveTo>
                        <a:pt x="48" y="0"/>
                      </a:moveTo>
                      <a:lnTo>
                        <a:pt x="191" y="61"/>
                      </a:lnTo>
                      <a:lnTo>
                        <a:pt x="202" y="74"/>
                      </a:lnTo>
                      <a:lnTo>
                        <a:pt x="159" y="1136"/>
                      </a:lnTo>
                      <a:lnTo>
                        <a:pt x="141" y="1149"/>
                      </a:lnTo>
                      <a:lnTo>
                        <a:pt x="0" y="1184"/>
                      </a:lnTo>
                      <a:lnTo>
                        <a:pt x="19" y="1165"/>
                      </a:lnTo>
                      <a:lnTo>
                        <a:pt x="20" y="115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2911320" y="39052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789" y="772"/>
                      </a:moveTo>
                      <a:arcTo wR="10800" hR="10800" stAng="-6708084" swAng="670808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789" y="772"/>
                      </a:moveTo>
                      <a:arcTo wR="10800" hR="10800" stAng="-6708084" swAng="6708084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2" name=""/>
            <p:cNvGrpSpPr/>
            <p:nvPr/>
          </p:nvGrpSpPr>
          <p:grpSpPr>
            <a:xfrm>
              <a:off x="2889000" y="4295520"/>
              <a:ext cx="146160" cy="57240"/>
              <a:chOff x="2889000" y="4295520"/>
              <a:chExt cx="146160" cy="57240"/>
            </a:xfrm>
          </p:grpSpPr>
          <p:sp>
            <p:nvSpPr>
              <p:cNvPr id="843" name=""/>
              <p:cNvSpPr/>
              <p:nvPr/>
            </p:nvSpPr>
            <p:spPr>
              <a:xfrm>
                <a:off x="2889000" y="4295520"/>
                <a:ext cx="146160" cy="38160"/>
              </a:xfrm>
              <a:custGeom>
                <a:avLst/>
                <a:gdLst/>
                <a:ahLst/>
                <a:rect l="l" t="t" r="r" b="b"/>
                <a:pathLst>
                  <a:path w="643" h="167">
                    <a:moveTo>
                      <a:pt x="0" y="0"/>
                    </a:moveTo>
                    <a:lnTo>
                      <a:pt x="119" y="8"/>
                    </a:lnTo>
                    <a:lnTo>
                      <a:pt x="208" y="12"/>
                    </a:lnTo>
                    <a:lnTo>
                      <a:pt x="288" y="21"/>
                    </a:lnTo>
                    <a:lnTo>
                      <a:pt x="367" y="31"/>
                    </a:lnTo>
                    <a:lnTo>
                      <a:pt x="423" y="39"/>
                    </a:lnTo>
                    <a:lnTo>
                      <a:pt x="491" y="50"/>
                    </a:lnTo>
                    <a:lnTo>
                      <a:pt x="529" y="57"/>
                    </a:lnTo>
                    <a:lnTo>
                      <a:pt x="558" y="63"/>
                    </a:lnTo>
                    <a:lnTo>
                      <a:pt x="574" y="67"/>
                    </a:lnTo>
                    <a:lnTo>
                      <a:pt x="587" y="71"/>
                    </a:lnTo>
                    <a:lnTo>
                      <a:pt x="603" y="76"/>
                    </a:lnTo>
                    <a:lnTo>
                      <a:pt x="619" y="82"/>
                    </a:lnTo>
                    <a:lnTo>
                      <a:pt x="634" y="90"/>
                    </a:lnTo>
                    <a:lnTo>
                      <a:pt x="642" y="99"/>
                    </a:lnTo>
                    <a:lnTo>
                      <a:pt x="643" y="106"/>
                    </a:lnTo>
                    <a:lnTo>
                      <a:pt x="639" y="117"/>
                    </a:lnTo>
                    <a:lnTo>
                      <a:pt x="634" y="129"/>
                    </a:lnTo>
                    <a:lnTo>
                      <a:pt x="626" y="139"/>
                    </a:lnTo>
                    <a:lnTo>
                      <a:pt x="616" y="146"/>
                    </a:lnTo>
                    <a:lnTo>
                      <a:pt x="602" y="155"/>
                    </a:lnTo>
                    <a:lnTo>
                      <a:pt x="586" y="161"/>
                    </a:lnTo>
                    <a:lnTo>
                      <a:pt x="569" y="163"/>
                    </a:lnTo>
                    <a:lnTo>
                      <a:pt x="550" y="166"/>
                    </a:lnTo>
                    <a:lnTo>
                      <a:pt x="526" y="167"/>
                    </a:lnTo>
                    <a:lnTo>
                      <a:pt x="504" y="165"/>
                    </a:lnTo>
                    <a:lnTo>
                      <a:pt x="468" y="160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4" name=""/>
              <p:cNvGrpSpPr/>
              <p:nvPr/>
            </p:nvGrpSpPr>
            <p:grpSpPr>
              <a:xfrm>
                <a:off x="2895480" y="4314600"/>
                <a:ext cx="101520" cy="38160"/>
                <a:chOff x="2895480" y="4314600"/>
                <a:chExt cx="101520" cy="38160"/>
              </a:xfrm>
            </p:grpSpPr>
            <p:grpSp>
              <p:nvGrpSpPr>
                <p:cNvPr id="845" name=""/>
                <p:cNvGrpSpPr/>
                <p:nvPr/>
              </p:nvGrpSpPr>
              <p:grpSpPr>
                <a:xfrm>
                  <a:off x="2895480" y="4314600"/>
                  <a:ext cx="101520" cy="38160"/>
                  <a:chOff x="2895480" y="4314600"/>
                  <a:chExt cx="101520" cy="3816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>
                    <a:off x="2895480" y="4314600"/>
                    <a:ext cx="633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112">
                        <a:moveTo>
                          <a:pt x="0" y="67"/>
                        </a:moveTo>
                        <a:lnTo>
                          <a:pt x="74" y="0"/>
                        </a:lnTo>
                        <a:lnTo>
                          <a:pt x="281" y="37"/>
                        </a:lnTo>
                        <a:lnTo>
                          <a:pt x="199" y="112"/>
                        </a:lnTo>
                        <a:lnTo>
                          <a:pt x="0" y="67"/>
                        </a:lnTo>
                        <a:close/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2895480" y="4329000"/>
                    <a:ext cx="44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106">
                        <a:moveTo>
                          <a:pt x="0" y="0"/>
                        </a:moveTo>
                        <a:lnTo>
                          <a:pt x="0" y="59"/>
                        </a:lnTo>
                        <a:lnTo>
                          <a:pt x="2" y="59"/>
                        </a:lnTo>
                        <a:lnTo>
                          <a:pt x="199" y="106"/>
                        </a:lnTo>
                        <a:lnTo>
                          <a:pt x="199" y="4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2940120" y="4322520"/>
                    <a:ext cx="56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136">
                        <a:moveTo>
                          <a:pt x="0" y="74"/>
                        </a:moveTo>
                        <a:lnTo>
                          <a:pt x="81" y="0"/>
                        </a:lnTo>
                        <a:lnTo>
                          <a:pt x="253" y="20"/>
                        </a:lnTo>
                        <a:lnTo>
                          <a:pt x="253" y="76"/>
                        </a:lnTo>
                        <a:lnTo>
                          <a:pt x="0" y="136"/>
                        </a:lnTo>
                        <a:lnTo>
                          <a:pt x="0" y="7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2911320" y="4314600"/>
                    <a:ext cx="856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56">
                        <a:moveTo>
                          <a:pt x="0" y="0"/>
                        </a:moveTo>
                        <a:lnTo>
                          <a:pt x="190" y="13"/>
                        </a:lnTo>
                        <a:lnTo>
                          <a:pt x="379" y="56"/>
                        </a:lnTo>
                        <a:lnTo>
                          <a:pt x="207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0" name=""/>
                <p:cNvGrpSpPr/>
                <p:nvPr/>
              </p:nvGrpSpPr>
              <p:grpSpPr>
                <a:xfrm>
                  <a:off x="2895480" y="4325400"/>
                  <a:ext cx="101520" cy="18000"/>
                  <a:chOff x="2895480" y="4325400"/>
                  <a:chExt cx="101520" cy="1800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>
                    <a:off x="2895480" y="4332240"/>
                    <a:ext cx="44640" cy="11160"/>
                  </a:xfrm>
                  <a:prstGeom prst="line">
                    <a:avLst/>
                  </a:prstGeom>
                  <a:ln w="14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 flipV="1">
                    <a:off x="2940120" y="4325400"/>
                    <a:ext cx="18720" cy="1764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2960640" y="4325760"/>
                    <a:ext cx="36360" cy="324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854" name=""/>
            <p:cNvSpPr/>
            <p:nvPr/>
          </p:nvSpPr>
          <p:spPr>
            <a:xfrm>
              <a:off x="2868480" y="4222800"/>
              <a:ext cx="88920" cy="82440"/>
            </a:xfrm>
            <a:custGeom>
              <a:avLst/>
              <a:gdLst/>
              <a:ahLst/>
              <a:rect l="l" t="t" r="r" b="b"/>
              <a:pathLst>
                <a:path w="390" h="364">
                  <a:moveTo>
                    <a:pt x="0" y="183"/>
                  </a:moveTo>
                  <a:lnTo>
                    <a:pt x="390" y="0"/>
                  </a:lnTo>
                  <a:lnTo>
                    <a:pt x="390" y="147"/>
                  </a:lnTo>
                  <a:lnTo>
                    <a:pt x="0" y="364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67040" y="4146480"/>
              <a:ext cx="91800" cy="122040"/>
            </a:xfrm>
            <a:custGeom>
              <a:avLst/>
              <a:gdLst/>
              <a:ahLst/>
              <a:rect l="l" t="t" r="r" b="b"/>
              <a:pathLst>
                <a:path w="402" h="538">
                  <a:moveTo>
                    <a:pt x="0" y="114"/>
                  </a:moveTo>
                  <a:lnTo>
                    <a:pt x="402" y="0"/>
                  </a:lnTo>
                  <a:lnTo>
                    <a:pt x="402" y="355"/>
                  </a:lnTo>
                  <a:lnTo>
                    <a:pt x="1" y="538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620800" y="3927240"/>
              <a:ext cx="225360" cy="187560"/>
            </a:xfrm>
            <a:custGeom>
              <a:avLst/>
              <a:gdLst/>
              <a:ahLst/>
              <a:rect l="l" t="t" r="r" b="b"/>
              <a:pathLst>
                <a:path w="992" h="822">
                  <a:moveTo>
                    <a:pt x="39" y="0"/>
                  </a:moveTo>
                  <a:lnTo>
                    <a:pt x="992" y="0"/>
                  </a:lnTo>
                  <a:lnTo>
                    <a:pt x="953" y="822"/>
                  </a:lnTo>
                  <a:lnTo>
                    <a:pt x="0" y="77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473200" y="4241880"/>
              <a:ext cx="420840" cy="83880"/>
            </a:xfrm>
            <a:custGeom>
              <a:avLst/>
              <a:gdLst/>
              <a:ahLst/>
              <a:rect l="l" t="t" r="r" b="b"/>
              <a:pathLst>
                <a:path w="1849" h="375">
                  <a:moveTo>
                    <a:pt x="301" y="0"/>
                  </a:moveTo>
                  <a:lnTo>
                    <a:pt x="1849" y="153"/>
                  </a:lnTo>
                  <a:lnTo>
                    <a:pt x="1740" y="290"/>
                  </a:lnTo>
                  <a:lnTo>
                    <a:pt x="1634" y="375"/>
                  </a:lnTo>
                  <a:lnTo>
                    <a:pt x="0" y="187"/>
                  </a:lnTo>
                  <a:lnTo>
                    <a:pt x="122" y="134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2867040" y="4154400"/>
              <a:ext cx="90360" cy="106200"/>
              <a:chOff x="2867040" y="4154400"/>
              <a:chExt cx="90360" cy="106200"/>
            </a:xfrm>
          </p:grpSpPr>
          <p:sp>
            <p:nvSpPr>
              <p:cNvPr id="859" name=""/>
              <p:cNvSpPr/>
              <p:nvPr/>
            </p:nvSpPr>
            <p:spPr>
              <a:xfrm flipV="1">
                <a:off x="2867040" y="4182480"/>
                <a:ext cx="90360" cy="334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2882880" y="4192200"/>
                <a:ext cx="74520" cy="284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2882880" y="4201920"/>
                <a:ext cx="74520" cy="302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2882880" y="4209480"/>
                <a:ext cx="74520" cy="320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2882880" y="4219560"/>
                <a:ext cx="74520" cy="331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2882880" y="4173120"/>
                <a:ext cx="74520" cy="2700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2882880" y="4163400"/>
                <a:ext cx="74520" cy="241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2882880" y="4154400"/>
                <a:ext cx="74520" cy="223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2882880" y="4168800"/>
                <a:ext cx="1440" cy="9180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2590560" y="3886200"/>
              <a:ext cx="295560" cy="272880"/>
              <a:chOff x="2590560" y="3886200"/>
              <a:chExt cx="295560" cy="272880"/>
            </a:xfrm>
          </p:grpSpPr>
          <p:grpSp>
            <p:nvGrpSpPr>
              <p:cNvPr id="869" name=""/>
              <p:cNvGrpSpPr/>
              <p:nvPr/>
            </p:nvGrpSpPr>
            <p:grpSpPr>
              <a:xfrm>
                <a:off x="2590560" y="3886200"/>
                <a:ext cx="295560" cy="272880"/>
                <a:chOff x="2590560" y="3886200"/>
                <a:chExt cx="295560" cy="272880"/>
              </a:xfrm>
            </p:grpSpPr>
            <p:grpSp>
              <p:nvGrpSpPr>
                <p:cNvPr id="870" name=""/>
                <p:cNvGrpSpPr/>
                <p:nvPr/>
              </p:nvGrpSpPr>
              <p:grpSpPr>
                <a:xfrm>
                  <a:off x="2590560" y="3886200"/>
                  <a:ext cx="295560" cy="272880"/>
                  <a:chOff x="2590560" y="3886200"/>
                  <a:chExt cx="295560" cy="272880"/>
                </a:xfrm>
              </p:grpSpPr>
              <p:sp>
                <p:nvSpPr>
                  <p:cNvPr id="871" name=""/>
                  <p:cNvSpPr/>
                  <p:nvPr/>
                </p:nvSpPr>
                <p:spPr>
                  <a:xfrm>
                    <a:off x="2590560" y="3886200"/>
                    <a:ext cx="29556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07" h="1209">
                        <a:moveTo>
                          <a:pt x="104" y="20"/>
                        </a:moveTo>
                        <a:lnTo>
                          <a:pt x="216" y="14"/>
                        </a:lnTo>
                        <a:lnTo>
                          <a:pt x="368" y="4"/>
                        </a:lnTo>
                        <a:lnTo>
                          <a:pt x="526" y="0"/>
                        </a:lnTo>
                        <a:lnTo>
                          <a:pt x="712" y="0"/>
                        </a:lnTo>
                        <a:lnTo>
                          <a:pt x="842" y="2"/>
                        </a:lnTo>
                        <a:lnTo>
                          <a:pt x="1042" y="9"/>
                        </a:lnTo>
                        <a:lnTo>
                          <a:pt x="1236" y="19"/>
                        </a:lnTo>
                        <a:lnTo>
                          <a:pt x="1282" y="21"/>
                        </a:lnTo>
                        <a:lnTo>
                          <a:pt x="1292" y="26"/>
                        </a:lnTo>
                        <a:lnTo>
                          <a:pt x="1300" y="31"/>
                        </a:lnTo>
                        <a:lnTo>
                          <a:pt x="1306" y="40"/>
                        </a:lnTo>
                        <a:lnTo>
                          <a:pt x="1307" y="50"/>
                        </a:lnTo>
                        <a:lnTo>
                          <a:pt x="1258" y="1186"/>
                        </a:lnTo>
                        <a:lnTo>
                          <a:pt x="1252" y="1204"/>
                        </a:lnTo>
                        <a:lnTo>
                          <a:pt x="1236" y="1209"/>
                        </a:lnTo>
                        <a:lnTo>
                          <a:pt x="814" y="1180"/>
                        </a:lnTo>
                        <a:lnTo>
                          <a:pt x="400" y="1151"/>
                        </a:lnTo>
                        <a:lnTo>
                          <a:pt x="19" y="1123"/>
                        </a:lnTo>
                        <a:lnTo>
                          <a:pt x="0" y="1094"/>
                        </a:lnTo>
                        <a:lnTo>
                          <a:pt x="58" y="57"/>
                        </a:lnTo>
                        <a:lnTo>
                          <a:pt x="104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2873160" y="3890880"/>
                    <a:ext cx="129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33086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330866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2603520" y="3889440"/>
                    <a:ext cx="27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5" y="9373"/>
                        </a:moveTo>
                        <a:arcTo wR="10800" hR="10800" stAng="-10344321" swAng="494432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5" y="9373"/>
                        </a:moveTo>
                        <a:arcTo wR="10800" hR="10800" stAng="-10344321" swAng="4944321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2590560" y="4124160"/>
                    <a:ext cx="12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833" y="21184"/>
                        </a:moveTo>
                        <a:arcTo wR="10800" hR="10800" stAng="6356723" swAng="44432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833" y="21184"/>
                        </a:moveTo>
                        <a:arcTo wR="10800" hR="10800" stAng="6356723" swAng="4443277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5" name=""/>
                <p:cNvGrpSpPr/>
                <p:nvPr/>
              </p:nvGrpSpPr>
              <p:grpSpPr>
                <a:xfrm>
                  <a:off x="2620800" y="3927240"/>
                  <a:ext cx="225360" cy="187560"/>
                  <a:chOff x="2620800" y="3927240"/>
                  <a:chExt cx="225360" cy="187560"/>
                </a:xfrm>
              </p:grpSpPr>
              <p:grpSp>
                <p:nvGrpSpPr>
                  <p:cNvPr id="876" name=""/>
                  <p:cNvGrpSpPr/>
                  <p:nvPr/>
                </p:nvGrpSpPr>
                <p:grpSpPr>
                  <a:xfrm>
                    <a:off x="2620800" y="3927240"/>
                    <a:ext cx="225360" cy="187560"/>
                    <a:chOff x="2620800" y="3927240"/>
                    <a:chExt cx="225360" cy="187560"/>
                  </a:xfrm>
                </p:grpSpPr>
                <p:sp>
                  <p:nvSpPr>
                    <p:cNvPr id="877" name=""/>
                    <p:cNvSpPr/>
                    <p:nvPr/>
                  </p:nvSpPr>
                  <p:spPr>
                    <a:xfrm>
                      <a:off x="2630520" y="3927240"/>
                      <a:ext cx="2156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17">
                          <a:moveTo>
                            <a:pt x="0" y="0"/>
                          </a:moveTo>
                          <a:lnTo>
                            <a:pt x="952" y="1"/>
                          </a:lnTo>
                          <a:lnTo>
                            <a:pt x="931" y="17"/>
                          </a:lnTo>
                          <a:lnTo>
                            <a:pt x="21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" name=""/>
                    <p:cNvSpPr/>
                    <p:nvPr/>
                  </p:nvSpPr>
                  <p:spPr>
                    <a:xfrm>
                      <a:off x="2832120" y="3927240"/>
                      <a:ext cx="14040" cy="18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822">
                          <a:moveTo>
                            <a:pt x="39" y="16"/>
                          </a:moveTo>
                          <a:lnTo>
                            <a:pt x="61" y="0"/>
                          </a:lnTo>
                          <a:lnTo>
                            <a:pt x="40" y="446"/>
                          </a:lnTo>
                          <a:lnTo>
                            <a:pt x="20" y="822"/>
                          </a:lnTo>
                          <a:lnTo>
                            <a:pt x="0" y="799"/>
                          </a:lnTo>
                          <a:lnTo>
                            <a:pt x="39" y="1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>
                      <a:off x="2620800" y="4098960"/>
                      <a:ext cx="21600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67">
                          <a:moveTo>
                            <a:pt x="22" y="0"/>
                          </a:moveTo>
                          <a:lnTo>
                            <a:pt x="0" y="21"/>
                          </a:lnTo>
                          <a:lnTo>
                            <a:pt x="952" y="67"/>
                          </a:lnTo>
                          <a:lnTo>
                            <a:pt x="932" y="45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2620800" y="3927240"/>
                      <a:ext cx="14400" cy="17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775">
                          <a:moveTo>
                            <a:pt x="39" y="0"/>
                          </a:moveTo>
                          <a:lnTo>
                            <a:pt x="60" y="16"/>
                          </a:lnTo>
                          <a:lnTo>
                            <a:pt x="22" y="754"/>
                          </a:lnTo>
                          <a:lnTo>
                            <a:pt x="0" y="775"/>
                          </a:lnTo>
                          <a:lnTo>
                            <a:pt x="39" y="0"/>
                          </a:lnTo>
                          <a:close/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1" name=""/>
                  <p:cNvGrpSpPr/>
                  <p:nvPr/>
                </p:nvGrpSpPr>
                <p:grpSpPr>
                  <a:xfrm>
                    <a:off x="2625480" y="3932280"/>
                    <a:ext cx="216000" cy="177840"/>
                    <a:chOff x="2625480" y="3932280"/>
                    <a:chExt cx="216000" cy="177840"/>
                  </a:xfrm>
                </p:grpSpPr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2625480" y="3932280"/>
                      <a:ext cx="2160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9" h="783">
                          <a:moveTo>
                            <a:pt x="39" y="0"/>
                          </a:moveTo>
                          <a:lnTo>
                            <a:pt x="949" y="0"/>
                          </a:lnTo>
                          <a:lnTo>
                            <a:pt x="911" y="783"/>
                          </a:lnTo>
                          <a:lnTo>
                            <a:pt x="0" y="738"/>
                          </a:lnTo>
                          <a:lnTo>
                            <a:pt x="3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>
                      <a:off x="2633400" y="3938400"/>
                      <a:ext cx="200160" cy="16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4" h="723">
                          <a:moveTo>
                            <a:pt x="32" y="1"/>
                          </a:moveTo>
                          <a:lnTo>
                            <a:pt x="884" y="0"/>
                          </a:lnTo>
                          <a:lnTo>
                            <a:pt x="847" y="723"/>
                          </a:lnTo>
                          <a:lnTo>
                            <a:pt x="0" y="686"/>
                          </a:lnTo>
                          <a:lnTo>
                            <a:pt x="32" y="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2636640" y="3948120"/>
                      <a:ext cx="18900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4" h="653">
                          <a:moveTo>
                            <a:pt x="31" y="0"/>
                          </a:moveTo>
                          <a:lnTo>
                            <a:pt x="834" y="0"/>
                          </a:lnTo>
                          <a:lnTo>
                            <a:pt x="801" y="653"/>
                          </a:lnTo>
                          <a:lnTo>
                            <a:pt x="0" y="620"/>
                          </a:lnTo>
                          <a:lnTo>
                            <a:pt x="31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885" name=""/>
              <p:cNvSpPr/>
              <p:nvPr/>
            </p:nvSpPr>
            <p:spPr>
              <a:xfrm>
                <a:off x="2827080" y="4136760"/>
                <a:ext cx="12960" cy="504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0" y="0"/>
                    </a:moveTo>
                    <a:lnTo>
                      <a:pt x="55" y="1"/>
                    </a:lnTo>
                    <a:lnTo>
                      <a:pt x="55" y="19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2474640" y="4246560"/>
              <a:ext cx="419400" cy="95040"/>
              <a:chOff x="2474640" y="4246560"/>
              <a:chExt cx="419400" cy="95040"/>
            </a:xfrm>
          </p:grpSpPr>
          <p:sp>
            <p:nvSpPr>
              <p:cNvPr id="887" name=""/>
              <p:cNvSpPr/>
              <p:nvPr/>
            </p:nvSpPr>
            <p:spPr>
              <a:xfrm>
                <a:off x="2763720" y="4275000"/>
                <a:ext cx="100080" cy="41400"/>
              </a:xfrm>
              <a:custGeom>
                <a:avLst/>
                <a:gdLst/>
                <a:ahLst/>
                <a:rect l="l" t="t" r="r" b="b"/>
                <a:pathLst>
                  <a:path w="444" h="184">
                    <a:moveTo>
                      <a:pt x="171" y="0"/>
                    </a:moveTo>
                    <a:lnTo>
                      <a:pt x="67" y="108"/>
                    </a:lnTo>
                    <a:lnTo>
                      <a:pt x="0" y="153"/>
                    </a:lnTo>
                    <a:lnTo>
                      <a:pt x="291" y="184"/>
                    </a:lnTo>
                    <a:lnTo>
                      <a:pt x="358" y="126"/>
                    </a:lnTo>
                    <a:lnTo>
                      <a:pt x="444" y="25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8" name=""/>
              <p:cNvGrpSpPr/>
              <p:nvPr/>
            </p:nvGrpSpPr>
            <p:grpSpPr>
              <a:xfrm>
                <a:off x="2474640" y="4246560"/>
                <a:ext cx="419400" cy="95040"/>
                <a:chOff x="2474640" y="4246560"/>
                <a:chExt cx="419400" cy="9504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2474640" y="4282920"/>
                  <a:ext cx="370080" cy="58680"/>
                </a:xfrm>
                <a:custGeom>
                  <a:avLst/>
                  <a:gdLst/>
                  <a:ahLst/>
                  <a:rect l="l" t="t" r="r" b="b"/>
                  <a:pathLst>
                    <a:path w="1634" h="253">
                      <a:moveTo>
                        <a:pt x="0" y="0"/>
                      </a:moveTo>
                      <a:lnTo>
                        <a:pt x="0" y="65"/>
                      </a:lnTo>
                      <a:lnTo>
                        <a:pt x="1634" y="253"/>
                      </a:lnTo>
                      <a:lnTo>
                        <a:pt x="1633" y="1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2844720" y="4276800"/>
                  <a:ext cx="49320" cy="64800"/>
                </a:xfrm>
                <a:custGeom>
                  <a:avLst/>
                  <a:gdLst/>
                  <a:ahLst/>
                  <a:rect l="l" t="t" r="r" b="b"/>
                  <a:pathLst>
                    <a:path w="215" h="287">
                      <a:moveTo>
                        <a:pt x="0" y="222"/>
                      </a:moveTo>
                      <a:lnTo>
                        <a:pt x="0" y="287"/>
                      </a:lnTo>
                      <a:lnTo>
                        <a:pt x="94" y="221"/>
                      </a:lnTo>
                      <a:lnTo>
                        <a:pt x="132" y="182"/>
                      </a:lnTo>
                      <a:lnTo>
                        <a:pt x="215" y="81"/>
                      </a:lnTo>
                      <a:lnTo>
                        <a:pt x="215" y="0"/>
                      </a:lnTo>
                      <a:lnTo>
                        <a:pt x="106" y="136"/>
                      </a:lnTo>
                      <a:lnTo>
                        <a:pt x="0" y="222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2474640" y="4289400"/>
                  <a:ext cx="370080" cy="41040"/>
                </a:xfrm>
                <a:prstGeom prst="line">
                  <a:avLst/>
                </a:prstGeom>
                <a:ln w="144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2" name=""/>
                <p:cNvGrpSpPr/>
                <p:nvPr/>
              </p:nvGrpSpPr>
              <p:grpSpPr>
                <a:xfrm>
                  <a:off x="2498760" y="4246560"/>
                  <a:ext cx="357120" cy="69480"/>
                  <a:chOff x="2498760" y="4246560"/>
                  <a:chExt cx="357120" cy="69480"/>
                </a:xfrm>
              </p:grpSpPr>
              <p:sp>
                <p:nvSpPr>
                  <p:cNvPr id="893" name=""/>
                  <p:cNvSpPr/>
                  <p:nvPr/>
                </p:nvSpPr>
                <p:spPr>
                  <a:xfrm>
                    <a:off x="2498760" y="4249800"/>
                    <a:ext cx="27468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0" h="251">
                        <a:moveTo>
                          <a:pt x="208" y="0"/>
                        </a:moveTo>
                        <a:lnTo>
                          <a:pt x="64" y="110"/>
                        </a:lnTo>
                        <a:lnTo>
                          <a:pt x="0" y="144"/>
                        </a:lnTo>
                        <a:lnTo>
                          <a:pt x="1026" y="251"/>
                        </a:lnTo>
                        <a:lnTo>
                          <a:pt x="1100" y="202"/>
                        </a:lnTo>
                        <a:lnTo>
                          <a:pt x="1210" y="101"/>
                        </a:lnTo>
                        <a:lnTo>
                          <a:pt x="208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4" name=""/>
                  <p:cNvGrpSpPr/>
                  <p:nvPr/>
                </p:nvGrpSpPr>
                <p:grpSpPr>
                  <a:xfrm>
                    <a:off x="2504880" y="4246560"/>
                    <a:ext cx="351000" cy="69480"/>
                    <a:chOff x="2504880" y="4246560"/>
                    <a:chExt cx="351000" cy="69480"/>
                  </a:xfrm>
                </p:grpSpPr>
                <p:grpSp>
                  <p:nvGrpSpPr>
                    <p:cNvPr id="895" name=""/>
                    <p:cNvGrpSpPr/>
                    <p:nvPr/>
                  </p:nvGrpSpPr>
                  <p:grpSpPr>
                    <a:xfrm>
                      <a:off x="2511360" y="4246560"/>
                      <a:ext cx="255600" cy="58320"/>
                      <a:chOff x="2511360" y="4246560"/>
                      <a:chExt cx="255600" cy="58320"/>
                    </a:xfrm>
                  </p:grpSpPr>
                  <p:grpSp>
                    <p:nvGrpSpPr>
                      <p:cNvPr id="896" name=""/>
                      <p:cNvGrpSpPr/>
                      <p:nvPr/>
                    </p:nvGrpSpPr>
                    <p:grpSpPr>
                      <a:xfrm>
                        <a:off x="2511360" y="4246560"/>
                        <a:ext cx="52200" cy="38160"/>
                        <a:chOff x="2511360" y="4246560"/>
                        <a:chExt cx="52200" cy="38160"/>
                      </a:xfrm>
                    </p:grpSpPr>
                    <p:sp>
                      <p:nvSpPr>
                        <p:cNvPr id="897" name=""/>
                        <p:cNvSpPr/>
                        <p:nvPr/>
                      </p:nvSpPr>
                      <p:spPr>
                        <a:xfrm flipV="1">
                          <a:off x="2511360" y="4276800"/>
                          <a:ext cx="17280" cy="7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8" name=""/>
                        <p:cNvSpPr/>
                        <p:nvPr/>
                      </p:nvSpPr>
                      <p:spPr>
                        <a:xfrm flipV="1">
                          <a:off x="2528640" y="4246560"/>
                          <a:ext cx="3492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99" name=""/>
                      <p:cNvGrpSpPr/>
                      <p:nvPr/>
                    </p:nvGrpSpPr>
                    <p:grpSpPr>
                      <a:xfrm>
                        <a:off x="2531880" y="4248000"/>
                        <a:ext cx="54000" cy="39600"/>
                        <a:chOff x="2531880" y="4248000"/>
                        <a:chExt cx="54000" cy="39600"/>
                      </a:xfrm>
                    </p:grpSpPr>
                    <p:sp>
                      <p:nvSpPr>
                        <p:cNvPr id="900" name=""/>
                        <p:cNvSpPr/>
                        <p:nvPr/>
                      </p:nvSpPr>
                      <p:spPr>
                        <a:xfrm flipV="1">
                          <a:off x="2531880" y="4278240"/>
                          <a:ext cx="1764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1" name=""/>
                        <p:cNvSpPr/>
                        <p:nvPr/>
                      </p:nvSpPr>
                      <p:spPr>
                        <a:xfrm flipV="1">
                          <a:off x="2549520" y="4248000"/>
                          <a:ext cx="3636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02" name=""/>
                      <p:cNvGrpSpPr/>
                      <p:nvPr/>
                    </p:nvGrpSpPr>
                    <p:grpSpPr>
                      <a:xfrm>
                        <a:off x="2552760" y="4249440"/>
                        <a:ext cx="53640" cy="39600"/>
                        <a:chOff x="2552760" y="4249440"/>
                        <a:chExt cx="53640" cy="39600"/>
                      </a:xfrm>
                    </p:grpSpPr>
                    <p:sp>
                      <p:nvSpPr>
                        <p:cNvPr id="903" name=""/>
                        <p:cNvSpPr/>
                        <p:nvPr/>
                      </p:nvSpPr>
                      <p:spPr>
                        <a:xfrm flipV="1">
                          <a:off x="2552760" y="4279320"/>
                          <a:ext cx="17280" cy="9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4" name=""/>
                        <p:cNvSpPr/>
                        <p:nvPr/>
                      </p:nvSpPr>
                      <p:spPr>
                        <a:xfrm flipV="1">
                          <a:off x="2570040" y="4249440"/>
                          <a:ext cx="36360" cy="298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05" name=""/>
                      <p:cNvGrpSpPr/>
                      <p:nvPr/>
                    </p:nvGrpSpPr>
                    <p:grpSpPr>
                      <a:xfrm>
                        <a:off x="2573280" y="4252680"/>
                        <a:ext cx="52200" cy="38160"/>
                        <a:chOff x="2573280" y="4252680"/>
                        <a:chExt cx="52200" cy="38160"/>
                      </a:xfrm>
                    </p:grpSpPr>
                    <p:sp>
                      <p:nvSpPr>
                        <p:cNvPr id="906" name=""/>
                        <p:cNvSpPr/>
                        <p:nvPr/>
                      </p:nvSpPr>
                      <p:spPr>
                        <a:xfrm flipV="1">
                          <a:off x="2573280" y="4282920"/>
                          <a:ext cx="17280" cy="7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7" name=""/>
                        <p:cNvSpPr/>
                        <p:nvPr/>
                      </p:nvSpPr>
                      <p:spPr>
                        <a:xfrm flipV="1">
                          <a:off x="2590560" y="4252680"/>
                          <a:ext cx="3492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08" name=""/>
                      <p:cNvGrpSpPr/>
                      <p:nvPr/>
                    </p:nvGrpSpPr>
                    <p:grpSpPr>
                      <a:xfrm>
                        <a:off x="2593800" y="4254120"/>
                        <a:ext cx="54000" cy="38160"/>
                        <a:chOff x="2593800" y="4254120"/>
                        <a:chExt cx="54000" cy="38160"/>
                      </a:xfrm>
                    </p:grpSpPr>
                    <p:sp>
                      <p:nvSpPr>
                        <p:cNvPr id="909" name=""/>
                        <p:cNvSpPr/>
                        <p:nvPr/>
                      </p:nvSpPr>
                      <p:spPr>
                        <a:xfrm flipV="1">
                          <a:off x="2593800" y="4282560"/>
                          <a:ext cx="17640" cy="9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0" name=""/>
                        <p:cNvSpPr/>
                        <p:nvPr/>
                      </p:nvSpPr>
                      <p:spPr>
                        <a:xfrm flipV="1">
                          <a:off x="2611440" y="4254120"/>
                          <a:ext cx="36360" cy="28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360" bIns="-18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11" name=""/>
                      <p:cNvGrpSpPr/>
                      <p:nvPr/>
                    </p:nvGrpSpPr>
                    <p:grpSpPr>
                      <a:xfrm>
                        <a:off x="2614680" y="4255920"/>
                        <a:ext cx="53640" cy="38160"/>
                        <a:chOff x="2614680" y="4255920"/>
                        <a:chExt cx="53640" cy="38160"/>
                      </a:xfrm>
                    </p:grpSpPr>
                    <p:sp>
                      <p:nvSpPr>
                        <p:cNvPr id="912" name=""/>
                        <p:cNvSpPr/>
                        <p:nvPr/>
                      </p:nvSpPr>
                      <p:spPr>
                        <a:xfrm flipV="1">
                          <a:off x="2614680" y="4284720"/>
                          <a:ext cx="1728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3" name=""/>
                        <p:cNvSpPr/>
                        <p:nvPr/>
                      </p:nvSpPr>
                      <p:spPr>
                        <a:xfrm flipV="1">
                          <a:off x="2631960" y="4255920"/>
                          <a:ext cx="36360" cy="288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14" name=""/>
                      <p:cNvGrpSpPr/>
                      <p:nvPr/>
                    </p:nvGrpSpPr>
                    <p:grpSpPr>
                      <a:xfrm>
                        <a:off x="2635200" y="4257360"/>
                        <a:ext cx="52200" cy="38160"/>
                        <a:chOff x="2635200" y="4257360"/>
                        <a:chExt cx="52200" cy="38160"/>
                      </a:xfrm>
                    </p:grpSpPr>
                    <p:sp>
                      <p:nvSpPr>
                        <p:cNvPr id="915" name=""/>
                        <p:cNvSpPr/>
                        <p:nvPr/>
                      </p:nvSpPr>
                      <p:spPr>
                        <a:xfrm flipV="1">
                          <a:off x="2635200" y="4287600"/>
                          <a:ext cx="17280" cy="7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6" name=""/>
                        <p:cNvSpPr/>
                        <p:nvPr/>
                      </p:nvSpPr>
                      <p:spPr>
                        <a:xfrm flipV="1">
                          <a:off x="2652480" y="4257360"/>
                          <a:ext cx="34920" cy="298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17" name=""/>
                      <p:cNvGrpSpPr/>
                      <p:nvPr/>
                    </p:nvGrpSpPr>
                    <p:grpSpPr>
                      <a:xfrm>
                        <a:off x="2652480" y="4260600"/>
                        <a:ext cx="54000" cy="38160"/>
                        <a:chOff x="2652480" y="4260600"/>
                        <a:chExt cx="54000" cy="38160"/>
                      </a:xfrm>
                    </p:grpSpPr>
                    <p:sp>
                      <p:nvSpPr>
                        <p:cNvPr id="918" name=""/>
                        <p:cNvSpPr/>
                        <p:nvPr/>
                      </p:nvSpPr>
                      <p:spPr>
                        <a:xfrm flipV="1">
                          <a:off x="2652480" y="4289400"/>
                          <a:ext cx="1764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9" name=""/>
                        <p:cNvSpPr/>
                        <p:nvPr/>
                      </p:nvSpPr>
                      <p:spPr>
                        <a:xfrm flipV="1">
                          <a:off x="2670120" y="4260600"/>
                          <a:ext cx="36360" cy="288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20" name=""/>
                      <p:cNvGrpSpPr/>
                      <p:nvPr/>
                    </p:nvGrpSpPr>
                    <p:grpSpPr>
                      <a:xfrm>
                        <a:off x="2673360" y="4262400"/>
                        <a:ext cx="54000" cy="39600"/>
                        <a:chOff x="2673360" y="4262400"/>
                        <a:chExt cx="54000" cy="39600"/>
                      </a:xfrm>
                    </p:grpSpPr>
                    <p:sp>
                      <p:nvSpPr>
                        <p:cNvPr id="921" name=""/>
                        <p:cNvSpPr/>
                        <p:nvPr/>
                      </p:nvSpPr>
                      <p:spPr>
                        <a:xfrm flipV="1">
                          <a:off x="2673360" y="4292640"/>
                          <a:ext cx="1728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2" name=""/>
                        <p:cNvSpPr/>
                        <p:nvPr/>
                      </p:nvSpPr>
                      <p:spPr>
                        <a:xfrm flipV="1">
                          <a:off x="2690640" y="4262400"/>
                          <a:ext cx="3672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23" name=""/>
                      <p:cNvGrpSpPr/>
                      <p:nvPr/>
                    </p:nvGrpSpPr>
                    <p:grpSpPr>
                      <a:xfrm>
                        <a:off x="2693880" y="4263840"/>
                        <a:ext cx="54000" cy="39600"/>
                        <a:chOff x="2693880" y="4263840"/>
                        <a:chExt cx="54000" cy="39600"/>
                      </a:xfrm>
                    </p:grpSpPr>
                    <p:sp>
                      <p:nvSpPr>
                        <p:cNvPr id="924" name=""/>
                        <p:cNvSpPr/>
                        <p:nvPr/>
                      </p:nvSpPr>
                      <p:spPr>
                        <a:xfrm flipV="1">
                          <a:off x="2693880" y="4293720"/>
                          <a:ext cx="17640" cy="9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5" name=""/>
                        <p:cNvSpPr/>
                        <p:nvPr/>
                      </p:nvSpPr>
                      <p:spPr>
                        <a:xfrm flipV="1">
                          <a:off x="2711520" y="4263840"/>
                          <a:ext cx="3636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26" name=""/>
                      <p:cNvGrpSpPr/>
                      <p:nvPr/>
                    </p:nvGrpSpPr>
                    <p:grpSpPr>
                      <a:xfrm>
                        <a:off x="2712960" y="4265280"/>
                        <a:ext cx="54000" cy="39600"/>
                        <a:chOff x="2712960" y="4265280"/>
                        <a:chExt cx="54000" cy="39600"/>
                      </a:xfrm>
                    </p:grpSpPr>
                    <p:sp>
                      <p:nvSpPr>
                        <p:cNvPr id="927" name=""/>
                        <p:cNvSpPr/>
                        <p:nvPr/>
                      </p:nvSpPr>
                      <p:spPr>
                        <a:xfrm flipV="1">
                          <a:off x="2712960" y="4295160"/>
                          <a:ext cx="17280" cy="9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8" name=""/>
                        <p:cNvSpPr/>
                        <p:nvPr/>
                      </p:nvSpPr>
                      <p:spPr>
                        <a:xfrm flipV="1">
                          <a:off x="2730240" y="4265280"/>
                          <a:ext cx="36720" cy="298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29" name=""/>
                    <p:cNvGrpSpPr/>
                    <p:nvPr/>
                  </p:nvGrpSpPr>
                  <p:grpSpPr>
                    <a:xfrm>
                      <a:off x="2774880" y="4271400"/>
                      <a:ext cx="77760" cy="44640"/>
                      <a:chOff x="2774880" y="4271400"/>
                      <a:chExt cx="77760" cy="44640"/>
                    </a:xfrm>
                  </p:grpSpPr>
                  <p:grpSp>
                    <p:nvGrpSpPr>
                      <p:cNvPr id="930" name=""/>
                      <p:cNvGrpSpPr/>
                      <p:nvPr/>
                    </p:nvGrpSpPr>
                    <p:grpSpPr>
                      <a:xfrm>
                        <a:off x="2808360" y="4275000"/>
                        <a:ext cx="44280" cy="41040"/>
                        <a:chOff x="2808360" y="4275000"/>
                        <a:chExt cx="44280" cy="41040"/>
                      </a:xfrm>
                    </p:grpSpPr>
                    <p:sp>
                      <p:nvSpPr>
                        <p:cNvPr id="931" name=""/>
                        <p:cNvSpPr/>
                        <p:nvPr/>
                      </p:nvSpPr>
                      <p:spPr>
                        <a:xfrm flipV="1">
                          <a:off x="2808360" y="4304880"/>
                          <a:ext cx="14040" cy="11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2" name=""/>
                        <p:cNvSpPr/>
                        <p:nvPr/>
                      </p:nvSpPr>
                      <p:spPr>
                        <a:xfrm flipV="1">
                          <a:off x="2822400" y="4275000"/>
                          <a:ext cx="3024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33" name=""/>
                      <p:cNvGrpSpPr/>
                      <p:nvPr/>
                    </p:nvGrpSpPr>
                    <p:grpSpPr>
                      <a:xfrm>
                        <a:off x="2790720" y="4271400"/>
                        <a:ext cx="46080" cy="44640"/>
                        <a:chOff x="2790720" y="4271400"/>
                        <a:chExt cx="46080" cy="44640"/>
                      </a:xfrm>
                    </p:grpSpPr>
                    <p:sp>
                      <p:nvSpPr>
                        <p:cNvPr id="934" name=""/>
                        <p:cNvSpPr/>
                        <p:nvPr/>
                      </p:nvSpPr>
                      <p:spPr>
                        <a:xfrm flipV="1">
                          <a:off x="2790720" y="4304880"/>
                          <a:ext cx="15840" cy="11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5" name=""/>
                        <p:cNvSpPr/>
                        <p:nvPr/>
                      </p:nvSpPr>
                      <p:spPr>
                        <a:xfrm flipV="1">
                          <a:off x="2806560" y="4271400"/>
                          <a:ext cx="30240" cy="334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36" name=""/>
                      <p:cNvGrpSpPr/>
                      <p:nvPr/>
                    </p:nvGrpSpPr>
                    <p:grpSpPr>
                      <a:xfrm>
                        <a:off x="2774880" y="4271760"/>
                        <a:ext cx="44280" cy="41040"/>
                        <a:chOff x="2774880" y="4271760"/>
                        <a:chExt cx="44280" cy="41040"/>
                      </a:xfrm>
                    </p:grpSpPr>
                    <p:sp>
                      <p:nvSpPr>
                        <p:cNvPr id="937" name=""/>
                        <p:cNvSpPr/>
                        <p:nvPr/>
                      </p:nvSpPr>
                      <p:spPr>
                        <a:xfrm flipV="1">
                          <a:off x="2774880" y="4301640"/>
                          <a:ext cx="15840" cy="11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8" name=""/>
                        <p:cNvSpPr/>
                        <p:nvPr/>
                      </p:nvSpPr>
                      <p:spPr>
                        <a:xfrm flipV="1">
                          <a:off x="2790720" y="4271760"/>
                          <a:ext cx="2844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2530440" y="4257720"/>
                      <a:ext cx="325440" cy="31680"/>
                    </a:xfrm>
                    <a:prstGeom prst="line">
                      <a:avLst/>
                    </a:prstGeom>
                    <a:ln w="14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>
                      <a:off x="2517840" y="4267080"/>
                      <a:ext cx="331560" cy="31680"/>
                    </a:xfrm>
                    <a:prstGeom prst="line">
                      <a:avLst/>
                    </a:prstGeom>
                    <a:ln w="14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2504880" y="4275000"/>
                      <a:ext cx="336600" cy="34920"/>
                    </a:xfrm>
                    <a:prstGeom prst="line">
                      <a:avLst/>
                    </a:prstGeom>
                    <a:ln w="32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42" name=""/>
                <p:cNvGrpSpPr/>
                <p:nvPr/>
              </p:nvGrpSpPr>
              <p:grpSpPr>
                <a:xfrm>
                  <a:off x="2844720" y="4281120"/>
                  <a:ext cx="47520" cy="48960"/>
                  <a:chOff x="2844720" y="4281120"/>
                  <a:chExt cx="47520" cy="48960"/>
                </a:xfrm>
              </p:grpSpPr>
              <p:sp>
                <p:nvSpPr>
                  <p:cNvPr id="943" name=""/>
                  <p:cNvSpPr/>
                  <p:nvPr/>
                </p:nvSpPr>
                <p:spPr>
                  <a:xfrm flipV="1">
                    <a:off x="2844720" y="4309560"/>
                    <a:ext cx="25200" cy="20520"/>
                  </a:xfrm>
                  <a:prstGeom prst="line">
                    <a:avLst/>
                  </a:prstGeom>
                  <a:ln w="144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flipV="1">
                    <a:off x="2869920" y="4281120"/>
                    <a:ext cx="22320" cy="28440"/>
                  </a:xfrm>
                  <a:prstGeom prst="line">
                    <a:avLst/>
                  </a:prstGeom>
                  <a:ln w="144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45" name=""/>
          <p:cNvGrpSpPr/>
          <p:nvPr/>
        </p:nvGrpSpPr>
        <p:grpSpPr>
          <a:xfrm>
            <a:off x="3520800" y="2897280"/>
            <a:ext cx="533160" cy="447120"/>
            <a:chOff x="3520800" y="2897280"/>
            <a:chExt cx="533160" cy="447120"/>
          </a:xfrm>
        </p:grpSpPr>
        <p:pic>
          <p:nvPicPr>
            <p:cNvPr id="946" name="" descr=""/>
            <p:cNvPicPr/>
            <p:nvPr/>
          </p:nvPicPr>
          <p:blipFill>
            <a:blip r:embed="rId24"/>
            <a:stretch/>
          </p:blipFill>
          <p:spPr>
            <a:xfrm>
              <a:off x="3520800" y="3116160"/>
              <a:ext cx="533160" cy="22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3567600" y="2897280"/>
              <a:ext cx="36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數據機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505320" y="3886200"/>
            <a:ext cx="596880" cy="466560"/>
            <a:chOff x="3505320" y="3886200"/>
            <a:chExt cx="596880" cy="466560"/>
          </a:xfrm>
        </p:grpSpPr>
        <p:sp>
          <p:nvSpPr>
            <p:cNvPr id="949" name=""/>
            <p:cNvSpPr/>
            <p:nvPr/>
          </p:nvSpPr>
          <p:spPr>
            <a:xfrm>
              <a:off x="3505320" y="4241880"/>
              <a:ext cx="57240" cy="34920"/>
            </a:xfrm>
            <a:custGeom>
              <a:avLst/>
              <a:gdLst/>
              <a:ahLst/>
              <a:rect l="l" t="t" r="r" b="b"/>
              <a:pathLst>
                <a:path w="257" h="153">
                  <a:moveTo>
                    <a:pt x="252" y="0"/>
                  </a:moveTo>
                  <a:lnTo>
                    <a:pt x="193" y="0"/>
                  </a:lnTo>
                  <a:lnTo>
                    <a:pt x="160" y="4"/>
                  </a:lnTo>
                  <a:lnTo>
                    <a:pt x="128" y="9"/>
                  </a:lnTo>
                  <a:lnTo>
                    <a:pt x="89" y="16"/>
                  </a:lnTo>
                  <a:lnTo>
                    <a:pt x="59" y="24"/>
                  </a:lnTo>
                  <a:lnTo>
                    <a:pt x="38" y="31"/>
                  </a:lnTo>
                  <a:lnTo>
                    <a:pt x="24" y="40"/>
                  </a:lnTo>
                  <a:lnTo>
                    <a:pt x="13" y="48"/>
                  </a:lnTo>
                  <a:lnTo>
                    <a:pt x="5" y="58"/>
                  </a:lnTo>
                  <a:lnTo>
                    <a:pt x="0" y="69"/>
                  </a:lnTo>
                  <a:lnTo>
                    <a:pt x="1" y="81"/>
                  </a:lnTo>
                  <a:lnTo>
                    <a:pt x="8" y="92"/>
                  </a:lnTo>
                  <a:lnTo>
                    <a:pt x="17" y="98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79" y="99"/>
                  </a:lnTo>
                  <a:lnTo>
                    <a:pt x="108" y="96"/>
                  </a:lnTo>
                  <a:lnTo>
                    <a:pt x="135" y="98"/>
                  </a:lnTo>
                  <a:lnTo>
                    <a:pt x="155" y="101"/>
                  </a:lnTo>
                  <a:lnTo>
                    <a:pt x="175" y="106"/>
                  </a:lnTo>
                  <a:lnTo>
                    <a:pt x="197" y="115"/>
                  </a:lnTo>
                  <a:lnTo>
                    <a:pt x="257" y="153"/>
                  </a:lnTo>
                  <a:lnTo>
                    <a:pt x="254" y="153"/>
                  </a:lnTo>
                  <a:lnTo>
                    <a:pt x="255" y="150"/>
                  </a:lnTo>
                </a:path>
              </a:pathLst>
            </a:custGeom>
            <a:noFill/>
            <a:ln w="79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0" name=""/>
            <p:cNvGrpSpPr/>
            <p:nvPr/>
          </p:nvGrpSpPr>
          <p:grpSpPr>
            <a:xfrm>
              <a:off x="3554640" y="4145040"/>
              <a:ext cx="469800" cy="160200"/>
              <a:chOff x="3554640" y="4145040"/>
              <a:chExt cx="469800" cy="160200"/>
            </a:xfrm>
          </p:grpSpPr>
          <p:sp>
            <p:nvSpPr>
              <p:cNvPr id="951" name=""/>
              <p:cNvSpPr/>
              <p:nvPr/>
            </p:nvSpPr>
            <p:spPr>
              <a:xfrm>
                <a:off x="3557880" y="4225680"/>
                <a:ext cx="466560" cy="79560"/>
              </a:xfrm>
              <a:custGeom>
                <a:avLst/>
                <a:gdLst/>
                <a:ahLst/>
                <a:rect l="l" t="t" r="r" b="b"/>
                <a:pathLst>
                  <a:path w="2056" h="354">
                    <a:moveTo>
                      <a:pt x="0" y="22"/>
                    </a:moveTo>
                    <a:lnTo>
                      <a:pt x="0" y="178"/>
                    </a:lnTo>
                    <a:lnTo>
                      <a:pt x="1669" y="354"/>
                    </a:lnTo>
                    <a:lnTo>
                      <a:pt x="2056" y="138"/>
                    </a:lnTo>
                    <a:lnTo>
                      <a:pt x="2056" y="0"/>
                    </a:lnTo>
                    <a:lnTo>
                      <a:pt x="1655" y="187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554640" y="4145040"/>
                <a:ext cx="379440" cy="123480"/>
              </a:xfrm>
              <a:custGeom>
                <a:avLst/>
                <a:gdLst/>
                <a:ahLst/>
                <a:rect l="l" t="t" r="r" b="b"/>
                <a:pathLst>
                  <a:path w="1676" h="546">
                    <a:moveTo>
                      <a:pt x="0" y="0"/>
                    </a:moveTo>
                    <a:lnTo>
                      <a:pt x="1676" y="120"/>
                    </a:lnTo>
                    <a:lnTo>
                      <a:pt x="1676" y="546"/>
                    </a:lnTo>
                    <a:lnTo>
                      <a:pt x="0" y="3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3" name=""/>
              <p:cNvGrpSpPr/>
              <p:nvPr/>
            </p:nvGrpSpPr>
            <p:grpSpPr>
              <a:xfrm>
                <a:off x="3556080" y="4167000"/>
                <a:ext cx="379440" cy="49320"/>
                <a:chOff x="3556080" y="4167000"/>
                <a:chExt cx="379440" cy="49320"/>
              </a:xfrm>
            </p:grpSpPr>
            <p:sp>
              <p:nvSpPr>
                <p:cNvPr id="954" name=""/>
                <p:cNvSpPr/>
                <p:nvPr/>
              </p:nvSpPr>
              <p:spPr>
                <a:xfrm>
                  <a:off x="3556080" y="4167000"/>
                  <a:ext cx="378000" cy="28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3834000" y="4189320"/>
                  <a:ext cx="79200" cy="7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740400" y="4182840"/>
                  <a:ext cx="79200" cy="6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3556080" y="4182840"/>
                  <a:ext cx="379440" cy="334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8" name=""/>
            <p:cNvGrpSpPr/>
            <p:nvPr/>
          </p:nvGrpSpPr>
          <p:grpSpPr>
            <a:xfrm>
              <a:off x="3554640" y="4127400"/>
              <a:ext cx="469800" cy="44280"/>
              <a:chOff x="3554640" y="4127400"/>
              <a:chExt cx="469800" cy="44280"/>
            </a:xfrm>
          </p:grpSpPr>
          <p:sp>
            <p:nvSpPr>
              <p:cNvPr id="959" name=""/>
              <p:cNvSpPr/>
              <p:nvPr/>
            </p:nvSpPr>
            <p:spPr>
              <a:xfrm>
                <a:off x="3554640" y="4127400"/>
                <a:ext cx="469800" cy="44280"/>
              </a:xfrm>
              <a:custGeom>
                <a:avLst/>
                <a:gdLst/>
                <a:ahLst/>
                <a:rect l="l" t="t" r="r" b="b"/>
                <a:pathLst>
                  <a:path w="2075" h="195">
                    <a:moveTo>
                      <a:pt x="0" y="75"/>
                    </a:moveTo>
                    <a:lnTo>
                      <a:pt x="1675" y="195"/>
                    </a:lnTo>
                    <a:lnTo>
                      <a:pt x="2075" y="81"/>
                    </a:lnTo>
                    <a:lnTo>
                      <a:pt x="1934" y="65"/>
                    </a:lnTo>
                    <a:lnTo>
                      <a:pt x="639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660840" y="4136760"/>
                <a:ext cx="346320" cy="28800"/>
              </a:xfrm>
              <a:custGeom>
                <a:avLst/>
                <a:gdLst/>
                <a:ahLst/>
                <a:rect l="l" t="t" r="r" b="b"/>
                <a:pathLst>
                  <a:path w="1525" h="124">
                    <a:moveTo>
                      <a:pt x="124" y="0"/>
                    </a:moveTo>
                    <a:lnTo>
                      <a:pt x="0" y="46"/>
                    </a:lnTo>
                    <a:lnTo>
                      <a:pt x="1231" y="124"/>
                    </a:lnTo>
                    <a:lnTo>
                      <a:pt x="1432" y="69"/>
                    </a:lnTo>
                    <a:lnTo>
                      <a:pt x="1415" y="61"/>
                    </a:lnTo>
                    <a:lnTo>
                      <a:pt x="1525" y="31"/>
                    </a:lnTo>
                    <a:lnTo>
                      <a:pt x="1457" y="24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3938760" y="3890880"/>
              <a:ext cx="85680" cy="268200"/>
              <a:chOff x="3938760" y="3890880"/>
              <a:chExt cx="85680" cy="268200"/>
            </a:xfrm>
          </p:grpSpPr>
          <p:grpSp>
            <p:nvGrpSpPr>
              <p:cNvPr id="962" name=""/>
              <p:cNvGrpSpPr/>
              <p:nvPr/>
            </p:nvGrpSpPr>
            <p:grpSpPr>
              <a:xfrm>
                <a:off x="3972240" y="3924360"/>
                <a:ext cx="52200" cy="225360"/>
                <a:chOff x="3972240" y="3924360"/>
                <a:chExt cx="52200" cy="225360"/>
              </a:xfrm>
            </p:grpSpPr>
            <p:sp>
              <p:nvSpPr>
                <p:cNvPr id="963" name=""/>
                <p:cNvSpPr/>
                <p:nvPr/>
              </p:nvSpPr>
              <p:spPr>
                <a:xfrm>
                  <a:off x="3972240" y="3924360"/>
                  <a:ext cx="52200" cy="225360"/>
                </a:xfrm>
                <a:custGeom>
                  <a:avLst/>
                  <a:gdLst/>
                  <a:ahLst/>
                  <a:rect l="l" t="t" r="r" b="b"/>
                  <a:pathLst>
                    <a:path w="231" h="992">
                      <a:moveTo>
                        <a:pt x="22" y="0"/>
                      </a:moveTo>
                      <a:lnTo>
                        <a:pt x="231" y="82"/>
                      </a:lnTo>
                      <a:lnTo>
                        <a:pt x="211" y="469"/>
                      </a:lnTo>
                      <a:lnTo>
                        <a:pt x="189" y="935"/>
                      </a:lnTo>
                      <a:lnTo>
                        <a:pt x="0" y="992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4" name=""/>
                <p:cNvGrpSpPr/>
                <p:nvPr/>
              </p:nvGrpSpPr>
              <p:grpSpPr>
                <a:xfrm>
                  <a:off x="3972240" y="3935160"/>
                  <a:ext cx="50760" cy="188640"/>
                  <a:chOff x="3972240" y="3935160"/>
                  <a:chExt cx="50760" cy="188640"/>
                </a:xfrm>
              </p:grpSpPr>
              <p:grpSp>
                <p:nvGrpSpPr>
                  <p:cNvPr id="965" name=""/>
                  <p:cNvGrpSpPr/>
                  <p:nvPr/>
                </p:nvGrpSpPr>
                <p:grpSpPr>
                  <a:xfrm>
                    <a:off x="3972240" y="3935160"/>
                    <a:ext cx="50760" cy="188640"/>
                    <a:chOff x="3972240" y="3935160"/>
                    <a:chExt cx="50760" cy="188640"/>
                  </a:xfrm>
                </p:grpSpPr>
                <p:grpSp>
                  <p:nvGrpSpPr>
                    <p:cNvPr id="966" name=""/>
                    <p:cNvGrpSpPr/>
                    <p:nvPr/>
                  </p:nvGrpSpPr>
                  <p:grpSpPr>
                    <a:xfrm>
                      <a:off x="3972240" y="3935160"/>
                      <a:ext cx="50760" cy="113040"/>
                      <a:chOff x="3972240" y="3935160"/>
                      <a:chExt cx="50760" cy="113040"/>
                    </a:xfrm>
                  </p:grpSpPr>
                  <p:grpSp>
                    <p:nvGrpSpPr>
                      <p:cNvPr id="967" name=""/>
                      <p:cNvGrpSpPr/>
                      <p:nvPr/>
                    </p:nvGrpSpPr>
                    <p:grpSpPr>
                      <a:xfrm>
                        <a:off x="3975120" y="3935160"/>
                        <a:ext cx="47880" cy="60480"/>
                        <a:chOff x="3975120" y="3935160"/>
                        <a:chExt cx="47880" cy="60480"/>
                      </a:xfrm>
                    </p:grpSpPr>
                    <p:sp>
                      <p:nvSpPr>
                        <p:cNvPr id="968" name=""/>
                        <p:cNvSpPr/>
                        <p:nvPr/>
                      </p:nvSpPr>
                      <p:spPr>
                        <a:xfrm>
                          <a:off x="3976920" y="3935160"/>
                          <a:ext cx="46080" cy="176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9" name=""/>
                        <p:cNvSpPr/>
                        <p:nvPr/>
                      </p:nvSpPr>
                      <p:spPr>
                        <a:xfrm>
                          <a:off x="3976920" y="3944880"/>
                          <a:ext cx="46080" cy="158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0" name=""/>
                        <p:cNvSpPr/>
                        <p:nvPr/>
                      </p:nvSpPr>
                      <p:spPr>
                        <a:xfrm>
                          <a:off x="3976920" y="3954240"/>
                          <a:ext cx="46080" cy="144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1" name=""/>
                        <p:cNvSpPr/>
                        <p:nvPr/>
                      </p:nvSpPr>
                      <p:spPr>
                        <a:xfrm>
                          <a:off x="3976920" y="3963960"/>
                          <a:ext cx="46080" cy="144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2" name=""/>
                        <p:cNvSpPr/>
                        <p:nvPr/>
                      </p:nvSpPr>
                      <p:spPr>
                        <a:xfrm>
                          <a:off x="3975120" y="3973320"/>
                          <a:ext cx="46080" cy="144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3" name=""/>
                        <p:cNvSpPr/>
                        <p:nvPr/>
                      </p:nvSpPr>
                      <p:spPr>
                        <a:xfrm>
                          <a:off x="3975120" y="3983040"/>
                          <a:ext cx="46080" cy="126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974" name=""/>
                      <p:cNvSpPr/>
                      <p:nvPr/>
                    </p:nvSpPr>
                    <p:spPr>
                      <a:xfrm>
                        <a:off x="3972240" y="4003560"/>
                        <a:ext cx="47520" cy="97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5" name=""/>
                      <p:cNvSpPr/>
                      <p:nvPr/>
                    </p:nvSpPr>
                    <p:spPr>
                      <a:xfrm>
                        <a:off x="3972240" y="4013280"/>
                        <a:ext cx="47520" cy="79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6" name=""/>
                      <p:cNvSpPr/>
                      <p:nvPr/>
                    </p:nvSpPr>
                    <p:spPr>
                      <a:xfrm>
                        <a:off x="3972240" y="4022640"/>
                        <a:ext cx="45720" cy="79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3972240" y="4033800"/>
                        <a:ext cx="45720" cy="46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8" name=""/>
                      <p:cNvSpPr/>
                      <p:nvPr/>
                    </p:nvSpPr>
                    <p:spPr>
                      <a:xfrm>
                        <a:off x="3972240" y="4043160"/>
                        <a:ext cx="45720" cy="50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79" name=""/>
                    <p:cNvGrpSpPr/>
                    <p:nvPr/>
                  </p:nvGrpSpPr>
                  <p:grpSpPr>
                    <a:xfrm>
                      <a:off x="3972240" y="4054320"/>
                      <a:ext cx="45720" cy="69480"/>
                      <a:chOff x="3972240" y="4054320"/>
                      <a:chExt cx="45720" cy="69480"/>
                    </a:xfrm>
                  </p:grpSpPr>
                  <p:sp>
                    <p:nvSpPr>
                      <p:cNvPr id="980" name=""/>
                      <p:cNvSpPr/>
                      <p:nvPr/>
                    </p:nvSpPr>
                    <p:spPr>
                      <a:xfrm>
                        <a:off x="3972240" y="4054320"/>
                        <a:ext cx="4572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1" name=""/>
                      <p:cNvSpPr/>
                      <p:nvPr/>
                    </p:nvSpPr>
                    <p:spPr>
                      <a:xfrm>
                        <a:off x="3973680" y="4064040"/>
                        <a:ext cx="428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2" name=""/>
                      <p:cNvSpPr/>
                      <p:nvPr/>
                    </p:nvSpPr>
                    <p:spPr>
                      <a:xfrm>
                        <a:off x="3972240" y="4073400"/>
                        <a:ext cx="4428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3" name=""/>
                      <p:cNvSpPr/>
                      <p:nvPr/>
                    </p:nvSpPr>
                    <p:spPr>
                      <a:xfrm flipV="1">
                        <a:off x="3972240" y="4083120"/>
                        <a:ext cx="4428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4" name=""/>
                      <p:cNvSpPr/>
                      <p:nvPr/>
                    </p:nvSpPr>
                    <p:spPr>
                      <a:xfrm flipV="1">
                        <a:off x="3972240" y="4091040"/>
                        <a:ext cx="42840" cy="28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5" name=""/>
                      <p:cNvSpPr/>
                      <p:nvPr/>
                    </p:nvSpPr>
                    <p:spPr>
                      <a:xfrm flipV="1">
                        <a:off x="3972240" y="4100040"/>
                        <a:ext cx="42840" cy="32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6" name=""/>
                      <p:cNvSpPr/>
                      <p:nvPr/>
                    </p:nvSpPr>
                    <p:spPr>
                      <a:xfrm flipV="1">
                        <a:off x="3972240" y="4107960"/>
                        <a:ext cx="42840" cy="46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7" name=""/>
                      <p:cNvSpPr/>
                      <p:nvPr/>
                    </p:nvSpPr>
                    <p:spPr>
                      <a:xfrm flipV="1">
                        <a:off x="3972240" y="4117680"/>
                        <a:ext cx="42840" cy="61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988" name=""/>
                  <p:cNvSpPr/>
                  <p:nvPr/>
                </p:nvSpPr>
                <p:spPr>
                  <a:xfrm>
                    <a:off x="3973680" y="3994200"/>
                    <a:ext cx="46080" cy="9360"/>
                  </a:xfrm>
                  <a:prstGeom prst="line">
                    <a:avLst/>
                  </a:prstGeom>
                  <a:ln w="14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9" name=""/>
              <p:cNvGrpSpPr/>
              <p:nvPr/>
            </p:nvGrpSpPr>
            <p:grpSpPr>
              <a:xfrm>
                <a:off x="3938760" y="3890880"/>
                <a:ext cx="45720" cy="268200"/>
                <a:chOff x="3938760" y="3890880"/>
                <a:chExt cx="45720" cy="2682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3938760" y="3890880"/>
                  <a:ext cx="44280" cy="268200"/>
                </a:xfrm>
                <a:custGeom>
                  <a:avLst/>
                  <a:gdLst/>
                  <a:ahLst/>
                  <a:rect l="l" t="t" r="r" b="b"/>
                  <a:pathLst>
                    <a:path w="202" h="1184">
                      <a:moveTo>
                        <a:pt x="48" y="0"/>
                      </a:moveTo>
                      <a:lnTo>
                        <a:pt x="191" y="61"/>
                      </a:lnTo>
                      <a:lnTo>
                        <a:pt x="202" y="74"/>
                      </a:lnTo>
                      <a:lnTo>
                        <a:pt x="159" y="1136"/>
                      </a:lnTo>
                      <a:lnTo>
                        <a:pt x="141" y="1149"/>
                      </a:lnTo>
                      <a:lnTo>
                        <a:pt x="0" y="1184"/>
                      </a:lnTo>
                      <a:lnTo>
                        <a:pt x="19" y="1165"/>
                      </a:lnTo>
                      <a:lnTo>
                        <a:pt x="20" y="115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3978360" y="39052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789" y="772"/>
                      </a:moveTo>
                      <a:arcTo wR="10800" hR="10800" stAng="-6708084" swAng="670808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789" y="772"/>
                      </a:moveTo>
                      <a:arcTo wR="10800" hR="10800" stAng="-6708084" swAng="6708084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2" name=""/>
            <p:cNvGrpSpPr/>
            <p:nvPr/>
          </p:nvGrpSpPr>
          <p:grpSpPr>
            <a:xfrm>
              <a:off x="3956040" y="4295520"/>
              <a:ext cx="146160" cy="57240"/>
              <a:chOff x="3956040" y="4295520"/>
              <a:chExt cx="146160" cy="57240"/>
            </a:xfrm>
          </p:grpSpPr>
          <p:sp>
            <p:nvSpPr>
              <p:cNvPr id="993" name=""/>
              <p:cNvSpPr/>
              <p:nvPr/>
            </p:nvSpPr>
            <p:spPr>
              <a:xfrm>
                <a:off x="3956040" y="4295520"/>
                <a:ext cx="146160" cy="38160"/>
              </a:xfrm>
              <a:custGeom>
                <a:avLst/>
                <a:gdLst/>
                <a:ahLst/>
                <a:rect l="l" t="t" r="r" b="b"/>
                <a:pathLst>
                  <a:path w="643" h="167">
                    <a:moveTo>
                      <a:pt x="0" y="0"/>
                    </a:moveTo>
                    <a:lnTo>
                      <a:pt x="119" y="8"/>
                    </a:lnTo>
                    <a:lnTo>
                      <a:pt x="208" y="12"/>
                    </a:lnTo>
                    <a:lnTo>
                      <a:pt x="288" y="21"/>
                    </a:lnTo>
                    <a:lnTo>
                      <a:pt x="367" y="31"/>
                    </a:lnTo>
                    <a:lnTo>
                      <a:pt x="423" y="39"/>
                    </a:lnTo>
                    <a:lnTo>
                      <a:pt x="491" y="50"/>
                    </a:lnTo>
                    <a:lnTo>
                      <a:pt x="529" y="57"/>
                    </a:lnTo>
                    <a:lnTo>
                      <a:pt x="558" y="63"/>
                    </a:lnTo>
                    <a:lnTo>
                      <a:pt x="574" y="67"/>
                    </a:lnTo>
                    <a:lnTo>
                      <a:pt x="587" y="71"/>
                    </a:lnTo>
                    <a:lnTo>
                      <a:pt x="603" y="76"/>
                    </a:lnTo>
                    <a:lnTo>
                      <a:pt x="619" y="82"/>
                    </a:lnTo>
                    <a:lnTo>
                      <a:pt x="634" y="90"/>
                    </a:lnTo>
                    <a:lnTo>
                      <a:pt x="642" y="99"/>
                    </a:lnTo>
                    <a:lnTo>
                      <a:pt x="643" y="106"/>
                    </a:lnTo>
                    <a:lnTo>
                      <a:pt x="639" y="117"/>
                    </a:lnTo>
                    <a:lnTo>
                      <a:pt x="634" y="129"/>
                    </a:lnTo>
                    <a:lnTo>
                      <a:pt x="626" y="139"/>
                    </a:lnTo>
                    <a:lnTo>
                      <a:pt x="616" y="146"/>
                    </a:lnTo>
                    <a:lnTo>
                      <a:pt x="602" y="155"/>
                    </a:lnTo>
                    <a:lnTo>
                      <a:pt x="586" y="161"/>
                    </a:lnTo>
                    <a:lnTo>
                      <a:pt x="569" y="163"/>
                    </a:lnTo>
                    <a:lnTo>
                      <a:pt x="550" y="166"/>
                    </a:lnTo>
                    <a:lnTo>
                      <a:pt x="526" y="167"/>
                    </a:lnTo>
                    <a:lnTo>
                      <a:pt x="504" y="165"/>
                    </a:lnTo>
                    <a:lnTo>
                      <a:pt x="468" y="160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4" name=""/>
              <p:cNvGrpSpPr/>
              <p:nvPr/>
            </p:nvGrpSpPr>
            <p:grpSpPr>
              <a:xfrm>
                <a:off x="3962520" y="4314600"/>
                <a:ext cx="101520" cy="38160"/>
                <a:chOff x="3962520" y="4314600"/>
                <a:chExt cx="101520" cy="38160"/>
              </a:xfrm>
            </p:grpSpPr>
            <p:grpSp>
              <p:nvGrpSpPr>
                <p:cNvPr id="995" name=""/>
                <p:cNvGrpSpPr/>
                <p:nvPr/>
              </p:nvGrpSpPr>
              <p:grpSpPr>
                <a:xfrm>
                  <a:off x="3962520" y="4314600"/>
                  <a:ext cx="101520" cy="38160"/>
                  <a:chOff x="3962520" y="4314600"/>
                  <a:chExt cx="101520" cy="38160"/>
                </a:xfrm>
              </p:grpSpPr>
              <p:sp>
                <p:nvSpPr>
                  <p:cNvPr id="996" name=""/>
                  <p:cNvSpPr/>
                  <p:nvPr/>
                </p:nvSpPr>
                <p:spPr>
                  <a:xfrm>
                    <a:off x="3962520" y="4314600"/>
                    <a:ext cx="633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112">
                        <a:moveTo>
                          <a:pt x="0" y="67"/>
                        </a:moveTo>
                        <a:lnTo>
                          <a:pt x="74" y="0"/>
                        </a:lnTo>
                        <a:lnTo>
                          <a:pt x="281" y="37"/>
                        </a:lnTo>
                        <a:lnTo>
                          <a:pt x="199" y="112"/>
                        </a:lnTo>
                        <a:lnTo>
                          <a:pt x="0" y="67"/>
                        </a:lnTo>
                        <a:close/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3962520" y="4329000"/>
                    <a:ext cx="44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106">
                        <a:moveTo>
                          <a:pt x="0" y="0"/>
                        </a:moveTo>
                        <a:lnTo>
                          <a:pt x="0" y="59"/>
                        </a:lnTo>
                        <a:lnTo>
                          <a:pt x="2" y="59"/>
                        </a:lnTo>
                        <a:lnTo>
                          <a:pt x="199" y="106"/>
                        </a:lnTo>
                        <a:lnTo>
                          <a:pt x="199" y="4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4007160" y="4322520"/>
                    <a:ext cx="56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136">
                        <a:moveTo>
                          <a:pt x="0" y="74"/>
                        </a:moveTo>
                        <a:lnTo>
                          <a:pt x="81" y="0"/>
                        </a:lnTo>
                        <a:lnTo>
                          <a:pt x="253" y="20"/>
                        </a:lnTo>
                        <a:lnTo>
                          <a:pt x="253" y="76"/>
                        </a:lnTo>
                        <a:lnTo>
                          <a:pt x="0" y="136"/>
                        </a:lnTo>
                        <a:lnTo>
                          <a:pt x="0" y="7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3978360" y="4314600"/>
                    <a:ext cx="856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56">
                        <a:moveTo>
                          <a:pt x="0" y="0"/>
                        </a:moveTo>
                        <a:lnTo>
                          <a:pt x="190" y="13"/>
                        </a:lnTo>
                        <a:lnTo>
                          <a:pt x="379" y="56"/>
                        </a:lnTo>
                        <a:lnTo>
                          <a:pt x="207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0" name=""/>
                <p:cNvGrpSpPr/>
                <p:nvPr/>
              </p:nvGrpSpPr>
              <p:grpSpPr>
                <a:xfrm>
                  <a:off x="3962520" y="4325400"/>
                  <a:ext cx="101520" cy="18000"/>
                  <a:chOff x="3962520" y="4325400"/>
                  <a:chExt cx="101520" cy="18000"/>
                </a:xfrm>
              </p:grpSpPr>
              <p:sp>
                <p:nvSpPr>
                  <p:cNvPr id="1001" name=""/>
                  <p:cNvSpPr/>
                  <p:nvPr/>
                </p:nvSpPr>
                <p:spPr>
                  <a:xfrm>
                    <a:off x="3962520" y="4332240"/>
                    <a:ext cx="44640" cy="11160"/>
                  </a:xfrm>
                  <a:prstGeom prst="line">
                    <a:avLst/>
                  </a:prstGeom>
                  <a:ln w="14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 flipV="1">
                    <a:off x="4007160" y="4325400"/>
                    <a:ext cx="18720" cy="1764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4027680" y="4325760"/>
                    <a:ext cx="36360" cy="324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04" name=""/>
            <p:cNvSpPr/>
            <p:nvPr/>
          </p:nvSpPr>
          <p:spPr>
            <a:xfrm>
              <a:off x="3935520" y="4222800"/>
              <a:ext cx="88920" cy="82440"/>
            </a:xfrm>
            <a:custGeom>
              <a:avLst/>
              <a:gdLst/>
              <a:ahLst/>
              <a:rect l="l" t="t" r="r" b="b"/>
              <a:pathLst>
                <a:path w="390" h="364">
                  <a:moveTo>
                    <a:pt x="0" y="183"/>
                  </a:moveTo>
                  <a:lnTo>
                    <a:pt x="390" y="0"/>
                  </a:lnTo>
                  <a:lnTo>
                    <a:pt x="390" y="147"/>
                  </a:lnTo>
                  <a:lnTo>
                    <a:pt x="0" y="364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934080" y="4146480"/>
              <a:ext cx="91800" cy="122040"/>
            </a:xfrm>
            <a:custGeom>
              <a:avLst/>
              <a:gdLst/>
              <a:ahLst/>
              <a:rect l="l" t="t" r="r" b="b"/>
              <a:pathLst>
                <a:path w="402" h="538">
                  <a:moveTo>
                    <a:pt x="0" y="114"/>
                  </a:moveTo>
                  <a:lnTo>
                    <a:pt x="402" y="0"/>
                  </a:lnTo>
                  <a:lnTo>
                    <a:pt x="402" y="355"/>
                  </a:lnTo>
                  <a:lnTo>
                    <a:pt x="1" y="538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687840" y="3927240"/>
              <a:ext cx="225360" cy="187560"/>
            </a:xfrm>
            <a:custGeom>
              <a:avLst/>
              <a:gdLst/>
              <a:ahLst/>
              <a:rect l="l" t="t" r="r" b="b"/>
              <a:pathLst>
                <a:path w="992" h="822">
                  <a:moveTo>
                    <a:pt x="39" y="0"/>
                  </a:moveTo>
                  <a:lnTo>
                    <a:pt x="992" y="0"/>
                  </a:lnTo>
                  <a:lnTo>
                    <a:pt x="953" y="822"/>
                  </a:lnTo>
                  <a:lnTo>
                    <a:pt x="0" y="77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540240" y="4241880"/>
              <a:ext cx="420840" cy="83880"/>
            </a:xfrm>
            <a:custGeom>
              <a:avLst/>
              <a:gdLst/>
              <a:ahLst/>
              <a:rect l="l" t="t" r="r" b="b"/>
              <a:pathLst>
                <a:path w="1849" h="375">
                  <a:moveTo>
                    <a:pt x="301" y="0"/>
                  </a:moveTo>
                  <a:lnTo>
                    <a:pt x="1849" y="153"/>
                  </a:lnTo>
                  <a:lnTo>
                    <a:pt x="1740" y="290"/>
                  </a:lnTo>
                  <a:lnTo>
                    <a:pt x="1634" y="375"/>
                  </a:lnTo>
                  <a:lnTo>
                    <a:pt x="0" y="187"/>
                  </a:lnTo>
                  <a:lnTo>
                    <a:pt x="122" y="134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3934080" y="4154400"/>
              <a:ext cx="90360" cy="106200"/>
              <a:chOff x="3934080" y="4154400"/>
              <a:chExt cx="90360" cy="106200"/>
            </a:xfrm>
          </p:grpSpPr>
          <p:sp>
            <p:nvSpPr>
              <p:cNvPr id="1009" name=""/>
              <p:cNvSpPr/>
              <p:nvPr/>
            </p:nvSpPr>
            <p:spPr>
              <a:xfrm flipV="1">
                <a:off x="3934080" y="4182480"/>
                <a:ext cx="90360" cy="334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V="1">
                <a:off x="3949920" y="4192200"/>
                <a:ext cx="74520" cy="284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V="1">
                <a:off x="3949920" y="4201920"/>
                <a:ext cx="74520" cy="302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949920" y="4209480"/>
                <a:ext cx="74520" cy="320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V="1">
                <a:off x="3949920" y="4219560"/>
                <a:ext cx="74520" cy="331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V="1">
                <a:off x="3949920" y="4173120"/>
                <a:ext cx="74520" cy="2700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V="1">
                <a:off x="3949920" y="4163400"/>
                <a:ext cx="74520" cy="241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V="1">
                <a:off x="3949920" y="4154400"/>
                <a:ext cx="74520" cy="223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3949920" y="4168800"/>
                <a:ext cx="1440" cy="9180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3657600" y="3886200"/>
              <a:ext cx="295560" cy="272880"/>
              <a:chOff x="3657600" y="3886200"/>
              <a:chExt cx="295560" cy="272880"/>
            </a:xfrm>
          </p:grpSpPr>
          <p:grpSp>
            <p:nvGrpSpPr>
              <p:cNvPr id="1019" name=""/>
              <p:cNvGrpSpPr/>
              <p:nvPr/>
            </p:nvGrpSpPr>
            <p:grpSpPr>
              <a:xfrm>
                <a:off x="3657600" y="3886200"/>
                <a:ext cx="295560" cy="272880"/>
                <a:chOff x="3657600" y="3886200"/>
                <a:chExt cx="295560" cy="272880"/>
              </a:xfrm>
            </p:grpSpPr>
            <p:grpSp>
              <p:nvGrpSpPr>
                <p:cNvPr id="1020" name=""/>
                <p:cNvGrpSpPr/>
                <p:nvPr/>
              </p:nvGrpSpPr>
              <p:grpSpPr>
                <a:xfrm>
                  <a:off x="3657600" y="3886200"/>
                  <a:ext cx="295560" cy="272880"/>
                  <a:chOff x="3657600" y="3886200"/>
                  <a:chExt cx="295560" cy="272880"/>
                </a:xfrm>
              </p:grpSpPr>
              <p:sp>
                <p:nvSpPr>
                  <p:cNvPr id="1021" name=""/>
                  <p:cNvSpPr/>
                  <p:nvPr/>
                </p:nvSpPr>
                <p:spPr>
                  <a:xfrm>
                    <a:off x="3657600" y="3886200"/>
                    <a:ext cx="29556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07" h="1209">
                        <a:moveTo>
                          <a:pt x="104" y="20"/>
                        </a:moveTo>
                        <a:lnTo>
                          <a:pt x="216" y="14"/>
                        </a:lnTo>
                        <a:lnTo>
                          <a:pt x="368" y="4"/>
                        </a:lnTo>
                        <a:lnTo>
                          <a:pt x="526" y="0"/>
                        </a:lnTo>
                        <a:lnTo>
                          <a:pt x="712" y="0"/>
                        </a:lnTo>
                        <a:lnTo>
                          <a:pt x="842" y="2"/>
                        </a:lnTo>
                        <a:lnTo>
                          <a:pt x="1042" y="9"/>
                        </a:lnTo>
                        <a:lnTo>
                          <a:pt x="1236" y="19"/>
                        </a:lnTo>
                        <a:lnTo>
                          <a:pt x="1282" y="21"/>
                        </a:lnTo>
                        <a:lnTo>
                          <a:pt x="1292" y="26"/>
                        </a:lnTo>
                        <a:lnTo>
                          <a:pt x="1300" y="31"/>
                        </a:lnTo>
                        <a:lnTo>
                          <a:pt x="1306" y="40"/>
                        </a:lnTo>
                        <a:lnTo>
                          <a:pt x="1307" y="50"/>
                        </a:lnTo>
                        <a:lnTo>
                          <a:pt x="1258" y="1186"/>
                        </a:lnTo>
                        <a:lnTo>
                          <a:pt x="1252" y="1204"/>
                        </a:lnTo>
                        <a:lnTo>
                          <a:pt x="1236" y="1209"/>
                        </a:lnTo>
                        <a:lnTo>
                          <a:pt x="814" y="1180"/>
                        </a:lnTo>
                        <a:lnTo>
                          <a:pt x="400" y="1151"/>
                        </a:lnTo>
                        <a:lnTo>
                          <a:pt x="19" y="1123"/>
                        </a:lnTo>
                        <a:lnTo>
                          <a:pt x="0" y="1094"/>
                        </a:lnTo>
                        <a:lnTo>
                          <a:pt x="58" y="57"/>
                        </a:lnTo>
                        <a:lnTo>
                          <a:pt x="104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3940200" y="3890880"/>
                    <a:ext cx="129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33086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330866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3670560" y="3889440"/>
                    <a:ext cx="27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5" y="9373"/>
                        </a:moveTo>
                        <a:arcTo wR="10800" hR="10800" stAng="-10344321" swAng="494432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5" y="9373"/>
                        </a:moveTo>
                        <a:arcTo wR="10800" hR="10800" stAng="-10344321" swAng="4944321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3657600" y="4124160"/>
                    <a:ext cx="12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833" y="21184"/>
                        </a:moveTo>
                        <a:arcTo wR="10800" hR="10800" stAng="6356723" swAng="44432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833" y="21184"/>
                        </a:moveTo>
                        <a:arcTo wR="10800" hR="10800" stAng="6356723" swAng="4443277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3687840" y="3927240"/>
                  <a:ext cx="225360" cy="187560"/>
                  <a:chOff x="3687840" y="3927240"/>
                  <a:chExt cx="225360" cy="187560"/>
                </a:xfrm>
              </p:grpSpPr>
              <p:grpSp>
                <p:nvGrpSpPr>
                  <p:cNvPr id="1026" name=""/>
                  <p:cNvGrpSpPr/>
                  <p:nvPr/>
                </p:nvGrpSpPr>
                <p:grpSpPr>
                  <a:xfrm>
                    <a:off x="3687840" y="3927240"/>
                    <a:ext cx="225360" cy="187560"/>
                    <a:chOff x="3687840" y="3927240"/>
                    <a:chExt cx="225360" cy="187560"/>
                  </a:xfrm>
                </p:grpSpPr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3697560" y="3927240"/>
                      <a:ext cx="2156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17">
                          <a:moveTo>
                            <a:pt x="0" y="0"/>
                          </a:moveTo>
                          <a:lnTo>
                            <a:pt x="952" y="1"/>
                          </a:lnTo>
                          <a:lnTo>
                            <a:pt x="931" y="17"/>
                          </a:lnTo>
                          <a:lnTo>
                            <a:pt x="21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3899160" y="3927240"/>
                      <a:ext cx="14040" cy="18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822">
                          <a:moveTo>
                            <a:pt x="39" y="16"/>
                          </a:moveTo>
                          <a:lnTo>
                            <a:pt x="61" y="0"/>
                          </a:lnTo>
                          <a:lnTo>
                            <a:pt x="40" y="446"/>
                          </a:lnTo>
                          <a:lnTo>
                            <a:pt x="20" y="822"/>
                          </a:lnTo>
                          <a:lnTo>
                            <a:pt x="0" y="799"/>
                          </a:lnTo>
                          <a:lnTo>
                            <a:pt x="39" y="1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3687840" y="4098960"/>
                      <a:ext cx="21600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67">
                          <a:moveTo>
                            <a:pt x="22" y="0"/>
                          </a:moveTo>
                          <a:lnTo>
                            <a:pt x="0" y="21"/>
                          </a:lnTo>
                          <a:lnTo>
                            <a:pt x="952" y="67"/>
                          </a:lnTo>
                          <a:lnTo>
                            <a:pt x="932" y="45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3687840" y="3927240"/>
                      <a:ext cx="14400" cy="17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775">
                          <a:moveTo>
                            <a:pt x="39" y="0"/>
                          </a:moveTo>
                          <a:lnTo>
                            <a:pt x="60" y="16"/>
                          </a:lnTo>
                          <a:lnTo>
                            <a:pt x="22" y="754"/>
                          </a:lnTo>
                          <a:lnTo>
                            <a:pt x="0" y="775"/>
                          </a:lnTo>
                          <a:lnTo>
                            <a:pt x="39" y="0"/>
                          </a:lnTo>
                          <a:close/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1" name=""/>
                  <p:cNvGrpSpPr/>
                  <p:nvPr/>
                </p:nvGrpSpPr>
                <p:grpSpPr>
                  <a:xfrm>
                    <a:off x="3692520" y="3932280"/>
                    <a:ext cx="216000" cy="177840"/>
                    <a:chOff x="3692520" y="3932280"/>
                    <a:chExt cx="216000" cy="177840"/>
                  </a:xfrm>
                </p:grpSpPr>
                <p:sp>
                  <p:nvSpPr>
                    <p:cNvPr id="1032" name=""/>
                    <p:cNvSpPr/>
                    <p:nvPr/>
                  </p:nvSpPr>
                  <p:spPr>
                    <a:xfrm>
                      <a:off x="3692520" y="3932280"/>
                      <a:ext cx="2160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9" h="783">
                          <a:moveTo>
                            <a:pt x="39" y="0"/>
                          </a:moveTo>
                          <a:lnTo>
                            <a:pt x="949" y="0"/>
                          </a:lnTo>
                          <a:lnTo>
                            <a:pt x="911" y="783"/>
                          </a:lnTo>
                          <a:lnTo>
                            <a:pt x="0" y="738"/>
                          </a:lnTo>
                          <a:lnTo>
                            <a:pt x="3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3700440" y="3938400"/>
                      <a:ext cx="200160" cy="16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4" h="723">
                          <a:moveTo>
                            <a:pt x="32" y="1"/>
                          </a:moveTo>
                          <a:lnTo>
                            <a:pt x="884" y="0"/>
                          </a:lnTo>
                          <a:lnTo>
                            <a:pt x="847" y="723"/>
                          </a:lnTo>
                          <a:lnTo>
                            <a:pt x="0" y="686"/>
                          </a:lnTo>
                          <a:lnTo>
                            <a:pt x="32" y="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3703680" y="3948120"/>
                      <a:ext cx="18900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4" h="653">
                          <a:moveTo>
                            <a:pt x="31" y="0"/>
                          </a:moveTo>
                          <a:lnTo>
                            <a:pt x="834" y="0"/>
                          </a:lnTo>
                          <a:lnTo>
                            <a:pt x="801" y="653"/>
                          </a:lnTo>
                          <a:lnTo>
                            <a:pt x="0" y="620"/>
                          </a:lnTo>
                          <a:lnTo>
                            <a:pt x="31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035" name=""/>
              <p:cNvSpPr/>
              <p:nvPr/>
            </p:nvSpPr>
            <p:spPr>
              <a:xfrm>
                <a:off x="3894120" y="4136760"/>
                <a:ext cx="12960" cy="504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0" y="0"/>
                    </a:moveTo>
                    <a:lnTo>
                      <a:pt x="55" y="1"/>
                    </a:lnTo>
                    <a:lnTo>
                      <a:pt x="55" y="19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3541680" y="4246560"/>
              <a:ext cx="419400" cy="95040"/>
              <a:chOff x="3541680" y="4246560"/>
              <a:chExt cx="419400" cy="95040"/>
            </a:xfrm>
          </p:grpSpPr>
          <p:sp>
            <p:nvSpPr>
              <p:cNvPr id="1037" name=""/>
              <p:cNvSpPr/>
              <p:nvPr/>
            </p:nvSpPr>
            <p:spPr>
              <a:xfrm>
                <a:off x="3830760" y="4275000"/>
                <a:ext cx="100080" cy="41400"/>
              </a:xfrm>
              <a:custGeom>
                <a:avLst/>
                <a:gdLst/>
                <a:ahLst/>
                <a:rect l="l" t="t" r="r" b="b"/>
                <a:pathLst>
                  <a:path w="444" h="184">
                    <a:moveTo>
                      <a:pt x="171" y="0"/>
                    </a:moveTo>
                    <a:lnTo>
                      <a:pt x="67" y="108"/>
                    </a:lnTo>
                    <a:lnTo>
                      <a:pt x="0" y="153"/>
                    </a:lnTo>
                    <a:lnTo>
                      <a:pt x="291" y="184"/>
                    </a:lnTo>
                    <a:lnTo>
                      <a:pt x="358" y="126"/>
                    </a:lnTo>
                    <a:lnTo>
                      <a:pt x="444" y="25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8" name=""/>
              <p:cNvGrpSpPr/>
              <p:nvPr/>
            </p:nvGrpSpPr>
            <p:grpSpPr>
              <a:xfrm>
                <a:off x="3541680" y="4246560"/>
                <a:ext cx="419400" cy="95040"/>
                <a:chOff x="3541680" y="4246560"/>
                <a:chExt cx="419400" cy="9504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3541680" y="4282920"/>
                  <a:ext cx="370080" cy="58680"/>
                </a:xfrm>
                <a:custGeom>
                  <a:avLst/>
                  <a:gdLst/>
                  <a:ahLst/>
                  <a:rect l="l" t="t" r="r" b="b"/>
                  <a:pathLst>
                    <a:path w="1634" h="253">
                      <a:moveTo>
                        <a:pt x="0" y="0"/>
                      </a:moveTo>
                      <a:lnTo>
                        <a:pt x="0" y="65"/>
                      </a:lnTo>
                      <a:lnTo>
                        <a:pt x="1634" y="253"/>
                      </a:lnTo>
                      <a:lnTo>
                        <a:pt x="1633" y="1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911760" y="4276800"/>
                  <a:ext cx="49320" cy="64800"/>
                </a:xfrm>
                <a:custGeom>
                  <a:avLst/>
                  <a:gdLst/>
                  <a:ahLst/>
                  <a:rect l="l" t="t" r="r" b="b"/>
                  <a:pathLst>
                    <a:path w="215" h="287">
                      <a:moveTo>
                        <a:pt x="0" y="222"/>
                      </a:moveTo>
                      <a:lnTo>
                        <a:pt x="0" y="287"/>
                      </a:lnTo>
                      <a:lnTo>
                        <a:pt x="94" y="221"/>
                      </a:lnTo>
                      <a:lnTo>
                        <a:pt x="132" y="182"/>
                      </a:lnTo>
                      <a:lnTo>
                        <a:pt x="215" y="81"/>
                      </a:lnTo>
                      <a:lnTo>
                        <a:pt x="215" y="0"/>
                      </a:lnTo>
                      <a:lnTo>
                        <a:pt x="106" y="136"/>
                      </a:lnTo>
                      <a:lnTo>
                        <a:pt x="0" y="222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3541680" y="4289400"/>
                  <a:ext cx="370080" cy="41040"/>
                </a:xfrm>
                <a:prstGeom prst="line">
                  <a:avLst/>
                </a:prstGeom>
                <a:ln w="144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2" name=""/>
                <p:cNvGrpSpPr/>
                <p:nvPr/>
              </p:nvGrpSpPr>
              <p:grpSpPr>
                <a:xfrm>
                  <a:off x="3565800" y="4246560"/>
                  <a:ext cx="357120" cy="69480"/>
                  <a:chOff x="3565800" y="4246560"/>
                  <a:chExt cx="357120" cy="6948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3565800" y="4249800"/>
                    <a:ext cx="27468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0" h="251">
                        <a:moveTo>
                          <a:pt x="208" y="0"/>
                        </a:moveTo>
                        <a:lnTo>
                          <a:pt x="64" y="110"/>
                        </a:lnTo>
                        <a:lnTo>
                          <a:pt x="0" y="144"/>
                        </a:lnTo>
                        <a:lnTo>
                          <a:pt x="1026" y="251"/>
                        </a:lnTo>
                        <a:lnTo>
                          <a:pt x="1100" y="202"/>
                        </a:lnTo>
                        <a:lnTo>
                          <a:pt x="1210" y="101"/>
                        </a:lnTo>
                        <a:lnTo>
                          <a:pt x="208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4" name=""/>
                  <p:cNvGrpSpPr/>
                  <p:nvPr/>
                </p:nvGrpSpPr>
                <p:grpSpPr>
                  <a:xfrm>
                    <a:off x="3571920" y="4246560"/>
                    <a:ext cx="351000" cy="69480"/>
                    <a:chOff x="3571920" y="4246560"/>
                    <a:chExt cx="351000" cy="69480"/>
                  </a:xfrm>
                </p:grpSpPr>
                <p:grpSp>
                  <p:nvGrpSpPr>
                    <p:cNvPr id="1045" name=""/>
                    <p:cNvGrpSpPr/>
                    <p:nvPr/>
                  </p:nvGrpSpPr>
                  <p:grpSpPr>
                    <a:xfrm>
                      <a:off x="3578400" y="4246560"/>
                      <a:ext cx="255600" cy="58320"/>
                      <a:chOff x="3578400" y="4246560"/>
                      <a:chExt cx="255600" cy="58320"/>
                    </a:xfrm>
                  </p:grpSpPr>
                  <p:grpSp>
                    <p:nvGrpSpPr>
                      <p:cNvPr id="1046" name=""/>
                      <p:cNvGrpSpPr/>
                      <p:nvPr/>
                    </p:nvGrpSpPr>
                    <p:grpSpPr>
                      <a:xfrm>
                        <a:off x="3578400" y="4246560"/>
                        <a:ext cx="52200" cy="38160"/>
                        <a:chOff x="3578400" y="4246560"/>
                        <a:chExt cx="52200" cy="38160"/>
                      </a:xfrm>
                    </p:grpSpPr>
                    <p:sp>
                      <p:nvSpPr>
                        <p:cNvPr id="1047" name=""/>
                        <p:cNvSpPr/>
                        <p:nvPr/>
                      </p:nvSpPr>
                      <p:spPr>
                        <a:xfrm flipV="1">
                          <a:off x="3578400" y="4276800"/>
                          <a:ext cx="17280" cy="7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8" name=""/>
                        <p:cNvSpPr/>
                        <p:nvPr/>
                      </p:nvSpPr>
                      <p:spPr>
                        <a:xfrm flipV="1">
                          <a:off x="3595680" y="4246560"/>
                          <a:ext cx="3492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49" name=""/>
                      <p:cNvGrpSpPr/>
                      <p:nvPr/>
                    </p:nvGrpSpPr>
                    <p:grpSpPr>
                      <a:xfrm>
                        <a:off x="3598920" y="4248000"/>
                        <a:ext cx="54000" cy="39600"/>
                        <a:chOff x="3598920" y="4248000"/>
                        <a:chExt cx="54000" cy="39600"/>
                      </a:xfrm>
                    </p:grpSpPr>
                    <p:sp>
                      <p:nvSpPr>
                        <p:cNvPr id="1050" name=""/>
                        <p:cNvSpPr/>
                        <p:nvPr/>
                      </p:nvSpPr>
                      <p:spPr>
                        <a:xfrm flipV="1">
                          <a:off x="3598920" y="4278240"/>
                          <a:ext cx="1764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1" name=""/>
                        <p:cNvSpPr/>
                        <p:nvPr/>
                      </p:nvSpPr>
                      <p:spPr>
                        <a:xfrm flipV="1">
                          <a:off x="3616560" y="4248000"/>
                          <a:ext cx="3636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52" name=""/>
                      <p:cNvGrpSpPr/>
                      <p:nvPr/>
                    </p:nvGrpSpPr>
                    <p:grpSpPr>
                      <a:xfrm>
                        <a:off x="3619800" y="4249440"/>
                        <a:ext cx="53640" cy="39600"/>
                        <a:chOff x="3619800" y="4249440"/>
                        <a:chExt cx="53640" cy="39600"/>
                      </a:xfrm>
                    </p:grpSpPr>
                    <p:sp>
                      <p:nvSpPr>
                        <p:cNvPr id="1053" name=""/>
                        <p:cNvSpPr/>
                        <p:nvPr/>
                      </p:nvSpPr>
                      <p:spPr>
                        <a:xfrm flipV="1">
                          <a:off x="3619800" y="4279320"/>
                          <a:ext cx="17280" cy="9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4" name=""/>
                        <p:cNvSpPr/>
                        <p:nvPr/>
                      </p:nvSpPr>
                      <p:spPr>
                        <a:xfrm flipV="1">
                          <a:off x="3637080" y="4249440"/>
                          <a:ext cx="36360" cy="298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55" name=""/>
                      <p:cNvGrpSpPr/>
                      <p:nvPr/>
                    </p:nvGrpSpPr>
                    <p:grpSpPr>
                      <a:xfrm>
                        <a:off x="3640320" y="4252680"/>
                        <a:ext cx="52200" cy="38160"/>
                        <a:chOff x="3640320" y="4252680"/>
                        <a:chExt cx="52200" cy="38160"/>
                      </a:xfrm>
                    </p:grpSpPr>
                    <p:sp>
                      <p:nvSpPr>
                        <p:cNvPr id="1056" name=""/>
                        <p:cNvSpPr/>
                        <p:nvPr/>
                      </p:nvSpPr>
                      <p:spPr>
                        <a:xfrm flipV="1">
                          <a:off x="3640320" y="4282920"/>
                          <a:ext cx="17280" cy="7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7" name=""/>
                        <p:cNvSpPr/>
                        <p:nvPr/>
                      </p:nvSpPr>
                      <p:spPr>
                        <a:xfrm flipV="1">
                          <a:off x="3657600" y="4252680"/>
                          <a:ext cx="3492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58" name=""/>
                      <p:cNvGrpSpPr/>
                      <p:nvPr/>
                    </p:nvGrpSpPr>
                    <p:grpSpPr>
                      <a:xfrm>
                        <a:off x="3660840" y="4254120"/>
                        <a:ext cx="54000" cy="38160"/>
                        <a:chOff x="3660840" y="4254120"/>
                        <a:chExt cx="54000" cy="38160"/>
                      </a:xfrm>
                    </p:grpSpPr>
                    <p:sp>
                      <p:nvSpPr>
                        <p:cNvPr id="1059" name=""/>
                        <p:cNvSpPr/>
                        <p:nvPr/>
                      </p:nvSpPr>
                      <p:spPr>
                        <a:xfrm flipV="1">
                          <a:off x="3660840" y="4282560"/>
                          <a:ext cx="17640" cy="9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0" name=""/>
                        <p:cNvSpPr/>
                        <p:nvPr/>
                      </p:nvSpPr>
                      <p:spPr>
                        <a:xfrm flipV="1">
                          <a:off x="3678480" y="4254120"/>
                          <a:ext cx="36360" cy="28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360" bIns="-18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61" name=""/>
                      <p:cNvGrpSpPr/>
                      <p:nvPr/>
                    </p:nvGrpSpPr>
                    <p:grpSpPr>
                      <a:xfrm>
                        <a:off x="3681720" y="4255920"/>
                        <a:ext cx="53640" cy="38160"/>
                        <a:chOff x="3681720" y="4255920"/>
                        <a:chExt cx="53640" cy="38160"/>
                      </a:xfrm>
                    </p:grpSpPr>
                    <p:sp>
                      <p:nvSpPr>
                        <p:cNvPr id="1062" name=""/>
                        <p:cNvSpPr/>
                        <p:nvPr/>
                      </p:nvSpPr>
                      <p:spPr>
                        <a:xfrm flipV="1">
                          <a:off x="3681720" y="4284720"/>
                          <a:ext cx="1728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3" name=""/>
                        <p:cNvSpPr/>
                        <p:nvPr/>
                      </p:nvSpPr>
                      <p:spPr>
                        <a:xfrm flipV="1">
                          <a:off x="3699000" y="4255920"/>
                          <a:ext cx="36360" cy="288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64" name=""/>
                      <p:cNvGrpSpPr/>
                      <p:nvPr/>
                    </p:nvGrpSpPr>
                    <p:grpSpPr>
                      <a:xfrm>
                        <a:off x="3702240" y="4257360"/>
                        <a:ext cx="52200" cy="38160"/>
                        <a:chOff x="3702240" y="4257360"/>
                        <a:chExt cx="52200" cy="38160"/>
                      </a:xfrm>
                    </p:grpSpPr>
                    <p:sp>
                      <p:nvSpPr>
                        <p:cNvPr id="1065" name=""/>
                        <p:cNvSpPr/>
                        <p:nvPr/>
                      </p:nvSpPr>
                      <p:spPr>
                        <a:xfrm flipV="1">
                          <a:off x="3702240" y="4287600"/>
                          <a:ext cx="17280" cy="7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6" name=""/>
                        <p:cNvSpPr/>
                        <p:nvPr/>
                      </p:nvSpPr>
                      <p:spPr>
                        <a:xfrm flipV="1">
                          <a:off x="3719520" y="4257360"/>
                          <a:ext cx="34920" cy="298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67" name=""/>
                      <p:cNvGrpSpPr/>
                      <p:nvPr/>
                    </p:nvGrpSpPr>
                    <p:grpSpPr>
                      <a:xfrm>
                        <a:off x="3719520" y="4260600"/>
                        <a:ext cx="54000" cy="38160"/>
                        <a:chOff x="3719520" y="4260600"/>
                        <a:chExt cx="54000" cy="38160"/>
                      </a:xfrm>
                    </p:grpSpPr>
                    <p:sp>
                      <p:nvSpPr>
                        <p:cNvPr id="1068" name=""/>
                        <p:cNvSpPr/>
                        <p:nvPr/>
                      </p:nvSpPr>
                      <p:spPr>
                        <a:xfrm flipV="1">
                          <a:off x="3719520" y="4289400"/>
                          <a:ext cx="1764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9" name=""/>
                        <p:cNvSpPr/>
                        <p:nvPr/>
                      </p:nvSpPr>
                      <p:spPr>
                        <a:xfrm flipV="1">
                          <a:off x="3737160" y="4260600"/>
                          <a:ext cx="36360" cy="288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70" name=""/>
                      <p:cNvGrpSpPr/>
                      <p:nvPr/>
                    </p:nvGrpSpPr>
                    <p:grpSpPr>
                      <a:xfrm>
                        <a:off x="3740400" y="4262400"/>
                        <a:ext cx="54000" cy="39600"/>
                        <a:chOff x="3740400" y="4262400"/>
                        <a:chExt cx="54000" cy="39600"/>
                      </a:xfrm>
                    </p:grpSpPr>
                    <p:sp>
                      <p:nvSpPr>
                        <p:cNvPr id="1071" name=""/>
                        <p:cNvSpPr/>
                        <p:nvPr/>
                      </p:nvSpPr>
                      <p:spPr>
                        <a:xfrm flipV="1">
                          <a:off x="3740400" y="4292640"/>
                          <a:ext cx="1728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2" name=""/>
                        <p:cNvSpPr/>
                        <p:nvPr/>
                      </p:nvSpPr>
                      <p:spPr>
                        <a:xfrm flipV="1">
                          <a:off x="3757680" y="4262400"/>
                          <a:ext cx="3672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73" name=""/>
                      <p:cNvGrpSpPr/>
                      <p:nvPr/>
                    </p:nvGrpSpPr>
                    <p:grpSpPr>
                      <a:xfrm>
                        <a:off x="3760920" y="4263840"/>
                        <a:ext cx="54000" cy="39600"/>
                        <a:chOff x="3760920" y="4263840"/>
                        <a:chExt cx="54000" cy="39600"/>
                      </a:xfrm>
                    </p:grpSpPr>
                    <p:sp>
                      <p:nvSpPr>
                        <p:cNvPr id="1074" name=""/>
                        <p:cNvSpPr/>
                        <p:nvPr/>
                      </p:nvSpPr>
                      <p:spPr>
                        <a:xfrm flipV="1">
                          <a:off x="3760920" y="4293720"/>
                          <a:ext cx="17640" cy="9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5" name=""/>
                        <p:cNvSpPr/>
                        <p:nvPr/>
                      </p:nvSpPr>
                      <p:spPr>
                        <a:xfrm flipV="1">
                          <a:off x="3778560" y="4263840"/>
                          <a:ext cx="3636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76" name=""/>
                      <p:cNvGrpSpPr/>
                      <p:nvPr/>
                    </p:nvGrpSpPr>
                    <p:grpSpPr>
                      <a:xfrm>
                        <a:off x="3780000" y="4265280"/>
                        <a:ext cx="54000" cy="39600"/>
                        <a:chOff x="3780000" y="4265280"/>
                        <a:chExt cx="54000" cy="39600"/>
                      </a:xfrm>
                    </p:grpSpPr>
                    <p:sp>
                      <p:nvSpPr>
                        <p:cNvPr id="1077" name=""/>
                        <p:cNvSpPr/>
                        <p:nvPr/>
                      </p:nvSpPr>
                      <p:spPr>
                        <a:xfrm flipV="1">
                          <a:off x="3780000" y="4295160"/>
                          <a:ext cx="17280" cy="9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8" name=""/>
                        <p:cNvSpPr/>
                        <p:nvPr/>
                      </p:nvSpPr>
                      <p:spPr>
                        <a:xfrm flipV="1">
                          <a:off x="3797280" y="4265280"/>
                          <a:ext cx="36720" cy="298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79" name=""/>
                    <p:cNvGrpSpPr/>
                    <p:nvPr/>
                  </p:nvGrpSpPr>
                  <p:grpSpPr>
                    <a:xfrm>
                      <a:off x="3841920" y="4271400"/>
                      <a:ext cx="77760" cy="44640"/>
                      <a:chOff x="3841920" y="4271400"/>
                      <a:chExt cx="77760" cy="44640"/>
                    </a:xfrm>
                  </p:grpSpPr>
                  <p:grpSp>
                    <p:nvGrpSpPr>
                      <p:cNvPr id="1080" name=""/>
                      <p:cNvGrpSpPr/>
                      <p:nvPr/>
                    </p:nvGrpSpPr>
                    <p:grpSpPr>
                      <a:xfrm>
                        <a:off x="3875400" y="4275000"/>
                        <a:ext cx="44280" cy="41040"/>
                        <a:chOff x="3875400" y="4275000"/>
                        <a:chExt cx="44280" cy="41040"/>
                      </a:xfrm>
                    </p:grpSpPr>
                    <p:sp>
                      <p:nvSpPr>
                        <p:cNvPr id="1081" name=""/>
                        <p:cNvSpPr/>
                        <p:nvPr/>
                      </p:nvSpPr>
                      <p:spPr>
                        <a:xfrm flipV="1">
                          <a:off x="3875400" y="4304880"/>
                          <a:ext cx="14040" cy="11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2" name=""/>
                        <p:cNvSpPr/>
                        <p:nvPr/>
                      </p:nvSpPr>
                      <p:spPr>
                        <a:xfrm flipV="1">
                          <a:off x="3889440" y="4275000"/>
                          <a:ext cx="3024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83" name=""/>
                      <p:cNvGrpSpPr/>
                      <p:nvPr/>
                    </p:nvGrpSpPr>
                    <p:grpSpPr>
                      <a:xfrm>
                        <a:off x="3857760" y="4271400"/>
                        <a:ext cx="46080" cy="44640"/>
                        <a:chOff x="3857760" y="4271400"/>
                        <a:chExt cx="46080" cy="44640"/>
                      </a:xfrm>
                    </p:grpSpPr>
                    <p:sp>
                      <p:nvSpPr>
                        <p:cNvPr id="1084" name=""/>
                        <p:cNvSpPr/>
                        <p:nvPr/>
                      </p:nvSpPr>
                      <p:spPr>
                        <a:xfrm flipV="1">
                          <a:off x="3857760" y="4304880"/>
                          <a:ext cx="15840" cy="11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5" name=""/>
                        <p:cNvSpPr/>
                        <p:nvPr/>
                      </p:nvSpPr>
                      <p:spPr>
                        <a:xfrm flipV="1">
                          <a:off x="3873600" y="4271400"/>
                          <a:ext cx="30240" cy="334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86" name=""/>
                      <p:cNvGrpSpPr/>
                      <p:nvPr/>
                    </p:nvGrpSpPr>
                    <p:grpSpPr>
                      <a:xfrm>
                        <a:off x="3841920" y="4271760"/>
                        <a:ext cx="44280" cy="41040"/>
                        <a:chOff x="3841920" y="4271760"/>
                        <a:chExt cx="44280" cy="41040"/>
                      </a:xfrm>
                    </p:grpSpPr>
                    <p:sp>
                      <p:nvSpPr>
                        <p:cNvPr id="1087" name=""/>
                        <p:cNvSpPr/>
                        <p:nvPr/>
                      </p:nvSpPr>
                      <p:spPr>
                        <a:xfrm flipV="1">
                          <a:off x="3841920" y="4301640"/>
                          <a:ext cx="15840" cy="11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8" name=""/>
                        <p:cNvSpPr/>
                        <p:nvPr/>
                      </p:nvSpPr>
                      <p:spPr>
                        <a:xfrm flipV="1">
                          <a:off x="3857760" y="4271760"/>
                          <a:ext cx="28440" cy="30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97480" y="4257720"/>
                      <a:ext cx="325440" cy="31680"/>
                    </a:xfrm>
                    <a:prstGeom prst="line">
                      <a:avLst/>
                    </a:prstGeom>
                    <a:ln w="14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>
                      <a:off x="3584880" y="4267080"/>
                      <a:ext cx="331560" cy="31680"/>
                    </a:xfrm>
                    <a:prstGeom prst="line">
                      <a:avLst/>
                    </a:prstGeom>
                    <a:ln w="14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3571920" y="4275000"/>
                      <a:ext cx="336600" cy="34920"/>
                    </a:xfrm>
                    <a:prstGeom prst="line">
                      <a:avLst/>
                    </a:prstGeom>
                    <a:ln w="32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92" name=""/>
                <p:cNvGrpSpPr/>
                <p:nvPr/>
              </p:nvGrpSpPr>
              <p:grpSpPr>
                <a:xfrm>
                  <a:off x="3911760" y="4281120"/>
                  <a:ext cx="47520" cy="48960"/>
                  <a:chOff x="3911760" y="4281120"/>
                  <a:chExt cx="47520" cy="48960"/>
                </a:xfrm>
              </p:grpSpPr>
              <p:sp>
                <p:nvSpPr>
                  <p:cNvPr id="1093" name=""/>
                  <p:cNvSpPr/>
                  <p:nvPr/>
                </p:nvSpPr>
                <p:spPr>
                  <a:xfrm flipV="1">
                    <a:off x="3911760" y="4309560"/>
                    <a:ext cx="25200" cy="20520"/>
                  </a:xfrm>
                  <a:prstGeom prst="line">
                    <a:avLst/>
                  </a:prstGeom>
                  <a:ln w="144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 flipV="1">
                    <a:off x="3936960" y="4281120"/>
                    <a:ext cx="22320" cy="28440"/>
                  </a:xfrm>
                  <a:prstGeom prst="line">
                    <a:avLst/>
                  </a:prstGeom>
                  <a:ln w="144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95" name=""/>
          <p:cNvSpPr/>
          <p:nvPr/>
        </p:nvSpPr>
        <p:spPr>
          <a:xfrm flipH="1">
            <a:off x="3809520" y="1905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2971800" y="243828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73392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2743200" y="36576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8098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25"/>
          <a:stretch/>
        </p:blipFill>
        <p:spPr>
          <a:xfrm>
            <a:off x="3505320" y="4495680"/>
            <a:ext cx="650880" cy="60660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>
            <a:off x="2133720" y="3276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209680" y="297180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2362320" y="4343400"/>
            <a:ext cx="720720" cy="1099440"/>
            <a:chOff x="2362320" y="4343400"/>
            <a:chExt cx="720720" cy="1099440"/>
          </a:xfrm>
        </p:grpSpPr>
        <p:pic>
          <p:nvPicPr>
            <p:cNvPr id="1104" name="" descr=""/>
            <p:cNvPicPr/>
            <p:nvPr/>
          </p:nvPicPr>
          <p:blipFill>
            <a:blip r:embed="rId26"/>
            <a:stretch/>
          </p:blipFill>
          <p:spPr>
            <a:xfrm>
              <a:off x="2438280" y="4343400"/>
              <a:ext cx="6447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5" name=""/>
            <p:cNvSpPr/>
            <p:nvPr/>
          </p:nvSpPr>
          <p:spPr>
            <a:xfrm>
              <a:off x="2362320" y="5105520"/>
              <a:ext cx="69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高鐵局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北中南工區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3592440" y="51148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</a:rPr>
              <a:t>高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</a:rPr>
              <a:t>特許權公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895480" y="5410080"/>
            <a:ext cx="7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未來發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3T06:06:36Z</dcterms:created>
  <dc:creator>高速鐵路工程局</dc:creator>
  <dc:description/>
  <dc:language>en-US</dc:language>
  <cp:lastModifiedBy>Cruasader</cp:lastModifiedBy>
  <cp:lastPrinted>1998-05-27T02:23:54Z</cp:lastPrinted>
  <dcterms:modified xsi:type="dcterms:W3CDTF">1998-05-27T02:24:49Z</dcterms:modified>
  <cp:revision>14</cp:revision>
  <dc:subject/>
  <dc:title>無投影片標題</dc:title>
</cp:coreProperties>
</file>