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2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331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044-8402-4586-84B0-96A61213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5F9-270B-4EA4-8444-E8081420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034-7554-4D33-A3F8-54C02584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50D-2689-4FFD-B41F-2E29FE85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AB5-CBBF-4B6F-9A25-11D71183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A5E-2D04-4F2B-A7ED-DA6A16E3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6F0-87C4-41C0-AFAE-EDAA6E30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B9A-908F-459C-8405-070FF54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7A2-8B5D-41C9-85CE-B1289233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047-154F-40A9-9353-89343E5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85A-8A04-4E7D-B6F1-6DA1227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667-DABF-4EED-899B-2ACFACAE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57B4-6B18-4DC3-86F3-4F3FC162B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image" Target="../media/image1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3.wmf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oleObject" Target="../embeddings/oleObject7.bin"/><Relationship Id="rId26" Type="http://schemas.openxmlformats.org/officeDocument/2006/relationships/image" Target="../media/image7.png"/><Relationship Id="rId27" Type="http://schemas.openxmlformats.org/officeDocument/2006/relationships/image" Target="../media/image16.wmf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8.wmf"/><Relationship Id="rId11" Type="http://schemas.openxmlformats.org/officeDocument/2006/relationships/image" Target="../media/image1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2.wmf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oleObject" Target="../embeddings/oleObject6.bin"/><Relationship Id="rId24" Type="http://schemas.openxmlformats.org/officeDocument/2006/relationships/image" Target="../media/image7.png"/><Relationship Id="rId25" Type="http://schemas.openxmlformats.org/officeDocument/2006/relationships/oleObject" Target="../embeddings/oleObject7.bin"/><Relationship Id="rId26" Type="http://schemas.openxmlformats.org/officeDocument/2006/relationships/image" Target="../media/image7.png"/><Relationship Id="rId27" Type="http://schemas.openxmlformats.org/officeDocument/2006/relationships/oleObject" Target="../embeddings/oleObject8.bin"/><Relationship Id="rId28" Type="http://schemas.openxmlformats.org/officeDocument/2006/relationships/image" Target="../media/image20.wmf"/><Relationship Id="rId29" Type="http://schemas.openxmlformats.org/officeDocument/2006/relationships/oleObject" Target="../embeddings/oleObject9.bin"/><Relationship Id="rId30" Type="http://schemas.openxmlformats.org/officeDocument/2006/relationships/image" Target="../media/image7.png"/><Relationship Id="rId31" Type="http://schemas.openxmlformats.org/officeDocument/2006/relationships/oleObject" Target="../embeddings/oleObject10.bin"/><Relationship Id="rId32" Type="http://schemas.openxmlformats.org/officeDocument/2006/relationships/image" Target="../media/image21.wmf"/><Relationship Id="rId33" Type="http://schemas.openxmlformats.org/officeDocument/2006/relationships/oleObject" Target="../embeddings/oleObject11.bin"/><Relationship Id="rId34" Type="http://schemas.openxmlformats.org/officeDocument/2006/relationships/image" Target="../media/image7.png"/><Relationship Id="rId35" Type="http://schemas.openxmlformats.org/officeDocument/2006/relationships/oleObject" Target="../embeddings/oleObject12.bin"/><Relationship Id="rId36" Type="http://schemas.openxmlformats.org/officeDocument/2006/relationships/image" Target="../media/image7.png"/><Relationship Id="rId37" Type="http://schemas.openxmlformats.org/officeDocument/2006/relationships/oleObject" Target="../embeddings/oleObject13.bin"/><Relationship Id="rId38" Type="http://schemas.openxmlformats.org/officeDocument/2006/relationships/image" Target="../media/image22.wmf"/><Relationship Id="rId39" Type="http://schemas.openxmlformats.org/officeDocument/2006/relationships/oleObject" Target="../embeddings/oleObject14.bin"/><Relationship Id="rId40" Type="http://schemas.openxmlformats.org/officeDocument/2006/relationships/image" Target="../media/image23.wmf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720" y="2705040"/>
            <a:ext cx="832356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74880" y="324000"/>
            <a:ext cx="5980320" cy="23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14680" y="4527720"/>
            <a:ext cx="1944720" cy="15238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13520" y="350532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400" y="4873680"/>
            <a:ext cx="716040" cy="836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92280" y="2774880"/>
            <a:ext cx="635040" cy="102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39160" y="2774880"/>
            <a:ext cx="66024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807160" y="3478320"/>
            <a:ext cx="3301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808440" y="3529080"/>
          <a:ext cx="1258920" cy="88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440" y="3529080"/>
                    <a:ext cx="12589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 rot="19593000">
            <a:off x="1627200" y="4706640"/>
            <a:ext cx="1063440" cy="127080"/>
          </a:xfrm>
          <a:prstGeom prst="leftRightArrow">
            <a:avLst>
              <a:gd name="adj1" fmla="val 50000"/>
              <a:gd name="adj2" fmla="val 16659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43200" y="4226040"/>
            <a:ext cx="787320" cy="93600"/>
          </a:xfrm>
          <a:prstGeom prst="leftRightArrow">
            <a:avLst>
              <a:gd name="adj1" fmla="val 50000"/>
              <a:gd name="adj2" fmla="val 16745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465360" y="1627200"/>
          <a:ext cx="2041560" cy="99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5360" y="1627200"/>
                    <a:ext cx="20415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881520" y="1758960"/>
            <a:ext cx="122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關貿網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RADE-V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392200">
            <a:off x="3983040" y="2974680"/>
            <a:ext cx="998280" cy="160560"/>
          </a:xfrm>
          <a:prstGeom prst="leftRightArrow">
            <a:avLst>
              <a:gd name="adj1" fmla="val 50000"/>
              <a:gd name="adj2" fmla="val 12377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646200" y="3960720"/>
            <a:ext cx="365040" cy="78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853920" y="4238640"/>
            <a:ext cx="781200" cy="47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2840" y="2743200"/>
            <a:ext cx="959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省交通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080120" y="4327560"/>
          <a:ext cx="863640" cy="458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0120" y="4327560"/>
                    <a:ext cx="8636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066080" y="5016600"/>
          <a:ext cx="895320" cy="669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66080" y="5016600"/>
                    <a:ext cx="8953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181160" y="4000680"/>
            <a:ext cx="8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港務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391400">
            <a:off x="1654200" y="3693600"/>
            <a:ext cx="1019160" cy="128880"/>
          </a:xfrm>
          <a:prstGeom prst="leftRightArrow">
            <a:avLst>
              <a:gd name="adj1" fmla="val 50000"/>
              <a:gd name="adj2" fmla="val 15742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53840" y="2678040"/>
            <a:ext cx="91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航政作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船舶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海運技術人員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97680" y="3282840"/>
            <a:ext cx="946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船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船務代理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櫃集散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裝卸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引水工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理貨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拖車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0520" y="519264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聯檢中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檢疫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雄關稅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4840" y="4546440"/>
            <a:ext cx="230004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船舶進出港簽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業務登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港灣委託申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裝卸委託申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進出口倉儲委託申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車機船委託申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83080" y="4210200"/>
            <a:ext cx="0" cy="304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83120" y="3816360"/>
            <a:ext cx="495360" cy="195120"/>
          </a:xfrm>
          <a:prstGeom prst="leftRightArrow">
            <a:avLst>
              <a:gd name="adj1" fmla="val 50000"/>
              <a:gd name="adj2" fmla="val 5054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50000">
            <a:off x="6048000" y="4791240"/>
            <a:ext cx="1157400" cy="190440"/>
          </a:xfrm>
          <a:prstGeom prst="leftRightArrow">
            <a:avLst>
              <a:gd name="adj1" fmla="val 50000"/>
              <a:gd name="adj2" fmla="val 1209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22400">
            <a:off x="6202080" y="4289400"/>
            <a:ext cx="849240" cy="185760"/>
          </a:xfrm>
          <a:prstGeom prst="leftRightArrow">
            <a:avLst>
              <a:gd name="adj1" fmla="val 50000"/>
              <a:gd name="adj2" fmla="val 9101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05440" y="3416400"/>
            <a:ext cx="62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9912800">
            <a:off x="6082920" y="3278160"/>
            <a:ext cx="1003320" cy="165240"/>
          </a:xfrm>
          <a:prstGeom prst="leftRightArrow">
            <a:avLst>
              <a:gd name="adj1" fmla="val 50000"/>
              <a:gd name="adj2" fmla="val 1208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57600" y="28368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灣作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棧埠作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6"/>
          <a:stretch/>
        </p:blipFill>
        <p:spPr>
          <a:xfrm>
            <a:off x="3506760" y="412920"/>
            <a:ext cx="1998720" cy="903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05200" y="414360"/>
            <a:ext cx="63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海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出口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櫃倉儲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航運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承攬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證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報關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392200">
            <a:off x="4303800" y="1391760"/>
            <a:ext cx="342720" cy="270000"/>
          </a:xfrm>
          <a:prstGeom prst="leftRightArrow">
            <a:avLst>
              <a:gd name="adj1" fmla="val 50000"/>
              <a:gd name="adj2" fmla="val 252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08640" y="4141800"/>
          <a:ext cx="776160" cy="23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08640" y="4141800"/>
                    <a:ext cx="776160" cy="2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608800" y="723960"/>
          <a:ext cx="2998800" cy="1798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08800" y="723960"/>
                    <a:ext cx="2998800" cy="1798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969880" y="1179360"/>
            <a:ext cx="91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進出口艙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出口貨物上行通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進口貨物放行通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申報訊息回復通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28880" y="1166760"/>
            <a:ext cx="91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船舶進港通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出口貨物進倉證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進口貨物進倉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77000" y="785880"/>
            <a:ext cx="246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90033"/>
                </a:solidFill>
                <a:latin typeface="Times New Roman"/>
                <a:ea typeface="標楷體"/>
              </a:rPr>
              <a:t>透過關貿網路與進出口商、海關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90033"/>
                </a:solidFill>
                <a:latin typeface="Times New Roman"/>
                <a:ea typeface="標楷體"/>
              </a:rPr>
              <a:t>航運公司等企業界進行資料交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1535800">
            <a:off x="6138360" y="3859200"/>
            <a:ext cx="997200" cy="150840"/>
          </a:xfrm>
          <a:prstGeom prst="leftRightArrow">
            <a:avLst>
              <a:gd name="adj1" fmla="val 50000"/>
              <a:gd name="adj2" fmla="val 13160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72680" y="6240600"/>
            <a:ext cx="29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4-1 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高雄港務局業務電子化現況示意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MPUTER" descr=""/>
          <p:cNvPicPr/>
          <p:nvPr/>
        </p:nvPicPr>
        <p:blipFill>
          <a:blip r:embed="rId21"/>
          <a:stretch/>
        </p:blipFill>
        <p:spPr>
          <a:xfrm>
            <a:off x="3048120" y="4089240"/>
            <a:ext cx="307800" cy="263520"/>
          </a:xfrm>
          <a:prstGeom prst="rect">
            <a:avLst/>
          </a:prstGeom>
          <a:ln w="0">
            <a:noFill/>
          </a:ln>
        </p:spPr>
      </p:pic>
      <p:pic>
        <p:nvPicPr>
          <p:cNvPr id="90" name="SERVER" descr=""/>
          <p:cNvPicPr/>
          <p:nvPr/>
        </p:nvPicPr>
        <p:blipFill>
          <a:blip r:embed="rId22"/>
          <a:stretch/>
        </p:blipFill>
        <p:spPr>
          <a:xfrm>
            <a:off x="2905200" y="3510000"/>
            <a:ext cx="237960" cy="439560"/>
          </a:xfrm>
          <a:prstGeom prst="rect">
            <a:avLst/>
          </a:prstGeom>
          <a:ln w="0">
            <a:noFill/>
          </a:ln>
        </p:spPr>
      </p:pic>
      <p:pic>
        <p:nvPicPr>
          <p:cNvPr id="91" name="COMPUTER" descr=""/>
          <p:cNvPicPr/>
          <p:nvPr/>
        </p:nvPicPr>
        <p:blipFill>
          <a:blip r:embed="rId23"/>
          <a:stretch/>
        </p:blipFill>
        <p:spPr>
          <a:xfrm>
            <a:off x="2679840" y="4092480"/>
            <a:ext cx="307800" cy="26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2682720" y="4017600"/>
            <a:ext cx="714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39387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38600" y="402912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402912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362400" y="4000680"/>
            <a:ext cx="47520" cy="5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643120" y="3995640"/>
            <a:ext cx="4752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ERVER" descr=""/>
          <p:cNvPicPr/>
          <p:nvPr/>
        </p:nvPicPr>
        <p:blipFill>
          <a:blip r:embed="rId24"/>
          <a:stretch/>
        </p:blipFill>
        <p:spPr>
          <a:xfrm>
            <a:off x="5495760" y="3476520"/>
            <a:ext cx="281160" cy="615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87880" y="3835440"/>
            <a:ext cx="618840" cy="138240"/>
          </a:xfrm>
          <a:prstGeom prst="leftRightArrow">
            <a:avLst>
              <a:gd name="adj1" fmla="val 50000"/>
              <a:gd name="adj2" fmla="val 891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17400" y="342756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傳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詢列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38320" y="1579680"/>
          <a:ext cx="1539720" cy="688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138320" y="1579680"/>
                    <a:ext cx="15397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27"/>
          <a:stretch/>
        </p:blipFill>
        <p:spPr>
          <a:xfrm>
            <a:off x="714240" y="646200"/>
            <a:ext cx="701640" cy="87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8"/>
          <a:stretch/>
        </p:blipFill>
        <p:spPr>
          <a:xfrm>
            <a:off x="1959120" y="2319480"/>
            <a:ext cx="772920" cy="323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27040" y="181440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3971000">
            <a:off x="1297440" y="1178640"/>
            <a:ext cx="947520" cy="20016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800080"/>
          </a:solidFill>
          <a:ln cap="rnd"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9"/>
          <a:stretch/>
        </p:blipFill>
        <p:spPr>
          <a:xfrm>
            <a:off x="792000" y="2306520"/>
            <a:ext cx="94644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425920" y="324000"/>
            <a:ext cx="3557880" cy="23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56400" y="1639800"/>
          <a:ext cx="1338120" cy="9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6400" y="1639800"/>
                    <a:ext cx="133812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023240" y="442800"/>
          <a:ext cx="1866600" cy="20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3240" y="442800"/>
                    <a:ext cx="18666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44440" y="2703600"/>
            <a:ext cx="876132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14720" y="4842000"/>
            <a:ext cx="2601720" cy="127620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013520" y="350532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78000" y="4511520"/>
            <a:ext cx="71568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378000" y="3032280"/>
            <a:ext cx="701640" cy="1164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7139160" y="2774880"/>
            <a:ext cx="660240" cy="64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807160" y="3478320"/>
            <a:ext cx="330120" cy="604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9593000">
            <a:off x="1236600" y="4576320"/>
            <a:ext cx="1063800" cy="127080"/>
          </a:xfrm>
          <a:prstGeom prst="leftRightArrow">
            <a:avLst>
              <a:gd name="adj1" fmla="val 50000"/>
              <a:gd name="adj2" fmla="val 16664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43520" y="1733400"/>
            <a:ext cx="113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E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關貿網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RADE-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037040" y="2922480"/>
            <a:ext cx="279360" cy="689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4264200" y="3094200"/>
            <a:ext cx="475920" cy="353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4280" y="2857680"/>
            <a:ext cx="8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省交通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080120" y="4327560"/>
          <a:ext cx="863640" cy="458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0120" y="4327560"/>
                    <a:ext cx="8636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066080" y="5016600"/>
          <a:ext cx="895320" cy="669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66080" y="5016600"/>
                    <a:ext cx="8953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507000">
            <a:off x="1203480" y="3944880"/>
            <a:ext cx="1019160" cy="128520"/>
          </a:xfrm>
          <a:prstGeom prst="leftRightArrow">
            <a:avLst>
              <a:gd name="adj1" fmla="val 50000"/>
              <a:gd name="adj2" fmla="val 15786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50600" y="2744640"/>
            <a:ext cx="1003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航政作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船舶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船舶進出港簽證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海運技術人員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航運業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海事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54920" y="3273480"/>
            <a:ext cx="946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船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船務代理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櫃集散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裝卸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引水工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理貨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拖車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承攬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12680" y="5316480"/>
            <a:ext cx="100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聯檢中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檢疫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警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4720" y="4832280"/>
            <a:ext cx="313380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單艙自動化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棧埠作業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港灣作業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航政管理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貨櫃基地管理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船舶交通管理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港棧計費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安檢作業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交通統計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50000">
            <a:off x="6048000" y="4791240"/>
            <a:ext cx="1157400" cy="190440"/>
          </a:xfrm>
          <a:prstGeom prst="leftRightArrow">
            <a:avLst>
              <a:gd name="adj1" fmla="val 50000"/>
              <a:gd name="adj2" fmla="val 1209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22400">
            <a:off x="6202080" y="4289400"/>
            <a:ext cx="849240" cy="185760"/>
          </a:xfrm>
          <a:prstGeom prst="leftRightArrow">
            <a:avLst>
              <a:gd name="adj1" fmla="val 50000"/>
              <a:gd name="adj2" fmla="val 9101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05440" y="3416400"/>
            <a:ext cx="62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912800">
            <a:off x="6082920" y="3278160"/>
            <a:ext cx="1003320" cy="165240"/>
          </a:xfrm>
          <a:prstGeom prst="leftRightArrow">
            <a:avLst>
              <a:gd name="adj1" fmla="val 50000"/>
              <a:gd name="adj2" fmla="val 1208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52640" y="29034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灣作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棧埠作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6"/>
          <a:stretch/>
        </p:blipFill>
        <p:spPr>
          <a:xfrm>
            <a:off x="6031080" y="449280"/>
            <a:ext cx="969840" cy="86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72080" y="272880"/>
            <a:ext cx="63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海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出口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櫃倉儲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航運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承攬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證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報關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392200">
            <a:off x="6305040" y="1379520"/>
            <a:ext cx="342720" cy="269640"/>
          </a:xfrm>
          <a:prstGeom prst="leftRightArrow">
            <a:avLst>
              <a:gd name="adj1" fmla="val 50000"/>
              <a:gd name="adj2" fmla="val 2530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08640" y="4141800"/>
          <a:ext cx="776160" cy="23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08640" y="4141800"/>
                    <a:ext cx="776160" cy="2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573320" y="1103400"/>
            <a:ext cx="91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進出口艙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出口貨物放行通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進口貨物放行通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申報訊息回復通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船舶進港通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出口貨物進倉證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  <a:ea typeface="標楷體"/>
              </a:rPr>
              <a:t>進口貨物進倉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70920" y="48096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90033"/>
                </a:solidFill>
                <a:latin typeface="Times New Roman"/>
                <a:ea typeface="標楷體"/>
              </a:rPr>
              <a:t>透過關貿網路與進出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90033"/>
                </a:solidFill>
                <a:latin typeface="Times New Roman"/>
                <a:ea typeface="標楷體"/>
              </a:rPr>
              <a:t>商、海關、航運公司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90033"/>
                </a:solidFill>
                <a:latin typeface="Times New Roman"/>
                <a:ea typeface="標楷體"/>
              </a:rPr>
              <a:t>企業界進行資料交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1535800">
            <a:off x="6138360" y="3859200"/>
            <a:ext cx="997200" cy="150840"/>
          </a:xfrm>
          <a:prstGeom prst="leftRightArrow">
            <a:avLst>
              <a:gd name="adj1" fmla="val 50000"/>
              <a:gd name="adj2" fmla="val 13160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51080" y="6292800"/>
            <a:ext cx="28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4-2 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海運業務電子化未來發展示意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OMPUTER" descr=""/>
          <p:cNvPicPr/>
          <p:nvPr/>
        </p:nvPicPr>
        <p:blipFill>
          <a:blip r:embed="rId19"/>
          <a:stretch/>
        </p:blipFill>
        <p:spPr>
          <a:xfrm>
            <a:off x="2797200" y="4089240"/>
            <a:ext cx="307800" cy="263520"/>
          </a:xfrm>
          <a:prstGeom prst="rect">
            <a:avLst/>
          </a:prstGeom>
          <a:ln w="0">
            <a:noFill/>
          </a:ln>
        </p:spPr>
      </p:pic>
      <p:pic>
        <p:nvPicPr>
          <p:cNvPr id="149" name="SERVER" descr=""/>
          <p:cNvPicPr/>
          <p:nvPr/>
        </p:nvPicPr>
        <p:blipFill>
          <a:blip r:embed="rId20"/>
          <a:stretch/>
        </p:blipFill>
        <p:spPr>
          <a:xfrm>
            <a:off x="2654280" y="3510000"/>
            <a:ext cx="238320" cy="439560"/>
          </a:xfrm>
          <a:prstGeom prst="rect">
            <a:avLst/>
          </a:prstGeom>
          <a:ln w="0">
            <a:noFill/>
          </a:ln>
        </p:spPr>
      </p:pic>
      <p:pic>
        <p:nvPicPr>
          <p:cNvPr id="150" name="COMPUTER" descr=""/>
          <p:cNvPicPr/>
          <p:nvPr/>
        </p:nvPicPr>
        <p:blipFill>
          <a:blip r:embed="rId21"/>
          <a:stretch/>
        </p:blipFill>
        <p:spPr>
          <a:xfrm>
            <a:off x="2428920" y="4092480"/>
            <a:ext cx="307800" cy="26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2425680" y="4017600"/>
            <a:ext cx="7142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82800" y="39387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7680" y="402912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68560" y="402912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111480" y="4000680"/>
            <a:ext cx="47520" cy="5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391840" y="3995640"/>
            <a:ext cx="4788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SERVER" descr=""/>
          <p:cNvPicPr/>
          <p:nvPr/>
        </p:nvPicPr>
        <p:blipFill>
          <a:blip r:embed="rId22"/>
          <a:stretch/>
        </p:blipFill>
        <p:spPr>
          <a:xfrm>
            <a:off x="5495760" y="3476520"/>
            <a:ext cx="281160" cy="615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1440" y="344664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傳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詢列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138480" y="1623960"/>
          <a:ext cx="797040" cy="657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38480" y="1623960"/>
                    <a:ext cx="7970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01400" y="183816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46600" y="3408480"/>
          <a:ext cx="1184040" cy="863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46600" y="3408480"/>
                    <a:ext cx="1184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008600" y="359568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埠網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PORT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24000"/>
            <a:ext cx="2917800" cy="23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7951200">
            <a:off x="4604400" y="2926440"/>
            <a:ext cx="1312920" cy="149040"/>
          </a:xfrm>
          <a:prstGeom prst="leftRightArrow">
            <a:avLst>
              <a:gd name="adj1" fmla="val 50000"/>
              <a:gd name="adj2" fmla="val 17536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870200" y="511200"/>
          <a:ext cx="996840" cy="763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870200" y="511200"/>
                    <a:ext cx="9968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816200" y="1616040"/>
          <a:ext cx="1241280" cy="954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816200" y="1616040"/>
                    <a:ext cx="124128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987560" y="185436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金資網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FEDI-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392200">
            <a:off x="2224080" y="1328400"/>
            <a:ext cx="342720" cy="270000"/>
          </a:xfrm>
          <a:prstGeom prst="leftRightArrow">
            <a:avLst>
              <a:gd name="adj1" fmla="val 50000"/>
              <a:gd name="adj2" fmla="val 252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625600">
            <a:off x="2625840" y="2976120"/>
            <a:ext cx="1481040" cy="115920"/>
          </a:xfrm>
          <a:prstGeom prst="leftRightArrow">
            <a:avLst>
              <a:gd name="adj1" fmla="val 50000"/>
              <a:gd name="adj2" fmla="val 25434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47760" y="473040"/>
          <a:ext cx="1562040" cy="1928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7760" y="473040"/>
                    <a:ext cx="15620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25440" y="592200"/>
            <a:ext cx="1467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0099"/>
                </a:solidFill>
                <a:latin typeface="Times New Roman"/>
                <a:ea typeface="標楷體"/>
              </a:rPr>
              <a:t>透過金資網路與銀行、航商連線，以電子資訊使收、付款透過網路完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99"/>
                </a:solidFill>
                <a:latin typeface="Times New Roman"/>
                <a:ea typeface="標楷體"/>
              </a:rPr>
              <a:t>進帳通知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99"/>
                </a:solidFill>
                <a:latin typeface="Times New Roman"/>
                <a:ea typeface="標楷體"/>
              </a:rPr>
              <a:t>扣款成功通知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99"/>
                </a:solidFill>
                <a:latin typeface="Times New Roman"/>
                <a:ea typeface="標楷體"/>
              </a:rPr>
              <a:t>付款指示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38800" y="4219560"/>
            <a:ext cx="0" cy="6285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35520" y="4343400"/>
            <a:ext cx="944280" cy="361440"/>
            <a:chOff x="3935520" y="4343400"/>
            <a:chExt cx="944280" cy="361440"/>
          </a:xfrm>
        </p:grpSpPr>
        <p:sp>
          <p:nvSpPr>
            <p:cNvPr id="179" name=""/>
            <p:cNvSpPr/>
            <p:nvPr/>
          </p:nvSpPr>
          <p:spPr>
            <a:xfrm>
              <a:off x="3935520" y="4343400"/>
              <a:ext cx="944280" cy="2152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35520" y="4489920"/>
              <a:ext cx="944280" cy="2149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059000" y="449892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66"/>
                </a:solidFill>
                <a:latin typeface="Times New Roman"/>
                <a:ea typeface="標楷體"/>
              </a:rPr>
              <a:t>航港資料庫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83120" y="3816360"/>
            <a:ext cx="495360" cy="195120"/>
          </a:xfrm>
          <a:prstGeom prst="leftRightArrow">
            <a:avLst>
              <a:gd name="adj1" fmla="val 50000"/>
              <a:gd name="adj2" fmla="val 5054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1840" y="3849840"/>
            <a:ext cx="676440" cy="210960"/>
          </a:xfrm>
          <a:prstGeom prst="leftRightArrow">
            <a:avLst>
              <a:gd name="adj1" fmla="val 50000"/>
              <a:gd name="adj2" fmla="val 6383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68840" y="1611360"/>
          <a:ext cx="708120" cy="657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668840" y="1611360"/>
                    <a:ext cx="7081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932280" y="1623960"/>
          <a:ext cx="758880" cy="657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932280" y="1623960"/>
                    <a:ext cx="75888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071240" y="170028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據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網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6880" y="1801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際網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408480" y="349200"/>
          <a:ext cx="1798560" cy="63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408480" y="349200"/>
                    <a:ext cx="17985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959640" y="1003320"/>
            <a:ext cx="72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0099"/>
                </a:solidFill>
                <a:latin typeface="Times New Roman"/>
                <a:ea typeface="標楷體"/>
              </a:rPr>
              <a:t>無窗口無紙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0099"/>
                </a:solidFill>
                <a:latin typeface="Times New Roman"/>
                <a:ea typeface="標楷體"/>
              </a:rPr>
              <a:t>一港簽證五港通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0099"/>
                </a:solidFill>
                <a:latin typeface="Times New Roman"/>
                <a:ea typeface="標楷體"/>
              </a:rPr>
              <a:t>自動化國際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54200" y="4737240"/>
            <a:ext cx="111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配合船舶進出港船期，立即完成安檢工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696760" y="406440"/>
          <a:ext cx="412920" cy="5778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96760" y="406440"/>
                    <a:ext cx="4129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 rot="14799600">
            <a:off x="3326400" y="2565720"/>
            <a:ext cx="880920" cy="1778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800080"/>
          </a:solidFill>
          <a:ln cap="rnd"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520400">
            <a:off x="3910320" y="2549880"/>
            <a:ext cx="747720" cy="17460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800080"/>
          </a:solidFill>
          <a:ln cap="rnd"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8982800">
            <a:off x="4317840" y="2544480"/>
            <a:ext cx="947880" cy="20628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800080"/>
          </a:solidFill>
          <a:ln cap="rnd"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7T01:13:44Z</dcterms:created>
  <dc:creator>USERS</dc:creator>
  <dc:description/>
  <dc:language>en-US</dc:language>
  <cp:lastModifiedBy>曲嬿麗</cp:lastModifiedBy>
  <cp:lastPrinted>1998-02-25T10:13:58Z</cp:lastPrinted>
  <dcterms:modified xsi:type="dcterms:W3CDTF">1998-02-27T02:54:56Z</dcterms:modified>
  <cp:revision>35</cp:revision>
  <dc:subject/>
  <dc:title>無投影片標題</dc:title>
</cp:coreProperties>
</file>