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4306-2CE6-451B-80AB-D62E0638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9227-2EE1-41E7-BAA8-EFFA8266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F875-44E1-4A8E-BC64-7E4013A1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B895-4136-49B3-96D8-2B5A1F4B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0BA2-E209-448B-A784-1BC50CA2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719D-E7B6-4C39-A7DA-192D58BC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D229-5CE0-4B75-BCBE-A9050903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BA4B-5F6A-45EE-A0B9-4F2D8C99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B676-AD03-4159-BB42-421867F5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7B6A-3C04-4D4F-9488-A9B255D4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692C-6526-4533-A6F7-3A9A3D6F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5685-CDCB-4BBA-82AB-E66F0DBA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2F1A-EA9A-434D-82B5-29C8EF2F107D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image" Target="../media/image6.wmf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19920" y="4495680"/>
          <a:ext cx="234288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4495680"/>
                    <a:ext cx="234288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019920" y="304920"/>
            <a:ext cx="2484360" cy="2108160"/>
            <a:chOff x="6019920" y="304920"/>
            <a:chExt cx="2484360" cy="2108160"/>
          </a:xfrm>
        </p:grpSpPr>
        <p:graphicFrame>
          <p:nvGraphicFramePr>
            <p:cNvPr id="44" name=""/>
            <p:cNvGraphicFramePr/>
            <p:nvPr/>
          </p:nvGraphicFramePr>
          <p:xfrm>
            <a:off x="6019920" y="304920"/>
            <a:ext cx="2484360" cy="2108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19920" y="304920"/>
                      <a:ext cx="2484360" cy="210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" name=""/>
            <p:cNvGraphicFramePr/>
            <p:nvPr/>
          </p:nvGraphicFramePr>
          <p:xfrm>
            <a:off x="6147720" y="395640"/>
            <a:ext cx="2226600" cy="1924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47720" y="395640"/>
                      <a:ext cx="2226600" cy="192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8" name=""/>
          <p:cNvSpPr/>
          <p:nvPr/>
        </p:nvSpPr>
        <p:spPr>
          <a:xfrm>
            <a:off x="3647160" y="838080"/>
            <a:ext cx="1341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ff"/>
                </a:solidFill>
                <a:latin typeface="標楷體"/>
                <a:ea typeface="標楷體"/>
              </a:rPr>
              <a:t>電子郵局便民服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819520" y="1676520"/>
            <a:ext cx="2343600" cy="1261440"/>
            <a:chOff x="2819520" y="1676520"/>
            <a:chExt cx="2343600" cy="1261440"/>
          </a:xfrm>
        </p:grpSpPr>
        <p:sp>
          <p:nvSpPr>
            <p:cNvPr id="50" name=""/>
            <p:cNvSpPr/>
            <p:nvPr/>
          </p:nvSpPr>
          <p:spPr>
            <a:xfrm>
              <a:off x="2819520" y="2001600"/>
              <a:ext cx="341280" cy="8632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a2a2a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25640" y="2865240"/>
              <a:ext cx="330480" cy="39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36800" y="2001600"/>
              <a:ext cx="1800" cy="863280"/>
            </a:xfrm>
            <a:prstGeom prst="line">
              <a:avLst/>
            </a:prstGeom>
            <a:ln w="0">
              <a:solidFill>
                <a:srgbClr val="2f2f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38600" y="2008080"/>
              <a:ext cx="301320" cy="852120"/>
            </a:xfrm>
            <a:custGeom>
              <a:avLst/>
              <a:gdLst/>
              <a:ahLst/>
              <a:rect l="l" t="t" r="r" b="b"/>
              <a:pathLst>
                <a:path w="1517" h="2687">
                  <a:moveTo>
                    <a:pt x="0" y="2687"/>
                  </a:moveTo>
                  <a:lnTo>
                    <a:pt x="0" y="0"/>
                  </a:lnTo>
                  <a:lnTo>
                    <a:pt x="1517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19520" y="2004840"/>
              <a:ext cx="14040" cy="853560"/>
            </a:xfrm>
            <a:custGeom>
              <a:avLst/>
              <a:gdLst/>
              <a:ahLst/>
              <a:rect l="l" t="t" r="r" b="b"/>
              <a:pathLst>
                <a:path w="68" h="2690">
                  <a:moveTo>
                    <a:pt x="0" y="2690"/>
                  </a:moveTo>
                  <a:lnTo>
                    <a:pt x="0" y="0"/>
                  </a:lnTo>
                  <a:lnTo>
                    <a:pt x="68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43160" y="2004840"/>
              <a:ext cx="14400" cy="853560"/>
            </a:xfrm>
            <a:custGeom>
              <a:avLst/>
              <a:gdLst/>
              <a:ahLst/>
              <a:rect l="l" t="t" r="r" b="b"/>
              <a:pathLst>
                <a:path w="76" h="2690">
                  <a:moveTo>
                    <a:pt x="0" y="0"/>
                  </a:moveTo>
                  <a:lnTo>
                    <a:pt x="76" y="0"/>
                  </a:lnTo>
                  <a:lnTo>
                    <a:pt x="76" y="269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3160" y="2001600"/>
              <a:ext cx="1800" cy="866520"/>
            </a:xfrm>
            <a:prstGeom prst="line">
              <a:avLst/>
            </a:prstGeom>
            <a:ln w="0">
              <a:solidFill>
                <a:srgbClr val="2f2f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47960" y="2063520"/>
              <a:ext cx="60480" cy="18720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54440" y="2073240"/>
              <a:ext cx="47520" cy="1677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5880" y="2189160"/>
              <a:ext cx="42840" cy="486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f4f4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855880" y="2076120"/>
              <a:ext cx="20520" cy="109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84320" y="2081160"/>
              <a:ext cx="12960" cy="9324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60560" y="2108160"/>
              <a:ext cx="11160" cy="6948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60560" y="2106360"/>
              <a:ext cx="11160" cy="612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76400" y="2076120"/>
              <a:ext cx="1800" cy="10944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81440" y="2081160"/>
              <a:ext cx="6120" cy="9324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67040" y="2195280"/>
              <a:ext cx="4680" cy="3924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8f8f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60560" y="2198520"/>
              <a:ext cx="3240" cy="7560"/>
            </a:xfrm>
            <a:prstGeom prst="ellipse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60560" y="2217600"/>
              <a:ext cx="3240" cy="6120"/>
            </a:xfrm>
            <a:prstGeom prst="ellipse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47960" y="2062080"/>
              <a:ext cx="60480" cy="190080"/>
            </a:xfrm>
            <a:custGeom>
              <a:avLst/>
              <a:gdLst/>
              <a:ahLst/>
              <a:rect l="l" t="t" r="r" b="b"/>
              <a:pathLst>
                <a:path w="308" h="601">
                  <a:moveTo>
                    <a:pt x="307" y="0"/>
                  </a:moveTo>
                  <a:lnTo>
                    <a:pt x="308" y="601"/>
                  </a:lnTo>
                  <a:lnTo>
                    <a:pt x="0" y="601"/>
                  </a:lnTo>
                </a:path>
              </a:pathLst>
            </a:custGeom>
            <a:noFill/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7560" y="2195280"/>
              <a:ext cx="5040" cy="154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8f8f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24280" y="2068200"/>
              <a:ext cx="206280" cy="179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25720" y="2100240"/>
              <a:ext cx="203400" cy="43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5720" y="2136600"/>
              <a:ext cx="203400" cy="43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25720" y="2174760"/>
              <a:ext cx="203400" cy="61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25720" y="2211120"/>
              <a:ext cx="203400" cy="61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35440" y="20682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46240" y="206820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55960" y="20682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65320" y="206820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975040" y="20682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984400" y="206820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94120" y="20682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03480" y="206820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13200" y="20682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24360" y="20682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33720" y="20682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43080" y="206820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52800" y="20682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62160" y="206820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71880" y="20682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81240" y="206820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92400" y="206820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02120" y="20682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11480" y="20682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21200" y="20682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24280" y="2373120"/>
              <a:ext cx="206280" cy="178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5720" y="2404800"/>
              <a:ext cx="203400" cy="46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25720" y="2441520"/>
              <a:ext cx="203400" cy="43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25720" y="2479680"/>
              <a:ext cx="203400" cy="43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25720" y="2516040"/>
              <a:ext cx="203400" cy="43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935440" y="237312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46240" y="237312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55960" y="237312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65320" y="237312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75040" y="237312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84400" y="237312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94120" y="237312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03480" y="237312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13200" y="237312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24360" y="237312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33720" y="237312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43080" y="237312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52800" y="237312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62160" y="237312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71880" y="237312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81240" y="237312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92400" y="237312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02120" y="237312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11480" y="237312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21200" y="237312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24280" y="2665440"/>
              <a:ext cx="206280" cy="178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25720" y="2695320"/>
              <a:ext cx="203400" cy="61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25720" y="2732040"/>
              <a:ext cx="203400" cy="576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25720" y="2770200"/>
              <a:ext cx="203400" cy="576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25720" y="2806560"/>
              <a:ext cx="203400" cy="61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35440" y="266544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46240" y="266544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55960" y="266544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65320" y="266544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5040" y="266544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84400" y="266544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94120" y="266544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03480" y="266544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13200" y="266544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24360" y="266544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33720" y="266544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43080" y="266544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52800" y="266544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62160" y="266544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71880" y="266544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1240" y="266544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92400" y="266544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02120" y="266544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11480" y="266544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21200" y="266544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7960" y="2284200"/>
              <a:ext cx="52560" cy="2016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47960" y="2284200"/>
              <a:ext cx="54000" cy="21960"/>
            </a:xfrm>
            <a:custGeom>
              <a:avLst/>
              <a:gdLst/>
              <a:ahLst/>
              <a:rect l="l" t="t" r="r" b="b"/>
              <a:pathLst>
                <a:path w="274" h="70">
                  <a:moveTo>
                    <a:pt x="0" y="70"/>
                  </a:moveTo>
                  <a:lnTo>
                    <a:pt x="274" y="70"/>
                  </a:lnTo>
                  <a:lnTo>
                    <a:pt x="2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47960" y="2320920"/>
              <a:ext cx="76320" cy="280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47960" y="2320920"/>
              <a:ext cx="76320" cy="29520"/>
            </a:xfrm>
            <a:custGeom>
              <a:avLst/>
              <a:gdLst/>
              <a:ahLst/>
              <a:rect l="l" t="t" r="r" b="b"/>
              <a:pathLst>
                <a:path w="388" h="93">
                  <a:moveTo>
                    <a:pt x="0" y="93"/>
                  </a:moveTo>
                  <a:lnTo>
                    <a:pt x="388" y="93"/>
                  </a:lnTo>
                  <a:lnTo>
                    <a:pt x="38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4800" y="2001600"/>
              <a:ext cx="344520" cy="8632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a2a2a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22720" y="2865240"/>
              <a:ext cx="331920" cy="39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32440" y="2001600"/>
              <a:ext cx="1440" cy="863280"/>
            </a:xfrm>
            <a:prstGeom prst="line">
              <a:avLst/>
            </a:prstGeom>
            <a:ln w="0">
              <a:solidFill>
                <a:srgbClr val="2f2f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35320" y="2008080"/>
              <a:ext cx="303480" cy="852120"/>
            </a:xfrm>
            <a:custGeom>
              <a:avLst/>
              <a:gdLst/>
              <a:ahLst/>
              <a:rect l="l" t="t" r="r" b="b"/>
              <a:pathLst>
                <a:path w="1531" h="2687">
                  <a:moveTo>
                    <a:pt x="0" y="2687"/>
                  </a:moveTo>
                  <a:lnTo>
                    <a:pt x="0" y="0"/>
                  </a:lnTo>
                  <a:lnTo>
                    <a:pt x="1531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14800" y="2004840"/>
              <a:ext cx="14400" cy="853560"/>
            </a:xfrm>
            <a:custGeom>
              <a:avLst/>
              <a:gdLst/>
              <a:ahLst/>
              <a:rect l="l" t="t" r="r" b="b"/>
              <a:pathLst>
                <a:path w="69" h="2690">
                  <a:moveTo>
                    <a:pt x="0" y="2690"/>
                  </a:moveTo>
                  <a:lnTo>
                    <a:pt x="0" y="0"/>
                  </a:lnTo>
                  <a:lnTo>
                    <a:pt x="69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41680" y="2004840"/>
              <a:ext cx="14400" cy="853560"/>
            </a:xfrm>
            <a:custGeom>
              <a:avLst/>
              <a:gdLst/>
              <a:ahLst/>
              <a:rect l="l" t="t" r="r" b="b"/>
              <a:pathLst>
                <a:path w="76" h="2690">
                  <a:moveTo>
                    <a:pt x="0" y="0"/>
                  </a:moveTo>
                  <a:lnTo>
                    <a:pt x="76" y="0"/>
                  </a:lnTo>
                  <a:lnTo>
                    <a:pt x="76" y="269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41680" y="2001600"/>
              <a:ext cx="1800" cy="866520"/>
            </a:xfrm>
            <a:prstGeom prst="line">
              <a:avLst/>
            </a:prstGeom>
            <a:ln w="0">
              <a:solidFill>
                <a:srgbClr val="2f2f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43240" y="2063520"/>
              <a:ext cx="60480" cy="18720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49720" y="2073240"/>
              <a:ext cx="47520" cy="1677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52960" y="2189160"/>
              <a:ext cx="42840" cy="486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f4f4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52960" y="2076120"/>
              <a:ext cx="19080" cy="109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81400" y="2081160"/>
              <a:ext cx="12600" cy="9324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56200" y="2108160"/>
              <a:ext cx="11160" cy="6948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56200" y="2106360"/>
              <a:ext cx="11160" cy="612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72040" y="2076120"/>
              <a:ext cx="3240" cy="10944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720" y="2081160"/>
              <a:ext cx="6480" cy="9324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64120" y="2195280"/>
              <a:ext cx="4680" cy="3924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8f8f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56200" y="2198520"/>
              <a:ext cx="4680" cy="7560"/>
            </a:xfrm>
            <a:prstGeom prst="ellipse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56200" y="2217600"/>
              <a:ext cx="4680" cy="6120"/>
            </a:xfrm>
            <a:prstGeom prst="ellipse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43240" y="2062080"/>
              <a:ext cx="61920" cy="190080"/>
            </a:xfrm>
            <a:custGeom>
              <a:avLst/>
              <a:gdLst/>
              <a:ahLst/>
              <a:rect l="l" t="t" r="r" b="b"/>
              <a:pathLst>
                <a:path w="311" h="601">
                  <a:moveTo>
                    <a:pt x="310" y="0"/>
                  </a:moveTo>
                  <a:lnTo>
                    <a:pt x="311" y="601"/>
                  </a:lnTo>
                  <a:lnTo>
                    <a:pt x="0" y="601"/>
                  </a:lnTo>
                </a:path>
              </a:pathLst>
            </a:custGeom>
            <a:noFill/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84640" y="2195280"/>
              <a:ext cx="4680" cy="154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8f8f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21000" y="2068200"/>
              <a:ext cx="208080" cy="179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22800" y="2100240"/>
              <a:ext cx="204840" cy="43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22800" y="2136600"/>
              <a:ext cx="204840" cy="43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22800" y="2174760"/>
              <a:ext cx="204840" cy="61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22800" y="2211120"/>
              <a:ext cx="204840" cy="61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32160" y="206820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41880" y="20682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53040" y="20682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62400" y="206820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72120" y="20682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81480" y="20682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90840" y="206820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02000" y="206820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11720" y="20682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21080" y="206820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30800" y="20682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40160" y="206820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49880" y="20682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61040" y="20682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70400" y="20682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79760" y="206820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89480" y="20682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98840" y="206820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10000" y="206820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19720" y="20682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21000" y="2373120"/>
              <a:ext cx="208080" cy="178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21000" y="2404800"/>
              <a:ext cx="206640" cy="46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21000" y="2441520"/>
              <a:ext cx="206640" cy="43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21000" y="2479680"/>
              <a:ext cx="206640" cy="43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21000" y="2516040"/>
              <a:ext cx="206640" cy="43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32160" y="237312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1880" y="237312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53040" y="237312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62400" y="237312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72120" y="237312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81480" y="237312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90840" y="237312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02000" y="237312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11720" y="237312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21080" y="237312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30800" y="237312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40160" y="237312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49880" y="237312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61040" y="237312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70400" y="237312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79760" y="237312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89480" y="237312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98840" y="237312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10000" y="237312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419720" y="237312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21000" y="2665440"/>
              <a:ext cx="208080" cy="178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21000" y="2695320"/>
              <a:ext cx="206640" cy="61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21000" y="2732040"/>
              <a:ext cx="206640" cy="576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21000" y="2770200"/>
              <a:ext cx="206640" cy="576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21000" y="2806560"/>
              <a:ext cx="206640" cy="61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32160" y="266544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41880" y="266544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53040" y="266544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62400" y="266544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72120" y="266544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81480" y="266544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90840" y="266544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302000" y="266544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11720" y="266544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21080" y="266544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30800" y="266544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40160" y="266544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49880" y="266544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361040" y="266544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70400" y="266544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79760" y="266544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89480" y="266544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98840" y="266544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10000" y="266544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19720" y="266544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43240" y="2284200"/>
              <a:ext cx="54000" cy="2016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43240" y="2284200"/>
              <a:ext cx="55800" cy="21960"/>
            </a:xfrm>
            <a:custGeom>
              <a:avLst/>
              <a:gdLst/>
              <a:ahLst/>
              <a:rect l="l" t="t" r="r" b="b"/>
              <a:pathLst>
                <a:path w="276" h="70">
                  <a:moveTo>
                    <a:pt x="0" y="70"/>
                  </a:moveTo>
                  <a:lnTo>
                    <a:pt x="276" y="70"/>
                  </a:lnTo>
                  <a:lnTo>
                    <a:pt x="27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43240" y="2320920"/>
              <a:ext cx="76320" cy="280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48280" y="2354040"/>
              <a:ext cx="77760" cy="29880"/>
            </a:xfrm>
            <a:custGeom>
              <a:avLst/>
              <a:gdLst/>
              <a:ahLst/>
              <a:rect l="l" t="t" r="r" b="b"/>
              <a:pathLst>
                <a:path w="392" h="93">
                  <a:moveTo>
                    <a:pt x="0" y="93"/>
                  </a:moveTo>
                  <a:lnTo>
                    <a:pt x="392" y="93"/>
                  </a:lnTo>
                  <a:lnTo>
                    <a:pt x="39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17440" y="1717560"/>
              <a:ext cx="22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</a:rPr>
                <a:t>電子郵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17440" y="1868400"/>
              <a:ext cx="22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</a:rPr>
                <a:t>購系統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74560" y="171756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</a:rPr>
                <a:t>郵件追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74560" y="186840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</a:rPr>
                <a:t>查詢系統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36920" y="2035080"/>
              <a:ext cx="341280" cy="8632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a2a2a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43400" y="2898720"/>
              <a:ext cx="330120" cy="39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54560" y="2035080"/>
              <a:ext cx="1440" cy="863280"/>
            </a:xfrm>
            <a:prstGeom prst="line">
              <a:avLst/>
            </a:prstGeom>
            <a:ln w="0">
              <a:solidFill>
                <a:srgbClr val="2f2f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56000" y="2041200"/>
              <a:ext cx="301680" cy="852480"/>
            </a:xfrm>
            <a:custGeom>
              <a:avLst/>
              <a:gdLst/>
              <a:ahLst/>
              <a:rect l="l" t="t" r="r" b="b"/>
              <a:pathLst>
                <a:path w="1517" h="2687">
                  <a:moveTo>
                    <a:pt x="0" y="2687"/>
                  </a:moveTo>
                  <a:lnTo>
                    <a:pt x="0" y="0"/>
                  </a:lnTo>
                  <a:lnTo>
                    <a:pt x="1517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36920" y="2038320"/>
              <a:ext cx="14400" cy="853560"/>
            </a:xfrm>
            <a:custGeom>
              <a:avLst/>
              <a:gdLst/>
              <a:ahLst/>
              <a:rect l="l" t="t" r="r" b="b"/>
              <a:pathLst>
                <a:path w="68" h="2690">
                  <a:moveTo>
                    <a:pt x="0" y="2690"/>
                  </a:moveTo>
                  <a:lnTo>
                    <a:pt x="0" y="0"/>
                  </a:lnTo>
                  <a:lnTo>
                    <a:pt x="68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760920" y="2038320"/>
              <a:ext cx="14040" cy="853560"/>
            </a:xfrm>
            <a:custGeom>
              <a:avLst/>
              <a:gdLst/>
              <a:ahLst/>
              <a:rect l="l" t="t" r="r" b="b"/>
              <a:pathLst>
                <a:path w="75" h="2690">
                  <a:moveTo>
                    <a:pt x="0" y="0"/>
                  </a:moveTo>
                  <a:lnTo>
                    <a:pt x="75" y="0"/>
                  </a:lnTo>
                  <a:lnTo>
                    <a:pt x="75" y="269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60920" y="2035080"/>
              <a:ext cx="1440" cy="866520"/>
            </a:xfrm>
            <a:prstGeom prst="line">
              <a:avLst/>
            </a:prstGeom>
            <a:ln w="0">
              <a:solidFill>
                <a:srgbClr val="2f2f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65360" y="2097000"/>
              <a:ext cx="60480" cy="18684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71840" y="2106360"/>
              <a:ext cx="47520" cy="1681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73280" y="2222280"/>
              <a:ext cx="43200" cy="489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f4f4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73280" y="2109600"/>
              <a:ext cx="20880" cy="1090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02080" y="2114280"/>
              <a:ext cx="12600" cy="9360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78320" y="2141280"/>
              <a:ext cx="11160" cy="6948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78320" y="2139840"/>
              <a:ext cx="11160" cy="612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94160" y="2109600"/>
              <a:ext cx="1440" cy="10908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98840" y="2114280"/>
              <a:ext cx="6480" cy="9360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84440" y="2228760"/>
              <a:ext cx="6480" cy="3924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8f8f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78320" y="2232000"/>
              <a:ext cx="4680" cy="7560"/>
            </a:xfrm>
            <a:prstGeom prst="ellipse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78320" y="2251080"/>
              <a:ext cx="4680" cy="5760"/>
            </a:xfrm>
            <a:prstGeom prst="ellipse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65360" y="2095200"/>
              <a:ext cx="60480" cy="190440"/>
            </a:xfrm>
            <a:custGeom>
              <a:avLst/>
              <a:gdLst/>
              <a:ahLst/>
              <a:rect l="l" t="t" r="r" b="b"/>
              <a:pathLst>
                <a:path w="309" h="601">
                  <a:moveTo>
                    <a:pt x="308" y="0"/>
                  </a:moveTo>
                  <a:lnTo>
                    <a:pt x="309" y="601"/>
                  </a:lnTo>
                  <a:lnTo>
                    <a:pt x="0" y="601"/>
                  </a:lnTo>
                </a:path>
              </a:pathLst>
            </a:custGeom>
            <a:noFill/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2228760"/>
              <a:ext cx="4680" cy="154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8f8f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41680" y="2101680"/>
              <a:ext cx="206280" cy="178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43480" y="2133360"/>
              <a:ext cx="203040" cy="43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43480" y="2170080"/>
              <a:ext cx="203040" cy="43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43480" y="2208240"/>
              <a:ext cx="203040" cy="576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43480" y="2244600"/>
              <a:ext cx="203040" cy="61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52840" y="210168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64000" y="210168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573360" y="210168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83080" y="210168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92440" y="210168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02160" y="210168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11520" y="210168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21240" y="210168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32040" y="210168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41760" y="210168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51120" y="210168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60840" y="210168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70200" y="210168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79920" y="210168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689280" y="210168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00440" y="210168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710160" y="210168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719520" y="210168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28880" y="210168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38600" y="210168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41680" y="2406600"/>
              <a:ext cx="206280" cy="178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43480" y="2438280"/>
              <a:ext cx="203040" cy="43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43480" y="2474640"/>
              <a:ext cx="203040" cy="46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43480" y="2512800"/>
              <a:ext cx="203040" cy="43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43480" y="2549520"/>
              <a:ext cx="203040" cy="43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52840" y="240660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64000" y="240660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73360" y="240660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583080" y="240660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592440" y="240660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602160" y="240660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611520" y="240660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21240" y="240660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32040" y="240660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641760" y="240660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51120" y="240660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660840" y="240660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70200" y="240660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79920" y="240660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89280" y="240660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00440" y="240660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10160" y="240660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19520" y="240660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728880" y="240660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738600" y="240660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41680" y="2698560"/>
              <a:ext cx="206280" cy="178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43480" y="2728800"/>
              <a:ext cx="203040" cy="61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3480" y="2765160"/>
              <a:ext cx="203040" cy="61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43480" y="2803320"/>
              <a:ext cx="203040" cy="61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43480" y="2840040"/>
              <a:ext cx="203040" cy="576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552840" y="269856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564000" y="269856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73360" y="269856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83080" y="269856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92440" y="269856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02160" y="269856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11520" y="269856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21240" y="269856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32040" y="269856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41760" y="269856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51120" y="269856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660840" y="269856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70200" y="269856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79920" y="269856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89280" y="269856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700440" y="269856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10160" y="269856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19520" y="269856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728880" y="269856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38600" y="269856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65360" y="2317680"/>
              <a:ext cx="54000" cy="2016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65360" y="2317680"/>
              <a:ext cx="54000" cy="21960"/>
            </a:xfrm>
            <a:custGeom>
              <a:avLst/>
              <a:gdLst/>
              <a:ahLst/>
              <a:rect l="l" t="t" r="r" b="b"/>
              <a:pathLst>
                <a:path w="274" h="70">
                  <a:moveTo>
                    <a:pt x="0" y="70"/>
                  </a:moveTo>
                  <a:lnTo>
                    <a:pt x="274" y="70"/>
                  </a:lnTo>
                  <a:lnTo>
                    <a:pt x="2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65360" y="2354040"/>
              <a:ext cx="76320" cy="2844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65360" y="2354040"/>
              <a:ext cx="76320" cy="29880"/>
            </a:xfrm>
            <a:custGeom>
              <a:avLst/>
              <a:gdLst/>
              <a:ahLst/>
              <a:rect l="l" t="t" r="r" b="b"/>
              <a:pathLst>
                <a:path w="389" h="93">
                  <a:moveTo>
                    <a:pt x="0" y="93"/>
                  </a:moveTo>
                  <a:lnTo>
                    <a:pt x="389" y="93"/>
                  </a:lnTo>
                  <a:lnTo>
                    <a:pt x="38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92000" y="171756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</a:rPr>
                <a:t>郵務作業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41320" y="1868400"/>
              <a:ext cx="15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</a:rPr>
                <a:t>系統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68920" y="2004840"/>
              <a:ext cx="341280" cy="8618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a2a2a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76840" y="2867040"/>
              <a:ext cx="328680" cy="40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86200" y="2004840"/>
              <a:ext cx="1800" cy="861840"/>
            </a:xfrm>
            <a:prstGeom prst="line">
              <a:avLst/>
            </a:prstGeom>
            <a:ln w="0">
              <a:solidFill>
                <a:srgbClr val="2f2f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89440" y="2011320"/>
              <a:ext cx="300240" cy="852120"/>
            </a:xfrm>
            <a:custGeom>
              <a:avLst/>
              <a:gdLst/>
              <a:ahLst/>
              <a:rect l="l" t="t" r="r" b="b"/>
              <a:pathLst>
                <a:path w="1517" h="2688">
                  <a:moveTo>
                    <a:pt x="0" y="2688"/>
                  </a:moveTo>
                  <a:lnTo>
                    <a:pt x="0" y="0"/>
                  </a:lnTo>
                  <a:lnTo>
                    <a:pt x="1517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770360" y="2008080"/>
              <a:ext cx="12600" cy="853560"/>
            </a:xfrm>
            <a:custGeom>
              <a:avLst/>
              <a:gdLst/>
              <a:ahLst/>
              <a:rect l="l" t="t" r="r" b="b"/>
              <a:pathLst>
                <a:path w="69" h="2691">
                  <a:moveTo>
                    <a:pt x="0" y="2691"/>
                  </a:moveTo>
                  <a:lnTo>
                    <a:pt x="0" y="0"/>
                  </a:lnTo>
                  <a:lnTo>
                    <a:pt x="69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92560" y="2008080"/>
              <a:ext cx="14400" cy="853560"/>
            </a:xfrm>
            <a:custGeom>
              <a:avLst/>
              <a:gdLst/>
              <a:ahLst/>
              <a:rect l="l" t="t" r="r" b="b"/>
              <a:pathLst>
                <a:path w="75" h="2691">
                  <a:moveTo>
                    <a:pt x="0" y="0"/>
                  </a:moveTo>
                  <a:lnTo>
                    <a:pt x="75" y="0"/>
                  </a:lnTo>
                  <a:lnTo>
                    <a:pt x="75" y="269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92560" y="2004840"/>
              <a:ext cx="1800" cy="866520"/>
            </a:xfrm>
            <a:prstGeom prst="line">
              <a:avLst/>
            </a:prstGeom>
            <a:ln w="0">
              <a:solidFill>
                <a:srgbClr val="2f2f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97360" y="2065320"/>
              <a:ext cx="60480" cy="18828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03840" y="2076120"/>
              <a:ext cx="47520" cy="1681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05280" y="2192040"/>
              <a:ext cx="44640" cy="475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f4f4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05280" y="2079360"/>
              <a:ext cx="20880" cy="1076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834080" y="2084400"/>
              <a:ext cx="14040" cy="9324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09960" y="2109600"/>
              <a:ext cx="11160" cy="6948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9960" y="2109600"/>
              <a:ext cx="11160" cy="612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826160" y="2079360"/>
              <a:ext cx="1440" cy="10764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830840" y="2084400"/>
              <a:ext cx="6120" cy="9324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16440" y="2198520"/>
              <a:ext cx="6480" cy="3924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8f8f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09960" y="2201760"/>
              <a:ext cx="5040" cy="6120"/>
            </a:xfrm>
            <a:prstGeom prst="ellipse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09960" y="2220840"/>
              <a:ext cx="5040" cy="5760"/>
            </a:xfrm>
            <a:prstGeom prst="ellipse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797360" y="2065320"/>
              <a:ext cx="61920" cy="190080"/>
            </a:xfrm>
            <a:custGeom>
              <a:avLst/>
              <a:gdLst/>
              <a:ahLst/>
              <a:rect l="l" t="t" r="r" b="b"/>
              <a:pathLst>
                <a:path w="309" h="601">
                  <a:moveTo>
                    <a:pt x="308" y="0"/>
                  </a:moveTo>
                  <a:lnTo>
                    <a:pt x="309" y="601"/>
                  </a:lnTo>
                  <a:lnTo>
                    <a:pt x="0" y="601"/>
                  </a:lnTo>
                </a:path>
              </a:pathLst>
            </a:custGeom>
            <a:noFill/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36960" y="2198520"/>
              <a:ext cx="5040" cy="154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8f8f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75120" y="2071440"/>
              <a:ext cx="204840" cy="179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75120" y="2103120"/>
              <a:ext cx="203400" cy="46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75120" y="2139840"/>
              <a:ext cx="204840" cy="43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5120" y="2178000"/>
              <a:ext cx="204840" cy="43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75120" y="2214360"/>
              <a:ext cx="204840" cy="43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86280" y="207144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96000" y="20714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05360" y="20714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915080" y="20714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24440" y="20714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33800" y="207144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943520" y="20714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54680" y="20714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64040" y="207144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73760" y="20714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83120" y="207144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92840" y="20714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02200" y="20714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11560" y="207144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22720" y="207144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32440" y="20714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41800" y="207144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051520" y="20714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60880" y="207144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070600" y="20714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75120" y="2376360"/>
              <a:ext cx="204840" cy="178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75120" y="2406600"/>
              <a:ext cx="203400" cy="576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5120" y="2444760"/>
              <a:ext cx="204840" cy="43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75120" y="2482560"/>
              <a:ext cx="204840" cy="46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75120" y="2519280"/>
              <a:ext cx="204840" cy="43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86280" y="237636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96000" y="237636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05360" y="237636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915080" y="237636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24440" y="237636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33800" y="237636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43520" y="237636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954680" y="237636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964040" y="237636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973760" y="237636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983120" y="237636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92840" y="237636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02200" y="237636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11560" y="237636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22720" y="237636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32440" y="237636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041800" y="237636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51520" y="237636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60880" y="2376360"/>
              <a:ext cx="180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70600" y="2376360"/>
              <a:ext cx="1440" cy="1789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75120" y="2666880"/>
              <a:ext cx="204840" cy="178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75120" y="2698560"/>
              <a:ext cx="203400" cy="61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875120" y="2735280"/>
              <a:ext cx="204840" cy="43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75120" y="2773080"/>
              <a:ext cx="204840" cy="61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75120" y="2809800"/>
              <a:ext cx="204840" cy="576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86280" y="2668320"/>
              <a:ext cx="1800" cy="1774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896000" y="2668320"/>
              <a:ext cx="1440" cy="1774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905360" y="2668320"/>
              <a:ext cx="1440" cy="1774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915080" y="2668320"/>
              <a:ext cx="1440" cy="1774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24440" y="2668320"/>
              <a:ext cx="1440" cy="1774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933800" y="2668320"/>
              <a:ext cx="1800" cy="1774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943520" y="2668320"/>
              <a:ext cx="1440" cy="1774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54680" y="2668320"/>
              <a:ext cx="1440" cy="1774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64040" y="2668320"/>
              <a:ext cx="1800" cy="1774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973760" y="2668320"/>
              <a:ext cx="1440" cy="1774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83120" y="2668320"/>
              <a:ext cx="1800" cy="1774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92840" y="2668320"/>
              <a:ext cx="1440" cy="1774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02200" y="2668320"/>
              <a:ext cx="1440" cy="1774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011560" y="2668320"/>
              <a:ext cx="1800" cy="1774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022720" y="2668320"/>
              <a:ext cx="1800" cy="1774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32440" y="2668320"/>
              <a:ext cx="1440" cy="1774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041800" y="2668320"/>
              <a:ext cx="1800" cy="1774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051520" y="2668320"/>
              <a:ext cx="1440" cy="1774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60880" y="2668320"/>
              <a:ext cx="1800" cy="1774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070600" y="2668320"/>
              <a:ext cx="1440" cy="1774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797360" y="2287440"/>
              <a:ext cx="54000" cy="2016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797360" y="2287440"/>
              <a:ext cx="54000" cy="21960"/>
            </a:xfrm>
            <a:custGeom>
              <a:avLst/>
              <a:gdLst/>
              <a:ahLst/>
              <a:rect l="l" t="t" r="r" b="b"/>
              <a:pathLst>
                <a:path w="274" h="71">
                  <a:moveTo>
                    <a:pt x="0" y="71"/>
                  </a:moveTo>
                  <a:lnTo>
                    <a:pt x="274" y="71"/>
                  </a:lnTo>
                  <a:lnTo>
                    <a:pt x="2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797360" y="2323800"/>
              <a:ext cx="76320" cy="2844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97360" y="2323800"/>
              <a:ext cx="77760" cy="29880"/>
            </a:xfrm>
            <a:custGeom>
              <a:avLst/>
              <a:gdLst/>
              <a:ahLst/>
              <a:rect l="l" t="t" r="r" b="b"/>
              <a:pathLst>
                <a:path w="388" h="94">
                  <a:moveTo>
                    <a:pt x="0" y="94"/>
                  </a:moveTo>
                  <a:lnTo>
                    <a:pt x="388" y="94"/>
                  </a:lnTo>
                  <a:lnTo>
                    <a:pt x="38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57480" y="167652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</a:rPr>
                <a:t>郵政資訊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57480" y="182700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</a:rPr>
                <a:t>服務系統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2450880" y="3429000"/>
            <a:ext cx="3159360" cy="1346400"/>
            <a:chOff x="2450880" y="3429000"/>
            <a:chExt cx="3159360" cy="1346400"/>
          </a:xfrm>
        </p:grpSpPr>
        <p:sp>
          <p:nvSpPr>
            <p:cNvPr id="459" name=""/>
            <p:cNvSpPr/>
            <p:nvPr/>
          </p:nvSpPr>
          <p:spPr>
            <a:xfrm>
              <a:off x="2450880" y="3489120"/>
              <a:ext cx="341280" cy="8636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a2a2a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457360" y="4352760"/>
              <a:ext cx="33012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468160" y="3489120"/>
              <a:ext cx="1800" cy="863640"/>
            </a:xfrm>
            <a:prstGeom prst="line">
              <a:avLst/>
            </a:prstGeom>
            <a:ln w="0">
              <a:solidFill>
                <a:srgbClr val="2f2f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469960" y="3495600"/>
              <a:ext cx="301680" cy="852480"/>
            </a:xfrm>
            <a:custGeom>
              <a:avLst/>
              <a:gdLst/>
              <a:ahLst/>
              <a:rect l="l" t="t" r="r" b="b"/>
              <a:pathLst>
                <a:path w="1517" h="2687">
                  <a:moveTo>
                    <a:pt x="0" y="2687"/>
                  </a:moveTo>
                  <a:lnTo>
                    <a:pt x="0" y="0"/>
                  </a:lnTo>
                  <a:lnTo>
                    <a:pt x="1517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50880" y="3492360"/>
              <a:ext cx="14400" cy="853920"/>
            </a:xfrm>
            <a:custGeom>
              <a:avLst/>
              <a:gdLst/>
              <a:ahLst/>
              <a:rect l="l" t="t" r="r" b="b"/>
              <a:pathLst>
                <a:path w="69" h="2691">
                  <a:moveTo>
                    <a:pt x="0" y="2691"/>
                  </a:moveTo>
                  <a:lnTo>
                    <a:pt x="0" y="0"/>
                  </a:lnTo>
                  <a:lnTo>
                    <a:pt x="69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74520" y="3492360"/>
              <a:ext cx="14400" cy="853920"/>
            </a:xfrm>
            <a:custGeom>
              <a:avLst/>
              <a:gdLst/>
              <a:ahLst/>
              <a:rect l="l" t="t" r="r" b="b"/>
              <a:pathLst>
                <a:path w="75" h="2691">
                  <a:moveTo>
                    <a:pt x="0" y="0"/>
                  </a:moveTo>
                  <a:lnTo>
                    <a:pt x="75" y="0"/>
                  </a:lnTo>
                  <a:lnTo>
                    <a:pt x="75" y="269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74520" y="3489120"/>
              <a:ext cx="1800" cy="866880"/>
            </a:xfrm>
            <a:prstGeom prst="line">
              <a:avLst/>
            </a:prstGeom>
            <a:ln w="0">
              <a:solidFill>
                <a:srgbClr val="2f2f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79320" y="3551040"/>
              <a:ext cx="60480" cy="18756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85800" y="3560760"/>
              <a:ext cx="47520" cy="1681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87240" y="3676680"/>
              <a:ext cx="42840" cy="489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f4f4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87240" y="3565440"/>
              <a:ext cx="19080" cy="1080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16040" y="3568680"/>
              <a:ext cx="12600" cy="9360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490480" y="3595680"/>
              <a:ext cx="12600" cy="6984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92280" y="3593880"/>
              <a:ext cx="10800" cy="648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06320" y="3565440"/>
              <a:ext cx="3240" cy="10800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512800" y="3568680"/>
              <a:ext cx="6120" cy="9360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98400" y="3682800"/>
              <a:ext cx="4680" cy="3960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8f8f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490480" y="3686040"/>
              <a:ext cx="4680" cy="7920"/>
            </a:xfrm>
            <a:prstGeom prst="ellipse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90480" y="3705120"/>
              <a:ext cx="4680" cy="6480"/>
            </a:xfrm>
            <a:prstGeom prst="ellipse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479320" y="3549600"/>
              <a:ext cx="60480" cy="190440"/>
            </a:xfrm>
            <a:custGeom>
              <a:avLst/>
              <a:gdLst/>
              <a:ahLst/>
              <a:rect l="l" t="t" r="r" b="b"/>
              <a:pathLst>
                <a:path w="309" h="601">
                  <a:moveTo>
                    <a:pt x="308" y="0"/>
                  </a:moveTo>
                  <a:lnTo>
                    <a:pt x="309" y="601"/>
                  </a:lnTo>
                  <a:lnTo>
                    <a:pt x="0" y="601"/>
                  </a:lnTo>
                </a:path>
              </a:pathLst>
            </a:custGeom>
            <a:noFill/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518920" y="3682800"/>
              <a:ext cx="5040" cy="1584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8f8f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55640" y="3555720"/>
              <a:ext cx="206280" cy="179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57080" y="3587760"/>
              <a:ext cx="203400" cy="46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557080" y="3624120"/>
              <a:ext cx="203400" cy="46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557080" y="3662280"/>
              <a:ext cx="203400" cy="61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57080" y="3698640"/>
              <a:ext cx="203400" cy="64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566800" y="355572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576160" y="355572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585880" y="355572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597040" y="355572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06400" y="355572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15760" y="355572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625480" y="355572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634840" y="355572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644560" y="355572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655720" y="355572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665080" y="355572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674800" y="355572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684160" y="355572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693880" y="355572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703240" y="355572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12600" y="355572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722320" y="355572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733480" y="355572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42840" y="355572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752560" y="355572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555640" y="3860640"/>
              <a:ext cx="206280" cy="179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57080" y="3892320"/>
              <a:ext cx="203400" cy="46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557080" y="3929040"/>
              <a:ext cx="203400" cy="46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557080" y="3967200"/>
              <a:ext cx="203400" cy="46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57080" y="4003560"/>
              <a:ext cx="203400" cy="46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566800" y="38606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76160" y="386064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585880" y="38606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597040" y="38606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606400" y="38606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15760" y="386064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625480" y="38606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634840" y="386064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644560" y="38606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55720" y="38606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665080" y="386064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674800" y="38606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84160" y="386064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693880" y="38606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03240" y="38606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12600" y="386064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22320" y="38606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33480" y="38606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742840" y="386064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752560" y="38606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555640" y="4152600"/>
              <a:ext cx="206280" cy="179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557080" y="4182840"/>
              <a:ext cx="203400" cy="64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557080" y="4219560"/>
              <a:ext cx="203400" cy="61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557080" y="4257360"/>
              <a:ext cx="203400" cy="64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557080" y="4294080"/>
              <a:ext cx="203400" cy="64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566800" y="41526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576160" y="41526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585880" y="41526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597040" y="41526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606400" y="41526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615760" y="41526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25480" y="41526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34840" y="41526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644560" y="41526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655720" y="41526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665080" y="41526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74800" y="41526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84160" y="41526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693880" y="41526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03240" y="41526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12600" y="41526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722320" y="41526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733480" y="41526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742840" y="41526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752560" y="41526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479320" y="3771720"/>
              <a:ext cx="52560" cy="205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479320" y="3771720"/>
              <a:ext cx="54000" cy="22320"/>
            </a:xfrm>
            <a:custGeom>
              <a:avLst/>
              <a:gdLst/>
              <a:ahLst/>
              <a:rect l="l" t="t" r="r" b="b"/>
              <a:pathLst>
                <a:path w="274" h="71">
                  <a:moveTo>
                    <a:pt x="0" y="71"/>
                  </a:moveTo>
                  <a:lnTo>
                    <a:pt x="274" y="71"/>
                  </a:lnTo>
                  <a:lnTo>
                    <a:pt x="2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79320" y="3808440"/>
              <a:ext cx="76320" cy="2844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479320" y="3808440"/>
              <a:ext cx="76320" cy="29880"/>
            </a:xfrm>
            <a:custGeom>
              <a:avLst/>
              <a:gdLst/>
              <a:ahLst/>
              <a:rect l="l" t="t" r="r" b="b"/>
              <a:pathLst>
                <a:path w="388" h="93">
                  <a:moveTo>
                    <a:pt x="0" y="93"/>
                  </a:moveTo>
                  <a:lnTo>
                    <a:pt x="388" y="93"/>
                  </a:lnTo>
                  <a:lnTo>
                    <a:pt x="38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31920" y="3458880"/>
              <a:ext cx="341280" cy="8636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a2a2a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039840" y="4322520"/>
              <a:ext cx="328680" cy="39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49200" y="3458880"/>
              <a:ext cx="1800" cy="863640"/>
            </a:xfrm>
            <a:prstGeom prst="line">
              <a:avLst/>
            </a:prstGeom>
            <a:ln w="0">
              <a:solidFill>
                <a:srgbClr val="2f2f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052440" y="3465360"/>
              <a:ext cx="301680" cy="853920"/>
            </a:xfrm>
            <a:custGeom>
              <a:avLst/>
              <a:gdLst/>
              <a:ahLst/>
              <a:rect l="l" t="t" r="r" b="b"/>
              <a:pathLst>
                <a:path w="1517" h="2688">
                  <a:moveTo>
                    <a:pt x="0" y="2688"/>
                  </a:moveTo>
                  <a:lnTo>
                    <a:pt x="0" y="0"/>
                  </a:lnTo>
                  <a:lnTo>
                    <a:pt x="1517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33360" y="3462120"/>
              <a:ext cx="12960" cy="854280"/>
            </a:xfrm>
            <a:custGeom>
              <a:avLst/>
              <a:gdLst/>
              <a:ahLst/>
              <a:rect l="l" t="t" r="r" b="b"/>
              <a:pathLst>
                <a:path w="68" h="2691">
                  <a:moveTo>
                    <a:pt x="0" y="2691"/>
                  </a:moveTo>
                  <a:lnTo>
                    <a:pt x="0" y="0"/>
                  </a:lnTo>
                  <a:lnTo>
                    <a:pt x="68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355560" y="3462120"/>
              <a:ext cx="16200" cy="854280"/>
            </a:xfrm>
            <a:custGeom>
              <a:avLst/>
              <a:gdLst/>
              <a:ahLst/>
              <a:rect l="l" t="t" r="r" b="b"/>
              <a:pathLst>
                <a:path w="75" h="2691">
                  <a:moveTo>
                    <a:pt x="0" y="0"/>
                  </a:moveTo>
                  <a:lnTo>
                    <a:pt x="75" y="0"/>
                  </a:lnTo>
                  <a:lnTo>
                    <a:pt x="75" y="269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57360" y="3458880"/>
              <a:ext cx="1440" cy="866880"/>
            </a:xfrm>
            <a:prstGeom prst="line">
              <a:avLst/>
            </a:prstGeom>
            <a:ln w="0">
              <a:solidFill>
                <a:srgbClr val="2f2f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062160" y="3520800"/>
              <a:ext cx="58680" cy="18756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066840" y="3530520"/>
              <a:ext cx="47520" cy="1681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070080" y="3646440"/>
              <a:ext cx="42840" cy="489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f4f4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070080" y="3535200"/>
              <a:ext cx="19080" cy="1080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098520" y="3538440"/>
              <a:ext cx="12600" cy="9360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72960" y="3565440"/>
              <a:ext cx="11160" cy="6984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072960" y="3565440"/>
              <a:ext cx="11160" cy="468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089160" y="3535200"/>
              <a:ext cx="2880" cy="10800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95280" y="3538440"/>
              <a:ext cx="4680" cy="9360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081240" y="3652560"/>
              <a:ext cx="4680" cy="3996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8f8f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72960" y="3657600"/>
              <a:ext cx="5040" cy="6120"/>
            </a:xfrm>
            <a:prstGeom prst="ellipse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072960" y="3674880"/>
              <a:ext cx="5040" cy="6480"/>
            </a:xfrm>
            <a:prstGeom prst="ellipse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60360" y="3519360"/>
              <a:ext cx="61920" cy="192240"/>
            </a:xfrm>
            <a:custGeom>
              <a:avLst/>
              <a:gdLst/>
              <a:ahLst/>
              <a:rect l="l" t="t" r="r" b="b"/>
              <a:pathLst>
                <a:path w="309" h="602">
                  <a:moveTo>
                    <a:pt x="308" y="0"/>
                  </a:moveTo>
                  <a:lnTo>
                    <a:pt x="309" y="602"/>
                  </a:lnTo>
                  <a:lnTo>
                    <a:pt x="0" y="602"/>
                  </a:lnTo>
                </a:path>
              </a:pathLst>
            </a:custGeom>
            <a:noFill/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101760" y="3654360"/>
              <a:ext cx="4680" cy="1404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8f8f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138120" y="3527280"/>
              <a:ext cx="206640" cy="177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138120" y="3557520"/>
              <a:ext cx="204840" cy="61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138120" y="3593880"/>
              <a:ext cx="204840" cy="46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138120" y="3632040"/>
              <a:ext cx="204840" cy="64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138120" y="3668400"/>
              <a:ext cx="204840" cy="64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149280" y="3527280"/>
              <a:ext cx="180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59000" y="3527280"/>
              <a:ext cx="144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168360" y="3527280"/>
              <a:ext cx="144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178080" y="3527280"/>
              <a:ext cx="144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188880" y="3527280"/>
              <a:ext cx="180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98600" y="3527280"/>
              <a:ext cx="144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207960" y="3527280"/>
              <a:ext cx="180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217680" y="3527280"/>
              <a:ext cx="144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227040" y="3527280"/>
              <a:ext cx="180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236760" y="3527280"/>
              <a:ext cx="144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246120" y="3527280"/>
              <a:ext cx="180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255840" y="3527280"/>
              <a:ext cx="144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266640" y="3527280"/>
              <a:ext cx="180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276360" y="3527280"/>
              <a:ext cx="144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285720" y="3527280"/>
              <a:ext cx="180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295440" y="3527280"/>
              <a:ext cx="144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304800" y="3527280"/>
              <a:ext cx="180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314520" y="3527280"/>
              <a:ext cx="144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323880" y="3527280"/>
              <a:ext cx="180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35040" y="3527280"/>
              <a:ext cx="144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38120" y="3830400"/>
              <a:ext cx="206640" cy="179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138120" y="3862080"/>
              <a:ext cx="204840" cy="504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38120" y="3898800"/>
              <a:ext cx="204840" cy="46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138120" y="3936960"/>
              <a:ext cx="204840" cy="61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38120" y="3973320"/>
              <a:ext cx="204840" cy="64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149280" y="38304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159000" y="38304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168360" y="38304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178080" y="38304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188880" y="38304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198600" y="38304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207960" y="38304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217680" y="38304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227040" y="38304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236760" y="38304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246120" y="38304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55840" y="38304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266640" y="38304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276360" y="38304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285720" y="38304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295440" y="38304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04800" y="38304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14520" y="38304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23880" y="38304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335040" y="38304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138120" y="4122720"/>
              <a:ext cx="206640" cy="179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138120" y="4152600"/>
              <a:ext cx="204840" cy="64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138120" y="4190760"/>
              <a:ext cx="204840" cy="504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138120" y="4227480"/>
              <a:ext cx="204840" cy="61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138120" y="4263840"/>
              <a:ext cx="204840" cy="64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149280" y="412272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159000" y="412272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68360" y="412272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178080" y="412272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188880" y="412272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198600" y="412272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07960" y="412272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17680" y="412272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27040" y="412272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236760" y="412272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46120" y="412272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255840" y="412272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266640" y="412272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276360" y="412272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285720" y="412272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95440" y="412272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304800" y="412272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14520" y="412272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323880" y="412272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335040" y="412272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062160" y="3743280"/>
              <a:ext cx="52200" cy="190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060360" y="3741480"/>
              <a:ext cx="55800" cy="22320"/>
            </a:xfrm>
            <a:custGeom>
              <a:avLst/>
              <a:gdLst/>
              <a:ahLst/>
              <a:rect l="l" t="t" r="r" b="b"/>
              <a:pathLst>
                <a:path w="274" h="70">
                  <a:moveTo>
                    <a:pt x="0" y="70"/>
                  </a:moveTo>
                  <a:lnTo>
                    <a:pt x="274" y="70"/>
                  </a:lnTo>
                  <a:lnTo>
                    <a:pt x="2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060360" y="3778200"/>
              <a:ext cx="76320" cy="2844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060360" y="3778200"/>
              <a:ext cx="77760" cy="30240"/>
            </a:xfrm>
            <a:custGeom>
              <a:avLst/>
              <a:gdLst/>
              <a:ahLst/>
              <a:rect l="l" t="t" r="r" b="b"/>
              <a:pathLst>
                <a:path w="389" h="93">
                  <a:moveTo>
                    <a:pt x="0" y="93"/>
                  </a:moveTo>
                  <a:lnTo>
                    <a:pt x="389" y="93"/>
                  </a:lnTo>
                  <a:lnTo>
                    <a:pt x="38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714480" y="3489120"/>
              <a:ext cx="343080" cy="8636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a2a2a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722400" y="4352760"/>
              <a:ext cx="33012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732120" y="3489120"/>
              <a:ext cx="1440" cy="863640"/>
            </a:xfrm>
            <a:prstGeom prst="line">
              <a:avLst/>
            </a:prstGeom>
            <a:ln w="0">
              <a:solidFill>
                <a:srgbClr val="2f2f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735000" y="3495600"/>
              <a:ext cx="301680" cy="852480"/>
            </a:xfrm>
            <a:custGeom>
              <a:avLst/>
              <a:gdLst/>
              <a:ahLst/>
              <a:rect l="l" t="t" r="r" b="b"/>
              <a:pathLst>
                <a:path w="1516" h="2687">
                  <a:moveTo>
                    <a:pt x="0" y="2687"/>
                  </a:moveTo>
                  <a:lnTo>
                    <a:pt x="0" y="0"/>
                  </a:lnTo>
                  <a:lnTo>
                    <a:pt x="1516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715920" y="3492360"/>
              <a:ext cx="14400" cy="853920"/>
            </a:xfrm>
            <a:custGeom>
              <a:avLst/>
              <a:gdLst/>
              <a:ahLst/>
              <a:rect l="l" t="t" r="r" b="b"/>
              <a:pathLst>
                <a:path w="68" h="2691">
                  <a:moveTo>
                    <a:pt x="0" y="2691"/>
                  </a:moveTo>
                  <a:lnTo>
                    <a:pt x="0" y="0"/>
                  </a:lnTo>
                  <a:lnTo>
                    <a:pt x="68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039920" y="3492360"/>
              <a:ext cx="14400" cy="853920"/>
            </a:xfrm>
            <a:custGeom>
              <a:avLst/>
              <a:gdLst/>
              <a:ahLst/>
              <a:rect l="l" t="t" r="r" b="b"/>
              <a:pathLst>
                <a:path w="76" h="2691">
                  <a:moveTo>
                    <a:pt x="0" y="0"/>
                  </a:moveTo>
                  <a:lnTo>
                    <a:pt x="76" y="0"/>
                  </a:lnTo>
                  <a:lnTo>
                    <a:pt x="76" y="269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039920" y="3489120"/>
              <a:ext cx="1440" cy="866880"/>
            </a:xfrm>
            <a:prstGeom prst="line">
              <a:avLst/>
            </a:prstGeom>
            <a:ln w="0">
              <a:solidFill>
                <a:srgbClr val="2f2f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744720" y="3551040"/>
              <a:ext cx="60120" cy="18756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750840" y="3560760"/>
              <a:ext cx="47880" cy="1681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752640" y="3676680"/>
              <a:ext cx="42840" cy="489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f4f4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752640" y="3565440"/>
              <a:ext cx="19080" cy="1080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781080" y="3568680"/>
              <a:ext cx="12600" cy="9360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755880" y="3595680"/>
              <a:ext cx="12600" cy="6984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757320" y="3593880"/>
              <a:ext cx="11160" cy="648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771720" y="3565440"/>
              <a:ext cx="3240" cy="10800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777840" y="3568680"/>
              <a:ext cx="6480" cy="9360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763800" y="3682800"/>
              <a:ext cx="4680" cy="3960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8f8f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755880" y="3686040"/>
              <a:ext cx="4680" cy="7920"/>
            </a:xfrm>
            <a:prstGeom prst="ellipse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755880" y="3705120"/>
              <a:ext cx="4680" cy="6480"/>
            </a:xfrm>
            <a:prstGeom prst="ellipse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744720" y="3549600"/>
              <a:ext cx="60120" cy="190440"/>
            </a:xfrm>
            <a:custGeom>
              <a:avLst/>
              <a:gdLst/>
              <a:ahLst/>
              <a:rect l="l" t="t" r="r" b="b"/>
              <a:pathLst>
                <a:path w="308" h="601">
                  <a:moveTo>
                    <a:pt x="307" y="0"/>
                  </a:moveTo>
                  <a:lnTo>
                    <a:pt x="308" y="601"/>
                  </a:lnTo>
                  <a:lnTo>
                    <a:pt x="0" y="601"/>
                  </a:lnTo>
                </a:path>
              </a:pathLst>
            </a:custGeom>
            <a:noFill/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784320" y="3682800"/>
              <a:ext cx="4680" cy="1584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8f8f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20680" y="3555720"/>
              <a:ext cx="206640" cy="179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822480" y="3587760"/>
              <a:ext cx="203040" cy="46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22480" y="3624120"/>
              <a:ext cx="203040" cy="46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22480" y="3662280"/>
              <a:ext cx="203040" cy="61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822480" y="3698640"/>
              <a:ext cx="203040" cy="64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831840" y="355572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841560" y="355572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850920" y="355572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862080" y="355572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871800" y="355572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881160" y="355572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890520" y="355572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00240" y="355572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909600" y="355572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19320" y="355572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928680" y="355572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939840" y="355572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49560" y="355572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958920" y="355572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968640" y="355572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978000" y="355572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987360" y="355572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998520" y="355572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008240" y="355572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017600" y="355572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820680" y="3860640"/>
              <a:ext cx="206640" cy="179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822480" y="3892320"/>
              <a:ext cx="203040" cy="46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22480" y="3929040"/>
              <a:ext cx="203040" cy="46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822480" y="3967200"/>
              <a:ext cx="203040" cy="46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22480" y="4003560"/>
              <a:ext cx="203040" cy="46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831840" y="386064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841560" y="38606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50920" y="386064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62080" y="386064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871800" y="38606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1160" y="38606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890520" y="386064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900240" y="38606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909600" y="386064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919320" y="38606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928680" y="386064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939840" y="386064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949560" y="38606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958920" y="386064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968640" y="38606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78000" y="38606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87360" y="386064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998520" y="386064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008240" y="386064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017600" y="386064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20680" y="4152600"/>
              <a:ext cx="206640" cy="179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22480" y="4182840"/>
              <a:ext cx="203040" cy="64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22480" y="4219560"/>
              <a:ext cx="203040" cy="61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22480" y="4257360"/>
              <a:ext cx="203040" cy="64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22480" y="4294080"/>
              <a:ext cx="203040" cy="64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31840" y="41526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41560" y="41526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50920" y="41526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62080" y="41526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71800" y="41526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81160" y="41526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90520" y="41526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900240" y="41526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909600" y="41526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919320" y="41526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928680" y="41526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39840" y="41526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949560" y="41526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58920" y="41526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968640" y="41526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978000" y="41526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87360" y="41526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998520" y="41526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008240" y="41526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963600" y="4157640"/>
              <a:ext cx="55800" cy="17460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744720" y="3771720"/>
              <a:ext cx="52200" cy="205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744720" y="3771720"/>
              <a:ext cx="54000" cy="22320"/>
            </a:xfrm>
            <a:custGeom>
              <a:avLst/>
              <a:gdLst/>
              <a:ahLst/>
              <a:rect l="l" t="t" r="r" b="b"/>
              <a:pathLst>
                <a:path w="274" h="71">
                  <a:moveTo>
                    <a:pt x="0" y="71"/>
                  </a:moveTo>
                  <a:lnTo>
                    <a:pt x="274" y="71"/>
                  </a:lnTo>
                  <a:lnTo>
                    <a:pt x="2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744720" y="3808440"/>
              <a:ext cx="74520" cy="2844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744720" y="3808440"/>
              <a:ext cx="75960" cy="29880"/>
            </a:xfrm>
            <a:custGeom>
              <a:avLst/>
              <a:gdLst/>
              <a:ahLst/>
              <a:rect l="l" t="t" r="r" b="b"/>
              <a:pathLst>
                <a:path w="388" h="93">
                  <a:moveTo>
                    <a:pt x="0" y="93"/>
                  </a:moveTo>
                  <a:lnTo>
                    <a:pt x="388" y="93"/>
                  </a:lnTo>
                  <a:lnTo>
                    <a:pt x="38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564640" y="4406760"/>
              <a:ext cx="38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</a:rPr>
                <a:t>電子文件郵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613960" y="4557600"/>
              <a:ext cx="22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</a:rPr>
                <a:t>遞系統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188520" y="440676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</a:rPr>
                <a:t>電子商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237840" y="4557600"/>
              <a:ext cx="15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</a:rPr>
                <a:t>系統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96560" y="4448160"/>
              <a:ext cx="38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</a:rPr>
                <a:t>郵政電子認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845880" y="4599000"/>
              <a:ext cx="22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</a:rPr>
                <a:t>證系統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294080" y="3458880"/>
              <a:ext cx="341280" cy="8636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a2a2a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02000" y="4322520"/>
              <a:ext cx="328320" cy="39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311360" y="3458880"/>
              <a:ext cx="1440" cy="863640"/>
            </a:xfrm>
            <a:prstGeom prst="line">
              <a:avLst/>
            </a:prstGeom>
            <a:ln w="0">
              <a:solidFill>
                <a:srgbClr val="2f2f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314600" y="3465360"/>
              <a:ext cx="301680" cy="853920"/>
            </a:xfrm>
            <a:custGeom>
              <a:avLst/>
              <a:gdLst/>
              <a:ahLst/>
              <a:rect l="l" t="t" r="r" b="b"/>
              <a:pathLst>
                <a:path w="1517" h="2688">
                  <a:moveTo>
                    <a:pt x="0" y="2688"/>
                  </a:moveTo>
                  <a:lnTo>
                    <a:pt x="0" y="0"/>
                  </a:lnTo>
                  <a:lnTo>
                    <a:pt x="1517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295520" y="3462120"/>
              <a:ext cx="12600" cy="854280"/>
            </a:xfrm>
            <a:custGeom>
              <a:avLst/>
              <a:gdLst/>
              <a:ahLst/>
              <a:rect l="l" t="t" r="r" b="b"/>
              <a:pathLst>
                <a:path w="69" h="2691">
                  <a:moveTo>
                    <a:pt x="0" y="2691"/>
                  </a:moveTo>
                  <a:lnTo>
                    <a:pt x="0" y="0"/>
                  </a:lnTo>
                  <a:lnTo>
                    <a:pt x="69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17720" y="3462120"/>
              <a:ext cx="15840" cy="854280"/>
            </a:xfrm>
            <a:custGeom>
              <a:avLst/>
              <a:gdLst/>
              <a:ahLst/>
              <a:rect l="l" t="t" r="r" b="b"/>
              <a:pathLst>
                <a:path w="75" h="2691">
                  <a:moveTo>
                    <a:pt x="0" y="0"/>
                  </a:moveTo>
                  <a:lnTo>
                    <a:pt x="75" y="0"/>
                  </a:lnTo>
                  <a:lnTo>
                    <a:pt x="75" y="269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619520" y="3458880"/>
              <a:ext cx="1440" cy="866880"/>
            </a:xfrm>
            <a:prstGeom prst="line">
              <a:avLst/>
            </a:prstGeom>
            <a:ln w="0">
              <a:solidFill>
                <a:srgbClr val="2f2f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323960" y="3520800"/>
              <a:ext cx="59040" cy="18756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329000" y="3530520"/>
              <a:ext cx="47520" cy="1681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331880" y="3646440"/>
              <a:ext cx="42840" cy="489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f4f4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331880" y="3535200"/>
              <a:ext cx="19080" cy="1080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360680" y="3538440"/>
              <a:ext cx="12600" cy="9360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335120" y="3565440"/>
              <a:ext cx="11160" cy="6984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335120" y="3565440"/>
              <a:ext cx="11160" cy="468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350960" y="3535200"/>
              <a:ext cx="3240" cy="10800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357440" y="3538440"/>
              <a:ext cx="4680" cy="9360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343040" y="3652560"/>
              <a:ext cx="4680" cy="3996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8f8f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335120" y="3657600"/>
              <a:ext cx="4680" cy="6120"/>
            </a:xfrm>
            <a:prstGeom prst="ellipse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35120" y="3674880"/>
              <a:ext cx="4680" cy="6480"/>
            </a:xfrm>
            <a:prstGeom prst="ellipse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22520" y="3519360"/>
              <a:ext cx="61920" cy="192240"/>
            </a:xfrm>
            <a:custGeom>
              <a:avLst/>
              <a:gdLst/>
              <a:ahLst/>
              <a:rect l="l" t="t" r="r" b="b"/>
              <a:pathLst>
                <a:path w="309" h="602">
                  <a:moveTo>
                    <a:pt x="308" y="0"/>
                  </a:moveTo>
                  <a:lnTo>
                    <a:pt x="309" y="602"/>
                  </a:lnTo>
                  <a:lnTo>
                    <a:pt x="0" y="602"/>
                  </a:lnTo>
                </a:path>
              </a:pathLst>
            </a:custGeom>
            <a:noFill/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363920" y="3654360"/>
              <a:ext cx="4680" cy="1404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8f8f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400280" y="3527280"/>
              <a:ext cx="206280" cy="177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400280" y="3557520"/>
              <a:ext cx="204840" cy="61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400280" y="3593880"/>
              <a:ext cx="204840" cy="46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400280" y="3632040"/>
              <a:ext cx="204840" cy="64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400280" y="3668400"/>
              <a:ext cx="204840" cy="64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11440" y="3527280"/>
              <a:ext cx="144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420800" y="3527280"/>
              <a:ext cx="180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430520" y="3527280"/>
              <a:ext cx="144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439880" y="3527280"/>
              <a:ext cx="180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451040" y="3527280"/>
              <a:ext cx="180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460760" y="3527280"/>
              <a:ext cx="144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470120" y="3527280"/>
              <a:ext cx="144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479480" y="3527280"/>
              <a:ext cx="180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489200" y="3527280"/>
              <a:ext cx="144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98560" y="3527280"/>
              <a:ext cx="180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508280" y="3527280"/>
              <a:ext cx="144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517640" y="3527280"/>
              <a:ext cx="180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28800" y="3527280"/>
              <a:ext cx="180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538520" y="3527280"/>
              <a:ext cx="144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47880" y="3527280"/>
              <a:ext cx="180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57600" y="3527280"/>
              <a:ext cx="144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66960" y="3527280"/>
              <a:ext cx="144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76320" y="3527280"/>
              <a:ext cx="180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586040" y="3527280"/>
              <a:ext cx="144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7200" y="3527280"/>
              <a:ext cx="1440" cy="177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400280" y="3830400"/>
              <a:ext cx="206280" cy="179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400280" y="3862080"/>
              <a:ext cx="204840" cy="504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400280" y="3898800"/>
              <a:ext cx="204840" cy="46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400280" y="3936960"/>
              <a:ext cx="204840" cy="61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400280" y="3973320"/>
              <a:ext cx="204840" cy="64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411440" y="38304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420800" y="38304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430520" y="38304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439880" y="38304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451040" y="38304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460760" y="38304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470120" y="38304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479480" y="38304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89200" y="38304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498560" y="38304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08280" y="38304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517640" y="38304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528800" y="38304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538520" y="38304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547880" y="38304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557600" y="38304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566960" y="38304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576320" y="383040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586040" y="38304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597200" y="383040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00280" y="4122720"/>
              <a:ext cx="206280" cy="179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400280" y="4152600"/>
              <a:ext cx="204840" cy="64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400280" y="4190760"/>
              <a:ext cx="204840" cy="504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400280" y="4227480"/>
              <a:ext cx="204840" cy="61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400280" y="4263840"/>
              <a:ext cx="204840" cy="64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411440" y="412272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420800" y="412272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430520" y="412272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439880" y="412272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451040" y="412272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460760" y="412272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470120" y="412272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479480" y="412272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489200" y="412272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498560" y="412272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08280" y="412272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517640" y="412272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528800" y="412272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538520" y="412272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547880" y="412272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557600" y="412272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566960" y="412272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576320" y="412272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586040" y="412272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597200" y="412272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323960" y="3743280"/>
              <a:ext cx="52560" cy="190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322520" y="3741480"/>
              <a:ext cx="55440" cy="22320"/>
            </a:xfrm>
            <a:custGeom>
              <a:avLst/>
              <a:gdLst/>
              <a:ahLst/>
              <a:rect l="l" t="t" r="r" b="b"/>
              <a:pathLst>
                <a:path w="274" h="70">
                  <a:moveTo>
                    <a:pt x="0" y="70"/>
                  </a:moveTo>
                  <a:lnTo>
                    <a:pt x="274" y="70"/>
                  </a:lnTo>
                  <a:lnTo>
                    <a:pt x="2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322520" y="3778200"/>
              <a:ext cx="76320" cy="2844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22520" y="3778200"/>
              <a:ext cx="77760" cy="30240"/>
            </a:xfrm>
            <a:custGeom>
              <a:avLst/>
              <a:gdLst/>
              <a:ahLst/>
              <a:rect l="l" t="t" r="r" b="b"/>
              <a:pathLst>
                <a:path w="388" h="93">
                  <a:moveTo>
                    <a:pt x="0" y="93"/>
                  </a:moveTo>
                  <a:lnTo>
                    <a:pt x="388" y="93"/>
                  </a:lnTo>
                  <a:lnTo>
                    <a:pt x="38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520520" y="447192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</a:rPr>
                <a:t>郵務管理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520520" y="462276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</a:rPr>
                <a:t>資訊系統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081400" y="3429000"/>
              <a:ext cx="341280" cy="8632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a2a2a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089320" y="4292280"/>
              <a:ext cx="328680" cy="39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098680" y="3429000"/>
              <a:ext cx="1800" cy="863280"/>
            </a:xfrm>
            <a:prstGeom prst="line">
              <a:avLst/>
            </a:prstGeom>
            <a:ln w="0">
              <a:solidFill>
                <a:srgbClr val="2f2f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101920" y="3435120"/>
              <a:ext cx="300240" cy="852480"/>
            </a:xfrm>
            <a:custGeom>
              <a:avLst/>
              <a:gdLst/>
              <a:ahLst/>
              <a:rect l="l" t="t" r="r" b="b"/>
              <a:pathLst>
                <a:path w="1517" h="2687">
                  <a:moveTo>
                    <a:pt x="0" y="2687"/>
                  </a:moveTo>
                  <a:lnTo>
                    <a:pt x="0" y="0"/>
                  </a:lnTo>
                  <a:lnTo>
                    <a:pt x="1517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081400" y="3431880"/>
              <a:ext cx="14040" cy="854280"/>
            </a:xfrm>
            <a:custGeom>
              <a:avLst/>
              <a:gdLst/>
              <a:ahLst/>
              <a:rect l="l" t="t" r="r" b="b"/>
              <a:pathLst>
                <a:path w="68" h="2690">
                  <a:moveTo>
                    <a:pt x="0" y="2690"/>
                  </a:moveTo>
                  <a:lnTo>
                    <a:pt x="0" y="0"/>
                  </a:lnTo>
                  <a:lnTo>
                    <a:pt x="68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405040" y="3431880"/>
              <a:ext cx="14400" cy="854280"/>
            </a:xfrm>
            <a:custGeom>
              <a:avLst/>
              <a:gdLst/>
              <a:ahLst/>
              <a:rect l="l" t="t" r="r" b="b"/>
              <a:pathLst>
                <a:path w="75" h="2690">
                  <a:moveTo>
                    <a:pt x="0" y="0"/>
                  </a:moveTo>
                  <a:lnTo>
                    <a:pt x="75" y="0"/>
                  </a:lnTo>
                  <a:lnTo>
                    <a:pt x="75" y="269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405040" y="3429000"/>
              <a:ext cx="1800" cy="866520"/>
            </a:xfrm>
            <a:prstGeom prst="line">
              <a:avLst/>
            </a:prstGeom>
            <a:ln w="0">
              <a:solidFill>
                <a:srgbClr val="2f2f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9840" y="3490920"/>
              <a:ext cx="60480" cy="18720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116320" y="3500280"/>
              <a:ext cx="47520" cy="1681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117760" y="3616200"/>
              <a:ext cx="44640" cy="493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f4f4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117760" y="3503520"/>
              <a:ext cx="20880" cy="109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146560" y="3508200"/>
              <a:ext cx="14040" cy="9360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122440" y="3535200"/>
              <a:ext cx="11160" cy="6984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122440" y="3533760"/>
              <a:ext cx="11160" cy="612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138640" y="3503520"/>
              <a:ext cx="1440" cy="10944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143320" y="3508200"/>
              <a:ext cx="6120" cy="9360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128920" y="3622680"/>
              <a:ext cx="6480" cy="3960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8f8f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122440" y="3625560"/>
              <a:ext cx="5040" cy="7920"/>
            </a:xfrm>
            <a:prstGeom prst="ellipse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122440" y="3644640"/>
              <a:ext cx="5040" cy="6480"/>
            </a:xfrm>
            <a:prstGeom prst="ellipse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109840" y="3489120"/>
              <a:ext cx="60480" cy="190440"/>
            </a:xfrm>
            <a:custGeom>
              <a:avLst/>
              <a:gdLst/>
              <a:ahLst/>
              <a:rect l="l" t="t" r="r" b="b"/>
              <a:pathLst>
                <a:path w="309" h="601">
                  <a:moveTo>
                    <a:pt x="308" y="0"/>
                  </a:moveTo>
                  <a:lnTo>
                    <a:pt x="309" y="601"/>
                  </a:lnTo>
                  <a:lnTo>
                    <a:pt x="0" y="601"/>
                  </a:lnTo>
                </a:path>
              </a:pathLst>
            </a:custGeom>
            <a:noFill/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149440" y="3622680"/>
              <a:ext cx="5040" cy="1584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8f8f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187600" y="3495600"/>
              <a:ext cx="204840" cy="179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187600" y="3527280"/>
              <a:ext cx="203400" cy="46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87600" y="3563640"/>
              <a:ext cx="203400" cy="504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187600" y="3601800"/>
              <a:ext cx="203400" cy="64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187600" y="3638520"/>
              <a:ext cx="203400" cy="61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198760" y="349560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208480" y="34956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217840" y="34956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227200" y="349560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236920" y="34956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246280" y="349560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256000" y="34956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265360" y="349560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276520" y="349560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286240" y="34956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295600" y="349560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305320" y="34956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314680" y="34956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324040" y="349560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333760" y="34956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344920" y="34956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354280" y="349560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364000" y="34956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373360" y="349560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383080" y="349560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187600" y="3800160"/>
              <a:ext cx="204840" cy="179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187600" y="3832200"/>
              <a:ext cx="203400" cy="46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187600" y="3868560"/>
              <a:ext cx="203400" cy="46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187600" y="3906720"/>
              <a:ext cx="203400" cy="46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187600" y="3943080"/>
              <a:ext cx="203400" cy="504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198760" y="380016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208480" y="380016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217840" y="380016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227200" y="380016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236920" y="380016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246280" y="380016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256000" y="380016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265360" y="380016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276520" y="380016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286240" y="380016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295600" y="380016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305320" y="380016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314680" y="380016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324040" y="380016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333760" y="380016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344920" y="380016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54280" y="380016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64000" y="380016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373360" y="3800160"/>
              <a:ext cx="180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83080" y="3800160"/>
              <a:ext cx="1440" cy="179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187600" y="4092480"/>
              <a:ext cx="204840" cy="179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187600" y="4122720"/>
              <a:ext cx="203400" cy="61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187600" y="4159080"/>
              <a:ext cx="203400" cy="64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187600" y="4197240"/>
              <a:ext cx="203400" cy="64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187600" y="4233600"/>
              <a:ext cx="203400" cy="648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198760" y="409248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208480" y="409248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217840" y="409248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227200" y="409248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236920" y="409248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246280" y="409248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256000" y="409248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265360" y="409248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276520" y="409248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286240" y="409248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295600" y="409248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305320" y="409248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314680" y="409248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324040" y="409248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333760" y="409248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344920" y="409248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354280" y="409248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364000" y="409248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373360" y="4092480"/>
              <a:ext cx="180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383080" y="4092480"/>
              <a:ext cx="1440" cy="1792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109840" y="3711600"/>
              <a:ext cx="54000" cy="2052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109840" y="3711600"/>
              <a:ext cx="54000" cy="21960"/>
            </a:xfrm>
            <a:custGeom>
              <a:avLst/>
              <a:gdLst/>
              <a:ahLst/>
              <a:rect l="l" t="t" r="r" b="b"/>
              <a:pathLst>
                <a:path w="274" h="70">
                  <a:moveTo>
                    <a:pt x="0" y="70"/>
                  </a:moveTo>
                  <a:lnTo>
                    <a:pt x="274" y="70"/>
                  </a:lnTo>
                  <a:lnTo>
                    <a:pt x="2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109840" y="3747960"/>
              <a:ext cx="76320" cy="28440"/>
            </a:xfrm>
            <a:prstGeom prst="rect">
              <a:avLst/>
            </a:prstGeom>
            <a:solidFill>
              <a:srgbClr val="e1e1e1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109840" y="3747960"/>
              <a:ext cx="76320" cy="30240"/>
            </a:xfrm>
            <a:custGeom>
              <a:avLst/>
              <a:gdLst/>
              <a:ahLst/>
              <a:rect l="l" t="t" r="r" b="b"/>
              <a:pathLst>
                <a:path w="389" h="93">
                  <a:moveTo>
                    <a:pt x="0" y="93"/>
                  </a:moveTo>
                  <a:lnTo>
                    <a:pt x="389" y="93"/>
                  </a:lnTo>
                  <a:lnTo>
                    <a:pt x="38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228640" y="4448160"/>
              <a:ext cx="38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</a:rPr>
                <a:t>國際電子郵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228640" y="4599000"/>
              <a:ext cx="38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</a:rPr>
                <a:t>件互換系統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69" name=""/>
          <p:cNvGraphicFramePr/>
          <p:nvPr/>
        </p:nvGraphicFramePr>
        <p:xfrm>
          <a:off x="6095880" y="2895480"/>
          <a:ext cx="144792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2895480"/>
                    <a:ext cx="14479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1" name=""/>
          <p:cNvSpPr/>
          <p:nvPr/>
        </p:nvSpPr>
        <p:spPr>
          <a:xfrm>
            <a:off x="2209680" y="3200400"/>
            <a:ext cx="3733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rot="18709200">
            <a:off x="7315200" y="3809520"/>
            <a:ext cx="228600" cy="762120"/>
          </a:xfrm>
          <a:prstGeom prst="upDownArrow">
            <a:avLst>
              <a:gd name="adj1" fmla="val 50000"/>
              <a:gd name="adj2" fmla="val 663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rot="2292600">
            <a:off x="7314840" y="2286000"/>
            <a:ext cx="228600" cy="762120"/>
          </a:xfrm>
          <a:prstGeom prst="upDownArrow">
            <a:avLst>
              <a:gd name="adj1" fmla="val 50000"/>
              <a:gd name="adj2" fmla="val 663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971800" y="289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581280" y="29718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267080" y="289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952880" y="289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590920" y="32004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276720" y="32004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886200" y="32004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495680" y="32004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257800" y="32004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133720" y="3352680"/>
            <a:ext cx="3733560" cy="175284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514600" y="1523880"/>
            <a:ext cx="3048120" cy="152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133720" y="510552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進行中及未來發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438280" y="12193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已完成電子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463760" y="6226200"/>
            <a:ext cx="585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2.8-1 </a:t>
            </a:r>
            <a:r>
              <a:rPr b="0" lang="zh-TW" sz="16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郵政次部門之電子化發展示意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228600" y="2666880"/>
          <a:ext cx="1822320" cy="946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2666880"/>
                    <a:ext cx="182232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0" name="" descr=""/>
          <p:cNvPicPr/>
          <p:nvPr/>
        </p:nvPicPr>
        <p:blipFill>
          <a:blip r:embed="rId11"/>
          <a:stretch/>
        </p:blipFill>
        <p:spPr>
          <a:xfrm>
            <a:off x="762120" y="4419720"/>
            <a:ext cx="725400" cy="798480"/>
          </a:xfrm>
          <a:prstGeom prst="rect">
            <a:avLst/>
          </a:prstGeom>
          <a:ln w="0">
            <a:noFill/>
          </a:ln>
        </p:spPr>
      </p:pic>
      <p:pic>
        <p:nvPicPr>
          <p:cNvPr id="991" name="" descr=""/>
          <p:cNvPicPr/>
          <p:nvPr/>
        </p:nvPicPr>
        <p:blipFill>
          <a:blip r:embed="rId12"/>
          <a:stretch/>
        </p:blipFill>
        <p:spPr>
          <a:xfrm>
            <a:off x="685800" y="1523880"/>
            <a:ext cx="909720" cy="623880"/>
          </a:xfrm>
          <a:prstGeom prst="rect">
            <a:avLst/>
          </a:prstGeom>
          <a:ln w="0">
            <a:noFill/>
          </a:ln>
        </p:spPr>
      </p:pic>
      <p:sp>
        <p:nvSpPr>
          <p:cNvPr id="992" name=""/>
          <p:cNvSpPr/>
          <p:nvPr/>
        </p:nvSpPr>
        <p:spPr>
          <a:xfrm>
            <a:off x="849960" y="54100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企業組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75000" y="120024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般民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rot="2360400">
            <a:off x="1523520" y="3657600"/>
            <a:ext cx="1016280" cy="150840"/>
          </a:xfrm>
          <a:prstGeom prst="leftRightArrow">
            <a:avLst>
              <a:gd name="adj1" fmla="val 50000"/>
              <a:gd name="adj2" fmla="val 13412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8760" y="28954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rot="19434000">
            <a:off x="1600200" y="2437920"/>
            <a:ext cx="1015920" cy="150840"/>
          </a:xfrm>
          <a:prstGeom prst="leftRightArrow">
            <a:avLst>
              <a:gd name="adj1" fmla="val 50000"/>
              <a:gd name="adj2" fmla="val 13407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rot="13968600">
            <a:off x="221040" y="2369160"/>
            <a:ext cx="968400" cy="192240"/>
          </a:xfrm>
          <a:custGeom>
            <a:avLst/>
            <a:gdLst/>
            <a:ahLst/>
            <a:rect l="l" t="t" r="r" b="b"/>
            <a:pathLst>
              <a:path w="2005" h="82">
                <a:moveTo>
                  <a:pt x="2004" y="5"/>
                </a:moveTo>
                <a:lnTo>
                  <a:pt x="916" y="0"/>
                </a:lnTo>
                <a:lnTo>
                  <a:pt x="997" y="63"/>
                </a:lnTo>
                <a:lnTo>
                  <a:pt x="0" y="76"/>
                </a:lnTo>
                <a:lnTo>
                  <a:pt x="1090" y="81"/>
                </a:lnTo>
                <a:lnTo>
                  <a:pt x="1013" y="18"/>
                </a:lnTo>
                <a:lnTo>
                  <a:pt x="2004" y="5"/>
                </a:lnTo>
              </a:path>
            </a:pathLst>
          </a:custGeom>
          <a:solidFill>
            <a:srgbClr val="ffcc00"/>
          </a:solidFill>
          <a:ln cap="rnd"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18665400">
            <a:off x="1212120" y="2292840"/>
            <a:ext cx="968400" cy="192240"/>
          </a:xfrm>
          <a:custGeom>
            <a:avLst/>
            <a:gdLst/>
            <a:ahLst/>
            <a:rect l="l" t="t" r="r" b="b"/>
            <a:pathLst>
              <a:path w="2005" h="82">
                <a:moveTo>
                  <a:pt x="2004" y="5"/>
                </a:moveTo>
                <a:lnTo>
                  <a:pt x="916" y="0"/>
                </a:lnTo>
                <a:lnTo>
                  <a:pt x="997" y="63"/>
                </a:lnTo>
                <a:lnTo>
                  <a:pt x="0" y="76"/>
                </a:lnTo>
                <a:lnTo>
                  <a:pt x="1090" y="81"/>
                </a:lnTo>
                <a:lnTo>
                  <a:pt x="1013" y="18"/>
                </a:lnTo>
                <a:lnTo>
                  <a:pt x="2004" y="5"/>
                </a:lnTo>
              </a:path>
            </a:pathLst>
          </a:custGeom>
          <a:solidFill>
            <a:srgbClr val="ffcc00"/>
          </a:solidFill>
          <a:ln cap="rnd"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rot="7785000">
            <a:off x="297360" y="4045680"/>
            <a:ext cx="968400" cy="192240"/>
          </a:xfrm>
          <a:custGeom>
            <a:avLst/>
            <a:gdLst/>
            <a:ahLst/>
            <a:rect l="l" t="t" r="r" b="b"/>
            <a:pathLst>
              <a:path w="2005" h="82">
                <a:moveTo>
                  <a:pt x="2004" y="5"/>
                </a:moveTo>
                <a:lnTo>
                  <a:pt x="916" y="0"/>
                </a:lnTo>
                <a:lnTo>
                  <a:pt x="997" y="63"/>
                </a:lnTo>
                <a:lnTo>
                  <a:pt x="0" y="76"/>
                </a:lnTo>
                <a:lnTo>
                  <a:pt x="1090" y="81"/>
                </a:lnTo>
                <a:lnTo>
                  <a:pt x="1013" y="18"/>
                </a:lnTo>
                <a:lnTo>
                  <a:pt x="2004" y="5"/>
                </a:lnTo>
              </a:path>
            </a:pathLst>
          </a:custGeom>
          <a:solidFill>
            <a:srgbClr val="ffcc00"/>
          </a:solidFill>
          <a:ln cap="rnd"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rot="3349800">
            <a:off x="1135440" y="3969000"/>
            <a:ext cx="968400" cy="192240"/>
          </a:xfrm>
          <a:custGeom>
            <a:avLst/>
            <a:gdLst/>
            <a:ahLst/>
            <a:rect l="l" t="t" r="r" b="b"/>
            <a:pathLst>
              <a:path w="2005" h="82">
                <a:moveTo>
                  <a:pt x="2004" y="5"/>
                </a:moveTo>
                <a:lnTo>
                  <a:pt x="916" y="0"/>
                </a:lnTo>
                <a:lnTo>
                  <a:pt x="997" y="63"/>
                </a:lnTo>
                <a:lnTo>
                  <a:pt x="0" y="76"/>
                </a:lnTo>
                <a:lnTo>
                  <a:pt x="1090" y="81"/>
                </a:lnTo>
                <a:lnTo>
                  <a:pt x="1013" y="18"/>
                </a:lnTo>
                <a:lnTo>
                  <a:pt x="2004" y="5"/>
                </a:lnTo>
              </a:path>
            </a:pathLst>
          </a:custGeom>
          <a:solidFill>
            <a:srgbClr val="ffcc00"/>
          </a:solidFill>
          <a:ln cap="rnd"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rot="2360400">
            <a:off x="5333760" y="2590560"/>
            <a:ext cx="1015920" cy="150840"/>
          </a:xfrm>
          <a:prstGeom prst="leftRightArrow">
            <a:avLst>
              <a:gd name="adj1" fmla="val 50000"/>
              <a:gd name="adj2" fmla="val 13407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rot="19434000">
            <a:off x="5486400" y="3962160"/>
            <a:ext cx="1015920" cy="150840"/>
          </a:xfrm>
          <a:prstGeom prst="leftRightArrow">
            <a:avLst>
              <a:gd name="adj1" fmla="val 50000"/>
              <a:gd name="adj2" fmla="val 13407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238880" y="3276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Times New Roman"/>
                <a:ea typeface="華康中楷體"/>
              </a:rPr>
              <a:t>郵政總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1T15:33:48Z</dcterms:created>
  <dc:creator>Bryam Pai</dc:creator>
  <dc:description/>
  <dc:language>en-US</dc:language>
  <cp:lastModifiedBy>Bryam Pai</cp:lastModifiedBy>
  <dcterms:modified xsi:type="dcterms:W3CDTF">1998-03-01T16:03:26Z</dcterms:modified>
  <cp:revision>2</cp:revision>
  <dc:subject/>
  <dc:title>無投影片標題</dc:title>
</cp:coreProperties>
</file>