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672-5C44-4C6E-A823-1A1748A4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2AF3-4AB4-43B2-89A9-C65858D4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437-78BE-40E8-897D-F40E03CB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AF1-B62A-4515-A270-764A63E4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D3B0-EF96-4D93-800A-58AD58DFB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BC57-CAE7-4F95-BC51-0A251442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AB28-8868-447F-9149-2E2720FC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82E9-22BB-44C1-96FA-9D57EA7D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CD0F-9BF3-47A2-9AE9-A1D15DC6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8865-6D85-4C1E-9373-78638D95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AB3C-BFAA-46F2-8CD8-9C504296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0A4-5CB0-4AA7-9575-04AC83FF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672E-024C-464F-A0C0-56E5BAD7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B3F1-BD8C-4014-A055-4CC7F922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2627-2833-426D-8BD5-821FB99C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D0D1-770B-4054-9DD8-C829C85C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68F4-73A8-473F-86CC-434842E8C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189-2181-4BFC-8D85-A0E2659E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186-CE72-4B5B-AD44-E07A8E43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756-4B77-46B9-94D7-024F703D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CDA-02E0-4F61-834F-64FE513C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CC1-2AC5-4DF3-90BF-9B41EB39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96C4-637B-4298-B55B-2C39DF5B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5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3A03-8D56-4CDC-A81E-91BEE7D8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017000" indent="-20340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424160" indent="-20340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1830960" indent="-20340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1830960" indent="-20340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1830960" indent="-20340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79D6-FFE8-4F1F-9376-A3203001174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D7DE-0F60-40D6-B0FA-5FBEDDF76B1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IOT/SYS/USER/DUSER/6884/FLOW.PPT#Slide 1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4c2b"/>
                </a:solidFill>
                <a:latin typeface="標楷體"/>
              </a:rPr>
              <a:t>交通部民用航空局飛安查核資訊系統之開發與建置 簡報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5791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Times New Roman"/>
                <a:ea typeface="標楷體"/>
              </a:rPr>
              <a:t>中華民國八十八年十二月十八日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2743200"/>
            <a:ext cx="6477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Times New Roman"/>
                <a:ea typeface="標楷體"/>
              </a:rPr>
              <a:t>交通部運輸研究所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Times New Roman"/>
                <a:ea typeface="標楷體"/>
              </a:rPr>
              <a:t>運輸資訊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836-F0BF-42A0-8078-CFCBEE84C4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基本資料維護及擴充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使用者對某些資料之需求變更時，本系統提供了各項基本資料之新增、修改或刪除功能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28800" y="2286000"/>
            <a:ext cx="5638680" cy="4229280"/>
            <a:chOff x="1828800" y="2286000"/>
            <a:chExt cx="5638680" cy="422928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1828800" y="2286000"/>
              <a:ext cx="5638680" cy="42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362320" y="2743200"/>
              <a:ext cx="106668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AB0-12F5-4B35-8856-D6B3C2093D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計畫執行進度、績效掌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查核員可利用〝計畫累計執行績效比率〞及〝計畫累計執行進度比率〞兩項指標，控制自己的查核進度，確實掌握目前之查核動態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867280" y="3505320"/>
            <a:ext cx="533520" cy="1904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2CB8-EC1A-487C-8597-3D255F5935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943600" y="2514600"/>
            <a:ext cx="533520" cy="2438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計畫執行進度、績效掌握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續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426-8938-46ED-B979-A5E3A30CB5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組合式查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提供即時多重複合條件查詢功能，減少承辦人員資料整理與統計人力之投入，以提高作業效率，加強作業時效之管制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819520" y="2971800"/>
            <a:ext cx="106668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3276720"/>
            <a:ext cx="1981440" cy="3045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ACC-9AD9-4AE3-BE15-0A35A89645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掌握查核缺點改進追蹤情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系統使用者可查詢該年度截至目前為止之未結案資料，隨時掌握查核缺點改進情形，督促改善，以利輔助飛安督導作業之控制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90920" y="2819520"/>
            <a:ext cx="17524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8E2-3E07-4557-B952-F8FCD0CF20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統計分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使用者可任意選擇航空公司、查核資料期間、查核缺點等級、欲顯示之統計圖形等條件，進行資料之統計分析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248520" y="3962520"/>
            <a:ext cx="10666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F4C-FEBC-44B5-B22C-B2F139EEE5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統計分析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續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191120" y="1828800"/>
            <a:ext cx="9144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D92-9734-475C-87C1-7032F92E1D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報表製作列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代替過去人工作業之方式，省去繁雜之統計計算，節省作業時間且能避免作業上之錯誤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191120" y="3657600"/>
            <a:ext cx="9144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4191120"/>
            <a:ext cx="10666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5C6-CC5E-47D4-84CA-E1277AE23B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掌握查核人員出勤狀況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3333"/>
                </a:solidFill>
                <a:latin typeface="標楷體"/>
              </a:rPr>
              <a:t>利用本日查核動態資料查詢功能，可使查核員瞭解個人當日之預計查核工作；對查核督導員而言，則可輕易掌握當日所有查核員之預計出勤狀況。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981080" y="2381400"/>
            <a:ext cx="5562720" cy="4171680"/>
            <a:chOff x="1981080" y="2381400"/>
            <a:chExt cx="5562720" cy="4171680"/>
          </a:xfrm>
        </p:grpSpPr>
        <p:pic>
          <p:nvPicPr>
            <p:cNvPr id="220" name="" descr=""/>
            <p:cNvPicPr/>
            <p:nvPr/>
          </p:nvPicPr>
          <p:blipFill>
            <a:blip r:embed="rId2"/>
            <a:stretch/>
          </p:blipFill>
          <p:spPr>
            <a:xfrm>
              <a:off x="1981080" y="2381400"/>
              <a:ext cx="5562720" cy="41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2895480" y="2819520"/>
              <a:ext cx="914400" cy="3808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B063-BAC4-47C2-9835-1298901781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結論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649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本研究將目前民航局標準組之查核作業系統落實電腦化，共計有檔案管理、資料輸入、資料查詢、查核缺點統計、報表列印等五大功能及</a:t>
            </a: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21</a:t>
            </a: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個子功能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649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透過本系統可輕易掌握查核員之預計出勤狀況，並可利用〝計畫累計執行績效比率〞與〝計畫累計執行進度比率〞兩項指標，控制各項查核進度，是否已超時或不足，確實掌握目前之查核動態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67E-BE68-441F-822A-AA0C13F02A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4c2b"/>
                </a:solidFill>
                <a:latin typeface="標楷體"/>
              </a:rPr>
              <a:t>簡報內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819160" y="182880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研究動機與目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現有查核方式檢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查核資訊系統特性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結論與建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38F-CF44-4200-8848-4B2B9A57CF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799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結論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續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649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系統所提供檢查記錄報告之缺點追蹤功能，可查詢未結案之查核缺點資料，隨時掌握查核缺點改進情形，以利輔助飛安督導作業之控制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649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提供即時多重複合條件查詢及統計分析功能，如此可減少承辦人員資料整理與統計人力之投入，以提高作業效率、加強作業時效之管制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將過去舊有之查核資料，以電腦化方式保存起來，可節省歷史資料查詢之人力、時間，以及後續飛安相關課題研究之用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19B-F1BE-4A80-950A-377D7E2C1E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建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目前本系統只針對查核資料電腦化，未建立飛安事件資訊系統，建議後續將兩系統結合，必能更有效落實飛安工作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配合民航局網路的全面建置，建議本系統將來另可結合人事薪資系統，在查核人員出勤考核、薪資作業費之計算方面可減少人工作業、增加作業效率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建議可配置查核員一筆記型電腦，可在現場直接輸入再攜回辦公室轉檔，或直接透過網路連回系統直接輸入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3EBF-4F4D-417C-902F-6EE9818465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建議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(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續</a:t>
            </a: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航空公司之查核缺點通知及改善情形回覆，目前均透過文書作業往返，建議改成網路連線作業，節省公文處理流程，建立與航空公司間更有效率之行政作業環境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spcAft>
                <a:spcPts val="649"/>
              </a:spcAft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333333"/>
                </a:solidFill>
                <a:latin typeface="標楷體"/>
              </a:rPr>
              <a:t>建議民航局將各航空公司之查核缺點資料，公佈於網路上，以供民眾查詢各家航空公司的缺失概況，再配合飛安事件資料之公佈，讓民眾有選擇優良航空公司的權利。</a:t>
            </a:r>
            <a:endParaRPr b="0" lang="en-US" sz="2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DFFB-8B2C-42C1-BE2E-DC2880CE67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76520" y="1676520"/>
            <a:ext cx="59436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333333"/>
                </a:solidFill>
                <a:latin typeface="Times New Roman"/>
                <a:ea typeface="標楷體"/>
              </a:rPr>
              <a:t>簡報完畢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333333"/>
                </a:solidFill>
                <a:latin typeface="Times New Roman"/>
                <a:ea typeface="標楷體"/>
              </a:rPr>
              <a:t>敬請指教</a:t>
            </a:r>
            <a:endParaRPr b="0" lang="en-US" sz="8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620-795D-403D-BD38-1A109AED4E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由於飛航安全的受重視，民航局近年來已逐漸加強對航空公司之飛安督導作業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相關文書作業量急遽膨脹，使得傳統以人工登錄事前之檢查計畫，及事後檢查缺點追蹤之方式，已難確實掌握所需資訊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4c2b"/>
                </a:solidFill>
                <a:latin typeface="標楷體"/>
              </a:rPr>
              <a:t>研究動機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B7E-8B30-473F-ABF2-F2626BD8C4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4c2b"/>
                </a:solidFill>
                <a:latin typeface="標楷體"/>
              </a:rPr>
              <a:t>研究目的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掌握查核執行進度、績效，以及查核人員出勤狀況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提供即時多重複合條件查詢及統計分析功能，減少承辦人員資料整理與統計人力之投入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提供檢查記錄報告之缺點追蹤，以利輔助飛安督導作業之控制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5A2-0DB6-4E3F-B8EB-C7B342AA20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 u="sng">
                <a:solidFill>
                  <a:srgbClr val="bdd7e5"/>
                </a:solidFill>
                <a:uFillTx/>
                <a:latin typeface="標楷體"/>
                <a:hlinkClick r:id="rId2"/>
              </a:rPr>
              <a:t>查核作業_x000b_流程           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7240" y="92160"/>
            <a:ext cx="1382760" cy="554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82080" y="158760"/>
            <a:ext cx="8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6480" y="169920"/>
            <a:ext cx="61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核准之年度工作計劃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82080" y="299880"/>
            <a:ext cx="8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64320" y="311040"/>
            <a:ext cx="41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臨時任務指派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2080" y="441360"/>
            <a:ext cx="8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64320" y="452520"/>
            <a:ext cx="41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缺點改正複檢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67240" y="922320"/>
            <a:ext cx="1382760" cy="277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12200" y="1003320"/>
            <a:ext cx="61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填具查核任務通知單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67240" y="1476360"/>
            <a:ext cx="1382760" cy="277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8920" y="1557360"/>
            <a:ext cx="68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送陳組長或代理人核定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7000" y="2031840"/>
            <a:ext cx="1444680" cy="2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85120" y="2111400"/>
            <a:ext cx="81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查核前</a:t>
            </a: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日函知受檢單位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67240" y="2584440"/>
            <a:ext cx="1382760" cy="333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18160" y="2622600"/>
            <a:ext cx="41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依受檢項目之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2640" y="261144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CheckList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54400" y="276372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執行檢查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67240" y="3222720"/>
            <a:ext cx="1382760" cy="276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16160" y="330192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撰寫飛安檢查報告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29160" y="3859200"/>
            <a:ext cx="1258920" cy="331920"/>
          </a:xfrm>
          <a:custGeom>
            <a:avLst/>
            <a:gdLst/>
            <a:ahLst/>
            <a:rect l="l" t="t" r="r" b="b"/>
            <a:pathLst>
              <a:path w="1587" h="418">
                <a:moveTo>
                  <a:pt x="0" y="209"/>
                </a:moveTo>
                <a:lnTo>
                  <a:pt x="792" y="0"/>
                </a:lnTo>
                <a:lnTo>
                  <a:pt x="1587" y="209"/>
                </a:lnTo>
                <a:lnTo>
                  <a:pt x="792" y="418"/>
                </a:lnTo>
                <a:lnTo>
                  <a:pt x="0" y="209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54400" y="396720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檢查結果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5360"/>
            <a:ext cx="1382760" cy="277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54400" y="47163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結案存檔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56360" y="3747960"/>
            <a:ext cx="1382760" cy="555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71200" y="3816360"/>
            <a:ext cx="8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440" y="3827520"/>
            <a:ext cx="41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函知受檢單位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71200" y="3956040"/>
            <a:ext cx="8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53440" y="3967200"/>
            <a:ext cx="41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要求限期改正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71200" y="4097160"/>
            <a:ext cx="8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440" y="4108320"/>
            <a:ext cx="41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缺點改正追蹤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4608360"/>
            <a:ext cx="1198440" cy="331920"/>
          </a:xfrm>
          <a:custGeom>
            <a:avLst/>
            <a:gdLst/>
            <a:ahLst/>
            <a:rect l="l" t="t" r="r" b="b"/>
            <a:pathLst>
              <a:path w="1509" h="418">
                <a:moveTo>
                  <a:pt x="0" y="210"/>
                </a:moveTo>
                <a:lnTo>
                  <a:pt x="755" y="0"/>
                </a:lnTo>
                <a:lnTo>
                  <a:pt x="1509" y="210"/>
                </a:lnTo>
                <a:lnTo>
                  <a:pt x="755" y="418"/>
                </a:lnTo>
                <a:lnTo>
                  <a:pt x="0" y="21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43520" y="47163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限期改正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216400"/>
            <a:ext cx="1382760" cy="3333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43520" y="52545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個案報局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43520" y="5394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核准展期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5854680"/>
            <a:ext cx="1198440" cy="331920"/>
          </a:xfrm>
          <a:custGeom>
            <a:avLst/>
            <a:gdLst/>
            <a:ahLst/>
            <a:rect l="l" t="t" r="r" b="b"/>
            <a:pathLst>
              <a:path w="1509" h="418">
                <a:moveTo>
                  <a:pt x="0" y="208"/>
                </a:moveTo>
                <a:lnTo>
                  <a:pt x="755" y="0"/>
                </a:lnTo>
                <a:lnTo>
                  <a:pt x="1509" y="208"/>
                </a:lnTo>
                <a:lnTo>
                  <a:pt x="755" y="418"/>
                </a:lnTo>
                <a:lnTo>
                  <a:pt x="0" y="20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11920" y="5961240"/>
            <a:ext cx="13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核准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56360" y="6462720"/>
            <a:ext cx="1382760" cy="277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43520" y="654372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00" spc="-1" strike="noStrike">
                <a:solidFill>
                  <a:srgbClr val="000000"/>
                </a:solidFill>
                <a:latin typeface="標楷體"/>
                <a:ea typeface="標楷體"/>
              </a:rPr>
              <a:t>依法處罰</a:t>
            </a:r>
            <a:endParaRPr b="0" lang="en-US" sz="9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57720" y="646200"/>
            <a:ext cx="1800" cy="203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27480" y="841320"/>
            <a:ext cx="60480" cy="81000"/>
          </a:xfrm>
          <a:custGeom>
            <a:avLst/>
            <a:gdLst/>
            <a:ahLst/>
            <a:rect l="l" t="t" r="r" b="b"/>
            <a:pathLst>
              <a:path w="75" h="102">
                <a:moveTo>
                  <a:pt x="0" y="0"/>
                </a:moveTo>
                <a:lnTo>
                  <a:pt x="37" y="102"/>
                </a:lnTo>
                <a:lnTo>
                  <a:pt x="7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57720" y="1200240"/>
            <a:ext cx="1800" cy="203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27480" y="1395360"/>
            <a:ext cx="60480" cy="81000"/>
          </a:xfrm>
          <a:custGeom>
            <a:avLst/>
            <a:gdLst/>
            <a:ahLst/>
            <a:rect l="l" t="t" r="r" b="b"/>
            <a:pathLst>
              <a:path w="75" h="102">
                <a:moveTo>
                  <a:pt x="0" y="0"/>
                </a:moveTo>
                <a:lnTo>
                  <a:pt x="37" y="102"/>
                </a:lnTo>
                <a:lnTo>
                  <a:pt x="7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57720" y="1754280"/>
            <a:ext cx="1800" cy="203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27480" y="1951200"/>
            <a:ext cx="60480" cy="80640"/>
          </a:xfrm>
          <a:custGeom>
            <a:avLst/>
            <a:gdLst/>
            <a:ahLst/>
            <a:rect l="l" t="t" r="r" b="b"/>
            <a:pathLst>
              <a:path w="75" h="102">
                <a:moveTo>
                  <a:pt x="0" y="0"/>
                </a:moveTo>
                <a:lnTo>
                  <a:pt x="37" y="102"/>
                </a:lnTo>
                <a:lnTo>
                  <a:pt x="7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57720" y="2308320"/>
            <a:ext cx="1800" cy="203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27480" y="2503440"/>
            <a:ext cx="60480" cy="81000"/>
          </a:xfrm>
          <a:custGeom>
            <a:avLst/>
            <a:gdLst/>
            <a:ahLst/>
            <a:rect l="l" t="t" r="r" b="b"/>
            <a:pathLst>
              <a:path w="75" h="102">
                <a:moveTo>
                  <a:pt x="0" y="0"/>
                </a:moveTo>
                <a:lnTo>
                  <a:pt x="37" y="102"/>
                </a:lnTo>
                <a:lnTo>
                  <a:pt x="7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57720" y="2917800"/>
            <a:ext cx="1800" cy="230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27480" y="3141720"/>
            <a:ext cx="60480" cy="81000"/>
          </a:xfrm>
          <a:custGeom>
            <a:avLst/>
            <a:gdLst/>
            <a:ahLst/>
            <a:rect l="l" t="t" r="r" b="b"/>
            <a:pathLst>
              <a:path w="75" h="102">
                <a:moveTo>
                  <a:pt x="0" y="0"/>
                </a:moveTo>
                <a:lnTo>
                  <a:pt x="37" y="102"/>
                </a:lnTo>
                <a:lnTo>
                  <a:pt x="7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57720" y="3498840"/>
            <a:ext cx="1800" cy="287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27480" y="3778200"/>
            <a:ext cx="60480" cy="81000"/>
          </a:xfrm>
          <a:custGeom>
            <a:avLst/>
            <a:gdLst/>
            <a:ahLst/>
            <a:rect l="l" t="t" r="r" b="b"/>
            <a:pathLst>
              <a:path w="75" h="102">
                <a:moveTo>
                  <a:pt x="0" y="0"/>
                </a:moveTo>
                <a:lnTo>
                  <a:pt x="37" y="102"/>
                </a:lnTo>
                <a:lnTo>
                  <a:pt x="7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57720" y="4191120"/>
            <a:ext cx="1800" cy="369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27480" y="4554360"/>
            <a:ext cx="60480" cy="81000"/>
          </a:xfrm>
          <a:custGeom>
            <a:avLst/>
            <a:gdLst/>
            <a:ahLst/>
            <a:rect l="l" t="t" r="r" b="b"/>
            <a:pathLst>
              <a:path w="75" h="102">
                <a:moveTo>
                  <a:pt x="0" y="0"/>
                </a:moveTo>
                <a:lnTo>
                  <a:pt x="37" y="102"/>
                </a:lnTo>
                <a:lnTo>
                  <a:pt x="7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30800" y="435456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88080" y="4025880"/>
            <a:ext cx="287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67440" y="3998880"/>
            <a:ext cx="88920" cy="54000"/>
          </a:xfrm>
          <a:custGeom>
            <a:avLst/>
            <a:gdLst/>
            <a:ahLst/>
            <a:rect l="l" t="t" r="r" b="b"/>
            <a:pathLst>
              <a:path w="113" h="68">
                <a:moveTo>
                  <a:pt x="0" y="0"/>
                </a:moveTo>
                <a:lnTo>
                  <a:pt x="113" y="34"/>
                </a:lnTo>
                <a:lnTo>
                  <a:pt x="0" y="6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07240" y="392256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04080" y="499104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48640" y="4303800"/>
            <a:ext cx="1440" cy="230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18400" y="4527720"/>
            <a:ext cx="60120" cy="80640"/>
          </a:xfrm>
          <a:custGeom>
            <a:avLst/>
            <a:gdLst/>
            <a:ahLst/>
            <a:rect l="l" t="t" r="r" b="b"/>
            <a:pathLst>
              <a:path w="76" h="102">
                <a:moveTo>
                  <a:pt x="0" y="0"/>
                </a:moveTo>
                <a:lnTo>
                  <a:pt x="38" y="102"/>
                </a:lnTo>
                <a:lnTo>
                  <a:pt x="7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48640" y="4940280"/>
            <a:ext cx="1440" cy="201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18400" y="5135400"/>
            <a:ext cx="60120" cy="81000"/>
          </a:xfrm>
          <a:custGeom>
            <a:avLst/>
            <a:gdLst/>
            <a:ahLst/>
            <a:rect l="l" t="t" r="r" b="b"/>
            <a:pathLst>
              <a:path w="76" h="102">
                <a:moveTo>
                  <a:pt x="0" y="0"/>
                </a:moveTo>
                <a:lnTo>
                  <a:pt x="38" y="102"/>
                </a:lnTo>
                <a:lnTo>
                  <a:pt x="7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48640" y="5549760"/>
            <a:ext cx="1440" cy="230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18400" y="5773680"/>
            <a:ext cx="60120" cy="81000"/>
          </a:xfrm>
          <a:custGeom>
            <a:avLst/>
            <a:gdLst/>
            <a:ahLst/>
            <a:rect l="l" t="t" r="r" b="b"/>
            <a:pathLst>
              <a:path w="76" h="102">
                <a:moveTo>
                  <a:pt x="0" y="0"/>
                </a:moveTo>
                <a:lnTo>
                  <a:pt x="38" y="102"/>
                </a:lnTo>
                <a:lnTo>
                  <a:pt x="7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26400" y="4672080"/>
            <a:ext cx="14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932440" y="4773600"/>
            <a:ext cx="3160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50000" y="4746600"/>
            <a:ext cx="88920" cy="54000"/>
          </a:xfrm>
          <a:custGeom>
            <a:avLst/>
            <a:gdLst/>
            <a:ahLst/>
            <a:rect l="l" t="t" r="r" b="b"/>
            <a:pathLst>
              <a:path w="113" h="68">
                <a:moveTo>
                  <a:pt x="113" y="0"/>
                </a:moveTo>
                <a:lnTo>
                  <a:pt x="0" y="34"/>
                </a:lnTo>
                <a:lnTo>
                  <a:pt x="113" y="68"/>
                </a:lnTo>
                <a:lnTo>
                  <a:pt x="1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48640" y="6186600"/>
            <a:ext cx="1440" cy="203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18400" y="6381720"/>
            <a:ext cx="60120" cy="81000"/>
          </a:xfrm>
          <a:custGeom>
            <a:avLst/>
            <a:gdLst/>
            <a:ahLst/>
            <a:rect l="l" t="t" r="r" b="b"/>
            <a:pathLst>
              <a:path w="76" h="102">
                <a:moveTo>
                  <a:pt x="0" y="0"/>
                </a:moveTo>
                <a:lnTo>
                  <a:pt x="38" y="102"/>
                </a:lnTo>
                <a:lnTo>
                  <a:pt x="7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04080" y="6251400"/>
            <a:ext cx="11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46960" y="4773600"/>
            <a:ext cx="398520" cy="1246320"/>
          </a:xfrm>
          <a:custGeom>
            <a:avLst/>
            <a:gdLst/>
            <a:ahLst/>
            <a:rect l="l" t="t" r="r" b="b"/>
            <a:pathLst>
              <a:path w="502" h="1569">
                <a:moveTo>
                  <a:pt x="104" y="0"/>
                </a:moveTo>
                <a:lnTo>
                  <a:pt x="502" y="0"/>
                </a:lnTo>
                <a:lnTo>
                  <a:pt x="502" y="1569"/>
                </a:lnTo>
                <a:lnTo>
                  <a:pt x="0" y="156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6960" y="4746600"/>
            <a:ext cx="88920" cy="54000"/>
          </a:xfrm>
          <a:custGeom>
            <a:avLst/>
            <a:gdLst/>
            <a:ahLst/>
            <a:rect l="l" t="t" r="r" b="b"/>
            <a:pathLst>
              <a:path w="113" h="68">
                <a:moveTo>
                  <a:pt x="113" y="68"/>
                </a:moveTo>
                <a:lnTo>
                  <a:pt x="0" y="34"/>
                </a:lnTo>
                <a:lnTo>
                  <a:pt x="113" y="0"/>
                </a:lnTo>
                <a:lnTo>
                  <a:pt x="113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5160" y="4672080"/>
            <a:ext cx="14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8BFE-28C4-4E27-9F13-D958E0707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spcAft>
                <a:spcPts val="99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</a:rPr>
              <a:t>現行查核資料的建立多由各查核員以書面資料處理，造成資料無法共享，查核統計較不易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spcAft>
                <a:spcPts val="99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</a:rPr>
              <a:t>現行工作計畫之安排與執行，均以人工書面方式控管進行，較難確實掌握各項作業人員執行任務及派遣記錄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spcAft>
                <a:spcPts val="99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</a:rPr>
              <a:t>查核如有缺失，需由查核員另行撰寫查核缺點報告，後發文至該航空公司要求限期改善，此一撰寫程序繁瑣，且查核缺點改善情形之追蹤不易掌握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4c2b"/>
                </a:solidFill>
                <a:latin typeface="標楷體"/>
              </a:rPr>
              <a:t>現有查核方式所面臨之問題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7A2-ED94-48EC-8759-0BB1E0B823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</a:rPr>
              <a:t>查核缺點係利用查核報告分別記錄，如欲進行各航空公司歷年之查核缺點趨勢分析較不易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</a:rPr>
              <a:t>查核員之查核工時及作業費之統計，主要係由人工計算，費時費力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</a:rPr>
              <a:t>目前查核之歷史資料保存皆以書面資料為主，一旦時日久遠容易造成資料毀損或流失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4c2b"/>
                </a:solidFill>
                <a:latin typeface="標楷體"/>
              </a:rPr>
              <a:t>現有查核方式所面臨之問題</a:t>
            </a:r>
            <a:r>
              <a:rPr b="0" lang="zh-TW" sz="4400" spc="-1" strike="noStrike">
                <a:solidFill>
                  <a:srgbClr val="004c2b"/>
                </a:solidFill>
                <a:latin typeface="標楷體"/>
              </a:rPr>
              <a:t>(</a:t>
            </a:r>
            <a:r>
              <a:rPr b="0" lang="zh-TW" sz="4400" spc="-1" strike="noStrike">
                <a:solidFill>
                  <a:srgbClr val="004c2b"/>
                </a:solidFill>
                <a:latin typeface="標楷體"/>
              </a:rPr>
              <a:t>續</a:t>
            </a:r>
            <a:r>
              <a:rPr b="0" lang="zh-TW" sz="4400" spc="-1" strike="noStrike">
                <a:solidFill>
                  <a:srgbClr val="004c2b"/>
                </a:solidFill>
                <a:latin typeface="標楷體"/>
              </a:rPr>
              <a:t>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F09-284B-422A-A38D-A732006334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4c2b"/>
                </a:solidFill>
                <a:latin typeface="標楷體"/>
              </a:rPr>
              <a:t>查核系統功能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6400800" cy="51814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558800" y="1719360"/>
            <a:ext cx="0" cy="128088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4560" y="1646280"/>
            <a:ext cx="0" cy="214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3040" y="1646280"/>
            <a:ext cx="0" cy="7308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3040" y="1719360"/>
            <a:ext cx="65880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71840" y="1719360"/>
            <a:ext cx="0" cy="213660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79760" y="1623960"/>
            <a:ext cx="0" cy="32400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77" name="f3" descr=""/>
          <p:cNvPicPr/>
          <p:nvPr/>
        </p:nvPicPr>
        <p:blipFill>
          <a:blip r:embed="rId3"/>
          <a:stretch/>
        </p:blipFill>
        <p:spPr>
          <a:xfrm>
            <a:off x="2760840" y="3890880"/>
            <a:ext cx="1773000" cy="1665360"/>
          </a:xfrm>
          <a:prstGeom prst="rect">
            <a:avLst/>
          </a:prstGeom>
          <a:ln w="0">
            <a:noFill/>
          </a:ln>
        </p:spPr>
      </p:pic>
      <p:pic>
        <p:nvPicPr>
          <p:cNvPr id="178" name="f4" descr=""/>
          <p:cNvPicPr/>
          <p:nvPr/>
        </p:nvPicPr>
        <p:blipFill>
          <a:blip r:embed="rId4"/>
          <a:stretch/>
        </p:blipFill>
        <p:spPr>
          <a:xfrm>
            <a:off x="3608280" y="2109960"/>
            <a:ext cx="1157400" cy="349200"/>
          </a:xfrm>
          <a:prstGeom prst="rect">
            <a:avLst/>
          </a:prstGeom>
          <a:ln w="0">
            <a:noFill/>
          </a:ln>
        </p:spPr>
      </p:pic>
      <p:pic>
        <p:nvPicPr>
          <p:cNvPr id="179" name="f5" descr=""/>
          <p:cNvPicPr/>
          <p:nvPr/>
        </p:nvPicPr>
        <p:blipFill>
          <a:blip r:embed="rId5"/>
          <a:stretch/>
        </p:blipFill>
        <p:spPr>
          <a:xfrm>
            <a:off x="4843440" y="2757600"/>
            <a:ext cx="1773360" cy="1054080"/>
          </a:xfrm>
          <a:prstGeom prst="rect">
            <a:avLst/>
          </a:prstGeom>
          <a:ln w="0">
            <a:noFill/>
          </a:ln>
        </p:spPr>
      </p:pic>
      <p:pic>
        <p:nvPicPr>
          <p:cNvPr id="180" name="f11" descr=""/>
          <p:cNvPicPr/>
          <p:nvPr/>
        </p:nvPicPr>
        <p:blipFill>
          <a:blip r:embed="rId6"/>
          <a:stretch/>
        </p:blipFill>
        <p:spPr>
          <a:xfrm>
            <a:off x="1373040" y="3000240"/>
            <a:ext cx="1387800" cy="749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379760" y="1947960"/>
            <a:ext cx="1233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13480" y="1947960"/>
            <a:ext cx="0" cy="80964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63800" y="1623960"/>
            <a:ext cx="306720" cy="48600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90720" y="1886040"/>
          <a:ext cx="1111320" cy="96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90720" y="1886040"/>
                    <a:ext cx="111132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796-A815-46BA-B2B3-ADBA222F52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spcAft>
                <a:spcPts val="400"/>
              </a:spcAft>
              <a:buClr>
                <a:srgbClr val="578963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3333"/>
                </a:solidFill>
                <a:latin typeface="標楷體"/>
              </a:rPr>
              <a:t>使用者權限區分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133720" y="2514600"/>
          <a:ext cx="4952880" cy="37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514600"/>
                    <a:ext cx="495288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276720" y="3581280"/>
            <a:ext cx="1828800" cy="838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4c2b"/>
                </a:solidFill>
                <a:latin typeface="標楷體"/>
              </a:rPr>
              <a:t>查核資訊系統特性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F37-8C86-41F2-B33C-0B3F1BACF5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26T06:16:00Z</dcterms:created>
  <dc:creator>jgm1</dc:creator>
  <dc:description/>
  <dc:language>en-US</dc:language>
  <cp:lastModifiedBy>JGM</cp:lastModifiedBy>
  <cp:lastPrinted>1999-12-17T06:17:53Z</cp:lastPrinted>
  <dcterms:modified xsi:type="dcterms:W3CDTF">1999-12-17T06:17:59Z</dcterms:modified>
  <cp:revision>48</cp:revision>
  <dc:subject/>
  <dc:title>無投影片標題</dc:title>
</cp:coreProperties>
</file>