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9680" y="745560"/>
            <a:ext cx="4904280" cy="36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ff0b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2400" y="4659480"/>
            <a:ext cx="5298840" cy="441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封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7083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30320" y="4205160"/>
            <a:ext cx="7083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9840" y="183348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30320" y="420516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9840" y="420516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228060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25400" y="1833480"/>
            <a:ext cx="228060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20480" y="1833480"/>
            <a:ext cx="228060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30320" y="4205160"/>
            <a:ext cx="228060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25400" y="4205160"/>
            <a:ext cx="228060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20480" y="4205160"/>
            <a:ext cx="228060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860-186D-49D8-A2A0-CA269023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30320" y="1833480"/>
            <a:ext cx="708336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71D-90BA-4198-92B0-BDCFC5D1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7083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0D4-B882-4225-8D55-E3B2138C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3456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840" y="1833480"/>
            <a:ext cx="3456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DF5-205E-4CA4-8D55-9FC71F98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DA6-7776-48B0-8142-8EF2B8E1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29960" y="773280"/>
            <a:ext cx="7504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DAA-8474-44E1-9442-6B36C5C5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840" y="1833480"/>
            <a:ext cx="3456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30320" y="420516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BE0-4C9D-48D8-A52F-F2979C32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30320" y="1833480"/>
            <a:ext cx="708336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3456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840" y="183348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9840" y="420516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0C0-D7CE-495C-B4E1-EEA4DA2E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9840" y="183348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30320" y="4205160"/>
            <a:ext cx="7083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3B3-2113-4A5E-9A5F-B2E90BF7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7083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30320" y="4205160"/>
            <a:ext cx="7083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8FA-7CD5-4FA6-A7AC-4FDF1FD0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9840" y="183348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30320" y="420516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9840" y="420516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13B-FFF3-4C5C-B41B-FED8C0CA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228060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25400" y="1833480"/>
            <a:ext cx="228060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20480" y="1833480"/>
            <a:ext cx="228060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30320" y="4205160"/>
            <a:ext cx="228060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25400" y="4205160"/>
            <a:ext cx="228060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20480" y="4205160"/>
            <a:ext cx="228060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707-2EEA-4A36-9B0C-CD7F8FCC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7083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3456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833480"/>
            <a:ext cx="3456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29960" y="773280"/>
            <a:ext cx="7504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840" y="1833480"/>
            <a:ext cx="3456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0320" y="420516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3456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9840" y="183348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9840" y="420516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0320" y="183348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840" y="1833480"/>
            <a:ext cx="3456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0320" y="4205160"/>
            <a:ext cx="7083360" cy="21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203040"/>
            <a:ext cx="9144000" cy="70610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00"/>
              </a:gs>
              <a:gs pos="100000">
                <a:srgbClr val="0000ff"/>
              </a:gs>
            </a:gsLst>
            <a:lin ang="135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" name="台大logo" descr=""/>
          <p:cNvPicPr/>
          <p:nvPr/>
        </p:nvPicPr>
        <p:blipFill>
          <a:blip r:embed="rId2"/>
          <a:stretch/>
        </p:blipFill>
        <p:spPr>
          <a:xfrm>
            <a:off x="8534520" y="304920"/>
            <a:ext cx="374400" cy="3744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85800" y="685800"/>
            <a:ext cx="8008920" cy="582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1106640" y="763200"/>
            <a:ext cx="7580160" cy="468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8480"/>
            <a:ext cx="0" cy="54338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1144440"/>
            <a:ext cx="0" cy="5247000"/>
          </a:xfrm>
          <a:prstGeom prst="line">
            <a:avLst/>
          </a:prstGeom>
          <a:ln w="25560">
            <a:solidFill>
              <a:srgbClr val="010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82600" y="838080"/>
            <a:ext cx="7427880" cy="0"/>
          </a:xfrm>
          <a:prstGeom prst="line">
            <a:avLst/>
          </a:prstGeom>
          <a:ln w="25560">
            <a:solidFill>
              <a:srgbClr val="010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573120" y="298440"/>
          <a:ext cx="45720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3120" y="298440"/>
                    <a:ext cx="4572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1030320" y="282240"/>
            <a:ext cx="2408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00"/>
                </a:solidFill>
                <a:latin typeface="標楷體"/>
                <a:ea typeface="標楷體"/>
              </a:rPr>
              <a:t>國立台北科技大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9960" y="773280"/>
            <a:ext cx="7504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ff0b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030320" y="1833480"/>
            <a:ext cx="708336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58000" y="282240"/>
            <a:ext cx="184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00"/>
                </a:solidFill>
                <a:latin typeface="標楷體"/>
                <a:ea typeface="標楷體"/>
              </a:rPr>
              <a:t>國立台灣大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1003320"/>
            <a:ext cx="8152920" cy="1599840"/>
            <a:chOff x="457200" y="1003320"/>
            <a:chExt cx="8152920" cy="1599840"/>
          </a:xfrm>
        </p:grpSpPr>
        <p:grpSp>
          <p:nvGrpSpPr>
            <p:cNvPr id="50" name=""/>
            <p:cNvGrpSpPr/>
            <p:nvPr/>
          </p:nvGrpSpPr>
          <p:grpSpPr>
            <a:xfrm>
              <a:off x="2886480" y="1003320"/>
              <a:ext cx="5723640" cy="1599840"/>
              <a:chOff x="2886480" y="1003320"/>
              <a:chExt cx="5723640" cy="1599840"/>
            </a:xfrm>
          </p:grpSpPr>
          <p:sp>
            <p:nvSpPr>
              <p:cNvPr id="51" name=""/>
              <p:cNvSpPr/>
              <p:nvPr/>
            </p:nvSpPr>
            <p:spPr>
              <a:xfrm>
                <a:off x="2886480" y="1003320"/>
                <a:ext cx="5723640" cy="159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6" y="0"/>
                    </a:moveTo>
                    <a:arcTo wR="10800" hR="10800" stAng="-5398093" swAng="107980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6" y="0"/>
                    </a:moveTo>
                    <a:arcTo wR="10800" hR="10800" stAng="-5398093" swAng="10798093"/>
                  </a:path>
                </a:pathLst>
              </a:custGeom>
              <a:gradFill rotWithShape="0">
                <a:gsLst>
                  <a:gs pos="0">
                    <a:srgbClr val="6633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840280" y="1044720"/>
                <a:ext cx="2678400" cy="15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813400" y="1168560"/>
              <a:ext cx="5723640" cy="1269360"/>
              <a:chOff x="2813400" y="1168560"/>
              <a:chExt cx="5723640" cy="1269360"/>
            </a:xfrm>
          </p:grpSpPr>
          <p:sp>
            <p:nvSpPr>
              <p:cNvPr id="54" name=""/>
              <p:cNvSpPr/>
              <p:nvPr/>
            </p:nvSpPr>
            <p:spPr>
              <a:xfrm>
                <a:off x="2813400" y="1168560"/>
                <a:ext cx="5723640" cy="1269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6" y="0"/>
                    </a:moveTo>
                    <a:arcTo wR="10800" hR="10800" stAng="-5398093" swAng="107980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6" y="0"/>
                    </a:moveTo>
                    <a:arcTo wR="10800" hR="10800" stAng="-5398093" swAng="10798093"/>
                  </a:path>
                </a:pathLst>
              </a:custGeom>
              <a:gradFill rotWithShape="0">
                <a:gsLst>
                  <a:gs pos="0">
                    <a:srgbClr val="8944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767560" y="1209600"/>
                <a:ext cx="2678040" cy="117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772360" y="1389240"/>
              <a:ext cx="5720400" cy="828000"/>
              <a:chOff x="2772360" y="1389240"/>
              <a:chExt cx="5720400" cy="828000"/>
            </a:xfrm>
          </p:grpSpPr>
          <p:sp>
            <p:nvSpPr>
              <p:cNvPr id="57" name=""/>
              <p:cNvSpPr/>
              <p:nvPr/>
            </p:nvSpPr>
            <p:spPr>
              <a:xfrm>
                <a:off x="2772360" y="1389240"/>
                <a:ext cx="5720400" cy="82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6" y="0"/>
                    </a:moveTo>
                    <a:arcTo wR="10800" hR="10800" stAng="-5398092" swAng="107980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6" y="0"/>
                    </a:moveTo>
                    <a:arcTo wR="10800" hR="10800" stAng="-5398092" swAng="10798092"/>
                  </a:path>
                </a:pathLst>
              </a:custGeom>
              <a:gradFill rotWithShape="0">
                <a:gsLst>
                  <a:gs pos="0">
                    <a:srgbClr val="b75b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724360" y="1430280"/>
                <a:ext cx="2676600" cy="73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81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ff0b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9ff0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E673-ABF1-420D-8AEE-DC4C643B3296}" type="slidenum"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5480" y="126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9ff0b"/>
                </a:solidFill>
                <a:latin typeface="Arial"/>
                <a:ea typeface="全真顏體"/>
              </a:rPr>
              <a:t>「</a:t>
            </a:r>
            <a:r>
              <a:rPr b="1" lang="zh-TW" sz="4400" spc="-1" strike="noStrike">
                <a:solidFill>
                  <a:srgbClr val="f9ff0b"/>
                </a:solidFill>
                <a:latin typeface="華康古印體"/>
                <a:ea typeface="華康古印體"/>
              </a:rPr>
              <a:t>建立橋梁檢測制度方法</a:t>
            </a:r>
            <a:br>
              <a:rPr sz="4400"/>
            </a:br>
            <a:r>
              <a:rPr b="1" lang="zh-TW" sz="4400" spc="-1" strike="noStrike">
                <a:solidFill>
                  <a:srgbClr val="f9ff0b"/>
                </a:solidFill>
                <a:latin typeface="華康古印體"/>
                <a:ea typeface="華康古印體"/>
              </a:rPr>
              <a:t> 及準則之研究」期末報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1640" y="548640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華康細圓體"/>
                <a:ea typeface="華康細圓體"/>
              </a:rPr>
              <a:t>國立台北科技大學      國立台灣大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華康細圓體"/>
                <a:ea typeface="華康細圓體"/>
              </a:rPr>
              <a:t>中華民國 九十一年一月十八日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01018" descr=""/>
          <p:cNvPicPr/>
          <p:nvPr/>
        </p:nvPicPr>
        <p:blipFill>
          <a:blip r:embed="rId1"/>
          <a:stretch/>
        </p:blipFill>
        <p:spPr>
          <a:xfrm>
            <a:off x="1973160" y="1996920"/>
            <a:ext cx="549288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07640" y="4981680"/>
            <a:ext cx="2168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9ff0b"/>
                </a:solidFill>
                <a:latin typeface="Times New Roman"/>
                <a:ea typeface="標楷體"/>
              </a:rPr>
              <a:t>報告人 </a:t>
            </a:r>
            <a:r>
              <a:rPr b="0" lang="zh-TW" sz="3000" spc="-1" strike="noStrike">
                <a:solidFill>
                  <a:srgbClr val="f9ff0b"/>
                </a:solidFill>
                <a:latin typeface="Times New Roman"/>
                <a:ea typeface="標楷體"/>
              </a:rPr>
              <a:t>: </a:t>
            </a:r>
            <a:r>
              <a:rPr b="0" lang="zh-TW" sz="3000" spc="-1" strike="noStrike">
                <a:solidFill>
                  <a:srgbClr val="f9ff0b"/>
                </a:solidFill>
                <a:latin typeface="Times New Roman"/>
                <a:ea typeface="標楷體"/>
              </a:rPr>
              <a:t>李有豐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243080" y="976320"/>
          <a:ext cx="7037280" cy="54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976320"/>
                    <a:ext cx="703728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12960" y="1171440"/>
          <a:ext cx="7740360" cy="492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171440"/>
                    <a:ext cx="7740360" cy="49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900000" y="1212840"/>
          <a:ext cx="7761240" cy="478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12840"/>
                    <a:ext cx="776124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976320" y="1563840"/>
          <a:ext cx="7640640" cy="411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1563840"/>
                    <a:ext cx="7640640" cy="41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38160" y="1555920"/>
          <a:ext cx="7704360" cy="45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55920"/>
                    <a:ext cx="770436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900000" y="1500120"/>
          <a:ext cx="778032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00120"/>
                    <a:ext cx="778032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963720" y="1260360"/>
          <a:ext cx="767232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1260360"/>
                    <a:ext cx="76723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887400" y="1193760"/>
          <a:ext cx="7763040" cy="49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1193760"/>
                    <a:ext cx="776304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2971800"/>
            <a:ext cx="5943600" cy="9154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cc"/>
                </a:solidFill>
                <a:latin typeface="華康古印體"/>
                <a:ea typeface="華康古印體"/>
              </a:rPr>
              <a:t>檢測頻率訂定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1784520"/>
            <a:ext cx="75628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在問卷調查之評估準則建構及相對權重的配置方面，本研究採用戴爾菲層級分析法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華康儷中黑"/>
              </a:rPr>
              <a:t>（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華康儷中黑"/>
              </a:rPr>
              <a:t>DAHP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華康儷中黑"/>
              </a:rPr>
              <a:t>），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強化了問題求解的客觀性及周延性。從問題與目標的確定，評估準則層級結構的合理性，乃至於準則間相對權重的分配，均匯集了專家群體的意見，透過專家之間橫向的資訊傳遞，促進專家們對問題特性的瞭解，有效的降低了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華康儷中黑"/>
              </a:rPr>
              <a:t>AHP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法可能產生主觀偏差的機會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1143000"/>
            <a:ext cx="533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問卷調查方法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8120" y="1066680"/>
            <a:ext cx="3047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期末簡報內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0320" y="1981080"/>
            <a:ext cx="746280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期中簡報前計畫執行內容簡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人員問卷調查結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檢測頻率制訂與第三次專家座談會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記錄彙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一般橋梁檢測準則內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81080" y="1143000"/>
            <a:ext cx="533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戴爾菲層級分析法之優點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0320" y="2057400"/>
            <a:ext cx="74628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強化評估準則研擬的周延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減低主觀性的影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有效利用問題特性分析結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5360" y="426708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9ff0b"/>
                </a:solidFill>
                <a:latin typeface="Arial"/>
                <a:ea typeface="華康儷中黑"/>
              </a:rPr>
              <a:t>本研究回收了</a:t>
            </a:r>
            <a:r>
              <a:rPr b="0" lang="zh-TW" sz="3200" spc="-1" strike="noStrike">
                <a:solidFill>
                  <a:srgbClr val="f9ff0b"/>
                </a:solidFill>
                <a:latin typeface="Arial"/>
                <a:ea typeface="華康儷中黑"/>
              </a:rPr>
              <a:t>25</a:t>
            </a:r>
            <a:r>
              <a:rPr b="0" lang="zh-TW" sz="3200" spc="-1" strike="noStrike">
                <a:solidFill>
                  <a:srgbClr val="f9ff0b"/>
                </a:solidFill>
                <a:latin typeface="Arial"/>
                <a:ea typeface="華康儷中黑"/>
              </a:rPr>
              <a:t>份問卷，在與專家反覆討論後，並經過一致性檢定測試，計有</a:t>
            </a:r>
            <a:r>
              <a:rPr b="0" lang="zh-TW" sz="3200" spc="-1" strike="noStrike">
                <a:solidFill>
                  <a:srgbClr val="f9ff0b"/>
                </a:solidFill>
                <a:latin typeface="Arial"/>
                <a:ea typeface="華康儷中黑"/>
              </a:rPr>
              <a:t>19</a:t>
            </a:r>
            <a:r>
              <a:rPr b="0" lang="zh-TW" sz="3200" spc="-1" strike="noStrike">
                <a:solidFill>
                  <a:srgbClr val="f9ff0b"/>
                </a:solidFill>
                <a:latin typeface="Arial"/>
                <a:ea typeface="華康儷中黑"/>
              </a:rPr>
              <a:t>份問卷為合格樣本</a:t>
            </a:r>
            <a:r>
              <a:rPr b="0" lang="zh-TW" sz="3200" spc="-1" strike="noStrike">
                <a:solidFill>
                  <a:srgbClr val="f9ff0b"/>
                </a:solidFill>
                <a:latin typeface="華康儷中黑"/>
                <a:ea typeface="華康儷中黑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1143000"/>
            <a:ext cx="7924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問卷調查採用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DAHP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之步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30320" y="2057400"/>
            <a:ext cx="746280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執行小組成立及問卷設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選擇受訪之專家群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層級架構問卷調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專家意見整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確立準則層級架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準則偏好問卷調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專家意見整合與權重值調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05080" y="10288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問卷設計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266840" y="1711440"/>
            <a:ext cx="6638760" cy="4254480"/>
            <a:chOff x="1266840" y="1711440"/>
            <a:chExt cx="6638760" cy="4254480"/>
          </a:xfrm>
        </p:grpSpPr>
        <p:sp>
          <p:nvSpPr>
            <p:cNvPr id="147" name=""/>
            <p:cNvSpPr/>
            <p:nvPr/>
          </p:nvSpPr>
          <p:spPr>
            <a:xfrm>
              <a:off x="1266840" y="2702160"/>
              <a:ext cx="619200" cy="271116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華康細圓體"/>
                </a:rPr>
                <a:t>橋梁檢測之構件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47800" y="2851200"/>
              <a:ext cx="2362320" cy="45828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華康細圓體"/>
                </a:rPr>
                <a:t>全橋性檢測項目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91320" y="1711440"/>
              <a:ext cx="2114280" cy="48276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華康細圓體"/>
                </a:rPr>
                <a:t>引道設施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2330640"/>
              <a:ext cx="2095560" cy="4284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華康細圓體"/>
                </a:rPr>
                <a:t>河道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2889360"/>
              <a:ext cx="2095560" cy="5047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華康細圓體"/>
                </a:rPr>
                <a:t>橋台設施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72240" y="3508560"/>
              <a:ext cx="2095560" cy="4572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華康細圓體"/>
                </a:rPr>
                <a:t>附屬設施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47800" y="5051520"/>
              <a:ext cx="2381400" cy="45828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華康細圓體"/>
                </a:rPr>
                <a:t>各橋孔檢測項目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4407120"/>
              <a:ext cx="2095560" cy="43488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華康細圓體"/>
                </a:rPr>
                <a:t>上部結構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72240" y="4978440"/>
              <a:ext cx="2114640" cy="43488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華康細圓體"/>
                </a:rPr>
                <a:t>介面部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72240" y="5531040"/>
              <a:ext cx="2095560" cy="43488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00"/>
                  </a:solidFill>
                  <a:latin typeface="Times New Roman"/>
                  <a:ea typeface="華康細圓體"/>
                </a:rPr>
                <a:t>下部結構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05080" y="3146400"/>
              <a:ext cx="342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05080" y="5280120"/>
              <a:ext cx="342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24200" y="4156200"/>
              <a:ext cx="342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05080" y="3146400"/>
              <a:ext cx="0" cy="2133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29160" y="1984320"/>
              <a:ext cx="3430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29160" y="5794560"/>
              <a:ext cx="3430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5261040"/>
              <a:ext cx="3430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4651560"/>
              <a:ext cx="3430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3718080"/>
              <a:ext cx="3430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48240" y="3165480"/>
              <a:ext cx="3430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9160" y="2556000"/>
              <a:ext cx="3430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29200" y="5280120"/>
              <a:ext cx="3430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3089520"/>
              <a:ext cx="3430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4651560"/>
              <a:ext cx="0" cy="11430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1984320"/>
              <a:ext cx="0" cy="1733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05120" y="1028880"/>
            <a:ext cx="561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構件權重分析–舊權重值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71680" y="2228760"/>
            <a:ext cx="84596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05120" y="1028880"/>
            <a:ext cx="561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構件權重分析–新權重值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4440" y="2070000"/>
            <a:ext cx="843912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905120" y="1028880"/>
            <a:ext cx="561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新權重值分析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30320" y="2057400"/>
            <a:ext cx="746280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重要性權重幾乎都落在下部結構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與高工局所採用專家法則定出來的權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重值有明顯差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反應當前橋梁檢測人員對各構件權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之看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反應台灣橋梁多有經歷土石流、地震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河道變遷等狀況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305080" y="10288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問卷設計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20720" y="2120760"/>
            <a:ext cx="5734080" cy="4127760"/>
            <a:chOff x="1620720" y="2120760"/>
            <a:chExt cx="5734080" cy="4127760"/>
          </a:xfrm>
        </p:grpSpPr>
        <p:sp>
          <p:nvSpPr>
            <p:cNvPr id="180" name=""/>
            <p:cNvSpPr/>
            <p:nvPr/>
          </p:nvSpPr>
          <p:spPr>
            <a:xfrm>
              <a:off x="4068720" y="4245120"/>
              <a:ext cx="409680" cy="20034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交通量大小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25920" y="4245120"/>
              <a:ext cx="409680" cy="20034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大型車比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0440" y="4235400"/>
              <a:ext cx="409680" cy="20131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結構型式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92600" y="4245120"/>
              <a:ext cx="409680" cy="20034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橋長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45120" y="4245120"/>
              <a:ext cx="409680" cy="20034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橋齡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7640" y="4245120"/>
              <a:ext cx="409680" cy="20034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道路等級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05080" y="2120760"/>
              <a:ext cx="4379760" cy="5335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橋梁定期檢測頻率之影響因素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08600" y="3273480"/>
              <a:ext cx="1323720" cy="3762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使用程度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94480" y="3282840"/>
              <a:ext cx="1428480" cy="36684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基本條件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49400" y="2975040"/>
              <a:ext cx="3549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9360" y="3002040"/>
              <a:ext cx="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22680" y="2654280"/>
              <a:ext cx="0" cy="61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2680" y="3597120"/>
              <a:ext cx="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55920" y="3882960"/>
              <a:ext cx="0" cy="362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55920" y="3882960"/>
              <a:ext cx="48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1920" y="3882960"/>
              <a:ext cx="0" cy="362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32320" y="3882960"/>
              <a:ext cx="1790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2320" y="3882960"/>
              <a:ext cx="0" cy="362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22960" y="3882960"/>
              <a:ext cx="0" cy="362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08560" y="3616200"/>
              <a:ext cx="0" cy="61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89520" y="3882960"/>
              <a:ext cx="0" cy="362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4840" y="3882960"/>
              <a:ext cx="0" cy="352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45480" y="4245120"/>
              <a:ext cx="409320" cy="20034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交通替代性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20720" y="4245120"/>
              <a:ext cx="409680" cy="20034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河床沖蝕程度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87640" y="4245120"/>
              <a:ext cx="409320" cy="20034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地質狀況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21120" y="4245120"/>
              <a:ext cx="409320" cy="20034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土石流危險區域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44840" y="4245120"/>
              <a:ext cx="409320" cy="20034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地震分區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35280" y="3875040"/>
              <a:ext cx="1866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5560" y="3884760"/>
              <a:ext cx="0" cy="36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73400" y="3894120"/>
              <a:ext cx="0" cy="352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97160" y="3894120"/>
              <a:ext cx="0" cy="352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87680" y="4245120"/>
              <a:ext cx="409680" cy="20034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高腐蝕區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83160" y="3868560"/>
              <a:ext cx="0" cy="37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5560" y="3273480"/>
              <a:ext cx="2062080" cy="3762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9ff0b"/>
                  </a:solidFill>
                  <a:latin typeface="Times New Roman"/>
                  <a:ea typeface="華康細圓體"/>
                </a:rPr>
                <a:t>區位環境條件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68760" y="3649680"/>
              <a:ext cx="0" cy="59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44720" y="2982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905120" y="1028880"/>
            <a:ext cx="561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檢測頻率之安全評估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6280" y="1860480"/>
            <a:ext cx="8572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828800" y="2971800"/>
            <a:ext cx="5943600" cy="9154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cc"/>
                </a:solidFill>
                <a:latin typeface="華康古印體"/>
                <a:ea typeface="華康古印體"/>
              </a:rPr>
              <a:t>橋梁檢測準則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905120" y="1028880"/>
            <a:ext cx="561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總則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30320" y="1752480"/>
            <a:ext cx="746280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適用於每跨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華康儷中黑"/>
              </a:rPr>
              <a:t>150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公尺以下之一般性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路或道路橋梁，但不包括特殊性橋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及跨度大於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華康儷中黑"/>
              </a:rPr>
              <a:t>150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公尺之長橋，或木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、磚橋、石橋等簡易橋梁，或臨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便橋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準則之內容涵括橋梁檢測體系、橋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檢測制度、橋梁檢測人員培訓制度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方法之執行規定與解說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30320" y="2057400"/>
            <a:ext cx="746280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國內外橋梁檢測現況之資料收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國內橋梁檢測人員問卷調查與研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導則之研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人員培訓制度之研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頻率與構件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華康儷中黑"/>
              </a:rPr>
              <a:t>DAHP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問卷設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期中簡報意見回覆詳見附件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066680"/>
            <a:ext cx="647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期中簡報前計畫執行內容簡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1028880"/>
            <a:ext cx="6076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一般公路橋梁檢測體系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1/1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30320" y="1670040"/>
            <a:ext cx="746280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之檢測評估作業，由各管理機關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內之專責單位辦理。若該管理機關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相關專責單位，則應以任務編組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成立「橋梁檢測小組」，綜理橋梁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測事宜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人員應接受橋梁檢測專業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程訓練且參加考試及格後，取得橋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檢測證書者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447920" y="1028880"/>
            <a:ext cx="640080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一般公路橋梁檢測體系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2/1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30320" y="1905120"/>
            <a:ext cx="746280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作業應由各機關專業人員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行，或依政府採購法委託專業技術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問辦理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讓學員施予橋梁檢測之專業訓練，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培訓出具橋梁檢測專業能力之橋梁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測員，並據以確保橋梁查驗之品質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3880" y="1028880"/>
            <a:ext cx="632484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一般公路橋梁檢測體系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3/1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2160" y="1771560"/>
            <a:ext cx="763416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一般橋梁檢測培訓課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大專以上學校工程科系畢業者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高級職業學校工程相關類科畢業，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於畢業後有三年以上橋梁實務經驗者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普通考試或相當於普通考試以上之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程相當類科考試及格者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取得一般橋樑檢測培訓課程結業證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者即具報名進階橋梁檢測培訓課程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95280" y="1028880"/>
            <a:ext cx="662940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一般公路橋梁檢測體系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4/1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2160" y="1771560"/>
            <a:ext cx="763416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培訓般班之師資聘請方式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主管機關聘請各課題相關專長之人士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擔任種子教師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取得橋梁檢測證書者，其從事有關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作或研究累計達三年以上，可向主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單位申報成為相關授課講師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國內大專院校副教授資格以上並講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相關課程三年以上之人員為替代師資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2160" y="2133720"/>
            <a:ext cx="763416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管理機關得審酌未來橋梁檢測人員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需求量、根據培訓機構之辦學績效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以及各地區培訓機構家數分布狀況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因素，審慎評選培訓單位，以為辦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該年度橋梁檢測訓練作業之依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1028880"/>
            <a:ext cx="62485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一般公路橋梁檢測體系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5/1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92160" y="1670040"/>
            <a:ext cx="763416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人員培訓課程可分為一般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訓課程與進階培訓課程兩種，授課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畢且合於成績考核規定者，得准予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發橋梁檢測證書。另開訓前倘有若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先修科目之規定者，得採代訓單位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認可之方式修習，先修科目及其認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方式由主管機關訂定之。視情況需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課程內容可應增修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1028880"/>
            <a:ext cx="600084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一般公路橋梁檢測體系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6/1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92160" y="1670040"/>
            <a:ext cx="763416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人員培訓課程可分為一般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訓課程與進階培訓課程兩種，授課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畢且合於成績考核規定者，得准予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發橋梁檢測證書。另開訓前倘有若干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先修科目之規定者，得採代訓單位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認可之方式修習，先修科目及其認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方式由主管機關訂定之。視情況需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課程內容可應增修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1028880"/>
            <a:ext cx="64771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一般公路橋梁檢測體系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7/1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92160" y="1905120"/>
            <a:ext cx="763416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培訓課程期間培訓單位須對學員之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席狀況進行適宜規定事項之考核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受訓學員考核成績合格者，由主管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關及代訓單位共同具名核發結業證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已核發結業證書，事後查獲違反規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者，主管機關得撤銷其結業證書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1028880"/>
            <a:ext cx="62485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一般公路橋梁檢測體系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8/1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92160" y="1905120"/>
            <a:ext cx="76341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為確保橋梁檢測之品質與橋梁結構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安全，橋梁檢測後應由具有橋梁檢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簽證或簽認資格者進行簽證，以負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檢測之結果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1028880"/>
            <a:ext cx="632448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一般公路橋梁檢測體系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9/1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92160" y="1752480"/>
            <a:ext cx="763416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若為委託專業技術顧問辦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執行，其檢測結果應由具有橋梁檢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資格之相關專業技師進行簽證；若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梁檢測為橋梁管理單位自行執行，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檢測結果應由主辦單位中具有相關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業高普考或相關特考及格，具公務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員身份且有橋梁檢測資格之人員進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檢測工作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028880"/>
            <a:ext cx="640080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一般公路橋梁檢測體系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10/1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54000" y="1579680"/>
            <a:ext cx="755352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92160" y="1981080"/>
            <a:ext cx="763416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擔任簽證或檢測之人員應負擔全部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測結果之責任，以確保橋梁檢測與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護之品質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028880"/>
            <a:ext cx="64771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一般公路橋梁檢測體系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11/11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600200" y="1028880"/>
            <a:ext cx="64771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橋梁檢測制度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1/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2160" y="2057400"/>
            <a:ext cx="763416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相關作業人員應具備橋梁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　　測證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檢測頻率名詞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平時巡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定期檢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特別檢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1028880"/>
            <a:ext cx="64771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橋梁檢測制度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2/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2160" y="2057400"/>
            <a:ext cx="763416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平時巡查分為「週巡查」與「半年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查」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定期檢測每二年至少應檢測一次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特別檢測之執行時機為各類災害發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後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00200" y="1028880"/>
            <a:ext cx="64771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橋梁檢測制度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(3/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2160" y="1981080"/>
            <a:ext cx="763416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依檢測頻率的不同，橋樑檢測人員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而施行不同之檢測方式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人員須依檢測頻率的不同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進行規定項目之檢測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施行檢測作業後，須依相關規定提交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該次檢測之檢測報告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905120" y="1028880"/>
            <a:ext cx="561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檢測頻率之安全評估表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76280" y="1860480"/>
            <a:ext cx="8572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600200" y="1028880"/>
            <a:ext cx="64771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橋梁檢測頻率–基本檢測間隔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3080" y="1866960"/>
            <a:ext cx="763452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檢測頻率視橋齡、交通特性、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護狀況及橋址環境等因素而定，由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級橋梁主管負責評估。每座橋梁每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年至少應檢測一次，但若有後述之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素；得予增加或降低該橋梁之檢測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率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73080" y="1028880"/>
            <a:ext cx="76345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橋梁檢測頻率–基本檢測頻率之降低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73080" y="1866960"/>
            <a:ext cx="76345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所轄橋梁有下列狀況時，得將該橋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之基本檢測頻率縮短成為一年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基於安全考量下需增加檢測頻率者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內政部公告為土石流危險區域之橋梁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跨河橋梁其主體河道發現有明顯變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或其橋梁橋墩有遭明顯沖刷者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經檢測後，經研判須於一年之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再次檢測者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3080" y="1028880"/>
            <a:ext cx="76345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橋梁檢測頻率–基本檢測頻率之增加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73080" y="1866960"/>
            <a:ext cx="763452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當橋梁理管單位經查其所轄橋梁無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述狀況，且該橋梁道路特性無需兩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檢測一次方可滿足安全考量，可採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「橋梁現況安全評估表」進行評估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當該橋梁之危險度評估分數未達到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華康儷中黑"/>
              </a:rPr>
              <a:t>3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分時，可將該橋梁之基本檢測頻率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長成為三年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73080" y="1028880"/>
            <a:ext cx="76345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橋梁檢測頻率之評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73080" y="1866960"/>
            <a:ext cx="76345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每次進行橋梁檢測工作時，應同時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該橋梁之檢測頻率進行評估工作，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求其檢測頻率為標準規定之二年或縮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短為一年。若有管理單位認為有橋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其無須兩年檢測一次，則可於每次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期檢測時程到期時，填寫「橋樑現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安全評估」表以評估是否再行延長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期檢測時間一年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73080" y="1028880"/>
            <a:ext cx="76345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新建橋梁定期檢測頻率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73080" y="1866960"/>
            <a:ext cx="7634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新建橋梁完工五年內無須進行定期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測，應自完工後之第五年進行第一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定期檢測工作，而其後續之檢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頻率則依照上列規定訂定之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97160" y="3251160"/>
            <a:ext cx="6540480" cy="57996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華康古印體"/>
                <a:ea typeface="華康古印體"/>
              </a:rPr>
              <a:t>國內橋梁檢測人員問卷調查與研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73080" y="1028880"/>
            <a:ext cx="76345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橋梁檢測頻率流程圖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514520" y="1825560"/>
            <a:ext cx="6108480" cy="4632480"/>
            <a:chOff x="1514520" y="1825560"/>
            <a:chExt cx="6108480" cy="4632480"/>
          </a:xfrm>
        </p:grpSpPr>
        <p:sp>
          <p:nvSpPr>
            <p:cNvPr id="263" name=""/>
            <p:cNvSpPr/>
            <p:nvPr/>
          </p:nvSpPr>
          <p:spPr>
            <a:xfrm>
              <a:off x="3524400" y="1825560"/>
              <a:ext cx="2541600" cy="363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ffff00"/>
                  </a:solidFill>
                  <a:latin typeface="Times New Roman"/>
                  <a:ea typeface="華康粗圓體"/>
                </a:rPr>
                <a:t>進行橋梁檢測與橋梁評估工作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775040" y="2208240"/>
              <a:ext cx="6480" cy="317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52800" y="2535120"/>
              <a:ext cx="1641600" cy="1011240"/>
            </a:xfrm>
            <a:prstGeom prst="flowChartPreparation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13280" y="2708280"/>
              <a:ext cx="158760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ffff00"/>
                  </a:solidFill>
                  <a:latin typeface="Times New Roman"/>
                  <a:ea typeface="華康粗圓體"/>
                </a:rPr>
                <a:t>判斷該橋梁所處區位環境與特性是否為第二項所規定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64400" y="2738520"/>
              <a:ext cx="3808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ffff00"/>
                  </a:solidFill>
                  <a:latin typeface="Times New Roman"/>
                  <a:ea typeface="華康粗圓體"/>
                </a:rPr>
                <a:t>是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775040" y="3567240"/>
              <a:ext cx="6480" cy="317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13480" y="3021120"/>
              <a:ext cx="9144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89520" y="3619440"/>
              <a:ext cx="38088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ffff00"/>
                  </a:solidFill>
                  <a:latin typeface="Times New Roman"/>
                  <a:ea typeface="華康粗圓體"/>
                </a:rPr>
                <a:t>否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3080" y="1959120"/>
              <a:ext cx="427320" cy="21463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ffff00"/>
                  </a:solidFill>
                  <a:latin typeface="Times New Roman"/>
                  <a:ea typeface="華康粗圓體"/>
                </a:rPr>
                <a:t>橋梁定期檢測時間為一年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070680" y="1955880"/>
              <a:ext cx="4824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19440" y="3938760"/>
              <a:ext cx="2541600" cy="361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ffff00"/>
                  </a:solidFill>
                  <a:latin typeface="Times New Roman"/>
                  <a:ea typeface="華康粗圓體"/>
                </a:rPr>
                <a:t>每二年進行一次橋梁定期檢測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255840" y="4120920"/>
              <a:ext cx="341280" cy="46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3232080" y="2022120"/>
              <a:ext cx="300240" cy="46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251160" y="2031840"/>
              <a:ext cx="0" cy="20829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30240" y="4433760"/>
              <a:ext cx="20782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ffff00"/>
                  </a:solidFill>
                  <a:latin typeface="Times New Roman"/>
                  <a:ea typeface="華康粗圓體"/>
                </a:rPr>
                <a:t>特定橋梁以「橋梁風險安全評估表」評估是否需延長定期檢測二年時程為三年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775040" y="4313160"/>
              <a:ext cx="6480" cy="317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03560" y="4637160"/>
              <a:ext cx="1643040" cy="1011240"/>
            </a:xfrm>
            <a:prstGeom prst="flowChartPreparation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72040" y="4853160"/>
              <a:ext cx="14396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ffff00"/>
                  </a:solidFill>
                  <a:latin typeface="Times New Roman"/>
                  <a:ea typeface="華康粗圓體"/>
                </a:rPr>
                <a:t>進行橋梁風險安全評估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20960" y="5991120"/>
              <a:ext cx="3827520" cy="46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ffff00"/>
                  </a:solidFill>
                  <a:latin typeface="Times New Roman"/>
                  <a:ea typeface="華康粗圓體"/>
                </a:rPr>
                <a:t>檢測頻率得予再行延長一年即本次隔三年檢測一次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34000" y="5665680"/>
              <a:ext cx="3240" cy="317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61000" y="5149800"/>
              <a:ext cx="1447920" cy="32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095600" y="4200480"/>
              <a:ext cx="3240" cy="9716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0280" y="4187880"/>
              <a:ext cx="884520" cy="32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99280" y="3892680"/>
              <a:ext cx="423720" cy="17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ffff00"/>
                  </a:solidFill>
                  <a:latin typeface="Times New Roman"/>
                  <a:ea typeface="華康粗圓體"/>
                </a:rPr>
                <a:t>評估結果高於規定值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57680" y="5648400"/>
              <a:ext cx="19605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ffff00"/>
                  </a:solidFill>
                  <a:latin typeface="Times New Roman"/>
                  <a:ea typeface="華康粗圓體"/>
                </a:rPr>
                <a:t>評估結果低於規定值</a:t>
              </a:r>
              <a:endParaRPr b="0" lang="en-US" sz="1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514520" y="6219720"/>
              <a:ext cx="1284120" cy="50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517760" y="1927080"/>
              <a:ext cx="0" cy="42832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36840" y="1935000"/>
              <a:ext cx="199044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73080" y="1028880"/>
            <a:ext cx="7634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誌謝–參與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DAHP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華康古印體"/>
              </a:rPr>
              <a:t>問卷調查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專家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3080" y="1866960"/>
            <a:ext cx="763452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感謝下列諸位專家學者參與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華康儷中黑"/>
              </a:rPr>
              <a:t>DAHP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問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調查研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張荻薇、林安彥、彭康瑜、高銘志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鍾金龍、蔡世榮、詹麒璋、林天明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劉奕均、鄭博銘、吳澤成、黃民仁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趙啟宏、鄧文廣、游清煌、朱育正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張智奇等人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314360" y="985680"/>
            <a:ext cx="7178760" cy="53816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25640" y="1098360"/>
            <a:ext cx="5732640" cy="24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9ff0b"/>
                </a:solidFill>
                <a:latin typeface="華康古印體"/>
                <a:ea typeface="華康古印體"/>
              </a:rPr>
              <a:t>簡 報 完 畢</a:t>
            </a:r>
            <a:br>
              <a:rPr sz="6000"/>
            </a:br>
            <a:r>
              <a:rPr b="0" lang="zh-TW" sz="6000" spc="-1" strike="noStrike">
                <a:solidFill>
                  <a:srgbClr val="f9ff0b"/>
                </a:solidFill>
                <a:latin typeface="華康古印體"/>
                <a:ea typeface="華康古印體"/>
              </a:rPr>
              <a:t>敬 請 指 教</a:t>
            </a:r>
            <a:endParaRPr b="1" lang="en-US" sz="6000" spc="-1" strike="noStrike">
              <a:solidFill>
                <a:srgbClr val="f9ff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30320" y="2057400"/>
            <a:ext cx="746280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本計畫研究團對曾針對國內各橋梁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理單位之橋梁檢測現況提出問卷調查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回收之有效問卷計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華康儷中黑"/>
              </a:rPr>
              <a:t>34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份。該份問卷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橋梁現況調查、人員培訓與橋梁檢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簽證與簽認三大部分。以下為該份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華康儷中黑"/>
                <a:ea typeface="華康儷中黑"/>
              </a:rPr>
              <a:t>卷部分調查結果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87600" y="1054080"/>
            <a:ext cx="647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華康古印體"/>
              </a:rPr>
              <a:t>問卷調查內容簡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38160" y="981000"/>
          <a:ext cx="7705800" cy="53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981000"/>
                    <a:ext cx="770580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912960" y="1003320"/>
          <a:ext cx="7729560" cy="52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003320"/>
                    <a:ext cx="772956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950760" y="1209600"/>
          <a:ext cx="7656840" cy="47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209600"/>
                    <a:ext cx="765684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31T03:19:42Z</dcterms:created>
  <dc:creator>林俊豪</dc:creator>
  <dc:description/>
  <dc:language>en-US</dc:language>
  <cp:lastModifiedBy>廖政南</cp:lastModifiedBy>
  <cp:lastPrinted>1998-11-06T01:11:52Z</cp:lastPrinted>
  <dcterms:modified xsi:type="dcterms:W3CDTF">2002-01-25T03:44:00Z</dcterms:modified>
  <cp:revision>254</cp:revision>
  <dc:subject/>
  <dc:title>沒有投影片標題</dc:title>
</cp:coreProperties>
</file>