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9B7-7BB8-4F22-ABE1-A89289B2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817-70B9-4601-82B9-C0420B2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6A7-8A23-4DF5-A884-06843DF4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B43-A32A-4192-9F2D-46159D7B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E64-798D-4E71-84E2-C17F15B4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047-DD5A-4EF9-A083-8A89835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66C-9B6F-47E2-B60A-13B94CC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01F-B9F5-43F7-BD82-9DC532B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AED-07A9-46A2-AC8D-F48994C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C5D-DF0D-43D4-8078-BE34E44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EBC-DFB2-4C35-B078-B78423A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00F-77F4-4ED2-B479-9D75E44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0A73-4BA0-46D0-9AE2-94102256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16680" cy="654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1520" y="36360"/>
            <a:ext cx="8940960" cy="681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4640" y="6464160"/>
            <a:ext cx="292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台中地區公路建設計畫發展構想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81600" y="3338640"/>
            <a:ext cx="4349160" cy="1339560"/>
            <a:chOff x="3981600" y="3338640"/>
            <a:chExt cx="4349160" cy="1339560"/>
          </a:xfrm>
        </p:grpSpPr>
        <p:sp>
          <p:nvSpPr>
            <p:cNvPr id="45" name=""/>
            <p:cNvSpPr/>
            <p:nvPr/>
          </p:nvSpPr>
          <p:spPr>
            <a:xfrm flipV="1">
              <a:off x="6650280" y="4602960"/>
              <a:ext cx="1680480" cy="73440"/>
            </a:xfrm>
            <a:custGeom>
              <a:avLst/>
              <a:gdLst/>
              <a:ahLst/>
              <a:rect l="l" t="t" r="r" b="b"/>
              <a:pathLst>
                <a:path w="1426" h="1">
                  <a:moveTo>
                    <a:pt x="142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81600" y="3338640"/>
              <a:ext cx="2668680" cy="1339560"/>
            </a:xfrm>
            <a:custGeom>
              <a:avLst/>
              <a:gdLst/>
              <a:ahLst/>
              <a:rect l="l" t="t" r="r" b="b"/>
              <a:pathLst>
                <a:path w="1250" h="764">
                  <a:moveTo>
                    <a:pt x="1249" y="763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73800" y="1149480"/>
            <a:ext cx="1823400" cy="474480"/>
            <a:chOff x="5473800" y="1149480"/>
            <a:chExt cx="1823400" cy="474480"/>
          </a:xfrm>
        </p:grpSpPr>
        <p:sp>
          <p:nvSpPr>
            <p:cNvPr id="48" name=""/>
            <p:cNvSpPr/>
            <p:nvPr/>
          </p:nvSpPr>
          <p:spPr>
            <a:xfrm>
              <a:off x="6287760" y="1149480"/>
              <a:ext cx="1009440" cy="74520"/>
            </a:xfrm>
            <a:custGeom>
              <a:avLst/>
              <a:gdLst/>
              <a:ahLst/>
              <a:rect l="l" t="t" r="r" b="b"/>
              <a:pathLst>
                <a:path w="876" h="1">
                  <a:moveTo>
                    <a:pt x="87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73800" y="1149480"/>
              <a:ext cx="823680" cy="47448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0" y="141"/>
                  </a:move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962160" y="2716200"/>
            <a:ext cx="2316600" cy="3470400"/>
            <a:chOff x="3962160" y="2716200"/>
            <a:chExt cx="2316600" cy="3470400"/>
          </a:xfrm>
        </p:grpSpPr>
        <p:sp>
          <p:nvSpPr>
            <p:cNvPr id="51" name=""/>
            <p:cNvSpPr/>
            <p:nvPr/>
          </p:nvSpPr>
          <p:spPr>
            <a:xfrm>
              <a:off x="3962160" y="271620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ff0000"/>
                  </a:solidFill>
                  <a:latin typeface="全真楷書"/>
                  <a:ea typeface="全真楷書"/>
                </a:rPr>
                <a:t>高鐵烏日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40120" y="518004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ffff"/>
                  </a:solidFill>
                  <a:latin typeface="全真楷書"/>
                  <a:ea typeface="全真楷書"/>
                </a:rPr>
                <a:t>名間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25560" y="5915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ffff"/>
                  </a:solidFill>
                  <a:latin typeface="全真楷書"/>
                  <a:ea typeface="全真楷書"/>
                </a:rPr>
                <a:t>竹山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4440" y="426420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ffff"/>
                  </a:solidFill>
                  <a:latin typeface="全真楷書"/>
                  <a:ea typeface="全真楷書"/>
                </a:rPr>
                <a:t>南投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30280" y="385452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ffff"/>
                  </a:solidFill>
                  <a:latin typeface="全真楷書"/>
                  <a:ea typeface="全真楷書"/>
                </a:rPr>
                <a:t>草屯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38200" y="3548160"/>
              <a:ext cx="638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ffff"/>
                  </a:solidFill>
                  <a:latin typeface="全真楷書"/>
                  <a:ea typeface="全真楷書"/>
                </a:rPr>
                <a:t>霧峰交流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325560" y="928800"/>
            <a:ext cx="944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0000"/>
                </a:solidFill>
                <a:latin typeface="全真楷書"/>
                <a:ea typeface="全真楷書"/>
              </a:rPr>
              <a:t>台中環線</a:t>
            </a:r>
            <a:r>
              <a:rPr b="0" lang="zh-TW" sz="1100" spc="-1" strike="noStrike">
                <a:solidFill>
                  <a:srgbClr val="ff0000"/>
                </a:solidFill>
                <a:latin typeface="Times New Roman"/>
                <a:ea typeface="全真楷書"/>
              </a:rPr>
              <a:t>(90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59280" y="2102760"/>
            <a:ext cx="1290600" cy="74520"/>
          </a:xfrm>
          <a:custGeom>
            <a:avLst/>
            <a:gdLst/>
            <a:ahLst/>
            <a:rect l="l" t="t" r="r" b="b"/>
            <a:pathLst>
              <a:path w="1051" h="1">
                <a:moveTo>
                  <a:pt x="105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2680" y="1940040"/>
            <a:ext cx="944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0000"/>
                </a:solidFill>
                <a:latin typeface="全真楷書"/>
                <a:ea typeface="全真楷書"/>
              </a:rPr>
              <a:t>二高主線</a:t>
            </a:r>
            <a:r>
              <a:rPr b="0" lang="zh-TW" sz="1100" spc="-1" strike="noStrike">
                <a:solidFill>
                  <a:srgbClr val="ff0000"/>
                </a:solidFill>
                <a:latin typeface="Times New Roman"/>
                <a:ea typeface="全真楷書"/>
              </a:rPr>
              <a:t>(90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12200" y="4425840"/>
            <a:ext cx="14472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0000"/>
                </a:solidFill>
                <a:latin typeface="全真楷書"/>
                <a:ea typeface="全真楷書"/>
              </a:rPr>
              <a:t>中山高豐原彰化段拓寬</a:t>
            </a:r>
            <a:r>
              <a:rPr b="0" lang="zh-TW" sz="1100" spc="-1" strike="noStrike">
                <a:solidFill>
                  <a:srgbClr val="ff0000"/>
                </a:solidFill>
                <a:latin typeface="Times New Roman"/>
                <a:ea typeface="全真楷書"/>
              </a:rPr>
              <a:t>(88.0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051440" y="1574640"/>
            <a:ext cx="1428480" cy="4508640"/>
            <a:chOff x="4051440" y="1574640"/>
            <a:chExt cx="1428480" cy="4508640"/>
          </a:xfrm>
        </p:grpSpPr>
        <p:sp>
          <p:nvSpPr>
            <p:cNvPr id="62" name=""/>
            <p:cNvSpPr/>
            <p:nvPr/>
          </p:nvSpPr>
          <p:spPr>
            <a:xfrm>
              <a:off x="5232240" y="1574640"/>
              <a:ext cx="114480" cy="115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7400" y="2546280"/>
              <a:ext cx="115560" cy="117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10120" y="4363920"/>
              <a:ext cx="115920" cy="119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64000" y="5259240"/>
              <a:ext cx="115920" cy="117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95880" y="596592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0200" y="3909960"/>
              <a:ext cx="115920" cy="1173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79800" y="3611520"/>
              <a:ext cx="11592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52920" y="3186000"/>
              <a:ext cx="115920" cy="117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45000" y="2973240"/>
              <a:ext cx="122400" cy="104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51440" y="3098880"/>
              <a:ext cx="11592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340240" y="1143000"/>
            <a:ext cx="171360" cy="168120"/>
            <a:chOff x="5340240" y="1143000"/>
            <a:chExt cx="171360" cy="168120"/>
          </a:xfrm>
        </p:grpSpPr>
        <p:sp>
          <p:nvSpPr>
            <p:cNvPr id="73" name=""/>
            <p:cNvSpPr/>
            <p:nvPr/>
          </p:nvSpPr>
          <p:spPr>
            <a:xfrm>
              <a:off x="5340240" y="114300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85" y="104"/>
                  </a:moveTo>
                  <a:lnTo>
                    <a:pt x="88" y="102"/>
                  </a:lnTo>
                  <a:lnTo>
                    <a:pt x="89" y="101"/>
                  </a:lnTo>
                  <a:lnTo>
                    <a:pt x="91" y="99"/>
                  </a:lnTo>
                  <a:lnTo>
                    <a:pt x="93" y="96"/>
                  </a:lnTo>
                  <a:lnTo>
                    <a:pt x="95" y="94"/>
                  </a:lnTo>
                  <a:lnTo>
                    <a:pt x="96" y="92"/>
                  </a:lnTo>
                  <a:lnTo>
                    <a:pt x="97" y="89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70"/>
                  </a:lnTo>
                  <a:lnTo>
                    <a:pt x="96" y="69"/>
                  </a:lnTo>
                  <a:lnTo>
                    <a:pt x="97" y="68"/>
                  </a:lnTo>
                  <a:lnTo>
                    <a:pt x="98" y="67"/>
                  </a:lnTo>
                  <a:lnTo>
                    <a:pt x="100" y="66"/>
                  </a:lnTo>
                  <a:lnTo>
                    <a:pt x="101" y="65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6" y="54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3"/>
                  </a:lnTo>
                  <a:lnTo>
                    <a:pt x="105" y="41"/>
                  </a:lnTo>
                  <a:lnTo>
                    <a:pt x="104" y="40"/>
                  </a:lnTo>
                  <a:lnTo>
                    <a:pt x="98" y="33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7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0" y="30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76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5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11" y="68"/>
                  </a:lnTo>
                  <a:lnTo>
                    <a:pt x="13" y="69"/>
                  </a:lnTo>
                  <a:lnTo>
                    <a:pt x="14" y="70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2" y="90"/>
                  </a:lnTo>
                  <a:lnTo>
                    <a:pt x="24" y="94"/>
                  </a:lnTo>
                  <a:lnTo>
                    <a:pt x="25" y="97"/>
                  </a:lnTo>
                  <a:lnTo>
                    <a:pt x="28" y="100"/>
                  </a:lnTo>
                  <a:lnTo>
                    <a:pt x="31" y="102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4" y="104"/>
                  </a:lnTo>
                  <a:lnTo>
                    <a:pt x="57" y="102"/>
                  </a:lnTo>
                  <a:lnTo>
                    <a:pt x="60" y="100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3" y="99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8"/>
                  </a:lnTo>
                  <a:lnTo>
                    <a:pt x="70" y="100"/>
                  </a:lnTo>
                  <a:lnTo>
                    <a:pt x="72" y="101"/>
                  </a:lnTo>
                  <a:lnTo>
                    <a:pt x="74" y="102"/>
                  </a:lnTo>
                  <a:lnTo>
                    <a:pt x="76" y="103"/>
                  </a:lnTo>
                  <a:lnTo>
                    <a:pt x="78" y="104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8200" y="116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567240" y="4898880"/>
            <a:ext cx="171360" cy="168120"/>
            <a:chOff x="3567240" y="4898880"/>
            <a:chExt cx="171360" cy="168120"/>
          </a:xfrm>
        </p:grpSpPr>
        <p:sp>
          <p:nvSpPr>
            <p:cNvPr id="76" name=""/>
            <p:cNvSpPr/>
            <p:nvPr/>
          </p:nvSpPr>
          <p:spPr>
            <a:xfrm>
              <a:off x="3567240" y="489888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85" y="104"/>
                  </a:moveTo>
                  <a:lnTo>
                    <a:pt x="88" y="102"/>
                  </a:lnTo>
                  <a:lnTo>
                    <a:pt x="89" y="101"/>
                  </a:lnTo>
                  <a:lnTo>
                    <a:pt x="91" y="99"/>
                  </a:lnTo>
                  <a:lnTo>
                    <a:pt x="93" y="96"/>
                  </a:lnTo>
                  <a:lnTo>
                    <a:pt x="95" y="94"/>
                  </a:lnTo>
                  <a:lnTo>
                    <a:pt x="96" y="92"/>
                  </a:lnTo>
                  <a:lnTo>
                    <a:pt x="97" y="89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70"/>
                  </a:lnTo>
                  <a:lnTo>
                    <a:pt x="96" y="69"/>
                  </a:lnTo>
                  <a:lnTo>
                    <a:pt x="97" y="68"/>
                  </a:lnTo>
                  <a:lnTo>
                    <a:pt x="98" y="67"/>
                  </a:lnTo>
                  <a:lnTo>
                    <a:pt x="100" y="66"/>
                  </a:lnTo>
                  <a:lnTo>
                    <a:pt x="101" y="65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6" y="54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3"/>
                  </a:lnTo>
                  <a:lnTo>
                    <a:pt x="105" y="41"/>
                  </a:lnTo>
                  <a:lnTo>
                    <a:pt x="104" y="40"/>
                  </a:lnTo>
                  <a:lnTo>
                    <a:pt x="98" y="33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7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0" y="30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76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5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11" y="68"/>
                  </a:lnTo>
                  <a:lnTo>
                    <a:pt x="13" y="69"/>
                  </a:lnTo>
                  <a:lnTo>
                    <a:pt x="14" y="70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2" y="90"/>
                  </a:lnTo>
                  <a:lnTo>
                    <a:pt x="24" y="94"/>
                  </a:lnTo>
                  <a:lnTo>
                    <a:pt x="25" y="97"/>
                  </a:lnTo>
                  <a:lnTo>
                    <a:pt x="28" y="100"/>
                  </a:lnTo>
                  <a:lnTo>
                    <a:pt x="31" y="102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4" y="104"/>
                  </a:lnTo>
                  <a:lnTo>
                    <a:pt x="57" y="102"/>
                  </a:lnTo>
                  <a:lnTo>
                    <a:pt x="60" y="100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3" y="99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8"/>
                  </a:lnTo>
                  <a:lnTo>
                    <a:pt x="70" y="100"/>
                  </a:lnTo>
                  <a:lnTo>
                    <a:pt x="72" y="101"/>
                  </a:lnTo>
                  <a:lnTo>
                    <a:pt x="74" y="102"/>
                  </a:lnTo>
                  <a:lnTo>
                    <a:pt x="76" y="103"/>
                  </a:lnTo>
                  <a:lnTo>
                    <a:pt x="78" y="104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25200" y="491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76800" y="4813200"/>
            <a:ext cx="171360" cy="168120"/>
            <a:chOff x="5176800" y="4813200"/>
            <a:chExt cx="171360" cy="168120"/>
          </a:xfrm>
        </p:grpSpPr>
        <p:sp>
          <p:nvSpPr>
            <p:cNvPr id="79" name=""/>
            <p:cNvSpPr/>
            <p:nvPr/>
          </p:nvSpPr>
          <p:spPr>
            <a:xfrm>
              <a:off x="5176800" y="481320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85" y="104"/>
                  </a:moveTo>
                  <a:lnTo>
                    <a:pt x="88" y="102"/>
                  </a:lnTo>
                  <a:lnTo>
                    <a:pt x="89" y="101"/>
                  </a:lnTo>
                  <a:lnTo>
                    <a:pt x="91" y="99"/>
                  </a:lnTo>
                  <a:lnTo>
                    <a:pt x="93" y="96"/>
                  </a:lnTo>
                  <a:lnTo>
                    <a:pt x="95" y="94"/>
                  </a:lnTo>
                  <a:lnTo>
                    <a:pt x="96" y="92"/>
                  </a:lnTo>
                  <a:lnTo>
                    <a:pt x="97" y="89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70"/>
                  </a:lnTo>
                  <a:lnTo>
                    <a:pt x="96" y="69"/>
                  </a:lnTo>
                  <a:lnTo>
                    <a:pt x="97" y="68"/>
                  </a:lnTo>
                  <a:lnTo>
                    <a:pt x="98" y="67"/>
                  </a:lnTo>
                  <a:lnTo>
                    <a:pt x="100" y="66"/>
                  </a:lnTo>
                  <a:lnTo>
                    <a:pt x="101" y="65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6" y="54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3"/>
                  </a:lnTo>
                  <a:lnTo>
                    <a:pt x="105" y="41"/>
                  </a:lnTo>
                  <a:lnTo>
                    <a:pt x="104" y="40"/>
                  </a:lnTo>
                  <a:lnTo>
                    <a:pt x="98" y="33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7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0" y="30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76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5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11" y="68"/>
                  </a:lnTo>
                  <a:lnTo>
                    <a:pt x="13" y="69"/>
                  </a:lnTo>
                  <a:lnTo>
                    <a:pt x="14" y="70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2" y="90"/>
                  </a:lnTo>
                  <a:lnTo>
                    <a:pt x="24" y="94"/>
                  </a:lnTo>
                  <a:lnTo>
                    <a:pt x="25" y="97"/>
                  </a:lnTo>
                  <a:lnTo>
                    <a:pt x="28" y="100"/>
                  </a:lnTo>
                  <a:lnTo>
                    <a:pt x="31" y="102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4" y="104"/>
                  </a:lnTo>
                  <a:lnTo>
                    <a:pt x="57" y="102"/>
                  </a:lnTo>
                  <a:lnTo>
                    <a:pt x="60" y="100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3" y="99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8"/>
                  </a:lnTo>
                  <a:lnTo>
                    <a:pt x="70" y="100"/>
                  </a:lnTo>
                  <a:lnTo>
                    <a:pt x="72" y="101"/>
                  </a:lnTo>
                  <a:lnTo>
                    <a:pt x="74" y="102"/>
                  </a:lnTo>
                  <a:lnTo>
                    <a:pt x="76" y="103"/>
                  </a:lnTo>
                  <a:lnTo>
                    <a:pt x="78" y="104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34760" y="4832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99240" y="2290680"/>
            <a:ext cx="1195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114ffb"/>
                </a:solidFill>
                <a:latin typeface="全真楷書"/>
                <a:ea typeface="全真楷書"/>
              </a:rPr>
              <a:t>增設南屯交流道</a:t>
            </a:r>
            <a:r>
              <a:rPr b="0" lang="zh-TW" sz="1100" spc="-1" strike="noStrike">
                <a:solidFill>
                  <a:srgbClr val="114ffb"/>
                </a:solidFill>
                <a:latin typeface="Times New Roman"/>
                <a:ea typeface="全真楷書"/>
              </a:rPr>
              <a:t>(87.1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98800" y="2432880"/>
            <a:ext cx="1474560" cy="74520"/>
          </a:xfrm>
          <a:custGeom>
            <a:avLst/>
            <a:gdLst/>
            <a:ahLst/>
            <a:rect l="l" t="t" r="r" b="b"/>
            <a:pathLst>
              <a:path w="1058" h="1">
                <a:moveTo>
                  <a:pt x="1057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1920" y="2514600"/>
            <a:ext cx="1057320" cy="84240"/>
          </a:xfrm>
          <a:custGeom>
            <a:avLst/>
            <a:gdLst/>
            <a:ahLst/>
            <a:rect l="l" t="t" r="r" b="b"/>
            <a:pathLst>
              <a:path w="426" h="134">
                <a:moveTo>
                  <a:pt x="425" y="133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59360" y="776160"/>
            <a:ext cx="171360" cy="168120"/>
            <a:chOff x="4959360" y="776160"/>
            <a:chExt cx="171360" cy="168120"/>
          </a:xfrm>
        </p:grpSpPr>
        <p:sp>
          <p:nvSpPr>
            <p:cNvPr id="85" name=""/>
            <p:cNvSpPr/>
            <p:nvPr/>
          </p:nvSpPr>
          <p:spPr>
            <a:xfrm>
              <a:off x="4959360" y="77616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85" y="104"/>
                  </a:moveTo>
                  <a:lnTo>
                    <a:pt x="88" y="102"/>
                  </a:lnTo>
                  <a:lnTo>
                    <a:pt x="89" y="101"/>
                  </a:lnTo>
                  <a:lnTo>
                    <a:pt x="91" y="99"/>
                  </a:lnTo>
                  <a:lnTo>
                    <a:pt x="93" y="96"/>
                  </a:lnTo>
                  <a:lnTo>
                    <a:pt x="95" y="94"/>
                  </a:lnTo>
                  <a:lnTo>
                    <a:pt x="96" y="92"/>
                  </a:lnTo>
                  <a:lnTo>
                    <a:pt x="97" y="89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70"/>
                  </a:lnTo>
                  <a:lnTo>
                    <a:pt x="96" y="69"/>
                  </a:lnTo>
                  <a:lnTo>
                    <a:pt x="97" y="68"/>
                  </a:lnTo>
                  <a:lnTo>
                    <a:pt x="98" y="67"/>
                  </a:lnTo>
                  <a:lnTo>
                    <a:pt x="100" y="66"/>
                  </a:lnTo>
                  <a:lnTo>
                    <a:pt x="101" y="65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6" y="54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3"/>
                  </a:lnTo>
                  <a:lnTo>
                    <a:pt x="105" y="41"/>
                  </a:lnTo>
                  <a:lnTo>
                    <a:pt x="104" y="40"/>
                  </a:lnTo>
                  <a:lnTo>
                    <a:pt x="98" y="33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5" y="31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7" y="29"/>
                  </a:lnTo>
                  <a:lnTo>
                    <a:pt x="85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0" y="30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7" y="29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76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5" y="65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11" y="68"/>
                  </a:lnTo>
                  <a:lnTo>
                    <a:pt x="13" y="69"/>
                  </a:lnTo>
                  <a:lnTo>
                    <a:pt x="14" y="70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2" y="90"/>
                  </a:lnTo>
                  <a:lnTo>
                    <a:pt x="24" y="94"/>
                  </a:lnTo>
                  <a:lnTo>
                    <a:pt x="25" y="97"/>
                  </a:lnTo>
                  <a:lnTo>
                    <a:pt x="28" y="100"/>
                  </a:lnTo>
                  <a:lnTo>
                    <a:pt x="31" y="102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4" y="104"/>
                  </a:lnTo>
                  <a:lnTo>
                    <a:pt x="57" y="102"/>
                  </a:lnTo>
                  <a:lnTo>
                    <a:pt x="60" y="100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3" y="99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8"/>
                  </a:lnTo>
                  <a:lnTo>
                    <a:pt x="70" y="100"/>
                  </a:lnTo>
                  <a:lnTo>
                    <a:pt x="72" y="101"/>
                  </a:lnTo>
                  <a:lnTo>
                    <a:pt x="74" y="102"/>
                  </a:lnTo>
                  <a:lnTo>
                    <a:pt x="76" y="103"/>
                  </a:lnTo>
                  <a:lnTo>
                    <a:pt x="78" y="104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17320" y="7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875200" y="2689200"/>
            <a:ext cx="1878120" cy="74520"/>
          </a:xfrm>
          <a:custGeom>
            <a:avLst/>
            <a:gdLst/>
            <a:ahLst/>
            <a:rect l="l" t="t" r="r" b="b"/>
            <a:pathLst>
              <a:path w="1760" h="1">
                <a:moveTo>
                  <a:pt x="1759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48960" y="2452680"/>
            <a:ext cx="1425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ff0000"/>
                </a:solidFill>
                <a:latin typeface="全真楷書"/>
                <a:ea typeface="全真楷書"/>
              </a:rPr>
              <a:t>生活圈五號路</a:t>
            </a:r>
            <a:r>
              <a:rPr b="0" lang="zh-TW" sz="1100" spc="-1" strike="noStrike">
                <a:solidFill>
                  <a:srgbClr val="ff0000"/>
                </a:solidFill>
                <a:latin typeface="Times New Roman"/>
                <a:ea typeface="全真楷書"/>
              </a:rPr>
              <a:t>(93.12 BO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795760" y="1549440"/>
            <a:ext cx="2349360" cy="87120"/>
          </a:xfrm>
          <a:custGeom>
            <a:avLst/>
            <a:gdLst/>
            <a:ahLst/>
            <a:rect l="l" t="t" r="r" b="b"/>
            <a:pathLst>
              <a:path w="1513" h="1">
                <a:moveTo>
                  <a:pt x="151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19320" y="1217520"/>
            <a:ext cx="752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114ffb"/>
                </a:solidFill>
                <a:latin typeface="全真楷書"/>
                <a:ea typeface="全真楷書"/>
              </a:rPr>
              <a:t>增設后里交流道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114ffb"/>
                </a:solidFill>
                <a:latin typeface="Times New Roman"/>
                <a:ea typeface="全真楷書"/>
              </a:rPr>
              <a:t>(89.0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152800" y="179280"/>
            <a:ext cx="5225400" cy="6127920"/>
            <a:chOff x="2152800" y="179280"/>
            <a:chExt cx="5225400" cy="6127920"/>
          </a:xfrm>
        </p:grpSpPr>
        <p:sp>
          <p:nvSpPr>
            <p:cNvPr id="92" name=""/>
            <p:cNvSpPr/>
            <p:nvPr/>
          </p:nvSpPr>
          <p:spPr>
            <a:xfrm>
              <a:off x="3721320" y="4081320"/>
              <a:ext cx="3772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01080" y="47372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6360" y="43369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99320" y="27622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6960" y="34257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81920" y="19573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6960" y="7938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83680" y="1792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34440" y="17128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52800" y="49086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8560" y="44766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5240" y="40575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0360" y="603576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1400" y="51991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3520" y="32878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3880" y="42037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埔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57480" y="438120"/>
            <a:ext cx="2033640" cy="2933280"/>
            <a:chOff x="3957480" y="438120"/>
            <a:chExt cx="2033640" cy="2933280"/>
          </a:xfrm>
        </p:grpSpPr>
        <p:grpSp>
          <p:nvGrpSpPr>
            <p:cNvPr id="109" name=""/>
            <p:cNvGrpSpPr/>
            <p:nvPr/>
          </p:nvGrpSpPr>
          <p:grpSpPr>
            <a:xfrm>
              <a:off x="3957480" y="438120"/>
              <a:ext cx="1193760" cy="2054160"/>
              <a:chOff x="3957480" y="438120"/>
              <a:chExt cx="1193760" cy="2054160"/>
            </a:xfrm>
          </p:grpSpPr>
          <p:sp>
            <p:nvSpPr>
              <p:cNvPr id="110" name=""/>
              <p:cNvSpPr/>
              <p:nvPr/>
            </p:nvSpPr>
            <p:spPr>
              <a:xfrm>
                <a:off x="5106960" y="72072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24240" y="4381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73400" y="946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65680" y="1181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2800" y="14461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3080" y="17049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65360" y="197964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03720" y="2305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57480" y="24652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0040" y="1881360"/>
              <a:ext cx="811080" cy="1490040"/>
              <a:chOff x="5180040" y="1881360"/>
              <a:chExt cx="811080" cy="1490040"/>
            </a:xfrm>
          </p:grpSpPr>
          <p:sp>
            <p:nvSpPr>
              <p:cNvPr id="120" name=""/>
              <p:cNvSpPr/>
              <p:nvPr/>
            </p:nvSpPr>
            <p:spPr>
              <a:xfrm>
                <a:off x="5934240" y="188136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62680" y="209196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46840" y="228096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83480" y="2509560"/>
                <a:ext cx="2664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03920" y="275580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22920" y="298440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80040" y="334476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72280" y="32731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59480" y="3186000"/>
                <a:ext cx="27000" cy="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94400" y="1378080"/>
              <a:ext cx="714240" cy="245880"/>
              <a:chOff x="4694400" y="1378080"/>
              <a:chExt cx="714240" cy="245880"/>
            </a:xfrm>
          </p:grpSpPr>
          <p:sp>
            <p:nvSpPr>
              <p:cNvPr id="130" name=""/>
              <p:cNvSpPr/>
              <p:nvPr/>
            </p:nvSpPr>
            <p:spPr>
              <a:xfrm>
                <a:off x="5106960" y="15350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11840" y="14572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80200" y="15969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94400" y="137808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6240" y="0"/>
            <a:ext cx="6919920" cy="656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1520" y="36360"/>
            <a:ext cx="8940960" cy="681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3440" y="6464160"/>
            <a:ext cx="292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台中地區公路建設計畫發展構想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79800" y="2676600"/>
            <a:ext cx="27000" cy="2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89520" y="1595520"/>
            <a:ext cx="714240" cy="245880"/>
            <a:chOff x="4889520" y="1595520"/>
            <a:chExt cx="714240" cy="245880"/>
          </a:xfrm>
        </p:grpSpPr>
        <p:sp>
          <p:nvSpPr>
            <p:cNvPr id="139" name=""/>
            <p:cNvSpPr/>
            <p:nvPr/>
          </p:nvSpPr>
          <p:spPr>
            <a:xfrm>
              <a:off x="5302080" y="175248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6960" y="167472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5320" y="1814400"/>
              <a:ext cx="284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1595520"/>
              <a:ext cx="284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919080" y="2813040"/>
            <a:ext cx="2556000" cy="1957680"/>
            <a:chOff x="919080" y="2813040"/>
            <a:chExt cx="2556000" cy="1957680"/>
          </a:xfrm>
        </p:grpSpPr>
        <p:sp>
          <p:nvSpPr>
            <p:cNvPr id="144" name=""/>
            <p:cNvSpPr/>
            <p:nvPr/>
          </p:nvSpPr>
          <p:spPr>
            <a:xfrm>
              <a:off x="1776240" y="3209760"/>
              <a:ext cx="1521000" cy="1800"/>
            </a:xfrm>
            <a:custGeom>
              <a:avLst/>
              <a:gdLst/>
              <a:ahLst/>
              <a:rect l="l" t="t" r="r" b="b"/>
              <a:pathLst>
                <a:path w="958" h="1">
                  <a:moveTo>
                    <a:pt x="957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72800" y="2813040"/>
              <a:ext cx="11120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西濱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鹿港以北路段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89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405080" y="3911040"/>
              <a:ext cx="2070000" cy="74520"/>
            </a:xfrm>
            <a:custGeom>
              <a:avLst/>
              <a:gdLst/>
              <a:ahLst/>
              <a:rect l="l" t="t" r="r" b="b"/>
              <a:pathLst>
                <a:path w="1442" h="1">
                  <a:moveTo>
                    <a:pt x="1441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5720" y="4352760"/>
              <a:ext cx="1204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西濱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鹿港以南路段</a:t>
              </a: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(91.6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61680" y="3421080"/>
              <a:ext cx="12798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東西快漢寶草屯線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1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中山高以西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87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台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1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以西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88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9080" y="4754520"/>
              <a:ext cx="1422360" cy="1800"/>
            </a:xfrm>
            <a:custGeom>
              <a:avLst/>
              <a:gdLst/>
              <a:ahLst/>
              <a:rect l="l" t="t" r="r" b="b"/>
              <a:pathLst>
                <a:path w="896" h="1">
                  <a:moveTo>
                    <a:pt x="89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759200" y="2122560"/>
            <a:ext cx="4062600" cy="1965600"/>
            <a:chOff x="4759200" y="2122560"/>
            <a:chExt cx="4062600" cy="1965600"/>
          </a:xfrm>
        </p:grpSpPr>
        <p:sp>
          <p:nvSpPr>
            <p:cNvPr id="151" name=""/>
            <p:cNvSpPr/>
            <p:nvPr/>
          </p:nvSpPr>
          <p:spPr>
            <a:xfrm>
              <a:off x="6580080" y="2347920"/>
              <a:ext cx="1874880" cy="66600"/>
            </a:xfrm>
            <a:custGeom>
              <a:avLst/>
              <a:gdLst/>
              <a:ahLst/>
              <a:rect l="l" t="t" r="r" b="b"/>
              <a:pathLst>
                <a:path w="876" h="1">
                  <a:moveTo>
                    <a:pt x="87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86560" y="2346480"/>
              <a:ext cx="922320" cy="7452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0" y="141"/>
                  </a:move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584680" y="2638440"/>
              <a:ext cx="1138320" cy="277920"/>
            </a:xfrm>
            <a:custGeom>
              <a:avLst/>
              <a:gdLst/>
              <a:ahLst/>
              <a:rect l="l" t="t" r="r" b="b"/>
              <a:pathLst>
                <a:path w="258" h="87">
                  <a:moveTo>
                    <a:pt x="0" y="86"/>
                  </a:moveTo>
                  <a:lnTo>
                    <a:pt x="2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691320" y="2838600"/>
              <a:ext cx="1357200" cy="77760"/>
            </a:xfrm>
            <a:custGeom>
              <a:avLst/>
              <a:gdLst/>
              <a:ahLst/>
              <a:rect l="l" t="t" r="r" b="b"/>
              <a:pathLst>
                <a:path w="1434" h="1">
                  <a:moveTo>
                    <a:pt x="1433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808680" y="3971160"/>
              <a:ext cx="1968480" cy="74520"/>
            </a:xfrm>
            <a:custGeom>
              <a:avLst/>
              <a:gdLst/>
              <a:ahLst/>
              <a:rect l="l" t="t" r="r" b="b"/>
              <a:pathLst>
                <a:path w="1426" h="1">
                  <a:moveTo>
                    <a:pt x="1425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81720" y="3670200"/>
              <a:ext cx="1540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中橫快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霧峰埔里段</a:t>
              </a: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(94.12 BO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759200" y="2419200"/>
              <a:ext cx="390600" cy="642960"/>
              <a:chOff x="4759200" y="2419200"/>
              <a:chExt cx="390600" cy="642960"/>
            </a:xfrm>
          </p:grpSpPr>
          <p:sp>
            <p:nvSpPr>
              <p:cNvPr id="158" name=""/>
              <p:cNvSpPr/>
              <p:nvPr/>
            </p:nvSpPr>
            <p:spPr>
              <a:xfrm>
                <a:off x="5122800" y="241920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33880" y="26971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87800" y="283356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13280" y="300024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59200" y="30337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749640" y="2514600"/>
              <a:ext cx="1114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生活圈四號路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2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中投至三號線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無預算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31240" y="3108240"/>
              <a:ext cx="1028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東西快彰濱台中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快官台中段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89.1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1240" y="3541680"/>
              <a:ext cx="944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中投公路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87.01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7920" y="2587680"/>
              <a:ext cx="1784160" cy="912600"/>
            </a:xfrm>
            <a:custGeom>
              <a:avLst/>
              <a:gdLst/>
              <a:ahLst/>
              <a:rect l="l" t="t" r="r" b="b"/>
              <a:pathLst>
                <a:path w="638" h="575">
                  <a:moveTo>
                    <a:pt x="637" y="574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742080" y="3432240"/>
              <a:ext cx="1541520" cy="77760"/>
            </a:xfrm>
            <a:custGeom>
              <a:avLst/>
              <a:gdLst/>
              <a:ahLst/>
              <a:rect l="l" t="t" r="r" b="b"/>
              <a:pathLst>
                <a:path w="1445" h="1">
                  <a:moveTo>
                    <a:pt x="1444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348240" y="3680640"/>
              <a:ext cx="927360" cy="79560"/>
            </a:xfrm>
            <a:custGeom>
              <a:avLst/>
              <a:gdLst/>
              <a:ahLst/>
              <a:rect l="l" t="t" r="r" b="b"/>
              <a:pathLst>
                <a:path w="685" h="1">
                  <a:moveTo>
                    <a:pt x="684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81560" y="3630600"/>
              <a:ext cx="1096920" cy="130320"/>
            </a:xfrm>
            <a:custGeom>
              <a:avLst/>
              <a:gdLst/>
              <a:ahLst/>
              <a:rect l="l" t="t" r="r" b="b"/>
              <a:pathLst>
                <a:path w="1312" h="199">
                  <a:moveTo>
                    <a:pt x="1311" y="198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36680" y="2122560"/>
              <a:ext cx="15598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zh-TW" sz="1100" spc="-1" strike="noStrike">
                  <a:solidFill>
                    <a:srgbClr val="0000ff"/>
                  </a:solidFill>
                  <a:latin typeface="全真楷書"/>
                  <a:ea typeface="全真楷書"/>
                </a:rPr>
                <a:t>生活圈三號路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(92.12) (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無預算</a:t>
              </a:r>
              <a:r>
                <a:rPr b="0" lang="zh-TW" sz="1100" spc="-1" strike="noStrike">
                  <a:solidFill>
                    <a:srgbClr val="0000ff"/>
                  </a:solidFill>
                  <a:latin typeface="Times New Roman"/>
                  <a:ea typeface="全真楷書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595840" y="1919160"/>
            <a:ext cx="2455920" cy="338040"/>
            <a:chOff x="5595840" y="1919160"/>
            <a:chExt cx="2455920" cy="338040"/>
          </a:xfrm>
        </p:grpSpPr>
        <p:sp>
          <p:nvSpPr>
            <p:cNvPr id="172" name=""/>
            <p:cNvSpPr/>
            <p:nvPr/>
          </p:nvSpPr>
          <p:spPr>
            <a:xfrm>
              <a:off x="5595840" y="1995480"/>
              <a:ext cx="828720" cy="261720"/>
            </a:xfrm>
            <a:custGeom>
              <a:avLst/>
              <a:gdLst/>
              <a:ahLst/>
              <a:rect l="l" t="t" r="r" b="b"/>
              <a:pathLst>
                <a:path w="258" h="87">
                  <a:moveTo>
                    <a:pt x="0" y="86"/>
                  </a:moveTo>
                  <a:lnTo>
                    <a:pt x="2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424560" y="1919160"/>
              <a:ext cx="1627200" cy="76320"/>
            </a:xfrm>
            <a:custGeom>
              <a:avLst/>
              <a:gdLst/>
              <a:ahLst/>
              <a:rect l="l" t="t" r="r" b="b"/>
              <a:pathLst>
                <a:path w="992" h="1">
                  <a:moveTo>
                    <a:pt x="991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564600" y="1589040"/>
            <a:ext cx="133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全真楷書"/>
                <a:ea typeface="全真楷書"/>
              </a:rPr>
              <a:t>生活圈二號路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92.1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台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3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以東至五號線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無預算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372040" y="290520"/>
            <a:ext cx="5215320" cy="6041880"/>
            <a:chOff x="2372040" y="290520"/>
            <a:chExt cx="5215320" cy="6041880"/>
          </a:xfrm>
        </p:grpSpPr>
        <p:sp>
          <p:nvSpPr>
            <p:cNvPr id="176" name=""/>
            <p:cNvSpPr/>
            <p:nvPr/>
          </p:nvSpPr>
          <p:spPr>
            <a:xfrm>
              <a:off x="3882960" y="4106520"/>
              <a:ext cx="3772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員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1000" y="47336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南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3280" y="42764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草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08480" y="285408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08240" y="34509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彰化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00080" y="19825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豐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96200" y="8190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45680" y="29052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苗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2960" y="173808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72040" y="49338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大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57800" y="45018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芳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24120" y="408276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王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29240" y="6060960"/>
              <a:ext cx="455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往雲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000" y="508140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名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3120" y="331272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鹿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23040" y="4343040"/>
              <a:ext cx="36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埔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54560" y="2286000"/>
            <a:ext cx="466920" cy="49320"/>
            <a:chOff x="5254560" y="2286000"/>
            <a:chExt cx="466920" cy="49320"/>
          </a:xfrm>
        </p:grpSpPr>
        <p:sp>
          <p:nvSpPr>
            <p:cNvPr id="193" name=""/>
            <p:cNvSpPr/>
            <p:nvPr/>
          </p:nvSpPr>
          <p:spPr>
            <a:xfrm>
              <a:off x="5694480" y="230832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4560" y="228600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94320" y="2290680"/>
              <a:ext cx="2700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58760" y="0"/>
            <a:ext cx="6916680" cy="65451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5407200" y="1366920"/>
            <a:ext cx="3084480" cy="714240"/>
            <a:chOff x="5407200" y="1366920"/>
            <a:chExt cx="3084480" cy="714240"/>
          </a:xfrm>
        </p:grpSpPr>
        <p:sp>
          <p:nvSpPr>
            <p:cNvPr id="198" name=""/>
            <p:cNvSpPr/>
            <p:nvPr/>
          </p:nvSpPr>
          <p:spPr>
            <a:xfrm flipH="1">
              <a:off x="6510240" y="1584360"/>
              <a:ext cx="198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10560" y="1366920"/>
              <a:ext cx="1174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台中市崇德路延伸至豐原市工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407200" y="1580760"/>
              <a:ext cx="1129680" cy="500400"/>
              <a:chOff x="5407200" y="1580760"/>
              <a:chExt cx="1129680" cy="50040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5530320" y="1580760"/>
                <a:ext cx="1006560" cy="44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07200" y="1975320"/>
                <a:ext cx="163800" cy="1058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58" y="0"/>
                    </a:moveTo>
                    <a:lnTo>
                      <a:pt x="0" y="86"/>
                    </a:lnTo>
                    <a:lnTo>
                      <a:pt x="105" y="8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01520" y="36360"/>
            <a:ext cx="8940960" cy="681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19120" y="6464160"/>
            <a:ext cx="292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台中地區公路建設計畫發展構想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0520" y="4037040"/>
            <a:ext cx="37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員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08920" y="46641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南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20000" y="41925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草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26400" y="278460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台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4600" y="34401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彰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4000" y="16095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豐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35720" y="67320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7640" y="128520"/>
            <a:ext cx="455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往苗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70880" y="1668600"/>
            <a:ext cx="455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台中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13280" y="501660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56280" y="452772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芳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42040" y="401328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王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88120" y="6049800"/>
            <a:ext cx="455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往雲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0280" y="50115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名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9960" y="324324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鹿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42480" y="436104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埔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8160" y="812880"/>
            <a:ext cx="4344120" cy="4843440"/>
            <a:chOff x="2918160" y="812880"/>
            <a:chExt cx="4344120" cy="4843440"/>
          </a:xfrm>
        </p:grpSpPr>
        <p:sp>
          <p:nvSpPr>
            <p:cNvPr id="222" name=""/>
            <p:cNvSpPr/>
            <p:nvPr/>
          </p:nvSpPr>
          <p:spPr>
            <a:xfrm>
              <a:off x="5715000" y="812880"/>
              <a:ext cx="19080" cy="698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565520" y="1333080"/>
              <a:ext cx="44640" cy="20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361120" y="2419200"/>
              <a:ext cx="101520" cy="136440"/>
              <a:chOff x="5361120" y="2419200"/>
              <a:chExt cx="101520" cy="13644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61120" y="2423880"/>
                <a:ext cx="101520" cy="131760"/>
                <a:chOff x="5361120" y="2423880"/>
                <a:chExt cx="101520" cy="131760"/>
              </a:xfrm>
            </p:grpSpPr>
            <p:sp>
              <p:nvSpPr>
                <p:cNvPr id="226" name=""/>
                <p:cNvSpPr/>
                <p:nvPr/>
              </p:nvSpPr>
              <p:spPr>
                <a:xfrm flipH="1" rot="16200000">
                  <a:off x="5354640" y="2447640"/>
                  <a:ext cx="114120" cy="10152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361840" y="2423880"/>
                  <a:ext cx="99000" cy="24840"/>
                  <a:chOff x="5361840" y="2423880"/>
                  <a:chExt cx="99000" cy="248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5361840" y="2423880"/>
                    <a:ext cx="972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362560" y="2423880"/>
                    <a:ext cx="9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>
                  <a:off x="5370480" y="2439720"/>
                  <a:ext cx="7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377680" y="2419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50320" y="4249800"/>
              <a:ext cx="111960" cy="137160"/>
              <a:chOff x="7150320" y="4249800"/>
              <a:chExt cx="111960" cy="1371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7164360" y="4257360"/>
                <a:ext cx="97920" cy="129600"/>
                <a:chOff x="7164360" y="4257360"/>
                <a:chExt cx="97920" cy="129600"/>
              </a:xfrm>
            </p:grpSpPr>
            <p:sp>
              <p:nvSpPr>
                <p:cNvPr id="234" name=""/>
                <p:cNvSpPr/>
                <p:nvPr/>
              </p:nvSpPr>
              <p:spPr>
                <a:xfrm flipH="1" rot="16200000">
                  <a:off x="7157880" y="4282560"/>
                  <a:ext cx="110880" cy="979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7164360" y="4257360"/>
                  <a:ext cx="96840" cy="24120"/>
                  <a:chOff x="7164360" y="4257360"/>
                  <a:chExt cx="96840" cy="241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165800" y="4257360"/>
                    <a:ext cx="94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164360" y="4257360"/>
                    <a:ext cx="96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7170120" y="427284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50320" y="42498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673880" y="1812960"/>
              <a:ext cx="111600" cy="138960"/>
              <a:chOff x="4673880" y="1812960"/>
              <a:chExt cx="111600" cy="1389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685400" y="1820880"/>
                <a:ext cx="100080" cy="131040"/>
                <a:chOff x="4685400" y="1820880"/>
                <a:chExt cx="100080" cy="13104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rot="16200000">
                  <a:off x="4681080" y="1847520"/>
                  <a:ext cx="110880" cy="979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4685400" y="1820880"/>
                  <a:ext cx="98280" cy="24120"/>
                  <a:chOff x="4685400" y="1820880"/>
                  <a:chExt cx="98280" cy="241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685400" y="1820880"/>
                    <a:ext cx="964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686120" y="1820880"/>
                    <a:ext cx="975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4695480" y="1836360"/>
                  <a:ext cx="78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673880" y="181296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481800" y="2028960"/>
              <a:ext cx="101520" cy="141120"/>
              <a:chOff x="6481800" y="2028960"/>
              <a:chExt cx="101520" cy="1411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481800" y="2038320"/>
                <a:ext cx="101520" cy="131760"/>
                <a:chOff x="6481800" y="2038320"/>
                <a:chExt cx="101520" cy="13176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200000">
                  <a:off x="6477120" y="206388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6481800" y="2038320"/>
                  <a:ext cx="99720" cy="28440"/>
                  <a:chOff x="6481800" y="2038320"/>
                  <a:chExt cx="99720" cy="284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6481800" y="2038320"/>
                    <a:ext cx="98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9974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99741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483600" y="204012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4" y="9538"/>
                        </a:moveTo>
                        <a:arcTo wR="10800" hR="10800" stAng="-10397410" swAng="48927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4" y="9538"/>
                        </a:moveTo>
                        <a:arcTo wR="10800" hR="10800" stAng="-10397410" swAng="489270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6491520" y="205596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6501600" y="202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712040" y="2367000"/>
              <a:ext cx="112320" cy="139680"/>
              <a:chOff x="4712040" y="2367000"/>
              <a:chExt cx="112320" cy="13968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4725360" y="2376720"/>
                <a:ext cx="99000" cy="129960"/>
                <a:chOff x="4725360" y="2376720"/>
                <a:chExt cx="99000" cy="12996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rot="16200000">
                  <a:off x="4717080" y="2400480"/>
                  <a:ext cx="114120" cy="9828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725360" y="2376720"/>
                  <a:ext cx="99000" cy="24840"/>
                  <a:chOff x="4725360" y="2376720"/>
                  <a:chExt cx="99000" cy="248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4725360" y="237672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725720" y="237816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4732200" y="239256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4712040" y="2367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589280" y="2981160"/>
              <a:ext cx="143280" cy="144720"/>
              <a:chOff x="4589280" y="2981160"/>
              <a:chExt cx="143280" cy="14472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589280" y="2981160"/>
                <a:ext cx="111240" cy="144720"/>
                <a:chOff x="4589280" y="2981160"/>
                <a:chExt cx="111240" cy="14472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rot="16200000">
                  <a:off x="4583160" y="3011400"/>
                  <a:ext cx="120960" cy="107640"/>
                </a:xfrm>
                <a:custGeom>
                  <a:avLst/>
                  <a:gdLst>
                    <a:gd name="textAreaLeft" fmla="*/ 360 w 120960"/>
                    <a:gd name="textAreaRight" fmla="*/ 121680 w 1209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4589280" y="2981160"/>
                  <a:ext cx="111240" cy="28440"/>
                  <a:chOff x="4589280" y="2981160"/>
                  <a:chExt cx="111240" cy="2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591080" y="2981160"/>
                    <a:ext cx="10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87" y="5"/>
                        </a:moveTo>
                        <a:arcTo wR="10800" hR="10800" stAng="-5499617" swAng="54996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87" y="5"/>
                        </a:moveTo>
                        <a:arcTo wR="10800" hR="10800" stAng="-5499617" swAng="549961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589280" y="2981160"/>
                    <a:ext cx="1112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00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0038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4601880" y="3000240"/>
                  <a:ext cx="92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4595040" y="2992320"/>
                <a:ext cx="13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乙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023160" y="5518080"/>
              <a:ext cx="114120" cy="138240"/>
              <a:chOff x="6023160" y="5518080"/>
              <a:chExt cx="114120" cy="1382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031080" y="5518080"/>
                <a:ext cx="106200" cy="138240"/>
                <a:chOff x="6031080" y="5518080"/>
                <a:chExt cx="106200" cy="138240"/>
              </a:xfrm>
            </p:grpSpPr>
            <p:sp>
              <p:nvSpPr>
                <p:cNvPr id="274" name=""/>
                <p:cNvSpPr/>
                <p:nvPr/>
              </p:nvSpPr>
              <p:spPr>
                <a:xfrm flipH="1" rot="16200000">
                  <a:off x="6024960" y="5545080"/>
                  <a:ext cx="117720" cy="1047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6031080" y="5518080"/>
                  <a:ext cx="106200" cy="28440"/>
                  <a:chOff x="6031080" y="5518080"/>
                  <a:chExt cx="106200" cy="284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6031080" y="5518080"/>
                    <a:ext cx="10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032520" y="5518080"/>
                    <a:ext cx="104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6042240" y="553716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6023160" y="551808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247000" y="5056200"/>
              <a:ext cx="105480" cy="136440"/>
              <a:chOff x="5247000" y="5056200"/>
              <a:chExt cx="105480" cy="13644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5247000" y="5056200"/>
                <a:ext cx="105480" cy="136440"/>
                <a:chOff x="5247000" y="5056200"/>
                <a:chExt cx="105480" cy="136440"/>
              </a:xfrm>
            </p:grpSpPr>
            <p:sp>
              <p:nvSpPr>
                <p:cNvPr id="282" name=""/>
                <p:cNvSpPr/>
                <p:nvPr/>
              </p:nvSpPr>
              <p:spPr>
                <a:xfrm flipH="1" rot="16200000">
                  <a:off x="5239080" y="5083200"/>
                  <a:ext cx="117360" cy="1011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5247000" y="5056200"/>
                  <a:ext cx="105480" cy="24840"/>
                  <a:chOff x="5247000" y="5056200"/>
                  <a:chExt cx="105480" cy="248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5247000" y="505620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8440" y="505620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5257800" y="5073480"/>
                  <a:ext cx="83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5274000" y="5059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182480" y="3998880"/>
              <a:ext cx="105480" cy="136440"/>
              <a:chOff x="4182480" y="3998880"/>
              <a:chExt cx="105480" cy="1364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4182480" y="3998880"/>
                <a:ext cx="105480" cy="136440"/>
                <a:chOff x="4182480" y="3998880"/>
                <a:chExt cx="105480" cy="1364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rot="16200000">
                  <a:off x="4175640" y="4024080"/>
                  <a:ext cx="117720" cy="1047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4183200" y="3998880"/>
                  <a:ext cx="104760" cy="24840"/>
                  <a:chOff x="4183200" y="3998880"/>
                  <a:chExt cx="104760" cy="248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184640" y="3998880"/>
                    <a:ext cx="10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743" swAng="55057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743" swAng="55057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183200" y="399888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4192920" y="401472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211280" y="4001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092840" y="2633760"/>
              <a:ext cx="105480" cy="136080"/>
              <a:chOff x="4092840" y="2633760"/>
              <a:chExt cx="105480" cy="136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092840" y="2633760"/>
                <a:ext cx="105480" cy="136080"/>
                <a:chOff x="4092840" y="2633760"/>
                <a:chExt cx="105480" cy="13608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rot="16200000">
                  <a:off x="4088160" y="2662200"/>
                  <a:ext cx="114120" cy="10116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4092840" y="2633760"/>
                  <a:ext cx="105480" cy="24840"/>
                  <a:chOff x="4092840" y="2633760"/>
                  <a:chExt cx="105480" cy="248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4092840" y="263376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094280" y="263376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" name=""/>
                <p:cNvSpPr/>
                <p:nvPr/>
              </p:nvSpPr>
              <p:spPr>
                <a:xfrm>
                  <a:off x="4101840" y="265104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4118400" y="2636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918160" y="3774960"/>
              <a:ext cx="114840" cy="139680"/>
              <a:chOff x="2918160" y="3774960"/>
              <a:chExt cx="114840" cy="1396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2926440" y="3779640"/>
                <a:ext cx="106560" cy="135000"/>
                <a:chOff x="2926440" y="3779640"/>
                <a:chExt cx="106560" cy="135000"/>
              </a:xfrm>
            </p:grpSpPr>
            <p:sp>
              <p:nvSpPr>
                <p:cNvPr id="306" name=""/>
                <p:cNvSpPr/>
                <p:nvPr/>
              </p:nvSpPr>
              <p:spPr>
                <a:xfrm flipH="1" rot="16200000">
                  <a:off x="2923200" y="3805200"/>
                  <a:ext cx="114120" cy="10476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2926440" y="3779640"/>
                  <a:ext cx="105480" cy="24840"/>
                  <a:chOff x="2926440" y="3779640"/>
                  <a:chExt cx="105480" cy="248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2926440" y="377964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927160" y="3779640"/>
                    <a:ext cx="10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936880" y="379728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2918160" y="377496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559320" y="3876840"/>
              <a:ext cx="110160" cy="144360"/>
              <a:chOff x="3559320" y="3876840"/>
              <a:chExt cx="110160" cy="1443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564360" y="3883320"/>
                <a:ext cx="105120" cy="137880"/>
                <a:chOff x="3564360" y="3883320"/>
                <a:chExt cx="105120" cy="1378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rot="16200000">
                  <a:off x="3557880" y="3909960"/>
                  <a:ext cx="117360" cy="1047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564360" y="3883320"/>
                  <a:ext cx="105120" cy="24840"/>
                  <a:chOff x="3564360" y="3883320"/>
                  <a:chExt cx="105120" cy="248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3564360" y="3883320"/>
                    <a:ext cx="103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565440" y="3883320"/>
                    <a:ext cx="104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585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585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3574800" y="38991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559320" y="38768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766920" y="5018040"/>
              <a:ext cx="105120" cy="139680"/>
              <a:chOff x="6766920" y="5018040"/>
              <a:chExt cx="105120" cy="13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766920" y="5027760"/>
                <a:ext cx="99000" cy="129960"/>
                <a:chOff x="6766920" y="5027760"/>
                <a:chExt cx="99000" cy="129960"/>
              </a:xfrm>
            </p:grpSpPr>
            <p:sp>
              <p:nvSpPr>
                <p:cNvPr id="322" name=""/>
                <p:cNvSpPr/>
                <p:nvPr/>
              </p:nvSpPr>
              <p:spPr>
                <a:xfrm flipH="1" rot="16200000">
                  <a:off x="6758640" y="5051520"/>
                  <a:ext cx="114120" cy="98280"/>
                </a:xfrm>
                <a:custGeom>
                  <a:avLst/>
                  <a:gdLst>
                    <a:gd name="textAreaLeft" fmla="*/ -360 w 114120"/>
                    <a:gd name="textAreaRight" fmla="*/ 11412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6766920" y="5027760"/>
                  <a:ext cx="99000" cy="24840"/>
                  <a:chOff x="6766920" y="5027760"/>
                  <a:chExt cx="99000" cy="2484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766920" y="5027760"/>
                    <a:ext cx="990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79" y="5"/>
                        </a:moveTo>
                        <a:arcTo wR="10800" hR="10800" stAng="-5502284" swAng="50393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79" y="5"/>
                        </a:moveTo>
                        <a:arcTo wR="10800" hR="10800" stAng="-5502284" swAng="503934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767280" y="5029200"/>
                    <a:ext cx="9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360" swAng="48490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360" swAng="484907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" name=""/>
                <p:cNvSpPr/>
                <p:nvPr/>
              </p:nvSpPr>
              <p:spPr>
                <a:xfrm>
                  <a:off x="6775560" y="504216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6767640" y="50180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02920" y="2854440"/>
              <a:ext cx="104400" cy="144360"/>
              <a:chOff x="6802920" y="2854440"/>
              <a:chExt cx="104400" cy="1443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6805800" y="2868480"/>
                <a:ext cx="101520" cy="130320"/>
                <a:chOff x="6805800" y="2868480"/>
                <a:chExt cx="101520" cy="130320"/>
              </a:xfrm>
            </p:grpSpPr>
            <p:sp>
              <p:nvSpPr>
                <p:cNvPr id="330" name=""/>
                <p:cNvSpPr/>
                <p:nvPr/>
              </p:nvSpPr>
              <p:spPr>
                <a:xfrm flipH="1" rot="16200000">
                  <a:off x="6800760" y="2892240"/>
                  <a:ext cx="111240" cy="10152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6805800" y="2868480"/>
                  <a:ext cx="101160" cy="21960"/>
                  <a:chOff x="6805800" y="2868480"/>
                  <a:chExt cx="101160" cy="21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6807600" y="2868480"/>
                    <a:ext cx="9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805800" y="2868480"/>
                    <a:ext cx="101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6818400" y="28861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6802920" y="285444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618080" y="3344760"/>
              <a:ext cx="110160" cy="136440"/>
              <a:chOff x="4618080" y="3344760"/>
              <a:chExt cx="110160" cy="1364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629960" y="3352680"/>
                <a:ext cx="98280" cy="128520"/>
                <a:chOff x="4629960" y="3352680"/>
                <a:chExt cx="98280" cy="128520"/>
              </a:xfrm>
            </p:grpSpPr>
            <p:sp>
              <p:nvSpPr>
                <p:cNvPr id="338" name=""/>
                <p:cNvSpPr/>
                <p:nvPr/>
              </p:nvSpPr>
              <p:spPr>
                <a:xfrm flipH="1" rot="16200000">
                  <a:off x="4623120" y="3376440"/>
                  <a:ext cx="110880" cy="982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4631760" y="3352680"/>
                  <a:ext cx="96120" cy="25560"/>
                  <a:chOff x="4631760" y="3352680"/>
                  <a:chExt cx="96120" cy="255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631760" y="3352680"/>
                    <a:ext cx="96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68" y="5"/>
                        </a:moveTo>
                        <a:arcTo wR="10800" hR="10800" stAng="-5505635" swAng="50424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68" y="5"/>
                        </a:moveTo>
                        <a:arcTo wR="10800" hR="10800" stAng="-5505635" swAng="504245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631760" y="3354480"/>
                    <a:ext cx="95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" y="9395"/>
                        </a:moveTo>
                        <a:arcTo wR="10800" hR="10800" stAng="-10351588" swAng="48459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" y="9395"/>
                        </a:moveTo>
                        <a:arcTo wR="10800" hR="10800" stAng="-10351588" swAng="484595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4636800" y="33685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618080" y="334476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554800" y="1359000"/>
              <a:ext cx="114120" cy="139680"/>
              <a:chOff x="5554800" y="1359000"/>
              <a:chExt cx="114120" cy="1396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5564880" y="1365120"/>
                <a:ext cx="104040" cy="133560"/>
                <a:chOff x="5564880" y="1365120"/>
                <a:chExt cx="104040" cy="13356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rot="16200000">
                  <a:off x="5559480" y="1392480"/>
                  <a:ext cx="111240" cy="10116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5568480" y="1365120"/>
                  <a:ext cx="100440" cy="25560"/>
                  <a:chOff x="5568480" y="1365120"/>
                  <a:chExt cx="100440" cy="255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5569560" y="136512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68480" y="1365120"/>
                    <a:ext cx="100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5574600" y="1384200"/>
                  <a:ext cx="8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554800" y="135900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335560" y="3470400"/>
              <a:ext cx="102600" cy="141120"/>
              <a:chOff x="5335560" y="3470400"/>
              <a:chExt cx="102600" cy="14112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335560" y="3479760"/>
                <a:ext cx="102600" cy="131760"/>
                <a:chOff x="5335560" y="3479760"/>
                <a:chExt cx="102600" cy="131760"/>
              </a:xfrm>
            </p:grpSpPr>
            <p:sp>
              <p:nvSpPr>
                <p:cNvPr id="354" name=""/>
                <p:cNvSpPr/>
                <p:nvPr/>
              </p:nvSpPr>
              <p:spPr>
                <a:xfrm flipH="1" rot="16200000">
                  <a:off x="5330880" y="3505320"/>
                  <a:ext cx="110880" cy="10152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337000" y="3479760"/>
                  <a:ext cx="101160" cy="25560"/>
                  <a:chOff x="5337000" y="3479760"/>
                  <a:chExt cx="101160" cy="255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338800" y="3479760"/>
                    <a:ext cx="97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57" y="5"/>
                        </a:moveTo>
                        <a:arcTo wR="10800" hR="10800" stAng="-5509098" swAng="55090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57" y="5"/>
                        </a:moveTo>
                        <a:arcTo wR="10800" hR="10800" stAng="-5509098" swAng="5509098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337000" y="3479760"/>
                    <a:ext cx="1011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09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0902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351400" y="349560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5358600" y="3470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32840" y="849240"/>
              <a:ext cx="99000" cy="135000"/>
              <a:chOff x="6432840" y="849240"/>
              <a:chExt cx="99000" cy="1350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6432840" y="852480"/>
                <a:ext cx="99000" cy="131760"/>
                <a:chOff x="6432840" y="852480"/>
                <a:chExt cx="99000" cy="131760"/>
              </a:xfrm>
            </p:grpSpPr>
            <p:sp>
              <p:nvSpPr>
                <p:cNvPr id="362" name=""/>
                <p:cNvSpPr/>
                <p:nvPr/>
              </p:nvSpPr>
              <p:spPr>
                <a:xfrm flipH="1" rot="16200000">
                  <a:off x="6426720" y="879480"/>
                  <a:ext cx="111240" cy="9828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6432840" y="852480"/>
                  <a:ext cx="99000" cy="24840"/>
                  <a:chOff x="6432840" y="852480"/>
                  <a:chExt cx="99000" cy="248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432840" y="852480"/>
                    <a:ext cx="9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434280" y="852480"/>
                    <a:ext cx="97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91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914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6442200" y="870120"/>
                  <a:ext cx="8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6449400" y="84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15000" y="4059360"/>
              <a:ext cx="114480" cy="137880"/>
              <a:chOff x="5715000" y="4059360"/>
              <a:chExt cx="114480" cy="13788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5715000" y="4067280"/>
                <a:ext cx="114480" cy="129960"/>
                <a:chOff x="5715000" y="4067280"/>
                <a:chExt cx="114480" cy="129960"/>
              </a:xfrm>
            </p:grpSpPr>
            <p:sp>
              <p:nvSpPr>
                <p:cNvPr id="370" name=""/>
                <p:cNvSpPr/>
                <p:nvPr/>
              </p:nvSpPr>
              <p:spPr>
                <a:xfrm flipH="1" rot="16200000">
                  <a:off x="5716800" y="4084560"/>
                  <a:ext cx="110880" cy="114480"/>
                </a:xfrm>
                <a:custGeom>
                  <a:avLst/>
                  <a:gdLst>
                    <a:gd name="textAreaLeft" fmla="*/ 360 w 110880"/>
                    <a:gd name="textAreaRight" fmla="*/ 111600 w 11088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400" y="0"/>
                      </a:lnTo>
                      <a:lnTo>
                        <a:pt x="21600" y="10800"/>
                      </a:lnTo>
                      <a:lnTo>
                        <a:pt x="144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5715000" y="4067280"/>
                  <a:ext cx="114120" cy="24840"/>
                  <a:chOff x="5715000" y="4067280"/>
                  <a:chExt cx="114120" cy="248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717520" y="4067280"/>
                    <a:ext cx="1094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46" y="6"/>
                        </a:moveTo>
                        <a:arcTo wR="10800" hR="10800" stAng="-5512673" swAng="55126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46" y="6"/>
                        </a:moveTo>
                        <a:arcTo wR="10800" hR="10800" stAng="-5512673" swAng="5512673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715000" y="4067280"/>
                    <a:ext cx="1141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873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87327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5716800" y="4086360"/>
                  <a:ext cx="110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716800" y="405936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547560"/>
                    <a:tab algn="l" pos="1095480"/>
                    <a:tab algn="l" pos="1643040"/>
                    <a:tab algn="l" pos="2190600"/>
                    <a:tab algn="l" pos="2738520"/>
                    <a:tab algn="l" pos="3286080"/>
                    <a:tab algn="l" pos="3833640"/>
                    <a:tab algn="l" pos="4381560"/>
                    <a:tab algn="l" pos="4929120"/>
                    <a:tab algn="l" pos="5477040"/>
                    <a:tab algn="l" pos="6024600"/>
                    <a:tab algn="l" pos="6572160"/>
                    <a:tab algn="l" pos="7120080"/>
                    <a:tab algn="l" pos="7667640"/>
                    <a:tab algn="l" pos="8215200"/>
                    <a:tab algn="l" pos="8763120"/>
                    <a:tab algn="l" pos="9310680"/>
                    <a:tab algn="l" pos="9858240"/>
                    <a:tab algn="l" pos="10406160"/>
                    <a:tab algn="l" pos="1095372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  <a:ea typeface="全真楷書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3808080" y="300348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08200" y="24033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33320" y="513252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50760" y="43149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47720" y="507852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04760" y="52671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14400" y="355752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1480" y="389088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8040" y="484668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85640" y="43959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35120" y="55785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90760" y="1168560"/>
            <a:ext cx="156240" cy="12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323120" y="5351400"/>
            <a:ext cx="1206360" cy="637560"/>
            <a:chOff x="7323120" y="5351400"/>
            <a:chExt cx="1206360" cy="637560"/>
          </a:xfrm>
        </p:grpSpPr>
        <p:grpSp>
          <p:nvGrpSpPr>
            <p:cNvPr id="389" name=""/>
            <p:cNvGrpSpPr/>
            <p:nvPr/>
          </p:nvGrpSpPr>
          <p:grpSpPr>
            <a:xfrm>
              <a:off x="7323120" y="5351400"/>
              <a:ext cx="1206360" cy="628200"/>
              <a:chOff x="7323120" y="5351400"/>
              <a:chExt cx="1206360" cy="628200"/>
            </a:xfrm>
          </p:grpSpPr>
          <p:sp>
            <p:nvSpPr>
              <p:cNvPr id="390" name=""/>
              <p:cNvSpPr/>
              <p:nvPr/>
            </p:nvSpPr>
            <p:spPr>
              <a:xfrm>
                <a:off x="7323120" y="5389200"/>
                <a:ext cx="1206360" cy="590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23120" y="5589360"/>
                <a:ext cx="1203480" cy="1080"/>
              </a:xfrm>
              <a:custGeom>
                <a:avLst/>
                <a:gdLst/>
                <a:ahLst/>
                <a:rect l="l" t="t" r="r" b="b"/>
                <a:pathLst>
                  <a:path w="758" h="1">
                    <a:moveTo>
                      <a:pt x="0" y="0"/>
                    </a:moveTo>
                    <a:lnTo>
                      <a:pt x="7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56400" y="5351400"/>
                <a:ext cx="730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47720"/>
                    <a:tab algn="l" pos="1495440"/>
                    <a:tab algn="l" pos="2243160"/>
                    <a:tab algn="l" pos="2990880"/>
                    <a:tab algn="l" pos="3738600"/>
                    <a:tab algn="l" pos="4486320"/>
                    <a:tab algn="l" pos="5234040"/>
                    <a:tab algn="l" pos="5981760"/>
                    <a:tab algn="l" pos="6729480"/>
                    <a:tab algn="l" pos="7477200"/>
                    <a:tab algn="l" pos="8224920"/>
                    <a:tab algn="l" pos="8972640"/>
                    <a:tab algn="l" pos="9720360"/>
                    <a:tab algn="l" pos="1046808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全真楷書"/>
                    <a:ea typeface="全真楷書"/>
                  </a:rPr>
                  <a:t>圖    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7452360" y="5584680"/>
              <a:ext cx="652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一般道路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(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省道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747720"/>
                  <a:tab algn="l" pos="1495440"/>
                  <a:tab algn="l" pos="2243160"/>
                  <a:tab algn="l" pos="2990880"/>
                  <a:tab algn="l" pos="3738600"/>
                  <a:tab algn="l" pos="4486320"/>
                  <a:tab algn="l" pos="5234040"/>
                  <a:tab algn="l" pos="5981760"/>
                  <a:tab algn="l" pos="6729480"/>
                  <a:tab algn="l" pos="7477200"/>
                  <a:tab algn="l" pos="8224920"/>
                  <a:tab algn="l" pos="8972640"/>
                  <a:tab algn="l" pos="9720360"/>
                  <a:tab algn="l" pos="1046808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一般道路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(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縣道</a:t>
              </a:r>
              <a:r>
                <a:rPr b="0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64520" y="5867280"/>
              <a:ext cx="204840" cy="9000"/>
            </a:xfrm>
            <a:custGeom>
              <a:avLst/>
              <a:gdLst/>
              <a:ahLst/>
              <a:rect l="l" t="t" r="r" b="b"/>
              <a:pathLst>
                <a:path w="129" h="6">
                  <a:moveTo>
                    <a:pt x="0" y="0"/>
                  </a:moveTo>
                  <a:lnTo>
                    <a:pt x="128" y="0"/>
                  </a:lnTo>
                  <a:lnTo>
                    <a:pt x="128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50120" y="5716440"/>
              <a:ext cx="238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2:28:06Z</dcterms:created>
  <dc:creator>運研所</dc:creator>
  <dc:description/>
  <dc:language>en-US</dc:language>
  <cp:lastModifiedBy>運研所</cp:lastModifiedBy>
  <dcterms:modified xsi:type="dcterms:W3CDTF">1998-09-20T01:20:20Z</dcterms:modified>
  <cp:revision>5</cp:revision>
  <dc:subject/>
  <dc:title>無投影片標題</dc:title>
</cp:coreProperties>
</file>