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583920" y="6134040"/>
            <a:ext cx="8102520" cy="0"/>
          </a:xfrm>
          <a:prstGeom prst="line">
            <a:avLst/>
          </a:prstGeom>
          <a:ln w="1015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609120" y="6286680"/>
            <a:ext cx="8077320" cy="0"/>
          </a:xfrm>
          <a:prstGeom prst="line">
            <a:avLst/>
          </a:prstGeom>
          <a:ln w="507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7200" y="762120"/>
            <a:ext cx="8305920" cy="152280"/>
            <a:chOff x="457200" y="762120"/>
            <a:chExt cx="8305920" cy="152280"/>
          </a:xfrm>
        </p:grpSpPr>
        <p:sp>
          <p:nvSpPr>
            <p:cNvPr id="3" name=""/>
            <p:cNvSpPr/>
            <p:nvPr/>
          </p:nvSpPr>
          <p:spPr>
            <a:xfrm flipH="1">
              <a:off x="457200" y="914400"/>
              <a:ext cx="8305920" cy="0"/>
            </a:xfrm>
            <a:prstGeom prst="line">
              <a:avLst/>
            </a:prstGeom>
            <a:ln w="101520">
              <a:solidFill>
                <a:srgbClr val="5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480960" y="762120"/>
              <a:ext cx="8256600" cy="0"/>
            </a:xfrm>
            <a:prstGeom prst="line">
              <a:avLst/>
            </a:prstGeom>
            <a:ln w="50760">
              <a:solidFill>
                <a:srgbClr val="5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1480" y="97164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大台中地區交通路網整體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1560" y="555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58720" y="5257800"/>
            <a:ext cx="261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中華民國八十八年元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4600" y="281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標楷體"/>
              </a:rPr>
              <a:t>簡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9360" y="4495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交通部運輸研究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11696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9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28120" y="1752480"/>
            <a:ext cx="48747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有關大台中地區交通路網之改善可分成三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一、八十八年春節前之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短期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建設與交通疏導措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、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長期公路網建設計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三、交通管理措施之改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0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1016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一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、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八十八年春節前之短期建設與交通疏導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一）必須八十八年春節前完工通車的建設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國道高速公路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豐原台中、王田彰化及彰化員林等三路段（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8.1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2.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快速公路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1)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西部走廊東西向快速公路系統快官台中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中港路至台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14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線之高架路段。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88.2.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720" y="1120680"/>
            <a:ext cx="648828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2)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西部濱海快速公路在房裡（中苗六）銜接台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線暨第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8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、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9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標高架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4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線道之完工，可使替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車流動線由白沙屯貫通至台中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.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省道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中山高速公路通往台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10</a:t>
            </a: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線之豐原北上出口匝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）完善的春節疏運計畫及交通指引配合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1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96840" y="1033560"/>
            <a:ext cx="5886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、中長期公路網建設計畫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國道高速公路部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1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部地區中山高拓寬於民國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8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底可全部完成通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2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高後續計畫主線及台中環線可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0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底完工通車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橫快霧峰埔里段及台中環線豐原霧峰段（五號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屬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BOT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計畫，分別可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6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及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4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完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快速公路部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1)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東西向快速公路，彰濱快官段國工局可於民國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90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完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通車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省住都處辦理之快官台中段全線於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9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底通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惟彰濱聯絡道仍待與彰化縣政府協調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2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23800" y="1252440"/>
            <a:ext cx="6328080" cy="56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2)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東西向快速公路漢寶草屯線全線公路局可於民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91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底完工通車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，台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至台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間可提前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8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底完成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3)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西濱快速公路鹿港以北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9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底可完成，鹿港以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91.6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可全線完工通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4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台中生活圈快速道路系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1.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一號線（二高之台中環線）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9K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以東於民國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9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底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通車；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9K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以西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台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17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至中山高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)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於民國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90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底完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2.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號線北段可先辦理中清路至台三線路段，台三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以東路段之規劃費已納入在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8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度擴大內需方案中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後續經費仍須籌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4028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3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47920"/>
            <a:ext cx="82296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3.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號線南段之高鐵烏日站聯外道路部分，請住都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施工時，自復興路以南按台中縣都計寬度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50m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執行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本段及復興路以南至二高烏日交流道部份均需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2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方可完工使用無法配合烏日交流道提供服務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，應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國工局與住都處研商替代道路因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4.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三號線有關文心南路未貫穿路段，已納入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8(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土地費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9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（工程費）年度擴大內需方案辦理，後續經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仍須籌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4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4080" y="1168560"/>
            <a:ext cx="5267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5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四號線南側王田至中投公路段已納高鐵聯外道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辦理，住都處可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2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完成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；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投公路至三號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則納入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8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（規劃）年度擴大內需辦理。請台中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政府依重大計畫理由申請逕為變更，以加速變更程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6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五號路已納入國道台中環線豐原霧峰段，具可行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國工局目前以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BOT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方式推動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估計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4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完成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7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有關二號線與五號線相交之交流道區位未定問題，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省住都處邀集國工局與台中縣政府規劃一可行方案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部核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0880" y="83808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6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914400"/>
            <a:ext cx="8439120" cy="5580360"/>
            <a:chOff x="457200" y="914400"/>
            <a:chExt cx="8439120" cy="5580360"/>
          </a:xfrm>
        </p:grpSpPr>
        <p:sp>
          <p:nvSpPr>
            <p:cNvPr id="100" name=""/>
            <p:cNvSpPr/>
            <p:nvPr/>
          </p:nvSpPr>
          <p:spPr>
            <a:xfrm>
              <a:off x="457200" y="914400"/>
              <a:ext cx="84391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dfde6"/>
                  </a:solidFill>
                  <a:latin typeface="Times New Roman"/>
                </a:rPr>
                <a:t>重大交通建設                              完工年期  預算</a:t>
              </a:r>
              <a:r>
                <a:rPr b="1" lang="zh-TW" sz="2000" spc="-1" strike="noStrike">
                  <a:solidFill>
                    <a:srgbClr val="0dfde6"/>
                  </a:solidFill>
                  <a:latin typeface="Times New Roman"/>
                </a:rPr>
                <a:t>(</a:t>
              </a:r>
              <a:r>
                <a:rPr b="1" lang="zh-TW" sz="2000" spc="-1" strike="noStrike">
                  <a:solidFill>
                    <a:srgbClr val="0dfde6"/>
                  </a:solidFill>
                  <a:latin typeface="Times New Roman"/>
                </a:rPr>
                <a:t>億</a:t>
              </a:r>
              <a:r>
                <a:rPr b="1" lang="zh-TW" sz="2000" spc="-1" strike="noStrike">
                  <a:solidFill>
                    <a:srgbClr val="0dfde6"/>
                  </a:solidFill>
                  <a:latin typeface="Times New Roman"/>
                </a:rPr>
                <a:t>)    </a:t>
              </a:r>
              <a:r>
                <a:rPr b="1" lang="zh-TW" sz="2000" spc="-1" strike="noStrike">
                  <a:solidFill>
                    <a:srgbClr val="0dfde6"/>
                  </a:solidFill>
                  <a:latin typeface="Times New Roman"/>
                </a:rPr>
                <a:t>主辦單位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1" lang="zh-TW" sz="2000" spc="-1" strike="noStrike">
                  <a:solidFill>
                    <a:srgbClr val="0dfde6"/>
                  </a:solidFill>
                  <a:latin typeface="Times New Roman"/>
                </a:rPr>
                <a:t>備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中山高新竹員林拓寬工程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88              --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高公局          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2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西濱快速公路                    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89              --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公路局          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二高中部主線與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台中環線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90              --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國工局          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東西快速公路彰濱台中線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90             380       </a:t>
              </a:r>
              <a:r>
                <a:rPr b="1" lang="zh-TW" sz="1400" spc="-1" strike="noStrike">
                  <a:solidFill>
                    <a:srgbClr val="ffffff"/>
                  </a:solidFill>
                  <a:latin typeface="Times New Roman"/>
                </a:rPr>
                <a:t>住都處、國工局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5.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彰化東側外環道                   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90              57         </a:t>
              </a:r>
              <a:r>
                <a:rPr b="1" lang="zh-TW" sz="1800" spc="-1" strike="noStrike">
                  <a:solidFill>
                    <a:srgbClr val="ffff00"/>
                  </a:solidFill>
                  <a:latin typeface="Times New Roman"/>
                </a:rPr>
                <a:t>彰化縣政府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      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6.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東西快速公路漢寶草屯線   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91             280 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公路局          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高速鐵路車站聯外道路    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92              85       </a:t>
              </a:r>
              <a:r>
                <a:rPr b="1" lang="zh-TW" sz="1400" spc="-1" strike="noStrike">
                  <a:solidFill>
                    <a:srgbClr val="ffffff"/>
                  </a:solidFill>
                  <a:latin typeface="Times New Roman"/>
                </a:rPr>
                <a:t>高鐵局、住都處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已核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8.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台中生活圈二號線                    （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94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）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159 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住都處      需經費補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9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台中生活圈三號線          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（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94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）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36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住都處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需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經費補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10.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台中生活圈四號線                  （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94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）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145    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住都處      需經費補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11.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二高台中環線豐原霧峰段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94              --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國工局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BOT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 12.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中橫快速公路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霧峰埔里段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96              --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國工局            </a:t>
              </a:r>
              <a:r>
                <a:rPr b="1" lang="zh-TW" sz="2000" spc="-1" strike="noStrike">
                  <a:solidFill>
                    <a:srgbClr val="ffffff"/>
                  </a:solidFill>
                  <a:latin typeface="Times New Roman"/>
                </a:rPr>
                <a:t>B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13.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中山高豐原 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IC-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彰濱台中線  （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94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）      （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63</a:t>
              </a:r>
              <a:r>
                <a:rPr b="1" i="1" lang="zh-TW" sz="2000" spc="-1" strike="noStrike">
                  <a:solidFill>
                    <a:srgbClr val="ffff00"/>
                  </a:solidFill>
                  <a:latin typeface="Times New Roman"/>
                </a:rPr>
                <a:t>）       高公局           待裁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992160"/>
              <a:ext cx="807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1371600"/>
              <a:ext cx="807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480" y="6172200"/>
              <a:ext cx="8077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990720"/>
              <a:ext cx="0" cy="510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9200" y="990720"/>
              <a:ext cx="0" cy="510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990720"/>
              <a:ext cx="0" cy="510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7480" y="990720"/>
              <a:ext cx="0" cy="510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3520" y="167652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886200"/>
            <a:ext cx="815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6720" y="-152280"/>
            <a:ext cx="184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333720" y="895320"/>
            <a:ext cx="1012932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ff00"/>
                </a:solidFill>
                <a:latin typeface="標楷體"/>
                <a:ea typeface="標楷體"/>
              </a:rPr>
              <a:t>      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中部地區高速公路高架拓寬暨替代方案比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ff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dfde6"/>
                </a:solidFill>
                <a:latin typeface="標楷體"/>
                <a:ea typeface="標楷體"/>
              </a:rPr>
              <a:t>方案       說明      用地   費用  工期 優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高架拓寬    全線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37.7KM   143.7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公頃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452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億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7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用地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單向各雙車道                        費用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增設四處交流道                      工期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平面拓寬    全線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37.7KM   120.0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公頃  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168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億   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7   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用地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              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單向各雙車道                        費用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增設匝道    於大雅交流道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4.0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公頃 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7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億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4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效果有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以南增設匝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4.</a:t>
            </a:r>
            <a:r>
              <a:rPr b="1" i="1" lang="zh-TW" sz="2000" spc="-1" strike="noStrike">
                <a:solidFill>
                  <a:srgbClr val="ffff00"/>
                </a:solidFill>
                <a:latin typeface="Times New Roman"/>
              </a:rPr>
              <a:t>豐原 </a:t>
            </a:r>
            <a:r>
              <a:rPr b="1" i="1" lang="zh-TW" sz="2000" spc="-1" strike="noStrike">
                <a:solidFill>
                  <a:srgbClr val="ffff00"/>
                </a:solidFill>
                <a:latin typeface="Times New Roman"/>
              </a:rPr>
              <a:t>IC-</a:t>
            </a:r>
            <a:r>
              <a:rPr b="1" i="1" lang="zh-TW" sz="2000" spc="-1" strike="noStrike">
                <a:solidFill>
                  <a:srgbClr val="ffff00"/>
                </a:solidFill>
                <a:latin typeface="Times New Roman"/>
              </a:rPr>
              <a:t>彰濱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7.4KM        20.0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公頃  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63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億  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6 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充分運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台中線北端  增設松竹匝道                       彰濱台中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                                                  </a:t>
            </a:r>
            <a:r>
              <a:rPr b="1" i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發揮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90512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96252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72428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601992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44792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240" y="6338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0800" y="507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高公局中部地區高速公路高架拓寬初步探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0440" y="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參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階段路網組成與服務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1066680"/>
            <a:ext cx="574020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3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三、交通管理措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在交通管理方面，因具地區特性，係屬執行機關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地方主管權限，請主管之高公局、省公路局、台中縣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市政府委請研究單位進行相關研究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1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設置公路客運轉運中心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運輸系統管理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TSM)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計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3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因應特殊假期之車流疏導計畫之專案研究，以提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各階段年路網有效容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8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0"/>
            <a:ext cx="2514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61920" y="1295280"/>
            <a:ext cx="3293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壹、前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貳、現況檢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參、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各階段路網組成與服務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肆、綜合評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伍、預期效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陸</a:t>
            </a:r>
            <a:r>
              <a:rPr b="1" lang="zh-TW" sz="32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、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建議事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2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簡報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1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3720" y="-71280"/>
            <a:ext cx="9324720" cy="6930720"/>
            <a:chOff x="153720" y="-71280"/>
            <a:chExt cx="9324720" cy="6930720"/>
          </a:xfrm>
        </p:grpSpPr>
        <p:grpSp>
          <p:nvGrpSpPr>
            <p:cNvPr id="125" name=""/>
            <p:cNvGrpSpPr/>
            <p:nvPr/>
          </p:nvGrpSpPr>
          <p:grpSpPr>
            <a:xfrm>
              <a:off x="153720" y="1523880"/>
              <a:ext cx="9324720" cy="4483080"/>
              <a:chOff x="153720" y="1523880"/>
              <a:chExt cx="9324720" cy="4483080"/>
            </a:xfrm>
          </p:grpSpPr>
          <p:sp>
            <p:nvSpPr>
              <p:cNvPr id="126" name=""/>
              <p:cNvSpPr/>
              <p:nvPr/>
            </p:nvSpPr>
            <p:spPr>
              <a:xfrm>
                <a:off x="153720" y="1523880"/>
                <a:ext cx="9324720" cy="448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     </a:t>
                </a:r>
                <a:r>
                  <a:rPr b="1" lang="zh-TW" sz="2400" spc="-1" strike="noStrike">
                    <a:solidFill>
                      <a:srgbClr val="0dfde6"/>
                    </a:solidFill>
                    <a:latin typeface="新細明體"/>
                  </a:rPr>
                  <a:t>路段區間                      容量       流量    </a:t>
                </a:r>
                <a:r>
                  <a:rPr b="1" lang="zh-TW" sz="2400" spc="-1" strike="noStrike">
                    <a:solidFill>
                      <a:srgbClr val="0dfde6"/>
                    </a:solidFill>
                    <a:latin typeface="新細明體"/>
                  </a:rPr>
                  <a:t>V/C   LOS     </a:t>
                </a:r>
                <a:r>
                  <a:rPr b="1" lang="zh-TW" sz="2400" spc="-1" strike="noStrike">
                    <a:solidFill>
                      <a:srgbClr val="0dfde6"/>
                    </a:solidFill>
                    <a:latin typeface="新細明體"/>
                  </a:rPr>
                  <a:t>備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現況台中至王田交流道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31,60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33,686   1.07  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F 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（台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1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新細明體"/>
                  </a:rPr>
                  <a:t>,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 17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新細明體"/>
                  </a:rPr>
                  <a:t>,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 3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新細明體"/>
                  </a:rPr>
                  <a:t>,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國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）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</a:t>
                </a:r>
                <a:r>
                  <a:rPr b="1" i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服務至民國</a:t>
                </a:r>
                <a:r>
                  <a:rPr b="1" i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104</a:t>
                </a:r>
                <a:r>
                  <a:rPr b="1" i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年</a:t>
                </a:r>
                <a:r>
                  <a:rPr b="1" i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1.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大雅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IC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生活圈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2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號以北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72,00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57,266   0.8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D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ffff00"/>
                    </a:solidFill>
                    <a:latin typeface="新細明體"/>
                  </a:rPr>
                  <a:t>     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新細明體"/>
                  </a:rPr>
                  <a:t>（增建匝道接彰濱台中線）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81,60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57,266   0.7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C  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zh-TW" sz="2000" spc="-1" strike="noStrike">
                    <a:solidFill>
                      <a:srgbClr val="ffff00"/>
                    </a:solidFill>
                    <a:latin typeface="Times New Roman"/>
                  </a:rPr>
                  <a:t>加上建議方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2.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大雅至台中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IC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間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     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111,20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63,667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0.57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3.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台中至王田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IC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間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       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111,20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61,982   0.55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4.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全真中圓體"/>
                    <a:ea typeface="全真中圓體"/>
                  </a:rPr>
                  <a:t>王田交流道以南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       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72,40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57,940   0.80 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新細明體"/>
                  </a:rPr>
                  <a:t>	</a:t>
                </a:r>
                <a:r>
                  <a:rPr b="1" lang="zh-TW" sz="2400" spc="-1" strike="noStrike">
                    <a:solidFill>
                      <a:srgbClr val="ffff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1400" y="1523880"/>
                <a:ext cx="85125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1400" y="2197800"/>
                <a:ext cx="8512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1400" y="2797200"/>
                <a:ext cx="8512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1280" y="5942880"/>
                <a:ext cx="85125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715480" y="914400"/>
              <a:ext cx="44049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  <a:ea typeface="全真中圓體"/>
                </a:rPr>
                <a:t>一</a:t>
              </a:r>
              <a:r>
                <a:rPr b="1" lang="zh-TW" sz="2400" spc="-1" strike="noStrike">
                  <a:solidFill>
                    <a:srgbClr val="ffff00"/>
                  </a:solidFill>
                  <a:latin typeface="標楷體"/>
                  <a:ea typeface="全真中圓體"/>
                </a:rPr>
                <a:t>、</a:t>
              </a:r>
              <a:r>
                <a:rPr b="1" lang="zh-TW" sz="2800" spc="-1" strike="noStrike">
                  <a:solidFill>
                    <a:srgbClr val="ffff00"/>
                  </a:solidFill>
                  <a:latin typeface="Times New Roman"/>
                  <a:ea typeface="全真中圓體"/>
                </a:rPr>
                <a:t>未來</a:t>
              </a:r>
              <a:r>
                <a:rPr b="1" i="1" lang="zh-TW" sz="2400" spc="-1" strike="noStrike">
                  <a:solidFill>
                    <a:srgbClr val="ffff00"/>
                  </a:solidFill>
                  <a:latin typeface="新細明體"/>
                </a:rPr>
                <a:t>（整體路網均完成）</a:t>
              </a:r>
              <a:r>
                <a:rPr b="1" lang="zh-TW" sz="28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南北</a:t>
              </a:r>
              <a:r>
                <a:rPr b="1" lang="zh-TW" sz="2800" spc="-1" strike="noStrike">
                  <a:solidFill>
                    <a:srgbClr val="ffff00"/>
                  </a:solidFill>
                  <a:latin typeface="Times New Roman"/>
                  <a:ea typeface="全真中圓體"/>
                </a:rPr>
                <a:t>路廊服務水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0440" y="-71280"/>
              <a:ext cx="41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ff00"/>
                  </a:solidFill>
                  <a:latin typeface="標楷體"/>
                  <a:ea typeface="標楷體"/>
                </a:rPr>
                <a:t>肆、綜合評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9920" y="633888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Times New Roman"/>
                </a:rPr>
                <a:t>- 19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53720" y="1447920"/>
            <a:ext cx="9324720" cy="4483080"/>
            <a:chOff x="153720" y="1447920"/>
            <a:chExt cx="9324720" cy="4483080"/>
          </a:xfrm>
        </p:grpSpPr>
        <p:sp>
          <p:nvSpPr>
            <p:cNvPr id="135" name=""/>
            <p:cNvSpPr/>
            <p:nvPr/>
          </p:nvSpPr>
          <p:spPr>
            <a:xfrm>
              <a:off x="153720" y="1447920"/>
              <a:ext cx="932472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     </a:t>
              </a:r>
              <a:r>
                <a:rPr b="1" lang="zh-TW" sz="2400" spc="-1" strike="noStrike">
                  <a:solidFill>
                    <a:srgbClr val="0dfde6"/>
                  </a:solidFill>
                  <a:latin typeface="新細明體"/>
                </a:rPr>
                <a:t>路段區間                      容量       流量    </a:t>
              </a:r>
              <a:r>
                <a:rPr b="1" lang="zh-TW" sz="2400" spc="-1" strike="noStrike">
                  <a:solidFill>
                    <a:srgbClr val="0dfde6"/>
                  </a:solidFill>
                  <a:latin typeface="新細明體"/>
                </a:rPr>
                <a:t>V/C   LOS     </a:t>
              </a:r>
              <a:r>
                <a:rPr b="1" lang="zh-TW" sz="2400" spc="-1" strike="noStrike">
                  <a:solidFill>
                    <a:srgbClr val="0dfde6"/>
                  </a:solidFill>
                  <a:latin typeface="新細明體"/>
                </a:rPr>
                <a:t>備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 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現況台中至王田交流道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 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31,60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33,686   1.07    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F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（台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1 </a:t>
              </a:r>
              <a:r>
                <a:rPr b="1" lang="zh-TW" sz="2000" spc="-1" strike="noStrike">
                  <a:solidFill>
                    <a:srgbClr val="ffff00"/>
                  </a:solidFill>
                  <a:latin typeface="新細明體"/>
                </a:rPr>
                <a:t>,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 17 </a:t>
              </a:r>
              <a:r>
                <a:rPr b="1" lang="zh-TW" sz="2000" spc="-1" strike="noStrike">
                  <a:solidFill>
                    <a:srgbClr val="ffff00"/>
                  </a:solidFill>
                  <a:latin typeface="新細明體"/>
                </a:rPr>
                <a:t>,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 3 </a:t>
              </a:r>
              <a:r>
                <a:rPr b="1" lang="zh-TW" sz="2000" spc="-1" strike="noStrike">
                  <a:solidFill>
                    <a:srgbClr val="ffff00"/>
                  </a:solidFill>
                  <a:latin typeface="新細明體"/>
                </a:rPr>
                <a:t>,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國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）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</a:t>
              </a:r>
              <a:r>
                <a:rPr b="1" i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服務至民國</a:t>
              </a:r>
              <a:r>
                <a:rPr b="1" i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104</a:t>
              </a:r>
              <a:r>
                <a:rPr b="1" i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年</a:t>
              </a:r>
              <a:r>
                <a:rPr b="1" i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1. 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大雅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IC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生活圈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2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號以北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72,00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57,266   0.8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00"/>
                  </a:solidFill>
                  <a:latin typeface="新細明體"/>
                </a:rPr>
                <a:t>      </a:t>
              </a:r>
              <a:r>
                <a:rPr b="1" lang="zh-TW" sz="2000" spc="-1" strike="noStrike">
                  <a:solidFill>
                    <a:srgbClr val="ffff00"/>
                  </a:solidFill>
                  <a:latin typeface="新細明體"/>
                </a:rPr>
                <a:t>（增建匝道接彰濱台中線）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81,60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57,266   0.7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C  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TW" sz="2000" spc="-1" strike="noStrike">
                  <a:solidFill>
                    <a:srgbClr val="ffff00"/>
                  </a:solidFill>
                  <a:latin typeface="Times New Roman"/>
                </a:rPr>
                <a:t>加上建議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2.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大雅至台中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IC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間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        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96,000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	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63,667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	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  0.66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	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3.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台中至王田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IC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全真中圓體"/>
                  <a:ea typeface="全真中圓體"/>
                </a:rPr>
                <a:t>間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         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96,600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	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61,982   0.65 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新細明體"/>
                </a:rPr>
                <a:t>	</a:t>
              </a:r>
              <a:r>
                <a:rPr b="1" lang="zh-TW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4. </a:t>
              </a:r>
              <a:r>
                <a:rPr b="1" lang="zh-TW" sz="2400" spc="-1" strike="noStrike">
                  <a:solidFill>
                    <a:srgbClr val="ffff00"/>
                  </a:solidFill>
                  <a:latin typeface="全真中圓體"/>
                  <a:ea typeface="全真中圓體"/>
                </a:rPr>
                <a:t>王田交流道以南 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       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72,40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57,940   0.80 </a:t>
              </a:r>
              <a:r>
                <a:rPr b="1" lang="zh-TW" sz="2400" spc="-1" strike="noStrike">
                  <a:solidFill>
                    <a:srgbClr val="ffff00"/>
                  </a:solidFill>
                  <a:latin typeface="新細明體"/>
                </a:rPr>
                <a:t>	</a:t>
              </a:r>
              <a:r>
                <a:rPr b="1" lang="zh-TW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1400" y="1447920"/>
              <a:ext cx="8512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400" y="2121840"/>
              <a:ext cx="851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1400" y="2721240"/>
              <a:ext cx="851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1280" y="5866560"/>
              <a:ext cx="8512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044800" y="838080"/>
            <a:ext cx="5136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一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全真中圓體"/>
              </a:rPr>
              <a:t>、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未來</a:t>
            </a:r>
            <a:r>
              <a:rPr b="1" i="1" lang="zh-TW" sz="2400" spc="-1" strike="noStrike">
                <a:solidFill>
                  <a:srgbClr val="ffff00"/>
                </a:solidFill>
                <a:latin typeface="新細明體"/>
              </a:rPr>
              <a:t>（除生活圈四號線外均完成）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南北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路廊服務水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8160" y="-152280"/>
            <a:ext cx="41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肆、綜合評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7640" y="6257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066680"/>
            <a:ext cx="777240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二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全真中圓體"/>
              </a:rPr>
              <a:t>、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結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短期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90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前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因應特殊假期旅運需求，仍需採用強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之運輸需求管理措施因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2. 90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底後西濱快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全真中圓體"/>
              </a:rPr>
              <a:t>、台中快官段、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二高主線及環線完成公路南北屏柵線容量可增加至每小時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4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,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400 pcu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（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2.7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倍），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本區域公路服務水準良好可達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C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級以上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.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長期而言（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96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底後）本地區整體高快速公路網相當完整，若順利按計畫構建，南北公路屏柵線容量可增加近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.5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倍，依旅次成長預測供需分析，可提供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D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級以上服務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水準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至民國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04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4724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肆、綜合評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3960" y="6338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2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23200" y="-290520"/>
            <a:ext cx="41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伍、預期效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22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990720"/>
            <a:ext cx="810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、短期（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8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春節）路網完成後，南北向屏柵線容量將由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1,200 pcu/hr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提升至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45,600 pcu/hr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可疏解部份車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、中長期路網完成後，南北向屏柵線上容量將提升至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112,000 pcu/hr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，可徹底疏解大台中地區公路交通問題。中港路、中清路等尖峰旅行速率將由原先之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0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提升至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35 KPH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以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台中生活圈快速道路系統構建後，可有效區隔穿越性與地區性旅次，提高整體路網服務效率。再搭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配整體公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路網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，可達成一日交通生活圈之目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1112760"/>
            <a:ext cx="8077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配合春節疏運計畫發揮服務功能，建議各主辦機關按時完成西濱快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WH38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及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9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標、中山高豐原台中、王田彰化及員林段、彰濱台中線台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至台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4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高架段等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已有計畫但缺經費辦理者，建請 鈞部協助向行政院爭取經費補助辦理，以達整體路網服務功能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--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建議台中生活圈二、三號路部分路段優先辦理，四號線中投公路以北部份因與台中環線豐原霧峰段（五號線）具替代功能，經分析可俟五號線完成提供服務後再研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61440" y="0"/>
            <a:ext cx="16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陸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建議事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292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23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676520"/>
            <a:ext cx="754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尚未有計畫但有必要辦理者，建議主辦機關儘速辦理相關可行性及規劃工作報核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--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山高豐原交流道以南新闢高架道路及匝道接彰濱台中線起點案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4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計畫案涉重要工程整合與機關間協調者，建議主辦機關主動積極辦理，以達既定功能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包括彰濱連絡道路線、生活圈二號線與五號線交流道區位選定、二高烏日交流道二號線連絡道時程配合及替代道路研擬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7400" y="0"/>
            <a:ext cx="16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陸、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建議事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6600" y="6338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24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59760" y="2440080"/>
            <a:ext cx="1827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5400" spc="-1" strike="noStrike">
                <a:solidFill>
                  <a:srgbClr val="00ff00"/>
                </a:solidFill>
                <a:latin typeface="細明體"/>
                <a:ea typeface="標楷體"/>
              </a:rPr>
              <a:t>簡報完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5400" spc="-1" strike="noStrike">
                <a:solidFill>
                  <a:srgbClr val="00ff00"/>
                </a:solidFill>
                <a:latin typeface="細明體"/>
                <a:ea typeface="標楷體"/>
              </a:rPr>
              <a:t>恭請</a:t>
            </a:r>
            <a:r>
              <a:rPr b="1" lang="zh-TW" sz="5400" spc="-1" strike="noStrike">
                <a:solidFill>
                  <a:srgbClr val="00ff00"/>
                </a:solidFill>
                <a:latin typeface="標楷體"/>
                <a:ea typeface="標楷體"/>
              </a:rPr>
              <a:t>裁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61520" y="-460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壹、前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2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68960" y="2286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計畫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1160" y="838080"/>
            <a:ext cx="676404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行政院  蕭院長八十七年六月中巡訪大台中地區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體認大台中地區交通問題嚴重，指示必須整體考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行政院張秘書長乃於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7.7.15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日以台八十七秘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35556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號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略以「大台中地區交通路網，請本院經建會及交通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整體規劃」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.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鈞部於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7.7.22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日以交路八十七第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035598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號函本所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略以「院長八十七年六月三十日巡訪台中地區提示事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分辦…其中大台中地區交通路網整體規劃乙項請代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部稿洽經建會及相關單位意見後彙整報部憑辦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3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615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壹、前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041480"/>
            <a:ext cx="71629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  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據此，本所乃於研擬完成「大台中地區交通路網整體規劃」初稿後，於 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7.8.12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日函請高公局、國工局、省公路局、省住都處、台中縣政府、台中市政府等機關針對其主管部分進行意見交換。再於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7.10.14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日由本所召開研商會議，嗣經本所參考會議結論再加綜合分析，獲致本研究成果。研究報告書並以於 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7.11.25</a:t>
            </a:r>
            <a:r>
              <a:rPr b="1" lang="zh-TW" sz="26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函報 鈞部鑑核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8960" y="10620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辦理經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4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615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壹、前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4520" y="5400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研究範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615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壹、前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4520" y="22860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四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分析重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2080" y="1066680"/>
            <a:ext cx="636192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大台中地區交通問題之成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.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檢討既定計畫中，短期立即可提供改善部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尤其因應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88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年初</a:t>
            </a:r>
            <a:r>
              <a:rPr b="1" lang="zh-TW" sz="2800" spc="-1" strike="noStrike">
                <a:solidFill>
                  <a:srgbClr val="ff0000"/>
                </a:solidFill>
                <a:latin typeface="全真中圓體"/>
                <a:ea typeface="全真中圓體"/>
              </a:rPr>
              <a:t>春節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龐大車流之短期疏解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3.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檢討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長期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既有及計畫中之路網規劃，檢視可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   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全真中圓體"/>
              </a:rPr>
              <a:t>滿足未來年期的旅運需求；研究如何提昇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中長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如何提昇大台中地區公路運輸服務品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6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09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貳、現況檢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19040" y="838080"/>
            <a:ext cx="466128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1.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大台中地區交通問題之成因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南北長途過境交通加上大都會區通勤旅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V.S. </a:t>
            </a:r>
            <a:r>
              <a:rPr b="1" lang="zh-TW" sz="28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不夠健全之現況路網結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一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在南北方向之交通瓶頸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１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中山高豐原至彰化路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２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台三線豐原至台中、台中至霧峰路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３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台一線烏日至彰化路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４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台一乙線台中至烏日路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1295280"/>
            <a:ext cx="8384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7708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7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709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貳、現況檢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028880"/>
            <a:ext cx="75754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二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東西方向之交通瓶頸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１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以台中市區東西向主要幹道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２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上述各幹道民國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86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年上午尖峰小時之旅行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率大多維持在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20  KPH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左右，其服務水準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   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在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E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級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三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)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在中山高速公路拓寬工程（台中王田段、南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76280" indent="-95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王田交流道）、第二高速公路、東西向快速公路彰濱台中線等新闢工程未完全完工前，短期只能部分通車，難以整體有效解決交通問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76280" indent="-95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116960" y="6338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 8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09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貳、現況檢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33000" y="1600200"/>
            <a:ext cx="533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四</a:t>
            </a:r>
            <a:r>
              <a:rPr b="1" lang="zh-TW" sz="2400" spc="-1" strike="noStrike">
                <a:solidFill>
                  <a:srgbClr val="ffffff"/>
                </a:solidFill>
                <a:latin typeface="全真中圓體"/>
                <a:ea typeface="全真中圓體"/>
              </a:rPr>
              <a:t>)</a:t>
            </a: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大台中地區外環道路系統，生活圈快速道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部分路段雖已施工，但尚有大部分路段尚待籌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中圓體"/>
                <a:ea typeface="全真中圓體"/>
              </a:rPr>
              <a:t>經費完成， 短期無法提供完整服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9T00:41:58Z</dcterms:created>
  <dc:creator>運計組</dc:creator>
  <dc:description/>
  <dc:language>en-US</dc:language>
  <cp:lastModifiedBy>交通部運輸研究所</cp:lastModifiedBy>
  <cp:lastPrinted>1999-01-26T10:58:51Z</cp:lastPrinted>
  <dcterms:modified xsi:type="dcterms:W3CDTF">1999-01-26T11:00:32Z</dcterms:modified>
  <cp:revision>132</cp:revision>
  <dc:subject/>
  <dc:title>無投影片標題</dc:title>
</cp:coreProperties>
</file>