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docx" ContentType="application/vnd.openxmlformats-officedocument.wordprocessingml.document"/>
  <Override PartName="/ppt/media/image25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1.wmf" ContentType="image/x-wmf"/>
  <Override PartName="/ppt/media/image32.wmf" ContentType="image/x-wmf"/>
  <Override PartName="/ppt/media/image12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7.wmf" ContentType="image/x-wmf"/>
  <Override PartName="/ppt/media/image37.wmf" ContentType="image/x-wmf"/>
  <Override PartName="/ppt/media/image40.png" ContentType="image/png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8.png" ContentType="image/png"/>
  <Override PartName="/ppt/media/image39.jpeg" ContentType="image/jpeg"/>
  <Override PartName="/ppt/media/image4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BF38-9CD4-4E39-A97D-8DB107A35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71AA-D2E0-4C28-8E16-BD6900DA6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3ACB-7DBC-4F9C-A110-F14BF35B7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7A7C-7FC6-4F9A-9C33-F90A2C40B6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9963-85BA-48BB-AF2F-34D52F11FE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6DFD-E3BD-4F99-ABB9-C031CEC34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95D9-5B9E-49BF-855B-3143D8253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ED15-ADA1-4004-832B-7DAE11BD5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AAD0-58AA-461B-ACCB-97E7DCC5B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AAA9-AFE7-4F9E-AB7F-864ED6861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4E6E-422C-454D-9B38-904C4D717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42B7-CE53-4092-806D-1BA1FF11B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04800" y="6345360"/>
            <a:ext cx="7386840" cy="1440"/>
          </a:xfrm>
          <a:custGeom>
            <a:avLst/>
            <a:gdLst/>
            <a:ahLst/>
            <a:rect l="l" t="t" r="r" b="b"/>
            <a:pathLst>
              <a:path w="5041" h="1">
                <a:moveTo>
                  <a:pt x="0" y="0"/>
                </a:moveTo>
                <a:lnTo>
                  <a:pt x="504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37960" y="979560"/>
            <a:ext cx="8696520" cy="1440"/>
          </a:xfrm>
          <a:custGeom>
            <a:avLst/>
            <a:gdLst/>
            <a:ahLst/>
            <a:rect l="l" t="t" r="r" b="b"/>
            <a:pathLst>
              <a:path w="5934" h="1">
                <a:moveTo>
                  <a:pt x="0" y="0"/>
                </a:moveTo>
                <a:lnTo>
                  <a:pt x="593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22200" y="5711760"/>
            <a:ext cx="1108080" cy="831960"/>
            <a:chOff x="322200" y="5711760"/>
            <a:chExt cx="1108080" cy="831960"/>
          </a:xfrm>
        </p:grpSpPr>
        <p:graphicFrame>
          <p:nvGraphicFramePr>
            <p:cNvPr id="3" name=""/>
            <p:cNvGraphicFramePr/>
            <p:nvPr/>
          </p:nvGraphicFramePr>
          <p:xfrm>
            <a:off x="322200" y="5805360"/>
            <a:ext cx="1108080" cy="738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2200" y="5805360"/>
                      <a:ext cx="1108080" cy="73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" name=""/>
            <p:cNvGrpSpPr/>
            <p:nvPr/>
          </p:nvGrpSpPr>
          <p:grpSpPr>
            <a:xfrm>
              <a:off x="600480" y="5711760"/>
              <a:ext cx="564120" cy="533520"/>
              <a:chOff x="600480" y="5711760"/>
              <a:chExt cx="564120" cy="533520"/>
            </a:xfrm>
          </p:grpSpPr>
          <p:sp>
            <p:nvSpPr>
              <p:cNvPr id="6" name=""/>
              <p:cNvSpPr/>
              <p:nvPr/>
            </p:nvSpPr>
            <p:spPr>
              <a:xfrm>
                <a:off x="600480" y="5824440"/>
                <a:ext cx="197640" cy="309600"/>
              </a:xfrm>
              <a:custGeom>
                <a:avLst/>
                <a:gdLst/>
                <a:ahLst/>
                <a:rect l="l" t="t" r="r" b="b"/>
                <a:pathLst>
                  <a:path w="135" h="195">
                    <a:moveTo>
                      <a:pt x="108" y="63"/>
                    </a:moveTo>
                    <a:lnTo>
                      <a:pt x="134" y="63"/>
                    </a:lnTo>
                    <a:lnTo>
                      <a:pt x="134" y="0"/>
                    </a:lnTo>
                    <a:lnTo>
                      <a:pt x="107" y="0"/>
                    </a:lnTo>
                    <a:lnTo>
                      <a:pt x="96" y="0"/>
                    </a:lnTo>
                    <a:lnTo>
                      <a:pt x="86" y="2"/>
                    </a:lnTo>
                    <a:lnTo>
                      <a:pt x="75" y="4"/>
                    </a:lnTo>
                    <a:lnTo>
                      <a:pt x="66" y="7"/>
                    </a:lnTo>
                    <a:lnTo>
                      <a:pt x="56" y="11"/>
                    </a:lnTo>
                    <a:lnTo>
                      <a:pt x="47" y="16"/>
                    </a:lnTo>
                    <a:lnTo>
                      <a:pt x="39" y="22"/>
                    </a:lnTo>
                    <a:lnTo>
                      <a:pt x="32" y="28"/>
                    </a:lnTo>
                    <a:lnTo>
                      <a:pt x="25" y="35"/>
                    </a:lnTo>
                    <a:lnTo>
                      <a:pt x="19" y="43"/>
                    </a:lnTo>
                    <a:lnTo>
                      <a:pt x="13" y="51"/>
                    </a:lnTo>
                    <a:lnTo>
                      <a:pt x="9" y="59"/>
                    </a:lnTo>
                    <a:lnTo>
                      <a:pt x="4" y="68"/>
                    </a:lnTo>
                    <a:lnTo>
                      <a:pt x="3" y="77"/>
                    </a:lnTo>
                    <a:lnTo>
                      <a:pt x="1" y="87"/>
                    </a:lnTo>
                    <a:lnTo>
                      <a:pt x="0" y="97"/>
                    </a:lnTo>
                    <a:lnTo>
                      <a:pt x="1" y="107"/>
                    </a:lnTo>
                    <a:lnTo>
                      <a:pt x="3" y="117"/>
                    </a:lnTo>
                    <a:lnTo>
                      <a:pt x="4" y="126"/>
                    </a:lnTo>
                    <a:lnTo>
                      <a:pt x="9" y="134"/>
                    </a:lnTo>
                    <a:lnTo>
                      <a:pt x="13" y="143"/>
                    </a:lnTo>
                    <a:lnTo>
                      <a:pt x="19" y="151"/>
                    </a:lnTo>
                    <a:lnTo>
                      <a:pt x="25" y="159"/>
                    </a:lnTo>
                    <a:lnTo>
                      <a:pt x="32" y="165"/>
                    </a:lnTo>
                    <a:lnTo>
                      <a:pt x="39" y="171"/>
                    </a:lnTo>
                    <a:lnTo>
                      <a:pt x="47" y="177"/>
                    </a:lnTo>
                    <a:lnTo>
                      <a:pt x="56" y="182"/>
                    </a:lnTo>
                    <a:lnTo>
                      <a:pt x="66" y="186"/>
                    </a:lnTo>
                    <a:lnTo>
                      <a:pt x="75" y="190"/>
                    </a:lnTo>
                    <a:lnTo>
                      <a:pt x="86" y="192"/>
                    </a:lnTo>
                    <a:lnTo>
                      <a:pt x="96" y="193"/>
                    </a:lnTo>
                    <a:lnTo>
                      <a:pt x="107" y="194"/>
                    </a:lnTo>
                    <a:lnTo>
                      <a:pt x="134" y="194"/>
                    </a:lnTo>
                    <a:lnTo>
                      <a:pt x="134" y="130"/>
                    </a:lnTo>
                    <a:lnTo>
                      <a:pt x="107" y="130"/>
                    </a:lnTo>
                    <a:lnTo>
                      <a:pt x="100" y="130"/>
                    </a:lnTo>
                    <a:lnTo>
                      <a:pt x="93" y="127"/>
                    </a:lnTo>
                    <a:lnTo>
                      <a:pt x="87" y="124"/>
                    </a:lnTo>
                    <a:lnTo>
                      <a:pt x="82" y="120"/>
                    </a:lnTo>
                    <a:lnTo>
                      <a:pt x="77" y="115"/>
                    </a:lnTo>
                    <a:lnTo>
                      <a:pt x="74" y="109"/>
                    </a:lnTo>
                    <a:lnTo>
                      <a:pt x="71" y="104"/>
                    </a:lnTo>
                    <a:lnTo>
                      <a:pt x="71" y="97"/>
                    </a:lnTo>
                    <a:lnTo>
                      <a:pt x="71" y="90"/>
                    </a:lnTo>
                    <a:lnTo>
                      <a:pt x="74" y="84"/>
                    </a:lnTo>
                    <a:lnTo>
                      <a:pt x="77" y="78"/>
                    </a:lnTo>
                    <a:lnTo>
                      <a:pt x="82" y="73"/>
                    </a:lnTo>
                    <a:lnTo>
                      <a:pt x="87" y="69"/>
                    </a:lnTo>
                    <a:lnTo>
                      <a:pt x="93" y="66"/>
                    </a:lnTo>
                    <a:lnTo>
                      <a:pt x="100" y="64"/>
                    </a:lnTo>
                    <a:lnTo>
                      <a:pt x="107" y="64"/>
                    </a:lnTo>
                  </a:path>
                </a:pathLst>
              </a:custGeom>
              <a:gradFill rotWithShape="0">
                <a:gsLst>
                  <a:gs pos="0">
                    <a:srgbClr val="00279f"/>
                  </a:gs>
                  <a:gs pos="100000">
                    <a:srgbClr val="7e92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0080" y="5711760"/>
                <a:ext cx="344520" cy="533520"/>
              </a:xfrm>
              <a:custGeom>
                <a:avLst/>
                <a:gdLst/>
                <a:ahLst/>
                <a:rect l="l" t="t" r="r" b="b"/>
                <a:pathLst>
                  <a:path w="235" h="336">
                    <a:moveTo>
                      <a:pt x="93" y="335"/>
                    </a:moveTo>
                    <a:lnTo>
                      <a:pt x="93" y="274"/>
                    </a:lnTo>
                    <a:lnTo>
                      <a:pt x="46" y="274"/>
                    </a:lnTo>
                    <a:lnTo>
                      <a:pt x="46" y="265"/>
                    </a:lnTo>
                    <a:lnTo>
                      <a:pt x="128" y="265"/>
                    </a:lnTo>
                    <a:lnTo>
                      <a:pt x="140" y="264"/>
                    </a:lnTo>
                    <a:lnTo>
                      <a:pt x="149" y="263"/>
                    </a:lnTo>
                    <a:lnTo>
                      <a:pt x="159" y="261"/>
                    </a:lnTo>
                    <a:lnTo>
                      <a:pt x="169" y="258"/>
                    </a:lnTo>
                    <a:lnTo>
                      <a:pt x="177" y="254"/>
                    </a:lnTo>
                    <a:lnTo>
                      <a:pt x="186" y="250"/>
                    </a:lnTo>
                    <a:lnTo>
                      <a:pt x="194" y="244"/>
                    </a:lnTo>
                    <a:lnTo>
                      <a:pt x="202" y="238"/>
                    </a:lnTo>
                    <a:lnTo>
                      <a:pt x="209" y="231"/>
                    </a:lnTo>
                    <a:lnTo>
                      <a:pt x="214" y="225"/>
                    </a:lnTo>
                    <a:lnTo>
                      <a:pt x="219" y="217"/>
                    </a:lnTo>
                    <a:lnTo>
                      <a:pt x="224" y="209"/>
                    </a:lnTo>
                    <a:lnTo>
                      <a:pt x="228" y="200"/>
                    </a:lnTo>
                    <a:lnTo>
                      <a:pt x="231" y="191"/>
                    </a:lnTo>
                    <a:lnTo>
                      <a:pt x="233" y="182"/>
                    </a:lnTo>
                    <a:lnTo>
                      <a:pt x="234" y="172"/>
                    </a:lnTo>
                    <a:lnTo>
                      <a:pt x="165" y="172"/>
                    </a:lnTo>
                    <a:lnTo>
                      <a:pt x="163" y="178"/>
                    </a:lnTo>
                    <a:lnTo>
                      <a:pt x="161" y="184"/>
                    </a:lnTo>
                    <a:lnTo>
                      <a:pt x="157" y="188"/>
                    </a:lnTo>
                    <a:lnTo>
                      <a:pt x="153" y="192"/>
                    </a:lnTo>
                    <a:lnTo>
                      <a:pt x="148" y="196"/>
                    </a:lnTo>
                    <a:lnTo>
                      <a:pt x="141" y="199"/>
                    </a:lnTo>
                    <a:lnTo>
                      <a:pt x="135" y="201"/>
                    </a:lnTo>
                    <a:lnTo>
                      <a:pt x="128" y="201"/>
                    </a:lnTo>
                    <a:lnTo>
                      <a:pt x="93" y="201"/>
                    </a:lnTo>
                    <a:lnTo>
                      <a:pt x="93" y="134"/>
                    </a:lnTo>
                    <a:lnTo>
                      <a:pt x="128" y="134"/>
                    </a:lnTo>
                    <a:lnTo>
                      <a:pt x="135" y="135"/>
                    </a:lnTo>
                    <a:lnTo>
                      <a:pt x="141" y="137"/>
                    </a:lnTo>
                    <a:lnTo>
                      <a:pt x="148" y="139"/>
                    </a:lnTo>
                    <a:lnTo>
                      <a:pt x="153" y="143"/>
                    </a:lnTo>
                    <a:lnTo>
                      <a:pt x="157" y="147"/>
                    </a:lnTo>
                    <a:lnTo>
                      <a:pt x="161" y="151"/>
                    </a:lnTo>
                    <a:lnTo>
                      <a:pt x="163" y="157"/>
                    </a:lnTo>
                    <a:lnTo>
                      <a:pt x="165" y="163"/>
                    </a:lnTo>
                    <a:lnTo>
                      <a:pt x="234" y="163"/>
                    </a:lnTo>
                    <a:lnTo>
                      <a:pt x="233" y="154"/>
                    </a:lnTo>
                    <a:lnTo>
                      <a:pt x="231" y="144"/>
                    </a:lnTo>
                    <a:lnTo>
                      <a:pt x="228" y="135"/>
                    </a:lnTo>
                    <a:lnTo>
                      <a:pt x="224" y="126"/>
                    </a:lnTo>
                    <a:lnTo>
                      <a:pt x="219" y="118"/>
                    </a:lnTo>
                    <a:lnTo>
                      <a:pt x="214" y="111"/>
                    </a:lnTo>
                    <a:lnTo>
                      <a:pt x="209" y="104"/>
                    </a:lnTo>
                    <a:lnTo>
                      <a:pt x="202" y="97"/>
                    </a:lnTo>
                    <a:lnTo>
                      <a:pt x="194" y="92"/>
                    </a:lnTo>
                    <a:lnTo>
                      <a:pt x="186" y="86"/>
                    </a:lnTo>
                    <a:lnTo>
                      <a:pt x="177" y="81"/>
                    </a:lnTo>
                    <a:lnTo>
                      <a:pt x="169" y="77"/>
                    </a:lnTo>
                    <a:lnTo>
                      <a:pt x="159" y="75"/>
                    </a:lnTo>
                    <a:lnTo>
                      <a:pt x="149" y="72"/>
                    </a:lnTo>
                    <a:lnTo>
                      <a:pt x="140" y="71"/>
                    </a:lnTo>
                    <a:lnTo>
                      <a:pt x="128" y="71"/>
                    </a:lnTo>
                    <a:lnTo>
                      <a:pt x="46" y="71"/>
                    </a:lnTo>
                    <a:lnTo>
                      <a:pt x="46" y="61"/>
                    </a:lnTo>
                    <a:lnTo>
                      <a:pt x="93" y="61"/>
                    </a:lnTo>
                    <a:lnTo>
                      <a:pt x="93" y="0"/>
                    </a:lnTo>
                    <a:lnTo>
                      <a:pt x="0" y="0"/>
                    </a:lnTo>
                    <a:lnTo>
                      <a:pt x="0" y="168"/>
                    </a:lnTo>
                    <a:lnTo>
                      <a:pt x="0" y="335"/>
                    </a:lnTo>
                    <a:lnTo>
                      <a:pt x="93" y="335"/>
                    </a:lnTo>
                  </a:path>
                </a:pathLst>
              </a:custGeom>
              <a:gradFill rotWithShape="0">
                <a:gsLst>
                  <a:gs pos="0">
                    <a:srgbClr val="00279f"/>
                  </a:gs>
                  <a:gs pos="100000">
                    <a:srgbClr val="7e92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sldNum" idx="1"/>
          </p:nvPr>
        </p:nvSpPr>
        <p:spPr>
          <a:xfrm>
            <a:off x="704376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66"/>
                </a:solidFill>
                <a:latin typeface="標楷體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C6BE-7427-45CB-AAF2-5DB0F5ED3CC1}" type="slidenum">
              <a:rPr b="0" lang="en-US" sz="1400" spc="-1" strike="noStrike">
                <a:solidFill>
                  <a:srgbClr val="cc0066"/>
                </a:solidFill>
                <a:latin typeface="標楷體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pec.cl/)" TargetMode="External"/><Relationship Id="rId2" Type="http://schemas.openxmlformats.org/officeDocument/2006/relationships/hyperlink" Target="http://www.apec.cl/)" TargetMode="External"/><Relationship Id="rId3" Type="http://schemas.openxmlformats.org/officeDocument/2006/relationships/hyperlink" Target="http://www.apec.cl/)" TargetMode="External"/><Relationship Id="rId4" Type="http://schemas.openxmlformats.org/officeDocument/2006/relationships/hyperlink" Target="http://www.apec.cl/)" TargetMode="External"/><Relationship Id="rId5" Type="http://schemas.openxmlformats.org/officeDocument/2006/relationships/hyperlink" Target="http://www.apec.cl/)" TargetMode="External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47600" y="3715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交通部運輸研究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35720" y="1587600"/>
            <a:ext cx="40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國</a:t>
            </a:r>
            <a:r>
              <a:rPr b="0" lang="zh-TW" sz="10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 </a:t>
            </a:r>
            <a:r>
              <a:rPr b="0" lang="zh-TW" sz="36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際</a:t>
            </a:r>
            <a:r>
              <a:rPr b="0" lang="zh-TW" sz="10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 </a:t>
            </a:r>
            <a:r>
              <a:rPr b="0" lang="zh-TW" sz="36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港</a:t>
            </a:r>
            <a:r>
              <a:rPr b="0" lang="zh-TW" sz="10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 </a:t>
            </a:r>
            <a:r>
              <a:rPr b="0" lang="zh-TW" sz="36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裝</a:t>
            </a:r>
            <a:r>
              <a:rPr b="0" lang="zh-TW" sz="10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 </a:t>
            </a:r>
            <a:r>
              <a:rPr b="0" lang="zh-TW" sz="36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卸</a:t>
            </a:r>
            <a:r>
              <a:rPr b="0" lang="zh-TW" sz="10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 </a:t>
            </a:r>
            <a:r>
              <a:rPr b="0" lang="zh-TW" sz="36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機</a:t>
            </a:r>
            <a:r>
              <a:rPr b="0" lang="zh-TW" sz="10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 </a:t>
            </a:r>
            <a:r>
              <a:rPr b="0" lang="zh-TW" sz="36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具</a:t>
            </a:r>
            <a:r>
              <a:rPr b="0" lang="zh-TW" sz="10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 </a:t>
            </a:r>
            <a:r>
              <a:rPr b="0" lang="zh-TW" sz="36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調</a:t>
            </a:r>
            <a:r>
              <a:rPr b="0" lang="zh-TW" sz="10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 </a:t>
            </a:r>
            <a:r>
              <a:rPr b="0" lang="zh-TW" sz="36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查</a:t>
            </a:r>
            <a:r>
              <a:rPr b="0" lang="zh-TW" sz="10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 </a:t>
            </a:r>
            <a:r>
              <a:rPr b="0" lang="zh-TW" sz="36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研</a:t>
            </a:r>
            <a:r>
              <a:rPr b="0" lang="zh-TW" sz="10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 </a:t>
            </a:r>
            <a:r>
              <a:rPr b="0" lang="zh-TW" sz="36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究</a:t>
            </a:r>
            <a:r>
              <a:rPr b="0" lang="zh-TW" sz="1000" spc="-1" strike="noStrike">
                <a:solidFill>
                  <a:srgbClr val="000066"/>
                </a:solidFill>
                <a:latin typeface="華康儷粗黑"/>
                <a:ea typeface="華康儷粗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920" y="409680"/>
            <a:ext cx="533160" cy="52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 rot="10800000">
          <a:off x="1547640" y="6019920"/>
          <a:ext cx="2533680" cy="26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1547640" y="6019920"/>
                    <a:ext cx="253368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947040" y="63198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中華民國八十八年六月二十四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2720" y="320364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5400" spc="-1" strike="noStrike">
                <a:solidFill>
                  <a:srgbClr val="cc0066"/>
                </a:solidFill>
                <a:latin typeface="華康儷粗黑"/>
                <a:ea typeface="華康儷粗黑"/>
              </a:rPr>
              <a:t>期 末 簡 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DDB2-1CE1-4738-A87B-C357FC208BB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74840" y="406440"/>
            <a:ext cx="22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3200" spc="-1" strike="noStrike">
                <a:solidFill>
                  <a:srgbClr val="ff3399"/>
                </a:solidFill>
                <a:latin typeface="華康儷粗黑"/>
                <a:ea typeface="華康儷粗黑"/>
              </a:rPr>
              <a:t>2.3 </a:t>
            </a:r>
            <a:r>
              <a:rPr b="1" lang="zh-TW" sz="3200" spc="-1" strike="noStrike">
                <a:solidFill>
                  <a:srgbClr val="ff3399"/>
                </a:solidFill>
                <a:latin typeface="華康儷粗黑"/>
                <a:ea typeface="華康儷粗黑"/>
              </a:rPr>
              <a:t>高雄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39680" y="3676680"/>
          <a:ext cx="3718080" cy="225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3676680"/>
                    <a:ext cx="3718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935600" y="3666960"/>
          <a:ext cx="3717720" cy="2256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5600" y="3666960"/>
                    <a:ext cx="3717720" cy="22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943360" y="1120680"/>
          <a:ext cx="3703680" cy="2241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43360" y="1120680"/>
                    <a:ext cx="370368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071800" y="377496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物吞吐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70720" y="377496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物裝卸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68760" y="305928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46680" y="120960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進出港船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51040" y="5607000"/>
            <a:ext cx="59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51800" y="5640480"/>
            <a:ext cx="59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5F0C-8C51-4A87-8A59-2777723D8C78}" type="slidenum">
              <a:t>10</a:t>
            </a:fld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74840" y="406440"/>
            <a:ext cx="22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3200" spc="-1" strike="noStrike">
                <a:solidFill>
                  <a:srgbClr val="ff3399"/>
                </a:solidFill>
                <a:latin typeface="華康儷粗黑"/>
                <a:ea typeface="華康儷粗黑"/>
              </a:rPr>
              <a:t>2.4 </a:t>
            </a:r>
            <a:r>
              <a:rPr b="1" lang="zh-TW" sz="3200" spc="-1" strike="noStrike">
                <a:solidFill>
                  <a:srgbClr val="ff3399"/>
                </a:solidFill>
                <a:latin typeface="華康儷粗黑"/>
                <a:ea typeface="華康儷粗黑"/>
              </a:rPr>
              <a:t>花蓮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41480" y="3733920"/>
          <a:ext cx="3713040" cy="22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3733920"/>
                    <a:ext cx="3713040" cy="22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052960" y="3719520"/>
          <a:ext cx="3714840" cy="2254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52960" y="3719520"/>
                    <a:ext cx="371484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879640" y="1190520"/>
          <a:ext cx="3702240" cy="2241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79640" y="1190520"/>
                    <a:ext cx="370224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2097000" y="3835440"/>
            <a:ext cx="17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物吞吐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54760" y="383364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物裝卸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5080" y="3098880"/>
            <a:ext cx="59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8520" y="124920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進出港船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4640" y="5645160"/>
            <a:ext cx="59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80240" y="5705640"/>
            <a:ext cx="59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AE3C-10AE-44E1-B7F8-25D0A7FCECCF}" type="slidenum">
              <a:t>11</a:t>
            </a:fld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50880" y="157320"/>
            <a:ext cx="1828800" cy="1104840"/>
          </a:xfrm>
          <a:prstGeom prst="irregularSeal2">
            <a:avLst/>
          </a:prstGeom>
          <a:gradFill rotWithShape="0">
            <a:gsLst>
              <a:gs pos="0">
                <a:srgbClr val="ff6600"/>
              </a:gs>
              <a:gs pos="50000">
                <a:srgbClr val="000000"/>
              </a:gs>
              <a:gs pos="100000">
                <a:srgbClr val="ff66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14360" y="3366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儷粗黑"/>
                <a:ea typeface="華康儷粗黑"/>
              </a:rPr>
              <a:t>參、裝卸機具基本資料蒐集與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171440"/>
            <a:ext cx="777240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69960"/>
                <a:tab algn="l" pos="1235160"/>
                <a:tab algn="l" pos="19051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3.1 </a:t>
            </a: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資料蒐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69960"/>
                <a:tab algn="l" pos="1235160"/>
                <a:tab algn="l" pos="19051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種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669960"/>
                <a:tab algn="l" pos="1235160"/>
                <a:tab algn="l" pos="19051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機具基本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669960"/>
                <a:tab algn="l" pos="1235160"/>
                <a:tab algn="l" pos="19051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實際作業狀況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69960"/>
                <a:tab algn="l" pos="1235160"/>
                <a:tab algn="l" pos="19051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面臨之問題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14000" y="3875040"/>
            <a:ext cx="35031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隆港、花蓮港、蘇澳港－業者承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雄港、台中港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機具硬體資料－非機密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機具作業資料－機密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FCA5-427D-4051-BA68-4C1220C7780E}" type="slidenum">
              <a:t>12</a:t>
            </a:fld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1171440"/>
            <a:ext cx="32925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3.2 </a:t>
            </a: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機具基本資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華康新儷粗黑"/>
                <a:ea typeface="華康新儷粗黑"/>
              </a:rPr>
              <a:t>	</a:t>
            </a:r>
            <a:r>
              <a:rPr b="1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調查種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60480" y="227952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貨櫃裝卸機具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47280" y="4114800"/>
            <a:ext cx="8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一般裝卸機具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19360" y="27496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貨櫃起重機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貨櫃牽引機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大拖車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貨櫃門式機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貨櫃車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貨櫃跨載機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貨櫃堆積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35200" y="4535640"/>
            <a:ext cx="689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7184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卡車式起重機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拖車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卸煤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184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堆高機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抓斗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原木裝卸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184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鏟裝機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漏斗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吸穀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184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輸送機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堆煤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5DC0-5F7F-4E3F-9BF1-98EE5D6E22E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1171440"/>
            <a:ext cx="42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華康新儷粗黑"/>
                <a:ea typeface="華康新儷粗黑"/>
              </a:rPr>
              <a:t>	</a:t>
            </a:r>
            <a:r>
              <a:rPr b="1" lang="zh-TW" sz="3200" spc="-1" strike="noStrike">
                <a:solidFill>
                  <a:srgbClr val="009900"/>
                </a:solidFill>
                <a:latin typeface="華康新儷粗黑"/>
                <a:ea typeface="標楷體"/>
              </a:rPr>
              <a:t>基本資料</a:t>
            </a:r>
            <a:r>
              <a:rPr b="1" lang="zh-TW" sz="3200" spc="-1" strike="noStrike">
                <a:solidFill>
                  <a:srgbClr val="009900"/>
                </a:solidFill>
                <a:latin typeface="標楷體"/>
                <a:ea typeface="標楷體"/>
              </a:rPr>
              <a:t>調查項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04960" y="1852560"/>
            <a:ext cx="63500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94040" indent="-1994040">
              <a:lnSpc>
                <a:spcPct val="12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機具廠牌、型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94040" indent="-1994040">
              <a:lnSpc>
                <a:spcPct val="12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94040" indent="-1994040">
              <a:lnSpc>
                <a:spcPct val="12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能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T,T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94040" indent="-1994040">
              <a:lnSpc>
                <a:spcPct val="12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購置日期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用齡期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94040" indent="-1994040">
              <a:lnSpc>
                <a:spcPct val="12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壽年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民營業者多不採用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94040" indent="-1994040">
              <a:lnSpc>
                <a:spcPct val="12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本尺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7DBB-1AC7-4A30-8687-B7512E3E3118}" type="slidenum">
              <a:t>14</a:t>
            </a:fld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473040"/>
            <a:ext cx="4579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3.3 </a:t>
            </a: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現有機具種類及數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89120" y="1143000"/>
          <a:ext cx="782928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9120" y="1143000"/>
                    <a:ext cx="78292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52A9-02FC-4765-B349-8FB354A3489E}" type="slidenum">
              <a:t>15</a:t>
            </a:fld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409680" y="1081080"/>
          <a:ext cx="4456080" cy="270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081080"/>
                    <a:ext cx="445608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52440" y="3519360"/>
          <a:ext cx="4456080" cy="270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440" y="3519360"/>
                    <a:ext cx="445608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666720" y="431640"/>
            <a:ext cx="4156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3.4 </a:t>
            </a: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基本作業能量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8760" y="1074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櫃起重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72480" y="3594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堆高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98800" y="1038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抓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13520" y="3747960"/>
            <a:ext cx="350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能量分佈並無一定之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橋式機－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0~41T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堆高機－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T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抓斗－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5M</a:t>
            </a:r>
            <a:r>
              <a:rPr b="0" lang="zh-TW" sz="2800" spc="-1" strike="noStrike" baseline="30000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30680" y="1081080"/>
          <a:ext cx="4456080" cy="2708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30680" y="1081080"/>
                    <a:ext cx="445608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92EB-1CD9-45F3-BE78-8016D3F47E8C}" type="slidenum">
              <a:t>16</a:t>
            </a:fld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4452840" y="1028880"/>
          <a:ext cx="444816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2840" y="1028880"/>
                    <a:ext cx="444816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62080" y="1009800"/>
          <a:ext cx="4448160" cy="2698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080" y="1009800"/>
                    <a:ext cx="444816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685800" y="449280"/>
            <a:ext cx="337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3.5 </a:t>
            </a: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使用齡期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43280" y="1074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櫃起重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30040" y="10731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堆高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6000" y="4237200"/>
            <a:ext cx="381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齡期與作業效率間並無絕對之關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39680" y="4923000"/>
            <a:ext cx="35881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壽年－可供報廢年限之參考依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68280" y="3551400"/>
            <a:ext cx="427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3000" spc="-1" strike="noStrike">
                <a:solidFill>
                  <a:srgbClr val="0000ff"/>
                </a:solidFill>
                <a:latin typeface="標楷體"/>
                <a:ea typeface="標楷體"/>
              </a:rPr>
              <a:t>使用齡期太長－注意其可用率及故障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3DDB-E7E2-4A39-AE68-7DEE3B3CC7C6}" type="slidenum">
              <a:t>17</a:t>
            </a:fld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50880" y="157320"/>
            <a:ext cx="1828800" cy="1104840"/>
          </a:xfrm>
          <a:prstGeom prst="irregularSeal2">
            <a:avLst/>
          </a:prstGeom>
          <a:gradFill rotWithShape="0">
            <a:gsLst>
              <a:gs pos="0">
                <a:srgbClr val="ff6600"/>
              </a:gs>
              <a:gs pos="50000">
                <a:srgbClr val="000000"/>
              </a:gs>
              <a:gs pos="100000">
                <a:srgbClr val="ff66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44280" y="3366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儷粗黑"/>
                <a:ea typeface="華康儷粗黑"/>
              </a:rPr>
              <a:t>肆、作業狀況資料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1171440"/>
            <a:ext cx="742968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46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4.1 </a:t>
            </a: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作業狀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spcBef>
                <a:spcPts val="700"/>
              </a:spcBef>
              <a:tabLst>
                <a:tab algn="l" pos="0"/>
                <a:tab algn="l" pos="1146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機具實際活動之動態特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spcBef>
                <a:spcPts val="700"/>
              </a:spcBef>
              <a:tabLst>
                <a:tab algn="l" pos="0"/>
                <a:tab algn="l" pos="1146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改善機具作業效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spcBef>
                <a:spcPts val="700"/>
              </a:spcBef>
              <a:tabLst>
                <a:tab algn="l" pos="0"/>
                <a:tab algn="l" pos="1146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維修及汰除之依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spcBef>
                <a:spcPts val="700"/>
              </a:spcBef>
              <a:tabLst>
                <a:tab algn="l" pos="0"/>
                <a:tab algn="l" pos="1146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機具租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spcBef>
                <a:spcPts val="700"/>
              </a:spcBef>
              <a:tabLst>
                <a:tab algn="l" pos="0"/>
                <a:tab algn="l" pos="1146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用時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spcBef>
                <a:spcPts val="700"/>
              </a:spcBef>
              <a:tabLst>
                <a:tab algn="l" pos="0"/>
                <a:tab algn="l" pos="1146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用時之作業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spcBef>
                <a:spcPts val="700"/>
              </a:spcBef>
              <a:tabLst>
                <a:tab algn="l" pos="0"/>
                <a:tab algn="l" pos="1146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調查分析時間－民國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86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1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月至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87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12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15080" y="2492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400" spc="-1" strike="noStrike">
                <a:solidFill>
                  <a:srgbClr val="ff3399"/>
                </a:solidFill>
                <a:latin typeface="標楷體"/>
                <a:ea typeface="標楷體"/>
              </a:rPr>
              <a:t>增加航商靠泊之可能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15080" y="2476440"/>
            <a:ext cx="133200" cy="647640"/>
          </a:xfrm>
          <a:custGeom>
            <a:avLst/>
            <a:gdLst>
              <a:gd name="textAreaLeft" fmla="*/ 0 w 133200"/>
              <a:gd name="textAreaRight" fmla="*/ 47880 w 1332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BD43-280C-49A2-922C-961D89432601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1171440"/>
            <a:ext cx="44766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可用率、故障率及使用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54080" y="1733400"/>
                <a:ext cx="364500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平均可用率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W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085760" y="2800440"/>
                <a:ext cx="34768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平均使用率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17440" y="3867120"/>
                <a:ext cx="599292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平均故障率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W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平均可用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1366920" y="4835520"/>
            <a:ext cx="719604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7146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)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每部機具全月故障時數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Q)=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該機具單月內故障時數之總合 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故障時數：從故障進廠至修復出廠之時間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7146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)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每部機具全月實可使用時數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R)=(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該月天數－該機具月保養天數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9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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24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該機具全月故障時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7146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保養天數：機具進廠保養、維修之時間，不含故障時間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7146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)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每部機具全月應可使用時數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W)=(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該月天數－該機具月保養天數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9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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7146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4)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每部機具全月實出勤時數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S)=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該機具單月內出勤時數之總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7146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5)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每部機具全月應出勤時數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T)=(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該月天數－例假日及國定假日－該機具月保養天數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9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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準工作小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409680"/>
            <a:ext cx="34862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4.2 </a:t>
            </a: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績效評比項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7719-156B-48DC-B594-C604CFE8E346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01600" y="314280"/>
            <a:ext cx="770040" cy="655560"/>
          </a:xfrm>
          <a:custGeom>
            <a:avLst/>
            <a:gdLst/>
            <a:ahLst/>
            <a:rect l="l" t="t" r="r" b="b"/>
            <a:pathLst>
              <a:path w="1207" h="879">
                <a:moveTo>
                  <a:pt x="0" y="793"/>
                </a:moveTo>
                <a:lnTo>
                  <a:pt x="27" y="718"/>
                </a:lnTo>
                <a:lnTo>
                  <a:pt x="115" y="713"/>
                </a:lnTo>
                <a:lnTo>
                  <a:pt x="223" y="691"/>
                </a:lnTo>
                <a:lnTo>
                  <a:pt x="322" y="660"/>
                </a:lnTo>
                <a:lnTo>
                  <a:pt x="425" y="607"/>
                </a:lnTo>
                <a:lnTo>
                  <a:pt x="483" y="543"/>
                </a:lnTo>
                <a:lnTo>
                  <a:pt x="612" y="458"/>
                </a:lnTo>
                <a:lnTo>
                  <a:pt x="747" y="337"/>
                </a:lnTo>
                <a:lnTo>
                  <a:pt x="828" y="193"/>
                </a:lnTo>
                <a:lnTo>
                  <a:pt x="884" y="127"/>
                </a:lnTo>
                <a:lnTo>
                  <a:pt x="947" y="44"/>
                </a:lnTo>
                <a:lnTo>
                  <a:pt x="1046" y="19"/>
                </a:lnTo>
                <a:lnTo>
                  <a:pt x="1148" y="0"/>
                </a:lnTo>
                <a:lnTo>
                  <a:pt x="1207" y="32"/>
                </a:lnTo>
                <a:lnTo>
                  <a:pt x="1203" y="87"/>
                </a:lnTo>
                <a:lnTo>
                  <a:pt x="1163" y="193"/>
                </a:lnTo>
                <a:lnTo>
                  <a:pt x="1058" y="202"/>
                </a:lnTo>
                <a:lnTo>
                  <a:pt x="1005" y="162"/>
                </a:lnTo>
                <a:lnTo>
                  <a:pt x="965" y="167"/>
                </a:lnTo>
                <a:lnTo>
                  <a:pt x="899" y="261"/>
                </a:lnTo>
                <a:lnTo>
                  <a:pt x="831" y="381"/>
                </a:lnTo>
                <a:lnTo>
                  <a:pt x="738" y="462"/>
                </a:lnTo>
                <a:lnTo>
                  <a:pt x="586" y="597"/>
                </a:lnTo>
                <a:lnTo>
                  <a:pt x="478" y="746"/>
                </a:lnTo>
                <a:lnTo>
                  <a:pt x="308" y="821"/>
                </a:lnTo>
                <a:lnTo>
                  <a:pt x="214" y="861"/>
                </a:lnTo>
                <a:lnTo>
                  <a:pt x="62" y="879"/>
                </a:lnTo>
                <a:lnTo>
                  <a:pt x="0" y="7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206360" y="0"/>
            <a:ext cx="3431880" cy="1433520"/>
            <a:chOff x="1206360" y="0"/>
            <a:chExt cx="3431880" cy="1433520"/>
          </a:xfrm>
        </p:grpSpPr>
        <p:sp>
          <p:nvSpPr>
            <p:cNvPr id="54" name=""/>
            <p:cNvSpPr/>
            <p:nvPr/>
          </p:nvSpPr>
          <p:spPr>
            <a:xfrm>
              <a:off x="1258920" y="9000"/>
              <a:ext cx="3351240" cy="1420200"/>
            </a:xfrm>
            <a:custGeom>
              <a:avLst/>
              <a:gdLst/>
              <a:ahLst/>
              <a:rect l="l" t="t" r="r" b="b"/>
              <a:pathLst>
                <a:path w="3160" h="2828">
                  <a:moveTo>
                    <a:pt x="0" y="936"/>
                  </a:moveTo>
                  <a:lnTo>
                    <a:pt x="424" y="802"/>
                  </a:lnTo>
                  <a:lnTo>
                    <a:pt x="608" y="705"/>
                  </a:lnTo>
                  <a:lnTo>
                    <a:pt x="811" y="630"/>
                  </a:lnTo>
                  <a:lnTo>
                    <a:pt x="1007" y="519"/>
                  </a:lnTo>
                  <a:lnTo>
                    <a:pt x="1223" y="431"/>
                  </a:lnTo>
                  <a:lnTo>
                    <a:pt x="1388" y="390"/>
                  </a:lnTo>
                  <a:lnTo>
                    <a:pt x="1613" y="218"/>
                  </a:lnTo>
                  <a:lnTo>
                    <a:pt x="1759" y="138"/>
                  </a:lnTo>
                  <a:lnTo>
                    <a:pt x="1909" y="112"/>
                  </a:lnTo>
                  <a:lnTo>
                    <a:pt x="2202" y="0"/>
                  </a:lnTo>
                  <a:lnTo>
                    <a:pt x="2318" y="81"/>
                  </a:lnTo>
                  <a:lnTo>
                    <a:pt x="2477" y="416"/>
                  </a:lnTo>
                  <a:lnTo>
                    <a:pt x="2561" y="537"/>
                  </a:lnTo>
                  <a:lnTo>
                    <a:pt x="2682" y="856"/>
                  </a:lnTo>
                  <a:lnTo>
                    <a:pt x="2836" y="1170"/>
                  </a:lnTo>
                  <a:lnTo>
                    <a:pt x="2935" y="1280"/>
                  </a:lnTo>
                  <a:lnTo>
                    <a:pt x="3079" y="1387"/>
                  </a:lnTo>
                  <a:lnTo>
                    <a:pt x="3107" y="1507"/>
                  </a:lnTo>
                  <a:lnTo>
                    <a:pt x="3160" y="1623"/>
                  </a:lnTo>
                  <a:lnTo>
                    <a:pt x="3147" y="1729"/>
                  </a:lnTo>
                  <a:lnTo>
                    <a:pt x="3120" y="1795"/>
                  </a:lnTo>
                  <a:lnTo>
                    <a:pt x="2957" y="1888"/>
                  </a:lnTo>
                  <a:lnTo>
                    <a:pt x="2827" y="2007"/>
                  </a:lnTo>
                  <a:lnTo>
                    <a:pt x="2682" y="2029"/>
                  </a:lnTo>
                  <a:lnTo>
                    <a:pt x="2442" y="2150"/>
                  </a:lnTo>
                  <a:lnTo>
                    <a:pt x="2321" y="2167"/>
                  </a:lnTo>
                  <a:lnTo>
                    <a:pt x="2096" y="2300"/>
                  </a:lnTo>
                  <a:lnTo>
                    <a:pt x="1865" y="2328"/>
                  </a:lnTo>
                  <a:lnTo>
                    <a:pt x="1790" y="2381"/>
                  </a:lnTo>
                  <a:lnTo>
                    <a:pt x="1737" y="2441"/>
                  </a:lnTo>
                  <a:lnTo>
                    <a:pt x="1578" y="2469"/>
                  </a:lnTo>
                  <a:lnTo>
                    <a:pt x="1320" y="2615"/>
                  </a:lnTo>
                  <a:lnTo>
                    <a:pt x="1126" y="2700"/>
                  </a:lnTo>
                  <a:lnTo>
                    <a:pt x="904" y="2800"/>
                  </a:lnTo>
                  <a:lnTo>
                    <a:pt x="767" y="2828"/>
                  </a:lnTo>
                  <a:lnTo>
                    <a:pt x="677" y="2800"/>
                  </a:lnTo>
                  <a:lnTo>
                    <a:pt x="624" y="2747"/>
                  </a:lnTo>
                  <a:lnTo>
                    <a:pt x="501" y="2434"/>
                  </a:lnTo>
                  <a:lnTo>
                    <a:pt x="424" y="2044"/>
                  </a:lnTo>
                  <a:lnTo>
                    <a:pt x="355" y="1901"/>
                  </a:lnTo>
                  <a:lnTo>
                    <a:pt x="239" y="1769"/>
                  </a:lnTo>
                  <a:lnTo>
                    <a:pt x="186" y="1685"/>
                  </a:lnTo>
                  <a:lnTo>
                    <a:pt x="146" y="1449"/>
                  </a:lnTo>
                  <a:lnTo>
                    <a:pt x="40" y="1202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06360" y="0"/>
              <a:ext cx="3431880" cy="1433520"/>
            </a:xfrm>
            <a:custGeom>
              <a:avLst/>
              <a:gdLst/>
              <a:ahLst/>
              <a:rect l="l" t="t" r="r" b="b"/>
              <a:pathLst>
                <a:path w="3236" h="2855">
                  <a:moveTo>
                    <a:pt x="156" y="874"/>
                  </a:moveTo>
                  <a:lnTo>
                    <a:pt x="487" y="780"/>
                  </a:lnTo>
                  <a:lnTo>
                    <a:pt x="639" y="709"/>
                  </a:lnTo>
                  <a:lnTo>
                    <a:pt x="780" y="646"/>
                  </a:lnTo>
                  <a:lnTo>
                    <a:pt x="905" y="593"/>
                  </a:lnTo>
                  <a:lnTo>
                    <a:pt x="1046" y="515"/>
                  </a:lnTo>
                  <a:lnTo>
                    <a:pt x="1214" y="452"/>
                  </a:lnTo>
                  <a:lnTo>
                    <a:pt x="1392" y="399"/>
                  </a:lnTo>
                  <a:lnTo>
                    <a:pt x="1498" y="328"/>
                  </a:lnTo>
                  <a:lnTo>
                    <a:pt x="1632" y="231"/>
                  </a:lnTo>
                  <a:lnTo>
                    <a:pt x="1782" y="150"/>
                  </a:lnTo>
                  <a:lnTo>
                    <a:pt x="1925" y="115"/>
                  </a:lnTo>
                  <a:lnTo>
                    <a:pt x="2100" y="53"/>
                  </a:lnTo>
                  <a:lnTo>
                    <a:pt x="2216" y="9"/>
                  </a:lnTo>
                  <a:lnTo>
                    <a:pt x="2278" y="0"/>
                  </a:lnTo>
                  <a:lnTo>
                    <a:pt x="2359" y="71"/>
                  </a:lnTo>
                  <a:lnTo>
                    <a:pt x="2456" y="249"/>
                  </a:lnTo>
                  <a:lnTo>
                    <a:pt x="2527" y="399"/>
                  </a:lnTo>
                  <a:lnTo>
                    <a:pt x="2624" y="540"/>
                  </a:lnTo>
                  <a:lnTo>
                    <a:pt x="2695" y="727"/>
                  </a:lnTo>
                  <a:lnTo>
                    <a:pt x="2765" y="886"/>
                  </a:lnTo>
                  <a:lnTo>
                    <a:pt x="2846" y="1055"/>
                  </a:lnTo>
                  <a:lnTo>
                    <a:pt x="2899" y="1152"/>
                  </a:lnTo>
                  <a:lnTo>
                    <a:pt x="2970" y="1260"/>
                  </a:lnTo>
                  <a:lnTo>
                    <a:pt x="3095" y="1357"/>
                  </a:lnTo>
                  <a:lnTo>
                    <a:pt x="3139" y="1401"/>
                  </a:lnTo>
                  <a:lnTo>
                    <a:pt x="3183" y="1535"/>
                  </a:lnTo>
                  <a:lnTo>
                    <a:pt x="3236" y="1650"/>
                  </a:lnTo>
                  <a:lnTo>
                    <a:pt x="3227" y="1738"/>
                  </a:lnTo>
                  <a:lnTo>
                    <a:pt x="3173" y="1826"/>
                  </a:lnTo>
                  <a:lnTo>
                    <a:pt x="3058" y="1897"/>
                  </a:lnTo>
                  <a:lnTo>
                    <a:pt x="2880" y="2031"/>
                  </a:lnTo>
                  <a:lnTo>
                    <a:pt x="2749" y="2066"/>
                  </a:lnTo>
                  <a:lnTo>
                    <a:pt x="2606" y="2128"/>
                  </a:lnTo>
                  <a:lnTo>
                    <a:pt x="2518" y="2172"/>
                  </a:lnTo>
                  <a:lnTo>
                    <a:pt x="2384" y="2209"/>
                  </a:lnTo>
                  <a:lnTo>
                    <a:pt x="2278" y="2262"/>
                  </a:lnTo>
                  <a:lnTo>
                    <a:pt x="2163" y="2324"/>
                  </a:lnTo>
                  <a:lnTo>
                    <a:pt x="1985" y="2359"/>
                  </a:lnTo>
                  <a:lnTo>
                    <a:pt x="1915" y="2368"/>
                  </a:lnTo>
                  <a:lnTo>
                    <a:pt x="1800" y="2474"/>
                  </a:lnTo>
                  <a:lnTo>
                    <a:pt x="1613" y="2518"/>
                  </a:lnTo>
                  <a:lnTo>
                    <a:pt x="1348" y="2668"/>
                  </a:lnTo>
                  <a:lnTo>
                    <a:pt x="1152" y="2740"/>
                  </a:lnTo>
                  <a:lnTo>
                    <a:pt x="983" y="2820"/>
                  </a:lnTo>
                  <a:lnTo>
                    <a:pt x="824" y="2855"/>
                  </a:lnTo>
                  <a:lnTo>
                    <a:pt x="753" y="2846"/>
                  </a:lnTo>
                  <a:lnTo>
                    <a:pt x="692" y="2811"/>
                  </a:lnTo>
                  <a:lnTo>
                    <a:pt x="621" y="2659"/>
                  </a:lnTo>
                  <a:lnTo>
                    <a:pt x="540" y="2509"/>
                  </a:lnTo>
                  <a:lnTo>
                    <a:pt x="515" y="2412"/>
                  </a:lnTo>
                  <a:lnTo>
                    <a:pt x="496" y="2262"/>
                  </a:lnTo>
                  <a:lnTo>
                    <a:pt x="471" y="2146"/>
                  </a:lnTo>
                  <a:lnTo>
                    <a:pt x="434" y="2022"/>
                  </a:lnTo>
                  <a:lnTo>
                    <a:pt x="319" y="1862"/>
                  </a:lnTo>
                  <a:lnTo>
                    <a:pt x="249" y="1747"/>
                  </a:lnTo>
                  <a:lnTo>
                    <a:pt x="203" y="1535"/>
                  </a:lnTo>
                  <a:lnTo>
                    <a:pt x="141" y="1383"/>
                  </a:lnTo>
                  <a:lnTo>
                    <a:pt x="72" y="1223"/>
                  </a:lnTo>
                  <a:lnTo>
                    <a:pt x="28" y="1064"/>
                  </a:lnTo>
                  <a:lnTo>
                    <a:pt x="0" y="983"/>
                  </a:lnTo>
                  <a:lnTo>
                    <a:pt x="28" y="923"/>
                  </a:lnTo>
                  <a:lnTo>
                    <a:pt x="97" y="886"/>
                  </a:lnTo>
                  <a:lnTo>
                    <a:pt x="159" y="905"/>
                  </a:lnTo>
                  <a:lnTo>
                    <a:pt x="178" y="958"/>
                  </a:lnTo>
                  <a:lnTo>
                    <a:pt x="97" y="1002"/>
                  </a:lnTo>
                  <a:lnTo>
                    <a:pt x="97" y="1082"/>
                  </a:lnTo>
                  <a:lnTo>
                    <a:pt x="125" y="1188"/>
                  </a:lnTo>
                  <a:lnTo>
                    <a:pt x="169" y="1313"/>
                  </a:lnTo>
                  <a:lnTo>
                    <a:pt x="231" y="1454"/>
                  </a:lnTo>
                  <a:lnTo>
                    <a:pt x="275" y="1560"/>
                  </a:lnTo>
                  <a:lnTo>
                    <a:pt x="302" y="1720"/>
                  </a:lnTo>
                  <a:lnTo>
                    <a:pt x="346" y="1791"/>
                  </a:lnTo>
                  <a:lnTo>
                    <a:pt x="434" y="1916"/>
                  </a:lnTo>
                  <a:lnTo>
                    <a:pt x="478" y="1987"/>
                  </a:lnTo>
                  <a:lnTo>
                    <a:pt x="515" y="2084"/>
                  </a:lnTo>
                  <a:lnTo>
                    <a:pt x="531" y="2181"/>
                  </a:lnTo>
                  <a:lnTo>
                    <a:pt x="559" y="2278"/>
                  </a:lnTo>
                  <a:lnTo>
                    <a:pt x="586" y="2437"/>
                  </a:lnTo>
                  <a:lnTo>
                    <a:pt x="639" y="2571"/>
                  </a:lnTo>
                  <a:lnTo>
                    <a:pt x="736" y="2767"/>
                  </a:lnTo>
                  <a:lnTo>
                    <a:pt x="808" y="2802"/>
                  </a:lnTo>
                  <a:lnTo>
                    <a:pt x="877" y="2802"/>
                  </a:lnTo>
                  <a:lnTo>
                    <a:pt x="1020" y="2749"/>
                  </a:lnTo>
                  <a:lnTo>
                    <a:pt x="1198" y="2677"/>
                  </a:lnTo>
                  <a:lnTo>
                    <a:pt x="1357" y="2599"/>
                  </a:lnTo>
                  <a:lnTo>
                    <a:pt x="1489" y="2518"/>
                  </a:lnTo>
                  <a:lnTo>
                    <a:pt x="1595" y="2456"/>
                  </a:lnTo>
                  <a:lnTo>
                    <a:pt x="1701" y="2412"/>
                  </a:lnTo>
                  <a:lnTo>
                    <a:pt x="1791" y="2412"/>
                  </a:lnTo>
                  <a:lnTo>
                    <a:pt x="1844" y="2350"/>
                  </a:lnTo>
                  <a:lnTo>
                    <a:pt x="1969" y="2306"/>
                  </a:lnTo>
                  <a:lnTo>
                    <a:pt x="2084" y="2287"/>
                  </a:lnTo>
                  <a:lnTo>
                    <a:pt x="2154" y="2278"/>
                  </a:lnTo>
                  <a:lnTo>
                    <a:pt x="2368" y="2155"/>
                  </a:lnTo>
                  <a:lnTo>
                    <a:pt x="2490" y="2128"/>
                  </a:lnTo>
                  <a:lnTo>
                    <a:pt x="2597" y="2075"/>
                  </a:lnTo>
                  <a:lnTo>
                    <a:pt x="2730" y="2003"/>
                  </a:lnTo>
                  <a:lnTo>
                    <a:pt x="2873" y="1987"/>
                  </a:lnTo>
                  <a:lnTo>
                    <a:pt x="2996" y="1879"/>
                  </a:lnTo>
                  <a:lnTo>
                    <a:pt x="3095" y="1809"/>
                  </a:lnTo>
                  <a:lnTo>
                    <a:pt x="3155" y="1764"/>
                  </a:lnTo>
                  <a:lnTo>
                    <a:pt x="3173" y="1685"/>
                  </a:lnTo>
                  <a:lnTo>
                    <a:pt x="3173" y="1604"/>
                  </a:lnTo>
                  <a:lnTo>
                    <a:pt x="3129" y="1525"/>
                  </a:lnTo>
                  <a:lnTo>
                    <a:pt x="3102" y="1410"/>
                  </a:lnTo>
                  <a:lnTo>
                    <a:pt x="3005" y="1357"/>
                  </a:lnTo>
                  <a:lnTo>
                    <a:pt x="2917" y="1276"/>
                  </a:lnTo>
                  <a:lnTo>
                    <a:pt x="2846" y="1179"/>
                  </a:lnTo>
                  <a:lnTo>
                    <a:pt x="2730" y="930"/>
                  </a:lnTo>
                  <a:lnTo>
                    <a:pt x="2642" y="736"/>
                  </a:lnTo>
                  <a:lnTo>
                    <a:pt x="2589" y="593"/>
                  </a:lnTo>
                  <a:lnTo>
                    <a:pt x="2490" y="452"/>
                  </a:lnTo>
                  <a:lnTo>
                    <a:pt x="2421" y="293"/>
                  </a:lnTo>
                  <a:lnTo>
                    <a:pt x="2340" y="134"/>
                  </a:lnTo>
                  <a:lnTo>
                    <a:pt x="2296" y="106"/>
                  </a:lnTo>
                  <a:lnTo>
                    <a:pt x="2252" y="62"/>
                  </a:lnTo>
                  <a:lnTo>
                    <a:pt x="2056" y="125"/>
                  </a:lnTo>
                  <a:lnTo>
                    <a:pt x="1950" y="168"/>
                  </a:lnTo>
                  <a:lnTo>
                    <a:pt x="1791" y="196"/>
                  </a:lnTo>
                  <a:lnTo>
                    <a:pt x="1657" y="266"/>
                  </a:lnTo>
                  <a:lnTo>
                    <a:pt x="1463" y="425"/>
                  </a:lnTo>
                  <a:lnTo>
                    <a:pt x="1366" y="471"/>
                  </a:lnTo>
                  <a:lnTo>
                    <a:pt x="1251" y="478"/>
                  </a:lnTo>
                  <a:lnTo>
                    <a:pt x="1011" y="577"/>
                  </a:lnTo>
                  <a:lnTo>
                    <a:pt x="868" y="683"/>
                  </a:lnTo>
                  <a:lnTo>
                    <a:pt x="665" y="771"/>
                  </a:lnTo>
                  <a:lnTo>
                    <a:pt x="231" y="923"/>
                  </a:lnTo>
                  <a:lnTo>
                    <a:pt x="156" y="8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1701720" y="380880"/>
            <a:ext cx="2741760" cy="7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atin typeface="華康儷粗黑"/>
              </a:rPr>
              <a:t>簡報內容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f00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atin typeface="華康儷粗黑"/>
              <a:ea typeface="華康儷粗黑"/>
            </a:endParaRPr>
          </a:p>
        </p:txBody>
      </p:sp>
      <p:sp>
        <p:nvSpPr>
          <p:cNvPr id="57" name=""/>
          <p:cNvSpPr/>
          <p:nvPr/>
        </p:nvSpPr>
        <p:spPr>
          <a:xfrm>
            <a:off x="1521000" y="1195560"/>
            <a:ext cx="6965640" cy="26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壹、</a:t>
            </a:r>
            <a:r>
              <a:rPr b="1" lang="zh-TW" sz="3800" spc="-1" strike="noStrike">
                <a:solidFill>
                  <a:srgbClr val="0000ff"/>
                </a:solidFill>
                <a:latin typeface="華康POP1體W9"/>
                <a:ea typeface="標楷體"/>
              </a:rPr>
              <a:t>前言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9900"/>
                </a:solidFill>
                <a:latin typeface="標楷體"/>
                <a:ea typeface="標楷體"/>
              </a:rPr>
              <a:t>貳、各國際商港簡介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9900"/>
                </a:solidFill>
                <a:latin typeface="標楷體"/>
                <a:ea typeface="標楷體"/>
              </a:rPr>
              <a:t>參、裝卸機具基本資料蒐集與分析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00ff"/>
                </a:solidFill>
                <a:latin typeface="標楷體"/>
                <a:ea typeface="標楷體"/>
              </a:rPr>
              <a:t>肆、作業狀況分析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895320" y="1353960"/>
            <a:ext cx="225072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0"/>
                </a:moveTo>
                <a:arcTo wR="10800" hR="10800" stAng="-5404476" swAng="5404476"/>
                <a:lnTo>
                  <a:pt x="10800" y="10800"/>
                </a:lnTo>
                <a:close/>
              </a:path>
              <a:path fill="none" w="21600" h="21600">
                <a:moveTo>
                  <a:pt x="10786" y="0"/>
                </a:moveTo>
                <a:arcTo wR="10800" hR="10800" stAng="-5404476" swAng="5404476"/>
              </a:path>
            </a:pathLst>
          </a:custGeom>
          <a:noFill/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457200"/>
            <a:ext cx="1165320" cy="14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6589800" y="4816440"/>
          <a:ext cx="1836720" cy="11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9800" y="4816440"/>
                    <a:ext cx="183672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535040" y="3765600"/>
            <a:ext cx="655956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ff"/>
                </a:solidFill>
                <a:latin typeface="Times New Roman"/>
                <a:ea typeface="標楷體"/>
              </a:rPr>
              <a:t>伍、</a:t>
            </a:r>
            <a:r>
              <a:rPr b="1" lang="zh-TW" sz="3400" spc="-1" strike="noStrike">
                <a:solidFill>
                  <a:srgbClr val="0000ff"/>
                </a:solidFill>
                <a:latin typeface="標楷體"/>
                <a:ea typeface="標楷體"/>
              </a:rPr>
              <a:t>裝卸機具資料庫查詢系統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9900"/>
                </a:solidFill>
                <a:latin typeface="Times New Roman"/>
                <a:ea typeface="標楷體"/>
              </a:rPr>
              <a:t>陸、亞太經濟合作組織</a:t>
            </a:r>
            <a:r>
              <a:rPr b="1" lang="zh-TW" sz="3400" spc="-1" strike="noStrike">
                <a:solidFill>
                  <a:srgbClr val="009900"/>
                </a:solidFill>
                <a:latin typeface="Times New Roman"/>
                <a:ea typeface="標楷體"/>
              </a:rPr>
              <a:t>(APEC)</a:t>
            </a:r>
            <a:r>
              <a:rPr b="1" lang="zh-TW" sz="3400" spc="-1" strike="noStrike">
                <a:solidFill>
                  <a:srgbClr val="009900"/>
                </a:solidFill>
                <a:latin typeface="Times New Roman"/>
                <a:ea typeface="標楷體"/>
              </a:rPr>
              <a:t>港埠資料庫系統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00ff"/>
                </a:solidFill>
                <a:latin typeface="Times New Roman"/>
                <a:ea typeface="標楷體"/>
              </a:rPr>
              <a:t>柒、結論與建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797B-0762-4057-BB18-5D981F76B49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689280" y="5819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隆港機具平均可用率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69040" y="409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基隆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1600200"/>
          <a:ext cx="865836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5836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AE62-C99A-4D37-AB28-CC60EA1CF76F}" type="slidenum">
              <a:t>20</a:t>
            </a:fld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689280" y="5819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隆港機具平均使用率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69040" y="409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基隆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81080" y="1631880"/>
          <a:ext cx="865800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631880"/>
                    <a:ext cx="8658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D72A-14A8-4801-AB28-936E870D50AF}" type="slidenum">
              <a:t>21</a:t>
            </a:fld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689280" y="5819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台中港機具平均可用率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69040" y="409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台中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52280" y="1676520"/>
          <a:ext cx="865836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65836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3EB4-7BBC-404A-8D8F-0DEEC458E644}" type="slidenum">
              <a:t>22</a:t>
            </a:fld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689280" y="5819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台中港機具平均使用率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69040" y="409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台中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81080" y="1693800"/>
          <a:ext cx="865800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693800"/>
                    <a:ext cx="8658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BE09-3F1A-4210-8708-2F1D6A41BA98}" type="slidenum">
              <a:t>23</a:t>
            </a:fld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689280" y="5819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雄港機具平均可用率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9040" y="409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高雄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71360" y="1573200"/>
          <a:ext cx="8667720" cy="41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573200"/>
                    <a:ext cx="86677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C15F-6734-4AA2-B0AC-5FFCF619CBB9}" type="slidenum">
              <a:t>24</a:t>
            </a:fld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689280" y="5819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雄港機具平均使用率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69040" y="409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高雄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71360" y="1501920"/>
          <a:ext cx="8667720" cy="415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501920"/>
                    <a:ext cx="8667720" cy="41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F65A-BCC2-4C54-959D-72CFBD16DD45}" type="slidenum">
              <a:t>25</a:t>
            </a:fld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689280" y="5819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花蓮港機具平均可用率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69040" y="409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花蓮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1062000"/>
          <a:ext cx="9097920" cy="462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2000"/>
                    <a:ext cx="909792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98B3-3A9C-418E-B5D2-66516BE9F4F5}" type="slidenum">
              <a:t>26</a:t>
            </a:fld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689280" y="5819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花蓮港機具平均使用率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9040" y="409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花蓮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0" y="1138320"/>
          <a:ext cx="9097920" cy="462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38320"/>
                    <a:ext cx="909792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8763-DFFB-4DEB-B031-2EF10032B0E5}" type="slidenum">
              <a:t>27</a:t>
            </a:fld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689280" y="5819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蘇澳港機具平均可用率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69040" y="409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蘇澳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81080" y="1673280"/>
          <a:ext cx="865800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673280"/>
                    <a:ext cx="8658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D475-09E1-4501-9B38-F4745D09C2B7}" type="slidenum">
              <a:t>28</a:t>
            </a:fld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689280" y="5819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蘇澳港機具平均使用率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9040" y="409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蘇澳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81080" y="1552680"/>
          <a:ext cx="865800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552680"/>
                    <a:ext cx="8658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D2FD-123B-449C-85B2-338CB2AFA759}" type="slidenum">
              <a:t>29</a:t>
            </a:fld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50880" y="157320"/>
            <a:ext cx="1828800" cy="1104840"/>
          </a:xfrm>
          <a:prstGeom prst="irregularSeal2">
            <a:avLst/>
          </a:prstGeom>
          <a:gradFill rotWithShape="0">
            <a:gsLst>
              <a:gs pos="0">
                <a:srgbClr val="ff6600"/>
              </a:gs>
              <a:gs pos="50000">
                <a:srgbClr val="000000"/>
              </a:gs>
              <a:gs pos="100000">
                <a:srgbClr val="ff66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20400" y="3366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儷粗黑"/>
                <a:ea typeface="華康儷粗黑"/>
              </a:rPr>
              <a:t>壹、前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2640" y="1454040"/>
            <a:ext cx="8051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5888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3200" spc="-1" strike="noStrike">
                <a:solidFill>
                  <a:srgbClr val="ff3399"/>
                </a:solidFill>
                <a:latin typeface="Times New Roman"/>
                <a:ea typeface="華康儷粗黑"/>
              </a:rPr>
              <a:t>1.1 </a:t>
            </a:r>
            <a:r>
              <a:rPr b="1" lang="zh-TW" sz="3200" spc="-1" strike="noStrike">
                <a:solidFill>
                  <a:srgbClr val="ff3399"/>
                </a:solidFill>
                <a:latin typeface="Times New Roman"/>
                <a:ea typeface="華康儷粗黑"/>
              </a:rPr>
              <a:t>研究緣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888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台灣地區為海島型經濟國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888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對外貿易為導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888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港埠為對外運輸之門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888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港埠管理－民營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888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世界潮流之所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888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台灣各國際港正走向</a:t>
            </a: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民營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888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棧埠作業民營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888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台中港－建港之初，即開放民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888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高雄港－</a:t>
            </a: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1998</a:t>
            </a: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1</a:t>
            </a: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888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基隆港、蘇澳港、花蓮港－</a:t>
            </a: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1999</a:t>
            </a: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1</a:t>
            </a:r>
            <a:r>
              <a:rPr b="0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E04B-09AA-4E20-B840-26529799539E}" type="slidenum">
              <a:t>3</a:t>
            </a:fld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689280" y="5819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港橋式機平均使用率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87120" y="4665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各港綜合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81080" y="1552680"/>
          <a:ext cx="865800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552680"/>
                    <a:ext cx="8658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AA28-6F5B-44A1-8B6F-A0651AD6F707}" type="slidenum">
              <a:t>30</a:t>
            </a:fld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89280" y="5819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港堆高機平均使用率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87120" y="4665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各港綜合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080" y="1778040"/>
          <a:ext cx="865800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778040"/>
                    <a:ext cx="8658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1AFA-A4F3-43F1-AEBB-454C9FE2DC6B}" type="slidenum">
              <a:t>31</a:t>
            </a:fld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996840"/>
            <a:ext cx="2903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0" lang="zh-TW" sz="2800" spc="-1" strike="noStrike">
                <a:solidFill>
                  <a:srgbClr val="0000ff"/>
                </a:solidFill>
                <a:latin typeface="華康新儷粗黑"/>
                <a:ea typeface="華康新儷粗黑"/>
              </a:rPr>
              <a:t>裝卸作業效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2000" y="1368360"/>
            <a:ext cx="6238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fc0128"/>
                </a:solidFill>
                <a:latin typeface="標楷體"/>
                <a:ea typeface="標楷體"/>
              </a:rPr>
              <a:t>毛效率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包含影響作業之等待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故障維修、閒置及其它原因等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fc0128"/>
                </a:solidFill>
                <a:latin typeface="標楷體"/>
                <a:ea typeface="標楷體"/>
              </a:rPr>
              <a:t>淨效率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機具實際作業效率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028880" y="2895480"/>
                <a:ext cx="28177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平均毛效率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W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066680" y="4038480"/>
                <a:ext cx="275760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平均淨效率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2401920" y="5511960"/>
            <a:ext cx="326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7146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)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每部機具全月裝卸噸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櫃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數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T)=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該機單月內於作業時間內作業噸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櫃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數之總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17146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)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每部機具全月應有使用時數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W)=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該機單月內作業之時間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17146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3)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每部機具全月實可使用時數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(R)=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該機單月內作業之時間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-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作業中閒置時間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-</a:t>
            </a:r>
            <a:r>
              <a:rPr b="0" lang="zh-TW" sz="9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作業中故障時間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146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3596-0A58-4FE3-A27A-1A0196441E8A}" type="slidenum">
              <a:t>32</a:t>
            </a:fld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48640" y="58197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港貨櫃起重機平均毛效率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81200" y="1500120"/>
          <a:ext cx="7583400" cy="385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500120"/>
                    <a:ext cx="758340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794160" y="5135400"/>
            <a:ext cx="402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14240" indent="-7142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平均值：萬  海－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20.94(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櫃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/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時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	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基隆港－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18.66(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櫃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/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時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	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台中港－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21.44(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櫃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/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時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833B-FE39-400D-BDA2-4DC0158128A3}" type="slidenum">
              <a:t>33</a:t>
            </a:fld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248640" y="58197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港貨櫃起重機平均淨效率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781200" y="1500120"/>
          <a:ext cx="7583400" cy="385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500120"/>
                    <a:ext cx="758340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794160" y="5135400"/>
            <a:ext cx="402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14240" indent="-7142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平均值：萬  海－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32.30(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櫃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/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時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	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基隆港－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23.26(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櫃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/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時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	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台中港－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26.35(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櫃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/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時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44C5-E9CD-40FB-AB20-AC67A74E0DB2}" type="slidenum">
              <a:t>34</a:t>
            </a:fld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76280" y="3103560"/>
            <a:ext cx="8237520" cy="3086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0880" y="157320"/>
            <a:ext cx="1828800" cy="1104840"/>
          </a:xfrm>
          <a:prstGeom prst="irregularSeal2">
            <a:avLst/>
          </a:prstGeom>
          <a:gradFill rotWithShape="0">
            <a:gsLst>
              <a:gs pos="0">
                <a:srgbClr val="ff6600"/>
              </a:gs>
              <a:gs pos="50000">
                <a:srgbClr val="000000"/>
              </a:gs>
              <a:gs pos="100000">
                <a:srgbClr val="ff66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06400" y="3366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儷粗黑"/>
                <a:ea typeface="華康儷粗黑"/>
              </a:rPr>
              <a:t>伍、裝卸機具資料庫查詢系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171440"/>
            <a:ext cx="24796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5.1 </a:t>
            </a: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系統簡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3840" y="1701720"/>
            <a:ext cx="73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87720" indent="-2187720"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資料庫系統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讓珍貴的資料得以完善的保存，更可讓使用者有效率的應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35160" y="4038480"/>
            <a:ext cx="2681280" cy="14986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2880" y="4003560"/>
            <a:ext cx="3651120" cy="1576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74960" y="3305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新儷粗黑"/>
              </a:rPr>
              <a:t>資料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46600" y="43210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本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作業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12440" y="430704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作業效率差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作業性能變化曲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F710-4E10-4DC8-9668-BA717F2277EA}" type="slidenum">
              <a:t>35</a:t>
            </a:fld>
          </a:p>
        </p:txBody>
      </p:sp>
    </p:spTree>
  </p:cSld>
  <p:transition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719600" y="1027080"/>
            <a:ext cx="10144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依港口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依機具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13040" y="1611360"/>
            <a:ext cx="3000600" cy="196920"/>
          </a:xfrm>
          <a:custGeom>
            <a:avLst/>
            <a:gdLst/>
            <a:ahLst/>
            <a:rect l="l" t="t" r="r" b="b"/>
            <a:pathLst>
              <a:path w="960" h="360">
                <a:moveTo>
                  <a:pt x="0" y="360"/>
                </a:moveTo>
                <a:lnTo>
                  <a:pt x="0" y="0"/>
                </a:lnTo>
                <a:lnTo>
                  <a:pt x="960" y="0"/>
                </a:lnTo>
                <a:lnTo>
                  <a:pt x="960" y="36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1240" y="1812960"/>
            <a:ext cx="1287720" cy="23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依 機 具 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79800" y="2041560"/>
            <a:ext cx="1287360" cy="85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櫃裝卸類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含機具種類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般裝卸類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含機具種類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78120" y="2911320"/>
            <a:ext cx="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35160" y="3044880"/>
            <a:ext cx="125568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選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27240" y="3344760"/>
            <a:ext cx="1255680" cy="49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單一機具資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效率分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9040" y="3844800"/>
            <a:ext cx="0" cy="1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60640" y="4389480"/>
            <a:ext cx="1685880" cy="2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效率分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60640" y="4616280"/>
            <a:ext cx="1687320" cy="8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用率、故障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用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毛效率、淨效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作業效率曲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87520" y="5629320"/>
            <a:ext cx="1014480" cy="29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成果圖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84320" y="5937120"/>
            <a:ext cx="2181240" cy="204840"/>
          </a:xfrm>
          <a:custGeom>
            <a:avLst/>
            <a:gdLst/>
            <a:ahLst/>
            <a:rect l="l" t="t" r="r" b="b"/>
            <a:pathLst>
              <a:path w="1680" h="360">
                <a:moveTo>
                  <a:pt x="0" y="0"/>
                </a:moveTo>
                <a:lnTo>
                  <a:pt x="0" y="360"/>
                </a:lnTo>
                <a:lnTo>
                  <a:pt x="1680" y="3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41760" y="574200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70600" y="5970600"/>
            <a:ext cx="1014120" cy="29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輸出結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8280" y="1816200"/>
            <a:ext cx="152244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依  港  口  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48280" y="2062080"/>
            <a:ext cx="1522440" cy="71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隆港　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花蓮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台中港　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蘇澳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雄港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18320" y="2787480"/>
            <a:ext cx="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97600" y="2922480"/>
            <a:ext cx="1359000" cy="149400"/>
          </a:xfrm>
          <a:custGeom>
            <a:avLst/>
            <a:gdLst/>
            <a:ahLst/>
            <a:rect l="l" t="t" r="r" b="b"/>
            <a:pathLst>
              <a:path w="960" h="360">
                <a:moveTo>
                  <a:pt x="0" y="360"/>
                </a:moveTo>
                <a:lnTo>
                  <a:pt x="0" y="0"/>
                </a:lnTo>
                <a:lnTo>
                  <a:pt x="960" y="0"/>
                </a:lnTo>
                <a:lnTo>
                  <a:pt x="960" y="3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07200" y="3075120"/>
            <a:ext cx="117612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功能分區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00720" y="3384720"/>
            <a:ext cx="1184400" cy="46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櫃作業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般作業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00840" y="38559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7840" y="3994200"/>
            <a:ext cx="1014480" cy="29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區配置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04080" y="429588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89640" y="4429080"/>
            <a:ext cx="101448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單一機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02280" y="3078000"/>
            <a:ext cx="895680" cy="28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港口簡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284720" y="3459240"/>
            <a:ext cx="10094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92720" y="3463920"/>
            <a:ext cx="3240" cy="13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06960" y="4746600"/>
            <a:ext cx="0" cy="1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51560" y="3373560"/>
            <a:ext cx="0" cy="27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086160" y="613728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913200" y="4060800"/>
            <a:ext cx="1252440" cy="1676160"/>
            <a:chOff x="3913200" y="4060800"/>
            <a:chExt cx="1252440" cy="1676160"/>
          </a:xfrm>
        </p:grpSpPr>
        <p:sp>
          <p:nvSpPr>
            <p:cNvPr id="329" name=""/>
            <p:cNvSpPr/>
            <p:nvPr/>
          </p:nvSpPr>
          <p:spPr>
            <a:xfrm>
              <a:off x="3913200" y="4060800"/>
              <a:ext cx="1249560" cy="296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單一機具資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15000" y="4354200"/>
              <a:ext cx="1250640" cy="138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機具基本資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zh-TW" sz="1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廠牌、型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zh-TW" sz="1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位置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zh-TW" sz="1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能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zh-TW" sz="1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購置日期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zh-TW" sz="1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壽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zh-TW" sz="1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配置位置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 flipV="1">
            <a:off x="2895480" y="5516280"/>
            <a:ext cx="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33840" y="3963600"/>
            <a:ext cx="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819520" y="3963960"/>
            <a:ext cx="171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396396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40160" y="1473120"/>
            <a:ext cx="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95960" y="4829040"/>
            <a:ext cx="71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85600" y="26780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庫查詢系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流程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36520" y="426960"/>
            <a:ext cx="29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5.2 </a:t>
            </a: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基本使用流程簡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8522-E250-441C-9E05-7CA332346E27}" type="slidenum">
              <a:t>36</a:t>
            </a:fld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85800" y="1171440"/>
            <a:ext cx="777240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資料庫及發展介面軟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DBMaber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資料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多媒體功能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資料儲存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開放介面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資料存取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資料完整性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資料安全性及保密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資料穩固性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其他加強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Delphi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介面發展軟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支援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ODBC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標準介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AD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可視覺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66720" y="428760"/>
            <a:ext cx="46292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5.3 </a:t>
            </a: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使用基本軟硬體設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BC15-847F-4A9D-8D9C-9BA65DEF3F0C}" type="slidenum">
              <a:t>37</a:t>
            </a:fld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1171440"/>
            <a:ext cx="66960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520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硬體設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520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作業系統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Windows95/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520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資料庫版本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DBMaker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單機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520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個人電腦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entium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3686040"/>
            <a:ext cx="7705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520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目前系統架構－</a:t>
            </a:r>
            <a:r>
              <a:rPr b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以單機使用查詢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0E36-14D3-400E-9441-00EA34599ED9}" type="slidenum">
              <a:t>38</a:t>
            </a:fld>
          </a:p>
        </p:txBody>
      </p:sp>
    </p:spTree>
  </p:cSld>
  <p:transition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1171440"/>
            <a:ext cx="777240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未來發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DBMaber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資料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Delphi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介面發展軟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資料更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民營化－資料取得更加不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目前－由各港務局提供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66720" y="428760"/>
            <a:ext cx="46292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5.3 </a:t>
            </a: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未來發展及資料更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81600" y="1828800"/>
            <a:ext cx="819000" cy="247680"/>
          </a:xfrm>
          <a:prstGeom prst="rightArrow">
            <a:avLst>
              <a:gd name="adj1" fmla="val 50000"/>
              <a:gd name="adj2" fmla="val 82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33840" y="2362320"/>
            <a:ext cx="819360" cy="247680"/>
          </a:xfrm>
          <a:prstGeom prst="rightArrow">
            <a:avLst>
              <a:gd name="adj1" fmla="val 50000"/>
              <a:gd name="adj2" fmla="val 827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06880" y="166680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Server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版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72880" y="220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無限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47760" y="43480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0" indent="-1047600"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未來－建立網路資料庫，直接由各港務局作資料更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5B9A-DFF1-43DB-9189-CA1000838D7E}" type="slidenum">
              <a:t>39</a:t>
            </a:fld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93560" y="992160"/>
            <a:ext cx="8052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3200" spc="-1" strike="noStrike">
                <a:solidFill>
                  <a:srgbClr val="ff3399"/>
                </a:solidFill>
                <a:latin typeface="華康儷粗黑"/>
                <a:ea typeface="華康儷粗黑"/>
              </a:rPr>
              <a:t>1.2 </a:t>
            </a:r>
            <a:r>
              <a:rPr b="1" lang="zh-TW" sz="3200" spc="-1" strike="noStrike">
                <a:solidFill>
                  <a:srgbClr val="ff3399"/>
                </a:solidFill>
                <a:latin typeface="華康儷粗黑"/>
                <a:ea typeface="華康儷粗黑"/>
              </a:rPr>
              <a:t>研究範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台灣國際港裝卸機具調查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60360" y="437508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亞太經濟合作組織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(APEC)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港埠資料庫系統中建立台灣國際港基本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1000" y="1986120"/>
            <a:ext cx="67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1480" indent="-1041480"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Times New Roman"/>
                <a:ea typeface="標楷體"/>
              </a:rPr>
              <a:t>對象：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基隆港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台中港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高雄港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花蓮港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</a:t>
            </a: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蘇澳港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39520" y="29703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Times New Roman"/>
                <a:ea typeface="標楷體"/>
              </a:rPr>
              <a:t>項目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港裝卸機具資料蒐集與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91400" y="338292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建立效率評比之項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建立資料庫查詢系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1200" y="52498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 u="sng">
                <a:solidFill>
                  <a:srgbClr val="fc0128"/>
                </a:solidFill>
                <a:uFillTx/>
                <a:latin typeface="Times New Roman"/>
                <a:ea typeface="細明體"/>
                <a:hlinkClick r:id="rId1"/>
              </a:rPr>
              <a:t>http://www.</a:t>
            </a:r>
            <a:r>
              <a:rPr b="0" lang="zh-TW" sz="2800" spc="-1" strike="noStrike" u="sng">
                <a:solidFill>
                  <a:srgbClr val="fc0128"/>
                </a:solidFill>
                <a:uFillTx/>
                <a:latin typeface="Times New Roman"/>
                <a:ea typeface="細明體"/>
                <a:hlinkClick r:id="rId2"/>
              </a:rPr>
              <a:t>apec</a:t>
            </a:r>
            <a:r>
              <a:rPr b="0" lang="zh-TW" sz="2800" spc="-1" strike="noStrike" u="sng">
                <a:solidFill>
                  <a:srgbClr val="fc0128"/>
                </a:solidFill>
                <a:uFillTx/>
                <a:latin typeface="Times New Roman"/>
                <a:ea typeface="細明體"/>
                <a:hlinkClick r:id="rId3"/>
              </a:rPr>
              <a:t>.</a:t>
            </a:r>
            <a:r>
              <a:rPr b="0" lang="zh-TW" sz="2800" spc="-1" strike="noStrike" u="sng">
                <a:solidFill>
                  <a:srgbClr val="fc0128"/>
                </a:solidFill>
                <a:uFillTx/>
                <a:latin typeface="Times New Roman"/>
                <a:ea typeface="細明體"/>
                <a:hlinkClick r:id="rId4"/>
              </a:rPr>
              <a:t>cl</a:t>
            </a:r>
            <a:r>
              <a:rPr b="0" lang="zh-TW" sz="2800" spc="-1" strike="noStrike" u="sng">
                <a:solidFill>
                  <a:srgbClr val="fc0128"/>
                </a:solidFill>
                <a:uFillTx/>
                <a:latin typeface="Times New Roman"/>
                <a:ea typeface="細明體"/>
                <a:hlinkClick r:id="rId5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5715000"/>
            <a:ext cx="658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註：</a:t>
            </a:r>
            <a:r>
              <a:rPr b="0" lang="zh-TW" sz="1600" spc="-1" strike="noStrike">
                <a:solidFill>
                  <a:srgbClr val="fc0128"/>
                </a:solidFill>
                <a:latin typeface="Times New Roman"/>
                <a:ea typeface="標楷體"/>
              </a:rPr>
              <a:t>Apec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亞太經濟合作組織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sia Pacific Economic Co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600" spc="-1" strike="noStrike">
                <a:solidFill>
                  <a:srgbClr val="fc0128"/>
                </a:solidFill>
                <a:latin typeface="Times New Roman"/>
                <a:ea typeface="標楷體"/>
              </a:rPr>
              <a:t>cl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智利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CB22-92F3-4F06-A58F-0B7BC8110991}" type="slidenum">
              <a:t>4</a:t>
            </a:fld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50880" y="157320"/>
            <a:ext cx="1828800" cy="1104840"/>
          </a:xfrm>
          <a:prstGeom prst="irregularSeal2">
            <a:avLst/>
          </a:prstGeom>
          <a:gradFill rotWithShape="0">
            <a:gsLst>
              <a:gs pos="0">
                <a:srgbClr val="ff6600"/>
              </a:gs>
              <a:gs pos="50000">
                <a:srgbClr val="000000"/>
              </a:gs>
              <a:gs pos="100000">
                <a:srgbClr val="ff66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99880" y="336600"/>
            <a:ext cx="401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99"/>
                </a:solidFill>
                <a:latin typeface="華康儷粗黑"/>
                <a:ea typeface="華康儷粗黑"/>
              </a:rPr>
              <a:t>陸、</a:t>
            </a:r>
            <a:r>
              <a:rPr b="0" lang="zh-TW" sz="4000" spc="-1" strike="noStrike">
                <a:solidFill>
                  <a:srgbClr val="ff3399"/>
                </a:solidFill>
                <a:latin typeface="華康儷粗黑"/>
                <a:ea typeface="華康儷粗黑"/>
              </a:rPr>
              <a:t>APEC</a:t>
            </a:r>
            <a:r>
              <a:rPr b="0" lang="zh-TW" sz="4000" spc="-1" strike="noStrike">
                <a:solidFill>
                  <a:srgbClr val="ff3399"/>
                </a:solidFill>
                <a:latin typeface="華康儷粗黑"/>
                <a:ea typeface="華康儷粗黑"/>
              </a:rPr>
              <a:t>港埠資料庫系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1171440"/>
            <a:ext cx="77724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華康新儷粗黑"/>
                <a:ea typeface="華康新儷粗黑"/>
              </a:rPr>
              <a:t>6.1 </a:t>
            </a:r>
            <a:r>
              <a:rPr b="0" lang="zh-TW" sz="3200" spc="-1" strike="noStrike">
                <a:solidFill>
                  <a:srgbClr val="0000ff"/>
                </a:solidFill>
                <a:latin typeface="華康新儷粗黑"/>
                <a:ea typeface="華康新儷粗黑"/>
              </a:rPr>
              <a:t>成立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fc0128"/>
                </a:solidFill>
                <a:latin typeface="Symbol"/>
                <a:ea typeface="Symbol"/>
              </a:rPr>
              <a:t>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利用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Internet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無遠弗屆之影響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fc0128"/>
                </a:solidFill>
                <a:latin typeface="Symbol"/>
                <a:ea typeface="Symbol"/>
              </a:rPr>
              <a:t>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促進亞太地區各港埠資料流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華康新儷粗黑"/>
                <a:ea typeface="華康新儷粗黑"/>
              </a:rPr>
              <a:t>6.2 </a:t>
            </a:r>
            <a:r>
              <a:rPr b="0" lang="zh-TW" sz="3200" spc="-1" strike="noStrike">
                <a:solidFill>
                  <a:srgbClr val="0000ff"/>
                </a:solidFill>
                <a:latin typeface="華康新儷粗黑"/>
                <a:ea typeface="華康新儷粗黑"/>
              </a:rPr>
              <a:t>範圍－亞太經濟合作組織會員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39960" y="577836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fc0128"/>
                </a:solidFill>
                <a:latin typeface="Symbol"/>
                <a:ea typeface="Symbol"/>
              </a:rPr>
              <a:t>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大  洋  洲地區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澳洲、紐西蘭、巴布亞紐幾內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60520" y="4203720"/>
            <a:ext cx="72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8760" indent="-2768760">
              <a:lnSpc>
                <a:spcPct val="100000"/>
              </a:lnSpc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fc0128"/>
                </a:solidFill>
                <a:latin typeface="Symbol"/>
                <a:ea typeface="Symbol"/>
              </a:rPr>
              <a:t>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西太平洋地區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本、中華民國、香港、韓國、新加坡、馬來西亞、泰國、菲律賓、印尼、汶萊、中國大陸、俄羅斯、越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76360" y="3424320"/>
            <a:ext cx="70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2280" indent="-2762280">
              <a:lnSpc>
                <a:spcPct val="100000"/>
              </a:lnSpc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fc0128"/>
                </a:solidFill>
                <a:latin typeface="Symbol"/>
                <a:ea typeface="Symbol"/>
              </a:rPr>
              <a:t></a:t>
            </a:r>
            <a:r>
              <a:rPr b="0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美        洲地區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美國、加拿大、墨西哥、智利、秘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C750-B74C-4EAB-AD94-AECEA16FDD1F}" type="slidenum">
              <a:t>40</a:t>
            </a:fld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052640" y="1271520"/>
            <a:ext cx="7246800" cy="432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"/>
          <p:cNvSpPr/>
          <p:nvPr/>
        </p:nvSpPr>
        <p:spPr>
          <a:xfrm>
            <a:off x="3200760" y="571176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PEC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港埠資料庫進入畫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7C5B-30B5-4E32-8B0B-DA198C4CB034}" type="slidenum">
              <a:t>41</a:t>
            </a:fld>
          </a:p>
        </p:txBody>
      </p:sp>
    </p:spTree>
  </p:cSld>
  <p:transition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6-3-1" descr=""/>
          <p:cNvPicPr/>
          <p:nvPr/>
        </p:nvPicPr>
        <p:blipFill>
          <a:blip r:embed="rId1"/>
          <a:stretch/>
        </p:blipFill>
        <p:spPr>
          <a:xfrm>
            <a:off x="969840" y="1224000"/>
            <a:ext cx="7593120" cy="44164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278400" y="1522440"/>
            <a:ext cx="1414800" cy="118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356520" y="2657520"/>
            <a:ext cx="1555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選擇港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39840" y="5572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港埠選擇畫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E64C-2504-4043-AC00-D904CE0A19ED}" type="slidenum">
              <a:t>42</a:t>
            </a:fld>
          </a:p>
        </p:txBody>
      </p:sp>
    </p:spTree>
  </p:cSld>
  <p:transition>
    <p:checke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33240" y="449280"/>
            <a:ext cx="777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6.3 </a:t>
            </a: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系統架構及內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76280" y="1143000"/>
            <a:ext cx="8267400" cy="4806720"/>
            <a:chOff x="476280" y="1143000"/>
            <a:chExt cx="8267400" cy="4806720"/>
          </a:xfrm>
        </p:grpSpPr>
        <p:graphicFrame>
          <p:nvGraphicFramePr>
            <p:cNvPr id="364" name=""/>
            <p:cNvGraphicFramePr/>
            <p:nvPr/>
          </p:nvGraphicFramePr>
          <p:xfrm>
            <a:off x="476280" y="1143000"/>
            <a:ext cx="8267400" cy="480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6280" y="1143000"/>
                      <a:ext cx="8267400" cy="480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6" name=""/>
            <p:cNvSpPr/>
            <p:nvPr/>
          </p:nvSpPr>
          <p:spPr>
            <a:xfrm>
              <a:off x="4059360" y="3038400"/>
              <a:ext cx="21754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港埠一般資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52520" y="3818880"/>
              <a:ext cx="385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貨櫃中心、碼頭營運資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57560" y="4647240"/>
              <a:ext cx="2174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港埠環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9720" y="2049480"/>
              <a:ext cx="2147760" cy="1726200"/>
            </a:xfrm>
            <a:prstGeom prst="wedgeRectCallout">
              <a:avLst>
                <a:gd name="adj1" fmla="val 110759"/>
                <a:gd name="adj2" fmla="val 20023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160" y="3872520"/>
              <a:ext cx="2144160" cy="686520"/>
            </a:xfrm>
            <a:prstGeom prst="wedgeRectCallout">
              <a:avLst>
                <a:gd name="adj1" fmla="val 112111"/>
                <a:gd name="adj2" fmla="val -2943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53320" y="4638600"/>
              <a:ext cx="2149200" cy="1082880"/>
            </a:xfrm>
            <a:prstGeom prst="wedgeRectCallout">
              <a:avLst>
                <a:gd name="adj1" fmla="val 109351"/>
                <a:gd name="adj2" fmla="val -3179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0E0E-4620-476D-8C47-EE7511D1ADBE}" type="slidenum">
              <a:t>43</a:t>
            </a:fld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33240" y="449280"/>
            <a:ext cx="777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6.4 </a:t>
            </a:r>
            <a:r>
              <a:rPr b="0" lang="zh-TW" sz="3200" spc="-1" strike="noStrike">
                <a:solidFill>
                  <a:srgbClr val="ff3399"/>
                </a:solidFill>
                <a:latin typeface="華康新儷粗黑"/>
                <a:ea typeface="華康新儷粗黑"/>
              </a:rPr>
              <a:t>使用上注意事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11714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資料庫項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12680" y="1768320"/>
            <a:ext cx="66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由工作小組參考各國港埠資料共通項目所建立，目前各港無權限更改資料庫項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28098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增列項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12680" y="3406680"/>
            <a:ext cx="66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利用正常管道，建議工作小組增列不足項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4390920"/>
            <a:ext cx="31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5200"/>
                <a:tab algn="l" pos="1041480"/>
                <a:tab algn="l" pos="34225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使用者介面語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12680" y="4987800"/>
            <a:ext cx="66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考慮各國文化、語言之不同，以英文為操作介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7581-B6B1-443D-98F1-B725C256CEC6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50880" y="157320"/>
            <a:ext cx="1828800" cy="1104840"/>
          </a:xfrm>
          <a:prstGeom prst="irregularSeal2">
            <a:avLst/>
          </a:prstGeom>
          <a:gradFill rotWithShape="0">
            <a:gsLst>
              <a:gs pos="0">
                <a:srgbClr val="ff6600"/>
              </a:gs>
              <a:gs pos="50000">
                <a:srgbClr val="000000"/>
              </a:gs>
              <a:gs pos="100000">
                <a:srgbClr val="ff66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82160" y="3366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儷粗黑"/>
                <a:ea typeface="華康儷粗黑"/>
              </a:rPr>
              <a:t>柒、結論與建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1720" y="1627200"/>
            <a:ext cx="8570880" cy="40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2960" indent="-372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基隆港、花蓮港及蘇澳港之機具為港務局所有，高雄港及台中港則有部份為民營業者所自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ff3399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	</a:t>
            </a:r>
            <a:r>
              <a:rPr b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各港裝卸機具之可用率大部份都能維持在</a:t>
            </a:r>
            <a:r>
              <a:rPr b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80%</a:t>
            </a:r>
            <a:r>
              <a:rPr b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  <a:ea typeface="標楷體"/>
              </a:rPr>
              <a:t>	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  <a:ea typeface="標楷體"/>
              </a:rPr>
              <a:t>民營業者所屬機具之使用率高於港務局所屬機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fc0128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	</a:t>
            </a:r>
            <a:r>
              <a:rPr b="1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各港裝卸機具作業資料蒐集不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民營業者所屬之貨櫃起重機之作業效率高於港務局所屬機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0560" y="477360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8000" y="1158840"/>
            <a:ext cx="17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華康儷粗黑"/>
                <a:ea typeface="華康儷粗黑"/>
              </a:rPr>
              <a:t>7.1 </a:t>
            </a:r>
            <a:r>
              <a:rPr b="0" lang="zh-TW" sz="3200" spc="-1" strike="noStrike">
                <a:solidFill>
                  <a:srgbClr val="0000ff"/>
                </a:solidFill>
                <a:latin typeface="華康儷粗黑"/>
                <a:ea typeface="華康儷粗黑"/>
              </a:rPr>
              <a:t>結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E3FB-1DEF-483D-8470-6F7EDBDAF532}" type="slidenum">
              <a:t>45</a:t>
            </a:fld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739800" y="1838160"/>
            <a:ext cx="774540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建立完整機具資料，以供參考比較之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ff3399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增購高效率之機具，逐漸汰除老舊設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  <a:ea typeface="標楷體"/>
              </a:rPr>
              <a:t>加速開放碼頭專用，降低機具使用限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fc0128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結合網際網路</a:t>
            </a:r>
            <a:r>
              <a:rPr b="1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(Internet)</a:t>
            </a:r>
            <a:r>
              <a:rPr b="1" lang="zh-TW" sz="2800" spc="-1" strike="noStrike">
                <a:solidFill>
                  <a:srgbClr val="fc0128"/>
                </a:solidFill>
                <a:latin typeface="Times New Roman"/>
                <a:ea typeface="標楷體"/>
              </a:rPr>
              <a:t>，宣傳港埠形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參考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APEC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資料庫經驗，建立網路資料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0560" y="477360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8000" y="1158840"/>
            <a:ext cx="17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華康儷粗黑"/>
                <a:ea typeface="華康儷粗黑"/>
              </a:rPr>
              <a:t>7.2 </a:t>
            </a:r>
            <a:r>
              <a:rPr b="0" lang="zh-TW" sz="3200" spc="-1" strike="noStrike">
                <a:solidFill>
                  <a:srgbClr val="0000ff"/>
                </a:solidFill>
                <a:latin typeface="華康儷粗黑"/>
                <a:ea typeface="華康儷粗黑"/>
              </a:rPr>
              <a:t>建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9A22-59C7-4A37-8420-FBB970CCC72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600200" y="1467000"/>
            <a:ext cx="6048360" cy="35049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600200" y="1542960"/>
            <a:ext cx="6048360" cy="333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808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華康儷粗黑"/>
              </a:rPr>
              <a:t>簡報完畢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3300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華康儷粗黑"/>
              <a:ea typeface="華康儷粗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808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華康儷粗黑"/>
              </a:rPr>
              <a:t>敬請指教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3300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華康儷粗黑"/>
              <a:ea typeface="華康儷粗黑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892600" y="4270320"/>
            <a:ext cx="3684240" cy="206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85D2-5A2A-4DC2-B833-0633C101AAEE}" type="slidenum">
              <a:t>47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93560" y="1244520"/>
            <a:ext cx="80521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3200" spc="-1" strike="noStrike">
                <a:solidFill>
                  <a:srgbClr val="ff3399"/>
                </a:solidFill>
                <a:latin typeface="華康儷粗黑"/>
                <a:ea typeface="華康儷粗黑"/>
              </a:rPr>
              <a:t>1.3 </a:t>
            </a:r>
            <a:r>
              <a:rPr b="1" lang="zh-TW" sz="3200" spc="-1" strike="noStrike">
                <a:solidFill>
                  <a:srgbClr val="ff3399"/>
                </a:solidFill>
                <a:latin typeface="華康儷粗黑"/>
                <a:ea typeface="華康儷粗黑"/>
              </a:rPr>
              <a:t>研究執行方式及工作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執行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04800" y="2362320"/>
            <a:ext cx="704556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9900"/>
                </a:solidFill>
                <a:latin typeface="Times New Roman"/>
                <a:ea typeface="標楷體"/>
              </a:rPr>
              <a:t>召開工作會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港成立單一窗口，協調資料蒐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9900"/>
                </a:solidFill>
                <a:latin typeface="Times New Roman"/>
                <a:ea typeface="標楷體"/>
              </a:rPr>
              <a:t>制定相關調查資料項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54320" y="3809880"/>
            <a:ext cx="635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94040" indent="-1994040">
              <a:lnSpc>
                <a:spcPct val="10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本資料－機具廠牌、型式、位置、能量、購置日期、壽年及基本尺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94040" indent="-1994040">
              <a:lnSpc>
                <a:spcPct val="10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用狀況－機具之可用時間、使用時間及作業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680D-EED7-44F3-B6CF-38CFEE7996A6}" type="slidenum">
              <a:t>5</a:t>
            </a:fld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93560" y="1049400"/>
            <a:ext cx="19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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工作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08640" y="1014480"/>
            <a:ext cx="1163520" cy="3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計畫目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97600" y="134784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27360" y="1477800"/>
            <a:ext cx="2687760" cy="146160"/>
          </a:xfrm>
          <a:custGeom>
            <a:avLst/>
            <a:gdLst/>
            <a:ahLst/>
            <a:rect l="l" t="t" r="r" b="b"/>
            <a:pathLst>
              <a:path w="1440" h="720">
                <a:moveTo>
                  <a:pt x="0" y="720"/>
                </a:moveTo>
                <a:lnTo>
                  <a:pt x="0" y="0"/>
                </a:lnTo>
                <a:lnTo>
                  <a:pt x="1440" y="0"/>
                </a:lnTo>
                <a:lnTo>
                  <a:pt x="1440" y="7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95520" y="1627200"/>
            <a:ext cx="213984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系統架構構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7480" y="1627200"/>
            <a:ext cx="2225520" cy="61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裝卸機具資料蒐集、整理、分析及審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03960" y="2243160"/>
            <a:ext cx="22161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72080" y="1789200"/>
            <a:ext cx="66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48240" y="194796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2144880"/>
            <a:ext cx="24051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系統建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12920" y="2436840"/>
            <a:ext cx="2405160" cy="13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機介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72080" y="2306520"/>
            <a:ext cx="66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81400" y="3944880"/>
            <a:ext cx="196992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測試、除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1040" y="3795840"/>
            <a:ext cx="8082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修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382920" y="3808440"/>
            <a:ext cx="20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2800" y="3521160"/>
            <a:ext cx="1787400" cy="60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建立績效評比之項目及方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62400" y="425772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62040" y="4357800"/>
            <a:ext cx="1800360" cy="91800"/>
          </a:xfrm>
          <a:custGeom>
            <a:avLst/>
            <a:gdLst/>
            <a:ahLst/>
            <a:rect l="l" t="t" r="r" b="b"/>
            <a:pathLst>
              <a:path w="1440" h="720">
                <a:moveTo>
                  <a:pt x="0" y="720"/>
                </a:moveTo>
                <a:lnTo>
                  <a:pt x="0" y="0"/>
                </a:lnTo>
                <a:lnTo>
                  <a:pt x="1440" y="0"/>
                </a:lnTo>
                <a:lnTo>
                  <a:pt x="1440" y="7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84120" y="4456080"/>
            <a:ext cx="182592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般資料庫查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13080" y="4457880"/>
            <a:ext cx="235908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裝卸效率評比、分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470320" y="4768920"/>
            <a:ext cx="1800000" cy="84240"/>
          </a:xfrm>
          <a:custGeom>
            <a:avLst/>
            <a:gdLst/>
            <a:ahLst/>
            <a:rect l="l" t="t" r="r" b="b"/>
            <a:pathLst>
              <a:path w="1440" h="720">
                <a:moveTo>
                  <a:pt x="0" y="720"/>
                </a:moveTo>
                <a:lnTo>
                  <a:pt x="0" y="0"/>
                </a:lnTo>
                <a:lnTo>
                  <a:pt x="1440" y="0"/>
                </a:lnTo>
                <a:lnTo>
                  <a:pt x="1440" y="7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14760" y="4940280"/>
            <a:ext cx="1290600" cy="30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成果研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62400" y="52498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17920" y="5398920"/>
            <a:ext cx="1509480" cy="31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結論與建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60600" y="57164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3600" y="5865840"/>
            <a:ext cx="185724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庫移轉業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63840" y="485316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2480" y="5288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裝卸機具調查工作流程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00040" y="230508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00040" y="23050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00040" y="4095720"/>
            <a:ext cx="100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61760" y="2560320"/>
            <a:ext cx="819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欄位建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輸入介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影像圖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94200" y="2719440"/>
            <a:ext cx="12459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系統畫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簡介查詢模式介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9400" y="2363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71760" y="375768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99080" y="2187360"/>
            <a:ext cx="1962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數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能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效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齡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132D-5AFC-4A51-8904-4D107F7B6D53}" type="slidenum">
              <a:t>6</a:t>
            </a:fld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182040" y="5819760"/>
            <a:ext cx="35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PEC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港埠資料庫系統資料更新流程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65520" y="1028880"/>
            <a:ext cx="345744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APE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港埠資料庫系統修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http://www.apec.cl/admin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56000" y="3087720"/>
            <a:ext cx="3867120" cy="26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基隆港、台中港、高雄港、花蓮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本自然條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營運設施狀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提供服務項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物進出口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航商資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收費標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航道及碼頭浚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浚挖物質的種類及處理方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3416400"/>
            <a:ext cx="38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483080" y="1725480"/>
            <a:ext cx="6480" cy="135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18240" y="2271600"/>
            <a:ext cx="201924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華顧問工程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46440" y="2049480"/>
            <a:ext cx="1143000" cy="31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建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50800" y="2081160"/>
            <a:ext cx="1771920" cy="6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各港務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央主管機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75160" y="24512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65640" y="2041560"/>
            <a:ext cx="1123920" cy="31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更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48240" y="2432160"/>
            <a:ext cx="1143000" cy="31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取得權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84720" y="2432160"/>
            <a:ext cx="110484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取得權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89560" y="242244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1800" y="242244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10160" y="4260960"/>
            <a:ext cx="254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註：</a:t>
            </a:r>
            <a:r>
              <a:rPr b="0" lang="zh-TW" sz="1200" spc="-1" strike="noStrike">
                <a:solidFill>
                  <a:srgbClr val="fc0128"/>
                </a:solidFill>
                <a:latin typeface="Times New Roman"/>
                <a:ea typeface="標楷體"/>
              </a:rPr>
              <a:t>Apec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亞太經濟合作組織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Asia Pacific Economic Cooperation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zh-TW" sz="1200" spc="-1" strike="noStrike">
                <a:solidFill>
                  <a:srgbClr val="fc0128"/>
                </a:solidFill>
                <a:latin typeface="Times New Roman"/>
                <a:ea typeface="標楷體"/>
              </a:rPr>
              <a:t>cl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智利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Chile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Admin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－管理者目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E7C2-A4CB-4913-A30A-F5067793D125}" type="slidenum">
              <a:t>7</a:t>
            </a:fld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50880" y="157320"/>
            <a:ext cx="1828800" cy="1104840"/>
          </a:xfrm>
          <a:prstGeom prst="irregularSeal2">
            <a:avLst/>
          </a:prstGeom>
          <a:gradFill rotWithShape="0">
            <a:gsLst>
              <a:gs pos="0">
                <a:srgbClr val="ff6600"/>
              </a:gs>
              <a:gs pos="50000">
                <a:srgbClr val="000000"/>
              </a:gs>
              <a:gs pos="100000">
                <a:srgbClr val="ff66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90120" y="3366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儷粗黑"/>
                <a:ea typeface="華康儷粗黑"/>
              </a:rPr>
              <a:t>貳、各國際商港簡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9880" y="1206360"/>
            <a:ext cx="22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3200" spc="-1" strike="noStrike">
                <a:solidFill>
                  <a:srgbClr val="ff3399"/>
                </a:solidFill>
                <a:latin typeface="華康儷粗黑"/>
                <a:ea typeface="華康儷粗黑"/>
              </a:rPr>
              <a:t>2.1 </a:t>
            </a:r>
            <a:r>
              <a:rPr b="1" lang="zh-TW" sz="3200" spc="-1" strike="noStrike">
                <a:solidFill>
                  <a:srgbClr val="ff3399"/>
                </a:solidFill>
                <a:latin typeface="華康儷粗黑"/>
                <a:ea typeface="華康儷粗黑"/>
              </a:rPr>
              <a:t>基隆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81440" y="1349280"/>
          <a:ext cx="3714480" cy="225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1440" y="1349280"/>
                    <a:ext cx="371448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917640" y="3753000"/>
          <a:ext cx="3717720" cy="2255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7640" y="3753000"/>
                    <a:ext cx="371772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959360" y="3762360"/>
          <a:ext cx="3718080" cy="2255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9360" y="3762360"/>
                    <a:ext cx="3718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36680" y="3786120"/>
            <a:ext cx="13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物吞吐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19720" y="382284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物裝卸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3308400"/>
            <a:ext cx="59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7640" y="14461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進出港船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8840" y="5676840"/>
            <a:ext cx="59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86640" y="5737320"/>
            <a:ext cx="59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1739-DB62-4E1B-A7DC-7D1E6E5B2AB6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74840" y="406440"/>
            <a:ext cx="22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3200" spc="-1" strike="noStrike">
                <a:solidFill>
                  <a:srgbClr val="ff3399"/>
                </a:solidFill>
                <a:latin typeface="華康儷粗黑"/>
                <a:ea typeface="華康儷粗黑"/>
              </a:rPr>
              <a:t>2.2 </a:t>
            </a:r>
            <a:r>
              <a:rPr b="1" lang="zh-TW" sz="3200" spc="-1" strike="noStrike">
                <a:solidFill>
                  <a:srgbClr val="ff3399"/>
                </a:solidFill>
                <a:latin typeface="華康儷粗黑"/>
                <a:ea typeface="華康儷粗黑"/>
              </a:rPr>
              <a:t>台中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029040" y="1136520"/>
          <a:ext cx="3703680" cy="22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9040" y="1136520"/>
                    <a:ext cx="370368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952560" y="3632040"/>
          <a:ext cx="3728880" cy="226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2560" y="3632040"/>
                    <a:ext cx="3728880" cy="22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886280" y="3641760"/>
          <a:ext cx="3729240" cy="2266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86280" y="3641760"/>
                    <a:ext cx="372924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4730760" y="3044880"/>
            <a:ext cx="42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84480" y="1233360"/>
            <a:ext cx="18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進出港船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5573880"/>
            <a:ext cx="39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36880" y="3706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物吞吐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0240" y="559116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別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42080" y="371484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貨物裝卸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F860-D6DA-44BE-BBDA-58BBF97B4472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6T14:10:56Z</dcterms:created>
  <dc:creator>hb44194</dc:creator>
  <dc:description/>
  <dc:language>en-US</dc:language>
  <cp:lastModifiedBy>hb44194</cp:lastModifiedBy>
  <cp:lastPrinted>2000-05-04T05:50:11Z</cp:lastPrinted>
  <dcterms:modified xsi:type="dcterms:W3CDTF">2000-05-04T05:51:17Z</dcterms:modified>
  <cp:revision>118</cp:revision>
  <dc:subject/>
  <dc:title>國際港裝卸機具調查研究</dc:title>
</cp:coreProperties>
</file>