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BCD-3CBD-45B4-88E9-4F0FB27A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5BA-BAD3-4384-814F-940E46BE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A93-A68A-4ECE-864F-7B0E1659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055-63C7-4F91-BA70-9771B0FD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44BB-AD62-411B-AD4E-693054E9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56CD-118F-482C-91B3-7554F86C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A747-FF0E-49D1-8B6D-CD19A8A6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5FC1-6269-4C51-9DEE-A4E7FA37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18C-E79C-49F1-AA9E-D275B7E0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4D55-0BC3-4662-97DB-2A89F8C7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C9CB-F18D-4024-9077-1CB5259E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332-AB20-4B87-ADE0-4E039402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6B65-39AE-452E-B27E-AE17E3B1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666B-C4F4-4134-8BB8-C51AB07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9B83-85DA-430E-B682-9BC55F34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8C4A-DBB2-4269-8E97-DA190AD4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C35E-D20D-432D-AB02-BD8A2E4A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5DE-E41F-46D7-954A-D32FBCF9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8AC-758B-4CFF-8F12-3A54CAF1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319-E4C6-4614-B455-2A99E7F1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EEA-8663-4835-9676-01CC8FCF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324-983E-4E10-871D-A6B9827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6C6-59C2-479C-B70E-4EF6647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93A-37E7-4E31-8766-7A80C100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2C96-A0A2-4DBC-898A-85509F6C282E}" type="slidenum">
              <a:rPr b="0" lang="zh-TW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zh-TW" sz="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TW" sz="800" spc="-1" strike="noStrike">
                <a:solidFill>
                  <a:srgbClr val="ffffff"/>
                </a:solidFill>
                <a:latin typeface="Times New Roman"/>
              </a:rPr>
              <a:t>兩岸航政管理體制問題</a:t>
            </a:r>
            <a:br>
              <a:rPr sz="800"/>
            </a:br>
            <a:r>
              <a:rPr b="0" lang="zh-TW" sz="800" spc="-1" strike="noStrike">
                <a:solidFill>
                  <a:srgbClr val="ffffff"/>
                </a:solidFill>
                <a:latin typeface="Times New Roman"/>
              </a:rPr>
              <a:t>             與因應策略之研究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07E9-FBB6-44AE-BADE-BAA69D0226A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兩岸航政管理體制問題</a:t>
            </a:r>
            <a:br>
              <a:rPr sz="4400"/>
            </a:b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與因應對策之研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運輸經營管理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海運研究小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林繼國、陳一平、史習平、許瓊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7FE-CE40-46B7-BAD7-61B01DDD5B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大陸航政管理體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航政管理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運輸行業行政管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口岸綜合管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港務監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航政法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水上安全監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水路運輸行政管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航道行政管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2895480"/>
            <a:ext cx="4419720" cy="37339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3962520"/>
            <a:ext cx="1828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648320"/>
            <a:ext cx="25146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5334120"/>
            <a:ext cx="3505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6095880"/>
            <a:ext cx="4114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2971800"/>
            <a:ext cx="4952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「交通部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「省（自治區、直轄市）交通廳（局）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「地（市）交通局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「縣（區、市）交通局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「鄉（鎮）交通管理所（站）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1905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航政組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BD4-C5BA-4A10-884C-730D23E984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大陸航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政</a:t>
            </a:r>
            <a:r>
              <a:rPr b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改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「政企分開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「簡政放權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「河海兼顧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「港航分管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「自負盈虧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581-3E9E-4ED2-A27E-428615AFE7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大陸目前航運面臨問題與對策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大陸目前航運面臨問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市場資訊壟斷，難以發揮市場機制功能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外資定期船大舉進入大陸市場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，產生競爭與衝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對外商進行約束、規範及對航運市場，因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「宏觀調控」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形成不公平競爭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大陸航運發展問題之因應對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改善交通運輸結構、推動交通企業改革及整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建立市場導向之觀念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發展貨櫃複合聯運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持續推動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重點港埠工程建設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655-CAEE-4D5A-B225-D4C6A88516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兩岸航政管理體制比較分析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航政組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航政管理體制發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政企分離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航業管理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船舶檢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海事仲裁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國際公約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航行安全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船員管理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450-1B6D-4608-99A3-5D87F0A695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國航政組織體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單純，但管理事權分散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如航路標識、航道測量、海上保安、海上救難、海洋污染防制等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港務局政商合一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型態之組織，不利於港埠業務之經營趨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航政體制迄不合時宜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242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大陸航政組織體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管理組織體制龐大，產生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疊床架屋與多方牽制之現象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，航政管理之功能難以彰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一九八</a:t>
            </a:r>
            <a:r>
              <a:rPr b="0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O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逐步完成航運業體制及管理體制改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兩岸航政組織比較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兩岸航政管理體制比較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F23-66A3-4FAD-A88B-41E3E11F31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漸次進行民營化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之規劃與執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89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年底前將推動成立航港局及設立國營港務公司，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91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年底完成港務公司移轉民營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在民營化過程中，仍須對民營化公司之轉移及人員安置問題妥善研商解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兩岸航政管理體制比較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政企分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1447920"/>
            <a:ext cx="41911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950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起推動「政企合一」。八○年代開始政企分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從企業中將「政」的職能分出，單獨設立航務（運）管理局（處），但無法可依法行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近年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逐步實施政企分離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，消除行政障礙，以兼併、聯合、合作等方式，積極推動運輸企業規模經濟之發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726-27F4-4401-B9E7-BB69E97103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航業管理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配合國際化、自由化趨勢，航業法及其子法已陸續修訂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未有適切航運獎勵扶植措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未開放國輪參與兩岸航運市場，無法有效的、政策性的扶持國輪發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公營體制包袱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航業經營屬許可制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過多管制影響海運自由化，影響兩岸航運產業互動發展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航運企業體制在「政企分開」原則下，各企業均為經濟實體。但因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外輪之競爭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，多屬虧損狀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兩岸航政管理體制比較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686-CF58-41FA-9969-D0CBF2F10D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船舶檢驗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CR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為船級位之檢驗、依國際公約施行之檢驗及檢查工作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必須加入</a:t>
            </a:r>
            <a:r>
              <a:rPr b="0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CR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以外之第二船級協會（</a:t>
            </a:r>
            <a:r>
              <a:rPr b="0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CLASS</a:t>
            </a:r>
            <a:r>
              <a:rPr b="0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），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致成本提高，也導致航商登記國輪意願降低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為配合船舶和海上設施入籍業務、公證檢驗業務之需，成立「中國船級社」（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CCS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兩岸通航後，船舶證書文件簽發單位涉及兩岸航政主管機關等政治敏感問題，日後在檢驗及發證程序將較為繁瑣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兩岸航政管理體制比較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3A1-16A5-4114-A852-CEA46D13B9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海事仲裁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海事爭議尚未獨立立法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，現以港務局仲裁委員會初審，交通部海事爭議委員會複審，結論僅供行政及司法機關參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應藉由仲裁制度共同推動海事爭議處理，建立專業之海事仲裁法規或制度以解決海事爭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1958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年設「海事仲裁委員會」，建立仲裁體制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依「中國海事仲裁委員會仲裁規則」，海事仲裁制度較為完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中共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積極投入國際社會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，目前在國際海事法庭中，已有中國籍法官臚列其中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兩岸航政管理體制比較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AAF-B7B1-4381-A5CD-5D8FB39EA1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國際公約及相關航運法規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由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CR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依公約規定施行檢驗簽發證書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我現雖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非聯合國之會員國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，仍應在國內立法上配合公約規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發生涉及一般海事事務時，以為援引適用處理之依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1979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年起相繼簽署加入國際海事組織，或施行該相關之國際公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航政管理制度從早期對內之航運、港務監督，擴展至航行保障、水運通信、環境保護等方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航運法規則因黨政集權及社會制度，而影響其規範化及法治化程度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兩岸航政管理體制比較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A86-ACEB-4C12-B288-A0CDEA359B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報告內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兩岸通航現況與障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航政管理體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兩岸航政管理體制比較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兩岸通航問題探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結論與建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567-A366-48A5-9BC8-C0F7780881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航行安全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航運安全法規散見各處，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欠缺「海上交通安全法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」之立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相關航行安全法規不合時宜或缺漏，或與其他法令產生競合，導致窒礙難行，影響航業發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航行安全為兩岸航運活動中最易達成共識之議題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1984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年通過「海上交通安全法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」。為大陸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海上交通安全及港務監督管理的基礎法律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主要規定船舶、設施、及人員於海上航行、停泊和作業必須具備的技術條件，相對的權利義務關係，並規定主管機關管理權責，及違法者應承擔的法律責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兩岸航政管理體制比較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2EB-11C3-48AE-B6F1-9C40D6E67E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船員管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兩岸航政管理體制比較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我國民法對船員雇用契約有所規定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，「船員法」（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88.6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）獨立立法後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，更加強對船員權益之保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國輪仍需受船員法等法規規範，須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僱用薪資較高之本國籍船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商船船員薪資高且上船意願低落，實較不利於國際航運之競爭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中共「海商法」規定船員任用和勞動力方面的權利義務，但未見單獨立法之船員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大陸地區船員薪資低而人力充沛，但船員總體技術素質不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8C7-4695-4101-BE46-0155EAD48C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影響兩岸直航的航政管理問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航運規範與法規問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航線及船舶旗證問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放港口選擇問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航運產業競爭問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海事合作問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A1B-FA80-4142-995D-F685A1F67D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航運規範與法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航政管轄權（行政、司法、立法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雙方船舶或船員在進入對方領海及港口期間，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應遵守對方之法律規章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而其他有關法律適用及法律衝突事項，則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依相關國際公約或海事慣例處理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，並得以契約約定法規之適用、管轄及仲裁辦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航政管理體制問題與對策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10C-A8BB-4222-B92A-D9D7BF2297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航線及船舶旗證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直航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VS.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通航、航線定位、權宜船、    船舶驗證及船員管理問題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依對等原則開放兩岸航線之申請、營運，並由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各自航政主管機關監督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共同遵守雙方約定航線所設定之航道。進入對方領域時，依該管轄規定懸掛識別旗幟。而雙方航政主管機關除安全證書查驗外，其他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船舶文書查驗作業簡化或甚至免除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76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航政管理體制問題與對策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F6C-975E-4ED1-BB8B-A07A4586F9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開放港口選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口岸之開放，成為大陸方面對應我方「不通關、不入境」策略之政治籌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以兩岸間營運之港口為限，分階段擴增境外航運中心的港埠。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開放之港口以有海關管轄之國際商港為主，對於不定期船則不予限制或指定港口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對應開放台中、基隆兩港，及大陸「廣、大、上、青、天」等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航政管理體制問題與對策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310-54B6-4430-8ADD-66CBF10F0F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航運產業競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產業開放、管理事權不一、稅費及運費問題、航業經營模式不同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兩岸對航商及船舶與船員之認定，仍以兩岸人民登記設立或依法認可者為主。相關待遇應對等，准許雙方航商共同經營，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或以聯營、互租艙位等策略聯盟方式合作，並得設立分支機構或指定代理人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稅費收取則依平等互惠原則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，甚至可互相免徵所得稅或營業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航政管理體制問題與對策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9D4-F149-4A79-BFE8-75399D2304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海事合作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海難搜救合作、海上油污染防治、航行安全問題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航運安全較政治層面問題易形成共識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，為完善台灣海峽的航行安全保障體系，可透過民間組織力量建立聯繫管道，加速解決面臨之海事問題，共享兩岸資源。達成共識後再提請雙方主管機關儘速推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航政管理體制問題與對策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624-C1E5-469F-B62E-5DD1AD23B3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結論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兩岸關係屬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政治角力與經濟互動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矛盾結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兩岸直航議題仍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無交集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但極具發展潛力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兩岸直航仍須在保障國家安全及國民整體利益前提下進行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大陸航政管理體制發展起步晚、進步快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兩岸航政管理體制各擅其場，可互相借鏡學習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兩岸皆需致力推動航政管理制度化與法治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兩岸通航仍待協調、諮商與談判相關航政管理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7E6-D5E3-4D24-B791-B7273B134C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建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儘速改善航政管理組織與體制，推動成立航政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加速相關海事立法國際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推動航政管理制度化與法治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由民間漸次推動航運交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解決航政管理問題，務實推動兩岸直航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5FD-B95A-40F3-A76B-2183C29526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研究目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針對兩岸航政管理體制差異下，探討兩岸通航可能面臨之航政管理問題並謀求對策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E30-9F62-4C4A-8B32-F93B8C428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零和與雙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兩岸航運協商應避開「一個中國」的問題，力求實質的「對等」關係，而非意識型態之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在政治的「想像領域」與經濟的「實質利益」二者間求得均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將兩岸直航的議題，適度轉換成我方緩和兩岸緊張關係之籌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在平等互惠原則下，共同協商取得共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CDA-7A12-4818-AAE7-72771BC2F2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簡報完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敬請指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006800" cy="285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C9A-1492-4934-A382-A4C4B5A647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62520" y="5715000"/>
            <a:ext cx="2590560" cy="1143000"/>
          </a:xfrm>
          <a:prstGeom prst="cube">
            <a:avLst>
              <a:gd name="adj" fmla="val 23333"/>
            </a:avLst>
          </a:prstGeom>
          <a:solidFill>
            <a:srgbClr val="99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國家安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3352680"/>
            <a:ext cx="6477120" cy="304920"/>
          </a:xfrm>
          <a:prstGeom prst="parallelogram">
            <a:avLst>
              <a:gd name="adj" fmla="val 5310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733920"/>
            <a:ext cx="2286000" cy="2209680"/>
          </a:xfrm>
          <a:prstGeom prst="triangle">
            <a:avLst>
              <a:gd name="adj" fmla="val 50764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兩岸交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276720"/>
            <a:ext cx="7696080" cy="380880"/>
          </a:xfrm>
          <a:prstGeom prst="parallelogram">
            <a:avLst>
              <a:gd name="adj" fmla="val 13713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600200"/>
            <a:ext cx="1523880" cy="205740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經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600200"/>
            <a:ext cx="1523880" cy="20574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7320" y="182880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政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57200"/>
            <a:ext cx="3276720" cy="1295280"/>
          </a:xfrm>
          <a:prstGeom prst="downArrow">
            <a:avLst>
              <a:gd name="adj1" fmla="val 51065"/>
              <a:gd name="adj2" fmla="val 459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838080"/>
            <a:ext cx="762120" cy="914400"/>
          </a:xfrm>
          <a:prstGeom prst="downArrow">
            <a:avLst>
              <a:gd name="adj1" fmla="val 50000"/>
              <a:gd name="adj2" fmla="val 2999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809880"/>
            <a:ext cx="25905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節省運輸成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改善兩岸關係加速兩岸貿易發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強化兩岸間區域經濟整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一個中國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問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548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兩岸通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9BD-C843-40CA-B330-0D6FB894EB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2514600"/>
            <a:ext cx="1676520" cy="7621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2514600"/>
            <a:ext cx="1752840" cy="7621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兩岸航運政經背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2971800"/>
            <a:ext cx="4267440" cy="0"/>
          </a:xfrm>
          <a:prstGeom prst="line">
            <a:avLst/>
          </a:prstGeom>
          <a:ln w="76320">
            <a:solidFill>
              <a:srgbClr val="ffffff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0574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209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3352680"/>
            <a:ext cx="7772400" cy="327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txBody>
          <a:bodyPr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.1980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以前，無通商無通航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.1980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至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996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間，船不直航，貨不直運，貨櫃運輸必須轉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.1996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境外航運中心制度，船得有限直航，貨物得於定點間直運，貨物不通關不入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.1997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實施兩岸三地航線政策，母船可延伸航線直航第三地，貨櫃運輸不必轉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447920"/>
            <a:ext cx="2114280" cy="9018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1987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開放兩岸探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1640" y="1449360"/>
            <a:ext cx="1278000" cy="9018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1996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境外航運中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447920"/>
            <a:ext cx="3733920" cy="132624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1991</a:t>
            </a: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陸委會、海基會、海協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國統綱領、終止動戡條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3688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三不政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2666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三通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2880" y="1441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880" y="4217040"/>
            <a:ext cx="6069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經（航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69F-C4D6-4514-8B1D-56476F7E20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E3B-E58A-41AF-8631-3A18AF791B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兩岸未能直航原因探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政治層面的障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「一個中國」共同的思想領域之重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法律層面的障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國籍與國旗問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證件相互承認問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法律適用與糾紛處理問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安全層面的障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876-28E6-423D-9377-06DAF35B14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72200" y="1828800"/>
            <a:ext cx="2286000" cy="3581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2514600"/>
            <a:ext cx="30477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4724280"/>
            <a:ext cx="32763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838080"/>
            <a:ext cx="175284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憲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7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666880"/>
            <a:ext cx="3238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法律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-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航業法 海商法 引水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船舶法 船舶登記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航路標識條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715000"/>
            <a:ext cx="3276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相關行政命令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-4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838080"/>
            <a:ext cx="1523880" cy="5334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8120" indent="-133812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航業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8120" indent="-133812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船舶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8120" indent="-133812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船員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8120" indent="-133812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海事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8120" indent="-133812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港務行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8120" indent="-133812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8120" indent="-133812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8120" indent="-13381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其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8120" indent="-13381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企畫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法制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438280"/>
            <a:ext cx="53316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航政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762120"/>
            <a:ext cx="2438280" cy="4372560"/>
          </a:xfrm>
          <a:prstGeom prst="rect">
            <a:avLst/>
          </a:prstGeom>
          <a:solidFill>
            <a:srgbClr val="99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航業法規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船舶法規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船員法規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航運安全規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港埠規劃建設、經營管理規範事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航政體制規劃及相關法規研修解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0F0-24A3-4E23-9481-335AD54525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-95400" y="0"/>
          <a:ext cx="9239400" cy="69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5400" y="0"/>
                    <a:ext cx="92394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038480" y="914400"/>
            <a:ext cx="0" cy="57913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精省前後航政管理組織之變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A93-5FFA-40C7-8EFB-C1F8C9F410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02:43:19Z</dcterms:created>
  <dc:creator>陳一平</dc:creator>
  <dc:description/>
  <dc:language>en-US</dc:language>
  <cp:lastModifiedBy>陳一平</cp:lastModifiedBy>
  <cp:lastPrinted>2000-12-04T07:08:23Z</cp:lastPrinted>
  <dcterms:modified xsi:type="dcterms:W3CDTF">2000-12-04T07:11:18Z</dcterms:modified>
  <cp:revision>17</cp:revision>
  <dc:subject/>
  <dc:title>兩岸航政管理體制問題 與因應策略之研究</dc:title>
</cp:coreProperties>
</file>