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5513-9D92-4BEB-B320-4AF371A5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BDA6-1E10-4277-B6CF-B2314D69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7D9B-57C1-4819-AD89-7B00A0A2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F18F-5E6D-4D3F-ABD5-202C1B32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BA7-5602-49D5-8E48-20570A57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AD13-DD78-4EF0-B408-643B3252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1A85-8AAA-4532-90CB-2FB900EB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C118-6025-44F5-89CC-675F02AE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B9FA-9180-478B-8CE7-82E891B7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A4FB-E881-4B14-AFEF-2A3E1775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31CE-E5DF-4902-AC2E-4F537CE5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09F-5E2A-420A-BAC0-75E99ACD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1550-35E0-4611-AE40-AAE417CC6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2800" y="3870360"/>
            <a:ext cx="9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台</a:t>
            </a: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9</a:t>
            </a: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丙〈南華—榕樹路段〉現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07" descr=""/>
          <p:cNvPicPr/>
          <p:nvPr/>
        </p:nvPicPr>
        <p:blipFill>
          <a:blip r:embed="rId1"/>
          <a:srcRect l="1245" t="1672" r="2150" b="3177"/>
          <a:stretch/>
        </p:blipFill>
        <p:spPr>
          <a:xfrm>
            <a:off x="874800" y="398520"/>
            <a:ext cx="4916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08:04:04Z</dcterms:created>
  <dc:creator>吳心琪</dc:creator>
  <dc:description/>
  <dc:language>en-US</dc:language>
  <cp:lastModifiedBy>Trace</cp:lastModifiedBy>
  <dcterms:modified xsi:type="dcterms:W3CDTF">1999-07-21T02:05:38Z</dcterms:modified>
  <cp:revision>1</cp:revision>
  <dc:subject/>
  <dc:title>無投影片標題</dc:title>
</cp:coreProperties>
</file>