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49360" y="482760"/>
            <a:ext cx="8878680" cy="5435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863600" y="5979960"/>
            <a:ext cx="397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-2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中心理念示意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74360" y="1481040"/>
            <a:ext cx="1156680" cy="698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 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89320" y="2857680"/>
            <a:ext cx="1527120" cy="1390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45040" y="306540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聯外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整體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803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配合設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29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道路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0720" y="4835520"/>
            <a:ext cx="10591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公共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  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6240" y="4390920"/>
            <a:ext cx="596880" cy="37476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271" y="0"/>
                </a:moveTo>
                <a:lnTo>
                  <a:pt x="271" y="100"/>
                </a:lnTo>
                <a:lnTo>
                  <a:pt x="375" y="100"/>
                </a:lnTo>
                <a:lnTo>
                  <a:pt x="188" y="235"/>
                </a:lnTo>
                <a:lnTo>
                  <a:pt x="0" y="100"/>
                </a:lnTo>
                <a:lnTo>
                  <a:pt x="115" y="100"/>
                </a:lnTo>
                <a:lnTo>
                  <a:pt x="112" y="0"/>
                </a:lnTo>
                <a:lnTo>
                  <a:pt x="27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371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235" y="271"/>
                </a:moveTo>
                <a:lnTo>
                  <a:pt x="135" y="271"/>
                </a:lnTo>
                <a:lnTo>
                  <a:pt x="135" y="375"/>
                </a:lnTo>
                <a:lnTo>
                  <a:pt x="0" y="188"/>
                </a:lnTo>
                <a:lnTo>
                  <a:pt x="135" y="0"/>
                </a:lnTo>
                <a:lnTo>
                  <a:pt x="135" y="115"/>
                </a:lnTo>
                <a:lnTo>
                  <a:pt x="235" y="112"/>
                </a:lnTo>
                <a:lnTo>
                  <a:pt x="235" y="27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259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0" y="271"/>
                </a:moveTo>
                <a:lnTo>
                  <a:pt x="100" y="271"/>
                </a:lnTo>
                <a:lnTo>
                  <a:pt x="100" y="375"/>
                </a:lnTo>
                <a:lnTo>
                  <a:pt x="235" y="188"/>
                </a:lnTo>
                <a:lnTo>
                  <a:pt x="100" y="0"/>
                </a:lnTo>
                <a:lnTo>
                  <a:pt x="100" y="115"/>
                </a:lnTo>
                <a:lnTo>
                  <a:pt x="0" y="112"/>
                </a:lnTo>
                <a:lnTo>
                  <a:pt x="0" y="2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6840" y="1231920"/>
            <a:ext cx="141480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0412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檢討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096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輸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角色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4480" y="1217520"/>
            <a:ext cx="141444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75320" y="2389320"/>
            <a:ext cx="596880" cy="37440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104" y="0"/>
                </a:moveTo>
                <a:lnTo>
                  <a:pt x="104" y="100"/>
                </a:lnTo>
                <a:lnTo>
                  <a:pt x="0" y="100"/>
                </a:lnTo>
                <a:lnTo>
                  <a:pt x="188" y="235"/>
                </a:lnTo>
                <a:lnTo>
                  <a:pt x="375" y="100"/>
                </a:lnTo>
                <a:lnTo>
                  <a:pt x="260" y="100"/>
                </a:lnTo>
                <a:lnTo>
                  <a:pt x="263" y="0"/>
                </a:lnTo>
                <a:lnTo>
                  <a:pt x="104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17200" y="1913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49000" y="1046160"/>
            <a:ext cx="437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8080" y="1666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81600" y="2674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77480" y="78912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720" y="88884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22880" y="696960"/>
            <a:ext cx="2333520" cy="245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74" swAng="54046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74" swAng="5404674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040440" y="771840"/>
            <a:ext cx="253296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268596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997760" y="1917720"/>
            <a:ext cx="47304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2840" y="27464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93360" y="23749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15600" y="2570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01400" y="27036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33040" y="21556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2880" y="706320"/>
            <a:ext cx="23338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2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23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364040" y="766800"/>
            <a:ext cx="2491560" cy="23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62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621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676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6760" y="2666880"/>
            <a:ext cx="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422000" y="1917720"/>
            <a:ext cx="49860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6480" y="789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9560" y="8460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2720" y="10177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19800" y="1203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05320" y="14032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8080" y="1932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5320" y="21463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8240" y="2346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16640" y="25178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91120" y="27748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6520" y="518148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7320" y="518148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3600" y="12222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7440" y="143208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04680" y="16794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0T10:00:44Z</dcterms:created>
  <dc:creator>張圓圓</dc:creator>
  <dc:description/>
  <dc:language>en-US</dc:language>
  <cp:lastModifiedBy>Trace</cp:lastModifiedBy>
  <dcterms:modified xsi:type="dcterms:W3CDTF">1999-07-21T02:03:15Z</dcterms:modified>
  <cp:revision>2</cp:revision>
  <dc:subject/>
  <dc:title>無投影片標題</dc:title>
</cp:coreProperties>
</file>