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478400" y="1413000"/>
            <a:ext cx="9493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違規指標清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62640" y="2784600"/>
            <a:ext cx="13327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標設置路線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段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及地點選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978920" y="7051680"/>
            <a:ext cx="76644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6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標設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4080" y="7051680"/>
            <a:ext cx="104076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7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導遊路線圖製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9208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35480" y="15238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1981080"/>
            <a:ext cx="1601640" cy="382680"/>
          </a:xfrm>
          <a:custGeom>
            <a:avLst/>
            <a:gdLst/>
            <a:ahLst/>
            <a:rect l="l" t="t" r="r" b="b"/>
            <a:pathLst>
              <a:path w="1009" h="241">
                <a:moveTo>
                  <a:pt x="0" y="0"/>
                </a:moveTo>
                <a:lnTo>
                  <a:pt x="384" y="0"/>
                </a:lnTo>
                <a:lnTo>
                  <a:pt x="384" y="240"/>
                </a:lnTo>
                <a:lnTo>
                  <a:pt x="1008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32828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5480" y="4191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5480" y="44197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3402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62546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6705720"/>
            <a:ext cx="2211480" cy="306360"/>
          </a:xfrm>
          <a:custGeom>
            <a:avLst/>
            <a:gdLst/>
            <a:ahLst/>
            <a:rect l="l" t="t" r="r" b="b"/>
            <a:pathLst>
              <a:path w="1393" h="193">
                <a:moveTo>
                  <a:pt x="0" y="192"/>
                </a:moveTo>
                <a:lnTo>
                  <a:pt x="0" y="0"/>
                </a:lnTo>
                <a:lnTo>
                  <a:pt x="1392" y="0"/>
                </a:lnTo>
                <a:lnTo>
                  <a:pt x="1392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62720" y="650880"/>
            <a:ext cx="113220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合法遊憩據點篩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3960" y="1870200"/>
            <a:ext cx="54720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道路路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50680" y="4079880"/>
            <a:ext cx="54720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經營單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資格初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54160" y="5146560"/>
            <a:ext cx="9493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主管機關會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5985000"/>
            <a:ext cx="7664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標歸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28600" y="7927920"/>
            <a:ext cx="383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8-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指示標誌設置作業流程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0T09:46:08Z</dcterms:created>
  <dc:creator>亞聯工程顧問股份有限公司  運輸規劃部</dc:creator>
  <dc:description/>
  <dc:language>en-US</dc:language>
  <cp:lastModifiedBy>Trace</cp:lastModifiedBy>
  <dcterms:modified xsi:type="dcterms:W3CDTF">1999-07-21T02:10:53Z</dcterms:modified>
  <cp:revision>1</cp:revision>
  <dc:subject/>
  <dc:title>無投影片標題</dc:title>
</cp:coreProperties>
</file>