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2057400" y="457200"/>
            <a:ext cx="3659040" cy="7773840"/>
            <a:chOff x="2057400" y="457200"/>
            <a:chExt cx="3659040" cy="7773840"/>
          </a:xfrm>
        </p:grpSpPr>
        <p:sp>
          <p:nvSpPr>
            <p:cNvPr id="39" name=""/>
            <p:cNvSpPr/>
            <p:nvPr/>
          </p:nvSpPr>
          <p:spPr>
            <a:xfrm>
              <a:off x="2057400" y="3666960"/>
              <a:ext cx="2852640" cy="4564080"/>
            </a:xfrm>
            <a:custGeom>
              <a:avLst/>
              <a:gdLst/>
              <a:ahLst/>
              <a:rect l="l" t="t" r="r" b="b"/>
              <a:pathLst>
                <a:path w="1797" h="2875">
                  <a:moveTo>
                    <a:pt x="1794" y="79"/>
                  </a:moveTo>
                  <a:lnTo>
                    <a:pt x="1796" y="60"/>
                  </a:lnTo>
                  <a:lnTo>
                    <a:pt x="1690" y="0"/>
                  </a:lnTo>
                  <a:lnTo>
                    <a:pt x="1530" y="85"/>
                  </a:lnTo>
                  <a:lnTo>
                    <a:pt x="1555" y="173"/>
                  </a:lnTo>
                  <a:lnTo>
                    <a:pt x="1351" y="751"/>
                  </a:lnTo>
                  <a:lnTo>
                    <a:pt x="1259" y="756"/>
                  </a:lnTo>
                  <a:lnTo>
                    <a:pt x="1007" y="598"/>
                  </a:lnTo>
                  <a:lnTo>
                    <a:pt x="953" y="609"/>
                  </a:lnTo>
                  <a:lnTo>
                    <a:pt x="614" y="413"/>
                  </a:lnTo>
                  <a:lnTo>
                    <a:pt x="574" y="432"/>
                  </a:lnTo>
                  <a:lnTo>
                    <a:pt x="418" y="515"/>
                  </a:lnTo>
                  <a:lnTo>
                    <a:pt x="283" y="705"/>
                  </a:lnTo>
                  <a:lnTo>
                    <a:pt x="241" y="1118"/>
                  </a:lnTo>
                  <a:lnTo>
                    <a:pt x="177" y="1184"/>
                  </a:lnTo>
                  <a:lnTo>
                    <a:pt x="166" y="1267"/>
                  </a:lnTo>
                  <a:lnTo>
                    <a:pt x="235" y="1437"/>
                  </a:lnTo>
                  <a:lnTo>
                    <a:pt x="366" y="1610"/>
                  </a:lnTo>
                  <a:lnTo>
                    <a:pt x="360" y="1746"/>
                  </a:lnTo>
                  <a:lnTo>
                    <a:pt x="108" y="1861"/>
                  </a:lnTo>
                  <a:lnTo>
                    <a:pt x="0" y="2174"/>
                  </a:lnTo>
                  <a:lnTo>
                    <a:pt x="114" y="2487"/>
                  </a:lnTo>
                  <a:lnTo>
                    <a:pt x="100" y="2627"/>
                  </a:lnTo>
                  <a:lnTo>
                    <a:pt x="191" y="2653"/>
                  </a:lnTo>
                  <a:lnTo>
                    <a:pt x="202" y="2742"/>
                  </a:lnTo>
                  <a:lnTo>
                    <a:pt x="264" y="2833"/>
                  </a:lnTo>
                  <a:lnTo>
                    <a:pt x="499" y="2874"/>
                  </a:lnTo>
                  <a:lnTo>
                    <a:pt x="541" y="2582"/>
                  </a:lnTo>
                  <a:lnTo>
                    <a:pt x="601" y="2536"/>
                  </a:lnTo>
                  <a:lnTo>
                    <a:pt x="714" y="2086"/>
                  </a:lnTo>
                  <a:lnTo>
                    <a:pt x="1203" y="1520"/>
                  </a:lnTo>
                  <a:lnTo>
                    <a:pt x="1197" y="1401"/>
                  </a:lnTo>
                  <a:lnTo>
                    <a:pt x="1332" y="1379"/>
                  </a:lnTo>
                  <a:lnTo>
                    <a:pt x="1679" y="851"/>
                  </a:lnTo>
                  <a:lnTo>
                    <a:pt x="1650" y="645"/>
                  </a:lnTo>
                  <a:lnTo>
                    <a:pt x="1794" y="232"/>
                  </a:lnTo>
                  <a:lnTo>
                    <a:pt x="1794" y="79"/>
                  </a:lnTo>
                </a:path>
              </a:pathLst>
            </a:custGeom>
            <a:noFill/>
            <a:ln cap="rnd" w="507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90720" y="457200"/>
              <a:ext cx="2925720" cy="4406760"/>
            </a:xfrm>
            <a:custGeom>
              <a:avLst/>
              <a:gdLst/>
              <a:ahLst/>
              <a:rect l="l" t="t" r="r" b="b"/>
              <a:pathLst>
                <a:path w="1843" h="2776">
                  <a:moveTo>
                    <a:pt x="96" y="2122"/>
                  </a:moveTo>
                  <a:lnTo>
                    <a:pt x="137" y="2176"/>
                  </a:lnTo>
                  <a:lnTo>
                    <a:pt x="0" y="2214"/>
                  </a:lnTo>
                  <a:lnTo>
                    <a:pt x="10" y="2286"/>
                  </a:lnTo>
                  <a:lnTo>
                    <a:pt x="141" y="2316"/>
                  </a:lnTo>
                  <a:lnTo>
                    <a:pt x="156" y="2427"/>
                  </a:lnTo>
                  <a:lnTo>
                    <a:pt x="148" y="2432"/>
                  </a:lnTo>
                  <a:lnTo>
                    <a:pt x="486" y="2628"/>
                  </a:lnTo>
                  <a:lnTo>
                    <a:pt x="541" y="2617"/>
                  </a:lnTo>
                  <a:lnTo>
                    <a:pt x="792" y="2775"/>
                  </a:lnTo>
                  <a:lnTo>
                    <a:pt x="884" y="2769"/>
                  </a:lnTo>
                  <a:lnTo>
                    <a:pt x="1087" y="2193"/>
                  </a:lnTo>
                  <a:lnTo>
                    <a:pt x="1062" y="2105"/>
                  </a:lnTo>
                  <a:lnTo>
                    <a:pt x="1222" y="2020"/>
                  </a:lnTo>
                  <a:lnTo>
                    <a:pt x="1328" y="2080"/>
                  </a:lnTo>
                  <a:lnTo>
                    <a:pt x="1326" y="2099"/>
                  </a:lnTo>
                  <a:lnTo>
                    <a:pt x="1328" y="2099"/>
                  </a:lnTo>
                  <a:lnTo>
                    <a:pt x="1362" y="1997"/>
                  </a:lnTo>
                  <a:lnTo>
                    <a:pt x="1304" y="1907"/>
                  </a:lnTo>
                  <a:lnTo>
                    <a:pt x="1356" y="1804"/>
                  </a:lnTo>
                  <a:lnTo>
                    <a:pt x="1499" y="951"/>
                  </a:lnTo>
                  <a:lnTo>
                    <a:pt x="1576" y="785"/>
                  </a:lnTo>
                  <a:lnTo>
                    <a:pt x="1557" y="642"/>
                  </a:lnTo>
                  <a:lnTo>
                    <a:pt x="1628" y="442"/>
                  </a:lnTo>
                  <a:lnTo>
                    <a:pt x="1603" y="337"/>
                  </a:lnTo>
                  <a:lnTo>
                    <a:pt x="1842" y="171"/>
                  </a:lnTo>
                  <a:lnTo>
                    <a:pt x="1842" y="60"/>
                  </a:lnTo>
                  <a:lnTo>
                    <a:pt x="1838" y="66"/>
                  </a:lnTo>
                  <a:lnTo>
                    <a:pt x="1719" y="45"/>
                  </a:lnTo>
                  <a:lnTo>
                    <a:pt x="1576" y="30"/>
                  </a:lnTo>
                  <a:lnTo>
                    <a:pt x="1495" y="13"/>
                  </a:lnTo>
                  <a:lnTo>
                    <a:pt x="1380" y="81"/>
                  </a:lnTo>
                  <a:lnTo>
                    <a:pt x="1241" y="66"/>
                  </a:lnTo>
                  <a:lnTo>
                    <a:pt x="1185" y="60"/>
                  </a:lnTo>
                  <a:lnTo>
                    <a:pt x="1143" y="30"/>
                  </a:lnTo>
                  <a:lnTo>
                    <a:pt x="975" y="0"/>
                  </a:lnTo>
                  <a:lnTo>
                    <a:pt x="971" y="0"/>
                  </a:lnTo>
                  <a:lnTo>
                    <a:pt x="755" y="213"/>
                  </a:lnTo>
                  <a:lnTo>
                    <a:pt x="753" y="322"/>
                  </a:lnTo>
                  <a:lnTo>
                    <a:pt x="807" y="489"/>
                  </a:lnTo>
                  <a:lnTo>
                    <a:pt x="709" y="525"/>
                  </a:lnTo>
                  <a:lnTo>
                    <a:pt x="721" y="529"/>
                  </a:lnTo>
                  <a:lnTo>
                    <a:pt x="721" y="544"/>
                  </a:lnTo>
                  <a:lnTo>
                    <a:pt x="730" y="623"/>
                  </a:lnTo>
                  <a:lnTo>
                    <a:pt x="593" y="815"/>
                  </a:lnTo>
                  <a:lnTo>
                    <a:pt x="597" y="883"/>
                  </a:lnTo>
                  <a:lnTo>
                    <a:pt x="626" y="921"/>
                  </a:lnTo>
                  <a:lnTo>
                    <a:pt x="590" y="1163"/>
                  </a:lnTo>
                  <a:lnTo>
                    <a:pt x="470" y="1350"/>
                  </a:lnTo>
                  <a:lnTo>
                    <a:pt x="578" y="1429"/>
                  </a:lnTo>
                  <a:lnTo>
                    <a:pt x="518" y="1747"/>
                  </a:lnTo>
                  <a:lnTo>
                    <a:pt x="397" y="1804"/>
                  </a:lnTo>
                  <a:lnTo>
                    <a:pt x="385" y="1903"/>
                  </a:lnTo>
                  <a:lnTo>
                    <a:pt x="220" y="1945"/>
                  </a:lnTo>
                  <a:lnTo>
                    <a:pt x="102" y="2122"/>
                  </a:lnTo>
                  <a:lnTo>
                    <a:pt x="96" y="2122"/>
                  </a:lnTo>
                </a:path>
              </a:pathLst>
            </a:custGeom>
            <a:noFill/>
            <a:ln cap="rnd" w="507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" name=""/>
          <p:cNvSpPr/>
          <p:nvPr/>
        </p:nvSpPr>
        <p:spPr>
          <a:xfrm rot="600000">
            <a:off x="4341600" y="5000760"/>
            <a:ext cx="333360" cy="33336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87600" y="5883120"/>
            <a:ext cx="568440" cy="540000"/>
          </a:xfrm>
          <a:prstGeom prst="ellipse">
            <a:avLst/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600000">
            <a:off x="3591000" y="4876560"/>
            <a:ext cx="581040" cy="43812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38680" y="3809880"/>
            <a:ext cx="581040" cy="43812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2486160"/>
            <a:ext cx="581040" cy="43812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26160" y="1606680"/>
            <a:ext cx="568080" cy="568080"/>
          </a:xfrm>
          <a:prstGeom prst="ellipse">
            <a:avLst/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13520" y="870120"/>
            <a:ext cx="88560" cy="885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08600" y="111132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92600" y="116208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8480" y="104760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87680" y="106056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153360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812840" y="1593360"/>
            <a:ext cx="289080" cy="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9720" y="120600"/>
            <a:ext cx="291240" cy="158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60800" y="644760"/>
            <a:ext cx="273240" cy="107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422600" y="1117080"/>
            <a:ext cx="231840" cy="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0480" y="66996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43080" y="936720"/>
            <a:ext cx="329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B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19440" y="144144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52680" y="888840"/>
            <a:ext cx="329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B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81280" y="879480"/>
            <a:ext cx="329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B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95400" y="1203480"/>
            <a:ext cx="329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B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73560" y="176544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83120" y="212724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30640" y="186048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22880" y="1712880"/>
            <a:ext cx="1549080" cy="23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295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295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81320" y="158436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00600" y="174636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43360" y="204156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177800" y="1727280"/>
            <a:ext cx="939960" cy="9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118040" y="2193840"/>
            <a:ext cx="7920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25720" y="279072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30520" y="399096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11720" y="421020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16600" y="247644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14760" y="258444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68840" y="352440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000" y="3228840"/>
            <a:ext cx="8856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76600" y="312732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97240" y="242244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736880" y="1149480"/>
            <a:ext cx="22212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949560" y="2679840"/>
            <a:ext cx="254160" cy="133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48160" y="204804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257360" y="2733840"/>
            <a:ext cx="228600" cy="131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26160" y="330516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97360" y="3876840"/>
            <a:ext cx="88920" cy="885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26040" y="553392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10040" y="328932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33720" y="383220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870360" y="2682720"/>
            <a:ext cx="326880" cy="1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10000" y="348948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62320" y="389880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00560" y="428940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64160" y="498168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91160" y="500364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68760" y="635328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01920" y="559116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32120" y="474012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7360" y="612468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38000" y="6432480"/>
            <a:ext cx="40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66600" y="5965920"/>
            <a:ext cx="40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61800" y="5365800"/>
            <a:ext cx="40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453708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565440" y="4044960"/>
            <a:ext cx="4032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044960"/>
            <a:ext cx="37800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870280" y="4803840"/>
            <a:ext cx="86976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327120" y="5651640"/>
            <a:ext cx="26028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022560" y="6102360"/>
            <a:ext cx="56520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749760" y="4051440"/>
            <a:ext cx="225360" cy="97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558960" y="5041800"/>
            <a:ext cx="206280" cy="102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7760" y="6102360"/>
            <a:ext cx="5400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673440" y="6013080"/>
            <a:ext cx="196920" cy="26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587760" y="6013080"/>
            <a:ext cx="282600" cy="88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847680" y="5162400"/>
            <a:ext cx="190440" cy="84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09680" y="4057560"/>
            <a:ext cx="2761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955760" y="1711440"/>
            <a:ext cx="136440" cy="30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959360" y="1945800"/>
            <a:ext cx="206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544824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21280" y="5705640"/>
            <a:ext cx="88920" cy="885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02120" y="300996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75080" y="290844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76440" y="522288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67000" y="575640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90840" y="551808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40240" y="5511960"/>
            <a:ext cx="5400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502160" y="5041800"/>
            <a:ext cx="1872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8160" y="529596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222800" y="5187960"/>
            <a:ext cx="27936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568320" y="5194440"/>
            <a:ext cx="939960" cy="88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2240" y="510840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74960" y="5956200"/>
            <a:ext cx="136800" cy="117720"/>
          </a:xfrm>
          <a:prstGeom prst="triangle">
            <a:avLst>
              <a:gd name="adj" fmla="val 49995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94240" y="6222960"/>
            <a:ext cx="98280" cy="98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5099040" y="1717560"/>
            <a:ext cx="10800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27480" y="1889280"/>
            <a:ext cx="98640" cy="9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7240" y="2673360"/>
            <a:ext cx="263520" cy="63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8640" y="4044960"/>
            <a:ext cx="311400" cy="6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40040" y="5035680"/>
            <a:ext cx="263520" cy="11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46680" y="5070600"/>
            <a:ext cx="136440" cy="117360"/>
          </a:xfrm>
          <a:prstGeom prst="triangle">
            <a:avLst>
              <a:gd name="adj" fmla="val 49995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02240" y="1357200"/>
            <a:ext cx="73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花蓮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56360" y="232092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光復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37120" y="408312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玉里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18240" y="495000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池上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2360" y="6218280"/>
            <a:ext cx="73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台東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613400" y="1108080"/>
            <a:ext cx="117360" cy="11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13080" y="3965400"/>
            <a:ext cx="136800" cy="117720"/>
          </a:xfrm>
          <a:prstGeom prst="triangle">
            <a:avLst>
              <a:gd name="adj" fmla="val 49995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03880" y="2660760"/>
            <a:ext cx="136440" cy="117360"/>
          </a:xfrm>
          <a:prstGeom prst="triangle">
            <a:avLst>
              <a:gd name="adj" fmla="val 49995"/>
            </a:avLst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75320" y="511164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成功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32160" y="8464680"/>
            <a:ext cx="3893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7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細明體"/>
              </a:rPr>
              <a:t>-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4 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東部區域遊憩公共運輸系統整合規劃示意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7360" y="235080"/>
            <a:ext cx="6159600" cy="814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2440" y="863640"/>
            <a:ext cx="1936440" cy="354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03320" y="1546200"/>
            <a:ext cx="127080" cy="127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87480" y="1260360"/>
            <a:ext cx="136440" cy="117720"/>
          </a:xfrm>
          <a:prstGeom prst="triangle">
            <a:avLst>
              <a:gd name="adj" fmla="val 49995"/>
            </a:avLst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09800" y="1022400"/>
            <a:ext cx="98280" cy="9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6520" y="9320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航空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2160" y="1185840"/>
            <a:ext cx="60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鐵路車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03720" y="1442880"/>
            <a:ext cx="82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路客運車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2160" y="1693800"/>
            <a:ext cx="60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步行路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2160" y="1960560"/>
            <a:ext cx="60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鐵路路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280" y="18478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2880" y="212724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6400" y="238140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13440" y="223992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路客運路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細明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直達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細明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2440" y="571680"/>
            <a:ext cx="1936440" cy="27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細明體"/>
              </a:rPr>
              <a:t>            </a:t>
            </a: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99520" y="2681280"/>
            <a:ext cx="583200" cy="500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75120" y="4051440"/>
            <a:ext cx="517680" cy="110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04200" y="5043600"/>
            <a:ext cx="1459440" cy="24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92520" y="4971960"/>
            <a:ext cx="127080" cy="1270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1560" y="2610000"/>
            <a:ext cx="127080" cy="12672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473720" y="1765440"/>
            <a:ext cx="644400" cy="33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89520" y="1955880"/>
            <a:ext cx="136440" cy="117360"/>
          </a:xfrm>
          <a:prstGeom prst="triangle">
            <a:avLst>
              <a:gd name="adj" fmla="val 49995"/>
            </a:avLst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02040" y="3981600"/>
            <a:ext cx="127080" cy="12672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35560" y="5105520"/>
            <a:ext cx="127080" cy="12672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1836720"/>
            <a:ext cx="2912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626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6263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22720" y="1913040"/>
            <a:ext cx="1393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2188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21883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841560" y="2825640"/>
            <a:ext cx="5076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812760" y="3282840"/>
            <a:ext cx="50760" cy="3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581280" y="5762520"/>
            <a:ext cx="1149480" cy="65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11440" y="6010200"/>
            <a:ext cx="127080" cy="12708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803680" y="6178680"/>
            <a:ext cx="25056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4143600" y="5591520"/>
            <a:ext cx="21564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919400" y="1703520"/>
            <a:ext cx="433440" cy="837720"/>
            <a:chOff x="4919400" y="1703520"/>
            <a:chExt cx="433440" cy="837720"/>
          </a:xfrm>
        </p:grpSpPr>
        <p:sp>
          <p:nvSpPr>
            <p:cNvPr id="182" name=""/>
            <p:cNvSpPr/>
            <p:nvPr/>
          </p:nvSpPr>
          <p:spPr>
            <a:xfrm>
              <a:off x="4970880" y="1703520"/>
              <a:ext cx="357840" cy="83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5" y="0"/>
                  </a:moveTo>
                  <a:arcTo wR="10800" hR="10800" stAng="-5430287" swAng="54302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5" y="0"/>
                  </a:moveTo>
                  <a:arcTo wR="10800" hR="10800" stAng="-5430287" swAng="543028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0980000">
              <a:off x="4939200" y="1739520"/>
              <a:ext cx="393480" cy="76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6"/>
                  </a:moveTo>
                  <a:arcTo wR="10800" hR="10800" stAng="-10785881" swAng="5358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6"/>
                  </a:moveTo>
                  <a:arcTo wR="10800" hR="10800" stAng="-10785881" swAng="5358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029200" y="1650960"/>
            <a:ext cx="127080" cy="12708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912200" y="2522520"/>
            <a:ext cx="276840" cy="561960"/>
            <a:chOff x="4912200" y="2522520"/>
            <a:chExt cx="276840" cy="561960"/>
          </a:xfrm>
        </p:grpSpPr>
        <p:sp>
          <p:nvSpPr>
            <p:cNvPr id="186" name=""/>
            <p:cNvSpPr/>
            <p:nvPr/>
          </p:nvSpPr>
          <p:spPr>
            <a:xfrm>
              <a:off x="4943880" y="2522520"/>
              <a:ext cx="224640" cy="56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9" y="1"/>
                  </a:moveTo>
                  <a:arcTo wR="10800" hR="10800" stAng="-5448077" swAng="5448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9" y="1"/>
                  </a:moveTo>
                  <a:arcTo wR="10800" hR="10800" stAng="-5448077" swAng="5448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980000">
              <a:off x="4925520" y="2544480"/>
              <a:ext cx="25020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6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62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717080" y="3075120"/>
            <a:ext cx="343800" cy="304200"/>
            <a:chOff x="4717080" y="3075120"/>
            <a:chExt cx="343800" cy="304200"/>
          </a:xfrm>
        </p:grpSpPr>
        <p:sp>
          <p:nvSpPr>
            <p:cNvPr id="189" name=""/>
            <p:cNvSpPr/>
            <p:nvPr/>
          </p:nvSpPr>
          <p:spPr>
            <a:xfrm>
              <a:off x="4751640" y="3075120"/>
              <a:ext cx="3009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980000">
              <a:off x="4723920" y="3088440"/>
              <a:ext cx="3294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89720" y="3379680"/>
            <a:ext cx="333720" cy="568080"/>
            <a:chOff x="4689720" y="3379680"/>
            <a:chExt cx="333720" cy="568080"/>
          </a:xfrm>
        </p:grpSpPr>
        <p:sp>
          <p:nvSpPr>
            <p:cNvPr id="192" name=""/>
            <p:cNvSpPr/>
            <p:nvPr/>
          </p:nvSpPr>
          <p:spPr>
            <a:xfrm>
              <a:off x="4726080" y="3379680"/>
              <a:ext cx="279000" cy="56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07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074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980000">
              <a:off x="4703040" y="3405960"/>
              <a:ext cx="3070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4"/>
                  </a:moveTo>
                  <a:arcTo wR="10800" hR="10800" stAng="-10779083" swAng="5343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4"/>
                  </a:moveTo>
                  <a:arcTo wR="10800" hR="10800" stAng="-10779083" swAng="53435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524840" y="3929040"/>
            <a:ext cx="584280" cy="1163520"/>
            <a:chOff x="4524840" y="3929040"/>
            <a:chExt cx="584280" cy="1163520"/>
          </a:xfrm>
        </p:grpSpPr>
        <p:sp>
          <p:nvSpPr>
            <p:cNvPr id="195" name=""/>
            <p:cNvSpPr/>
            <p:nvPr/>
          </p:nvSpPr>
          <p:spPr>
            <a:xfrm rot="300000">
              <a:off x="4628880" y="3944160"/>
              <a:ext cx="402480" cy="11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5" y="0"/>
                  </a:moveTo>
                  <a:arcTo wR="10800" hR="10800" stAng="-5426925" swAng="54172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5" y="0"/>
                  </a:moveTo>
                  <a:arcTo wR="10800" hR="10800" stAng="-5426925" swAng="541724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1280000">
              <a:off x="4595040" y="3983400"/>
              <a:ext cx="44388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5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544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227480" y="5130720"/>
            <a:ext cx="82440" cy="42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803760" y="3574800"/>
            <a:ext cx="1648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280" y="28386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64840" y="2697120"/>
            <a:ext cx="9187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路客運路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細明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含觀光巴士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細明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53920" y="3273480"/>
            <a:ext cx="368280" cy="368280"/>
          </a:xfrm>
          <a:prstGeom prst="ellipse">
            <a:avLst/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75280" y="3236760"/>
            <a:ext cx="961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區域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細明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次區域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細明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遊運輸中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86440" y="3745080"/>
            <a:ext cx="608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系統旅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輸中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47800" y="3800520"/>
            <a:ext cx="380880" cy="38088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6T20:11:16Z</dcterms:created>
  <dc:creator>亞聯工程顧問股份有限公司  運輸規劃部</dc:creator>
  <dc:description/>
  <dc:language>en-US</dc:language>
  <cp:lastModifiedBy>Trace</cp:lastModifiedBy>
  <cp:lastPrinted>1998-05-20T17:28:34Z</cp:lastPrinted>
  <dcterms:modified xsi:type="dcterms:W3CDTF">1999-07-21T02:09:45Z</dcterms:modified>
  <cp:revision>17</cp:revision>
  <dc:subject/>
  <dc:title>無投影片標題</dc:title>
</cp:coreProperties>
</file>