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B1D-958C-4074-B868-6DAA2E5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58A-716D-4892-8885-F505E2BF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12E-77C5-4264-AA97-403E96AC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A2E-D6E2-4D78-83BB-1FEF8ABA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46B-BAB9-441F-A9FF-61338F86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8B7-C56D-4DA2-997B-E989F25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2E3-9658-44E9-9BC6-2BD1600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E08-C304-4DE9-9D46-8731E66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AF0-F4D8-4FFD-B635-C7C8496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2D0-5427-4C44-8425-77F08AE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099-7555-4E50-AE2B-A38044E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464-311A-4830-AC36-120AE6ED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3EB3-4732-4CBE-8974-A6E4E6F1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" descr=""/>
          <p:cNvPicPr/>
          <p:nvPr/>
        </p:nvPicPr>
        <p:blipFill>
          <a:blip r:embed="rId1"/>
          <a:srcRect l="0" t="2341" r="5998" b="0"/>
          <a:stretch/>
        </p:blipFill>
        <p:spPr>
          <a:xfrm>
            <a:off x="1103400" y="557280"/>
            <a:ext cx="4782960" cy="336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6360" y="410832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8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鄉道〈清覺寺附近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7:40Z</dcterms:created>
  <dc:creator>吳心琪</dc:creator>
  <dc:description/>
  <dc:language>en-US</dc:language>
  <cp:lastModifiedBy>Trace</cp:lastModifiedBy>
  <dcterms:modified xsi:type="dcterms:W3CDTF">1999-07-21T02:09:01Z</dcterms:modified>
  <cp:revision>1</cp:revision>
  <dc:subject/>
  <dc:title>無投影片標題</dc:title>
</cp:coreProperties>
</file>