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81E-91E8-42E7-8612-22BD7235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255-ACD6-45B7-8B4B-1D543BA4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73A-DEAF-4CD9-B5CE-71F103FC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4E1-7151-4AD3-9218-6C6EB7B5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4FD-B7C8-44D0-A425-F1B49179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C2A-F73B-4921-B5F6-86693E85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6C8-C8B7-4B57-BB59-C49A31F9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CA1-E99B-439C-A7ED-9ACE86F3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A45-1BD2-4667-8B1A-D402696D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C7B-B9A5-4015-A577-BD065C87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34A-2920-4B29-8DF3-C98EDE4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E83-5D32-47B1-AFA1-A12C8CAA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4F63-DBED-4D4D-8828-37B0D292C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4533840" y="4951440"/>
            <a:ext cx="1440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43560" y="536400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7080" y="4662360"/>
            <a:ext cx="1397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位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相關位置示意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16920" y="4614840"/>
            <a:ext cx="1204920" cy="11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基本資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位置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地址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聯絡電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適合活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服務設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30600" y="662040"/>
            <a:ext cx="1800" cy="84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4560" y="1886040"/>
            <a:ext cx="3624120" cy="495360"/>
          </a:xfrm>
          <a:custGeom>
            <a:avLst/>
            <a:gdLst/>
            <a:ahLst/>
            <a:rect l="l" t="t" r="r" b="b"/>
            <a:pathLst>
              <a:path w="2473" h="312">
                <a:moveTo>
                  <a:pt x="0" y="311"/>
                </a:moveTo>
                <a:lnTo>
                  <a:pt x="0" y="145"/>
                </a:lnTo>
                <a:lnTo>
                  <a:pt x="2472" y="145"/>
                </a:lnTo>
                <a:lnTo>
                  <a:pt x="2472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36972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程式啟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13520" y="938160"/>
            <a:ext cx="42516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簡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8160" y="160668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中部區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87880" y="160668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南部區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21400" y="160668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東部區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8680" y="3659040"/>
            <a:ext cx="7366320" cy="187560"/>
          </a:xfrm>
          <a:custGeom>
            <a:avLst/>
            <a:gdLst/>
            <a:ahLst/>
            <a:rect l="l" t="t" r="r" b="b"/>
            <a:pathLst>
              <a:path w="5027" h="118">
                <a:moveTo>
                  <a:pt x="0" y="102"/>
                </a:moveTo>
                <a:lnTo>
                  <a:pt x="0" y="0"/>
                </a:lnTo>
                <a:lnTo>
                  <a:pt x="5026" y="0"/>
                </a:lnTo>
                <a:lnTo>
                  <a:pt x="5026" y="1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66920" y="367524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20960" y="3665520"/>
            <a:ext cx="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7400" y="366552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002360" y="3672000"/>
            <a:ext cx="1296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64160" y="4678200"/>
            <a:ext cx="1397520" cy="94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聯外道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聯外道路示意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主要路線及里程說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相關道路服務水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440" y="4641840"/>
            <a:ext cx="1717560" cy="11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共運輸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鐵路轉運市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客運所在市鎮（含客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路線早晚班時刻、班距、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車處及查詢電話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3040" y="2382840"/>
            <a:ext cx="3713040" cy="363600"/>
          </a:xfrm>
          <a:custGeom>
            <a:avLst/>
            <a:gdLst/>
            <a:ahLst/>
            <a:rect l="l" t="t" r="r" b="b"/>
            <a:pathLst>
              <a:path w="2533" h="229">
                <a:moveTo>
                  <a:pt x="0" y="228"/>
                </a:moveTo>
                <a:lnTo>
                  <a:pt x="0" y="0"/>
                </a:lnTo>
                <a:lnTo>
                  <a:pt x="2532" y="0"/>
                </a:lnTo>
                <a:lnTo>
                  <a:pt x="2532" y="17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3040" y="2935440"/>
            <a:ext cx="3713040" cy="325440"/>
          </a:xfrm>
          <a:custGeom>
            <a:avLst/>
            <a:gdLst/>
            <a:ahLst/>
            <a:rect l="l" t="t" r="r" b="b"/>
            <a:pathLst>
              <a:path w="2533" h="205">
                <a:moveTo>
                  <a:pt x="2532" y="0"/>
                </a:moveTo>
                <a:lnTo>
                  <a:pt x="2532" y="204"/>
                </a:lnTo>
                <a:lnTo>
                  <a:pt x="0" y="204"/>
                </a:lnTo>
                <a:lnTo>
                  <a:pt x="0" y="5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6120" y="266220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蘇花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4056120"/>
            <a:ext cx="7373880" cy="156960"/>
          </a:xfrm>
          <a:custGeom>
            <a:avLst/>
            <a:gdLst/>
            <a:ahLst/>
            <a:rect l="l" t="t" r="r" b="b"/>
            <a:pathLst>
              <a:path w="5033" h="99">
                <a:moveTo>
                  <a:pt x="0" y="12"/>
                </a:moveTo>
                <a:lnTo>
                  <a:pt x="0" y="98"/>
                </a:lnTo>
                <a:lnTo>
                  <a:pt x="5032" y="98"/>
                </a:lnTo>
                <a:lnTo>
                  <a:pt x="5032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76640" y="405612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5360" y="40496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11800" y="40496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24680" y="404352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97160" y="4475160"/>
            <a:ext cx="6583320" cy="203040"/>
          </a:xfrm>
          <a:custGeom>
            <a:avLst/>
            <a:gdLst/>
            <a:ahLst/>
            <a:rect l="l" t="t" r="r" b="b"/>
            <a:pathLst>
              <a:path w="4493" h="128">
                <a:moveTo>
                  <a:pt x="0" y="111"/>
                </a:moveTo>
                <a:lnTo>
                  <a:pt x="0" y="0"/>
                </a:lnTo>
                <a:lnTo>
                  <a:pt x="4492" y="0"/>
                </a:lnTo>
                <a:lnTo>
                  <a:pt x="4492" y="1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7000" y="448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00800" y="4487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16120" y="2386080"/>
            <a:ext cx="14400" cy="8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98440" y="1474920"/>
            <a:ext cx="4729320" cy="147600"/>
          </a:xfrm>
          <a:custGeom>
            <a:avLst/>
            <a:gdLst/>
            <a:ahLst/>
            <a:rect l="l" t="t" r="r" b="b"/>
            <a:pathLst>
              <a:path w="3227" h="93">
                <a:moveTo>
                  <a:pt x="0" y="92"/>
                </a:moveTo>
                <a:lnTo>
                  <a:pt x="0" y="0"/>
                </a:lnTo>
                <a:lnTo>
                  <a:pt x="3226" y="0"/>
                </a:lnTo>
                <a:lnTo>
                  <a:pt x="3226" y="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22680" y="14810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30600" y="14810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13360" y="1477800"/>
            <a:ext cx="16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7040" y="1471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89600" y="2401920"/>
            <a:ext cx="2428920" cy="344520"/>
          </a:xfrm>
          <a:custGeom>
            <a:avLst/>
            <a:gdLst/>
            <a:ahLst/>
            <a:rect l="l" t="t" r="r" b="b"/>
            <a:pathLst>
              <a:path w="1657" h="217">
                <a:moveTo>
                  <a:pt x="0" y="216"/>
                </a:moveTo>
                <a:lnTo>
                  <a:pt x="0" y="0"/>
                </a:lnTo>
                <a:lnTo>
                  <a:pt x="1656" y="0"/>
                </a:lnTo>
                <a:lnTo>
                  <a:pt x="1656" y="16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89600" y="2859120"/>
            <a:ext cx="2446200" cy="382680"/>
          </a:xfrm>
          <a:custGeom>
            <a:avLst/>
            <a:gdLst/>
            <a:ahLst/>
            <a:rect l="l" t="t" r="r" b="b"/>
            <a:pathLst>
              <a:path w="1669" h="241">
                <a:moveTo>
                  <a:pt x="1668" y="0"/>
                </a:moveTo>
                <a:lnTo>
                  <a:pt x="1668" y="240"/>
                </a:lnTo>
                <a:lnTo>
                  <a:pt x="0" y="240"/>
                </a:lnTo>
                <a:lnTo>
                  <a:pt x="0" y="6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96200" y="264312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澎湖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25040" y="2541600"/>
            <a:ext cx="669240" cy="57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綠島蘭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56440" y="1866960"/>
            <a:ext cx="369720" cy="536400"/>
          </a:xfrm>
          <a:custGeom>
            <a:avLst/>
            <a:gdLst/>
            <a:ahLst/>
            <a:rect l="l" t="t" r="r" b="b"/>
            <a:pathLst>
              <a:path w="253" h="338">
                <a:moveTo>
                  <a:pt x="0" y="337"/>
                </a:moveTo>
                <a:lnTo>
                  <a:pt x="0" y="157"/>
                </a:lnTo>
                <a:lnTo>
                  <a:pt x="252" y="157"/>
                </a:lnTo>
                <a:lnTo>
                  <a:pt x="252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71920" y="160668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北部區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21600" y="160668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離島地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68480" y="2624040"/>
            <a:ext cx="79092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東海岸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965320" y="2395440"/>
            <a:ext cx="14400" cy="85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57880" y="2414520"/>
            <a:ext cx="6480" cy="8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75560" y="265572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金馬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41000" y="2548080"/>
            <a:ext cx="790920" cy="57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太魯閣國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園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41680" y="2548080"/>
            <a:ext cx="669240" cy="57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花東縱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01840" y="3236760"/>
            <a:ext cx="4873680" cy="230400"/>
          </a:xfrm>
          <a:custGeom>
            <a:avLst/>
            <a:gdLst/>
            <a:ahLst/>
            <a:rect l="l" t="t" r="r" b="b"/>
            <a:pathLst>
              <a:path w="3325" h="145">
                <a:moveTo>
                  <a:pt x="0" y="18"/>
                </a:moveTo>
                <a:lnTo>
                  <a:pt x="0" y="144"/>
                </a:lnTo>
                <a:lnTo>
                  <a:pt x="3324" y="144"/>
                </a:lnTo>
                <a:lnTo>
                  <a:pt x="33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97560" y="3475080"/>
            <a:ext cx="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68440" y="379584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63200" y="378936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37960" y="379584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32000" y="379584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56080" y="379584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9040" y="379584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14840" y="421812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8800" y="6095880"/>
            <a:ext cx="349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1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電腦資料庫展示系統內容流程示意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7T00:58:12Z</dcterms:created>
  <dc:creator>Plan02_90x</dc:creator>
  <dc:description/>
  <dc:language>en-US</dc:language>
  <cp:lastModifiedBy>吳心琪</cp:lastModifiedBy>
  <dcterms:modified xsi:type="dcterms:W3CDTF">1999-06-17T09:50:46Z</dcterms:modified>
  <cp:revision>1</cp:revision>
  <dc:subject/>
  <dc:title>無投影片標題</dc:title>
</cp:coreProperties>
</file>