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FEF-2BF7-42F4-9037-21C2654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A88-18DF-483F-B7FF-DBAAD24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96B-C18D-43A8-ABF5-7AEC1B27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ECB-235A-4BBE-A9AF-B73337A4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79A-DFF7-4718-9910-A003355F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4D6-88A4-46BC-831E-0713238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0B4-FF7E-4C4B-81D4-844CA95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BA0-EB61-47DF-8524-964A959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776-7A7C-4F68-9930-BD1C2D4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7DA-1FBB-477A-B0C8-EA0E9ED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EAE-F8A1-401F-ADCC-EFF6556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5C0-194C-4FF2-8ED1-790343E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2C2-9F10-4C62-A244-093F87703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" descr=""/>
          <p:cNvPicPr/>
          <p:nvPr/>
        </p:nvPicPr>
        <p:blipFill>
          <a:blip r:embed="rId1"/>
          <a:srcRect l="3282" t="2341" r="0" b="1839"/>
          <a:stretch/>
        </p:blipFill>
        <p:spPr>
          <a:xfrm>
            <a:off x="1023840" y="582480"/>
            <a:ext cx="4919760" cy="3297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64680" y="405936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3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〈東河農場附近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9:58Z</dcterms:created>
  <dc:creator>吳心琪</dc:creator>
  <dc:description/>
  <dc:language>en-US</dc:language>
  <cp:lastModifiedBy>吳心琪</cp:lastModifiedBy>
  <dcterms:modified xsi:type="dcterms:W3CDTF">1999-03-17T08:10:36Z</dcterms:modified>
  <cp:revision>1</cp:revision>
  <dc:subject/>
  <dc:title>無投影片標題</dc:title>
</cp:coreProperties>
</file>