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E50-1384-4692-B4C5-9DFF6DA7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248-89BF-4CC7-8D5D-E2313CBA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57A-99C0-4F57-AF30-B9D0DE34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722-F762-4C7F-9380-67AF2DE9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9B5-6B2A-4164-BE00-961597D3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60B-FDC9-4383-86B8-114290B4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9F7-AD21-4CE5-8CBA-C1508808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39B-6E91-4265-BEC1-57FC1DD5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21B-3A94-4FA1-A73F-9E49A15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BA8-DB6E-40E7-8C79-22EB535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416-E9F0-4B70-A5A4-9A18E75B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EA6-EAE7-4805-B211-882C47D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B7EB-984A-4115-A0B5-6D08C6CA2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45680" y="399420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花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64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鄉道〈大港口附近〉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0" descr=""/>
          <p:cNvPicPr/>
          <p:nvPr/>
        </p:nvPicPr>
        <p:blipFill>
          <a:blip r:embed="rId1"/>
          <a:srcRect l="2942" t="5686" r="0" b="0"/>
          <a:stretch/>
        </p:blipFill>
        <p:spPr>
          <a:xfrm>
            <a:off x="1082520" y="636480"/>
            <a:ext cx="49374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08:54Z</dcterms:created>
  <dc:creator>吳心琪</dc:creator>
  <dc:description/>
  <dc:language>en-US</dc:language>
  <cp:lastModifiedBy>吳心琪</cp:lastModifiedBy>
  <dcterms:modified xsi:type="dcterms:W3CDTF">1999-03-17T08:09:34Z</dcterms:modified>
  <cp:revision>1</cp:revision>
  <dc:subject/>
  <dc:title>無投影片標題</dc:title>
</cp:coreProperties>
</file>