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53812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8360" y="5967000"/>
            <a:ext cx="53812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83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4959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58160" y="286236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77600" y="286236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8360" y="596700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558160" y="596700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377600" y="596700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8360" y="2862360"/>
            <a:ext cx="5381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538128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8360" y="880560"/>
            <a:ext cx="5381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83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959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8360" y="5967000"/>
            <a:ext cx="53812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8360" y="2862360"/>
            <a:ext cx="538128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350720" y="151272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185640" y="151272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092200" y="1512720"/>
            <a:ext cx="63864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遊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47400" y="3648240"/>
            <a:ext cx="7909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需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12240" y="3578400"/>
            <a:ext cx="1366560" cy="325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影響因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容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可及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時間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快速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費用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價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舒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安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便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57640" y="3648240"/>
            <a:ext cx="7909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功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76480" y="2031840"/>
            <a:ext cx="101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需求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85640" y="203184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媒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6600" y="2031840"/>
            <a:ext cx="63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供給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87640" y="1762200"/>
            <a:ext cx="89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2502000"/>
            <a:ext cx="0" cy="88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8880" y="7515360"/>
            <a:ext cx="305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資料來源：『台灣地區觀光遊憩系統開發計畫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	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，交通部觀光局，民國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81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年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6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月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6600" y="8512200"/>
            <a:ext cx="383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1-1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系統與旅遊活動之關係示意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611440" y="4047840"/>
            <a:ext cx="16066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21120" y="1758960"/>
            <a:ext cx="911160" cy="3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280" y="866880"/>
            <a:ext cx="5487840" cy="7459560"/>
          </a:xfrm>
          <a:custGeom>
            <a:avLst/>
            <a:gdLst/>
            <a:ahLst/>
            <a:rect l="l" t="t" r="r" b="b"/>
            <a:pathLst>
              <a:path w="3457" h="4699">
                <a:moveTo>
                  <a:pt x="0" y="0"/>
                </a:moveTo>
                <a:lnTo>
                  <a:pt x="3456" y="0"/>
                </a:lnTo>
                <a:lnTo>
                  <a:pt x="3456" y="4698"/>
                </a:lnTo>
                <a:lnTo>
                  <a:pt x="0" y="4698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29160" y="2482920"/>
            <a:ext cx="0" cy="88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2521080"/>
            <a:ext cx="0" cy="88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5:50:46Z</dcterms:created>
  <dc:creator>管理部</dc:creator>
  <dc:description/>
  <dc:language>en-US</dc:language>
  <cp:lastModifiedBy>吳心琪</cp:lastModifiedBy>
  <cp:lastPrinted>1996-01-04T08:45:20Z</cp:lastPrinted>
  <dcterms:modified xsi:type="dcterms:W3CDTF">1999-06-17T09:45:24Z</dcterms:modified>
  <cp:revision>5</cp:revision>
  <dc:subject/>
  <dc:title>無投影片標題</dc:title>
</cp:coreProperties>
</file>