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B4EB-8BA0-464E-89F1-F9349419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898-8D5D-4DA6-A190-A4C6E922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E6C-7ECA-42B6-BF07-3EF8A88E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2E5-1EAB-42A3-9767-A09473EE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BFD9-98A3-47FF-AC6D-8E3F1529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0D59-8638-471D-8BBD-E64E4876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9C1-049A-4219-9A92-F967B4CA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6977-3A77-4B9C-AA4D-FC42D39C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7A9-CBAE-440D-8711-9CCAA782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364-ED7A-4DCF-B168-3E2EECB3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12D-482F-4924-9786-8553E182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834-F6E0-4C71-B3B0-691F9427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ADAB-A148-4C33-B852-50B5542AD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6107400" cy="8458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1337760" y="8686800"/>
            <a:ext cx="41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7-1 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東部區域與其他區域未來航線分佈建議示意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03:48:46Z</dcterms:created>
  <dc:creator>Trace</dc:creator>
  <dc:description/>
  <dc:language>en-US</dc:language>
  <cp:lastModifiedBy>Trace</cp:lastModifiedBy>
  <dcterms:modified xsi:type="dcterms:W3CDTF">1999-07-26T08:27:18Z</dcterms:modified>
  <cp:revision>3</cp:revision>
  <dc:subject/>
  <dc:title>無投影片標題</dc:title>
</cp:coreProperties>
</file>