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1A1-09C6-4F06-BB2C-9B00A636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B67-CF6E-4B94-9CDA-B2D7A98D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F0B-2D9A-4B59-A69A-78238264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9DD-4DDD-4682-B63E-9FD71981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C84-6440-47F6-BA7D-6DB82C11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65F-B4A9-43DE-B5AA-BEAB1C5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835-8ACC-4FD3-84D5-95EF54A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BED-7B2B-4B71-B73F-8822FF14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BFA-2609-4D37-8397-01FAD8B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48A-16E5-415E-A004-C79D2CD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373-5277-44B7-B0FC-BD6C2D5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9E1-7F2D-424F-B599-B74A070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98C-F36D-4BDB-91EF-21519462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6" descr=""/>
          <p:cNvPicPr/>
          <p:nvPr/>
        </p:nvPicPr>
        <p:blipFill>
          <a:blip r:embed="rId1"/>
          <a:srcRect l="2150" t="0" r="2150" b="4013"/>
          <a:stretch/>
        </p:blipFill>
        <p:spPr>
          <a:xfrm>
            <a:off x="1066680" y="608040"/>
            <a:ext cx="4876920" cy="330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81000" y="4187880"/>
            <a:ext cx="8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8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〈燕子口附近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2:44Z</dcterms:created>
  <dc:creator>吳心琪</dc:creator>
  <dc:description/>
  <dc:language>en-US</dc:language>
  <cp:lastModifiedBy>吳心琪</cp:lastModifiedBy>
  <dcterms:modified xsi:type="dcterms:W3CDTF">1999-03-17T08:03:24Z</dcterms:modified>
  <cp:revision>1</cp:revision>
  <dc:subject/>
  <dc:title>無投影片標題</dc:title>
</cp:coreProperties>
</file>