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B27-2721-4300-A1F7-6F0E59CF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E71-F46B-49D6-AE61-09B325D0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318-11F9-496A-9DF6-B6319A71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2AF-7707-4B7D-9B21-87196579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580-C887-4199-A244-A03ACC89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7E0-1492-4DFC-95BA-E93F31C4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255-163C-46DE-B96E-5ECF81D8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9F6-10D4-464A-AFCD-96332B32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D66-DB68-4C14-989A-6DFB33C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075-9DFD-4C86-B9C3-51AD845B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211-D6F1-4E57-A684-763EE93C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36C-F35D-42B9-85D9-CB9FB8E2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8502-599C-4070-A68C-3172EA44A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2" descr=""/>
          <p:cNvPicPr/>
          <p:nvPr/>
        </p:nvPicPr>
        <p:blipFill>
          <a:blip r:embed="rId1"/>
          <a:srcRect l="180" t="4203" r="1866" b="2116"/>
          <a:stretch/>
        </p:blipFill>
        <p:spPr>
          <a:xfrm>
            <a:off x="198360" y="619200"/>
            <a:ext cx="8774280" cy="5200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430360" y="598968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交通量調查設站位置示意圖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3" descr=""/>
          <p:cNvPicPr/>
          <p:nvPr/>
        </p:nvPicPr>
        <p:blipFill>
          <a:blip r:embed="rId1"/>
          <a:srcRect l="1469" t="3686" r="2285" b="3177"/>
          <a:stretch/>
        </p:blipFill>
        <p:spPr>
          <a:xfrm>
            <a:off x="157320" y="560520"/>
            <a:ext cx="8823240" cy="529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2539800" y="613260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交通量調查設站位置示意圖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03:55:33Z</dcterms:created>
  <dc:creator>Trace</dc:creator>
  <dc:description/>
  <dc:language>en-US</dc:language>
  <cp:lastModifiedBy>Trace</cp:lastModifiedBy>
  <dcterms:modified xsi:type="dcterms:W3CDTF">1999-07-26T08:29:55Z</dcterms:modified>
  <cp:revision>1</cp:revision>
  <dc:subject/>
  <dc:title>無投影片標題</dc:title>
</cp:coreProperties>
</file>