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CDC-BA2A-4C13-BD9B-C52058CC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6D9-A191-4EF5-8321-8EE6364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547-ADDA-499A-9813-803CB76F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D1A-ACEA-41CB-B32A-4E2E0607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DE3-5D7D-465E-B8FA-DF46C875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49E-E6CB-4406-8070-AC59090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28D-9D9D-4F2A-B0DA-99AF777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51D-B1AF-4BE9-AE97-6A35613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C18-E400-466A-986C-FE5C38C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360-FAD1-48FD-88C5-9C44BE58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3CB-8C8A-4DF5-917C-8E1547A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ED3-0E77-4969-B2B0-3AC9CBD7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345-6A9B-4107-8DA5-B9E6BFB1451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rcRect l="0" t="0" r="1512" b="0"/>
          <a:stretch/>
        </p:blipFill>
        <p:spPr>
          <a:xfrm>
            <a:off x="1066680" y="228600"/>
            <a:ext cx="480060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10440" y="3352680"/>
            <a:ext cx="334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路側指示標誌設置地點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2" descr=""/>
          <p:cNvPicPr/>
          <p:nvPr/>
        </p:nvPicPr>
        <p:blipFill>
          <a:blip r:embed="rId2"/>
          <a:srcRect l="0" t="0" r="2826" b="0"/>
          <a:stretch/>
        </p:blipFill>
        <p:spPr>
          <a:xfrm>
            <a:off x="1768320" y="4191120"/>
            <a:ext cx="2955960" cy="381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59240" y="8078760"/>
            <a:ext cx="391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2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機場進出口導遊路線圖設置地點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3:00:57Z</dcterms:created>
  <dc:creator>Trace</dc:creator>
  <dc:description/>
  <dc:language>en-US</dc:language>
  <cp:lastModifiedBy>吳心琪</cp:lastModifiedBy>
  <dcterms:modified xsi:type="dcterms:W3CDTF">1999-03-17T07:55:26Z</dcterms:modified>
  <cp:revision>3</cp:revision>
  <dc:subject/>
  <dc:title>無投影片標題</dc:title>
</cp:coreProperties>
</file>