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0DC-B557-4945-91E4-1C81B79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4F8-B043-4B89-9E55-27F44AE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A9A-8AC3-48EF-9F88-0117BCD0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154-AEB7-48FA-8886-E7B59B77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BC4-9797-46FE-BB1F-90D3DEE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A6C-47A0-4816-AE3A-903B3E80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1C1-16C1-4CE4-B37D-DAC7152B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081-B70F-44CC-AE5D-C8EB2AA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05A-30D9-4B21-83F3-A36E9C71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2BC-C89A-410F-AD60-C663259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4E6-4DE0-48D9-A213-D557025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D67-B77F-4063-9A18-7C59E618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AB1-EA28-476D-8F38-2541D5B2B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rcRect l="9479" t="2439" r="0" b="2404"/>
          <a:stretch/>
        </p:blipFill>
        <p:spPr>
          <a:xfrm>
            <a:off x="990720" y="501480"/>
            <a:ext cx="5151240" cy="368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6480" y="4467240"/>
            <a:ext cx="316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-15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示標誌擺放方式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4520" y="419112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註：圖中標誌牌擺放位置過低，易為往來車輛所遮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49:46Z</dcterms:created>
  <dc:creator>吳心琪</dc:creator>
  <dc:description/>
  <dc:language>en-US</dc:language>
  <cp:lastModifiedBy>吳心琪</cp:lastModifiedBy>
  <dcterms:modified xsi:type="dcterms:W3CDTF">1999-06-17T10:25:38Z</dcterms:modified>
  <cp:revision>1</cp:revision>
  <dc:subject/>
  <dc:title>無投影片標題</dc:title>
</cp:coreProperties>
</file>