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E31E0-A642-4FD6-BB43-0F4CA5E11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BFCBF-EC52-43C3-AD00-866597ED1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CA5AA-22A0-4BE7-ACB4-CA9D50ECD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D1D84-0411-434C-80D7-169C06929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41AB5-D8A5-4997-80B4-7015FBAD9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A13A6-FD55-4D4A-B86A-F6403EC99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BECA9-154E-49D0-B951-BA5F9CB14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453D1-4388-4280-8C18-1C888138B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1B32D-7DAC-4428-8B5E-FC9719568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B167D-F4CE-40AB-A48F-79DF9B4BE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A74A2-558B-4F69-9FAB-A02A27BAF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D1B63-C851-4B0B-97A5-4C7AB6FD3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41189-79F0-4527-8E18-961DDB3E50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05" descr=""/>
          <p:cNvPicPr/>
          <p:nvPr/>
        </p:nvPicPr>
        <p:blipFill>
          <a:blip r:embed="rId1"/>
          <a:srcRect l="0" t="0" r="0" b="1864"/>
          <a:stretch/>
        </p:blipFill>
        <p:spPr>
          <a:xfrm>
            <a:off x="843120" y="225360"/>
            <a:ext cx="4948200" cy="33321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040920" y="3645000"/>
            <a:ext cx="83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台</a:t>
            </a:r>
            <a:r>
              <a:rPr b="0" lang="zh-TW" sz="18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9</a:t>
            </a:r>
            <a:r>
              <a:rPr b="0" lang="zh-TW" sz="18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蘇花公路〈清水隧道附近〉現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17T08:00:47Z</dcterms:created>
  <dc:creator>吳心琪</dc:creator>
  <dc:description/>
  <dc:language>en-US</dc:language>
  <cp:lastModifiedBy>Trace</cp:lastModifiedBy>
  <dcterms:modified xsi:type="dcterms:W3CDTF">1999-07-21T02:04:20Z</dcterms:modified>
  <cp:revision>1</cp:revision>
  <dc:subject/>
  <dc:title>無投影片標題</dc:title>
</cp:coreProperties>
</file>