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3F3B-71B7-4309-961E-2D8E49C5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56C2-8D22-45BD-BF59-1B73974F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86A-26F1-4C79-B027-91AA6E3F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EC6-4B03-4EBD-94D2-416E4E8E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8D55-2ABC-483C-9E6A-76F93735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24E-77FC-4866-BE7F-3AD6419D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7E71-1ED6-4640-845A-89641F91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BE24-AC37-4617-A493-0D4F0000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8D02-7221-4D1D-894D-9D7E643D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8C8-9CD6-4605-845F-692D9BB9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5B1-70C6-4D98-AEFC-22F28FE2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46F-01DF-4D4E-9DF1-E97715CC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5F99-5FD6-4F77-A039-72FF68382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3" descr=""/>
          <p:cNvPicPr/>
          <p:nvPr/>
        </p:nvPicPr>
        <p:blipFill>
          <a:blip r:embed="rId1"/>
          <a:srcRect l="547" t="1729" r="0" b="0"/>
          <a:stretch/>
        </p:blipFill>
        <p:spPr>
          <a:xfrm>
            <a:off x="906480" y="474840"/>
            <a:ext cx="4923000" cy="3338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53480" y="3905280"/>
            <a:ext cx="341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圖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3-13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標準型指示標誌規格型式現況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41160" y="8207280"/>
            <a:ext cx="3580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圖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3-14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非標準型指示標誌規格型式現況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04" descr=""/>
          <p:cNvPicPr/>
          <p:nvPr/>
        </p:nvPicPr>
        <p:blipFill>
          <a:blip r:embed="rId2"/>
          <a:srcRect l="2675" t="1864" r="0" b="2542"/>
          <a:stretch/>
        </p:blipFill>
        <p:spPr>
          <a:xfrm>
            <a:off x="851040" y="4929120"/>
            <a:ext cx="483696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07:56:20Z</dcterms:created>
  <dc:creator>吳心琪</dc:creator>
  <dc:description/>
  <dc:language>en-US</dc:language>
  <cp:lastModifiedBy>吳心琪</cp:lastModifiedBy>
  <dcterms:modified xsi:type="dcterms:W3CDTF">1999-03-17T07:58:20Z</dcterms:modified>
  <cp:revision>1</cp:revision>
  <dc:subject/>
  <dc:title>無投影片標題</dc:title>
</cp:coreProperties>
</file>