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BFDF-9182-4CAD-93BD-D4EC2941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D657-161B-44DF-A74C-5DB4EB9D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93B-0D2A-4912-B469-506CA831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AD65-127C-4C8A-973B-F8912C5F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DEA4-17C1-4EEC-8809-71A34C38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27FA-3A83-48CA-B399-D4C2D04A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C25B-B673-4E6B-A47D-E8085DFB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66A6-1739-4A2F-B7F5-117D3970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C6D3-A48D-43A5-89B4-B415488B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152F-2262-4EAC-BE1D-1B147D6E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0E68-8EDD-4C21-B401-08894C0B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DB02-B06C-4CFD-9D58-DDB08C7E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6A83-ED0A-4FFA-B971-09F7EE244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94240" y="3967200"/>
            <a:ext cx="12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花</a:t>
            </a:r>
            <a:r>
              <a:rPr b="0" lang="zh-TW" sz="18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72</a:t>
            </a:r>
            <a:r>
              <a:rPr b="0" lang="zh-TW" sz="18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鄉道現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08" descr=""/>
          <p:cNvPicPr/>
          <p:nvPr/>
        </p:nvPicPr>
        <p:blipFill>
          <a:blip r:embed="rId1"/>
          <a:srcRect l="1697" t="1839" r="2490" b="3679"/>
          <a:stretch/>
        </p:blipFill>
        <p:spPr>
          <a:xfrm>
            <a:off x="922320" y="525600"/>
            <a:ext cx="48690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08:05:16Z</dcterms:created>
  <dc:creator>吳心琪</dc:creator>
  <dc:description/>
  <dc:language>en-US</dc:language>
  <cp:lastModifiedBy>Trace</cp:lastModifiedBy>
  <dcterms:modified xsi:type="dcterms:W3CDTF">1999-07-21T02:06:51Z</dcterms:modified>
  <cp:revision>1</cp:revision>
  <dc:subject/>
  <dc:title>無投影片標題</dc:title>
</cp:coreProperties>
</file>