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27F-68F4-49EF-AE2F-25BD1827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F30-846D-4B20-A786-B51837EA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084-36CC-46C8-AE73-71A76106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8E6-CAC2-4079-AADD-C11713EA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331-9D4B-48FE-A309-1EAFF72D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3EB-CF66-4C3A-A3CD-34C06757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E88-E2D5-4194-8671-2204127D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18B-DA25-473E-9C1A-B53BA89C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94B-DE75-4581-A9C8-CBC44DD7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761-0BFE-4BC5-861C-2FE9CAC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8AF-49F3-4C46-81C3-55B989B4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BF2-5926-4C71-85EB-A02C4C07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B70-D6E6-4578-A69F-76840DE56CE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K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5080" cy="533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114300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交通部運輸研究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720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北部港之商港規模整體規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853452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中 華 民 國 八十八 年 十二 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北部港" descr=""/>
          <p:cNvPicPr/>
          <p:nvPr/>
        </p:nvPicPr>
        <p:blipFill>
          <a:blip r:embed="rId2"/>
          <a:srcRect l="5843" t="0" r="5081" b="0"/>
          <a:stretch/>
        </p:blipFill>
        <p:spPr>
          <a:xfrm>
            <a:off x="685800" y="3200400"/>
            <a:ext cx="5562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K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05080" cy="53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99072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交通部運輸研究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7620120"/>
            <a:ext cx="3352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中興工程顧問股份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榕聲工程顧問股份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萬鼎工程服務股份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亞聯工程顧問股份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568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華康隸書體W5"/>
              </a:rPr>
              <a:t>北部港之商港規模整體規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31156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期 末 報 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初稿</a:t>
            </a:r>
            <a:r>
              <a:rPr b="1" lang="zh-TW" sz="16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883908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隸書體W5"/>
                <a:ea typeface="華康隸書體W5"/>
              </a:rPr>
              <a:t>中 華 民 國 八十八 年 八 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北部港" descr=""/>
          <p:cNvPicPr/>
          <p:nvPr/>
        </p:nvPicPr>
        <p:blipFill>
          <a:blip r:embed="rId2"/>
          <a:srcRect l="5843" t="0" r="5081" b="0"/>
          <a:stretch/>
        </p:blipFill>
        <p:spPr>
          <a:xfrm>
            <a:off x="685800" y="3200400"/>
            <a:ext cx="55627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03:06:31Z</dcterms:created>
  <dc:creator>4918</dc:creator>
  <dc:description/>
  <dc:language>en-US</dc:language>
  <cp:lastModifiedBy>4848</cp:lastModifiedBy>
  <cp:lastPrinted>1999-11-02T03:49:35Z</cp:lastPrinted>
  <dcterms:modified xsi:type="dcterms:W3CDTF">1999-12-07T00:48:31Z</dcterms:modified>
  <cp:revision>19</cp:revision>
  <dc:subject/>
  <dc:title>無投影片標題</dc:title>
</cp:coreProperties>
</file>